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C8B4-56A4-4F9A-9D71-DACE60C9D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360D-BFDF-4AB4-A61A-2651CFE1B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CF7E-FCCD-4743-ACD9-670E53B04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6C6A-289B-4E77-9FF4-25CCF24AE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3B70-E6D8-4F2C-A559-8771C7BA4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8561-D90E-4858-8925-E7522AC95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E68E-B2E3-4FBC-9576-CFCC41A45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BD20-F4B9-47D3-B6A1-C315F506B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16B6-BFFE-4F8E-9A73-213DC16E2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BBEF-CB0A-4298-9CD6-A850E0A1D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B5D8-3C3B-449D-B507-0C3063877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538B-E97E-4CAB-AFFD-A1CC8C0F5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FE06-0D00-4D10-93AD-034BA174F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5B37-A78C-4311-ACB8-7C96074AA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5B20-A424-49DD-8C1A-07801F72F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DE1E-F1F5-47AA-93C4-CE1215BC7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D0E1-C5CE-40A5-BEB2-ACCA420FD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8864-235E-4E6F-96E7-C1065719E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C26E-1970-4FD1-990E-FC7942B88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CBF1-863D-472D-86D1-17B40C4BD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814D-8EA1-4898-8503-E1FE8EFCC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9296-CBB7-47DD-BFB0-878FEE3EE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32EE-C026-421B-AD7B-DDE70B25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9C73-E59A-4FA7-8430-A505FDD2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658-1EC1-4862-8827-759E6A6E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35F-33C1-43C4-9027-8546BBE6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BA0-EC34-4070-BA1A-A5861601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526-B989-43BF-B6E6-D55A31C4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2B4-5B2E-41B8-AA30-8D9E22F2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A03-0E43-43F0-834A-38715082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FBF-4B91-4532-B3FA-A31CBBA3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915-09A2-4CF5-BF8E-5EC2A25D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486-438F-4CD9-B756-6375D70B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228-7555-477B-BFF2-F6F32B9E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1CE9-1BBF-496E-8D12-D69AC256CF7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anal Ortamda Suç Teşkil Eden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 Akışı Tür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Oturum 1.4.2/1. Sa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ELEKTRONİK HAVALE, BANKA HESAPLARININ DEVRİ/AÇILMAS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Geleneksel Bankacılık Hizm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iber suç failleri de geleneksel bankacılık hizmetlerinden yararlanmaya devam ede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u durum elbette bilhassa, mağdurun banka hesaplarından para aktarılmasını içeren durumlar açısından söz konusud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Geleneksel Bankacılık Hizm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Geleneksel bankacılık sektöründe, bir mağdurun banka hesabından aktarılan paraların kaynağının gizlenmesinde hangi teknikler kul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ektronik Havale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Mağdur banka hesapları çeşitli siber suç teknikleri kullanılarak (örn. kimlik hırsızlığı, kötü amaçlı yazılım) ihlal edili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Mağdurun banka hesabına yeni lehdarlar eklenir ve paralar kurye hesaplara aktarılı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Paralar nakit olarak çekilir veya başka noktalara aktarılı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Havaleler bildirim için öngörülen miktarın altında kalması için ufak meblağlarda yapılı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Paranın kaynağının gizlenmesi için kurye hesaplara anlamsız aktarımlar içeren karmaşık yapılar kullanıl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Müşterilerin Korunmas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Finans kuruluşları müşterilerin ihlal edilen internet bankacılığı kimliklerinin kötüye kullanılmasını önlemek için ne gibi kontrol araçları kullanı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ektronik Havale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Elektronik havale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ektronik Havale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Elektronik havaleni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NAKİT ÇEKİM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Nakit para siber suçlular açısından ne gibi güçlükler yaratıy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İZ ne düşünüyorsunu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Nakit Çekimi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Ödeme kartı ile bağlantılı suçlar gibi kimi siber suç örneklerinde suç gelirleri anında nakit olarak çekil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Başka örneklerde ise başka tür suçlardan elde edilen suç gelirleri kurye hesaplara aktarılır ve buradan çekil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Bu nakit paralar genelde çeşitli teknikler kullanılarak yeniden finans sistemine sokulur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Çeşitli türlerde ön ödemeli kartlar satın alınarak (örn. mağaza puanı, cep telefonu kontörü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Para kuryeleri veya ihlal edilmiş banka hesapları kullanılar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Oturum Hedef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anal suçlardan elde edilen şu para akışı türlerini açıklayınız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ara Havalesi Sağlayıcı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Elektronik Havale, Banka Hesaplarının Devri/Açılmas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Nakit Çeki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 Ödeme Hizmetl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Nakit Çekimlerini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Nakit çekimi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Nakit Çekimlerini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Nakit çekimlerini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İnternet ÖDEME HİZMETLER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Ödeme Hizmeti Nedi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İZ ne düşünüyorsunu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Ödeme Hizmeti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uç yoluyla elde edilen paralar bir İnternet Ödeme Hizmeti hesabına aktarılı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İki seçenek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ternet Ödeme Hizmeti bir sanal banka hesabına benzer hizmetler sunar; yani “internet havalesi/banka hesabı açılması veya devri”ne benzer özellikler kullanılı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ternet Ödeme Hizmetinde tutulan paralar internet üzerinden mal ve hizmet alımında kullanılı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Ödeme Hizmetlerinin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Ödeme çekimi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Ödeme Hizmetlerinin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ödeme hizmetlerini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998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İnternet Ödeme Hizmetlerinden Elde Edilen Paraların/Paralara Dondurulması, El Konulması ve Müsaderes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895480"/>
            <a:ext cx="822960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ödeme hizmeti sağlayıcısının elindeki paraların/paralara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anal suçlardan elde edilen şu para akışı türlerini açıklayını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ara Havalesi Sağlayıcı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Elektronik Havale, Banka Hesaplarının Devri/Açılmas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Nakit Çeki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 Ödeme Hizmetl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503880" y="4500720"/>
            <a:ext cx="21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PARA HAVALESİ SAĞLAYICILA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 havalesi sağlayıcısı nedi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İZ ne düşünüyorsunu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 havalesi sağlayıcısı nedi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Havale sağlayıcıları ile ilgili sorun ne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vale Sağlayıcısı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İnsanlar (bilerek veya bilmeyerek), genellikle “evden çalışın” türünden iş teklifleriyle kara para aklama planlarında kurye olarak çalıştırı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 gelirleri kuryelerin banka hesaplarına aktarı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urye parayı nakit olarak çeker ve bu nakit parayı belirli bir lehdara havale yoluyla aktar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urye bu hizmeti yerine getirdiği için komisyon olarak bir ödeme a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u para aktarımları, fark edilmesin diye, bildirim için öngörülen miktarın altındaki bir meblağdan oluşu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Havale sağlayıcıları sonra nakit paranın nihai varış noktasına ulaştırılmasında tekrar kullanı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uç Ortağı olan Sağlayıcı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elirli bir havale sağlayıcının yoğun olarak kullanıldığı tespit edilen durumlar muvazaa ihtimali veya bu türden işlerin içine sızılmış olma olasılığı hakkında soru işaretleri uyandırı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vale Sağlayıcıları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ldığ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Havale sağlayıcılarının kullanıldığ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vale Sağlayıcıları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ldığ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Havale sağlayıcılarını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Hande Güner</cp:lastModifiedBy>
  <cp:lastPrinted>2016-05-18T07:38:13Z</cp:lastPrinted>
  <dcterms:modified xsi:type="dcterms:W3CDTF">2017-11-09T18:18:03Z</dcterms:modified>
  <cp:revision>338</cp:revision>
  <dc:subject/>
  <dc:title>PowerPoint Presentation</dc:title>
</cp:coreProperties>
</file>