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87D-0085-4FDA-A36E-8A29EDE55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FE5-1BE9-431D-A9DF-533BBB173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B50-B284-41B9-AB7E-3F24A2D3D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8F2-01B1-47F5-9E1D-0B0A994E0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3A9-21ED-4645-8E6C-140704A0C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2B73-DEA4-4D6D-9C9D-79AD35B9B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CE26-E4F2-4123-933F-6CC659783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CA01-7ADC-44DE-B94F-E7F80E688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4573-BE94-404F-A4ED-80EAD2FD9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5D2-3B96-4795-B6E9-109F8077E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D86-474E-4D03-AD60-40643890D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4BC8-3933-416B-AA5A-5C8AA0BA3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0D38-268A-4AA8-A472-18A4049C4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0D29-CEE9-4E99-B59A-E75C30EF0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EF6A-3DDE-4026-B478-80793787C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B4F8-17D4-45FA-8ADB-D311064ED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981-C175-4F9A-9424-18A5D5B52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973-C02D-40E8-A024-6B66990EF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68B0-5E95-4BDE-8F52-95E565C0B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3E0-3D18-4495-8CB2-2C29E6E7D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E4A3-A715-4C28-AC48-4B3E97AFD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AAC-9BF6-41CB-83BA-BBAB6B84B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B38-9F1A-471A-993B-F1E3DDD02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E16-3C96-4AFD-9618-98B9263EB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CF4B-F2B2-4118-BCDD-BE60A5117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17D-A438-4488-AD5B-B7B1BC211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486-49C8-4AD3-B03C-48BCE3623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B755-8563-4AFD-B825-F1B608EF6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D667-4201-454D-9AEA-18369313C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C7E6-2927-4BE0-B449-C2617A9B9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E23-1C8C-41A4-AD29-2DC1411B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7AC-73FF-4150-BCE1-43ECEC60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E06-ECB4-4CA1-B85E-27354DA5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303-8D99-4407-A9EF-CC0FE6C0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0FF-3FA2-46D1-95B9-DA470220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7CD-7975-4C00-84EA-67F169D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3E0-CC86-4681-9790-4A074D5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244-AAA8-4BE8-ABE4-5A891EAB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D87-26E3-4EBA-AA3A-10578048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733-B8BA-43BC-8A07-490986C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800-6ABE-45F1-8779-5A963AF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CB4-60D6-463B-9F6E-1080B23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2EE3-866C-410A-BE83-6904218677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 Şüpheliler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turum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r eposta mesajının kaydedilmesi ve iletilmesiyle ilgili kayıtlar o mesajın içinde yer alı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İ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 GÖNDER tuşuna bastığında epostası bilgisayarından alınıp İnternet Servis Sağlayıcısının giden posta sunucusuna taşını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'in İSS'si epostayı internete gönder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posta, Bob'un İSS'sinin gelen posta (POP3) sunucusuna ilet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ob İSS’sine bağlandığında, eposta bilgisayarına indir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7CCA-2FB8-4C86-80D2-8B654EEE2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 iki bölümden oluş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şlık: Mesajın kimden kime gönderildiği, konusu, tarihi gibi bilgilerin yanı sır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nasıl saklandığını/iletildiğini de içer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övde: Eposta mesajının içeriğ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ıradaki slaytta, başlıklarıyla birlikte bir örnek eposta gösterilmiş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Jan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ME-Version: 1,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okuluslu Hizmet Sağlayıcı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, Google gibi çokuluslu hizmet sağlayıcılar, size bir IP adresinin belirli bir zamanda hangi IP adresi tarafından kullanıldığını bu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nin kimliği (örneğin Facebook profili) gerekl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uslararası işbirliği gerekli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zli Soruşturma Yöntem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yi tespit etmişseniz, kullandığı IP adreslerini tespit etmek için teknik takip gibi gizli soruşturma yöntemleri kullanı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nin Gerçek Kimlikle Eşleştirilme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öste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m nedi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yle elde edebileceğiniz bilgil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İnternet Servis Sağlayıc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ğrafi konumlandı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zeleme: IP adresinin ne olduğunu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nin nasıl bulunacağını tarif e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 ile bir gerçek kişinin nasıl ilişkilendirileceğini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te şüphelilerin tespitinin önündeki üç teknik engeli açıklay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 Servis Sağlayıcılar, bir IP adresini belli bir zamanda hangi abonenin kullandığının kayıtlarını tu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ın ne süreyle saklanacağı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a nasıl erişileceği de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SS abone verisine erişim sağlamak için ne gerek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gi İSS'den bilgi isteyeceğinizi nereden bileceksini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ğrafi konumlandırma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ğrafi konum verileri sizce nereden elde edili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venilirliği asla garanti edileme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zaman belli bir kişiyi teşhis de etme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k ve Dinamik IP Adresleri var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ğ Adresi Çevirme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pılan hareketin saati çok önemlidi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uml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ğ Adresi Çevirme (NAT) kullanan kurumlar, şüphelilerin hareketlerini belirli bir dahili IP adresiyle eşleştirecek kayıtlara sahip olabilir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rumla bağlantının nasıl kurulacağı ülke yasalarına göre değiş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nadiren el altınd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gisayarı bulabilseniz bil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kullanıyor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zaktan kumanda ediliyor olabilir miy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erişim noktası hangis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N kullanılmış m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İĞER Teknik Güçlük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üçlük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kasıtlı ya da kasıtsız, meşru ya da gayrimeşru şekilde tahrif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örnekleri tartışılacakt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imleştirme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Çevrimiçi faaliyetleri gizlemek için ücretli ve ücretsiz hizmet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il sunucuların anonimleştirilmesi, web'de gezinme hareketler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posta sağlayıcılarının anonimleştirilmesi, epostanın göndericisini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vekil sunucularının anonimleştirilmesi ise tüm internet trafiğ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Örnek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, 0 ile 255 arasındaki dört sayının noktalarla ayrılması sonucunda oluş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rneğ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nin yeni bir türü olan sürüm 6 ise bu derste işlenmeyecek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Şifrel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letişimin şifrelenmiş olması mümkündü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jın bütün içeriği de şifrelenmiş o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şıyıcı Sınıfı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ok sayıda kullanıcının tek bir IP adresi kullanmasının yöntem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llikle mobil telefon şebekelerinin internet bağlantılarında kullanıl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, çevrimiçi hareketlerden kimlik tespiti yapmanın gerekli fakat yeterli olmayan bir unsuru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 ile bir gerçek kişinin ilişkilendirilmesi çok zor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şinin çevrimiçi takibinin yapılmasını daha da zorlaştıran teknoloji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ümkünse, IP adresi delillerini desteklemek için başka kaynaklardan deliller de kullanılmalıd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48840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IP adresleri internette kullanılmaz, sadece özel (dahili) kullanım için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Şüpheli IP Adresinin Tespi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ki Hare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şinin çevrimiçi hareketleri bazı kayıtlar oluştur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dan kullanıcının iletişimde kullandığı IP adresi elde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da şüphelinin tespiti açısından önemli bir bilg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eklidir ama yeterli değildi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ullanıcı web'de gezinirken bir web sunucusuna talepler gönderir, sunucu da kullanıcıya yanıtlar y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eplerin ve yanıtların formatı, Hiper Metin Aktarım Protokolü (HTTP) adı verilen bir protokolle belirlen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nucu, gelen tüm taleplerin kayıtlarını tutar ve talebin gönderildiği IP adresini de kayd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Sıla Okur</cp:lastModifiedBy>
  <cp:lastPrinted>2016-05-18T07:38:13Z</cp:lastPrinted>
  <dcterms:modified xsi:type="dcterms:W3CDTF">2017-11-09T23:35:10Z</dcterms:modified>
  <cp:revision>286</cp:revision>
  <dc:subject/>
  <dc:title>PowerPoint Presentation</dc:title>
</cp:coreProperties>
</file>