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EFB-0086-4BEC-8E49-50E8D41DB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3449-1CBC-4F86-B626-38DC527E5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C53-59D1-4255-A767-C59820163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8F5-BE6E-459A-83A7-DB577AB8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25F9-B3B1-4B22-A131-3780A3EB2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DC0D-4FB4-4B7C-8786-8BEDE5EA2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81B-A6AC-434C-A7F1-7C31C970F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E380-C7A2-4D72-8D59-F390EE57F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F479-A65D-4863-BD3B-5A591F7EA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6A1-F38B-4226-A9BA-D0CC11D69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3F0-BD39-4754-AC5F-365B56BB8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A99-98A6-47F7-B9FC-11F107B6E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CE60-133F-4697-8B34-51714257E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C7E5-44EC-47D1-9199-490B71E62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6F6-4400-42E7-A741-375E2B8D2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DE5-D4F2-4735-81F1-51E1678B6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F6B-63AC-481E-8F9D-57ED4202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896F-472A-4B46-AA99-CA4E5973B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B04-5517-4DFC-8820-3FB4467CC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D697-8DEB-43A2-B57D-4F8D81589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D65B-DBFA-496C-AED1-1271924D6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66D-5D7E-452C-AC1E-CBCB9E1B6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DB6-B1BC-4F87-9CD0-71D4703C6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979-B555-4416-8F3F-C46B88F9E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7AB-EB8F-4D51-9073-B1B42DE0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739-C04E-4D69-B88E-70D6C2C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2CE-316A-4181-B764-F274431E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4F8-1032-4E42-880A-623CE026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534-F574-474F-BB43-CDB255B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80E-7394-483E-AE8C-2C06792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FE1-CDFA-44B3-ADB9-A9AABDCE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DDF-C420-4E23-8232-7F96419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908-DD0A-4856-97C5-AA02BD8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770-2A15-4E47-99CA-2CF62D8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385-B29C-4B4D-BCD4-FB6E8005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A2A-C211-4095-ABE5-33858EC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274-0448-410C-9AF6-4BE031AB35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 halihazırda bir kara para aklama tekniği olarak kullanılmaktad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para aklama tekniği sanal dünyada da, öncelikli olarak işlemleri daha meşru gösterme gayretiyle kullanılmakt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e aktarılan paralar genelde bireysel kuryelere veya bunlar tarafından aktarılan miktarlardan daha yüksek ol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: 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hiçbir ticari faaliyeti, malvarlığı veya yükümlülüğü bulunmayan, sadece banka hesabına sahip olmak amacıyla yaratılmış şirketlerd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(veya bunların banka hesapları) genellikle öncül suç mahallinin dışındaki yabancı ülkelerde bulunu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, ödemeyi yapan bankadan yapılan havaleye meşru bir görünüm ka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anal suçlardan elde edilen gelirler bakımından paravan şirket kullanımı başka ne gibi güçlükler yaratı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bir paravan şirket kur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yabancı bir ülkede bu paravan şirket adına bir banka hesabı aç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hileli bir faaliyette bulunur ve mağdurların hesaplarından paravan şirketin banka hesabına para akta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den Ge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den ge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ÖN ÖDEMELİ KART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Değerin ödeme kartıyla önceden ilişkilendirilmesine imkân sağl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İki türü vard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apalı ön ödemeli kartlar: sadece belirli bir şirket veya mağazada kullanılabilir (örn. hediye kartları) ve anonim olarak satın alıp kullanılab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çık ön ödemeli kartlar: bir banka, kredi kartı veya başkaca bir finans kuruluşu tarafından düzenlenir. Başka herhangi bir ödeme kartı gibi kullanılab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ontörlü cep telefonu kartları ve ön ödemeli cep telefonları açısından da aynı tipoloji geçerlid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lu örneğin kötü amaçlı bankacılık yazılımı yoluyla para elde 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lar bir para kuryesine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ye parayı nakit olarak çeker ve bunu ön ödemeli kartlar satın almakta kullan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Daha sonra bu kartlar kullanılır veya satılır. Satılırsa, genellikle üzerinde yazılı olan değerden düşüğe satıl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ın/Kart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TEKİ KUMAR platformlar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 çeşitli kumar türlerine imkân sa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lar sisteme genelde geleneksel bankacılık sektörü aracılığıyla giriş/çıkış yapar (örn. havale, kredi/banka kartı vb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teki kumar sitelerinin hukuki statüsü ve bunlara ilişkin düzenlemeler değişkenlik arz etmekte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ın ve suç ortaklarının elinde, paraya çevrilmek üzere birçok çalıntı kredi kart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ön ödemeli bir karta (veya aklanan kara paraların yüklenebileceği başka bir karta) sahiptir ve suç ortaklarında da çalıntı kredi kartlar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kumar platformunda oturum açar ve parayı kendi kumar hesaplarına aktarır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(örneğin) hep birlikte bir poker salonuna gire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rtaklar bilerek suçluya yenili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zançlar suçlunun internet platformundaki kumar hesab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paraları kendisinde bulunan ödeme kartına aktarır, ardından da bu kartı kullanır veya sat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dan Elde Edi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dan elde edi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ÜZERİNDEN SATIN AL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3016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ir kartın verilerine veya bankacılık bilgilerine erişim elde ed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u bilgileri kullanarak mal (örn. uçak bileti) satın a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bu uçak biletlerini internetteki bir açık arttırma sitesinde satışa çıkar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çık arttırmayı biri kazanır ve ödemeyi suçluya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da uçak biletlerini açık arttırmayı kazanan kişiye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tın Alımlar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tespiti/faaliyet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ın/Alımlara Dondurulması, 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/alım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VAN ŞİRKET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26:41Z</dcterms:modified>
  <cp:revision>374</cp:revision>
  <dc:subject/>
  <dc:title>PowerPoint Presentation</dc:title>
</cp:coreProperties>
</file>