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140F2-BDBA-4AE8-8F64-F2A05A9E72F2}"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A22E8-7796-4E64-803F-E25975B02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ya da başka bir tür sun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deki slaytların içeriği sadece her bir yerel eğitimde anlatılabilecek konulara dair bir örnek teşkil et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rcihen, ulusal maddi hukuk oturumunda imzalanmış veya onaylanmış olan uluslararası hukuk belgelerinden ve bunların iç hukuka yansımasının sonuçlarından bahs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yrıca, ulusal hukuka göre suç türlerine ilişkin bir açıklama ve sonunda, uygunsa, ulusal maddi hukukun her türlü olası özgünlüğüne ilişkin bir açıklama da sunulmalıdır. </a:t>
            </a: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B2AD8-DA3B-4E9A-8C70-0E93842AA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 kapsamındaki tasvir (betimleme) konusunu açıklamaktadır. Gerçek çocukların cinsel istismarına ilişkin tasvirler; bir kişiyi, cinsel içerikli eylemde bulunan reşit olmayan bir şahısmış (küçük) gibi betimleyen (gerçekte küçük olsun veya olmasın) görseller; ve gerçekçi olmakla birlikte aslında cinsel içerikli eylemde bulunan gerçek bir çocuk içermeyen görseller.</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BEA80-D79E-4F19-A9F2-BD0A3F34E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de kullanılan “Küçük (Reşit Olmayan Şahıs)” terimini tanımlamaktadır. Bu tanımın kapsamı gerçek/kurmaca çocukların cinsel obje olarak betimlenmesiyle sınırlı olup, cinsel ilişki bakımından rıza yaşının saptanmasıyla hiçbir ilgisi bulunmamaktadır.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1E5CF-A18C-497A-9CBA-4D3F92651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lif hakkı ve bununla bağlantılı hakların ihlaline ilişkin suçlar internet ortamında telif haklarına ve bununla bağlantılı haklara yönelik ya da bir bilgisayar sistemi üzerinden işlenen ihlallere karşı koruma sağlamaktadır. </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de telif hakları konularına dair hususi bir suç içeren bir hüküm bulunm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ncak bu konuda kavramsal olarak yeni düzenlemeler getirmemekle birlikte Sözleşme’nin 10. maddesinde telif hakkına atıf yapılmaktadır. Sözleşme yeni düzenlemeler yerine, gerçek dünyada telif hakkı konusunda var olan mevcut kuralların internet ortamında da geçerli olması gerektiğini vurgulamakla yetinmektedir: Gerçek yaşamda yasaklanan şeyler internette de yasaklanmalıdır. İnternette telif haklarına yönelik olarak veya bir bilgisayar sistemi aracılığıyla işlenen ihlaller gerçek dünyada işlenmiş gibi cezalandırılmalıdır. Bu nedenledir ki Sözleşme bu konuda halihazırda mevcut olan uluslararası antlaşma ve sözleşmelere atıfta bulunmaktadır (24 Temmuz 1971 tarihli Paris Sözleşmesi, Bern Sözleşmesi ve </a:t>
            </a:r>
            <a:r>
              <a:rPr b="0" lang="en-GB" sz="1200" spc="-1" strike="noStrike">
                <a:solidFill>
                  <a:srgbClr val="000000"/>
                </a:solidFill>
                <a:latin typeface="Calibri"/>
              </a:rPr>
              <a:t>Dünya Fikri Mülkiyet Hakları Örgütü (</a:t>
            </a:r>
            <a:r>
              <a:rPr b="0" lang="tr-TR" sz="1200" spc="-1" strike="noStrike">
                <a:solidFill>
                  <a:srgbClr val="000000"/>
                </a:solidFill>
                <a:latin typeface="Calibri"/>
              </a:rPr>
              <a:t>WIPO) sözleşmeleri).</a:t>
            </a:r>
            <a:endParaRPr b="0" lang="en-US" sz="1200" spc="-1" strike="noStrike">
              <a:solidFill>
                <a:srgbClr val="000000"/>
              </a:solidFill>
              <a:latin typeface="Calibri"/>
            </a:endParaRPr>
          </a:p>
        </p:txBody>
      </p:sp>
      <p:sp>
        <p:nvSpPr>
          <p:cNvPr id="7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FFE53-C0CA-4DE1-B9F7-BBF69344A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1). maddenin tam metnini göstermektedir. </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2). maddenin tam metnini göstermektedir. </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3). maddenin tam metnini göstermektedir.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kapsamındaki temel unsur ve aranan davranış “erişim” ibaresidir. Bu ibare bir bilgisayar sisteminin tamamına veya herhangi bir kısmına girilmesi eylemini anlatmaktadır 2. madde teknolojiye atıf yapmaz ve erişimin gerçekleştirileceği araçları belirtmez.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elif haklarının (ve bununla bağlantılı hakların) ihlalini kapsamakta; ancak manevi haklara sirayet etmemektedir.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A457A-FCDD-4487-B9F4-DEA43041C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icari ölçekte telif hakkı ihlallerini kapsamaktadır. </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93659-18DC-469C-9DA5-0E2B09CDD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oktada maddi ceza hukukuna atıf yapan son ik hususu değerlendirmek gerekir: bir yanda yardım ve yataklığın cezalandırılması ve diğer yanda tüzel kişilerin cezai sorumluluğ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11. maddesi Sözleşme’nin tüm Taraflarının kendi iç hukuklarında göz önünde bulundurmaları gereken yardım ve yataklık fiillerini tanımlamaktadır. Ancak internet suçunun çoğu zaman, farklı tarafların muğlak ölçülerde katılımını içeren “çok-taraflı” bir faaliyet olması sebebiyle kovuşturmanın potansiyel güçlükler içerebileceğini de teslim et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Sözleşme’nin 12. maddesi tüm Tarafların tüzel kişilerin fiillerini suç saymasını da şart koşmaktadır. Bu önemli bir husustur. Esasen Avrupa Birliği bünyesinde tüzel kişilerin fiillerinin suç sayılması önemli ve son derece tartışmalı bir konu olduğu için Avrupa Konseyi de kendi mevzuat çerçevesine bu konuyu dahil etmiş bulunmaktadır. </a:t>
            </a:r>
            <a:endParaRPr b="0" lang="en-US" sz="1200" spc="-1" strike="noStrike">
              <a:solidFill>
                <a:srgbClr val="000000"/>
              </a:solidFill>
              <a:latin typeface="Calibri"/>
            </a:endParaRPr>
          </a:p>
        </p:txBody>
      </p:sp>
      <p:sp>
        <p:nvSpPr>
          <p:cNvPr id="7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E1BBB-8693-4353-BED1-D8AFB1EFD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rupa Birliği’nin ve Avrupa Konseyi’nin perspektifi, en azından, şirketlerin ve diğer tüzel kişilerin, şirketin veya diğer tüzel kişinin temsili ve menfaati doğrultusunda hareket eden temsilcilerinin suç teşkil eden fiillerinden ötürü her türlü (cezai olsun olmasın) sorumluluğunu içermektedir. Sözleşme ayrıca, şirketin veya başkaca bir tüzel kişinin yasal temsilcisinin kendi gözetimi altındaki bir kişi üzerindeki gözetimini veya denetimini yitirmesi halinde de tüzel kişilerin sorumluluğunun ortaya çıktığını dile geti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vrupa’daki kimi ülkeler tüzel kişinin sorumluluğunu düzenlemek amacıyla cezai çözümlerden ziyade özel hukuk kapsamındaki hukuk yollarını tercih etmektedir. </a:t>
            </a:r>
            <a:endParaRPr b="0" lang="en-US" sz="1200" spc="-1" strike="noStrike">
              <a:solidFill>
                <a:srgbClr val="000000"/>
              </a:solidFill>
              <a:latin typeface="Calibri"/>
            </a:endParaRPr>
          </a:p>
        </p:txBody>
      </p:sp>
      <p:sp>
        <p:nvSpPr>
          <p:cNvPr id="7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D6BC5-7CC9-4BD8-ABD0-13FBDAAC5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Birinci Bölümü ile ilgili sormak istedikleri her türlü soruyu sorma fırsatı tanımalıdır. </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EC889-0B26-445C-9136-8E88F45B69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 yer alan 25 vaka çalışmasının tamamının bu derse ayrılan süre içerisinde tamamlanması mümkün değildir. Eğitmen bu çalışmalardan bazılarını seçmeli ve kursun ilk iki kısmında vurgulanması gerektiği düşünülmüş olan hususi meselelere gerektiğinde ayrıntılı şekilde eğilmek için seçtiği bu vakaları kullanmalıdır. Eğitmen materyallerin nasıl temin edileceğini anlatmalı ve karşılıklı tartışma ve soru-cevap için belirli bir zaman ayrılacağını belirtmelidir. Eğitmen ayrıca bu eğitimin interaktif olmasının amaçlandığını ve katılımcıların çalışmalara iştirakinin bekleneceğini de vurgulamalıdır. </a:t>
            </a:r>
            <a:endParaRPr b="0" lang="en-US" sz="1200" spc="-1" strike="noStrike">
              <a:solidFill>
                <a:srgbClr val="000000"/>
              </a:solidFill>
              <a:latin typeface="Calibri"/>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85B12-9A32-43D7-8DB3-0843664CB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Eğitmene hatırlatm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adde 2 – YASADIŞI ERİŞİM</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Meseleler</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800" spc="-1" strike="noStrike">
                <a:solidFill>
                  <a:srgbClr val="000000"/>
                </a:solidFill>
                <a:latin typeface="Calibri"/>
              </a:rPr>
              <a:t>Böyle bir şey sizin ülkenizde suç oluşturuyor mu, cevabınız evetse, bu hangi suçtur ve bu suçun kurucu öğeleri nelerd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Tartışma konuları</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Yasadışı erişim bilgisayar sitemlerinin ve verilerinin güvenliğine (yani gizliliği, bütünlüğü ve erişilebilirliğine) yönelik tehlikeli tehdit ve saldırı suçunu içermektedir. Bu tür ihlaller gizli bilgilere (şifreler, hedef alınan sisteme ilişkin bilgiler de dahil olmak üzere) ve sırlara, sistemin ödeme yapılmaksızın kullanımına erişim sağlayabileceği gibi, korsanları bilgisayarla bağlantılı dolandırıcılık veya sahtecilik gibi bilgisayarla bağlantılı daha tehlikeli suç biçimlerine de sevk edebilmekted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İnsan Hakları Mahkemesi (AİHM) 62617/00 sayılı </a:t>
            </a:r>
            <a:r>
              <a:rPr b="0" i="1" lang="tr-TR" sz="500" spc="-1" strike="noStrike">
                <a:solidFill>
                  <a:srgbClr val="000000"/>
                </a:solidFill>
                <a:latin typeface="Calibri"/>
              </a:rPr>
              <a:t>Copland/Birleşik Krallık </a:t>
            </a:r>
            <a:r>
              <a:rPr b="0" lang="tr-TR" sz="500" spc="-1" strike="noStrike">
                <a:solidFill>
                  <a:srgbClr val="000000"/>
                </a:solidFill>
                <a:latin typeface="Calibri"/>
              </a:rPr>
              <a:t>davasında özel hayatın ve aile yaşamının gizliliği hakkının elektronik veriler açısından da geçerli olduğuna kanaat getirmişt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olayda fail, ulusal hukuka göre aşağıda sayılan yasadışı erişim suçunun tüm unsurları işlenmiş olduğundan (Hırvatistan – Split Bölge Mahkemesi – dostane çözüm) cezaya çarptırılmıştır: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zinsiz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sıtlı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Failin suçu işleme nedeni suçun bir unsurunu oluşturmamaktadır (basit bir merak bile cezalandırılabilir nitelik taşıyacaktı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Olayı ele alırsak – bazı üye Ülkelerde yasadışı erişimden bahsedilmiy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dapeşte Sözleşmesi’ne taraf Devletler 2. maddenin ikinci cümlesinde belirtilen niteleyici unsurların herhangi birini veya tamamını benimseyebilir: güvenlik tedbirlerinin ihlali, bilgisayar verilerinin elde edilmesine yönelik özel bir niyet, cezai sorumluluğu haklı çıkaran başkaca bir sahtekârlık niyeti ya da suçun başka bir bilgisayar sistemine uzaktan bağlı bir bilgisayar sistemiyle ilişkili olarak işlenmesi şartı.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ırvat hukuk sistemine niyet dikkate alınmadığı içindir ki (bir sisteme yasadışı şekilde girilmesi niyeti dışında), fail “sahtekârlık niyeti” taşımamasına rağmen (saldırılan tüm IT sistemleri sızma testine ücretsiz şekilde konu edilmiştir) cezalandırılmış bulunmaktadır. Kimi üye Devletlerde sahtekârlık niyetinin bulunmaması cezai sorumluluğa engel olmakta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757D0-B456-4466-9824-239F5D4A6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ğitmene hatırlatma:</a:t>
            </a:r>
            <a:endParaRPr b="0" lang="en-US" sz="6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dde </a:t>
            </a:r>
            <a:r>
              <a:rPr b="0" lang="en-US" sz="700" spc="-1" strike="noStrike">
                <a:solidFill>
                  <a:srgbClr val="000000"/>
                </a:solidFill>
                <a:latin typeface="Calibri"/>
              </a:rPr>
              <a:t>4 – VERİLERE MÜDAHALE</a:t>
            </a:r>
            <a:endParaRPr b="0" lang="en-US" sz="7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tr-TR" sz="800" spc="-1" strike="noStrike">
                <a:solidFill>
                  <a:srgbClr val="000000"/>
                </a:solidFill>
                <a:latin typeface="Calibri"/>
              </a:rPr>
              <a:t>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biri, 1. fıkrada tanımlanan fiillerin ciddi zararla sonuçlanması gerektiğini şart koşma hakkını saklı tutabil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lang="tr-TR" sz="700" spc="-1" strike="noStrike">
                <a:solidFill>
                  <a:srgbClr val="000000"/>
                </a:solidFill>
                <a:latin typeface="Calibri"/>
              </a:rPr>
              <a:t>Hangi suçlar göz önüne alınmalıdır</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inci olarak, bir kimlik hırsızlığı söz konusudur. “Gerçek dünyada” bu fiil, failin bir işyerine girmek için başka birinin kimliğini, haksız yere, kullanmasına tekabül eder. Kimi üye Devletlerde kimlik hırsızlığı suç sayılmakla birlikte, böyle bir suç öngörülmemiş olsa dahi bu erişim genel olarak kendi başına ele alındığında yasadışı sayılmaktadı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Nitekim, ikinci olarak yasadışı bir erişim söz konusudur. Kimi ülkeler bu suçun kurucu unsurlarını verilere müdahale suçunun kurucu unsurları içerisine dahil ederken (Hırvatistan’da olduğu gibi), kimi ülkeler bu ihlali müstakil bir suç olarak görmektedir (yasadışı erişim suçunun var olduğu Fransa gibi ülkelerde, ayrıca bilgisayar sisteminde yasadışı bir şekilde bulunmak suçu ve bir de müdahale suçu öngörülmektedir. Örneğin bir kişi, sisteme erişim yasadışı bulunmamasına rağmen veri hırsızlığından ve bilgisayar sisteminde yasadışı bir şeklide bulunmaktan ötürü cezaya çarptırılmıştır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Üçüncü olarak, bilgisayar verilerinin haksız yere silinmesinden ötürü verilere müdahale söz konusudu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atılımcılar soruyu kendi ulusal mevzuatları ışığında yanıtlamaya davet edilmelidi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6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4491F-1F01-481A-86D1-03E5F3FF2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Eğitmene hatırlat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Madde 5 – SİSTEME MÜDAHALE</a:t>
            </a:r>
            <a:endParaRPr b="0" lang="en-US" sz="7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olay ülkenizde hangi suçu doğur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ailin şifre değiştirme hakkı var mıdır, yok mudur – ve ulusal hukukunuza göre bu suçun tanımı bakımından en önemli unsur bu mud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da fail şifreleri değiştirmeye yetkili veya bu hakka sahiptir. Öyleyse verilere müdahaleden veya yasadışı erişimden söz edemeyi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ncak bu yetki, bilgisayar sisteminin işleyişini haksız yere ciddi biçimde engelleyen, şirketin erişim kodunu açıklamama hakkını içerme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Fail bu şekilde hareket ederek sisteme müdahale suçunu işlemiştir (Hırvatistan, Zagreb Bölge Ceza Mahkemesi, Ko-74/15, 27 Ocak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şu soruyu ulusal hukuka göre yanıtlamalıdır: 2 suç için mi, yoksa sadece 1 suç için mi iddianame hazırlanmalıdır – Fail şifreyi değiştirme hakkına sahip olmasaydı sadece sisteme müdahale (tüketmek)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nu 2 suç için yanıtlarsanız – hangisi: Verilere müdahale mi, yasadışı erişim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enelde bir veya birden fazla niteleyici unsurla birlikte bir suça tekabül eder, ama 2 suç için de gerekçe mevcuttur: Verilere müdahale ve Sisteme müdahale. (Hırvatistan’ın uygulaması uygunsuz değil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3226E-B983-4B6F-AC6E-C4ED94945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dde 8 – BİLGİSAYARLA BAĞLANTILI DOLANDIRICILIK</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Şahısların kendilerine veya bir başkasına haksız yere maddi menfaat sağlamak için hile ve sahtekârlık niyetiyl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lgisayar sistemlerine veri girişi yapma, verileri değiştirme, silme veya engellem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r bilgisayar sisteminin işleyişine herhangi bir müdahalede bulun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dde 11 – TEŞEBBÜS VE YARDIM VE YATAKLIK</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1. Taraflardan her biri, işbu Sözleşmenin 2 ila 10. maddelerinde tanımlanan her türlü suçun işlenmesine, suçun gerçekleşmesi amacıyla kasten yardım veya yataklık edilmes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her biri, işbu Sözleşmenin 3. maddesi ila 5, 7, 8, ile 9.1.a ve c bentlerinde tanımlı suçlardan herhangi birine kasten teşebbüs eylem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3. Taraflardan her biri, işbu maddenin 2. paragrafının tamamını veya bir kısmını uygulamama hakkını saklı tutabil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vcı olsanız X ile Z’yi aynı suçla mı itham ederdiniz?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u olay bilgisayarla bağlantılı sahteciliğe dair en sık rastlanan örneklerden biridir. Bu suçun her bir unsuru X tarafından işlenmiştir. X sadece parayı almak için kendine ait bir banka hesabı açmak yerine Z’nin banka hesabını kullanmışt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de bir suç işlemiştir – bilgisayarla bağlantılı dolandırıcılık suçunun işlenmesine yardım veya yataklık. Aynı cezayla cezalalandırılabilir (Hırvatistan - Velika Gorica Bölge Mahkemesi, K-545/15, 18</a:t>
            </a:r>
            <a:r>
              <a:rPr b="0" lang="tr-TR" sz="800" spc="-1" strike="noStrike">
                <a:solidFill>
                  <a:srgbClr val="000000"/>
                </a:solidFill>
                <a:latin typeface="Calibri"/>
              </a:rPr>
              <a:t> Aralık </a:t>
            </a:r>
            <a:r>
              <a:rPr b="0" lang="en-US" sz="800" spc="-1" strike="noStrike">
                <a:solidFill>
                  <a:srgbClr val="000000"/>
                </a:solidFill>
                <a:latin typeface="Calibri"/>
              </a:rPr>
              <a:t>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3DB18-1B30-4B96-8349-35480F9D6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Eğitmene hatırlatma:</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Madde 9 – ÇOCUK PORNOGRAFİSİYLE BAĞLANTILI SUÇLAR</a:t>
            </a:r>
            <a:endParaRPr b="0" lang="en-US" sz="2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1. </a:t>
            </a:r>
            <a:r>
              <a:rPr b="0" lang="tr-TR" sz="10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dağıtımını yapmak amacıyla çocuk pornografisi ür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 sunmak veya erişilebilir hale getir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n dağıtım veya iletimini yapma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kendisi veya başkası için bir bilgisayar sistemi üzerinden çocuk pornografisi temin 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nde veya bilgisayar verileri depolama aygıtında çocuk pornografisi bulundurmak.</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1. fıkrada belirtilen “çocuk pornografisi” terimi aşağıda belirtilenleri görsel anlamda tasvir eden pornografik malzemeleri içer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ıs görüntüsüne haiz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nı betimleyen gerçekçi görüntüler;</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10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10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Meseleler</a:t>
            </a:r>
            <a:endParaRPr b="0" lang="en-US" sz="2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çocuk pornografisi bulundurma suçu mudur? </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Neden?</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 spc="-1" strike="noStrike">
                <a:solidFill>
                  <a:srgbClr val="000000"/>
                </a:solidFill>
                <a:latin typeface="Calibri"/>
              </a:rPr>
              <a:t>T</a:t>
            </a:r>
            <a:r>
              <a:rPr b="1" lang="tr-TR" sz="200" spc="-1" strike="noStrike">
                <a:solidFill>
                  <a:srgbClr val="000000"/>
                </a:solidFill>
                <a:latin typeface="Calibri"/>
              </a:rPr>
              <a:t>artışma konuları</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ırvat Mahkemesi suçun –Bilgisayar sisteminde çocuk pornografisi bulundurmak– işlenmesi için aranan niyetin eksik olduğu kanaatine vardığı için beraat kararı verilmiştir. Doğrudan niyet suçun kurucu bir unsurudur (Osijek Bölge Mahkemesi, Kž-339/08-4, 23 Mayıs 2008).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söz konusu davanın ardından, Hırvatistan’da sadece internette çocuk pornografisine “erişme”yi cezalandıran yeni bir suç yaratılmıştı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lmanya’da benzeri bir davada (</a:t>
            </a:r>
            <a:r>
              <a:rPr b="0" lang="de-DE" sz="200" spc="-1" strike="noStrike">
                <a:solidFill>
                  <a:srgbClr val="000000"/>
                </a:solidFill>
                <a:latin typeface="Calibri"/>
              </a:rPr>
              <a:t>Bundesgerichtshof Beschluss vom 10. Oktober 2006 (BGH NStZ 2007 95</a:t>
            </a:r>
            <a:r>
              <a:rPr b="0" lang="en-US" sz="200" spc="-1" strike="noStrike">
                <a:solidFill>
                  <a:srgbClr val="000000"/>
                </a:solidFill>
                <a:latin typeface="Calibri"/>
              </a:rPr>
              <a:t>)) mahkeme, “bulundurma”nın geçici internet dosyaları, ön bellek (birçok insanın internette pek çok içeriğe daha hızlı erişmek için kısa yol olarak kullandığı) de dahil olmak üzere bilgisayar sistemine fabrika ayarı olarak depolanan verileri de kapsadığına karar vermişti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300" spc="-1" strike="noStrike">
              <a:solidFill>
                <a:srgbClr val="000000"/>
              </a:solidFill>
              <a:latin typeface="Calibri"/>
            </a:endParaRPr>
          </a:p>
        </p:txBody>
      </p:sp>
      <p:sp>
        <p:nvSpPr>
          <p:cNvPr id="7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6E226-D23B-4C7B-9090-6E769ACE0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obby bir suç işlemiş mid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bilgisayar sistemine eriş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u erişim haksız mıyd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gisayara Bobby değil, Mary erişmiştir; Mary bilgisayardaki verilere erişim yetkisine sahip olduğundan masumdur. Verilere erişilmesine yol açan kişi masum bir aracı yardımıyla hareket eden Bobby idi. Bobby Mary’ye yalan söylemiştir (bir sosyal mühendislik örneği), bu durum hukuki açıdan erişim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m Bobby’nin hem de Mary’nin polis bilgisayarlarına erişim hakkı bulunmakta olup, bu erişim polis faaliyetiyle bağlantılı meşru bir sorgulamayla ilişkili katı şartlara bağlıdır. Erişim bu yetkinin sınırını aştığında bir suç ortaya çıkar m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Bobby polis karakoluna gidip, Mary Mercedes’in mülkiyeti ile ilgili meşru bir sorgulama yaparken omzu üzerinden (sinsice gözetleyerek) bakıp bilgileri görseyd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t>
            </a:r>
            <a:r>
              <a:rPr b="0" lang="tr-TR" sz="700" spc="-1" strike="noStrike">
                <a:solidFill>
                  <a:srgbClr val="000000"/>
                </a:solidFill>
                <a:latin typeface="Calibri"/>
              </a:rPr>
              <a:t>Sinsice gözetleme” Bobby’nin bilgisayar verilerine erişim ele etmesiyle sonuçlanırdı. “Niyeti”ne dair bir soru işareti oluşabilirdi ve tabii ki bu bilgilere erişebilmek için bilgisayar sistemi manipüle etmesi gerekmemişti, ama yine de haksız yere erişim elde etmiş olurdu (fakat bunu kanıtlamak çok güç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vaka çalışması katılımcıların yetki meselesini (haksız erişim)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a, Bobby’nin polis karakoluna gidip Mercedes’in kime ait olduğu bilgisine –bilgisayarda tutulanla aynı bilgi– kartoteks sistemi üzerinden bakmış olsaydı durumu nasıl değerlendirecekleri de sorulabilir. Buradaki mesele, bizzat verilerin değil (ki veriler de başka bir veri koruma mevzuatı kapsamında korunabilir, bu durumda Bobby’nin suiistimal içeren davranışı başka bir suç teşkil edebilecektir), verilerin muhafaza edildiği aracın koruma altında ol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olis bilgisayar sistemleri birçok hassas bilginin yanı sıra, bireylerle ilişkili çok kapsamlı kişisel bilgiler de barındırmaktadır. Bu tür verilere erişimin yalnızca bunda meşru bir menfaati bulunan kişilere tanınması gerekir. Birleşik Krallık’ta polis memurlarının ve polis bilgisayar operatörlerinin sık sık kişisel amaçlarla (basının ilgisini çekebilecek bilgiler bulmak veya yolsuzluğa bulaşmış memurlar açısından, belirli bir kişinin elinde ne gibi bilgiler bulunduğunu veya belirli bir kişi veya grubun aktif olarak soruşturma altında olup olmadığını anlamak için) polis sistemlerine hukuka aykırı bir şekilde girdikleri tespit edilmektedir. </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Yasadışı bir ele geçirme söz konusu mudu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r ele geçirme söz konusu mudur</a:t>
            </a:r>
            <a:r>
              <a:rPr b="0" i="1" lang="tr-T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Ele geçirme teknik yöntemlerle mi gerçekleştir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Veriler bir bilgisayar sistemine ve bir bilgisayar sisteminden mi ilet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uş kaydedici, bilgisayardan aktarılan verileri yakalayan teknik bir cihazdır. Bu bir ele geçirme fiili oluşturmaktadır ve haksız bir işlem olduğu açık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kype aramaları? Bu senaryoda verilerin bilgisayardan iletilmesi dolayısıyla verilerin aynı hat üzerinde hareket ettiği anlaşılmaktadır, peki ama ya kullanıcının bağımsız bir Skype telefonu varsa? Bu telefon bir bilgisayar sistemi olarak değerlendirilebilir mi? Sözleşme “bilgisayar sistemi”ni </a:t>
            </a:r>
            <a:r>
              <a:rPr b="0" i="1" lang="tr-TR" sz="700" spc="-1" strike="noStrike">
                <a:solidFill>
                  <a:srgbClr val="000000"/>
                </a:solidFill>
                <a:latin typeface="Calibri"/>
              </a:rPr>
              <a:t>bir veya birden fazlası, bir program uyarınca otomatik veri işleyebilen herhangi bir cihaz veya birbiriyle bağlantılı veya ilgili bir grup cihaz </a:t>
            </a:r>
            <a:r>
              <a:rPr b="0" lang="tr-TR" sz="700" spc="-1" strike="noStrike">
                <a:solidFill>
                  <a:srgbClr val="000000"/>
                </a:solidFill>
                <a:latin typeface="Calibri"/>
              </a:rPr>
              <a:t>olarak, “bilgisayar verisi”ni ise, </a:t>
            </a:r>
            <a:r>
              <a:rPr b="0" i="1" lang="tr-TR" sz="700" spc="-1" strike="noStrike">
                <a:solidFill>
                  <a:srgbClr val="000000"/>
                </a:solidFill>
                <a:latin typeface="Calibri"/>
              </a:rPr>
              <a:t>bilgisayar sisteminin bir işlevi yerine getirmesini mümkün kılan bir programı da kapsayan, olguların, bilginin veya kavramların bir bilgisayar sisteminde işlenmeye uygun haldeki her türlü temsili </a:t>
            </a:r>
            <a:r>
              <a:rPr b="0" lang="tr-TR" sz="700" spc="-1" strike="noStrike">
                <a:solidFill>
                  <a:srgbClr val="000000"/>
                </a:solidFill>
                <a:latin typeface="Calibri"/>
              </a:rPr>
              <a:t>olarak tanımla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nleme cihazı kullanımı biraz daha güç bir mesele olabilir. Bu bir ”ele geçirme” midir? Birleşik Krallık mahkemeleri, bir ele geçirmenin söz konusu olabilmesi için sinyal ağa iletilmekte iken sinyale yönelik bir tür müdahale veya aşırma olması gerektiği kanaatindedir; somut olayda cihaz “hat” üzerine yerleştirilmiş olsa yine aynı bilgiler elde edilecek olsun veya olmasın, kayıt iletimden bağımsız şekilde gerçekleş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tuş kaydedici çalışanlarının interneti uygunsuz bir amaçla kullanmamasını sağlamak üzere Şirket tarafından sisteme yerleştirilmiş olsa ne olurd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elekomünikasyon sistemlerinin büyük bir kısmı hem kamusal, hem de özel ağlar üzerinde hareket eder. Haberleşme sizin mülkiyetinizden çıktığı noktada özel bir sistemden çıkıp kamusal bir sisteme girmektedir. Özel sistemi kontrol eden şahıs bu sistemi kullanan haberleşmelere erişim hakkına sahiptir; dolayısıyla örneğin bunun için kullandığınız teknik aygıtın sistemin özel tarafına bağlı olması kaydıyla kendi evinizdeki telefon hattından yapılan konuşmaları izlemeniz mümkün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 bilgisayar verilerine yönelik olarak teknik araçlarla iletilme sırasında haksız bir ele geçirme işlemi gerçekleştirildiğini gösterirken katılımcıların ele geçirme suçunun her bir unsurunu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bu hükmün, mesajın hitap ettiği kişilerle veya hizmetin maliyeti ile ilgili bilgilerden ziyade haberleşmelerin içeriğinin korunması amacıyla getirilmiş olduğunu açık ve net bir şekilde kavramalıdır. </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Meselele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000" spc="-1" strike="noStrike">
                <a:solidFill>
                  <a:srgbClr val="000000"/>
                </a:solidFill>
                <a:latin typeface="Calibri"/>
              </a:rPr>
              <a:t>Mesaj iletilmiş mi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Tartışma konular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Çoğu devlette polisin bir haberleşmenin içeriği bakımından ele geçirmesine izin verilmeden önce yüksek seviyede şüphenin varlığını kanıtlaması gerekmektedir. Gerekli izin alınmaksızın delil toplanması soruşturmanın sonlandırılmasına veya toplanan delillerin kabul edilmemesine yol açabil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ilgisayarlar ve internet birçok farklı haberleşme biçimine olanak sağlamaktadır; örneğin, e-posta, SMS, Twitter vs. Mesajlar çoğu zaman gönderilen alıcının eline geçmeden önce belleğe kaydedilmektedir. Henüz alıcının eline geçmemiş olan bir mesaja iletim aşamasındaki bir mesaj olarak mı muamele edilmesi gerekir? Taslak mesajın gönderilen alıcı tarafından okunup okunmadığını bilmek mümkün değildir. Kanun e-posta sistemini tasarlandığı şekilde kullananlara sağladığı korumayı, e-posta yoluyla yapılan olağan haberleşme yöntemini kasten bozmayı tercih edenlere de tanımalı mı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 yöntem suçluların birbirleriyle iletişim kurmakta kullandığı hayli yaygın bir yöntemdir. Bu tür mesajlara erişim elde etmeye çalışmanın bir ele geçirme olup olmadığı, ulusal mevzuata ve/veya ulusal mahkemelerin tutumuna bağlı olacaktır, ancak katılımcıların bu tür verileri elde etmek için Karşılıklı Adli Yardıma başvurmaları gerekirse, yardım talep edilen devletin bunu bir ele geçirme olarak görebileceğini veya en azından, bir haberleşmenin içeriğine erişim elde etmek bakımından gerekli yargısal izinleri alabilmek için ulaşılması gereken hukuki kriterlerin daha yüksek olacağını fark etmesi önem taşıyabilir. </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u bir ele geçirme teşkil eder m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esli mesaj halen iletim aşamasında mıdı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verileri bakımından bir ele geçirme söz konusu mudu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varış noktasına ulaşana dek, sistemde saklanıyor olsa dahi, muhtemelen halen iletilme aşamasındadır. Mesaj muhtemelen telefon şirketlerinin sunucusunda dijital olarak saklanmakta olduğu içindir ki, Bobby bilgisayar verilerine erişmiş olmaktadır. Telefon bir bilgisayar mıdır? Muhtemelen evet, otomatik bilgi işlemi yapmaktadır. Yaptıkları aramalarda telefon bulan polis görevlilerinin bu tür mesajlara erişim için lazım olan yetkiyi edinebilmeleri için bu hususu göz önünde bulundurmaları gerekebilir. Alıcının mesajı dinlediği veya hafızada saklamayı tercih ettiği durumlar farklılık arz edecekti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enaryo bir önceki senaryoya benzer meseleler uyandırmaktadır. Bir arama emrini yerine getiren polis memurlarının hem açılmış, hem de açılmamış e-postalar içeren bir bilgisayara el koyması durumunda da aynı şekilde söz konusu olabileceği üzere, bu vaka çalışması nispeten sık rastlanılan bir durumu gözler önüne sermektedir. Ayrıca, 3. madde kapsamında saptanan suçun ister telefon, ister faks, ister e-posta, isterse de dosya transferi yoluyla olsun her türlü elektronik veri aktarımı biçimi açısından geçerli olduğunu da göstermektedir. </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suç işlemiş m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kendi başına Verilere veya Sisteme Müdahale suçu oluşturabilir mi?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delillerini silmek bir suç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ezai sorumluluktan bahsedebilmek için bilgisayarın işleyişine yönelik ciddi bir zararın varlığı mı gerek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hükümlerin amacı, bilgisayar verilerine ve bilgisayar programlarına, kasıtlı olarak uğratılan zararlar açısından cismani eşyalara sağlanan korumaya benzer bir koruma sağlan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Hava Kuvvetleri sitesine erişim iznine sahip değildi, bu site şifreyle korunan bir siteydi. Dolayısıyla siteye erişim yasadışı erişim suçu teşkil edecekt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verileri, günlük kayıt dosyalarını ve Hava Kuvvetleri amblemini silmiştir. Günlük kayıt dosyalarını kendisi yaratmış olabilirse de, bu dosyaların kendisine ait değildir; sistem bu tür faaliyetleri kayıt altına almak üzere yapılandırıl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iriş sayfasındaki görseli değiştirerek hem sistemdeki verileri silmiş, hem de sisteme yeni veri eklemiştir; bu işlem önemli bir bilginin kaybıyla sonuçlanacak gibi görünmemekle birlikte, Hava Kuvvetleri açısından bir rahatsızlık yaratacaktır. Ancak, daha da önemlisi, Bobby sisteme bilgi edinmek amacıyla girdiğini ve sadece günlük kayıtları ve başkaca önemsiz verileri sildiğini iddia edebilirse de, böylesi hukuka aykırı bir sistem ihlalinden sonra sistem yöneticileri verilerin bütünlüğünden nasıl emin o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koşullar altında bir suç işlenmiş olup olmadığı, her ülkenin kendi hukukuna göre yorumlanacak bir meseledir. Ciddiyet kriterinin aşılmamış olduğu öne sürülebilir. Ne var ki, sistem yöneticileri muhtemelen, hele ki erişim yapılan site gizli veya hassas veriler içeriyorsa veya, örneğin nükleer bir santralin işletilmesinden sorumlu bir sistem gibi, işlerin ters gitmesi halinde halkı tehlikeye atacak operasyonlarda kullanılıyorsa, ihlalin etkilerini saptamak üzere siteyi çevrimdışı hale getirmek zorunda ka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n için, Bobby’nin erişim sağladığı sistemin nükleer bir santralin işletilmesi amacıyla kullanıldığını varsayalım, 4. ve 5. maddelerde yer alan suçlar bu ihlalin Ulusal Kritik Altyapıya yönelik bir saldırı teşkil edecek denli ciddi bir ihlal olduğunu yansıtmaya yetecek midir?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Spam e-posta göndermekten sorumlu olan kişi 4. veya 5. maddeye aykırı bir suç işlemiş midir?</a:t>
            </a:r>
            <a:endParaRPr b="0" lang="en-US" sz="8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izinsiz bir erişim söz konusu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daki veriler değiştirilmiş midi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herhangi bir zarar vuku bulmuş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zarar meydana gelmemekle birlikte, söz konusu yazılım kullanıcının bilgisayarındaki verilerde bir değişikliğe sebep olmaktadır. Kullanıcıya bilgisayarındaki bu değişiklikle ilgili herhangi bir uyarıda bulunulmadığı ya da kullanıcıdan bu konuda rızası istenmediği için, bu değişiklik yetkisiz bir işlemdir. Spam e-posta gönderilmesi işlemi kendi başına hukuka aykırı bir işlem midir, yoksa sadece bir rahatsızlık mı yaratmaktadır? Ancak olumsuz bir etki yarattığında mı hukuka aykırı hale gelmekted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öz konusu spam e-posta bir ek ve alıcıya eki açması için “bunu seveceksiniz” notuyla iletilen bir davetiye içerseydi?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lıcının maili açmayı tercih ettiği ve böylelikle verileri bilgisayarına indirmeye rıza gösterdiği öne sürülebilir. Oysa ki aslında, verilmiş olabileceği öne sürülen rıza hiçbir açıdan bilgilendirilmiş bir rıza olmayacaktır; öte yandan bilinmeyen alıcılardan gelen ek belgeleri açmayı tercih edenlerin bu tercihle birlikte her türlü riski üstlendiği de iddia edilebil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kendi bilgisayarının bir “Botnet”in parçası haline gelip gelmemesini umursamaması sonuç açısından bir fark yaratır m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nternette gezinirken, bilgisayarımıza sızabilecek materyallerin niteliğine gereğince dikkat etmeksizin, daha ziyade web sitelerinin kendilerine verdikleri adlara, dosyaların isimlerine ya da arama motorumuzun sunduğu sonuçlara göre hareket edip çeşitli siteleri ziyaret ediyor ve çeşitli veriler indiriyoruz. Bir görseli tam boyutlu görebilmek için küçük halinin üzerine tıklamak elde etmek istediğimiz veriye dair bir farkındalığı ve söz konusu verinin niteliğine dair tam olarak bilgilendirilmiş bir rızayı ifade eder. Bir motorlu arabanın tam boyutlu resmini görebilmek için küçük görseline tıkladığımızda karşımıza bir uçak görseli çıkıyorsa, söz konusu veriyi edinmek konusunda rıza göstermiş olduğumuz söylenemez.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web sitesine yönelik bir bağlantıyı tıklayarak açmamız bilgisayarımıza bir sürü veri yüklenmesiyle sonuçlanacaktır. Söz konusu site kurallara uyuyorsa, bu verilerin büyük bir kısmı muhtemelen sitenin içeriğiyle ilişkili olacaktır; ancak ufak bir bölümü üçüncü şahıslarca yerleştirilen reklamlardan oluşabilir. Yine bilgilendirilmiş bir tercihte bulunmuş ve reklamların internette yaygın bir uygulama olduğu bilgisi dahilinde bu reklamın bize ulaştırılmasına da zımni bir rıza vermiş oluruz. Kullanıcıların internet tarayıcısına “çerezler” adı verilen verilerin yüklenmesi internet endüstrisinde yaygın bir uygulamadı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erezlerin, kullanıcının web tarama geçmişinin kaydedilmesi de dahil olmak üzere pek çok işlevi bulunmaktadır. Kullanıcıya tarayıcı üzerindeki çerez fonksiyonunu etkisiz kılma seçeneği verilir; peki ama bu seçenek kullanıcının daha sonrasında bu tür verilerin indirilmesine rıza gösterdiği anlamını çıkarmak için yeterli midir?</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Bu bir sisteme müdahale suçu mudu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rPr>
              <a:t>E-posta göndermek bir bilgisayar sistemine, e-posta sunucusuna erişmeyi veya erişme teşebbüsünü içerir. </a:t>
            </a:r>
            <a:r>
              <a:rPr b="0" lang="tr-TR" sz="900" spc="-1" strike="noStrike">
                <a:solidFill>
                  <a:srgbClr val="000000"/>
                </a:solidFill>
                <a:latin typeface="Calibri"/>
              </a:rPr>
              <a:t>Söz konusu sunucunun sahibi bu erişime ne ölçüde izin vermekted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ir e-posta adresine sahip olmanız, başkalarını size e-posta mesajı göndermeye davet ettiğiniz anlamına mı gel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oru çok haklarla ilgilidir. Bobby bir sisteme erişmiş ve veri girişi yaparak sistemin çökmesine sebep olmuştur. Genel halkın erişebileceği bir e-posta adresi oluşturmak, mesaj alma yönünde zımni bir rıza içermektedir. Bobby emniyetin her bir müstakil e-postayı alma konusunda rıza göstermiş olduğunu ve sistemin bu kadar çok sayıda mesajı kaldırma kapasitesi bulunmamasının kendisinin hatası olmadığını öne sürebilir. Peki ama, emniyet buna gerçekten rıza göstermiş midir? Bir evin sahibi, kendisine hitaben gönderilmiş mektupları posta kutusu aracılığıyla kendisine ulaştırması konusunda postacıya zımni bir rıza vermektedir. Pizzacı ilanı gibi “reklam” postalarını almak konusunda da zımni bir rızası bulunmaktadır. Fakat ev sahibi evin giriş kapısını tıkayacak kadar çok sayıda pizzacı broşürü alma yönünde bir rızada bulunmamaktadı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Gönderici bilgilerini değiştirmek suretiyle e-postanın e-posta sunucusuna erişiminin sahtecilikle elde edilmiş olduğu da söylenemez mi? Zira bu tür “sahte adresli” e-postalar almak konusunda bir rıza verilmemişti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enaryo e-postalarla ilgili olmakla birlikte, web sitelerinin kendilerine yönlendirilmiş trafiğin hacmini kaldıramayacağı bir hizmeti engelleme saldırısı yoluyla çökertilmesini amaçlayan girişimler açısından da aynı prensip geçerlidir. Bir web sitesine bağlanmak kullanıcıların bilgisayarı ile web sitesi arasında bir veri alışverişi içerir. Tıpkı e-posta mesajlarıyla ilgili olduğu gibi, siteye bağlanmanın içerdiği zımni rızaya ilişkin de benzer meseleler doğmaktadır.</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Bobby </a:t>
            </a:r>
            <a:r>
              <a:rPr b="0" i="1" lang="tr-TR" sz="800" spc="-1" strike="noStrike">
                <a:solidFill>
                  <a:srgbClr val="000000"/>
                </a:solidFill>
                <a:latin typeface="Calibri"/>
                <a:ea typeface="ＭＳ Ｐゴシック"/>
              </a:rPr>
              <a:t>5. maddeye aykırı bir suç mu işlemiştir</a:t>
            </a:r>
            <a:r>
              <a:rPr b="0" i="1" lang="hr-H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sistemde yer alan veriler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bir bilgisayar sistemin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 konusu veri engellemesi veya sistemin işleyişinin engellenmesi haksız yere mi gerçekleş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stem yöneticisinin Bobby’nin e-postasına karşı ortaya koyduğu tepki, sistem kullanıcılarının hizmete erişiminin engellenmesine yol açmıştır. Dolayısıyla, erişime yönelik bu kısıtlama muhtemelen geçici bir nitelik de taşısa, sistemde tutulan verilere erişim engellenmiş olmaktadır. Zira söz konusu suçun ortaya çıkması için verilerin daimi olarak erişilemez kılınması gerek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posta adresi sahibinin başkalarından gelen verileri alma konusunda tanıdığı rızanın ölçüsünü daha önce ele almıştı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5. madde bilgisayar sistemleriyle, yani birbirine bağlı bir veya birden fazla bilgisayarla ilgilidir. Peki internete bağlı tek bir bilgisayar bir sistemin parçası mıd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nin eşinin iş bilgisayarının bir sistemin parçası olma ihtimali daha yüksektir; muhtemelen bir LAN (Yerel Alan Ağı) veya WAN (Geniş Alan Ağı) veya İntranet’in (Dahili Ağ) parçasıdır. Bobby sistem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kendisinin hizmetin engellenmesinden sorumlu olmadığını, böyle bir sonucun ortaya çıkması niyetinde bulunmadığını, hatta aksine, eşinin ne yapıp ettiğini anlayabilmek için sistemin işlemeye devam etmesini istediğini savunabilir. Hizmeti engelleme saldırıları çoğu zaman bir web sitesinin çevrimdışı kalmasına yol açacak denli etkili olmamaktadır, ancak hizmet sağlayıcıları saldırının sistem üzerindeki etkisini ve başka müşteriler açısından ortaya çıkabilecek sıkıntıları en aza indirmek için siteyi çevrimdışı hale getir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da Bobby 5. maddede yer alan suçun ortaya çıkması için gereken niyeti taşıyor gibi görünmemektedir, ancak bu durum cezai sorumluluktan kaçabileceği anlamına da gel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 başkalarının bilgisayarlarına erişim sağlayan siber suçluların yaygın olarak başvurduğu bir yöntem olan Truva virüsüne örnek teşkil etmektedir. </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bir bilgisayar sisteminin tamamına veya bir kısmına erişilmesini kapsamaktadır. Bu slayt “bilgisayar sisteminin bir kısmı” ibaresinin ne anlama geldiğini örneklerle açıklamaktadır.</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karşıdan yüklemeye uygun hale getirmek bir suç mudur</a:t>
            </a:r>
            <a:r>
              <a:rPr b="0" i="1" lang="en-GB" sz="800" spc="-1" strike="noStrike">
                <a:solidFill>
                  <a:srgbClr val="000000"/>
                </a:solidFill>
                <a:latin typeface="Calibri"/>
                <a:ea typeface="ＭＳ Ｐゴシック"/>
              </a:rPr>
              <a:t>? </a:t>
            </a:r>
            <a:endParaRPr b="0" lang="en-US" sz="8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bulundurmak suç mudur</a:t>
            </a:r>
            <a:r>
              <a:rPr b="0" i="1" lang="en-GB" sz="800" spc="-1" strike="noStrike">
                <a:solidFill>
                  <a:srgbClr val="000000"/>
                </a:solidFill>
                <a:latin typeface="Calibri"/>
                <a:ea typeface="ＭＳ Ｐゴシック"/>
              </a:rPr>
              <a:t>?</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meşru bir amaçla kullanılabiliyor olması kovuşturma açılamayacağı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karşıdan yüklenmeye elverişli hale getirilmesi dağıtım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enaryonun ilişkili olduğu suçlar şunlardır: izinsiz erişim, yasadışı ele geçirme, verilere ve sisteme müdahale.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yazılım ilk başta iki amaçlı bir kullanıma, meşru bir işleve hizmet ederken, şu anda kullanıcı arayüzü değiştirilmiş olduğundan yazılımın bulundurulması vs. bir suç haline mi gelmişti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aha önceki vaka çalışmamıza bakacak olursak, Bobby’nin eşinin bilgisayarına erişim elde etmek için kullandığı “tüm bölgelere erişim” yazılımının meşru bir kullanım amacı bulunmaktadır. Bunun gibi programlar kullanıcıların kendi bilgisayarlarına uzaktan erişmesine olanak sağlamaktadı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obby’nin yazılımı kıran şifreye sahip olması bir suç oluşturmakta mıdır? Burada bir niyet meselesi söz konusu olabilirse de, Bobby hangi meşru amaçla bu yazılıma sahip olmuş olabilir? Bu yazılımı bir suç işlemek maksadıyla yerleştirmeye çalıştığını gösteren herhangi bir delil mevcut mudu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ç yasalara uygun hareket eden yazılım sağlayıcılarını ve kullanıcıları suçlu kılmak amacıyla getirilmemiştir. Bu örnekte olduğu gibi, kötü niyetin varlığına dair delil bulunduğunda muhtemelen herhangi bir sorun yaşanmayacaktır. Ancak siber suç işleyenler genelde aynı zamanda yasalara uygun internet faaliyetlerinde de bulunup, internet endüstrisi bünyesinde bu tür yazılımları kullanan ve geliştiren, fakat fırsat bulduklarında bunları yasadışı faaliyetler için de kullanmaktan çekinmeyen bilişim uzmanları bile olabilmektedir. Peki ya dükkan sahipleri ne yapsın? Bir müşterinin belirli bir donanım veya yazılımla ilişkili olarak nasıl bir niyet taşıdığını nereden bilebilirler? Suçun çerçevesi çok mu muğlak?</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 bir yazılımı yaratmak, üretmek, dağıtmak, kullanmak veya bulundurmak ceza bir suç teşkil eder m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pimiz sürekli olarak verilerimizi güvenli tutmak konusunda uyarılıyoruz. Böyle bir program suç işleyen ve özellikle de bilgisayarlarının içeriği sebebiyle kendisine suç isnat edilebileceğinden korkan kişiler açısından elbette ki faydalı olmakla birlikte, bu kişiler söz konusu programı bir suç işlemek amacıyla değil, daha ziyade delilleri gizlemek amacıyla kullan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 işleyen kişiler tespit edilmekten kaçınmak için, gerçek IP adreslerini açıklamadan internette gezinmelerini sağlayan anonimleştiriciler yahut bir sabit disk sürücüsünün içeriğini silebilen delil giderici programlar da dahil olmak üzere başkaca program veya sistemlerden yararlanabilir.</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Nick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Şirket bir suç işlemiş midir?</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Jüpiter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Cihaz ilk başta, belirtilen suçları işlemek amacıyla mı tasarlanmış veya uyarlanmıştı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lular suç işlemelerine olanak sağlayan veya yardımcı olan çok çeşitli araçlara erişebilmektedir. Kendi “bot”unuzu kurmanızı sağlayacak kodu satın almak veya bir “bot ağı” satın almak yahut kullanıcının “kimlik hırsızlığı” gibi çeşitli suçları işleyebilmesini sağlayan bir bot ağına erişim satın almak mümkündü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üpiter bu programı kullanıcıların mali bilgilerini edinmek için kullanacaktır; bu bilgilerin bizzat Jüpiter veya bir başkası tarafından istismar edilme ihtimali mevcuttur. Şirket muhtemelen Nick’in bu programı iş saatlerinde yazmış olduğunu düşünmekteydi. Nick masumdur ve Jüpiter’e çok güçlü bir suç aracı yaratmak konusunda bilmeksizin yardım etmiştir. Ne Nick’in, ne de şirketin suç işleme niyeti bulunmaktadır. Jüpiter bu programı çalışanlarının internet faaliyetlerini izlemek isteyen başka şirketlere pazarlamaya devam etse durum farklı mı olurdu? Jüpiter yazılımın suç işlemek isteyenler açısından bariz bir cazibesi olmakla birlikte aslında meşru bir amaca hizmet ettiğini savunabilir mi? </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Stefan hangi suçu işlemişt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ahte banka çekleri üretmek bilgisayarla bağlantılı bir sahtecilik mid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ncak bankadaki memurun çeki sahih bir çek olarak kabul etmesiyle mi tamamlanı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nka çeki üretmek bir bilgisayara sahih olmayan verilerin girilmesi işlemini içerir, yani çek Stefan lehine düzenlenmiştir. Ancak bu işlem haksız yere mi yapılmıştır yoksa Stefan’ın kendi bilgisayarında böyle bir belge yaratma hakkı var mıdır? Stefan’ın bu çeki bankayı dolandırmak amacıyla kullanma niyeti olabilir, ancak herhangi bir sebeple çeki basamamış olabilirdi. Bu belgenin bir evrak olarak düzenlenmiş olup olmaması Stefan’ın sorumluluğu açısından herhangi bir fark yaratır mı?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slında bu türden bir senaryo öngörülerek yaratılmamıştır, ancak ulusal mevzuatta sahte bir banka çeki yaratılması başka bir açıdan suç sayılmadıysa bu hükme başvurulabilir. Bu suçlar daha ziyade teşebbüs gibi tali yükümlülükler bağlamında değerlendirilebili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la esasen bilgisayarı suçu işleme mekanizması olarak kullanan kişiler hedeflenmektedir, yani bankadaki iyi niyetli memur Stefan tarafından temin edilen verileri sahih kabul ederek bilgisayara girerken suç işlenmiş olmaktadır.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bilgisayarla bağlantılı bir sahtecilik suçu mudu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ğiştirilmiş veriler yasal açıdan kullanılmayacakt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r>
              <a:rPr b="0"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tefan verileri değiştirmiş ve sahih olmayan veriler girmiştir. Bu erişimin ve değişikliğin haksız yere yapıldığı açıktır. Stefan’ın işlemiş olabileceği diğer suçlar bir yana, bu veriler yasal açıdan kullanılmayacak olduğundan bilgisayarla bağlantılı bir sahtecilik suçu işlemiş olduğu konusu şüpheli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htecilikle bağlantılı suç maddi veya başkaca bir kazançla ilgili değildir; bilgisayarla bağlantılı sahtecilik bu tür suçları içermektedir. Bahsi geçen madde hukuki sonuçlar doğurabilecek elektronik verilerin güvenliğini ve güvenilirliğini sağlamayı amaçlamaktadır. “Yasal açıdan” terimi hukuki olarak önem arz eden işlem ve evraklara atıfta bulunmaktadır.</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obby bir suç işlemiş midir?</a:t>
            </a:r>
            <a:r>
              <a:rPr b="0" lang="tr-TR"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nin mesajı doğru değil miydi?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doğru değilse, başka biri bu mesaj yüzünden kayıp yaşamış mıdı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undan maddi bir çıkar sağlamış m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tarafından gönderilen mesaj doğru değilse, bu durumda bir suç işlemiş olabilir. Bir bilgisayara doğru olmayan veriler girmiş ve hisse fiyatındaki artıştan bizzat kendisi maddi bir menfaat elde etmişti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Veri girişi ile bunun etkisi arasındaki illiyet bağı çok mu dolayl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aşka birinin kaybına mı yol açmıştır? Hisselerin doğru olmayan bilgilerle değer kazandığı ve ileride bir noktada muhtemelen değer kaybedecek olduğu düşünülürse bu sorunun cevabı muhtemelen evettir. Ancak hisse piyasasının son derece istikrarsız seyrettiği, birilerinin bir hisse için herhangi bir zamanda ödemek isteyeceği fiyatın bir hissenin değerini belirlemediği de teslim edilmeli midir? Birileri gerçekten dolandırılmış mıdır, yoksa bu türden söylentilere ve mesajlara internette zaten bolca rastlanmakta mıdır? Bu mesajın hisse fiyatını manipüle etmeye yönelik beceriksiz bir girişim olduğunu anlamayıp buna gerçekten inanan birileri çıkar mı? İnternette yalan söyleyemeyiz mi demek oluyor bu? </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ＭＳ Ｐゴシック"/>
              </a:rPr>
              <a:t>Stefan </a:t>
            </a:r>
            <a:r>
              <a:rPr b="0" i="1" lang="tr-TR" sz="1200" spc="-1" strike="noStrike">
                <a:solidFill>
                  <a:srgbClr val="000000"/>
                </a:solidFill>
                <a:latin typeface="Calibri"/>
                <a:ea typeface="ＭＳ Ｐゴシック"/>
              </a:rPr>
              <a:t>bir suç işlemiş midir</a:t>
            </a:r>
            <a:r>
              <a:rPr b="0" i="1" lang="en-GB" sz="1200" spc="-1" strike="noStrike">
                <a:solidFill>
                  <a:srgbClr val="000000"/>
                </a:solidFill>
                <a:latin typeface="Calibri"/>
                <a:ea typeface="ＭＳ Ｐゴシック"/>
              </a:rPr>
              <a:t>?</a:t>
            </a:r>
            <a:r>
              <a:rPr b="0" lang="en-GB" sz="1200" spc="-1" strike="noStrike">
                <a:solidFill>
                  <a:srgbClr val="000000"/>
                </a:solidFill>
                <a:latin typeface="Calibri"/>
                <a:ea typeface="ＭＳ Ｐゴシック"/>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 mıdı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nin fişi otomatik olarak vermesi ve ortada kandırılan bir insan bulunmaması herhangi bir önem taşıyor mu?</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nin niteliği ne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dır, verileri işleyerek otopark tarifesine göre alınması gereken miktarı hesaplar ve otopark süresine uygun bir fiş düzenler. Stefan sahih olmayan veriler girmiş, makineye uygun bozuk paraların yerine rondela atmıştır. 7. madde tedarik edilen verilere dayanarak bir insanın bir işlemde bulunması şartı aramamaktadı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 sahtedir, bu fişin yaratılması için kullanılan veriler hatalıdır ve bu veriler bir kişinin, otopark görevlisinin bu verileri sahih sanması ve Stefan’a otopark fişi vermesi için üretilmiştir.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verileri bulundurmak suç mudu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gisayar dosyalarının niteliği nedir? Bir dizi ikili koddan oluşmasına rağmen hukuken “eşya” niteliğinde mi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leşik Krallık’ta dolandırıcılık amacıyla bir eşya bulundurmak esaslı bir suçtur. Bilgisayar dosyası da eşyadır. Elbette aranan niyet kriterinin kanıtlanması gerekecektir, fakat bu türden verileri bulundurmak için meşru bir sebep öne sürülmesi güçtü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ki bir hazırlık suçu olarak değerlendirilebilir.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Adam hangi suçları işlemişti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retmek, tedarik ve dağıtım tanımları.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am görsel dosyaları internetten yüklemiştir. Bu karşıdan yükleme işlemi böyle bir görselin yaratılmasıyla eşdeğer midir? Bilgisayara karşıdan yükleme ve özellikle de bir görsel kaydetmek televizyon izlemek gibi bir işlem değildir. Karşıdan yükleme işlemi yeni bir bilgisayar dosyası yaratmaktadır, yani internetten görsel izlemek yeni görseller yaratma işlemini içermektedir. Savcılar bu noktadan faydalanabil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Eşler Arası” (Peer to Peer) dosya paylaşım ağları, üyelerinin ağın diğer üyeleri tarafından erişilebilir kılınan dosyalara erişmesine imkân sağlamaktadır. Adam görselleri paylaşılan dosyaya koyarak bunları dağıtıma elverişli hale getirmektedir.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ll hakkında bu görüntülerle ilgili olarak kovuşturma başlatılabilir mi?</a:t>
            </a:r>
            <a:r>
              <a:rPr b="0" lang="tr-TR" sz="800" spc="-1" strike="noStrike">
                <a:solidFill>
                  <a:srgbClr val="000000"/>
                </a:solidFill>
                <a:latin typeface="Calibri"/>
                <a:ea typeface="ＭＳ Ｐゴシック"/>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Yargılama yetkis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sli suça karar verilmesi, bir görselin bulundurulması mı, yoksa görselin yaratılması mı?</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örseller yurtdışında yaratılmış göründüğünden, bunların yaratılmasıyla ilgili yetki meseleleri ortaya çıkabil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sorun olmamalı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ütün görseller ayrılmamış bir alanda bulunmuş olsaydı durum ne olurdu?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için hem bilgi, hem denetim gerekir. Bill silinmiş olan görsellerin sabit disk sürücüsünde halen erişilebilir olabileceğini biliyor veya bilmiyor olabilir, ancak teknik araç ve uzmanlığı olmadan bu görselleri kurtarması mümkün olmayacaktır. Ne var ki, Bill’i bu görselleri yaratmaktan veya geçmişte bu görselleri bulundurmaktan ötürü kovuşturup kovuşturmamak (yetki meselelerine bağlı olarak) savcının takdirine kalmakta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u görseller plajda oyun oynayan 3 ila 7 yaşındaki çıplak çocuklara ait olsa ve Bill kendisinin çıplaklık yanlısı bir kişi olduğunu söylese, ancak bu görsellere baktığında cinsel zevk duyduğunu kabul etse durum ne olurdu?</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görsellerin hukuka aykırı olup olmadığı her ülkenin kendi hukukuna göre yorumlanacak bir meseledir. Birleşik Krallık’ta bu tür görsellerin genelde cinsel unsur taşıdığı kabul edilir ve fotoğrafçının hangi motivasyonla hareket ettiğine itibar edilmez.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Hangi görselin hukuka aykırı olduğuna kim karar veriyor? Suçun çerçevesi yeterince net çizilmiş mi?</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ohn’un görsellerden ötürü sorumlu olduğu nasıl kanıtlanacak?</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edofil suçlarıyla itham edilen şüpheliler üzerindeki etkisi.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r>
              <a:rPr b="0"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yöntemle görsel gizlenmesi oldukça yaygın bir işlemdir. Gruplar içinde bu görsellere bağlantı içeren mesajlar gönderilmektedir. Bir IP adresinin siteye nasıl kayıtlı hale geldiği anlaşılmadan arama emri çıkartmak için sadece IP adresine itimat etmek tehlikeli olabilir, zira söz konusu IP adresi sahipleri başka bir site tarafından yönlendirilmiş ve neler içerdiğini anladıklarında hiçbir görsele erişmeye devam etmemiş olup, bu anlamda tamamen masum olabilir. Tabii bu arada siteyi birden çok kez ziyaret etmiş ve birkaç görsele erişmiş olabilirler.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kişiyi pedofil olmakla suçlamadan önce gösterilmesi gereken özeni tartışmak amacıyla bu vaka çalışmasından yararlanılabilir. Bu tür suçlarla itham edilen kişiler arasında intihar oranları yüksektir. Diğer tüm siber suç örneklerinde olduğu gibi, burada da ilgili tarihte klavye başında olan şüpheliyi tespit edebilmeniz gerekir, zira bir IP adresi aynı adresteki birkaç kişi tarafından kullanılabileceği gibi kablosuz ağ da başka biri tarafından gasp edilmiş olabilir. Bu tür suçlamalar masum bir kişi üzerinde yıkıcı bir etki yaratabilir. </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Oswald bir suç işlemiş midir?</a:t>
            </a:r>
            <a:r>
              <a:rPr b="0" lang="tr-TR" sz="900" spc="-1" strike="noStrike">
                <a:solidFill>
                  <a:srgbClr val="000000"/>
                </a:solidFill>
                <a:latin typeface="Calibri"/>
                <a:ea typeface="ＭＳ Ｐゴシック"/>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asli bir suç mu, yoksa tali sorumluluk yaratan bir suç mu işlemişti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Yargılama yetkisine ilişkin herhangi bir mesele söz konusu mudu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 web sitesinin tamamen otomatikleştirilmiş olması herhangi bir fark yaratır mı?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nın kullanımı konusunda ne söyleyebiliriz?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bilgisayarında hiçbir görsel bulundurmamaktadır ve bu tür görselleri görüntülemek için bir web sitesine erişmiş olduğunu kanıtlamamız mümkün değildir, yalnızca bunun için bir abonelik ücreti ödemiş olduğunu kanıtlayabilmekteyiz. Oysa Oswald söz konusu parayı başka bir kişiyi, web sitesinin ABD’deki sahibini çocuk istismarı içeren görselleri dağıtması veya dağıtım için elverişli kılması yönünde ikna etmek amacıyla ödemiştir. Peki bu bir suç teşkil eder mi?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deki web sitesinin tamamen otomatikleştirilmiş olması demek, kredi kartı bilgilerinin işlenme sürecine fiilen kimsenin dahil olmaması demektir. Hal böyle olsa dahi, söz konusu işlem bu işten mali kazanç elde eden bir kişi tarafından yaratılmış olup, onun tarafından idare edilmekte ve sürdürülmekted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 kullanımı tek başına hukuka aykırı bir işlem değildir. Oswald bu programı polis soruşturması sırasında çalıştırmış olmadığı sürece, adaletin işleyişiyle bağlantılı bir suç işlemiş olma ihtimali bulunmamaktadır. Ancak Oswald kovuşturmaya uğrayacak olursa, bu tür programlar kullanmış olması mahkemece ağırlaştırıcı bir sebep olarak değerlendirilebil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Üçüncü Bölümü ile ilgili sormak istedikleri her türlü soruyu sorma fırsatı tanımalıdır. </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5BC9D-F5F1-4D24-A880-02DD55A8F4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4674C-6E1D-4B77-9714-87319DF4E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Özet / Tekr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aşağıdaki hususlarda bilgileri tekrarlamalı/sınamalı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dapeşte Sözleşmesi’ne dayalı olarak, maddi ceza hukuku hükümleri ve suçları tanımlamada kullanılan bazı temel faktörler.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ka çalışması tartışmalarından hareketle ilgili maddi hukuk hükümleri. </a:t>
            </a:r>
            <a:endParaRPr b="0" lang="en-US" sz="1200" spc="-1" strike="noStrike">
              <a:solidFill>
                <a:srgbClr val="000000"/>
              </a:solidFill>
              <a:latin typeface="Calibri"/>
            </a:endParaRPr>
          </a:p>
        </p:txBody>
      </p:sp>
      <p:sp>
        <p:nvSpPr>
          <p:cNvPr id="7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CC82E-9F68-4553-9576-4DFACC1D2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katılımcılara dersle ilgili sormak istedikleri her türlü soruyu sorma fırsatı tanı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Pratik Çalışmalar (var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oturum için başkaca bir pratik çalışma hazırlanmamış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 Te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her bir oturumdaki konular hakkında ilgili sorular sorarak bilgiyi sınamalıdı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CDED6-0335-49DD-BC48-99B8708345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a:t>
            </a:r>
            <a:r>
              <a:rPr b="0" lang="en-US" sz="1200" spc="-1" strike="noStrike">
                <a:solidFill>
                  <a:srgbClr val="000000"/>
                </a:solidFill>
                <a:latin typeface="Calibri"/>
              </a:rPr>
              <a:t>Bu yetki herhangi bir olayda yasamayla ilgili, idari, yargısal, akdi veya karşılıklı mutabakata dayalı olabilir. Yetkilendirilmiş davranış suç teşkil etmez; </a:t>
            </a:r>
            <a:r>
              <a:rPr b="0" lang="en-GB" sz="3000" spc="-1" strike="noStrike">
                <a:solidFill>
                  <a:srgbClr val="000000"/>
                </a:solidFill>
                <a:latin typeface="Calibri"/>
              </a:rPr>
              <a:t>kamuoyunun serbest ve açık erişimine imkân tanıyan bilgisayar sistemlerine erişim de suç teşkil etmez.</a:t>
            </a:r>
            <a:endParaRPr b="0" lang="en-US" sz="3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raflar yasadışı erişimin genel olarak suç sayılmasını öngören 2. maddenin kapsamını birtakım niteleyici öğelerle daraltabilir. Örneğin, taraflar yasadışı erişim işleminin güvenlik tedbirlerinin (örn. Şifre veya başkaca erişim kodları) çiğnenmesi suretiyle ya da sahtekâr bir niyetle ya da erişilen bilgisayar sisteminden veya başka bir bilgisayar sisteminden bilgisayar verilerinin elde edilmesi amacıyla gerçekleştirilmesini şart koş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layt Tarafların kendi iç mevzuatlarında benimsemek isteyebilecekleri niteleyici öğeleri sıralamaktadı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3. maddesi kapsamında tanımlanan yasadışı ele geçirme de kasıtlı bir ihlal teşkil etmektedir. Bu suç umuma kapalı bilgisayar verilerinin bir bilgisayar sistemine, bir bilgisayar sisteminden veya bir bilgisayar sisteminin kendi içinde teknik yöntemler kullanılarak iletimi esnasında haksız yere ele geçirenler tarafından işlen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3.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ünd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ısımda dört bölüm yer a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inci bölümde Budapeşte Sanal Suç Sözleşmesinin Maddi Ceza Hukuku kısmına odaklan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kinci Bölüm Ulusal Maddi Ceza Hukuku üzerine o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çüncü kısımda vaka çalışmaları yap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dördüncü bölümde tüm bölümlerin özeti yapılacaktır.</a:t>
            </a:r>
            <a:endParaRPr b="0" lang="en-US" sz="1200" spc="-1" strike="noStrike">
              <a:solidFill>
                <a:srgbClr val="000000"/>
              </a:solidFill>
              <a:latin typeface="Calibri"/>
            </a:endParaRPr>
          </a:p>
        </p:txBody>
      </p:sp>
      <p:sp>
        <p:nvSpPr>
          <p:cNvPr id="4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E62C9-C52F-44B2-9AE8-E087C4808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 girme haberleşmelerin </a:t>
            </a:r>
            <a:r>
              <a:rPr b="0" lang="en-GB" sz="1200" spc="-1" strike="noStrike">
                <a:solidFill>
                  <a:srgbClr val="000000"/>
                </a:solidFill>
                <a:latin typeface="Calibri"/>
              </a:rPr>
              <a:t>dinlenmesi, izlenmesi veya takibi anlamına gelir. Ele geçirme veri haberleşmelerinin gizliliğini etkiler ve Sözleşme’nin 3. maddesi umuma kapalı verilerin iletiminde ele geçirilmesine karşı koruma sağlamayı amaçlamaktadır.</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Ele geçirme durumunda söz konusu işlemin izin çerçevesinde; muhtemelen deneme veya koruma faaliyetlerinde bulunmakla yetkili kişiler veya kolluk görevlileri tarafından yapılma ihtimali de bulunmaktadır. Yani “haklı olarak” gerçekleştirilen meşru ele geçirme işlemleri 3. madde kapsamına girmemektedi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iletimler esnasında teknik olmayan yollarla ele geçirilmesini kapsamayıp, bir kişinin bir bilgisayar sistemine bir iletimin ele geçirilmesi amacıyla erişmesine ve sistemi bu amaçla kullanmasına, elektronik gizli dinleme yöntemlerinin veya dinleme cihazının veya başkaca herhangi bir teknik aracın kullanılmasına ilişkindir. Bu slaytta 3. madde kapsamına giren bazı ele geçirme biçimlerine dair örnekler verilmektedir.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muma açık iletimler esnasında ele geçirme, maddenin kapsamını yalnızca umuma kapalı iletimlerle ilişkilendiren 3. madde kapsamında bir suç sayılmamaktadır. 3. madde verilerin niteliğini değil, iletimin niteliğini dikkate aldığından, umuma kapalı iletimler ile umuma kapalı veriler arasında ayrım yapılması önemlidir. Yani, umuma açık bir veri iletimi üzerinden iletilen gizli bilgiler açısından ele geçirilmesi suç oluşturmazken, aslında umuma açık olan verilerin umuma kapalı şekilde iletimi esnasında ele geçirilmesi 3. madde kapsamında bir suç teşkil edecekti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r bilgisayar sistemine, bir bilgisayar sisteminden veya bir bilgisayar sisteminin kendi içindeki iletimler esnasında ele geçirilmesi suç sayılmaktadır. Bu slayt 3. maddenin bu açıdan kapsamını ve bahsi geçen üç unsur arasındaki farkı izah eden örnekler içermektedir.</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ğitmen aşağıdaki konuları ele al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ne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usal hukuka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şta Budapeşte Sözleşmesi olmak üzere uluslararası araçlarla ulusal mevzuatın uyumlaştırılması ihtiyacı ve bu uyumlaştırmanın avantajları</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20992-223C-44D1-B64D-2EF2EE8CA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bilgisayar verileri açısından ele geçirilmesinden başka, Budapeşte Sözleşme’nin 1. maddesi kapsamında “bilgisayar verileri” tanımına dahil edilmeyen elektromanyetik dalgaların yayılması esnasında ele geçirmeyi de suç saymaktadır. Bilgisayar sistemleri sık sık veri içeren elektromanyetik dalgalar yayabilmektedir. Bu elektromanyetik dalgalar üzerinden bilgisayar verilerinin yeniden düzenlenebilmesi ihtimali bulunması sebebiyle, elektromanyetik dalgaların yayılması esnasında ele geçirme de suç sayılmıştır; zira bu unsurun suç kapsamı dışında bırakılması hukuken bir boşluk yaratacaktır.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bilgisayar verilerinin umuma kapalı iletimi esnasında, teknik yöntemler kullanılarak, haksız yere, kasıtlı şekilde ele geçirilmesini genel olarak suç saymaktadır. Taraflar 3. maddenin kapsamını birtakım niteleyici öğelerin varlığını şart koşarak sınırlandırabilir. Tarafların benimseyebileceği niteleyici öğeler bu slaytta belirtilmektedir.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kasıtlı olarak ve haksız yere zarar verilmesi, verilerin silinmesi, tahrip edilmesi, değiştirilmesi veya engellenmesi Budapeşte Sözleşmesi’nin 4. maddesinde öngörüldüğü üzere verilere müdahale suçunu oluşturacaktır.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4.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izinsiz müdahalelere karşı verilerin bütünlüğünü korumaktadır. Tıpkı bir mal sahibinin gerçek hayatta malını başkalarının müdahalesine karşı koruyup muhafaza etme hakkı olduğu gibi, verilerin sahibi de verileri olduğu gibi muhafaza etme hakkına sahiptir. Kimi ülkelerde olağan ve klasik zararlar kapsamında verilere müdahale de yer almaktadır; diğer ülkelerde ise bilgisayar verilerine yönelik zararları veya verilere müdahaleyi ayrıca tanımlama ihtiyac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odern yaşamda söz konusu verilerin (bilgisayar verileri) muazzam artışı bu suça damgasını vurmaktadır. Bilgisayar verileri son derece savunmasız konumda olduğundan çok kolayca imha veya manipüle edilebilir. Bu ceza kuralı verilerin bütünlüğünü ve erişilebilirliğini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konusunda en sık rastlanan örneklerden biri virüslerin eylemlerinden kaynaklanır – virüsler mağdurun bilgisayarına kendilerini haksız şekilde kurar ve örneğin verileri siler.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haksız yere zarar verilmesi veya tahrip edilmesi verilerin ve programların bütünlüğünün ya da bilgi içeriğinin olumsuz yönde değiştirilmesi anlamına gelmektedir. Her ikisi de birbiriyle iç içe geçebilen eylemlerdir.</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linme verilerin imhası anlamına gelmektedir; ve silinmiş olan verilerin tanınmaz hale gelmesine yol açmaktadı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nulan vaka çalışmalarıyla ilgili tartışmalar çerçevesinde ilgili maddi hukuk hükümleri</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0CCDB-5EFD-4CA7-B842-00664DE8F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ğiştirme mevcut verilerin değiştirilmesi (fakat silinmemesi) anlamına gelmektedir. Veriler birkaç şekilde değiştirilebilir; bunlar arasında virüs ve Truva atı gibi kötü niyetli kodların girilmesi de yer almaktadı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in engellenmesi, verilerin saklanıyor olduğu bilgisayara veya depolama aracına erişimi bulunan kişinin verilere erişebilirliğini engelleyen veya sona erdiren herhangi bir işlem anlamına gelmektedir. Verilerin silinmesinin aksine, verilerin engellenmesinde veriler tahrip olmamakta, yalnızca erişilebilirlikleri ortadan kalkmaktadır.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verilere 4.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e müdahale suçunun geniş bir kapsamı olduğu düşünülerek, taraflar bu davranışın ciddi zararla sonuçlanmasını şart koşarak suçu sınırlandırmayı tercih edebilir. 4. madde ciddi zarara dair özel bir tanım getirmediği için bu konudaki kriterler iç hukuk kapsamında saptanabilir.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steme müdahale bir bilgisayar sisteminin işleyişinin engellenmesidir – ciddi şekilde engellenmesi: Budapeşte Sözleşmesi’nin 5. maddesi ciddi olmayan engellemeleri kapsamamaktadır. Bu durum, kasıtlı şekilde ve haksız yere işlenmesi halinde, bilgisayar sistemlerine veri girişi yapılması, bu verilerin iletilmesi, bilgisayar verilerine zarar verilmesi, bunların silinmesi, tahrip edilmesi, değiştirilmesi veya engellenmesi sonucunda ortaya çıkabili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beple, örneğin genel olarak, ağ yöneticisi tarafından gerçekleştirilen güvenlik testleri kapsam dışında kalmaktadır. Bu ihlal bir ağın olağan ve usulünce işleyişine müdahale teşkil edebilen pek çok işlemi içermektedir. Esasen Budapeşte Sözleşmesi haberleşme sistemlerinin ve bilgisayar teknolojisinin gündelik yaşamdaki önemini teslim etmektedir – bu sistemlerin erişilebilirliği kamusal, ekonomik ve sosyal faaliyetlerin düzgün şekilde yürütülmesi açısından hayati önem taşımaktadır. Fakat bu suç türü sadece hizmeti engelleme saldırıları gibi büyük ölçekli müdahaleleri içermez.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lnızca tek bir bilgisayara yönelik küçük eylemler bile sisteme müdahale teşkil edebilir – tek bir e-posta adresini hedef alan </a:t>
            </a:r>
            <a:r>
              <a:rPr b="0" i="1" lang="tr-TR" sz="1200" spc="-1" strike="noStrike">
                <a:solidFill>
                  <a:srgbClr val="000000"/>
                </a:solidFill>
                <a:latin typeface="Calibri"/>
              </a:rPr>
              <a:t>mail bombardımanı </a:t>
            </a:r>
            <a:r>
              <a:rPr b="0" lang="tr-TR" sz="1200" spc="-1" strike="noStrike">
                <a:solidFill>
                  <a:srgbClr val="000000"/>
                </a:solidFill>
                <a:latin typeface="Calibri"/>
              </a:rPr>
              <a:t>buna örnektir. Esasen, bir failin bir bilgisayar sistemini altından kalkabileceğinden daha fazla taleple hedef alması halinde daima bir sisteme müdahale suçu ortaya çıkacaktı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hem sistem işletmecilerini, hem de son kullanıcıyı korumak amacıyla haberleşme ağlarına erişimin korunmasını öngörmektedir.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siber suçlar konusundaki ilk uluslararası sözleşme olarak, ceza soruşturmalarında uluslararası işbirliğinin kolaylaştırılmasını ve geliştirilmesini amaç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iki oturumda maddi ceza hukuku, yani Budapeşte Sözleşmesi’nin her bir ülkeden ulusal mevzuatında suç olarak saymasını istediği cürümler konu edilecektir.</a:t>
            </a:r>
            <a:endParaRPr b="0" lang="en-US" sz="1200" spc="-1" strike="noStrike">
              <a:solidFill>
                <a:srgbClr val="000000"/>
              </a:solidFill>
              <a:latin typeface="Calibri"/>
            </a:endParaRPr>
          </a:p>
        </p:txBody>
      </p:sp>
      <p:sp>
        <p:nvSpPr>
          <p:cNvPr id="5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9FE0B-A80D-4C43-B3E4-B4C12424F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bir unsurunu göstermektedir. Bu unsurun ve bir önceki slaytta yer alan unsurun açıklaması bir sonraki slaytta yer almaktadır.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stem müdahalesi suçu bir bilgisayar sisteminin düzgün işleyişinin engellenmesiyle sonuçlanan bir davranış gerektirmektedir. 5. madde bu engellemenin bilgisayar verisi (i) girişi yapılması (ii) iletilmesi (iii) zarar görmesi (iv) değiştirilmesi ve (v) engellenmesi yoluyla meydana gelmesi gerektiğini dile getirmektedir. Bu ibarelerden her birinin açıklaması verilere müdahale suçu (4. madde) kapsamında halihazırda ele alınmış olup, aynı açıklamalar sisteme müdahale açısından da geçerli olacaktır.</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5.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5. madde bir bilgisayar sisteminin işleyişinin sadece engellenmesini değil, </a:t>
            </a:r>
            <a:r>
              <a:rPr b="1" lang="en-GB" sz="1200" spc="-1" strike="noStrike">
                <a:solidFill>
                  <a:srgbClr val="000000"/>
                </a:solidFill>
                <a:latin typeface="Calibri"/>
              </a:rPr>
              <a:t>ciddi şekilde engellenmesini </a:t>
            </a:r>
            <a:r>
              <a:rPr b="0" lang="en-GB" sz="1200" spc="-1" strike="noStrike">
                <a:solidFill>
                  <a:srgbClr val="000000"/>
                </a:solidFill>
                <a:latin typeface="Calibri"/>
              </a:rPr>
              <a:t>suç saymaktadır; yani engellemenin ciddi bir nitelik taşıması şartını aramaktadır. Bu unsur suçun kapsamının daraltılması ve ciddi nitelik taşımayan engellemelerin aşırıya kaçılarak suç sayılmasını önlemek amacıyla getirilmiştir. Bir engellemenin ciddiyeti iç mevzuat kapsamında belirlenecek olup, </a:t>
            </a:r>
            <a:r>
              <a:rPr b="0" i="1" lang="en-GB" sz="1200" spc="-1" strike="noStrike">
                <a:solidFill>
                  <a:srgbClr val="ff0000"/>
                </a:solidFill>
                <a:latin typeface="Calibri"/>
              </a:rPr>
              <a:t>belirli bir sisteme, sistemin sahibi veya operatörünün sistemi kullanma veya başka sistemlerle iletişim kurma becerisine esaslı zarar veren bir etki doğuracak biçimde, boyutta ve sıklıkta </a:t>
            </a:r>
            <a:r>
              <a:rPr b="0" lang="en-GB" sz="1200" spc="-1" strike="noStrike">
                <a:solidFill>
                  <a:srgbClr val="000000"/>
                </a:solidFill>
                <a:latin typeface="Calibri"/>
              </a:rPr>
              <a:t>veri gönderimini de içerebilir.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bir bilgisayar sistemine 5.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dapeşte Sözleşmesi’nde dile getirilen en karmaşık ihlallerden biri cihazların kötüye kullanılması suçudur – 6. mad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ıpkı diğer suçlarda olduğu gibi, failin eylemi kasıtlı ve haksız yere olmalıdır. Tümü kötüye kullanılabilecek cihazlarla bağlantılı birçok faaliyeti içer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1989 tarihli Tavsiye Kararda yer almayan çok “yeni” bir suçtur. Aynı zamanda çok yenilikçidir – bu suç tanımında yer alan olgular daha öncesinde ulusal mevzuatların birçoğunda suç olarak tanınmamaktaydı.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Esasen bu suç, öncelikli olarak Sözleşme’de dile getirilen diğer maddi suçlardan herhangi birinin işlenmesi amacıyla tasarlanmış veya uyarlanmış bir bilgisayar programı da dahil olmak üzere cihazların üretimi, satışı, kullanım amaçlı tedariki, ithali, dağıtımı veya başka bir şekilde erişilebilir hale getirilmesini yasakla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nı şekilde, bir bilgisayar sisteminin tamamına veya herhangi bir kısmına erişilmesine imkân sağlayan bilgisayar şifrelerinin, erişim kodlarının veya benzer verilerin satışını da suç haline getirmektedir. Sözleşme bu hükümle, “suça elveren ekipmanlar” açısından büyüyüp gelişen ve gittikçe ekonomik açıdan önemli hale gelen “ikincil piyasa”nın suç sayılması ihtiyacını tanımaktadır: </a:t>
            </a:r>
            <a:r>
              <a:rPr b="0" i="1" lang="tr-TR" sz="1100" spc="-1" strike="noStrike">
                <a:solidFill>
                  <a:srgbClr val="000000"/>
                </a:solidFill>
                <a:latin typeface="Calibri"/>
              </a:rPr>
              <a:t>Hackerlar </a:t>
            </a:r>
            <a:r>
              <a:rPr b="0" lang="tr-TR" sz="1100" spc="-1" strike="noStrike">
                <a:solidFill>
                  <a:srgbClr val="000000"/>
                </a:solidFill>
                <a:latin typeface="Calibri"/>
              </a:rPr>
              <a:t>iş araçlarını internette satmakta, kendi kaynakları ile yarattıkları virüs kitlerine internette yaygın bir şekilde ulaşılabilmekte ve Truva atları veya başkaca cihazlar kullanılarak çalınmış şifreler toptan satışa sunulmaktadır. Demek oluyor ki bir bilgisayar sistemini </a:t>
            </a:r>
            <a:r>
              <a:rPr b="0" i="1" lang="tr-TR" sz="1100" spc="-1" strike="noStrike">
                <a:solidFill>
                  <a:srgbClr val="000000"/>
                </a:solidFill>
                <a:latin typeface="Calibri"/>
              </a:rPr>
              <a:t>hacklemek </a:t>
            </a:r>
            <a:r>
              <a:rPr b="0" lang="tr-TR" sz="1100" spc="-1" strike="noStrike">
                <a:solidFill>
                  <a:srgbClr val="000000"/>
                </a:solidFill>
                <a:latin typeface="Calibri"/>
              </a:rPr>
              <a:t>artık üstün yetenekli programcıların tekelinde değildir. Her “sıradan” suçlu gerekli araçları ya da doğrudan çalıntı şifreleri kolayca satın alabilmektedir – çoğu zaman suçlu satıcı bir “müşteri hizmeti” de sunmakta ve müşterisine bilgisayarını suç işlemek amacıyla düzenlemek konusunda yardımcı ol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nin en çok tartışılan ayrıntılarından biri, (yine kasıtlı olarak ve haksız yere) bir </a:t>
            </a:r>
            <a:r>
              <a:rPr b="0" i="1" lang="en-GB" sz="1200" spc="-1" strike="noStrike">
                <a:solidFill>
                  <a:srgbClr val="000000"/>
                </a:solidFill>
                <a:latin typeface="Calibri"/>
              </a:rPr>
              <a:t>cihazın</a:t>
            </a:r>
            <a:r>
              <a:rPr b="0" lang="en-GB" sz="1200" spc="-1" strike="noStrike">
                <a:solidFill>
                  <a:srgbClr val="000000"/>
                </a:solidFill>
                <a:latin typeface="Calibri"/>
              </a:rPr>
              <a:t> Sözleşme’nin 2-5. maddelerinde (yasadışı erişim, yasadışı ele geçirme, verilere müdahale ve sisteme müdahale) belirtilen suçlardan herhangi birinin işlenmesi için kullanılması amacıyla bulundurulmasını suç sayan 1(b) fıkrasına ilişkind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eçenek kimi yargılama alanlarında ”hazırlık faaliyeti” adı verilen, bu durumda halihazırda ve özerk şekilde suç sayılmış olan eylemlere benzemektedir.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6(1). maddenin tam metnini göstermektedi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k amaç Taraflar arasında işbirliğine izin verecek şekilde maddi hukukun uyumlu hale getirilmes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 şunları tanım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GB" sz="1200" spc="-1" strike="noStrike">
                <a:solidFill>
                  <a:srgbClr val="000000"/>
                </a:solidFill>
                <a:latin typeface="Calibri"/>
                <a:ea typeface="ＭＳ Ｐゴシック"/>
              </a:rPr>
              <a:t>Bilgisayar sistemlerinin ve verilerin gizliliğin</a:t>
            </a:r>
            <a:r>
              <a:rPr b="0" lang="tr-TR" sz="1200" spc="-1" strike="noStrike">
                <a:solidFill>
                  <a:srgbClr val="000000"/>
                </a:solidFill>
                <a:latin typeface="Calibri"/>
                <a:ea typeface="ＭＳ Ｐゴシック"/>
              </a:rPr>
              <a:t>e</a:t>
            </a:r>
            <a:r>
              <a:rPr b="0" lang="en-GB" sz="1200" spc="-1" strike="noStrike">
                <a:solidFill>
                  <a:srgbClr val="000000"/>
                </a:solidFill>
                <a:latin typeface="Calibri"/>
                <a:ea typeface="ＭＳ Ｐゴシック"/>
              </a:rPr>
              <a:t>, bütünlüğüne ve erişilebiliriğine yönelik suçlar: Yasadışı erişim, Yasadışı ele geçirme, Verilere müdahale, Sisteme müdahale, Cihazların kötüye kullanılmas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ilgisayarla bağlantılı suçlar: bilgisayarla bağlantılı sahtecilik, bilgisayarla bağlantılı dolandırıcılı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çerikle bağlantılı suçlar: Çocuk pornografisi ile bağlantılı suçlar, telif hakkı ve bununla bağlantılı hakların ihlaline ilişkin suçlar.</a:t>
            </a:r>
            <a:endParaRPr b="0" lang="en-US" sz="1200" spc="-1" strike="noStrike">
              <a:solidFill>
                <a:srgbClr val="000000"/>
              </a:solidFill>
              <a:latin typeface="Calibri"/>
            </a:endParaRPr>
          </a:p>
        </p:txBody>
      </p:sp>
      <p:sp>
        <p:nvSpPr>
          <p:cNvPr id="5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49945-614B-4769-8288-C14653267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6. maddenin (2) ve (3). fıkralarının tam metnini göstermektedir.</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 kişinin 6. madde kapsamına girebilecek cihazları üretme ve piyasaya sürme hakkına sahip olması mümkündür; söz konusu cihazların bilgisayar sistemlerinin yetkili şekilde test edilmesi veya korunması amacıyla kullanımı da buna dahildir. </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öncelikli olarak siber suç işlemek amacıyla tasarlanmış veya uyarlanmış cihazların </a:t>
            </a:r>
            <a:r>
              <a:rPr b="0" lang="tr-TR" sz="1200" spc="-1" strike="noStrike">
                <a:solidFill>
                  <a:srgbClr val="000000"/>
                </a:solidFill>
                <a:latin typeface="Calibri"/>
              </a:rPr>
              <a:t>üretilmesini, satılmasını, kullanım amaçlı tedarikini, ithalatını, dağıtılmasını veya başka şekilde erişilebilir hale getirilmesini suç saymaktadır.</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sadece cihazların değil, bilgisayar programlarının kötüye kullanılmasını da içermektedir. Yani 6. madde verileri değiştirmek veya imha etmek yahut bilgisayar sistemlerinin işleyişine müdahale etmek amacıyla tasarlanmış programların üretimini, satışını vs. kapsamaktadır. Bu nedenledir ki, cihazlar kapsamında yer almayan virüs programları da 6. madde kapsamına girmektedir.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yi hazırlayanlar çift kullanımlı cihazları 6. madde kapsamına sokmak ile kapsam dışında bırakmak arasında bir karar vermek zorunda kalmıştır. Çift kullanımlı cihazların kapsama dahil edilmesi, suç teşkil etmeyen amaçlar için üretilmiş ve dağıtılmış olsa dahi bu cihazların üretimi ve dağıtımının aşırıya kaçılarak suç sayılmasına yol açabilecekti. Çift kullanımlı cihazların kapsam dışında bırakılması ise bu cihazların özel olarak siber suç işleme amacıyla üretildiği ve dağıtıldığının kanıtlanmasını gerektireceği için çok dar olacaktı. Sözleşme 6. maddenin sadece bu amaçla değil ama öncelikli olarak bir siber suç işlenmesi amacıyla tasarlanan veya uyarlanan cihazları kapsayacağı şekilde dengeli bir yaklaşım benimsemiştir. </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 siber suçların en önemli kategorilerinden birinden bahsetmektedir: Bilgisayar veri ve sistemlerinin gizliliğine, bütünlüğüne ve erişilebilirliğine yönelik cürümler. Bunlara dar anlamda sibersuç adı verilebilir. </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ve bilgisayar programlarının kötüye kullanılmasının yanı sıra, bir bilgisayar sisteminin tamamına veya herhangi bir kısmına erişimi mümkün kılan erişim kodlarının, bilgisayar şifrelerinin ve diğer benzeri verilerin üretimini, satışını vs. de suç saymaktadır.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bilgisayar programlarının, şifrelerin, erişim kodlarının vs. üretilmesi ve dağıtılmasının yanı sıra, bunların bir siber suç işleme niyetiyle bulundurulmasını da suç saymaktadır.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la bağlantılı suçlar bir bilgisayar sistemi vasıtasıyla işlenen suçlardır. Bu ihlaller klasik, geleneksel suçların yeni yöntemlerini oluşturmaktadır, ancak bunlar sadece dijital ortamda işlenebilmektedir ve bu sanal dünya dışında meydana gelmeleri mümkün değildir.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7. maddesi kapsamında yer alan bilgisayarla bağlantılı sahtecilik, sahtecilik suçunun özel bir şeklidir. Çoğu ülkede sahtecilik, cezai nitelik taşıyan klasik anlamdaki bir ihlaldir. Fakat normalde bu suç somut nesnelerle ilgili olup, kimi durumlarda bilişim sahteciliğini veya bilgisayar verileri üzerindeki sahteciliği suç saymak amacıyla kullanılamamaktadır. İşte bu nedenle Sözleşme’ye 7. madde eklenmiş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 bu madde ile, klasik evrakta sahtecilik (somut, maddi evrak) suçuna paralel bir suç yaratmayı amaçlamaktadır. Bu sefer suçun konusunu bilgisayar verileri oluşturmaktadır. Bu suç, sahih olmayan verilerle sonuçlanan bilgisayar verisi girme, verileri değiştirme, silme veya engelleme eylemlerini bu verilerin yasal açıdan sahihmiş gibi kabul edilmesi veya işlem görmesi niyetiyle gerçekleştiren kişilerce işlen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ta da tabii kasıtlı olma ve haksız yere işlenme şartları aranmaktadır. </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7. maddenin tam metnini göstermektedi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Bu slayt, 7. madde kapsamında sahih bir belgede yapılabilecek tahrifata ilişkin dört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7. madde, bilgisayarla bağlantılı sahteciliğin kasıtlı olarak işlenmesi şartının yanı sıra, söz konusu davranışı gerçekleştiren kişinin sahte evrakların yasal açıdan (hukuki açıdan önem arz eden belgeler ve yasal işlemler) kabul edilmesi veya işlem görmesi niyeti taşıması şartını da getirmektedir. Ayrıca, Taraflar söz konusu davranışın bir başka kişiyi kandırma niyetiyle gerçekleştirilmesini de şart koşabilir.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Yasadışı erişim suçu bir bilgisayar sisteminin tamamına veya bir kısmına haksız yere erişim sağlayan kişiler tarafından işlenir. Bu işlem kasıtlı yapılmalıdır 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şte Sözleşmesi’nin 2. maddesi kapsamında tanımlanmaktadır. </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nin 8. maddesi kapsamında </a:t>
            </a:r>
            <a:r>
              <a:rPr b="0" lang="tr-TR" sz="1200" spc="-1" strike="noStrike">
                <a:solidFill>
                  <a:srgbClr val="000000"/>
                </a:solidFill>
                <a:latin typeface="Calibri"/>
              </a:rPr>
              <a:t>yer alan bilgisayarla bağlantılı dolandırıcılık suçu </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8. maddenin tam metnini göstermektedir.</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 slayt, başka bir şahsın mal kaybına yol açabilecek beş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Müdahale (bir bilgisayar sisteminin işleyişi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32DCA-F280-4A9B-81C1-E2AB331EC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lgisayarla bağlantılı dolandırıcılık suçunun oluşması için, söz konusu davranışın başka bir şahsın malvarlığında doğrudan ekonomik veya zilyetliğe dair bir kayba yol açması gereklidir. Buna para, maddi aktif veya ekonomik değeri olan ancak maddi olmayan aktiflerin kaybı dahildir. </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C028E-EF0B-4DBD-93EF-0176B4D0C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çerikle bağlantılı suçlar bilgisayar ve ağların kullanımıyla kolaylaşan suçlara atıfta bulunmaktadır. Bu ihlaller başka araçlarla da işlenebilmekle birlikte, bilgisayar ve ağlar sayesinde daha kolay hale gelmiştir. </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dapeşte Sözleşmesi’nin 9. maddesi bu sözleşmenin getirdiği en büyük yeniliklerden birini içermektedir: Bir bilgisayar sistemi aracılığıyla işlenen çocuk pornografisi fiillerini suç say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ticareti internetin yayılmasıyla muazzam artış göstermiştir. Haberleşme ve bilgi ağları bu türden içeriklerin peşinde olanlar için pek çok avantaj ve imkân sunmaktadır. Ayrıca, internette kullanıcılar kimliklerini açıklamaksızın çocuk istismarı materyallerine erişim sağlayabil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suçları bakımından bir husus özellikle çekişmelidir: “Psödo imgeler”in suç sayılması. Sözleşme maddeleri yalnızca cinsel faaliyet sırasında fotoğraflanan gerçek çocuk fotoğraflarına ilişkin durumları değil, çocukların sahte temsili görünümlerini –örneğin tamamen bilgisayarla yaratılan çocuk resimleri (mesela cinsel eylemde bulunan bir yetişkin vücudunun üzerine bir çocuk kafası yerleştirilmesi)– veya (inandırıcı bir şekilde) çocukmuş gibi yapan (hareket eden veya giyinen) yetişkinlerin resimlerini de kapsa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leşme metninde geniş bir şekilde ele alındığı için değinilmesi gereken bir başka önemli husus da, çocuk pornografisi materyallerini sadece bulundurmak sebebiyle cezalandırılmadır. 9(1). madde bu türden materyallerin bir bilgisayar sistemi dahilinde bulundurulmasını ve ayrıca bu tür görsellerin sadece kişisel kullanım amacıyla teminini tek başına bir ihlal olarak tanımlamaktadır. Bu yaklaşım konuyu ele alan başka uluslararası arenalarda da yaygın olarak benimsen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materyallerinin sadece bulundurulmasını suç haline getirmek bu konuda bir ceza soruşturması yürütmeyi çok daha kolaylaştırmaktadır, zira bu hüküm uyarınca zilyetliğinde bu türden materyaller bulunan herkes kovuşturmaya uğrayabilecektir ve resimlerin belirli bir şekilde kullanılma (örneğin satılma) niyeti veya bunların üretimine iştirak etme fiilinin kanıtlanmasına gerek bulunmamaktadır. Bu da, pedofil olduğundan şüphelenilen kişilerin bir çocuğa karşı dürtüleriyle yaklaştığına dair herhangi bir delil bulunmaksızın cezalandırılabilmesi anlamına gelmektedir. Bir de elbette, polis ve mahkemeler bu sayede çocuk pornografisi tedarikçisi olduğundan şüphelendikleri kişileri (sadece bulundurma sebebiyle dahi olsa) fiili olarak bu ticaretin varlığına dair kanıt olsun yahut olmasın, soruşturup mahkûm edebilmektedi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bağlamda Avrupa Birliği bünyesinde tercih edilen hukuki düzenlemenin değerlendirilmesi önem taşımaktadır. Avrupa Birliği yıllar önce –29 Mayıs 2000 tarihli Konsey Kararından beri– çocuk pornografisi materyallerinin sadece bulundurulması durumunu suç saymaya karar vermiştir. Daha yakın bir tarihte, çocukların cinsel istismarı ve çocuk pornografisiyle mücadele hakkında çıkartılan ve </a:t>
            </a:r>
            <a:r>
              <a:rPr b="0" lang="en-GB" sz="700" spc="-1" strike="noStrike">
                <a:solidFill>
                  <a:srgbClr val="000000"/>
                </a:solidFill>
                <a:latin typeface="Calibri"/>
              </a:rPr>
              <a:t>2004/68/JHA sayılı </a:t>
            </a:r>
            <a:r>
              <a:rPr b="0" lang="tr-TR" sz="700" spc="-1" strike="noStrike">
                <a:solidFill>
                  <a:srgbClr val="000000"/>
                </a:solidFill>
                <a:latin typeface="Calibri"/>
              </a:rPr>
              <a:t>Konsey Çerçeve Kararı’nı ilga eden 13 Aralık 2011 tarihli ve </a:t>
            </a:r>
            <a:r>
              <a:rPr b="0" lang="en-GB" sz="700" spc="-1" strike="noStrike">
                <a:solidFill>
                  <a:srgbClr val="000000"/>
                </a:solidFill>
                <a:latin typeface="Calibri"/>
              </a:rPr>
              <a:t>2011/92/EU </a:t>
            </a:r>
            <a:r>
              <a:rPr b="0" lang="tr-TR" sz="700" spc="-1" strike="noStrike">
                <a:solidFill>
                  <a:srgbClr val="000000"/>
                </a:solidFill>
                <a:latin typeface="Calibri"/>
              </a:rPr>
              <a:t>sayılı Avrupa Parlamentosu ve Konseyi Direktifi, Avrupa Birliği Üye Devletlerinin, başka yasadışı davranışların yanı sıra, çocuk pornografisi edinimini ve bulundurulmasını suç sayması gerektiğini belirtir (5(2). madde). Ancak aynı belgede her bir Üye Devlete, söz konusu pornografik materyallerin yapımcıda yalnızca kendi kişisel kullanımı için bulunuyor olduğu durumlarda (materyalin üretilmesi amacıyla hiçbir pornografik materyal kullanılmamış olması ve bu fiilin söz konusu materyalin dağıtılması riski içermemesi kaydıyla) da bu suçlamanın geçerli olup olmayacağı konusunda bir takdir yetkisi tanınmaktadı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vrupa Birliği’nin tanıdığı bu seçenek, bir bilgisayar sisteminde veya </a:t>
            </a:r>
            <a:r>
              <a:rPr b="0" lang="tr-TR" sz="800" spc="-1" strike="noStrike">
                <a:solidFill>
                  <a:srgbClr val="000000"/>
                </a:solidFill>
                <a:latin typeface="Calibri"/>
                <a:ea typeface="Times New Roman"/>
              </a:rPr>
              <a:t>bilgisayar verileri depolama aygıtında çocuk pornografisi üretmeyi, sunmayı veya erişilebilir kılmayı, dağıtmayı veya iletmeyi, temin etmeyi veya bu materyalleri yalnızca bulundurmayı suç sayan Budapeşte Sözleşmesi’nin 9. maddesi ile tamamen uyumludur. Ancak “temin” veya “bulundurma” terimlerinin dahil edilmiş olması Sözleşme taraflarına çekince imkânı sağlamaktadır.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u seçenek Avrupa Konseyi’nin 2007 yılında imzaya açtığı Çocukların Korunmasına ilişkin Sözleşme (CETS 201) tarafından da desteklenmektedir. Adı geçen sözleşmenin amacı çocukların cinsel istismardan korunmasını amaçlayan ceza hukuku hükümlerinin Taraflar arasında uyumlu hale getirilmesidir. Başka hükümlerin yanı sıra 20. maddeye göre “</a:t>
            </a:r>
            <a:r>
              <a:rPr b="0" i="1" lang="tr-TR" sz="800" spc="-1" strike="noStrike">
                <a:solidFill>
                  <a:srgbClr val="000000"/>
                </a:solidFill>
                <a:latin typeface="Calibri"/>
                <a:ea typeface="Times New Roman"/>
              </a:rPr>
              <a:t>kendisi veya başka biri için çocuk pornografisi temin etmek</a:t>
            </a:r>
            <a:r>
              <a:rPr b="0" lang="tr-TR" sz="800" spc="-1" strike="noStrike">
                <a:solidFill>
                  <a:srgbClr val="000000"/>
                </a:solidFill>
                <a:latin typeface="Calibri"/>
                <a:ea typeface="Times New Roman"/>
              </a:rPr>
              <a:t>” ve “</a:t>
            </a:r>
            <a:r>
              <a:rPr b="0" i="1" lang="tr-TR" sz="800" spc="-1" strike="noStrike">
                <a:solidFill>
                  <a:srgbClr val="000000"/>
                </a:solidFill>
                <a:latin typeface="Calibri"/>
                <a:ea typeface="Times New Roman"/>
              </a:rPr>
              <a:t>çocuk pornografisi bulundurmak</a:t>
            </a:r>
            <a:r>
              <a:rPr b="0" lang="tr-TR" sz="800" spc="-1" strike="noStrike">
                <a:solidFill>
                  <a:srgbClr val="000000"/>
                </a:solidFill>
                <a:latin typeface="Calibri"/>
                <a:ea typeface="Times New Roman"/>
              </a:rPr>
              <a:t>” suç sayılmalıdır. </a:t>
            </a:r>
            <a:endParaRPr b="0" lang="en-US" sz="800" spc="-1" strike="noStrike">
              <a:solidFill>
                <a:srgbClr val="000000"/>
              </a:solidFill>
              <a:latin typeface="Calibri"/>
            </a:endParaRPr>
          </a:p>
        </p:txBody>
      </p:sp>
      <p:sp>
        <p:nvSpPr>
          <p:cNvPr id="6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ABB25-B1A1-4553-9DE6-F5BE7A314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9. maddenin tam metnini göster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çoğu zaman bilgisayar sistemlerinin </a:t>
            </a:r>
            <a:r>
              <a:rPr b="0" i="1" lang="tr-TR" sz="1200" spc="-1" strike="noStrike">
                <a:solidFill>
                  <a:srgbClr val="000000"/>
                </a:solidFill>
                <a:latin typeface="Calibri"/>
              </a:rPr>
              <a:t>hacklenmesi </a:t>
            </a:r>
            <a:r>
              <a:rPr b="0" lang="tr-TR" sz="1200" spc="-1" strike="noStrike">
                <a:solidFill>
                  <a:srgbClr val="000000"/>
                </a:solidFill>
                <a:latin typeface="Calibri"/>
              </a:rPr>
              <a:t>olarak anılır ve en yaygın bilişim suçlarından birini oluşturur. Ancak </a:t>
            </a:r>
            <a:r>
              <a:rPr b="0" i="1" lang="tr-TR" sz="1200" spc="-1" strike="noStrike">
                <a:solidFill>
                  <a:srgbClr val="000000"/>
                </a:solidFill>
                <a:latin typeface="Calibri"/>
              </a:rPr>
              <a:t>hackleme</a:t>
            </a:r>
            <a:r>
              <a:rPr b="0" lang="tr-TR" sz="1200" spc="-1" strike="noStrike">
                <a:solidFill>
                  <a:srgbClr val="000000"/>
                </a:solidFill>
                <a:latin typeface="Calibri"/>
              </a:rPr>
              <a:t>’nin yanı sıra yasadışı erişim olarak sınıflandırılabilecek başka olgular da mevcuttur – esasen </a:t>
            </a:r>
            <a:r>
              <a:rPr b="0" i="1" lang="tr-TR" sz="1200" spc="-1" strike="noStrike">
                <a:solidFill>
                  <a:srgbClr val="000000"/>
                </a:solidFill>
                <a:latin typeface="Calibri"/>
              </a:rPr>
              <a:t>hacklemek </a:t>
            </a:r>
            <a:r>
              <a:rPr b="0" lang="tr-TR" sz="1200" spc="-1" strike="noStrike">
                <a:solidFill>
                  <a:srgbClr val="000000"/>
                </a:solidFill>
                <a:latin typeface="Calibri"/>
              </a:rPr>
              <a:t>genelde bir bilgisayar sitemine teknoloji araçları kullanılarak hukuka aykırı bir şekilde erişme eylemini tanımlamak amacıyla kullanılır. Fakat yasadışı erişim aynı zamanda, kullanılan teknolojiye veya hatta teknoloji kullanılıp kullanılmamasına dahi bakılmaksızın bir sisteme her türlü yetkisiz girişi kapsar. Örneğin fail tarafından hukuka aykırı bir şekilde elde edilmiş şifre de buna örnek teşkil edecektir. Bu kapsamda korunan menfaat bir bilgisayar sisteminin veya verisinin gizliliğidir. </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9. maddede tanımlanan davranışın “haklı” şekilde yapılmış olması olasıdır. 9. maddede tanımlanan davranış birtakım başkaca savunmalarla –örneğin pornografik materyalin sanatsal, tıbbi, bilimsel veya başkaca benzeri bir esası bulunması– açıklanabilir.</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39BFB-25B1-45F8-8299-C44F3113D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üretilmesi, sunulması ve erişilebilir hale getirilmesi de buna dahildir.</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53CC7-69C9-45F6-9796-23729651A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dağıtılması, iletilmesi, temini ve bulundurulması da buna dahildir.</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02CA9-28F4-47FD-8F6D-F8EEC53D6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pornografik nitelik taşıyıp taşımadığının saptanacağı kriterleri açıklamaktadır. Bu içerik müstehcenlik, genel ahlak vs. konusundaki ulusal standartlarla belirlenece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 maddenin lafzı pornografik materyallerin görsel bir betimleme oluşturması gerektiğini ima etmekle birlikte, aynı zamanda bir bilgisayar verisi depolama aygıtında saklanan ve görsel bir imgeye dönüştürülebilen verileri kapsama dahil etme niyeti taşımaktadır. </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CEFF6-870F-4736-9063-5A14A5624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cinsel içerikli eylem” betimleyip betimlemediğinin tespiti açısından asgari kriterleri ortaya koymaktadır. Taraflar daha geniş bir tanım kullanmak konusunda özgürdür. Betimlenen cinsel içerikli eylemin gerçek veya taklit olması önem taşımamaktadır.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9B04B-10FF-4BC5-9E31-7A97EB3D2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DD6FF-D061-440E-8B55-8710D0C01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D68A-0428-49BB-B593-916D09D7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82268-F5A6-48FD-BFF4-D09FF8FFE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78D13-046F-4E70-A6F0-7ED418CC3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582E-0B9D-4F99-BF0C-DA8EEF82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9E128-4960-4876-953E-C0C4DD76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C140-7B30-4A3F-9A1C-60A9781C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0122-ABC3-4228-BCEE-E9350C9F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CF41-1063-4FB9-87A4-9ABA26FA7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2307-3CB3-42CD-A039-2FAC3433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42EA-150F-4CE9-875E-AF07347B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5B97-9198-4E26-BBCF-947F7ADE2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0B994-A155-464B-A9B2-493E98B4573B}"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186A9-4533-404C-A558-83790487F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ea typeface="ＭＳ Ｐゴシック"/>
              </a:rPr>
              <a:t>Hakim ve Savcılar için Siber Suçlar Konusuna Giriş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Oturum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Budapeşte Sözleşmesi kapsamındaki Maddi Ceza Hukuku hükümleri</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6C94288-3A27-4AB0-947F-DF8EEA4C07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Project on targeting crime proceeds on the Internet in South-eastern Europe and Turkey</a:t>
            </a:r>
            <a:endParaRPr b="0" lang="en-US" sz="12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0"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a:t>
            </a:r>
            <a:r>
              <a:rPr b="1" lang="tr-TR" sz="4000" spc="-1" strike="noStrike">
                <a:solidFill>
                  <a:srgbClr val="ff0000"/>
                </a:solidFill>
                <a:latin typeface="Calibri"/>
              </a:rPr>
              <a:t>erişimi</a:t>
            </a:r>
            <a:r>
              <a:rPr b="0" lang="tr-TR" sz="2800" spc="-1" strike="noStrike">
                <a:solidFill>
                  <a:srgbClr val="000000"/>
                </a:solidFill>
                <a:latin typeface="Calibri"/>
              </a:rPr>
              <a:t>,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2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CDD324E-0C88-467D-BCC3-5604D2A40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D6FF2AB-0A88-4B67-A48A-56982211F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
          <p:cNvSpPr txBox="1"/>
          <p:nvPr/>
        </p:nvSpPr>
        <p:spPr>
          <a:xfrm>
            <a:off x="254160" y="1158840"/>
            <a:ext cx="8594640" cy="4525920"/>
          </a:xfrm>
          <a:prstGeom prst="rect">
            <a:avLst/>
          </a:prstGeom>
          <a:noFill/>
          <a:ln w="0">
            <a:noFill/>
          </a:ln>
        </p:spPr>
        <p:txBody>
          <a:bodyPr anchor="t">
            <a:normAutofit fontScale="82000"/>
          </a:bodyPr>
          <a:p>
            <a:pPr marL="374760" indent="-3747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a:t>
            </a:r>
            <a:r>
              <a:rPr b="1" lang="tr-TR" sz="2800" spc="-1" strike="noStrike">
                <a:solidFill>
                  <a:srgbClr val="ff0000"/>
                </a:solidFill>
                <a:latin typeface="Calibri"/>
              </a:rPr>
              <a:t>tasvir eden </a:t>
            </a:r>
            <a:r>
              <a:rPr b="0" lang="tr-TR" sz="2400" spc="-1" strike="noStrike">
                <a:solidFill>
                  <a:srgbClr val="000000"/>
                </a:solidFill>
                <a:latin typeface="Calibri"/>
              </a:rPr>
              <a:t>pornografik malzemeleri içerecektir:</a:t>
            </a:r>
            <a:endParaRPr b="0" lang="en-US" sz="24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ıs görüntüsüne haiz şahsın </a:t>
            </a:r>
            <a:r>
              <a:rPr b="0" lang="tr-TR" sz="2000" spc="-1" strike="noStrike">
                <a:solidFill>
                  <a:srgbClr val="000000"/>
                </a:solidFill>
                <a:latin typeface="Calibri"/>
              </a:rPr>
              <a:t>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nı </a:t>
            </a:r>
            <a:r>
              <a:rPr b="1" lang="tr-TR" sz="2400" spc="-1" strike="noStrike">
                <a:solidFill>
                  <a:srgbClr val="ff0000"/>
                </a:solidFill>
                <a:latin typeface="Calibri"/>
              </a:rPr>
              <a:t>betimleyen gerçekçi görüntüler</a:t>
            </a:r>
            <a:r>
              <a:rPr b="0" lang="tr-TR" sz="2000" spc="-1" strike="noStrike">
                <a:solidFill>
                  <a:srgbClr val="000000"/>
                </a:solidFill>
                <a:latin typeface="Calibri"/>
              </a:rPr>
              <a:t>;</a:t>
            </a:r>
            <a:endParaRPr b="0" lang="en-US" sz="20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svirler</a:t>
            </a:r>
            <a:endParaRPr b="0" lang="en-US" sz="4400" spc="-1" strike="noStrike">
              <a:solidFill>
                <a:srgbClr val="000000"/>
              </a:solidFill>
              <a:latin typeface="Calibri"/>
            </a:endParaRPr>
          </a:p>
        </p:txBody>
      </p:sp>
      <p:sp>
        <p:nvSpPr>
          <p:cNvPr id="356"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u tasvirler kapsam dahiline girmektedi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Gerçek bir çocuğun cinsel istismarı</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Reşit olmayan bir şahısmış gibi görünen bir kişiyi cinsel içerikli eylem içerisinde betimleyen görselle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t>
            </a:r>
            <a:r>
              <a:rPr b="0" lang="tr-TR" sz="2600" spc="-1" strike="noStrike">
                <a:solidFill>
                  <a:srgbClr val="000000"/>
                </a:solidFill>
                <a:latin typeface="Calibri"/>
              </a:rPr>
              <a:t>Gerçekçi” olmakla birlikte, cinsel içerikli eylemde bulunan gerçek bir çocuk içermeyen görseller; gerçek şahısların şekil değiştirmiş görselleri gibi üzerinde oynanmış veya tamamen bilgisayar tarafından yaratılmış resimler de buna dahildir.</a:t>
            </a:r>
            <a:endParaRPr b="0" lang="en-US" sz="2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CCF9EF-F713-474E-8D6E-4EABC3B3CD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2C54F9-8BC8-450F-8179-3FE591AF9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
          <p:cNvSpPr txBox="1"/>
          <p:nvPr/>
        </p:nvSpPr>
        <p:spPr>
          <a:xfrm>
            <a:off x="457200" y="122400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a:t>
            </a:r>
            <a:r>
              <a:rPr b="1" lang="tr-TR" sz="2800" spc="-1" strike="noStrike">
                <a:solidFill>
                  <a:srgbClr val="ff0000"/>
                </a:solidFill>
                <a:latin typeface="Calibri"/>
              </a:rPr>
              <a:t>reşit olmayan</a:t>
            </a:r>
            <a:r>
              <a:rPr b="0" lang="tr-TR" sz="2400" spc="-1" strike="noStrike">
                <a:solidFill>
                  <a:srgbClr val="000000"/>
                </a:solidFill>
                <a:latin typeface="Calibri"/>
              </a:rPr>
              <a:t>”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üçük (Reşit Olmayan Şahıs)</a:t>
            </a:r>
            <a:endParaRPr b="0" lang="en-US" sz="4400" spc="-1" strike="noStrike">
              <a:solidFill>
                <a:srgbClr val="000000"/>
              </a:solidFill>
              <a:latin typeface="Calibri"/>
            </a:endParaRPr>
          </a:p>
        </p:txBody>
      </p:sp>
      <p:sp>
        <p:nvSpPr>
          <p:cNvPr id="362" name=""/>
          <p:cNvSpPr txBox="1"/>
          <p:nvPr/>
        </p:nvSpPr>
        <p:spPr>
          <a:xfrm>
            <a:off x="279360" y="1528920"/>
            <a:ext cx="854712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M Çocuk Hakları Sözleşmesi’nin 1. maddesindeki çocuk tanımıyla uyumludu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üçük terimi genel olarak 18 yaşından küçük olan herkesi kapsar. </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16’dan küçük olmamak kaydıyla daha düşük bir yaş sınırlaması getirebili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rada yaş, cinsel ilişki bakımından rıza yaşına değil, (gerçek veya kurmaca) çocukların cinsel obje olarak kullanımına atıfta bulunmaktadır. </a:t>
            </a:r>
            <a:endParaRPr b="0" lang="en-US" sz="28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39210C4-E78D-4168-A1F7-432C5F2106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Telif hakkı ve bununla bağlantılı hakların ihlaline ilişkin suçlar</a:t>
            </a:r>
            <a:endParaRPr b="0" lang="en-US" sz="32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678E0-16A1-47E6-B1A5-ACF386DD7F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Fikri Mülkiyet Hakları</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adde 10 – Budapeşte Sözleşmesi)</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 konuda yeni bir düzenleme getirmez</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dapeşte Sözleşmesi’nin amacı</a:t>
            </a:r>
            <a:endParaRPr b="0" lang="en-US" sz="24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 konusundaki önceki kuralları tatbik etmek: gerçek dünyayla ilgili olarak uyulan kurallara internet ortamında da riayet edilmelidir</a:t>
            </a:r>
            <a:endParaRPr b="0" lang="en-US" sz="20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nın internette veya bir bilgisayar sistemi aracılığıyla ihlali gerçek dünyada işlenmiş bir ihlal gibi cezalandırılmalıdır</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Budapeşte Sözleşmesi mevcut uluslararası sözleşmelere atıfta bulunur:</a:t>
            </a:r>
            <a:endParaRPr b="0" lang="en-US" sz="24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4 Temmuz 1971 tarihli Paris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ünya Fikri Mülkiyet Hakları Örgütü (WIPO) sözleşmeleri</a:t>
            </a:r>
            <a:endParaRPr b="0" lang="en-US" sz="20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9A1AA-C596-4975-B38B-D2C345067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69" name="PlaceHolder 2"/>
          <p:cNvSpPr>
            <a:spLocks noGrp="1"/>
          </p:cNvSpPr>
          <p:nvPr>
            <p:ph/>
          </p:nvPr>
        </p:nvSpPr>
        <p:spPr>
          <a:xfrm>
            <a:off x="457200" y="1633320"/>
            <a:ext cx="8229600" cy="482580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C9C07-10E5-494B-9A70-E0A25C55ED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2" name="PlaceHolder 2"/>
          <p:cNvSpPr>
            <a:spLocks noGrp="1"/>
          </p:cNvSpPr>
          <p:nvPr>
            <p:ph/>
          </p:nvPr>
        </p:nvSpPr>
        <p:spPr>
          <a:xfrm>
            <a:off x="457200" y="150192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araflardan her biri, İcracı Sanatçılar, Fonogram Yapımcıları ve Yayın Kuruluşlarının Korunması hakkındaki Uluslararası Sözleşme (Roma Sözleşmesi), Ticaretle Bağlantılı Fikri Mülkiyet Hakları Sözleşmesi ve </a:t>
            </a:r>
            <a:r>
              <a:rPr b="0" lang="tr-TR" sz="2600" spc="-1" strike="noStrike">
                <a:solidFill>
                  <a:srgbClr val="000000"/>
                </a:solidFill>
                <a:latin typeface="Calibri"/>
              </a:rPr>
              <a:t>WIPO (Dünya Fikri Mülkiyet Örgütü) İcracı Sanatçılar ve Fonogramlar Sözleşmesi kapsamında üstlendiği yükümlülükler çerçevesinde, bu gibi sözleşmelerce tanınan her türlü manevi haklar hariç olmak üzere, ilgili Tarafın ulusal mevzuatında tanımlandığı şekliyle, bağlantılı haklar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8FD3C-6A71-4498-9823-FD17D9D05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5"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biri, başka etkili hukuk yollarının mevcut olması ve bu tür bir çekincenin ilgili Tarafın işbu maddenin 1. ve 2. fıkralarında atıfta bulunulan uluslararası belgelerde belirtilen uluslararası yükümlülüklerine halel getirmemesi şartıyla, sınırlı şartlar dahilinde işbu maddenin 1. ve 2. fıkralarında öngörülen cezai sorumluluğu tahmil etmeme hakkını saklı tutabilir. </a:t>
            </a:r>
            <a:endParaRPr b="0" lang="en-US" sz="2600" spc="-1" strike="noStrike">
              <a:solidFill>
                <a:srgbClr val="000000"/>
              </a:solidFill>
              <a:latin typeface="Calibri"/>
            </a:endParaRPr>
          </a:p>
        </p:txBody>
      </p:sp>
      <p:sp>
        <p:nvSpPr>
          <p:cNvPr id="3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EF342-6CD4-4FF1-9D79-E88D47CC6A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8" name="PlaceHolder 2"/>
          <p:cNvSpPr>
            <a:spLocks noGrp="1"/>
          </p:cNvSpPr>
          <p:nvPr>
            <p:ph/>
          </p:nvPr>
        </p:nvSpPr>
        <p:spPr>
          <a:xfrm>
            <a:off x="442800" y="14810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a:t>
            </a:r>
            <a:r>
              <a:rPr b="1" lang="tr-TR" sz="2800" spc="-1" strike="noStrike">
                <a:solidFill>
                  <a:srgbClr val="ff0000"/>
                </a:solidFill>
                <a:latin typeface="Calibri"/>
              </a:rPr>
              <a:t>her tür manevi haklar hariç olmak üzere</a:t>
            </a:r>
            <a:r>
              <a:rPr b="0" lang="tr-TR" sz="2400" spc="-1" strike="noStrike">
                <a:solidFill>
                  <a:srgbClr val="000000"/>
                </a:solidFill>
                <a:latin typeface="Calibri"/>
              </a:rPr>
              <a:t>, ilgili Tarafın ulusal mevzuatında tanımlandığı şekliyle, </a:t>
            </a:r>
            <a:r>
              <a:rPr b="1" lang="tr-TR" sz="2800" spc="-1" strike="noStrike">
                <a:solidFill>
                  <a:srgbClr val="ff0000"/>
                </a:solidFill>
                <a:latin typeface="Calibri"/>
              </a:rPr>
              <a:t>telif haklarının ihlalinin</a:t>
            </a:r>
            <a:r>
              <a:rPr b="0" lang="tr-TR" sz="2400" spc="-1" strike="noStrike">
                <a:solidFill>
                  <a:srgbClr val="000000"/>
                </a:solidFill>
                <a:latin typeface="Calibri"/>
              </a:rPr>
              <a:t> </a:t>
            </a:r>
            <a:r>
              <a:rPr b="1" lang="tr-TR" sz="2800" spc="-1" strike="noStrike">
                <a:solidFill>
                  <a:srgbClr val="ff0000"/>
                </a:solidFill>
                <a:latin typeface="Calibri"/>
              </a:rPr>
              <a:t>kasıtlı olarak</a:t>
            </a:r>
            <a:r>
              <a:rPr b="0" lang="tr-TR" sz="2400" spc="-1" strike="noStrike">
                <a:solidFill>
                  <a:srgbClr val="000000"/>
                </a:solidFill>
                <a:latin typeface="Calibri"/>
              </a:rPr>
              <a:t>, ticari ölçekte ve </a:t>
            </a:r>
            <a:r>
              <a:rPr b="1" lang="tr-TR" sz="2800" spc="-1" strike="noStrike">
                <a:solidFill>
                  <a:srgbClr val="ff0000"/>
                </a:solidFill>
                <a:latin typeface="Calibri"/>
              </a:rPr>
              <a:t>bir bilgisayar sistemi aracılığıyla</a:t>
            </a:r>
            <a:r>
              <a:rPr b="0" lang="tr-TR" sz="2400" spc="-1" strike="noStrike">
                <a:solidFill>
                  <a:srgbClr val="000000"/>
                </a:solidFill>
                <a:latin typeface="Calibri"/>
              </a:rPr>
              <a:t>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2BE4491-4D77-4ABC-B8F9-1C3DFF09B4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rişim</a:t>
            </a:r>
            <a:endParaRPr b="0" lang="en-US" sz="4400" spc="-1" strike="noStrike">
              <a:solidFill>
                <a:srgbClr val="000000"/>
              </a:solidFill>
              <a:latin typeface="Calibri"/>
            </a:endParaRPr>
          </a:p>
        </p:txBody>
      </p:sp>
      <p:sp>
        <p:nvSpPr>
          <p:cNvPr id="83"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Erişim bilgisayar sisteminin tamamına veya bir kısmına girilmesidir.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Aşağıdaki özellikleri taşıyan başka bir bilgisayar sistemine girilmesini içermekted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Umumi telekomünikasyon ağı üzerinden;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ynı ağdaki başka bir bilgisayar sistemine bağlı olan (bir bünye içerisindeki LAN veya Intranet)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ne yalnızca e-posta mesajı veya dosya gönderilmesini kapsamamaktadı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 ile kurulan haberleşme yöntemi önem taşımamaktadır (ister uzaktan kablosuz bağlantılarla, ister yakın menzilden).</a:t>
            </a:r>
            <a:endParaRPr b="0" lang="en-US" sz="2800" spc="-1" strike="noStrike">
              <a:solidFill>
                <a:srgbClr val="000000"/>
              </a:solidFill>
              <a:latin typeface="Calibri"/>
            </a:endParaRPr>
          </a:p>
        </p:txBody>
      </p:sp>
      <p:sp>
        <p:nvSpPr>
          <p:cNvPr id="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668F8A0-DA3B-48DF-92D7-F69500B37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lif haklarının ihlali</a:t>
            </a:r>
            <a:endParaRPr b="0" lang="en-US" sz="4400" spc="-1" strike="noStrike">
              <a:solidFill>
                <a:srgbClr val="000000"/>
              </a:solidFill>
              <a:latin typeface="Calibri"/>
            </a:endParaRPr>
          </a:p>
        </p:txBody>
      </p:sp>
      <p:sp>
        <p:nvSpPr>
          <p:cNvPr id="381"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haklarının ihlalinin suç sayılması yükümlülüğü</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 yükümlülük aşağıda belirtilenlere benzer manevi hakların suç sayılmasını kapsamamaktadı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rn Sözleşmesi 6. madde (Tekra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PO Sözleşmesi 5. madde</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suçları kasıtlı olarak işlenmiş olmalıdır.</a:t>
            </a:r>
            <a:endParaRPr b="0" lang="en-US" sz="3000" spc="-1" strike="noStrike">
              <a:solidFill>
                <a:srgbClr val="000000"/>
              </a:solidFill>
              <a:latin typeface="Calibri"/>
            </a:endParaRPr>
          </a:p>
        </p:txBody>
      </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2FA714-EAD0-4230-A9BD-A2CC82FA6E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84" name="PlaceHolder 2"/>
          <p:cNvSpPr>
            <a:spLocks noGrp="1"/>
          </p:cNvSpPr>
          <p:nvPr>
            <p:ph/>
          </p:nvPr>
        </p:nvSpPr>
        <p:spPr>
          <a:xfrm>
            <a:off x="457200" y="177012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a:t>
            </a:r>
            <a:r>
              <a:rPr b="1" lang="tr-TR" sz="2800" spc="-1" strike="noStrike">
                <a:solidFill>
                  <a:srgbClr val="ff0000"/>
                </a:solidFill>
                <a:latin typeface="Calibri"/>
              </a:rPr>
              <a:t>ticari ölçekte </a:t>
            </a:r>
            <a:r>
              <a:rPr b="0" lang="tr-TR" sz="2400" spc="-1" strike="noStrike">
                <a:solidFill>
                  <a:srgbClr val="000000"/>
                </a:solidFill>
                <a:latin typeface="Calibri"/>
              </a:rPr>
              <a:t>ve bir bilgisayar sistemi aracılığıyla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1E4831B-B70C-4B78-AC6F-B9605D15B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cari ölçek</a:t>
            </a:r>
            <a:endParaRPr b="0" lang="en-US" sz="4400" spc="-1" strike="noStrike">
              <a:solidFill>
                <a:srgbClr val="000000"/>
              </a:solidFill>
              <a:latin typeface="Calibri"/>
            </a:endParaRPr>
          </a:p>
        </p:txBody>
      </p:sp>
      <p:sp>
        <p:nvSpPr>
          <p:cNvPr id="387"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etle Bağlantılı Fikri Mülkiyet Hakları (TRIPS) Sözleşmesi’nin 61. maddesiyle uyumludur.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i ölçekte telif hakkı ihlali (korsanlık) ile ilgilidi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ticari ölçekte korsanlık ölçütünün ötesine geçerek başkaca telif hakkı ihlallerini de suç sayabilir. </a:t>
            </a:r>
            <a:endParaRPr b="0" lang="en-US" sz="3000" spc="-1" strike="noStrike">
              <a:solidFill>
                <a:srgbClr val="000000"/>
              </a:solidFill>
              <a:latin typeface="Calibri"/>
            </a:endParaRPr>
          </a:p>
        </p:txBody>
      </p:sp>
      <p:sp>
        <p:nvSpPr>
          <p:cNvPr id="3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654368-77DA-447C-864C-520FA9A02F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ali yükümlülük ve yaptırımlar</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Yardım ve yataklığın cezalandırılması</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özleşme’nin tüm Tarafları kendi iç hukuklarında yardım ve yataklık fiillerini göz önünde bulundurmalıdı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Ulusal mevzuatların çoğunda bu husus zaten değerlendirilmiş bulunmaktadır.</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üzel kişilerin cezai sorumluluğu</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Tüm Tarafların tüzel kişilerin fiillerini suç saymasını gerektirmektedi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vrupa Birliği içerisinde de tüzel kişilerin fiillerinin suç sayılması önemli bir husustur. </a:t>
            </a:r>
            <a:endParaRPr b="0" lang="en-US" sz="2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46458-CAF6-44A8-BEC1-1D0E381F6F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Şirketlerin ve diğer tüzel kişilerin cezai sorumluluğu</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organlarının suç teşkil eden fiiillerinden ötürü</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ve menfaati doğrultusunda hareket etme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yrıca, tüzel kişilerin sorumluluğu şu durumda da söz konusu olu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şirketin veya başkaca bir tüzel kişinin yasal temsilcisinin gözetimi altındaki bir kişi üzerindeki gözetimini veya denetimini yitirmesi</a:t>
            </a:r>
            <a:endParaRPr b="0" lang="en-US" sz="24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AC676-567C-4E7C-BB1D-F8EE5C35FD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4"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32F6B-8C84-4074-A918-613EC80118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ölüm İki</a:t>
            </a:r>
            <a:br>
              <a:rPr sz="3200"/>
            </a:br>
            <a:r>
              <a:rPr b="1" lang="en-GB" sz="3200" spc="-1" strike="noStrike">
                <a:solidFill>
                  <a:srgbClr val="000000"/>
                </a:solidFill>
                <a:latin typeface="Calibri"/>
                <a:ea typeface="ＭＳ Ｐゴシック"/>
              </a:rPr>
              <a:t> Vaka Çalışmaları</a:t>
            </a:r>
            <a:endParaRPr b="0" lang="en-US" sz="3200" spc="-1" strike="noStrike">
              <a:solidFill>
                <a:srgbClr val="000000"/>
              </a:solidFill>
              <a:latin typeface="Calibri"/>
            </a:endParaRPr>
          </a:p>
        </p:txBody>
      </p:sp>
      <p:pic>
        <p:nvPicPr>
          <p:cNvPr id="397" name="Picture 3" descr=""/>
          <p:cNvPicPr/>
          <p:nvPr/>
        </p:nvPicPr>
        <p:blipFill>
          <a:blip r:embed="rId1"/>
          <a:stretch/>
        </p:blipFill>
        <p:spPr>
          <a:xfrm>
            <a:off x="6786720" y="4643280"/>
            <a:ext cx="1962000" cy="1766880"/>
          </a:xfrm>
          <a:prstGeom prst="rect">
            <a:avLst/>
          </a:prstGeom>
          <a:ln w="0">
            <a:noFill/>
          </a:ln>
        </p:spPr>
      </p:pic>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AE720-89C2-4013-901E-22B893F18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0" name=""/>
          <p:cNvSpPr txBox="1"/>
          <p:nvPr/>
        </p:nvSpPr>
        <p:spPr>
          <a:xfrm>
            <a:off x="456840" y="1135080"/>
            <a:ext cx="8513640" cy="54943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Olaylar / senaryo</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Böyle bir şey sizin ülkenizde suç oluşturuyor mu, cevabınız evetse, bu hangi suçtur ve bu suçun kurucu öğeleri nelerdir?</a:t>
            </a:r>
            <a:endParaRPr b="0" lang="en-US" sz="2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B228D-FCFB-4166-970D-9A4E3B7C74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2</a:t>
            </a:r>
            <a:endParaRPr b="0" lang="en-US" sz="4400" spc="-1" strike="noStrike">
              <a:solidFill>
                <a:srgbClr val="000000"/>
              </a:solidFill>
              <a:latin typeface="Calibri"/>
            </a:endParaRPr>
          </a:p>
        </p:txBody>
      </p:sp>
      <p:sp>
        <p:nvSpPr>
          <p:cNvPr id="403" name=""/>
          <p:cNvSpPr txBox="1"/>
          <p:nvPr/>
        </p:nvSpPr>
        <p:spPr>
          <a:xfrm>
            <a:off x="457200" y="1238400"/>
            <a:ext cx="8229600" cy="5101920"/>
          </a:xfrm>
          <a:prstGeom prst="rect">
            <a:avLst/>
          </a:prstGeom>
          <a:noFill/>
          <a:ln w="0">
            <a:noFill/>
          </a:ln>
        </p:spPr>
        <p:txBody>
          <a:bodyPr anchor="t">
            <a:normAutofit/>
          </a:bodyPr>
          <a:p>
            <a:pPr marL="3240" indent="-32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hr-HR" sz="2400" spc="-1" strike="noStrike">
                <a:solidFill>
                  <a:srgbClr val="000000"/>
                </a:solidFill>
                <a:latin typeface="Calibri"/>
              </a:rPr>
              <a:t>Ü</a:t>
            </a:r>
            <a:r>
              <a:rPr b="0" i="1" lang="tr-TR" sz="2400" spc="-1" strike="noStrike">
                <a:solidFill>
                  <a:srgbClr val="000000"/>
                </a:solidFill>
                <a:latin typeface="Calibri"/>
              </a:rPr>
              <a:t>l</a:t>
            </a:r>
            <a:r>
              <a:rPr b="0" i="1" lang="hr-HR" sz="2400" spc="-1" strike="noStrike">
                <a:solidFill>
                  <a:srgbClr val="000000"/>
                </a:solidFill>
                <a:latin typeface="Calibri"/>
              </a:rPr>
              <a:t>kenizdeki ulusal hukuka göre – Hangi suçlar göz önüne alınmalıdır?</a:t>
            </a:r>
            <a:endParaRPr b="0" lang="en-US" sz="2400" spc="-1" strike="noStrike">
              <a:solidFill>
                <a:srgbClr val="000000"/>
              </a:solidFill>
              <a:latin typeface="Calibri"/>
            </a:endParaRPr>
          </a:p>
        </p:txBody>
      </p:sp>
      <p:sp>
        <p:nvSpPr>
          <p:cNvPr id="4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AC0F2-C1F4-4AE0-BAAC-650AC1296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 </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Bu olay ülkenizde hangi suçu doğur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Failin şifre değiştirme hakkı var mıdır, yok mudur – ve ulusal hukukunuza göre bu suçun tanımı bakımından en önemli unsur bu mud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Hangi suçlar göz önüne alınacaktır?</a:t>
            </a:r>
            <a:endParaRPr b="0" lang="en-US" sz="2400" spc="-1" strike="noStrike">
              <a:solidFill>
                <a:srgbClr val="000000"/>
              </a:solidFill>
              <a:latin typeface="Calibri"/>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3</a:t>
            </a:r>
            <a:endParaRPr b="0" lang="en-US" sz="4400" spc="-1" strike="noStrike">
              <a:solidFill>
                <a:srgbClr val="000000"/>
              </a:solidFill>
              <a:latin typeface="Calibri"/>
            </a:endParaRPr>
          </a:p>
        </p:txBody>
      </p:sp>
      <p:sp>
        <p:nvSpPr>
          <p:cNvPr id="4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34D53-4B24-4333-91E8-ECDBA4BA4A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a:t>
            </a:r>
            <a:r>
              <a:rPr b="1" lang="tr-TR" sz="4000" spc="-1" strike="noStrike">
                <a:solidFill>
                  <a:srgbClr val="ff0000"/>
                </a:solidFill>
                <a:latin typeface="Calibri"/>
              </a:rPr>
              <a:t>bir bilgisayar sisteminin tamamına veya bir kısmına </a:t>
            </a:r>
            <a:r>
              <a:rPr b="0" lang="tr-TR" sz="2800" spc="-1" strike="noStrike">
                <a:solidFill>
                  <a:srgbClr val="000000"/>
                </a:solidFill>
                <a:latin typeface="Calibri"/>
              </a:rPr>
              <a:t>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p:txBody>
      </p:sp>
      <p:sp>
        <p:nvSpPr>
          <p:cNvPr id="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1A169B-5E2E-4D09-AD96-4A069E3D2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319040"/>
            <a:ext cx="8229600" cy="470880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X, Y’ye –“K” şirketinin müdürü– “E. Bankası” logosu taşıyan bir e-posta mesajı göndermiş ve bu mesajda Bankanın internetteki ticari siteler konusunda yeni bir yaklaşım benimsediğini ve ticari e-bankacılığa bundan böyle erişebilmek için yazılımını değiştirmesi gerektiğini belirtmiştir. Mesajın ekinde “Sürücü” adlı bir yazılım bulunmakta, bu yazılımın indirilmesi gerektiğine dair açık bir ifade yer almaktadır. Program yüklendikten sonra söz konusu bilgisayar programı kullanıcının (Y) bilgisayarından kendi bilgisi olmaksızın veri kaydetmiş ve böylece X PIN numarasını ve banka işlemi denetim numarasını (TAN) elde etmiştir. X elde ettiği PIN ve TAN numaralarını işlemi onaylamak için kullanmış ve “P” Bankasında iki gün önce açılmış bulunan Z’nin banka hesabına 65.000 Euro aktarmıştır. Z, “P” Bankasının şubesinde yalan beyanda bulunarak bu parayı gayrimenkul satışından elde ettiğini söylemiştir. Ödemenin ardından X 63.000 Euro, Z ise 2000 Euro almıştır.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Savcı olsanız X ile Z’yi aynı suçla mı itham ederdiniz?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Hangi suçlar göz önüne alınacaktı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4</a:t>
            </a:r>
            <a:endParaRPr b="0" lang="en-US" sz="4400" spc="-1" strike="noStrike">
              <a:solidFill>
                <a:srgbClr val="000000"/>
              </a:solidFill>
              <a:latin typeface="Calibri"/>
            </a:endParaRPr>
          </a:p>
        </p:txBody>
      </p:sp>
      <p:sp>
        <p:nvSpPr>
          <p:cNvPr id="4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B1FE-C78A-4FF9-AB32-4E2A2E8DA3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Bu çocuk pornografisi bulundurma suçu mudur?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Ned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5</a:t>
            </a:r>
            <a:endParaRPr b="0" lang="en-US" sz="4400" spc="-1" strike="noStrike">
              <a:solidFill>
                <a:srgbClr val="000000"/>
              </a:solidFill>
              <a:latin typeface="Calibri"/>
            </a:endParaRPr>
          </a:p>
        </p:txBody>
      </p:sp>
      <p:sp>
        <p:nvSpPr>
          <p:cNvPr id="4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113E0-9DA9-4C06-B6D2-83567EBA1A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5"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Bobby </a:t>
            </a:r>
            <a:r>
              <a:rPr b="0" lang="tr-TR" sz="2800" spc="-1" strike="noStrike">
                <a:solidFill>
                  <a:srgbClr val="000000"/>
                </a:solidFill>
                <a:latin typeface="Calibri"/>
                <a:ea typeface="ＭＳ Ｐゴシック"/>
              </a:rPr>
              <a:t>b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polis memurudu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Bir gece vazife başındayken, evinin önünde park etmiş bir </a:t>
            </a:r>
            <a:r>
              <a:rPr b="0" lang="en-GB" sz="2800" spc="-1" strike="noStrike">
                <a:solidFill>
                  <a:srgbClr val="000000"/>
                </a:solidFill>
                <a:latin typeface="Calibri"/>
                <a:ea typeface="ＭＳ Ｐゴシック"/>
              </a:rPr>
              <a:t>Mercedes </a:t>
            </a:r>
            <a:r>
              <a:rPr b="0" lang="tr-TR" sz="2800" spc="-1" strike="noStrike">
                <a:solidFill>
                  <a:srgbClr val="000000"/>
                </a:solidFill>
                <a:latin typeface="Calibri"/>
                <a:ea typeface="ＭＳ Ｐゴシック"/>
              </a:rPr>
              <a:t>görü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Arabayı tanımaz, ama karısının patronuna ait olduğundan şüpheleni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Polis merkezine telefon eder ve aracın kırmızı ışıkta geçtiğini bildirerek bilgisayar operatörü Mary’den Mercedes’in kime ait olduğunu söylemesini ister. </a:t>
            </a:r>
            <a:r>
              <a:rPr b="0" lang="en-GB" sz="2800" spc="-1" strike="noStrike">
                <a:solidFill>
                  <a:srgbClr val="000000"/>
                </a:solidFill>
                <a:latin typeface="Calibri"/>
                <a:ea typeface="ＭＳ Ｐゴシック"/>
              </a:rPr>
              <a:t>Mary </a:t>
            </a:r>
            <a:r>
              <a:rPr b="0" lang="tr-TR" sz="2800" spc="-1" strike="noStrike">
                <a:solidFill>
                  <a:srgbClr val="000000"/>
                </a:solidFill>
                <a:latin typeface="Calibri"/>
                <a:ea typeface="ＭＳ Ｐゴシック"/>
              </a:rPr>
              <a:t>aracın gerçekten de karısının patronuna ait olduğunu doğrular</a:t>
            </a:r>
            <a:r>
              <a:rPr b="0" lang="en-GB"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Bobby </a:t>
            </a:r>
            <a:r>
              <a:rPr b="0" i="1" lang="tr-TR" sz="2800" spc="-1" strike="noStrike">
                <a:solidFill>
                  <a:srgbClr val="000000"/>
                </a:solidFill>
                <a:latin typeface="Calibri"/>
                <a:ea typeface="ＭＳ Ｐゴシック"/>
              </a:rPr>
              <a:t>bir suç işlemiş mid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9DE1A-DBED-4971-B62C-96B871DFA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7</a:t>
            </a:r>
            <a:endParaRPr b="0" lang="en-US" sz="4400" spc="-1" strike="noStrike">
              <a:solidFill>
                <a:srgbClr val="000000"/>
              </a:solidFill>
              <a:latin typeface="Calibri"/>
            </a:endParaRPr>
          </a:p>
        </p:txBody>
      </p:sp>
      <p:sp>
        <p:nvSpPr>
          <p:cNvPr id="418"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ankada çalışan bir güvenlik görevlisine, bir suç çetesi tarafından key logger (tuş kaydedici) adı verilen bir cihaz verilmiş ve bunu bankadaki bazı bilgisayarların arkasına yerleştirmesi istenmişt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cihaz kullanıcının bastığı tuşları kaydedip makineye erişimi olanların, banka çalışanlarının kullanıcı hesaplarına girmesine imkân sağlayan şifreleri ve diğer bilgileri edinmesini sağlar.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Tuş kaydedici cihaz</a:t>
            </a:r>
            <a:r>
              <a:rPr b="0" lang="tr-TR" sz="2400" spc="-1" strike="noStrike">
                <a:solidFill>
                  <a:srgbClr val="000000"/>
                </a:solidFill>
                <a:latin typeface="Calibri"/>
                <a:ea typeface="ＭＳ Ｐゴシック"/>
              </a:rPr>
              <a:t>ın bir başka özelliği de bilgisayar kullanıcısının yaptığı Skype telefon görüşmelerini</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kaydedebilmesid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Suç çetesi ayrıca masaya, bilgisayarın kullanıcısı tarafından yapılan tüm telefon görüşmeleri de dahil olmak üzere sesleri alan bir dinleme cihazı yerleştirmişlerd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Yasadışı bir ele geçirme söz konusu mudu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7FF2E-FF48-44F4-9F1B-65C11C67AA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8</a:t>
            </a:r>
            <a:endParaRPr b="0" lang="en-US" sz="4400" spc="-1" strike="noStrike">
              <a:solidFill>
                <a:srgbClr val="000000"/>
              </a:solidFill>
              <a:latin typeface="Calibri"/>
            </a:endParaRPr>
          </a:p>
        </p:txBody>
      </p:sp>
      <p:sp>
        <p:nvSpPr>
          <p:cNvPr id="421"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ir suç çetesi, internet üzerinden dünyanın herhangi bir yerinden ulaşılabilen web tabanlı bir e-posta sistemi kullanarak haberleş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birlerine polisin ele geçirebileceği ya da bilgisayarlarında bulunursa kendilerini suçlu kılacak mesajlar göndermek yerine, aslında taslak e-posta olarak mesajlardan oluşan bir sistem kullanırlar. Yani mesajlarını taslak olarak hazırlar, ama göndermezler; çetenin diğer üyeleri de e-posta adresinin şifresine sahiptir ve mesajı okuyup aynı yöntemle cevap yazarl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Şayet p</a:t>
            </a:r>
            <a:r>
              <a:rPr b="0" i="1" lang="en-GB" sz="2400" spc="-1" strike="noStrike">
                <a:solidFill>
                  <a:srgbClr val="000000"/>
                </a:solidFill>
                <a:latin typeface="Calibri"/>
                <a:ea typeface="ＭＳ Ｐゴシック"/>
              </a:rPr>
              <a:t>olis bu taslak e-posta kutusuna erişebilse</a:t>
            </a:r>
            <a:r>
              <a:rPr b="0" i="1" lang="tr-TR" sz="2400" spc="-1" strike="noStrike">
                <a:solidFill>
                  <a:srgbClr val="000000"/>
                </a:solidFill>
                <a:latin typeface="Calibri"/>
                <a:ea typeface="ＭＳ Ｐゴシック"/>
              </a:rPr>
              <a:t>, bu bir ele geçirme teşkil eder mi</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8D419-EA9D-4771-A899-80D717C89C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9</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Poli</a:t>
            </a:r>
            <a:r>
              <a:rPr b="0" lang="tr-TR" sz="3200" spc="-1" strike="noStrike">
                <a:solidFill>
                  <a:srgbClr val="000000"/>
                </a:solidFill>
                <a:latin typeface="Calibri"/>
                <a:ea typeface="ＭＳ Ｐゴシック"/>
              </a:rPr>
              <a:t>s</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memuru</a:t>
            </a:r>
            <a:r>
              <a:rPr b="0" lang="en-GB" sz="3200" spc="-1" strike="noStrike">
                <a:solidFill>
                  <a:srgbClr val="000000"/>
                </a:solidFill>
                <a:latin typeface="Calibri"/>
                <a:ea typeface="ＭＳ Ｐゴシック"/>
              </a:rPr>
              <a:t> Bobby </a:t>
            </a:r>
            <a:r>
              <a:rPr b="0" lang="tr-TR" sz="3200" spc="-1" strike="noStrike">
                <a:solidFill>
                  <a:srgbClr val="000000"/>
                </a:solidFill>
                <a:latin typeface="Calibri"/>
                <a:ea typeface="ＭＳ Ｐゴシック"/>
              </a:rPr>
              <a:t>eşinin telefonu almış, şifresini tahmin etmiş ve henüz eşinin dinlememiş olduğu, ama belleğe kaydedilmiş olan bir sesli mesajı dinlemişti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u bir ele geçirme teşkil eder mi?</a:t>
            </a:r>
            <a:endParaRPr b="0" lang="en-US" sz="3200" spc="-1" strike="noStrike">
              <a:solidFill>
                <a:srgbClr val="000000"/>
              </a:solidFill>
              <a:latin typeface="Calibri"/>
            </a:endParaRPr>
          </a:p>
        </p:txBody>
      </p:sp>
      <p:sp>
        <p:nvSpPr>
          <p:cNvPr id="4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A2DAD-FA2C-41AD-B9E5-64158A32C3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0</a:t>
            </a: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obby UFO</a:t>
            </a:r>
            <a:r>
              <a:rPr b="0" lang="tr-TR" sz="2400" spc="-1" strike="noStrike">
                <a:solidFill>
                  <a:srgbClr val="000000"/>
                </a:solidFill>
                <a:latin typeface="Calibri"/>
                <a:ea typeface="ＭＳ Ｐゴシック"/>
              </a:rPr>
              <a:t>’lara ilgi duymaktadır ve 20. yüzyıl başlarında Rusya’nın uzaylılara ait olup da Sibirya’ya iniş yapmış uzay aracı yakalamış olduğuna inanmakta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Rus Hava Kuvvetleri’ne ait bir siteye bağlantı veren bir Rus Askerlik İşlemleri sitesini ziyaret ede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Hava Kuvvetleri sitesi aslında şifre istemektedir, Bobby bir şifre kırma aracı kullanarak siteye erişmeyi başarı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Sistemde keşif amacıyla biraz dolaşır ve birkaç dosya kopyalar. Ayrıca, Ruslar kimliğini tespit etmesin diye kendi faaliyetine ilişkin günlük kayıt dosyalarını da silmeye çalışır</a:t>
            </a:r>
            <a:r>
              <a:rPr b="0" lang="en-GB" sz="2400" spc="-1" strike="noStrike">
                <a:solidFill>
                  <a:srgbClr val="000000"/>
                </a:solidFill>
                <a:latin typeface="Calibri"/>
                <a:ea typeface="ＭＳ Ｐゴシック"/>
              </a:rPr>
              <a:t>. Sonra da sitenin </a:t>
            </a:r>
            <a:r>
              <a:rPr b="0" lang="tr-TR" sz="2400" spc="-1" strike="noStrike">
                <a:solidFill>
                  <a:srgbClr val="000000"/>
                </a:solidFill>
                <a:latin typeface="Calibri"/>
                <a:ea typeface="ＭＳ Ｐゴシック"/>
              </a:rPr>
              <a:t>giriş sayfasını Hava Kuvvetleri amblemi yerine UFO resmi gösterecek şekilde değiştir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26D0-6C8A-4575-976E-4A4993F771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1</a:t>
            </a:r>
            <a:endParaRPr b="0" lang="en-US" sz="4400" spc="-1" strike="noStrike">
              <a:solidFill>
                <a:srgbClr val="000000"/>
              </a:solidFill>
              <a:latin typeface="Calibri"/>
            </a:endParaRPr>
          </a:p>
        </p:txBody>
      </p:sp>
      <p:sp>
        <p:nvSpPr>
          <p:cNvPr id="430" name="PlaceHolder 2"/>
          <p:cNvSpPr>
            <a:spLocks noGrp="1"/>
          </p:cNvSpPr>
          <p:nvPr>
            <p:ph/>
          </p:nvPr>
        </p:nvSpPr>
        <p:spPr>
          <a:xfrm>
            <a:off x="457200" y="1417680"/>
            <a:ext cx="8229600" cy="49687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Otomatik bir </a:t>
            </a:r>
            <a:r>
              <a:rPr b="0" lang="en-GB" sz="2400" spc="-1" strike="noStrike">
                <a:solidFill>
                  <a:srgbClr val="000000"/>
                </a:solidFill>
                <a:latin typeface="Calibri"/>
                <a:ea typeface="ＭＳ Ｐゴシック"/>
              </a:rPr>
              <a:t>spam e-posta programı</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her gün dünyanın dört bir yanındaki binlerce kullanıcı</a:t>
            </a:r>
            <a:r>
              <a:rPr b="0" lang="tr-TR" sz="2400" spc="-1" strike="noStrike">
                <a:solidFill>
                  <a:srgbClr val="000000"/>
                </a:solidFill>
                <a:latin typeface="Calibri"/>
                <a:ea typeface="ＭＳ Ｐゴシック"/>
              </a:rPr>
              <a:t>ya </a:t>
            </a:r>
            <a:r>
              <a:rPr b="0" lang="en-GB" sz="2400" spc="-1" strike="noStrike">
                <a:solidFill>
                  <a:srgbClr val="000000"/>
                </a:solidFill>
                <a:latin typeface="Calibri"/>
                <a:ea typeface="ＭＳ Ｐゴシック"/>
              </a:rPr>
              <a:t>istenmeyen e</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postalar göndermektedir. Bu </a:t>
            </a:r>
            <a:r>
              <a:rPr b="0" lang="tr-TR" sz="2400" spc="-1" strike="noStrike">
                <a:solidFill>
                  <a:srgbClr val="000000"/>
                </a:solidFill>
                <a:latin typeface="Calibri"/>
                <a:ea typeface="ＭＳ Ｐゴシック"/>
              </a:rPr>
              <a:t>e-posta açıldığında kullanıcının bilgisayarına bir yazılım yüklemektedir. Söz konusu yazılım kullanıcı bilgisayarlarının çalışmasını engelleyen bir şey yapmaz, veri çalmaz, silmez ya da başkaca bir zarar yaratmaz. Ancak söz konusu kullanıcıların bilgisayarları artık, “bot kontrolörü”nün çok çeşitli faaliyetlerde kullanabileceği bir “Botnet”in parçasını oluşturan bir “Zombi” haline gel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Spam e-posta göndermekten sorumlu olan kişi Budapeşte Sözleşmesi’nin </a:t>
            </a:r>
            <a:r>
              <a:rPr b="0" i="1" lang="en-GB" sz="2400" spc="-1" strike="noStrike">
                <a:solidFill>
                  <a:srgbClr val="000000"/>
                </a:solidFill>
                <a:latin typeface="Calibri"/>
                <a:ea typeface="ＭＳ Ｐゴシック"/>
              </a:rPr>
              <a:t>4. </a:t>
            </a:r>
            <a:r>
              <a:rPr b="0" i="1" lang="tr-TR" sz="2400" spc="-1" strike="noStrike">
                <a:solidFill>
                  <a:srgbClr val="000000"/>
                </a:solidFill>
                <a:latin typeface="Calibri"/>
                <a:ea typeface="ＭＳ Ｐゴシック"/>
              </a:rPr>
              <a:t>veya</a:t>
            </a:r>
            <a:r>
              <a:rPr b="0" i="1" lang="en-GB" sz="2400" spc="-1" strike="noStrike">
                <a:solidFill>
                  <a:srgbClr val="000000"/>
                </a:solidFill>
                <a:latin typeface="Calibri"/>
                <a:ea typeface="ＭＳ Ｐゴシック"/>
              </a:rPr>
              <a:t> 5. maddesine</a:t>
            </a:r>
            <a:r>
              <a:rPr b="0" i="1" lang="tr-TR" sz="2400" spc="-1" strike="noStrike">
                <a:solidFill>
                  <a:srgbClr val="000000"/>
                </a:solidFill>
                <a:latin typeface="Calibri"/>
                <a:ea typeface="ＭＳ Ｐゴシック"/>
              </a:rPr>
              <a:t> aykırı bir suç işlemiş midir?</a:t>
            </a:r>
            <a:endParaRPr b="0" lang="en-US" sz="2400" spc="-1" strike="noStrike">
              <a:solidFill>
                <a:srgbClr val="000000"/>
              </a:solidFill>
              <a:latin typeface="Calibri"/>
            </a:endParaRPr>
          </a:p>
        </p:txBody>
      </p:sp>
      <p:sp>
        <p:nvSpPr>
          <p:cNvPr id="4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2BB12-46DA-4CCA-AE7E-8CA3F2CA8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2</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Polis bilgisayar sistemini kötüye kullanmaktan ötürü görevden alınmış olan eski bir polis memuru olan Bobby,</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müdürlüğünden intikam almaya karar ver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 e-posta programı kullanarak, eskiden çalıştığı daireye saatte 70.000 e-posta gönderi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Emniyet genel müdüründen gelmiş gibi görünsün diye iletinin başlığını değiştirir ve böylece emniyetin kullandığı e-posta sunucusunu bu iletinin yasal bir kaynaktan geldiğine inandır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sunucusu bu kadar yoğun trafiği kaldıramaz ve çöke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bir sisteme müdahale suçu mudur?</a:t>
            </a:r>
            <a:endParaRPr b="0" lang="en-US" sz="2400" spc="-1" strike="noStrike">
              <a:solidFill>
                <a:srgbClr val="000000"/>
              </a:solidFill>
              <a:latin typeface="Calibri"/>
            </a:endParaRPr>
          </a:p>
        </p:txBody>
      </p:sp>
      <p:sp>
        <p:nvSpPr>
          <p:cNvPr id="4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3E777-3C48-4FE5-B094-E0554A2492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3</a:t>
            </a: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a:t>
            </a:r>
            <a:r>
              <a:rPr b="0" lang="tr-TR" sz="2400" spc="-1" strike="noStrike">
                <a:solidFill>
                  <a:srgbClr val="000000"/>
                </a:solidFill>
                <a:latin typeface="Calibri"/>
                <a:ea typeface="ＭＳ Ｐゴシック"/>
              </a:rPr>
              <a:t>ayrıldığı eşinin işyerine bir e-posta gönderir. İletinin başlığını eşinin bir arkadaşından gelmiş gibi değiştir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e-posta, Bobby’nin eşinin bilgisayarını kontrol etmesine elveren “tüm bölgelere erişim” adlı bir program içermektedir.</a:t>
            </a:r>
            <a:r>
              <a:rPr b="0" lang="en-GB" sz="2400" spc="-1" strike="noStrike">
                <a:solidFill>
                  <a:srgbClr val="000000"/>
                </a:solidFill>
                <a:latin typeface="Calibri"/>
                <a:ea typeface="ＭＳ Ｐゴシック"/>
              </a:rPr>
              <a:t> Ancak </a:t>
            </a:r>
            <a:r>
              <a:rPr b="0" lang="tr-TR" sz="2400" spc="-1" strike="noStrike">
                <a:solidFill>
                  <a:srgbClr val="000000"/>
                </a:solidFill>
                <a:latin typeface="Calibri"/>
                <a:ea typeface="ＭＳ Ｐゴシック"/>
              </a:rPr>
              <a:t>Bobby programı kullanmaya fırsat bulamadan, bu veri girişinin kapsamını anlamak üzere sistemi kapatan sistem yöneticisi programın varlığını tespit ede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Budapeşte Sözleşmesi’nin </a:t>
            </a:r>
            <a:r>
              <a:rPr b="0" i="1" lang="tr-TR" sz="2400" spc="-1" strike="noStrike">
                <a:solidFill>
                  <a:srgbClr val="000000"/>
                </a:solidFill>
                <a:latin typeface="Calibri"/>
                <a:ea typeface="ＭＳ Ｐゴシック"/>
              </a:rPr>
              <a:t>5. maddesine aykırı bir suç mu işlemişt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3D5C2-CB47-4240-82CB-3C3E753E1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sisteminin tamamı </a:t>
            </a:r>
            <a:br>
              <a:rPr sz="4400"/>
            </a:br>
            <a:r>
              <a:rPr b="1" lang="en-GB" sz="4400" spc="-1" strike="noStrike">
                <a:solidFill>
                  <a:srgbClr val="000000"/>
                </a:solidFill>
                <a:latin typeface="Calibri"/>
              </a:rPr>
              <a:t>veya bir kısmı</a:t>
            </a:r>
            <a:endParaRPr b="0" lang="en-US" sz="4400" spc="-1" strike="noStrike">
              <a:solidFill>
                <a:srgbClr val="000000"/>
              </a:solidFill>
              <a:latin typeface="Calibri"/>
            </a:endParaRPr>
          </a:p>
        </p:txBody>
      </p:sp>
      <p:sp>
        <p:nvSpPr>
          <p:cNvPr id="89"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Bilgisayar sisteminin bir kısmı</a:t>
            </a:r>
            <a:r>
              <a:rPr b="0" lang="en-GB" sz="3200" spc="-1" strike="noStrike">
                <a:solidFill>
                  <a:srgbClr val="000000"/>
                </a:solidFill>
                <a:latin typeface="Calibri"/>
              </a:rPr>
              <a:t>” şunları kapsar:</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nanı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eşe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e kurulmuş sistemde depolanan veriler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dizi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trafik verileri</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içerikle bağlantılı veriler</a:t>
            </a:r>
            <a:endParaRPr b="0" lang="en-US" sz="28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FC0AA0-589B-4876-BBD0-2312D9F562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4</a:t>
            </a:r>
            <a:endParaRPr b="0" lang="en-US" sz="4400" spc="-1" strike="noStrike">
              <a:solidFill>
                <a:srgbClr val="000000"/>
              </a:solidFill>
              <a:latin typeface="Calibri"/>
            </a:endParaRPr>
          </a:p>
        </p:txBody>
      </p:sp>
      <p:sp>
        <p:nvSpPr>
          <p:cNvPr id="439" name="PlaceHolder 2"/>
          <p:cNvSpPr>
            <a:spLocks noGrp="1"/>
          </p:cNvSpPr>
          <p:nvPr>
            <p:ph/>
          </p:nvPr>
        </p:nvSpPr>
        <p:spPr>
          <a:xfrm>
            <a:off x="457200" y="953640"/>
            <a:ext cx="8362800" cy="492444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Kozmetiklerin hayvanlar üzerinde denenmesini protesto eden bir “aktivist korsan” internet grubu, kozmetik şirketlerinin ve Glamour adlı moda dergisinin web sitelerine yönelik “Dağıtık Hizmet Engelleme</a:t>
            </a:r>
            <a:r>
              <a:rPr b="0" lang="en-GB" sz="2200" spc="-1" strike="noStrike">
                <a:solidFill>
                  <a:srgbClr val="000000"/>
                </a:solidFill>
                <a:latin typeface="Calibri"/>
                <a:ea typeface="ＭＳ Ｐゴシック"/>
              </a:rPr>
              <a:t>” (DDOS) </a:t>
            </a:r>
            <a:r>
              <a:rPr b="0" lang="tr-TR" sz="2200" spc="-1" strike="noStrike">
                <a:solidFill>
                  <a:srgbClr val="000000"/>
                </a:solidFill>
                <a:latin typeface="Calibri"/>
                <a:ea typeface="ＭＳ Ｐゴシック"/>
              </a:rPr>
              <a:t>saldırıları düzenl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Grup kendi internet sitesi aracılığıyla, web sitelerine yönelik saldırıları koordine etmeyi ve böylece belirli bir sürede bir web sitesine erişmeye çalışan trafik miktarını en yüksek seviyeye çıkarmayı sağlayan</a:t>
            </a:r>
            <a:r>
              <a:rPr b="0" lang="en-GB" sz="2200" spc="-1" strike="noStrike">
                <a:solidFill>
                  <a:srgbClr val="000000"/>
                </a:solidFill>
                <a:latin typeface="Calibri"/>
                <a:ea typeface="ＭＳ Ｐゴシック"/>
              </a:rPr>
              <a:t> “Supergun” </a:t>
            </a:r>
            <a:r>
              <a:rPr b="0" lang="tr-TR" sz="2200" spc="-1" strike="noStrike">
                <a:solidFill>
                  <a:srgbClr val="000000"/>
                </a:solidFill>
                <a:latin typeface="Calibri"/>
                <a:ea typeface="ＭＳ Ｐゴシック"/>
              </a:rPr>
              <a:t>(Süper silah) adını verdikleri bir yazılımı dağıtıma sokar. </a:t>
            </a:r>
            <a:r>
              <a:rPr b="0" lang="en-GB" sz="2200" spc="-1" strike="noStrike">
                <a:solidFill>
                  <a:srgbClr val="000000"/>
                </a:solidFill>
                <a:latin typeface="Calibri"/>
                <a:ea typeface="ＭＳ Ｐゴシック"/>
              </a:rPr>
              <a:t>“Supergun” </a:t>
            </a:r>
            <a:r>
              <a:rPr b="0" lang="tr-TR" sz="2200" spc="-1" strike="noStrike">
                <a:solidFill>
                  <a:srgbClr val="000000"/>
                </a:solidFill>
                <a:latin typeface="Calibri"/>
                <a:ea typeface="ＭＳ Ｐゴシック"/>
              </a:rPr>
              <a:t>yazılımı ilk başta sistem yöneticileri tarafından kendi sistemlerinin güvenliğini test eden bir araç olarak geliştirilmiştir. Ancak, halen tıpatıp aynı şekilde çalışmakla birlikte, kullanıcı arayüzü çok daha kolay kullanılacak hale getirilmiştir ve artık grubun logosunu taşımaktadır</a:t>
            </a:r>
            <a:r>
              <a:rPr b="0"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karşıdan yüklemeye uygun hale getirmek bir suç mudur</a:t>
            </a:r>
            <a:r>
              <a:rPr b="0" i="1"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bulundurmak suç mudur</a:t>
            </a:r>
            <a:r>
              <a:rPr b="0" i="1" lang="en-GB"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4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F951C-077E-4ECE-8C86-0C2F7979A7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5</a:t>
            </a:r>
            <a:endParaRPr b="0" lang="en-US" sz="4400" spc="-1" strike="noStrike">
              <a:solidFill>
                <a:srgbClr val="000000"/>
              </a:solidFill>
              <a:latin typeface="Calibri"/>
            </a:endParaRPr>
          </a:p>
        </p:txBody>
      </p:sp>
      <p:sp>
        <p:nvSpPr>
          <p:cNvPr id="442" name="PlaceHolder 2"/>
          <p:cNvSpPr>
            <a:spLocks noGrp="1"/>
          </p:cNvSpPr>
          <p:nvPr>
            <p:ph/>
          </p:nvPr>
        </p:nvSpPr>
        <p:spPr>
          <a:xfrm>
            <a:off x="457200" y="1298520"/>
            <a:ext cx="8229600" cy="47102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ir yazılım sağlayıcısı </a:t>
            </a:r>
            <a:r>
              <a:rPr b="0" lang="tr-TR" sz="2400" spc="-1" strike="noStrike">
                <a:solidFill>
                  <a:srgbClr val="000000"/>
                </a:solidFill>
                <a:latin typeface="Calibri"/>
                <a:ea typeface="ＭＳ Ｐゴシック"/>
              </a:rPr>
              <a:t>bir </a:t>
            </a:r>
            <a:r>
              <a:rPr b="0" lang="en-GB" sz="2400" spc="-1" strike="noStrike">
                <a:solidFill>
                  <a:srgbClr val="000000"/>
                </a:solidFill>
                <a:latin typeface="Calibri"/>
                <a:ea typeface="ＭＳ Ｐゴシック"/>
              </a:rPr>
              <a:t>şifreleme yazılımı </a:t>
            </a:r>
            <a:r>
              <a:rPr b="0" lang="tr-TR" sz="2400" spc="-1" strike="noStrike">
                <a:solidFill>
                  <a:srgbClr val="000000"/>
                </a:solidFill>
                <a:latin typeface="Calibri"/>
                <a:ea typeface="ＭＳ Ｐゴシック"/>
              </a:rPr>
              <a:t>yaratmıştı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yazılım sabit diskin içeriğini iki bölüme ayırmakta, her bir bölüme erişim için bir şifre gerekmektedir; ancak sıradan kullanıcıya bu bölümlerden yalnızca biri görünmekte ve gizli bölümün varlığı halihazırda mevcut adli bilim yazılımları kullanılarak tespit edilememektedi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Üretici bu yazılımın, zorla şifresini söylemek durumunda kalan herkes tarafından kullanılabileceğini iddia et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Yani görünürdeki dosyanın şifresi açıklansa bile, gizli bölümdeki veriler güvende olacaktı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yazılımın sağlayıcısı cezai bir suç işlemekte mid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2CD9F-D446-409D-91AE-E205B8700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6</a:t>
            </a:r>
            <a:endParaRPr b="0" lang="en-US" sz="4400" spc="-1" strike="noStrike">
              <a:solidFill>
                <a:srgbClr val="000000"/>
              </a:solidFill>
              <a:latin typeface="Calibri"/>
            </a:endParaRPr>
          </a:p>
        </p:txBody>
      </p:sp>
      <p:sp>
        <p:nvSpPr>
          <p:cNvPr id="445" name="PlaceHolder 2"/>
          <p:cNvSpPr>
            <a:spLocks noGrp="1"/>
          </p:cNvSpPr>
          <p:nvPr>
            <p:ph/>
          </p:nvPr>
        </p:nvSpPr>
        <p:spPr>
          <a:xfrm>
            <a:off x="457200" y="1185480"/>
            <a:ext cx="8229600" cy="4708440"/>
          </a:xfrm>
          <a:prstGeom prst="rect">
            <a:avLst/>
          </a:prstGeom>
          <a:noFill/>
          <a:ln w="0">
            <a:noFill/>
          </a:ln>
        </p:spPr>
        <p:txBody>
          <a:bodyPr anchor="t">
            <a:normAutofit fontScale="90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laylar / Senary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Nick </a:t>
            </a:r>
            <a:r>
              <a:rPr b="0" lang="tr-TR" sz="2000" spc="-1" strike="noStrike">
                <a:solidFill>
                  <a:srgbClr val="000000"/>
                </a:solidFill>
                <a:latin typeface="Calibri"/>
                <a:ea typeface="ＭＳ Ｐゴシック"/>
              </a:rPr>
              <a:t>kendi İntranet’i (dahili ağ) olan büyük bir şirketin</a:t>
            </a:r>
            <a:r>
              <a:rPr b="0" lang="en-GB" sz="2000" spc="-1" strike="noStrike">
                <a:solidFill>
                  <a:srgbClr val="000000"/>
                </a:solidFill>
                <a:latin typeface="Calibri"/>
                <a:ea typeface="ＭＳ Ｐゴシック"/>
              </a:rPr>
              <a:t> IT departmanında </a:t>
            </a:r>
            <a:r>
              <a:rPr b="0" lang="tr-TR" sz="2000" spc="-1" strike="noStrike">
                <a:solidFill>
                  <a:srgbClr val="000000"/>
                </a:solidFill>
                <a:latin typeface="Calibri"/>
                <a:ea typeface="ＭＳ Ｐゴシック"/>
              </a:rPr>
              <a:t>çalışmaktad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Şirket politikası gereği, çalışanların şirketin bilgisayar ve internet bağlantısını kullanarak çevrimiçi alışveriş yapması yasakt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Nick boş zamanlarında şirketin çevrimiçi ödemeler yapan çalışanları tespit etmesine ve disiplin soruşturmasında delil olarak kullanılmak üzere bu bilgiyi kaydetmesine olanak sağlayacak bir yazılım geliştirmeye başlar</a:t>
            </a:r>
            <a:r>
              <a:rPr b="0" lang="en-GB" sz="2000" spc="-1" strike="noStrike">
                <a:solidFill>
                  <a:srgbClr val="000000"/>
                </a:solidFill>
                <a:latin typeface="Calibri"/>
                <a:ea typeface="ＭＳ Ｐゴシック"/>
              </a:rPr>
              <a:t>. Nick bunun için</a:t>
            </a:r>
            <a:r>
              <a:rPr b="0" lang="tr-TR" sz="2000" spc="-1" strike="noStrike">
                <a:solidFill>
                  <a:srgbClr val="000000"/>
                </a:solidFill>
                <a:latin typeface="Calibri"/>
                <a:ea typeface="ＭＳ Ｐゴシック"/>
              </a:rPr>
              <a:t> gerekli becerilere sahip olmadığından, </a:t>
            </a:r>
            <a:r>
              <a:rPr b="0" lang="en-GB" sz="2000" spc="-1" strike="noStrike">
                <a:solidFill>
                  <a:srgbClr val="000000"/>
                </a:solidFill>
                <a:latin typeface="Calibri"/>
                <a:ea typeface="ＭＳ Ｐゴシック"/>
              </a:rPr>
              <a:t>“Jüpiter”</a:t>
            </a:r>
            <a:r>
              <a:rPr b="0" lang="tr-TR" sz="2000" spc="-1" strike="noStrike">
                <a:solidFill>
                  <a:srgbClr val="000000"/>
                </a:solidFill>
                <a:latin typeface="Calibri"/>
                <a:ea typeface="ＭＳ Ｐゴシック"/>
              </a:rPr>
              <a:t>le internet üzerinden irtibata geçe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Birlikte, kullanıcının bilgisayarına bir kez yüklendiğinde kullanıcı çevrimiçi ödemelerde kullanılana benzer çevrimiçi bir form doldurmaya başladığı anda aktive olan ve kullanıcı tarafından girilen verileri kaydeden bir yazılım geliştirirler. </a:t>
            </a:r>
            <a:r>
              <a:rPr b="0" lang="en-GB" sz="2000" spc="-1" strike="noStrike">
                <a:solidFill>
                  <a:srgbClr val="000000"/>
                </a:solidFill>
                <a:latin typeface="Calibri"/>
                <a:ea typeface="ＭＳ Ｐゴシック"/>
              </a:rPr>
              <a:t>Nick’</a:t>
            </a:r>
            <a:r>
              <a:rPr b="0" lang="tr-TR" sz="2000" spc="-1" strike="noStrike">
                <a:solidFill>
                  <a:srgbClr val="000000"/>
                </a:solidFill>
                <a:latin typeface="Calibri"/>
                <a:ea typeface="ＭＳ Ｐゴシック"/>
              </a:rPr>
              <a:t>in şirketi bu durumdan gayet memnun olmakla birlikte, Jüpiter bir Truva programı kullanarak bu yazılımı dağıtmaya başlar.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Nick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0" spc="-1" strike="noStrike">
                <a:solidFill>
                  <a:srgbClr val="000000"/>
                </a:solidFill>
                <a:latin typeface="Calibri"/>
                <a:ea typeface="ＭＳ Ｐゴシック"/>
              </a:rPr>
              <a:t>Şirket bir suç işlemiş midir?</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Jüpiter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
        <p:nvSpPr>
          <p:cNvPr id="4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2DB55-614D-48D3-B081-49A06A5C3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7</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kendi </a:t>
            </a:r>
            <a:r>
              <a:rPr b="0" lang="tr-TR" sz="3200" spc="-1" strike="noStrike">
                <a:solidFill>
                  <a:srgbClr val="000000"/>
                </a:solidFill>
                <a:latin typeface="Calibri"/>
                <a:ea typeface="ＭＳ Ｐゴシック"/>
              </a:rPr>
              <a:t>ev bilgisayarında gerçeğe benzer banka çekleri üreten, piyasada satılan bir fotoğraf yazılımı kullanmaktad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Çeki bankasına götürür, banka bunu gerçek bir çek olarak kabul eder ve Stefan’ın hesabına nakit aktar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hangi suçu işlemişti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BE405-A3A5-4C99-AB2C-4A3C131116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8</a:t>
            </a:r>
            <a:endParaRPr b="0" lang="en-US" sz="4400" spc="-1" strike="noStrike">
              <a:solidFill>
                <a:srgbClr val="000000"/>
              </a:solidFill>
              <a:latin typeface="Calibri"/>
            </a:endParaRPr>
          </a:p>
        </p:txBody>
      </p:sp>
      <p:sp>
        <p:nvSpPr>
          <p:cNvPr id="451" name="PlaceHolder 2"/>
          <p:cNvSpPr>
            <a:spLocks noGrp="1"/>
          </p:cNvSpPr>
          <p:nvPr>
            <p:ph/>
          </p:nvPr>
        </p:nvSpPr>
        <p:spPr>
          <a:xfrm>
            <a:off x="457200" y="14842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efan </a:t>
            </a:r>
            <a:r>
              <a:rPr b="0" lang="tr-TR" sz="3000" spc="-1" strike="noStrike">
                <a:solidFill>
                  <a:srgbClr val="000000"/>
                </a:solidFill>
                <a:latin typeface="Calibri"/>
                <a:ea typeface="ＭＳ Ｐゴシック"/>
              </a:rPr>
              <a:t>sürekli arkadaşlarına gençken ne kadar yetenekli bir atlet olduğu konusunda övünür. Arkadaşları buna şüpheyle yaklaşır. Bunun üzerine Stefan eski okulunun veri tabanına erişmeyi başarır ve kayıtları, kendisini okul atletizm takımının kaptanı ve pek çok madalya kazanmış biri olarak gösterecek şekilde değiştirir</a:t>
            </a:r>
            <a:r>
              <a:rPr b="0" lang="en-GB" sz="3000" spc="-1" strike="noStrike">
                <a:solidFill>
                  <a:srgbClr val="000000"/>
                </a:solidFill>
                <a:latin typeface="Calibri"/>
                <a:ea typeface="ＭＳ Ｐゴシック"/>
              </a:rPr>
              <a:t>.</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000" spc="-1" strike="noStrike">
                <a:solidFill>
                  <a:srgbClr val="000000"/>
                </a:solidFill>
                <a:latin typeface="Calibri"/>
                <a:ea typeface="ＭＳ Ｐゴシック"/>
              </a:rPr>
              <a:t>Bu bilgisayarla</a:t>
            </a:r>
            <a:r>
              <a:rPr b="0" i="1" lang="tr-TR" sz="3000" spc="-1" strike="noStrike">
                <a:solidFill>
                  <a:srgbClr val="000000"/>
                </a:solidFill>
                <a:latin typeface="Calibri"/>
                <a:ea typeface="ＭＳ Ｐゴシック"/>
              </a:rPr>
              <a:t> bağlantılı bir </a:t>
            </a:r>
            <a:r>
              <a:rPr b="0" i="1" lang="en-GB" sz="3000" spc="-1" strike="noStrike">
                <a:solidFill>
                  <a:srgbClr val="000000"/>
                </a:solidFill>
                <a:latin typeface="Calibri"/>
                <a:ea typeface="ＭＳ Ｐゴシック"/>
              </a:rPr>
              <a:t>sahtecilik suç</a:t>
            </a:r>
            <a:r>
              <a:rPr b="0" i="1" lang="tr-TR" sz="3000" spc="-1" strike="noStrike">
                <a:solidFill>
                  <a:srgbClr val="000000"/>
                </a:solidFill>
                <a:latin typeface="Calibri"/>
                <a:ea typeface="ＭＳ Ｐゴシック"/>
              </a:rPr>
              <a:t>u mudu</a:t>
            </a:r>
            <a:r>
              <a:rPr b="0" i="1" lang="en-GB" sz="3000" spc="-1" strike="noStrike">
                <a:solidFill>
                  <a:srgbClr val="000000"/>
                </a:solidFill>
                <a:latin typeface="Calibri"/>
                <a:ea typeface="ＭＳ Ｐゴシック"/>
              </a:rPr>
              <a:t>r?</a:t>
            </a:r>
            <a:endParaRPr b="0" lang="en-US" sz="3000" spc="-1" strike="noStrike">
              <a:solidFill>
                <a:srgbClr val="000000"/>
              </a:solidFill>
              <a:latin typeface="Calibri"/>
            </a:endParaRPr>
          </a:p>
        </p:txBody>
      </p:sp>
      <p:sp>
        <p:nvSpPr>
          <p:cNvPr id="4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A4B84-18FC-4D7F-9728-61F4ACD87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9</a:t>
            </a:r>
            <a:endParaRPr b="0" lang="en-US" sz="4400" spc="-1" strike="noStrike">
              <a:solidFill>
                <a:srgbClr val="000000"/>
              </a:solidFill>
              <a:latin typeface="Calibri"/>
            </a:endParaRPr>
          </a:p>
        </p:txBody>
      </p:sp>
      <p:sp>
        <p:nvSpPr>
          <p:cNvPr id="454" name="PlaceHolder 2"/>
          <p:cNvSpPr>
            <a:spLocks noGrp="1"/>
          </p:cNvSpPr>
          <p:nvPr>
            <p:ph/>
          </p:nvPr>
        </p:nvSpPr>
        <p:spPr>
          <a:xfrm>
            <a:off x="457200" y="1171440"/>
            <a:ext cx="8229600" cy="470880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Emniyet Müdürlüğü’ndeki işini kaybeden ve boşandığından beri karısına nafaka vermek zorunda olan Bobby, yeni bir para kazanma yolu aramaktadır. Hisse alım satımına her zaman ilgi duyduğundan, Belçika’da uranyum çıkartmak için özel izni bulunan </a:t>
            </a:r>
            <a:r>
              <a:rPr b="0" lang="en-GB" sz="2400" spc="-1" strike="noStrike">
                <a:solidFill>
                  <a:srgbClr val="000000"/>
                </a:solidFill>
                <a:latin typeface="Calibri"/>
                <a:ea typeface="ＭＳ Ｐゴシック"/>
              </a:rPr>
              <a:t>Flanders Mining Inc</a:t>
            </a:r>
            <a:r>
              <a:rPr b="0" lang="tr-TR" sz="2400" spc="-1" strike="noStrike">
                <a:solidFill>
                  <a:srgbClr val="000000"/>
                </a:solidFill>
                <a:latin typeface="Calibri"/>
                <a:ea typeface="ＭＳ Ｐゴシック"/>
              </a:rPr>
              <a:t> adlı şirketin tanesi 1 Avrodan 1000 adet hissesini alır. Bobby, üyeleri de onun gibi borsaya ilgi duyan bir internet forumuna üyedir. Bu foruma, Belçika hükümeti için çalışan bir arkadaşının Belçika’da önemli miktarda uranyum tespit edildiğini söylediğine dair bir mesaj yolla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mesajı takiben </a:t>
            </a:r>
            <a:r>
              <a:rPr b="0" lang="en-GB" sz="2400" spc="-1" strike="noStrike">
                <a:solidFill>
                  <a:srgbClr val="000000"/>
                </a:solidFill>
                <a:latin typeface="Calibri"/>
                <a:ea typeface="ＭＳ Ｐゴシック"/>
              </a:rPr>
              <a:t>Flanders Mining </a:t>
            </a:r>
            <a:r>
              <a:rPr b="0" lang="tr-TR" sz="2400" spc="-1" strike="noStrike">
                <a:solidFill>
                  <a:srgbClr val="000000"/>
                </a:solidFill>
                <a:latin typeface="Calibri"/>
                <a:ea typeface="ＭＳ Ｐゴシック"/>
              </a:rPr>
              <a:t>hisse fiyatları yükselişe geçer, bir haftada her bir hissenin değeri 1000 Avro’ya ulaş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obby bunun üzerine hisselerini sat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04A83-8892-47AA-B5D3-7F0071528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0</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a:t>
            </a:r>
            <a:r>
              <a:rPr b="0" lang="tr-TR" sz="3200" spc="-1" strike="noStrike">
                <a:solidFill>
                  <a:srgbClr val="000000"/>
                </a:solidFill>
                <a:latin typeface="Calibri"/>
                <a:ea typeface="ＭＳ Ｐゴシック"/>
              </a:rPr>
              <a:t>arabayla bankaya gide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Park yerinde bozuk parası olmadığını fark eder. Parkmetreye bir rondela atarak fiş al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bir suç işlemiş midir</a:t>
            </a:r>
            <a:r>
              <a:rPr b="0" i="1" lang="en-GB" sz="3200" spc="-1" strike="noStrike">
                <a:solidFill>
                  <a:srgbClr val="000000"/>
                </a:solidFill>
                <a:latin typeface="Calibri"/>
                <a:ea typeface="ＭＳ Ｐゴシック"/>
              </a:rPr>
              <a:t>?</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14F25-DD29-4903-AD74-EDEEE06AF7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1</a:t>
            </a: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ＭＳ Ｐゴシック"/>
              </a:rPr>
              <a:t>Stefan yakalandıktan sonra polis, Stefan’ın üçüncü şahıslara ait çok fazla sayıda kredi kartı bilgisine sahip olduğunu ortaya çıkarmıştır</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u verileri bulundurmak </a:t>
            </a:r>
            <a:r>
              <a:rPr b="0" i="1" lang="tr-TR" sz="3200" spc="-1" strike="noStrike">
                <a:solidFill>
                  <a:srgbClr val="000000"/>
                </a:solidFill>
                <a:latin typeface="Calibri"/>
                <a:ea typeface="ＭＳ Ｐゴシック"/>
              </a:rPr>
              <a:t>suç mudu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9E59B-51CF-4051-86A8-A1656BF841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2</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a:t>
            </a:r>
            <a:r>
              <a:rPr b="0" lang="tr-TR" sz="2800" spc="-1" strike="noStrike">
                <a:solidFill>
                  <a:srgbClr val="000000"/>
                </a:solidFill>
                <a:latin typeface="Calibri"/>
                <a:ea typeface="ＭＳ Ｐゴシック"/>
              </a:rPr>
              <a:t>cinsel olarak istismar edilen çocukların fotoğraflarını paylaşan özel bir internet grubunun üyesidir</a:t>
            </a:r>
            <a:r>
              <a:rPr b="0" lang="en-GB" sz="2800" spc="-1" strike="noStrike">
                <a:solidFill>
                  <a:srgbClr val="000000"/>
                </a:solidFill>
                <a:latin typeface="Calibri"/>
                <a:ea typeface="ＭＳ Ｐゴシック"/>
              </a:rPr>
              <a:t>.  Adam </a:t>
            </a:r>
            <a:r>
              <a:rPr b="0" lang="tr-TR" sz="2800" spc="-1" strike="noStrike">
                <a:solidFill>
                  <a:srgbClr val="000000"/>
                </a:solidFill>
                <a:latin typeface="Calibri"/>
                <a:ea typeface="ＭＳ Ｐゴシック"/>
              </a:rPr>
              <a:t>aynı zamanda bir </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eşler arası</a:t>
            </a:r>
            <a:r>
              <a:rPr b="0" lang="en-GB" sz="2800" spc="-1" strike="noStrike">
                <a:solidFill>
                  <a:srgbClr val="000000"/>
                </a:solidFill>
                <a:latin typeface="Calibri"/>
                <a:ea typeface="ＭＳ Ｐゴシック"/>
              </a:rPr>
              <a:t>” (peer to peer)</a:t>
            </a:r>
            <a:r>
              <a:rPr b="0" lang="tr-TR" sz="2800" spc="-1" strike="noStrike">
                <a:solidFill>
                  <a:srgbClr val="000000"/>
                </a:solidFill>
                <a:latin typeface="Calibri"/>
                <a:ea typeface="ＭＳ Ｐゴシック"/>
              </a:rPr>
              <a:t> dosya paylaşım grubunun da üyesid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internet grubundan edindiği istismar edilen çocuk fotoğraflarını bu “eşler arası” paylaşılan dosyalar içerisine koyarak, “eşler arası” ağdaki diğer kişiler açısından da erişilebilir kılar</a:t>
            </a:r>
            <a:r>
              <a:rPr b="0" lang="en-GB" sz="2800" spc="-1" strike="noStrike">
                <a:solidFill>
                  <a:srgbClr val="000000"/>
                </a:solidFill>
                <a:latin typeface="Calibri"/>
                <a:ea typeface="ＭＳ Ｐゴシック"/>
              </a:rPr>
              <a:t>.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Adam </a:t>
            </a:r>
            <a:r>
              <a:rPr b="0" i="1" lang="tr-TR" sz="2800" spc="-1" strike="noStrike">
                <a:solidFill>
                  <a:srgbClr val="000000"/>
                </a:solidFill>
                <a:latin typeface="Calibri"/>
                <a:ea typeface="ＭＳ Ｐゴシック"/>
              </a:rPr>
              <a:t>hangi suçları işlemişt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DF41E-1E93-4103-9284-C7E8850F1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3</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a:t>
            </a:r>
            <a:r>
              <a:rPr b="0" lang="tr-TR" sz="3200" spc="-1" strike="noStrike">
                <a:solidFill>
                  <a:srgbClr val="000000"/>
                </a:solidFill>
                <a:latin typeface="Calibri"/>
                <a:ea typeface="ＭＳ Ｐゴシック"/>
              </a:rPr>
              <a:t>Kamboçya dönüşü havaalanında yakalan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Dizüstü bilgisayarında Güneydoğu Asyalı olduğu anlaşılan çocuklarla cinsel ilişkiye girdiğini gösteren çok sayıda görsel bulunu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ill hakkında bu görüntülerle ilgili olarak kovuşturma başlatılabilir mi?</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4C363-FB05-4E55-8DE6-A387CA6F0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a:t>
            </a:r>
            <a:r>
              <a:rPr b="1" lang="tr-TR" sz="4000" spc="-1" strike="noStrike">
                <a:solidFill>
                  <a:srgbClr val="ff0000"/>
                </a:solidFill>
                <a:latin typeface="Calibri"/>
              </a:rPr>
              <a:t>haksız yere </a:t>
            </a:r>
            <a:r>
              <a:rPr b="0" lang="tr-TR" sz="2800" spc="-1" strike="noStrike">
                <a:solidFill>
                  <a:srgbClr val="000000"/>
                </a:solidFill>
                <a:latin typeface="Calibri"/>
              </a:rPr>
              <a:t>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ADE4751-10D9-423E-803D-193CD84198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4</a:t>
            </a:r>
            <a:endParaRPr b="0" lang="en-US" sz="4400" spc="-1" strike="noStrike">
              <a:solidFill>
                <a:srgbClr val="000000"/>
              </a:solidFill>
              <a:latin typeface="Calibri"/>
            </a:endParaRPr>
          </a:p>
        </p:txBody>
      </p:sp>
      <p:sp>
        <p:nvSpPr>
          <p:cNvPr id="469" name="PlaceHolder 2"/>
          <p:cNvSpPr>
            <a:spLocks noGrp="1"/>
          </p:cNvSpPr>
          <p:nvPr>
            <p:ph/>
          </p:nvPr>
        </p:nvSpPr>
        <p:spPr>
          <a:xfrm>
            <a:off x="457200" y="1082160"/>
            <a:ext cx="8229600" cy="4526280"/>
          </a:xfrm>
          <a:prstGeom prst="rect">
            <a:avLst/>
          </a:prstGeom>
          <a:noFill/>
          <a:ln w="0">
            <a:noFill/>
          </a:ln>
        </p:spPr>
        <p:txBody>
          <a:bodyPr anchor="t">
            <a:normAutofit fontScale="95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rPr>
              <a:t>WWW.Iuvfishin.com</a:t>
            </a:r>
            <a:r>
              <a:rPr b="0" lang="en-GB" sz="2200" spc="-1" strike="noStrike">
                <a:solidFill>
                  <a:srgbClr val="000000"/>
                </a:solidFill>
                <a:latin typeface="Calibri"/>
              </a:rPr>
              <a:t> </a:t>
            </a:r>
            <a:r>
              <a:rPr b="0" lang="tr-TR" sz="2200" spc="-1" strike="noStrike">
                <a:solidFill>
                  <a:srgbClr val="000000"/>
                </a:solidFill>
                <a:latin typeface="Calibri"/>
                <a:ea typeface="ＭＳ Ｐゴシック"/>
              </a:rPr>
              <a:t>oltayla balık avlama konusuyla ilgili bir web sitesid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Sitenin sunucusu ABD menşelidir. Sitenin sahipleri korsan saldırıya uğramış olduklarını ve site içerisine bin adet çocuk istismarı görüntüsü yüklenip yerleştirildiğini fark ed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Bu işlem, söz konusu görüntülerin sitenin sıradan kullanıcıları tarafından görülemeyeceği şekilde gerçekleştirilmişt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a:t>
            </a:r>
            <a:r>
              <a:rPr b="0" lang="en-GB" sz="2200" spc="-1" strike="noStrike">
                <a:solidFill>
                  <a:srgbClr val="000000"/>
                </a:solidFill>
                <a:latin typeface="Calibri"/>
                <a:ea typeface="ＭＳ Ｐゴシック"/>
              </a:rPr>
              <a:t>Site, fotoğraflar</a:t>
            </a:r>
            <a:r>
              <a:rPr b="0" lang="tr-TR" sz="2200" spc="-1" strike="noStrike">
                <a:solidFill>
                  <a:srgbClr val="000000"/>
                </a:solidFill>
                <a:latin typeface="Calibri"/>
                <a:ea typeface="ＭＳ Ｐゴシック"/>
              </a:rPr>
              <a:t>a</a:t>
            </a:r>
            <a:r>
              <a:rPr b="0" lang="en-GB" sz="2200" spc="-1" strike="noStrike">
                <a:solidFill>
                  <a:srgbClr val="000000"/>
                </a:solidFill>
                <a:latin typeface="Calibri"/>
                <a:ea typeface="ＭＳ Ｐゴシック"/>
              </a:rPr>
              <a:t> erişmiş olanların IP adreslerini kaydede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John’a ait görünen bir </a:t>
            </a:r>
            <a:r>
              <a:rPr b="0" lang="en-GB" sz="2200" spc="-1" strike="noStrike">
                <a:solidFill>
                  <a:srgbClr val="000000"/>
                </a:solidFill>
                <a:latin typeface="Calibri"/>
                <a:ea typeface="ＭＳ Ｐゴシック"/>
              </a:rPr>
              <a:t>IP adres</a:t>
            </a:r>
            <a:r>
              <a:rPr b="0" lang="tr-TR" sz="2200" spc="-1" strike="noStrike">
                <a:solidFill>
                  <a:srgbClr val="000000"/>
                </a:solidFill>
                <a:latin typeface="Calibri"/>
                <a:ea typeface="ＭＳ Ｐゴシック"/>
              </a:rPr>
              <a:t>i ülkenizde polis makamlarına iletilmiş bulunmaktadır. Polisler John’un adresinde arama yapıp, binlerce çocuk istismarı görseli içeren bilgisayarına el koyarla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İnternet geçmişine ve bu dosyalardaki verilere bakıldığında, görsellerin çoğunun internetten indirildiği açıkça anlaşılmaktadı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rPr>
              <a:t>John </a:t>
            </a:r>
            <a:r>
              <a:rPr b="0" i="1" lang="tr-TR" sz="2200" spc="-1" strike="noStrike">
                <a:solidFill>
                  <a:srgbClr val="000000"/>
                </a:solidFill>
                <a:latin typeface="Calibri"/>
                <a:ea typeface="ＭＳ Ｐゴシック"/>
              </a:rPr>
              <a:t>hangi suçları işlemiştir</a:t>
            </a:r>
            <a:r>
              <a:rPr b="0" i="1" lang="en-GB" sz="2200" spc="-1" strike="noStrike">
                <a:solidFill>
                  <a:srgbClr val="000000"/>
                </a:solidFill>
                <a:latin typeface="Calibri"/>
              </a:rPr>
              <a:t>?</a:t>
            </a:r>
            <a:endParaRPr b="0" lang="en-US" sz="2200" spc="-1" strike="noStrike">
              <a:solidFill>
                <a:srgbClr val="000000"/>
              </a:solidFill>
              <a:latin typeface="Calibri"/>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B0C35-6F94-42DD-9589-2F6F07F38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5</a:t>
            </a:r>
            <a:endParaRPr b="0" lang="en-US" sz="4400" spc="-1" strike="noStrike">
              <a:solidFill>
                <a:srgbClr val="000000"/>
              </a:solidFill>
              <a:latin typeface="Calibri"/>
            </a:endParaRPr>
          </a:p>
        </p:txBody>
      </p:sp>
      <p:sp>
        <p:nvSpPr>
          <p:cNvPr id="472" name="PlaceHolder 2"/>
          <p:cNvSpPr>
            <a:spLocks noGrp="1"/>
          </p:cNvSpPr>
          <p:nvPr>
            <p:ph/>
          </p:nvPr>
        </p:nvSpPr>
        <p:spPr>
          <a:xfrm>
            <a:off x="457200" y="1411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ABD’de polis,</a:t>
            </a:r>
            <a:r>
              <a:rPr b="0" lang="en-GB" sz="2400" spc="-1" strike="noStrike">
                <a:solidFill>
                  <a:srgbClr val="000000"/>
                </a:solidFill>
                <a:latin typeface="Calibri"/>
                <a:ea typeface="ＭＳ Ｐゴシック"/>
              </a:rPr>
              <a:t> aylık bir abonelik </a:t>
            </a:r>
            <a:r>
              <a:rPr b="0" lang="tr-TR" sz="2400" spc="-1" strike="noStrike">
                <a:solidFill>
                  <a:srgbClr val="000000"/>
                </a:solidFill>
                <a:latin typeface="Calibri"/>
                <a:ea typeface="ＭＳ Ｐゴシック"/>
              </a:rPr>
              <a:t>ücreti </a:t>
            </a:r>
            <a:r>
              <a:rPr b="0" lang="en-GB" sz="2400" spc="-1" strike="noStrike">
                <a:solidFill>
                  <a:srgbClr val="000000"/>
                </a:solidFill>
                <a:latin typeface="Calibri"/>
                <a:ea typeface="ＭＳ Ｐゴシック"/>
              </a:rPr>
              <a:t>öde</a:t>
            </a:r>
            <a:r>
              <a:rPr b="0" lang="tr-TR" sz="2400" spc="-1" strike="noStrike">
                <a:solidFill>
                  <a:srgbClr val="000000"/>
                </a:solidFill>
                <a:latin typeface="Calibri"/>
                <a:ea typeface="ＭＳ Ｐゴシック"/>
              </a:rPr>
              <a:t>yenlere </a:t>
            </a:r>
            <a:r>
              <a:rPr b="0" lang="en-GB" sz="2400" spc="-1" strike="noStrike">
                <a:solidFill>
                  <a:srgbClr val="000000"/>
                </a:solidFill>
                <a:latin typeface="Calibri"/>
                <a:ea typeface="ＭＳ Ｐゴシック"/>
              </a:rPr>
              <a:t>çocuk istismarı görselleri temin eden siteleri barındıran bir </a:t>
            </a:r>
            <a:r>
              <a:rPr b="0" lang="tr-TR" sz="2400" spc="-1" strike="noStrike">
                <a:solidFill>
                  <a:srgbClr val="000000"/>
                </a:solidFill>
                <a:latin typeface="Calibri"/>
                <a:ea typeface="ＭＳ Ｐゴシック"/>
              </a:rPr>
              <a:t>internet</a:t>
            </a:r>
            <a:r>
              <a:rPr b="0" lang="en-GB" sz="2400" spc="-1" strike="noStrike">
                <a:solidFill>
                  <a:srgbClr val="000000"/>
                </a:solidFill>
                <a:latin typeface="Calibri"/>
                <a:ea typeface="ＭＳ Ｐゴシック"/>
              </a:rPr>
              <a:t> sitesi</a:t>
            </a:r>
            <a:r>
              <a:rPr b="0" lang="tr-TR" sz="2400" spc="-1" strike="noStrike">
                <a:solidFill>
                  <a:srgbClr val="000000"/>
                </a:solidFill>
                <a:latin typeface="Calibri"/>
                <a:ea typeface="ＭＳ Ｐゴシック"/>
              </a:rPr>
              <a:t>ni kapatmışt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ABD makamları erişim için ödeme yapan kişilerin IP adresi, kredi kartı numarası, e-posta adresi, fatura adresi ve şifre dahil bilgilerini elde etmişt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müşterilerden biri de</a:t>
            </a:r>
            <a:r>
              <a:rPr b="0" lang="en-GB" sz="2400" spc="-1" strike="noStrike">
                <a:solidFill>
                  <a:srgbClr val="000000"/>
                </a:solidFill>
                <a:latin typeface="Calibri"/>
                <a:ea typeface="ＭＳ Ｐゴシック"/>
              </a:rPr>
              <a:t> Oswald</a:t>
            </a:r>
            <a:r>
              <a:rPr b="0" lang="tr-TR" sz="2400" spc="-1" strike="noStrike">
                <a:solidFill>
                  <a:srgbClr val="000000"/>
                </a:solidFill>
                <a:latin typeface="Calibri"/>
                <a:ea typeface="ＭＳ Ｐゴシック"/>
              </a:rPr>
              <a:t>’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 Arama emri alınıp bilgisayarı incelenmiştir. Oswald “Delil Giderme” adı verilen bir program kullandığından itham edici hiçbir şey bulunamamıştır.</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Oswald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4036C-30D8-4EDE-9349-7545FEBC5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5"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4B8E6-A82C-4461-9019-42C3A2738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ölüm Dört</a:t>
            </a:r>
            <a:br>
              <a:rPr sz="4000"/>
            </a:br>
            <a:r>
              <a:rPr b="1" lang="en-GB" sz="4000" spc="-1" strike="noStrike">
                <a:solidFill>
                  <a:srgbClr val="000000"/>
                </a:solidFill>
                <a:latin typeface="Calibri"/>
              </a:rPr>
              <a:t>Özet</a:t>
            </a:r>
            <a:br>
              <a:rPr sz="4000"/>
            </a:br>
            <a:endParaRPr b="0" lang="en-US" sz="4000" spc="-1" strike="noStrike">
              <a:solidFill>
                <a:srgbClr val="000000"/>
              </a:solidFill>
              <a:latin typeface="Calibri"/>
            </a:endParaRPr>
          </a:p>
        </p:txBody>
      </p:sp>
      <p:pic>
        <p:nvPicPr>
          <p:cNvPr id="478" name="Picture 3" descr=""/>
          <p:cNvPicPr/>
          <p:nvPr/>
        </p:nvPicPr>
        <p:blipFill>
          <a:blip r:embed="rId1"/>
          <a:stretch/>
        </p:blipFill>
        <p:spPr>
          <a:xfrm>
            <a:off x="6786720" y="4643280"/>
            <a:ext cx="1962000" cy="1766880"/>
          </a:xfrm>
          <a:prstGeom prst="rect">
            <a:avLst/>
          </a:prstGeom>
          <a:ln w="0">
            <a:noFill/>
          </a:ln>
        </p:spPr>
      </p:pic>
      <p:sp>
        <p:nvSpPr>
          <p:cNvPr id="4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D0815-2A30-44F0-BBC7-6BF5E6AA93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Özet</a:t>
            </a:r>
            <a:endParaRPr b="0" lang="en-US" sz="4400" spc="-1" strike="noStrike">
              <a:solidFill>
                <a:srgbClr val="000000"/>
              </a:solidFill>
              <a:latin typeface="Calibri"/>
            </a:endParaRPr>
          </a:p>
        </p:txBody>
      </p:sp>
      <p:sp>
        <p:nvSpPr>
          <p:cNvPr id="481"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 oturumun sonunda katılımcıl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F43F8-6214-411D-AC7E-A2D218AD3F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4" name="TextBox 3"/>
          <p:cNvSpPr/>
          <p:nvPr/>
        </p:nvSpPr>
        <p:spPr>
          <a:xfrm>
            <a:off x="35251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A5178-52C8-46DC-AA46-74CB706C1C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95"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Yasamayla ilgili, yürütmeyle ilgili, idari, yargısal, akdi veya karşılıklı mutabakata dayanan bir yetki olmaksızın erişmek</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Şunlar suç sayılmamaktadır:</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Bilgisayar sisteminin veya bir kısmının sahibi/hak sahibi tarafından izin verilen erişim</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Kamuoyunun serbest ve açık erişimine imkân tanıyan bilgisayar sistemlerine erişim</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47E7A3C-DC55-4FED-8EBA-CE76FF031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512136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a:t>
            </a:r>
            <a:r>
              <a:rPr b="1" lang="tr-TR" sz="3500" spc="-1" strike="noStrike">
                <a:solidFill>
                  <a:srgbClr val="ff0000"/>
                </a:solidFill>
                <a:latin typeface="Calibri"/>
              </a:rPr>
              <a:t>bilgisayar verilerini elde etmek veya başka bir sahtekâr niyetle</a:t>
            </a:r>
            <a:r>
              <a:rPr b="1" lang="tr-TR" sz="4000" spc="-1" strike="noStrike">
                <a:solidFill>
                  <a:srgbClr val="ff0000"/>
                </a:solidFill>
                <a:latin typeface="Calibri"/>
              </a:rPr>
              <a:t> </a:t>
            </a:r>
            <a:r>
              <a:rPr b="0" lang="tr-TR" sz="2800" spc="-1" strike="noStrike">
                <a:solidFill>
                  <a:srgbClr val="000000"/>
                </a:solidFill>
                <a:latin typeface="Calibri"/>
              </a:rPr>
              <a:t>veya bir </a:t>
            </a:r>
            <a:r>
              <a:rPr b="1" lang="tr-TR" sz="3500" spc="-1" strike="noStrike">
                <a:solidFill>
                  <a:srgbClr val="ff0000"/>
                </a:solidFill>
                <a:latin typeface="Calibri"/>
              </a:rPr>
              <a:t>bilgisayar sistemine bağlı başka bir bilgisayar sistemiyle ilişkili olarak güvenlik tedbirlerinin ihlal edilmesi </a:t>
            </a:r>
            <a:r>
              <a:rPr b="0" lang="tr-TR" sz="2800" spc="-1" strike="noStrike">
                <a:solidFill>
                  <a:srgbClr val="000000"/>
                </a:solidFill>
                <a:latin typeface="Calibri"/>
              </a:rPr>
              <a:t>suretiyle işlenmiş olmasını şart koşabilir. </a:t>
            </a:r>
            <a:endParaRPr b="0" lang="en-US" sz="2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7590DB-D23F-457D-A9A4-DE8127308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01"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 bilgisayar sisteminin tamamına veya bir kısmına haksız yere kasıtlı erişimin suç sayılmasını aşağıdaki niteleyici öğelerle sınırlayabilir: </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Güvenlik tedbirlerinin çiğnenmes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verilerinin elde edilmesi niyet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Sahtekâr niye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aşka bir bilgisayar sistemine bağlı bir bilgisayar sistemiyle ilişkili olmak</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013497-0A92-4318-8853-46555C4011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758520"/>
            <a:ext cx="8229600" cy="5597640"/>
          </a:xfrm>
          <a:prstGeom prst="rect">
            <a:avLst/>
          </a:prstGeom>
          <a:noFill/>
          <a:ln w="38160">
            <a:solidFill>
              <a:srgbClr val="ff0000"/>
            </a:solidFill>
            <a:miter/>
          </a:ln>
        </p:spPr>
        <p:txBody>
          <a:bodyPr anchor="t">
            <a:normAutofit fontScale="96000"/>
          </a:bodyPr>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Yasadışı Ele Geçirme</a:t>
            </a: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3 – Budapeşte Sözleşmesi)</a:t>
            </a:r>
            <a:endParaRPr b="0" lang="en-US" sz="3200" spc="-1" strike="noStrike">
              <a:solidFill>
                <a:srgbClr val="000000"/>
              </a:solidFill>
              <a:latin typeface="Calibri"/>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ve haksız yere</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in umuma kapalı olarak iletimi esnasında teknik yöntemler kullanılarak ele geçirmek</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e, bir bilgisayar sisteminden veya bir bilgisayar sisteminin kendi içinde</a:t>
            </a:r>
            <a:endParaRPr b="0" lang="en-US" sz="3200" spc="-1" strike="noStrike">
              <a:solidFill>
                <a:srgbClr val="000000"/>
              </a:solidFill>
              <a:latin typeface="Calibri"/>
            </a:endParaRPr>
          </a:p>
          <a:p>
            <a:pPr marL="3290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C771C-D1BE-4193-8CEE-3308E3008E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6" name="PlaceHolder 2"/>
          <p:cNvSpPr>
            <a:spLocks noGrp="1"/>
          </p:cNvSpPr>
          <p:nvPr>
            <p:ph/>
          </p:nvPr>
        </p:nvSpPr>
        <p:spPr>
          <a:xfrm>
            <a:off x="457200" y="1417320"/>
            <a:ext cx="8229600" cy="514332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87437-8619-4A1A-A238-15A04C388A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Gündem</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Bir</a:t>
            </a:r>
            <a:br>
              <a:rPr sz="2600"/>
            </a:br>
            <a:r>
              <a:rPr b="0" lang="en-US" sz="2600" spc="-1" strike="noStrike">
                <a:solidFill>
                  <a:srgbClr val="000000"/>
                </a:solidFill>
                <a:latin typeface="Calibri"/>
                <a:ea typeface="ＭＳ Ｐゴシック"/>
              </a:rPr>
              <a:t>Budape</a:t>
            </a:r>
            <a:r>
              <a:rPr b="0" lang="tr-TR" sz="2600" spc="-1" strike="noStrike">
                <a:solidFill>
                  <a:srgbClr val="000000"/>
                </a:solidFill>
                <a:latin typeface="Calibri"/>
                <a:ea typeface="ＭＳ Ｐゴシック"/>
              </a:rPr>
              <a:t>şte Sanal Suç Sözleşmesi</a:t>
            </a:r>
            <a:r>
              <a:rPr b="0" lang="en-US" sz="2600" spc="-1" strike="noStrike">
                <a:solidFill>
                  <a:srgbClr val="000000"/>
                </a:solidFill>
                <a:latin typeface="Calibri"/>
                <a:ea typeface="ＭＳ Ｐゴシック"/>
              </a:rPr>
              <a:t> -</a:t>
            </a:r>
            <a:br>
              <a:rPr sz="2600"/>
            </a:br>
            <a:r>
              <a:rPr b="0" lang="tr-TR" sz="2600" spc="-1" strike="noStrike">
                <a:solidFill>
                  <a:srgbClr val="000000"/>
                </a:solidFill>
                <a:latin typeface="Calibri"/>
                <a:ea typeface="ＭＳ Ｐゴシック"/>
              </a:rPr>
              <a:t>Maddi Ceza Hukuk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İki</a:t>
            </a:r>
            <a:br>
              <a:rPr sz="2600"/>
            </a:br>
            <a:r>
              <a:rPr b="0" lang="tr-TR" sz="2600" spc="-1" strike="noStrike">
                <a:solidFill>
                  <a:srgbClr val="000000"/>
                </a:solidFill>
                <a:latin typeface="Calibri"/>
                <a:ea typeface="ＭＳ Ｐゴシック"/>
              </a:rPr>
              <a:t>Vaka Çalışmaları</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Üç</a:t>
            </a:r>
            <a:br>
              <a:rPr sz="2600"/>
            </a:br>
            <a:r>
              <a:rPr b="0" lang="tr-TR" sz="2600" spc="-1" strike="noStrike">
                <a:solidFill>
                  <a:srgbClr val="000000"/>
                </a:solidFill>
                <a:latin typeface="Calibri"/>
                <a:ea typeface="ＭＳ Ｐゴシック"/>
              </a:rPr>
              <a:t>Öz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9" name="PlaceHolder 2"/>
          <p:cNvSpPr>
            <a:spLocks noGrp="1"/>
          </p:cNvSpPr>
          <p:nvPr>
            <p:ph/>
          </p:nvPr>
        </p:nvSpPr>
        <p:spPr>
          <a:xfrm>
            <a:off x="457200" y="1417320"/>
            <a:ext cx="8229600" cy="530388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a:t>
            </a:r>
            <a:r>
              <a:rPr b="1" lang="tr-TR" sz="4000" spc="-1" strike="noStrike">
                <a:solidFill>
                  <a:srgbClr val="ff0000"/>
                </a:solidFill>
                <a:latin typeface="Calibri"/>
              </a:rPr>
              <a:t>ele geçirme </a:t>
            </a:r>
            <a:r>
              <a:rPr b="0" lang="tr-TR" sz="2800" spc="-1" strike="noStrike">
                <a:solidFill>
                  <a:srgbClr val="000000"/>
                </a:solidFill>
                <a:latin typeface="Calibri"/>
              </a:rPr>
              <a:t>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3D1833-3819-4D0E-88EA-C868C81CFD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 Geçirme</a:t>
            </a:r>
            <a:endParaRPr b="0" lang="en-US" sz="4400" spc="-1" strike="noStrike">
              <a:solidFill>
                <a:srgbClr val="000000"/>
              </a:solidFill>
              <a:latin typeface="Calibri"/>
            </a:endParaRPr>
          </a:p>
        </p:txBody>
      </p:sp>
      <p:sp>
        <p:nvSpPr>
          <p:cNvPr id="112" name="PlaceHolder 2"/>
          <p:cNvSpPr>
            <a:spLocks noGrp="1"/>
          </p:cNvSpPr>
          <p:nvPr>
            <p:ph/>
          </p:nvPr>
        </p:nvSpPr>
        <p:spPr>
          <a:xfrm>
            <a:off x="457200" y="1698120"/>
            <a:ext cx="8229600" cy="4658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le geçirme haberleşmelerin dinlenmesi, izlenmesi veya takibi anlamına gelir.</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Bu hüküm veri haberleşmelerinin gizliliğini korumayı amaçl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özlü telefon konuşmalarının geleneksel yöntemlerle dinlenmesi ve kaydedilmesi işleminin bilgisayar verilerinin iletimi açısından muadilleriyle mücadele ede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510EE6F-FF45-4D89-B1E8-51EB1C184E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15" name="PlaceHolder 2"/>
          <p:cNvSpPr>
            <a:spLocks noGrp="1"/>
          </p:cNvSpPr>
          <p:nvPr>
            <p:ph/>
          </p:nvPr>
        </p:nvSpPr>
        <p:spPr>
          <a:xfrm>
            <a:off x="457200" y="1417680"/>
            <a:ext cx="8229600" cy="485280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a:t>
            </a:r>
            <a:r>
              <a:rPr b="1" lang="tr-TR" sz="4000" spc="-1" strike="noStrike">
                <a:solidFill>
                  <a:srgbClr val="ff0000"/>
                </a:solidFill>
                <a:latin typeface="Calibri"/>
              </a:rPr>
              <a:t>haksız yere </a:t>
            </a:r>
            <a:r>
              <a:rPr b="0" lang="tr-TR" sz="2800" spc="-1" strike="noStrike">
                <a:solidFill>
                  <a:srgbClr val="000000"/>
                </a:solidFill>
                <a:latin typeface="Calibri"/>
              </a:rPr>
              <a:t>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811F0A7-8200-499B-8F08-5FA466D7D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18"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Ele geçiren kişinin buna hakkı olan durumlarda geçerli değildi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Ele geçiren kişiye iletimin katılımcıları tarafından şu hususlarda talimat veya yetki verilmesi halin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izinli denem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koruma faaliyetle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Web sitelerinde çerezler kullanılmas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şağıda belirtilen amaçlar doğrultusunda hukuken yetkili kılınmış kolluk makamlarının ele geçirme faaliyetleri: </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Ulusal güvenlik</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Suçların tespiti</a:t>
            </a:r>
            <a:endParaRPr b="0" lang="en-US" sz="2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8D1837-E957-4679-A570-37A97F7AA8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1" name="PlaceHolder 2"/>
          <p:cNvSpPr>
            <a:spLocks noGrp="1"/>
          </p:cNvSpPr>
          <p:nvPr>
            <p:ph/>
          </p:nvPr>
        </p:nvSpPr>
        <p:spPr>
          <a:xfrm>
            <a:off x="457200" y="1188720"/>
            <a:ext cx="8229600" cy="508140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a:t>
            </a:r>
            <a:r>
              <a:rPr b="1" lang="tr-TR" sz="3500" spc="-1" strike="noStrike">
                <a:solidFill>
                  <a:srgbClr val="ff0000"/>
                </a:solidFill>
                <a:latin typeface="Calibri"/>
              </a:rPr>
              <a:t>teknik yöntemler kullanılarak </a:t>
            </a:r>
            <a:r>
              <a:rPr b="0" lang="tr-TR" sz="2800" spc="-1" strike="noStrike">
                <a:solidFill>
                  <a:srgbClr val="000000"/>
                </a:solidFill>
                <a:latin typeface="Calibri"/>
              </a:rPr>
              <a:t>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3BBAE81-E3BB-46F2-AC5D-A823BF51A9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knik yöntemler</a:t>
            </a:r>
            <a:endParaRPr b="0" lang="en-US" sz="4400" spc="-1" strike="noStrike">
              <a:solidFill>
                <a:srgbClr val="000000"/>
              </a:solidFill>
              <a:latin typeface="Calibri"/>
            </a:endParaRPr>
          </a:p>
        </p:txBody>
      </p:sp>
      <p:sp>
        <p:nvSpPr>
          <p:cNvPr id="124"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angi yollarla:</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ilgisayar sistemine erişim ve bu sistemin kullanımı; ya d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lektronik gizli dinleme veya dinleme cihazlarının kullanımı</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eleri içerebil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yda alm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letim hatlarına uyarlanmış teknik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blosuz haberleşmelerin toplanması ve kaydedilmesine ilişkin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Yazılım, şifre ve kodların kullanımı</a:t>
            </a:r>
            <a:endParaRPr b="0" lang="en-US" sz="2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9FA1C41-BB4C-4D5B-85E3-B110A847F4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235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7" name="PlaceHolder 2"/>
          <p:cNvSpPr>
            <a:spLocks noGrp="1"/>
          </p:cNvSpPr>
          <p:nvPr>
            <p:ph/>
          </p:nvPr>
        </p:nvSpPr>
        <p:spPr>
          <a:xfrm>
            <a:off x="457200" y="1028520"/>
            <a:ext cx="8229600" cy="569268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a:t>
            </a:r>
            <a:r>
              <a:rPr b="1" lang="tr-TR" sz="4000" spc="-1" strike="noStrike">
                <a:solidFill>
                  <a:srgbClr val="ff0000"/>
                </a:solidFill>
                <a:latin typeface="Calibri"/>
              </a:rPr>
              <a:t>umuma kapalı olarak </a:t>
            </a:r>
            <a:r>
              <a:rPr b="0" lang="tr-TR" sz="2800" spc="-1" strike="noStrike">
                <a:solidFill>
                  <a:srgbClr val="000000"/>
                </a:solidFill>
                <a:latin typeface="Calibri"/>
              </a:rPr>
              <a:t>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254514-288A-41FF-AAB8-B388EE37A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muma kapalı iletimler</a:t>
            </a:r>
            <a:endParaRPr b="0" lang="en-US" sz="4400" spc="-1" strike="noStrike">
              <a:solidFill>
                <a:srgbClr val="000000"/>
              </a:solidFill>
              <a:latin typeface="Calibri"/>
            </a:endParaRPr>
          </a:p>
        </p:txBody>
      </p:sp>
      <p:sp>
        <p:nvSpPr>
          <p:cNvPr id="130"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veriler değil, umuma kapalı iletimler açısından ele geçirilmesi suç sayılır.</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i ağlar üzerinden yapılan haberleşmeleri sırf bu sebeple kapsam dışında bırakmaz.</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iletimler aracılığıyla iletilen kamusal bilgileri de kapsayabilir.</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CF70B22-FF71-4A48-826F-C4BBA528A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3" name="PlaceHolder 2"/>
          <p:cNvSpPr>
            <a:spLocks noGrp="1"/>
          </p:cNvSpPr>
          <p:nvPr>
            <p:ph/>
          </p:nvPr>
        </p:nvSpPr>
        <p:spPr>
          <a:xfrm>
            <a:off x="457200" y="867960"/>
            <a:ext cx="8229600" cy="5219640"/>
          </a:xfrm>
          <a:prstGeom prst="rect">
            <a:avLst/>
          </a:prstGeom>
          <a:noFill/>
          <a:ln w="0">
            <a:noFill/>
          </a:ln>
        </p:spPr>
        <p:txBody>
          <a:bodyPr anchor="t">
            <a:normAutofit fontScale="95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a:t>
            </a:r>
            <a:r>
              <a:rPr b="1" lang="tr-TR" sz="3500" spc="-1" strike="noStrike">
                <a:solidFill>
                  <a:srgbClr val="ff0000"/>
                </a:solidFill>
                <a:latin typeface="Calibri"/>
              </a:rPr>
              <a:t>bir bilgisayar sisteminden diğer bir bilgisayar sistemine veya bir bilgisayar sisteminin kendi içinde </a:t>
            </a:r>
            <a:r>
              <a:rPr b="0" lang="tr-TR" sz="2800" spc="-1" strike="noStrike">
                <a:solidFill>
                  <a:srgbClr val="000000"/>
                </a:solidFill>
                <a:latin typeface="Calibri"/>
              </a:rPr>
              <a:t>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D1353FA-8B30-4400-8A1C-48E076AE7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ir bilgisayar sistemine, bir bilgisayar sisteminden veya bir bilgisayar sisteminin kendi içinde</a:t>
            </a:r>
            <a:endParaRPr b="0" lang="en-US" sz="4000" spc="-1" strike="noStrike">
              <a:solidFill>
                <a:srgbClr val="000000"/>
              </a:solidFill>
              <a:latin typeface="Calibri"/>
            </a:endParaRPr>
          </a:p>
        </p:txBody>
      </p:sp>
      <p:sp>
        <p:nvSpPr>
          <p:cNvPr id="136"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kişiden klavyey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den</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bir bilgisayar sisteminden başka bir bilgisayar sistemin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in kendi içinde: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işlemciden yazıcıya akan iletiml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D5BF127-D9BC-4191-9B76-EB967D7E71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ea typeface="ＭＳ Ｐゴシック"/>
              </a:rPr>
              <a:t>Oturum</a:t>
            </a:r>
            <a:r>
              <a:rPr b="1" lang="tr-TR" sz="4400" spc="-1" strike="noStrike">
                <a:solidFill>
                  <a:srgbClr val="000000"/>
                </a:solidFill>
                <a:latin typeface="Calibri"/>
                <a:ea typeface="ＭＳ Ｐゴシック"/>
              </a:rPr>
              <a:t>un Hedefleri</a:t>
            </a:r>
            <a:endParaRPr b="0" lang="en-US" sz="4400" spc="-1" strike="noStrike">
              <a:solidFill>
                <a:srgbClr val="000000"/>
              </a:solidFill>
              <a:latin typeface="Calibri"/>
            </a:endParaRPr>
          </a:p>
        </p:txBody>
      </p:sp>
      <p:sp>
        <p:nvSpPr>
          <p:cNvPr id="58" name="Content Placeholder 2"/>
          <p:cNvSpPr/>
          <p:nvPr/>
        </p:nvSpPr>
        <p:spPr>
          <a:xfrm>
            <a:off x="457200" y="1047600"/>
            <a:ext cx="8512200" cy="526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 oturumun sonunda katılımcılar</a:t>
            </a:r>
            <a:r>
              <a:rPr b="0" lang="en-GB"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9" name="PlaceHolder 2"/>
          <p:cNvSpPr>
            <a:spLocks noGrp="1"/>
          </p:cNvSpPr>
          <p:nvPr>
            <p:ph/>
          </p:nvPr>
        </p:nvSpPr>
        <p:spPr>
          <a:xfrm>
            <a:off x="457200" y="1417680"/>
            <a:ext cx="8229600" cy="485280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a:t>
            </a:r>
            <a:r>
              <a:rPr b="0" lang="tr-TR" sz="3400" spc="-1" strike="noStrike">
                <a:solidFill>
                  <a:srgbClr val="ff0000"/>
                </a:solidFill>
                <a:latin typeface="Calibri"/>
              </a:rPr>
              <a:t>elektromanyetik dalgalarla yayılma</a:t>
            </a:r>
            <a:r>
              <a:rPr b="0" lang="tr-TR" sz="2800" spc="-1" strike="noStrike">
                <a:solidFill>
                  <a:srgbClr val="000000"/>
                </a:solidFill>
                <a:latin typeface="Calibri"/>
              </a:rPr>
              <a:t>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AAA8B1-5E18-4EC1-9D4B-642B2F201F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ktromanyetik dalgalarla yayılma</a:t>
            </a:r>
            <a:endParaRPr b="0" lang="en-US" sz="4400" spc="-1" strike="noStrike">
              <a:solidFill>
                <a:srgbClr val="000000"/>
              </a:solidFill>
              <a:latin typeface="Calibri"/>
            </a:endParaRPr>
          </a:p>
        </p:txBody>
      </p:sp>
      <p:sp>
        <p:nvSpPr>
          <p:cNvPr id="142" name="PlaceHolder 2"/>
          <p:cNvSpPr>
            <a:spLocks noGrp="1"/>
          </p:cNvSpPr>
          <p:nvPr>
            <p:ph/>
          </p:nvPr>
        </p:nvSpPr>
        <p:spPr>
          <a:xfrm>
            <a:off x="457200" y="1544760"/>
            <a:ext cx="8229600" cy="517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ha geniş bir kapsam sağlamak amacıyla eklenmişt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sistemleri faaliyetleri sırasında elektromanyetik dalgalar yollaya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yılan dalgalar Budapeşte Sözleşmesi’nin bilgisayar verileri tanımı kapsamına girmez. </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Veriler yayılan bu dalgalardan alınarak yeniden düzenlene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ni elektromanyetik dalgaların yayılması esnasında ele geçirme de bu suç dahilinde sayılır. </a:t>
            </a:r>
            <a:endParaRPr b="0" lang="en-US" sz="28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5C50BF9-2087-4447-A041-061EC7DD86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45" name="PlaceHolder 2"/>
          <p:cNvSpPr>
            <a:spLocks noGrp="1"/>
          </p:cNvSpPr>
          <p:nvPr>
            <p:ph/>
          </p:nvPr>
        </p:nvSpPr>
        <p:spPr>
          <a:xfrm>
            <a:off x="457200" y="937800"/>
            <a:ext cx="8229600" cy="485316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a:t>
            </a:r>
            <a:r>
              <a:rPr b="1" lang="tr-TR" sz="3500" spc="-1" strike="noStrike">
                <a:solidFill>
                  <a:srgbClr val="ff0000"/>
                </a:solidFill>
                <a:latin typeface="Calibri"/>
              </a:rPr>
              <a:t>sahtekârlığa yönelik </a:t>
            </a:r>
            <a:r>
              <a:rPr b="0" lang="tr-TR" sz="2800" spc="-1" strike="noStrike">
                <a:solidFill>
                  <a:srgbClr val="000000"/>
                </a:solidFill>
                <a:latin typeface="Calibri"/>
              </a:rPr>
              <a:t>veya </a:t>
            </a:r>
            <a:r>
              <a:rPr b="1" lang="tr-TR" sz="3500" spc="-1" strike="noStrike">
                <a:solidFill>
                  <a:srgbClr val="ff0000"/>
                </a:solidFill>
                <a:latin typeface="Calibri"/>
              </a:rPr>
              <a:t>başka bir bilgisayar sistemine bağlı bir bilgisayar sistemiyle ilişkili olarak</a:t>
            </a:r>
            <a:r>
              <a:rPr b="0" lang="tr-TR" sz="2800" spc="-1" strike="noStrike">
                <a:solidFill>
                  <a:srgbClr val="000000"/>
                </a:solidFill>
                <a:latin typeface="Calibri"/>
              </a:rPr>
              <a:t> işlenmiş olmasını şart koşabilir.</a:t>
            </a:r>
            <a:endParaRPr b="0" lang="en-US" sz="28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E2198E-7574-4E0B-847C-251F68846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48"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Taraflar kasıtlı yetkisiz ele geçirme suçunu şu niteleyici öğelerle sınırlandırabilir: </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Sahtekârlık niyeti</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Başka bir sisteme bağlı bir bilgisayar sistemiyle ilişkili olmak</a:t>
            </a:r>
            <a:endParaRPr b="0" lang="en-US" sz="30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B958D55-F2D8-4B7B-9A04-7179B36F8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Veriler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4 – Budapeşte Sözleşmesi)</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e zarar verilmesi, verilerin silinmesi, tahrip edilmesi, değiştirilmesi veya engellenmesi</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13E73-1F2A-4474-B74A-F6F56716F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3"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19FA8-E4C2-4BFD-AB8A-DFEC7E260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6"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a:t>
            </a:r>
            <a:r>
              <a:rPr b="1" lang="tr-TR" sz="4000" spc="-1" strike="noStrike">
                <a:solidFill>
                  <a:srgbClr val="ff0000"/>
                </a:solidFill>
                <a:latin typeface="Calibri"/>
              </a:rPr>
              <a:t>zarar verilmesi</a:t>
            </a:r>
            <a:r>
              <a:rPr b="0" lang="tr-TR" sz="2800" spc="-1" strike="noStrike">
                <a:solidFill>
                  <a:srgbClr val="000000"/>
                </a:solidFill>
                <a:latin typeface="Calibri"/>
              </a:rPr>
              <a:t>, verilerin silinmesi, </a:t>
            </a:r>
            <a:r>
              <a:rPr b="1" lang="tr-TR" sz="4000" spc="-1" strike="noStrike">
                <a:solidFill>
                  <a:srgbClr val="ff0000"/>
                </a:solidFill>
                <a:latin typeface="Calibri"/>
              </a:rPr>
              <a:t>tahrip edilmesi</a:t>
            </a:r>
            <a:r>
              <a:rPr b="0" lang="tr-TR" sz="2800" spc="-1" strike="noStrike">
                <a:solidFill>
                  <a:srgbClr val="000000"/>
                </a:solidFill>
                <a:latin typeface="Calibri"/>
              </a:rPr>
              <a:t>,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BB7C74D-219A-4DAD-80DF-012295D0C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Zarar, tahrip</a:t>
            </a:r>
            <a:endParaRPr b="0" lang="en-US" sz="4400" spc="-1" strike="noStrike">
              <a:solidFill>
                <a:srgbClr val="000000"/>
              </a:solidFill>
              <a:latin typeface="Calibri"/>
            </a:endParaRPr>
          </a:p>
        </p:txBody>
      </p:sp>
      <p:sp>
        <p:nvSpPr>
          <p:cNvPr id="159"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Zarar ve tahrip birbirini içeren eyleml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Veri ve programların:</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ütünlüğünü; veya</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 içeriğini</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lumsuz yönde değiştirir. </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9CCBE9-15E3-41B6-891A-AC3AD0CCB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2"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a:t>
            </a:r>
            <a:r>
              <a:rPr b="1" lang="tr-TR" sz="4000" spc="-1" strike="noStrike">
                <a:solidFill>
                  <a:srgbClr val="ff0000"/>
                </a:solidFill>
                <a:latin typeface="Calibri"/>
              </a:rPr>
              <a:t>silinmesi</a:t>
            </a:r>
            <a:r>
              <a:rPr b="0" lang="tr-TR" sz="2800" spc="-1" strike="noStrike">
                <a:solidFill>
                  <a:srgbClr val="000000"/>
                </a:solidFill>
                <a:latin typeface="Calibri"/>
              </a:rPr>
              <a:t>,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7C3224-2811-4594-B567-D82805D6E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ilinme</a:t>
            </a:r>
            <a:endParaRPr b="0" lang="en-US" sz="4400" spc="-1" strike="noStrike">
              <a:solidFill>
                <a:srgbClr val="000000"/>
              </a:solidFill>
              <a:latin typeface="Calibri"/>
            </a:endParaRPr>
          </a:p>
        </p:txBody>
      </p:sp>
      <p:sp>
        <p:nvSpPr>
          <p:cNvPr id="165"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ilinmesi cismani bir şeyin imhasına eşdeğ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ortadan kaldırı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tanınmaz hale getir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A2649C5-2E25-4967-A86A-040C2C4DF4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ea typeface="ＭＳ Ｐゴシック"/>
              </a:rPr>
              <a:t>Bölüm Bir</a:t>
            </a:r>
            <a:br>
              <a:rPr sz="4000"/>
            </a:br>
            <a:r>
              <a:rPr b="1" lang="en-GB" sz="4000" spc="-1" strike="noStrike">
                <a:solidFill>
                  <a:srgbClr val="000000"/>
                </a:solidFill>
                <a:latin typeface="Calibri"/>
                <a:ea typeface="ＭＳ Ｐゴシック"/>
              </a:rPr>
              <a:t>Budape</a:t>
            </a:r>
            <a:r>
              <a:rPr b="1" lang="tr-TR" sz="4000" spc="-1" strike="noStrike">
                <a:solidFill>
                  <a:srgbClr val="000000"/>
                </a:solidFill>
                <a:latin typeface="Calibri"/>
                <a:ea typeface="ＭＳ Ｐゴシック"/>
              </a:rPr>
              <a:t>ş</a:t>
            </a:r>
            <a:r>
              <a:rPr b="1" lang="en-GB" sz="4000" spc="-1" strike="noStrike">
                <a:solidFill>
                  <a:srgbClr val="000000"/>
                </a:solidFill>
                <a:latin typeface="Calibri"/>
                <a:ea typeface="ＭＳ Ｐゴシック"/>
              </a:rPr>
              <a:t>t</a:t>
            </a:r>
            <a:r>
              <a:rPr b="1" lang="tr-TR" sz="4000" spc="-1" strike="noStrike">
                <a:solidFill>
                  <a:srgbClr val="000000"/>
                </a:solidFill>
                <a:latin typeface="Calibri"/>
                <a:ea typeface="ＭＳ Ｐゴシック"/>
              </a:rPr>
              <a:t>e Sanal Suç Sözleşmesi</a:t>
            </a:r>
            <a:r>
              <a:rPr b="1" lang="en-GB" sz="4000" spc="-1" strike="noStrike">
                <a:solidFill>
                  <a:srgbClr val="000000"/>
                </a:solidFill>
                <a:latin typeface="Calibri"/>
                <a:ea typeface="ＭＳ Ｐゴシック"/>
              </a:rPr>
              <a:t> -</a:t>
            </a:r>
            <a:br>
              <a:rPr sz="4000"/>
            </a:br>
            <a:r>
              <a:rPr b="1" lang="tr-TR" sz="4000" spc="-1" strike="noStrike">
                <a:solidFill>
                  <a:srgbClr val="000000"/>
                </a:solidFill>
                <a:latin typeface="Calibri"/>
                <a:ea typeface="ＭＳ Ｐゴシック"/>
              </a:rPr>
              <a:t>Maddi Ceza Hukuku</a:t>
            </a: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8"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a:t>
            </a:r>
            <a:r>
              <a:rPr b="1" lang="tr-TR" sz="4000" spc="-1" strike="noStrike">
                <a:solidFill>
                  <a:srgbClr val="ff0000"/>
                </a:solidFill>
                <a:latin typeface="Calibri"/>
              </a:rPr>
              <a:t>değiştirilmesi</a:t>
            </a:r>
            <a:r>
              <a:rPr b="0" lang="tr-TR" sz="2800" spc="-1" strike="noStrike">
                <a:solidFill>
                  <a:srgbClr val="ff0000"/>
                </a:solidFill>
                <a:latin typeface="Calibri"/>
              </a:rPr>
              <a:t> </a:t>
            </a:r>
            <a:r>
              <a:rPr b="0" lang="tr-TR" sz="2800" spc="-1" strike="noStrike">
                <a:solidFill>
                  <a:srgbClr val="000000"/>
                </a:solidFill>
                <a:latin typeface="Calibri"/>
              </a:rPr>
              <a:t>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FF589F-6F6B-4949-9481-6E59051438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ğiştirme</a:t>
            </a:r>
            <a:endParaRPr b="0" lang="en-US" sz="4400" spc="-1" strike="noStrike">
              <a:solidFill>
                <a:srgbClr val="000000"/>
              </a:solidFill>
              <a:latin typeface="Calibri"/>
            </a:endParaRPr>
          </a:p>
        </p:txBody>
      </p:sp>
      <p:sp>
        <p:nvSpPr>
          <p:cNvPr id="171"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evcut verilerin değiştirilmesi</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irüs veya Truva atı gibi kötü niyetli kodların girilmesini ve sonucunda verilerde değişiklik yapılmasını içer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95A70C2-C9C6-4B31-A799-52831BF50B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9869C20-1F27-4A61-941B-9618A0356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ngelleme</a:t>
            </a:r>
            <a:endParaRPr b="0" lang="en-US" sz="4400" spc="-1" strike="noStrike">
              <a:solidFill>
                <a:srgbClr val="000000"/>
              </a:solidFill>
              <a:latin typeface="Calibri"/>
            </a:endParaRPr>
          </a:p>
        </p:txBody>
      </p:sp>
      <p:sp>
        <p:nvSpPr>
          <p:cNvPr id="177"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aklanıyor olduğu bilgisayara veya depolama aracına erişimi bulunan kişinin verilere erişebilirliğini engelleyen veya sona erdiren herhangi bir işle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içeriğini değil, erişilebilirliğini etkiler. </a:t>
            </a:r>
            <a:endParaRPr b="0" lang="en-US" sz="30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C0462A-4E1B-4666-BEC2-8090961D6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0"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a:t>
            </a:r>
            <a:r>
              <a:rPr b="1" lang="tr-TR" sz="4000" spc="-1" strike="noStrike">
                <a:solidFill>
                  <a:srgbClr val="ff0000"/>
                </a:solidFill>
                <a:latin typeface="Calibri"/>
              </a:rPr>
              <a:t>haksız yere </a:t>
            </a:r>
            <a:r>
              <a:rPr b="0" lang="tr-TR" sz="2800" spc="-1" strike="noStrike">
                <a:solidFill>
                  <a:srgbClr val="000000"/>
                </a:solidFill>
                <a:latin typeface="Calibri"/>
              </a:rPr>
              <a:t>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542B447-0615-401A-93A7-76DFC62E1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83" name="PlaceHolder 2"/>
          <p:cNvSpPr>
            <a:spLocks noGrp="1"/>
          </p:cNvSpPr>
          <p:nvPr>
            <p:ph/>
          </p:nvPr>
        </p:nvSpPr>
        <p:spPr>
          <a:xfrm>
            <a:off x="457200" y="1479600"/>
            <a:ext cx="8229600" cy="46260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üdahale eden kişinin verilere müdahale hakkı bulunuyorsa bu suç oluşmaz.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Örnekler: </a:t>
            </a:r>
            <a:endParaRPr b="0" lang="en-US" sz="26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ğların veya ortak işletme veya ticari uygulamaların tasarlanmasına dahil olan faaliyetler</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güvenlik sisteminin mal sahibi veya operatör tarafından izin verilmiş şekilde testten geçirilmesi veya korun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işletme sisteminin yeni yazılımın kurulması sırasında yeniden yapılandırıl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nonim haberleşmelerin kolaylaştırılması amacıyla trafik verilerinin değiştirilmesi (örn. anonim e-posta sistemleri) </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üvenli haberleşme amacıyla verilerin değiştirilmesi (örn. şifreleme) </a:t>
            </a:r>
            <a:endParaRPr b="0" lang="en-US" sz="2200" spc="-1" strike="noStrike">
              <a:solidFill>
                <a:srgbClr val="000000"/>
              </a:solidFill>
              <a:latin typeface="Calibri"/>
            </a:endParaRPr>
          </a:p>
        </p:txBody>
      </p:sp>
      <p:sp>
        <p:nvSpPr>
          <p:cNvPr id="1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8AE07EF-014C-46F3-B68E-9A0FE72EE9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6"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a:t>
            </a:r>
            <a:r>
              <a:rPr b="1" lang="tr-TR" sz="4000" spc="-1" strike="noStrike">
                <a:solidFill>
                  <a:srgbClr val="ff0000"/>
                </a:solidFill>
                <a:latin typeface="Calibri"/>
              </a:rPr>
              <a:t>ciddi zararla</a:t>
            </a:r>
            <a:r>
              <a:rPr b="0" lang="tr-TR" sz="2800" spc="-1" strike="noStrike">
                <a:solidFill>
                  <a:srgbClr val="000000"/>
                </a:solidFill>
                <a:latin typeface="Calibri"/>
              </a:rPr>
              <a:t> sonuçlanması gerektiğini şart koşma hakkını saklı tutabilir.</a:t>
            </a:r>
            <a:endParaRPr b="0" lang="en-US" sz="28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452F59-BC5F-4039-8657-2FE881F2E5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zarar</a:t>
            </a:r>
            <a:endParaRPr b="0" lang="en-US" sz="4400" spc="-1" strike="noStrike">
              <a:solidFill>
                <a:srgbClr val="000000"/>
              </a:solidFill>
              <a:latin typeface="Calibri"/>
            </a:endParaRPr>
          </a:p>
        </p:txBody>
      </p:sp>
      <p:sp>
        <p:nvSpPr>
          <p:cNvPr id="189" name="PlaceHolder 2"/>
          <p:cNvSpPr>
            <a:spLocks noGrp="1"/>
          </p:cNvSpPr>
          <p:nvPr>
            <p:ph/>
          </p:nvPr>
        </p:nvSpPr>
        <p:spPr>
          <a:xfrm>
            <a:off x="457200" y="1899720"/>
            <a:ext cx="8229600" cy="44564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raflar davranışın ciddi bir zararla sonuçlanmasını şart koşarak bu suçun kapsamını sınırlandırabil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Ciddi zarar tanımı iç hukukta öngörülecekt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vranıştan kaynaklanan maddi zararın miktarı temel alınarak nitelenebilir. </a:t>
            </a:r>
            <a:endParaRPr b="0" lang="en-US" sz="3000" spc="-1" strike="noStrike">
              <a:solidFill>
                <a:srgbClr val="000000"/>
              </a:solidFill>
              <a:latin typeface="Calibri"/>
            </a:endParaRPr>
          </a:p>
        </p:txBody>
      </p:sp>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B8B539-DE9E-42FA-B16C-840E073BA2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istem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5 – Budapeşte Sözleş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in işleyişinin ciddi şekilde engellen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sistemlerine veri girişi yaparak, bu verileri ileterek, bilgisayar verilerine zarar vererek, bunları silerek, tahrip ederek, değiştirerek veya engelleyerek</a:t>
            </a:r>
            <a:endParaRPr b="0" lang="en-US" sz="3200" spc="-1" strike="noStrike">
              <a:solidFill>
                <a:srgbClr val="000000"/>
              </a:solidFill>
              <a:latin typeface="Calibri"/>
            </a:endParaRPr>
          </a:p>
          <a:p>
            <a:pPr marL="34308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DA8DF-9D6A-4E6E-BFB6-C38E9BA3F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47AA1-A5C3-469D-8267-89ACB19B3B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430128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Suç teşkil eden işlem</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rişi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le geçirm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Veriler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istem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Cihazların kötüye kullanılması</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ahtecilik ve dolandırıcılık</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Çocuk pornografis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FMH</a:t>
            </a:r>
            <a:r>
              <a:rPr b="1" lang="en-GB" sz="2000" spc="-1" strike="noStrike">
                <a:solidFill>
                  <a:srgbClr val="000000"/>
                </a:solidFill>
                <a:latin typeface="Arial"/>
              </a:rPr>
              <a:t>-</a:t>
            </a:r>
            <a:r>
              <a:rPr b="1" lang="tr-TR" sz="2000" spc="-1" strike="noStrike">
                <a:solidFill>
                  <a:srgbClr val="000000"/>
                </a:solidFill>
                <a:latin typeface="Arial"/>
              </a:rPr>
              <a:t>suçları</a:t>
            </a:r>
            <a:endParaRPr b="0" lang="en-US" sz="2000" spc="-1" strike="noStrike">
              <a:solidFill>
                <a:srgbClr val="000000"/>
              </a:solidFill>
              <a:latin typeface="Arial"/>
            </a:endParaRPr>
          </a:p>
        </p:txBody>
      </p:sp>
      <p:sp>
        <p:nvSpPr>
          <p:cNvPr id="62" name="Textfeld 3"/>
          <p:cNvSpPr/>
          <p:nvPr/>
        </p:nvSpPr>
        <p:spPr>
          <a:xfrm>
            <a:off x="3465360" y="1041480"/>
            <a:ext cx="2428920" cy="2594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Arial"/>
                <a:ea typeface="ＭＳ Ｐゴシック"/>
              </a:rPr>
              <a:t>Usul araçları</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İbraz emr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Arama ve el koy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Bilgisayar verilerinin ele geçirilmesi</a:t>
            </a:r>
            <a:endParaRPr b="0" lang="en-US" sz="2000" spc="-1" strike="noStrike">
              <a:solidFill>
                <a:srgbClr val="000000"/>
              </a:solidFill>
              <a:latin typeface="Arial"/>
            </a:endParaRPr>
          </a:p>
        </p:txBody>
      </p:sp>
      <p:sp>
        <p:nvSpPr>
          <p:cNvPr id="63" name="Textfeld 4"/>
          <p:cNvSpPr/>
          <p:nvPr/>
        </p:nvSpPr>
        <p:spPr>
          <a:xfrm>
            <a:off x="6394320" y="1004760"/>
            <a:ext cx="2571840" cy="4911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Uluslararası işbirliği</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İad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AY (Karşılıklı adli yardı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endiliğinden bilgi iletim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Bilgisayar verilerine erişim için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Ele geçirmeye yönelik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7/24</a:t>
            </a:r>
            <a:r>
              <a:rPr b="1" lang="en-GB" sz="2000" spc="-1" strike="noStrike">
                <a:solidFill>
                  <a:srgbClr val="000000"/>
                </a:solidFill>
                <a:latin typeface="Arial"/>
              </a:rPr>
              <a:t> </a:t>
            </a:r>
            <a:r>
              <a:rPr b="1" lang="tr-TR" sz="2000" spc="-1" strike="noStrike">
                <a:solidFill>
                  <a:srgbClr val="000000"/>
                </a:solidFill>
                <a:latin typeface="Arial"/>
              </a:rPr>
              <a:t>irtibat noktaları</a:t>
            </a:r>
            <a:endParaRPr b="0" lang="en-US" sz="20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ea typeface="ＭＳ Ｐゴシック"/>
              </a:rPr>
              <a:t>Uyumlaştırma</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713760" y="2943720"/>
            <a:ext cx="540720" cy="4821840"/>
          </a:xfrm>
          <a:prstGeom prst="bentConnector2">
            <a:avLst/>
          </a:prstGeom>
          <a:ln w="9360">
            <a:solidFill>
              <a:srgbClr val="002060"/>
            </a:solidFill>
            <a:miter/>
            <a:tailEnd len="med" type="arrow" w="med"/>
          </a:ln>
        </p:spPr>
      </p:cxnSp>
      <p:sp>
        <p:nvSpPr>
          <p:cNvPr id="68" name="Gerade Verbindung 27"/>
          <p:cNvSpPr/>
          <p:nvPr/>
        </p:nvSpPr>
        <p:spPr>
          <a:xfrm>
            <a:off x="4680000" y="3657600"/>
            <a:ext cx="0" cy="19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ea typeface="ＭＳ Ｐゴシック"/>
              </a:rPr>
              <a:t>Budapeşte Sözleşme</a:t>
            </a:r>
            <a:r>
              <a:rPr b="1" lang="tr-TR" sz="4200" spc="-1" strike="noStrike">
                <a:solidFill>
                  <a:srgbClr val="000000"/>
                </a:solidFill>
                <a:latin typeface="Calibri"/>
                <a:ea typeface="ＭＳ Ｐゴシック"/>
              </a:rPr>
              <a:t>si’</a:t>
            </a:r>
            <a:r>
              <a:rPr b="1" lang="en-GB" sz="4200" spc="-1" strike="noStrike">
                <a:solidFill>
                  <a:srgbClr val="000000"/>
                </a:solidFill>
                <a:latin typeface="Calibri"/>
                <a:ea typeface="ＭＳ Ｐゴシック"/>
              </a:rPr>
              <a:t>nin Kapsamı</a:t>
            </a:r>
            <a:endParaRPr b="0" lang="en-US" sz="4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A610A-E981-4405-BBF8-F33CFCFC05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ciddi şekilde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4D5FED-CFA5-42A9-8832-2C44517F0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r bilgisayar sisteminin işleyişinin engellenmesi</a:t>
            </a:r>
            <a:endParaRPr b="0" lang="en-US" sz="4400" spc="-1" strike="noStrike">
              <a:solidFill>
                <a:srgbClr val="000000"/>
              </a:solidFill>
              <a:latin typeface="Calibri"/>
            </a:endParaRPr>
          </a:p>
        </p:txBody>
      </p:sp>
      <p:sp>
        <p:nvSpPr>
          <p:cNvPr id="200"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bilgisayar sisteminin düzgün şekilde çalışmasına müdahale eden bir eylemdir. </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şu yollarla gerçekleşir:</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giriş;</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letim;</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zarar;</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il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ğiştir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engelleme;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759A16D-1C62-457E-BCD8-FE6E0AFB3B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1"/>
          <p:cNvSpPr/>
          <p:nvPr/>
        </p:nvSpPr>
        <p:spPr>
          <a:xfrm>
            <a:off x="5547240" y="4567320"/>
            <a:ext cx="2381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verisi</a:t>
            </a:r>
            <a:endParaRPr b="0" lang="en-US" sz="2800" spc="-1" strike="noStrike">
              <a:solidFill>
                <a:srgbClr val="000000"/>
              </a:solidFill>
              <a:latin typeface="Arial"/>
            </a:endParaRPr>
          </a:p>
        </p:txBody>
      </p:sp>
      <p:sp>
        <p:nvSpPr>
          <p:cNvPr id="203"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9" name="Straight Arrow Connector 4"/>
          <p:cNvCxnSpPr>
            <a:stCxn id="203" idx="3"/>
            <a:endCxn id="202" idx="1"/>
          </p:cNvCxnSpPr>
          <p:nvPr/>
        </p:nvCxnSpPr>
        <p:spPr>
          <a:xfrm>
            <a:off x="3038400" y="3897000"/>
            <a:ext cx="2502720" cy="910440"/>
          </a:xfrm>
          <a:prstGeom prst="straightConnector1">
            <a:avLst/>
          </a:prstGeom>
          <a:ln w="25560">
            <a:solidFill>
              <a:srgbClr val="4f81bd"/>
            </a:solidFill>
            <a:miter/>
            <a:tailEnd len="med" type="triangle" w="med"/>
          </a:ln>
        </p:spPr>
      </p:cxnSp>
      <p:cxnSp>
        <p:nvCxnSpPr>
          <p:cNvPr id="210" name="Straight Arrow Connector 16"/>
          <p:cNvCxnSpPr>
            <a:stCxn id="204" idx="3"/>
            <a:endCxn id="202" idx="1"/>
          </p:cNvCxnSpPr>
          <p:nvPr/>
        </p:nvCxnSpPr>
        <p:spPr>
          <a:xfrm>
            <a:off x="3036960" y="4301640"/>
            <a:ext cx="2504160" cy="505800"/>
          </a:xfrm>
          <a:prstGeom prst="straightConnector1">
            <a:avLst/>
          </a:prstGeom>
          <a:ln w="25560">
            <a:solidFill>
              <a:srgbClr val="4f81bd"/>
            </a:solidFill>
            <a:miter/>
            <a:tailEnd len="med" type="triangle" w="med"/>
          </a:ln>
        </p:spPr>
      </p:cxnSp>
      <p:cxnSp>
        <p:nvCxnSpPr>
          <p:cNvPr id="211" name="Straight Arrow Connector 19"/>
          <p:cNvCxnSpPr>
            <a:stCxn id="205" idx="3"/>
            <a:endCxn id="202" idx="1"/>
          </p:cNvCxnSpPr>
          <p:nvPr/>
        </p:nvCxnSpPr>
        <p:spPr>
          <a:xfrm>
            <a:off x="3036960" y="4709880"/>
            <a:ext cx="2504160" cy="97560"/>
          </a:xfrm>
          <a:prstGeom prst="straightConnector1">
            <a:avLst/>
          </a:prstGeom>
          <a:ln w="25560">
            <a:solidFill>
              <a:srgbClr val="4f81bd"/>
            </a:solidFill>
            <a:miter/>
            <a:tailEnd len="med" type="triangle" w="med"/>
          </a:ln>
        </p:spPr>
      </p:cxnSp>
      <p:cxnSp>
        <p:nvCxnSpPr>
          <p:cNvPr id="212" name="Straight Arrow Connector 22"/>
          <p:cNvCxnSpPr>
            <a:stCxn id="206" idx="3"/>
            <a:endCxn id="202" idx="1"/>
          </p:cNvCxnSpPr>
          <p:nvPr/>
        </p:nvCxnSpPr>
        <p:spPr>
          <a:xfrm flipV="1">
            <a:off x="3033360" y="4806720"/>
            <a:ext cx="2507400" cy="310320"/>
          </a:xfrm>
          <a:prstGeom prst="straightConnector1">
            <a:avLst/>
          </a:prstGeom>
          <a:ln w="25560">
            <a:solidFill>
              <a:srgbClr val="4f81bd"/>
            </a:solidFill>
            <a:miter/>
            <a:tailEnd len="med" type="triangle" w="med"/>
          </a:ln>
        </p:spPr>
      </p:cxnSp>
      <p:cxnSp>
        <p:nvCxnSpPr>
          <p:cNvPr id="213" name="Straight Arrow Connector 30"/>
          <p:cNvCxnSpPr>
            <a:stCxn id="207" idx="3"/>
            <a:endCxn id="202" idx="1"/>
          </p:cNvCxnSpPr>
          <p:nvPr/>
        </p:nvCxnSpPr>
        <p:spPr>
          <a:xfrm flipV="1">
            <a:off x="3036960" y="4806360"/>
            <a:ext cx="2504160" cy="719640"/>
          </a:xfrm>
          <a:prstGeom prst="straightConnector1">
            <a:avLst/>
          </a:prstGeom>
          <a:ln w="25560">
            <a:solidFill>
              <a:srgbClr val="4f81bd"/>
            </a:solidFill>
            <a:miter/>
            <a:tailEnd len="med" type="triangle" w="med"/>
          </a:ln>
        </p:spPr>
      </p:cxnSp>
      <p:cxnSp>
        <p:nvCxnSpPr>
          <p:cNvPr id="214" name="Straight Arrow Connector 33"/>
          <p:cNvCxnSpPr>
            <a:stCxn id="208" idx="3"/>
            <a:endCxn id="202" idx="1"/>
          </p:cNvCxnSpPr>
          <p:nvPr/>
        </p:nvCxnSpPr>
        <p:spPr>
          <a:xfrm flipV="1">
            <a:off x="3033360" y="4806720"/>
            <a:ext cx="250740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a:t>
            </a:r>
            <a:r>
              <a:rPr b="1" lang="tr-TR" sz="4000" spc="-1" strike="noStrike">
                <a:solidFill>
                  <a:srgbClr val="ff0000"/>
                </a:solidFill>
                <a:latin typeface="Calibri"/>
              </a:rPr>
              <a:t>ciddi şekilde 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1FBB228-0E07-47E0-B9FD-7177F58408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engelleme</a:t>
            </a:r>
            <a:endParaRPr b="0" lang="en-US" sz="4400" spc="-1" strike="noStrike">
              <a:solidFill>
                <a:srgbClr val="000000"/>
              </a:solidFill>
              <a:latin typeface="Calibri"/>
            </a:endParaRPr>
          </a:p>
        </p:txBody>
      </p:sp>
      <p:sp>
        <p:nvSpPr>
          <p:cNvPr id="219" name="PlaceHolder 2"/>
          <p:cNvSpPr>
            <a:spLocks noGrp="1"/>
          </p:cNvSpPr>
          <p:nvPr>
            <p:ph/>
          </p:nvPr>
        </p:nvSpPr>
        <p:spPr>
          <a:xfrm>
            <a:off x="457200" y="1428840"/>
            <a:ext cx="8229600" cy="529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iddi engellemenin tespitine ilişkin kriterler Taraflarca belirlenecekti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elirli bir sisteme, sistem sahibinin veya operatörün aşağıdaki becerileri üzerinde esaslı şekilde zarar veren bir etki doğuracak biçimde, boyutta veya sıklıkta veri gönderme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istemi kullanma;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aşka sistemlerle iletişim kurm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Örnekler:</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Hizmeti engelleme saldırıları yaratan program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şleyişini engelleyen veya yavaşlatan kötü niyetli kod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letişim fonksiyonlarını engellemek amacıyla bir alıcıya çok fazla miktarda elektronik posta gönderen programlar</a:t>
            </a:r>
            <a:endParaRPr b="0" lang="en-US" sz="2200" spc="-1" strike="noStrike">
              <a:solidFill>
                <a:srgbClr val="000000"/>
              </a:solidFill>
              <a:latin typeface="Calibri"/>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43CBC17-8F1E-48D3-8C4A-AA6DA1F3C4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22"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a:t>
            </a:r>
            <a:r>
              <a:rPr b="1" lang="tr-TR" sz="4000" spc="-1" strike="noStrike">
                <a:solidFill>
                  <a:srgbClr val="ff0000"/>
                </a:solidFill>
                <a:latin typeface="Calibri"/>
              </a:rPr>
              <a:t>haksız yere </a:t>
            </a:r>
            <a:r>
              <a:rPr b="0" lang="tr-TR" sz="2800" spc="-1" strike="noStrike">
                <a:solidFill>
                  <a:srgbClr val="000000"/>
                </a:solidFill>
                <a:latin typeface="Calibri"/>
              </a:rPr>
              <a:t>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9166F7B-3A8E-4AFD-AFF5-A512084314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25" name="PlaceHolder 2"/>
          <p:cNvSpPr>
            <a:spLocks noGrp="1"/>
          </p:cNvSpPr>
          <p:nvPr>
            <p:ph/>
          </p:nvPr>
        </p:nvSpPr>
        <p:spPr>
          <a:xfrm>
            <a:off x="457200" y="1161720"/>
            <a:ext cx="8229600" cy="5559480"/>
          </a:xfrm>
          <a:prstGeom prst="rect">
            <a:avLst/>
          </a:prstGeom>
          <a:noFill/>
          <a:ln w="0">
            <a:noFill/>
          </a:ln>
        </p:spPr>
        <p:txBody>
          <a:bodyPr anchor="t">
            <a:normAutofit fontScale="98000"/>
          </a:bodyPr>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üdahale eden kişinin verilere müdahale hakkı bulunuyorsa bu suç oluşmaz.</a:t>
            </a:r>
            <a:endParaRPr b="0" lang="en-US" sz="3000" spc="-1" strike="noStrike">
              <a:solidFill>
                <a:srgbClr val="000000"/>
              </a:solidFill>
              <a:latin typeface="Calibri"/>
            </a:endParaRPr>
          </a:p>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Örnekler:</a:t>
            </a:r>
            <a:endParaRPr b="0" lang="en-US" sz="30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ğların veya ortak işletme veya ticari uygulamaların tasarlanmasına dahil olan faaliyetler;</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ın güvenlik sisteminin mal sahibi veya operatör tarafından izin verilmiş şekilde testten geçirilmesi veya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 sisteminin mal sahibi veya operatör tarafından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Sistem operatörünün eskiden kurulmuş olan programları işlevsiz bırakan yeni bir yazılım kurmasıyla bilgisayarın işletme sisteminin yeniden yapılandırılması.</a:t>
            </a:r>
            <a:endParaRPr b="0" lang="en-US" sz="26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9F86D5-CD5B-4AF5-8742-85B9BA6EA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274680"/>
            <a:ext cx="8983800" cy="67435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Cihazların Kötüye Kullanımı</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Madde 6 – Budapeşte Sözleşmesi)</a:t>
            </a:r>
            <a:endParaRPr b="0" lang="en-US" sz="2800" spc="-1" strike="noStrike">
              <a:solidFill>
                <a:srgbClr val="000000"/>
              </a:solidFill>
              <a:latin typeface="Calibri"/>
            </a:endParaRPr>
          </a:p>
          <a:p>
            <a:pPr marL="343080" indent="0" algn="ctr">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Aşağıda belirtilenlerin,</a:t>
            </a:r>
            <a:endParaRPr b="0" lang="en-US" sz="28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programı da dahil olmak üzere, öncelikli olarak 2-5. maddelerde belirtilmiş olan suçlardan herhangi birini işlemek amacıyla tasarlanmış veya uyarlanmış bir cihazın</a:t>
            </a:r>
            <a:endParaRPr b="0" lang="en-US" sz="24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sisteminin tamamına veya bir kısmına 2-5. maddelerde belirtilmiş olan suçlardan herhangi birini işlemek amacıyla kullanılma niyetiyle erişimi mümkün kılan bir bilgisayar şifresi, erişim kodu veya benzer bir verinin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üretimi, satışı, kullanım amaçlı tedariki, ithali, dağıtımı veya başka bir şekilde erişilebilir hale getirilmesi.</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DDA0589-05F9-4009-836B-DF7568FAB3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ihazların Kötüye Kullanımı</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6 – Budapeşte Sözleşmesi)</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Yukarıdaki (a)1 veya (2) fıkralarında atıfta bulunulan bir cihazın, 2-5. maddelerde belirtilmiş suçlardan herhangi birinin işlenmesi için kullanılması amacıyla bulundurulması.</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6BB6C59-5664-4EFE-84CC-49B642ABF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4680" y="274320"/>
            <a:ext cx="8640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6 – Cihazların Kötüye Kullanımı</a:t>
            </a:r>
            <a:endParaRPr b="0" lang="en-US" sz="4000" spc="-1" strike="noStrike">
              <a:solidFill>
                <a:srgbClr val="000000"/>
              </a:solidFill>
              <a:latin typeface="Calibri"/>
            </a:endParaRPr>
          </a:p>
        </p:txBody>
      </p:sp>
      <p:sp>
        <p:nvSpPr>
          <p:cNvPr id="232"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1.</a:t>
            </a:r>
            <a:r>
              <a:rPr b="0" lang="tr-TR" sz="3200" spc="-1" strike="noStrike">
                <a:solidFill>
                  <a:srgbClr val="000000"/>
                </a:solidFill>
                <a:latin typeface="Calibri"/>
              </a:rPr>
              <a:t>	</a:t>
            </a:r>
            <a:r>
              <a:rPr b="0" lang="tr-TR" sz="3200" spc="-1" strike="noStrike">
                <a:solidFill>
                  <a:srgbClr val="000000"/>
                </a:solidFill>
                <a:latin typeface="Calibri"/>
              </a:rPr>
              <a:t>Taraflardan her biri, kasten veya haksız yere 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6F1F4-CE41-4E14-BB0F-559A408A2B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34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5" name="PlaceHolder 2"/>
          <p:cNvSpPr>
            <a:spLocks noGrp="1"/>
          </p:cNvSpPr>
          <p:nvPr>
            <p:ph/>
          </p:nvPr>
        </p:nvSpPr>
        <p:spPr>
          <a:xfrm>
            <a:off x="457200" y="1235160"/>
            <a:ext cx="8229600" cy="548640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93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9E9D5-E01F-49D7-8474-7AF173E76B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Ceza soruşturmalarında uluslararası işbirliğini </a:t>
            </a:r>
            <a:r>
              <a:rPr b="0" lang="tr-TR" sz="2800" spc="-1" strike="noStrike">
                <a:solidFill>
                  <a:srgbClr val="000000"/>
                </a:solidFill>
                <a:latin typeface="Calibri"/>
                <a:ea typeface="ＭＳ Ｐゴシック"/>
              </a:rPr>
              <a:t>kolaylaştırmayı </a:t>
            </a:r>
            <a:r>
              <a:rPr b="0" lang="en-GB" sz="2800" spc="-1" strike="noStrike">
                <a:solidFill>
                  <a:srgbClr val="000000"/>
                </a:solidFill>
                <a:latin typeface="Calibri"/>
                <a:ea typeface="ＭＳ Ｐゴシック"/>
              </a:rPr>
              <a:t>ve geliştirmey</a:t>
            </a:r>
            <a:r>
              <a:rPr b="0" lang="tr-TR" sz="2800" spc="-1" strike="noStrike">
                <a:solidFill>
                  <a:srgbClr val="000000"/>
                </a:solidFill>
                <a:latin typeface="Calibri"/>
                <a:ea typeface="ＭＳ Ｐゴシック"/>
              </a:rPr>
              <a:t>i hedef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Maddi hukuk</a:t>
            </a:r>
            <a:r>
              <a:rPr b="0" lang="tr-TR" sz="2800" spc="-1" strike="noStrike">
                <a:solidFill>
                  <a:srgbClr val="000000"/>
                </a:solidFill>
                <a:latin typeface="Calibri"/>
                <a:ea typeface="ＭＳ Ｐゴシック"/>
              </a:rPr>
              <a:t>un </a:t>
            </a:r>
            <a:r>
              <a:rPr b="0" lang="en-GB" sz="2800" spc="-1" strike="noStrike">
                <a:solidFill>
                  <a:srgbClr val="000000"/>
                </a:solidFill>
                <a:latin typeface="Calibri"/>
                <a:ea typeface="ＭＳ Ｐゴシック"/>
              </a:rPr>
              <a:t>uyumlaştırılması</a:t>
            </a:r>
            <a:r>
              <a:rPr b="0" lang="tr-TR" sz="2800" spc="-1" strike="noStrike">
                <a:solidFill>
                  <a:srgbClr val="000000"/>
                </a:solidFill>
                <a:latin typeface="Calibri"/>
                <a:ea typeface="ＭＳ Ｐゴシック"/>
              </a:rPr>
              <a:t>nı</a:t>
            </a:r>
            <a:r>
              <a:rPr b="0" lang="en-GB" sz="2800" spc="-1" strike="noStrike">
                <a:solidFill>
                  <a:srgbClr val="000000"/>
                </a:solidFill>
                <a:latin typeface="Calibri"/>
                <a:ea typeface="ＭＳ Ｐゴシック"/>
              </a:rPr>
              <a:t> hedefle</a:t>
            </a:r>
            <a:r>
              <a:rPr b="0" lang="tr-TR" sz="2800" spc="-1" strike="noStrike">
                <a:solidFill>
                  <a:srgbClr val="000000"/>
                </a:solidFill>
                <a:latin typeface="Calibri"/>
                <a:ea typeface="ＭＳ Ｐゴシック"/>
              </a:rPr>
              <a:t>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ＭＳ Ｐゴシック"/>
              </a:rPr>
              <a:t>Aşağıdakileri tanımla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ＭＳ Ｐゴシック"/>
              </a:rPr>
              <a:t>Bilgisayar sistemlerinin gizliliğin</a:t>
            </a:r>
            <a:r>
              <a:rPr b="0" lang="tr-TR" sz="2400" spc="-1" strike="noStrike">
                <a:solidFill>
                  <a:srgbClr val="000000"/>
                </a:solidFill>
                <a:latin typeface="Calibri"/>
                <a:ea typeface="ＭＳ Ｐゴシック"/>
              </a:rPr>
              <a:t>e</a:t>
            </a:r>
            <a:r>
              <a:rPr b="0" lang="en-GB" sz="2400" spc="-1" strike="noStrike">
                <a:solidFill>
                  <a:srgbClr val="000000"/>
                </a:solidFill>
                <a:latin typeface="Calibri"/>
                <a:ea typeface="ＭＳ Ｐゴシック"/>
              </a:rPr>
              <a:t>, bütünlüğüne ve erişilebilirliğine yönelik 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Bilgisayarla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İçerikle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Maddi Ceza Hukuku Hükümle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8"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2.</a:t>
            </a:r>
            <a:r>
              <a:rPr b="0" lang="tr-TR" sz="2400" spc="-1" strike="noStrike">
                <a:solidFill>
                  <a:srgbClr val="000000"/>
                </a:solidFill>
                <a:latin typeface="Calibri"/>
              </a:rPr>
              <a:t>	</a:t>
            </a:r>
            <a:r>
              <a:rPr b="0" lang="tr-TR" sz="2400" spc="-1" strike="noStrike">
                <a:solidFill>
                  <a:srgbClr val="000000"/>
                </a:solidFill>
                <a:latin typeface="Calibri"/>
              </a:rPr>
              <a:t>İşbu madde, bu maddenin 1. fıkrasında atıfta bulunulan üretme, satma, kullanım amaçlı tedarik, ithalat, dağıtma veya başka şekilde erişilebilir hale getirme veya bulundurmanın, 2 ila 5. maddeler uyarınca suç işlemek maksadıyla gerçekleştirilmemesi durumunda, örneğin bir bilgisayar sisteminin yetkililerce test edilmesi veya korunmasının amaçlandığı hallerde, cezai yükümlülük doğuracağı şeklinde yorumlanmayacaktır. </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3. Taraflardan her biri, çekincenin işbu maddenin 1.a.ii fıkrasında sözü edilen öğelerin satışı, dağıtımı veya başka şekilde erişilebilir hale getirilmesiyle alakalı olmaması kaydıyla, işbu maddenin 1. fıkrasını uygulamama hakkını saklı tutabilir. </a:t>
            </a:r>
            <a:endParaRPr b="0" lang="en-US" sz="2400" spc="-1" strike="noStrike">
              <a:solidFill>
                <a:srgbClr val="000000"/>
              </a:solidFill>
              <a:latin typeface="Calibri"/>
            </a:endParaRPr>
          </a:p>
        </p:txBody>
      </p:sp>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6C3CC-5FD1-4F37-B1E5-A9921A0303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0560" y="274320"/>
            <a:ext cx="9304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1"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tr-TR" sz="3200" spc="-1" strike="noStrike">
                <a:solidFill>
                  <a:srgbClr val="000000"/>
                </a:solidFill>
                <a:latin typeface="Calibri"/>
              </a:rPr>
              <a:t>Taraflardan her biri, kasten veya </a:t>
            </a:r>
            <a:r>
              <a:rPr b="1" lang="tr-TR" sz="4400" spc="-1" strike="noStrike">
                <a:solidFill>
                  <a:srgbClr val="ff0000"/>
                </a:solidFill>
                <a:latin typeface="Calibri"/>
              </a:rPr>
              <a:t>haksız yere </a:t>
            </a:r>
            <a:r>
              <a:rPr b="0" lang="tr-TR" sz="3200" spc="-1" strike="noStrike">
                <a:solidFill>
                  <a:srgbClr val="000000"/>
                </a:solidFill>
                <a:latin typeface="Calibri"/>
              </a:rPr>
              <a:t>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E3D7DCA-4F82-4D3A-AF99-6D445B5A54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44"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aksız yere kötüye kullanma</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eşru amaçlarla üretilip piyasaya sürülen cihazların aşırıya kaçılarak suç sayılmasını önler.</a:t>
            </a:r>
            <a:endParaRPr b="0" lang="en-US" sz="3200" spc="-1" strike="noStrike">
              <a:solidFill>
                <a:srgbClr val="000000"/>
              </a:solidFill>
              <a:latin typeface="Calibri"/>
            </a:endParaRPr>
          </a:p>
        </p:txBody>
      </p:sp>
      <p:sp>
        <p:nvSpPr>
          <p:cNvPr id="2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8B92B62-3C41-4496-A6D7-1CAFEBBBE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7" name="PlaceHolder 2"/>
          <p:cNvSpPr>
            <a:spLocks noGrp="1"/>
          </p:cNvSpPr>
          <p:nvPr>
            <p:ph/>
          </p:nvPr>
        </p:nvSpPr>
        <p:spPr>
          <a:xfrm>
            <a:off x="-360" y="1282680"/>
            <a:ext cx="8961480" cy="5438880"/>
          </a:xfrm>
          <a:prstGeom prst="rect">
            <a:avLst/>
          </a:prstGeom>
          <a:noFill/>
          <a:ln w="0">
            <a:noFill/>
          </a:ln>
        </p:spPr>
        <p:txBody>
          <a:bodyPr anchor="t">
            <a:normAutofit fontScale="97000"/>
          </a:bodyPr>
          <a:p>
            <a:pPr lvl="1" marL="28476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a:t>
            </a:r>
            <a:r>
              <a:rPr b="1" lang="tr-TR" sz="3000" spc="-1" strike="noStrike">
                <a:solidFill>
                  <a:srgbClr val="ff0000"/>
                </a:solidFill>
                <a:latin typeface="Calibri"/>
              </a:rPr>
              <a:t>üretimi, satışı, kullanım amaçlı tedarik edilmesi, ithal edilmesi, dağıtımı </a:t>
            </a:r>
            <a:r>
              <a:rPr b="0" lang="tr-TR" sz="2400" spc="-1" strike="noStrike">
                <a:solidFill>
                  <a:srgbClr val="000000"/>
                </a:solidFill>
                <a:latin typeface="Calibri"/>
              </a:rPr>
              <a:t>veya başka bir şekilde </a:t>
            </a:r>
            <a:r>
              <a:rPr b="1" lang="tr-TR" sz="3000" spc="-1" strike="noStrike">
                <a:solidFill>
                  <a:srgbClr val="ff0000"/>
                </a:solidFill>
                <a:latin typeface="Calibri"/>
              </a:rPr>
              <a:t>erişilebilir hale getirilmesi</a:t>
            </a:r>
            <a:r>
              <a:rPr b="0" lang="tr-TR" sz="3000" spc="-1" strike="noStrike">
                <a:solidFill>
                  <a:srgbClr val="000000"/>
                </a:solidFill>
                <a:latin typeface="Calibri"/>
              </a:rPr>
              <a:t>: </a:t>
            </a:r>
            <a:endParaRPr b="0" lang="en-US" sz="30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4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4A3D62-53B2-463C-B6C3-A64DA0ED8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Üretim, satış vs.</a:t>
            </a:r>
            <a:endParaRPr b="0" lang="en-US" sz="4400" spc="-1" strike="noStrike">
              <a:solidFill>
                <a:srgbClr val="000000"/>
              </a:solidFill>
              <a:latin typeface="Calibri"/>
            </a:endParaRPr>
          </a:p>
        </p:txBody>
      </p:sp>
      <p:sp>
        <p:nvSpPr>
          <p:cNvPr id="250" name="PlaceHolder 2"/>
          <p:cNvSpPr>
            <a:spLocks noGrp="1"/>
          </p:cNvSpPr>
          <p:nvPr>
            <p:ph/>
          </p:nvPr>
        </p:nvSpPr>
        <p:spPr>
          <a:xfrm>
            <a:off x="457200" y="1401480"/>
            <a:ext cx="8229600" cy="5319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uç sayılanla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Üret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tış;</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llanım amaçlı teda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thala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ağıtım;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ihazların erişilebilir hale gelmesi</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Dağıtım: faal olarak başkalarına veri iletme eylem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Erişilebilir kılınma: çevrimiçi cihazların başkalarının kullanımına sunulması ve bu cihazlara erişimi kolaylaştırmak amacıyla çevrimiçi hiperlinkler yaratılmasını veya toplanmasını da kapsar.</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F1BF3E-80F9-4EB9-9ADA-67AC08AAFF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3" name="PlaceHolder 2"/>
          <p:cNvSpPr>
            <a:spLocks noGrp="1"/>
          </p:cNvSpPr>
          <p:nvPr>
            <p:ph/>
          </p:nvPr>
        </p:nvSpPr>
        <p:spPr>
          <a:xfrm>
            <a:off x="228600" y="1122120"/>
            <a:ext cx="8664480" cy="5599080"/>
          </a:xfrm>
          <a:prstGeom prst="rect">
            <a:avLst/>
          </a:prstGeom>
          <a:noFill/>
          <a:ln w="0">
            <a:noFill/>
          </a:ln>
        </p:spPr>
        <p:txBody>
          <a:bodyPr anchor="t">
            <a:normAutofit fontScale="96000"/>
          </a:bodyPr>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1" lang="tr-TR" sz="2800" spc="-1" strike="noStrike">
                <a:solidFill>
                  <a:srgbClr val="ff0000"/>
                </a:solidFill>
                <a:latin typeface="Calibri"/>
              </a:rPr>
              <a:t>bir bilgisayar programı da dahil olmak üzere</a:t>
            </a:r>
            <a:r>
              <a:rPr b="0" lang="tr-TR" sz="2200" spc="-1" strike="noStrike">
                <a:solidFill>
                  <a:srgbClr val="000000"/>
                </a:solidFill>
                <a:latin typeface="Calibri"/>
              </a:rPr>
              <a:t>,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188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DCF1CD-8C45-4339-8103-614402F81C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programı</a:t>
            </a:r>
            <a:endParaRPr b="0" lang="en-US" sz="4400" spc="-1" strike="noStrike">
              <a:solidFill>
                <a:srgbClr val="000000"/>
              </a:solidFill>
              <a:latin typeface="Calibri"/>
            </a:endParaRPr>
          </a:p>
        </p:txBody>
      </p:sp>
      <p:sp>
        <p:nvSpPr>
          <p:cNvPr id="256" name="PlaceHolder 2"/>
          <p:cNvSpPr>
            <a:spLocks noGrp="1"/>
          </p:cNvSpPr>
          <p:nvPr>
            <p:ph/>
          </p:nvPr>
        </p:nvSpPr>
        <p:spPr>
          <a:xfrm>
            <a:off x="457200" y="1781280"/>
            <a:ext cx="8229600" cy="3659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değiştirmek veya imha etmek yahut sistemlerin işleyişine müdahale etmek amacıyla tasarlanmış programlara atıf yap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üs programları</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sayar sistemlerine erişim elde etmek amacıyla tasarlanmış veya uyarlanmış programlar</a:t>
            </a:r>
            <a:endParaRPr b="0" lang="en-US" sz="26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2115DA4-01F5-4429-9AEF-5F5F6B5DC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368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9" name="PlaceHolder 2"/>
          <p:cNvSpPr>
            <a:spLocks noGrp="1"/>
          </p:cNvSpPr>
          <p:nvPr>
            <p:ph/>
          </p:nvPr>
        </p:nvSpPr>
        <p:spPr>
          <a:xfrm>
            <a:off x="182520" y="1074240"/>
            <a:ext cx="8742240" cy="5440680"/>
          </a:xfrm>
          <a:prstGeom prst="rect">
            <a:avLst/>
          </a:prstGeom>
          <a:noFill/>
          <a:ln w="0">
            <a:noFill/>
          </a:ln>
        </p:spPr>
        <p:txBody>
          <a:bodyPr anchor="t">
            <a:normAutofit fontScale="94000"/>
          </a:bodyPr>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a:t>
            </a:r>
            <a:r>
              <a:rPr b="1" lang="tr-TR" sz="2800" spc="-1" strike="noStrike">
                <a:solidFill>
                  <a:srgbClr val="ff0000"/>
                </a:solidFill>
                <a:latin typeface="Calibri"/>
              </a:rPr>
              <a:t>öncelikli olarak yukarıda belirtilen 2 ila 5. maddelerde belirtilmiş herhangi bir suçu işlemek amacıyla tasarlanmış veya uyarlanmış</a:t>
            </a:r>
            <a:r>
              <a:rPr b="0" lang="tr-TR" sz="2200" spc="-1" strike="noStrike">
                <a:solidFill>
                  <a:srgbClr val="000000"/>
                </a:solidFill>
                <a:latin typeface="Calibri"/>
              </a:rPr>
              <a:t> bir cihaz;</a:t>
            </a:r>
            <a:endParaRPr b="0" lang="en-US" sz="22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61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0"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CDF041-9945-4D97-9718-11B231A9AC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Öncelikli olarak suç işlemek amacıyla tasarlanmış veya uyarlanmış</a:t>
            </a:r>
            <a:endParaRPr b="0" lang="en-US" sz="4000" spc="-1" strike="noStrike">
              <a:solidFill>
                <a:srgbClr val="000000"/>
              </a:solidFill>
              <a:latin typeface="Calibri"/>
            </a:endParaRPr>
          </a:p>
        </p:txBody>
      </p:sp>
      <p:sp>
        <p:nvSpPr>
          <p:cNvPr id="262" name="PlaceHolder 2"/>
          <p:cNvSpPr>
            <a:spLocks noGrp="1"/>
          </p:cNvSpPr>
          <p:nvPr>
            <p:ph/>
          </p:nvPr>
        </p:nvSpPr>
        <p:spPr>
          <a:xfrm>
            <a:off x="457200" y="1994040"/>
            <a:ext cx="8229600" cy="47275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şu iki husus arasında denge gözetmektedir:</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dışı bırakmak (çok dar ve ispatı çok zor olacaktır); ile</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içine almak (hukuka uygun şekilde üretilmiş ve dağıtılmış olsa dahi tüm cihazları kapsayarak aşırı geniş bir suç yaratmış olacaktır)</a:t>
            </a:r>
            <a:endParaRPr b="0" lang="en-US" sz="2400" spc="-1" strike="noStrike">
              <a:solidFill>
                <a:srgbClr val="000000"/>
              </a:solidFill>
              <a:latin typeface="Calibri"/>
            </a:endParaRPr>
          </a:p>
          <a:p>
            <a:pPr lvl="1" marL="720720" indent="0" algn="just">
              <a:lnSpc>
                <a:spcPct val="9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cihazın </a:t>
            </a:r>
            <a:r>
              <a:rPr b="1" lang="en-GB" sz="2800" spc="-1" strike="noStrike">
                <a:solidFill>
                  <a:srgbClr val="000000"/>
                </a:solidFill>
                <a:latin typeface="Calibri"/>
                <a:ea typeface="Times New Roman"/>
              </a:rPr>
              <a:t>öncelikli olarak </a:t>
            </a:r>
            <a:r>
              <a:rPr b="0" lang="en-GB" sz="2800" spc="-1" strike="noStrike">
                <a:solidFill>
                  <a:srgbClr val="000000"/>
                </a:solidFill>
                <a:latin typeface="Calibri"/>
                <a:ea typeface="Times New Roman"/>
              </a:rPr>
              <a:t>(ama sadece bu amaçla değil) Sözleşme’nin 2-5. maddeleri kapsamında yer alan bir suçun işlenmesi amacıyla tasarlanmış veya uyarlanmış olmasını şart koşmaktadır. </a:t>
            </a:r>
            <a:endParaRPr b="0" lang="en-US" sz="2800" spc="-1" strike="noStrike">
              <a:solidFill>
                <a:srgbClr val="000000"/>
              </a:solidFill>
              <a:latin typeface="Calibri"/>
            </a:endParaRPr>
          </a:p>
        </p:txBody>
      </p:sp>
      <p:sp>
        <p:nvSpPr>
          <p:cNvPr id="2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849AD3-FBEB-41FB-B59D-EA5C85B75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65" name="PlaceHolder 2"/>
          <p:cNvSpPr>
            <a:spLocks noGrp="1"/>
          </p:cNvSpPr>
          <p:nvPr>
            <p:ph/>
          </p:nvPr>
        </p:nvSpPr>
        <p:spPr>
          <a:xfrm>
            <a:off x="182520" y="1188720"/>
            <a:ext cx="8710560" cy="5668920"/>
          </a:xfrm>
          <a:prstGeom prst="rect">
            <a:avLst/>
          </a:prstGeom>
          <a:noFill/>
          <a:ln w="0">
            <a:noFill/>
          </a:ln>
        </p:spPr>
        <p:txBody>
          <a:bodyPr anchor="t">
            <a:normAutofit fontScale="99000"/>
          </a:bodyPr>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02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02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1" lang="tr-TR" sz="2800" spc="-1" strike="noStrike">
                <a:solidFill>
                  <a:srgbClr val="ff0000"/>
                </a:solidFill>
                <a:latin typeface="Calibri"/>
              </a:rPr>
              <a:t>bir bilgisayar sisteminin tamamına veya herhangi bir kısmına erişimi mümkün kılan bir bilgisayar şifresi, erişim kodu veya benzer bir veri</a:t>
            </a:r>
            <a:endParaRPr b="0" lang="en-US" sz="2800" spc="-1" strike="noStrike">
              <a:solidFill>
                <a:srgbClr val="000000"/>
              </a:solidFill>
              <a:latin typeface="Calibri"/>
            </a:endParaRPr>
          </a:p>
          <a:p>
            <a:pPr lvl="1" marL="2905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8B20C00-AA35-40D2-B952-3CED5E7A1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ilgisayar verilerinin ve sistemlerinin</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gizliliğine, bütünlüğüne ve </a:t>
            </a:r>
            <a:r>
              <a:rPr b="1" lang="tr-TR" sz="3200" spc="-1" strike="noStrike">
                <a:solidFill>
                  <a:srgbClr val="000000"/>
                </a:solidFill>
                <a:latin typeface="Calibri"/>
                <a:ea typeface="ＭＳ Ｐゴシック"/>
              </a:rPr>
              <a:t>erişilebilirliğine</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yönelik suçlar</a:t>
            </a:r>
            <a:endParaRPr b="0" lang="en-US" sz="32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3216B-CFFC-4611-B1C7-48ADA140E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şifreleri, erişim kodları vs.</a:t>
            </a:r>
            <a:endParaRPr b="0" lang="en-US" sz="4400" spc="-1" strike="noStrike">
              <a:solidFill>
                <a:srgbClr val="000000"/>
              </a:solidFill>
              <a:latin typeface="Calibri"/>
            </a:endParaRPr>
          </a:p>
        </p:txBody>
      </p:sp>
      <p:sp>
        <p:nvSpPr>
          <p:cNvPr id="268" name="PlaceHolder 2"/>
          <p:cNvSpPr>
            <a:spLocks noGrp="1"/>
          </p:cNvSpPr>
          <p:nvPr>
            <p:ph/>
          </p:nvPr>
        </p:nvSpPr>
        <p:spPr>
          <a:xfrm>
            <a:off x="457200" y="1530360"/>
            <a:ext cx="8229600" cy="4595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1(a)2. fıkra şunları şuç saymaktadır; </a:t>
            </a:r>
            <a:r>
              <a:rPr b="0" lang="tr-TR" sz="2800" spc="-1" strike="noStrike">
                <a:solidFill>
                  <a:srgbClr val="000000"/>
                </a:solidFill>
                <a:latin typeface="Calibri"/>
              </a:rPr>
              <a:t>bir bilgisayar sisteminin tamamına veya herhangi bir kısmına erişimi mümkün kılan bir bilgisayar şifresi, erişim kodu veya benzer bir verini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üret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atış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kullanım amacıyla tedarik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thalat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dağıtımı; ya 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aşka bir şekilde erişilebilir hale getirilmesi.</a:t>
            </a:r>
            <a:endParaRPr b="0" lang="en-US" sz="2400" spc="-1" strike="noStrike">
              <a:solidFill>
                <a:srgbClr val="000000"/>
              </a:solidFill>
              <a:latin typeface="Calibri"/>
            </a:endParaRPr>
          </a:p>
        </p:txBody>
      </p:sp>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3A8F43-DBE2-4402-BF6A-461586C1CD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71" name="PlaceHolder 2"/>
          <p:cNvSpPr>
            <a:spLocks noGrp="1"/>
          </p:cNvSpPr>
          <p:nvPr>
            <p:ph/>
          </p:nvPr>
        </p:nvSpPr>
        <p:spPr>
          <a:xfrm>
            <a:off x="-360" y="1136520"/>
            <a:ext cx="8961480" cy="4983120"/>
          </a:xfrm>
          <a:prstGeom prst="rect">
            <a:avLst/>
          </a:prstGeom>
          <a:noFill/>
          <a:ln w="0">
            <a:noFill/>
          </a:ln>
        </p:spPr>
        <p:txBody>
          <a:bodyPr anchor="t">
            <a:normAutofit fontScale="92000"/>
          </a:bodyPr>
          <a:p>
            <a:pPr lvl="1" marL="2700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000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0000" indent="-270000" algn="just">
              <a:lnSpc>
                <a:spcPct val="90000"/>
              </a:lnSpc>
              <a:buClr>
                <a:srgbClr val="000000"/>
              </a:buClr>
              <a:buFont typeface="Calibri"/>
              <a:buAutoNum type="alpha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yukarıdaki fıkra a.i veya ii’de atıfta bulunulmuş</a:t>
            </a:r>
            <a:r>
              <a:rPr b="1" lang="tr-TR" sz="3000" spc="-1" strike="noStrike">
                <a:solidFill>
                  <a:srgbClr val="ff0000"/>
                </a:solidFill>
                <a:latin typeface="Calibri"/>
              </a:rPr>
              <a:t> bir öğeyi, 2 ila 5. maddelerde belirtilmiş herhangi bir suçun işlenmesi için kullanılması amacıyla bulundurma</a:t>
            </a:r>
            <a:r>
              <a:rPr b="0" lang="tr-TR" sz="2400" spc="-1" strike="noStrike">
                <a:solidFill>
                  <a:srgbClr val="000000"/>
                </a:solidFill>
                <a:latin typeface="Calibri"/>
              </a:rPr>
              <a:t>. Taraflardan biri yasa gereği cezai sorumluluğun doğması için bahsi geçen öğelerden </a:t>
            </a:r>
            <a:r>
              <a:rPr b="1" lang="tr-TR" sz="3000" spc="-1" strike="noStrike">
                <a:solidFill>
                  <a:srgbClr val="ff0000"/>
                </a:solidFill>
                <a:latin typeface="Calibri"/>
              </a:rPr>
              <a:t>belli bir sayıda</a:t>
            </a:r>
            <a:r>
              <a:rPr b="0" lang="tr-TR" sz="2400" spc="-1" strike="noStrike">
                <a:solidFill>
                  <a:srgbClr val="000000"/>
                </a:solidFill>
                <a:latin typeface="Calibri"/>
              </a:rPr>
              <a:t> bulundurulmasını şart koşabilir.</a:t>
            </a:r>
            <a:endParaRPr b="0" lang="en-US" sz="24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83BE37-442F-422A-943E-77D8A0BB9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hazı, şifreyi vs. bulundurma</a:t>
            </a:r>
            <a:endParaRPr b="0" lang="en-US" sz="4400" spc="-1" strike="noStrike">
              <a:solidFill>
                <a:srgbClr val="000000"/>
              </a:solidFill>
              <a:latin typeface="Calibri"/>
            </a:endParaRPr>
          </a:p>
        </p:txBody>
      </p:sp>
      <p:sp>
        <p:nvSpPr>
          <p:cNvPr id="274" name="PlaceHolder 2"/>
          <p:cNvSpPr>
            <a:spLocks noGrp="1"/>
          </p:cNvSpPr>
          <p:nvPr>
            <p:ph/>
          </p:nvPr>
        </p:nvSpPr>
        <p:spPr>
          <a:xfrm>
            <a:off x="457200" y="1854360"/>
            <a:ext cx="8229600" cy="344304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a)1. veya 1(a)2. fıkralarda belirtilen öğelerin bulundurulması</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u bulundurma, Sözleşme’nin 2-5 maddeleri kapsamında bir suçun işlenmesi niyetiyle olmalıdır.</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iç mevzuatları yoluyla, cezai sorumluluğun söz konusu olması için kişinin belirli bir sayıda öğeyi bulundurması gereğini şart koşabilir. </a:t>
            </a:r>
            <a:endParaRPr b="0" lang="en-US" sz="2800" spc="-1" strike="noStrike">
              <a:solidFill>
                <a:srgbClr val="000000"/>
              </a:solidFill>
              <a:latin typeface="Calibri"/>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C41A59-447A-4A65-BDBA-6CE248DE30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Bilgisayarla Bağlantılı Suçlar</a:t>
            </a:r>
            <a:endParaRPr b="0" lang="en-US" sz="32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7BDE9-6C51-4E9F-9153-596D76BD3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Sahtecili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7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evrakta sahtecilik suçuna paralel bir sahtecilik suçu yaratı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genellikle evraktaki ifade veya beyanların görsel olarak okunabilir olmasını gerektirdiği için ceza hukukunda bir boşluk söz konusudu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elektronik verilere uygulanamayabilir. </a:t>
            </a: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061AA-DCDB-4983-A8FC-A818FF1E1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1" name="PlaceHolder 2"/>
          <p:cNvSpPr>
            <a:spLocks noGrp="1"/>
          </p:cNvSpPr>
          <p:nvPr>
            <p:ph/>
          </p:nvPr>
        </p:nvSpPr>
        <p:spPr>
          <a:xfrm>
            <a:off x="457200" y="16956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AB1D3-17C3-422F-8E69-4DEF39B5E6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4" name="PlaceHolder 2"/>
          <p:cNvSpPr>
            <a:spLocks noGrp="1"/>
          </p:cNvSpPr>
          <p:nvPr>
            <p:ph/>
          </p:nvPr>
        </p:nvSpPr>
        <p:spPr>
          <a:xfrm>
            <a:off x="457200" y="1767960"/>
            <a:ext cx="8229600" cy="4526280"/>
          </a:xfrm>
          <a:prstGeom prst="rect">
            <a:avLst/>
          </a:prstGeom>
          <a:noFill/>
          <a:ln w="0">
            <a:noFill/>
          </a:ln>
        </p:spPr>
        <p:txBody>
          <a:bodyPr anchor="t">
            <a:normAutofit fontScale="97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a:t>
            </a:r>
            <a:r>
              <a:rPr b="1" lang="tr-TR" sz="3200" spc="-1" strike="noStrike">
                <a:solidFill>
                  <a:srgbClr val="ff0000"/>
                </a:solidFill>
                <a:latin typeface="Calibri"/>
              </a:rPr>
              <a:t>sahih olmayan verilerle sonuçlanan yeni veri girme</a:t>
            </a:r>
            <a:r>
              <a:rPr b="0" lang="tr-TR" sz="2600" spc="-1" strike="noStrike">
                <a:solidFill>
                  <a:srgbClr val="000000"/>
                </a:solidFill>
                <a:latin typeface="Calibri"/>
              </a:rPr>
              <a:t>, </a:t>
            </a:r>
            <a:r>
              <a:rPr b="1" lang="tr-TR" sz="3200" spc="-1" strike="noStrike">
                <a:solidFill>
                  <a:srgbClr val="ff0000"/>
                </a:solidFill>
                <a:latin typeface="Calibri"/>
              </a:rPr>
              <a:t>verileri değiştirme</a:t>
            </a:r>
            <a:r>
              <a:rPr b="0" lang="tr-TR" sz="2600" spc="-1" strike="noStrike">
                <a:solidFill>
                  <a:srgbClr val="000000"/>
                </a:solidFill>
                <a:latin typeface="Calibri"/>
              </a:rPr>
              <a:t>, </a:t>
            </a:r>
            <a:r>
              <a:rPr b="1" lang="tr-TR" sz="3200" spc="-1" strike="noStrike">
                <a:solidFill>
                  <a:srgbClr val="ff0000"/>
                </a:solidFill>
                <a:latin typeface="Calibri"/>
              </a:rPr>
              <a:t>silme</a:t>
            </a:r>
            <a:r>
              <a:rPr b="0" lang="tr-TR" sz="2600" spc="-1" strike="noStrike">
                <a:solidFill>
                  <a:srgbClr val="000000"/>
                </a:solidFill>
                <a:latin typeface="Calibri"/>
              </a:rPr>
              <a:t> veya </a:t>
            </a:r>
            <a:r>
              <a:rPr b="1" lang="tr-TR" sz="3200" spc="-1" strike="noStrike">
                <a:solidFill>
                  <a:srgbClr val="ff0000"/>
                </a:solidFill>
                <a:latin typeface="Calibri"/>
              </a:rPr>
              <a:t>engelleme</a:t>
            </a:r>
            <a:r>
              <a:rPr b="0" lang="tr-TR" sz="2600" spc="-1" strike="noStrike">
                <a:solidFill>
                  <a:srgbClr val="ff0000"/>
                </a:solidFill>
                <a:latin typeface="Calibri"/>
              </a:rPr>
              <a:t> </a:t>
            </a:r>
            <a:r>
              <a:rPr b="0" lang="tr-TR" sz="2600" spc="-1" strike="noStrike">
                <a:solidFill>
                  <a:srgbClr val="000000"/>
                </a:solidFill>
                <a:latin typeface="Calibri"/>
              </a:rPr>
              <a:t>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C909AF-7F5E-4099-8744-EA0C47F8F8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veya engelleme</a:t>
            </a:r>
            <a:endParaRPr b="0" lang="en-US" sz="4400" spc="-1" strike="noStrike">
              <a:solidFill>
                <a:srgbClr val="000000"/>
              </a:solidFill>
              <a:latin typeface="Calibri"/>
            </a:endParaRPr>
          </a:p>
        </p:txBody>
      </p:sp>
      <p:sp>
        <p:nvSpPr>
          <p:cNvPr id="287"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Sahih bir belgede şu yöntemlerle tahrif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Doğru veya yanlış veriler </a:t>
            </a:r>
            <a:r>
              <a:rPr b="1" lang="en-GB" sz="2800" spc="-1" strike="noStrike">
                <a:solidFill>
                  <a:srgbClr val="000000"/>
                </a:solidFill>
                <a:latin typeface="Calibri"/>
                <a:ea typeface="Times New Roman"/>
              </a:rPr>
              <a:t>girilmesi</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onradan </a:t>
            </a:r>
            <a:r>
              <a:rPr b="1" lang="en-GB" sz="2800" spc="-1" strike="noStrike">
                <a:solidFill>
                  <a:srgbClr val="000000"/>
                </a:solidFill>
                <a:latin typeface="Calibri"/>
                <a:ea typeface="Times New Roman"/>
              </a:rPr>
              <a:t>değiştirme </a:t>
            </a:r>
            <a:r>
              <a:rPr b="0" lang="en-GB" sz="2800" spc="-1" strike="noStrike">
                <a:solidFill>
                  <a:srgbClr val="000000"/>
                </a:solidFill>
                <a:latin typeface="Calibri"/>
                <a:ea typeface="Times New Roman"/>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ilme </a:t>
            </a:r>
            <a:r>
              <a:rPr b="0" lang="en-GB" sz="2800" spc="-1" strike="noStrike">
                <a:solidFill>
                  <a:srgbClr val="000000"/>
                </a:solidFill>
                <a:latin typeface="Calibri"/>
                <a:ea typeface="Times New Roman"/>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Engelleme </a:t>
            </a:r>
            <a:r>
              <a:rPr b="0" lang="en-GB" sz="2800" spc="-1" strike="noStrike">
                <a:solidFill>
                  <a:srgbClr val="000000"/>
                </a:solidFill>
                <a:latin typeface="Calibri"/>
                <a:ea typeface="Times New Roman"/>
              </a:rPr>
              <a:t>(verilerin alıkonulması, gizlenmesi)</a:t>
            </a:r>
            <a:endParaRPr b="0" lang="en-US" sz="2800" spc="-1" strike="noStrike">
              <a:solidFill>
                <a:srgbClr val="000000"/>
              </a:solidFill>
              <a:latin typeface="Calibri"/>
            </a:endParaRPr>
          </a:p>
        </p:txBody>
      </p:sp>
      <p:sp>
        <p:nvSpPr>
          <p:cNvPr id="2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6729F61-DF21-41C1-89B3-9AB6911EB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90" name="PlaceHolder 2"/>
          <p:cNvSpPr>
            <a:spLocks noGrp="1"/>
          </p:cNvSpPr>
          <p:nvPr>
            <p:ph/>
          </p:nvPr>
        </p:nvSpPr>
        <p:spPr>
          <a:xfrm>
            <a:off x="457200" y="1727280"/>
            <a:ext cx="8229600" cy="5130720"/>
          </a:xfrm>
          <a:prstGeom prst="rect">
            <a:avLst/>
          </a:prstGeom>
          <a:noFill/>
          <a:ln w="0">
            <a:noFill/>
          </a:ln>
        </p:spPr>
        <p:txBody>
          <a:bodyPr anchor="t">
            <a:normAutofit fontScale="99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a:t>
            </a:r>
            <a:r>
              <a:rPr b="1" lang="tr-TR" sz="3200" spc="-1" strike="noStrike">
                <a:solidFill>
                  <a:srgbClr val="ff0000"/>
                </a:solidFill>
                <a:latin typeface="Calibri"/>
              </a:rPr>
              <a:t>söz konusu verilerin yasal açıdan sahih verilermiş gibi kabul edilmesi veya işlem görmesi niyetiyle</a:t>
            </a:r>
            <a:r>
              <a:rPr b="0" lang="tr-TR" sz="2600" spc="-1" strike="noStrike">
                <a:solidFill>
                  <a:srgbClr val="000000"/>
                </a:solidFill>
                <a:latin typeface="Calibri"/>
              </a:rPr>
              <a:t>,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a:t>
            </a:r>
            <a:r>
              <a:rPr b="1" lang="tr-TR" sz="3200" spc="-1" strike="noStrike">
                <a:solidFill>
                  <a:srgbClr val="ff0000"/>
                </a:solidFill>
                <a:latin typeface="Calibri"/>
              </a:rPr>
              <a:t>hile veya benzer bir sahtekârlık niyetiyle </a:t>
            </a:r>
            <a:r>
              <a:rPr b="0" lang="tr-TR" sz="2600" spc="-1" strike="noStrike">
                <a:solidFill>
                  <a:srgbClr val="000000"/>
                </a:solidFill>
                <a:latin typeface="Calibri"/>
              </a:rPr>
              <a:t>gerçekleştirilmiş olmasını şart koşabilir.</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DD37F0-D6DD-41DA-A4DC-DFFAE9CEFF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GB" sz="4400" spc="-1" strike="noStrike">
                <a:solidFill>
                  <a:srgbClr val="000000"/>
                </a:solidFill>
                <a:latin typeface="Calibri"/>
              </a:rPr>
              <a:t>Yasal açıdan kabul edilme veya işlem görme niyeti</a:t>
            </a:r>
            <a:br>
              <a:rPr sz="4400"/>
            </a:br>
            <a:endParaRPr b="0" lang="en-US" sz="4400" spc="-1" strike="noStrike">
              <a:solidFill>
                <a:srgbClr val="000000"/>
              </a:solidFill>
              <a:latin typeface="Calibri"/>
            </a:endParaRPr>
          </a:p>
        </p:txBody>
      </p:sp>
      <p:sp>
        <p:nvSpPr>
          <p:cNvPr id="293"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k niyet şartı</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yasal açıdan” hukuki açıdan önem arz eden belgeleri ve yasal işlemleri içerir.</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bu suçu, sahtekârlık niyetiyle yapılması şartı getirerek daha da kısıtlayabilir.</a:t>
            </a:r>
            <a:endParaRPr b="0" lang="en-US" sz="2800" spc="-1" strike="noStrike">
              <a:solidFill>
                <a:srgbClr val="000000"/>
              </a:solidFill>
              <a:latin typeface="Calibri"/>
            </a:endParaRPr>
          </a:p>
        </p:txBody>
      </p:sp>
      <p:sp>
        <p:nvSpPr>
          <p:cNvPr id="294"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8A51D9D-E177-4A60-A4F9-C500500EE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ea typeface="ＭＳ Ｐゴシック"/>
              </a:rPr>
              <a:t>Yasadışı Eriş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ＭＳ Ｐゴシック"/>
              </a:rPr>
              <a:t>(</a:t>
            </a:r>
            <a:r>
              <a:rPr b="1" i="1" lang="tr-TR" sz="3200" spc="-1" strike="noStrike">
                <a:solidFill>
                  <a:srgbClr val="000000"/>
                </a:solidFill>
                <a:latin typeface="Calibri"/>
                <a:ea typeface="ＭＳ Ｐゴシック"/>
              </a:rPr>
              <a:t>Madde</a:t>
            </a:r>
            <a:r>
              <a:rPr b="1" i="1" lang="en-GB" sz="3200" spc="-1" strike="noStrike">
                <a:solidFill>
                  <a:srgbClr val="000000"/>
                </a:solidFill>
                <a:latin typeface="Calibri"/>
                <a:ea typeface="ＭＳ Ｐゴシック"/>
              </a:rPr>
              <a:t> 2 – </a:t>
            </a:r>
            <a:r>
              <a:rPr b="1" i="1" lang="tr-TR" sz="3200" spc="-1" strike="noStrike">
                <a:solidFill>
                  <a:srgbClr val="000000"/>
                </a:solidFill>
                <a:latin typeface="Calibri"/>
                <a:ea typeface="ＭＳ Ｐゴシック"/>
              </a:rPr>
              <a:t>Budapeşte Sözleşmesi</a:t>
            </a:r>
            <a:r>
              <a:rPr b="1"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ir bilgisayar sisteminin tamam</a:t>
            </a:r>
            <a:r>
              <a:rPr b="0" i="1" lang="tr-TR" sz="3200" spc="-1" strike="noStrike">
                <a:solidFill>
                  <a:srgbClr val="000000"/>
                </a:solidFill>
                <a:latin typeface="Calibri"/>
                <a:ea typeface="ＭＳ Ｐゴシック"/>
              </a:rPr>
              <a:t>ına</a:t>
            </a:r>
            <a:r>
              <a:rPr b="0" i="1" lang="en-GB" sz="3200" spc="-1" strike="noStrike">
                <a:solidFill>
                  <a:srgbClr val="000000"/>
                </a:solidFill>
                <a:latin typeface="Calibri"/>
                <a:ea typeface="ＭＳ Ｐゴシック"/>
              </a:rPr>
              <a:t> veya bir kısmına haksız yere erişim sağlamak</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Kasıtlı olarak</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Dolandırıcılı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8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dolandırıcılık suçuna paralel bir dolandırıcılık suçu yaratır.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B8361-29D9-4FFD-BA09-1742B79CDD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298" name="PlaceHolder 2"/>
          <p:cNvSpPr>
            <a:spLocks noGrp="1"/>
          </p:cNvSpPr>
          <p:nvPr>
            <p:ph/>
          </p:nvPr>
        </p:nvSpPr>
        <p:spPr>
          <a:xfrm>
            <a:off x="250920" y="1600200"/>
            <a:ext cx="8596080" cy="512136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Şahısların kendilerine veya bir başkasına haksız yere maddi menfaat sağlamak için hile ve sahtekârlık niyetiyl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veri girişi yapma, verileri değiştirme, silme veya engellem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işleyişine herhangi bir müdahalede bulunma. </a:t>
            </a:r>
            <a:endParaRPr b="0" lang="en-US" sz="2800" spc="-1" strike="noStrike">
              <a:solidFill>
                <a:srgbClr val="000000"/>
              </a:solidFill>
              <a:latin typeface="Calibri"/>
            </a:endParaRPr>
          </a:p>
        </p:txBody>
      </p:sp>
      <p:sp>
        <p:nvSpPr>
          <p:cNvPr id="2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2D41644-6293-41AD-8986-8FC28760D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1" name="PlaceHolder 2"/>
          <p:cNvSpPr>
            <a:spLocks noGrp="1"/>
          </p:cNvSpPr>
          <p:nvPr>
            <p:ph/>
          </p:nvPr>
        </p:nvSpPr>
        <p:spPr>
          <a:xfrm>
            <a:off x="456840" y="1600200"/>
            <a:ext cx="8389800" cy="4525920"/>
          </a:xfrm>
          <a:prstGeom prst="rect">
            <a:avLst/>
          </a:prstGeom>
          <a:noFill/>
          <a:ln w="0">
            <a:noFill/>
          </a:ln>
        </p:spPr>
        <p:txBody>
          <a:bodyPr anchor="t">
            <a:normAutofit fontScale="98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Şahısların kendilerine veya bir başkasına haksız yere maddi menfaat sağlamak için hile ve sahtekârlık niyetiyl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a:t>
            </a:r>
            <a:r>
              <a:rPr b="1" lang="tr-TR" sz="3200" spc="-1" strike="noStrike">
                <a:solidFill>
                  <a:srgbClr val="ff0000"/>
                </a:solidFill>
                <a:latin typeface="Calibri"/>
                <a:ea typeface="Times New Roman"/>
              </a:rPr>
              <a:t>veri girişi yapma, verileri değiştirme, silme veya engellem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a:t>
            </a:r>
            <a:r>
              <a:rPr b="1" lang="tr-TR" sz="3200" spc="-1" strike="noStrike">
                <a:solidFill>
                  <a:srgbClr val="ff0000"/>
                </a:solidFill>
                <a:latin typeface="Calibri"/>
                <a:ea typeface="Times New Roman"/>
              </a:rPr>
              <a:t>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37F6399-C19A-43CF-8174-EE00A52A4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engelleme ve </a:t>
            </a:r>
            <a:br>
              <a:rPr sz="4400"/>
            </a:br>
            <a:r>
              <a:rPr b="1" lang="en-GB" sz="4400" spc="-1" strike="noStrike">
                <a:solidFill>
                  <a:srgbClr val="000000"/>
                </a:solidFill>
                <a:latin typeface="Calibri"/>
              </a:rPr>
              <a:t>verilere müdahale</a:t>
            </a:r>
            <a:endParaRPr b="0" lang="en-US" sz="4400" spc="-1" strike="noStrike">
              <a:solidFill>
                <a:srgbClr val="000000"/>
              </a:solidFill>
              <a:latin typeface="Calibri"/>
            </a:endParaRPr>
          </a:p>
        </p:txBody>
      </p:sp>
      <p:sp>
        <p:nvSpPr>
          <p:cNvPr id="304"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Şu yöntemlerle başka bir şahsın mal kaybına yol açmak: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ğru veya yanlış veriler </a:t>
            </a:r>
            <a:r>
              <a:rPr b="1" lang="en-GB" sz="2800" spc="-1" strike="noStrike">
                <a:solidFill>
                  <a:srgbClr val="000000"/>
                </a:solidFill>
                <a:latin typeface="Calibri"/>
              </a:rPr>
              <a:t>girilmesi</a:t>
            </a:r>
            <a:r>
              <a:rPr b="0" lang="en-GB"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nradan </a:t>
            </a:r>
            <a:r>
              <a:rPr b="1" lang="en-GB" sz="2800" spc="-1" strike="noStrike">
                <a:solidFill>
                  <a:srgbClr val="000000"/>
                </a:solidFill>
                <a:latin typeface="Calibri"/>
              </a:rPr>
              <a:t>değiştirme </a:t>
            </a:r>
            <a:r>
              <a:rPr b="0" lang="en-GB" sz="2800" spc="-1" strike="noStrike">
                <a:solidFill>
                  <a:srgbClr val="000000"/>
                </a:solidFill>
                <a:latin typeface="Calibri"/>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ilme </a:t>
            </a:r>
            <a:r>
              <a:rPr b="0" lang="en-GB" sz="2800" spc="-1" strike="noStrike">
                <a:solidFill>
                  <a:srgbClr val="000000"/>
                </a:solidFill>
                <a:latin typeface="Calibri"/>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Engelleme </a:t>
            </a:r>
            <a:r>
              <a:rPr b="0" lang="en-GB" sz="2800" spc="-1" strike="noStrike">
                <a:solidFill>
                  <a:srgbClr val="000000"/>
                </a:solidFill>
                <a:latin typeface="Calibri"/>
              </a:rPr>
              <a:t>(verilerin alıkonulması, gizlenmes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Müdahale </a:t>
            </a:r>
            <a:r>
              <a:rPr b="0" lang="en-GB" sz="2800" spc="-1" strike="noStrike">
                <a:solidFill>
                  <a:srgbClr val="000000"/>
                </a:solidFill>
                <a:latin typeface="Calibri"/>
              </a:rPr>
              <a:t>(bilgisayar sisteminin işleyişine)</a:t>
            </a:r>
            <a:endParaRPr b="0" lang="en-US" sz="2800" spc="-1" strike="noStrike">
              <a:solidFill>
                <a:srgbClr val="000000"/>
              </a:solidFill>
              <a:latin typeface="Calibri"/>
            </a:endParaRPr>
          </a:p>
        </p:txBody>
      </p:sp>
      <p:sp>
        <p:nvSpPr>
          <p:cNvPr id="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131776-3175-42A8-8C31-E9F826138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7" name="PlaceHolder 2"/>
          <p:cNvSpPr>
            <a:spLocks noGrp="1"/>
          </p:cNvSpPr>
          <p:nvPr>
            <p:ph/>
          </p:nvPr>
        </p:nvSpPr>
        <p:spPr>
          <a:xfrm>
            <a:off x="456840" y="1600200"/>
            <a:ext cx="8412120" cy="5532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a:t>
            </a:r>
            <a:r>
              <a:rPr b="1" lang="tr-TR" sz="3200" spc="-1" strike="noStrike">
                <a:solidFill>
                  <a:srgbClr val="ff0000"/>
                </a:solidFill>
                <a:latin typeface="Calibri"/>
                <a:ea typeface="Times New Roman"/>
              </a:rPr>
              <a:t>mal kaybına </a:t>
            </a:r>
            <a:r>
              <a:rPr b="0" lang="tr-TR" sz="2600" spc="-1" strike="noStrike">
                <a:solidFill>
                  <a:srgbClr val="000000"/>
                </a:solidFill>
                <a:latin typeface="Calibri"/>
                <a:ea typeface="Times New Roman"/>
              </a:rPr>
              <a:t>sebebiyet verdiğinde, bunların kendi iç hukukunda cezai suç olarak tanımlanması için gerekli olabilecek yasama tedbirlerini ve diğer tedbirleri kabul edecektir:</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ff0000"/>
                </a:solidFill>
                <a:latin typeface="Calibri"/>
                <a:ea typeface="Times New Roman"/>
              </a:rPr>
              <a:t>Şahısların kendilerine veya bir başkasına haksız yere maddi menfaat sağlamak için hile ve sahtekârlık niyetiyl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64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lgisayar sistemlerine veri girişi yapma, verileri değiştirme, silme veya engellem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r bilgisayar sisteminin 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3088660-28A9-48EE-A930-3787DE36EA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l kaybı</a:t>
            </a:r>
            <a:endParaRPr b="0" lang="en-US" sz="4400" spc="-1" strike="noStrike">
              <a:solidFill>
                <a:srgbClr val="000000"/>
              </a:solidFill>
              <a:latin typeface="Calibri"/>
            </a:endParaRPr>
          </a:p>
        </p:txBody>
      </p:sp>
      <p:sp>
        <p:nvSpPr>
          <p:cNvPr id="310" name=""/>
          <p:cNvSpPr txBox="1"/>
          <p:nvPr/>
        </p:nvSpPr>
        <p:spPr>
          <a:xfrm>
            <a:off x="457200" y="1420920"/>
            <a:ext cx="8229600" cy="4525920"/>
          </a:xfrm>
          <a:prstGeom prst="rect">
            <a:avLst/>
          </a:prstGeom>
          <a:noFill/>
          <a:ln w="0">
            <a:noFill/>
          </a:ln>
        </p:spPr>
        <p:txBody>
          <a:bodyPr anchor="t">
            <a:normAutofit fontScale="90000"/>
          </a:bodyPr>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il başka bir kişinin malvarlığında doğrudan ekonomik veya zilyetliğe dair bir kayba yol açmalıdır.</a:t>
            </a:r>
            <a:endParaRPr b="0" lang="en-US" sz="30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na şu kayıplar dahildir: </a:t>
            </a:r>
            <a:endParaRPr b="0" lang="en-US" sz="30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ddi aktifl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konomik değeri olan ancak maddi olmayan aktifler</a:t>
            </a:r>
            <a:endParaRPr b="0" lang="en-US" sz="28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yrıca, fiil fail tarafından kendisi veya başka bir kişi için haksız kazanç elde etme niyetiyle gerçekleştirilmelidir. </a:t>
            </a:r>
            <a:endParaRPr b="0" lang="en-US" sz="3000" spc="-1" strike="noStrike">
              <a:solidFill>
                <a:srgbClr val="000000"/>
              </a:solidFill>
              <a:latin typeface="Calibri"/>
            </a:endParaRPr>
          </a:p>
        </p:txBody>
      </p:sp>
      <p:sp>
        <p:nvSpPr>
          <p:cNvPr id="3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E10D6F-3044-482A-9613-5C64EFA484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İçerikle Bağlantılı Suçlar</a:t>
            </a:r>
            <a:endParaRPr b="0" lang="en-US" sz="32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A12B7-A8A0-4753-9065-43B3DD2410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Çocuk Pornografisi</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9 – Budapeşte Sözleşmesi)</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üyük yenilik</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ir bilgisayar sistemi aracılığıyla işlenen çocuk pornografisi fiillerinin suç sayılması</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Önemli hususlar: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a:t>
            </a:r>
            <a:r>
              <a:rPr b="0" i="1" lang="en-GB" sz="2400" spc="-1" strike="noStrike">
                <a:solidFill>
                  <a:srgbClr val="000000"/>
                </a:solidFill>
                <a:latin typeface="Calibri"/>
              </a:rPr>
              <a:t>Psödo imgelerin” suç sayılması;</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Çocuk pornografisi materyallerinin sadece bulundurulmasının dahi cezalandırılması</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irçok ülke mevzuatında bulunmuyor</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Uluslararası arenada (örn. BM) çok yaygın bir yaklaşım</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Avrupa Birliği</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Çocuk pornografisi materyallerinin sadece bulundurulmasını dahi suç sayıyor</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Avrupa Parlamentosu ve Konseyi, 2011/92/EU sayılı Direktif</a:t>
            </a:r>
            <a:endParaRPr b="0" lang="en-US" sz="16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7BC42-1CA0-4007-AECE-4CC147FA7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17" name="PlaceHolder 2"/>
          <p:cNvSpPr>
            <a:spLocks noGrp="1"/>
          </p:cNvSpPr>
          <p:nvPr>
            <p:ph/>
          </p:nvPr>
        </p:nvSpPr>
        <p:spPr>
          <a:xfrm>
            <a:off x="457200" y="1642680"/>
            <a:ext cx="8229600" cy="4894200"/>
          </a:xfrm>
          <a:prstGeom prst="rect">
            <a:avLst/>
          </a:prstGeom>
          <a:noFill/>
          <a:ln w="0">
            <a:noFill/>
          </a:ln>
        </p:spPr>
        <p:txBody>
          <a:bodyPr anchor="t">
            <a:normAutofit fontScale="99000"/>
          </a:bodyPr>
          <a:p>
            <a:pPr marL="452520" indent="-452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dağıtımını yapmak amacıyla çocuk pornografisi ür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 sunmak veya erişilebilir hale getir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n dağıtım veya iletimini yapma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kendisi veya başkası için bir bilgisayar sistemi üzerinden çocuk pornografisi temin 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nde veya bilgisayar verileri depolama aygıtında çocuk pornografisi bulundurmak.</a:t>
            </a:r>
            <a:endParaRPr b="0" lang="en-US" sz="20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3206C-2CE8-4DB4-B591-E3F7E9BB7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0" name="PlaceHolder 2"/>
          <p:cNvSpPr>
            <a:spLocks noGrp="1"/>
          </p:cNvSpPr>
          <p:nvPr>
            <p:ph/>
          </p:nvPr>
        </p:nvSpPr>
        <p:spPr>
          <a:xfrm>
            <a:off x="457200" y="1262160"/>
            <a:ext cx="8229600" cy="541008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2400" spc="-1" strike="noStrike">
              <a:solidFill>
                <a:srgbClr val="000000"/>
              </a:solidFill>
              <a:latin typeface="Calibri"/>
            </a:endParaRPr>
          </a:p>
        </p:txBody>
      </p:sp>
      <p:sp>
        <p:nvSpPr>
          <p:cNvPr id="3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98934-0BEC-486A-84D8-C042A1496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77"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54137-EE49-438A-91B9-78009D719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055A02-A33F-4861-9F52-DC0B4CD273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a:t>
            </a:r>
            <a:r>
              <a:rPr b="1" lang="tr-TR" sz="3200" spc="-1" strike="noStrike">
                <a:solidFill>
                  <a:srgbClr val="ff0000"/>
                </a:solidFill>
                <a:latin typeface="Calibri"/>
              </a:rPr>
              <a:t>haksız yere </a:t>
            </a:r>
            <a:r>
              <a:rPr b="0" lang="tr-TR" sz="2400" spc="-1" strike="noStrike">
                <a:solidFill>
                  <a:srgbClr val="000000"/>
                </a:solidFill>
                <a:latin typeface="Calibri"/>
              </a:rPr>
              <a:t>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326" name=""/>
          <p:cNvSpPr txBox="1"/>
          <p:nvPr/>
        </p:nvSpPr>
        <p:spPr>
          <a:xfrm>
            <a:off x="457200" y="1657440"/>
            <a:ext cx="8229600" cy="45259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ın aşağıdakileri içeren temel hakları dikkate almasına imkân tanır: </a:t>
            </a:r>
            <a:endParaRPr b="0" lang="en-US" sz="30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ad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üşünc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Özel hayatın gizliliği</a:t>
            </a:r>
            <a:endParaRPr b="0" lang="en-US" sz="2600" spc="-1" strike="noStrike">
              <a:solidFill>
                <a:srgbClr val="000000"/>
              </a:solidFill>
              <a:latin typeface="Calibri"/>
            </a:endParaRPr>
          </a:p>
          <a:p>
            <a:pPr marL="339480" indent="-3394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pornografik materyalle” bağlantılı fiilin sanatsal, tıbbi, bilimsel veya benzeri bir esasa dayandığı yönünde savunma yapılmasına izin verebilir. </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2A1CEE-F603-4F80-962B-B7E4467D3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298463C-741D-4831-98A1-21BBADF2A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anchor="t">
            <a:normAutofit fontScale="88000"/>
          </a:bodyPr>
          <a:p>
            <a:pPr marL="402120" indent="-4021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a:t>
            </a:r>
            <a:r>
              <a:rPr b="1" lang="tr-TR" sz="2400" spc="-1" strike="noStrike">
                <a:solidFill>
                  <a:srgbClr val="ff0000"/>
                </a:solidFill>
                <a:latin typeface="Calibri"/>
              </a:rPr>
              <a:t>ür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a:t>
            </a:r>
            <a:r>
              <a:rPr b="1" lang="tr-TR" sz="2400" spc="-1" strike="noStrike">
                <a:solidFill>
                  <a:srgbClr val="ff0000"/>
                </a:solidFill>
                <a:latin typeface="Calibri"/>
              </a:rPr>
              <a:t>sunmak</a:t>
            </a:r>
            <a:r>
              <a:rPr b="0" lang="tr-TR" sz="2000" spc="-1" strike="noStrike">
                <a:solidFill>
                  <a:srgbClr val="000000"/>
                </a:solidFill>
                <a:latin typeface="Calibri"/>
              </a:rPr>
              <a:t> veya </a:t>
            </a:r>
            <a:r>
              <a:rPr b="1" lang="tr-TR" sz="2400" spc="-1" strike="noStrike">
                <a:solidFill>
                  <a:srgbClr val="ff0000"/>
                </a:solidFill>
                <a:latin typeface="Calibri"/>
              </a:rPr>
              <a:t>erişilebilir hale getir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Üretmek, sunmak ve erişilebilir hale getirmek</a:t>
            </a:r>
            <a:endParaRPr b="0" lang="en-US" sz="4400" spc="-1" strike="noStrike">
              <a:solidFill>
                <a:srgbClr val="000000"/>
              </a:solidFill>
              <a:latin typeface="Calibri"/>
            </a:endParaRPr>
          </a:p>
        </p:txBody>
      </p:sp>
      <p:sp>
        <p:nvSpPr>
          <p:cNvPr id="332" name=""/>
          <p:cNvSpPr txBox="1"/>
          <p:nvPr/>
        </p:nvSpPr>
        <p:spPr>
          <a:xfrm>
            <a:off x="457200" y="1787400"/>
            <a:ext cx="8229600" cy="4525920"/>
          </a:xfrm>
          <a:prstGeom prst="rect">
            <a:avLst/>
          </a:prstGeom>
          <a:noFill/>
          <a:ln w="0">
            <a:noFill/>
          </a:ln>
        </p:spPr>
        <p:txBody>
          <a:bodyPr anchor="t">
            <a:normAutofit fontScale="96000"/>
          </a:bodyPr>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Çocuk pornografisinin üretiminden bulundurulmasına dek zincirin her bir katılımcısı açısından cezai sonuçlar doğmaktadır.</a:t>
            </a:r>
            <a:endParaRPr b="0" lang="en-US" sz="2700" spc="-1" strike="noStrike">
              <a:solidFill>
                <a:srgbClr val="000000"/>
              </a:solidFill>
              <a:latin typeface="Calibri"/>
            </a:endParaRPr>
          </a:p>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Şunlar suç sayılmaktadır:</a:t>
            </a:r>
            <a:endParaRPr b="0" lang="en-US" sz="27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üretilmesi (bilgisayar sistemleri üzerinden dağıtılmak amacıyla)</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sunulması (başkalarının çocuk pornografisi edinmeye sevk edilmesi)</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nin erişilebilir kılınması (çocuk pornografisi web siteleri oluşturulması da dahil olmak üzere, çocuk pornografisinin başkalarının kullanımı için çevrimiçi kılınması)</a:t>
            </a:r>
            <a:endParaRPr b="0" lang="en-US" sz="24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B74D7D0-8208-4D1B-9393-B3BDA07F4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29C3AF7-CC91-4796-A391-F29C2FA6E4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a:t>
            </a:r>
            <a:r>
              <a:rPr b="1" lang="tr-TR" sz="2400" spc="-1" strike="noStrike">
                <a:solidFill>
                  <a:srgbClr val="ff0000"/>
                </a:solidFill>
                <a:latin typeface="Calibri"/>
              </a:rPr>
              <a:t>dağıtım</a:t>
            </a:r>
            <a:r>
              <a:rPr b="0" lang="tr-TR" sz="2000" spc="-1" strike="noStrike">
                <a:solidFill>
                  <a:srgbClr val="000000"/>
                </a:solidFill>
                <a:latin typeface="Calibri"/>
              </a:rPr>
              <a:t> veya </a:t>
            </a:r>
            <a:r>
              <a:rPr b="1" lang="tr-TR" sz="2400" spc="-1" strike="noStrike">
                <a:solidFill>
                  <a:srgbClr val="ff0000"/>
                </a:solidFill>
                <a:latin typeface="Calibri"/>
              </a:rPr>
              <a:t>iletimini yapma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a:t>
            </a:r>
            <a:r>
              <a:rPr b="1" lang="tr-TR" sz="2400" spc="-1" strike="noStrike">
                <a:solidFill>
                  <a:srgbClr val="ff0000"/>
                </a:solidFill>
                <a:latin typeface="Calibri"/>
              </a:rPr>
              <a:t>temin 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a:t>
            </a:r>
            <a:r>
              <a:rPr b="1" lang="tr-TR" sz="2400" spc="-1" strike="noStrike">
                <a:solidFill>
                  <a:srgbClr val="ff0000"/>
                </a:solidFill>
                <a:latin typeface="Calibri"/>
              </a:rPr>
              <a:t>bulundurmak</a:t>
            </a:r>
            <a:r>
              <a:rPr b="0" lang="tr-T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ğıtmak, iletmek, temin etmek ve bulundurmak</a:t>
            </a:r>
            <a:endParaRPr b="0" lang="en-US" sz="4400" spc="-1" strike="noStrike">
              <a:solidFill>
                <a:srgbClr val="000000"/>
              </a:solidFill>
              <a:latin typeface="Calibri"/>
            </a:endParaRPr>
          </a:p>
        </p:txBody>
      </p:sp>
      <p:sp>
        <p:nvSpPr>
          <p:cNvPr id="338"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Şunlar suç sayılmaktadır: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dağıtılması (çocuk pornografisinin aktif şekilde yayılmas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iletilmesi (bilgisayar sistemi üzerinden çocuk pornografisi gönder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endisi veya başka biri için çocuk pornografisi temini (çocuk pornografisi indirmek de dahil olmak üzere, aktif şekilde çocuk pornografisi elde etme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bulundurulması (bilgisayar sisteminde veya veri taşıyıcısında bulundurmak)</a:t>
            </a:r>
            <a:endParaRPr b="0" lang="en-US" sz="24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4D6BFF-6719-430D-B1A8-F37124C2B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F12ADB2-C6C6-447A-ACAF-F7C0F036FE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
          <p:cNvSpPr txBox="1"/>
          <p:nvPr/>
        </p:nvSpPr>
        <p:spPr>
          <a:xfrm>
            <a:off x="288720" y="1247760"/>
            <a:ext cx="860076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a:t>
            </a:r>
            <a:r>
              <a:rPr b="1" lang="tr-TR" sz="2800" spc="-1" strike="noStrike">
                <a:solidFill>
                  <a:srgbClr val="ff0000"/>
                </a:solidFill>
                <a:latin typeface="Calibri"/>
              </a:rPr>
              <a:t>görsel anlamda tasvir eden pornografik malzemeleri </a:t>
            </a:r>
            <a:r>
              <a:rPr b="0" lang="tr-TR" sz="2400" spc="-1" strike="noStrike">
                <a:solidFill>
                  <a:srgbClr val="000000"/>
                </a:solidFill>
                <a:latin typeface="Calibri"/>
              </a:rPr>
              <a:t>içer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fik materyal</a:t>
            </a:r>
            <a:endParaRPr b="0" lang="en-US" sz="4400" spc="-1" strike="noStrike">
              <a:solidFill>
                <a:srgbClr val="000000"/>
              </a:solidFill>
              <a:latin typeface="Calibri"/>
            </a:endParaRPr>
          </a:p>
        </p:txBody>
      </p:sp>
      <p:sp>
        <p:nvSpPr>
          <p:cNvPr id="344"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yalleri aşağıdaki kategorilere göre sınıflandıran ulusal standartlar getirilir: </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üstehce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el ahlaka aykırı; veya</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nzer biçimde yozlaşmış</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natsal, tıbbi, bilimsel veya benzer bir esasa dayalı materyaller pornografik olarak sınıflandırılmayabili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örsel betimleme bilgisayar sisteminde veya depolama aygıtında saklanan ve görsel imgeye dönüştürülebilen verileri kapsar. </a:t>
            </a:r>
            <a:endParaRPr b="0" lang="en-US" sz="28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44F4013-9C9B-4DF8-B6C9-FEA87A0AD0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8CD831-CCA7-4B34-8C90-45B508A7A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
          <p:cNvSpPr txBox="1"/>
          <p:nvPr/>
        </p:nvSpPr>
        <p:spPr>
          <a:xfrm>
            <a:off x="457200" y="1206000"/>
            <a:ext cx="8229600" cy="452628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a:t>
            </a:r>
            <a:r>
              <a:rPr b="1" lang="tr-TR" sz="2800" spc="-1" strike="noStrike">
                <a:solidFill>
                  <a:srgbClr val="ff0000"/>
                </a:solidFill>
                <a:latin typeface="Calibri"/>
              </a:rPr>
              <a:t>cinsel içerikli eylemlerde </a:t>
            </a:r>
            <a:r>
              <a:rPr b="0" lang="tr-TR" sz="2000" spc="-1" strike="noStrike">
                <a:solidFill>
                  <a:srgbClr val="000000"/>
                </a:solidFill>
                <a:latin typeface="Calibri"/>
              </a:rPr>
              <a:t>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8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insel içerikli eylem</a:t>
            </a:r>
            <a:endParaRPr b="0" lang="en-US" sz="4400" spc="-1" strike="noStrike">
              <a:solidFill>
                <a:srgbClr val="000000"/>
              </a:solidFill>
              <a:latin typeface="Calibri"/>
            </a:endParaRPr>
          </a:p>
        </p:txBody>
      </p:sp>
      <p:sp>
        <p:nvSpPr>
          <p:cNvPr id="350" name=""/>
          <p:cNvSpPr txBox="1"/>
          <p:nvPr/>
        </p:nvSpPr>
        <p:spPr>
          <a:xfrm>
            <a:off x="279360" y="1411200"/>
            <a:ext cx="8547120" cy="4525920"/>
          </a:xfrm>
          <a:prstGeom prst="rect">
            <a:avLst/>
          </a:prstGeom>
          <a:noFill/>
          <a:ln w="0">
            <a:noFill/>
          </a:ln>
        </p:spPr>
        <p:txBody>
          <a:bodyPr anchor="t">
            <a:normAutofit fontScale="85000"/>
          </a:bodyPr>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n azından şunları içerir:</a:t>
            </a:r>
            <a:endParaRPr b="0" lang="en-US" sz="28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veya karşı cinsten, reşit olmayan kişiler (küçükler) arasında ve bir yetişkin ile bir küçük arasında genital-genital, oral-genital, anal-genital veya oral-anal cinsel ilişki;</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Hayvanlarla cinsel ilişki; </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Mastürbasyon;</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Cinsel faaliyette sadist veya mazoşist istismar; ya da</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Reşit olmayan kişinin genital organlarının veya kasık bölgesinin şehvet uyandırıcı şekilde sergilenmesi.</a:t>
            </a:r>
            <a:endParaRPr b="0" lang="en-US" sz="24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cinsel içerikli eyleme ilişkin daha geniş bir tanım benimseyebilirler. </a:t>
            </a:r>
            <a:endParaRPr b="0" lang="en-US" sz="28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iilin gerçek veya taklit olması önem taşımamaktadır.</a:t>
            </a:r>
            <a:endParaRPr b="0" lang="en-US" sz="28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14F7D2-9CC2-4455-95C1-07207B754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defne orhun</cp:lastModifiedBy>
  <dcterms:modified xsi:type="dcterms:W3CDTF">2017-11-02T10:09:36Z</dcterms:modified>
  <cp:revision>546</cp:revision>
  <dc:subject/>
  <dc:title>Introductory Cybercrime Training for Judges and Prosecutors</dc:title>
</cp:coreProperties>
</file>