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7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9874250" cy="67246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874800" cy="672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27824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5592240" y="-360"/>
            <a:ext cx="428004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3255840" y="504360"/>
            <a:ext cx="3362400" cy="252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0" y="6386040"/>
            <a:ext cx="427824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5592240" y="6386040"/>
            <a:ext cx="428004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D16C9-125F-41B2-AFAF-DFB9037FB0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D70D2-4CAE-4E1D-80F1-1DA02EF022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8FDDE-EC38-4E43-8EB7-31CE759058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A67E3-B61C-42AA-AA0B-3C23DBDCC3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6F6A0-DBEF-4174-BF20-E2EE7B5ECC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FF08E-5664-418C-94E1-BCC9F93C47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0660C-C43C-47BE-A497-7FC936D631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A62C3-7952-4B6D-BE3E-502A9366D0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15EE4-EB9D-4833-BE3C-4715BA1CD5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D4035-AFB2-4CE8-8234-71E79A25C7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913BA-B628-4E84-A1BF-A2EFF98792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55803-823D-48FE-8F44-B03FE86DD6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61DB2-D94D-4EA5-A393-2FFE593110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8443D-16AC-4988-9180-775390B22B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226C2-A3F7-4D5F-ACAE-C888ACB452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28E62-E59B-4277-ABC6-DC12868793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61ACE-B1D3-4B01-B0B4-3EFCBF7B32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C0783-7126-4805-94A9-B2D4DE26B3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8A381-3C0F-403D-8FFB-431C31FCA1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87F5B-049E-4923-9A20-5BBBEC0B95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FF949-E74F-45BD-835B-2DA46F97E8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6456A-9D39-42B9-B1AD-45E020FD0F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34EB1-5063-46FA-94A0-C9FD1279F3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5F3A8-3469-46A5-81A3-5012DD4B2E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02467-3C62-4DAB-A0F1-210157210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822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360" y="4322880"/>
            <a:ext cx="822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74473-8254-4CA9-B13F-3B42CE6D1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540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8360" y="43228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5400" y="43228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6FD16-F35C-46C9-A02B-D10EE00D7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50800" y="22762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3240" y="22762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8360" y="43228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50800" y="43228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3240" y="43228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1AB02-50DC-406B-8750-372257E3D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0210B-F503-47E0-8FDE-D3C7FB4EE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01E37-62D8-4E9D-9F59-BEF5FFE17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40158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5400" y="2276280"/>
            <a:ext cx="40158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0CD38-1F52-4E6B-9751-E920661F3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AE9D2-4AE4-48A9-A388-4AF8F6F5F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68360" y="1052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168C9-6B41-41A3-A73E-6D88BE0F2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5400" y="2276280"/>
            <a:ext cx="40158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360" y="43228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D3608-A9A2-4DA2-8253-C09A5C622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40158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540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5400" y="43228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9D2D6-923B-43B4-BBDB-D8E9F233E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40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8360" y="4322880"/>
            <a:ext cx="822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37334-96D6-47EB-926C-4448D8380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85760" indent="-217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19920" indent="-217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66E83-9B94-4ED9-B016-ABF3DB9CE308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-36360" y="-27000"/>
            <a:ext cx="9180360" cy="1079640"/>
          </a:xfrm>
          <a:prstGeom prst="rect">
            <a:avLst/>
          </a:prstGeom>
          <a:solidFill>
            <a:srgbClr val="2f61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" name="Picture 4" descr=""/>
          <p:cNvPicPr/>
          <p:nvPr/>
        </p:nvPicPr>
        <p:blipFill>
          <a:blip r:embed="rId2"/>
          <a:stretch/>
        </p:blipFill>
        <p:spPr>
          <a:xfrm>
            <a:off x="-9360" y="-22320"/>
            <a:ext cx="1322280" cy="1079640"/>
          </a:xfrm>
          <a:prstGeom prst="rect">
            <a:avLst/>
          </a:prstGeom>
          <a:ln w="0">
            <a:noFill/>
          </a:ln>
        </p:spPr>
      </p:pic>
      <p:sp>
        <p:nvSpPr>
          <p:cNvPr id="7" name="TextBox 13"/>
          <p:cNvSpPr/>
          <p:nvPr/>
        </p:nvSpPr>
        <p:spPr>
          <a:xfrm>
            <a:off x="1258920" y="-33480"/>
            <a:ext cx="381780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 Narrow"/>
                <a:ea typeface="MS PGothic"/>
              </a:rPr>
              <a:t>iPROCEED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Calibri"/>
                <a:ea typeface="MS PGothic"/>
              </a:rPr>
              <a:t>Project on targeting crime proceeds on the Internet in South-eastern Europe and Turke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" name="Picture 8" descr="http://www.coe.int/documents/16695/995226/Funded+EU%2BCOE+-+Implemented+COE+dark+background.png/643b8f9d-517b-4fad-82f4-488bde2625b0?t=1375371137000?t=1375371137000"/>
          <p:cNvPicPr/>
          <p:nvPr/>
        </p:nvPicPr>
        <p:blipFill>
          <a:blip r:embed="rId3"/>
          <a:stretch/>
        </p:blipFill>
        <p:spPr>
          <a:xfrm>
            <a:off x="4876920" y="189000"/>
            <a:ext cx="4087800" cy="711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http://www.clker.com/clipart-10842.html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11"/>
          <p:cNvSpPr/>
          <p:nvPr/>
        </p:nvSpPr>
        <p:spPr>
          <a:xfrm>
            <a:off x="-36360" y="-27000"/>
            <a:ext cx="9180360" cy="1079640"/>
          </a:xfrm>
          <a:prstGeom prst="rect">
            <a:avLst/>
          </a:prstGeom>
          <a:solidFill>
            <a:srgbClr val="2f61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4" descr=""/>
          <p:cNvPicPr/>
          <p:nvPr/>
        </p:nvPicPr>
        <p:blipFill>
          <a:blip r:embed="rId1"/>
          <a:stretch/>
        </p:blipFill>
        <p:spPr>
          <a:xfrm>
            <a:off x="-9360" y="-22320"/>
            <a:ext cx="1322280" cy="1079640"/>
          </a:xfrm>
          <a:prstGeom prst="rect">
            <a:avLst/>
          </a:prstGeom>
          <a:ln w="0">
            <a:noFill/>
          </a:ln>
        </p:spPr>
      </p:pic>
      <p:sp>
        <p:nvSpPr>
          <p:cNvPr id="55" name="TextBox 13"/>
          <p:cNvSpPr/>
          <p:nvPr/>
        </p:nvSpPr>
        <p:spPr>
          <a:xfrm>
            <a:off x="1258920" y="-33480"/>
            <a:ext cx="381780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 Narrow"/>
              </a:rPr>
              <a:t>iPROCEED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Calibri"/>
              </a:rPr>
              <a:t>Project on targeting crime proceeds on the Internet in South-eastern Europe and Turke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Rectangle 14"/>
          <p:cNvSpPr/>
          <p:nvPr/>
        </p:nvSpPr>
        <p:spPr>
          <a:xfrm>
            <a:off x="0" y="6813720"/>
            <a:ext cx="9180360" cy="58680"/>
          </a:xfrm>
          <a:prstGeom prst="rect">
            <a:avLst/>
          </a:prstGeom>
          <a:gradFill rotWithShape="0">
            <a:gsLst>
              <a:gs pos="0">
                <a:srgbClr val="286196"/>
              </a:gs>
              <a:gs pos="100000">
                <a:srgbClr val="13355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Rectangle 15"/>
          <p:cNvSpPr/>
          <p:nvPr/>
        </p:nvSpPr>
        <p:spPr>
          <a:xfrm>
            <a:off x="-36360" y="6669000"/>
            <a:ext cx="9180360" cy="239760"/>
          </a:xfrm>
          <a:prstGeom prst="rect">
            <a:avLst/>
          </a:prstGeom>
          <a:gradFill rotWithShape="0">
            <a:gsLst>
              <a:gs pos="0">
                <a:srgbClr val="286196"/>
              </a:gs>
              <a:gs pos="100000">
                <a:srgbClr val="13355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8" descr="http://www.coe.int/documents/16695/995226/Funded+EU%2BCOE+-+Implemented+COE+dark+background.png/643b8f9d-517b-4fad-82f4-488bde2625b0?t=1375371137000?t=1375371137000"/>
          <p:cNvPicPr/>
          <p:nvPr/>
        </p:nvPicPr>
        <p:blipFill>
          <a:blip r:embed="rId2"/>
          <a:stretch/>
        </p:blipFill>
        <p:spPr>
          <a:xfrm>
            <a:off x="4876920" y="189000"/>
            <a:ext cx="4087800" cy="7110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0000"/>
                </a:solidFill>
                <a:latin typeface="Calibri"/>
              </a:rPr>
              <a:t>Sanal Ortamda Suç Teşkil Eden </a:t>
            </a:r>
            <a:br>
              <a:rPr sz="4400"/>
            </a:br>
            <a:r>
              <a:rPr b="0" lang="tr-TR" sz="4400" spc="-1" strike="noStrike">
                <a:solidFill>
                  <a:srgbClr val="000000"/>
                </a:solidFill>
                <a:latin typeface="Calibri"/>
              </a:rPr>
              <a:t>Para Akışı Türler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898989"/>
                </a:solidFill>
                <a:latin typeface="Calibri"/>
              </a:rPr>
              <a:t>Session 1.4.2/Hour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0000"/>
                </a:solidFill>
                <a:latin typeface="Calibri"/>
              </a:rPr>
              <a:t>Paravan Şirket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Calibri"/>
              </a:rPr>
              <a:t>Paravan şirketler halihazırda bir kara para aklama tekniği olarak kullanılmaktadır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Calibri"/>
              </a:rPr>
              <a:t>Bu para aklama tekniği sanal dünyada da, öncelikli olarak işlemleri daha meşru gösterme gayretiyle kullanılmaktadı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Calibri"/>
              </a:rPr>
              <a:t>Paravan şirketlere aktarılan paralar genelde bireysel kuryelere veya bunlar tarafından aktarılan miktarlardan daha yüksek olur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0000"/>
                </a:solidFill>
                <a:latin typeface="Calibri"/>
              </a:rPr>
              <a:t>Özet: Paravan Şirket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Calibri"/>
              </a:rPr>
              <a:t>Paravan şirketler hiçbir ticari faaliyeti, malvarlığı veya yükümlülüğü bulunmayan, sadece banka hesabına sahip olmak amacıyla yaratılmış şirketlerdir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Calibri"/>
              </a:rPr>
              <a:t>Paravan şirketler (veya bunların banka hesapları) genellikle öncül suç mahallinin dışındaki yabancı ülkelerde bulunur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Calibri"/>
              </a:rPr>
              <a:t>Paravan şirketler, ödemeyi yapan bankadan yapılan havaleye meşru bir görünüm katar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0000"/>
                </a:solidFill>
                <a:latin typeface="Calibri"/>
              </a:rPr>
              <a:t>Paravan Şirket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Calibri"/>
              </a:rPr>
              <a:t>TARTIŞMA: Sanal suçlardan elde edilen gelirler bakımından paravan şirket kullanımı başka ne gibi güçlükler yaratıyo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0000"/>
                </a:solidFill>
                <a:latin typeface="Calibri"/>
              </a:rPr>
              <a:t>Paravan Şirket Tipolojisi (Örnek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Calibri"/>
              </a:rPr>
              <a:t>Suçlu bir paravan şirket kura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Calibri"/>
              </a:rPr>
              <a:t>Suçlu yabancı bir ülkede bu paravan şirket adına bir banka hesabı aça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Calibri"/>
              </a:rPr>
              <a:t>Suçlu hileli bir faaliyette bulunur ve mağdurların hesaplarından paravan şirketin banka hesabına para aktarır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360" y="1700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0000"/>
                </a:solidFill>
                <a:latin typeface="Calibri"/>
              </a:rPr>
              <a:t>Paravan Şirket Kullanımının tespit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Calibri"/>
              </a:rPr>
              <a:t>TARTIŞMA: Paravan şirketlerin kullanımına delalet olarak ne gibi delil kaynaklarından yararlanılabili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14130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0000"/>
                </a:solidFill>
                <a:latin typeface="Calibri"/>
              </a:rPr>
              <a:t>Paravan Şirket Kullanımının tespit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Calibri"/>
              </a:rPr>
              <a:t>TARTIŞMA: Paravan şirketlerin tespiti/kullanımı bakımından mevcut/ilgili usul yetkileri hangileridi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134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0000"/>
                </a:solidFill>
                <a:latin typeface="Calibri"/>
              </a:rPr>
              <a:t>Paravan Şirketlerden Gelen Paraların/Paralara Dondurulması, </a:t>
            </a:r>
            <a:br>
              <a:rPr sz="4400"/>
            </a:br>
            <a:r>
              <a:rPr b="0" lang="tr-TR" sz="4400" spc="-1" strike="noStrike">
                <a:solidFill>
                  <a:srgbClr val="000000"/>
                </a:solidFill>
                <a:latin typeface="Calibri"/>
              </a:rPr>
              <a:t>El Konulması ve Müsaderes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Calibri"/>
              </a:rPr>
              <a:t>TARTIŞMA: Paravan şirketlerden gelen paraların/paralara dondurulması, el konulması ve müsaderesi bakımından mevcut/ilgili usul yetkileri hangileridi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000000"/>
                </a:solidFill>
                <a:latin typeface="Calibri"/>
              </a:rPr>
              <a:t>ÖN ÖDEMELİ KARTLA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0000"/>
                </a:solidFill>
                <a:latin typeface="Calibri"/>
              </a:rPr>
              <a:t>Ön Ödemeli Kartla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700" spc="-1" strike="noStrike">
                <a:solidFill>
                  <a:srgbClr val="000000"/>
                </a:solidFill>
                <a:latin typeface="Calibri"/>
              </a:rPr>
              <a:t>Değerin ödeme kartıyla önceden ilişkilendirilmesine imkân sağlar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700" spc="-1" strike="noStrike">
                <a:solidFill>
                  <a:srgbClr val="000000"/>
                </a:solidFill>
                <a:latin typeface="Calibri"/>
              </a:rPr>
              <a:t>İki türü vardır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Kapalı ön ödemeli kartlar: sadece belirli bir şirket veya mağazada kullanılabilir (örn. hediye kartları) ve anonim olarak satın alıp kullanılabili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Açık ön ödemeli kartlar: bir banka, kredi kartı veya başkaca bir finans kuruluşu tarafından düzenlenir. Başka herhangi bir ödeme kartı gibi kullanılabilir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700" spc="-1" strike="noStrike">
                <a:solidFill>
                  <a:srgbClr val="000000"/>
                </a:solidFill>
                <a:latin typeface="Calibri"/>
              </a:rPr>
              <a:t>Kontörlü cep telefonu kartları ve ön ödemeli cep telefonları açısından da aynı tipoloji geçerlidir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0000"/>
                </a:solidFill>
                <a:latin typeface="Calibri"/>
              </a:rPr>
              <a:t>Ön Ödemeli Kart Tipolojis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Calibri"/>
              </a:rPr>
              <a:t>Suçlu örneğin kötü amaçlı bankacılık yazılımı yoluyla para elde eder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Calibri"/>
              </a:rPr>
              <a:t>Paralar bir para kuryesine aktarılır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Calibri"/>
              </a:rPr>
              <a:t>Kurye parayı nakit olarak çeker ve bunu ön ödemeli kartlar satın almakta kullanır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Calibri"/>
              </a:rPr>
              <a:t>Daha sonra bu kartlar kullanılır veya satılır. Satılırsa, genellikle üzerinde yazılı olan değerden düşüğe satılır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0000"/>
                </a:solidFill>
                <a:latin typeface="Calibri"/>
              </a:rPr>
              <a:t>Oturum Hedefler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Calibri"/>
              </a:rPr>
              <a:t>Sanal suçlardan elde edilen şu para akışı türlerini açıklayınız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Calibri"/>
              </a:rPr>
              <a:t>İnternet üzerinden satın alı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Calibri"/>
              </a:rPr>
              <a:t>Paravan Şirketl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Calibri"/>
              </a:rPr>
              <a:t>Ön Ödemeli Kartla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Calibri"/>
              </a:rPr>
              <a:t>İnternetteki kumar ve elektronik ticaret platformları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1483920"/>
            <a:ext cx="822960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0000"/>
                </a:solidFill>
                <a:latin typeface="Calibri"/>
              </a:rPr>
              <a:t>Ön Ödemeli Kart </a:t>
            </a:r>
            <a:br>
              <a:rPr sz="4400"/>
            </a:br>
            <a:r>
              <a:rPr b="0" lang="tr-TR" sz="4400" spc="-1" strike="noStrike">
                <a:solidFill>
                  <a:srgbClr val="000000"/>
                </a:solidFill>
                <a:latin typeface="Calibri"/>
              </a:rPr>
              <a:t>Kullanımının tespit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Calibri"/>
              </a:rPr>
              <a:t>TARTIŞMA: Ön Ödemeli Kartların kullanımına delalet olarak ne gibi delil kaynaklarından yararlanılabili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169992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0000"/>
                </a:solidFill>
                <a:latin typeface="Calibri"/>
              </a:rPr>
              <a:t>Ön Ödemeli Kart </a:t>
            </a:r>
            <a:br>
              <a:rPr sz="4400"/>
            </a:br>
            <a:r>
              <a:rPr b="0" lang="tr-TR" sz="4400" spc="-1" strike="noStrike">
                <a:solidFill>
                  <a:srgbClr val="000000"/>
                </a:solidFill>
                <a:latin typeface="Calibri"/>
              </a:rPr>
              <a:t>Kullanımının tespit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Calibri"/>
              </a:rPr>
              <a:t>TARTIŞMA: Ön ödemeli kartların tespiti/kullanımı bakımından mevcut/ilgili usul yetkileri hangileridi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1341000"/>
            <a:ext cx="8229600" cy="136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0000"/>
                </a:solidFill>
                <a:latin typeface="Calibri"/>
              </a:rPr>
              <a:t>Ön Ödemeli Kartların/Kartlara Dondurulması, </a:t>
            </a:r>
            <a:br>
              <a:rPr sz="4400"/>
            </a:br>
            <a:r>
              <a:rPr b="0" lang="tr-TR" sz="4400" spc="-1" strike="noStrike">
                <a:solidFill>
                  <a:srgbClr val="000000"/>
                </a:solidFill>
                <a:latin typeface="Calibri"/>
              </a:rPr>
              <a:t>El Konulması ve Müsaderes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Calibri"/>
              </a:rPr>
              <a:t>TARTIŞMA: Ön ödemeli kartların dondurulması, el konulması ve müsaderesi bakımından mevcut/ilgili usul yetkileri hangileridi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000000"/>
                </a:solidFill>
                <a:latin typeface="Calibri"/>
              </a:rPr>
              <a:t>İNTERNETTEKİ KUMAR platformları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0000"/>
                </a:solidFill>
                <a:latin typeface="Calibri"/>
              </a:rPr>
              <a:t>İnternetteki Kumar Platformları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Calibri"/>
              </a:rPr>
              <a:t>İnternet çeşitli kumar türlerine imkân sağla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Calibri"/>
              </a:rPr>
              <a:t>Paralar sisteme genelde geleneksel bankacılık sektörü aracılığıyla giriş/çıkış yapar (örn. havale, kredi/banka kartı vb.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Calibri"/>
              </a:rPr>
              <a:t>İnternetteki kumar sitelerinin hukuki statüsü ve bunlara ilişkin düzenlemeler değişkenlik arz etmektedi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0000"/>
                </a:solidFill>
                <a:latin typeface="Calibri"/>
              </a:rPr>
              <a:t>İnternetteki Kumar Tipolojisi (Örnek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Suçluların ve suç ortaklarının elinde, paraya çevrilmek üzere birçok çalıntı kredi kartı bulunur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Suçlu ön ödemeli bir karta (veya aklanan kara paraların yüklenebileceği başka bir karta) sahiptir ve suç ortaklarında da çalıntı kredi kartları bulunur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Suçlular ve suç ortakları kumar platformunda oturum açar ve parayı kendi kumar hesaplarına aktarırlar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Suçlular ve suç ortakları (örneğin) hep birlikte bir poker salonuna girerler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Ortaklar bilerek suçluya yenilirler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Kazançlar suçlunun internet platformundaki kumar hesabına aktarılır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Suçlu paraları kendisinde bulunan ödeme kartına aktarır, ardından da bu kartı kullanır veya satar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1206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0000"/>
                </a:solidFill>
                <a:latin typeface="Calibri"/>
              </a:rPr>
              <a:t>İnternetteki Kumar Platformlarının Kullanımının Tespit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Calibri"/>
              </a:rPr>
              <a:t>TARTIŞMA: İnternetteki kumar platformlarının kullanımına delalet olarak ne gibi delil kaynaklarından yararlanılabili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1277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0000"/>
                </a:solidFill>
                <a:latin typeface="Calibri"/>
              </a:rPr>
              <a:t>İnternetteki Kumar Platformlarının Kullanımının Tespit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Calibri"/>
              </a:rPr>
              <a:t>TARTIŞMA: İnternetteki kumar platformlarının tespiti/kullanımı bakımından mevcut/ilgili usul yetkileri hangileridi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8360" y="134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tr-TR" sz="4400" spc="-1" strike="noStrike">
                <a:solidFill>
                  <a:srgbClr val="000000"/>
                </a:solidFill>
                <a:latin typeface="Calibri"/>
              </a:rPr>
              <a:t>İnternetteki Kumar Platformlarından Elde Edilen Paraların/Paralara Dondurulması, </a:t>
            </a:r>
            <a:br>
              <a:rPr sz="4400"/>
            </a:br>
            <a:r>
              <a:rPr b="0" lang="tr-TR" sz="4400" spc="-1" strike="noStrike">
                <a:solidFill>
                  <a:srgbClr val="000000"/>
                </a:solidFill>
                <a:latin typeface="Calibri"/>
              </a:rPr>
              <a:t>El Konulması ve Müsaderes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Calibri"/>
              </a:rPr>
              <a:t>TARTIŞMA: İnternetteki kumar platformlarından elde edilen paraların/paralara dondurulması, el konulması ve müsaderesi bakımından mevcut/ilgili usul yetkileri hangileridi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0000"/>
                </a:solidFill>
                <a:latin typeface="Calibri"/>
              </a:rPr>
              <a:t>Öz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Calibri"/>
              </a:rPr>
              <a:t>Sanal suçlardan elde edilen şu para akışı türlerini açıklayınız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Calibri"/>
              </a:rPr>
              <a:t>İnternet üzerinden satın alm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Calibri"/>
              </a:rPr>
              <a:t>Paravan Şirketl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Calibri"/>
              </a:rPr>
              <a:t>Ön Ödemeli Kartla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Calibri"/>
              </a:rPr>
              <a:t>İnternetteki kumar ve elektronik ticaret platformları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000000"/>
                </a:solidFill>
                <a:latin typeface="Calibri"/>
              </a:rPr>
              <a:t>İNTERNET ÜZERİNDEN SATIN ALIM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6" descr="Question Mark Clip Ar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143160" y="1357200"/>
            <a:ext cx="2857680" cy="2857680"/>
          </a:xfrm>
          <a:prstGeom prst="rect">
            <a:avLst/>
          </a:prstGeom>
          <a:ln w="0">
            <a:noFill/>
          </a:ln>
        </p:spPr>
      </p:pic>
      <p:sp>
        <p:nvSpPr>
          <p:cNvPr id="118" name="TextBox 4"/>
          <p:cNvSpPr/>
          <p:nvPr/>
        </p:nvSpPr>
        <p:spPr>
          <a:xfrm>
            <a:off x="3530160" y="4500720"/>
            <a:ext cx="218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alibri"/>
              </a:rPr>
              <a:t>Sorular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1557000"/>
            <a:ext cx="8229600" cy="115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0000"/>
                </a:solidFill>
                <a:latin typeface="Calibri"/>
              </a:rPr>
              <a:t>İnternet üzerinden satın alımlar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Calibri"/>
              </a:rPr>
              <a:t>TARTIŞMA: SİZ ne düşünüyorsunuz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0000"/>
                </a:solidFill>
                <a:latin typeface="Calibri"/>
              </a:rPr>
              <a:t>İnternet üzerinden Satın Alım Tipolojis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700" spc="-1" strike="noStrike">
                <a:solidFill>
                  <a:srgbClr val="000000"/>
                </a:solidFill>
                <a:latin typeface="Calibri"/>
              </a:rPr>
              <a:t>Suçlu ihlal edilen bir kartın verilerine veya bankacılık bilgilerine erişim elde eder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700" spc="-1" strike="noStrike">
                <a:solidFill>
                  <a:srgbClr val="000000"/>
                </a:solidFill>
                <a:latin typeface="Calibri"/>
              </a:rPr>
              <a:t>Suçlu ihlal edilen bu bilgileri kullanarak mal (örn. uçak bileti) satın alır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700" spc="-1" strike="noStrike">
                <a:solidFill>
                  <a:srgbClr val="000000"/>
                </a:solidFill>
                <a:latin typeface="Calibri"/>
              </a:rPr>
              <a:t>Suçlu bu uçak biletlerini internetteki bir açık arttırma sitesinde satışa çıkarır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700" spc="-1" strike="noStrike">
                <a:solidFill>
                  <a:srgbClr val="000000"/>
                </a:solidFill>
                <a:latin typeface="Calibri"/>
              </a:rPr>
              <a:t>Açık arttırmayı biri kazanır ve ödemeyi suçluya gönderir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700" spc="-1" strike="noStrike">
                <a:solidFill>
                  <a:srgbClr val="000000"/>
                </a:solidFill>
                <a:latin typeface="Calibri"/>
              </a:rPr>
              <a:t>Suçlu da uçak biletlerini açık arttırmayı kazanan kişiye gönderir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155736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0000"/>
                </a:solidFill>
                <a:latin typeface="Calibri"/>
              </a:rPr>
              <a:t>İnternet üzerinden Satın Alı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Calibri"/>
              </a:rPr>
              <a:t>TARTIŞMA: İnternet üzerinden satın alımların kullanımına delalet olarak ne gibi delil kaynaklarından yararlanılabili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0000"/>
                </a:solidFill>
                <a:latin typeface="Calibri"/>
              </a:rPr>
              <a:t>İnternet Üzerinden </a:t>
            </a:r>
            <a:br>
              <a:rPr sz="4400"/>
            </a:br>
            <a:r>
              <a:rPr b="0" lang="tr-TR" sz="4400" spc="-1" strike="noStrike">
                <a:solidFill>
                  <a:srgbClr val="000000"/>
                </a:solidFill>
                <a:latin typeface="Calibri"/>
              </a:rPr>
              <a:t>Satın Alımların Tespit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Calibri"/>
              </a:rPr>
              <a:t>TARTIŞMA: İnternet üzerinden satın alımların tespiti/faaliyeti bakımından mevcut/ilgili usul yetkileri hangileridi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134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0000"/>
                </a:solidFill>
                <a:latin typeface="Calibri"/>
              </a:rPr>
              <a:t>İnternet üzerinden Satın Alımların/Alımlara Dondurulması, El Konulması ve Müsaderes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Calibri"/>
              </a:rPr>
              <a:t>TARTIŞMA: İnternet üzerinden satın alımların/alımlara dondurulması, el konulması ve müsaderesi bakımından mevcut/ilgili usul yetkileri hangileridi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000000"/>
                </a:solidFill>
                <a:latin typeface="Calibri"/>
              </a:rPr>
              <a:t>PARAVAN ŞİRKETLE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24T06:40:18Z</dcterms:created>
  <dc:creator>alexander</dc:creator>
  <dc:description/>
  <dc:language>en-US</dc:language>
  <cp:lastModifiedBy>Hande Güner</cp:lastModifiedBy>
  <cp:lastPrinted>2016-05-18T07:38:13Z</cp:lastPrinted>
  <dcterms:modified xsi:type="dcterms:W3CDTF">2017-11-09T18:26:41Z</dcterms:modified>
  <cp:revision>374</cp:revision>
  <dc:subject/>
  <dc:title>PowerPoint Presentation</dc:title>
</cp:coreProperties>
</file>