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7526-EC30-4E7B-B1F2-16085DE5E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0AD8-3981-4013-81D5-9B4D50164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DB5-6F74-4A8C-A2B9-C3EB39C06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4166-4E28-406D-B405-7511FC2BA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72E8-FB39-4ADC-AFF0-1F3B79E0F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C4E3-C8EF-45EA-A434-EC634F70E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C91-C247-4DAD-8091-0D0A8FA08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361-4218-40B8-9297-A5A944E95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004-4323-435B-8803-8C1B4FE74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B4C-0B92-4A78-B310-3AAB13B75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128-723F-4067-BB62-7D430CAA2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0D85-46DF-4F78-A094-4DFC91BAD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5B8A-C18A-41E5-B89F-8A625E8D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795-96C3-481F-A370-B622273B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2B4-6097-453C-BBC1-108DD6F13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0F6-382E-4584-BB2A-CE18D02AE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53EC-360D-45B6-8880-946BC66D4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F096-F6E0-4C10-ADE1-71A8F2BED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41C-FED6-487A-BD45-72AD928BB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5A53-56AF-4BB5-9F55-4631B5FD9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99C-6AF3-4EE8-8EDA-6AAA024F6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61B-1F6A-468E-BBD7-5A7D0E804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91FF-87E6-495F-88DA-D821CD053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471B-D32B-43AB-BCDC-70877DB57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C0F-A650-46F2-8464-1DEA5364F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D8FE-D2AC-4D83-8632-3B265A711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FE1-5BA1-4A3A-AAE1-0624BB65D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1ABB-E869-4E4F-84FA-747685BC6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A9E-DA0C-4FCE-9957-8A8CFDB9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04AA-8564-41A1-9545-1665CD41B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DAC-267D-49C3-8FFA-433327E5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FD9-F6BA-46D9-A0F4-B24D6F1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E09-2C47-4F3D-B0DD-F6BAD869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807-534D-49F0-B742-2F3C483A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4C3-F0F3-4243-81DA-ACF7CE3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868-384C-4E05-A657-96F1EBF5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354-9EA4-41CF-93F8-7149F41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9AC-D0CC-4B88-B4F8-EBD4E597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BB2-06BF-47BC-9936-098FFE3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568-EBE5-4E1C-BD2B-A6EFE242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35C-596D-4014-82D6-9EAE14E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EB7-3FBC-4FD6-BCEC-F423D0C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2EE8-C631-47CD-BF50-9E1CF9B560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 Şüpheliler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turum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r eposta mesajının kaydedilmesi ve iletilmesiyle ilgili kayıtlar o mesajın içinde yer alı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İ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 GÖNDER tuşuna bastığında epostası bilgisayarından alınıp İnternet Servis Sağlayıcısının giden posta sunucusuna taşını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'in İSS'si epostayı internete gönder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posta, Bob'un İSS'sinin gelen posta (POP3) sunucusuna ilet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ob İSS’sine bağlandığında, eposta bilgisayarına indir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BA7-8BF7-4A21-9FDA-F59344887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 iki bölümden oluş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şlık: Mesajın kimden kime gönderildiği, konusu, tarihi gibi bilgilerin yanı sır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nasıl saklandığını/iletildiğini de içer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övde: Eposta mesajının içeriğ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ıradaki slaytta, başlıklarıyla birlikte bir örnek eposta gösterilmiş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Jan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ME-Version: 1,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okuluslu Hizmet Sağlayıcı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, Google gibi çokuluslu hizmet sağlayıcılar, size bir IP adresinin belirli bir zamanda hangi IP adresi tarafından kullanıldığını bu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nin kimliği (örneğin Facebook profili) gerekl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uslararası işbirliği gerekli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zli Soruşturma Yöntem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yi tespit etmişseniz, kullandığı IP adreslerini tespit etmek için teknik takip gibi gizli soruşturma yöntemleri kullanı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nin Gerçek Kimlikle Eşleştirilme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öste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m nedi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yle elde edebileceğiniz bilgil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İnternet Servis Sağlayıc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ğrafi konumlandı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zeleme: IP adresinin ne olduğunu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nin nasıl bulunacağını tarif e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 ile bir gerçek kişinin nasıl ilişkilendirileceğini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te şüphelilerin tespitinin önündeki üç teknik engeli açıklay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 Servis Sağlayıcılar, bir IP adresini belli bir zamanda hangi abonenin kullandığının kayıtlarını tu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ın ne süreyle saklanacağı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a nasıl erişileceği de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SS abone verisine erişim sağlamak için ne gerek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gi İSS'den bilgi isteyeceğinizi nereden bileceksini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ğrafi konumlandırma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ğrafi konum verileri sizce nereden elde edili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venilirliği asla garanti edileme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zaman belli bir kişiyi teşhis de etme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k ve Dinamik IP Adresleri var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ğ Adresi Çevirme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pılan hareketin saati çok önemlidi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uml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ğ Adresi Çevirme (NAT) kullanan kurumlar, şüphelilerin hareketlerini belirli bir dahili IP adresiyle eşleştirecek kayıtlara sahip olabilir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rumla bağlantının nasıl kurulacağı ülke yasalarına göre değiş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nadiren el altınd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gisayarı bulabilseniz bil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kullanıyor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aktan kumanda ediliyor olabilir miy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erişim noktası hangi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N kullanılmış m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İĞER Teknik Güçlük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üçlük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kasıtlı ya da kasıtsız, meşru ya da gayrimeşru şekilde tahrif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örnekleri tartışılacakt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imleştirme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Çevrimiçi faaliyetleri gizlemek için ücretli ve ücretsiz hizmet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il sunucuların anonimleştirilmesi, web'de gezinme hareketler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osta sağlayıcılarının anonimleştirilmesi, epostanın göndericisini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vekil sunucularının anonimleştirilmesi ise tüm internet trafiğ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Örnek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, 0 ile 255 arasındaki dört sayının noktalarla ayrılması sonucunda oluş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rneğ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nin yeni bir türü olan sürüm 6 ise bu derste işlenmeyecek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Şifrel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letişimin şifrelenmiş olması mümkündü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jın bütün içeriği de şifrelenmiş o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şıyıcı Sınıfı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ok sayıda kullanıcının tek bir IP adresi kullanmasının yöntem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llikle mobil telefon şebekelerinin internet bağlantılarında kullanıl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, çevrimiçi hareketlerden kimlik tespiti yapmanın gerekli fakat yeterli olmayan bir unsuru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 ile bir gerçek kişinin ilişkilendirilmesi çok zor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şinin çevrimiçi takibinin yapılmasını daha da zorlaştıran teknoloji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ümkünse, IP adresi delillerini desteklemek için başka kaynaklardan deliller de kullanılmalıd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48840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IP adresleri internette kullanılmaz, sadece özel (dahili) kullanım için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Şüpheli IP Adresinin Te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ki Hare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şinin çevrimiçi hareketleri bazı kayıtlar oluştur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dan kullanıcının iletişimde kullandığı IP adresi elde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da şüphelinin tespiti açısından önemli bir bilg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eklidir ama yeterli değil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ullanıcı web'de gezinirken bir web sunucusuna talepler gönderir, sunucu da kullanıcıya yanıtlar y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eplerin ve yanıtların formatı, Hiper Metin Aktarım Protokolü (HTTP) adı verilen bir protokolle belirlen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nucu, gelen tüm taleplerin kayıtlarını tutar ve talebin gönderildiği IP adresini de kayd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Sıla Okur</cp:lastModifiedBy>
  <cp:lastPrinted>2016-05-18T07:38:13Z</cp:lastPrinted>
  <dcterms:modified xsi:type="dcterms:W3CDTF">2017-11-09T23:35:10Z</dcterms:modified>
  <cp:revision>286</cp:revision>
  <dc:subject/>
  <dc:title>PowerPoint Presentation</dc:title>
</cp:coreProperties>
</file>