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92B2-4D46-4AB1-99DB-39D5104F5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116B-8AF1-43AF-A55B-EDFD44979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105A-A25F-4261-9634-E9735F7F3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9922-9B37-452E-92F9-5334B9CAA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EA9A-C10A-4621-A0DA-F278B4FBA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D341-D72E-4E22-AA29-B0E29264C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6A2A-FC22-44F4-AE09-1ADD1118A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DB82-1326-4417-BED1-7E2A44F12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CB06-56E4-4D11-BDDC-103BF273D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D72E-2F7C-4545-AB77-9ECE37146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6571-3791-4F09-8D98-DA69860D8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0605-3C17-4C45-A793-9641159EB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3990-4744-450D-BF05-C045707CE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C6F6-2102-4FCE-9415-BFCFECA2C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4581-5211-494E-BD63-CDFFD721A5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822D-37DC-4E30-BC13-9A194A6AD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1FF1-712C-4275-BEC9-ECBDDAAFE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3CF0-8602-44D2-90B2-A8C0DD4AD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59A1-2159-4BBB-B18D-1123E3713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E336-69C6-458C-A01F-512A4D90B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2099-CF59-487B-AC60-6A0AA57A8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91F1-55F4-44FC-8A8E-54E98A85F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D0A-69A2-474C-B0F1-45E2BCB0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CCC-6ADD-49B1-B962-7AC4B390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602-0AE7-4E8F-A2B8-24549807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3A01-0574-44BD-BC07-DC67791B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24B4-F4FB-401E-8A90-AB97EF9C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241A-9FCB-49DF-B79D-A78BBF20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A9F-2562-4613-97FE-45021A09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515-482A-43DA-AD72-093D71AC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951D-AC81-42B5-BB2A-8D1515DF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DDF-DA8C-4F5D-A36F-74B337D8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5369-1356-45B3-9B3F-6C561177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F07D-6370-4C76-B2C8-A15853F1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76E1-320A-4CBC-9E54-C3E7A7FD9C9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anal Ortamda Suç Teşkil Eden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 Akışı Tür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98989"/>
                </a:solidFill>
                <a:latin typeface="Calibri"/>
              </a:rPr>
              <a:t>Oturum 1.4.2/1. Sa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ELEKTRONİK HAVALE, BANKA HESAPLARININ DEVRİ/AÇILMAS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Geleneksel Bankacılık Hizm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iber suç failleri de geleneksel bankacılık hizmetlerinden yararlanmaya devam ede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u durum elbette bilhassa, mağdurun banka hesaplarından para aktarılmasını içeren durumlar açısından söz konusud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Geleneksel Bankacılık Hizm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Geleneksel bankacılık sektöründe, bir mağdurun banka hesabından aktarılan paraların kaynağının gizlenmesinde hangi teknikler kul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ektronik Havale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Mağdur banka hesapları çeşitli siber suç teknikleri kullanılarak (örn. kimlik hırsızlığı, kötü amaçlı yazılım) ihlal edili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Mağdurun banka hesabına yeni lehdarlar eklenir ve paralar kurye hesaplara aktarılı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Paralar nakit olarak çekilir veya başka noktalara aktarılı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Havaleler bildirim için öngörülen miktarın altında kalması için ufak meblağlarda yapılı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Paranın kaynağının gizlenmesi için kurye hesaplara anlamsız aktarımlar içeren karmaşık yapılar kullanılı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Müşterilerin Korunmas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Finans kuruluşları müşterilerin ihlal edilen internet bankacılığı kimliklerinin kötüye kullanılmasını önlemek için ne gibi kontrol araçları kullanı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ektronik Havale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Elektronik havale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ektronik Havale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Elektronik havaleni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NAKİT ÇEKİM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Nakit para siber suçlular açısından ne gibi güçlükler yaratıy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İZ ne düşünüyorsunu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Nakit Çekimi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Ödeme kartı ile bağlantılı suçlar gibi kimi siber suç örneklerinde suç gelirleri anında nakit olarak çekil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Başka örneklerde ise başka tür suçlardan elde edilen suç gelirleri kurye hesaplara aktarılır ve buradan çekil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Bu nakit paralar genelde çeşitli teknikler kullanılarak yeniden finans sistemine sokulur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Çeşitli türlerde ön ödemeli kartlar satın alınarak (örn. mağaza puanı, cep telefonu kontörü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Para kuryeleri veya ihlal edilmiş banka hesapları kullanılar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Oturum Hedef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anal suçlardan elde edilen şu para akışı türlerini açıklayınız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Para Havalesi Sağlayıcılar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Elektronik Havale, Banka Hesaplarının Devri/Açılmas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Nakit Çeki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 Ödeme Hizmetl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Nakit Çekimlerini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Nakit çekimi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Nakit Çekimlerini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Nakit çekimlerini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İnternet ÖDEME HİZMETLER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Ödeme Hizmeti Nedi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İZ ne düşünüyorsunu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Ödeme Hizmeti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uç yoluyla elde edilen paralar bir İnternet Ödeme Hizmeti hesabına aktarılı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İki seçenek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ternet Ödeme Hizmeti bir sanal banka hesabına benzer hizmetler sunar; yani “internet havalesi/banka hesabı açılması veya devri”ne benzer özellikler kullanılı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ternet Ödeme Hizmetinde tutulan paralar internet üzerinden mal ve hizmet alımında kullanılı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Ödeme Hizmetlerinin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Ödeme çekimi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Ödeme Hizmetlerinin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ödeme hizmetlerini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998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İnternet Ödeme Hizmetlerinden Elde Edilen Paraların/Paralara Dondurulması, El Konulması ve Müsaderes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895480"/>
            <a:ext cx="822960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ödeme hizmeti sağlayıcısının elindeki paraların/paralara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z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anal suçlardan elde edilen şu para akışı türlerini açıklayını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Para Havalesi Sağlayıcılar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Elektronik Havale, Banka Hesaplarının Devri/Açılmas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Nakit Çeki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 Ödeme Hizmetl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3503880" y="4500720"/>
            <a:ext cx="21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PARA HAVALESİ SAĞLAYICILA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 havalesi sağlayıcısı nedi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İZ ne düşünüyorsunu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 havalesi sağlayıcısı nedi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Havale sağlayıcıları ile ilgili sorun ne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vale Sağlayıcısı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İnsanlar (bilerek veya bilmeyerek), genellikle “evden çalışın” türünden iş teklifleriyle kara para aklama planlarında kurye olarak çalıştırı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 gelirleri kuryelerin banka hesaplarına aktarı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urye parayı nakit olarak çeker ve bu nakit parayı belirli bir lehdara havale yoluyla aktar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urye bu hizmeti yerine getirdiği için komisyon olarak bir ödeme a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u para aktarımları, fark edilmesin diye, bildirim için öngörülen miktarın altındaki bir meblağdan oluşu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Havale sağlayıcıları sonra nakit paranın nihai varış noktasına ulaştırılmasında tekrar kullanı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uç Ortağı olan Sağlayıcı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elirli bir havale sağlayıcının yoğun olarak kullanıldığı tespit edilen durumlar muvazaa ihtimali veya bu türden işlerin içine sızılmış olma olasılığı hakkında soru işaretleri uyandırı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vale Sağlayıcıları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ldığ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Havale sağlayıcılarının kullanıldığ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vale Sağlayıcıları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ldığ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Havale sağlayıcılarını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Hande Güner</cp:lastModifiedBy>
  <cp:lastPrinted>2016-05-18T07:38:13Z</cp:lastPrinted>
  <dcterms:modified xsi:type="dcterms:W3CDTF">2017-11-09T18:18:03Z</dcterms:modified>
  <cp:revision>338</cp:revision>
  <dc:subject/>
  <dc:title>PowerPoint Presentation</dc:title>
</cp:coreProperties>
</file>