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3227-E9DA-41CF-B8A7-6389564E80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Siber suçlar konusunda eğitimin önem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lar konusunu ele alabilmek için bu türden suç biçimlerine özgü teknik ve hukuki konulara dair bilgi sahibi olu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alihazırda siber suçlar konusunda uzmanlaştıysanız, (kimlik hırsızlığı, tuş kaydediciler, kötü amaçlı yazılım veya zombi ağı (botnet) gibi) teknik terim ve suçlar size tanıdık gelecektir. Oysa bu terimler sıradan insan açısından anlaşılır olmaktan çok uzaktır ve bunların neye işaret ettiğini kavrayabilmek ve ardından, benzer bir uzmanlık seviyesinde sahip olmayabilecek hakimlere ve jürilere açık ve anlaşılır bir şekilde anlatabilmek için yeterli eğitim alınması önem taşımakta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 soruşturmaları öyle derin teknik bilgiler içerir ki, delilleri dondurmak, güvence altına almak ve kullanmak için bir dizi etkin uygulama edinmek şartt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on olarak, günümüzde dijital delillerin yaygınlığı düşünülürse, siber suç eğitimi genel anlamda gitgide daha temel bir nitelik kazanmaktadır. Dijitalleşen modern dünyamızda, adam öldürme veya adam kaçırma gibi her türlü ağır suçun ardından yapılan ilk işlem bir bilgisayara veya akıllı telefona el konulması ve bunun incelenmesi olmaktadır. Dolayısıyla dijital delillerin nasıl uygun koşullar altında ele alınacağını öğrenmek elzem hale gel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Olay mahallinin korunması ve delillerin muhafazası</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kolayca kaybolabildiğinden, soruşturmanın en başından itibar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nerede depolandığının tespit edilmes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üvenliklerinin sağlanması,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u delillerin kullanılması ve incelenmesi, böylece sahihliklerinin ve ortaya çıkacak sonuçların güvence altına alı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Polis görevlileri ve savcıların bu iki aşamada mağdurun işbirliğine itimat etmesi ve ayrıca delilleri incelerken uzman kolluk uzmanlarının ve bağımsız uzmanların yardımını alması gerek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mağdurun bilgisayar sisteminin saldırı altında olduğunu fark ettiğinde verdiği ilk tepki zararı kendi kendisine onarmaya çalışmak olabilir. Böyle bir düşünce son derece mantıksız olup, aksine ilk refleks delilleri dondurmak ve başlatılacak soruşturmaları tehlikeye atmamak olmalıdır. Saldırıya uğramış ve gizliliği ihlal edilmiş bilgisayarlar derhal karantinaya alınmalı ve adli bilim uzmanlarınca incelenmek üzere kapatılmalı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hizmet sağlayıcıların veya üçüncü şahısların tasarrufunda bulunuyorsa, gerekli verilerin muhafazası amacıyla bu kişilerle derhal temasa geçilmesi gerekir. Hizmet sağlayıcıya muhafaza talepleri gönderilerek, bilhassa günlük kayıtların ulusal yargılama alanı dışında bulunması halinde bunların saklanması istenmelidir.</a:t>
            </a:r>
            <a:endParaRPr b="0" lang="en-US" sz="6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8370-C473-4F66-8690-CA03A11A67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Yardım talep ederken başvurulan hukuki metnin belirtilmesi – antlaşma, sözleşme veya başkaca bir işbirliği belgesi.</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lıklı adli yardım çok taraflı veya iki taraflı anlaşmaların (antlaşma veya sözleşme) varlığına dayan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Siber suçlar açısından geçerli başlıca çok taraflı sözleşmele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Konseyi Üye Devletleri :</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Ceza İşlerinde Karşılıklı Adli Yardım Avrupa Sözleşmesi (20 Nisan 1959) Avrupa Konseyi’ne üye 47 Devletin yanı sıra İsrail, Şili ve Kore tarafından da onaylanmış bulunmaktadır. Bu Sözleşme ilerleyen bölümlerde, yurtdışındaki dijital delillerin dondurulması bakımından temel bir araç olan Budapeşte Sözleşmesi’nin dayandığı bir temel olarak ele alınacaktır. </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Birliği Üye Devletleri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Üye Devletleri arasında Karşılıklı Adli Yardım Sözleşmesi (29 Mayıs 2000) 28 üye Devletin hakim ve savcılarına karşılıklı adli yardım taleplerini birbirlerine doğrudan iletme imkânı sağladığı için son derece önemlidir. Bu talepler görüntülü konferans (video-konferans), telekomünikasyon takibi veya ortak soruşturma ekipleri (OSE’ler) gibi modern soruşturma teknikleriyle ilgili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İki taraflı sözleşmeler</a:t>
            </a:r>
            <a:r>
              <a:rPr b="0" lang="tr-TR" sz="500" spc="-1" strike="noStrike">
                <a:solidFill>
                  <a:srgbClr val="000000"/>
                </a:solidFill>
                <a:latin typeface="Calibri"/>
              </a:rPr>
              <a:t> ise iki egemen Devleti birbirine bağlayan anlaşmalardır. Her bir sözleşmede geçerli karşılıklı adli yardım koşullarını belirleyen özel kurallar yer a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yabancı ülke ile çok taraflı veya iki taraflı hiçbir anlaşma bulunmadığında, genel “</a:t>
            </a:r>
            <a:r>
              <a:rPr b="0" lang="tr-TR" sz="500" spc="-1" strike="noStrike" u="sng">
                <a:solidFill>
                  <a:srgbClr val="000000"/>
                </a:solidFill>
                <a:uFillTx/>
                <a:latin typeface="Calibri"/>
              </a:rPr>
              <a:t>mütekabiliyet</a:t>
            </a:r>
            <a:r>
              <a:rPr b="0" lang="tr-TR" sz="500" spc="-1" strike="noStrike">
                <a:solidFill>
                  <a:srgbClr val="000000"/>
                </a:solidFill>
                <a:latin typeface="Calibri"/>
              </a:rPr>
              <a:t>” ilkesine dayanarak bir yardım talebi gönderilmesi her zaman mümkündür. Bu durumda söz konusu talebi icraya koyup koymamak tamamen yabancı makamların takdirine bağlı o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Soruşturmayı/kovuşturmayı kimin yürüttüğünün açık ve net biçimde belirtilmesi. Gerekli tüm irtibat bilgilerini ve tercih edilen iletişim araçlarını belirtiniz.</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Soruşturma/kovuşturma irtibat noktasının hangi dillerde doğrudan iletişim kurabileceklerini belirtmeleri de faydalı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Olayın özetlenmes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Delillerin özetlenmesinin amacı, talebin (veya KAY talebinin) soruşturma açısından gerekliliğinin yanı sıra, talep edilen Devletin sözleşmeden ve iç hukuktan doğan yasal sorumluluklarına uygunluğunun da gösterilmesidi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özet şu ya da bu şekilde, talep edilen tedbirlerin ne ölçüde cebri ve karmaşık olduğuna bağlı olacaktır. Daha ayrıntılı belirtmek gerekirse, söz konusu tedbirler cebri veya mütecaviz nitelik taşıyorsa (örneğin bir telefon konuşmasının gizlice dinlenmesi), arasında Anglosakson hukuk geleneğine bağlı ülkelerin de yer aldığı birçok ülke “geçerli sebep” sunulmasını isteyecektir. Bu durumda: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Cebri veya mütecaviz tedbirin suçun ağırlığı karşısında orantılı ve kesinlikle gerekli olduğunu kanıtlamanız (örneğin uygulanabilecek azami ceza miktarı, suçun “kamu düzenini” bozması, mağdurun uğradığı zarar);</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Delillerin belirli bir yerde veya belirli bir kişinin elinde bulunduğunu düşünmek için makul gerekçelerini sunmanız;</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Talep ettiğiniz delillerin suçu niteleyen hukuki bir kanıt öğesi oluşturacağını ortaya koymanız gerekmektedir. </a:t>
            </a:r>
            <a:endParaRPr b="0" lang="en-US" sz="5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0232-4A40-46BF-8C55-5E8A98AF0F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Geçerli iç hukuk hükümlerine atı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çerli iç hukuk hükümleri talep edilen makamların şu hususları teminine de imkân sağlayacaktı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siyasi veya tamamen askeri nitelik taşımadı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alebe karşılık verildiğinde kendi kamu düzeninin tehlikeye atılmayaca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rekirse, bir eylemin her iki ülkede de suç niteliği taşıması koşullarının karşılandığ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Talep edilen yardımın net ve eksiksiz bir şekilde belirtilme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lde etmek istediğiniz yardıma ilişkin olarak mümkün olduğunca net olunması önemlidir.</a:t>
            </a:r>
            <a:endParaRPr b="0" lang="en-US" sz="12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5353-12B0-4ABC-B1C9-A81A42039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nıklara ve tanıklardan nasıl ifade alınacağına ilişkin iç hukuktaki usul kuralları bir hukuk sisteminden diğerine farklılık gösterebil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mevzuata göre, ifadeden önce tanıklardan yemin etmeleri istenebilir veya istenmeyebilir ve tanıklara beyanlarının doğru olmaması halinde “yalancı şahitlik” veya “yalan tanıklıkta bulunmak” sebebiyle suç isnat edilebilir. Kimi ulusal mevzuatlar tanıklara mahkeme celbi gönderilmesine imkân tanımakla birlikte, para cezasından hapis cezasına dek çeşitlilik arz edebilen cebri yaptırımlar içermeyebilir. Son olarak, bazı kişiler şahsi konumları sebebiyle (örneğin şüphelinin eşi veya ebeveyni olmak) tanık olarak dinlenemeye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lep eden Devlet bir başka Devletten bir tanığın ifadesini ibraz etmesini istediğinde, iki taraflı veya çok taraflı bir sözleşmede aksi belirtilmediği müddetçe, talep edilen Devletin ulusal mevzuatı geçerli olacaktır</a:t>
            </a:r>
            <a:r>
              <a:rPr b="0" lang="tr-TR" sz="800" spc="-1" strike="noStrike">
                <a:solidFill>
                  <a:srgbClr val="000000"/>
                </a:solidFill>
                <a:latin typeface="Calibri"/>
              </a:rPr>
              <a:t>. Demek oluyor ki, tanığın ifadesiyle ilgili olarak kendi iç hukukunuzdaki usul kurallarını dayatabilirsiniz, fakat bu usul kurallarının uygulanacağına dair bağlayıcı nitelikte iki taraflı veya çok taraflı bir sözleşme bulunmadığı sürece, talep edilen Devlet bu kurallara uyma yükümlülüğü altında değil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eçerli iç hukuk usullerine veya geçerli çok taraflı veya iki taraflı sözleşmelere ilişkin bilgileri sunarken şu hususları belirtmek önemli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Tanıkların cevaplarına göre farklı gelişen soruları da içerebilecek tam kapsamlı soru listesi;</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nığın kimliğine ve nerede olduğuna dair faydalı olabilecek tüm bilgiler. </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yrıca, bir tercümanın da yardımıyla, </a:t>
            </a:r>
            <a:r>
              <a:rPr b="0" lang="tr-TR" sz="800" spc="-1" strike="noStrike" u="sng">
                <a:solidFill>
                  <a:srgbClr val="000000"/>
                </a:solidFill>
                <a:uFillTx/>
                <a:latin typeface="Calibri"/>
              </a:rPr>
              <a:t>görüntülü konferans </a:t>
            </a:r>
            <a:r>
              <a:rPr b="0" lang="tr-TR" sz="800" spc="-1" strike="noStrike">
                <a:solidFill>
                  <a:srgbClr val="000000"/>
                </a:solidFill>
                <a:latin typeface="Calibri"/>
              </a:rPr>
              <a:t>(video-konferans) seçeneğini değerlendirmek de faydalı olabilir, böylece ulusal kolluk makamları doğrudan sorgulamada buluna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Lütfen dikkat ediniz: Avrupa Konseyi’ne üye 47 Devletin yanı sıra İsrail, Şili ve Kore tarafından da onaylanmış bulunan Ceza İşlerinde Karşılıklı Adli Yardım Avrupa Sözleşmesi (20 Nisan 1959) tanıklara dair ulusal usul kurallarıyla çelişebilecek birtakım özel hükümler içe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8. maddesi, talep eden bir Üye Devlet tarafından celpname gönderilmiş tanıkların yardım talep eden Devletin toprakları dışında bulundukları sürece zorlayıcı (cebri) tedbire tabi tutulamayacağını dile geti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11. maddesi, başka sebeplerle alıkonulan bir tanığın, yardım talep eden bir Devlete ifade vermek üzere geçici olarak gönderilebileceği koşulları sıralamaktadır.</a:t>
            </a:r>
            <a:endParaRPr b="0" lang="en-US" sz="8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C406-2B89-438A-9397-1892ABB5AA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8C07-69C5-4739-8459-BBB9A8E25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Mali/banka hesabı evraklarıyla ilgili özel usul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nka hesabı evrakları birçok soruşturma açısından ilgi çekicidir, zi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suçtan kazanç elde eden kişiyi tespit ed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imi durumlarda paralara/ı el koyabilir veya müsadere edebilirsiniz.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 olarak iki tür bilgi talep edil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banka hesabının hamilinin kimli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hesaptaki mali işlemlere dair detaylı bilgi sunan belge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ür belgeleri talep ederken mümkün olduğunca açık ve net olmak ve vakit kaybetmemek önemlidir. Bir KAY talebinde bulunmadan önce atılması yararlı olabilecek ilk adım, söz konusu bankanın ulusal şubesine yazı yazarak, bir banka hesabının hamilinin kimliğine ilişkin bilgileri talep etmek ola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Mali evraklarla ilgili KAY talepleri açık, net ve eksiksiz olduğunda ve şu bilgileri içerdiğinde daha fazla başarı şansına sahip olacaktır: banka hesabının numarası, bankanın adı ve adresi ve şüpheli işlemlerin vuku bulduğu zaman aralığı.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u bilgiler elde edilebil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amilin imzasının bi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anka hesabını kullanma yetkisi olan herkesin kimliği ve imza örnekle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zaman aralığındaki hesap dökümlerinin ve banka formlarının birer örne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esilmiş çeklerin bire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kişiye ait tüm banka hesaplarının bilgis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gelecekteki belirli bir zaman aralığı boyunca banka hesaplarının izlenmes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ıpkı diğer KAY taleplerinde olduğu gibi, talep edilen bilginin soruşturmalar açısından “ilgisi”nin belirtilmesi önemli olacaktır. Ayrıca geçerli sözleşmelerin doğrulanması ve yardım talep edilen Devletin iç hukuku ile uygunluğun teyidi de gerekli olacakt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Talebin icrasının reddine ilişkin gerekçeler</a:t>
            </a: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alepler genelde, en azından Avrupa Birliği veya Mali Eylem Görev Gücü (FATF - https://www.fatf-gafi.org/) dahilindeki üye devletler açısından güç olmamaktad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likle şu iki ret gerekçesi öne sürülmekted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Talebin ulusal hukukla bağdaşmazlığı</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veya Mali Eylem Görev Gücü (FATF) Üye Devletleri bir KAY talebini bu gerekçeyle reddedemez. FATF üyeleri halihazırda Avrupa Komisyonu, Körfez Arap Ülkeleri İşbirliği Konseyi, Avrupa Birliği üye Devletleri’nin yanı sıra İsviçre, Rusya, Kanada, Amerika Birleşik Devletleri, Meksika, Brezilya, Japonya, Çin, Hong Kong ve Singapur’du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er iki ülkede de suç niteliği taşıma koşulu</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imi Devletler bir KAY talebini ancak kendi iç hukuklarında da eşdeğer bir suç isnadının veya suçun bulunması halinde icraya koyacaktır. Avrupa Birliği üye Devletleri açısından 2001 Protokolü’nün 2.4. maddesi bir KAY talebini uygularken çifte suçluluk kriterinin dikkate alınmasını mümkün kılmaktadır. Budapeşte Sözleşmesi her iki ülkede de suç niteliği taşıma koşulunun karşılanmaması halinde karşılıklı adli yardım taleplerinin reddedilebileceğini öngörmektedir. Ancak Budapeşte Sözleşmesi’nin 25(5). maddesi ve ayrıca FATF’nin 37 No’lu Tavsiye Kararı, bu şartın karşılanmış sayılması için, yardım talep edilen tarafın söz konusu suçu, yardım talep eden tarafla aynı suç kategorisi altına sokup sokmadığına veya aynı terminoloji ile adlandırıp adlandırmadığına bakılmaksızın, sadece hakkında yardım talep edilen suçun zeminini oluşturan davranışın kendi mevzuatı kapsamında suç sayılmasının yeterli olduğunu dile getirmektedir. </a:t>
            </a:r>
            <a:endParaRPr b="0" lang="en-US" sz="5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5A19-1AF6-4A50-8D40-8DE21E164A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bilgisayar korsanları tarafından izinsiz girilmiş bir bilgisayara yönelik bir KAY talebinde, Yabancı Y Ülkesinin Yabancı X Şehrinde yer alan bir internet hizmet sağlayıcıya tekabül eden ve izinsiz giriş yapılan bilgisayara 1 Ocak 2017 tarihinde sabah 7:30 ile 11:30 (GMT+ X) saatleri arasında bağlı olan şüpheli 210.0.XXX.XXX IP adresi belirtilmek durumund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larımız sonucunda şüpheli 210.0.XXX.XXX IP adresinin fiziki adresi XXXX olan XXXX Şirketine ait olduğu tespit edilmiş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ümkün olduğunca ayrıntılı bilgi verilmesi önem taşı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atler her zaman milletlerarası saat sistemine (GMT) göre belirtilmelidir.</a:t>
            </a:r>
            <a:endParaRPr b="0" lang="en-US" sz="12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84AC-F731-4605-94AA-B698E5DFE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Talebin icrası için geçerli hukuk, aksi yönde bir hüküm taşıyan iki taraflı veya çok taraflı bir sözleşme bulunmadıkça, </a:t>
            </a:r>
            <a:r>
              <a:rPr b="1" lang="tr-TR" sz="600" spc="-1" strike="noStrike">
                <a:solidFill>
                  <a:srgbClr val="000000"/>
                </a:solidFill>
                <a:latin typeface="Calibri"/>
              </a:rPr>
              <a:t>yardım talep edilen Devletin </a:t>
            </a:r>
            <a:r>
              <a:rPr b="0" lang="tr-TR" sz="600" spc="-1" strike="noStrike">
                <a:solidFill>
                  <a:srgbClr val="000000"/>
                </a:solidFill>
                <a:latin typeface="Calibri"/>
              </a:rPr>
              <a:t>hukuk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arama emri açısından geçerli olan usul hukuku kurallarının, talep edilen Devletin yargı sisteminin, Fransa’daki veya Belçika’daki sorgu hakimi gibi bir sulh yargıcının arama emri vermek konusunda kendi inisiyatifiyle karar verdiği ülkeler gibi </a:t>
            </a:r>
            <a:r>
              <a:rPr b="1" lang="tr-TR" sz="600" spc="-1" strike="noStrike">
                <a:solidFill>
                  <a:srgbClr val="000000"/>
                </a:solidFill>
                <a:latin typeface="Calibri"/>
              </a:rPr>
              <a:t>soruşturmaya </a:t>
            </a:r>
            <a:r>
              <a:rPr b="0" lang="tr-TR" sz="600" spc="-1" strike="noStrike">
                <a:solidFill>
                  <a:srgbClr val="000000"/>
                </a:solidFill>
                <a:latin typeface="Calibri"/>
              </a:rPr>
              <a:t>mı dayalı, yoksa müzekkerelerin polis tarafından düzenlendiği İngiltere’deki gibi </a:t>
            </a:r>
            <a:r>
              <a:rPr b="1" lang="tr-TR" sz="600" spc="-1" strike="noStrike">
                <a:solidFill>
                  <a:srgbClr val="000000"/>
                </a:solidFill>
                <a:latin typeface="Calibri"/>
              </a:rPr>
              <a:t>çekişmeli</a:t>
            </a:r>
            <a:r>
              <a:rPr b="0" lang="tr-TR" sz="600" spc="-1" strike="noStrike">
                <a:solidFill>
                  <a:srgbClr val="000000"/>
                </a:solidFill>
                <a:latin typeface="Calibri"/>
              </a:rPr>
              <a:t> mi, yoksa soruşturmaların hukukiliğini güvence altına alan bir hakimin denetimi altında görev yapan bir savcı tarafından düzenlenen arama emirlerinin söz konusu olduğu İtalya veya Almanya örneğine benzer mi olduğuna göre çeşitlilik arz etmesinin sebebi b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ma emirleri genelde mütecaviz ve zorlayıcı yasal tedbirler olarak addedilmektedir. İşte bu nedenle olayın ayrıntılı bir şekilde özetlenmesi ve süregiden soruşturmalara ilişkin delillere ve işlemlere ilişkin gerekçenin her zaman açıklanması son derece önemlidir. Ayrıca, talep edilen Devletin iç hukuk düzenlemelerinin ve usullerinin bilinmesi de elzem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Anglosakson veya teamül hukuku</a:t>
            </a:r>
            <a:r>
              <a:rPr b="0" lang="tr-TR" sz="600" spc="-1" strike="noStrike">
                <a:solidFill>
                  <a:srgbClr val="000000"/>
                </a:solidFill>
                <a:latin typeface="Calibri"/>
              </a:rPr>
              <a:t> etkisi altındaki ülkeler özellikle geçerli sebebin varlığını tespit bakımından son derece kapsamlı bir olay özeti talep edecektir. Nitekim, soruşturma tedbirinin işleme konulabilmesi için yetkili yerel yargı makamının kendi müzekkeresini düzenlemesi gerekecekt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Bu müzekkerenin düzenlenmesi için şu hususların kanıtlanması şarttır</a:t>
            </a:r>
            <a:r>
              <a:rPr b="0" lang="tr-TR" sz="600" spc="-1" strike="noStrike">
                <a:solidFill>
                  <a:srgbClr val="000000"/>
                </a:solidFill>
                <a:latin typeface="Calibri"/>
              </a:rPr>
              <a: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inin isnat edilen suçla orantılı olmas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erekli olması (daha az mütecaviz ve zorlayıcı bir tedbir benzer sonuçları yaratamaz m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aramanın yapılması planlanan yerde bulunacağına inanmak için ciddi sebeplerin varlığ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Aranacak yerlerin ve eşyaların açık ve net bir şekilde belirtilmesi</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nacak yerlere ve eşyalara ilişkin ve ayrıca bu öğelerin bulunması gereken yerlere ilişkin açık ve net göstergeler sunulmalıdır. Bazı hallerde, örneğin KAY talebi yazıldığı sırada bu netlikte bilgiler sunulamaması halinde, yardım talep eden yargı makamının irtibat bilgileri verilebilir; böylece talep edilen taraf daha sonrasında gerekli olabilecek her türlü ek bilgiyi temasa geçerek sora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lerden (ortak soruşturma ekipleri) yararlanan farklı ülkelerde veya EUROJUST ağı üzerinden </a:t>
            </a:r>
            <a:r>
              <a:rPr b="1" lang="tr-TR" sz="600" spc="-1" strike="noStrike">
                <a:solidFill>
                  <a:srgbClr val="000000"/>
                </a:solidFill>
                <a:latin typeface="Calibri"/>
              </a:rPr>
              <a:t>koordineli arama emirleri </a:t>
            </a:r>
            <a:r>
              <a:rPr b="0" lang="tr-TR" sz="600" spc="-1" strike="noStrike">
                <a:solidFill>
                  <a:srgbClr val="000000"/>
                </a:solidFill>
                <a:latin typeface="Calibri"/>
              </a:rPr>
              <a:t>düzenlene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Bir arama emrinin icraya konulmasının reddine ilişkin özel gerekçeler:</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 Schengen bölgesi dışındaki Avrupa Konsey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Ceza İşlerinde Karşılıklı Adli Yardım Avrupa Sözleşmesi’nin (20 Nisan 1959) 5. maddesi üye Devletlerin bir arama emrinin icrasını şu iki sebepten birini öne sürerek reddedebileceğini belirtmekted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Her iki ülkede de suç niteliği taşıma koşulu: Yardım talep edilen Devlet söz konusu suçun kendi iç hukuku kapsamında cezalandırılabilir nitelik taşımaması veya suçlunun iadesine yol açacak denli ağır bir cezayla cezalandırılmaması (“iade edilebilir bir suç” olmaması) halinde arama emri çıkartmayı reddedebil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Talebin yardım talep edilen Devletin ulusal hukukuyla bağdaşmaması: Bu sayede Devletler, söz konusu işlemi soruşturmaların kendi ulusal hukuk ve usul kurallarına göre hukuki olup olmadığını temin amacıyla bir ulusal hakimin onayına sunabilmekte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evletler bu ret gerekçelerini ancak Sözleşme’yi onaylarken bunları beyan etmiş olmaları halinde kullanabilmektedir. Her bir Devlet tarafından sunulan beyanlara Avrupa Konseyi’nin internet sitesinden erişilebilir (http://conventions.coe.int).</a:t>
            </a:r>
            <a:endParaRPr b="0" lang="en-US" sz="6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2A95-A3E9-4CDA-ADFC-683B8A6F3D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rdım talep eden Devletin, talep edilen Devletten şu hususlar hakkında bir beyanat veya tasdikli belge hazırlamasını isteme imkân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l konulmuş olan her bir eşy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söz konusu eşyayı elinde bulunduran veya kullanan her bir şahı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şyanın korunma veya muhafaza koşullar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ce kolluk makamlarının ve mahkemelerin delillerin nasıl elde edildiğini ve delillere herhangi bir halel gelmiş olup olmayabileceğini tam anlamıyla saptaması mümkün olacak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4D63-E6CB-470C-9A40-1E68B8EB2A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Özel soruşturma tedbirleri arasında şunla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gizli ajanın gerçek kimliğini gizleyerek bir örgüte sızması gibi gizli operasyonlar (örneğin Avrupa Birliği Üye Devletleri arasında Karşılıklı Adli Yardım Sözleşmesi’nin (29 Mayıs 2000) 14. maddesi, Ceza İşlerinde Avrupa Soruşturma Emrine ilişkin 2014 tarihli Direktif’in 29.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elekomünikasyonların ele geçirilmesi (veya gizli dinleme) (örneğin Avrupa Birliği Üye Devletleri arasında Karşılıklı Adli Yardım Sözleşmesi’nin (29 Mayıs 2000) 17-22. maddesi, Ceza İşlerinde Avrupa Soruşturma Emrine ilişkin 2014 tarihli Direktif’in 30 ve 31.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örüntülü konferans (örneğin Avrupa Birliği Üye Devletleri arasında Karşılıklı Adli Yardım Sözleşmesi’nin (29 Mayıs 2000) 10. maddesi, Ceza İşlerinde Avrupa Soruşturma Emrine ilişkin 2014 tarihli Direktif’in 24.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netimli teslimat; (örneğin Avrupa Birliği Üye Devletleri arasında Karşılıklı Adli Yardım Sözleşmesi’nin (29 Mayıs 2000) 12.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gizli ajan tarafından bir örgüte sızılması şeklindeki özel soruşturma tedbiri her yerde uygulanmamaktadır; zira bazı mevzuatlar bu tedbiri bir tür “provokasyon” biçimi sayabil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Özel soruşturma tedbirleri genellikle olağan tedbirlerden daha külfetli ve masraflı olmaktadır. Yine de soruşturmanız açısından kesinlikle elzem görüyorsanız, bir ortak soruşturma ekibi (OSE) anlaşması imzalanmasının değerlendirilmesi mantıklı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OSE anlaş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vrupa Birliği Üye Devletleri arasında Karşılıklı Adli Yardım Sözleşmesi’nin (29 Mayıs 2000) 13. maddesi bir ortak soruşturma ekibi (OSE) oluşturulmasına ilişkin koşulları belirt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na göre şu hallerde bir OSE oluşturu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Üye Devletin cezai nitelik taşıyan suçlara yönelik soruşturmaları başka Üye Devletlerle bağlantıları olan güç ve çok çaba içeren soruşturmalar gerektiriyors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kaç Üye Devlet olayın koşulları gereği Üye Devletler arasında koordineli ve birlikte bir süreç yürütülmesini şart koşan soruşturmalar yürütüyorsa.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OSE kurulması ilgili Üye Devletlerin yargı makamlarınca bir Protokol imzalanarak gerçekleştiril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 belge OSE’nin ne kadar süreyle oluşturulduğu, masraf ve harcamaları, hem faaliyet gösterdiği sırada hem de sonrasında OSE’ye yönelik bir değerlendirme takvimi gibi birtakım düzenlemeleri tesis ed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 üyeleri geniş soruşturma yetkilerine sahip olabilir. Bunlar arasında şu yetkile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uçların kaydedilm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na yardımcı olu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akip ve gizli operasyonlara girişilmesi veya buna yardımcı olunması.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yrıca söz konusu Üye Devletlerin tüm egemenlik alanı içerisinde yetkili olacaklard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C42B-7100-427B-87F8-1AFCF7F38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Her türlü özel gizlilik şartını vurgulayı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çok şirket kolluk makamlarına gereken bilgileri verirken aynı zamanda kendileriyle ilgili verilerin aktarılmış olduğunu müşteriye haber verme yükümlülüğü ve hakkı da öngördüğü içindir ki, gizlilik gerekliliklerinin özel olarak belirtilmesi son derece önem taşı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lebin ifasındaki aciliyet düzeyini ve süre sınırlamalarını belirtin</a:t>
            </a:r>
            <a:r>
              <a:rPr b="1" lang="tr-TR"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on derece özel olarak belirtilmiş olsa dahi süre sınırlamalarına uyulması şart değildir, zira KAY talepleri ister istemez vakit al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Kolluk makamları açısından en iyi seçenek daima </a:t>
            </a:r>
            <a:r>
              <a:rPr b="0" lang="tr-TR" sz="800" spc="-1" strike="noStrike" u="sng">
                <a:solidFill>
                  <a:srgbClr val="000000"/>
                </a:solidFill>
                <a:uFillTx/>
                <a:latin typeface="Calibri"/>
              </a:rPr>
              <a:t>verilerin dondurulması</a:t>
            </a:r>
            <a:r>
              <a:rPr b="0" lang="tr-TR" sz="800" spc="-1" strike="noStrike">
                <a:solidFill>
                  <a:srgbClr val="000000"/>
                </a:solidFill>
                <a:latin typeface="Calibri"/>
              </a:rPr>
              <a:t> (daha sonra ele alınacağı üzere Budapeşte Sözleşmesi) ve daha sonrasında dondurulmuş verilerin elde edilmesi amacıyla bir KAY talebi hazırlanması ol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	</a:t>
            </a:r>
            <a:r>
              <a:rPr b="0" i="1" lang="tr-TR" sz="800" spc="-1" strike="noStrike">
                <a:solidFill>
                  <a:srgbClr val="000000"/>
                </a:solidFill>
                <a:latin typeface="Calibri"/>
              </a:rPr>
              <a:t>Kay talepleri neden bu kadar vakit alıyo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daha önce değinildiği üzere, olayın özetlenmesi, geçerli ulusal yasal düzenlemelerin tespit edilmesi vs. gerekecekt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ardından talebin tercüme edilmesi gerekecekt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talebin gönderilmesi ve ulaşması uzun sürebilmektedir: KAY talebi, nihayetinde yetkili kolluk veya yargı makamına  sunulmadan önce belirli diplomatik kanallar aracılığıyla veya bir adalet bakanlığından başka bir adalet bakanlığına gönderilmek durumunda olabil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Ülkenizin bunun aksi düzenlemeler içeren bazı özel iki taraflı anlaşmalar imzalamış olması halinde yukarıda anılan son güçlük yaşanmay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Bunlar, KAY taleplerini/Avrupa Soruşturma Emri taleplerini doğrudan kendi yargı makamından yetkili yargı makamına (örneğin Fransa’daki bir savcıdan Almanya’daki bir mahkemeye) iletebilecek Avrupa Birliği Üye Devletleri açısından da geçerli değildir: 29 Mayıs 2000 tarihli sözleşmenin 4. maddesi ve </a:t>
            </a:r>
            <a:r>
              <a:rPr b="1" lang="tr-TR" sz="700" spc="-1" strike="noStrike" u="sng">
                <a:solidFill>
                  <a:srgbClr val="000000"/>
                </a:solidFill>
                <a:uFillTx/>
                <a:latin typeface="Calibri"/>
              </a:rPr>
              <a:t>Ceza İşlerinde Avrupa Soruşturma Emrine ilişkin 2014 tarihli Direktif’in 7. maddesi. </a:t>
            </a:r>
            <a:endParaRPr b="0" lang="en-US" sz="7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Şüphelilere ait olası kimlik teşhislerinin mümkün olduğunca isabetli ve düzgün şekilde yapılması</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8C04-2E10-47A6-86F6-DCD59288D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KAY talepleri tüm taraflar açısından vakit aldığı içindir ki, önceliklerin belirlenmesi önem taşımakta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 soruşturmalarının bir ucunun yurt dışına dokunması çok olası olup, karşınıza çıkan her siber suç olayında bir KAY talebinde bulunmak son derece ters sonuçlar yaratacakt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Şu kriterlerin daima hatırda tutulması gerekmekte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ağırlığı (çocuk pornografisi veya terörizm gib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uğranılan maddi zararın miktarı,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mağdurların sayıs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kamu düzeni”nin bozulması (örneğin bilgisayar korsanlarınca devlete ait bir web sitesine girilmesi veya sanayi casusluğ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işlendiği koşullar (örneğin örgütlü suç).</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on olarak, başlıca telekomünikasyon hizmet sağlayıcılar (FACEBOOK, GOOGLE, TWITTER vb.) Amerika Birleşik Devletleri’nde yer aldığından bu ülkeye pek çok KAY talebi gönderilecektir. ABD bu konuda pek çok talep aldığından, yalnızca en ciddi suç türleriyle bağlantılı taleplerin öncelikli olarak ele alınacağını varsaymak doğru olacaktır. ABD’nin Anglosakson hukukuna dayalı yargı sistemi de geçerli bir sebebin varlığının tespiti amacıyla olaya ilişkin daha kapsamlı bir özet gerektirecekt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BCDC-295C-4D47-B6E0-B38752C4B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Başka ülkelerdeki uygun irtibat noktasını tespit etme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Ulusal kolluk görevlilerinin ve yargı makamlarının başka ülkelerde dijital delilleri derhal dondurmasına ve/veya elde etmesine imkân sağlayacak uygun irtibat noktalarının tespiti önemli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Veri saklama kuralları bu konudaki iç hukuka bağlı olarak ülkeden ülkeye muazzam değişiklik göstermekte, günler, haftalar ve hatta yıllar biçiminde karşımıza çıkabilmektedir… İşte bu nedenle gerekli dijital verilerin temini için derhal harekete geçilmesi son derece elzem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Lütfen dikkat ediniz:</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Avrupa’da veri saklama bilhassa değişkenlik arz etmektedir, zira Avrupa Birliği Adalet Divanı yakın tarihli bir kararında “veri saklama” direktifini geçersiz ilan etmiştir. Bu direktif uyarınca Üye Devletler vatandaşlarının telekomünikasyon verilerini en az altı ay ve en fazla iki yıl boyunca saklama yükümlülüğü altında bulunuyordu. Bu bilgilere erişim izni ise müteakiben verilecek bir mahkeme kararına bağlıydı.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8 Nisan 2014’te Avrupa Birliği Adalet Divanı, Digital Rights Ireland tarafından İrlanda makamlarına ve başkaca makamlara karşı açılan bir davada bu direktifi geçersiz ilan etmiştir. Direktifin sınırlı amaç ve orantılılık ilkelerini ihlal ettiğine ve bireylerin özel hayatının gizliliği hakkıyla çeliştiğine hükmetmişti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Mahkeme kararının ardından itiraz konusu yapılabilecek diğer AB yasaları ve yasa teklifleri arasında, bir AB veri koruma yönetmeliği tasarısı ile birlikte müzakere edilmekte olan, kolluk makamlarınca verilerin işlenmesine ilişkin AB direktifi tasarısı, bir AB Yolcu İsim Kaydı direktifi tasarısı, Avrupa Terör Finansmanı Takip Sistemi tasarıları, sığınmacıların parmak izlerini içeren Eurodac kolluk veri tabanına hükümetlerin erişimine ilişkin kurallar ve AB sınırlarından geçen yolcuları izleyen bir giriş-çıkış sistemine ilişkin tasarılar yer almaktadı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Veri Saklama Direktifi’nin uygulamaya geçirilmesi amacıyla çıkartılmış olan ulusal yasalar üzerindeki doğrudan etki bakımından ise AB ülkeleri mahkeme kararına farklı şekillerde yanıt vermiş bulunmaktadır. Üye devletlerdeki veri koruma makamları genellikle yasakoyucuların iradesini yansıtacak kararlar vermişlerdir</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ncak, Avrupa ülkelerinde veri saklama kurallarının statüsü bahsi geçen yargı kararı sonucunda bir şekilde muğlak hale gelmiştir. Bu nedenledir ki, Avrupa Birliği Üye Devletleri ile işbirliği yaparken dahi Budapeşte Sözleşmesi’ndeki yasal düzenlemeler kullanılarak süratle harekete geçilmesi ve verilerin dondurulması gerekli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Resmi karşılıklı adli yardım talebi sunmadan önce uygun mevkidaşlar ile gayrıresmi temaslar kurma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KAY talebi göndermeden önce ilgili mevkidaşlar ile önceden temasa geçmek faydalı olabilir. Böylec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ın sizin gönderdiğiniz KAY talebini beklemesi ve tespit etmesi mümkün ol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la dosyanın içeriği ve ihtiyaç duyduğunuz delil hakkında önce gayriresmi bir iletişim kurmanız sağlan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en nihayetinde de mevkidaşınıza dosya üzerinde önceden çalışmaya başlama imkânı verilmiş olacakt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İlgili mevkidaşın saptanması bakımından, muhtemelen bir kolluk veya yargı görevlisi ile bağlantı kurup size bilgi verebilecek yurtdışındaki büyükelçiliğiniz ile temasa geçmeniz faydalı olabilir. Ceza İşleri Avrupa Yargı Ağı (EJN) da bilgi ve irtibat bilgisi sun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1030-5587-457D-A270-53D9ED6E77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Yargılama yetkis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lar ve elektronik deliller ile ilgili konularda temel hususlardan biri, yargılama yetkisinin usulünce tespitidir. Yargılama yetkisi belirlenirken çeşitli faktörler göz önüne alınmalıdı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Del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Fa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Mağdurları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Verilerin mülkiyet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nın fiziki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ların yasal ikametgâhı</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lut Delil Grubu (Cloud Evidence Group) tarafından yapılan bir çalışmada dile getirildiği üzere, bu hususlar bulut verilerin özelliği düşünülecek olduğunda bilhassa önem arz etmektedi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Saat diliml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Uluslararası işbirliği, yardım talep ediyor olabileceğiniz bir yerde farklı bir saat diliminin geçerli olması ve bunun da talepler cevaplanırken ve bazı durumlarda talepte bulunulurken dahi gecikmeler yaşanmasına yol açabileceği konusunda bir kavrayış gerektirir. Bazı ülkelerde acil taleplerin süratle alınması ve cevaplanması yönünde yetkilendirilmiş 7/24 çalışan irtibat noktaları bulunmaktadır. Ancak başka bazı ülkelerde uluslararası telefon görüşmelerine dahi erişim bulunmadığından, işbirliği güç ve masraflı olabilmektedir. </a:t>
            </a: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4FD4-FF07-403A-B96C-66D88A3017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Evrakların tercümes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İki taraflı ve çok taraflı sözleşmeler genellikle KAY taleplerinin hangi dillerde sunulabileceğini ve tercüme gerekip gerekmediğini belirtir. Örneğin </a:t>
            </a:r>
            <a:r>
              <a:rPr b="0" lang="tr-TR" sz="800" spc="-1" strike="noStrike">
                <a:solidFill>
                  <a:srgbClr val="000000"/>
                </a:solidFill>
                <a:latin typeface="Calibri"/>
              </a:rPr>
              <a:t>Avrupa Birliği Üye Devletleri arasında Karşılıklı Adli Yardım Sözleşmesi’nin (29 Mayıs 2000) 5. maddesi hitap edilen makamın bir belgenin dilini anlamayacağını düşünmek için haklı bir sebep bulunan durumlarda belgenin veya hiç değilse önemli bölümlerinin tercüme edilmesi gerektiğini öngörmektedir. </a:t>
            </a:r>
            <a:endParaRPr b="0" lang="en-US" sz="8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 soruşturmalarında uluslararası işbirliğini gerektiren çok sayıda durum söz konusu olabileceğinden, birlikte çalıştığınız tercümanların çıkardığı işin kalitesinden ve ayrıca siber suç KAY taleplerinde sık kullanılan daha teknik terimleri tercüme edebilecek kapasiteye sahip olduklarından emin olmak önemli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Dil engeller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çok KAY talebinde ilgili kolluk makamlarının ve savcıların hangi dilleri konuşabildiği belirtil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elefonla iletişim kuruluyorsa, söylemeniz gereken şeyleri ve uygun teknik ya da hukuki terimleri önceden hazırlamak faydalı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azen yabancı bir dilde eposta yoluyla iletişim kurmak daha kolay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55C4-C346-4CDE-A75D-5BB8A22B95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Farklı ülkelerde siber suç soruşturmalarının farklı önem seviyelerine sahip olması dolayısıyla yaşanacak gecikmeler:</a:t>
            </a:r>
            <a:r>
              <a:rPr b="1" lang="tr-T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ütün ülkelerde siber suç soruşturmalarını yürütmek üzere eğitim almış ve bu donanıma sahip uzman bir kolluk sistemi veya yargı yapısı bulunmamaktadı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ff0000"/>
                </a:solidFill>
                <a:uFillTx/>
                <a:latin typeface="Calibri"/>
              </a:rPr>
              <a:t>Teknik destek ve uzman desteği sağlanması:</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ir KAY talebinde bulunulurken ve hangi soruşturma işlemlerine ihtiyacınız olduğu ve hangi sonuçları elde etmeyi amaçladığınız detaylandırılırken yeterince açık ve net olabilmek için teknik destek ve uzman desteği temin edilebilir (</a:t>
            </a:r>
            <a:r>
              <a:rPr b="0" lang="tr-TR" sz="1000" spc="-1" strike="noStrike" u="sng">
                <a:solidFill>
                  <a:srgbClr val="ff0000"/>
                </a:solidFill>
                <a:uFillTx/>
                <a:latin typeface="Calibri"/>
              </a:rPr>
              <a:t>bkz. slayt 55</a:t>
            </a:r>
            <a:r>
              <a:rPr b="0" lang="tr-TR" sz="1000" spc="-1" strike="noStrike">
                <a:solidFill>
                  <a:srgbClr val="ff0000"/>
                </a:solidFill>
                <a:latin typeface="Calibri"/>
              </a:rPr>
              <a:t>). Bu hususlar kolluk görevlileri ve savcılar arasındaki doğrudan ve gayriresmi temaslar sırasında da söz konusu edile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u destek bir ortak soruşturma ekibi (OSE) anlaşması imzalanmak suretiyle daha resmi bir bağlamda da temin edilebilir (</a:t>
            </a:r>
            <a:r>
              <a:rPr b="0" lang="tr-TR" sz="1000" spc="-1" strike="noStrike" u="sng">
                <a:solidFill>
                  <a:srgbClr val="ff0000"/>
                </a:solidFill>
                <a:uFillTx/>
                <a:latin typeface="Calibri"/>
              </a:rPr>
              <a:t>bkz. slayt 61</a:t>
            </a:r>
            <a:r>
              <a:rPr b="0" lang="tr-TR" sz="1000" spc="-1" strike="noStrike">
                <a:solidFill>
                  <a:srgbClr val="ff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Genel olarak, tüm KAY taleplerinin kendi başınıza hiçbir şekilde yapamayacağınız soruşturma işlemleriyle sınırlanması uygun olacaktır. Örneğin bir bilgisayara el konulup incelenmesi gerekiyorsa, en iyisi, yardım talep edilen kolluk makamından söz konusu bilgisayara el koyup size göndermesini istemek olacaktır. Bunun ardından kendi kolluk görevlilerinizden veya uzmanlarınızdan bilgisayarı incelemelerini isteyebilir ve bu işlemin sizin kendi ulusal mevzuatınıza uygun bir şekilde yapıldığından emin olabilirsiniz.</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tanık ifadelerinin alınması veya bankacılık evrakları ve mali deliller gibi daha geleneksel soruşturma biçimlerinin kullanılması ilginç olabilir (</a:t>
            </a:r>
            <a:r>
              <a:rPr b="0" lang="tr-TR" sz="1200" spc="-1" strike="noStrike" u="sng">
                <a:solidFill>
                  <a:srgbClr val="000000"/>
                </a:solidFill>
                <a:uFillTx/>
                <a:latin typeface="Calibri"/>
              </a:rPr>
              <a:t>slayt 56 ve 57</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lar sanal bir dünya gibi görünebilir, fakat bu suçları işleyen insanlar da bunu başka herhangi bir suçla aynı temel güdü doğrultusunda işle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Para akışı”nın izlenmesi ve suçtan kimin kazanç sağladığının tespit edilmesi çoğu zaman siber suçların etkili bir şekilde soruşturulmasının en başlıca ve basit yollarından birini oluşturur. </a:t>
            </a:r>
            <a:endParaRPr b="0" lang="en-US" sz="1200" spc="-1" strike="noStrike">
              <a:solidFill>
                <a:srgbClr val="000000"/>
              </a:solidFill>
              <a:latin typeface="Calibri"/>
            </a:endParaRPr>
          </a:p>
        </p:txBody>
      </p:sp>
      <p:sp>
        <p:nvSpPr>
          <p:cNvPr id="20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65FC-4DA2-4ABB-81B5-6A03EBD4DA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55840" y="504720"/>
            <a:ext cx="3362400" cy="2521080"/>
          </a:xfrm>
          <a:prstGeom prst="rect">
            <a:avLst/>
          </a:prstGeom>
          <a:ln w="0">
            <a:noFill/>
          </a:ln>
        </p:spPr>
      </p:sp>
      <p:sp>
        <p:nvSpPr>
          <p:cNvPr id="20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İkinci Bölümü ile ilgili sormak istedikleri her türlü soruyu sorma fırsatı tanımalıdır. </a:t>
            </a:r>
            <a:endParaRPr b="0" lang="en-US" sz="1200" spc="-1" strike="noStrike">
              <a:solidFill>
                <a:srgbClr val="000000"/>
              </a:solidFill>
              <a:latin typeface="Calibri"/>
            </a:endParaRPr>
          </a:p>
        </p:txBody>
      </p:sp>
      <p:sp>
        <p:nvSpPr>
          <p:cNvPr id="20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4AA7-3CAA-4F5A-90EE-9A1B13FE64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CD58-CB82-464F-9724-8E4722C390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9C03A-2183-403C-8D15-F80C5896F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9B361-52A8-4804-B408-1A62D98F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3B4FF-97C5-43E6-990F-D7BEE094B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3F346-69F9-4CCF-9DB4-340DCA034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5C43-37C1-4ABD-AF93-71B0FCAC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36E0-92B1-41A6-B530-45891A19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5F9A-66EF-4BCB-BC0F-60564F6F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1523-9BCC-40D0-A51F-B08CFAB2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EED0-7B64-463A-A131-61721030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D531-E784-4F38-BCFA-CB3373E1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FDE2C-3755-4A97-A572-517DC300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B125-5AEC-4562-AAD8-932691DDF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1D19-2763-4A28-8DB4-079BB00E1B4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ULUSLARARASI İŞBİRLİĞİ</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a:t>
            </a:r>
            <a:r>
              <a:rPr b="1" lang="tr-TR" sz="2800" spc="-1" strike="noStrike">
                <a:solidFill>
                  <a:srgbClr val="000000"/>
                </a:solidFill>
                <a:latin typeface="Calibri"/>
              </a:rPr>
              <a:t>– </a:t>
            </a:r>
            <a:r>
              <a:rPr b="0" lang="tr-TR" sz="2800" spc="-1" strike="noStrike">
                <a:solidFill>
                  <a:srgbClr val="000000"/>
                </a:solidFill>
                <a:latin typeface="Calibri"/>
              </a:rPr>
              <a:t>genel ilkeler</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3-2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siber suçlar (2-10. mad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veya bir suça ilişkin olarak </a:t>
                      </a:r>
                      <a:r>
                        <a:rPr b="0" lang="tr-TR" sz="1800" spc="-1" strike="noStrike" u="sng">
                          <a:solidFill>
                            <a:srgbClr val="000000"/>
                          </a:solidFill>
                          <a:uFillTx/>
                          <a:latin typeface="Calibri"/>
                        </a:rPr>
                        <a:t>elektronik ortamda delil</a:t>
                      </a:r>
                      <a:r>
                        <a:rPr b="0" lang="tr-TR" sz="1800" spc="-1" strike="noStrike">
                          <a:solidFill>
                            <a:srgbClr val="000000"/>
                          </a:solidFill>
                          <a:latin typeface="Calibri"/>
                        </a:rPr>
                        <a:t> toplanması amacıy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5.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Calibri"/>
                        </a:rPr>
                        <a:t>gelirlerin ve suç araçlarının müsaderesi </a:t>
                      </a:r>
                      <a:r>
                        <a:rPr b="0" lang="tr-TR" sz="1800" spc="-1" strike="noStrike">
                          <a:solidFill>
                            <a:srgbClr val="000000"/>
                          </a:solidFill>
                          <a:latin typeface="Calibri"/>
                        </a:rPr>
                        <a:t>amacıy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lepl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elirli mal unsurlarının müsader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nda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üsadere amacıyla geçici önlemler alınması.</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geçici tedbirler</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9-30.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in süratli şekilde korun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runan trafik verilerinin süratli şekilde açıklan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1-22.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lara yönelik her türlü muamelenin, devrin veya tasarrufun önlenmesi için </a:t>
                      </a:r>
                      <a:r>
                        <a:rPr b="0" lang="tr-TR" sz="1800" spc="-1" strike="noStrike" u="sng">
                          <a:solidFill>
                            <a:srgbClr val="000000"/>
                          </a:solidFill>
                          <a:uFillTx/>
                          <a:latin typeface="Calibri"/>
                        </a:rPr>
                        <a:t>dondurma veya el koyma</a:t>
                      </a:r>
                      <a:r>
                        <a:rPr b="0" lang="tr-TR" sz="1800" spc="-1" strike="noStrike">
                          <a:solidFill>
                            <a:srgbClr val="000000"/>
                          </a:solidFill>
                          <a:latin typeface="Calibri"/>
                        </a:rPr>
                        <a:t> 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çici önlem bakımından </a:t>
                      </a:r>
                      <a:r>
                        <a:rPr b="0" lang="tr-TR" sz="1800" spc="-1" strike="noStrike" u="sng">
                          <a:solidFill>
                            <a:srgbClr val="000000"/>
                          </a:solidFill>
                          <a:uFillTx/>
                          <a:latin typeface="Calibri"/>
                        </a:rPr>
                        <a:t>önem arz eden tüm bilgileri kendiliğinden</a:t>
                      </a:r>
                      <a:r>
                        <a:rPr b="0" lang="tr-TR" sz="1800" spc="-1" strike="noStrike">
                          <a:solidFill>
                            <a:srgbClr val="000000"/>
                          </a:solidFill>
                          <a:latin typeface="Calibri"/>
                        </a:rPr>
                        <a:t> temin et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endiliğinden bilgi verm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dapeşte Sözleşmesi, 26. madde) ve (Varşova Sözleşmesi, 20. madde):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dan biri, kendi iç hukukunun sınırları çerçevesinde ve önceden bir talep olmaksızın, kendi yürüttüğü soruşturmalar çerçevesinde edinilen bilgileri, söz konusu bilgilerin açıklanmasının bilgileri alan Tarafa işbu Sözleşmede tanımlanan </a:t>
                      </a:r>
                      <a:r>
                        <a:rPr b="1" lang="tr-TR" sz="1800" spc="-1" strike="noStrike">
                          <a:solidFill>
                            <a:srgbClr val="000000"/>
                          </a:solidFill>
                          <a:latin typeface="Calibri"/>
                        </a:rPr>
                        <a:t>cezai suçlara ilişkin soruşturma ve davaların başlatılması ve yürütülmesi </a:t>
                      </a:r>
                      <a:r>
                        <a:rPr b="0" lang="tr-TR" sz="1800" spc="-1" strike="noStrike">
                          <a:solidFill>
                            <a:srgbClr val="000000"/>
                          </a:solidFill>
                          <a:latin typeface="Calibri"/>
                        </a:rPr>
                        <a:t>konusunda yardımcı olabileceğini veya ilgili Tarafın bu bölüm çerçevesinde işbirliği talebinde bulunmasına neden olabileceğini düşündüğü takdirde başka bir Tarafa iletebili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soruşturma yardımı</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31-34.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yetkileri konusunda karşılıklı yardımlaş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erişim;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izinli  şekilde veya bu verilerin halka açık olduğu durumlarda sınır ötesinden erişi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Trafik verilerinin gerçek zamanlı olarak toplanması konusunda karşılıklı yardı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erik verilerine el konulması konusunda karşılıklı yardımlaşm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6-20.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 suç araçlarının ve gelirlerin tespitinde ve takibinde birbirleriyle yardımlaşacaktır; buna bahse konu malın varlığına, mahalline veya hareketine, niteliğine, hukuki statüsüne veya değerine ilişkin delillerin güvence altına alınması da dahild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yardım şu talepleri de içermektedi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 hesaplarına ilişkin bilgi,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e ilişkin bilg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in izl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endiliğinden verilen bilgil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müsadere</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arşova Sözleşm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3–25. madd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23(5). madde: müsadereye eşdeğer tedbirler – cezai yaptırım niteliği olmayan (</a:t>
                      </a:r>
                      <a:r>
                        <a:rPr b="0" lang="tr-TR" sz="1800" spc="-1" strike="noStrike" u="sng">
                          <a:solidFill>
                            <a:srgbClr val="000000"/>
                          </a:solidFill>
                          <a:uFillTx/>
                          <a:latin typeface="Calibri"/>
                        </a:rPr>
                        <a:t>mahkûmiyete dayanmayan müsadere</a:t>
                      </a:r>
                      <a:r>
                        <a:rPr b="0" lang="tr-TR"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varlığı paylaşım kuralları (</a:t>
                      </a:r>
                      <a:r>
                        <a:rPr b="0" lang="tr-TR" sz="1800" spc="-1" strike="noStrike" u="sng">
                          <a:solidFill>
                            <a:srgbClr val="000000"/>
                          </a:solidFill>
                          <a:uFillTx/>
                          <a:latin typeface="Calibri"/>
                        </a:rPr>
                        <a:t>mağdurlara tazminat, meşru malikler</a:t>
                      </a:r>
                      <a:r>
                        <a:rPr b="0" lang="tr-TR"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üsad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u="sng">
                          <a:solidFill>
                            <a:srgbClr val="000000"/>
                          </a:solidFill>
                          <a:uFillTx/>
                          <a:latin typeface="Calibri"/>
                        </a:rPr>
                        <a:t>bir müsadere emrinin icraya ko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ya da </a:t>
                      </a:r>
                      <a:r>
                        <a:rPr b="0" lang="tr-TR" sz="1800" spc="-1" strike="noStrike" u="sng">
                          <a:solidFill>
                            <a:srgbClr val="000000"/>
                          </a:solidFill>
                          <a:uFillTx/>
                          <a:latin typeface="Calibri"/>
                        </a:rPr>
                        <a:t>bir müsadere emri çıkartılması</a:t>
                      </a:r>
                      <a:r>
                        <a:rPr b="0" lang="tr-TR" sz="1800" spc="-1" strike="noStrike">
                          <a:solidFill>
                            <a:srgbClr val="000000"/>
                          </a:solidFill>
                          <a:latin typeface="Calibri"/>
                        </a:rPr>
                        <a:t> ve icraya konulması amacıyla yetkili makamlara talepte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 veya belirli bir eşyanın müsaderesi talebi de dahil olmak üze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7/24 ağı (3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bir Taraf:</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lgisayar sistemleri ve verileriyle ilgili suçlar konusundaki soruşturma veya yargılamal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ya bir suçun elektronik ortamda toplanmış delil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çin derhal yardım temin edilmesi amacıyla 7/24 erişilebilecek bir irtibat noktası belirleyecekti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yardım şu tedbirlerin kolaylaştırılmasını ya da doğrudan yürütülmesini içerecektir: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nik bilgi sağlan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verilerin korunması</a:t>
                      </a:r>
                      <a:r>
                        <a:rPr b="0" lang="tr-TR" sz="1600" spc="-1" strike="noStrike">
                          <a:solidFill>
                            <a:srgbClr val="000000"/>
                          </a:solidFill>
                          <a:latin typeface="Calibri"/>
                        </a:rPr>
                        <a:t> (29 ve 30. madd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delil toplanması</a:t>
                      </a:r>
                      <a:r>
                        <a:rPr b="0" lang="tr-TR"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hukuki bilgi sağlanması,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lerin yerinin tespit edilme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İB işbirliği (46-47.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ler kendiliğinden veya talep üzerine şu hususlar bakımından önem arz edebilecek erişilebilir her türlü bilgi alışverişinde bulunu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lgilerin işlenmesi veya analizi ya d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kara para aklama ile ilgili</a:t>
                      </a:r>
                      <a:r>
                        <a:rPr b="0" lang="tr-TR" sz="1600" spc="-1" strike="noStrike">
                          <a:solidFill>
                            <a:srgbClr val="000000"/>
                          </a:solidFill>
                          <a:latin typeface="Calibri"/>
                        </a:rPr>
                        <a:t> mali işlemlere ve bunlara dahil olan gerçek veya tüzel kişilere dair MİB tarafından yürütülen soruşturm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in şüpheli işlemleri geciktirme yetki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AL İRTİBAT NOKTALARI?</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Malvarlıkları Geri Kazanım Kuruluşlar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ğrudan işbirliğini (savcı-savcı, hakim-hakim) mümkün kılan iki taraflı sözleşme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laylaştırıcı iç hukuk hükümleri?: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 paralel soruşturma, yargılamaları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konusunda iç hukuk hükümleri</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syanın gereğince anlaşılması ve delillerin muhafazası ve ele geçirilmesi için zamanında ve yeterli tedbirlerin alınması için </a:t>
            </a:r>
            <a:r>
              <a:rPr b="1" lang="tr-TR" sz="2400" spc="-1" strike="noStrike">
                <a:solidFill>
                  <a:srgbClr val="000000"/>
                </a:solidFill>
                <a:latin typeface="Calibri"/>
              </a:rPr>
              <a:t>polis memurlarının </a:t>
            </a:r>
            <a:r>
              <a:rPr b="0" lang="tr-TR" sz="2400" spc="-1" strike="noStrike">
                <a:solidFill>
                  <a:srgbClr val="000000"/>
                </a:solidFill>
                <a:latin typeface="Calibri"/>
              </a:rPr>
              <a:t>ve savcıların olay bildirimi ve suç isnadı esnasındaki </a:t>
            </a:r>
            <a:r>
              <a:rPr b="1" lang="tr-TR" sz="2400" spc="-1" strike="noStrike">
                <a:solidFill>
                  <a:srgbClr val="000000"/>
                </a:solidFill>
                <a:latin typeface="Calibri"/>
              </a:rPr>
              <a:t>bilgi ve tecrübe seviyesi </a:t>
            </a:r>
            <a:r>
              <a:rPr b="0" lang="tr-TR" sz="2400" spc="-1" strike="noStrike">
                <a:solidFill>
                  <a:srgbClr val="000000"/>
                </a:solidFill>
                <a:latin typeface="Calibri"/>
              </a:rPr>
              <a:t>son derece önem taşıyabilmekted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olis memurları ve savcılar gerektiğinde, hem “içeriden” hem de dışarıdan ek yardım isteme ihtiyacı hissedebilir; olayın çözülmesinde doğal olarak menfaati bulunan mağdur tarafından sergilenecek işbirliği ve katkılar da buna dahildir. </a:t>
            </a: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7D83-D513-4C30-AC2A-AF6C2FDE3A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rdım talep ederken başvurulan hukuki metnin </a:t>
            </a:r>
            <a:r>
              <a:rPr b="0" lang="tr-TR" sz="2400" spc="-1" strike="noStrike">
                <a:solidFill>
                  <a:srgbClr val="000000"/>
                </a:solidFill>
                <a:latin typeface="Calibri"/>
              </a:rPr>
              <a:t>belirtilmesi – antlaşma, sözleşme veya başkaca bir işbirliği belges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oruşturmayı/kovuşturmayı kimin yürüttüğünün açık ve net biçimde belirtilmesi.</a:t>
            </a:r>
            <a:r>
              <a:rPr b="0" lang="tr-TR" sz="2400" spc="-1" strike="noStrike">
                <a:solidFill>
                  <a:srgbClr val="000000"/>
                </a:solidFill>
                <a:latin typeface="Calibri"/>
              </a:rPr>
              <a:t> Gerekli tüm irtibat bilgilerini ve tercih edilen iletişim araçlarını belirtiniz.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layın özetlenmesi </a:t>
            </a:r>
            <a:r>
              <a:rPr b="0" lang="tr-TR" sz="2400" spc="-1" strike="noStrike">
                <a:solidFill>
                  <a:srgbClr val="000000"/>
                </a:solidFill>
                <a:latin typeface="Calibri"/>
              </a:rPr>
              <a:t>– soruşturmayı/kovuşturmayı destekleyen delillere ilişkin bir özet de dahil olmak üzere, soruşturma veya kovuşturma altındaki olaya dair ayrıntılı bir genel özet sunulması. Delillere ve süregiden soruşturmaya dair atılması öngörülen adımlara dair gerekçeleri açıklayınız.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F3AD-5797-4149-BAC7-8BF55A4E0C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Geçerli iç hukuk hükümlerine atıf </a:t>
            </a:r>
            <a:r>
              <a:rPr b="0" lang="tr-TR" sz="2400" spc="-1" strike="noStrike">
                <a:solidFill>
                  <a:srgbClr val="000000"/>
                </a:solidFill>
                <a:latin typeface="Calibri"/>
              </a:rPr>
              <a:t>– geçerli ceza hükümleri de dahil olmak üzere, soruşturma/kovuşturma altındaki tüm ilgili hukuk hükümlerinin tam metn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lep edilen yardımın net ve eksiksiz bir şekilde belirtilmesi </a:t>
            </a:r>
            <a:r>
              <a:rPr b="0" lang="tr-TR" sz="2400" spc="-1" strike="noStrike">
                <a:solidFill>
                  <a:srgbClr val="000000"/>
                </a:solidFill>
                <a:latin typeface="Calibri"/>
              </a:rPr>
              <a:t>– tam olarak ne istiyorsunuz?</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9E07-23C1-4EE8-BF77-D9168268E3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Tanık ifadesi/tanıklık </a:t>
            </a:r>
            <a:r>
              <a:rPr b="0" lang="tr-TR" sz="3200" spc="-1" strike="noStrike">
                <a:solidFill>
                  <a:srgbClr val="000000"/>
                </a:solidFill>
                <a:latin typeface="Calibri"/>
              </a:rPr>
              <a:t>iç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işinin y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la ilgili ulusal usul kuralları</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tan istenen hususi bilgiler ve yöneltilen soruların listesi</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843F-88E0-46D6-A140-5F30FE1E0A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41050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anal suçlardan elde edilen gelirlerin hedef alınmasında uluslararası işbirliğinin önemini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 ile karşılıklı adli yardım konularında uluslararası işbirliğinin birbirinden ayrı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ne ilişkin uluslararası ağların ve kuruluşların sıra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şılıklı adli yardımın (KAY) niteliği ve amacının tanım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onuyla ilgili uluslararası hukuk belgelerinin sunu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dapeşte ve Varşova Sözleşmelerinin bu konudaki hükümlerinin gereğince kullanılabilmesi amacıyla belirlenmes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Yazılı delil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de edilecek belgelerin açık ve net biçimde belirtilmesi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lgelerin/eşyaların/delillerin nerede bulunabileceğinin veya bunları alıkoyan gerçek veya tüzel kişinin yerinin açık ve net biçimde belirtilmesi</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C4B5-BBF8-4DFD-8BEC-959DFF7BFF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Elektronik deliller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Elde edilecek elektronik delillerle ilgili mümkün olduğunca ayrıntılı bilgilerin sunulması, varsa talep edilen deliller hakkında gereken </a:t>
            </a:r>
            <a:r>
              <a:rPr b="1" lang="tr-TR" sz="2600" spc="-1" strike="noStrike">
                <a:solidFill>
                  <a:srgbClr val="000000"/>
                </a:solidFill>
                <a:latin typeface="Calibri"/>
              </a:rPr>
              <a:t>teknik bilgilerin </a:t>
            </a:r>
            <a:r>
              <a:rPr b="0" lang="tr-TR" sz="2600" spc="-1" strike="noStrike">
                <a:solidFill>
                  <a:srgbClr val="000000"/>
                </a:solidFill>
                <a:latin typeface="Calibri"/>
              </a:rPr>
              <a:t>temini (</a:t>
            </a:r>
            <a:r>
              <a:rPr b="1" lang="tr-TR" sz="2600" spc="-1" strike="noStrike">
                <a:solidFill>
                  <a:srgbClr val="000000"/>
                </a:solidFill>
                <a:latin typeface="Calibri"/>
              </a:rPr>
              <a:t>sunucu/sistem zamanı, zaman çerçevesi, IP ve MAC adresleri gibi kimlik bilgileri, eposta adresi, kullanıcı hesabı bilgileri, vs</a:t>
            </a:r>
            <a:r>
              <a:rPr b="0" lang="tr-TR"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alvarlıklarının veya bunları alıkoyan gerçek veya tüzel kişinin yerinin ve ayrıntılı bilgilerinin belirtilmesi.</a:t>
            </a: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195A-D68E-4482-9019-0590593314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Arama emrinin icrası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lusal yargı makamlarınca düzenlenmiş geçerli arama emrini ekley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yerleri ve eşyaları açık ve net bir şekilde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ma icra edilirken izlenecek kuralları ayrıntılarıyla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delillere ilişkin isabetli göstergeleri belirtiniz.</a:t>
            </a: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FF5E-A240-4229-9365-EA1C916A43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rama/müsadere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al yargı makamlarınca düzenlenmiş geçerli bir el koyma veya müsadere emrinin nüshasını sunu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 konulacak/müsadere edilecek eşyalara ilişkin net göstergeleri belirtiniz.</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gerekirse, arama icrasına dair özel kuralları </a:t>
            </a:r>
            <a:r>
              <a:rPr b="0" lang="tr-TR" sz="2800" spc="-1" strike="noStrike">
                <a:solidFill>
                  <a:srgbClr val="000000"/>
                </a:solidFill>
                <a:latin typeface="Calibri"/>
              </a:rPr>
              <a:t>belirtiniz.</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F442-A0C5-48A9-A1F8-50B9BA3289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Özel soruşturma tedbirleri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etkili ulusal yargı makamları tarafından düzenlenmiş özel araştırma yöntemlerine yönelik geçerli bir müzekkerenin nüshasını sunu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ılacak işlemlerin kapsamını ve niteliğini belirley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ulması gereken özel koşulları belirleyin – </a:t>
            </a:r>
            <a:r>
              <a:rPr b="1" lang="tr-TR" sz="2400" spc="-1" strike="noStrike">
                <a:solidFill>
                  <a:srgbClr val="000000"/>
                </a:solidFill>
                <a:latin typeface="Calibri"/>
              </a:rPr>
              <a:t>gizli ajanların kimliği/kimliğinin gizli kalması</a:t>
            </a:r>
            <a:r>
              <a:rPr b="0" lang="tr-TR" sz="2400" spc="-1" strike="noStrike">
                <a:solidFill>
                  <a:srgbClr val="000000"/>
                </a:solidFill>
                <a:latin typeface="Calibri"/>
              </a:rPr>
              <a:t>, teknik ve lojistik şartlar, masraf ve harcamaların karşılanması, </a:t>
            </a:r>
            <a:r>
              <a:rPr b="1" lang="tr-TR" sz="2400" spc="-1" strike="noStrike">
                <a:solidFill>
                  <a:srgbClr val="000000"/>
                </a:solidFill>
                <a:latin typeface="Calibri"/>
              </a:rPr>
              <a:t>belirli iletişim kanalları </a:t>
            </a:r>
            <a:r>
              <a:rPr b="0" lang="tr-TR" sz="2400" spc="-1" strike="noStrike">
                <a:solidFill>
                  <a:srgbClr val="000000"/>
                </a:solidFill>
                <a:latin typeface="Calibri"/>
              </a:rPr>
              <a:t>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erekirse, bir </a:t>
            </a:r>
            <a:r>
              <a:rPr b="1" lang="tr-TR" sz="2400" spc="-1" strike="noStrike" u="sng">
                <a:solidFill>
                  <a:srgbClr val="000000"/>
                </a:solidFill>
                <a:uFillTx/>
                <a:latin typeface="Calibri"/>
              </a:rPr>
              <a:t>OSE </a:t>
            </a:r>
            <a:r>
              <a:rPr b="0" lang="tr-TR" sz="2400" spc="-1" strike="noStrike">
                <a:solidFill>
                  <a:srgbClr val="000000"/>
                </a:solidFill>
                <a:latin typeface="Calibri"/>
              </a:rPr>
              <a:t>anlaşması imzalayın.</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EF83-22BD-4F2A-8B6A-9A8EDD2547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er türlü özel </a:t>
            </a:r>
            <a:r>
              <a:rPr b="1" lang="tr-TR" sz="2800" spc="-1" strike="noStrike">
                <a:solidFill>
                  <a:srgbClr val="000000"/>
                </a:solidFill>
                <a:latin typeface="Calibri"/>
              </a:rPr>
              <a:t>gizlilik şartını </a:t>
            </a:r>
            <a:r>
              <a:rPr b="0" lang="tr-TR" sz="2800" spc="-1" strike="noStrike">
                <a:solidFill>
                  <a:srgbClr val="000000"/>
                </a:solidFill>
                <a:latin typeface="Calibri"/>
              </a:rPr>
              <a:t>vurgulayı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bin ifasındaki aciliyet düzeyini ve süre sınırlamalarını belirt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Şüpheliye/şüphelilere ait olası kimlik teşhislerini mümkün olduğunca isabetli ve düzgün şekilde yapın – unutmayın ki bu sanal dünyada kimlik kolayca gizlenebilir, değiştirilebilir, çalınabilir. </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13AD-2738-4240-8906-BA20EEE8DD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arşılıklı adli yardım talepleri kapsamında istenecek delilleri usulünce tespit edin ve </a:t>
            </a:r>
            <a:r>
              <a:rPr b="1" lang="tr-TR" sz="3200" spc="-1" strike="noStrike">
                <a:solidFill>
                  <a:srgbClr val="000000"/>
                </a:solidFill>
                <a:latin typeface="Calibri"/>
              </a:rPr>
              <a:t>öncelik sırasına dizin </a:t>
            </a:r>
            <a:r>
              <a:rPr b="0" lang="tr-TR" sz="3200" spc="-1" strike="noStrike">
                <a:solidFill>
                  <a:srgbClr val="000000"/>
                </a:solidFill>
                <a:latin typeface="Calibri"/>
              </a:rPr>
              <a:t>– öncelikleri belirleyin – sadece soruşturma bakımından hayati önem taşıyanları seçin – kaynakların rasyonalizasyonu ve verimliliğin arttırılması. </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8034-C462-4F3B-B8C9-4EB9CF2C7F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şka ülkelerdeki uygun irtibat noktasını tespit etmek – </a:t>
            </a:r>
            <a:r>
              <a:rPr b="0" lang="tr-TR" sz="2400" spc="-1" strike="noStrike">
                <a:solidFill>
                  <a:srgbClr val="000000"/>
                </a:solidFill>
                <a:latin typeface="Calibri"/>
              </a:rPr>
              <a:t>Budapeşte Sözleşmesi ışığında 7/24 noktalar, İnterpol kanalları – özellikle dijital verileri (elektronik delil) güvence altına almak ve korumak amacıyla acil eyleme geçilmesi gereken “</a:t>
            </a:r>
            <a:r>
              <a:rPr b="1" lang="tr-TR" sz="2400" spc="-1" strike="noStrike">
                <a:solidFill>
                  <a:srgbClr val="000000"/>
                </a:solidFill>
                <a:latin typeface="Calibri"/>
              </a:rPr>
              <a:t>sıcak takip</a:t>
            </a:r>
            <a:r>
              <a:rPr b="0" lang="tr-TR" sz="2400" spc="-1" strike="noStrike">
                <a:solidFill>
                  <a:srgbClr val="000000"/>
                </a:solidFill>
                <a:latin typeface="Calibri"/>
              </a:rPr>
              <a:t>” olaylarınd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Resmi karşılıklı adli yardım talebi sunmadan önce uygun mevkidaşlar ile gayrıresmi temaslar kurarak </a:t>
            </a:r>
            <a:r>
              <a:rPr b="0" lang="tr-TR" sz="2400" spc="-1" strike="noStrike">
                <a:solidFill>
                  <a:srgbClr val="000000"/>
                </a:solidFill>
                <a:latin typeface="Calibri"/>
              </a:rPr>
              <a:t>müstakbel karşılıklı adli yardım talebi hakkında onları bilgilendirmek, talebi mümkün olduğunca detaylandırabilmek için operasyonel kontroller gerçekleştirmek.</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771F-D5A1-459B-8A0F-40E6FBD022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Yargılama yetkisinin</a:t>
            </a:r>
            <a:r>
              <a:rPr b="0" lang="tr-TR" sz="2200" spc="-1" strike="noStrike">
                <a:solidFill>
                  <a:srgbClr val="000000"/>
                </a:solidFill>
                <a:latin typeface="Calibri"/>
              </a:rPr>
              <a:t>, sadece </a:t>
            </a:r>
            <a:r>
              <a:rPr b="1" lang="tr-TR" sz="2200" spc="-1" strike="noStrike">
                <a:solidFill>
                  <a:srgbClr val="000000"/>
                </a:solidFill>
                <a:latin typeface="Calibri"/>
              </a:rPr>
              <a:t>elektronik verilerin mülkiyeti, sunucu/fiziki yer sağlayıcı ve sunucu/sağlayıcı malik(ler)inin yasal ikameti – yani bir ülkede yer alan sunucular veya bulut bilişim durumunda farklı ülkede kayıtlı ve faal malikler </a:t>
            </a:r>
            <a:r>
              <a:rPr b="0" lang="tr-TR" sz="2200" spc="-1" strike="noStrike">
                <a:solidFill>
                  <a:srgbClr val="000000"/>
                </a:solidFill>
                <a:latin typeface="Calibri"/>
              </a:rPr>
              <a:t>gibi tamamen teknolojik konuları hatırda tutarak </a:t>
            </a:r>
            <a:r>
              <a:rPr b="1" lang="tr-TR" sz="2200" spc="-1" strike="noStrike">
                <a:solidFill>
                  <a:srgbClr val="000000"/>
                </a:solidFill>
                <a:latin typeface="Calibri"/>
              </a:rPr>
              <a:t>delillerin/faillerin/ mağdurların </a:t>
            </a:r>
            <a:r>
              <a:rPr b="0" lang="tr-TR" sz="2200" spc="-1" strike="noStrike">
                <a:solidFill>
                  <a:srgbClr val="000000"/>
                </a:solidFill>
                <a:latin typeface="Calibri"/>
              </a:rPr>
              <a:t>yerine ilişkin olarak usulünce saptanmasının sağlanması.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Farklı saat dilimleri </a:t>
            </a:r>
            <a:r>
              <a:rPr b="0" lang="tr-TR" sz="2200" spc="-1" strike="noStrike">
                <a:solidFill>
                  <a:srgbClr val="000000"/>
                </a:solidFill>
                <a:latin typeface="Calibri"/>
              </a:rPr>
              <a:t>– modern iletişim araçlarını (telekonferans) kullanırken dahi temas kurmakta yaşanan güçlükler – bu yüzden soruşturma/KAY talepleri gecikebilmekte ve maliyet artabilmektedir – halen uluslararası telefon görüşmelerine erişimi bulunmayan kolluk ve savcılıklar bulunmaktadır!</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7B76-4F9B-4596-8DF0-6988C9007C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vrakların </a:t>
            </a:r>
            <a:r>
              <a:rPr b="1" lang="tr-TR" sz="3200" spc="-1" strike="noStrike">
                <a:solidFill>
                  <a:srgbClr val="000000"/>
                </a:solidFill>
                <a:latin typeface="Calibri"/>
              </a:rPr>
              <a:t>tercümesi </a:t>
            </a:r>
            <a:r>
              <a:rPr b="0" lang="tr-TR" sz="3200" spc="-1" strike="noStrike">
                <a:solidFill>
                  <a:srgbClr val="000000"/>
                </a:solidFill>
                <a:latin typeface="Calibri"/>
              </a:rPr>
              <a:t>– birçok devlet KAY taleplerinin kendi resmi dil(ler)ine tercümesini şart koşmaktadı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lluk görevlileri, savcılar ve hakimler arasında doğrudan ve gayrıresmi temaslar sırasında dil engelleri.</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31E3-3840-42BC-B55B-33FEBB29C7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işbirliği konusuna giri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ın özellik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Farklı ülkelerde siber suç soruşturmalarının farklı önem seviyelerine sahip olması dolayısıyla yaşanacak </a:t>
            </a:r>
            <a:r>
              <a:rPr b="1" lang="tr-TR" sz="2800" spc="-1" strike="noStrike">
                <a:solidFill>
                  <a:srgbClr val="000000"/>
                </a:solidFill>
                <a:latin typeface="Calibri"/>
              </a:rPr>
              <a:t>gecikmelere hazır olun</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p edilen taraf talebinizi icraya koyabilecek kapasiteye sahip değilse teknik destek ve uzman desteği sağlamayı değerlendirin. </a:t>
            </a: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AC88-6424-49B0-854E-C595DD9628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Mümkün olduğunda konvansiyonel/geleneksel soruşturma araçlarını ve tedbirlerini talep etmeyi ve kullanmayı değerlendirin </a:t>
            </a:r>
            <a:r>
              <a:rPr b="0" lang="tr-TR" sz="2800" spc="-1" strike="noStrike">
                <a:solidFill>
                  <a:srgbClr val="000000"/>
                </a:solidFill>
                <a:latin typeface="Calibri"/>
              </a:rPr>
              <a:t>– polis görevlileri/savcılar bunlara daha aşina oldukları için bu yolla da başarılı bir soruşturma ve ceza yargılaması için yeterli delilleri temin etmek mümkün olabilir. </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21B3-38B3-4222-ABF5-086DE8BE16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4315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Sorular</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D8B4-0475-42C5-AFA5-6EFCC2149D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Sorular:</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ne dahil olan ulusal makamlar hangileridir: bilgi alışverişi, KAY veya işlemlerin geciktirilme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ağlar ve kuruluşlar? Ulusal irtibat noktaları kimler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 kapsamındaki merkezi makam kim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ne dayanarak hangi bilgiler talep edilebilir ve usule ilişkin hangi taleplerde bulunulabil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 konusundaki ulusal mevzuat nelerdir (polis, savcılık, K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BD’de MSP’lerle doğrudan işbirliği konusunda uygulama ned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İSTATİSTİKLER hakkında bilg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5059080"/>
        </p:xfrm>
        <a:graphic>
          <a:graphicData uri="http://schemas.openxmlformats.org/drawingml/2006/table">
            <a:tbl>
              <a:tblPr/>
              <a:tblGrid>
                <a:gridCol w="3959280"/>
                <a:gridCol w="4105080"/>
              </a:tblGrid>
              <a:tr h="505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Şu konulara dair iç </a:t>
                      </a:r>
                      <a:r>
                        <a:rPr b="1" lang="sl-SI" sz="2000" spc="-1" strike="noStrike" u="sng">
                          <a:solidFill>
                            <a:srgbClr val="002060"/>
                          </a:solidFill>
                          <a:uFillTx/>
                          <a:latin typeface="Calibri"/>
                        </a:rPr>
                        <a:t>hukuk mevzuatını</a:t>
                      </a:r>
                      <a:r>
                        <a:rPr b="1" lang="sl-SI" sz="2000" spc="-1" strike="noStrike">
                          <a:solidFill>
                            <a:srgbClr val="002060"/>
                          </a:solidFill>
                          <a:latin typeface="Calibri"/>
                        </a:rPr>
                        <a:t> ve içtihadını değerlendirin</a:t>
                      </a:r>
                      <a:r>
                        <a:rPr b="1" lang="en-U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banka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ele geçirme de dahil olmak üzere, internet hizmet sağlayıcının abone, trafik ve içerik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nternet hizmet sağlayıcıya doğrudan iletilen muhafaza taleb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depolanan bilgisayar verilerine (e-delil) erişilmesi, el konulması ve bunlara yönelik adli bilimler incelem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şlemin/malın dondurulması</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ların müsader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varlığı paylaşımı</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konulu KAY talebi ve icrası</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Şu konulara dair </a:t>
                      </a:r>
                      <a:r>
                        <a:rPr b="1" lang="en-US" sz="2000" spc="-1" strike="noStrike" u="sng">
                          <a:solidFill>
                            <a:srgbClr val="002060"/>
                          </a:solidFill>
                          <a:uFillTx/>
                          <a:latin typeface="Calibri"/>
                        </a:rPr>
                        <a:t>şablon/formlar </a:t>
                      </a:r>
                      <a:r>
                        <a:rPr b="1" lang="en-US" sz="2000" spc="-1" strike="noStrike">
                          <a:solidFill>
                            <a:srgbClr val="00206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Budapeşte ve Varşova Sözleşmeleri ile bağlantılı olarak iç mevzuata dayanan </a:t>
                      </a:r>
                      <a:r>
                        <a:rPr b="0" lang="en-US" sz="2000" spc="-1" strike="noStrike" u="sng">
                          <a:solidFill>
                            <a:srgbClr val="002060"/>
                          </a:solidFill>
                          <a:uFillTx/>
                          <a:latin typeface="Calibri"/>
                        </a:rPr>
                        <a:t>KAY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depolanan bilgisayar verilerinin süratli şekilde korunması ve trafik verilerinin açıklan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nternet hizmet sağlayıcıya doğrudan iletilen muhafaza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7/24 ağ kanalıyla iletilen talepler (Budapeşte Sözleşm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Yurtdışında finansal işlemlerin geciktirilmesine yönelik MİB taleb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280"/>
            <a:ext cx="8229600" cy="4133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nal suçlardan elde edilen gelirlerin hedef alınmasında uluslararası işbirliğinin önemini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 ile karşılıklı adli yardım konularında uluslararası işbirliğinin birbirinden ayrı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ne ilişkin uluslararası ağların ve kuruluşların sıra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şılıklı adli yardımın (KAY) niteliği ve amacının tanım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uluslararası hukuk belgelerinin sunu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dapeşte ve Varşova Sözleşmelerinin bu konudaki hükümlerinin gereğince kullanılabilmesi amacıyla belirlenme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anal suç gelirleri – soruşturma tedbirleri: </a:t>
            </a:r>
            <a:br>
              <a:rPr sz="2800"/>
            </a:br>
            <a:r>
              <a:rPr b="1" lang="tr-TR" sz="2800" spc="-1" strike="noStrike">
                <a:solidFill>
                  <a:srgbClr val="000000"/>
                </a:solidFill>
                <a:latin typeface="Calibri"/>
              </a:rPr>
              <a:t>ulusal/uluslararası boyu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106960"/>
        </p:xfrm>
        <a:graphic>
          <a:graphicData uri="http://schemas.openxmlformats.org/drawingml/2006/table">
            <a:tbl>
              <a:tblPr/>
              <a:tblGrid>
                <a:gridCol w="3024360"/>
                <a:gridCol w="2160360"/>
                <a:gridCol w="2880000"/>
              </a:tblGrid>
              <a:tr h="76248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avcılı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şturmaları yürütür, tedbirleri alır, mahkemeye öneride bulunu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iber) suç soruşturması</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ektronik delillerin ve dijital adli tıbbın (bazen ayrı) önemi Şüphelini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P numarasını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bone bilgisinin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ternet hizmet sağlayıcı ilişkisinin (abone, trafik, içerik verisi) tespit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hedef alınması</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akip emri – banka hesab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 koyma/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04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 MİB</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ür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Ağ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mut bir olayda bilgi alışveri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 (KAY’a ilişkin ulusal koşul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yim paylaşım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hkeme kararlarının icrası söz konusu değildi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Resmi işbirli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Taleplerin, yargı kararlarının icr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uzun gecikmeler </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F SEÇENEKLER: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OSE (ORTAK SORUŞTURMA EKİB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EL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YARGILAMALARIN DEVRİ</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 (</a:t>
                      </a:r>
                      <a:r>
                        <a:rPr b="0" lang="tr-TR" sz="1800" spc="-1" strike="noStrike">
                          <a:solidFill>
                            <a:srgbClr val="000000"/>
                          </a:solidFill>
                          <a:latin typeface="Calibri"/>
                        </a:rPr>
                        <a:t>Camden Müsadere Ofisler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örn.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 kanalıyla da mümkündü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 doğrudan işbirliğine imkân sağlayabili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 hukuk hükümleri şunları kolaylaştırabili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PARALEL SORUŞTURMA</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YARGILAMALARI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hakkındaki iç hukuk hükümle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hke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rar, ic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Adalet Bakanlığ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rkezi maka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avcılı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urojust (AB), EJN (Avrupa Adli Yargı Ağı) (A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OSE’ler, paralel soruşturmalar, operasyonel toplantıl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Y önerisi/talebi/icrası)</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iber) suç soruştur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delil: abone (IP kimliği), trafik, içerik veri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SP’ler ile doğrudan işbirliğ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7/24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İnterpol kanal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uropol EC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li soruşturm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verileri, banka işlemlerinin izlenmes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ların kimlik tespit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ondurma, el koyma kararı)</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üsad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 M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İB konusunda bilgi alışverişi, mali işlemlerin geciktirilme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GMONT Grubu</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AB) FIUnet (MİB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İB’den MİB’e (Mutabakat Anlaşmaları)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şbirliği talebinin esasına bağlı olarak en etkili belgenin seçimi–zira belgelerin içerikleri çeşitlilik göstermektedir– güç olabilmektedir.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Varşova Sözleşmesi </a:t>
            </a:r>
            <a:r>
              <a:rPr b="0" lang="tr-TR" sz="1800" spc="-1" strike="noStrike">
                <a:solidFill>
                  <a:srgbClr val="000000"/>
                </a:solidFill>
                <a:latin typeface="Calibri"/>
              </a:rPr>
              <a:t>sorgulama, dondurma ve müsadere konusunda karşılıklı adli yardım konusunda merkezi makamlar oluşturur. Acil durumlarda sorumlu yargı ve kovuşturma makamları arasında doğrudan işbirliğinin (34. madde) yanı sıra, idari dondurma kararı da dahil olmak üzere MİB’ler arasında doğrudan işbirliği de öngörülmekte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razburg Sözleşmesi </a:t>
            </a:r>
            <a:r>
              <a:rPr b="0" lang="tr-TR" sz="1800" spc="-1" strike="noStrike">
                <a:solidFill>
                  <a:srgbClr val="000000"/>
                </a:solidFill>
                <a:latin typeface="Calibri"/>
              </a:rPr>
              <a:t>Varşova Sözleşmesi’nden önceki bir tarihe, 1990’lara dayanmaktadır. Varşova Sözleşmesi’ni onaylamamış olan Taraflar açısından geçerli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udapeşte Sözleşmesi </a:t>
            </a:r>
            <a:r>
              <a:rPr b="0" lang="tr-TR" sz="1800" spc="-1" strike="noStrike">
                <a:solidFill>
                  <a:srgbClr val="000000"/>
                </a:solidFill>
                <a:latin typeface="Calibri"/>
              </a:rPr>
              <a:t>7/24 operasyonel işbirliği ağı (polis ve/veya savcılık seviyesinde) öngörür ve acil durumlarda sorumlu makamlar arasında doğrudan KAY talebine olanak sağla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Ceza İşlerinde Karşılıklı Adli Yardım Avrupa Sözleşmesi</a:t>
            </a:r>
            <a:r>
              <a:rPr b="0" lang="tr-TR" sz="1800" spc="-1" strike="noStrike">
                <a:solidFill>
                  <a:srgbClr val="000000"/>
                </a:solidFill>
                <a:latin typeface="Calibri"/>
              </a:rPr>
              <a:t>, AKAS 30, 20 Nisan 1959 ve ek protokoller, AKAS 99 ve AKAS 182.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M Sözleşmeleri</a:t>
            </a:r>
            <a:r>
              <a:rPr b="0" lang="tr-TR" sz="1800" spc="-1" strike="noStrike">
                <a:solidFill>
                  <a:srgbClr val="000000"/>
                </a:solidFill>
                <a:latin typeface="Calibri"/>
              </a:rPr>
              <a:t>: Uyuşturucu hakkında sözleşme (1988), Sınıraşan Örgütlü Suçlarla Mücadele Sözleşmesi (2000), Yolsuzlukla mücadele sözleşmesi (2003). </a:t>
            </a:r>
            <a:r>
              <a:rPr b="1" lang="tr-T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şte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iber Suçlar)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Varşova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elirlerin Takibi, Kara Para Aklama, Terör Finansmanı)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üresel (BM)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ölgesel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ki taraflı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ütekabiliye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efne orhun</cp:lastModifiedBy>
  <cp:lastPrinted>2016-05-18T07:38:13Z</cp:lastPrinted>
  <dcterms:modified xsi:type="dcterms:W3CDTF">2017-11-06T15:24:28Z</dcterms:modified>
  <cp:revision>517</cp:revision>
  <dc:subject/>
  <dc:title>PowerPoint Presentation</dc:title>
</cp:coreProperties>
</file>