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AEE0-F079-4A93-993F-6841A4483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1642-91E5-436B-BBD0-92FC600C5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BFEF-DE19-4D81-9E25-585013BDE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AB92-F3A5-4A71-BBB1-822D6199B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243E-E2FE-4FDB-8797-81AD36F2A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92C8-E4D5-41C9-871D-222062141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AE81-E21E-4E30-B5B6-AEFD49236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4D61-0BE9-46F1-9500-10DD02B6E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4C04-D8B3-44AF-BBA9-76842236B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8C6D-6AFA-438D-ACD2-FF7CC9DAE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924B-1AD8-49AF-A6D2-FEAC926B1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9464-5FF4-49EE-B974-CBC6D6701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A8CC-9D2C-4CD4-9E26-57B2BBF0E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A56C-1FAB-4212-B93C-B5A0719BA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86E6-9E6B-4A31-967B-10EAE0F6A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B628-8BBF-41F9-99F0-7E74E2702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AA00-7F61-41B4-AE47-3075FF478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9771-5FE6-424D-B1CA-55550A54A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1A4C-866A-4B5B-9203-ACB366DA9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B59D-D5B7-475A-9606-BFCE3F9DE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3691-B84E-4723-A796-0D1BFB057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3029-8242-472B-AE27-2E8CB36D1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75D2-7F32-474E-B6FB-1129BBB86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9F2A-0639-40C5-9B43-5DEE32492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763C-4A08-4F86-B1FB-F34E2EC74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8D35-99B6-44FA-A676-C6C08451F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A70C-54A5-4004-B47F-A9ED20899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163-3452-4D72-82FE-C604100EA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3F4-A2AF-4256-83D1-F54B0F919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8AF-58AF-432B-B635-736D0A24C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0A9-2F03-4AA7-AA0A-ED801A97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528-2FB8-4BDF-BC86-25103882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B351-E079-4DC7-872D-C90A64AA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64C-4FFC-48E4-8E42-674964DD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832-D452-4625-9AAB-B9101766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A17-4AE5-4A42-8B4A-483A5E8A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982-7828-4B12-AC77-7F15B9BD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9D23-C59C-4C89-B221-1F23FE42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481-E23B-4D46-9F01-30348837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8AF-38F2-4740-9988-5B91D2B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A2F-DC61-407F-BB21-C486B68D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E21-9EC7-4DCB-9F86-B9485895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5EE5-A6F6-4B2A-B321-7292952660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 Şüpheliler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turum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r eposta mesajının kaydedilmesi ve iletilmesiyle ilgili kayıtlar o mesajın içinde yer alı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İ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 GÖNDER tuşuna bastığında epostası bilgisayarından alınıp İnternet Servis Sağlayıcısının giden posta sunucusuna taşını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'in İSS'si epostayı internete gönder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posta, Bob'un İSS'sinin gelen posta (POP3) sunucusuna ilet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ob İSS’sine bağlandığında, eposta bilgisayarına indir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AAD7-34BA-4690-88AB-DBCE8404C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 iki bölümden oluş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şlık: Mesajın kimden kime gönderildiği, konusu, tarihi gibi bilgilerin yanı sıra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nasıl saklandığını/iletildiğini de içeri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övde: Eposta mesajının içeriğ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ıradaki slaytta, başlıklarıyla birlikte bir örnek eposta gösterilmiş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Jan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ME-Version: 1,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okuluslu Hizmet Sağlayıcı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, Google gibi çokuluslu hizmet sağlayıcılar, size bir IP adresinin belirli bir zamanda hangi IP adresi tarafından kullanıldığını bu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nin kimliği (örneğin Facebook profili) gerekl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uslararası işbirliği gerekli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zli Soruşturma Yöntem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yi tespit etmişseniz, kullandığı IP adreslerini tespit etmek için teknik takip gibi gizli soruşturma yöntemleri kullanı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nin Gerçek Kimlikle Eşleştirilme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österim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m nedir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yle elde edebileceğiniz bilgil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İnternet Servis Sağlayıc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ğrafi konumlandı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zeleme: IP adresinin ne olduğunu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nin nasıl bulunacağını tarif ed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 ile bir gerçek kişinin nasıl ilişkilendirileceğini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te şüphelilerin tespitinin önündeki üç teknik engeli açıklay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 Servis Sağlayıcılar, bir IP adresini belli bir zamanda hangi abonenin kullandığının kayıtlarını tu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ın ne süreyle saklanacağı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a nasıl erişileceği de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SS abone verisine erişim sağlamak için ne gerek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gi İSS'den bilgi isteyeceğinizi nereden bileceksini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ğrafi konumlandırma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ğrafi konum verileri sizce nereden elde edili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üvenilirliği asla garanti edilemez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zaman belli bir kişiyi teşhis de etme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k ve Dinamik IP Adresleri vardı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ğ Adresi Çevirme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pılan hareketin saati çok önemlidi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uml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ğ Adresi Çevirme (NAT) kullanan kurumlar, şüphelilerin hareketlerini belirli bir dahili IP adresiyle eşleştirecek kayıtlara sahip olabilir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rumla bağlantının nasıl kurulacağı ülke yasalarına göre değiş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nadiren el altınd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gisayarı bulabilseniz bil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kullanıyord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zaktan kumanda ediliyor olabilir miyd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erişim noktası hangis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PN kullanılmış m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İĞER Teknik Güçlük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üçlük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kasıtlı ya da kasıtsız, meşru ya da gayrimeşru şekilde tahrif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örnekleri tartışılacakt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imleştirme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Çevrimiçi faaliyetleri gizlemek için ücretli ve ücretsiz hizmet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kil sunucuların anonimleştirilmesi, web'de gezinme hareketler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posta sağlayıcılarının anonimleştirilmesi, epostanın göndericisini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vekil sunucularının anonimleştirilmesi ise tüm internet trafiğ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Örnek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, 0 ile 255 arasındaki dört sayının noktalarla ayrılması sonucunda oluş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Örneğ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nin yeni bir türü olan sürüm 6 ise bu derste işlenmeyecek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Şifrel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letişimin şifrelenmiş olması mümkündü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ajın bütün içeriği de şifrelenmiş o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şıyıcı Sınıfı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Çok sayıda kullanıcının tek bir IP adresi kullanmasının yöntem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llikle mobil telefon şebekelerinin internet bağlantılarında kullanıl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, çevrimiçi hareketlerden kimlik tespiti yapmanın gerekli fakat yeterli olmayan bir unsuru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 ile bir gerçek kişinin ilişkilendirilmesi çok zor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işinin çevrimiçi takibinin yapılmasını daha da zorlaştıran teknoloji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ümkünse, IP adresi delillerini desteklemek için başka kaynaklardan deliller de kullanılmalıd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48840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IP adresleri internette kullanılmaz, sadece özel (dahili) kullanım için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Şüpheli IP Adresinin Tespi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ki Hare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şinin çevrimiçi hareketleri bazı kayıtlar oluştur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dan kullanıcının iletişimde kullandığı IP adresi elde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da şüphelinin tespiti açısından önemli bir bilg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reklidir ama yeterli değildi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ullanıcı web'de gezinirken bir web sunucusuna talepler gönderir, sunucu da kullanıcıya yanıtlar yol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leplerin ve yanıtların formatı, Hiper Metin Aktarım Protokolü (HTTP) adı verilen bir protokolle belirleni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nucu, gelen tüm taleplerin kayıtlarını tutar ve talebin gönderildiği IP adresini de kayd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Sıla Okur</cp:lastModifiedBy>
  <cp:lastPrinted>2016-05-18T07:38:13Z</cp:lastPrinted>
  <dcterms:modified xsi:type="dcterms:W3CDTF">2017-11-09T23:35:10Z</dcterms:modified>
  <cp:revision>286</cp:revision>
  <dc:subject/>
  <dc:title>PowerPoint Presentation</dc:title>
</cp:coreProperties>
</file>