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6.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2.xml" ContentType="application/vnd.openxmlformats-officedocument.presentationml.notesSlide+xml"/>
  <Override PartName="/ppt/notesSlides/notesSlide4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4A3B4D-18BA-4BD4-AB7B-8F0AF0FDFAE5}" type="datetime">
              <a:rPr b="0" lang="en-US" sz="1200" spc="-1" strike="noStrike">
                <a:solidFill>
                  <a:srgbClr val="000000"/>
                </a:solidFill>
                <a:latin typeface="Calibri"/>
                <a:ea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A65C77-543A-4765-9837-3149986B1D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owerPoint (ya da başka bir tür sunu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 bölümdeki slaytların içeriği sadece her bir yerel eğitimde anlatılabilecek konulara dair bir örnek teşkil et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ercihen, ulusal maddi hukuk oturumunda imzalanmış veya onaylanmış olan uluslararası hukuk belgelerinden ve bunların iç hukuka yansımasının sonuçlarından bahsedilmeli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yrıca, ulusal hukuka göre suç türlerine ilişkin bir açıklama ve sonunda, uygunsa, ulusal maddi hukukun her türlü olası özgünlüğüne ilişkin bir açıklama da sunulmalıdır. </a:t>
            </a:r>
            <a:endParaRPr b="0" lang="en-US" sz="1200" spc="-1" strike="noStrike">
              <a:solidFill>
                <a:srgbClr val="000000"/>
              </a:solidFill>
              <a:latin typeface="Calibri"/>
            </a:endParaRPr>
          </a:p>
        </p:txBody>
      </p:sp>
      <p:sp>
        <p:nvSpPr>
          <p:cNvPr id="4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3D2032-180B-4987-982B-6C80C57AD7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2.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9. madde kapsamındaki tasvir (betimleme) konusunu açıklamaktadır. Gerçek çocukların cinsel istismarına ilişkin tasvirler; bir kişiyi, cinsel içerikli eylemde bulunan reşit olmayan bir şahısmış (küçük) gibi betimleyen (gerçekte küçük olsun veya olmasın) görseller; ve gerçekçi olmakla birlikte aslında cinsel içerikli eylemde bulunan gerçek bir çocuk içermeyen görseller.</a:t>
            </a: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9ED4BF-A611-4329-B4F0-11A63E920A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9. maddede kullanılan “Küçük (Reşit Olmayan Şahıs)” terimini tanımlamaktadır. Bu tanımın kapsamı gerçek/kurmaca çocukların cinsel obje olarak betimlenmesiyle sınırlı olup, cinsel ilişki bakımından rıza yaşının saptanmasıyla hiçbir ilgisi bulunmamaktadır. </a:t>
            </a: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C50DFF-EA26-42C7-B956-F5750C2934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Telif hakkı ve bununla bağlantılı hakların ihlaline ilişkin suçlar internet ortamında telif haklarına ve bununla bağlantılı haklara yönelik ya da bir bilgisayar sistemi üzerinden işlenen ihlallere karşı koruma sağlamaktadır. </a:t>
            </a:r>
            <a:endParaRPr b="0" lang="en-US"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dapeşte Sözleşmesi’nde telif hakları konularına dair hususi bir suç içeren bir hüküm bulunma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ncak bu konuda kavramsal olarak yeni düzenlemeler getirmemekle birlikte Sözleşme’nin 10. maddesinde telif hakkına atıf yapılmaktadır. Sözleşme yeni düzenlemeler yerine, gerçek dünyada telif hakkı konusunda var olan mevcut kuralların internet ortamında da geçerli olması gerektiğini vurgulamakla yetinmektedir: Gerçek yaşamda yasaklanan şeyler internette de yasaklanmalıdır. İnternette telif haklarına yönelik olarak veya bir bilgisayar sistemi aracılığıyla işlenen ihlaller gerçek dünyada işlenmiş gibi cezalandırılmalıdır. Bu nedenledir ki Sözleşme bu konuda halihazırda mevcut olan uluslararası antlaşma ve sözleşmelere atıfta bulunmaktadır (24 Temmuz 1971 tarihli Paris Sözleşmesi, Bern Sözleşmesi ve </a:t>
            </a:r>
            <a:r>
              <a:rPr b="0" lang="en-GB" sz="1200" spc="-1" strike="noStrike">
                <a:solidFill>
                  <a:srgbClr val="000000"/>
                </a:solidFill>
                <a:latin typeface="Calibri"/>
              </a:rPr>
              <a:t>Dünya Fikri Mülkiyet Hakları Örgütü (</a:t>
            </a:r>
            <a:r>
              <a:rPr b="0" lang="tr-TR" sz="1200" spc="-1" strike="noStrike">
                <a:solidFill>
                  <a:srgbClr val="000000"/>
                </a:solidFill>
                <a:latin typeface="Calibri"/>
              </a:rPr>
              <a:t>WIPO) sözleşmeleri).</a:t>
            </a:r>
            <a:endParaRPr b="0" lang="en-US" sz="1200" spc="-1" strike="noStrike">
              <a:solidFill>
                <a:srgbClr val="000000"/>
              </a:solidFill>
              <a:latin typeface="Calibri"/>
            </a:endParaRPr>
          </a:p>
        </p:txBody>
      </p:sp>
      <p:sp>
        <p:nvSpPr>
          <p:cNvPr id="70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E34185-C388-44AE-8753-97FE6F30A5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10(1). maddenin tam metnini göstermektedir. </a:t>
            </a:r>
            <a:endParaRPr b="0" lang="en-US"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10(2). maddenin tam metnini göstermektedir. </a:t>
            </a:r>
            <a:endParaRPr b="0" lang="en-US"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10(3). maddenin tam metnini göstermektedir. </a:t>
            </a:r>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10.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2. madde kapsamındaki temel unsur ve aranan davranış “erişim” ibaresidir. Bu ibare bir bilgisayar sisteminin tamamına veya herhangi bir kısmına girilmesi eylemini anlatmaktadır 2. madde teknolojiye atıf yapmaz ve erişimin gerçekleştirileceği araçları belirtmez. </a:t>
            </a:r>
            <a:endParaRPr b="0" lang="en-U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adde telif haklarının (ve bununla bağlantılı hakların) ihlalini kapsamakta; ancak manevi haklara sirayet etmemektedir. </a:t>
            </a: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53CCEE-3B8E-49D5-B036-53E586F9B3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10.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adde ticari ölçekte telif hakkı ihlallerini kapsamaktadır. </a:t>
            </a: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08D791-1A3B-4697-B049-964AC741B4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noktada maddi ceza hukukuna atıf yapan son ik hususu değerlendirmek gerekir: bir yanda yardım ve yataklığın cezalandırılması ve diğer yanda tüzel kişilerin cezai sorumluluğu.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dapeşte Sözleşmesi’nin 11. maddesi Sözleşme’nin tüm Taraflarının kendi iç hukuklarında göz önünde bulundurmaları gereken yardım ve yataklık fiillerini tanımlamaktadır. Ancak internet suçunun çoğu zaman, farklı tarafların muğlak ölçülerde katılımını içeren “çok-taraflı” bir faaliyet olması sebebiyle kovuşturmanın potansiyel güçlükler içerebileceğini de teslim etmektedi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n olarak, Sözleşme’nin 12. maddesi tüm Tarafların tüzel kişilerin fiillerini suç saymasını da şart koşmaktadır. Bu önemli bir husustur. Esasen Avrupa Birliği bünyesinde tüzel kişilerin fiillerinin suç sayılması önemli ve son derece tartışmalı bir konu olduğu için Avrupa Konseyi de kendi mevzuat çerçevesine bu konuyu dahil etmiş bulunmaktadır. </a:t>
            </a:r>
            <a:endParaRPr b="0" lang="en-US" sz="1200" spc="-1" strike="noStrike">
              <a:solidFill>
                <a:srgbClr val="000000"/>
              </a:solidFill>
              <a:latin typeface="Calibri"/>
            </a:endParaRPr>
          </a:p>
        </p:txBody>
      </p:sp>
      <p:sp>
        <p:nvSpPr>
          <p:cNvPr id="7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9968F7-2599-470A-91FC-30766DFAB4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vrupa Birliği’nin ve Avrupa Konseyi’nin perspektifi, en azından, şirketlerin ve diğer tüzel kişilerin, şirketin veya diğer tüzel kişinin temsili ve menfaati doğrultusunda hareket eden temsilcilerinin suç teşkil eden fiillerinden ötürü her türlü (cezai olsun olmasın) sorumluluğunu içermektedir. Sözleşme ayrıca, şirketin veya başkaca bir tüzel kişinin yasal temsilcisinin kendi gözetimi altındaki bir kişi üzerindeki gözetimini veya denetimini yitirmesi halinde de tüzel kişilerin sorumluluğunun ortaya çıktığını dile geti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vrupa’daki kimi ülkeler tüzel kişinin sorumluluğunu düzenlemek amacıyla cezai çözümlerden ziyade özel hukuk kapsamındaki hukuk yollarını tercih etmektedir. </a:t>
            </a:r>
            <a:endParaRPr b="0" lang="en-US" sz="1200" spc="-1" strike="noStrike">
              <a:solidFill>
                <a:srgbClr val="000000"/>
              </a:solidFill>
              <a:latin typeface="Calibri"/>
            </a:endParaRPr>
          </a:p>
        </p:txBody>
      </p:sp>
      <p:sp>
        <p:nvSpPr>
          <p:cNvPr id="7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7010AF-0CA8-4359-9FA1-E652B69FCF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ğitmen, katılımcılara dersin Birinci Bölümü ile ilgili sormak istedikleri her türlü soruyu sorma fırsatı tanımalıdır. </a:t>
            </a:r>
            <a:endParaRPr b="0" lang="en-US" sz="1200" spc="-1" strike="noStrike">
              <a:solidFill>
                <a:srgbClr val="000000"/>
              </a:solidFill>
              <a:latin typeface="Calibri"/>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795AB9-700F-4334-BA06-84C9F14AFC4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şağıda yer alan 25 vaka çalışmasının tamamının bu derse ayrılan süre içerisinde tamamlanması mümkün değildir. Eğitmen bu çalışmalardan bazılarını seçmeli ve kursun ilk iki kısmında vurgulanması gerektiği düşünülmüş olan hususi meselelere gerektiğinde ayrıntılı şekilde eğilmek için seçtiği bu vakaları kullanmalıdır. Eğitmen materyallerin nasıl temin edileceğini anlatmalı ve karşılıklı tartışma ve soru-cevap için belirli bir zaman ayrılacağını belirtmelidir. Eğitmen ayrıca bu eğitimin interaktif olmasının amaçlandığını ve katılımcıların çalışmalara iştirakinin bekleneceğini de vurgulamalıdır. </a:t>
            </a:r>
            <a:endParaRPr b="0" lang="en-US" sz="1200" spc="-1" strike="noStrike">
              <a:solidFill>
                <a:srgbClr val="000000"/>
              </a:solidFill>
              <a:latin typeface="Calibri"/>
            </a:endParaRPr>
          </a:p>
        </p:txBody>
      </p:sp>
      <p:sp>
        <p:nvSpPr>
          <p:cNvPr id="7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0AA226-BA9B-4CCD-8922-3171C84ED4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Avrupa’daki bir Elektrik Mühendisliği ve Bilgisayar Bilimi Fakültesinde öğrenci olan Camille, tezini bilgisayar sistemlerinin ve ağlarının güvenliği konusunda hazırlamaya karar verir. Afrika’daki birkaç devletin bilgisayar sistemine korsan giriş yapar. IT sisteminde boşluk yakaladığında sistem yöneticisine şöyle bir not bırakır: Ben Camille, xx Fakültesinde öğrenciyim ve bilgisayar sistemlerinin ve ağlarının güvenliği konusunda bir tez hazırlıyorum, ve tezim için bilgisayar sistemlerinin ve ağlarının zayıf noktalarını ortaya çıkarıyorum, sizin de burada bir güvenlik boşluğunuz var, saygılarımla. Korsan giriş yaptığı son IT sistemi ise kendi ülkesinin İçişleri Bakanlığı’nın bilgi sistemi olur.</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Eğitmene hatırlatma:</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adde 2 – YASADIŞI ERİŞİM</a:t>
            </a:r>
            <a:endParaRPr b="0" lang="en-US" sz="5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Taraflardan her biri, bir bilgisayar sisteminin tamamına veya bir kısmına haksız yere gerçekleştirilen erişimi, kasten yapıldığı zaman, kendi iç hukuku kapsamında cezai bir suç olarak tanımlanması için gerekli olabilecek yasama tedbirlerini ve diğer tedbirleri kabul edecektir. Taraflardan biri, söz konusu suçun, bilgisayar verilerini elde etmek veya başka bir sahtekâr niyetle veya bir bilgisayar sistemine bağlı başka bir bilgisayar sistemiyle ilişkili olarak güvenlik tedbirlerinin ihlal edilmesi suretiyle işlenmiş olmasını şart koşabilir.</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00" spc="-1" strike="noStrike">
                <a:solidFill>
                  <a:srgbClr val="000000"/>
                </a:solidFill>
                <a:latin typeface="Calibri"/>
              </a:rPr>
              <a:t>Meseleler</a:t>
            </a:r>
            <a:endParaRPr b="0" lang="en-US" sz="5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800" spc="-1" strike="noStrike">
                <a:solidFill>
                  <a:srgbClr val="000000"/>
                </a:solidFill>
                <a:latin typeface="Calibri"/>
              </a:rPr>
              <a:t>Böyle bir şey sizin ülkenizde suç oluşturuyor mu, cevabınız evetse, bu hangi suçtur ve bu suçun kurucu öğeleri nelerdir?</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00" spc="-1" strike="noStrike">
                <a:solidFill>
                  <a:srgbClr val="000000"/>
                </a:solidFill>
                <a:latin typeface="Calibri"/>
              </a:rPr>
              <a:t>Tartışma konuları</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Yasadışı erişim bilgisayar sitemlerinin ve verilerinin güvenliğine (yani gizliliği, bütünlüğü ve erişilebilirliğine) yönelik tehlikeli tehdit ve saldırı suçunu içermektedir. Bu tür ihlaller gizli bilgilere (şifreler, hedef alınan sisteme ilişkin bilgiler de dahil olmak üzere) ve sırlara, sistemin ödeme yapılmaksızın kullanımına erişim sağlayabileceği gibi, korsanları bilgisayarla bağlantılı dolandırıcılık veya sahtecilik gibi bilgisayarla bağlantılı daha tehlikeli suç biçimlerine de sevk edebilmektedi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Avrupa İnsan Hakları Mahkemesi (AİHM) 62617/00 sayılı </a:t>
            </a:r>
            <a:r>
              <a:rPr b="0" i="1" lang="tr-TR" sz="500" spc="-1" strike="noStrike">
                <a:solidFill>
                  <a:srgbClr val="000000"/>
                </a:solidFill>
                <a:latin typeface="Calibri"/>
              </a:rPr>
              <a:t>Copland/Birleşik Krallık </a:t>
            </a:r>
            <a:r>
              <a:rPr b="0" lang="tr-TR" sz="500" spc="-1" strike="noStrike">
                <a:solidFill>
                  <a:srgbClr val="000000"/>
                </a:solidFill>
                <a:latin typeface="Calibri"/>
              </a:rPr>
              <a:t>davasında özel hayatın ve aile yaşamının gizliliği hakkının elektronik veriler açısından da geçerli olduğuna kanaat getirmişti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 olayda fail, ulusal hukuka göre aşağıda sayılan yasadışı erişim suçunun tüm unsurları işlenmiş olduğundan (Hırvatistan – Split Bölge Mahkemesi – dostane çözüm) cezaya çarptırılmıştır: </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İzinsiz erişim</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sıtlı erişim</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Failin suçu işleme nedeni suçun bir unsurunu oluşturmamaktadır (basit bir merak bile cezalandırılabilir nitelik taşıyacaktır).</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Olayı ele alırsak – bazı üye Ülkelerde yasadışı erişimden bahsedilmiyo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dapeşte Sözleşmesi’ne taraf Devletler 2. maddenin ikinci cümlesinde belirtilen niteleyici unsurların herhangi birini veya tamamını benimseyebilir: güvenlik tedbirlerinin ihlali, bilgisayar verilerinin elde edilmesine yönelik özel bir niyet, cezai sorumluluğu haklı çıkaran başkaca bir sahtekârlık niyeti ya da suçun başka bir bilgisayar sistemine uzaktan bağlı bir bilgisayar sistemiyle ilişkili olarak işlenmesi şartı.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Hırvat hukuk sistemine niyet dikkate alınmadığı içindir ki (bir sisteme yasadışı şekilde girilmesi niyeti dışında), fail “sahtekârlık niyeti” taşımamasına rağmen (saldırılan tüm IT sistemleri sızma testine ücretsiz şekilde konu edilmiştir) cezalandırılmış bulunmaktadır. Kimi üye Devletlerde sahtekârlık niyetinin bulunmaması cezai sorumluluğa engel olmaktadı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Eğitmen ulusal hukuk çerçevesinde soruların yanıtlarını bilmeli veya soruyu, birleştirilmemişse, mahkeme uygulamaları ışığında tartışmalıdı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801348-D2C2-4825-B3DA-540691F77E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ir kişi bir şirketin bilgisayar sistemine erişmek amacıyla başka bir kişinin kullanıcı adını ve şifresini (izin almaksızın – dolayısıyla haksız yere) kullanmış ve dijital haritaları çıkartılabilir bir diske kopyalamış, ardından da sabit disk sürücüsündeki dijital haritaları silmiştir.</a:t>
            </a:r>
            <a:endParaRPr b="0" lang="en-US" sz="8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Eğitmene hatırlatma:</a:t>
            </a:r>
            <a:endParaRPr b="0" lang="en-US" sz="6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adde </a:t>
            </a:r>
            <a:r>
              <a:rPr b="0" lang="en-US" sz="700" spc="-1" strike="noStrike">
                <a:solidFill>
                  <a:srgbClr val="000000"/>
                </a:solidFill>
                <a:latin typeface="Calibri"/>
              </a:rPr>
              <a:t>4 – VERİLERE MÜDAHALE</a:t>
            </a:r>
            <a:endParaRPr b="0" lang="en-US" sz="700" spc="-1" strike="noStrike">
              <a:solidFill>
                <a:srgbClr val="000000"/>
              </a:solidFill>
              <a:latin typeface="Calibri"/>
            </a:endParaRPr>
          </a:p>
          <a:p>
            <a:pPr indent="0" algn="just">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1. </a:t>
            </a:r>
            <a:r>
              <a:rPr b="0" lang="tr-TR" sz="800" spc="-1" strike="noStrike">
                <a:solidFill>
                  <a:srgbClr val="000000"/>
                </a:solidFill>
                <a:latin typeface="Calibri"/>
              </a:rPr>
              <a:t>Taraflardan her biri, bilgisayar verilerine haksız yere zarar verilmesi, verilerin silinmesi, tahrip edilmesi, değiştirilmesi veya engellenmesinin, kasten gerçekleştirildiği zaman, kendi iç hukuku kapsamında cezai suç olarak tanımlanması için gerekli olabilecek yasama tedbirlerini ve diğer tedbirleri kabul edecektir. </a:t>
            </a:r>
            <a:endParaRPr b="0" lang="en-US" sz="800" spc="-1" strike="noStrike">
              <a:solidFill>
                <a:srgbClr val="000000"/>
              </a:solidFill>
              <a:latin typeface="Calibri"/>
            </a:endParaRPr>
          </a:p>
          <a:p>
            <a:pPr indent="0" algn="just">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2. Taraflardan biri, 1. fıkrada tanımlanan fiillerin ciddi zararla sonuçlanması gerektiğini şart koşma hakkını saklı tutabilir</a:t>
            </a:r>
            <a:endParaRPr b="0" lang="en-US" sz="8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a:lnSpc>
                <a:spcPct val="7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r>
              <a:rPr b="0" lang="tr-TR" sz="700" spc="-1" strike="noStrike">
                <a:solidFill>
                  <a:srgbClr val="000000"/>
                </a:solidFill>
                <a:latin typeface="Calibri"/>
              </a:rPr>
              <a:t>Hangi suçlar göz önüne alınmalıdır</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70000"/>
              </a:lnSpc>
              <a:spcBef>
                <a:spcPts val="26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rinci olarak, bir kimlik hırsızlığı söz konusudur. “Gerçek dünyada” bu fiil, failin bir işyerine girmek için başka birinin kimliğini, haksız yere, kullanmasına tekabül eder. Kimi üye Devletlerde kimlik hırsızlığı suç sayılmakla birlikte, böyle bir suç öngörülmemiş olsa dahi bu erişim genel olarak kendi başına ele alındığında yasadışı sayılmaktadır.</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Nitekim, ikinci olarak yasadışı bir erişim söz konusudur. Kimi ülkeler bu suçun kurucu unsurlarını verilere müdahale suçunun kurucu unsurları içerisine dahil ederken (Hırvatistan’da olduğu gibi), kimi ülkeler bu ihlali müstakil bir suç olarak görmektedir (yasadışı erişim suçunun var olduğu Fransa gibi ülkelerde, ayrıca bilgisayar sisteminde yasadışı bir şekilde bulunmak suçu ve bir de müdahale suçu öngörülmektedir. Örneğin bir kişi, sisteme erişim yasadışı bulunmamasına rağmen veri hırsızlığından ve bilgisayar sisteminde yasadışı bir şeklide bulunmaktan ötürü cezaya çarptırılmıştır - </a:t>
            </a:r>
            <a:r>
              <a:rPr b="0" lang="fr-FR" sz="700" spc="-1" strike="noStrike">
                <a:solidFill>
                  <a:srgbClr val="000000"/>
                </a:solidFill>
                <a:latin typeface="Calibri"/>
              </a:rPr>
              <a:t>Cour d’appel de Paris Pôle 4, chambre 10 Arrêt du 5 février 2014, O.L. c. Ministère public, https://www.legalis.net/jurisprudences/cour-dappel-de-paris-pole-4-chambre-10-arret-du-5-fevrier-2014/</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Üçüncü olarak, bilgisayar verilerinin haksız yere silinmesinden ötürü verilere müdahale söz konusudur.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Katılımcılar soruyu kendi ulusal mevzuatları ışığında yanıtlamaya davet edilmelidir.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Eğitmen ulusal hukuk çerçevesinde soruların yanıtlarını bilmeli veya soruyu, birleştirilmemişse, mahkeme uygulamaları ışığında tartışmalıdır. </a:t>
            </a:r>
            <a:endParaRPr b="0" lang="en-US" sz="6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6B31B4-8236-49AA-B286-D9B4394F0E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Maaşları ödenmediği için mutsuz olan bir çağrı merkezi şefi sistemdeki bir bilgisayar programına BIOS şifresini girmiş ve İşletme Sisteminin erişim kodunu sadece kendisinin bildiği şifrelerle değiştirmiş ve böylece bilgisayar sisteminin kullanılmasını imkânsız hale getirmiştir.</a:t>
            </a:r>
            <a:endParaRPr b="0" lang="en-US" sz="8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Eğitmene hatırlat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Madde 5 – SİSTEME MÜDAHALE</a:t>
            </a:r>
            <a:endParaRPr b="0" lang="en-US" sz="7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Taraflardan her biri, bilgisayar sistemlerine veri girişi yaparak, bu verileri ileterek, bilgisayar verilerine zarar vererek, bunları silerek, tahrip ederek, değiştirerek veya engelleyerek bir bilgisayar sisteminin işleyişinin haksız yere engellenmesinin, kasten gerçekleştirildiği zaman, kendi iç hukuku kapsamında cezai suç olarak tanımlanması için gerekli olabilecek yasama tedbirlerini ve diğer tedbirleri kabul edecektir. </a:t>
            </a:r>
            <a:endParaRPr b="0" lang="en-US" sz="8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olay ülkenizde hangi suçu doğurur?</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Failin şifre değiştirme hakkı var mıdır, yok mudur – ve ulusal hukukunuza göre bu suçun tanımı bakımından en önemli unsur bu mudur?</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Hangi suçlar göz önüne alınacaktır?</a:t>
            </a:r>
            <a:endParaRPr b="0" lang="en-US" sz="8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olayda fail şifreleri değiştirmeye yetkili veya bu hakka sahiptir. Öyleyse verilere müdahaleden veya yasadışı erişimden söz edemeyiz.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ncak bu yetki, bilgisayar sisteminin işleyişini haksız yere ciddi biçimde engelleyen, şirketin erişim kodunu açıklamama hakkını içermemekte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Fail bu şekilde hareket ederek sisteme müdahale suçunu işlemiştir (Hırvatistan, Zagreb Bölge Ceza Mahkemesi, Ko-74/15, 27 Ocak 201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atılımcılar şu soruyu ulusal hukuka göre yanıtlamalıdır: 2 suç için mi, yoksa sadece 1 suç için mi iddianame hazırlanmalıdır – Fail şifreyi değiştirme hakkına sahip olmasaydı sadece sisteme müdahale (tüketmek) 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nu 2 suç için yanıtlarsanız – hangisi: Verilere müdahale mi, yasadışı erişim 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Genelde bir veya birden fazla niteleyici unsurla birlikte bir suça tekabül eder, ama 2 suç için de gerekçe mevcuttur: Verilere müdahale ve Sisteme müdahale. (Hırvatistan’ın uygulaması uygunsuz değil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Eğitmen ulusal hukuk çerçevesinde soruların yanıtlarını bilmeli veya soruyu, birleştirilmemişse, mahkeme uygulamaları ışığında tartışmalı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C7815B-AA6E-46A2-8619-5417BA7AA8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2.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Reminder to the trainer:</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Madde 8 – BİLGİSAYARLA BAĞLANTILI DOLANDIRICILIK</a:t>
            </a:r>
            <a:endParaRPr b="0" lang="en-US" sz="800" spc="-1" strike="noStrike">
              <a:solidFill>
                <a:srgbClr val="000000"/>
              </a:solidFill>
              <a:latin typeface="Calibri"/>
            </a:endParaRPr>
          </a:p>
          <a:p>
            <a:pPr indent="0" algn="just">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ea typeface="Times New Roman"/>
              </a:rPr>
              <a:t>Taraflardan her biri, aşağıda belirtilenler, kasten ve haksız yere gerçekleştirildiği zaman, bir başka şahsın mal kaybına sebebiyet verdiğinde, bunların kendi iç hukukunda cezai suç olarak tanımlanması için gerekli olabilecek yasama tedbirlerini ve diğer tedbirleri kabul edecektir: </a:t>
            </a:r>
            <a:endParaRPr b="0" lang="en-US" sz="800" spc="-1" strike="noStrike">
              <a:solidFill>
                <a:srgbClr val="000000"/>
              </a:solidFill>
              <a:latin typeface="Calibri"/>
            </a:endParaRPr>
          </a:p>
          <a:p>
            <a:pPr indent="0" algn="just">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ea typeface="Times New Roman"/>
              </a:rPr>
              <a:t>Şahısların kendilerine veya bir başkasına haksız yere maddi menfaat sağlamak için hile ve sahtekârlık niyetiyle;</a:t>
            </a:r>
            <a:endParaRPr b="0" lang="en-US" sz="800" spc="-1" strike="noStrike">
              <a:solidFill>
                <a:srgbClr val="000000"/>
              </a:solidFill>
              <a:latin typeface="Calibri"/>
            </a:endParaRPr>
          </a:p>
          <a:p>
            <a:pPr algn="just">
              <a:lnSpc>
                <a:spcPct val="90000"/>
              </a:lnSpc>
              <a:spcBef>
                <a:spcPts val="3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ea typeface="Times New Roman"/>
              </a:rPr>
              <a:t>bilgisayar sistemlerine veri girişi yapma, verileri değiştirme, silme veya engelleme;</a:t>
            </a:r>
            <a:endParaRPr b="0" lang="en-US" sz="800" spc="-1" strike="noStrike">
              <a:solidFill>
                <a:srgbClr val="000000"/>
              </a:solidFill>
              <a:latin typeface="Calibri"/>
            </a:endParaRPr>
          </a:p>
          <a:p>
            <a:pPr algn="just">
              <a:lnSpc>
                <a:spcPct val="90000"/>
              </a:lnSpc>
              <a:spcBef>
                <a:spcPts val="3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ea typeface="Times New Roman"/>
              </a:rPr>
              <a:t>bir bilgisayar sisteminin işleyişine herhangi bir müdahalede bulunm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Madde 11 – TEŞEBBÜS VE YARDIM VE YATAKLIK</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1. Taraflardan her biri, işbu Sözleşmenin 2 ila 10. maddelerinde tanımlanan her türlü suçun işlenmesine, suçun gerçekleşmesi amacıyla kasten yardım veya yataklık edilmesinin kendi iç hukukunda cezai suç olarak düzenlenmesi için gerekli olabilecek yasama tedbirlerini ve diğer tedbirleri kabul edecekti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2. Taraflardan her biri, işbu Sözleşmenin 3. maddesi ila 5, 7, 8, ile 9.1.a ve c bentlerinde tanımlı suçlardan herhangi birine kasten teşebbüs eyleminin kendi iç hukukunda cezai suç olarak düzenlenmesi için gerekli olabilecek yasama tedbirlerini ve diğer tedbirleri kabul edecekti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3. Taraflardan her biri, işbu maddenin 2. paragrafının tamamını veya bir kısmını uygulamama hakkını saklı tutabili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Meseleler</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avcı olsanız X ile Z’yi aynı suçla mı itham ederdiniz? </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Hangi suçlar göz önüne alınacaktır</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Tartışma konuları</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u olay bilgisayarla bağlantılı sahteciliğe dair en sık rastlanan örneklerden biridir. Bu suçun her bir unsuru X tarafından işlenmiştir. X sadece parayı almak için kendine ait bir banka hesabı açmak yerine Z’nin banka hesabını kullanmıştı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Z de bir suç işlemiştir – bilgisayarla bağlantılı dolandırıcılık suçunun işlenmesine yardım veya yataklık. Aynı cezayla cezalalandırılabilir (Hırvatistan - Velika Gorica Bölge Mahkemesi, K-545/15, 18</a:t>
            </a:r>
            <a:r>
              <a:rPr b="0" lang="tr-TR" sz="800" spc="-1" strike="noStrike">
                <a:solidFill>
                  <a:srgbClr val="000000"/>
                </a:solidFill>
                <a:latin typeface="Calibri"/>
              </a:rPr>
              <a:t> Aralık </a:t>
            </a:r>
            <a:r>
              <a:rPr b="0" lang="en-US" sz="800" spc="-1" strike="noStrike">
                <a:solidFill>
                  <a:srgbClr val="000000"/>
                </a:solidFill>
                <a:latin typeface="Calibri"/>
              </a:rPr>
              <a:t>2015).</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Eğitmen ulusal hukuk çerçevesinde soruların yanıtlarını bilmeli veya soruyu, birleştirilmemişse, mahkeme uygulamaları ışığında tartışmalıdı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7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0167CF-4D63-44EB-AE36-7A51BB79F8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Şüpheli çocuk pornografisi de içeren pornografik web sitelerini defalarca ziyaret etmiştir. Hiçbir materyal indirmemiştir. Fakat bilgisayarı bu materyalleri, şüphelinin bilgisi veya işlemi olmaksızın, otomatik olarak C:/… adlı bir klasörde hafızaya almıştır (materyaller arasında çocuk pornografisi içeren görseller de mevcuttur).</a:t>
            </a:r>
            <a:endParaRPr b="0" lang="en-US" sz="3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a:solidFill>
                  <a:srgbClr val="000000"/>
                </a:solidFill>
                <a:latin typeface="Calibri"/>
              </a:rPr>
              <a:t>Eğitmene hatırlatma:</a:t>
            </a: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a:solidFill>
                  <a:srgbClr val="000000"/>
                </a:solidFill>
                <a:latin typeface="Calibri"/>
              </a:rPr>
              <a:t>Madde 9 – ÇOCUK PORNOGRAFİSİYLE BAĞLANTILI SUÇLAR</a:t>
            </a:r>
            <a:endParaRPr b="0" lang="en-US" sz="200" spc="-1" strike="noStrike">
              <a:solidFill>
                <a:srgbClr val="000000"/>
              </a:solidFill>
              <a:latin typeface="Calibri"/>
            </a:endParaRPr>
          </a:p>
          <a:p>
            <a:pPr indent="0">
              <a:lnSpc>
                <a:spcPct val="6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a:solidFill>
                  <a:srgbClr val="000000"/>
                </a:solidFill>
                <a:latin typeface="Calibri"/>
              </a:rPr>
              <a:t>1. </a:t>
            </a:r>
            <a:r>
              <a:rPr b="0" lang="tr-TR" sz="1000" spc="-1" strike="noStrike">
                <a:solidFill>
                  <a:srgbClr val="000000"/>
                </a:solidFill>
                <a:latin typeface="Calibri"/>
                <a:ea typeface="Times New Roman"/>
              </a:rPr>
              <a:t>Taraflardan her biri, aşağıda belirtilenler, kasten ve haksız yere gerçekleştirildiği zaman, bunların kendi iç hukukunda cezai suç olarak tanımlanması için gerekli olabilecek yasama tedbirlerini ve diğer tedbirleri kabul edecektir:</a:t>
            </a:r>
            <a:endParaRPr b="0" lang="en-US" sz="10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ea typeface="Times New Roman"/>
              </a:rPr>
              <a:t>bir bilgisayar sistemi üzerinden dağıtımını yapmak amacıyla çocuk pornografisi üretmek;</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ea typeface="Times New Roman"/>
              </a:rPr>
              <a:t>bir bilgisayar sistemi üzerinden çocuk pornografisini sunmak veya erişilebilir hale getirmek;</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ea typeface="Times New Roman"/>
              </a:rPr>
              <a:t>bir bilgisayar sistemi üzerinden çocuk pornografisinin dağıtım veya iletimini yapmak;</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ea typeface="Times New Roman"/>
              </a:rPr>
              <a:t>kendisi veya başkası için bir bilgisayar sistemi üzerinden çocuk pornografisi temin etmek;</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ea typeface="Times New Roman"/>
              </a:rPr>
              <a:t>bir bilgisayar sisteminde veya bilgisayar verileri depolama aygıtında çocuk pornografisi bulundurmak.</a:t>
            </a:r>
            <a:endParaRPr b="0" lang="en-US" sz="800" spc="-1" strike="noStrike">
              <a:solidFill>
                <a:srgbClr val="000000"/>
              </a:solidFill>
              <a:latin typeface="Calibri"/>
            </a:endParaRPr>
          </a:p>
          <a:p>
            <a:pPr algn="just">
              <a:lnSpc>
                <a:spcPct val="80000"/>
              </a:lnSpc>
              <a:spcBef>
                <a:spcPts val="374"/>
              </a:spcBef>
              <a:buClr>
                <a:srgbClr val="000000"/>
              </a:buClr>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Yukarıdaki 1. fıkrada belirtilen “çocuk pornografisi” terimi aşağıda belirtilenleri görsel anlamda tasvir eden pornografik malzemeleri içerecektir:</a:t>
            </a:r>
            <a:endParaRPr b="0" lang="en-US" sz="10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rPr>
              <a:t>reşit olmayan şahsın cinsel içerikli eylemlerde bulunması;</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rPr>
              <a:t>reşit olmayan şahıs görüntüsüne haiz şahsın cinsel içerikli eylemlerde bulunması;</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rPr>
              <a:t>reşit olmayan şahsın cinsel içerikli eylemlerde bulunmasını betimleyen gerçekçi görüntüler;</a:t>
            </a:r>
            <a:endParaRPr b="0" lang="en-US" sz="800" spc="-1" strike="noStrike">
              <a:solidFill>
                <a:srgbClr val="000000"/>
              </a:solidFill>
              <a:latin typeface="Calibri"/>
            </a:endParaRPr>
          </a:p>
          <a:p>
            <a:pPr algn="just">
              <a:lnSpc>
                <a:spcPct val="80000"/>
              </a:lnSpc>
              <a:spcBef>
                <a:spcPts val="374"/>
              </a:spcBef>
              <a:buClr>
                <a:srgbClr val="000000"/>
              </a:buClr>
              <a:buFont typeface="Calibri"/>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Yukarıdaki 2. fıkrada belirtilen “reşit olmayan” terimi 18 yaşında altındaki tüm şahısları kapsar. Bununla birlikte, Taraflar 16’dan küçük olmamak kaydıyla, daha düşük bir yaş sınırı getirebilir. </a:t>
            </a:r>
            <a:endParaRPr b="0" lang="en-US" sz="1000" spc="-1" strike="noStrike">
              <a:solidFill>
                <a:srgbClr val="000000"/>
              </a:solidFill>
              <a:latin typeface="Calibri"/>
            </a:endParaRPr>
          </a:p>
          <a:p>
            <a:pPr algn="just">
              <a:lnSpc>
                <a:spcPct val="80000"/>
              </a:lnSpc>
              <a:spcBef>
                <a:spcPts val="374"/>
              </a:spcBef>
              <a:buClr>
                <a:srgbClr val="000000"/>
              </a:buClr>
              <a:buFont typeface="Calibri"/>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Taraflardan her biri, 1. fıkranın (d) ve (e) bentleri ile 2. fıkranın (b) ve (c) bentlerinin tamamını veya bir kısmını uygulamaya koymama hakkını saklı tutabilirler. </a:t>
            </a:r>
            <a:endParaRPr b="0" lang="en-US" sz="10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a:solidFill>
                  <a:srgbClr val="000000"/>
                </a:solidFill>
                <a:latin typeface="Calibri"/>
              </a:rPr>
              <a:t>Meseleler</a:t>
            </a:r>
            <a:endParaRPr b="0" lang="en-US" sz="200" spc="-1" strike="noStrike">
              <a:solidFill>
                <a:srgbClr val="000000"/>
              </a:solidFill>
              <a:latin typeface="Calibri"/>
            </a:endParaRPr>
          </a:p>
          <a:p>
            <a:pPr>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u çocuk pornografisi bulundurma suçu mudur? </a:t>
            </a:r>
            <a:endParaRPr b="0" lang="en-US" sz="300" spc="-1" strike="noStrike">
              <a:solidFill>
                <a:srgbClr val="000000"/>
              </a:solidFill>
              <a:latin typeface="Calibri"/>
            </a:endParaRPr>
          </a:p>
          <a:p>
            <a:pPr>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Neden?</a:t>
            </a:r>
            <a:endParaRPr b="0" lang="en-US" sz="3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 spc="-1" strike="noStrike">
                <a:solidFill>
                  <a:srgbClr val="000000"/>
                </a:solidFill>
                <a:latin typeface="Calibri"/>
              </a:rPr>
              <a:t>T</a:t>
            </a:r>
            <a:r>
              <a:rPr b="1" lang="tr-TR" sz="200" spc="-1" strike="noStrike">
                <a:solidFill>
                  <a:srgbClr val="000000"/>
                </a:solidFill>
                <a:latin typeface="Calibri"/>
              </a:rPr>
              <a:t>artışma konuları</a:t>
            </a: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Hırvat Mahkemesi suçun –Bilgisayar sisteminde çocuk pornografisi bulundurmak– işlenmesi için aranan niyetin eksik olduğu kanaatine vardığı için beraat kararı verilmiştir. Doğrudan niyet suçun kurucu bir unsurudur (Osijek Bölge Mahkemesi, Kž-339/08-4, 23 Mayıs 2008). </a:t>
            </a: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nedenle, söz konusu davanın ardından, Hırvatistan’da sadece internette çocuk pornografisine “erişme”yi cezalandıran yeni bir suç yaratılmıştır. </a:t>
            </a: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lmanya’da benzeri bir davada (</a:t>
            </a:r>
            <a:r>
              <a:rPr b="0" lang="de-DE" sz="200" spc="-1" strike="noStrike">
                <a:solidFill>
                  <a:srgbClr val="000000"/>
                </a:solidFill>
                <a:latin typeface="Calibri"/>
              </a:rPr>
              <a:t>Bundesgerichtshof Beschluss vom 10. Oktober 2006 (BGH NStZ 2007 95</a:t>
            </a:r>
            <a:r>
              <a:rPr b="0" lang="en-US" sz="200" spc="-1" strike="noStrike">
                <a:solidFill>
                  <a:srgbClr val="000000"/>
                </a:solidFill>
                <a:latin typeface="Calibri"/>
              </a:rPr>
              <a:t>)) mahkeme, “bulundurma”nın geçici internet dosyaları, ön bellek (birçok insanın internette pek çok içeriğe daha hızlı erişmek için kısa yol olarak kullandığı) de dahil olmak üzere bilgisayar sistemine fabrika ayarı olarak depolanan verileri de kapsadığına karar vermiştir. </a:t>
            </a: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Eğitmen ulusal hukuk çerçevesinde soruların yanıtlarını bilmeli veya soruyu, birleştirilmemişse, mahkeme uygulamaları ışığında tartışmalıdır. </a:t>
            </a:r>
            <a:endParaRPr b="0" lang="en-US" sz="300" spc="-1" strike="noStrike">
              <a:solidFill>
                <a:srgbClr val="000000"/>
              </a:solidFill>
              <a:latin typeface="Calibri"/>
            </a:endParaRPr>
          </a:p>
        </p:txBody>
      </p:sp>
      <p:sp>
        <p:nvSpPr>
          <p:cNvPr id="7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263FAF-3086-4B92-BBF8-8E5F87696B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ea typeface="ＭＳ Ｐゴシック"/>
              </a:rPr>
              <a:t>Bobby bir suç işlemiş midir?</a:t>
            </a:r>
            <a:endParaRPr b="0" lang="en-US" sz="8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Bobby bir bilgisayar sistemine erişmiş mi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Bu erişim haksız mıyd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lgisayara Bobby değil, Mary erişmiştir; Mary bilgisayardaki verilere erişim yetkisine sahip olduğundan masumdur. Verilere erişilmesine yol açan kişi masum bir aracı yardımıyla hareket eden Bobby idi. Bobby Mary’ye yalan söylemiştir (bir sosyal mühendislik örneği), bu durum hukuki açıdan erişim teşkil eder 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Hem Bobby’nin hem de Mary’nin polis bilgisayarlarına erişim hakkı bulunmakta olup, bu erişim polis faaliyetiyle bağlantılı meşru bir sorgulamayla ilişkili katı şartlara bağlıdır. Erişim bu yetkinin sınırını aştığında bir suç ortaya çıkar m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eki ya Bobby polis karakoluna gidip, Mary Mercedes’in mülkiyeti ile ilgili meşru bir sorgulama yaparken omzu üzerinden (sinsice gözetleyerek) bakıp bilgileri görseyd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t>
            </a:r>
            <a:r>
              <a:rPr b="0" lang="tr-TR" sz="700" spc="-1" strike="noStrike">
                <a:solidFill>
                  <a:srgbClr val="000000"/>
                </a:solidFill>
                <a:latin typeface="Calibri"/>
              </a:rPr>
              <a:t>Sinsice gözetleme” Bobby’nin bilgisayar verilerine erişim ele etmesiyle sonuçlanırdı. “Niyeti”ne dair bir soru işareti oluşabilirdi ve tabii ki bu bilgilere erişebilmek için bilgisayar sistemi manipüle etmesi gerekmemişti, ama yine de haksız yere erişim elde etmiş olurdu (fakat bunu kanıtlamak çok güç olacaktı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vaka çalışması katılımcıların yetki meselesini (haksız erişim) değerlendirmesi amacıyla hazırlanmışt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atılımcılara, Bobby’nin polis karakoluna gidip Mercedes’in kime ait olduğu bilgisine –bilgisayarda tutulanla aynı bilgi– kartoteks sistemi üzerinden bakmış olsaydı durumu nasıl değerlendirecekleri de sorulabilir. Buradaki mesele, bizzat verilerin değil (ki veriler de başka bir veri koruma mevzuatı kapsamında korunabilir, bu durumda Bobby’nin suiistimal içeren davranışı başka bir suç teşkil edebilecektir), verilerin muhafaza edildiği aracın koruma altında olması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olis bilgisayar sistemleri birçok hassas bilginin yanı sıra, bireylerle ilişkili çok kapsamlı kişisel bilgiler de barındırmaktadır. Bu tür verilere erişimin yalnızca bunda meşru bir menfaati bulunan kişilere tanınması gerekir. Birleşik Krallık’ta polis memurlarının ve polis bilgisayar operatörlerinin sık sık kişisel amaçlarla (basının ilgisini çekebilecek bilgiler bulmak veya yolsuzluğa bulaşmış memurlar açısından, belirli bir kişinin elinde ne gibi bilgiler bulunduğunu veya belirli bir kişi veya grubun aktif olarak soruşturma altında olup olmadığını anlamak için) polis sistemlerine hukuka aykırı bir şekilde girdikleri tespit edilmektedir. </a:t>
            </a:r>
            <a:endParaRPr b="0" lang="en-US" sz="7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Yasadışı bir ele geçirme söz konusu mudu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ea typeface="ＭＳ Ｐゴシック"/>
              </a:rPr>
              <a:t>Bir ele geçirme söz konusu mudur</a:t>
            </a:r>
            <a:r>
              <a:rPr b="0" i="1" lang="tr-TR"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Ele geçirme teknik yöntemlerle mi gerçekleştirilmişt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Veriler bir bilgisayar sistemine ve bir bilgisayar sisteminden mi iletilmişt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Tuş kaydedici, bilgisayardan aktarılan verileri yakalayan teknik bir cihazdır. Bu bir ele geçirme fiili oluşturmaktadır ve haksız bir işlem olduğu açıkt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eki ya Skype aramaları? Bu senaryoda verilerin bilgisayardan iletilmesi dolayısıyla verilerin aynı hat üzerinde hareket ettiği anlaşılmaktadır, peki ama ya kullanıcının bağımsız bir Skype telefonu varsa? Bu telefon bir bilgisayar sistemi olarak değerlendirilebilir mi? Sözleşme “bilgisayar sistemi”ni </a:t>
            </a:r>
            <a:r>
              <a:rPr b="0" i="1" lang="tr-TR" sz="700" spc="-1" strike="noStrike">
                <a:solidFill>
                  <a:srgbClr val="000000"/>
                </a:solidFill>
                <a:latin typeface="Calibri"/>
              </a:rPr>
              <a:t>bir veya birden fazlası, bir program uyarınca otomatik veri işleyebilen herhangi bir cihaz veya birbiriyle bağlantılı veya ilgili bir grup cihaz </a:t>
            </a:r>
            <a:r>
              <a:rPr b="0" lang="tr-TR" sz="700" spc="-1" strike="noStrike">
                <a:solidFill>
                  <a:srgbClr val="000000"/>
                </a:solidFill>
                <a:latin typeface="Calibri"/>
              </a:rPr>
              <a:t>olarak, “bilgisayar verisi”ni ise, </a:t>
            </a:r>
            <a:r>
              <a:rPr b="0" i="1" lang="tr-TR" sz="700" spc="-1" strike="noStrike">
                <a:solidFill>
                  <a:srgbClr val="000000"/>
                </a:solidFill>
                <a:latin typeface="Calibri"/>
              </a:rPr>
              <a:t>bilgisayar sisteminin bir işlevi yerine getirmesini mümkün kılan bir programı da kapsayan, olguların, bilginin veya kavramların bir bilgisayar sisteminde işlenmeye uygun haldeki her türlü temsili </a:t>
            </a:r>
            <a:r>
              <a:rPr b="0" lang="tr-TR" sz="700" spc="-1" strike="noStrike">
                <a:solidFill>
                  <a:srgbClr val="000000"/>
                </a:solidFill>
                <a:latin typeface="Calibri"/>
              </a:rPr>
              <a:t>olarak tanımlamakta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Dinleme cihazı kullanımı biraz daha güç bir mesele olabilir. Bu bir ”ele geçirme” midir? Birleşik Krallık mahkemeleri, bir ele geçirmenin söz konusu olabilmesi için sinyal ağa iletilmekte iken sinyale yönelik bir tür müdahale veya aşırma olması gerektiği kanaatindedir; somut olayda cihaz “hat” üzerine yerleştirilmiş olsa yine aynı bilgiler elde edilecek olsun veya olmasın, kayıt iletimden bağımsız şekilde gerçekleşmekte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eki ya tuş kaydedici çalışanlarının interneti uygunsuz bir amaçla kullanmamasını sağlamak üzere Şirket tarafından sisteme yerleştirilmiş olsa ne olurdu?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Telekomünikasyon sistemlerinin büyük bir kısmı hem kamusal, hem de özel ağlar üzerinde hareket eder. Haberleşme sizin mülkiyetinizden çıktığı noktada özel bir sistemden çıkıp kamusal bir sisteme girmektedir. Özel sistemi kontrol eden şahıs bu sistemi kullanan haberleşmelere erişim hakkına sahiptir; dolayısıyla örneğin bunun için kullandığınız teknik aygıtın sistemin özel tarafına bağlı olması kaydıyla kendi evinizdeki telefon hattından yapılan konuşmaları izlemeniz mümkün olacaktı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senaryo, bilgisayar verilerine yönelik olarak teknik araçlarla iletilme sırasında haksız bir ele geçirme işlemi gerçekleştirildiğini gösterirken katılımcıların ele geçirme suçunun her bir unsurunu değerlendirmesi amacıyla hazırlanmışt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atılımcılar bu hükmün, mesajın hitap ettiği kişilerle veya hizmetin maliyeti ile ilgili bilgilerden ziyade haberleşmelerin içeriğinin korunması amacıyla getirilmiş olduğunu açık ve net bir şekilde kavramalıdır. </a:t>
            </a:r>
            <a:endParaRPr b="0" lang="en-US" sz="700" spc="-1" strike="noStrike">
              <a:solidFill>
                <a:srgbClr val="000000"/>
              </a:solidFill>
              <a:latin typeface="Calibri"/>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a:solidFill>
                  <a:srgbClr val="000000"/>
                </a:solidFill>
                <a:latin typeface="Calibri"/>
              </a:rPr>
              <a:t>Meseleler</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000" spc="-1" strike="noStrike">
                <a:solidFill>
                  <a:srgbClr val="000000"/>
                </a:solidFill>
                <a:latin typeface="Calibri"/>
              </a:rPr>
              <a:t>Mesaj iletilmiş midi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a:solidFill>
                  <a:srgbClr val="000000"/>
                </a:solidFill>
                <a:latin typeface="Calibri"/>
              </a:rPr>
              <a:t>Tartışma konuları</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Çoğu devlette polisin bir haberleşmenin içeriği bakımından ele geçirmesine izin verilmeden önce yüksek seviyede şüphenin varlığını kanıtlaması gerekmektedir. Gerekli izin alınmaksızın delil toplanması soruşturmanın sonlandırılmasına veya toplanan delillerin kabul edilmemesine yol açabili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Bilgisayarlar ve internet birçok farklı haberleşme biçimine olanak sağlamaktadır; örneğin, e-posta, SMS, Twitter vs. Mesajlar çoğu zaman gönderilen alıcının eline geçmeden önce belleğe kaydedilmektedir. Henüz alıcının eline geçmemiş olan bir mesaja iletim aşamasındaki bir mesaj olarak mı muamele edilmesi gerekir? Taslak mesajın gönderilen alıcı tarafından okunup okunmadığını bilmek mümkün değildir. Kanun e-posta sistemini tasarlandığı şekilde kullananlara sağladığı korumayı, e-posta yoluyla yapılan olağan haberleşme yöntemini kasten bozmayı tercih edenlere de tanımalı mıdı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Bu yöntem suçluların birbirleriyle iletişim kurmakta kullandığı hayli yaygın bir yöntemdir. Bu tür mesajlara erişim elde etmeye çalışmanın bir ele geçirme olup olmadığı, ulusal mevzuata ve/veya ulusal mahkemelerin tutumuna bağlı olacaktır, ancak katılımcıların bu tür verileri elde etmek için Karşılıklı Adli Yardıma başvurmaları gerekirse, yardım talep edilen devletin bunu bir ele geçirme olarak görebileceğini veya en azından, bir haberleşmenin içeriğine erişim elde etmek bakımından gerekli yargısal izinleri alabilmek için ulaşılması gereken hukuki kriterlerin daha yüksek olacağını fark etmesi önem taşıyabilir. </a:t>
            </a:r>
            <a:endParaRPr b="0" lang="en-US" sz="1000" spc="-1" strike="noStrike">
              <a:solidFill>
                <a:srgbClr val="000000"/>
              </a:solidFill>
              <a:latin typeface="Calibri"/>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100" spc="-1" strike="noStrike">
                <a:solidFill>
                  <a:srgbClr val="000000"/>
                </a:solidFill>
                <a:latin typeface="Calibri"/>
                <a:ea typeface="ＭＳ Ｐゴシック"/>
              </a:rPr>
              <a:t>Bu bir ele geçirme teşkil eder mi?</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eseleler</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esli mesaj halen iletim aşamasında mıdır?</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lgisayar verileri bakımından bir ele geçirme söz konusu mudur?</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Tartışma konuları</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esaj varış noktasına ulaşana dek, sistemde saklanıyor olsa dahi, muhtemelen halen iletilme aşamasındadır. Mesaj muhtemelen telefon şirketlerinin sunucusunda dijital olarak saklanmakta olduğu içindir ki, Bobby bilgisayar verilerine erişmiş olmaktadır. Telefon bir bilgisayar mıdır? Muhtemelen evet, otomatik bilgi işlemi yapmaktadır. Yaptıkları aramalarda telefon bulan polis görevlilerinin bu tür mesajlara erişim için lazım olan yetkiyi edinebilmeleri için bu hususu göz önünde bulundurmaları gerekebilir. Alıcının mesajı dinlediği veya hafızada saklamayı tercih ettiği durumlar farklılık arz edecektir.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senaryo bir önceki senaryoya benzer meseleler uyandırmaktadır. Bir arama emrini yerine getiren polis memurlarının hem açılmış, hem de açılmamış e-postalar içeren bir bilgisayara el koyması durumunda da aynı şekilde söz konusu olabileceği üzere, bu vaka çalışması nispeten sık rastlanılan bir durumu gözler önüne sermektedir. Ayrıca, 3. madde kapsamında saptanan suçun ister telefon, ister faks, ister e-posta, isterse de dosya transferi yoluyla olsun her türlü elektronik veri aktarımı biçimi açısından geçerli olduğunu da göstermektedir. </a:t>
            </a:r>
            <a:endParaRPr b="0" lang="en-US" sz="11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Bobby bir suç işlemiş mi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İzinsiz erişim kendi başına Verilere veya Sisteme Müdahale suçu oluşturabilir mi?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İzinsiz erişim delillerini silmek bir suç teşkil eder 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Cezai sorumluluktan bahsedebilmek için bilgisayarın işleyişine yönelik ciddi bir zararın varlığı mı gerekmekte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hükümlerin amacı, bilgisayar verilerine ve bilgisayar programlarına, kasıtlı olarak uğratılan zararlar açısından cismani eşyalara sağlanan korumaya benzer bir koruma sağlanması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 Hava Kuvvetleri sitesine erişim iznine sahip değildi, bu site şifreyle korunan bir siteydi. Dolayısıyla siteye erişim yasadışı erişim suçu teşkil edecekt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 verileri, günlük kayıt dosyalarını ve Hava Kuvvetleri amblemini silmiştir. Günlük kayıt dosyalarını kendisi yaratmış olabilirse de, bu dosyaların kendisine ait değildir; sistem bu tür faaliyetleri kayıt altına almak üzere yapılandırılmışt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Giriş sayfasındaki görseli değiştirerek hem sistemdeki verileri silmiş, hem de sisteme yeni veri eklemiştir; bu işlem önemli bir bilginin kaybıyla sonuçlanacak gibi görünmemekle birlikte, Hava Kuvvetleri açısından bir rahatsızlık yaratacaktır. Ancak, daha da önemlisi, Bobby sisteme bilgi edinmek amacıyla girdiğini ve sadece günlük kayıtları ve başkaca önemsiz verileri sildiğini iddia edebilirse de, böylesi hukuka aykırı bir sistem ihlalinden sonra sistem yöneticileri verilerin bütünlüğünden nasıl emin olabil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koşullar altında bir suç işlenmiş olup olmadığı, her ülkenin kendi hukukuna göre yorumlanacak bir meseledir. Ciddiyet kriterinin aşılmamış olduğu öne sürülebilir. Ne var ki, sistem yöneticileri muhtemelen, hele ki erişim yapılan site gizli veya hassas veriler içeriyorsa veya, örneğin nükleer bir santralin işletilmesinden sorumlu bir sistem gibi, işlerin ters gitmesi halinde halkı tehlikeye atacak operasyonlarda kullanılıyorsa, ihlalin etkilerini saptamak üzere siteyi çevrimdışı hale getirmek zorunda kalacaktı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r an için, Bobby’nin erişim sağladığı sistemin nükleer bir santralin işletilmesi amacıyla kullanıldığını varsayalım, 4. ve 5. maddelerde yer alan suçlar bu ihlalin Ulusal Kritik Altyapıya yönelik bir saldırı teşkil edecek denli ciddi bir ihlal olduğunu yansıtmaya yetecek midir? </a:t>
            </a:r>
            <a:endParaRPr b="0" lang="en-US" sz="700" spc="-1" strike="noStrike">
              <a:solidFill>
                <a:srgbClr val="000000"/>
              </a:solidFill>
              <a:latin typeface="Calibri"/>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ea typeface="ＭＳ Ｐゴシック"/>
              </a:rPr>
              <a:t>Spam e-posta göndermekten sorumlu olan kişi 4. veya 5. maddeye aykırı bir suç işlemiş midir?</a:t>
            </a:r>
            <a:endParaRPr b="0" lang="en-US" sz="8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ullanıcının bilgisayarına yönelik izinsiz bir erişim söz konusu mudur?</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ullanıcının bilgisayarındaki veriler değiştirilmiş midir?</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ullanıcının bilgisayarına yönelik herhangi bir zarar vuku bulmuş mudur?</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Herhangi bir zarar meydana gelmemekle birlikte, söz konusu yazılım kullanıcının bilgisayarındaki verilerde bir değişikliğe sebep olmaktadır. Kullanıcıya bilgisayarındaki bu değişiklikle ilgili herhangi bir uyarıda bulunulmadığı ya da kullanıcıdan bu konuda rızası istenmediği için, bu değişiklik yetkisiz bir işlemdir. Spam e-posta gönderilmesi işlemi kendi başına hukuka aykırı bir işlem midir, yoksa sadece bir rahatsızlık mı yaratmaktadır? Ancak olumsuz bir etki yarattığında mı hukuka aykırı hale gelmektedir?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eki ya söz konusu spam e-posta bir ek ve alıcıya eki açması için “bunu seveceksiniz” notuyla iletilen bir davetiye içerseydi?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lıcının maili açmayı tercih ettiği ve böylelikle verileri bilgisayarına indirmeye rıza gösterdiği öne sürülebilir. Oysa ki aslında, verilmiş olabileceği öne sürülen rıza hiçbir açıdan bilgilendirilmiş bir rıza olmayacaktır; öte yandan bilinmeyen alıcılardan gelen ek belgeleri açmayı tercih edenlerin bu tercihle birlikte her türlü riski üstlendiği de iddia edilebilir.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ullanıcının kendi bilgisayarının bir “Botnet”in parçası haline gelip gelmemesini umursamaması sonuç açısından bir fark yaratır mı?</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İnternette gezinirken, bilgisayarımıza sızabilecek materyallerin niteliğine gereğince dikkat etmeksizin, daha ziyade web sitelerinin kendilerine verdikleri adlara, dosyaların isimlerine ya da arama motorumuzun sunduğu sonuçlara göre hareket edip çeşitli siteleri ziyaret ediyor ve çeşitli veriler indiriyoruz. Bir görseli tam boyutlu görebilmek için küçük halinin üzerine tıklamak elde etmek istediğimiz veriye dair bir farkındalığı ve söz konusu verinin niteliğine dair tam olarak bilgilendirilmiş bir rızayı ifade eder. Bir motorlu arabanın tam boyutlu resmini görebilmek için küçük görseline tıkladığımızda karşımıza bir uçak görseli çıkıyorsa, söz konusu veriyi edinmek konusunda rıza göstermiş olduğumuz söylenemez.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r web sitesine yönelik bir bağlantıyı tıklayarak açmamız bilgisayarımıza bir sürü veri yüklenmesiyle sonuçlanacaktır. Söz konusu site kurallara uyuyorsa, bu verilerin büyük bir kısmı muhtemelen sitenin içeriğiyle ilişkili olacaktır; ancak ufak bir bölümü üçüncü şahıslarca yerleştirilen reklamlardan oluşabilir. Yine bilgilendirilmiş bir tercihte bulunmuş ve reklamların internette yaygın bir uygulama olduğu bilgisi dahilinde bu reklamın bize ulaştırılmasına da zımni bir rıza vermiş oluruz. Kullanıcıların internet tarayıcısına “çerezler” adı verilen verilerin yüklenmesi internet endüstrisinde yaygın bir uygulamadır.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Çerezlerin, kullanıcının web tarama geçmişinin kaydedilmesi de dahil olmak üzere pek çok işlevi bulunmaktadır. Kullanıcıya tarayıcı üzerindeki çerez fonksiyonunu etkisiz kılma seçeneği verilir; peki ama bu seçenek kullanıcının daha sonrasında bu tür verilerin indirilmesine rıza gösterdiği anlamını çıkarmak için yeterli midir?</a:t>
            </a:r>
            <a:endParaRPr b="0" lang="en-US" sz="700" spc="-1" strike="noStrike">
              <a:solidFill>
                <a:srgbClr val="000000"/>
              </a:solidFill>
              <a:latin typeface="Calibri"/>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900" spc="-1" strike="noStrike">
                <a:solidFill>
                  <a:srgbClr val="000000"/>
                </a:solidFill>
                <a:latin typeface="Calibri"/>
                <a:ea typeface="ＭＳ Ｐゴシック"/>
              </a:rPr>
              <a:t>Bu bir sisteme müdahale suçu mudu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Meselele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900" spc="-1" strike="noStrike">
                <a:solidFill>
                  <a:srgbClr val="000000"/>
                </a:solidFill>
                <a:latin typeface="Calibri"/>
              </a:rPr>
              <a:t>E-posta göndermek bir bilgisayar sistemine, e-posta sunucusuna erişmeyi veya erişme teşebbüsünü içerir. </a:t>
            </a:r>
            <a:r>
              <a:rPr b="0" lang="tr-TR" sz="900" spc="-1" strike="noStrike">
                <a:solidFill>
                  <a:srgbClr val="000000"/>
                </a:solidFill>
                <a:latin typeface="Calibri"/>
              </a:rPr>
              <a:t>Söz konusu sunucunun sahibi bu erişime ne ölçüde izin vermektedi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Bir e-posta adresine sahip olmanız, başkalarını size e-posta mesajı göndermeye davet ettiğiniz anlamına mı geli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Tartışma konuları</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Bu soru çok haklarla ilgilidir. Bobby bir sisteme erişmiş ve veri girişi yaparak sistemin çökmesine sebep olmuştur. Genel halkın erişebileceği bir e-posta adresi oluşturmak, mesaj alma yönünde zımni bir rıza içermektedir. Bobby emniyetin her bir müstakil e-postayı alma konusunda rıza göstermiş olduğunu ve sistemin bu kadar çok sayıda mesajı kaldırma kapasitesi bulunmamasının kendisinin hatası olmadığını öne sürebilir. Peki ama, emniyet buna gerçekten rıza göstermiş midir? Bir evin sahibi, kendisine hitaben gönderilmiş mektupları posta kutusu aracılığıyla kendisine ulaştırması konusunda postacıya zımni bir rıza vermektedir. Pizzacı ilanı gibi “reklam” postalarını almak konusunda da zımni bir rızası bulunmaktadır. Fakat ev sahibi evin giriş kapısını tıkayacak kadar çok sayıda pizzacı broşürü alma yönünde bir rızada bulunmamaktadır.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Gönderici bilgilerini değiştirmek suretiyle e-postanın e-posta sunucusuna erişiminin sahtecilikle elde edilmiş olduğu da söylenemez mi? Zira bu tür “sahte adresli” e-postalar almak konusunda bir rıza verilmemiştir.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Bu senaryo e-postalarla ilgili olmakla birlikte, web sitelerinin kendilerine yönlendirilmiş trafiğin hacmini kaldıramayacağı bir hizmeti engelleme saldırısı yoluyla çökertilmesini amaçlayan girişimler açısından da aynı prensip geçerlidir. Bir web sitesine bağlanmak kullanıcıların bilgisayarı ile web sitesi arasında bir veri alışverişi içerir. Tıpkı e-posta mesajlarıyla ilgili olduğu gibi, siteye bağlanmanın içerdiği zımni rızaya ilişkin de benzer meseleler doğmaktadır.</a:t>
            </a:r>
            <a:endParaRPr b="0" lang="en-US" sz="9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ＭＳ Ｐゴシック"/>
              </a:rPr>
              <a:t>Bobby </a:t>
            </a:r>
            <a:r>
              <a:rPr b="0" i="1" lang="tr-TR" sz="800" spc="-1" strike="noStrike">
                <a:solidFill>
                  <a:srgbClr val="000000"/>
                </a:solidFill>
                <a:latin typeface="Calibri"/>
                <a:ea typeface="ＭＳ Ｐゴシック"/>
              </a:rPr>
              <a:t>5. maddeye aykırı bir suç mu işlemiştir</a:t>
            </a:r>
            <a:r>
              <a:rPr b="0" i="1" lang="hr-HR"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Meselele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 sistemde yer alan verileri engellemiş mi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 bir bilgisayar sisteminin işleyişini engellemiş mi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öz konusu veri engellemesi veya sistemin işleyişinin engellenmesi haksız yere mi gerçekleşmişt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istem yöneticisinin Bobby’nin e-postasına karşı ortaya koyduğu tepki, sistem kullanıcılarının hizmete erişiminin engellenmesine yol açmıştır. Dolayısıyla, erişime yönelik bu kısıtlama muhtemelen geçici bir nitelik de taşısa, sistemde tutulan verilere erişim engellenmiş olmaktadır. Zira söz konusu suçun ortaya çıkması için verilerin daimi olarak erişilemez kılınması gerekmemekte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E-posta adresi sahibinin başkalarından gelen verileri alma konusunda tanıdığı rızanın ölçüsünü daha önce ele almıştık.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5. madde bilgisayar sistemleriyle, yani birbirine bağlı bir veya birden fazla bilgisayarla ilgilidir. Peki internete bağlı tek bir bilgisayar bir sistemin parçası mıdı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nin eşinin iş bilgisayarının bir sistemin parçası olma ihtimali daha yüksektir; muhtemelen bir LAN (Yerel Alan Ağı) veya WAN (Geniş Alan Ağı) veya İntranet’in (Dahili Ağ) parçasıdır. Bobby sistemin işleyişini engellemiş mi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 kendisinin hizmetin engellenmesinden sorumlu olmadığını, böyle bir sonucun ortaya çıkması niyetinde bulunmadığını, hatta aksine, eşinin ne yapıp ettiğini anlayabilmek için sistemin işlemeye devam etmesini istediğini savunabilir. Hizmeti engelleme saldırıları çoğu zaman bir web sitesinin çevrimdışı kalmasına yol açacak denli etkili olmamaktadır, ancak hizmet sağlayıcıları saldırının sistem üzerindeki etkisini ve başka müşteriler açısından ortaya çıkabilecek sıkıntıları en aza indirmek için siteyi çevrimdışı hale getirmekte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senaryoda Bobby 5. maddede yer alan suçun ortaya çıkması için gereken niyeti taşıyor gibi görünmemektedir, ancak bu durum cezai sorumluluktan kaçabileceği anlamına da gelmemekte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olay, başkalarının bilgisayarlarına erişim sağlayan siber suçluların yaygın olarak başvurduğu bir yöntem olan Truva virüsüne örnek teşkil etmektedir. </a:t>
            </a:r>
            <a:endParaRPr b="0" lang="en-US" sz="7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2. madde bir bilgisayar sisteminin tamamına veya bir kısmına erişilmesini kapsamaktadır. Bu slayt “bilgisayar sisteminin bir kısmı” ibaresinin ne anlama geldiğini örneklerle açıklamaktadır.</a:t>
            </a:r>
            <a:endParaRPr b="0" lang="en-US" sz="1200" spc="-1" strike="noStrike">
              <a:solidFill>
                <a:srgbClr val="000000"/>
              </a:solidFill>
              <a:latin typeface="Calibri"/>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ＭＳ Ｐゴシック"/>
              </a:rPr>
              <a:t>Supergun</a:t>
            </a:r>
            <a:r>
              <a:rPr b="0" i="1" lang="tr-TR" sz="800" spc="-1" strike="noStrike">
                <a:solidFill>
                  <a:srgbClr val="000000"/>
                </a:solidFill>
                <a:latin typeface="Calibri"/>
                <a:ea typeface="ＭＳ Ｐゴシック"/>
              </a:rPr>
              <a:t>’ı karşıdan yüklemeye uygun hale getirmek bir suç mudur</a:t>
            </a:r>
            <a:r>
              <a:rPr b="0" i="1" lang="en-GB" sz="800" spc="-1" strike="noStrike">
                <a:solidFill>
                  <a:srgbClr val="000000"/>
                </a:solidFill>
                <a:latin typeface="Calibri"/>
                <a:ea typeface="ＭＳ Ｐゴシック"/>
              </a:rPr>
              <a:t>? </a:t>
            </a:r>
            <a:endParaRPr b="0" lang="en-US" sz="800" spc="-1" strike="noStrike">
              <a:solidFill>
                <a:srgbClr val="000000"/>
              </a:solidFill>
              <a:latin typeface="Calibri"/>
            </a:endParaRPr>
          </a:p>
          <a:p>
            <a:pPr marL="324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ＭＳ Ｐゴシック"/>
              </a:rPr>
              <a:t>Supergun</a:t>
            </a:r>
            <a:r>
              <a:rPr b="0" i="1" lang="tr-TR" sz="800" spc="-1" strike="noStrike">
                <a:solidFill>
                  <a:srgbClr val="000000"/>
                </a:solidFill>
                <a:latin typeface="Calibri"/>
                <a:ea typeface="ＭＳ Ｐゴシック"/>
              </a:rPr>
              <a:t>’ı bulundurmak suç mudur</a:t>
            </a:r>
            <a:r>
              <a:rPr b="0" i="1" lang="en-GB" sz="800" spc="-1" strike="noStrike">
                <a:solidFill>
                  <a:srgbClr val="000000"/>
                </a:solidFill>
                <a:latin typeface="Calibri"/>
                <a:ea typeface="ＭＳ Ｐゴシック"/>
              </a:rPr>
              <a:t>?</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Meseleler</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upergun’ın meşru bir amaçla kullanılabiliyor olması kovuşturma açılamayacağı anlamına mı gelir?</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upergun’ın karşıdan yüklenmeye elverişli hale getirilmesi dağıtım anlamına mı gelir?</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 </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Tartışma konuları</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senaryonun ilişkili olduğu suçlar şunlardır: izinsiz erişim, yasadışı ele geçirme, verilere ve sisteme müdahale. </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yazılım ilk başta iki amaçlı bir kullanıma, meşru bir işleve hizmet ederken, şu anda kullanıcı arayüzü değiştirilmiş olduğundan yazılımın bulundurulması vs. bir suç haline mi gelmiştir? </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Daha önceki vaka çalışmamıza bakacak olursak, Bobby’nin eşinin bilgisayarına erişim elde etmek için kullandığı “tüm bölgelere erişim” yazılımının meşru bir kullanım amacı bulunmaktadır. Bunun gibi programlar kullanıcıların kendi bilgisayarlarına uzaktan erişmesine olanak sağlamaktadır. </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Peki ya Bobby’nin yazılımı kıran şifreye sahip olması bir suç oluşturmakta mıdır? Burada bir niyet meselesi söz konusu olabilirse de, Bobby hangi meşru amaçla bu yazılıma sahip olmuş olabilir? Bu yazılımı bir suç işlemek maksadıyla yerleştirmeye çalıştığını gösteren herhangi bir delil mevcut mudur?</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suç yasalara uygun hareket eden yazılım sağlayıcılarını ve kullanıcıları suçlu kılmak amacıyla getirilmemiştir. Bu örnekte olduğu gibi, kötü niyetin varlığına dair delil bulunduğunda muhtemelen herhangi bir sorun yaşanmayacaktır. Ancak siber suç işleyenler genelde aynı zamanda yasalara uygun internet faaliyetlerinde de bulunup, internet endüstrisi bünyesinde bu tür yazılımları kullanan ve geliştiren, fakat fırsat bulduklarında bunları yasadışı faaliyetler için de kullanmaktan çekinmeyen bilişim uzmanları bile olabilmektedir. Peki ya dükkan sahipleri ne yapsın? Bir müşterinin belirli bir donanım veya yazılımla ilişkili olarak nasıl bir niyet taşıdığını nereden bilebilirler? Suçun çerçevesi çok mu muğlak?</a:t>
            </a:r>
            <a:endParaRPr b="0" lang="en-US" sz="800" spc="-1" strike="noStrike">
              <a:solidFill>
                <a:srgbClr val="000000"/>
              </a:solidFill>
              <a:latin typeface="Calibri"/>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Meselele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öyle bir yazılımı yaratmak, üretmek, dağıtmak, kullanmak veya bulundurmak ceza bir suç teşkil eder m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Tartışma konuları</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Hepimiz sürekli olarak verilerimizi güvenli tutmak konusunda uyarılıyoruz. Böyle bir program suç işleyen ve özellikle de bilgisayarlarının içeriği sebebiyle kendisine suç isnat edilebileceğinden korkan kişiler açısından elbette ki faydalı olmakla birlikte, bu kişiler söz konusu programı bir suç işlemek amacıyla değil, daha ziyade delilleri gizlemek amacıyla kullanmaktadı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iber suç işleyen kişiler tespit edilmekten kaçınmak için, gerçek IP adreslerini açıklamadan internette gezinmelerini sağlayan anonimleştiriciler yahut bir sabit disk sürücüsünün içeriğini silebilen delil giderici programlar da dahil olmak üzere başkaca program veya sistemlerden yararlanabilir.</a:t>
            </a:r>
            <a:endParaRPr b="0" lang="en-US" sz="1200" spc="-1" strike="noStrike">
              <a:solidFill>
                <a:srgbClr val="000000"/>
              </a:solidFill>
              <a:latin typeface="Calibri"/>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ea typeface="ＭＳ Ｐゴシック"/>
              </a:rPr>
              <a:t>Nick </a:t>
            </a:r>
            <a:r>
              <a:rPr b="0" i="1" lang="tr-TR" sz="1100" spc="-1" strike="noStrike">
                <a:solidFill>
                  <a:srgbClr val="000000"/>
                </a:solidFill>
                <a:latin typeface="Calibri"/>
                <a:ea typeface="ＭＳ Ｐゴシック"/>
              </a:rPr>
              <a:t>bir suç işlemiş midir</a:t>
            </a:r>
            <a:r>
              <a:rPr b="0" i="1" lang="en-GB" sz="1100" spc="-1" strike="noStrike">
                <a:solidFill>
                  <a:srgbClr val="000000"/>
                </a:solidFill>
                <a:latin typeface="Calibri"/>
                <a:ea typeface="ＭＳ Ｐゴシック"/>
              </a:rPr>
              <a:t>? </a:t>
            </a:r>
            <a:endParaRPr b="0" lang="en-US" sz="1100" spc="-1" strike="noStrike">
              <a:solidFill>
                <a:srgbClr val="000000"/>
              </a:solidFill>
              <a:latin typeface="Calibri"/>
            </a:endParaRPr>
          </a:p>
          <a:p>
            <a:pPr marL="3240"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100" spc="-1" strike="noStrike">
                <a:solidFill>
                  <a:srgbClr val="000000"/>
                </a:solidFill>
                <a:latin typeface="Calibri"/>
                <a:ea typeface="ＭＳ Ｐゴシック"/>
              </a:rPr>
              <a:t>Şirket bir suç işlemiş midir?</a:t>
            </a:r>
            <a:endParaRPr b="0" lang="en-US" sz="1100" spc="-1" strike="noStrike">
              <a:solidFill>
                <a:srgbClr val="000000"/>
              </a:solidFill>
              <a:latin typeface="Calibri"/>
            </a:endParaRPr>
          </a:p>
          <a:p>
            <a:pPr marL="3240"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ea typeface="ＭＳ Ｐゴシック"/>
              </a:rPr>
              <a:t>Jüpiter </a:t>
            </a:r>
            <a:r>
              <a:rPr b="0" i="1" lang="tr-TR" sz="1100" spc="-1" strike="noStrike">
                <a:solidFill>
                  <a:srgbClr val="000000"/>
                </a:solidFill>
                <a:latin typeface="Calibri"/>
                <a:ea typeface="ＭＳ Ｐゴシック"/>
              </a:rPr>
              <a:t>bir suç işlemiş midir</a:t>
            </a:r>
            <a:r>
              <a:rPr b="0" i="1" lang="en-GB" sz="1100" spc="-1" strike="noStrike">
                <a:solidFill>
                  <a:srgbClr val="000000"/>
                </a:solidFill>
                <a:latin typeface="Calibri"/>
                <a:ea typeface="ＭＳ Ｐゴシック"/>
              </a:rPr>
              <a:t>?</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eseleler</a:t>
            </a: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Cihaz ilk başta, belirtilen suçları işlemek amacıyla mı tasarlanmış veya uyarlanmıştır?</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Tartışma konuları</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iber suçlular suç işlemelerine olanak sağlayan veya yardımcı olan çok çeşitli araçlara erişebilmektedir. Kendi “bot”unuzu kurmanızı sağlayacak kodu satın almak veya bir “bot ağı” satın almak yahut kullanıcının “kimlik hırsızlığı” gibi çeşitli suçları işleyebilmesini sağlayan bir bot ağına erişim satın almak mümkündür.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Jüpiter bu programı kullanıcıların mali bilgilerini edinmek için kullanacaktır; bu bilgilerin bizzat Jüpiter veya bir başkası tarafından istismar edilme ihtimali mevcuttur. Şirket muhtemelen Nick’in bu programı iş saatlerinde yazmış olduğunu düşünmekteydi. Nick masumdur ve Jüpiter’e çok güçlü bir suç aracı yaratmak konusunda bilmeksizin yardım etmiştir. Ne Nick’in, ne de şirketin suç işleme niyeti bulunmaktadır. Jüpiter bu programı çalışanlarının internet faaliyetlerini izlemek isteyen başka şirketlere pazarlamaya devam etse durum farklı mı olurdu? Jüpiter yazılımın suç işlemek isteyenler açısından bariz bir cazibesi olmakla birlikte aslında meşru bir amaca hizmet ettiğini savunabilir mi? </a:t>
            </a:r>
            <a:endParaRPr b="0" lang="en-US" sz="11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100" spc="-1" strike="noStrike">
                <a:solidFill>
                  <a:srgbClr val="000000"/>
                </a:solidFill>
                <a:latin typeface="Calibri"/>
                <a:ea typeface="ＭＳ Ｐゴシック"/>
              </a:rPr>
              <a:t>Stefan hangi suçu işlemiştir?</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eseleler</a:t>
            </a: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ahte banka çekleri üretmek bilgisayarla bağlantılı bir sahtecilik midir?</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suç ancak bankadaki memurun çeki sahih bir çek olarak kabul etmesiyle mi tamamlanır?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Tartışma konuları</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anka çeki üretmek bir bilgisayara sahih olmayan verilerin girilmesi işlemini içerir, yani çek Stefan lehine düzenlenmiştir. Ancak bu işlem haksız yere mi yapılmıştır yoksa Stefan’ın kendi bilgisayarında böyle bir belge yaratma hakkı var mıdır? Stefan’ın bu çeki bankayı dolandırmak amacıyla kullanma niyeti olabilir, ancak herhangi bir sebeple çeki basamamış olabilirdi. Bu belgenin bir evrak olarak düzenlenmiş olup olmaması Stefan’ın sorumluluğu açısından herhangi bir fark yaratır mı?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suç aslında bu türden bir senaryo öngörülerek yaratılmamıştır, ancak ulusal mevzuatta sahte bir banka çeki yaratılması başka bir açıdan suç sayılmadıysa bu hükme başvurulabilir. Bu suçlar daha ziyade teşebbüs gibi tali yükümlülükler bağlamında değerlendirilebilir.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suçla esasen bilgisayarı suçu işleme mekanizması olarak kullanan kişiler hedeflenmektedir, yani bankadaki iyi niyetli memur Stefan tarafından temin edilen verileri sahih kabul ederek bilgisayara girerken suç işlenmiş olmaktadır. </a:t>
            </a:r>
            <a:endParaRPr b="0" lang="en-US" sz="11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200" spc="-1" strike="noStrike">
                <a:solidFill>
                  <a:srgbClr val="000000"/>
                </a:solidFill>
                <a:latin typeface="Calibri"/>
                <a:ea typeface="ＭＳ Ｐゴシック"/>
              </a:rPr>
              <a:t>Bu bilgisayarla bağlantılı bir sahtecilik suçu mudu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Meselele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eğiştirilmiş veriler yasal açıdan kullanılmayacaktı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Tartışma konuları</a:t>
            </a:r>
            <a:r>
              <a:rPr b="0" lang="tr-TR"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tefan verileri değiştirmiş ve sahih olmayan veriler girmiştir. Bu erişimin ve değişikliğin haksız yere yapıldığı açıktır. Stefan’ın işlemiş olabileceği diğer suçlar bir yana, bu veriler yasal açıdan kullanılmayacak olduğundan bilgisayarla bağlantılı bir sahtecilik suçu işlemiş olduğu konusu şüphelidi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ahtecilikle bağlantılı suç maddi veya başkaca bir kazançla ilgili değildir; bilgisayarla bağlantılı sahtecilik bu tür suçları içermektedir. Bahsi geçen madde hukuki sonuçlar doğurabilecek elektronik verilerin güvenliğini ve güvenilirliğini sağlamayı amaçlamaktadır. “Yasal açıdan” terimi hukuki olarak önem arz eden işlem ve evraklara atıfta bulunmaktadır.</a:t>
            </a:r>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100" spc="-1" strike="noStrike">
                <a:solidFill>
                  <a:srgbClr val="000000"/>
                </a:solidFill>
                <a:latin typeface="Calibri"/>
                <a:ea typeface="ＭＳ Ｐゴシック"/>
              </a:rPr>
              <a:t>Bobby bir suç işlemiş midir?</a:t>
            </a:r>
            <a:r>
              <a:rPr b="0" lang="tr-TR" sz="1100" spc="-1" strike="noStrike">
                <a:solidFill>
                  <a:srgbClr val="000000"/>
                </a:solidFill>
                <a:latin typeface="Calibri"/>
                <a:ea typeface="ＭＳ Ｐゴシック"/>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eseleler</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obby’nin mesajı doğru değil miydi?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esaj doğru değilse, başka biri bu mesaj yüzünden kayıp yaşamış mıdır?</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obby bundan maddi bir çıkar sağlamış mıdır?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Tartışma konuları</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obby tarafından gönderilen mesaj doğru değilse, bu durumda bir suç işlemiş olabilir. Bir bilgisayara doğru olmayan veriler girmiş ve hisse fiyatındaki artıştan bizzat kendisi maddi bir menfaat elde etmiştir.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Veri girişi ile bunun etkisi arasındaki illiyet bağı çok mu dolaylıdır?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obby başka birinin kaybına mı yol açmıştır? Hisselerin doğru olmayan bilgilerle değer kazandığı ve ileride bir noktada muhtemelen değer kaybedecek olduğu düşünülürse bu sorunun cevabı muhtemelen evettir. Ancak hisse piyasasının son derece istikrarsız seyrettiği, birilerinin bir hisse için herhangi bir zamanda ödemek isteyeceği fiyatın bir hissenin değerini belirlemediği de teslim edilmeli midir? Birileri gerçekten dolandırılmış mıdır, yoksa bu türden söylentilere ve mesajlara internette zaten bolca rastlanmakta mıdır? Bu mesajın hisse fiyatını manipüle etmeye yönelik beceriksiz bir girişim olduğunu anlamayıp buna gerçekten inanan birileri çıkar mı? İnternette yalan söyleyemeyiz mi demek oluyor bu? </a:t>
            </a:r>
            <a:endParaRPr b="0" lang="en-US" sz="11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ea typeface="ＭＳ Ｐゴシック"/>
              </a:rPr>
              <a:t>Stefan </a:t>
            </a:r>
            <a:r>
              <a:rPr b="0" i="1" lang="tr-TR" sz="1200" spc="-1" strike="noStrike">
                <a:solidFill>
                  <a:srgbClr val="000000"/>
                </a:solidFill>
                <a:latin typeface="Calibri"/>
                <a:ea typeface="ＭＳ Ｐゴシック"/>
              </a:rPr>
              <a:t>bir suç işlemiş midir</a:t>
            </a:r>
            <a:r>
              <a:rPr b="0" i="1" lang="en-GB" sz="1200" spc="-1" strike="noStrike">
                <a:solidFill>
                  <a:srgbClr val="000000"/>
                </a:solidFill>
                <a:latin typeface="Calibri"/>
                <a:ea typeface="ＭＳ Ｐゴシック"/>
              </a:rPr>
              <a:t>?</a:t>
            </a:r>
            <a:r>
              <a:rPr b="0" lang="en-GB" sz="1200" spc="-1" strike="noStrike">
                <a:solidFill>
                  <a:srgbClr val="000000"/>
                </a:solidFill>
                <a:latin typeface="Calibri"/>
                <a:ea typeface="ＭＳ Ｐゴシック"/>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Meselele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Parkmetre bir bilgisayar mıdı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Parkmetrenin fişi otomatik olarak vermesi ve ortada kandırılan bir insan bulunmaması herhangi bir önem taşıyor mu?</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Otopark fişinin niteliği nedi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Tartışma konuları</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Parkmetre bir bilgisayardır, verileri işleyerek otopark tarifesine göre alınması gereken miktarı hesaplar ve otopark süresine uygun bir fiş düzenler. Stefan sahih olmayan veriler girmiş, makineye uygun bozuk paraların yerine rondela atmıştır. 7. madde tedarik edilen verilere dayanarak bir insanın bir işlemde bulunması şartı aramamaktadı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Otopark fişi sahtedir, bu fişin yaratılması için kullanılan veriler hatalıdır ve bu veriler bir kişinin, otopark görevlisinin bu verileri sahih sanması ve Stefan’a otopark fişi vermesi için üretilmiştir. </a:t>
            </a:r>
            <a:endParaRPr b="0" lang="en-US" sz="1200" spc="-1" strike="noStrike">
              <a:solidFill>
                <a:srgbClr val="000000"/>
              </a:solidFill>
              <a:latin typeface="Calibri"/>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200" spc="-1" strike="noStrike">
                <a:solidFill>
                  <a:srgbClr val="000000"/>
                </a:solidFill>
                <a:latin typeface="Calibri"/>
                <a:ea typeface="ＭＳ Ｐゴシック"/>
              </a:rPr>
              <a:t>Bu verileri bulundurmak suç mudu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Meselele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lgisayar dosyalarının niteliği nedir? Bir dizi ikili koddan oluşmasına rağmen hukuken “eşya” niteliğinde midi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Tartışma konuları</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leşik Krallık’ta dolandırıcılık amacıyla bir eşya bulundurmak esaslı bir suçtur. Bilgisayar dosyası da eşyadır. Elbette aranan niyet kriterinin kanıtlanması gerekecektir, fakat bu türden verileri bulundurmak için meşru bir sebep öne sürülmesi güçtü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elki bir hazırlık suçu olarak değerlendirilebilir. </a:t>
            </a:r>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200" spc="-1" strike="noStrike">
                <a:solidFill>
                  <a:srgbClr val="000000"/>
                </a:solidFill>
                <a:latin typeface="Calibri"/>
                <a:ea typeface="ＭＳ Ｐゴシック"/>
              </a:rPr>
              <a:t>Adam hangi suçları işlemişti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Meselele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Üretmek, tedarik ve dağıtım tanımları.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dam görsel dosyaları internetten yüklemiştir. Bu karşıdan yükleme işlemi böyle bir görselin yaratılmasıyla eşdeğer midir? Bilgisayara karşıdan yükleme ve özellikle de bir görsel kaydetmek televizyon izlemek gibi bir işlem değildir. Karşıdan yükleme işlemi yeni bir bilgisayar dosyası yaratmaktadır, yani internetten görsel izlemek yeni görseller yaratma işlemini içermektedir. Savcılar bu noktadan faydalanabili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t>
            </a:r>
            <a:r>
              <a:rPr b="0" lang="tr-TR" sz="1200" spc="-1" strike="noStrike">
                <a:solidFill>
                  <a:srgbClr val="000000"/>
                </a:solidFill>
                <a:latin typeface="Calibri"/>
              </a:rPr>
              <a:t>Eşler Arası” (Peer to Peer) dosya paylaşım ağları, üyelerinin ağın diğer üyeleri tarafından erişilebilir kılınan dosyalara erişmesine imkân sağlamaktadır. Adam görselleri paylaşılan dosyaya koyarak bunları dağıtıma elverişli hale getirmektedir. </a:t>
            </a:r>
            <a:endParaRPr b="0" lang="en-US" sz="1200" spc="-1" strike="noStrike">
              <a:solidFill>
                <a:srgbClr val="000000"/>
              </a:solidFill>
              <a:latin typeface="Calibri"/>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ea typeface="ＭＳ Ｐゴシック"/>
              </a:rPr>
              <a:t>Bill hakkında bu görüntülerle ilgili olarak kovuşturma başlatılabilir mi?</a:t>
            </a:r>
            <a:r>
              <a:rPr b="0" lang="tr-TR" sz="800" spc="-1" strike="noStrike">
                <a:solidFill>
                  <a:srgbClr val="000000"/>
                </a:solidFill>
                <a:latin typeface="Calibri"/>
                <a:ea typeface="ＭＳ Ｐゴシック"/>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Meseleler</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Yargılama yetkisi</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Asli suça karar verilmesi, bir görselin bulundurulması mı, yoksa görselin yaratılması mı?</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endParaRPr b="0" lang="en-US" sz="800" spc="-1" strike="noStrike">
              <a:solidFill>
                <a:srgbClr val="000000"/>
              </a:solidFill>
              <a:latin typeface="Calibri"/>
            </a:endParaRPr>
          </a:p>
          <a:p>
            <a:pPr indent="0" algn="just">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Tartışma konuları</a:t>
            </a:r>
            <a:r>
              <a:rPr b="0" lang="tr-TR"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Görseller yurtdışında yaratılmış göründüğünden, bunların yaratılmasıyla ilgili yetki meseleleri ortaya çıkabilir.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lundurma sorun olmamalıdır.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ütün görseller ayrılmamış bir alanda bulunmuş olsaydı durum ne olurdu?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lundurma için hem bilgi, hem denetim gerekir. Bill silinmiş olan görsellerin sabit disk sürücüsünde halen erişilebilir olabileceğini biliyor veya bilmiyor olabilir, ancak teknik araç ve uzmanlığı olmadan bu görselleri kurtarması mümkün olmayacaktır. Ne var ki, Bill’i bu görselleri yaratmaktan veya geçmişte bu görselleri bulundurmaktan ötürü kovuşturup kovuşturmamak (yetki meselelerine bağlı olarak) savcının takdirine kalmaktadır.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Peki ya bu görseller plajda oyun oynayan 3 ila 7 yaşındaki çıplak çocuklara ait olsa ve Bill kendisinin çıplaklık yanlısı bir kişi olduğunu söylese, ancak bu görsellere baktığında cinsel zevk duyduğunu kabul etse durum ne olurdu?</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görsellerin hukuka aykırı olup olmadığı her ülkenin kendi hukukuna göre yorumlanacak bir meseledir. Birleşik Krallık’ta bu tür görsellerin genelde cinsel unsur taşıdığı kabul edilir ve fotoğrafçının hangi motivasyonla hareket ettiğine itibar edilmez.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rPr>
              <a:t>Hangi görselin hukuka aykırı olduğuna kim karar veriyor? Suçun çerçevesi yeterince net çizilmiş mi?</a:t>
            </a:r>
            <a:endParaRPr b="0" lang="en-US" sz="8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2.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eseleler</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John’un görsellerden ötürü sorumlu olduğu nasıl kanıtlanacak?</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Pedofil suçlarıyla itham edilen şüpheliler üzerindeki etkisi.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Tartışma konuları</a:t>
            </a:r>
            <a:r>
              <a:rPr b="0" lang="tr-TR"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yöntemle görsel gizlenmesi oldukça yaygın bir işlemdir. Gruplar içinde bu görsellere bağlantı içeren mesajlar gönderilmektedir. Bir IP adresinin siteye nasıl kayıtlı hale geldiği anlaşılmadan arama emri çıkartmak için sadece IP adresine itimat etmek tehlikeli olabilir, zira söz konusu IP adresi sahipleri başka bir site tarafından yönlendirilmiş ve neler içerdiğini anladıklarında hiçbir görsele erişmeye devam etmemiş olup, bu anlamda tamamen masum olabilir. Tabii bu arada siteyi birden çok kez ziyaret etmiş ve birkaç görsele erişmiş olabilirler.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r kişiyi pedofil olmakla suçlamadan önce gösterilmesi gereken özeni tartışmak amacıyla bu vaka çalışmasından yararlanılabilir. Bu tür suçlarla itham edilen kişiler arasında intihar oranları yüksektir. Diğer tüm siber suç örneklerinde olduğu gibi, burada da ilgili tarihte klavye başında olan şüpheliyi tespit edebilmeniz gerekir, zira bir IP adresi aynı adresteki birkaç kişi tarafından kullanılabileceği gibi kablosuz ağ da başka biri tarafından gasp edilmiş olabilir. Bu tür suçlamalar masum bir kişi üzerinde yıkıcı bir etki yaratabilir. </a:t>
            </a:r>
            <a:endParaRPr b="0" lang="en-US" sz="1100" spc="-1" strike="noStrike">
              <a:solidFill>
                <a:srgbClr val="000000"/>
              </a:solidFill>
              <a:latin typeface="Calibri"/>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900" spc="-1" strike="noStrike">
                <a:solidFill>
                  <a:srgbClr val="000000"/>
                </a:solidFill>
                <a:latin typeface="Calibri"/>
                <a:ea typeface="ＭＳ Ｐゴシック"/>
              </a:rPr>
              <a:t>Oswald bir suç işlemiş midir?</a:t>
            </a:r>
            <a:r>
              <a:rPr b="0" lang="tr-TR" sz="900" spc="-1" strike="noStrike">
                <a:solidFill>
                  <a:srgbClr val="000000"/>
                </a:solidFill>
                <a:latin typeface="Calibri"/>
                <a:ea typeface="ＭＳ Ｐゴシック"/>
              </a:rPr>
              <a:t>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Meseleler</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Oswald asli bir suç mu, yoksa tali sorumluluk yaratan bir suç mu işlemiştir?</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Yargılama yetkisine ilişkin herhangi bir mesele söz konusu mudur?</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ABD web sitesinin tamamen otomatikleştirilmiş olması herhangi bir fark yaratır mı?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Delil Giderme programının kullanımı konusunda ne söyleyebiliriz?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 </a:t>
            </a:r>
            <a:endParaRPr b="0" lang="en-US" sz="900" spc="-1" strike="noStrike">
              <a:solidFill>
                <a:srgbClr val="000000"/>
              </a:solidFill>
              <a:latin typeface="Calibri"/>
            </a:endParaRPr>
          </a:p>
          <a:p>
            <a:pPr marL="3240" indent="0" algn="just">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Tartışma konuları</a:t>
            </a:r>
            <a:r>
              <a:rPr b="0" lang="tr-TR" sz="900" spc="-1" strike="noStrike">
                <a:solidFill>
                  <a:srgbClr val="000000"/>
                </a:solidFill>
                <a:latin typeface="Calibri"/>
              </a:rPr>
              <a:t>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Oswald bilgisayarında hiçbir görsel bulundurmamaktadır ve bu tür görselleri görüntülemek için bir web sitesine erişmiş olduğunu kanıtlamamız mümkün değildir, yalnızca bunun için bir abonelik ücreti ödemiş olduğunu kanıtlayabilmekteyiz. Oysa Oswald söz konusu parayı başka bir kişiyi, web sitesinin ABD’deki sahibini çocuk istismarı içeren görselleri dağıtması veya dağıtım için elverişli kılması yönünde ikna etmek amacıyla ödemiştir. Peki bu bir suç teşkil eder mi?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ABD’deki web sitesinin tamamen otomatikleştirilmiş olması demek, kredi kartı bilgilerinin işlenme sürecine fiilen kimsenin dahil olmaması demektir. Hal böyle olsa dahi, söz konusu işlem bu işten mali kazanç elde eden bir kişi tarafından yaratılmış olup, onun tarafından idare edilmekte ve sürdürülmektedir.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Delil giderme programı kullanımı tek başına hukuka aykırı bir işlem değildir. Oswald bu programı polis soruşturması sırasında çalıştırmış olmadığı sürece, adaletin işleyişiyle bağlantılı bir suç işlemiş olma ihtimali bulunmamaktadır. Ancak Oswald kovuşturmaya uğrayacak olursa, bu tür programlar kullanmış olması mahkemece ağırlaştırıcı bir sebep olarak değerlendirilebilir.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ğitmen, katılımcılara dersin Üçüncü Bölümü ile ilgili sormak istedikleri her türlü soruyu sorma fırsatı tanımalıdır. </a:t>
            </a:r>
            <a:endParaRPr b="0" lang="en-U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1C0E7E-FB54-4A52-A8D9-FB014DB468D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AA775D-E2D5-4712-995D-0DA49AF4DB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Özet / Tekra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ğitmen aşağıdaki hususlarda bilgileri tekrarlamalı/sınamalıdı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Budapeşte Sözleşmesi’ne dayalı olarak, maddi ceza hukuku hükümleri ve suçları tanımlamada kullanılan bazı temel faktörler.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aka çalışması tartışmalarından hareketle ilgili maddi hukuk hükümleri. </a:t>
            </a:r>
            <a:endParaRPr b="0" lang="en-US" sz="1200" spc="-1" strike="noStrike">
              <a:solidFill>
                <a:srgbClr val="000000"/>
              </a:solidFill>
              <a:latin typeface="Calibri"/>
            </a:endParaRPr>
          </a:p>
        </p:txBody>
      </p:sp>
      <p:sp>
        <p:nvSpPr>
          <p:cNvPr id="7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61886B-80C4-4379-BF28-57BD847DFB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Eğitmen, katılımcılara dersle ilgili sormak istedikleri her türlü soruyu sorma fırsatı tanımalıd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Pratik Çalışmalar (var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oturum için başkaca bir pratik çalışma hazırlanmamışt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Bilgi Test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Eğitmen her bir oturumdaki konular hakkında ilgili sorular sorarak bilgiyi sınamalıdır</a:t>
            </a: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D5DEBD-5E94-49D3-A134-29ABDFC340E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Bef>
                <a:spcPts val="11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a:t>
            </a:r>
            <a:r>
              <a:rPr b="0" lang="en-US" sz="1200" spc="-1" strike="noStrike">
                <a:solidFill>
                  <a:srgbClr val="000000"/>
                </a:solidFill>
                <a:latin typeface="Calibri"/>
              </a:rPr>
              <a:t>Bu yetki herhangi bir olayda yasamayla ilgili, idari, yargısal, akdi veya karşılıklı mutabakata dayalı olabilir. Yetkilendirilmiş davranış suç teşkil etmez; </a:t>
            </a:r>
            <a:r>
              <a:rPr b="0" lang="en-GB" sz="3000" spc="-1" strike="noStrike">
                <a:solidFill>
                  <a:srgbClr val="000000"/>
                </a:solidFill>
                <a:latin typeface="Calibri"/>
              </a:rPr>
              <a:t>kamuoyunun serbest ve açık erişimine imkân tanıyan bilgisayar sistemlerine erişim de suç teşkil etmez.</a:t>
            </a:r>
            <a:endParaRPr b="0" lang="en-US" sz="30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2.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araflar yasadışı erişimin genel olarak suç sayılmasını öngören 2. maddenin kapsamını birtakım niteleyici öğelerle daraltabilir. Örneğin, taraflar yasadışı erişim işleminin güvenlik tedbirlerinin (örn. Şifre veya başkaca erişim kodları) çiğnenmesi suretiyle ya da sahtekâr bir niyetle ya da erişilen bilgisayar sisteminden veya başka bir bilgisayar sisteminden bilgisayar verilerinin elde edilmesi amacıyla gerçekleştirilmesini şart koşabil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 slayt Tarafların kendi iç mevzuatlarında benimsemek isteyebilecekleri niteleyici öğeleri sıralamaktadır.</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dapeşte Sözleşmesi’nin 3. maddesi kapsamında tanımlanan yasadışı ele geçirme de kasıtlı bir ihlal teşkil etmektedir. Bu suç umuma kapalı bilgisayar verilerinin bir bilgisayar sistemine, bir bilgisayar sisteminden veya bir bilgisayar sisteminin kendi içinde teknik yöntemler kullanılarak iletimi esnasında haksız yere ele geçirenler tarafından işlenir.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hüküm bilgisayar verilerinin umuma kapalı şekilde iletimi esnasında izinsiz şekilde ele geçirilmesini suç sayarak bu iletimlerin bütünlüğünü korumaktadır.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bilgisayar sistemine, bir bilgisayar sisteminden veya bir bilgisayar sisteminin kendi içinde veri iletimi günümüz dünyasında ağlar üzerindeki en yaygın gerçekliktir.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Teknik olarak, ağ ve haberleşme usulünce korunmuyorsa haberleşmelerin ele geçirilmesi çok kolay olabilmektedir. Haberleşmelerin ele geçirilmesi örneğin birisinin hangi internet sitelerini ziyaret ettiğini veya gönderdiği ya da aldığı e-posta mesajlarını ortaya çıkarabilmektedir.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olayısıyla yasadışı ele geçirme suçu, umuma kapalı haberleşmelerin gizliliğini koruyarak iletişim teknolojisinin savunmasızlığını ortaya koymayı amaçlamaktadır.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3. maddenin tam metnini göste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hüküm bilgisayar verilerinin umuma kapalı şekilde iletimi esnasında izinsiz şekilde ele geçirilmesini suç sayarak bu iletimlerin bütünlüğünü koru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bilgisayar sistemine, bir bilgisayar sisteminden veya bir bilgisayar sisteminin kendi içinde veri iletimi günümüz dünyasında ağlar üzerindeki en yaygın gerçeklikt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Teknik olarak, ağ ve haberleşme usulünce korunmuyorsa haberleşmelerin ele geçirilmesi çok kolay olabilmektedir. Haberleşmelerin ele geçirilmesi, örneğin birisinin hangi internet sitelerini ziyaret ettiğini veya gönderdiği ya da aldığı e-posta mesajlarını ortaya çıkarabil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olayısıyla yasadışı ele geçirme suçu, umuma kapalı haberleşmelerin gizliliğini koruyarak iletişim teknolojisinin savunmasızlığını ortaya koymayı amaçlamaktadır.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Günde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kısımda dört bölüm yer al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inci bölümde Budapeşte Sanal Suç Sözleşmesinin Maddi Ceza Hukuku kısmına odaklanılacakt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kinci Bölüm Ulusal Maddi Ceza Hukuku üzerine olacakt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Üçüncü kısımda vaka çalışmaları yapılacakt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n olarak dördüncü bölümde tüm bölümlerin özeti yapılacaktır.</a:t>
            </a:r>
            <a:endParaRPr b="0" lang="en-US" sz="1200" spc="-1" strike="noStrike">
              <a:solidFill>
                <a:srgbClr val="000000"/>
              </a:solidFill>
              <a:latin typeface="Calibri"/>
            </a:endParaRPr>
          </a:p>
        </p:txBody>
      </p:sp>
      <p:sp>
        <p:nvSpPr>
          <p:cNvPr id="491"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8169EF-0292-4499-816E-239355303A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 girme haberleşmelerin </a:t>
            </a:r>
            <a:r>
              <a:rPr b="0" lang="en-GB" sz="1200" spc="-1" strike="noStrike">
                <a:solidFill>
                  <a:srgbClr val="000000"/>
                </a:solidFill>
                <a:latin typeface="Calibri"/>
              </a:rPr>
              <a:t>dinlenmesi, izlenmesi veya takibi anlamına gelir. Ele geçirme veri haberleşmelerinin gizliliğini etkiler ve Sözleşme’nin 3. maddesi umuma kapalı verilerin iletiminde ele geçirilmesine karşı koruma sağlamayı amaçlamaktadır.</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Ele geçirme durumunda söz konusu işlemin izin çerçevesinde; muhtemelen deneme veya koruma faaliyetlerinde bulunmakla yetkili kişiler veya kolluk görevlileri tarafından yapılma ihtimali de bulunmaktadır. Yani “haklı olarak” gerçekleştirilen meşru ele geçirme işlemleri 3. madde kapsamına girmemektedir.</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madde iletimler esnasında teknik olmayan yollarla ele geçirilmesini kapsamayıp, bir kişinin bir bilgisayar sistemine bir iletimin ele geçirilmesi amacıyla erişmesine ve sistemi bu amaçla kullanmasına, elektronik gizli dinleme yöntemlerinin veya dinleme cihazının veya başkaca herhangi bir teknik aracın kullanılmasına ilişkindir. Bu slaytta 3. madde kapsamına giren bazı ele geçirme biçimlerine dair örnekler verilmektedir.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muma açık iletimler esnasında ele geçirme, maddenin kapsamını yalnızca umuma kapalı iletimlerle ilişkilendiren 3. madde kapsamında bir suç sayılmamaktadır. 3. madde verilerin niteliğini değil, iletimin niteliğini dikkate aldığından, umuma kapalı iletimler ile umuma kapalı veriler arasında ayrım yapılması önemlidir. Yani, umuma açık bir veri iletimi üzerinden iletilen gizli bilgiler açısından ele geçirilmesi suç oluşturmazken, aslında umuma açık olan verilerin umuma kapalı şekilde iletimi esnasında ele geçirilmesi 3. madde kapsamında bir suç teşkil edecektir.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ir bilgisayar sistemine, bir bilgisayar sisteminden veya bir bilgisayar sisteminin kendi içindeki iletimler esnasında ele geçirilmesi suç sayılmaktadır. Bu slayt 3. maddenin bu açıdan kapsamını ve bahsi geçen üç unsur arasındaki farkı izah eden örnekler içermektedir.</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ğitmen aşağıdaki konuları ele almalıd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dapeşte Sözleşmesi’ne göre suçların tanımlanmasında kullanılan bazı temel faktörler ile maddi ceza hukuku hükümler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lusal hukuka göre suçların tanımlanmasında kullanılan bazı temel faktörler ile maddi ceza hukuku hükümler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şta Budapeşte Sözleşmesi olmak üzere uluslararası araçlarla ulusal mevzuatın uyumlaştırılması ihtiyacı ve bu uyumlaştırmanın avantajları</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8EB427-A57C-4817-B972-EDF71A4BEF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dapeşte sözleşmesi, bilgisayar verileri açısından ele geçirilmesinden başka, Budapeşte Sözleşme’nin 1. maddesi kapsamında “bilgisayar verileri” tanımına dahil edilmeyen elektromanyetik dalgaların yayılması esnasında ele geçirmeyi de suç saymaktadır. Bilgisayar sistemleri sık sık veri içeren elektromanyetik dalgalar yayabilmektedir. Bu elektromanyetik dalgalar üzerinden bilgisayar verilerinin yeniden düzenlenebilmesi ihtimali bulunması sebebiyle, elektromanyetik dalgaların yayılması esnasında ele geçirme de suç sayılmıştır; zira bu unsurun suç kapsamı dışında bırakılması hukuken bir boşluk yaratacaktır.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madde bilgisayar verilerinin umuma kapalı iletimi esnasında, teknik yöntemler kullanılarak, haksız yere, kasıtlı şekilde ele geçirilmesini genel olarak suç saymaktadır. Taraflar 3. maddenin kapsamını birtakım niteleyici öğelerin varlığını şart koşarak sınırlandırabilir. Tarafların benimseyebileceği niteleyici öğeler bu slaytta belirtilmektedir. </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ilgisayar verilerine kasıtlı olarak ve haksız yere zarar verilmesi, verilerin silinmesi, tahrip edilmesi, değiştirilmesi veya engellenmesi Budapeşte Sözleşmesi’nin 4. maddesinde öngörüldüğü üzere verilere müdahale suçunu oluşturacaktır.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4. maddenin tam metnini göste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Verilere müdahale, izinsiz müdahalelere karşı verilerin bütünlüğünü korumaktadır. Tıpkı bir mal sahibinin gerçek hayatta malını başkalarının müdahalesine karşı koruyup muhafaza etme hakkı olduğu gibi, verilerin sahibi de verileri olduğu gibi muhafaza etme hakkına sahiptir. Kimi ülkelerde olağan ve klasik zararlar kapsamında verilere müdahale de yer almaktadır; diğer ülkelerde ise bilgisayar verilerine yönelik zararları veya verilere müdahaleyi ayrıca tanımlama ihtiyacı bulun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odern yaşamda söz konusu verilerin (bilgisayar verileri) muazzam artışı bu suça damgasını vurmaktadır. Bilgisayar verileri son derece savunmasız konumda olduğundan çok kolayca imha veya manipüle edilebilir. Bu ceza kuralı verilerin bütünlüğünü ve erişilebilirliğini koru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Verilere müdahale konusunda en sık rastlanan örneklerden biri virüslerin eylemlerinden kaynaklanır – virüsler mağdurun bilgisayarına kendilerini haksız şekilde kurar ve örneğin verileri siler.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ilgisayar verilerine haksız yere zarar verilmesi veya tahrip edilmesi verilerin ve programların bütünlüğünün ya da bilgi içeriğinin olumsuz yönde değiştirilmesi anlamına gelmektedir. Her ikisi de birbiriyle iç içe geçebilen eylemlerdir.</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linme verilerin imhası anlamına gelmektedir; ve silinmiş olan verilerin tanınmaz hale gelmesine yol açmaktadır.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nulan vaka çalışmalarıyla ilgili tartışmalar çerçevesinde ilgili maddi hukuk hükümleri</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6D1D4B-97BE-4917-8D1F-36DFE223CE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ğiştirme mevcut verilerin değiştirilmesi (fakat silinmemesi) anlamına gelmektedir. Veriler birkaç şekilde değiştirilebilir; bunlar arasında virüs ve Truva atı gibi kötü niyetli kodların girilmesi de yer almaktadır.</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rilerin engellenmesi, verilerin saklanıyor olduğu bilgisayara veya depolama aracına erişimi bulunan kişinin verilere erişebilirliğini engelleyen veya sona erdiren herhangi bir işlem anlamına gelmektedir. Verilerin silinmesinin aksine, verilerin engellenmesinde veriler tahrip olmamakta, yalnızca erişilebilirlikleri ortadan kalkmaktadır.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Birçok durumda, verilere müdahale eden kişinin bunu “haklı” şekilde yapıyor olması olasıdır. Bu slaytta bir kişinin verilere 4. madde kapsamındaki cezai sorumluluğu harekete geçirmeden meşru şekilde müdahale ediyor olabileceği durumlara dair birtakım örnekler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rilere müdahale suçunun geniş bir kapsamı olduğu düşünülerek, taraflar bu davranışın ciddi zararla sonuçlanmasını şart koşarak suçu sınırlandırmayı tercih edebilir. 4. madde ciddi zarara dair özel bir tanım getirmediği için bu konudaki kriterler iç hukuk kapsamında saptanabilir. </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isteme müdahale bir bilgisayar sisteminin işleyişinin engellenmesidir – ciddi şekilde engellenmesi: Budapeşte Sözleşmesi’nin 5. maddesi ciddi olmayan engellemeleri kapsamamaktadır. Bu durum, kasıtlı şekilde ve haksız yere işlenmesi halinde, bilgisayar sistemlerine veri girişi yapılması, bu verilerin iletilmesi, bilgisayar verilerine zarar verilmesi, bunların silinmesi, tahrip edilmesi, değiştirilmesi veya engellenmesi sonucunda ortaya çıkabilir.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ebeple, örneğin genel olarak, ağ yöneticisi tarafından gerçekleştirilen güvenlik testleri kapsam dışında kalmaktadır. Bu ihlal bir ağın olağan ve usulünce işleyişine müdahale teşkil edebilen pek çok işlemi içermektedir. Esasen Budapeşte Sözleşmesi haberleşme sistemlerinin ve bilgisayar teknolojisinin gündelik yaşamdaki önemini teslim etmektedir – bu sistemlerin erişilebilirliği kamusal, ekonomik ve sosyal faaliyetlerin düzgün şekilde yürütülmesi açısından hayati önem taşımaktadır. Fakat bu suç türü sadece hizmeti engelleme saldırıları gibi büyük ölçekli müdahaleleri içermez.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Yalnızca tek bir bilgisayara yönelik küçük eylemler bile sisteme müdahale teşkil edebilir – tek bir e-posta adresini hedef alan </a:t>
            </a:r>
            <a:r>
              <a:rPr b="0" i="1" lang="tr-TR" sz="1200" spc="-1" strike="noStrike">
                <a:solidFill>
                  <a:srgbClr val="000000"/>
                </a:solidFill>
                <a:latin typeface="Calibri"/>
              </a:rPr>
              <a:t>mail bombardımanı </a:t>
            </a:r>
            <a:r>
              <a:rPr b="0" lang="tr-TR" sz="1200" spc="-1" strike="noStrike">
                <a:solidFill>
                  <a:srgbClr val="000000"/>
                </a:solidFill>
                <a:latin typeface="Calibri"/>
              </a:rPr>
              <a:t>buna örnektir. Esasen, bir failin bir bilgisayar sistemini altından kalkabileceğinden daha fazla taleple hedef alması halinde daima bir sisteme müdahale suçu ortaya çıkacaktır.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uç hem sistem işletmecilerini, hem de son kullanıcıyı korumak amacıyla haberleşme ağlarına erişimin korunmasını öngörmektedir. </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5. maddenin tam metnini göste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dapeşte Sözleşmesi siber suçlar konusundaki ilk uluslararası sözleşme olarak, ceza soruşturmalarında uluslararası işbirliğinin kolaylaştırılmasını ve geliştirilmesini amaçla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iki oturumda maddi ceza hukuku, yani Budapeşte Sözleşmesi’nin her bir ülkeden ulusal mevzuatında suç olarak saymasını istediği cürümler konu edilecektir.</a:t>
            </a:r>
            <a:endParaRPr b="0" lang="en-US" sz="1200" spc="-1" strike="noStrike">
              <a:solidFill>
                <a:srgbClr val="000000"/>
              </a:solidFill>
              <a:latin typeface="Calibri"/>
            </a:endParaRPr>
          </a:p>
        </p:txBody>
      </p:sp>
      <p:sp>
        <p:nvSpPr>
          <p:cNvPr id="5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39EF24-5B21-4D5C-AB61-69DC9C1A1F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5. maddenin bir unsurunu göstermektedir. Bu unsurun ve bir önceki slaytta yer alan unsurun açıklaması bir sonraki slaytta yer almaktadır.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stem müdahalesi suçu bir bilgisayar sisteminin düzgün işleyişinin engellenmesiyle sonuçlanan bir davranış gerektirmektedir. 5. madde bu engellemenin bilgisayar verisi (i) girişi yapılması (ii) iletilmesi (iii) zarar görmesi (iv) değiştirilmesi ve (v) engellenmesi yoluyla meydana gelmesi gerektiğini dile getirmektedir. Bu ibarelerden her birinin açıklaması verilere müdahale suçu (4. madde) kapsamında halihazırda ele alınmış olup, aynı açıklamalar sisteme müdahale açısından da geçerli olacaktır.</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5.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5. madde bir bilgisayar sisteminin işleyişinin sadece engellenmesini değil, </a:t>
            </a:r>
            <a:r>
              <a:rPr b="1" lang="en-GB" sz="1200" spc="-1" strike="noStrike">
                <a:solidFill>
                  <a:srgbClr val="000000"/>
                </a:solidFill>
                <a:latin typeface="Calibri"/>
              </a:rPr>
              <a:t>ciddi şekilde engellenmesini </a:t>
            </a:r>
            <a:r>
              <a:rPr b="0" lang="en-GB" sz="1200" spc="-1" strike="noStrike">
                <a:solidFill>
                  <a:srgbClr val="000000"/>
                </a:solidFill>
                <a:latin typeface="Calibri"/>
              </a:rPr>
              <a:t>suç saymaktadır; yani engellemenin ciddi bir nitelik taşıması şartını aramaktadır. Bu unsur suçun kapsamının daraltılması ve ciddi nitelik taşımayan engellemelerin aşırıya kaçılarak suç sayılmasını önlemek amacıyla getirilmiştir. Bir engellemenin ciddiyeti iç mevzuat kapsamında belirlenecek olup, </a:t>
            </a:r>
            <a:r>
              <a:rPr b="0" i="1" lang="en-GB" sz="1200" spc="-1" strike="noStrike">
                <a:solidFill>
                  <a:srgbClr val="ff0000"/>
                </a:solidFill>
                <a:latin typeface="Calibri"/>
              </a:rPr>
              <a:t>belirli bir sisteme, sistemin sahibi veya operatörünün sistemi kullanma veya başka sistemlerle iletişim kurma becerisine esaslı zarar veren bir etki doğuracak biçimde, boyutta ve sıklıkta </a:t>
            </a:r>
            <a:r>
              <a:rPr b="0" lang="en-GB" sz="1200" spc="-1" strike="noStrike">
                <a:solidFill>
                  <a:srgbClr val="000000"/>
                </a:solidFill>
                <a:latin typeface="Calibri"/>
              </a:rPr>
              <a:t>veri gönderimini de içerebilir. </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Birçok durumda, verilere müdahale eden kişinin bunu “haklı” şekilde yapıyor olması olasıdır. Bu slaytta bir kişinin bir bilgisayar sistemine 5. madde kapsamındaki cezai sorumluluğu harekete geçirmeden meşru şekilde müdahale ediyor olabileceği durumlara dair birtakım örnekler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dapeşte Sözleşmesi’nde dile getirilen en karmaşık ihlallerden biri cihazların kötüye kullanılması suçudur – 6. madde.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Tıpkı diğer suçlarda olduğu gibi, failin eylemi kasıtlı ve haksız yere olmalıdır. Tümü kötüye kullanılabilecek cihazlarla bağlantılı birçok faaliyeti içermektedi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suç 1989 tarihli Tavsiye Kararda yer almayan çok “yeni” bir suçtur. Aynı zamanda çok yenilikçidir – bu suç tanımında yer alan olgular daha öncesinde ulusal mevzuatların birçoğunda suç olarak tanınmamaktaydı.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Esasen bu suç, öncelikli olarak Sözleşme’de dile getirilen diğer maddi suçlardan herhangi birinin işlenmesi amacıyla tasarlanmış veya uyarlanmış bir bilgisayar programı da dahil olmak üzere cihazların üretimi, satışı, kullanım amaçlı tedariki, ithali, dağıtımı veya başka bir şekilde erişilebilir hale getirilmesini yasaklamaktadı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Aynı şekilde, bir bilgisayar sisteminin tamamına veya herhangi bir kısmına erişilmesine imkân sağlayan bilgisayar şifrelerinin, erişim kodlarının veya benzer verilerin satışını da suç haline getirmektedir. Sözleşme bu hükümle, “suça elveren ekipmanlar” açısından büyüyüp gelişen ve gittikçe ekonomik açıdan önemli hale gelen “ikincil piyasa”nın suç sayılması ihtiyacını tanımaktadır: </a:t>
            </a:r>
            <a:r>
              <a:rPr b="0" i="1" lang="tr-TR" sz="1100" spc="-1" strike="noStrike">
                <a:solidFill>
                  <a:srgbClr val="000000"/>
                </a:solidFill>
                <a:latin typeface="Calibri"/>
              </a:rPr>
              <a:t>Hackerlar </a:t>
            </a:r>
            <a:r>
              <a:rPr b="0" lang="tr-TR" sz="1100" spc="-1" strike="noStrike">
                <a:solidFill>
                  <a:srgbClr val="000000"/>
                </a:solidFill>
                <a:latin typeface="Calibri"/>
              </a:rPr>
              <a:t>iş araçlarını internette satmakta, kendi kaynakları ile yarattıkları virüs kitlerine internette yaygın bir şekilde ulaşılabilmekte ve Truva atları veya başkaca cihazlar kullanılarak çalınmış şifreler toptan satışa sunulmaktadır. Demek oluyor ki bir bilgisayar sistemini </a:t>
            </a:r>
            <a:r>
              <a:rPr b="0" i="1" lang="tr-TR" sz="1100" spc="-1" strike="noStrike">
                <a:solidFill>
                  <a:srgbClr val="000000"/>
                </a:solidFill>
                <a:latin typeface="Calibri"/>
              </a:rPr>
              <a:t>hacklemek </a:t>
            </a:r>
            <a:r>
              <a:rPr b="0" lang="tr-TR" sz="1100" spc="-1" strike="noStrike">
                <a:solidFill>
                  <a:srgbClr val="000000"/>
                </a:solidFill>
                <a:latin typeface="Calibri"/>
              </a:rPr>
              <a:t>artık üstün yetenekli programcıların tekelinde değildir. Her “sıradan” suçlu gerekli araçları ya da doğrudan çalıntı şifreleri kolayca satın alabilmektedir – çoğu zaman suçlu satıcı bir “müşteri hizmeti” de sunmakta ve müşterisine bilgisayarını suç işlemek amacıyla düzenlemek konusunda yardımcı olmaktadı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6. maddenin en çok tartışılan ayrıntılarından biri, (yine kasıtlı olarak ve haksız yere) bir </a:t>
            </a:r>
            <a:r>
              <a:rPr b="0" i="1" lang="en-GB" sz="1200" spc="-1" strike="noStrike">
                <a:solidFill>
                  <a:srgbClr val="000000"/>
                </a:solidFill>
                <a:latin typeface="Calibri"/>
              </a:rPr>
              <a:t>cihazın</a:t>
            </a:r>
            <a:r>
              <a:rPr b="0" lang="en-GB" sz="1200" spc="-1" strike="noStrike">
                <a:solidFill>
                  <a:srgbClr val="000000"/>
                </a:solidFill>
                <a:latin typeface="Calibri"/>
              </a:rPr>
              <a:t> Sözleşme’nin 2-5. maddelerinde (yasadışı erişim, yasadışı ele geçirme, verilere müdahale ve sisteme müdahale) belirtilen suçlardan herhangi birinin işlenmesi için kullanılması amacıyla bulundurulmasını suç sayan 1(b) fıkrasına ilişkindi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 seçenek kimi yargılama alanlarında ”hazırlık faaliyeti” adı verilen, bu durumda halihazırda ve özerk şekilde suç sayılmış olan eylemlere benzemektedir. </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ve bir sonraki slayt 6(1). maddenin tam metnini göstermektedir.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k amaç Taraflar arasında işbirliğine izin verecek şekilde maddi hukukun uyumlu hale getirilmesi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dapeşte Sözleşmesi şunları tanımla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GB" sz="1200" spc="-1" strike="noStrike">
                <a:solidFill>
                  <a:srgbClr val="000000"/>
                </a:solidFill>
                <a:latin typeface="Calibri"/>
                <a:ea typeface="ＭＳ Ｐゴシック"/>
              </a:rPr>
              <a:t>Bilgisayar sistemlerinin ve verilerin gizliliğin</a:t>
            </a:r>
            <a:r>
              <a:rPr b="0" lang="tr-TR" sz="1200" spc="-1" strike="noStrike">
                <a:solidFill>
                  <a:srgbClr val="000000"/>
                </a:solidFill>
                <a:latin typeface="Calibri"/>
                <a:ea typeface="ＭＳ Ｐゴシック"/>
              </a:rPr>
              <a:t>e</a:t>
            </a:r>
            <a:r>
              <a:rPr b="0" lang="en-GB" sz="1200" spc="-1" strike="noStrike">
                <a:solidFill>
                  <a:srgbClr val="000000"/>
                </a:solidFill>
                <a:latin typeface="Calibri"/>
                <a:ea typeface="ＭＳ Ｐゴシック"/>
              </a:rPr>
              <a:t>, bütünlüğüne ve erişilebiliriğine yönelik suçlar: Yasadışı erişim, Yasadışı ele geçirme, Verilere müdahale, Sisteme müdahale, Cihazların kötüye kullanılması.</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Bilgisayarla bağlantılı suçlar: bilgisayarla bağlantılı sahtecilik, bilgisayarla bağlantılı dolandırıcılı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çerikle bağlantılı suçlar: Çocuk pornografisi ile bağlantılı suçlar, telif hakkı ve bununla bağlantılı hakların ihlaline ilişkin suçlar.</a:t>
            </a:r>
            <a:endParaRPr b="0" lang="en-US" sz="1200" spc="-1" strike="noStrike">
              <a:solidFill>
                <a:srgbClr val="000000"/>
              </a:solidFill>
              <a:latin typeface="Calibri"/>
            </a:endParaRPr>
          </a:p>
        </p:txBody>
      </p:sp>
      <p:sp>
        <p:nvSpPr>
          <p:cNvPr id="503"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FFC6DF-807F-4046-AECA-4A69446BD4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6. maddenin (2) ve (3). fıkralarının tam metnini göstermektedir.</a:t>
            </a: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Bir kişinin 6. madde kapsamına girebilecek cihazları üretme ve piyasaya sürme hakkına sahip olması mümkündür; söz konusu cihazların bilgisayar sistemlerinin yetkili şekilde test edilmesi veya korunması amacıyla kullanımı da buna dahildir. </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6. madde öncelikli olarak siber suç işlemek amacıyla tasarlanmış veya uyarlanmış cihazların </a:t>
            </a:r>
            <a:r>
              <a:rPr b="0" lang="tr-TR" sz="1200" spc="-1" strike="noStrike">
                <a:solidFill>
                  <a:srgbClr val="000000"/>
                </a:solidFill>
                <a:latin typeface="Calibri"/>
              </a:rPr>
              <a:t>üretilmesini, satılmasını, kullanım amaçlı tedarikini, ithalatını, dağıtılmasını veya başka şekilde erişilebilir hale getirilmesini suç saymaktadır.</a:t>
            </a: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6. madde sadece cihazların değil, bilgisayar programlarının kötüye kullanılmasını da içermektedir. Yani 6. madde verileri değiştirmek veya imha etmek yahut bilgisayar sistemlerinin işleyişine müdahale etmek amacıyla tasarlanmış programların üretimini, satışını vs. kapsamaktadır. Bu nedenledir ki, cihazlar kapsamında yer almayan virüs programları da 6. madde kapsamına girmektedir. </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yi hazırlayanlar çift kullanımlı cihazları 6. madde kapsamına sokmak ile kapsam dışında bırakmak arasında bir karar vermek zorunda kalmıştır. Çift kullanımlı cihazların kapsama dahil edilmesi, suç teşkil etmeyen amaçlar için üretilmiş ve dağıtılmış olsa dahi bu cihazların üretimi ve dağıtımının aşırıya kaçılarak suç sayılmasına yol açabilecekti. Çift kullanımlı cihazların kapsam dışında bırakılması ise bu cihazların özel olarak siber suç işleme amacıyla üretildiği ve dağıtıldığının kanıtlanmasını gerektireceği için çok dar olacaktı. Sözleşme 6. maddenin sadece bu amaçla değil ama öncelikli olarak bir siber suç işlenmesi amacıyla tasarlanan veya uyarlanan cihazları kapsayacağı şekilde dengeli bir yaklaşım benimsemiştir. </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 bölüm siber suçların en önemli kategorilerinden birinden bahsetmektedir: Bilgisayar veri ve sistemlerinin gizliliğine, bütünlüğüne ve erişilebilirliğine yönelik cürümler. Bunlara dar anlamda sibersuç adı verilebilir. </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6. madde, cihazların ve bilgisayar programlarının kötüye kullanılmasının yanı sıra, bir bilgisayar sisteminin tamamına veya herhangi bir kısmına erişimi mümkün kılan erişim kodlarının, bilgisayar şifrelerinin ve diğer benzeri verilerin üretimini, satışını vs. de suç saymaktadır. </a:t>
            </a: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6 madde, cihazların, bilgisayar programlarının, şifrelerin, erişim kodlarının vs. üretilmesi ve dağıtılmasının yanı sıra, bunların bir siber suç işleme niyetiyle bulundurulmasını da suç saymaktadır. </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ilgisayarla bağlantılı suçlar bir bilgisayar sistemi vasıtasıyla işlenen suçlardır. Bu ihlaller klasik, geleneksel suçların yeni yöntemlerini oluşturmaktadır, ancak bunlar sadece dijital ortamda işlenebilmektedir ve bu sanal dünya dışında meydana gelmeleri mümkün değildir. </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dapeşte Sözleşmesi’nin 7. maddesi kapsamında yer alan bilgisayarla bağlantılı sahtecilik, sahtecilik suçunun özel bir şeklidir. Çoğu ülkede sahtecilik, cezai nitelik taşıyan klasik anlamdaki bir ihlaldir. Fakat normalde bu suç somut nesnelerle ilgili olup, kimi durumlarda bilişim sahteciliğini veya bilgisayar verileri üzerindeki sahteciliği suç saymak amacıyla kullanılamamaktadır. İşte bu nedenle Sözleşme’ye 7. madde eklenmiş bulun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 bu madde ile, klasik evrakta sahtecilik (somut, maddi evrak) suçuna paralel bir suç yaratmayı amaçlamaktadır. Bu sefer suçun konusunu bilgisayar verileri oluşturmaktadır. Bu suç, sahih olmayan verilerle sonuçlanan bilgisayar verisi girme, verileri değiştirme, silme veya engelleme eylemlerini bu verilerin yasal açıdan sahihmiş gibi kabul edilmesi veya işlem görmesi niyetiyle gerçekleştiren kişilerce işlen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uçta da tabii kasıtlı olma ve haksız yere işlenme şartları aranmaktadır. </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7. maddenin tam metnini göstermektedir.</a:t>
            </a: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7.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ＭＳ Ｐゴシック"/>
              </a:rPr>
              <a:t>Bu slayt, 7. madde kapsamında sahih bir belgede yapılabilecek tahrifata ilişkin dört yöntemi belirtmektedir: Bunlar: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ＭＳ Ｐゴシック"/>
              </a:rPr>
              <a:t>Doğru ve yanlış verilerin girilmesi (veriler oluşturulurken veya girilirke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ＭＳ Ｐゴシック"/>
              </a:rPr>
              <a:t>Sonradan değiştirme yapılması (tadilat, farklılaştırma veya kısmi değişiklikler de dahil)</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ＭＳ Ｐゴシック"/>
              </a:rPr>
              <a:t>Silme (verilerin veri ortamından kaldırılması)</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ＭＳ Ｐゴシック"/>
              </a:rPr>
              <a:t>Engelleme (verilerin alıkonulması veya gizlenmesi)</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7.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7. madde, bilgisayarla bağlantılı sahteciliğin kasıtlı olarak işlenmesi şartının yanı sıra, söz konusu davranışı gerçekleştiren kişinin sahte evrakların yasal açıdan (hukuki açıdan önem arz eden belgeler ve yasal işlemler) kabul edilmesi veya işlem görmesi niyeti taşıması şartını da getirmektedir. Ayrıca, Taraflar söz konusu davranışın bir başka kişiyi kandırma niyetiyle gerçekleştirilmesini de şart koşabilir.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Yasadışı erişim suçu bir bilgisayar sisteminin tamamına veya bir kısmına haksız yere erişim sağlayan kişiler tarafından işlenir. Bu işlem kasıtlı yapılmalıdır v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Budapeşte Sözleşmesi’nin 2. maddesi kapsamında tanımlanmaktadır. </a:t>
            </a: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dapeşte Sözleşmesi’nin 8. maddesi kapsamında </a:t>
            </a:r>
            <a:r>
              <a:rPr b="0" lang="tr-TR" sz="1200" spc="-1" strike="noStrike">
                <a:solidFill>
                  <a:srgbClr val="000000"/>
                </a:solidFill>
                <a:latin typeface="Calibri"/>
              </a:rPr>
              <a:t>yer alan bilgisayarla bağlantılı dolandırıcılık suçu </a:t>
            </a: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8. maddenin tam metnini göstermektedir.</a:t>
            </a: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8.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Bu slayt, başka bir şahsın mal kaybına yol açabilecek beş yöntemi belirtmektedir: Bunlar: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Doğru ve yanlış verilerin girilmesi (veriler oluşturulurken veya girilirke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Sonradan değiştirme yapılması (tadilat, farklılaştırma veya kısmi değişiklikler de dahil)</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Silme (verilerin veri ortamından kaldırılması)</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Engelleme (verilerin alıkonulması veya gizlenmesi)</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Müdahale (bir bilgisayar sisteminin işleyişine)</a:t>
            </a: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BC7745-5EA3-4597-B3DB-9E3921B30C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8.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ilgisayarla bağlantılı dolandırıcılık suçunun oluşması için, söz konusu davranışın başka bir şahsın malvarlığında doğrudan ekonomik veya zilyetliğe dair bir kayba yol açması gereklidir. Buna para, maddi aktif veya ekonomik değeri olan ancak maddi olmayan aktiflerin kaybı dahildir. </a:t>
            </a: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1B516F-A689-42F2-834D-06C9C46BBD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çerikle bağlantılı suçlar bilgisayar ve ağların kullanımıyla kolaylaşan suçlara atıfta bulunmaktadır. Bu ihlaller başka araçlarla da işlenebilmekle birlikte, bilgisayar ve ağlar sayesinde daha kolay hale gelmiştir. </a:t>
            </a: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dapeşte Sözleşmesi’nin 9. maddesi bu sözleşmenin getirdiği en büyük yeniliklerden birini içermektedir: Bir bilgisayar sistemi aracılığıyla işlenen çocuk pornografisi fiillerini suç saymaktadır.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Çocuk pornografisi ticareti internetin yayılmasıyla muazzam artış göstermiştir. Haberleşme ve bilgi ağları bu türden içeriklerin peşinde olanlar için pek çok avantaj ve imkân sunmaktadır. Ayrıca, internette kullanıcılar kimliklerini açıklamaksızın çocuk istismarı materyallerine erişim sağlayabilmektedir.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Çocuk pornografisi suçları bakımından bir husus özellikle çekişmelidir: “Psödo imgeler”in suç sayılması. Sözleşme maddeleri yalnızca cinsel faaliyet sırasında fotoğraflanan gerçek çocuk fotoğraflarına ilişkin durumları değil, çocukların sahte temsili görünümlerini –örneğin tamamen bilgisayarla yaratılan çocuk resimleri (mesela cinsel eylemde bulunan bir yetişkin vücudunun üzerine bir çocuk kafası yerleştirilmesi)– veya (inandırıcı bir şekilde) çocukmuş gibi yapan (hareket eden veya giyinen) yetişkinlerin resimlerini de kapsamaktadır.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özleşme metninde geniş bir şekilde ele alındığı için değinilmesi gereken bir başka önemli husus da, çocuk pornografisi materyallerini sadece bulundurmak sebebiyle cezalandırılmadır. 9(1). madde bu türden materyallerin bir bilgisayar sistemi dahilinde bulundurulmasını ve ayrıca bu tür görsellerin sadece kişisel kullanım amacıyla teminini tek başına bir ihlal olarak tanımlamaktadır. Bu yaklaşım konuyu ele alan başka uluslararası arenalarda da yaygın olarak benimsenmektedir.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Çocuk pornografisi materyallerinin sadece bulundurulmasını suç haline getirmek bu konuda bir ceza soruşturması yürütmeyi çok daha kolaylaştırmaktadır, zira bu hüküm uyarınca zilyetliğinde bu türden materyaller bulunan herkes kovuşturmaya uğrayabilecektir ve resimlerin belirli bir şekilde kullanılma (örneğin satılma) niyeti veya bunların üretimine iştirak etme fiilinin kanıtlanmasına gerek bulunmamaktadır. Bu da, pedofil olduğundan şüphelenilen kişilerin bir çocuğa karşı dürtüleriyle yaklaştığına dair herhangi bir delil bulunmaksızın cezalandırılabilmesi anlamına gelmektedir. Bir de elbette, polis ve mahkemeler bu sayede çocuk pornografisi tedarikçisi olduğundan şüphelendikleri kişileri (sadece bulundurma sebebiyle dahi olsa) fiili olarak bu ticaretin varlığına dair kanıt olsun yahut olmasın, soruşturup mahkûm edebilmektedir.</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bağlamda Avrupa Birliği bünyesinde tercih edilen hukuki düzenlemenin değerlendirilmesi önem taşımaktadır. Avrupa Birliği yıllar önce –29 Mayıs 2000 tarihli Konsey Kararından beri– çocuk pornografisi materyallerinin sadece bulundurulması durumunu suç saymaya karar vermiştir. Daha yakın bir tarihte, çocukların cinsel istismarı ve çocuk pornografisiyle mücadele hakkında çıkartılan ve </a:t>
            </a:r>
            <a:r>
              <a:rPr b="0" lang="en-GB" sz="700" spc="-1" strike="noStrike">
                <a:solidFill>
                  <a:srgbClr val="000000"/>
                </a:solidFill>
                <a:latin typeface="Calibri"/>
              </a:rPr>
              <a:t>2004/68/JHA sayılı </a:t>
            </a:r>
            <a:r>
              <a:rPr b="0" lang="tr-TR" sz="700" spc="-1" strike="noStrike">
                <a:solidFill>
                  <a:srgbClr val="000000"/>
                </a:solidFill>
                <a:latin typeface="Calibri"/>
              </a:rPr>
              <a:t>Konsey Çerçeve Kararı’nı ilga eden 13 Aralık 2011 tarihli ve </a:t>
            </a:r>
            <a:r>
              <a:rPr b="0" lang="en-GB" sz="700" spc="-1" strike="noStrike">
                <a:solidFill>
                  <a:srgbClr val="000000"/>
                </a:solidFill>
                <a:latin typeface="Calibri"/>
              </a:rPr>
              <a:t>2011/92/EU </a:t>
            </a:r>
            <a:r>
              <a:rPr b="0" lang="tr-TR" sz="700" spc="-1" strike="noStrike">
                <a:solidFill>
                  <a:srgbClr val="000000"/>
                </a:solidFill>
                <a:latin typeface="Calibri"/>
              </a:rPr>
              <a:t>sayılı Avrupa Parlamentosu ve Konseyi Direktifi, Avrupa Birliği Üye Devletlerinin, başka yasadışı davranışların yanı sıra, çocuk pornografisi edinimini ve bulundurulmasını suç sayması gerektiğini belirtir (5(2). madde). Ancak aynı belgede her bir Üye Devlete, söz konusu pornografik materyallerin yapımcıda yalnızca kendi kişisel kullanımı için bulunuyor olduğu durumlarda (materyalin üretilmesi amacıyla hiçbir pornografik materyal kullanılmamış olması ve bu fiilin söz konusu materyalin dağıtılması riski içermemesi kaydıyla) da bu suçlamanın geçerli olup olmayacağı konusunda bir takdir yetkisi tanınmaktadır.</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vrupa Birliği’nin tanıdığı bu seçenek, bir bilgisayar sisteminde veya </a:t>
            </a:r>
            <a:r>
              <a:rPr b="0" lang="tr-TR" sz="800" spc="-1" strike="noStrike">
                <a:solidFill>
                  <a:srgbClr val="000000"/>
                </a:solidFill>
                <a:latin typeface="Calibri"/>
                <a:ea typeface="Times New Roman"/>
              </a:rPr>
              <a:t>bilgisayar verileri depolama aygıtında çocuk pornografisi üretmeyi, sunmayı veya erişilebilir kılmayı, dağıtmayı veya iletmeyi, temin etmeyi veya bu materyalleri yalnızca bulundurmayı suç sayan Budapeşte Sözleşmesi’nin 9. maddesi ile tamamen uyumludur. Ancak “temin” veya “bulundurma” terimlerinin dahil edilmiş olması Sözleşme taraflarına çekince imkânı sağlamaktadır. </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ea typeface="Times New Roman"/>
              </a:rPr>
              <a:t>Bu seçenek Avrupa Konseyi’nin 2007 yılında imzaya açtığı Çocukların Korunmasına ilişkin Sözleşme (CETS 201) tarafından da desteklenmektedir. Adı geçen sözleşmenin amacı çocukların cinsel istismardan korunmasını amaçlayan ceza hukuku hükümlerinin Taraflar arasında uyumlu hale getirilmesidir. Başka hükümlerin yanı sıra 20. maddeye göre “</a:t>
            </a:r>
            <a:r>
              <a:rPr b="0" i="1" lang="tr-TR" sz="800" spc="-1" strike="noStrike">
                <a:solidFill>
                  <a:srgbClr val="000000"/>
                </a:solidFill>
                <a:latin typeface="Calibri"/>
                <a:ea typeface="Times New Roman"/>
              </a:rPr>
              <a:t>kendisi veya başka biri için çocuk pornografisi temin etmek</a:t>
            </a:r>
            <a:r>
              <a:rPr b="0" lang="tr-TR" sz="800" spc="-1" strike="noStrike">
                <a:solidFill>
                  <a:srgbClr val="000000"/>
                </a:solidFill>
                <a:latin typeface="Calibri"/>
                <a:ea typeface="Times New Roman"/>
              </a:rPr>
              <a:t>” ve “</a:t>
            </a:r>
            <a:r>
              <a:rPr b="0" i="1" lang="tr-TR" sz="800" spc="-1" strike="noStrike">
                <a:solidFill>
                  <a:srgbClr val="000000"/>
                </a:solidFill>
                <a:latin typeface="Calibri"/>
                <a:ea typeface="Times New Roman"/>
              </a:rPr>
              <a:t>çocuk pornografisi bulundurmak</a:t>
            </a:r>
            <a:r>
              <a:rPr b="0" lang="tr-TR" sz="800" spc="-1" strike="noStrike">
                <a:solidFill>
                  <a:srgbClr val="000000"/>
                </a:solidFill>
                <a:latin typeface="Calibri"/>
                <a:ea typeface="Times New Roman"/>
              </a:rPr>
              <a:t>” suç sayılmalıdır. </a:t>
            </a:r>
            <a:endParaRPr b="0" lang="en-US" sz="800" spc="-1" strike="noStrike">
              <a:solidFill>
                <a:srgbClr val="000000"/>
              </a:solidFill>
              <a:latin typeface="Calibri"/>
            </a:endParaRPr>
          </a:p>
        </p:txBody>
      </p:sp>
      <p:sp>
        <p:nvSpPr>
          <p:cNvPr id="6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84CF20-BF1C-46B3-8DBE-E227CC7C83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ve bir sonraki slayt 9. maddenin tam metnini göstermektedi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2. maddenin tam metnini göste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uç çoğu zaman bilgisayar sistemlerinin </a:t>
            </a:r>
            <a:r>
              <a:rPr b="0" i="1" lang="tr-TR" sz="1200" spc="-1" strike="noStrike">
                <a:solidFill>
                  <a:srgbClr val="000000"/>
                </a:solidFill>
                <a:latin typeface="Calibri"/>
              </a:rPr>
              <a:t>hacklenmesi </a:t>
            </a:r>
            <a:r>
              <a:rPr b="0" lang="tr-TR" sz="1200" spc="-1" strike="noStrike">
                <a:solidFill>
                  <a:srgbClr val="000000"/>
                </a:solidFill>
                <a:latin typeface="Calibri"/>
              </a:rPr>
              <a:t>olarak anılır ve en yaygın bilişim suçlarından birini oluşturur. Ancak </a:t>
            </a:r>
            <a:r>
              <a:rPr b="0" i="1" lang="tr-TR" sz="1200" spc="-1" strike="noStrike">
                <a:solidFill>
                  <a:srgbClr val="000000"/>
                </a:solidFill>
                <a:latin typeface="Calibri"/>
              </a:rPr>
              <a:t>hackleme</a:t>
            </a:r>
            <a:r>
              <a:rPr b="0" lang="tr-TR" sz="1200" spc="-1" strike="noStrike">
                <a:solidFill>
                  <a:srgbClr val="000000"/>
                </a:solidFill>
                <a:latin typeface="Calibri"/>
              </a:rPr>
              <a:t>’nin yanı sıra yasadışı erişim olarak sınıflandırılabilecek başka olgular da mevcuttur – esasen </a:t>
            </a:r>
            <a:r>
              <a:rPr b="0" i="1" lang="tr-TR" sz="1200" spc="-1" strike="noStrike">
                <a:solidFill>
                  <a:srgbClr val="000000"/>
                </a:solidFill>
                <a:latin typeface="Calibri"/>
              </a:rPr>
              <a:t>hacklemek </a:t>
            </a:r>
            <a:r>
              <a:rPr b="0" lang="tr-TR" sz="1200" spc="-1" strike="noStrike">
                <a:solidFill>
                  <a:srgbClr val="000000"/>
                </a:solidFill>
                <a:latin typeface="Calibri"/>
              </a:rPr>
              <a:t>genelde bir bilgisayar sitemine teknoloji araçları kullanılarak hukuka aykırı bir şekilde erişme eylemini tanımlamak amacıyla kullanılır. Fakat yasadışı erişim aynı zamanda, kullanılan teknolojiye veya hatta teknoloji kullanılıp kullanılmamasına dahi bakılmaksızın bir sisteme her türlü yetkisiz girişi kapsar. Örneğin fail tarafından hukuka aykırı bir şekilde elde edilmiş şifre de buna örnek teşkil edecektir. Bu kapsamda korunan menfaat bir bilgisayar sisteminin veya verisinin gizliliğidir. </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9. maddede tanımlanan davranışın “haklı” şekilde yapılmış olması olasıdır. 9. maddede tanımlanan davranış birtakım başkaca savunmalarla –örneğin pornografik materyalin sanatsal, tıbbi, bilimsel veya başkaca benzeri bir esası bulunması– açıklanabilir.</a:t>
            </a: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722FCE-9313-4EFE-A377-DF1E4FB418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 kapsamında suç teşkil eden davranışlardan bazılarını sıralamakta ve açıklamaktadır. Çocuk pornografisinin üretilmesi, sunulması ve erişilebilir hale getirilmesi de buna dahildir.</a:t>
            </a: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DC150B-DD04-48A2-A210-1A75841107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 kapsamında suç teşkil eden davranışlardan bazılarını sıralamakta ve açıklamaktadır. Çocuk pornografisinin dağıtılması, iletilmesi, temini ve bulundurulması da buna dahildir.</a:t>
            </a: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A43B56-7F3B-418E-A141-D514F4E90E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belirli bir materyalin pornografik nitelik taşıyıp taşımadığının saptanacağı kriterleri açıklamaktadır. Bu içerik müstehcenlik, genel ahlak vs. konusundaki ulusal standartlarla belirlenecekt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9. maddenin lafzı pornografik materyallerin görsel bir betimleme oluşturması gerektiğini ima etmekle birlikte, aynı zamanda bir bilgisayar verisi depolama aygıtında saklanan ve görsel bir imgeye dönüştürülebilen verileri kapsama dahil etme niyeti taşımaktadır. </a:t>
            </a: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707FBB-E7A4-4984-9996-FF209B4C1A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belirli bir materyalin “cinsel içerikli eylem” betimleyip betimlemediğinin tespiti açısından asgari kriterleri ortaya koymaktadır. Taraflar daha geniş bir tanım kullanmak konusunda özgürdür. Betimlenen cinsel içerikli eylemin gerçek veya taklit olması önem taşımamaktadır. </a:t>
            </a: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DC0309-F045-4871-BAA9-ECE643314E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EE899-3D40-42DA-997D-F184CCF8E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D02B2-250F-4D39-B29C-2FFB6BB2A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C3ED6-DDDE-4D97-9A0B-65D4AAEB2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DF54C-B663-4505-9F67-C8225874D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BCA6E-0825-4239-8AF4-4BB22C00B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66382-79C9-4B93-AFFC-1D61F4690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71A53-8151-42B3-A2C7-D884744BC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AF29A-8B96-4A4D-993C-61553B624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D2516-F417-4BF6-AE70-A842E1F15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AD609-215E-4FBA-B644-C6C11800C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B0E75-F436-4DC5-BAA2-8B3C96E86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9BA13-088B-4336-88EE-22F0B4FD9A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E06B02-B510-4002-BA0A-1E9297DB4B84}" type="datetime">
              <a:rPr b="0" lang="en-US" sz="1200" spc="-1" strike="noStrike">
                <a:solidFill>
                  <a:srgbClr val="898989"/>
                </a:solidFill>
                <a:latin typeface="Calibri"/>
                <a:ea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5E6CC2-2A31-4A43-9E78-1D438F630F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400" spc="-1" strike="noStrike">
                <a:solidFill>
                  <a:srgbClr val="000000"/>
                </a:solidFill>
                <a:latin typeface="Calibri"/>
                <a:ea typeface="ＭＳ Ｐゴシック"/>
              </a:rPr>
              <a:t>Hakim ve Savcılar için Siber Suçlar Konusuna Giriş Eğitim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898989"/>
                </a:solidFill>
                <a:latin typeface="Calibri"/>
              </a:rPr>
              <a:t>Oturum 1.2.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898989"/>
                </a:solidFill>
                <a:latin typeface="Calibri"/>
              </a:rPr>
              <a:t>Budapeşte Sözleşmesi kapsamındaki Maddi Ceza Hukuku hükümleri</a:t>
            </a:r>
            <a:endParaRPr b="0" lang="en-US" sz="3200" spc="-1" strike="noStrike">
              <a:solidFill>
                <a:srgbClr val="000000"/>
              </a:solidFill>
              <a:latin typeface="Calibri"/>
            </a:endParaRPr>
          </a:p>
        </p:txBody>
      </p:sp>
      <p:sp>
        <p:nvSpPr>
          <p:cNvPr id="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BF24A90-40C3-4BA8-90C7-B04C74E587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 name="Rectangle 5"/>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 name="Picture 4" descr=""/>
          <p:cNvPicPr/>
          <p:nvPr/>
        </p:nvPicPr>
        <p:blipFill>
          <a:blip r:embed="rId1"/>
          <a:stretch/>
        </p:blipFill>
        <p:spPr>
          <a:xfrm>
            <a:off x="-9360" y="-22320"/>
            <a:ext cx="1322280" cy="1079640"/>
          </a:xfrm>
          <a:prstGeom prst="rect">
            <a:avLst/>
          </a:prstGeom>
          <a:ln w="0">
            <a:noFill/>
          </a:ln>
        </p:spPr>
      </p:pic>
      <p:sp>
        <p:nvSpPr>
          <p:cNvPr id="53" name="TextBox 13"/>
          <p:cNvSpPr/>
          <p:nvPr/>
        </p:nvSpPr>
        <p:spPr>
          <a:xfrm>
            <a:off x="1258920" y="-33480"/>
            <a:ext cx="3817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ff"/>
                </a:solidFill>
                <a:latin typeface="Arial Narrow"/>
              </a:rPr>
              <a:t>iPROCEED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Calibri"/>
              </a:rPr>
              <a:t>Project on targeting crime proceeds on the Internet in South-eastern Europe and Turkey</a:t>
            </a:r>
            <a:endParaRPr b="0" lang="en-US" sz="1200" spc="-1" strike="noStrike">
              <a:solidFill>
                <a:srgbClr val="000000"/>
              </a:solidFill>
              <a:latin typeface="Arial"/>
            </a:endParaRPr>
          </a:p>
        </p:txBody>
      </p:sp>
      <p:pic>
        <p:nvPicPr>
          <p:cNvPr id="54"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a:t>
            </a:r>
            <a:r>
              <a:rPr b="0" lang="tr-TR" sz="4400" spc="-1" strike="noStrike">
                <a:solidFill>
                  <a:srgbClr val="000000"/>
                </a:solidFill>
                <a:latin typeface="Calibri"/>
              </a:rPr>
              <a:t> – </a:t>
            </a:r>
            <a:r>
              <a:rPr b="1" lang="tr-TR" sz="4400" spc="-1" strike="noStrike">
                <a:solidFill>
                  <a:srgbClr val="000000"/>
                </a:solidFill>
                <a:latin typeface="Calibri"/>
              </a:rPr>
              <a:t>Yasadışı Erişim</a:t>
            </a:r>
            <a:endParaRPr b="0" lang="en-US" sz="4400" spc="-1" strike="noStrike">
              <a:solidFill>
                <a:srgbClr val="000000"/>
              </a:solidFill>
              <a:latin typeface="Calibri"/>
            </a:endParaRPr>
          </a:p>
        </p:txBody>
      </p:sp>
      <p:sp>
        <p:nvSpPr>
          <p:cNvPr id="80" name="PlaceHolder 2"/>
          <p:cNvSpPr>
            <a:spLocks noGrp="1"/>
          </p:cNvSpPr>
          <p:nvPr>
            <p:ph/>
          </p:nvPr>
        </p:nvSpPr>
        <p:spPr>
          <a:xfrm>
            <a:off x="457200" y="1866600"/>
            <a:ext cx="8229600" cy="397188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r bilgisayar sisteminin tamamına veya bir kısmına haksız yere gerçekleştirilen </a:t>
            </a:r>
            <a:r>
              <a:rPr b="1" lang="tr-TR" sz="4000" spc="-1" strike="noStrike">
                <a:solidFill>
                  <a:srgbClr val="ff0000"/>
                </a:solidFill>
                <a:latin typeface="Calibri"/>
              </a:rPr>
              <a:t>erişimi</a:t>
            </a:r>
            <a:r>
              <a:rPr b="0" lang="tr-TR" sz="2800" spc="-1" strike="noStrike">
                <a:solidFill>
                  <a:srgbClr val="000000"/>
                </a:solidFill>
                <a:latin typeface="Calibri"/>
              </a:rPr>
              <a:t>, kasten yapıldığı zaman, kendi iç hukuku kapsamında cezai bir suç olarak tanımlanması için gerekli olabilecek yasama tedbirlerini ve diğer tedbirleri kabul edecektir. Taraflardan biri, söz konusu suçun, bilgisayar verilerini elde etmek veya başka bir sahtekâr niyetle veya bir bilgisayar sistemine bağlı başka bir bilgisayar sistemiyle ilişkili olarak güvenlik tedbirlerinin ihlal edilmesi suretiyle işlenmiş olmasını şart koşabilir.</a:t>
            </a:r>
            <a:endParaRPr b="0" lang="en-US" sz="2800" spc="-1" strike="noStrike">
              <a:solidFill>
                <a:srgbClr val="000000"/>
              </a:solidFill>
              <a:latin typeface="Calibri"/>
            </a:endParaRPr>
          </a:p>
        </p:txBody>
      </p:sp>
      <p:sp>
        <p:nvSpPr>
          <p:cNvPr id="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55CF07F-133A-4399-91E1-3D2FFCDE9C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4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C12006B-105C-4EBA-852B-D1ECA997F1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
          <p:cNvSpPr txBox="1"/>
          <p:nvPr/>
        </p:nvSpPr>
        <p:spPr>
          <a:xfrm>
            <a:off x="254160" y="1158840"/>
            <a:ext cx="8594640" cy="4525920"/>
          </a:xfrm>
          <a:prstGeom prst="rect">
            <a:avLst/>
          </a:prstGeom>
          <a:noFill/>
          <a:ln w="0">
            <a:noFill/>
          </a:ln>
        </p:spPr>
        <p:txBody>
          <a:bodyPr anchor="t">
            <a:normAutofit fontScale="82000"/>
          </a:bodyPr>
          <a:p>
            <a:pPr marL="374760" indent="-37476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1. fıkrada belirtilen “çocuk pornografisi” terimi aşağıda belirtilenleri görsel anlamda </a:t>
            </a:r>
            <a:r>
              <a:rPr b="1" lang="tr-TR" sz="2800" spc="-1" strike="noStrike">
                <a:solidFill>
                  <a:srgbClr val="ff0000"/>
                </a:solidFill>
                <a:latin typeface="Calibri"/>
              </a:rPr>
              <a:t>tasvir eden </a:t>
            </a:r>
            <a:r>
              <a:rPr b="0" lang="tr-TR" sz="2400" spc="-1" strike="noStrike">
                <a:solidFill>
                  <a:srgbClr val="000000"/>
                </a:solidFill>
                <a:latin typeface="Calibri"/>
              </a:rPr>
              <a:t>pornografik malzemeleri içerecektir:</a:t>
            </a:r>
            <a:endParaRPr b="0" lang="en-US" sz="2400" spc="-1" strike="noStrike">
              <a:solidFill>
                <a:srgbClr val="000000"/>
              </a:solidFill>
              <a:latin typeface="Calibri"/>
            </a:endParaRPr>
          </a:p>
          <a:p>
            <a:pPr lvl="1" marL="702720" indent="-3747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ff0000"/>
                </a:solidFill>
                <a:latin typeface="Calibri"/>
              </a:rPr>
              <a:t>reşit olmayan şahsın</a:t>
            </a:r>
            <a:r>
              <a:rPr b="0" lang="tr-TR" sz="2000" spc="-1" strike="noStrike">
                <a:solidFill>
                  <a:srgbClr val="000000"/>
                </a:solidFill>
                <a:latin typeface="Calibri"/>
              </a:rPr>
              <a:t> cinsel içerikli eylemlerde bulunması;</a:t>
            </a:r>
            <a:endParaRPr b="0" lang="en-US" sz="2000" spc="-1" strike="noStrike">
              <a:solidFill>
                <a:srgbClr val="000000"/>
              </a:solidFill>
              <a:latin typeface="Calibri"/>
            </a:endParaRPr>
          </a:p>
          <a:p>
            <a:pPr lvl="1" marL="702720" indent="-3747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ff0000"/>
                </a:solidFill>
                <a:latin typeface="Calibri"/>
              </a:rPr>
              <a:t>reşit olmayan şahıs görüntüsüne haiz şahsın </a:t>
            </a:r>
            <a:r>
              <a:rPr b="0" lang="tr-TR" sz="2000" spc="-1" strike="noStrike">
                <a:solidFill>
                  <a:srgbClr val="000000"/>
                </a:solidFill>
                <a:latin typeface="Calibri"/>
              </a:rPr>
              <a:t>cinsel içerikli eylemlerde bulunması;</a:t>
            </a:r>
            <a:endParaRPr b="0" lang="en-US" sz="2000" spc="-1" strike="noStrike">
              <a:solidFill>
                <a:srgbClr val="000000"/>
              </a:solidFill>
              <a:latin typeface="Calibri"/>
            </a:endParaRPr>
          </a:p>
          <a:p>
            <a:pPr lvl="1" marL="702720" indent="-3747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ff0000"/>
                </a:solidFill>
                <a:latin typeface="Calibri"/>
              </a:rPr>
              <a:t>reşit olmayan şahsın</a:t>
            </a:r>
            <a:r>
              <a:rPr b="0" lang="tr-TR" sz="2000" spc="-1" strike="noStrike">
                <a:solidFill>
                  <a:srgbClr val="000000"/>
                </a:solidFill>
                <a:latin typeface="Calibri"/>
              </a:rPr>
              <a:t> cinsel içerikli eylemlerde bulunmasını </a:t>
            </a:r>
            <a:r>
              <a:rPr b="1" lang="tr-TR" sz="2400" spc="-1" strike="noStrike">
                <a:solidFill>
                  <a:srgbClr val="ff0000"/>
                </a:solidFill>
                <a:latin typeface="Calibri"/>
              </a:rPr>
              <a:t>betimleyen gerçekçi görüntüler</a:t>
            </a:r>
            <a:r>
              <a:rPr b="0" lang="tr-TR" sz="2000" spc="-1" strike="noStrike">
                <a:solidFill>
                  <a:srgbClr val="000000"/>
                </a:solidFill>
                <a:latin typeface="Calibri"/>
              </a:rPr>
              <a:t>;</a:t>
            </a:r>
            <a:endParaRPr b="0" lang="en-US" sz="2000" spc="-1" strike="noStrike">
              <a:solidFill>
                <a:srgbClr val="000000"/>
              </a:solidFill>
              <a:latin typeface="Calibri"/>
            </a:endParaRPr>
          </a:p>
          <a:p>
            <a:pPr marL="374760" indent="-3747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2. fıkrada belirtilen “reşit olmayan” terimi 18 yaşında altındaki tüm şahısları kapsar. Bununla birlikte, Taraflar 16’dan küçük olmamak kaydıyla, daha düşük bir yaş sınırı getirebilir. </a:t>
            </a:r>
            <a:endParaRPr b="0" lang="en-US" sz="2400" spc="-1" strike="noStrike">
              <a:solidFill>
                <a:srgbClr val="000000"/>
              </a:solidFill>
              <a:latin typeface="Calibri"/>
            </a:endParaRPr>
          </a:p>
          <a:p>
            <a:pPr marL="374760" indent="-3747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1. fıkranın (d) ve (e) bentleri ile 2. fıkranın (b) ve (c) bentlerinin tamamını veya bir kısmını uygulamaya koymama hakkını saklı tutabilirl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asvirler</a:t>
            </a:r>
            <a:endParaRPr b="0" lang="en-US" sz="4400" spc="-1" strike="noStrike">
              <a:solidFill>
                <a:srgbClr val="000000"/>
              </a:solidFill>
              <a:latin typeface="Calibri"/>
            </a:endParaRPr>
          </a:p>
        </p:txBody>
      </p:sp>
      <p:sp>
        <p:nvSpPr>
          <p:cNvPr id="356" name=""/>
          <p:cNvSpPr txBox="1"/>
          <p:nvPr/>
        </p:nvSpPr>
        <p:spPr>
          <a:xfrm>
            <a:off x="279360" y="167112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Şu tasvirler kapsam dahiline girmektedir:</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Gerçek bir çocuğun cinsel istismarı</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Reşit olmayan bir şahısmış gibi görünen bir kişiyi cinsel içerikli eylem içerisinde betimleyen görseller</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a:t>
            </a:r>
            <a:r>
              <a:rPr b="0" lang="tr-TR" sz="2600" spc="-1" strike="noStrike">
                <a:solidFill>
                  <a:srgbClr val="000000"/>
                </a:solidFill>
                <a:latin typeface="Calibri"/>
              </a:rPr>
              <a:t>Gerçekçi” olmakla birlikte, cinsel içerikli eylemde bulunan gerçek bir çocuk içermeyen görseller; gerçek şahısların şekil değiştirmiş görselleri gibi üzerinde oynanmış veya tamamen bilgisayar tarafından yaratılmış resimler de buna dahildir.</a:t>
            </a:r>
            <a:endParaRPr b="0" lang="en-US" sz="2600" spc="-1" strike="noStrike">
              <a:solidFill>
                <a:srgbClr val="000000"/>
              </a:solidFill>
              <a:latin typeface="Calibri"/>
            </a:endParaRPr>
          </a:p>
        </p:txBody>
      </p:sp>
      <p:sp>
        <p:nvSpPr>
          <p:cNvPr id="3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9D4A790-0907-439E-8B3C-55503DFCCD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D459123-5513-4045-B383-5BEAA29ED3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0" name=""/>
          <p:cNvSpPr txBox="1"/>
          <p:nvPr/>
        </p:nvSpPr>
        <p:spPr>
          <a:xfrm>
            <a:off x="457200" y="1224000"/>
            <a:ext cx="8229600" cy="4525920"/>
          </a:xfrm>
          <a:prstGeom prst="rect">
            <a:avLst/>
          </a:prstGeom>
          <a:noFill/>
          <a:ln w="0">
            <a:noFill/>
          </a:ln>
        </p:spPr>
        <p:txBody>
          <a:bodyPr anchor="t">
            <a:normAutofit fontScale="87000"/>
          </a:bodyPr>
          <a:p>
            <a:pPr marL="397440" indent="-39744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1. fıkrada belirtilen “çocuk pornografisi” terimi aşağıda belirtilenleri görsel anlamda tasvir eden pornografik malzemeleri içerecektir:</a:t>
            </a:r>
            <a:endParaRPr b="0" lang="en-US" sz="24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ıs görüntüsüne haiz şahsın cinsel içerikli eylemlerde bulunması;</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nı betimleyen gerçekçi görüntüler;</a:t>
            </a:r>
            <a:endParaRPr b="0" lang="en-US" sz="2000" spc="-1" strike="noStrike">
              <a:solidFill>
                <a:srgbClr val="000000"/>
              </a:solidFill>
              <a:latin typeface="Calibri"/>
            </a:endParaRPr>
          </a:p>
          <a:p>
            <a:pPr marL="397440" indent="-3974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2. fıkrada belirtilen “</a:t>
            </a:r>
            <a:r>
              <a:rPr b="1" lang="tr-TR" sz="2800" spc="-1" strike="noStrike">
                <a:solidFill>
                  <a:srgbClr val="ff0000"/>
                </a:solidFill>
                <a:latin typeface="Calibri"/>
              </a:rPr>
              <a:t>reşit olmayan</a:t>
            </a:r>
            <a:r>
              <a:rPr b="0" lang="tr-TR" sz="2400" spc="-1" strike="noStrike">
                <a:solidFill>
                  <a:srgbClr val="000000"/>
                </a:solidFill>
                <a:latin typeface="Calibri"/>
              </a:rPr>
              <a:t>” terimi 18 yaşında altındaki tüm şahısları kapsar. Bununla birlikte, Taraflar 16’dan küçük olmamak kaydıyla, daha düşük bir yaş sınırı getirebilir. </a:t>
            </a:r>
            <a:endParaRPr b="0" lang="en-US" sz="2400" spc="-1" strike="noStrike">
              <a:solidFill>
                <a:srgbClr val="000000"/>
              </a:solidFill>
              <a:latin typeface="Calibri"/>
            </a:endParaRPr>
          </a:p>
          <a:p>
            <a:pPr marL="397440" indent="-3974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1. fıkranın (d) ve (e) bentleri ile 2. fıkranın (b) ve (c) bentlerinin tamamını veya bir kısmını uygulamaya koymama hakkını saklı tutabilirl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Küçük (Reşit Olmayan Şahıs)</a:t>
            </a:r>
            <a:endParaRPr b="0" lang="en-US" sz="4400" spc="-1" strike="noStrike">
              <a:solidFill>
                <a:srgbClr val="000000"/>
              </a:solidFill>
              <a:latin typeface="Calibri"/>
            </a:endParaRPr>
          </a:p>
        </p:txBody>
      </p:sp>
      <p:sp>
        <p:nvSpPr>
          <p:cNvPr id="362" name=""/>
          <p:cNvSpPr txBox="1"/>
          <p:nvPr/>
        </p:nvSpPr>
        <p:spPr>
          <a:xfrm>
            <a:off x="279360" y="1528920"/>
            <a:ext cx="8547120" cy="4525920"/>
          </a:xfrm>
          <a:prstGeom prst="rect">
            <a:avLst/>
          </a:prstGeom>
          <a:noFill/>
          <a:ln w="0">
            <a:noFill/>
          </a:ln>
        </p:spPr>
        <p:txBody>
          <a:bodyPr anchor="t">
            <a:normAutofit fontScale="87000"/>
          </a:bodyPr>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M Çocuk Hakları Sözleşmesi’nin 1. maddesindeki çocuk tanımıyla uyumludur.</a:t>
            </a:r>
            <a:endParaRPr b="0" lang="en-US" sz="2800" spc="-1" strike="noStrike">
              <a:solidFill>
                <a:srgbClr val="000000"/>
              </a:solidFill>
              <a:latin typeface="Calibri"/>
            </a:endParaRPr>
          </a:p>
          <a:p>
            <a:pPr marL="298440" indent="-2984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Küçük terimi genel olarak 18 yaşından küçük olan herkesi kapsar. </a:t>
            </a:r>
            <a:endParaRPr b="0" lang="en-US" sz="2800" spc="-1" strike="noStrike">
              <a:solidFill>
                <a:srgbClr val="000000"/>
              </a:solidFill>
              <a:latin typeface="Calibri"/>
            </a:endParaRPr>
          </a:p>
          <a:p>
            <a:pPr marL="298440" indent="-2984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 16’dan küçük olmamak kaydıyla daha düşük bir yaş sınırlaması getirebilir.</a:t>
            </a:r>
            <a:endParaRPr b="0" lang="en-US" sz="2800" spc="-1" strike="noStrike">
              <a:solidFill>
                <a:srgbClr val="000000"/>
              </a:solidFill>
              <a:latin typeface="Calibri"/>
            </a:endParaRPr>
          </a:p>
          <a:p>
            <a:pPr marL="298440" indent="-2984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urada yaş, cinsel ilişki bakımından rıza yaşına değil, (gerçek veya kurmaca) çocukların cinsel obje olarak kullanımına atıfta bulunmaktadır. </a:t>
            </a:r>
            <a:endParaRPr b="0" lang="en-US" sz="2800" spc="-1" strike="noStrike">
              <a:solidFill>
                <a:srgbClr val="000000"/>
              </a:solidFill>
              <a:latin typeface="Calibri"/>
            </a:endParaRPr>
          </a:p>
        </p:txBody>
      </p:sp>
      <p:sp>
        <p:nvSpPr>
          <p:cNvPr id="3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81A9247-10BA-44F9-A419-E067C2BEC6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Telif hakkı ve bununla bağlantılı hakların ihlaline ilişkin suçlar</a:t>
            </a:r>
            <a:endParaRPr b="0" lang="en-US" sz="3200" spc="-1" strike="noStrike">
              <a:solidFill>
                <a:srgbClr val="000000"/>
              </a:solidFill>
              <a:latin typeface="Calibri"/>
            </a:endParaRPr>
          </a:p>
        </p:txBody>
      </p:sp>
      <p:sp>
        <p:nvSpPr>
          <p:cNvPr id="3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6497A0-C2D2-46B0-81D4-347579D523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196920" y="519120"/>
            <a:ext cx="8750160" cy="3968640"/>
          </a:xfrm>
          <a:prstGeom prst="rect">
            <a:avLst/>
          </a:prstGeom>
          <a:noFill/>
          <a:ln w="38160">
            <a:solidFill>
              <a:srgbClr val="ff0000"/>
            </a:solidFill>
            <a:miter/>
          </a:ln>
        </p:spPr>
        <p:txBody>
          <a:bodyPr anchor="t">
            <a:normAutofit fontScale="70000"/>
          </a:bodyPr>
          <a:p>
            <a:pPr indent="0" algn="ctr">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Fikri Mülkiyet Hakları</a:t>
            </a: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Madde 10 – Budapeşte Sözleşmesi)</a:t>
            </a:r>
            <a:r>
              <a:rPr b="0" lang="en-GB" sz="2800" spc="-1" strike="noStrike">
                <a:solidFill>
                  <a:srgbClr val="000000"/>
                </a:solidFill>
                <a:latin typeface="Calibri"/>
              </a:rPr>
              <a:t> </a:t>
            </a:r>
            <a:endParaRPr b="0" lang="en-US" sz="2800" spc="-1" strike="noStrike">
              <a:solidFill>
                <a:srgbClr val="000000"/>
              </a:solidFill>
              <a:latin typeface="Calibri"/>
            </a:endParaRPr>
          </a:p>
          <a:p>
            <a:pPr indent="0" algn="ctr">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 </a:t>
            </a:r>
            <a:r>
              <a:rPr b="0" i="1" lang="en-GB" sz="2400" spc="-1" strike="noStrike">
                <a:solidFill>
                  <a:srgbClr val="000000"/>
                </a:solidFill>
                <a:latin typeface="Calibri"/>
              </a:rPr>
              <a:t>bu konuda yeni bir düzenleme getirmez</a:t>
            </a: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 </a:t>
            </a:r>
            <a:r>
              <a:rPr b="0" i="1" lang="en-GB" sz="2400" spc="-1" strike="noStrike">
                <a:solidFill>
                  <a:srgbClr val="000000"/>
                </a:solidFill>
                <a:latin typeface="Calibri"/>
              </a:rPr>
              <a:t>Budapeşte Sözleşmesi’nin amacı</a:t>
            </a:r>
            <a:endParaRPr b="0" lang="en-US" sz="2400" spc="-1" strike="noStrike">
              <a:solidFill>
                <a:srgbClr val="000000"/>
              </a:solidFill>
              <a:latin typeface="Calibri"/>
            </a:endParaRPr>
          </a:p>
          <a:p>
            <a:pPr lvl="1" marL="519840" indent="-19980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000" spc="-1" strike="noStrike">
                <a:solidFill>
                  <a:srgbClr val="000000"/>
                </a:solidFill>
                <a:latin typeface="Calibri"/>
              </a:rPr>
              <a:t>telif hakkı konusundaki önceki kuralları tatbik etmek: gerçek dünyayla ilgili olarak uyulan kurallara internet ortamında da riayet edilmelidir</a:t>
            </a:r>
            <a:endParaRPr b="0" lang="en-US" sz="2000" spc="-1" strike="noStrike">
              <a:solidFill>
                <a:srgbClr val="000000"/>
              </a:solidFill>
              <a:latin typeface="Calibri"/>
            </a:endParaRPr>
          </a:p>
          <a:p>
            <a:pPr lvl="1" marL="519840" indent="-19980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000" spc="-1" strike="noStrike">
                <a:solidFill>
                  <a:srgbClr val="000000"/>
                </a:solidFill>
                <a:latin typeface="Calibri"/>
              </a:rPr>
              <a:t>telif hakkının internette veya bir bilgisayar sistemi aracılığıyla ihlali gerçek dünyada işlenmiş bir ihlal gibi cezalandırılmalıdır</a:t>
            </a:r>
            <a:endParaRPr b="0" lang="en-US" sz="2000" spc="-1" strike="noStrike">
              <a:solidFill>
                <a:srgbClr val="000000"/>
              </a:solidFill>
              <a:latin typeface="Calibri"/>
            </a:endParaRPr>
          </a:p>
          <a:p>
            <a:pPr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en-GB" sz="2400" spc="-1" strike="noStrike">
                <a:solidFill>
                  <a:srgbClr val="000000"/>
                </a:solidFill>
                <a:latin typeface="Calibri"/>
              </a:rPr>
              <a:t>Budapeşte Sözleşmesi mevcut uluslararası sözleşmelere atıfta bulunur:</a:t>
            </a:r>
            <a:endParaRPr b="0" lang="en-US" sz="2400" spc="-1" strike="noStrike">
              <a:solidFill>
                <a:srgbClr val="000000"/>
              </a:solidFill>
              <a:latin typeface="Calibri"/>
            </a:endParaRPr>
          </a:p>
          <a:p>
            <a:pPr lvl="1" marL="519840" indent="-19980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4 Temmuz 1971 tarihli Paris Sözleşmesi</a:t>
            </a:r>
            <a:endParaRPr b="0" lang="en-US" sz="2000" spc="-1" strike="noStrike">
              <a:solidFill>
                <a:srgbClr val="000000"/>
              </a:solidFill>
              <a:latin typeface="Calibri"/>
            </a:endParaRPr>
          </a:p>
          <a:p>
            <a:pPr lvl="1" marL="519840" indent="-19980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Bern Sözleşmesi</a:t>
            </a:r>
            <a:endParaRPr b="0" lang="en-US" sz="2000" spc="-1" strike="noStrike">
              <a:solidFill>
                <a:srgbClr val="000000"/>
              </a:solidFill>
              <a:latin typeface="Calibri"/>
            </a:endParaRPr>
          </a:p>
          <a:p>
            <a:pPr lvl="1" marL="519840" indent="-19980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Dünya Fikri Mülkiyet Hakları Örgütü (WIPO) sözleşmeleri</a:t>
            </a:r>
            <a:endParaRPr b="0" lang="en-US" sz="2000" spc="-1" strike="noStrike">
              <a:solidFill>
                <a:srgbClr val="000000"/>
              </a:solidFill>
              <a:latin typeface="Calibri"/>
            </a:endParaRPr>
          </a:p>
        </p:txBody>
      </p:sp>
      <p:sp>
        <p:nvSpPr>
          <p:cNvPr id="3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5A2444-68F9-4C90-9F14-0590F732E6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Madde 10 – Telif Hakkı ve Bununla Bağlantılı Hakların İhlaline ilişkin Suçlar</a:t>
            </a:r>
            <a:endParaRPr b="0" lang="en-US" sz="2800" spc="-1" strike="noStrike">
              <a:solidFill>
                <a:srgbClr val="000000"/>
              </a:solidFill>
              <a:latin typeface="Calibri"/>
            </a:endParaRPr>
          </a:p>
        </p:txBody>
      </p:sp>
      <p:sp>
        <p:nvSpPr>
          <p:cNvPr id="369" name="PlaceHolder 2"/>
          <p:cNvSpPr>
            <a:spLocks noGrp="1"/>
          </p:cNvSpPr>
          <p:nvPr>
            <p:ph/>
          </p:nvPr>
        </p:nvSpPr>
        <p:spPr>
          <a:xfrm>
            <a:off x="457200" y="1633320"/>
            <a:ext cx="8229600" cy="4825800"/>
          </a:xfrm>
          <a:prstGeom prst="rect">
            <a:avLst/>
          </a:prstGeom>
          <a:noFill/>
          <a:ln w="0">
            <a:noFill/>
          </a:ln>
        </p:spPr>
        <p:txBody>
          <a:bodyPr anchor="t">
            <a:normAutofit/>
          </a:bodyPr>
          <a:p>
            <a:pPr marL="514440" indent="-514440" algn="just">
              <a:lnSpc>
                <a:spcPct val="90000"/>
              </a:lnSpc>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Taraflardan her biri, Edebiyat ve Sanat Eserlerinin Korunmasına ilişkin Bern Sözleşmesi’ni tadil eden 24 Temmuz 1971 tarihli Paris Sözleşmesi, Ticaretle Bağlantılı Fikri Mülkiyet Hakları Sözleşmesi ve WIPO (Dünya Fikri Mülkiyet Örgütü) Telif Hakları Sözleşmesi kapsamında üstlendiği yükümlülükler çerçevesinde, bu gibi sözleşmelerce tanınan her tür manevi haklar hariç olmak üzere, ilgili Tarafın ulusal mevzuatında tanımlandığı şekliyle, telif haklarının ihlalinin kasıtlı olarak, ticari ölçekte ve bir bilgisayar sistemi aracılığıyla gerçekleştirilmesinin kendi iç hukukunda cezai suç olarak tanımlanması için gerekli olabilecek yasama tedbirlerini ve diğer tedbirleri kabul edecektir. </a:t>
            </a:r>
            <a:endParaRPr b="0" lang="en-US" sz="2600" spc="-1" strike="noStrike">
              <a:solidFill>
                <a:srgbClr val="000000"/>
              </a:solidFill>
              <a:latin typeface="Calibri"/>
            </a:endParaRPr>
          </a:p>
        </p:txBody>
      </p:sp>
      <p:sp>
        <p:nvSpPr>
          <p:cNvPr id="3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670D99-D244-42B0-9B47-E4AA493505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Madde 10 – Telif Hakkı ve Bununla Bağlantılı Hakların İhlaline ilişkin Suçlar</a:t>
            </a:r>
            <a:endParaRPr b="0" lang="en-US" sz="2800" spc="-1" strike="noStrike">
              <a:solidFill>
                <a:srgbClr val="000000"/>
              </a:solidFill>
              <a:latin typeface="Calibri"/>
            </a:endParaRPr>
          </a:p>
        </p:txBody>
      </p:sp>
      <p:sp>
        <p:nvSpPr>
          <p:cNvPr id="372" name="PlaceHolder 2"/>
          <p:cNvSpPr>
            <a:spLocks noGrp="1"/>
          </p:cNvSpPr>
          <p:nvPr>
            <p:ph/>
          </p:nvPr>
        </p:nvSpPr>
        <p:spPr>
          <a:xfrm>
            <a:off x="457200" y="1501920"/>
            <a:ext cx="8229600" cy="4525920"/>
          </a:xfrm>
          <a:prstGeom prst="rect">
            <a:avLst/>
          </a:prstGeom>
          <a:noFill/>
          <a:ln w="0">
            <a:noFill/>
          </a:ln>
        </p:spPr>
        <p:txBody>
          <a:bodyPr anchor="t">
            <a:normAutofit fontScale="94000"/>
          </a:bodyPr>
          <a:p>
            <a:pPr marL="483480" indent="-483480" algn="just">
              <a:lnSpc>
                <a:spcPct val="90000"/>
              </a:lnSpc>
              <a:spcBef>
                <a:spcPts val="64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araflardan her biri, İcracı Sanatçılar, Fonogram Yapımcıları ve Yayın Kuruluşlarının Korunması hakkındaki Uluslararası Sözleşme (Roma Sözleşmesi), Ticaretle Bağlantılı Fikri Mülkiyet Hakları Sözleşmesi ve </a:t>
            </a:r>
            <a:r>
              <a:rPr b="0" lang="tr-TR" sz="2600" spc="-1" strike="noStrike">
                <a:solidFill>
                  <a:srgbClr val="000000"/>
                </a:solidFill>
                <a:latin typeface="Calibri"/>
              </a:rPr>
              <a:t>WIPO (Dünya Fikri Mülkiyet Örgütü) İcracı Sanatçılar ve Fonogramlar Sözleşmesi kapsamında üstlendiği yükümlülükler çerçevesinde, bu gibi sözleşmelerce tanınan her türlü manevi haklar hariç olmak üzere, ilgili Tarafın ulusal mevzuatında tanımlandığı şekliyle, bağlantılı hakların ihlalinin kasıtlı olarak, ticari ölçekte ve bir bilgisayar sistemi aracılığıyla gerçekleştirilmesinin kendi iç hukukunda cezai suç olarak tanımlanması için gerekli olabilecek yasama tedbirlerini ve diğer tedbirleri kabul edecektir. </a:t>
            </a:r>
            <a:endParaRPr b="0" lang="en-US" sz="2600" spc="-1" strike="noStrike">
              <a:solidFill>
                <a:srgbClr val="000000"/>
              </a:solidFill>
              <a:latin typeface="Calibri"/>
            </a:endParaRPr>
          </a:p>
        </p:txBody>
      </p:sp>
      <p:sp>
        <p:nvSpPr>
          <p:cNvPr id="3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3CE668-CFF2-4253-83CA-1A02439819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Madde 10 – Telif Hakkı ve Bununla Bağlantılı Hakların İhlaline ilişkin Suçlar</a:t>
            </a:r>
            <a:endParaRPr b="0" lang="en-US" sz="2800" spc="-1" strike="noStrike">
              <a:solidFill>
                <a:srgbClr val="000000"/>
              </a:solidFill>
              <a:latin typeface="Calibri"/>
            </a:endParaRPr>
          </a:p>
        </p:txBody>
      </p:sp>
      <p:sp>
        <p:nvSpPr>
          <p:cNvPr id="375" name="PlaceHolder 2"/>
          <p:cNvSpPr>
            <a:spLocks noGrp="1"/>
          </p:cNvSpPr>
          <p:nvPr>
            <p:ph/>
          </p:nvPr>
        </p:nvSpPr>
        <p:spPr>
          <a:xfrm>
            <a:off x="457200" y="2063880"/>
            <a:ext cx="8229600" cy="3309840"/>
          </a:xfrm>
          <a:prstGeom prst="rect">
            <a:avLst/>
          </a:prstGeom>
          <a:noFill/>
          <a:ln w="0">
            <a:noFill/>
          </a:ln>
        </p:spPr>
        <p:txBody>
          <a:bodyPr anchor="t">
            <a:normAutofit/>
          </a:bodyPr>
          <a:p>
            <a:pPr marL="514440" indent="-514440" algn="just">
              <a:lnSpc>
                <a:spcPct val="90000"/>
              </a:lnSpc>
              <a:spcBef>
                <a:spcPts val="64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Taraflardan biri, başka etkili hukuk yollarının mevcut olması ve bu tür bir çekincenin ilgili Tarafın işbu maddenin 1. ve 2. fıkralarında atıfta bulunulan uluslararası belgelerde belirtilen uluslararası yükümlülüklerine halel getirmemesi şartıyla, sınırlı şartlar dahilinde işbu maddenin 1. ve 2. fıkralarında öngörülen cezai sorumluluğu tahmil etmeme hakkını saklı tutabilir. </a:t>
            </a:r>
            <a:endParaRPr b="0" lang="en-US" sz="2600" spc="-1" strike="noStrike">
              <a:solidFill>
                <a:srgbClr val="000000"/>
              </a:solidFill>
              <a:latin typeface="Calibri"/>
            </a:endParaRPr>
          </a:p>
        </p:txBody>
      </p:sp>
      <p:sp>
        <p:nvSpPr>
          <p:cNvPr id="3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96EDD3-5C77-41F6-852D-4B24991230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Madde 10 – Telif Hakkı ve Bununla Bağlantılı Hakların İhlaline ilişkin Suçlar</a:t>
            </a:r>
            <a:endParaRPr b="0" lang="en-US" sz="2800" spc="-1" strike="noStrike">
              <a:solidFill>
                <a:srgbClr val="000000"/>
              </a:solidFill>
              <a:latin typeface="Calibri"/>
            </a:endParaRPr>
          </a:p>
        </p:txBody>
      </p:sp>
      <p:sp>
        <p:nvSpPr>
          <p:cNvPr id="378" name="PlaceHolder 2"/>
          <p:cNvSpPr>
            <a:spLocks noGrp="1"/>
          </p:cNvSpPr>
          <p:nvPr>
            <p:ph/>
          </p:nvPr>
        </p:nvSpPr>
        <p:spPr>
          <a:xfrm>
            <a:off x="442800" y="1481040"/>
            <a:ext cx="8229600" cy="4525920"/>
          </a:xfrm>
          <a:prstGeom prst="rect">
            <a:avLst/>
          </a:prstGeom>
          <a:noFill/>
          <a:ln w="0">
            <a:noFill/>
          </a:ln>
        </p:spPr>
        <p:txBody>
          <a:bodyPr anchor="t">
            <a:normAutofit fontScale="94000"/>
          </a:bodyPr>
          <a:p>
            <a:pPr marL="483480" indent="-48348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Edebiyat ve Sanat Eserlerinin Korunmasına ilişkin Bern Sözleşmesi’ni tadil eden 24 Temmuz 1971 tarihli Paris Sözleşmesi, Ticaretle Bağlantılı Fikri Mülkiyet Hakları Sözleşmesi ve WIPO (Dünya Fikri Mülkiyet Örgütü) Telif Hakları Sözleşmesi kapsamında üstlendiği yükümlülükler çerçevesinde, bu gibi sözleşmelerce tanınan </a:t>
            </a:r>
            <a:r>
              <a:rPr b="1" lang="tr-TR" sz="2800" spc="-1" strike="noStrike">
                <a:solidFill>
                  <a:srgbClr val="ff0000"/>
                </a:solidFill>
                <a:latin typeface="Calibri"/>
              </a:rPr>
              <a:t>her tür manevi haklar hariç olmak üzere</a:t>
            </a:r>
            <a:r>
              <a:rPr b="0" lang="tr-TR" sz="2400" spc="-1" strike="noStrike">
                <a:solidFill>
                  <a:srgbClr val="000000"/>
                </a:solidFill>
                <a:latin typeface="Calibri"/>
              </a:rPr>
              <a:t>, ilgili Tarafın ulusal mevzuatında tanımlandığı şekliyle, </a:t>
            </a:r>
            <a:r>
              <a:rPr b="1" lang="tr-TR" sz="2800" spc="-1" strike="noStrike">
                <a:solidFill>
                  <a:srgbClr val="ff0000"/>
                </a:solidFill>
                <a:latin typeface="Calibri"/>
              </a:rPr>
              <a:t>telif haklarının ihlalinin</a:t>
            </a:r>
            <a:r>
              <a:rPr b="0" lang="tr-TR" sz="2400" spc="-1" strike="noStrike">
                <a:solidFill>
                  <a:srgbClr val="000000"/>
                </a:solidFill>
                <a:latin typeface="Calibri"/>
              </a:rPr>
              <a:t> </a:t>
            </a:r>
            <a:r>
              <a:rPr b="1" lang="tr-TR" sz="2800" spc="-1" strike="noStrike">
                <a:solidFill>
                  <a:srgbClr val="ff0000"/>
                </a:solidFill>
                <a:latin typeface="Calibri"/>
              </a:rPr>
              <a:t>kasıtlı olarak</a:t>
            </a:r>
            <a:r>
              <a:rPr b="0" lang="tr-TR" sz="2400" spc="-1" strike="noStrike">
                <a:solidFill>
                  <a:srgbClr val="000000"/>
                </a:solidFill>
                <a:latin typeface="Calibri"/>
              </a:rPr>
              <a:t>, ticari ölçekte ve </a:t>
            </a:r>
            <a:r>
              <a:rPr b="1" lang="tr-TR" sz="2800" spc="-1" strike="noStrike">
                <a:solidFill>
                  <a:srgbClr val="ff0000"/>
                </a:solidFill>
                <a:latin typeface="Calibri"/>
              </a:rPr>
              <a:t>bir bilgisayar sistemi aracılığıyla</a:t>
            </a:r>
            <a:r>
              <a:rPr b="0" lang="tr-TR" sz="2400" spc="-1" strike="noStrike">
                <a:solidFill>
                  <a:srgbClr val="000000"/>
                </a:solidFill>
                <a:latin typeface="Calibri"/>
              </a:rPr>
              <a:t> gerçekleştirilmesinin kendi iç hukukunda cezai suç olarak tanımlanması için gerekli olabilecek yasama tedbirlerini ve diğer tedbirleri kabul edecektir.</a:t>
            </a:r>
            <a:endParaRPr b="0" lang="en-US" sz="2400" spc="-1" strike="noStrike">
              <a:solidFill>
                <a:srgbClr val="000000"/>
              </a:solidFill>
              <a:latin typeface="Calibri"/>
            </a:endParaRPr>
          </a:p>
        </p:txBody>
      </p:sp>
      <p:sp>
        <p:nvSpPr>
          <p:cNvPr id="3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A874A6A-B221-40DD-A957-F76AEEA5A7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rişim</a:t>
            </a:r>
            <a:endParaRPr b="0" lang="en-US" sz="4400" spc="-1" strike="noStrike">
              <a:solidFill>
                <a:srgbClr val="000000"/>
              </a:solidFill>
              <a:latin typeface="Calibri"/>
            </a:endParaRPr>
          </a:p>
        </p:txBody>
      </p:sp>
      <p:sp>
        <p:nvSpPr>
          <p:cNvPr id="83" name="PlaceHolder 2"/>
          <p:cNvSpPr>
            <a:spLocks noGrp="1"/>
          </p:cNvSpPr>
          <p:nvPr>
            <p:ph/>
          </p:nvPr>
        </p:nvSpPr>
        <p:spPr>
          <a:xfrm>
            <a:off x="457200" y="1501560"/>
            <a:ext cx="8229600" cy="5074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Erişim bilgisayar sisteminin tamamına veya bir kısmına girilmesidir. </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Aşağıdaki özellikleri taşıyan başka bir bilgisayar sistemine girilmesini içermektedir:</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Umumi telekomünikasyon ağı üzerinden; </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Aynı ağdaki başka bir bilgisayar sistemine bağlı olan (bir bünye içerisindeki LAN veya Intranet) </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lgisayar sistemine yalnızca e-posta mesajı veya dosya gönderilmesini kapsamamaktadır.</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lgisayar sistemi ile kurulan haberleşme yöntemi önem taşımamaktadır (ister uzaktan kablosuz bağlantılarla, ister yakın menzilden).</a:t>
            </a:r>
            <a:endParaRPr b="0" lang="en-US" sz="2800" spc="-1" strike="noStrike">
              <a:solidFill>
                <a:srgbClr val="000000"/>
              </a:solidFill>
              <a:latin typeface="Calibri"/>
            </a:endParaRPr>
          </a:p>
        </p:txBody>
      </p:sp>
      <p:sp>
        <p:nvSpPr>
          <p:cNvPr id="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D296789-DF63-499F-8617-6DA03147D2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lif haklarının ihlali</a:t>
            </a:r>
            <a:endParaRPr b="0" lang="en-US" sz="4400" spc="-1" strike="noStrike">
              <a:solidFill>
                <a:srgbClr val="000000"/>
              </a:solidFill>
              <a:latin typeface="Calibri"/>
            </a:endParaRPr>
          </a:p>
        </p:txBody>
      </p:sp>
      <p:sp>
        <p:nvSpPr>
          <p:cNvPr id="381" name=""/>
          <p:cNvSpPr txBox="1"/>
          <p:nvPr/>
        </p:nvSpPr>
        <p:spPr>
          <a:xfrm>
            <a:off x="279360" y="1719360"/>
            <a:ext cx="854712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elif haklarının ihlalinin suç sayılması yükümlülüğü</a:t>
            </a:r>
            <a:endParaRPr b="0" lang="en-US" sz="3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u yükümlülük aşağıda belirtilenlere benzer manevi hakların suç sayılmasını kapsamamaktadır:</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Bern Sözleşmesi 6. madde (Tekrar)</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IPO Sözleşmesi 5. madde</a:t>
            </a:r>
            <a:endParaRPr b="0" lang="en-US" sz="26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elif suçları kasıtlı olarak işlenmiş olmalıdır.</a:t>
            </a:r>
            <a:endParaRPr b="0" lang="en-US" sz="3000" spc="-1" strike="noStrike">
              <a:solidFill>
                <a:srgbClr val="000000"/>
              </a:solidFill>
              <a:latin typeface="Calibri"/>
            </a:endParaRPr>
          </a:p>
        </p:txBody>
      </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91F5F89-D05A-4E01-A63A-B21CAB9F97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Madde 10 – Telif Hakkı ve Bununla Bağlantılı Hakların İhlaline ilişkin Suçlar</a:t>
            </a:r>
            <a:endParaRPr b="0" lang="en-US" sz="2800" spc="-1" strike="noStrike">
              <a:solidFill>
                <a:srgbClr val="000000"/>
              </a:solidFill>
              <a:latin typeface="Calibri"/>
            </a:endParaRPr>
          </a:p>
        </p:txBody>
      </p:sp>
      <p:sp>
        <p:nvSpPr>
          <p:cNvPr id="384" name="PlaceHolder 2"/>
          <p:cNvSpPr>
            <a:spLocks noGrp="1"/>
          </p:cNvSpPr>
          <p:nvPr>
            <p:ph/>
          </p:nvPr>
        </p:nvSpPr>
        <p:spPr>
          <a:xfrm>
            <a:off x="457200" y="1770120"/>
            <a:ext cx="8229600" cy="4525920"/>
          </a:xfrm>
          <a:prstGeom prst="rect">
            <a:avLst/>
          </a:prstGeom>
          <a:noFill/>
          <a:ln w="0">
            <a:noFill/>
          </a:ln>
        </p:spPr>
        <p:txBody>
          <a:bodyPr anchor="t">
            <a:normAutofit/>
          </a:bodyPr>
          <a:p>
            <a:pPr marL="457200" indent="-457200" algn="just">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Edebiyat ve Sanat Eserlerinin Korunmasına ilişkin Bern Sözleşmesi’ni tadil eden 24 Temmuz 1971 tarihli Paris Sözleşmesi, Ticaretle Bağlantılı Fikri Mülkiyet Hakları Sözleşmesi ve WIPO (Dünya Fikri Mülkiyet Örgütü) Telif Hakları Sözleşmesi kapsamında üstlendiği yükümlülükler çerçevesinde, bu gibi sözleşmelerce tanınan her tür manevi haklar hariç olmak üzere, ilgili Tarafın ulusal mevzuatında tanımlandığı şekliyle, telif haklarının ihlalinin kasıtlı olarak, </a:t>
            </a:r>
            <a:r>
              <a:rPr b="1" lang="tr-TR" sz="2800" spc="-1" strike="noStrike">
                <a:solidFill>
                  <a:srgbClr val="ff0000"/>
                </a:solidFill>
                <a:latin typeface="Calibri"/>
              </a:rPr>
              <a:t>ticari ölçekte </a:t>
            </a:r>
            <a:r>
              <a:rPr b="0" lang="tr-TR" sz="2400" spc="-1" strike="noStrike">
                <a:solidFill>
                  <a:srgbClr val="000000"/>
                </a:solidFill>
                <a:latin typeface="Calibri"/>
              </a:rPr>
              <a:t>ve bir bilgisayar sistemi aracılığıyla gerçekleştirilmesinin kendi iç hukukunda cezai suç olarak tanımlanması için gerekli olabilecek yasama tedbirlerini ve diğer tedbirleri kabul edecektir.</a:t>
            </a:r>
            <a:endParaRPr b="0" lang="en-US" sz="2400" spc="-1" strike="noStrike">
              <a:solidFill>
                <a:srgbClr val="000000"/>
              </a:solidFill>
              <a:latin typeface="Calibri"/>
            </a:endParaRPr>
          </a:p>
        </p:txBody>
      </p:sp>
      <p:sp>
        <p:nvSpPr>
          <p:cNvPr id="3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9375A23-EECD-4C7C-A7BF-6FF84EADEC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cari ölçek</a:t>
            </a:r>
            <a:endParaRPr b="0" lang="en-US" sz="4400" spc="-1" strike="noStrike">
              <a:solidFill>
                <a:srgbClr val="000000"/>
              </a:solidFill>
              <a:latin typeface="Calibri"/>
            </a:endParaRPr>
          </a:p>
        </p:txBody>
      </p:sp>
      <p:sp>
        <p:nvSpPr>
          <p:cNvPr id="387" name=""/>
          <p:cNvSpPr txBox="1"/>
          <p:nvPr/>
        </p:nvSpPr>
        <p:spPr>
          <a:xfrm>
            <a:off x="279360" y="177588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icaretle Bağlantılı Fikri Mülkiyet Hakları (TRIPS) Sözleşmesi’nin 61. maddesiyle uyumludur. </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icari ölçekte telif hakkı ihlali (korsanlık) ile ilgilidir.</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araflar ticari ölçekte korsanlık ölçütünün ötesine geçerek başkaca telif hakkı ihlallerini de suç sayabilir. </a:t>
            </a:r>
            <a:endParaRPr b="0" lang="en-US" sz="3000" spc="-1" strike="noStrike">
              <a:solidFill>
                <a:srgbClr val="000000"/>
              </a:solidFill>
              <a:latin typeface="Calibri"/>
            </a:endParaRPr>
          </a:p>
        </p:txBody>
      </p:sp>
      <p:sp>
        <p:nvSpPr>
          <p:cNvPr id="38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ECDAEDB-8927-4101-941D-262BDFC228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457200" y="428760"/>
            <a:ext cx="8229600" cy="5689440"/>
          </a:xfrm>
          <a:prstGeom prst="rect">
            <a:avLst/>
          </a:prstGeom>
          <a:noFill/>
          <a:ln w="0">
            <a:noFill/>
          </a:ln>
        </p:spPr>
        <p:txBody>
          <a:bodyPr anchor="t">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ali yükümlülük ve yaptırımlar</a:t>
            </a:r>
            <a:endParaRPr b="0" lang="en-US" sz="4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Yardım ve yataklığın cezalandırılması</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Madde 11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Sözleşme’nin tüm Tarafları kendi iç hukuklarında yardım ve yataklık fiillerini göz önünde bulundurmalıdır.</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Ulusal mevzuatların çoğunda bu husus zaten değerlendirilmiş bulunmaktadır.</a:t>
            </a:r>
            <a:endParaRPr b="0" lang="en-US" sz="2000" spc="-1" strike="noStrike">
              <a:solidFill>
                <a:srgbClr val="000000"/>
              </a:solidFill>
              <a:latin typeface="Calibri"/>
            </a:endParaRPr>
          </a:p>
          <a:p>
            <a:pPr lvl="2" marL="1143000" indent="0">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Tüzel kişilerin cezai sorumluluğu</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Madde 12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Tüm Tarafların tüzel kişilerin fiillerini suç saymasını gerektirmektedir.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Avrupa Birliği içerisinde de tüzel kişilerin fiillerinin suç sayılması önemli bir husustur. </a:t>
            </a:r>
            <a:endParaRPr b="0" lang="en-US" sz="2000" spc="-1" strike="noStrike">
              <a:solidFill>
                <a:srgbClr val="000000"/>
              </a:solidFill>
              <a:latin typeface="Calibri"/>
            </a:endParaRPr>
          </a:p>
        </p:txBody>
      </p:sp>
      <p:sp>
        <p:nvSpPr>
          <p:cNvPr id="3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AFD147-5BBB-49A9-B500-A72D8E49FB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p:nvPr>
        </p:nvSpPr>
        <p:spPr>
          <a:xfrm>
            <a:off x="457200" y="12621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Şirketlerin ve diğer tüzel kişilerin cezai sorumluluğu</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emsili organlarının suç teşkil eden fiiillerinden ötürü</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emsili ve menfaati doğrultusunda hareket etmek</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yrıca, tüzel kişilerin sorumluluğu şu durumda da söz konusu olur:</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şirketin veya başkaca bir tüzel kişinin yasal temsilcisinin gözetimi altındaki bir kişi üzerindeki gözetimini veya denetimini yitirmesi</a:t>
            </a:r>
            <a:endParaRPr b="0" lang="en-US" sz="2400" spc="-1" strike="noStrike">
              <a:solidFill>
                <a:srgbClr val="000000"/>
              </a:solidFill>
              <a:latin typeface="Calibri"/>
            </a:endParaRPr>
          </a:p>
        </p:txBody>
      </p:sp>
      <p:sp>
        <p:nvSpPr>
          <p:cNvPr id="3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AB686A-C81E-400F-A07F-25B52035C4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94" name="TextBox 3"/>
          <p:cNvSpPr/>
          <p:nvPr/>
        </p:nvSpPr>
        <p:spPr>
          <a:xfrm>
            <a:off x="349164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Sorular</a:t>
            </a:r>
            <a:endParaRPr b="0" lang="en-US" sz="5400" spc="-1" strike="noStrike">
              <a:solidFill>
                <a:srgbClr val="000000"/>
              </a:solidFill>
              <a:latin typeface="Arial"/>
            </a:endParaRPr>
          </a:p>
        </p:txBody>
      </p:sp>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4C636B-D7D6-46C6-BF80-17EAEB2FB8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Bölüm İki</a:t>
            </a:r>
            <a:br>
              <a:rPr sz="3200"/>
            </a:br>
            <a:r>
              <a:rPr b="1" lang="en-GB" sz="3200" spc="-1" strike="noStrike">
                <a:solidFill>
                  <a:srgbClr val="000000"/>
                </a:solidFill>
                <a:latin typeface="Calibri"/>
                <a:ea typeface="ＭＳ Ｐゴシック"/>
              </a:rPr>
              <a:t> Vaka Çalışmaları</a:t>
            </a:r>
            <a:endParaRPr b="0" lang="en-US" sz="3200" spc="-1" strike="noStrike">
              <a:solidFill>
                <a:srgbClr val="000000"/>
              </a:solidFill>
              <a:latin typeface="Calibri"/>
            </a:endParaRPr>
          </a:p>
        </p:txBody>
      </p:sp>
      <p:pic>
        <p:nvPicPr>
          <p:cNvPr id="397" name="Picture 3" descr=""/>
          <p:cNvPicPr/>
          <p:nvPr/>
        </p:nvPicPr>
        <p:blipFill>
          <a:blip r:embed="rId1"/>
          <a:stretch/>
        </p:blipFill>
        <p:spPr>
          <a:xfrm>
            <a:off x="6786720" y="4643280"/>
            <a:ext cx="1962000" cy="1766880"/>
          </a:xfrm>
          <a:prstGeom prst="rect">
            <a:avLst/>
          </a:prstGeom>
          <a:ln w="0">
            <a:noFill/>
          </a:ln>
        </p:spPr>
      </p:pic>
      <p:sp>
        <p:nvSpPr>
          <p:cNvPr id="39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37DB93-F16C-4B4A-B66E-0244A7E8F0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680"/>
            <a:ext cx="8229600" cy="86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a:t>
            </a:r>
            <a:r>
              <a:rPr b="1" lang="hr-HR" sz="4400" spc="-1" strike="noStrike">
                <a:solidFill>
                  <a:srgbClr val="000000"/>
                </a:solidFill>
                <a:latin typeface="Calibri"/>
              </a:rPr>
              <a:t>1 </a:t>
            </a:r>
            <a:endParaRPr b="0" lang="en-US" sz="4400" spc="-1" strike="noStrike">
              <a:solidFill>
                <a:srgbClr val="000000"/>
              </a:solidFill>
              <a:latin typeface="Calibri"/>
            </a:endParaRPr>
          </a:p>
        </p:txBody>
      </p:sp>
      <p:sp>
        <p:nvSpPr>
          <p:cNvPr id="400" name=""/>
          <p:cNvSpPr txBox="1"/>
          <p:nvPr/>
        </p:nvSpPr>
        <p:spPr>
          <a:xfrm>
            <a:off x="456840" y="1135080"/>
            <a:ext cx="8513640" cy="5494320"/>
          </a:xfrm>
          <a:prstGeom prst="rect">
            <a:avLst/>
          </a:prstGeom>
          <a:noFill/>
          <a:ln w="0">
            <a:noFill/>
          </a:ln>
        </p:spPr>
        <p:txBody>
          <a:bodyPr anchor="t">
            <a:normAutofit/>
          </a:bodyPr>
          <a:p>
            <a:pPr marL="3240" indent="-32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Olaylar / senaryo</a:t>
            </a:r>
            <a:endParaRPr b="0" lang="en-US" sz="28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vrupa’daki bir Elektrik Mühendisliği ve Bilgisayar Bilimi Fakültesinde öğrenci olan Camille, tezini bilgisayar sistemlerinin ve ağlarının güvenliği konusunda hazırlamaya karar verir. Afrika’daki birkaç devletin bilgisayar sistemine korsan giriş yapar. IT sisteminde boşluk yakaladığında sistem yöneticisine şöyle bir not bırakır: Ben Camille, xx Fakültesinde öğrenciyim ve bilgisayar sistemlerinin ve ağlarının güvenliği konusunda bir tez hazırlıyorum, ve tezim için bilgisayar sistemlerinin ve ağlarının zayıf noktalarını ortaya çıkarıyorum, sizin de burada bir güvenlik boşluğunuz var, saygılarımla. Korsan giriş yaptığı son IT sistemi ise kendi ülkesinin İçişleri Bakanlığı’nın bilgi sistemi olur. </a:t>
            </a:r>
            <a:endParaRPr b="0" lang="en-US" sz="24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rPr>
              <a:t>Böyle bir şey sizin ülkenizde suç oluşturuyor mu, cevabınız evetse, bu hangi suçtur ve bu suçun kurucu öğeleri nelerdir?</a:t>
            </a:r>
            <a:endParaRPr b="0" lang="en-US" sz="2400" spc="-1" strike="noStrike">
              <a:solidFill>
                <a:srgbClr val="000000"/>
              </a:solidFill>
              <a:latin typeface="Calibri"/>
            </a:endParaRPr>
          </a:p>
        </p:txBody>
      </p:sp>
      <p:sp>
        <p:nvSpPr>
          <p:cNvPr id="4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001FE9-A8A3-4511-AFD6-2D7451C6F3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2</a:t>
            </a:r>
            <a:endParaRPr b="0" lang="en-US" sz="4400" spc="-1" strike="noStrike">
              <a:solidFill>
                <a:srgbClr val="000000"/>
              </a:solidFill>
              <a:latin typeface="Calibri"/>
            </a:endParaRPr>
          </a:p>
        </p:txBody>
      </p:sp>
      <p:sp>
        <p:nvSpPr>
          <p:cNvPr id="403" name=""/>
          <p:cNvSpPr txBox="1"/>
          <p:nvPr/>
        </p:nvSpPr>
        <p:spPr>
          <a:xfrm>
            <a:off x="457200" y="1238400"/>
            <a:ext cx="8229600" cy="5101920"/>
          </a:xfrm>
          <a:prstGeom prst="rect">
            <a:avLst/>
          </a:prstGeom>
          <a:noFill/>
          <a:ln w="0">
            <a:noFill/>
          </a:ln>
        </p:spPr>
        <p:txBody>
          <a:bodyPr anchor="t">
            <a:normAutofit/>
          </a:bodyPr>
          <a:p>
            <a:pPr marL="3240" indent="-32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ir kişi bir şirketin bilgisayar sistemine erişmek amacıyla başka bir kişinin kullanıcı adını ve şifresini (izin almaksızın – dolayısıyla haksız yere) kullanmış ve dijital haritaları çıkartılabilir bir diske kopyalamış, ardından da sabit disk sürücüsündeki dijital haritaları silmiştir. </a:t>
            </a:r>
            <a:endParaRPr b="0" lang="en-US" sz="24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400" spc="-1" strike="noStrike">
                <a:solidFill>
                  <a:srgbClr val="000000"/>
                </a:solidFill>
                <a:latin typeface="Calibri"/>
              </a:rPr>
              <a:t> </a:t>
            </a:r>
            <a:r>
              <a:rPr b="0" lang="hr-HR" sz="2400" spc="-1" strike="noStrike">
                <a:solidFill>
                  <a:srgbClr val="000000"/>
                </a:solidFill>
                <a:latin typeface="Calibri"/>
              </a:rPr>
              <a:t>- </a:t>
            </a:r>
            <a:r>
              <a:rPr b="0" i="1" lang="hr-HR" sz="2400" spc="-1" strike="noStrike">
                <a:solidFill>
                  <a:srgbClr val="000000"/>
                </a:solidFill>
                <a:latin typeface="Calibri"/>
              </a:rPr>
              <a:t>Ü</a:t>
            </a:r>
            <a:r>
              <a:rPr b="0" i="1" lang="tr-TR" sz="2400" spc="-1" strike="noStrike">
                <a:solidFill>
                  <a:srgbClr val="000000"/>
                </a:solidFill>
                <a:latin typeface="Calibri"/>
              </a:rPr>
              <a:t>l</a:t>
            </a:r>
            <a:r>
              <a:rPr b="0" i="1" lang="hr-HR" sz="2400" spc="-1" strike="noStrike">
                <a:solidFill>
                  <a:srgbClr val="000000"/>
                </a:solidFill>
                <a:latin typeface="Calibri"/>
              </a:rPr>
              <a:t>kenizdeki ulusal hukuka göre – Hangi suçlar göz önüne alınmalıdır?</a:t>
            </a:r>
            <a:endParaRPr b="0" lang="en-US" sz="2400" spc="-1" strike="noStrike">
              <a:solidFill>
                <a:srgbClr val="000000"/>
              </a:solidFill>
              <a:latin typeface="Calibri"/>
            </a:endParaRPr>
          </a:p>
        </p:txBody>
      </p:sp>
      <p:sp>
        <p:nvSpPr>
          <p:cNvPr id="4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A01BD4-B43E-4A3F-836E-983D3D7F07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Maaşları ödenmediği için mutsuz olan bir çağrı merkezi şefi sistemdeki bir bilgisayar programına BIOS şifresini girmiş ve İşletme Sisteminin erişim kodunu sadece kendisinin bildiği şifrelerle değiştirmiş ve böylece bilgisayar sisteminin kullanılmasını imkânsız hale getirmiştir. </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rPr>
              <a:t> </a:t>
            </a:r>
            <a:r>
              <a:rPr b="0" i="1" lang="tr-TR" sz="2400" spc="-1" strike="noStrike">
                <a:solidFill>
                  <a:srgbClr val="000000"/>
                </a:solidFill>
                <a:latin typeface="Calibri"/>
              </a:rPr>
              <a:t>Bu olay ülkenizde hangi suçu doğurur?</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rPr>
              <a:t> </a:t>
            </a:r>
            <a:r>
              <a:rPr b="0" i="1" lang="tr-TR" sz="2400" spc="-1" strike="noStrike">
                <a:solidFill>
                  <a:srgbClr val="000000"/>
                </a:solidFill>
                <a:latin typeface="Calibri"/>
              </a:rPr>
              <a:t>Failin şifre değiştirme hakkı var mıdır, yok mudur – ve ulusal hukukunuza göre bu suçun tanımı bakımından en önemli unsur bu mudur?</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rPr>
              <a:t> </a:t>
            </a:r>
            <a:r>
              <a:rPr b="0" i="1" lang="tr-TR" sz="2400" spc="-1" strike="noStrike">
                <a:solidFill>
                  <a:srgbClr val="000000"/>
                </a:solidFill>
                <a:latin typeface="Calibri"/>
              </a:rPr>
              <a:t>Hangi suçlar göz önüne alınacaktır?</a:t>
            </a:r>
            <a:endParaRPr b="0" lang="en-US" sz="2400" spc="-1" strike="noStrike">
              <a:solidFill>
                <a:srgbClr val="000000"/>
              </a:solidFill>
              <a:latin typeface="Calibri"/>
            </a:endParaRPr>
          </a:p>
        </p:txBody>
      </p:sp>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3</a:t>
            </a:r>
            <a:endParaRPr b="0" lang="en-US" sz="4400" spc="-1" strike="noStrike">
              <a:solidFill>
                <a:srgbClr val="000000"/>
              </a:solidFill>
              <a:latin typeface="Calibri"/>
            </a:endParaRPr>
          </a:p>
        </p:txBody>
      </p:sp>
      <p:sp>
        <p:nvSpPr>
          <p:cNvPr id="4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96172B-C7DA-4793-93FC-37889587CD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a:t>
            </a:r>
            <a:r>
              <a:rPr b="0" lang="tr-TR" sz="4400" spc="-1" strike="noStrike">
                <a:solidFill>
                  <a:srgbClr val="000000"/>
                </a:solidFill>
                <a:latin typeface="Calibri"/>
              </a:rPr>
              <a:t> – </a:t>
            </a:r>
            <a:r>
              <a:rPr b="1" lang="tr-TR" sz="4400" spc="-1" strike="noStrike">
                <a:solidFill>
                  <a:srgbClr val="000000"/>
                </a:solidFill>
                <a:latin typeface="Calibri"/>
              </a:rPr>
              <a:t>Yasadışı Erişim</a:t>
            </a: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a:t>
            </a:r>
            <a:r>
              <a:rPr b="1" lang="tr-TR" sz="4000" spc="-1" strike="noStrike">
                <a:solidFill>
                  <a:srgbClr val="ff0000"/>
                </a:solidFill>
                <a:latin typeface="Calibri"/>
              </a:rPr>
              <a:t>bir bilgisayar sisteminin tamamına veya bir kısmına </a:t>
            </a:r>
            <a:r>
              <a:rPr b="0" lang="tr-TR" sz="2800" spc="-1" strike="noStrike">
                <a:solidFill>
                  <a:srgbClr val="000000"/>
                </a:solidFill>
                <a:latin typeface="Calibri"/>
              </a:rPr>
              <a:t>haksız yere gerçekleştirilen erişimi, kasten yapıldığı zaman, kendi iç hukuku kapsamında cezai bir suç olarak tanımlanması için gerekli olabilecek yasama tedbirlerini ve diğer tedbirleri kabul edecektir. Taraflardan biri, söz konusu suçun, bilgisayar verilerini elde etmek veya başka bir sahtekâr niyetle veya bir bilgisayar sistemine bağlı başka bir bilgisayar sistemiyle ilişkili olarak güvenlik tedbirlerinin ihlal edilmesi suretiyle işlenmiş olmasını şart koşabilir. </a:t>
            </a:r>
            <a:endParaRPr b="0" lang="en-US" sz="2800" spc="-1" strike="noStrike">
              <a:solidFill>
                <a:srgbClr val="000000"/>
              </a:solidFill>
              <a:latin typeface="Calibri"/>
            </a:endParaRPr>
          </a:p>
        </p:txBody>
      </p:sp>
      <p:sp>
        <p:nvSpPr>
          <p:cNvPr id="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2A998E1-822D-4DE5-B2EA-DD762D2761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319040"/>
            <a:ext cx="8229600" cy="4708800"/>
          </a:xfrm>
          <a:prstGeom prst="rect">
            <a:avLst/>
          </a:prstGeom>
          <a:noFill/>
          <a:ln w="0">
            <a:noFill/>
          </a:ln>
        </p:spPr>
        <p:txBody>
          <a:bodyPr anchor="t">
            <a:normAutofit fontScale="9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X, Y’ye –“K” şirketinin müdürü– “E. Bankası” logosu taşıyan bir e-posta mesajı göndermiş ve bu mesajda Bankanın internetteki ticari siteler konusunda yeni bir yaklaşım benimsediğini ve ticari e-bankacılığa bundan böyle erişebilmek için yazılımını değiştirmesi gerektiğini belirtmiştir. Mesajın ekinde “Sürücü” adlı bir yazılım bulunmakta, bu yazılımın indirilmesi gerektiğine dair açık bir ifade yer almaktadır. Program yüklendikten sonra söz konusu bilgisayar programı kullanıcının (Y) bilgisayarından kendi bilgisi olmaksızın veri kaydetmiş ve böylece X PIN numarasını ve banka işlemi denetim numarasını (TAN) elde etmiştir. X elde ettiği PIN ve TAN numaralarını işlemi onaylamak için kullanmış ve “P” Bankasında iki gün önce açılmış bulunan Z’nin banka hesabına 65.000 Euro aktarmıştır. Z, “P” Bankasının şubesinde yalan beyanda bulunarak bu parayı gayrimenkul satışından elde ettiğini söylemiştir. Ödemenin ardından X 63.000 Euro, Z ise 2000 Euro almıştır.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r>
              <a:rPr b="0" i="1" lang="en-US" sz="2000" spc="-1" strike="noStrike">
                <a:solidFill>
                  <a:srgbClr val="000000"/>
                </a:solidFill>
                <a:latin typeface="Calibri"/>
              </a:rPr>
              <a:t>Savcı olsanız X ile Z’yi aynı suçla mı itham ederdiniz?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r>
              <a:rPr b="0" i="1" lang="en-US" sz="2000" spc="-1" strike="noStrike">
                <a:solidFill>
                  <a:srgbClr val="000000"/>
                </a:solidFill>
                <a:latin typeface="Calibri"/>
              </a:rPr>
              <a:t>Hangi suçlar göz önüne alınacaktır?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4</a:t>
            </a:r>
            <a:endParaRPr b="0" lang="en-US" sz="4400" spc="-1" strike="noStrike">
              <a:solidFill>
                <a:srgbClr val="000000"/>
              </a:solidFill>
              <a:latin typeface="Calibri"/>
            </a:endParaRPr>
          </a:p>
        </p:txBody>
      </p:sp>
      <p:sp>
        <p:nvSpPr>
          <p:cNvPr id="4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9A0912-926D-416E-A543-151422BD41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Şüpheli çocuk pornografisi de içeren pornografik web sitelerini defalarca ziyaret etmiştir. Hiçbir materyal indirmemiştir. Fakat bilgisayarı bu materyalleri, şüphelinin bilgisi veya işlemi olmaksızın, otomatik olarak C:/… adlı bir klasörde hafızaya almıştır (materyaller arasında çocuk pornografisi içeren görseller de mevcuttur).</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800" spc="-1" strike="noStrike">
                <a:solidFill>
                  <a:srgbClr val="000000"/>
                </a:solidFill>
                <a:latin typeface="Calibri"/>
              </a:rPr>
              <a:t> </a:t>
            </a:r>
            <a:r>
              <a:rPr b="0" i="1" lang="tr-TR" sz="2800" spc="-1" strike="noStrike">
                <a:solidFill>
                  <a:srgbClr val="000000"/>
                </a:solidFill>
                <a:latin typeface="Calibri"/>
              </a:rPr>
              <a:t>Bu çocuk pornografisi bulundurma suçu mudur? </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800" spc="-1" strike="noStrike">
                <a:solidFill>
                  <a:srgbClr val="000000"/>
                </a:solidFill>
                <a:latin typeface="Calibri"/>
              </a:rPr>
              <a:t> </a:t>
            </a:r>
            <a:r>
              <a:rPr b="0" i="1" lang="tr-TR" sz="2800" spc="-1" strike="noStrike">
                <a:solidFill>
                  <a:srgbClr val="000000"/>
                </a:solidFill>
                <a:latin typeface="Calibri"/>
              </a:rPr>
              <a:t>Neden?</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5</a:t>
            </a:r>
            <a:endParaRPr b="0" lang="en-US" sz="4400" spc="-1" strike="noStrike">
              <a:solidFill>
                <a:srgbClr val="000000"/>
              </a:solidFill>
              <a:latin typeface="Calibri"/>
            </a:endParaRPr>
          </a:p>
        </p:txBody>
      </p:sp>
      <p:sp>
        <p:nvSpPr>
          <p:cNvPr id="4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6528EF-94F2-4E75-9290-8BAEDB1277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a:t>
            </a:r>
            <a:r>
              <a:rPr b="1" lang="en-GB" sz="4400" spc="-1" strike="noStrike">
                <a:solidFill>
                  <a:srgbClr val="000000"/>
                </a:solidFill>
                <a:latin typeface="Calibri"/>
              </a:rPr>
              <a:t>6</a:t>
            </a:r>
            <a:endParaRPr b="0" lang="en-US" sz="4400" spc="-1" strike="noStrike">
              <a:solidFill>
                <a:srgbClr val="000000"/>
              </a:solidFill>
              <a:latin typeface="Calibri"/>
            </a:endParaRPr>
          </a:p>
        </p:txBody>
      </p:sp>
      <p:sp>
        <p:nvSpPr>
          <p:cNvPr id="415" name="PlaceHolder 2"/>
          <p:cNvSpPr>
            <a:spLocks noGrp="1"/>
          </p:cNvSpPr>
          <p:nvPr>
            <p:ph/>
          </p:nvPr>
        </p:nvSpPr>
        <p:spPr>
          <a:xfrm>
            <a:off x="457200" y="1417320"/>
            <a:ext cx="8229600" cy="4708440"/>
          </a:xfrm>
          <a:prstGeom prst="rect">
            <a:avLst/>
          </a:prstGeom>
          <a:noFill/>
          <a:ln w="0">
            <a:noFill/>
          </a:ln>
        </p:spPr>
        <p:txBody>
          <a:bodyPr anchor="t">
            <a:normAutofit/>
          </a:bodyPr>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Olaylar / Senaryo</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ＭＳ Ｐゴシック"/>
              </a:rPr>
              <a:t>Bobby </a:t>
            </a:r>
            <a:r>
              <a:rPr b="0" lang="tr-TR" sz="2800" spc="-1" strike="noStrike">
                <a:solidFill>
                  <a:srgbClr val="000000"/>
                </a:solidFill>
                <a:latin typeface="Calibri"/>
                <a:ea typeface="ＭＳ Ｐゴシック"/>
              </a:rPr>
              <a:t>bir</a:t>
            </a:r>
            <a:r>
              <a:rPr b="0" lang="en-GB" sz="2800" spc="-1" strike="noStrike">
                <a:solidFill>
                  <a:srgbClr val="000000"/>
                </a:solidFill>
                <a:latin typeface="Calibri"/>
                <a:ea typeface="ＭＳ Ｐゴシック"/>
              </a:rPr>
              <a:t> </a:t>
            </a:r>
            <a:r>
              <a:rPr b="0" lang="tr-TR" sz="2800" spc="-1" strike="noStrike">
                <a:solidFill>
                  <a:srgbClr val="000000"/>
                </a:solidFill>
                <a:latin typeface="Calibri"/>
                <a:ea typeface="ＭＳ Ｐゴシック"/>
              </a:rPr>
              <a:t>polis memurudur</a:t>
            </a:r>
            <a:r>
              <a:rPr b="0" lang="en-GB" sz="2800" spc="-1" strike="noStrike">
                <a:solidFill>
                  <a:srgbClr val="000000"/>
                </a:solidFill>
                <a:latin typeface="Calibri"/>
                <a:ea typeface="ＭＳ Ｐゴシック"/>
              </a:rPr>
              <a:t>. </a:t>
            </a:r>
            <a:r>
              <a:rPr b="0" lang="tr-TR" sz="2800" spc="-1" strike="noStrike">
                <a:solidFill>
                  <a:srgbClr val="000000"/>
                </a:solidFill>
                <a:latin typeface="Calibri"/>
                <a:ea typeface="ＭＳ Ｐゴシック"/>
              </a:rPr>
              <a:t>Bir gece vazife başındayken, evinin önünde park etmiş bir </a:t>
            </a:r>
            <a:r>
              <a:rPr b="0" lang="en-GB" sz="2800" spc="-1" strike="noStrike">
                <a:solidFill>
                  <a:srgbClr val="000000"/>
                </a:solidFill>
                <a:latin typeface="Calibri"/>
                <a:ea typeface="ＭＳ Ｐゴシック"/>
              </a:rPr>
              <a:t>Mercedes </a:t>
            </a:r>
            <a:r>
              <a:rPr b="0" lang="tr-TR" sz="2800" spc="-1" strike="noStrike">
                <a:solidFill>
                  <a:srgbClr val="000000"/>
                </a:solidFill>
                <a:latin typeface="Calibri"/>
                <a:ea typeface="ＭＳ Ｐゴシック"/>
              </a:rPr>
              <a:t>görür</a:t>
            </a:r>
            <a:r>
              <a:rPr b="0" lang="en-GB" sz="2800" spc="-1" strike="noStrike">
                <a:solidFill>
                  <a:srgbClr val="000000"/>
                </a:solidFill>
                <a:latin typeface="Calibri"/>
                <a:ea typeface="ＭＳ Ｐゴシック"/>
              </a:rPr>
              <a:t>.</a:t>
            </a:r>
            <a:r>
              <a:rPr b="0" lang="tr-TR" sz="2800" spc="-1" strike="noStrike">
                <a:solidFill>
                  <a:srgbClr val="000000"/>
                </a:solidFill>
                <a:latin typeface="Calibri"/>
                <a:ea typeface="ＭＳ Ｐゴシック"/>
              </a:rPr>
              <a:t> Arabayı tanımaz, ama karısının patronuna ait olduğundan şüphelenir</a:t>
            </a:r>
            <a:r>
              <a:rPr b="0" lang="en-GB" sz="2800" spc="-1" strike="noStrike">
                <a:solidFill>
                  <a:srgbClr val="000000"/>
                </a:solidFill>
                <a:latin typeface="Calibri"/>
                <a:ea typeface="ＭＳ Ｐゴシック"/>
              </a:rPr>
              <a:t>.</a:t>
            </a:r>
            <a:r>
              <a:rPr b="0" lang="tr-TR" sz="2800" spc="-1" strike="noStrike">
                <a:solidFill>
                  <a:srgbClr val="000000"/>
                </a:solidFill>
                <a:latin typeface="Calibri"/>
                <a:ea typeface="ＭＳ Ｐゴシック"/>
              </a:rPr>
              <a:t> Polis merkezine telefon eder ve aracın kırmızı ışıkta geçtiğini bildirerek bilgisayar operatörü Mary’den Mercedes’in kime ait olduğunu söylemesini ister. </a:t>
            </a:r>
            <a:r>
              <a:rPr b="0" lang="en-GB" sz="2800" spc="-1" strike="noStrike">
                <a:solidFill>
                  <a:srgbClr val="000000"/>
                </a:solidFill>
                <a:latin typeface="Calibri"/>
                <a:ea typeface="ＭＳ Ｐゴシック"/>
              </a:rPr>
              <a:t>Mary </a:t>
            </a:r>
            <a:r>
              <a:rPr b="0" lang="tr-TR" sz="2800" spc="-1" strike="noStrike">
                <a:solidFill>
                  <a:srgbClr val="000000"/>
                </a:solidFill>
                <a:latin typeface="Calibri"/>
                <a:ea typeface="ＭＳ Ｐゴシック"/>
              </a:rPr>
              <a:t>aracın gerçekten de karısının patronuna ait olduğunu doğrular</a:t>
            </a:r>
            <a:r>
              <a:rPr b="0" lang="en-GB" sz="2800" spc="-1" strike="noStrike">
                <a:solidFill>
                  <a:srgbClr val="000000"/>
                </a:solidFill>
                <a:latin typeface="Calibri"/>
                <a:ea typeface="ＭＳ Ｐゴシック"/>
              </a:rPr>
              <a:t>.</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ea typeface="ＭＳ Ｐゴシック"/>
              </a:rPr>
              <a:t>Bobby </a:t>
            </a:r>
            <a:r>
              <a:rPr b="0" i="1" lang="tr-TR" sz="2800" spc="-1" strike="noStrike">
                <a:solidFill>
                  <a:srgbClr val="000000"/>
                </a:solidFill>
                <a:latin typeface="Calibri"/>
                <a:ea typeface="ＭＳ Ｐゴシック"/>
              </a:rPr>
              <a:t>bir suç işlemiş midir</a:t>
            </a:r>
            <a:r>
              <a:rPr b="0" i="1" lang="en-GB" sz="2800" spc="-1" strike="noStrike">
                <a:solidFill>
                  <a:srgbClr val="000000"/>
                </a:solidFill>
                <a:latin typeface="Calibri"/>
                <a:ea typeface="ＭＳ Ｐゴシック"/>
              </a:rPr>
              <a:t>?</a:t>
            </a:r>
            <a:endParaRPr b="0" lang="en-US" sz="2800" spc="-1" strike="noStrike">
              <a:solidFill>
                <a:srgbClr val="000000"/>
              </a:solidFill>
              <a:latin typeface="Calibri"/>
            </a:endParaRPr>
          </a:p>
        </p:txBody>
      </p:sp>
      <p:sp>
        <p:nvSpPr>
          <p:cNvPr id="4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B97C62-05C5-4C87-B15B-6270BF92B4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7</a:t>
            </a:r>
            <a:endParaRPr b="0" lang="en-US" sz="4400" spc="-1" strike="noStrike">
              <a:solidFill>
                <a:srgbClr val="000000"/>
              </a:solidFill>
              <a:latin typeface="Calibri"/>
            </a:endParaRPr>
          </a:p>
        </p:txBody>
      </p:sp>
      <p:sp>
        <p:nvSpPr>
          <p:cNvPr id="418" name="PlaceHolder 2"/>
          <p:cNvSpPr>
            <a:spLocks noGrp="1"/>
          </p:cNvSpPr>
          <p:nvPr>
            <p:ph/>
          </p:nvPr>
        </p:nvSpPr>
        <p:spPr>
          <a:xfrm>
            <a:off x="457200" y="1417320"/>
            <a:ext cx="8229600" cy="4708440"/>
          </a:xfrm>
          <a:prstGeom prst="rect">
            <a:avLst/>
          </a:prstGeom>
          <a:noFill/>
          <a:ln w="0">
            <a:noFill/>
          </a:ln>
        </p:spPr>
        <p:txBody>
          <a:bodyPr anchor="t">
            <a:normAutofit fontScale="91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Bankada çalışan bir güvenlik görevlisine, bir suç çetesi tarafından key logger (tuş kaydedici) adı verilen bir cihaz verilmiş ve bunu bankadaki bazı bilgisayarların arkasına yerleştirmesi istenmişti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Bu cihaz kullanıcının bastığı tuşları kaydedip makineye erişimi olanların, banka çalışanlarının kullanıcı hesaplarına girmesine imkân sağlayan şifreleri ve diğer bilgileri edinmesini sağlar.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Tuş kaydedici cihaz</a:t>
            </a:r>
            <a:r>
              <a:rPr b="0" lang="tr-TR" sz="2400" spc="-1" strike="noStrike">
                <a:solidFill>
                  <a:srgbClr val="000000"/>
                </a:solidFill>
                <a:latin typeface="Calibri"/>
                <a:ea typeface="ＭＳ Ｐゴシック"/>
              </a:rPr>
              <a:t>ın bir başka özelliği de bilgisayar kullanıcısının yaptığı Skype telefon görüşmelerini</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kaydedebilmesidir</a:t>
            </a:r>
            <a:r>
              <a:rPr b="0" lang="en-GB" sz="2400" spc="-1" strike="noStrike">
                <a:solidFill>
                  <a:srgbClr val="000000"/>
                </a:solidFill>
                <a:latin typeface="Calibri"/>
                <a:ea typeface="ＭＳ Ｐゴシック"/>
              </a:rPr>
              <a:t>.</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Suç çetesi ayrıca masaya, bilgisayarın kullanıcısı tarafından yapılan tüm telefon görüşmeleri de dahil olmak üzere sesleri alan bir dinleme cihazı yerleştirmişlerdir</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ea typeface="ＭＳ Ｐゴシック"/>
              </a:rPr>
              <a:t>Yasadışı bir ele geçirme söz konusu mudur</a:t>
            </a:r>
            <a:r>
              <a:rPr b="0" i="1" lang="en-GB"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p:txBody>
      </p:sp>
      <p:sp>
        <p:nvSpPr>
          <p:cNvPr id="4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944080-416E-4F38-9EF3-EFD8540E17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8</a:t>
            </a:r>
            <a:endParaRPr b="0" lang="en-US" sz="4400" spc="-1" strike="noStrike">
              <a:solidFill>
                <a:srgbClr val="000000"/>
              </a:solidFill>
              <a:latin typeface="Calibri"/>
            </a:endParaRPr>
          </a:p>
        </p:txBody>
      </p:sp>
      <p:sp>
        <p:nvSpPr>
          <p:cNvPr id="421" name="PlaceHolder 2"/>
          <p:cNvSpPr>
            <a:spLocks noGrp="1"/>
          </p:cNvSpPr>
          <p:nvPr>
            <p:ph/>
          </p:nvPr>
        </p:nvSpPr>
        <p:spPr>
          <a:xfrm>
            <a:off x="457200" y="1417320"/>
            <a:ext cx="8229600" cy="492444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Bir suç çetesi, internet üzerinden dünyanın herhangi bir yerinden ulaşılabilen web tabanlı bir e-posta sistemi kullanarak haberleşmektedi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Birbirlerine polisin ele geçirebileceği ya da bilgisayarlarında bulunursa kendilerini suçlu kılacak mesajlar göndermek yerine, aslında taslak e-posta olarak mesajlardan oluşan bir sistem kullanırlar. Yani mesajlarını taslak olarak hazırlar, ama göndermezler; çetenin diğer üyeleri de e-posta adresinin şifresine sahiptir ve mesajı okuyup aynı yöntemle cevap yazarlar.</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ea typeface="ＭＳ Ｐゴシック"/>
              </a:rPr>
              <a:t>Şayet p</a:t>
            </a:r>
            <a:r>
              <a:rPr b="0" i="1" lang="en-GB" sz="2400" spc="-1" strike="noStrike">
                <a:solidFill>
                  <a:srgbClr val="000000"/>
                </a:solidFill>
                <a:latin typeface="Calibri"/>
                <a:ea typeface="ＭＳ Ｐゴシック"/>
              </a:rPr>
              <a:t>olis bu taslak e-posta kutusuna erişebilse</a:t>
            </a:r>
            <a:r>
              <a:rPr b="0" i="1" lang="tr-TR" sz="2400" spc="-1" strike="noStrike">
                <a:solidFill>
                  <a:srgbClr val="000000"/>
                </a:solidFill>
                <a:latin typeface="Calibri"/>
                <a:ea typeface="ＭＳ Ｐゴシック"/>
              </a:rPr>
              <a:t>, bu bir ele geçirme teşkil eder mi</a:t>
            </a:r>
            <a:r>
              <a:rPr b="0" i="1" lang="en-GB" sz="2400" spc="-1" strike="noStrike">
                <a:solidFill>
                  <a:srgbClr val="000000"/>
                </a:solidFill>
                <a:latin typeface="Calibri"/>
                <a:ea typeface="ＭＳ Ｐゴシック"/>
              </a:rPr>
              <a:t>?</a:t>
            </a:r>
            <a:endParaRPr b="0" lang="en-US" sz="2400" spc="-1" strike="noStrike">
              <a:solidFill>
                <a:srgbClr val="000000"/>
              </a:solidFill>
              <a:latin typeface="Calibri"/>
            </a:endParaRPr>
          </a:p>
        </p:txBody>
      </p:sp>
      <p:sp>
        <p:nvSpPr>
          <p:cNvPr id="4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78422C-79D5-4678-84C3-D78562E7FD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9</a:t>
            </a: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Poli</a:t>
            </a:r>
            <a:r>
              <a:rPr b="0" lang="tr-TR" sz="3200" spc="-1" strike="noStrike">
                <a:solidFill>
                  <a:srgbClr val="000000"/>
                </a:solidFill>
                <a:latin typeface="Calibri"/>
                <a:ea typeface="ＭＳ Ｐゴシック"/>
              </a:rPr>
              <a:t>s</a:t>
            </a:r>
            <a:r>
              <a:rPr b="0" lang="en-GB" sz="3200" spc="-1" strike="noStrike">
                <a:solidFill>
                  <a:srgbClr val="000000"/>
                </a:solidFill>
                <a:latin typeface="Calibri"/>
                <a:ea typeface="ＭＳ Ｐゴシック"/>
              </a:rPr>
              <a:t> </a:t>
            </a:r>
            <a:r>
              <a:rPr b="0" lang="tr-TR" sz="3200" spc="-1" strike="noStrike">
                <a:solidFill>
                  <a:srgbClr val="000000"/>
                </a:solidFill>
                <a:latin typeface="Calibri"/>
                <a:ea typeface="ＭＳ Ｐゴシック"/>
              </a:rPr>
              <a:t>memuru</a:t>
            </a:r>
            <a:r>
              <a:rPr b="0" lang="en-GB" sz="3200" spc="-1" strike="noStrike">
                <a:solidFill>
                  <a:srgbClr val="000000"/>
                </a:solidFill>
                <a:latin typeface="Calibri"/>
                <a:ea typeface="ＭＳ Ｐゴシック"/>
              </a:rPr>
              <a:t> Bobby </a:t>
            </a:r>
            <a:r>
              <a:rPr b="0" lang="tr-TR" sz="3200" spc="-1" strike="noStrike">
                <a:solidFill>
                  <a:srgbClr val="000000"/>
                </a:solidFill>
                <a:latin typeface="Calibri"/>
                <a:ea typeface="ＭＳ Ｐゴシック"/>
              </a:rPr>
              <a:t>eşinin telefonu almış, şifresini tahmin etmiş ve henüz eşinin dinlememiş olduğu, ama belleğe kaydedilmiş olan bir sesli mesajı dinlemiştir</a:t>
            </a:r>
            <a:r>
              <a:rPr b="0" lang="en-GB" sz="3200" spc="-1" strike="noStrike">
                <a:solidFill>
                  <a:srgbClr val="000000"/>
                </a:solidFill>
                <a:latin typeface="Calibri"/>
                <a:ea typeface="ＭＳ Ｐゴシック"/>
              </a:rPr>
              <a: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3200" spc="-1" strike="noStrike">
                <a:solidFill>
                  <a:srgbClr val="000000"/>
                </a:solidFill>
                <a:latin typeface="Calibri"/>
                <a:ea typeface="ＭＳ Ｐゴシック"/>
              </a:rPr>
              <a:t>Bu bir ele geçirme teşkil eder mi?</a:t>
            </a:r>
            <a:endParaRPr b="0" lang="en-US" sz="3200" spc="-1" strike="noStrike">
              <a:solidFill>
                <a:srgbClr val="000000"/>
              </a:solidFill>
              <a:latin typeface="Calibri"/>
            </a:endParaRPr>
          </a:p>
        </p:txBody>
      </p:sp>
      <p:sp>
        <p:nvSpPr>
          <p:cNvPr id="4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88A14E-E5D4-494D-9F43-C448906540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0</a:t>
            </a: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Bobby UFO</a:t>
            </a:r>
            <a:r>
              <a:rPr b="0" lang="tr-TR" sz="2400" spc="-1" strike="noStrike">
                <a:solidFill>
                  <a:srgbClr val="000000"/>
                </a:solidFill>
                <a:latin typeface="Calibri"/>
                <a:ea typeface="ＭＳ Ｐゴシック"/>
              </a:rPr>
              <a:t>’lara ilgi duymaktadır ve 20. yüzyıl başlarında Rusya’nın uzaylılara ait olup da Sibirya’ya iniş yapmış uzay aracı yakalamış olduğuna inanmaktadı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Rus Hava Kuvvetleri’ne ait bir siteye bağlantı veren bir Rus Askerlik İşlemleri sitesini ziyaret ede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Hava Kuvvetleri sitesi aslında şifre istemektedir, Bobby bir şifre kırma aracı kullanarak siteye erişmeyi başarır</a:t>
            </a:r>
            <a:r>
              <a:rPr b="0" lang="en-GB" sz="2400" spc="-1" strike="noStrike">
                <a:solidFill>
                  <a:srgbClr val="000000"/>
                </a:solidFill>
                <a:latin typeface="Calibri"/>
                <a:ea typeface="ＭＳ Ｐゴシック"/>
              </a:rPr>
              <a:t>.</a:t>
            </a:r>
            <a:r>
              <a:rPr b="0" lang="tr-TR" sz="2400" spc="-1" strike="noStrike">
                <a:solidFill>
                  <a:srgbClr val="000000"/>
                </a:solidFill>
                <a:latin typeface="Calibri"/>
                <a:ea typeface="ＭＳ Ｐゴシック"/>
              </a:rPr>
              <a:t> Sistemde keşif amacıyla biraz dolaşır ve birkaç dosya kopyalar. Ayrıca, Ruslar kimliğini tespit etmesin diye kendi faaliyetine ilişkin günlük kayıt dosyalarını da silmeye çalışır</a:t>
            </a:r>
            <a:r>
              <a:rPr b="0" lang="en-GB" sz="2400" spc="-1" strike="noStrike">
                <a:solidFill>
                  <a:srgbClr val="000000"/>
                </a:solidFill>
                <a:latin typeface="Calibri"/>
                <a:ea typeface="ＭＳ Ｐゴシック"/>
              </a:rPr>
              <a:t>. Sonra da sitenin </a:t>
            </a:r>
            <a:r>
              <a:rPr b="0" lang="tr-TR" sz="2400" spc="-1" strike="noStrike">
                <a:solidFill>
                  <a:srgbClr val="000000"/>
                </a:solidFill>
                <a:latin typeface="Calibri"/>
                <a:ea typeface="ＭＳ Ｐゴシック"/>
              </a:rPr>
              <a:t>giriş sayfasını Hava Kuvvetleri amblemi yerine UFO resmi gösterecek şekilde değiştirir</a:t>
            </a:r>
            <a:r>
              <a:rPr b="0" lang="en-GB" sz="2400" spc="-1" strike="noStrike">
                <a:solidFill>
                  <a:srgbClr val="000000"/>
                </a:solidFill>
                <a:latin typeface="Calibri"/>
                <a:ea typeface="ＭＳ Ｐゴシック"/>
              </a:rPr>
              <a:t>.</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ea typeface="ＭＳ Ｐゴシック"/>
              </a:rPr>
              <a:t>Bobby </a:t>
            </a:r>
            <a:r>
              <a:rPr b="0" i="1" lang="tr-TR" sz="2400" spc="-1" strike="noStrike">
                <a:solidFill>
                  <a:srgbClr val="000000"/>
                </a:solidFill>
                <a:latin typeface="Calibri"/>
                <a:ea typeface="ＭＳ Ｐゴシック"/>
              </a:rPr>
              <a:t>bir suç işlemiş midir</a:t>
            </a:r>
            <a:r>
              <a:rPr b="0" i="1" lang="en-GB"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p:txBody>
      </p:sp>
      <p:sp>
        <p:nvSpPr>
          <p:cNvPr id="4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84071E-ACAC-49C9-902E-4514F41EB3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1</a:t>
            </a:r>
            <a:endParaRPr b="0" lang="en-US" sz="4400" spc="-1" strike="noStrike">
              <a:solidFill>
                <a:srgbClr val="000000"/>
              </a:solidFill>
              <a:latin typeface="Calibri"/>
            </a:endParaRPr>
          </a:p>
        </p:txBody>
      </p:sp>
      <p:sp>
        <p:nvSpPr>
          <p:cNvPr id="430" name="PlaceHolder 2"/>
          <p:cNvSpPr>
            <a:spLocks noGrp="1"/>
          </p:cNvSpPr>
          <p:nvPr>
            <p:ph/>
          </p:nvPr>
        </p:nvSpPr>
        <p:spPr>
          <a:xfrm>
            <a:off x="457200" y="1417680"/>
            <a:ext cx="8229600" cy="49687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Otomatik bir </a:t>
            </a:r>
            <a:r>
              <a:rPr b="0" lang="en-GB" sz="2400" spc="-1" strike="noStrike">
                <a:solidFill>
                  <a:srgbClr val="000000"/>
                </a:solidFill>
                <a:latin typeface="Calibri"/>
                <a:ea typeface="ＭＳ Ｐゴシック"/>
              </a:rPr>
              <a:t>spam e-posta programı</a:t>
            </a:r>
            <a:r>
              <a:rPr b="0" lang="tr-TR"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 her gün dünyanın dört bir yanındaki binlerce kullanıcı</a:t>
            </a:r>
            <a:r>
              <a:rPr b="0" lang="tr-TR" sz="2400" spc="-1" strike="noStrike">
                <a:solidFill>
                  <a:srgbClr val="000000"/>
                </a:solidFill>
                <a:latin typeface="Calibri"/>
                <a:ea typeface="ＭＳ Ｐゴシック"/>
              </a:rPr>
              <a:t>ya </a:t>
            </a:r>
            <a:r>
              <a:rPr b="0" lang="en-GB" sz="2400" spc="-1" strike="noStrike">
                <a:solidFill>
                  <a:srgbClr val="000000"/>
                </a:solidFill>
                <a:latin typeface="Calibri"/>
                <a:ea typeface="ＭＳ Ｐゴシック"/>
              </a:rPr>
              <a:t>istenmeyen e</a:t>
            </a:r>
            <a:r>
              <a:rPr b="0" lang="tr-TR"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postalar göndermektedir. Bu </a:t>
            </a:r>
            <a:r>
              <a:rPr b="0" lang="tr-TR" sz="2400" spc="-1" strike="noStrike">
                <a:solidFill>
                  <a:srgbClr val="000000"/>
                </a:solidFill>
                <a:latin typeface="Calibri"/>
                <a:ea typeface="ＭＳ Ｐゴシック"/>
              </a:rPr>
              <a:t>e-posta açıldığında kullanıcının bilgisayarına bir yazılım yüklemektedir. Söz konusu yazılım kullanıcı bilgisayarlarının çalışmasını engelleyen bir şey yapmaz, veri çalmaz, silmez ya da başkaca bir zarar yaratmaz. Ancak söz konusu kullanıcıların bilgisayarları artık, “bot kontrolörü”nün çok çeşitli faaliyetlerde kullanabileceği bir “Botnet”in parçasını oluşturan bir “Zombi” haline gelir.</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ea typeface="ＭＳ Ｐゴシック"/>
              </a:rPr>
              <a:t>Spam e-posta göndermekten sorumlu olan kişi Budapeşte Sözleşmesi’nin </a:t>
            </a:r>
            <a:r>
              <a:rPr b="0" i="1" lang="en-GB" sz="2400" spc="-1" strike="noStrike">
                <a:solidFill>
                  <a:srgbClr val="000000"/>
                </a:solidFill>
                <a:latin typeface="Calibri"/>
                <a:ea typeface="ＭＳ Ｐゴシック"/>
              </a:rPr>
              <a:t>4. </a:t>
            </a:r>
            <a:r>
              <a:rPr b="0" i="1" lang="tr-TR" sz="2400" spc="-1" strike="noStrike">
                <a:solidFill>
                  <a:srgbClr val="000000"/>
                </a:solidFill>
                <a:latin typeface="Calibri"/>
                <a:ea typeface="ＭＳ Ｐゴシック"/>
              </a:rPr>
              <a:t>veya</a:t>
            </a:r>
            <a:r>
              <a:rPr b="0" i="1" lang="en-GB" sz="2400" spc="-1" strike="noStrike">
                <a:solidFill>
                  <a:srgbClr val="000000"/>
                </a:solidFill>
                <a:latin typeface="Calibri"/>
                <a:ea typeface="ＭＳ Ｐゴシック"/>
              </a:rPr>
              <a:t> 5. maddesine</a:t>
            </a:r>
            <a:r>
              <a:rPr b="0" i="1" lang="tr-TR" sz="2400" spc="-1" strike="noStrike">
                <a:solidFill>
                  <a:srgbClr val="000000"/>
                </a:solidFill>
                <a:latin typeface="Calibri"/>
                <a:ea typeface="ＭＳ Ｐゴシック"/>
              </a:rPr>
              <a:t> aykırı bir suç işlemiş midir?</a:t>
            </a:r>
            <a:endParaRPr b="0" lang="en-US" sz="2400" spc="-1" strike="noStrike">
              <a:solidFill>
                <a:srgbClr val="000000"/>
              </a:solidFill>
              <a:latin typeface="Calibri"/>
            </a:endParaRPr>
          </a:p>
        </p:txBody>
      </p:sp>
      <p:sp>
        <p:nvSpPr>
          <p:cNvPr id="4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CD3EE3-7AB8-4702-8A60-8A7874AE22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2</a:t>
            </a: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Polis bilgisayar sistemini kötüye kullanmaktan ötürü görevden alınmış olan eski bir polis memuru olan Bobby,</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emniyet müdürlüğünden intikam almaya karar veri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Bir e-posta programı kullanarak, eskiden çalıştığı daireye saatte 70.000 e-posta gönderir</a:t>
            </a:r>
            <a:r>
              <a:rPr b="0" lang="en-GB" sz="2400" spc="-1" strike="noStrike">
                <a:solidFill>
                  <a:srgbClr val="000000"/>
                </a:solidFill>
                <a:latin typeface="Calibri"/>
                <a:ea typeface="ＭＳ Ｐゴシック"/>
              </a:rPr>
              <a:t>.</a:t>
            </a:r>
            <a:r>
              <a:rPr b="0" lang="tr-TR" sz="2400" spc="-1" strike="noStrike">
                <a:solidFill>
                  <a:srgbClr val="000000"/>
                </a:solidFill>
                <a:latin typeface="Calibri"/>
                <a:ea typeface="ＭＳ Ｐゴシック"/>
              </a:rPr>
              <a:t> Emniyet genel müdüründen gelmiş gibi görünsün diye iletinin başlığını değiştirir ve böylece emniyetin kullandığı e-posta sunucusunu bu iletinin yasal bir kaynaktan geldiğine inandırı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Emniyet sunucusu bu kadar yoğun trafiği kaldıramaz ve çöker</a:t>
            </a:r>
            <a:r>
              <a:rPr b="0" lang="en-GB" sz="2400" spc="-1" strike="noStrike">
                <a:solidFill>
                  <a:srgbClr val="000000"/>
                </a:solidFill>
                <a:latin typeface="Calibri"/>
                <a:ea typeface="ＭＳ Ｐゴシック"/>
              </a:rPr>
              <a:t>.</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ea typeface="ＭＳ Ｐゴシック"/>
              </a:rPr>
              <a:t>Bu bir sisteme müdahale suçu mudur?</a:t>
            </a:r>
            <a:endParaRPr b="0" lang="en-US" sz="2400" spc="-1" strike="noStrike">
              <a:solidFill>
                <a:srgbClr val="000000"/>
              </a:solidFill>
              <a:latin typeface="Calibri"/>
            </a:endParaRPr>
          </a:p>
        </p:txBody>
      </p:sp>
      <p:sp>
        <p:nvSpPr>
          <p:cNvPr id="4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DE3C49-EC2A-46D7-8C8E-166DE7D7BB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3</a:t>
            </a: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by </a:t>
            </a:r>
            <a:r>
              <a:rPr b="0" lang="tr-TR" sz="2400" spc="-1" strike="noStrike">
                <a:solidFill>
                  <a:srgbClr val="000000"/>
                </a:solidFill>
                <a:latin typeface="Calibri"/>
                <a:ea typeface="ＭＳ Ｐゴシック"/>
              </a:rPr>
              <a:t>ayrıldığı eşinin işyerine bir e-posta gönderir. İletinin başlığını eşinin bir arkadaşından gelmiş gibi değiştirir</a:t>
            </a:r>
            <a:r>
              <a:rPr b="0" lang="en-GB" sz="2400" spc="-1" strike="noStrike">
                <a:solidFill>
                  <a:srgbClr val="000000"/>
                </a:solidFill>
                <a:latin typeface="Calibri"/>
                <a:ea typeface="ＭＳ Ｐゴシック"/>
              </a:rPr>
              <a:t>. Bu </a:t>
            </a:r>
            <a:r>
              <a:rPr b="0" lang="tr-TR" sz="2400" spc="-1" strike="noStrike">
                <a:solidFill>
                  <a:srgbClr val="000000"/>
                </a:solidFill>
                <a:latin typeface="Calibri"/>
                <a:ea typeface="ＭＳ Ｐゴシック"/>
              </a:rPr>
              <a:t>e-posta, Bobby’nin eşinin bilgisayarını kontrol etmesine elveren “tüm bölgelere erişim” adlı bir program içermektedir.</a:t>
            </a:r>
            <a:r>
              <a:rPr b="0" lang="en-GB" sz="2400" spc="-1" strike="noStrike">
                <a:solidFill>
                  <a:srgbClr val="000000"/>
                </a:solidFill>
                <a:latin typeface="Calibri"/>
                <a:ea typeface="ＭＳ Ｐゴシック"/>
              </a:rPr>
              <a:t> Ancak </a:t>
            </a:r>
            <a:r>
              <a:rPr b="0" lang="tr-TR" sz="2400" spc="-1" strike="noStrike">
                <a:solidFill>
                  <a:srgbClr val="000000"/>
                </a:solidFill>
                <a:latin typeface="Calibri"/>
                <a:ea typeface="ＭＳ Ｐゴシック"/>
              </a:rPr>
              <a:t>Bobby programı kullanmaya fırsat bulamadan, bu veri girişinin kapsamını anlamak üzere sistemi kapatan sistem yöneticisi programın varlığını tespit eder.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ea typeface="ＭＳ Ｐゴシック"/>
              </a:rPr>
              <a:t>Bobby Budapeşte Sözleşmesi’nin </a:t>
            </a:r>
            <a:r>
              <a:rPr b="0" i="1" lang="tr-TR" sz="2400" spc="-1" strike="noStrike">
                <a:solidFill>
                  <a:srgbClr val="000000"/>
                </a:solidFill>
                <a:latin typeface="Calibri"/>
                <a:ea typeface="ＭＳ Ｐゴシック"/>
              </a:rPr>
              <a:t>5. maddesine aykırı bir suç mu işlemiştir</a:t>
            </a:r>
            <a:r>
              <a:rPr b="0" i="1" lang="en-GB" sz="2400" spc="-1" strike="noStrike">
                <a:solidFill>
                  <a:srgbClr val="000000"/>
                </a:solidFill>
                <a:latin typeface="Calibri"/>
                <a:ea typeface="ＭＳ Ｐゴシック"/>
              </a:rPr>
              <a:t>?</a:t>
            </a:r>
            <a:endParaRPr b="0" lang="en-US" sz="2400" spc="-1" strike="noStrike">
              <a:solidFill>
                <a:srgbClr val="000000"/>
              </a:solidFill>
              <a:latin typeface="Calibri"/>
            </a:endParaRPr>
          </a:p>
        </p:txBody>
      </p:sp>
      <p:sp>
        <p:nvSpPr>
          <p:cNvPr id="4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B6D371-17B2-4566-B717-D0E07575A4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ilgisayar sisteminin tamamı </a:t>
            </a:r>
            <a:br>
              <a:rPr sz="4400"/>
            </a:br>
            <a:r>
              <a:rPr b="1" lang="en-GB" sz="4400" spc="-1" strike="noStrike">
                <a:solidFill>
                  <a:srgbClr val="000000"/>
                </a:solidFill>
                <a:latin typeface="Calibri"/>
              </a:rPr>
              <a:t>veya bir kısmı</a:t>
            </a:r>
            <a:endParaRPr b="0" lang="en-US" sz="4400" spc="-1" strike="noStrike">
              <a:solidFill>
                <a:srgbClr val="000000"/>
              </a:solidFill>
              <a:latin typeface="Calibri"/>
            </a:endParaRPr>
          </a:p>
        </p:txBody>
      </p:sp>
      <p:sp>
        <p:nvSpPr>
          <p:cNvPr id="89" name="PlaceHolder 2"/>
          <p:cNvSpPr>
            <a:spLocks noGrp="1"/>
          </p:cNvSpPr>
          <p:nvPr>
            <p:ph/>
          </p:nvPr>
        </p:nvSpPr>
        <p:spPr>
          <a:xfrm>
            <a:off x="457200" y="1810800"/>
            <a:ext cx="8229600" cy="451980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1" lang="en-GB" sz="3200" spc="-1" strike="noStrike">
                <a:solidFill>
                  <a:srgbClr val="000000"/>
                </a:solidFill>
                <a:latin typeface="Calibri"/>
              </a:rPr>
              <a:t>Bilgisayar sisteminin bir kısmı</a:t>
            </a:r>
            <a:r>
              <a:rPr b="0" lang="en-GB" sz="3200" spc="-1" strike="noStrike">
                <a:solidFill>
                  <a:srgbClr val="000000"/>
                </a:solidFill>
                <a:latin typeface="Calibri"/>
              </a:rPr>
              <a:t>” şunları kapsar:</a:t>
            </a:r>
            <a:endParaRPr b="0" lang="en-US" sz="3200" spc="-1" strike="noStrike">
              <a:solidFill>
                <a:srgbClr val="000000"/>
              </a:solidFill>
              <a:latin typeface="Calibri"/>
            </a:endParaRPr>
          </a:p>
          <a:p>
            <a:pPr lvl="1" marL="743040" indent="0" algn="just">
              <a:lnSpc>
                <a:spcPct val="90000"/>
              </a:lnSpc>
              <a:spcBef>
                <a:spcPts val="3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onanım</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ileşenler</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ilgisayar sistemine kurulmuş sistemde depolanan veriler </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ilgisayar sistemindeki dizinler</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ilgisayar sistemindeki trafik verileri</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ilgisayar sistemindeki içerikle bağlantılı veriler</a:t>
            </a:r>
            <a:endParaRPr b="0" lang="en-US" sz="2800" spc="-1" strike="noStrike">
              <a:solidFill>
                <a:srgbClr val="000000"/>
              </a:solidFill>
              <a:latin typeface="Calibri"/>
            </a:endParaRPr>
          </a:p>
        </p:txBody>
      </p:sp>
      <p:sp>
        <p:nvSpPr>
          <p:cNvPr id="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2BA7831-9EDE-4137-B8A7-C9FB026EE9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4</a:t>
            </a:r>
            <a:endParaRPr b="0" lang="en-US" sz="4400" spc="-1" strike="noStrike">
              <a:solidFill>
                <a:srgbClr val="000000"/>
              </a:solidFill>
              <a:latin typeface="Calibri"/>
            </a:endParaRPr>
          </a:p>
        </p:txBody>
      </p:sp>
      <p:sp>
        <p:nvSpPr>
          <p:cNvPr id="439" name="PlaceHolder 2"/>
          <p:cNvSpPr>
            <a:spLocks noGrp="1"/>
          </p:cNvSpPr>
          <p:nvPr>
            <p:ph/>
          </p:nvPr>
        </p:nvSpPr>
        <p:spPr>
          <a:xfrm>
            <a:off x="457200" y="953640"/>
            <a:ext cx="8362800" cy="4924440"/>
          </a:xfrm>
          <a:prstGeom prst="rect">
            <a:avLst/>
          </a:prstGeom>
          <a:noFill/>
          <a:ln w="0">
            <a:noFill/>
          </a:ln>
        </p:spPr>
        <p:txBody>
          <a:bodyPr anchor="t">
            <a:normAutofit fontScale="97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ea typeface="ＭＳ Ｐゴシック"/>
              </a:rPr>
              <a:t>Kozmetiklerin hayvanlar üzerinde denenmesini protesto eden bir “aktivist korsan” internet grubu, kozmetik şirketlerinin ve Glamour adlı moda dergisinin web sitelerine yönelik “Dağıtık Hizmet Engelleme</a:t>
            </a:r>
            <a:r>
              <a:rPr b="0" lang="en-GB" sz="2200" spc="-1" strike="noStrike">
                <a:solidFill>
                  <a:srgbClr val="000000"/>
                </a:solidFill>
                <a:latin typeface="Calibri"/>
                <a:ea typeface="ＭＳ Ｐゴシック"/>
              </a:rPr>
              <a:t>” (DDOS) </a:t>
            </a:r>
            <a:r>
              <a:rPr b="0" lang="tr-TR" sz="2200" spc="-1" strike="noStrike">
                <a:solidFill>
                  <a:srgbClr val="000000"/>
                </a:solidFill>
                <a:latin typeface="Calibri"/>
                <a:ea typeface="ＭＳ Ｐゴシック"/>
              </a:rPr>
              <a:t>saldırıları düzenler</a:t>
            </a:r>
            <a:r>
              <a:rPr b="0" lang="en-GB" sz="2200" spc="-1" strike="noStrike">
                <a:solidFill>
                  <a:srgbClr val="000000"/>
                </a:solidFill>
                <a:latin typeface="Calibri"/>
                <a:ea typeface="ＭＳ Ｐゴシック"/>
              </a:rPr>
              <a:t>. </a:t>
            </a:r>
            <a:r>
              <a:rPr b="0" lang="tr-TR" sz="2200" spc="-1" strike="noStrike">
                <a:solidFill>
                  <a:srgbClr val="000000"/>
                </a:solidFill>
                <a:latin typeface="Calibri"/>
                <a:ea typeface="ＭＳ Ｐゴシック"/>
              </a:rPr>
              <a:t>Grup kendi internet sitesi aracılığıyla, web sitelerine yönelik saldırıları koordine etmeyi ve böylece belirli bir sürede bir web sitesine erişmeye çalışan trafik miktarını en yüksek seviyeye çıkarmayı sağlayan</a:t>
            </a:r>
            <a:r>
              <a:rPr b="0" lang="en-GB" sz="2200" spc="-1" strike="noStrike">
                <a:solidFill>
                  <a:srgbClr val="000000"/>
                </a:solidFill>
                <a:latin typeface="Calibri"/>
                <a:ea typeface="ＭＳ Ｐゴシック"/>
              </a:rPr>
              <a:t> “Supergun” </a:t>
            </a:r>
            <a:r>
              <a:rPr b="0" lang="tr-TR" sz="2200" spc="-1" strike="noStrike">
                <a:solidFill>
                  <a:srgbClr val="000000"/>
                </a:solidFill>
                <a:latin typeface="Calibri"/>
                <a:ea typeface="ＭＳ Ｐゴシック"/>
              </a:rPr>
              <a:t>(Süper silah) adını verdikleri bir yazılımı dağıtıma sokar. </a:t>
            </a:r>
            <a:r>
              <a:rPr b="0" lang="en-GB" sz="2200" spc="-1" strike="noStrike">
                <a:solidFill>
                  <a:srgbClr val="000000"/>
                </a:solidFill>
                <a:latin typeface="Calibri"/>
                <a:ea typeface="ＭＳ Ｐゴシック"/>
              </a:rPr>
              <a:t>“Supergun” </a:t>
            </a:r>
            <a:r>
              <a:rPr b="0" lang="tr-TR" sz="2200" spc="-1" strike="noStrike">
                <a:solidFill>
                  <a:srgbClr val="000000"/>
                </a:solidFill>
                <a:latin typeface="Calibri"/>
                <a:ea typeface="ＭＳ Ｐゴシック"/>
              </a:rPr>
              <a:t>yazılımı ilk başta sistem yöneticileri tarafından kendi sistemlerinin güvenliğini test eden bir araç olarak geliştirilmiştir. Ancak, halen tıpatıp aynı şekilde çalışmakla birlikte, kullanıcı arayüzü çok daha kolay kullanılacak hale getirilmiştir ve artık grubun logosunu taşımaktadır</a:t>
            </a:r>
            <a:r>
              <a:rPr b="0" lang="en-GB" sz="2200" spc="-1" strike="noStrike">
                <a:solidFill>
                  <a:srgbClr val="000000"/>
                </a:solidFill>
                <a:latin typeface="Calibri"/>
                <a:ea typeface="ＭＳ Ｐゴシック"/>
              </a:rPr>
              <a:t>.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200" spc="-1" strike="noStrike">
                <a:solidFill>
                  <a:srgbClr val="000000"/>
                </a:solidFill>
                <a:latin typeface="Calibri"/>
                <a:ea typeface="ＭＳ Ｐゴシック"/>
              </a:rPr>
              <a:t>Supergun</a:t>
            </a:r>
            <a:r>
              <a:rPr b="0" i="1" lang="tr-TR" sz="2200" spc="-1" strike="noStrike">
                <a:solidFill>
                  <a:srgbClr val="000000"/>
                </a:solidFill>
                <a:latin typeface="Calibri"/>
                <a:ea typeface="ＭＳ Ｐゴシック"/>
              </a:rPr>
              <a:t>’ı karşıdan yüklemeye uygun hale getirmek bir suç mudur</a:t>
            </a:r>
            <a:r>
              <a:rPr b="0" i="1" lang="en-GB" sz="2200" spc="-1" strike="noStrike">
                <a:solidFill>
                  <a:srgbClr val="000000"/>
                </a:solidFill>
                <a:latin typeface="Calibri"/>
                <a:ea typeface="ＭＳ Ｐゴシック"/>
              </a:rPr>
              <a:t>?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200" spc="-1" strike="noStrike">
                <a:solidFill>
                  <a:srgbClr val="000000"/>
                </a:solidFill>
                <a:latin typeface="Calibri"/>
                <a:ea typeface="ＭＳ Ｐゴシック"/>
              </a:rPr>
              <a:t>Supergun</a:t>
            </a:r>
            <a:r>
              <a:rPr b="0" i="1" lang="tr-TR" sz="2200" spc="-1" strike="noStrike">
                <a:solidFill>
                  <a:srgbClr val="000000"/>
                </a:solidFill>
                <a:latin typeface="Calibri"/>
                <a:ea typeface="ＭＳ Ｐゴシック"/>
              </a:rPr>
              <a:t>’ı bulundurmak suç mudur</a:t>
            </a:r>
            <a:r>
              <a:rPr b="0" i="1" lang="en-GB" sz="2200" spc="-1" strike="noStrike">
                <a:solidFill>
                  <a:srgbClr val="000000"/>
                </a:solidFill>
                <a:latin typeface="Calibri"/>
                <a:ea typeface="ＭＳ Ｐゴシック"/>
              </a:rPr>
              <a:t>?</a:t>
            </a:r>
            <a:endParaRPr b="0" lang="en-US" sz="2200" spc="-1" strike="noStrike">
              <a:solidFill>
                <a:srgbClr val="000000"/>
              </a:solidFill>
              <a:latin typeface="Calibri"/>
            </a:endParaRPr>
          </a:p>
        </p:txBody>
      </p:sp>
      <p:sp>
        <p:nvSpPr>
          <p:cNvPr id="4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B0F54-11CB-4B86-93C5-97D76CAC0F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5</a:t>
            </a:r>
            <a:endParaRPr b="0" lang="en-US" sz="4400" spc="-1" strike="noStrike">
              <a:solidFill>
                <a:srgbClr val="000000"/>
              </a:solidFill>
              <a:latin typeface="Calibri"/>
            </a:endParaRPr>
          </a:p>
        </p:txBody>
      </p:sp>
      <p:sp>
        <p:nvSpPr>
          <p:cNvPr id="442" name="PlaceHolder 2"/>
          <p:cNvSpPr>
            <a:spLocks noGrp="1"/>
          </p:cNvSpPr>
          <p:nvPr>
            <p:ph/>
          </p:nvPr>
        </p:nvSpPr>
        <p:spPr>
          <a:xfrm>
            <a:off x="457200" y="1298520"/>
            <a:ext cx="8229600" cy="471024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Bir yazılım sağlayıcısı </a:t>
            </a:r>
            <a:r>
              <a:rPr b="0" lang="tr-TR" sz="2400" spc="-1" strike="noStrike">
                <a:solidFill>
                  <a:srgbClr val="000000"/>
                </a:solidFill>
                <a:latin typeface="Calibri"/>
                <a:ea typeface="ＭＳ Ｐゴシック"/>
              </a:rPr>
              <a:t>bir </a:t>
            </a:r>
            <a:r>
              <a:rPr b="0" lang="en-GB" sz="2400" spc="-1" strike="noStrike">
                <a:solidFill>
                  <a:srgbClr val="000000"/>
                </a:solidFill>
                <a:latin typeface="Calibri"/>
                <a:ea typeface="ＭＳ Ｐゴシック"/>
              </a:rPr>
              <a:t>şifreleme yazılımı </a:t>
            </a:r>
            <a:r>
              <a:rPr b="0" lang="tr-TR" sz="2400" spc="-1" strike="noStrike">
                <a:solidFill>
                  <a:srgbClr val="000000"/>
                </a:solidFill>
                <a:latin typeface="Calibri"/>
                <a:ea typeface="ＭＳ Ｐゴシック"/>
              </a:rPr>
              <a:t>yaratmıştır</a:t>
            </a:r>
            <a:r>
              <a:rPr b="0" lang="en-GB" sz="2400" spc="-1" strike="noStrike">
                <a:solidFill>
                  <a:srgbClr val="000000"/>
                </a:solidFill>
                <a:latin typeface="Calibri"/>
                <a:ea typeface="ＭＳ Ｐゴシック"/>
              </a:rPr>
              <a:t>. Bu </a:t>
            </a:r>
            <a:r>
              <a:rPr b="0" lang="tr-TR" sz="2400" spc="-1" strike="noStrike">
                <a:solidFill>
                  <a:srgbClr val="000000"/>
                </a:solidFill>
                <a:latin typeface="Calibri"/>
                <a:ea typeface="ＭＳ Ｐゴシック"/>
              </a:rPr>
              <a:t>yazılım sabit diskin içeriğini iki bölüme ayırmakta, her bir bölüme erişim için bir şifre gerekmektedir; ancak sıradan kullanıcıya bu bölümlerden yalnızca biri görünmekte ve gizli bölümün varlığı halihazırda mevcut adli bilim yazılımları kullanılarak tespit edilememektedir.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Üretici bu yazılımın, zorla şifresini söylemek durumunda kalan herkes tarafından kullanılabileceğini iddia etmektedi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Yani görünürdeki dosyanın şifresi açıklansa bile, gizli bölümdeki veriler güvende olacaktır</a:t>
            </a:r>
            <a:r>
              <a:rPr b="0" lang="en-GB" sz="2400" spc="-1" strike="noStrike">
                <a:solidFill>
                  <a:srgbClr val="000000"/>
                </a:solidFill>
                <a:latin typeface="Calibri"/>
                <a:ea typeface="ＭＳ Ｐゴシック"/>
              </a:rPr>
              <a:t>.</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ea typeface="ＭＳ Ｐゴシック"/>
              </a:rPr>
              <a:t>Bu yazılımın sağlayıcısı cezai bir suç işlemekte midir</a:t>
            </a:r>
            <a:r>
              <a:rPr b="0" i="1" lang="en-GB" sz="2400" spc="-1" strike="noStrike">
                <a:solidFill>
                  <a:srgbClr val="000000"/>
                </a:solidFill>
                <a:latin typeface="Calibri"/>
                <a:ea typeface="ＭＳ Ｐゴシック"/>
              </a:rPr>
              <a:t>?</a:t>
            </a:r>
            <a:endParaRPr b="0" lang="en-US" sz="2400" spc="-1" strike="noStrike">
              <a:solidFill>
                <a:srgbClr val="000000"/>
              </a:solidFill>
              <a:latin typeface="Calibri"/>
            </a:endParaRPr>
          </a:p>
        </p:txBody>
      </p:sp>
      <p:sp>
        <p:nvSpPr>
          <p:cNvPr id="4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E4177C-6782-4E5F-A5FD-CA176B3398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6</a:t>
            </a:r>
            <a:endParaRPr b="0" lang="en-US" sz="4400" spc="-1" strike="noStrike">
              <a:solidFill>
                <a:srgbClr val="000000"/>
              </a:solidFill>
              <a:latin typeface="Calibri"/>
            </a:endParaRPr>
          </a:p>
        </p:txBody>
      </p:sp>
      <p:sp>
        <p:nvSpPr>
          <p:cNvPr id="445" name="PlaceHolder 2"/>
          <p:cNvSpPr>
            <a:spLocks noGrp="1"/>
          </p:cNvSpPr>
          <p:nvPr>
            <p:ph/>
          </p:nvPr>
        </p:nvSpPr>
        <p:spPr>
          <a:xfrm>
            <a:off x="457200" y="1185480"/>
            <a:ext cx="8229600" cy="4708440"/>
          </a:xfrm>
          <a:prstGeom prst="rect">
            <a:avLst/>
          </a:prstGeom>
          <a:noFill/>
          <a:ln w="0">
            <a:noFill/>
          </a:ln>
        </p:spPr>
        <p:txBody>
          <a:bodyPr anchor="t">
            <a:normAutofit fontScale="90000"/>
          </a:bodyPr>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Olaylar / Senaryo</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ea typeface="ＭＳ Ｐゴシック"/>
              </a:rPr>
              <a:t>Nick </a:t>
            </a:r>
            <a:r>
              <a:rPr b="0" lang="tr-TR" sz="2000" spc="-1" strike="noStrike">
                <a:solidFill>
                  <a:srgbClr val="000000"/>
                </a:solidFill>
                <a:latin typeface="Calibri"/>
                <a:ea typeface="ＭＳ Ｐゴシック"/>
              </a:rPr>
              <a:t>kendi İntranet’i (dahili ağ) olan büyük bir şirketin</a:t>
            </a:r>
            <a:r>
              <a:rPr b="0" lang="en-GB" sz="2000" spc="-1" strike="noStrike">
                <a:solidFill>
                  <a:srgbClr val="000000"/>
                </a:solidFill>
                <a:latin typeface="Calibri"/>
                <a:ea typeface="ＭＳ Ｐゴシック"/>
              </a:rPr>
              <a:t> IT departmanında </a:t>
            </a:r>
            <a:r>
              <a:rPr b="0" lang="tr-TR" sz="2000" spc="-1" strike="noStrike">
                <a:solidFill>
                  <a:srgbClr val="000000"/>
                </a:solidFill>
                <a:latin typeface="Calibri"/>
                <a:ea typeface="ＭＳ Ｐゴシック"/>
              </a:rPr>
              <a:t>çalışmaktadır</a:t>
            </a:r>
            <a:r>
              <a:rPr b="0" lang="en-GB" sz="2000" spc="-1" strike="noStrike">
                <a:solidFill>
                  <a:srgbClr val="000000"/>
                </a:solidFill>
                <a:latin typeface="Calibri"/>
                <a:ea typeface="ＭＳ Ｐゴシック"/>
              </a:rPr>
              <a:t>. </a:t>
            </a:r>
            <a:r>
              <a:rPr b="0" lang="tr-TR" sz="2000" spc="-1" strike="noStrike">
                <a:solidFill>
                  <a:srgbClr val="000000"/>
                </a:solidFill>
                <a:latin typeface="Calibri"/>
                <a:ea typeface="ＭＳ Ｐゴシック"/>
              </a:rPr>
              <a:t>Şirket politikası gereği, çalışanların şirketin bilgisayar ve internet bağlantısını kullanarak çevrimiçi alışveriş yapması yasaktır</a:t>
            </a:r>
            <a:r>
              <a:rPr b="0" lang="en-GB" sz="2000" spc="-1" strike="noStrike">
                <a:solidFill>
                  <a:srgbClr val="000000"/>
                </a:solidFill>
                <a:latin typeface="Calibri"/>
                <a:ea typeface="ＭＳ Ｐゴシック"/>
              </a:rPr>
              <a:t>. </a:t>
            </a:r>
            <a:r>
              <a:rPr b="0" lang="tr-TR" sz="2000" spc="-1" strike="noStrike">
                <a:solidFill>
                  <a:srgbClr val="000000"/>
                </a:solidFill>
                <a:latin typeface="Calibri"/>
                <a:ea typeface="ＭＳ Ｐゴシック"/>
              </a:rPr>
              <a:t>Nick boş zamanlarında şirketin çevrimiçi ödemeler yapan çalışanları tespit etmesine ve disiplin soruşturmasında delil olarak kullanılmak üzere bu bilgiyi kaydetmesine olanak sağlayacak bir yazılım geliştirmeye başlar</a:t>
            </a:r>
            <a:r>
              <a:rPr b="0" lang="en-GB" sz="2000" spc="-1" strike="noStrike">
                <a:solidFill>
                  <a:srgbClr val="000000"/>
                </a:solidFill>
                <a:latin typeface="Calibri"/>
                <a:ea typeface="ＭＳ Ｐゴシック"/>
              </a:rPr>
              <a:t>. Nick bunun için</a:t>
            </a:r>
            <a:r>
              <a:rPr b="0" lang="tr-TR" sz="2000" spc="-1" strike="noStrike">
                <a:solidFill>
                  <a:srgbClr val="000000"/>
                </a:solidFill>
                <a:latin typeface="Calibri"/>
                <a:ea typeface="ＭＳ Ｐゴシック"/>
              </a:rPr>
              <a:t> gerekli becerilere sahip olmadığından, </a:t>
            </a:r>
            <a:r>
              <a:rPr b="0" lang="en-GB" sz="2000" spc="-1" strike="noStrike">
                <a:solidFill>
                  <a:srgbClr val="000000"/>
                </a:solidFill>
                <a:latin typeface="Calibri"/>
                <a:ea typeface="ＭＳ Ｐゴシック"/>
              </a:rPr>
              <a:t>“Jüpiter”</a:t>
            </a:r>
            <a:r>
              <a:rPr b="0" lang="tr-TR" sz="2000" spc="-1" strike="noStrike">
                <a:solidFill>
                  <a:srgbClr val="000000"/>
                </a:solidFill>
                <a:latin typeface="Calibri"/>
                <a:ea typeface="ＭＳ Ｐゴシック"/>
              </a:rPr>
              <a:t>le internet üzerinden irtibata geçer</a:t>
            </a:r>
            <a:r>
              <a:rPr b="0" lang="en-GB" sz="2000" spc="-1" strike="noStrike">
                <a:solidFill>
                  <a:srgbClr val="000000"/>
                </a:solidFill>
                <a:latin typeface="Calibri"/>
                <a:ea typeface="ＭＳ Ｐゴシック"/>
              </a:rPr>
              <a:t>. </a:t>
            </a:r>
            <a:r>
              <a:rPr b="0" lang="tr-TR" sz="2000" spc="-1" strike="noStrike">
                <a:solidFill>
                  <a:srgbClr val="000000"/>
                </a:solidFill>
                <a:latin typeface="Calibri"/>
                <a:ea typeface="ＭＳ Ｐゴシック"/>
              </a:rPr>
              <a:t>Birlikte, kullanıcının bilgisayarına bir kez yüklendiğinde kullanıcı çevrimiçi ödemelerde kullanılana benzer çevrimiçi bir form doldurmaya başladığı anda aktive olan ve kullanıcı tarafından girilen verileri kaydeden bir yazılım geliştirirler. </a:t>
            </a:r>
            <a:r>
              <a:rPr b="0" lang="en-GB" sz="2000" spc="-1" strike="noStrike">
                <a:solidFill>
                  <a:srgbClr val="000000"/>
                </a:solidFill>
                <a:latin typeface="Calibri"/>
                <a:ea typeface="ＭＳ Ｐゴシック"/>
              </a:rPr>
              <a:t>Nick’</a:t>
            </a:r>
            <a:r>
              <a:rPr b="0" lang="tr-TR" sz="2000" spc="-1" strike="noStrike">
                <a:solidFill>
                  <a:srgbClr val="000000"/>
                </a:solidFill>
                <a:latin typeface="Calibri"/>
                <a:ea typeface="ＭＳ Ｐゴシック"/>
              </a:rPr>
              <a:t>in şirketi bu durumdan gayet memnun olmakla birlikte, Jüpiter bir Truva programı kullanarak bu yazılımı dağıtmaya başlar.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ea typeface="ＭＳ Ｐゴシック"/>
              </a:rPr>
              <a:t>Nick </a:t>
            </a:r>
            <a:r>
              <a:rPr b="0" i="1" lang="tr-TR" sz="2000" spc="-1" strike="noStrike">
                <a:solidFill>
                  <a:srgbClr val="000000"/>
                </a:solidFill>
                <a:latin typeface="Calibri"/>
                <a:ea typeface="ＭＳ Ｐゴシック"/>
              </a:rPr>
              <a:t>bir suç işlemiş midir</a:t>
            </a:r>
            <a:r>
              <a:rPr b="0" i="1" lang="en-GB" sz="2000" spc="-1" strike="noStrike">
                <a:solidFill>
                  <a:srgbClr val="000000"/>
                </a:solidFill>
                <a:latin typeface="Calibri"/>
                <a:ea typeface="ＭＳ Ｐゴシック"/>
              </a:rPr>
              <a:t>?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000" spc="-1" strike="noStrike">
                <a:solidFill>
                  <a:srgbClr val="000000"/>
                </a:solidFill>
                <a:latin typeface="Calibri"/>
                <a:ea typeface="ＭＳ Ｐゴシック"/>
              </a:rPr>
              <a:t>Şirket bir suç işlemiş midir?</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ea typeface="ＭＳ Ｐゴシック"/>
              </a:rPr>
              <a:t>Jüpiter </a:t>
            </a:r>
            <a:r>
              <a:rPr b="0" i="1" lang="tr-TR" sz="2000" spc="-1" strike="noStrike">
                <a:solidFill>
                  <a:srgbClr val="000000"/>
                </a:solidFill>
                <a:latin typeface="Calibri"/>
                <a:ea typeface="ＭＳ Ｐゴシック"/>
              </a:rPr>
              <a:t>bir suç işlemiş midir</a:t>
            </a:r>
            <a:r>
              <a:rPr b="0" i="1" lang="en-GB" sz="2000" spc="-1" strike="noStrike">
                <a:solidFill>
                  <a:srgbClr val="000000"/>
                </a:solidFill>
                <a:latin typeface="Calibri"/>
                <a:ea typeface="ＭＳ Ｐゴシック"/>
              </a:rPr>
              <a:t>?</a:t>
            </a:r>
            <a:endParaRPr b="0" lang="en-US" sz="2000" spc="-1" strike="noStrike">
              <a:solidFill>
                <a:srgbClr val="000000"/>
              </a:solidFill>
              <a:latin typeface="Calibri"/>
            </a:endParaRPr>
          </a:p>
        </p:txBody>
      </p:sp>
      <p:sp>
        <p:nvSpPr>
          <p:cNvPr id="4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E4920F-628B-4A7B-8286-5AF2910394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7</a:t>
            </a: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kendi </a:t>
            </a:r>
            <a:r>
              <a:rPr b="0" lang="tr-TR" sz="3200" spc="-1" strike="noStrike">
                <a:solidFill>
                  <a:srgbClr val="000000"/>
                </a:solidFill>
                <a:latin typeface="Calibri"/>
                <a:ea typeface="ＭＳ Ｐゴシック"/>
              </a:rPr>
              <a:t>ev bilgisayarında gerçeğe benzer banka çekleri üreten, piyasada satılan bir fotoğraf yazılımı kullanmaktadır.</a:t>
            </a:r>
            <a:r>
              <a:rPr b="0" lang="en-GB" sz="3200" spc="-1" strike="noStrike">
                <a:solidFill>
                  <a:srgbClr val="000000"/>
                </a:solidFill>
                <a:latin typeface="Calibri"/>
                <a:ea typeface="ＭＳ Ｐゴシック"/>
              </a:rPr>
              <a:t> </a:t>
            </a:r>
            <a:r>
              <a:rPr b="0" lang="tr-TR" sz="3200" spc="-1" strike="noStrike">
                <a:solidFill>
                  <a:srgbClr val="000000"/>
                </a:solidFill>
                <a:latin typeface="Calibri"/>
                <a:ea typeface="ＭＳ Ｐゴシック"/>
              </a:rPr>
              <a:t>Çeki bankasına götürür, banka bunu gerçek bir çek olarak kabul eder ve Stefan’ın hesabına nakit aktarır</a:t>
            </a:r>
            <a:r>
              <a:rPr b="0" lang="en-GB" sz="3200" spc="-1" strike="noStrike">
                <a:solidFill>
                  <a:srgbClr val="000000"/>
                </a:solidFill>
                <a:latin typeface="Calibri"/>
                <a:ea typeface="ＭＳ Ｐゴシック"/>
              </a:rPr>
              <a: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ea typeface="ＭＳ Ｐゴシック"/>
              </a:rPr>
              <a:t>Stefan </a:t>
            </a:r>
            <a:r>
              <a:rPr b="0" i="1" lang="tr-TR" sz="3200" spc="-1" strike="noStrike">
                <a:solidFill>
                  <a:srgbClr val="000000"/>
                </a:solidFill>
                <a:latin typeface="Calibri"/>
                <a:ea typeface="ＭＳ Ｐゴシック"/>
              </a:rPr>
              <a:t>hangi suçu işlemiştir</a:t>
            </a:r>
            <a:r>
              <a:rPr b="0" i="1" lang="en-GB" sz="3200" spc="-1" strike="noStrike">
                <a:solidFill>
                  <a:srgbClr val="000000"/>
                </a:solidFill>
                <a:latin typeface="Calibri"/>
                <a:ea typeface="ＭＳ Ｐゴシック"/>
              </a:rPr>
              <a:t>?</a:t>
            </a:r>
            <a:endParaRPr b="0" lang="en-US" sz="3200" spc="-1" strike="noStrike">
              <a:solidFill>
                <a:srgbClr val="000000"/>
              </a:solidFill>
              <a:latin typeface="Calibri"/>
            </a:endParaRPr>
          </a:p>
        </p:txBody>
      </p:sp>
      <p:sp>
        <p:nvSpPr>
          <p:cNvPr id="4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7B57F8-B5D5-4584-88CA-EB16C5EDAA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8</a:t>
            </a:r>
            <a:endParaRPr b="0" lang="en-US" sz="4400" spc="-1" strike="noStrike">
              <a:solidFill>
                <a:srgbClr val="000000"/>
              </a:solidFill>
              <a:latin typeface="Calibri"/>
            </a:endParaRPr>
          </a:p>
        </p:txBody>
      </p:sp>
      <p:sp>
        <p:nvSpPr>
          <p:cNvPr id="451" name="PlaceHolder 2"/>
          <p:cNvSpPr>
            <a:spLocks noGrp="1"/>
          </p:cNvSpPr>
          <p:nvPr>
            <p:ph/>
          </p:nvPr>
        </p:nvSpPr>
        <p:spPr>
          <a:xfrm>
            <a:off x="457200" y="148428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tefan </a:t>
            </a:r>
            <a:r>
              <a:rPr b="0" lang="tr-TR" sz="3000" spc="-1" strike="noStrike">
                <a:solidFill>
                  <a:srgbClr val="000000"/>
                </a:solidFill>
                <a:latin typeface="Calibri"/>
                <a:ea typeface="ＭＳ Ｐゴシック"/>
              </a:rPr>
              <a:t>sürekli arkadaşlarına gençken ne kadar yetenekli bir atlet olduğu konusunda övünür. Arkadaşları buna şüpheyle yaklaşır. Bunun üzerine Stefan eski okulunun veri tabanına erişmeyi başarır ve kayıtları, kendisini okul atletizm takımının kaptanı ve pek çok madalya kazanmış biri olarak gösterecek şekilde değiştirir</a:t>
            </a:r>
            <a:r>
              <a:rPr b="0" lang="en-GB" sz="3000" spc="-1" strike="noStrike">
                <a:solidFill>
                  <a:srgbClr val="000000"/>
                </a:solidFill>
                <a:latin typeface="Calibri"/>
                <a:ea typeface="ＭＳ Ｐゴシック"/>
              </a:rPr>
              <a:t>.</a:t>
            </a:r>
            <a:endParaRPr b="0" lang="en-US" sz="3000" spc="-1" strike="noStrike">
              <a:solidFill>
                <a:srgbClr val="000000"/>
              </a:solidFill>
              <a:latin typeface="Calibri"/>
            </a:endParaRPr>
          </a:p>
          <a:p>
            <a:pPr marL="32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000" spc="-1" strike="noStrike">
                <a:solidFill>
                  <a:srgbClr val="000000"/>
                </a:solidFill>
                <a:latin typeface="Calibri"/>
                <a:ea typeface="ＭＳ Ｐゴシック"/>
              </a:rPr>
              <a:t>Bu bilgisayarla</a:t>
            </a:r>
            <a:r>
              <a:rPr b="0" i="1" lang="tr-TR" sz="3000" spc="-1" strike="noStrike">
                <a:solidFill>
                  <a:srgbClr val="000000"/>
                </a:solidFill>
                <a:latin typeface="Calibri"/>
                <a:ea typeface="ＭＳ Ｐゴシック"/>
              </a:rPr>
              <a:t> bağlantılı bir </a:t>
            </a:r>
            <a:r>
              <a:rPr b="0" i="1" lang="en-GB" sz="3000" spc="-1" strike="noStrike">
                <a:solidFill>
                  <a:srgbClr val="000000"/>
                </a:solidFill>
                <a:latin typeface="Calibri"/>
                <a:ea typeface="ＭＳ Ｐゴシック"/>
              </a:rPr>
              <a:t>sahtecilik suç</a:t>
            </a:r>
            <a:r>
              <a:rPr b="0" i="1" lang="tr-TR" sz="3000" spc="-1" strike="noStrike">
                <a:solidFill>
                  <a:srgbClr val="000000"/>
                </a:solidFill>
                <a:latin typeface="Calibri"/>
                <a:ea typeface="ＭＳ Ｐゴシック"/>
              </a:rPr>
              <a:t>u mudu</a:t>
            </a:r>
            <a:r>
              <a:rPr b="0" i="1" lang="en-GB" sz="3000" spc="-1" strike="noStrike">
                <a:solidFill>
                  <a:srgbClr val="000000"/>
                </a:solidFill>
                <a:latin typeface="Calibri"/>
                <a:ea typeface="ＭＳ Ｐゴシック"/>
              </a:rPr>
              <a:t>r?</a:t>
            </a:r>
            <a:endParaRPr b="0" lang="en-US" sz="3000" spc="-1" strike="noStrike">
              <a:solidFill>
                <a:srgbClr val="000000"/>
              </a:solidFill>
              <a:latin typeface="Calibri"/>
            </a:endParaRPr>
          </a:p>
        </p:txBody>
      </p:sp>
      <p:sp>
        <p:nvSpPr>
          <p:cNvPr id="4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264F82-5ADC-4319-9FC2-A746C51646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9</a:t>
            </a:r>
            <a:endParaRPr b="0" lang="en-US" sz="4400" spc="-1" strike="noStrike">
              <a:solidFill>
                <a:srgbClr val="000000"/>
              </a:solidFill>
              <a:latin typeface="Calibri"/>
            </a:endParaRPr>
          </a:p>
        </p:txBody>
      </p:sp>
      <p:sp>
        <p:nvSpPr>
          <p:cNvPr id="454" name="PlaceHolder 2"/>
          <p:cNvSpPr>
            <a:spLocks noGrp="1"/>
          </p:cNvSpPr>
          <p:nvPr>
            <p:ph/>
          </p:nvPr>
        </p:nvSpPr>
        <p:spPr>
          <a:xfrm>
            <a:off x="457200" y="1171440"/>
            <a:ext cx="8229600" cy="4708800"/>
          </a:xfrm>
          <a:prstGeom prst="rect">
            <a:avLst/>
          </a:prstGeom>
          <a:noFill/>
          <a:ln w="0">
            <a:noFill/>
          </a:ln>
        </p:spPr>
        <p:txBody>
          <a:bodyPr anchor="t">
            <a:normAutofit fontScale="93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Emniyet Müdürlüğü’ndeki işini kaybeden ve boşandığından beri karısına nafaka vermek zorunda olan Bobby, yeni bir para kazanma yolu aramaktadır. Hisse alım satımına her zaman ilgi duyduğundan, Belçika’da uranyum çıkartmak için özel izni bulunan </a:t>
            </a:r>
            <a:r>
              <a:rPr b="0" lang="en-GB" sz="2400" spc="-1" strike="noStrike">
                <a:solidFill>
                  <a:srgbClr val="000000"/>
                </a:solidFill>
                <a:latin typeface="Calibri"/>
                <a:ea typeface="ＭＳ Ｐゴシック"/>
              </a:rPr>
              <a:t>Flanders Mining Inc</a:t>
            </a:r>
            <a:r>
              <a:rPr b="0" lang="tr-TR" sz="2400" spc="-1" strike="noStrike">
                <a:solidFill>
                  <a:srgbClr val="000000"/>
                </a:solidFill>
                <a:latin typeface="Calibri"/>
                <a:ea typeface="ＭＳ Ｐゴシック"/>
              </a:rPr>
              <a:t> adlı şirketin tanesi 1 Avrodan 1000 adet hissesini alır. Bobby, üyeleri de onun gibi borsaya ilgi duyan bir internet forumuna üyedir. Bu foruma, Belçika hükümeti için çalışan bir arkadaşının Belçika’da önemli miktarda uranyum tespit edildiğini söylediğine dair bir mesaj yolla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Bu mesajı takiben </a:t>
            </a:r>
            <a:r>
              <a:rPr b="0" lang="en-GB" sz="2400" spc="-1" strike="noStrike">
                <a:solidFill>
                  <a:srgbClr val="000000"/>
                </a:solidFill>
                <a:latin typeface="Calibri"/>
                <a:ea typeface="ＭＳ Ｐゴシック"/>
              </a:rPr>
              <a:t>Flanders Mining </a:t>
            </a:r>
            <a:r>
              <a:rPr b="0" lang="tr-TR" sz="2400" spc="-1" strike="noStrike">
                <a:solidFill>
                  <a:srgbClr val="000000"/>
                </a:solidFill>
                <a:latin typeface="Calibri"/>
                <a:ea typeface="ＭＳ Ｐゴシック"/>
              </a:rPr>
              <a:t>hisse fiyatları yükselişe geçer, bir haftada her bir hissenin değeri 1000 Avro’ya ulaşı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Bobby bunun üzerine hisselerini satar</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ea typeface="ＭＳ Ｐゴシック"/>
              </a:rPr>
              <a:t>Bobby </a:t>
            </a:r>
            <a:r>
              <a:rPr b="0" i="1" lang="tr-TR" sz="2400" spc="-1" strike="noStrike">
                <a:solidFill>
                  <a:srgbClr val="000000"/>
                </a:solidFill>
                <a:latin typeface="Calibri"/>
                <a:ea typeface="ＭＳ Ｐゴシック"/>
              </a:rPr>
              <a:t>bir suç işlemiş midir</a:t>
            </a:r>
            <a:r>
              <a:rPr b="0" i="1" lang="en-GB"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p:txBody>
      </p:sp>
      <p:sp>
        <p:nvSpPr>
          <p:cNvPr id="4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79C637-C494-42D3-95E8-A7F2361B8A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0</a:t>
            </a:r>
            <a:endParaRPr b="0" lang="en-US" sz="4400" spc="-1" strike="noStrike">
              <a:solidFill>
                <a:srgbClr val="000000"/>
              </a:solidFill>
              <a:latin typeface="Calibri"/>
            </a:endParaRPr>
          </a:p>
        </p:txBody>
      </p:sp>
      <p:sp>
        <p:nvSpPr>
          <p:cNvPr id="457"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a:t>
            </a:r>
            <a:r>
              <a:rPr b="0" lang="tr-TR" sz="3200" spc="-1" strike="noStrike">
                <a:solidFill>
                  <a:srgbClr val="000000"/>
                </a:solidFill>
                <a:latin typeface="Calibri"/>
                <a:ea typeface="ＭＳ Ｐゴシック"/>
              </a:rPr>
              <a:t>arabayla bankaya gider</a:t>
            </a:r>
            <a:r>
              <a:rPr b="0" lang="en-GB" sz="3200" spc="-1" strike="noStrike">
                <a:solidFill>
                  <a:srgbClr val="000000"/>
                </a:solidFill>
                <a:latin typeface="Calibri"/>
                <a:ea typeface="ＭＳ Ｐゴシック"/>
              </a:rPr>
              <a:t>. </a:t>
            </a:r>
            <a:r>
              <a:rPr b="0" lang="tr-TR" sz="3200" spc="-1" strike="noStrike">
                <a:solidFill>
                  <a:srgbClr val="000000"/>
                </a:solidFill>
                <a:latin typeface="Calibri"/>
                <a:ea typeface="ＭＳ Ｐゴシック"/>
              </a:rPr>
              <a:t>Park yerinde bozuk parası olmadığını fark eder. Parkmetreye bir rondela atarak fiş alır</a:t>
            </a:r>
            <a:r>
              <a:rPr b="0" lang="en-GB" sz="3200" spc="-1" strike="noStrike">
                <a:solidFill>
                  <a:srgbClr val="000000"/>
                </a:solidFill>
                <a:latin typeface="Calibri"/>
                <a:ea typeface="ＭＳ Ｐゴシック"/>
              </a:rPr>
              <a: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ea typeface="ＭＳ Ｐゴシック"/>
              </a:rPr>
              <a:t>Stefan </a:t>
            </a:r>
            <a:r>
              <a:rPr b="0" i="1" lang="tr-TR" sz="3200" spc="-1" strike="noStrike">
                <a:solidFill>
                  <a:srgbClr val="000000"/>
                </a:solidFill>
                <a:latin typeface="Calibri"/>
                <a:ea typeface="ＭＳ Ｐゴシック"/>
              </a:rPr>
              <a:t>bir suç işlemiş midir</a:t>
            </a:r>
            <a:r>
              <a:rPr b="0" i="1" lang="en-GB" sz="3200" spc="-1" strike="noStrike">
                <a:solidFill>
                  <a:srgbClr val="000000"/>
                </a:solidFill>
                <a:latin typeface="Calibri"/>
                <a:ea typeface="ＭＳ Ｐゴシック"/>
              </a:rPr>
              <a:t>?</a:t>
            </a:r>
            <a:r>
              <a:rPr b="0" lang="en-GB" sz="3200" spc="-1" strike="noStrike">
                <a:solidFill>
                  <a:srgbClr val="000000"/>
                </a:solidFill>
                <a:latin typeface="Calibri"/>
                <a:ea typeface="ＭＳ Ｐゴシック"/>
              </a:rPr>
              <a:t> </a:t>
            </a:r>
            <a:endParaRPr b="0" lang="en-US" sz="3200" spc="-1" strike="noStrike">
              <a:solidFill>
                <a:srgbClr val="000000"/>
              </a:solidFill>
              <a:latin typeface="Calibri"/>
            </a:endParaRPr>
          </a:p>
        </p:txBody>
      </p:sp>
      <p:sp>
        <p:nvSpPr>
          <p:cNvPr id="4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5F00F3-AB68-44B4-8D71-565AF421AE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1</a:t>
            </a:r>
            <a:endParaRPr b="0" lang="en-US" sz="4400" spc="-1" strike="noStrike">
              <a:solidFill>
                <a:srgbClr val="000000"/>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ＭＳ Ｐゴシック"/>
              </a:rPr>
              <a:t>Stefan yakalandıktan sonra polis, Stefan’ın üçüncü şahıslara ait çok fazla sayıda kredi kartı bilgisine sahip olduğunu ortaya çıkarmıştır</a:t>
            </a:r>
            <a:r>
              <a:rPr b="0" lang="en-GB" sz="3200" spc="-1" strike="noStrike">
                <a:solidFill>
                  <a:srgbClr val="000000"/>
                </a:solidFill>
                <a:latin typeface="Calibri"/>
                <a:ea typeface="ＭＳ Ｐゴシック"/>
              </a:rPr>
              <a:t>.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ea typeface="ＭＳ Ｐゴシック"/>
              </a:rPr>
              <a:t>Bu verileri bulundurmak </a:t>
            </a:r>
            <a:r>
              <a:rPr b="0" i="1" lang="tr-TR" sz="3200" spc="-1" strike="noStrike">
                <a:solidFill>
                  <a:srgbClr val="000000"/>
                </a:solidFill>
                <a:latin typeface="Calibri"/>
                <a:ea typeface="ＭＳ Ｐゴシック"/>
              </a:rPr>
              <a:t>suç mudur</a:t>
            </a:r>
            <a:r>
              <a:rPr b="0" i="1" lang="en-GB" sz="3200" spc="-1" strike="noStrike">
                <a:solidFill>
                  <a:srgbClr val="000000"/>
                </a:solidFill>
                <a:latin typeface="Calibri"/>
                <a:ea typeface="ＭＳ Ｐゴシック"/>
              </a:rPr>
              <a:t>?</a:t>
            </a:r>
            <a:endParaRPr b="0" lang="en-US" sz="3200" spc="-1" strike="noStrike">
              <a:solidFill>
                <a:srgbClr val="000000"/>
              </a:solidFill>
              <a:latin typeface="Calibri"/>
            </a:endParaRPr>
          </a:p>
        </p:txBody>
      </p:sp>
      <p:sp>
        <p:nvSpPr>
          <p:cNvPr id="4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5D8344-9E66-467B-A1D3-BB43266B27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2</a:t>
            </a: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Olaylar / Senaryo</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dam </a:t>
            </a:r>
            <a:r>
              <a:rPr b="0" lang="tr-TR" sz="2800" spc="-1" strike="noStrike">
                <a:solidFill>
                  <a:srgbClr val="000000"/>
                </a:solidFill>
                <a:latin typeface="Calibri"/>
                <a:ea typeface="ＭＳ Ｐゴシック"/>
              </a:rPr>
              <a:t>cinsel olarak istismar edilen çocukların fotoğraflarını paylaşan özel bir internet grubunun üyesidir</a:t>
            </a:r>
            <a:r>
              <a:rPr b="0" lang="en-GB" sz="2800" spc="-1" strike="noStrike">
                <a:solidFill>
                  <a:srgbClr val="000000"/>
                </a:solidFill>
                <a:latin typeface="Calibri"/>
                <a:ea typeface="ＭＳ Ｐゴシック"/>
              </a:rPr>
              <a:t>.  Adam </a:t>
            </a:r>
            <a:r>
              <a:rPr b="0" lang="tr-TR" sz="2800" spc="-1" strike="noStrike">
                <a:solidFill>
                  <a:srgbClr val="000000"/>
                </a:solidFill>
                <a:latin typeface="Calibri"/>
                <a:ea typeface="ＭＳ Ｐゴシック"/>
              </a:rPr>
              <a:t>aynı zamanda bir </a:t>
            </a:r>
            <a:r>
              <a:rPr b="0" lang="en-GB" sz="2800" spc="-1" strike="noStrike">
                <a:solidFill>
                  <a:srgbClr val="000000"/>
                </a:solidFill>
                <a:latin typeface="Calibri"/>
                <a:ea typeface="ＭＳ Ｐゴシック"/>
              </a:rPr>
              <a:t>“</a:t>
            </a:r>
            <a:r>
              <a:rPr b="0" lang="tr-TR" sz="2800" spc="-1" strike="noStrike">
                <a:solidFill>
                  <a:srgbClr val="000000"/>
                </a:solidFill>
                <a:latin typeface="Calibri"/>
                <a:ea typeface="ＭＳ Ｐゴシック"/>
              </a:rPr>
              <a:t>eşler arası</a:t>
            </a:r>
            <a:r>
              <a:rPr b="0" lang="en-GB" sz="2800" spc="-1" strike="noStrike">
                <a:solidFill>
                  <a:srgbClr val="000000"/>
                </a:solidFill>
                <a:latin typeface="Calibri"/>
                <a:ea typeface="ＭＳ Ｐゴシック"/>
              </a:rPr>
              <a:t>” (peer to peer)</a:t>
            </a:r>
            <a:r>
              <a:rPr b="0" lang="tr-TR" sz="2800" spc="-1" strike="noStrike">
                <a:solidFill>
                  <a:srgbClr val="000000"/>
                </a:solidFill>
                <a:latin typeface="Calibri"/>
                <a:ea typeface="ＭＳ Ｐゴシック"/>
              </a:rPr>
              <a:t> dosya paylaşım grubunun da üyesidir</a:t>
            </a:r>
            <a:r>
              <a:rPr b="0" lang="en-GB" sz="2800" spc="-1" strike="noStrike">
                <a:solidFill>
                  <a:srgbClr val="000000"/>
                </a:solidFill>
                <a:latin typeface="Calibri"/>
                <a:ea typeface="ＭＳ Ｐゴシック"/>
              </a:rPr>
              <a:t>, </a:t>
            </a:r>
            <a:r>
              <a:rPr b="0" lang="tr-TR" sz="2800" spc="-1" strike="noStrike">
                <a:solidFill>
                  <a:srgbClr val="000000"/>
                </a:solidFill>
                <a:latin typeface="Calibri"/>
                <a:ea typeface="ＭＳ Ｐゴシック"/>
              </a:rPr>
              <a:t>internet grubundan edindiği istismar edilen çocuk fotoğraflarını bu “eşler arası” paylaşılan dosyalar içerisine koyarak, “eşler arası” ağdaki diğer kişiler açısından da erişilebilir kılar</a:t>
            </a:r>
            <a:r>
              <a:rPr b="0" lang="en-GB" sz="2800" spc="-1" strike="noStrike">
                <a:solidFill>
                  <a:srgbClr val="000000"/>
                </a:solidFill>
                <a:latin typeface="Calibri"/>
                <a:ea typeface="ＭＳ Ｐゴシック"/>
              </a:rPr>
              <a:t>. </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ea typeface="ＭＳ Ｐゴシック"/>
              </a:rPr>
              <a:t>Adam </a:t>
            </a:r>
            <a:r>
              <a:rPr b="0" i="1" lang="tr-TR" sz="2800" spc="-1" strike="noStrike">
                <a:solidFill>
                  <a:srgbClr val="000000"/>
                </a:solidFill>
                <a:latin typeface="Calibri"/>
                <a:ea typeface="ＭＳ Ｐゴシック"/>
              </a:rPr>
              <a:t>hangi suçları işlemiştir</a:t>
            </a:r>
            <a:r>
              <a:rPr b="0" i="1" lang="en-GB" sz="2800" spc="-1" strike="noStrike">
                <a:solidFill>
                  <a:srgbClr val="000000"/>
                </a:solidFill>
                <a:latin typeface="Calibri"/>
                <a:ea typeface="ＭＳ Ｐゴシック"/>
              </a:rPr>
              <a:t>?</a:t>
            </a:r>
            <a:endParaRPr b="0" lang="en-US" sz="2800" spc="-1" strike="noStrike">
              <a:solidFill>
                <a:srgbClr val="000000"/>
              </a:solidFill>
              <a:latin typeface="Calibri"/>
            </a:endParaRPr>
          </a:p>
        </p:txBody>
      </p:sp>
      <p:sp>
        <p:nvSpPr>
          <p:cNvPr id="4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E75363-3544-4722-80CE-7476C923F4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3</a:t>
            </a: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Bill, </a:t>
            </a:r>
            <a:r>
              <a:rPr b="0" lang="tr-TR" sz="3200" spc="-1" strike="noStrike">
                <a:solidFill>
                  <a:srgbClr val="000000"/>
                </a:solidFill>
                <a:latin typeface="Calibri"/>
                <a:ea typeface="ＭＳ Ｐゴシック"/>
              </a:rPr>
              <a:t>Kamboçya dönüşü havaalanında yakalanır</a:t>
            </a:r>
            <a:r>
              <a:rPr b="0" lang="en-GB" sz="3200" spc="-1" strike="noStrike">
                <a:solidFill>
                  <a:srgbClr val="000000"/>
                </a:solidFill>
                <a:latin typeface="Calibri"/>
                <a:ea typeface="ＭＳ Ｐゴシック"/>
              </a:rPr>
              <a:t>. </a:t>
            </a:r>
            <a:r>
              <a:rPr b="0" lang="tr-TR" sz="3200" spc="-1" strike="noStrike">
                <a:solidFill>
                  <a:srgbClr val="000000"/>
                </a:solidFill>
                <a:latin typeface="Calibri"/>
                <a:ea typeface="ＭＳ Ｐゴシック"/>
              </a:rPr>
              <a:t>Dizüstü bilgisayarında Güneydoğu Asyalı olduğu anlaşılan çocuklarla cinsel ilişkiye girdiğini gösteren çok sayıda görsel bulunur</a:t>
            </a:r>
            <a:r>
              <a:rPr b="0" lang="en-GB" sz="3200" spc="-1" strike="noStrike">
                <a:solidFill>
                  <a:srgbClr val="000000"/>
                </a:solidFill>
                <a:latin typeface="Calibri"/>
                <a:ea typeface="ＭＳ Ｐゴシック"/>
              </a:rPr>
              <a: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3200" spc="-1" strike="noStrike">
                <a:solidFill>
                  <a:srgbClr val="000000"/>
                </a:solidFill>
                <a:latin typeface="Calibri"/>
                <a:ea typeface="ＭＳ Ｐゴシック"/>
              </a:rPr>
              <a:t>Bill hakkında bu görüntülerle ilgili olarak kovuşturma başlatılabilir mi?</a:t>
            </a:r>
            <a:r>
              <a:rPr b="0" lang="en-GB" sz="3200" spc="-1" strike="noStrike">
                <a:solidFill>
                  <a:srgbClr val="000000"/>
                </a:solidFill>
                <a:latin typeface="Calibri"/>
                <a:ea typeface="ＭＳ Ｐゴシック"/>
              </a:rPr>
              <a:t> </a:t>
            </a:r>
            <a:endParaRPr b="0" lang="en-US" sz="3200" spc="-1" strike="noStrike">
              <a:solidFill>
                <a:srgbClr val="000000"/>
              </a:solidFill>
              <a:latin typeface="Calibri"/>
            </a:endParaRPr>
          </a:p>
        </p:txBody>
      </p:sp>
      <p:sp>
        <p:nvSpPr>
          <p:cNvPr id="4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616102-FC35-474B-BDFE-D7FB0F04B3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a:t>
            </a:r>
            <a:r>
              <a:rPr b="0" lang="tr-TR" sz="4400" spc="-1" strike="noStrike">
                <a:solidFill>
                  <a:srgbClr val="000000"/>
                </a:solidFill>
                <a:latin typeface="Calibri"/>
              </a:rPr>
              <a:t> – </a:t>
            </a:r>
            <a:r>
              <a:rPr b="1" lang="tr-TR" sz="4400" spc="-1" strike="noStrike">
                <a:solidFill>
                  <a:srgbClr val="000000"/>
                </a:solidFill>
                <a:latin typeface="Calibri"/>
              </a:rPr>
              <a:t>Yasadışı Erişim</a:t>
            </a: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r bilgisayar sisteminin tamamına veya bir kısmına </a:t>
            </a:r>
            <a:r>
              <a:rPr b="1" lang="tr-TR" sz="4000" spc="-1" strike="noStrike">
                <a:solidFill>
                  <a:srgbClr val="ff0000"/>
                </a:solidFill>
                <a:latin typeface="Calibri"/>
              </a:rPr>
              <a:t>haksız yere </a:t>
            </a:r>
            <a:r>
              <a:rPr b="0" lang="tr-TR" sz="2800" spc="-1" strike="noStrike">
                <a:solidFill>
                  <a:srgbClr val="000000"/>
                </a:solidFill>
                <a:latin typeface="Calibri"/>
              </a:rPr>
              <a:t>gerçekleştirilen erişimi, kasten yapıldığı zaman, kendi iç hukuku kapsamında cezai bir suç olarak tanımlanması için gerekli olabilecek yasama tedbirlerini ve diğer tedbirleri kabul edecektir. Taraflardan biri, söz konusu suçun, bilgisayar verilerini elde etmek veya başka bir sahtekâr niyetle veya bir bilgisayar sistemine bağlı başka bir bilgisayar sistemiyle ilişkili olarak güvenlik tedbirlerinin ihlal edilmesi suretiyle işlenmiş olmasını şart koşabilir. </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F4A4CC5-4E86-42D9-954E-8D16E8EC68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4</a:t>
            </a:r>
            <a:endParaRPr b="0" lang="en-US" sz="4400" spc="-1" strike="noStrike">
              <a:solidFill>
                <a:srgbClr val="000000"/>
              </a:solidFill>
              <a:latin typeface="Calibri"/>
            </a:endParaRPr>
          </a:p>
        </p:txBody>
      </p:sp>
      <p:sp>
        <p:nvSpPr>
          <p:cNvPr id="469" name="PlaceHolder 2"/>
          <p:cNvSpPr>
            <a:spLocks noGrp="1"/>
          </p:cNvSpPr>
          <p:nvPr>
            <p:ph/>
          </p:nvPr>
        </p:nvSpPr>
        <p:spPr>
          <a:xfrm>
            <a:off x="457200" y="1082160"/>
            <a:ext cx="8229600" cy="4526280"/>
          </a:xfrm>
          <a:prstGeom prst="rect">
            <a:avLst/>
          </a:prstGeom>
          <a:noFill/>
          <a:ln w="0">
            <a:noFill/>
          </a:ln>
        </p:spPr>
        <p:txBody>
          <a:bodyPr anchor="t">
            <a:normAutofit fontScale="95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u="sng">
                <a:solidFill>
                  <a:srgbClr val="000000"/>
                </a:solidFill>
                <a:uFillTx/>
                <a:latin typeface="Calibri"/>
              </a:rPr>
              <a:t>WWW.Iuvfishin.com</a:t>
            </a:r>
            <a:r>
              <a:rPr b="0" lang="en-GB" sz="2200" spc="-1" strike="noStrike">
                <a:solidFill>
                  <a:srgbClr val="000000"/>
                </a:solidFill>
                <a:latin typeface="Calibri"/>
              </a:rPr>
              <a:t> </a:t>
            </a:r>
            <a:r>
              <a:rPr b="0" lang="tr-TR" sz="2200" spc="-1" strike="noStrike">
                <a:solidFill>
                  <a:srgbClr val="000000"/>
                </a:solidFill>
                <a:latin typeface="Calibri"/>
                <a:ea typeface="ＭＳ Ｐゴシック"/>
              </a:rPr>
              <a:t>oltayla balık avlama konusuyla ilgili bir web sitesidir</a:t>
            </a:r>
            <a:r>
              <a:rPr b="0" lang="en-GB" sz="2200" spc="-1" strike="noStrike">
                <a:solidFill>
                  <a:srgbClr val="000000"/>
                </a:solidFill>
                <a:latin typeface="Calibri"/>
                <a:ea typeface="ＭＳ Ｐゴシック"/>
              </a:rPr>
              <a:t>.</a:t>
            </a:r>
            <a:r>
              <a:rPr b="0" lang="tr-TR" sz="2200" spc="-1" strike="noStrike">
                <a:solidFill>
                  <a:srgbClr val="000000"/>
                </a:solidFill>
                <a:latin typeface="Calibri"/>
                <a:ea typeface="ＭＳ Ｐゴシック"/>
              </a:rPr>
              <a:t> Sitenin sunucusu ABD menşelidir. Sitenin sahipleri korsan saldırıya uğramış olduklarını ve site içerisine bin adet çocuk istismarı görüntüsü yüklenip yerleştirildiğini fark eder.</a:t>
            </a:r>
            <a:r>
              <a:rPr b="0" lang="en-GB" sz="2200" spc="-1" strike="noStrike">
                <a:solidFill>
                  <a:srgbClr val="000000"/>
                </a:solidFill>
                <a:latin typeface="Calibri"/>
                <a:ea typeface="ＭＳ Ｐゴシック"/>
              </a:rPr>
              <a:t> </a:t>
            </a:r>
            <a:r>
              <a:rPr b="0" lang="tr-TR" sz="2200" spc="-1" strike="noStrike">
                <a:solidFill>
                  <a:srgbClr val="000000"/>
                </a:solidFill>
                <a:latin typeface="Calibri"/>
                <a:ea typeface="ＭＳ Ｐゴシック"/>
              </a:rPr>
              <a:t>Bu işlem, söz konusu görüntülerin sitenin sıradan kullanıcıları tarafından görülemeyeceği şekilde gerçekleştirilmiştir</a:t>
            </a:r>
            <a:r>
              <a:rPr b="0" lang="en-GB" sz="2200" spc="-1" strike="noStrike">
                <a:solidFill>
                  <a:srgbClr val="000000"/>
                </a:solidFill>
                <a:latin typeface="Calibri"/>
                <a:ea typeface="ＭＳ Ｐゴシック"/>
              </a:rPr>
              <a:t>.</a:t>
            </a:r>
            <a:r>
              <a:rPr b="0" lang="tr-TR" sz="2200" spc="-1" strike="noStrike">
                <a:solidFill>
                  <a:srgbClr val="000000"/>
                </a:solidFill>
                <a:latin typeface="Calibri"/>
                <a:ea typeface="ＭＳ Ｐゴシック"/>
              </a:rPr>
              <a:t> </a:t>
            </a:r>
            <a:r>
              <a:rPr b="0" lang="en-GB" sz="2200" spc="-1" strike="noStrike">
                <a:solidFill>
                  <a:srgbClr val="000000"/>
                </a:solidFill>
                <a:latin typeface="Calibri"/>
                <a:ea typeface="ＭＳ Ｐゴシック"/>
              </a:rPr>
              <a:t>Site, fotoğraflar</a:t>
            </a:r>
            <a:r>
              <a:rPr b="0" lang="tr-TR" sz="2200" spc="-1" strike="noStrike">
                <a:solidFill>
                  <a:srgbClr val="000000"/>
                </a:solidFill>
                <a:latin typeface="Calibri"/>
                <a:ea typeface="ＭＳ Ｐゴシック"/>
              </a:rPr>
              <a:t>a</a:t>
            </a:r>
            <a:r>
              <a:rPr b="0" lang="en-GB" sz="2200" spc="-1" strike="noStrike">
                <a:solidFill>
                  <a:srgbClr val="000000"/>
                </a:solidFill>
                <a:latin typeface="Calibri"/>
                <a:ea typeface="ＭＳ Ｐゴシック"/>
              </a:rPr>
              <a:t> erişmiş olanların IP adreslerini kaydeder.</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ea typeface="ＭＳ Ｐゴシック"/>
              </a:rPr>
              <a:t>John’a ait görünen bir </a:t>
            </a:r>
            <a:r>
              <a:rPr b="0" lang="en-GB" sz="2200" spc="-1" strike="noStrike">
                <a:solidFill>
                  <a:srgbClr val="000000"/>
                </a:solidFill>
                <a:latin typeface="Calibri"/>
                <a:ea typeface="ＭＳ Ｐゴシック"/>
              </a:rPr>
              <a:t>IP adres</a:t>
            </a:r>
            <a:r>
              <a:rPr b="0" lang="tr-TR" sz="2200" spc="-1" strike="noStrike">
                <a:solidFill>
                  <a:srgbClr val="000000"/>
                </a:solidFill>
                <a:latin typeface="Calibri"/>
                <a:ea typeface="ＭＳ Ｐゴシック"/>
              </a:rPr>
              <a:t>i ülkenizde polis makamlarına iletilmiş bulunmaktadır. Polisler John’un adresinde arama yapıp, binlerce çocuk istismarı görseli içeren bilgisayarına el koyarlar</a:t>
            </a:r>
            <a:r>
              <a:rPr b="0" lang="en-GB" sz="2200" spc="-1" strike="noStrike">
                <a:solidFill>
                  <a:srgbClr val="000000"/>
                </a:solidFill>
                <a:latin typeface="Calibri"/>
                <a:ea typeface="ＭＳ Ｐゴシック"/>
              </a:rPr>
              <a:t>.</a:t>
            </a:r>
            <a:r>
              <a:rPr b="0" lang="tr-TR" sz="2200" spc="-1" strike="noStrike">
                <a:solidFill>
                  <a:srgbClr val="000000"/>
                </a:solidFill>
                <a:latin typeface="Calibri"/>
                <a:ea typeface="ＭＳ Ｐゴシック"/>
              </a:rPr>
              <a:t> İnternet geçmişine ve bu dosyalardaki verilere bakıldığında, görsellerin çoğunun internetten indirildiği açıkça anlaşılmaktadır.</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200" spc="-1" strike="noStrike">
                <a:solidFill>
                  <a:srgbClr val="000000"/>
                </a:solidFill>
                <a:latin typeface="Calibri"/>
              </a:rPr>
              <a:t>John </a:t>
            </a:r>
            <a:r>
              <a:rPr b="0" i="1" lang="tr-TR" sz="2200" spc="-1" strike="noStrike">
                <a:solidFill>
                  <a:srgbClr val="000000"/>
                </a:solidFill>
                <a:latin typeface="Calibri"/>
                <a:ea typeface="ＭＳ Ｐゴシック"/>
              </a:rPr>
              <a:t>hangi suçları işlemiştir</a:t>
            </a:r>
            <a:r>
              <a:rPr b="0" i="1" lang="en-GB" sz="2200" spc="-1" strike="noStrike">
                <a:solidFill>
                  <a:srgbClr val="000000"/>
                </a:solidFill>
                <a:latin typeface="Calibri"/>
              </a:rPr>
              <a:t>?</a:t>
            </a:r>
            <a:endParaRPr b="0" lang="en-US" sz="2200" spc="-1" strike="noStrike">
              <a:solidFill>
                <a:srgbClr val="000000"/>
              </a:solidFill>
              <a:latin typeface="Calibri"/>
            </a:endParaRPr>
          </a:p>
        </p:txBody>
      </p:sp>
      <p:sp>
        <p:nvSpPr>
          <p:cNvPr id="4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3648EE-94A7-4FD0-8DE8-B26EF7F259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29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5</a:t>
            </a:r>
            <a:endParaRPr b="0" lang="en-US" sz="4400" spc="-1" strike="noStrike">
              <a:solidFill>
                <a:srgbClr val="000000"/>
              </a:solidFill>
              <a:latin typeface="Calibri"/>
            </a:endParaRPr>
          </a:p>
        </p:txBody>
      </p:sp>
      <p:sp>
        <p:nvSpPr>
          <p:cNvPr id="472" name="PlaceHolder 2"/>
          <p:cNvSpPr>
            <a:spLocks noGrp="1"/>
          </p:cNvSpPr>
          <p:nvPr>
            <p:ph/>
          </p:nvPr>
        </p:nvSpPr>
        <p:spPr>
          <a:xfrm>
            <a:off x="457200" y="1411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ABD’de polis,</a:t>
            </a:r>
            <a:r>
              <a:rPr b="0" lang="en-GB" sz="2400" spc="-1" strike="noStrike">
                <a:solidFill>
                  <a:srgbClr val="000000"/>
                </a:solidFill>
                <a:latin typeface="Calibri"/>
                <a:ea typeface="ＭＳ Ｐゴシック"/>
              </a:rPr>
              <a:t> aylık bir abonelik </a:t>
            </a:r>
            <a:r>
              <a:rPr b="0" lang="tr-TR" sz="2400" spc="-1" strike="noStrike">
                <a:solidFill>
                  <a:srgbClr val="000000"/>
                </a:solidFill>
                <a:latin typeface="Calibri"/>
                <a:ea typeface="ＭＳ Ｐゴシック"/>
              </a:rPr>
              <a:t>ücreti </a:t>
            </a:r>
            <a:r>
              <a:rPr b="0" lang="en-GB" sz="2400" spc="-1" strike="noStrike">
                <a:solidFill>
                  <a:srgbClr val="000000"/>
                </a:solidFill>
                <a:latin typeface="Calibri"/>
                <a:ea typeface="ＭＳ Ｐゴシック"/>
              </a:rPr>
              <a:t>öde</a:t>
            </a:r>
            <a:r>
              <a:rPr b="0" lang="tr-TR" sz="2400" spc="-1" strike="noStrike">
                <a:solidFill>
                  <a:srgbClr val="000000"/>
                </a:solidFill>
                <a:latin typeface="Calibri"/>
                <a:ea typeface="ＭＳ Ｐゴシック"/>
              </a:rPr>
              <a:t>yenlere </a:t>
            </a:r>
            <a:r>
              <a:rPr b="0" lang="en-GB" sz="2400" spc="-1" strike="noStrike">
                <a:solidFill>
                  <a:srgbClr val="000000"/>
                </a:solidFill>
                <a:latin typeface="Calibri"/>
                <a:ea typeface="ＭＳ Ｐゴシック"/>
              </a:rPr>
              <a:t>çocuk istismarı görselleri temin eden siteleri barındıran bir </a:t>
            </a:r>
            <a:r>
              <a:rPr b="0" lang="tr-TR" sz="2400" spc="-1" strike="noStrike">
                <a:solidFill>
                  <a:srgbClr val="000000"/>
                </a:solidFill>
                <a:latin typeface="Calibri"/>
                <a:ea typeface="ＭＳ Ｐゴシック"/>
              </a:rPr>
              <a:t>internet</a:t>
            </a:r>
            <a:r>
              <a:rPr b="0" lang="en-GB" sz="2400" spc="-1" strike="noStrike">
                <a:solidFill>
                  <a:srgbClr val="000000"/>
                </a:solidFill>
                <a:latin typeface="Calibri"/>
                <a:ea typeface="ＭＳ Ｐゴシック"/>
              </a:rPr>
              <a:t> sitesi</a:t>
            </a:r>
            <a:r>
              <a:rPr b="0" lang="tr-TR" sz="2400" spc="-1" strike="noStrike">
                <a:solidFill>
                  <a:srgbClr val="000000"/>
                </a:solidFill>
                <a:latin typeface="Calibri"/>
                <a:ea typeface="ＭＳ Ｐゴシック"/>
              </a:rPr>
              <a:t>ni kapatmıştı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ABD makamları erişim için ödeme yapan kişilerin IP adresi, kredi kartı numarası, e-posta adresi, fatura adresi ve şifre dahil bilgilerini elde etmiştir</a:t>
            </a:r>
            <a:r>
              <a:rPr b="0" lang="en-GB" sz="2400" spc="-1" strike="noStrike">
                <a:solidFill>
                  <a:srgbClr val="000000"/>
                </a:solidFill>
                <a:latin typeface="Calibri"/>
                <a:ea typeface="ＭＳ Ｐゴシック"/>
              </a:rPr>
              <a:t>. Bu </a:t>
            </a:r>
            <a:r>
              <a:rPr b="0" lang="tr-TR" sz="2400" spc="-1" strike="noStrike">
                <a:solidFill>
                  <a:srgbClr val="000000"/>
                </a:solidFill>
                <a:latin typeface="Calibri"/>
                <a:ea typeface="ＭＳ Ｐゴシック"/>
              </a:rPr>
              <a:t>müşterilerden biri de</a:t>
            </a:r>
            <a:r>
              <a:rPr b="0" lang="en-GB" sz="2400" spc="-1" strike="noStrike">
                <a:solidFill>
                  <a:srgbClr val="000000"/>
                </a:solidFill>
                <a:latin typeface="Calibri"/>
                <a:ea typeface="ＭＳ Ｐゴシック"/>
              </a:rPr>
              <a:t> Oswald</a:t>
            </a:r>
            <a:r>
              <a:rPr b="0" lang="tr-TR" sz="2400" spc="-1" strike="noStrike">
                <a:solidFill>
                  <a:srgbClr val="000000"/>
                </a:solidFill>
                <a:latin typeface="Calibri"/>
                <a:ea typeface="ＭＳ Ｐゴシック"/>
              </a:rPr>
              <a:t>’dı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 Arama emri alınıp bilgisayarı incelenmiştir. Oswald “Delil Giderme” adı verilen bir program kullandığından itham edici hiçbir şey bulunamamıştır.</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ea typeface="ＭＳ Ｐゴシック"/>
              </a:rPr>
              <a:t>Oswald </a:t>
            </a:r>
            <a:r>
              <a:rPr b="0" i="1" lang="tr-TR" sz="2400" spc="-1" strike="noStrike">
                <a:solidFill>
                  <a:srgbClr val="000000"/>
                </a:solidFill>
                <a:latin typeface="Calibri"/>
                <a:ea typeface="ＭＳ Ｐゴシック"/>
              </a:rPr>
              <a:t>bir suç işlemiş midir</a:t>
            </a:r>
            <a:r>
              <a:rPr b="0" i="1" lang="en-GB"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p:txBody>
      </p:sp>
      <p:sp>
        <p:nvSpPr>
          <p:cNvPr id="4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6B39EF-3D27-49E8-9AAF-579E7EB7E2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75" name="TextBox 3"/>
          <p:cNvSpPr/>
          <p:nvPr/>
        </p:nvSpPr>
        <p:spPr>
          <a:xfrm>
            <a:off x="349164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Sorular</a:t>
            </a:r>
            <a:endParaRPr b="0" lang="en-US" sz="5400" spc="-1" strike="noStrike">
              <a:solidFill>
                <a:srgbClr val="000000"/>
              </a:solidFill>
              <a:latin typeface="Arial"/>
            </a:endParaRPr>
          </a:p>
        </p:txBody>
      </p:sp>
      <p:sp>
        <p:nvSpPr>
          <p:cNvPr id="4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465D48-232B-41DB-8D7F-304442D105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Bölüm Dört</a:t>
            </a:r>
            <a:br>
              <a:rPr sz="4000"/>
            </a:br>
            <a:r>
              <a:rPr b="1" lang="en-GB" sz="4000" spc="-1" strike="noStrike">
                <a:solidFill>
                  <a:srgbClr val="000000"/>
                </a:solidFill>
                <a:latin typeface="Calibri"/>
              </a:rPr>
              <a:t>Özet</a:t>
            </a:r>
            <a:br>
              <a:rPr sz="4000"/>
            </a:br>
            <a:endParaRPr b="0" lang="en-US" sz="4000" spc="-1" strike="noStrike">
              <a:solidFill>
                <a:srgbClr val="000000"/>
              </a:solidFill>
              <a:latin typeface="Calibri"/>
            </a:endParaRPr>
          </a:p>
        </p:txBody>
      </p:sp>
      <p:pic>
        <p:nvPicPr>
          <p:cNvPr id="478" name="Picture 3" descr=""/>
          <p:cNvPicPr/>
          <p:nvPr/>
        </p:nvPicPr>
        <p:blipFill>
          <a:blip r:embed="rId1"/>
          <a:stretch/>
        </p:blipFill>
        <p:spPr>
          <a:xfrm>
            <a:off x="6786720" y="4643280"/>
            <a:ext cx="1962000" cy="1766880"/>
          </a:xfrm>
          <a:prstGeom prst="rect">
            <a:avLst/>
          </a:prstGeom>
          <a:ln w="0">
            <a:noFill/>
          </a:ln>
        </p:spPr>
      </p:pic>
      <p:sp>
        <p:nvSpPr>
          <p:cNvPr id="4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6E779A-AF03-4DC1-8B17-887EC339E4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Özet</a:t>
            </a:r>
            <a:endParaRPr b="0" lang="en-US" sz="4400" spc="-1" strike="noStrike">
              <a:solidFill>
                <a:srgbClr val="000000"/>
              </a:solidFill>
              <a:latin typeface="Calibri"/>
            </a:endParaRPr>
          </a:p>
        </p:txBody>
      </p:sp>
      <p:sp>
        <p:nvSpPr>
          <p:cNvPr id="481"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u oturumun sonunda katılımcıla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Budapeşte Sözleşmesi’ne dayalı olarak, maddi ceza hukuku hükümlerini sıralayabilecek ve suçları tanımlamada kullanılan bazı temel faktörleri tespit edebilecekti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Vaka çalışması tartışmalarından hareketle ilgili maddi hukuk hükümlerini tespit edebilecektir.</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11D59F-E4F0-46F1-A006-8CC30B771A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84" name="TextBox 3"/>
          <p:cNvSpPr/>
          <p:nvPr/>
        </p:nvSpPr>
        <p:spPr>
          <a:xfrm>
            <a:off x="352512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Sorular</a:t>
            </a:r>
            <a:endParaRPr b="0" lang="en-US" sz="5400" spc="-1" strike="noStrike">
              <a:solidFill>
                <a:srgbClr val="000000"/>
              </a:solidFill>
              <a:latin typeface="Arial"/>
            </a:endParaRPr>
          </a:p>
        </p:txBody>
      </p:sp>
      <p:sp>
        <p:nvSpPr>
          <p:cNvPr id="4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B6705B-306E-47B1-BB10-AA5B8982A9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95" name="PlaceHolder 2"/>
          <p:cNvSpPr>
            <a:spLocks noGrp="1"/>
          </p:cNvSpPr>
          <p:nvPr>
            <p:ph/>
          </p:nvPr>
        </p:nvSpPr>
        <p:spPr>
          <a:xfrm>
            <a:off x="457200" y="1417680"/>
            <a:ext cx="8229600" cy="50752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imes New Roman"/>
              </a:rPr>
              <a:t>Yasamayla ilgili, yürütmeyle ilgili, idari, yargısal, akdi veya karşılıklı mutabakata dayanan bir yetki olmaksızın erişmek</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imes New Roman"/>
              </a:rPr>
              <a:t>Şunlar suç sayılmamaktadır:</a:t>
            </a:r>
            <a:endParaRPr b="0" lang="en-US" sz="32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000" spc="-1" strike="noStrike">
                <a:solidFill>
                  <a:srgbClr val="000000"/>
                </a:solidFill>
                <a:latin typeface="Calibri"/>
                <a:ea typeface="Times New Roman"/>
              </a:rPr>
              <a:t>Bilgisayar sisteminin veya bir kısmının sahibi/hak sahibi tarafından izin verilen erişim</a:t>
            </a: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000" spc="-1" strike="noStrike">
                <a:solidFill>
                  <a:srgbClr val="000000"/>
                </a:solidFill>
                <a:latin typeface="Calibri"/>
                <a:ea typeface="Times New Roman"/>
              </a:rPr>
              <a:t>Kamuoyunun serbest ve açık erişimine imkân tanıyan bilgisayar sistemlerine erişim</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45F18B0-19F3-4E49-9347-33D3C7F2D8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a:t>
            </a:r>
            <a:r>
              <a:rPr b="0" lang="tr-TR" sz="4400" spc="-1" strike="noStrike">
                <a:solidFill>
                  <a:srgbClr val="000000"/>
                </a:solidFill>
                <a:latin typeface="Calibri"/>
              </a:rPr>
              <a:t> – </a:t>
            </a:r>
            <a:r>
              <a:rPr b="1" lang="tr-TR" sz="4400" spc="-1" strike="noStrike">
                <a:solidFill>
                  <a:srgbClr val="000000"/>
                </a:solidFill>
                <a:latin typeface="Calibri"/>
              </a:rPr>
              <a:t>Yasadışı Erişim</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512136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r bilgisayar sisteminin tamamına veya bir kısmına haksız yere gerçekleştirilen erişimi, kasten yapıldığı zaman, kendi iç hukuku kapsamında cezai bir suç olarak tanımlanması için gerekli olabilecek yasama tedbirlerini ve diğer tedbirleri kabul edecektir. Taraflardan biri, söz konusu suçun, </a:t>
            </a:r>
            <a:r>
              <a:rPr b="1" lang="tr-TR" sz="3500" spc="-1" strike="noStrike">
                <a:solidFill>
                  <a:srgbClr val="ff0000"/>
                </a:solidFill>
                <a:latin typeface="Calibri"/>
              </a:rPr>
              <a:t>bilgisayar verilerini elde etmek veya başka bir sahtekâr niyetle</a:t>
            </a:r>
            <a:r>
              <a:rPr b="1" lang="tr-TR" sz="4000" spc="-1" strike="noStrike">
                <a:solidFill>
                  <a:srgbClr val="ff0000"/>
                </a:solidFill>
                <a:latin typeface="Calibri"/>
              </a:rPr>
              <a:t> </a:t>
            </a:r>
            <a:r>
              <a:rPr b="0" lang="tr-TR" sz="2800" spc="-1" strike="noStrike">
                <a:solidFill>
                  <a:srgbClr val="000000"/>
                </a:solidFill>
                <a:latin typeface="Calibri"/>
              </a:rPr>
              <a:t>veya bir </a:t>
            </a:r>
            <a:r>
              <a:rPr b="1" lang="tr-TR" sz="3500" spc="-1" strike="noStrike">
                <a:solidFill>
                  <a:srgbClr val="ff0000"/>
                </a:solidFill>
                <a:latin typeface="Calibri"/>
              </a:rPr>
              <a:t>bilgisayar sistemine bağlı başka bir bilgisayar sistemiyle ilişkili olarak güvenlik tedbirlerinin ihlal edilmesi </a:t>
            </a:r>
            <a:r>
              <a:rPr b="0" lang="tr-TR" sz="2800" spc="-1" strike="noStrike">
                <a:solidFill>
                  <a:srgbClr val="000000"/>
                </a:solidFill>
                <a:latin typeface="Calibri"/>
              </a:rPr>
              <a:t>suretiyle işlenmiş olmasını şart koşabilir. </a:t>
            </a:r>
            <a:endParaRPr b="0" lang="en-US" sz="2800" spc="-1" strike="noStrike">
              <a:solidFill>
                <a:srgbClr val="000000"/>
              </a:solidFill>
              <a:latin typeface="Calibri"/>
            </a:endParaRPr>
          </a:p>
        </p:txBody>
      </p:sp>
      <p:sp>
        <p:nvSpPr>
          <p:cNvPr id="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0C351B1-C9AB-45D6-B6BA-DFE9D7A240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Niteleyici Öğeler</a:t>
            </a:r>
            <a:endParaRPr b="0" lang="en-US" sz="4400" spc="-1" strike="noStrike">
              <a:solidFill>
                <a:srgbClr val="000000"/>
              </a:solidFill>
              <a:latin typeface="Calibri"/>
            </a:endParaRPr>
          </a:p>
        </p:txBody>
      </p:sp>
      <p:sp>
        <p:nvSpPr>
          <p:cNvPr id="101" name="PlaceHolder 2"/>
          <p:cNvSpPr>
            <a:spLocks noGrp="1"/>
          </p:cNvSpPr>
          <p:nvPr>
            <p:ph/>
          </p:nvPr>
        </p:nvSpPr>
        <p:spPr>
          <a:xfrm>
            <a:off x="457200" y="1558800"/>
            <a:ext cx="8229600" cy="507528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Taraflar bilgisayar sisteminin tamamına veya bir kısmına haksız yere kasıtlı erişimin suç sayılmasını aşağıdaki niteleyici öğelerle sınırlayabilir: </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Güvenlik tedbirlerinin çiğnenmesi; veya</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lgisayar verilerinin elde edilmesi niyeti; veya</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Sahtekâr niyet</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aşka bir bilgisayar sistemine bağlı bir bilgisayar sistemiyle ilişkili olmak</a:t>
            </a:r>
            <a:endParaRPr b="0" lang="en-US" sz="2800" spc="-1" strike="noStrike">
              <a:solidFill>
                <a:srgbClr val="000000"/>
              </a:solidFill>
              <a:latin typeface="Calibri"/>
            </a:endParaRPr>
          </a:p>
        </p:txBody>
      </p:sp>
      <p:sp>
        <p:nvSpPr>
          <p:cNvPr id="1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9267BAA-13FF-44D8-B504-0BF90950F2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758520"/>
            <a:ext cx="8229600" cy="5597640"/>
          </a:xfrm>
          <a:prstGeom prst="rect">
            <a:avLst/>
          </a:prstGeom>
          <a:noFill/>
          <a:ln w="38160">
            <a:solidFill>
              <a:srgbClr val="ff0000"/>
            </a:solidFill>
            <a:miter/>
          </a:ln>
        </p:spPr>
        <p:txBody>
          <a:bodyPr anchor="t">
            <a:normAutofit fontScale="96000"/>
          </a:bodyPr>
          <a:p>
            <a:pPr marL="3290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Yasadışı Ele Geçirme</a:t>
            </a:r>
            <a:endParaRPr b="0" lang="en-US" sz="3200" spc="-1" strike="noStrike">
              <a:solidFill>
                <a:srgbClr val="000000"/>
              </a:solidFill>
              <a:latin typeface="Calibri"/>
            </a:endParaRPr>
          </a:p>
          <a:p>
            <a:pPr marL="3290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3 – Budapeşte Sözleşmesi)</a:t>
            </a:r>
            <a:endParaRPr b="0" lang="en-US" sz="3200" spc="-1" strike="noStrike">
              <a:solidFill>
                <a:srgbClr val="000000"/>
              </a:solidFill>
              <a:latin typeface="Calibri"/>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Kasıtlı olarak ve haksız yere</a:t>
            </a:r>
            <a:endParaRPr b="0" lang="en-US" sz="3200" spc="-1" strike="noStrike">
              <a:solidFill>
                <a:srgbClr val="000000"/>
              </a:solidFill>
              <a:latin typeface="Calibri"/>
            </a:endParaRPr>
          </a:p>
          <a:p>
            <a:pPr marL="329040" indent="0" algn="ctr">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ilgisayar verilerinin umuma kapalı olarak iletimi esnasında teknik yöntemler kullanılarak ele geçirmek</a:t>
            </a:r>
            <a:endParaRPr b="0" lang="en-US" sz="3200" spc="-1" strike="noStrike">
              <a:solidFill>
                <a:srgbClr val="000000"/>
              </a:solidFill>
              <a:latin typeface="Calibri"/>
            </a:endParaRPr>
          </a:p>
          <a:p>
            <a:pPr marL="329040" indent="0" algn="ctr">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ir bilgisayar sistemine, bir bilgisayar sisteminden veya bir bilgisayar sisteminin kendi içinde</a:t>
            </a:r>
            <a:endParaRPr b="0" lang="en-US" sz="3200" spc="-1" strike="noStrike">
              <a:solidFill>
                <a:srgbClr val="000000"/>
              </a:solidFill>
              <a:latin typeface="Calibri"/>
            </a:endParaRPr>
          </a:p>
          <a:p>
            <a:pPr marL="32904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D17971-BD64-42D7-A14B-48FB3211C2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06" name="PlaceHolder 2"/>
          <p:cNvSpPr>
            <a:spLocks noGrp="1"/>
          </p:cNvSpPr>
          <p:nvPr>
            <p:ph/>
          </p:nvPr>
        </p:nvSpPr>
        <p:spPr>
          <a:xfrm>
            <a:off x="457200" y="1417320"/>
            <a:ext cx="8229600" cy="514332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umuma kapalı olarak iletimi esnasında teknik yöntemler kullanılarak gerçekleştirilen ele geçirme 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 </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BF482C-5664-47E5-A7E5-9D8EA5FA88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ea typeface="ＭＳ Ｐゴシック"/>
              </a:rPr>
              <a:t>Gündem</a:t>
            </a:r>
            <a:endParaRPr b="0" lang="en-US" sz="4400" spc="-1" strike="noStrike">
              <a:solidFill>
                <a:srgbClr val="000000"/>
              </a:solidFill>
              <a:latin typeface="Calibri"/>
            </a:endParaRPr>
          </a:p>
        </p:txBody>
      </p:sp>
      <p:sp>
        <p:nvSpPr>
          <p:cNvPr id="56"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600" spc="-1" strike="noStrike">
                <a:solidFill>
                  <a:srgbClr val="000000"/>
                </a:solidFill>
                <a:latin typeface="Calibri"/>
                <a:ea typeface="ＭＳ Ｐゴシック"/>
              </a:rPr>
              <a:t>Bölüm Bir</a:t>
            </a:r>
            <a:br>
              <a:rPr sz="2600"/>
            </a:br>
            <a:r>
              <a:rPr b="0" lang="en-US" sz="2600" spc="-1" strike="noStrike">
                <a:solidFill>
                  <a:srgbClr val="000000"/>
                </a:solidFill>
                <a:latin typeface="Calibri"/>
                <a:ea typeface="ＭＳ Ｐゴシック"/>
              </a:rPr>
              <a:t>Budape</a:t>
            </a:r>
            <a:r>
              <a:rPr b="0" lang="tr-TR" sz="2600" spc="-1" strike="noStrike">
                <a:solidFill>
                  <a:srgbClr val="000000"/>
                </a:solidFill>
                <a:latin typeface="Calibri"/>
                <a:ea typeface="ＭＳ Ｐゴシック"/>
              </a:rPr>
              <a:t>şte Sanal Suç Sözleşmesi</a:t>
            </a:r>
            <a:r>
              <a:rPr b="0" lang="en-US" sz="2600" spc="-1" strike="noStrike">
                <a:solidFill>
                  <a:srgbClr val="000000"/>
                </a:solidFill>
                <a:latin typeface="Calibri"/>
                <a:ea typeface="ＭＳ Ｐゴシック"/>
              </a:rPr>
              <a:t> -</a:t>
            </a:r>
            <a:br>
              <a:rPr sz="2600"/>
            </a:br>
            <a:r>
              <a:rPr b="0" lang="tr-TR" sz="2600" spc="-1" strike="noStrike">
                <a:solidFill>
                  <a:srgbClr val="000000"/>
                </a:solidFill>
                <a:latin typeface="Calibri"/>
                <a:ea typeface="ＭＳ Ｐゴシック"/>
              </a:rPr>
              <a:t>Maddi Ceza Hukuku</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600" spc="-1" strike="noStrike">
                <a:solidFill>
                  <a:srgbClr val="000000"/>
                </a:solidFill>
                <a:latin typeface="Calibri"/>
                <a:ea typeface="ＭＳ Ｐゴシック"/>
              </a:rPr>
              <a:t>Bölüm İki</a:t>
            </a:r>
            <a:br>
              <a:rPr sz="2600"/>
            </a:br>
            <a:r>
              <a:rPr b="0" lang="tr-TR" sz="2600" spc="-1" strike="noStrike">
                <a:solidFill>
                  <a:srgbClr val="000000"/>
                </a:solidFill>
                <a:latin typeface="Calibri"/>
                <a:ea typeface="ＭＳ Ｐゴシック"/>
              </a:rPr>
              <a:t>Vaka Çalışmaları</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600" spc="-1" strike="noStrike">
                <a:solidFill>
                  <a:srgbClr val="000000"/>
                </a:solidFill>
                <a:latin typeface="Calibri"/>
                <a:ea typeface="ＭＳ Ｐゴシック"/>
              </a:rPr>
              <a:t>Bölüm Üç</a:t>
            </a:r>
            <a:br>
              <a:rPr sz="2600"/>
            </a:br>
            <a:r>
              <a:rPr b="0" lang="tr-TR" sz="2600" spc="-1" strike="noStrike">
                <a:solidFill>
                  <a:srgbClr val="000000"/>
                </a:solidFill>
                <a:latin typeface="Calibri"/>
                <a:ea typeface="ＭＳ Ｐゴシック"/>
              </a:rPr>
              <a:t>Öze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09" name="PlaceHolder 2"/>
          <p:cNvSpPr>
            <a:spLocks noGrp="1"/>
          </p:cNvSpPr>
          <p:nvPr>
            <p:ph/>
          </p:nvPr>
        </p:nvSpPr>
        <p:spPr>
          <a:xfrm>
            <a:off x="457200" y="1417320"/>
            <a:ext cx="8229600" cy="530388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umuma kapalı olarak iletimi esnasında teknik yöntemler kullanılarak gerçekleştirilen </a:t>
            </a:r>
            <a:r>
              <a:rPr b="1" lang="tr-TR" sz="4000" spc="-1" strike="noStrike">
                <a:solidFill>
                  <a:srgbClr val="ff0000"/>
                </a:solidFill>
                <a:latin typeface="Calibri"/>
              </a:rPr>
              <a:t>ele geçirme </a:t>
            </a:r>
            <a:r>
              <a:rPr b="0" lang="tr-TR" sz="2800" spc="-1" strike="noStrike">
                <a:solidFill>
                  <a:srgbClr val="000000"/>
                </a:solidFill>
                <a:latin typeface="Calibri"/>
              </a:rPr>
              <a:t>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DEAED49-2D23-4C72-B822-EC676869EE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le Geçirme</a:t>
            </a:r>
            <a:endParaRPr b="0" lang="en-US" sz="4400" spc="-1" strike="noStrike">
              <a:solidFill>
                <a:srgbClr val="000000"/>
              </a:solidFill>
              <a:latin typeface="Calibri"/>
            </a:endParaRPr>
          </a:p>
        </p:txBody>
      </p:sp>
      <p:sp>
        <p:nvSpPr>
          <p:cNvPr id="112" name="PlaceHolder 2"/>
          <p:cNvSpPr>
            <a:spLocks noGrp="1"/>
          </p:cNvSpPr>
          <p:nvPr>
            <p:ph/>
          </p:nvPr>
        </p:nvSpPr>
        <p:spPr>
          <a:xfrm>
            <a:off x="457200" y="1698120"/>
            <a:ext cx="8229600" cy="4658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Ele geçirme haberleşmelerin dinlenmesi, izlenmesi veya takibi anlamına gelir.</a:t>
            </a:r>
            <a:endParaRPr b="0" lang="en-US" sz="3000" spc="-1" strike="noStrike">
              <a:solidFill>
                <a:srgbClr val="000000"/>
              </a:solidFill>
              <a:latin typeface="Calibri"/>
            </a:endParaRPr>
          </a:p>
          <a:p>
            <a:pPr lvl="1" marL="743040" indent="0" algn="just">
              <a:lnSpc>
                <a:spcPct val="90000"/>
              </a:lnSpc>
              <a:spcBef>
                <a:spcPts val="6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Bu hüküm veri haberleşmelerinin gizliliğini korumayı amaçla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Sözlü telefon konuşmalarının geleneksel yöntemlerle dinlenmesi ve kaydedilmesi işleminin bilgisayar verilerinin iletimi açısından muadilleriyle mücadele eder.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4E9EF42-D777-4EB9-9421-D3BAFC0EE5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15" name="PlaceHolder 2"/>
          <p:cNvSpPr>
            <a:spLocks noGrp="1"/>
          </p:cNvSpPr>
          <p:nvPr>
            <p:ph/>
          </p:nvPr>
        </p:nvSpPr>
        <p:spPr>
          <a:xfrm>
            <a:off x="457200" y="1417680"/>
            <a:ext cx="8229600" cy="4852800"/>
          </a:xfrm>
          <a:prstGeom prst="rect">
            <a:avLst/>
          </a:prstGeom>
          <a:noFill/>
          <a:ln w="0">
            <a:noFill/>
          </a:ln>
        </p:spPr>
        <p:txBody>
          <a:bodyPr anchor="t">
            <a:normAutofit fontScale="92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umuma kapalı olarak iletimi esnasında teknik yöntemler kullanılarak gerçekleştirilen ele geçirme fiilinin, </a:t>
            </a:r>
            <a:r>
              <a:rPr b="1" lang="tr-TR" sz="4000" spc="-1" strike="noStrike">
                <a:solidFill>
                  <a:srgbClr val="ff0000"/>
                </a:solidFill>
                <a:latin typeface="Calibri"/>
              </a:rPr>
              <a:t>haksız yere </a:t>
            </a:r>
            <a:r>
              <a:rPr b="0" lang="tr-TR" sz="2800" spc="-1" strike="noStrike">
                <a:solidFill>
                  <a:srgbClr val="000000"/>
                </a:solidFill>
                <a:latin typeface="Calibri"/>
              </a:rPr>
              <a:t>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BAF7323-5860-4503-9651-8A7C10BAAB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118" name="PlaceHolder 2"/>
          <p:cNvSpPr>
            <a:spLocks noGrp="1"/>
          </p:cNvSpPr>
          <p:nvPr>
            <p:ph/>
          </p:nvPr>
        </p:nvSpPr>
        <p:spPr>
          <a:xfrm>
            <a:off x="457200" y="1544760"/>
            <a:ext cx="8229600" cy="507528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ea typeface="Times New Roman"/>
              </a:rPr>
              <a:t>Ele geçiren kişinin buna hakkı olan durumlarda geçerli değildir.</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ea typeface="Times New Roman"/>
              </a:rPr>
              <a:t>Örnekler:</a:t>
            </a:r>
            <a:endParaRPr b="0" lang="en-US" sz="30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Ele geçiren kişiye iletimin katılımcıları tarafından şu hususlarda talimat veya yetki verilmesi halinde:</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ea typeface="Times New Roman"/>
              </a:rPr>
              <a:t>Katılımcıların kabul ettiği izinli deneme</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ea typeface="Times New Roman"/>
              </a:rPr>
              <a:t>Katılımcıların kabul ettiği koruma faaliyetleri</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Web sitelerinde çerezler kullanılması</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Aşağıda belirtilen amaçlar doğrultusunda hukuken yetkili kılınmış kolluk makamlarının ele geçirme faaliyetleri: </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ea typeface="Times New Roman"/>
              </a:rPr>
              <a:t>Ulusal güvenlik</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ea typeface="Times New Roman"/>
              </a:rPr>
              <a:t>Suçların tespiti</a:t>
            </a:r>
            <a:endParaRPr b="0" lang="en-US" sz="2400" spc="-1" strike="noStrike">
              <a:solidFill>
                <a:srgbClr val="000000"/>
              </a:solidFill>
              <a:latin typeface="Calibri"/>
            </a:endParaRPr>
          </a:p>
        </p:txBody>
      </p:sp>
      <p:sp>
        <p:nvSpPr>
          <p:cNvPr id="1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EB279C9-C02C-4095-A88F-22B8833E26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21" name="PlaceHolder 2"/>
          <p:cNvSpPr>
            <a:spLocks noGrp="1"/>
          </p:cNvSpPr>
          <p:nvPr>
            <p:ph/>
          </p:nvPr>
        </p:nvSpPr>
        <p:spPr>
          <a:xfrm>
            <a:off x="457200" y="1188720"/>
            <a:ext cx="8229600" cy="508140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umuma kapalı olarak iletimi esnasında </a:t>
            </a:r>
            <a:r>
              <a:rPr b="1" lang="tr-TR" sz="3500" spc="-1" strike="noStrike">
                <a:solidFill>
                  <a:srgbClr val="ff0000"/>
                </a:solidFill>
                <a:latin typeface="Calibri"/>
              </a:rPr>
              <a:t>teknik yöntemler kullanılarak </a:t>
            </a:r>
            <a:r>
              <a:rPr b="0" lang="tr-TR" sz="2800" spc="-1" strike="noStrike">
                <a:solidFill>
                  <a:srgbClr val="000000"/>
                </a:solidFill>
                <a:latin typeface="Calibri"/>
              </a:rPr>
              <a:t>gerçekleştirilen ele geçirme 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4D1B182-683D-4B85-BCD0-02E08097FF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eknik yöntemler</a:t>
            </a:r>
            <a:endParaRPr b="0" lang="en-US" sz="4400" spc="-1" strike="noStrike">
              <a:solidFill>
                <a:srgbClr val="000000"/>
              </a:solidFill>
              <a:latin typeface="Calibri"/>
            </a:endParaRPr>
          </a:p>
        </p:txBody>
      </p:sp>
      <p:sp>
        <p:nvSpPr>
          <p:cNvPr id="124" name="PlaceHolder 2"/>
          <p:cNvSpPr>
            <a:spLocks noGrp="1"/>
          </p:cNvSpPr>
          <p:nvPr>
            <p:ph/>
          </p:nvPr>
        </p:nvSpPr>
        <p:spPr>
          <a:xfrm>
            <a:off x="457200" y="1642680"/>
            <a:ext cx="8229600" cy="44766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Hangi yollarla:</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Bilgisayar sistemine erişim ve bu sistemin kullanımı; ya da</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lektronik gizli dinleme veya dinleme cihazlarının kullanımı</a:t>
            </a:r>
            <a:endParaRPr b="0" lang="en-US" sz="2400" spc="-1" strike="noStrike">
              <a:solidFill>
                <a:srgbClr val="000000"/>
              </a:solidFill>
              <a:latin typeface="Calibri"/>
            </a:endParaRPr>
          </a:p>
          <a:p>
            <a:pPr marL="34308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Neleri içerebilir:</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Kayda alma</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letim hatlarına uyarlanmış teknik cihazların kullanımı</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Kablosuz haberleşmelerin toplanması ve kaydedilmesine ilişkin cihazların kullanımı</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Yazılım, şifre ve kodların kullanımı</a:t>
            </a:r>
            <a:endParaRPr b="0" lang="en-US" sz="2400" spc="-1" strike="noStrike">
              <a:solidFill>
                <a:srgbClr val="000000"/>
              </a:solidFill>
              <a:latin typeface="Calibri"/>
            </a:endParaRPr>
          </a:p>
        </p:txBody>
      </p:sp>
      <p:sp>
        <p:nvSpPr>
          <p:cNvPr id="1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A0B07DD-2470-49C3-89B6-2A455B3FB1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235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27" name="PlaceHolder 2"/>
          <p:cNvSpPr>
            <a:spLocks noGrp="1"/>
          </p:cNvSpPr>
          <p:nvPr>
            <p:ph/>
          </p:nvPr>
        </p:nvSpPr>
        <p:spPr>
          <a:xfrm>
            <a:off x="457200" y="1028520"/>
            <a:ext cx="8229600" cy="5692680"/>
          </a:xfrm>
          <a:prstGeom prst="rect">
            <a:avLst/>
          </a:prstGeom>
          <a:noFill/>
          <a:ln w="0">
            <a:noFill/>
          </a:ln>
        </p:spPr>
        <p:txBody>
          <a:bodyPr anchor="t">
            <a:normAutofit fontScale="98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a:t>
            </a:r>
            <a:r>
              <a:rPr b="1" lang="tr-TR" sz="4000" spc="-1" strike="noStrike">
                <a:solidFill>
                  <a:srgbClr val="ff0000"/>
                </a:solidFill>
                <a:latin typeface="Calibri"/>
              </a:rPr>
              <a:t>umuma kapalı olarak </a:t>
            </a:r>
            <a:r>
              <a:rPr b="0" lang="tr-TR" sz="2800" spc="-1" strike="noStrike">
                <a:solidFill>
                  <a:srgbClr val="000000"/>
                </a:solidFill>
                <a:latin typeface="Calibri"/>
              </a:rPr>
              <a:t>iletimi esnasında teknik yöntemler kullanılarak gerçekleştirilen ele geçirme 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103F68A-4109-448D-BE86-68A18354FC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muma kapalı iletimler</a:t>
            </a:r>
            <a:endParaRPr b="0" lang="en-US" sz="4400" spc="-1" strike="noStrike">
              <a:solidFill>
                <a:srgbClr val="000000"/>
              </a:solidFill>
              <a:latin typeface="Calibri"/>
            </a:endParaRPr>
          </a:p>
        </p:txBody>
      </p:sp>
      <p:sp>
        <p:nvSpPr>
          <p:cNvPr id="130" name="PlaceHolder 2"/>
          <p:cNvSpPr>
            <a:spLocks noGrp="1"/>
          </p:cNvSpPr>
          <p:nvPr>
            <p:ph/>
          </p:nvPr>
        </p:nvSpPr>
        <p:spPr>
          <a:xfrm>
            <a:off x="457200" y="1628280"/>
            <a:ext cx="8229600" cy="47278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Umuma kapalı veriler değil, umuma kapalı iletimler açısından ele geçirilmesi suç sayılır.</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Umumi ağlar üzerinden yapılan haberleşmeleri sırf bu sebeple kapsam dışında bırakmaz.</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Umuma kapalı iletimler aracılığıyla iletilen kamusal bilgileri de kapsayabilir.</a:t>
            </a:r>
            <a:endParaRPr b="0" lang="en-US" sz="3200" spc="-1" strike="noStrike">
              <a:solidFill>
                <a:srgbClr val="000000"/>
              </a:solidFill>
              <a:latin typeface="Calibri"/>
            </a:endParaRPr>
          </a:p>
        </p:txBody>
      </p:sp>
      <p:sp>
        <p:nvSpPr>
          <p:cNvPr id="1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DEDDA59-728E-4D2C-B7BF-1265EC497C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33" name="PlaceHolder 2"/>
          <p:cNvSpPr>
            <a:spLocks noGrp="1"/>
          </p:cNvSpPr>
          <p:nvPr>
            <p:ph/>
          </p:nvPr>
        </p:nvSpPr>
        <p:spPr>
          <a:xfrm>
            <a:off x="457200" y="867960"/>
            <a:ext cx="8229600" cy="5219640"/>
          </a:xfrm>
          <a:prstGeom prst="rect">
            <a:avLst/>
          </a:prstGeom>
          <a:noFill/>
          <a:ln w="0">
            <a:noFill/>
          </a:ln>
        </p:spPr>
        <p:txBody>
          <a:bodyPr anchor="t">
            <a:normAutofit fontScale="95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a:t>
            </a:r>
            <a:r>
              <a:rPr b="1" lang="tr-TR" sz="3500" spc="-1" strike="noStrike">
                <a:solidFill>
                  <a:srgbClr val="ff0000"/>
                </a:solidFill>
                <a:latin typeface="Calibri"/>
              </a:rPr>
              <a:t>bir bilgisayar sisteminden diğer bir bilgisayar sistemine veya bir bilgisayar sisteminin kendi içinde </a:t>
            </a:r>
            <a:r>
              <a:rPr b="0" lang="tr-TR" sz="2800" spc="-1" strike="noStrike">
                <a:solidFill>
                  <a:srgbClr val="000000"/>
                </a:solidFill>
                <a:latin typeface="Calibri"/>
              </a:rPr>
              <a:t>umuma kapalı olarak iletimi esnasında teknik yöntemler kullanılarak gerçekleştirilen ele geçirme 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B9C1A68-2ACB-46BC-918F-1CFD869E41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Bir bilgisayar sistemine, bir bilgisayar sisteminden veya bir bilgisayar sisteminin kendi içinde</a:t>
            </a:r>
            <a:endParaRPr b="0" lang="en-US" sz="4000" spc="-1" strike="noStrike">
              <a:solidFill>
                <a:srgbClr val="000000"/>
              </a:solidFill>
              <a:latin typeface="Calibri"/>
            </a:endParaRPr>
          </a:p>
        </p:txBody>
      </p:sp>
      <p:sp>
        <p:nvSpPr>
          <p:cNvPr id="136" name="PlaceHolder 2"/>
          <p:cNvSpPr>
            <a:spLocks noGrp="1"/>
          </p:cNvSpPr>
          <p:nvPr>
            <p:ph/>
          </p:nvPr>
        </p:nvSpPr>
        <p:spPr>
          <a:xfrm>
            <a:off x="457200" y="1952640"/>
            <a:ext cx="8229600" cy="42084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ir bilgisayar sistemine</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Örn. kişiden klavyeye akan iletimler</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ir bilgisayar sisteminden</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Örn. bir bilgisayar sisteminden başka bir bilgisayar sistemine akan iletimler</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ir bilgisayar sisteminin kendi içinde: </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Örn. işlemciden yazıcıya akan iletimler</a:t>
            </a:r>
            <a:endParaRPr b="0" lang="en-US" sz="2400" spc="-1" strike="noStrike">
              <a:solidFill>
                <a:srgbClr val="000000"/>
              </a:solidFill>
              <a:latin typeface="Calibri"/>
            </a:endParaRPr>
          </a:p>
          <a:p>
            <a:pPr marL="343080" indent="0" algn="just">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50EEDB1-17BC-45F4-A595-5033156C81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ea typeface="ＭＳ Ｐゴシック"/>
              </a:rPr>
              <a:t>Oturum</a:t>
            </a:r>
            <a:r>
              <a:rPr b="1" lang="tr-TR" sz="4400" spc="-1" strike="noStrike">
                <a:solidFill>
                  <a:srgbClr val="000000"/>
                </a:solidFill>
                <a:latin typeface="Calibri"/>
                <a:ea typeface="ＭＳ Ｐゴシック"/>
              </a:rPr>
              <a:t>un Hedefleri</a:t>
            </a:r>
            <a:endParaRPr b="0" lang="en-US" sz="4400" spc="-1" strike="noStrike">
              <a:solidFill>
                <a:srgbClr val="000000"/>
              </a:solidFill>
              <a:latin typeface="Calibri"/>
            </a:endParaRPr>
          </a:p>
        </p:txBody>
      </p:sp>
      <p:sp>
        <p:nvSpPr>
          <p:cNvPr id="58" name="Content Placeholder 2"/>
          <p:cNvSpPr/>
          <p:nvPr/>
        </p:nvSpPr>
        <p:spPr>
          <a:xfrm>
            <a:off x="457200" y="1047600"/>
            <a:ext cx="8512200" cy="526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Bu oturumun sonunda katılımcılar</a:t>
            </a:r>
            <a:r>
              <a:rPr b="0" lang="en-GB" sz="2400" spc="-1" strike="noStrike">
                <a:solidFill>
                  <a:srgbClr val="000000"/>
                </a:solidFill>
                <a:latin typeface="Calibri"/>
                <a:ea typeface="ＭＳ Ｐゴシック"/>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Budapeşte Sözleşmesi’ne dayalı olarak, maddi ceza hukuku hükümlerini sıralayabilecek ve suçları tanımlamada kullanılan bazı temel faktörleri tespit edebilecekti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Vaka çalışması tartışmalarından hareketle ilgili maddi hukuk hükümlerini tespit edebilecektir.</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39" name="PlaceHolder 2"/>
          <p:cNvSpPr>
            <a:spLocks noGrp="1"/>
          </p:cNvSpPr>
          <p:nvPr>
            <p:ph/>
          </p:nvPr>
        </p:nvSpPr>
        <p:spPr>
          <a:xfrm>
            <a:off x="457200" y="1417680"/>
            <a:ext cx="8229600" cy="4852800"/>
          </a:xfrm>
          <a:prstGeom prst="rect">
            <a:avLst/>
          </a:prstGeom>
          <a:noFill/>
          <a:ln w="0">
            <a:noFill/>
          </a:ln>
        </p:spPr>
        <p:txBody>
          <a:bodyPr anchor="t">
            <a:normAutofit fontScale="93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a:t>
            </a:r>
            <a:r>
              <a:rPr b="0" lang="tr-TR" sz="3400" spc="-1" strike="noStrike">
                <a:solidFill>
                  <a:srgbClr val="ff0000"/>
                </a:solidFill>
                <a:latin typeface="Calibri"/>
              </a:rPr>
              <a:t>elektromanyetik dalgalarla yayılma</a:t>
            </a:r>
            <a:r>
              <a:rPr b="0" lang="tr-TR" sz="2800" spc="-1" strike="noStrike">
                <a:solidFill>
                  <a:srgbClr val="000000"/>
                </a:solidFill>
                <a:latin typeface="Calibri"/>
              </a:rPr>
              <a:t> da dahil olmak üzere, bilgisayar verilerinin bir bilgisayar sisteminden diğer bir bilgisayar sistemine veya bir bilgisayar sisteminin kendi içinde umuma kapalı olarak iletimi esnasında teknik yöntemler kullanılarak gerçekleştirilen ele geçirme 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B6E7194-AF22-4888-9D46-FFC222A0E1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lektromanyetik dalgalarla yayılma</a:t>
            </a:r>
            <a:endParaRPr b="0" lang="en-US" sz="4400" spc="-1" strike="noStrike">
              <a:solidFill>
                <a:srgbClr val="000000"/>
              </a:solidFill>
              <a:latin typeface="Calibri"/>
            </a:endParaRPr>
          </a:p>
        </p:txBody>
      </p:sp>
      <p:sp>
        <p:nvSpPr>
          <p:cNvPr id="142" name="PlaceHolder 2"/>
          <p:cNvSpPr>
            <a:spLocks noGrp="1"/>
          </p:cNvSpPr>
          <p:nvPr>
            <p:ph/>
          </p:nvPr>
        </p:nvSpPr>
        <p:spPr>
          <a:xfrm>
            <a:off x="457200" y="1544760"/>
            <a:ext cx="8229600" cy="51768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aha geniş bir kapsam sağlamak amacıyla eklenmiştir.</a:t>
            </a:r>
            <a:endParaRPr b="0" lang="en-US" sz="2800" spc="-1" strike="noStrike">
              <a:solidFill>
                <a:srgbClr val="000000"/>
              </a:solidFill>
              <a:latin typeface="Calibri"/>
            </a:endParaRPr>
          </a:p>
          <a:p>
            <a:pPr marL="343080" indent="0" algn="just">
              <a:lnSpc>
                <a:spcPct val="9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ilgisayar sistemleri faaliyetleri sırasında elektromanyetik dalgalar yollayabilir.</a:t>
            </a:r>
            <a:endParaRPr b="0" lang="en-US" sz="2800" spc="-1" strike="noStrike">
              <a:solidFill>
                <a:srgbClr val="000000"/>
              </a:solidFill>
              <a:latin typeface="Calibri"/>
            </a:endParaRPr>
          </a:p>
          <a:p>
            <a:pPr marL="343080" indent="0" algn="just">
              <a:lnSpc>
                <a:spcPct val="9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Yayılan dalgalar Budapeşte Sözleşmesi’nin bilgisayar verileri tanımı kapsamına girmez. </a:t>
            </a:r>
            <a:endParaRPr b="0" lang="en-US" sz="2800" spc="-1" strike="noStrike">
              <a:solidFill>
                <a:srgbClr val="000000"/>
              </a:solidFill>
              <a:latin typeface="Calibri"/>
            </a:endParaRPr>
          </a:p>
          <a:p>
            <a:pPr marL="343080" indent="0" algn="just">
              <a:lnSpc>
                <a:spcPct val="9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Veriler yayılan bu dalgalardan alınarak yeniden düzenlenebilir.</a:t>
            </a:r>
            <a:endParaRPr b="0" lang="en-US" sz="2800" spc="-1" strike="noStrike">
              <a:solidFill>
                <a:srgbClr val="000000"/>
              </a:solidFill>
              <a:latin typeface="Calibri"/>
            </a:endParaRPr>
          </a:p>
          <a:p>
            <a:pPr marL="343080" indent="0" algn="just">
              <a:lnSpc>
                <a:spcPct val="9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Yani elektromanyetik dalgaların yayılması esnasında ele geçirme de bu suç dahilinde sayılır. </a:t>
            </a:r>
            <a:endParaRPr b="0" lang="en-US" sz="2800" spc="-1" strike="noStrike">
              <a:solidFill>
                <a:srgbClr val="000000"/>
              </a:solidFill>
              <a:latin typeface="Calibri"/>
            </a:endParaRPr>
          </a:p>
        </p:txBody>
      </p:sp>
      <p:sp>
        <p:nvSpPr>
          <p:cNvPr id="1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7E709C0-F36D-4D56-8EA5-4C74892F67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60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45" name="PlaceHolder 2"/>
          <p:cNvSpPr>
            <a:spLocks noGrp="1"/>
          </p:cNvSpPr>
          <p:nvPr>
            <p:ph/>
          </p:nvPr>
        </p:nvSpPr>
        <p:spPr>
          <a:xfrm>
            <a:off x="457200" y="937800"/>
            <a:ext cx="8229600" cy="4853160"/>
          </a:xfrm>
          <a:prstGeom prst="rect">
            <a:avLst/>
          </a:prstGeom>
          <a:noFill/>
          <a:ln w="0">
            <a:noFill/>
          </a:ln>
        </p:spPr>
        <p:txBody>
          <a:bodyPr anchor="t">
            <a:normAutofit fontScale="90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umuma kapalı olarak iletimi esnasında teknik yöntemler kullanılarak gerçekleştirilen ele geçirme fiilinin, haksız yere ve kasten yapıldığı zaman, kendi iç hukuku kapsamında cezai suç olarak tanımlanması için gerekli olabilecek yasama tedbirlerini ve diğer tedbirleri kabul edecektir. Taraflardan biri, söz konusu suçun </a:t>
            </a:r>
            <a:r>
              <a:rPr b="1" lang="tr-TR" sz="3500" spc="-1" strike="noStrike">
                <a:solidFill>
                  <a:srgbClr val="ff0000"/>
                </a:solidFill>
                <a:latin typeface="Calibri"/>
              </a:rPr>
              <a:t>sahtekârlığa yönelik </a:t>
            </a:r>
            <a:r>
              <a:rPr b="0" lang="tr-TR" sz="2800" spc="-1" strike="noStrike">
                <a:solidFill>
                  <a:srgbClr val="000000"/>
                </a:solidFill>
                <a:latin typeface="Calibri"/>
              </a:rPr>
              <a:t>veya </a:t>
            </a:r>
            <a:r>
              <a:rPr b="1" lang="tr-TR" sz="3500" spc="-1" strike="noStrike">
                <a:solidFill>
                  <a:srgbClr val="ff0000"/>
                </a:solidFill>
                <a:latin typeface="Calibri"/>
              </a:rPr>
              <a:t>başka bir bilgisayar sistemine bağlı bir bilgisayar sistemiyle ilişkili olarak</a:t>
            </a:r>
            <a:r>
              <a:rPr b="0" lang="tr-TR" sz="2800" spc="-1" strike="noStrike">
                <a:solidFill>
                  <a:srgbClr val="000000"/>
                </a:solidFill>
                <a:latin typeface="Calibri"/>
              </a:rPr>
              <a:t> işlenmiş olmasını şart koşabilir.</a:t>
            </a:r>
            <a:endParaRPr b="0" lang="en-US" sz="2800" spc="-1" strike="noStrike">
              <a:solidFill>
                <a:srgbClr val="000000"/>
              </a:solidFill>
              <a:latin typeface="Calibri"/>
            </a:endParaRPr>
          </a:p>
        </p:txBody>
      </p:sp>
      <p:sp>
        <p:nvSpPr>
          <p:cNvPr id="1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FB03978-1A34-4950-86EB-87CF39C80E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iteleyici Öğeler</a:t>
            </a:r>
            <a:endParaRPr b="0" lang="en-US" sz="4400" spc="-1" strike="noStrike">
              <a:solidFill>
                <a:srgbClr val="000000"/>
              </a:solidFill>
              <a:latin typeface="Calibri"/>
            </a:endParaRPr>
          </a:p>
        </p:txBody>
      </p:sp>
      <p:sp>
        <p:nvSpPr>
          <p:cNvPr id="148" name="PlaceHolder 2"/>
          <p:cNvSpPr>
            <a:spLocks noGrp="1"/>
          </p:cNvSpPr>
          <p:nvPr>
            <p:ph/>
          </p:nvPr>
        </p:nvSpPr>
        <p:spPr>
          <a:xfrm>
            <a:off x="457200" y="1712880"/>
            <a:ext cx="8229600" cy="41529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Taraflar kasıtlı yetkisiz ele geçirme suçunu şu niteleyici öğelerle sınırlandırabilir: </a:t>
            </a:r>
            <a:endParaRPr b="0" lang="en-US" sz="32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Sahtekârlık niyeti</a:t>
            </a:r>
            <a:endParaRPr b="0" lang="en-US" sz="30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Başka bir sisteme bağlı bir bilgisayar sistemiyle ilişkili olmak</a:t>
            </a:r>
            <a:endParaRPr b="0" lang="en-US" sz="3000" spc="-1" strike="noStrike">
              <a:solidFill>
                <a:srgbClr val="000000"/>
              </a:solidFill>
              <a:latin typeface="Calibri"/>
            </a:endParaRPr>
          </a:p>
        </p:txBody>
      </p:sp>
      <p:sp>
        <p:nvSpPr>
          <p:cNvPr id="1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5324701-5CF8-48F5-882B-9FC4FBCB4A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1055160"/>
            <a:ext cx="8229600" cy="452628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Verilere Müdahal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4 – Budapeşte Sözleşmesi)</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ilgisayar verilerine zarar verilmesi, verilerin silinmesi, tahrip edilmesi, değiştirilmesi veya engellenmesi</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Kasıtlı olarak, haksız yer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70E87D-4914-4CD5-928C-0D659BA3EE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53"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zarar verilmesi, verilerin silinmesi, tahrip edilmesi, değiştirilmesi 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 </a:t>
            </a:r>
            <a:endParaRPr b="0" lang="en-US" sz="2800" spc="-1" strike="noStrike">
              <a:solidFill>
                <a:srgbClr val="000000"/>
              </a:solidFill>
              <a:latin typeface="Calibri"/>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02BFB8-2AE1-44A6-A373-E6443B1BA1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56" name="PlaceHolder 2"/>
          <p:cNvSpPr>
            <a:spLocks noGrp="1"/>
          </p:cNvSpPr>
          <p:nvPr>
            <p:ph/>
          </p:nvPr>
        </p:nvSpPr>
        <p:spPr>
          <a:xfrm>
            <a:off x="457200" y="18399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a:t>
            </a:r>
            <a:r>
              <a:rPr b="1" lang="tr-TR" sz="4000" spc="-1" strike="noStrike">
                <a:solidFill>
                  <a:srgbClr val="ff0000"/>
                </a:solidFill>
                <a:latin typeface="Calibri"/>
              </a:rPr>
              <a:t>zarar verilmesi</a:t>
            </a:r>
            <a:r>
              <a:rPr b="0" lang="tr-TR" sz="2800" spc="-1" strike="noStrike">
                <a:solidFill>
                  <a:srgbClr val="000000"/>
                </a:solidFill>
                <a:latin typeface="Calibri"/>
              </a:rPr>
              <a:t>, verilerin silinmesi, </a:t>
            </a:r>
            <a:r>
              <a:rPr b="1" lang="tr-TR" sz="4000" spc="-1" strike="noStrike">
                <a:solidFill>
                  <a:srgbClr val="ff0000"/>
                </a:solidFill>
                <a:latin typeface="Calibri"/>
              </a:rPr>
              <a:t>tahrip edilmesi</a:t>
            </a:r>
            <a:r>
              <a:rPr b="0" lang="tr-TR" sz="2800" spc="-1" strike="noStrike">
                <a:solidFill>
                  <a:srgbClr val="000000"/>
                </a:solidFill>
                <a:latin typeface="Calibri"/>
              </a:rPr>
              <a:t>, değiştirilmesi 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 </a:t>
            </a:r>
            <a:endParaRPr b="0" lang="en-US" sz="2800" spc="-1" strike="noStrike">
              <a:solidFill>
                <a:srgbClr val="000000"/>
              </a:solidFill>
              <a:latin typeface="Calibri"/>
            </a:endParaRPr>
          </a:p>
        </p:txBody>
      </p:sp>
      <p:sp>
        <p:nvSpPr>
          <p:cNvPr id="1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A9682FB-A957-43A9-BF55-4172EB5854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Zarar, tahrip</a:t>
            </a:r>
            <a:endParaRPr b="0" lang="en-US" sz="4400" spc="-1" strike="noStrike">
              <a:solidFill>
                <a:srgbClr val="000000"/>
              </a:solidFill>
              <a:latin typeface="Calibri"/>
            </a:endParaRPr>
          </a:p>
        </p:txBody>
      </p:sp>
      <p:sp>
        <p:nvSpPr>
          <p:cNvPr id="159" name="PlaceHolder 2"/>
          <p:cNvSpPr>
            <a:spLocks noGrp="1"/>
          </p:cNvSpPr>
          <p:nvPr>
            <p:ph/>
          </p:nvPr>
        </p:nvSpPr>
        <p:spPr>
          <a:xfrm>
            <a:off x="457200" y="203940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Zarar ve tahrip birbirini içeren eylemlerdir.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 </a:t>
            </a:r>
            <a:r>
              <a:rPr b="0" lang="en-GB" sz="3000" spc="-1" strike="noStrike">
                <a:solidFill>
                  <a:srgbClr val="000000"/>
                </a:solidFill>
                <a:latin typeface="Calibri"/>
                <a:ea typeface="Times New Roman"/>
              </a:rPr>
              <a:t>Veri ve programların:</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bütünlüğünü; veya</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bilgi içeriğini</a:t>
            </a:r>
            <a:endParaRPr b="0" lang="en-US" sz="26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	</a:t>
            </a:r>
            <a:r>
              <a:rPr b="0" lang="en-GB" sz="3000" spc="-1" strike="noStrike">
                <a:solidFill>
                  <a:srgbClr val="000000"/>
                </a:solidFill>
                <a:latin typeface="Calibri"/>
                <a:ea typeface="Times New Roman"/>
              </a:rPr>
              <a:t>olumsuz yönde değiştirir. </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7D3E91D-0F60-465B-87A3-89FC0C4F50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62" name="PlaceHolder 2"/>
          <p:cNvSpPr>
            <a:spLocks noGrp="1"/>
          </p:cNvSpPr>
          <p:nvPr>
            <p:ph/>
          </p:nvPr>
        </p:nvSpPr>
        <p:spPr>
          <a:xfrm>
            <a:off x="457200" y="181080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zarar verilmesi, verilerin </a:t>
            </a:r>
            <a:r>
              <a:rPr b="1" lang="tr-TR" sz="4000" spc="-1" strike="noStrike">
                <a:solidFill>
                  <a:srgbClr val="ff0000"/>
                </a:solidFill>
                <a:latin typeface="Calibri"/>
              </a:rPr>
              <a:t>silinmesi</a:t>
            </a:r>
            <a:r>
              <a:rPr b="0" lang="tr-TR" sz="2800" spc="-1" strike="noStrike">
                <a:solidFill>
                  <a:srgbClr val="000000"/>
                </a:solidFill>
                <a:latin typeface="Calibri"/>
              </a:rPr>
              <a:t>, tahrip edilmesi, değiştirilmesi 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a:t>
            </a:r>
            <a:endParaRPr b="0" lang="en-US" sz="2800" spc="-1" strike="noStrike">
              <a:solidFill>
                <a:srgbClr val="000000"/>
              </a:solidFill>
              <a:latin typeface="Calibri"/>
            </a:endParaRPr>
          </a:p>
        </p:txBody>
      </p:sp>
      <p:sp>
        <p:nvSpPr>
          <p:cNvPr id="1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D826CA7-8044-4E01-BA71-A24D6AC0C8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ilinme</a:t>
            </a:r>
            <a:endParaRPr b="0" lang="en-US" sz="4400" spc="-1" strike="noStrike">
              <a:solidFill>
                <a:srgbClr val="000000"/>
              </a:solidFill>
              <a:latin typeface="Calibri"/>
            </a:endParaRPr>
          </a:p>
        </p:txBody>
      </p:sp>
      <p:sp>
        <p:nvSpPr>
          <p:cNvPr id="165" name="PlaceHolder 2"/>
          <p:cNvSpPr>
            <a:spLocks noGrp="1"/>
          </p:cNvSpPr>
          <p:nvPr>
            <p:ph/>
          </p:nvPr>
        </p:nvSpPr>
        <p:spPr>
          <a:xfrm>
            <a:off x="457200" y="1955880"/>
            <a:ext cx="8229600" cy="3443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n silinmesi cismani bir şeyin imhasına eşdeğerdir.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 ortadan kaldırı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 tanınmaz hale getiri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E6BD23F-EF58-42C8-AC83-EF957B2760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000000"/>
                </a:solidFill>
                <a:latin typeface="Calibri"/>
                <a:ea typeface="ＭＳ Ｐゴシック"/>
              </a:rPr>
              <a:t>Bölüm Bir</a:t>
            </a:r>
            <a:br>
              <a:rPr sz="4000"/>
            </a:br>
            <a:r>
              <a:rPr b="1" lang="en-GB" sz="4000" spc="-1" strike="noStrike">
                <a:solidFill>
                  <a:srgbClr val="000000"/>
                </a:solidFill>
                <a:latin typeface="Calibri"/>
                <a:ea typeface="ＭＳ Ｐゴシック"/>
              </a:rPr>
              <a:t>Budape</a:t>
            </a:r>
            <a:r>
              <a:rPr b="1" lang="tr-TR" sz="4000" spc="-1" strike="noStrike">
                <a:solidFill>
                  <a:srgbClr val="000000"/>
                </a:solidFill>
                <a:latin typeface="Calibri"/>
                <a:ea typeface="ＭＳ Ｐゴシック"/>
              </a:rPr>
              <a:t>ş</a:t>
            </a:r>
            <a:r>
              <a:rPr b="1" lang="en-GB" sz="4000" spc="-1" strike="noStrike">
                <a:solidFill>
                  <a:srgbClr val="000000"/>
                </a:solidFill>
                <a:latin typeface="Calibri"/>
                <a:ea typeface="ＭＳ Ｐゴシック"/>
              </a:rPr>
              <a:t>t</a:t>
            </a:r>
            <a:r>
              <a:rPr b="1" lang="tr-TR" sz="4000" spc="-1" strike="noStrike">
                <a:solidFill>
                  <a:srgbClr val="000000"/>
                </a:solidFill>
                <a:latin typeface="Calibri"/>
                <a:ea typeface="ＭＳ Ｐゴシック"/>
              </a:rPr>
              <a:t>e Sanal Suç Sözleşmesi</a:t>
            </a:r>
            <a:r>
              <a:rPr b="1" lang="en-GB" sz="4000" spc="-1" strike="noStrike">
                <a:solidFill>
                  <a:srgbClr val="000000"/>
                </a:solidFill>
                <a:latin typeface="Calibri"/>
                <a:ea typeface="ＭＳ Ｐゴシック"/>
              </a:rPr>
              <a:t> -</a:t>
            </a:r>
            <a:br>
              <a:rPr sz="4000"/>
            </a:br>
            <a:r>
              <a:rPr b="1" lang="tr-TR" sz="4000" spc="-1" strike="noStrike">
                <a:solidFill>
                  <a:srgbClr val="000000"/>
                </a:solidFill>
                <a:latin typeface="Calibri"/>
                <a:ea typeface="ＭＳ Ｐゴシック"/>
              </a:rPr>
              <a:t>Maddi Ceza Hukuku</a:t>
            </a:r>
            <a:br>
              <a:rPr sz="4000"/>
            </a:br>
            <a:endParaRPr b="0" lang="en-US" sz="4000" spc="-1" strike="noStrike">
              <a:solidFill>
                <a:srgbClr val="000000"/>
              </a:solidFill>
              <a:latin typeface="Calibri"/>
            </a:endParaRPr>
          </a:p>
        </p:txBody>
      </p:sp>
      <p:pic>
        <p:nvPicPr>
          <p:cNvPr id="60"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68" name="PlaceHolder 2"/>
          <p:cNvSpPr>
            <a:spLocks noGrp="1"/>
          </p:cNvSpPr>
          <p:nvPr>
            <p:ph/>
          </p:nvPr>
        </p:nvSpPr>
        <p:spPr>
          <a:xfrm>
            <a:off x="457200" y="174096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zarar verilmesi, verilerin silinmesi, tahrip edilmesi, </a:t>
            </a:r>
            <a:r>
              <a:rPr b="1" lang="tr-TR" sz="4000" spc="-1" strike="noStrike">
                <a:solidFill>
                  <a:srgbClr val="ff0000"/>
                </a:solidFill>
                <a:latin typeface="Calibri"/>
              </a:rPr>
              <a:t>değiştirilmesi</a:t>
            </a:r>
            <a:r>
              <a:rPr b="0" lang="tr-TR" sz="2800" spc="-1" strike="noStrike">
                <a:solidFill>
                  <a:srgbClr val="ff0000"/>
                </a:solidFill>
                <a:latin typeface="Calibri"/>
              </a:rPr>
              <a:t> </a:t>
            </a:r>
            <a:r>
              <a:rPr b="0" lang="tr-TR" sz="2800" spc="-1" strike="noStrike">
                <a:solidFill>
                  <a:srgbClr val="000000"/>
                </a:solidFill>
                <a:latin typeface="Calibri"/>
              </a:rPr>
              <a:t>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a:t>
            </a:r>
            <a:endParaRPr b="0" lang="en-US" sz="2800" spc="-1" strike="noStrike">
              <a:solidFill>
                <a:srgbClr val="000000"/>
              </a:solidFill>
              <a:latin typeface="Calibri"/>
            </a:endParaRPr>
          </a:p>
        </p:txBody>
      </p:sp>
      <p:sp>
        <p:nvSpPr>
          <p:cNvPr id="1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D4EF125-0A3A-4677-A4A0-3D80C560CE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eğiştirme</a:t>
            </a:r>
            <a:endParaRPr b="0" lang="en-US" sz="4400" spc="-1" strike="noStrike">
              <a:solidFill>
                <a:srgbClr val="000000"/>
              </a:solidFill>
              <a:latin typeface="Calibri"/>
            </a:endParaRPr>
          </a:p>
        </p:txBody>
      </p:sp>
      <p:sp>
        <p:nvSpPr>
          <p:cNvPr id="171" name="PlaceHolder 2"/>
          <p:cNvSpPr>
            <a:spLocks noGrp="1"/>
          </p:cNvSpPr>
          <p:nvPr>
            <p:ph/>
          </p:nvPr>
        </p:nvSpPr>
        <p:spPr>
          <a:xfrm>
            <a:off x="457200" y="209664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evcut verilerin değiştirilmesi</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irüs veya Truva atı gibi kötü niyetli kodların girilmesini ve sonucunda verilerde değişiklik yapılmasını içerir.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F13C806-0264-4E0B-9C4D-FDE77027BB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zarar verilmesi, verilerin silinmesi, tahrip edilmesi, değiştirilmesi veya </a:t>
            </a:r>
            <a:r>
              <a:rPr b="1" lang="tr-TR" sz="4000" spc="-1" strike="noStrike">
                <a:solidFill>
                  <a:srgbClr val="ff0000"/>
                </a:solidFill>
                <a:latin typeface="Calibri"/>
              </a:rPr>
              <a:t>engellenmesinin</a:t>
            </a:r>
            <a:r>
              <a:rPr b="0" lang="tr-TR" sz="2800" spc="-1" strike="noStrike">
                <a:solidFill>
                  <a:srgbClr val="000000"/>
                </a:solidFill>
                <a:latin typeface="Calibri"/>
              </a:rPr>
              <a:t>,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a:t>
            </a:r>
            <a:endParaRPr b="0" lang="en-US" sz="2800" spc="-1" strike="noStrike">
              <a:solidFill>
                <a:srgbClr val="000000"/>
              </a:solidFill>
              <a:latin typeface="Calibri"/>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09B02E4-20DC-4337-A865-2FEEB5554A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ngelleme</a:t>
            </a:r>
            <a:endParaRPr b="0" lang="en-US" sz="4400" spc="-1" strike="noStrike">
              <a:solidFill>
                <a:srgbClr val="000000"/>
              </a:solidFill>
              <a:latin typeface="Calibri"/>
            </a:endParaRPr>
          </a:p>
        </p:txBody>
      </p:sp>
      <p:sp>
        <p:nvSpPr>
          <p:cNvPr id="177" name="PlaceHolder 2"/>
          <p:cNvSpPr>
            <a:spLocks noGrp="1"/>
          </p:cNvSpPr>
          <p:nvPr>
            <p:ph/>
          </p:nvPr>
        </p:nvSpPr>
        <p:spPr>
          <a:xfrm>
            <a:off x="457200" y="198396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n saklanıyor olduğu bilgisayara veya depolama aracına erişimi bulunan kişinin verilere erişebilirliğini engelleyen veya sona erdiren herhangi bir işlem.</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n içeriğini değil, erişilebilirliğini etkiler. </a:t>
            </a:r>
            <a:endParaRPr b="0" lang="en-US" sz="3000" spc="-1" strike="noStrike">
              <a:solidFill>
                <a:srgbClr val="000000"/>
              </a:solidFill>
              <a:latin typeface="Calibri"/>
            </a:endParaRPr>
          </a:p>
        </p:txBody>
      </p:sp>
      <p:sp>
        <p:nvSpPr>
          <p:cNvPr id="1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2187A77-9E01-4AED-837C-DA9C203E2D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80"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a:t>
            </a:r>
            <a:r>
              <a:rPr b="1" lang="tr-TR" sz="4000" spc="-1" strike="noStrike">
                <a:solidFill>
                  <a:srgbClr val="ff0000"/>
                </a:solidFill>
                <a:latin typeface="Calibri"/>
              </a:rPr>
              <a:t>haksız yere </a:t>
            </a:r>
            <a:r>
              <a:rPr b="0" lang="tr-TR" sz="2800" spc="-1" strike="noStrike">
                <a:solidFill>
                  <a:srgbClr val="000000"/>
                </a:solidFill>
                <a:latin typeface="Calibri"/>
              </a:rPr>
              <a:t>zarar verilmesi, verilerin silinmesi, tahrip edilmesi, değiştirilmesi 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a:t>
            </a:r>
            <a:endParaRPr b="0" lang="en-US" sz="2800" spc="-1" strike="noStrike">
              <a:solidFill>
                <a:srgbClr val="000000"/>
              </a:solidFill>
              <a:latin typeface="Calibri"/>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7F0CA58-5FA6-4FC3-AAAE-E138425CC5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8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183" name="PlaceHolder 2"/>
          <p:cNvSpPr>
            <a:spLocks noGrp="1"/>
          </p:cNvSpPr>
          <p:nvPr>
            <p:ph/>
          </p:nvPr>
        </p:nvSpPr>
        <p:spPr>
          <a:xfrm>
            <a:off x="457200" y="1479600"/>
            <a:ext cx="8229600" cy="4626000"/>
          </a:xfrm>
          <a:prstGeom prst="rect">
            <a:avLst/>
          </a:prstGeom>
          <a:noFill/>
          <a:ln w="0">
            <a:noFill/>
          </a:ln>
        </p:spPr>
        <p:txBody>
          <a:bodyPr anchor="t">
            <a:normAutofit fontScale="98000"/>
          </a:bodyPr>
          <a:p>
            <a:pPr marL="335880" indent="-33588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Müdahale eden kişinin verilere müdahale hakkı bulunuyorsa bu suç oluşmaz. </a:t>
            </a:r>
            <a:endParaRPr b="0" lang="en-US" sz="2600" spc="-1" strike="noStrike">
              <a:solidFill>
                <a:srgbClr val="000000"/>
              </a:solidFill>
              <a:latin typeface="Calibri"/>
            </a:endParaRPr>
          </a:p>
          <a:p>
            <a:pPr marL="335880" indent="-33588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Örnekler: </a:t>
            </a:r>
            <a:endParaRPr b="0" lang="en-US" sz="2600" spc="-1" strike="noStrike">
              <a:solidFill>
                <a:srgbClr val="000000"/>
              </a:solidFill>
              <a:latin typeface="Calibri"/>
            </a:endParaRPr>
          </a:p>
          <a:p>
            <a:pPr lvl="1" marL="727920" indent="-2800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ğların veya ortak işletme veya ticari uygulamaların tasarlanmasına dahil olan faaliyetler</a:t>
            </a:r>
            <a:endParaRPr b="0" lang="en-US" sz="2200" spc="-1" strike="noStrike">
              <a:solidFill>
                <a:srgbClr val="000000"/>
              </a:solidFill>
              <a:latin typeface="Calibri"/>
            </a:endParaRPr>
          </a:p>
          <a:p>
            <a:pPr lvl="1" marL="727920" indent="-2800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Bilgisayarın güvenlik sisteminin mal sahibi veya operatör tarafından izin verilmiş şekilde testten geçirilmesi veya korunması</a:t>
            </a:r>
            <a:endParaRPr b="0" lang="en-US" sz="2200" spc="-1" strike="noStrike">
              <a:solidFill>
                <a:srgbClr val="000000"/>
              </a:solidFill>
              <a:latin typeface="Calibri"/>
            </a:endParaRPr>
          </a:p>
          <a:p>
            <a:pPr lvl="1" marL="727920" indent="-2800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Bilgisayarın işletme sisteminin yeni yazılımın kurulması sırasında yeniden yapılandırılması</a:t>
            </a:r>
            <a:endParaRPr b="0" lang="en-US" sz="2200" spc="-1" strike="noStrike">
              <a:solidFill>
                <a:srgbClr val="000000"/>
              </a:solidFill>
              <a:latin typeface="Calibri"/>
            </a:endParaRPr>
          </a:p>
          <a:p>
            <a:pPr lvl="1" marL="727920" indent="-2800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nonim haberleşmelerin kolaylaştırılması amacıyla trafik verilerinin değiştirilmesi (örn. anonim e-posta sistemleri) </a:t>
            </a:r>
            <a:endParaRPr b="0" lang="en-US" sz="2200" spc="-1" strike="noStrike">
              <a:solidFill>
                <a:srgbClr val="000000"/>
              </a:solidFill>
              <a:latin typeface="Calibri"/>
            </a:endParaRPr>
          </a:p>
          <a:p>
            <a:pPr lvl="1" marL="727920" indent="-2800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Güvenli haberleşme amacıyla verilerin değiştirilmesi (örn. şifreleme) </a:t>
            </a:r>
            <a:endParaRPr b="0" lang="en-US" sz="2200" spc="-1" strike="noStrike">
              <a:solidFill>
                <a:srgbClr val="000000"/>
              </a:solidFill>
              <a:latin typeface="Calibri"/>
            </a:endParaRPr>
          </a:p>
        </p:txBody>
      </p:sp>
      <p:sp>
        <p:nvSpPr>
          <p:cNvPr id="1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0E416A7-22EF-4F33-BF25-E7C30AD9AC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86" name="PlaceHolder 2"/>
          <p:cNvSpPr>
            <a:spLocks noGrp="1"/>
          </p:cNvSpPr>
          <p:nvPr>
            <p:ph/>
          </p:nvPr>
        </p:nvSpPr>
        <p:spPr>
          <a:xfrm>
            <a:off x="457200" y="18813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zarar verilmesi, verilerin silinmesi, tahrip edilmesi, değiştirilmesi 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a:t>
            </a:r>
            <a:r>
              <a:rPr b="1" lang="tr-TR" sz="4000" spc="-1" strike="noStrike">
                <a:solidFill>
                  <a:srgbClr val="ff0000"/>
                </a:solidFill>
                <a:latin typeface="Calibri"/>
              </a:rPr>
              <a:t>ciddi zararla</a:t>
            </a:r>
            <a:r>
              <a:rPr b="0" lang="tr-TR" sz="2800" spc="-1" strike="noStrike">
                <a:solidFill>
                  <a:srgbClr val="000000"/>
                </a:solidFill>
                <a:latin typeface="Calibri"/>
              </a:rPr>
              <a:t> sonuçlanması gerektiğini şart koşma hakkını saklı tutabilir.</a:t>
            </a:r>
            <a:endParaRPr b="0" lang="en-US" sz="2800" spc="-1" strike="noStrike">
              <a:solidFill>
                <a:srgbClr val="000000"/>
              </a:solidFill>
              <a:latin typeface="Calibri"/>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2255412-FD2E-4559-AF51-DC53127575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iddi zarar</a:t>
            </a:r>
            <a:endParaRPr b="0" lang="en-US" sz="4400" spc="-1" strike="noStrike">
              <a:solidFill>
                <a:srgbClr val="000000"/>
              </a:solidFill>
              <a:latin typeface="Calibri"/>
            </a:endParaRPr>
          </a:p>
        </p:txBody>
      </p:sp>
      <p:sp>
        <p:nvSpPr>
          <p:cNvPr id="189" name="PlaceHolder 2"/>
          <p:cNvSpPr>
            <a:spLocks noGrp="1"/>
          </p:cNvSpPr>
          <p:nvPr>
            <p:ph/>
          </p:nvPr>
        </p:nvSpPr>
        <p:spPr>
          <a:xfrm>
            <a:off x="457200" y="1899720"/>
            <a:ext cx="8229600" cy="44564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Taraflar davranışın ciddi bir zararla sonuçlanmasını şart koşarak bu suçun kapsamını sınırlandırabilir.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Ciddi zarar tanımı iç hukukta öngörülecekti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avranıştan kaynaklanan maddi zararın miktarı temel alınarak nitelenebilir. </a:t>
            </a:r>
            <a:endParaRPr b="0" lang="en-US" sz="3000" spc="-1" strike="noStrike">
              <a:solidFill>
                <a:srgbClr val="000000"/>
              </a:solidFill>
              <a:latin typeface="Calibri"/>
            </a:endParaRPr>
          </a:p>
        </p:txBody>
      </p:sp>
      <p:sp>
        <p:nvSpPr>
          <p:cNvPr id="1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F912FF8-88F8-419D-909E-F584E6961E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512280"/>
            <a:ext cx="8229600" cy="588492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Sisteme Müdahal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5 – Budapeşte Sözleşmesi)</a:t>
            </a:r>
            <a:endParaRPr b="0" lang="en-US" sz="3200" spc="-1" strike="noStrike">
              <a:solidFill>
                <a:srgbClr val="000000"/>
              </a:solidFill>
              <a:latin typeface="Calibri"/>
            </a:endParaRPr>
          </a:p>
          <a:p>
            <a:pPr marL="343080"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ir bilgisayar sisteminin işleyişinin ciddi şekilde engellenmesi</a:t>
            </a:r>
            <a:endParaRPr b="0" lang="en-US" sz="3200" spc="-1" strike="noStrike">
              <a:solidFill>
                <a:srgbClr val="000000"/>
              </a:solidFill>
              <a:latin typeface="Calibri"/>
            </a:endParaRPr>
          </a:p>
          <a:p>
            <a:pPr marL="343080"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ilgisayar sistemlerine veri girişi yaparak, bu verileri ileterek, bilgisayar verilerine zarar vererek, bunları silerek, tahrip ederek, değiştirerek veya engelleyerek</a:t>
            </a:r>
            <a:endParaRPr b="0" lang="en-US" sz="3200" spc="-1" strike="noStrike">
              <a:solidFill>
                <a:srgbClr val="000000"/>
              </a:solidFill>
              <a:latin typeface="Calibri"/>
            </a:endParaRPr>
          </a:p>
          <a:p>
            <a:pPr marL="343080" indent="0" algn="ctr">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Kasıtlı olarak, haksız yere</a:t>
            </a:r>
            <a:endParaRPr b="0" lang="en-US" sz="3200" spc="-1" strike="noStrike">
              <a:solidFill>
                <a:srgbClr val="000000"/>
              </a:solidFill>
              <a:latin typeface="Calibri"/>
            </a:endParaRPr>
          </a:p>
        </p:txBody>
      </p:sp>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1EC502-42EC-4B3B-B8B9-69100B88DF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5 – Sisteme müdahale</a:t>
            </a: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sistemlerine veri girişi yaparak, bu verileri ileterek, bilgisayar verilerine zarar vererek, bunları silerek, tahrip ederek, değiştirerek veya engelleyerek bir bilgisayar sisteminin işleyişinin haksız yere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p:txBody>
      </p:sp>
      <p:sp>
        <p:nvSpPr>
          <p:cNvPr id="1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26734-E0F9-4929-8858-C3CCB4BDD6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feld 12"/>
          <p:cNvSpPr/>
          <p:nvPr/>
        </p:nvSpPr>
        <p:spPr>
          <a:xfrm>
            <a:off x="179280" y="1052640"/>
            <a:ext cx="2786040" cy="4301280"/>
          </a:xfrm>
          <a:prstGeom prst="rect">
            <a:avLst/>
          </a:prstGeom>
          <a:solidFill>
            <a:srgbClr val="fdeada"/>
          </a:solidFill>
          <a:ln w="9360">
            <a:solidFill>
              <a:srgbClr val="7f7f7f"/>
            </a:solidFill>
            <a:miter/>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Arial"/>
              </a:rPr>
              <a:t>Suç teşkil eden işlem</a:t>
            </a:r>
            <a:endParaRPr b="0" lang="en-US" sz="2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Yasadışı erişim</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Yasadışı ele geçirm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Verilere müdahal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Sisteme müdahal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Cihazların kötüye kullanılması</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Sahtecilik ve dolandırıcılık</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Çocuk pornografisi</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FMH</a:t>
            </a:r>
            <a:r>
              <a:rPr b="1" lang="en-GB" sz="2000" spc="-1" strike="noStrike">
                <a:solidFill>
                  <a:srgbClr val="000000"/>
                </a:solidFill>
                <a:latin typeface="Arial"/>
              </a:rPr>
              <a:t>-</a:t>
            </a:r>
            <a:r>
              <a:rPr b="1" lang="tr-TR" sz="2000" spc="-1" strike="noStrike">
                <a:solidFill>
                  <a:srgbClr val="000000"/>
                </a:solidFill>
                <a:latin typeface="Arial"/>
              </a:rPr>
              <a:t>suçları</a:t>
            </a:r>
            <a:endParaRPr b="0" lang="en-US" sz="2000" spc="-1" strike="noStrike">
              <a:solidFill>
                <a:srgbClr val="000000"/>
              </a:solidFill>
              <a:latin typeface="Arial"/>
            </a:endParaRPr>
          </a:p>
        </p:txBody>
      </p:sp>
      <p:sp>
        <p:nvSpPr>
          <p:cNvPr id="62" name="Textfeld 3"/>
          <p:cNvSpPr/>
          <p:nvPr/>
        </p:nvSpPr>
        <p:spPr>
          <a:xfrm>
            <a:off x="3465360" y="1041480"/>
            <a:ext cx="2428920" cy="25941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Arial"/>
                <a:ea typeface="ＭＳ Ｐゴシック"/>
              </a:rPr>
              <a:t>Usul araçları</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ea typeface="ＭＳ Ｐゴシック"/>
              </a:rPr>
              <a:t>Süratli koruma</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ea typeface="ＭＳ Ｐゴシック"/>
              </a:rPr>
              <a:t>İbraz emri</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ea typeface="ＭＳ Ｐゴシック"/>
              </a:rPr>
              <a:t>Arama ve el koyma</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ea typeface="ＭＳ Ｐゴシック"/>
              </a:rPr>
              <a:t>Bilgisayar verilerinin ele geçirilmesi</a:t>
            </a:r>
            <a:endParaRPr b="0" lang="en-US" sz="2000" spc="-1" strike="noStrike">
              <a:solidFill>
                <a:srgbClr val="000000"/>
              </a:solidFill>
              <a:latin typeface="Arial"/>
            </a:endParaRPr>
          </a:p>
        </p:txBody>
      </p:sp>
      <p:sp>
        <p:nvSpPr>
          <p:cNvPr id="63" name="Textfeld 4"/>
          <p:cNvSpPr/>
          <p:nvPr/>
        </p:nvSpPr>
        <p:spPr>
          <a:xfrm>
            <a:off x="6394320" y="1004760"/>
            <a:ext cx="2571840" cy="49111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Arial"/>
              </a:rPr>
              <a:t>Uluslararası işbirliği</a:t>
            </a:r>
            <a:endParaRPr b="0" lang="en-US" sz="2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İad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KAY (Karşılıklı adli yardım)</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Kendiliğinden bilgi iletimi</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Süratli koruma</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Bilgisayar verilerine erişim için KAY</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Ele geçirmeye yönelik KAY</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7/24</a:t>
            </a:r>
            <a:r>
              <a:rPr b="1" lang="en-GB" sz="2000" spc="-1" strike="noStrike">
                <a:solidFill>
                  <a:srgbClr val="000000"/>
                </a:solidFill>
                <a:latin typeface="Arial"/>
              </a:rPr>
              <a:t> </a:t>
            </a:r>
            <a:r>
              <a:rPr b="1" lang="tr-TR" sz="2000" spc="-1" strike="noStrike">
                <a:solidFill>
                  <a:srgbClr val="000000"/>
                </a:solidFill>
                <a:latin typeface="Arial"/>
              </a:rPr>
              <a:t>irtibat noktaları</a:t>
            </a:r>
            <a:endParaRPr b="0" lang="en-US" sz="2000" spc="-1" strike="noStrike">
              <a:solidFill>
                <a:srgbClr val="000000"/>
              </a:solidFill>
              <a:latin typeface="Arial"/>
            </a:endParaRPr>
          </a:p>
        </p:txBody>
      </p:sp>
      <p:sp>
        <p:nvSpPr>
          <p:cNvPr id="64" name="Textfeld 16"/>
          <p:cNvSpPr/>
          <p:nvPr/>
        </p:nvSpPr>
        <p:spPr>
          <a:xfrm>
            <a:off x="289404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ＭＳ Ｐゴシック"/>
              </a:rPr>
              <a:t>+</a:t>
            </a:r>
            <a:endParaRPr b="0" lang="en-US" sz="4800" spc="-1" strike="noStrike">
              <a:solidFill>
                <a:srgbClr val="000000"/>
              </a:solidFill>
              <a:latin typeface="Arial"/>
            </a:endParaRPr>
          </a:p>
        </p:txBody>
      </p:sp>
      <p:sp>
        <p:nvSpPr>
          <p:cNvPr id="65" name="Textfeld 17"/>
          <p:cNvSpPr/>
          <p:nvPr/>
        </p:nvSpPr>
        <p:spPr>
          <a:xfrm>
            <a:off x="582300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ＭＳ Ｐゴシック"/>
              </a:rPr>
              <a:t>+</a:t>
            </a:r>
            <a:endParaRPr b="0" lang="en-US" sz="4800" spc="-1" strike="noStrike">
              <a:solidFill>
                <a:srgbClr val="000000"/>
              </a:solidFill>
              <a:latin typeface="Arial"/>
            </a:endParaRPr>
          </a:p>
        </p:txBody>
      </p:sp>
      <p:sp>
        <p:nvSpPr>
          <p:cNvPr id="66" name="Textfeld 18"/>
          <p:cNvSpPr/>
          <p:nvPr/>
        </p:nvSpPr>
        <p:spPr>
          <a:xfrm>
            <a:off x="2679840" y="526716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595959"/>
                </a:solidFill>
                <a:latin typeface="Arial"/>
                <a:ea typeface="ＭＳ Ｐゴシック"/>
              </a:rPr>
              <a:t>Uyumlaştırma</a:t>
            </a:r>
            <a:endParaRPr b="0" lang="en-US" sz="1800" spc="-1" strike="noStrike">
              <a:solidFill>
                <a:srgbClr val="000000"/>
              </a:solidFill>
              <a:latin typeface="Arial"/>
            </a:endParaRPr>
          </a:p>
        </p:txBody>
      </p:sp>
      <p:cxnSp>
        <p:nvCxnSpPr>
          <p:cNvPr id="67" name="Form 20"/>
          <p:cNvCxnSpPr>
            <a:stCxn id="61" idx="2"/>
          </p:cNvCxnSpPr>
          <p:nvPr/>
        </p:nvCxnSpPr>
        <p:spPr>
          <a:xfrm flipH="1" rot="16200000">
            <a:off x="3713760" y="2943720"/>
            <a:ext cx="540720" cy="4821840"/>
          </a:xfrm>
          <a:prstGeom prst="bentConnector2">
            <a:avLst/>
          </a:prstGeom>
          <a:ln w="9360">
            <a:solidFill>
              <a:srgbClr val="002060"/>
            </a:solidFill>
            <a:miter/>
            <a:tailEnd len="med" type="arrow" w="med"/>
          </a:ln>
        </p:spPr>
      </p:cxnSp>
      <p:sp>
        <p:nvSpPr>
          <p:cNvPr id="68" name="Gerade Verbindung 27"/>
          <p:cNvSpPr/>
          <p:nvPr/>
        </p:nvSpPr>
        <p:spPr>
          <a:xfrm>
            <a:off x="4680000" y="3657600"/>
            <a:ext cx="0" cy="1967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PlaceHolder 1"/>
          <p:cNvSpPr>
            <a:spLocks noGrp="1"/>
          </p:cNvSpPr>
          <p:nvPr>
            <p:ph type="title"/>
          </p:nvPr>
        </p:nvSpPr>
        <p:spPr>
          <a:xfrm>
            <a:off x="3510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ea typeface="ＭＳ Ｐゴシック"/>
              </a:rPr>
              <a:t>Budapeşte Sözleşme</a:t>
            </a:r>
            <a:r>
              <a:rPr b="1" lang="tr-TR" sz="4200" spc="-1" strike="noStrike">
                <a:solidFill>
                  <a:srgbClr val="000000"/>
                </a:solidFill>
                <a:latin typeface="Calibri"/>
                <a:ea typeface="ＭＳ Ｐゴシック"/>
              </a:rPr>
              <a:t>si’</a:t>
            </a:r>
            <a:r>
              <a:rPr b="1" lang="en-GB" sz="4200" spc="-1" strike="noStrike">
                <a:solidFill>
                  <a:srgbClr val="000000"/>
                </a:solidFill>
                <a:latin typeface="Calibri"/>
                <a:ea typeface="ＭＳ Ｐゴシック"/>
              </a:rPr>
              <a:t>nin Kapsamı</a:t>
            </a:r>
            <a:endParaRPr b="0" lang="en-US" sz="4200" spc="-1" strike="noStrike">
              <a:solidFill>
                <a:srgbClr val="000000"/>
              </a:solidFill>
              <a:latin typeface="Calibri"/>
            </a:endParaRPr>
          </a:p>
        </p:txBody>
      </p:sp>
      <p:sp>
        <p:nvSpPr>
          <p:cNvPr id="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D1DE8A-A826-47C9-A56A-73A0F6AB78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5 – Sisteme müdahale</a:t>
            </a: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sistemlerine veri girişi yaparak, bu verileri ileterek, bilgisayar verilerine zarar vererek, bunları silerek, tahrip ederek, değiştirerek veya engelleyerek bir bilgisayar sisteminin işleyişinin haksız yere ciddi şekilde </a:t>
            </a:r>
            <a:r>
              <a:rPr b="1" lang="tr-TR" sz="4000" spc="-1" strike="noStrike">
                <a:solidFill>
                  <a:srgbClr val="ff0000"/>
                </a:solidFill>
                <a:latin typeface="Calibri"/>
              </a:rPr>
              <a:t>engellenmesinin</a:t>
            </a:r>
            <a:r>
              <a:rPr b="0" lang="tr-TR" sz="2800" spc="-1" strike="noStrike">
                <a:solidFill>
                  <a:srgbClr val="000000"/>
                </a:solidFill>
                <a:latin typeface="Calibri"/>
              </a:rPr>
              <a:t>,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p:txBody>
      </p:sp>
      <p:sp>
        <p:nvSpPr>
          <p:cNvPr id="1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B2A1C8C-6DE4-4D86-8921-99CFC5D4E1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ir bilgisayar sisteminin işleyişinin engellenmesi</a:t>
            </a:r>
            <a:endParaRPr b="0" lang="en-US" sz="4400" spc="-1" strike="noStrike">
              <a:solidFill>
                <a:srgbClr val="000000"/>
              </a:solidFill>
              <a:latin typeface="Calibri"/>
            </a:endParaRPr>
          </a:p>
        </p:txBody>
      </p:sp>
      <p:sp>
        <p:nvSpPr>
          <p:cNvPr id="200" name="PlaceHolder 2"/>
          <p:cNvSpPr>
            <a:spLocks noGrp="1"/>
          </p:cNvSpPr>
          <p:nvPr>
            <p:ph/>
          </p:nvPr>
        </p:nvSpPr>
        <p:spPr>
          <a:xfrm>
            <a:off x="457200" y="1914120"/>
            <a:ext cx="8229600" cy="3443400"/>
          </a:xfrm>
          <a:prstGeom prst="rect">
            <a:avLst/>
          </a:prstGeom>
          <a:noFill/>
          <a:ln w="0">
            <a:noFill/>
          </a:ln>
        </p:spPr>
        <p:txBody>
          <a:bodyPr anchor="t">
            <a:normAutofit fontScale="80000"/>
          </a:bodyPr>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ngelleme bilgisayar sisteminin düzgün şekilde çalışmasına müdahale eden bir eylemdir. </a:t>
            </a:r>
            <a:endParaRPr b="0" lang="en-US" sz="2800" spc="-1" strike="noStrike">
              <a:solidFill>
                <a:srgbClr val="000000"/>
              </a:solidFill>
              <a:latin typeface="Calibri"/>
            </a:endParaRPr>
          </a:p>
          <a:p>
            <a:pPr marL="27432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ngelleme şu yollarla gerçekleşir:</a:t>
            </a:r>
            <a:endParaRPr b="0" lang="en-US" sz="28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giriş;</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iletim;</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zarar;</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silme;</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değiştirme;</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engelleme; </a:t>
            </a:r>
            <a:endParaRPr b="0" lang="en-US" sz="2400" spc="-1" strike="noStrike">
              <a:solidFill>
                <a:srgbClr val="000000"/>
              </a:solidFill>
              <a:latin typeface="Calibri"/>
            </a:endParaRPr>
          </a:p>
          <a:p>
            <a:pPr marL="2743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A0FD7A2-5A3D-485E-9E07-A5B60CF976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Rectangle 1"/>
          <p:cNvSpPr/>
          <p:nvPr/>
        </p:nvSpPr>
        <p:spPr>
          <a:xfrm>
            <a:off x="5547240" y="4567320"/>
            <a:ext cx="238140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ilgisayar verisi</a:t>
            </a:r>
            <a:endParaRPr b="0" lang="en-US" sz="2800" spc="-1" strike="noStrike">
              <a:solidFill>
                <a:srgbClr val="000000"/>
              </a:solidFill>
              <a:latin typeface="Arial"/>
            </a:endParaRPr>
          </a:p>
        </p:txBody>
      </p:sp>
      <p:sp>
        <p:nvSpPr>
          <p:cNvPr id="203" name="Rectangle 2"/>
          <p:cNvSpPr/>
          <p:nvPr/>
        </p:nvSpPr>
        <p:spPr>
          <a:xfrm>
            <a:off x="914400" y="370044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6"/>
          <p:cNvSpPr/>
          <p:nvPr/>
        </p:nvSpPr>
        <p:spPr>
          <a:xfrm>
            <a:off x="912960" y="410544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Rectangle 7"/>
          <p:cNvSpPr/>
          <p:nvPr/>
        </p:nvSpPr>
        <p:spPr>
          <a:xfrm>
            <a:off x="912960" y="451332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Rectangle 8"/>
          <p:cNvSpPr/>
          <p:nvPr/>
        </p:nvSpPr>
        <p:spPr>
          <a:xfrm>
            <a:off x="909720" y="491976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9"/>
          <p:cNvSpPr/>
          <p:nvPr/>
        </p:nvSpPr>
        <p:spPr>
          <a:xfrm>
            <a:off x="912960" y="532908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Rectangle 10"/>
          <p:cNvSpPr/>
          <p:nvPr/>
        </p:nvSpPr>
        <p:spPr>
          <a:xfrm>
            <a:off x="909720" y="573552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09" name="Straight Arrow Connector 4"/>
          <p:cNvCxnSpPr>
            <a:stCxn id="203" idx="3"/>
            <a:endCxn id="202" idx="1"/>
          </p:cNvCxnSpPr>
          <p:nvPr/>
        </p:nvCxnSpPr>
        <p:spPr>
          <a:xfrm>
            <a:off x="3038400" y="3897000"/>
            <a:ext cx="2502720" cy="910440"/>
          </a:xfrm>
          <a:prstGeom prst="straightConnector1">
            <a:avLst/>
          </a:prstGeom>
          <a:ln w="25560">
            <a:solidFill>
              <a:srgbClr val="4f81bd"/>
            </a:solidFill>
            <a:miter/>
            <a:tailEnd len="med" type="triangle" w="med"/>
          </a:ln>
        </p:spPr>
      </p:cxnSp>
      <p:cxnSp>
        <p:nvCxnSpPr>
          <p:cNvPr id="210" name="Straight Arrow Connector 16"/>
          <p:cNvCxnSpPr>
            <a:stCxn id="204" idx="3"/>
            <a:endCxn id="202" idx="1"/>
          </p:cNvCxnSpPr>
          <p:nvPr/>
        </p:nvCxnSpPr>
        <p:spPr>
          <a:xfrm>
            <a:off x="3036960" y="4301640"/>
            <a:ext cx="2504160" cy="505800"/>
          </a:xfrm>
          <a:prstGeom prst="straightConnector1">
            <a:avLst/>
          </a:prstGeom>
          <a:ln w="25560">
            <a:solidFill>
              <a:srgbClr val="4f81bd"/>
            </a:solidFill>
            <a:miter/>
            <a:tailEnd len="med" type="arrow" w="med"/>
          </a:ln>
        </p:spPr>
      </p:cxnSp>
      <p:cxnSp>
        <p:nvCxnSpPr>
          <p:cNvPr id="211" name="Straight Arrow Connector 19"/>
          <p:cNvCxnSpPr>
            <a:stCxn id="205" idx="3"/>
            <a:endCxn id="202" idx="1"/>
          </p:cNvCxnSpPr>
          <p:nvPr/>
        </p:nvCxnSpPr>
        <p:spPr>
          <a:xfrm>
            <a:off x="3036960" y="4709880"/>
            <a:ext cx="2504160" cy="97560"/>
          </a:xfrm>
          <a:prstGeom prst="straightConnector1">
            <a:avLst/>
          </a:prstGeom>
          <a:ln w="25560">
            <a:solidFill>
              <a:srgbClr val="4f81bd"/>
            </a:solidFill>
            <a:miter/>
            <a:tailEnd len="med" type="arrow" w="med"/>
          </a:ln>
        </p:spPr>
      </p:cxnSp>
      <p:cxnSp>
        <p:nvCxnSpPr>
          <p:cNvPr id="212" name="Straight Arrow Connector 22"/>
          <p:cNvCxnSpPr>
            <a:stCxn id="206" idx="3"/>
            <a:endCxn id="202" idx="1"/>
          </p:cNvCxnSpPr>
          <p:nvPr/>
        </p:nvCxnSpPr>
        <p:spPr>
          <a:xfrm flipV="1">
            <a:off x="3033360" y="4806720"/>
            <a:ext cx="2507400" cy="310320"/>
          </a:xfrm>
          <a:prstGeom prst="straightConnector1">
            <a:avLst/>
          </a:prstGeom>
          <a:ln w="25560">
            <a:solidFill>
              <a:srgbClr val="4f81bd"/>
            </a:solidFill>
            <a:miter/>
            <a:tailEnd len="med" type="arrow" w="med"/>
          </a:ln>
        </p:spPr>
      </p:cxnSp>
      <p:cxnSp>
        <p:nvCxnSpPr>
          <p:cNvPr id="213" name="Straight Arrow Connector 30"/>
          <p:cNvCxnSpPr>
            <a:stCxn id="207" idx="3"/>
            <a:endCxn id="202" idx="1"/>
          </p:cNvCxnSpPr>
          <p:nvPr/>
        </p:nvCxnSpPr>
        <p:spPr>
          <a:xfrm flipV="1">
            <a:off x="3036960" y="4806360"/>
            <a:ext cx="2504160" cy="719640"/>
          </a:xfrm>
          <a:prstGeom prst="straightConnector1">
            <a:avLst/>
          </a:prstGeom>
          <a:ln w="25560">
            <a:solidFill>
              <a:srgbClr val="4f81bd"/>
            </a:solidFill>
            <a:miter/>
            <a:tailEnd len="med" type="arrow" w="med"/>
          </a:ln>
        </p:spPr>
      </p:cxnSp>
      <p:cxnSp>
        <p:nvCxnSpPr>
          <p:cNvPr id="214" name="Straight Arrow Connector 33"/>
          <p:cNvCxnSpPr>
            <a:stCxn id="208" idx="3"/>
            <a:endCxn id="202" idx="1"/>
          </p:cNvCxnSpPr>
          <p:nvPr/>
        </p:nvCxnSpPr>
        <p:spPr>
          <a:xfrm flipV="1">
            <a:off x="3033360" y="4806720"/>
            <a:ext cx="2507400" cy="1126080"/>
          </a:xfrm>
          <a:prstGeom prst="straightConnector1">
            <a:avLst/>
          </a:prstGeom>
          <a:ln w="255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5 – Sisteme müdahale</a:t>
            </a: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sistemlerine veri girişi yaparak, bu verileri ileterek, bilgisayar verilerine zarar vererek, bunları silerek, tahrip ederek, değiştirerek veya engelleyerek bir bilgisayar sisteminin işleyişinin haksız yere </a:t>
            </a:r>
            <a:r>
              <a:rPr b="1" lang="tr-TR" sz="4000" spc="-1" strike="noStrike">
                <a:solidFill>
                  <a:srgbClr val="ff0000"/>
                </a:solidFill>
                <a:latin typeface="Calibri"/>
              </a:rPr>
              <a:t>ciddi şekilde engellenmesinin</a:t>
            </a:r>
            <a:r>
              <a:rPr b="0" lang="tr-TR" sz="2800" spc="-1" strike="noStrike">
                <a:solidFill>
                  <a:srgbClr val="000000"/>
                </a:solidFill>
                <a:latin typeface="Calibri"/>
              </a:rPr>
              <a:t>,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p:txBody>
      </p:sp>
      <p:sp>
        <p:nvSpPr>
          <p:cNvPr id="2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CA9B18B-9783-4FE7-A3D4-C613E6A2C8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iddi engelleme</a:t>
            </a:r>
            <a:endParaRPr b="0" lang="en-US" sz="4400" spc="-1" strike="noStrike">
              <a:solidFill>
                <a:srgbClr val="000000"/>
              </a:solidFill>
              <a:latin typeface="Calibri"/>
            </a:endParaRPr>
          </a:p>
        </p:txBody>
      </p:sp>
      <p:sp>
        <p:nvSpPr>
          <p:cNvPr id="219" name="PlaceHolder 2"/>
          <p:cNvSpPr>
            <a:spLocks noGrp="1"/>
          </p:cNvSpPr>
          <p:nvPr>
            <p:ph/>
          </p:nvPr>
        </p:nvSpPr>
        <p:spPr>
          <a:xfrm>
            <a:off x="457200" y="1428840"/>
            <a:ext cx="8229600" cy="52927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Ciddi engellemenin tespitine ilişkin kriterler Taraflarca belirlenecektir.</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elirli bir sisteme, sistem sahibinin veya operatörün aşağıdaki becerileri üzerinde esaslı şekilde zarar veren bir etki doğuracak biçimde, boyutta veya sıklıkta veri göndermek: </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istemi kullanma; veya</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Başka sistemlerle iletişim kurma</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Örnekler:</a:t>
            </a:r>
            <a:endParaRPr b="0" lang="en-US" sz="28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Hizmeti engelleme saldırıları yaratan programlar</a:t>
            </a:r>
            <a:endParaRPr b="0" lang="en-US" sz="22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Sistemin işleyişini engelleyen veya yavaşlatan kötü niyetli kodlar</a:t>
            </a:r>
            <a:endParaRPr b="0" lang="en-US" sz="22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Sistemin iletişim fonksiyonlarını engellemek amacıyla bir alıcıya çok fazla miktarda elektronik posta gönderen programlar</a:t>
            </a:r>
            <a:endParaRPr b="0" lang="en-US" sz="2200" spc="-1" strike="noStrike">
              <a:solidFill>
                <a:srgbClr val="000000"/>
              </a:solidFill>
              <a:latin typeface="Calibri"/>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34F84BC-5D57-4D41-AE6E-B48B9588A2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5 – Sisteme müdahale</a:t>
            </a:r>
            <a:endParaRPr b="0" lang="en-US" sz="4400" spc="-1" strike="noStrike">
              <a:solidFill>
                <a:srgbClr val="000000"/>
              </a:solidFill>
              <a:latin typeface="Calibri"/>
            </a:endParaRPr>
          </a:p>
        </p:txBody>
      </p:sp>
      <p:sp>
        <p:nvSpPr>
          <p:cNvPr id="222" name="PlaceHolder 2"/>
          <p:cNvSpPr>
            <a:spLocks noGrp="1"/>
          </p:cNvSpPr>
          <p:nvPr>
            <p:ph/>
          </p:nvPr>
        </p:nvSpPr>
        <p:spPr>
          <a:xfrm>
            <a:off x="457200" y="193824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sistemlerine veri girişi yaparak, bu verileri ileterek, bilgisayar verilerine zarar vererek, bunları silerek, tahrip ederek, değiştirerek veya engelleyerek bir bilgisayar sisteminin işleyişinin </a:t>
            </a:r>
            <a:r>
              <a:rPr b="1" lang="tr-TR" sz="4000" spc="-1" strike="noStrike">
                <a:solidFill>
                  <a:srgbClr val="ff0000"/>
                </a:solidFill>
                <a:latin typeface="Calibri"/>
              </a:rPr>
              <a:t>haksız yere </a:t>
            </a:r>
            <a:r>
              <a:rPr b="0" lang="tr-TR" sz="2800" spc="-1" strike="noStrike">
                <a:solidFill>
                  <a:srgbClr val="000000"/>
                </a:solidFill>
                <a:latin typeface="Calibri"/>
              </a:rPr>
              <a:t>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8A88B6F-06C0-4E0A-A903-48B9A15CB5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225" name="PlaceHolder 2"/>
          <p:cNvSpPr>
            <a:spLocks noGrp="1"/>
          </p:cNvSpPr>
          <p:nvPr>
            <p:ph/>
          </p:nvPr>
        </p:nvSpPr>
        <p:spPr>
          <a:xfrm>
            <a:off x="457200" y="1161720"/>
            <a:ext cx="8229600" cy="5559480"/>
          </a:xfrm>
          <a:prstGeom prst="rect">
            <a:avLst/>
          </a:prstGeom>
          <a:noFill/>
          <a:ln w="0">
            <a:noFill/>
          </a:ln>
        </p:spPr>
        <p:txBody>
          <a:bodyPr anchor="t">
            <a:normAutofit fontScale="98000"/>
          </a:bodyPr>
          <a:p>
            <a:pPr marL="335880" indent="-3358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Müdahale eden kişinin verilere müdahale hakkı bulunuyorsa bu suç oluşmaz.</a:t>
            </a:r>
            <a:endParaRPr b="0" lang="en-US" sz="3000" spc="-1" strike="noStrike">
              <a:solidFill>
                <a:srgbClr val="000000"/>
              </a:solidFill>
              <a:latin typeface="Calibri"/>
            </a:endParaRPr>
          </a:p>
          <a:p>
            <a:pPr marL="335880" indent="-3358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Örnekler:</a:t>
            </a:r>
            <a:endParaRPr b="0" lang="en-US" sz="3000" spc="-1" strike="noStrike">
              <a:solidFill>
                <a:srgbClr val="000000"/>
              </a:solidFill>
              <a:latin typeface="Calibri"/>
            </a:endParaRPr>
          </a:p>
          <a:p>
            <a:pPr lvl="1" marL="727920" indent="-28008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Ağların veya ortak işletme veya ticari uygulamaların tasarlanmasına dahil olan faaliyetler;</a:t>
            </a:r>
            <a:endParaRPr b="0" lang="en-US" sz="2600" spc="-1" strike="noStrike">
              <a:solidFill>
                <a:srgbClr val="000000"/>
              </a:solidFill>
              <a:latin typeface="Calibri"/>
            </a:endParaRPr>
          </a:p>
          <a:p>
            <a:pPr lvl="1" marL="727920" indent="-28008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Bilgisayarın güvenlik sisteminin mal sahibi veya operatör tarafından izin verilmiş şekilde testten geçirilmesi veya korunması;</a:t>
            </a:r>
            <a:endParaRPr b="0" lang="en-US" sz="2600" spc="-1" strike="noStrike">
              <a:solidFill>
                <a:srgbClr val="000000"/>
              </a:solidFill>
              <a:latin typeface="Calibri"/>
            </a:endParaRPr>
          </a:p>
          <a:p>
            <a:pPr lvl="1" marL="727920" indent="-28008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Bilgisayar sisteminin mal sahibi veya operatör tarafından korunması;</a:t>
            </a:r>
            <a:endParaRPr b="0" lang="en-US" sz="2600" spc="-1" strike="noStrike">
              <a:solidFill>
                <a:srgbClr val="000000"/>
              </a:solidFill>
              <a:latin typeface="Calibri"/>
            </a:endParaRPr>
          </a:p>
          <a:p>
            <a:pPr lvl="1" marL="727920" indent="-28008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Sistem operatörünün eskiden kurulmuş olan programları işlevsiz bırakan yeni bir yazılım kurmasıyla bilgisayarın işletme sisteminin yeniden yapılandırılması.</a:t>
            </a:r>
            <a:endParaRPr b="0" lang="en-US" sz="2600" spc="-1" strike="noStrike">
              <a:solidFill>
                <a:srgbClr val="000000"/>
              </a:solidFill>
              <a:latin typeface="Calibri"/>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C1DBBC5-1C1A-46DD-84CE-9F9927756D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60" y="274680"/>
            <a:ext cx="8983800" cy="674352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tr-TR" sz="2800" spc="-1" strike="noStrike">
                <a:solidFill>
                  <a:srgbClr val="000000"/>
                </a:solidFill>
                <a:latin typeface="Calibri"/>
              </a:rPr>
              <a:t>Cihazların Kötüye Kullanımı</a:t>
            </a:r>
            <a:endParaRPr b="0" lang="en-US" sz="2800" spc="-1" strike="noStrike">
              <a:solidFill>
                <a:srgbClr val="000000"/>
              </a:solidFill>
              <a:latin typeface="Calibri"/>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tr-TR" sz="2800" spc="-1" strike="noStrike">
                <a:solidFill>
                  <a:srgbClr val="000000"/>
                </a:solidFill>
                <a:latin typeface="Calibri"/>
              </a:rPr>
              <a:t>(Madde 6 – Budapeşte Sözleşmesi)</a:t>
            </a:r>
            <a:endParaRPr b="0" lang="en-US" sz="2800" spc="-1" strike="noStrike">
              <a:solidFill>
                <a:srgbClr val="000000"/>
              </a:solidFill>
              <a:latin typeface="Calibri"/>
            </a:endParaRPr>
          </a:p>
          <a:p>
            <a:pPr marL="343080" indent="0" algn="ctr">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Kasıtlı olarak ve haksız yere</a:t>
            </a:r>
            <a:endParaRPr b="0" lang="en-US" sz="2800" spc="-1" strike="noStrike">
              <a:solidFill>
                <a:srgbClr val="000000"/>
              </a:solidFill>
              <a:latin typeface="Calibri"/>
            </a:endParaRPr>
          </a:p>
          <a:p>
            <a:pPr marL="343080" indent="0">
              <a:spcBef>
                <a:spcPts val="2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Aşağıda belirtilenlerin,</a:t>
            </a:r>
            <a:endParaRPr b="0" lang="en-US" sz="2800" spc="-1" strike="noStrike">
              <a:solidFill>
                <a:srgbClr val="000000"/>
              </a:solidFill>
              <a:latin typeface="Calibri"/>
            </a:endParaRPr>
          </a:p>
          <a:p>
            <a:pPr lvl="2" marL="1371600" indent="-457200" algn="just">
              <a:spcBef>
                <a:spcPts val="601"/>
              </a:spcBef>
              <a:buClr>
                <a:srgbClr val="000000"/>
              </a:buClr>
              <a:buFont typeface="Calibri"/>
              <a:buAutoNum type="arabi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tr-TR" sz="2400" spc="-1" strike="noStrike">
                <a:solidFill>
                  <a:srgbClr val="000000"/>
                </a:solidFill>
                <a:latin typeface="Calibri"/>
              </a:rPr>
              <a:t>bir bilgisayar programı da dahil olmak üzere, öncelikli olarak 2-5. maddelerde belirtilmiş olan suçlardan herhangi birini işlemek amacıyla tasarlanmış veya uyarlanmış bir cihazın</a:t>
            </a:r>
            <a:endParaRPr b="0" lang="en-US" sz="2400" spc="-1" strike="noStrike">
              <a:solidFill>
                <a:srgbClr val="000000"/>
              </a:solidFill>
              <a:latin typeface="Calibri"/>
            </a:endParaRPr>
          </a:p>
          <a:p>
            <a:pPr lvl="2" marL="1371600" indent="-457200" algn="just">
              <a:spcBef>
                <a:spcPts val="601"/>
              </a:spcBef>
              <a:buClr>
                <a:srgbClr val="000000"/>
              </a:buClr>
              <a:buFont typeface="Calibri"/>
              <a:buAutoNum type="arabi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tr-TR" sz="2400" spc="-1" strike="noStrike">
                <a:solidFill>
                  <a:srgbClr val="000000"/>
                </a:solidFill>
                <a:latin typeface="Calibri"/>
              </a:rPr>
              <a:t>bir bilgisayar sisteminin tamamına veya bir kısmına 2-5. maddelerde belirtilmiş olan suçlardan herhangi birini işlemek amacıyla kullanılma niyetiyle erişimi mümkün kılan bir bilgisayar şifresi, erişim kodu veya benzer bir verinin </a:t>
            </a:r>
            <a:endParaRPr b="0" lang="en-US" sz="24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üretimi, satışı, kullanım amaçlı tedariki, ithali, dağıtımı veya başka bir şekilde erişilebilir hale getirilmesi.</a:t>
            </a:r>
            <a:endParaRPr b="0" lang="en-US" sz="2800" spc="-1" strike="noStrike">
              <a:solidFill>
                <a:srgbClr val="000000"/>
              </a:solidFill>
              <a:latin typeface="Calibri"/>
            </a:endParaRPr>
          </a:p>
        </p:txBody>
      </p:sp>
      <p:sp>
        <p:nvSpPr>
          <p:cNvPr id="2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3FD6D2A-DCC1-49E2-96B1-6397378B31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57200" y="460440"/>
            <a:ext cx="8229600" cy="5827680"/>
          </a:xfrm>
          <a:prstGeom prst="rect">
            <a:avLst/>
          </a:prstGeom>
          <a:noFill/>
          <a:ln w="38160">
            <a:solidFill>
              <a:srgbClr val="ff0000"/>
            </a:solidFill>
            <a:miter/>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Cihazların Kötüye Kullanımı</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6 – Budapeşte Sözleşmesi)</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Kasıtlı olarak ve haksız yere</a:t>
            </a:r>
            <a:endParaRPr b="0" lang="en-US" sz="2800" spc="-1" strike="noStrike">
              <a:solidFill>
                <a:srgbClr val="000000"/>
              </a:solidFill>
              <a:latin typeface="Calibri"/>
            </a:endParaRPr>
          </a:p>
          <a:p>
            <a:pPr marL="343080" indent="0" algn="ctr">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Yukarıdaki (a)1 veya (2) fıkralarında atıfta bulunulan bir cihazın, 2-5. maddelerde belirtilmiş suçlardan herhangi birinin işlenmesi için kullanılması amacıyla bulundurulması.</a:t>
            </a:r>
            <a:endParaRPr b="0" lang="en-US" sz="2800" spc="-1" strike="noStrike">
              <a:solidFill>
                <a:srgbClr val="000000"/>
              </a:solidFill>
              <a:latin typeface="Calibri"/>
            </a:endParaRPr>
          </a:p>
        </p:txBody>
      </p:sp>
      <p:sp>
        <p:nvSpPr>
          <p:cNvPr id="2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1E6557A-1170-4C93-9796-1609CECB71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74680" y="274320"/>
            <a:ext cx="86407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6 – Cihazların Kötüye Kullanımı</a:t>
            </a:r>
            <a:endParaRPr b="0" lang="en-US" sz="4000" spc="-1" strike="noStrike">
              <a:solidFill>
                <a:srgbClr val="000000"/>
              </a:solidFill>
              <a:latin typeface="Calibri"/>
            </a:endParaRPr>
          </a:p>
        </p:txBody>
      </p:sp>
      <p:sp>
        <p:nvSpPr>
          <p:cNvPr id="232" name="PlaceHolder 2"/>
          <p:cNvSpPr>
            <a:spLocks noGrp="1"/>
          </p:cNvSpPr>
          <p:nvPr>
            <p:ph/>
          </p:nvPr>
        </p:nvSpPr>
        <p:spPr>
          <a:xfrm>
            <a:off x="457200" y="2106360"/>
            <a:ext cx="8229600" cy="294300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1.</a:t>
            </a:r>
            <a:r>
              <a:rPr b="0" lang="tr-TR" sz="3200" spc="-1" strike="noStrike">
                <a:solidFill>
                  <a:srgbClr val="000000"/>
                </a:solidFill>
                <a:latin typeface="Calibri"/>
              </a:rPr>
              <a:t>	</a:t>
            </a:r>
            <a:r>
              <a:rPr b="0" lang="tr-TR" sz="3200" spc="-1" strike="noStrike">
                <a:solidFill>
                  <a:srgbClr val="000000"/>
                </a:solidFill>
                <a:latin typeface="Calibri"/>
              </a:rPr>
              <a:t>Taraflardan her biri, kasten veya haksız yere gerçekleştirildiği zaman, aşağıdakilerin kendi iç hukuku kapsamında cezai suç olarak tanımlanması için gerekli olabilecek yasama tedbirlerini ve diğer tedbirleri kabul edecektir. </a:t>
            </a:r>
            <a:endParaRPr b="0" lang="en-US" sz="3200" spc="-1" strike="noStrike">
              <a:solidFill>
                <a:srgbClr val="000000"/>
              </a:solidFill>
              <a:latin typeface="Calibri"/>
            </a:endParaRPr>
          </a:p>
          <a:p>
            <a:pPr lvl="1" marL="743040" indent="0" algn="just">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023617-50F4-48AD-B400-5BE688E3A5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340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35" name="PlaceHolder 2"/>
          <p:cNvSpPr>
            <a:spLocks noGrp="1"/>
          </p:cNvSpPr>
          <p:nvPr>
            <p:ph/>
          </p:nvPr>
        </p:nvSpPr>
        <p:spPr>
          <a:xfrm>
            <a:off x="457200" y="1235160"/>
            <a:ext cx="8229600" cy="548640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üretimi, satışı, kullanım amaçlı tedarik edilmesi, ithal edilmesi, dağıtımı veya başka bir şekilde erişilebilir hale getirilmesi: </a:t>
            </a:r>
            <a:endParaRPr b="0" lang="en-US" sz="2400" spc="-1" strike="noStrike">
              <a:solidFill>
                <a:srgbClr val="000000"/>
              </a:solidFill>
              <a:latin typeface="Calibri"/>
            </a:endParaRPr>
          </a:p>
          <a:p>
            <a:pPr lvl="2" marL="5763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0" lang="tr-TR" sz="2200" spc="-1" strike="noStrike">
                <a:solidFill>
                  <a:srgbClr val="000000"/>
                </a:solidFill>
                <a:latin typeface="Calibri"/>
              </a:rPr>
              <a:t>bir bilgisayar programı da dahil olmak üzere, öncelikli olarak yukarıda belirtilen 2 ila 5. maddelerde belirtilmiş herhangi bir suçu işlemek amacıyla tasarlanmış veya uyarlanmış bir cihaz;</a:t>
            </a:r>
            <a:endParaRPr b="0" lang="en-US" sz="2200" spc="-1" strike="noStrike">
              <a:solidFill>
                <a:srgbClr val="000000"/>
              </a:solidFill>
              <a:latin typeface="Calibri"/>
            </a:endParaRPr>
          </a:p>
          <a:p>
            <a:pPr lvl="2" marL="5763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0" lang="tr-TR" sz="2200" spc="-1" strike="noStrike">
                <a:solidFill>
                  <a:srgbClr val="000000"/>
                </a:solidFill>
                <a:latin typeface="Calibri"/>
              </a:rPr>
              <a:t>bir bilgisayar sisteminin tamamına veya herhangi bir kısmına erişimi mümkün kılan bir bilgisayar şifresi, erişim kodu veya benzer bir veri</a:t>
            </a:r>
            <a:endParaRPr b="0" lang="en-US" sz="2200" spc="-1" strike="noStrike">
              <a:solidFill>
                <a:srgbClr val="000000"/>
              </a:solidFill>
              <a:latin typeface="Calibri"/>
            </a:endParaRPr>
          </a:p>
          <a:p>
            <a:pPr lvl="1" marL="29376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a:t>
            </a:r>
            <a:r>
              <a:rPr b="0" lang="tr-TR" sz="2400" spc="-1" strike="noStrike">
                <a:solidFill>
                  <a:srgbClr val="000000"/>
                </a:solidFill>
                <a:latin typeface="Calibri"/>
              </a:rPr>
              <a:t>	</a:t>
            </a:r>
            <a:r>
              <a:rPr b="0" lang="tr-TR" sz="2400" spc="-1" strike="noStrike">
                <a:solidFill>
                  <a:srgbClr val="000000"/>
                </a:solidFill>
                <a:latin typeface="Calibri"/>
              </a:rPr>
              <a:t>yukarıdaki fıkra a.i veya ii’de atıfta bulunulmuş bir öğeyi, 2 ila 5. maddelerde belirtilmiş herhangi bir suçun işlenmesi için kullanılması amacıyla bulundurma. Taraflardan biri yasa gereği cezai sorumluluğun doğması için bahsi geçen öğelerden belli bir sayıda bulundurulmasını şart koşabilir. </a:t>
            </a:r>
            <a:endParaRPr b="0" lang="en-US" sz="2400" spc="-1" strike="noStrike">
              <a:solidFill>
                <a:srgbClr val="000000"/>
              </a:solidFill>
              <a:latin typeface="Calibri"/>
            </a:endParaRPr>
          </a:p>
        </p:txBody>
      </p:sp>
      <p:sp>
        <p:nvSpPr>
          <p:cNvPr id="2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9CD0A1-7D5F-46DA-83AC-39155EBCE2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ＭＳ Ｐゴシック"/>
              </a:rPr>
              <a:t>Ceza soruşturmalarında uluslararası işbirliğini </a:t>
            </a:r>
            <a:r>
              <a:rPr b="0" lang="tr-TR" sz="2800" spc="-1" strike="noStrike">
                <a:solidFill>
                  <a:srgbClr val="000000"/>
                </a:solidFill>
                <a:latin typeface="Calibri"/>
                <a:ea typeface="ＭＳ Ｐゴシック"/>
              </a:rPr>
              <a:t>kolaylaştırmayı </a:t>
            </a:r>
            <a:r>
              <a:rPr b="0" lang="en-GB" sz="2800" spc="-1" strike="noStrike">
                <a:solidFill>
                  <a:srgbClr val="000000"/>
                </a:solidFill>
                <a:latin typeface="Calibri"/>
                <a:ea typeface="ＭＳ Ｐゴシック"/>
              </a:rPr>
              <a:t>ve geliştirmey</a:t>
            </a:r>
            <a:r>
              <a:rPr b="0" lang="tr-TR" sz="2800" spc="-1" strike="noStrike">
                <a:solidFill>
                  <a:srgbClr val="000000"/>
                </a:solidFill>
                <a:latin typeface="Calibri"/>
                <a:ea typeface="ＭＳ Ｐゴシック"/>
              </a:rPr>
              <a:t>i hedefl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ＭＳ Ｐゴシック"/>
              </a:rPr>
              <a:t>Maddi hukuk</a:t>
            </a:r>
            <a:r>
              <a:rPr b="0" lang="tr-TR" sz="2800" spc="-1" strike="noStrike">
                <a:solidFill>
                  <a:srgbClr val="000000"/>
                </a:solidFill>
                <a:latin typeface="Calibri"/>
                <a:ea typeface="ＭＳ Ｐゴシック"/>
              </a:rPr>
              <a:t>un </a:t>
            </a:r>
            <a:r>
              <a:rPr b="0" lang="en-GB" sz="2800" spc="-1" strike="noStrike">
                <a:solidFill>
                  <a:srgbClr val="000000"/>
                </a:solidFill>
                <a:latin typeface="Calibri"/>
                <a:ea typeface="ＭＳ Ｐゴシック"/>
              </a:rPr>
              <a:t>uyumlaştırılması</a:t>
            </a:r>
            <a:r>
              <a:rPr b="0" lang="tr-TR" sz="2800" spc="-1" strike="noStrike">
                <a:solidFill>
                  <a:srgbClr val="000000"/>
                </a:solidFill>
                <a:latin typeface="Calibri"/>
                <a:ea typeface="ＭＳ Ｐゴシック"/>
              </a:rPr>
              <a:t>nı</a:t>
            </a:r>
            <a:r>
              <a:rPr b="0" lang="en-GB" sz="2800" spc="-1" strike="noStrike">
                <a:solidFill>
                  <a:srgbClr val="000000"/>
                </a:solidFill>
                <a:latin typeface="Calibri"/>
                <a:ea typeface="ＭＳ Ｐゴシック"/>
              </a:rPr>
              <a:t> hedefle</a:t>
            </a:r>
            <a:r>
              <a:rPr b="0" lang="tr-TR" sz="2800" spc="-1" strike="noStrike">
                <a:solidFill>
                  <a:srgbClr val="000000"/>
                </a:solidFill>
                <a:latin typeface="Calibri"/>
                <a:ea typeface="ＭＳ Ｐゴシック"/>
              </a:rPr>
              <a:t>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ＭＳ Ｐゴシック"/>
              </a:rPr>
              <a:t>Aşağıdakileri tanımlar:</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ＭＳ Ｐゴシック"/>
              </a:rPr>
              <a:t>Bilgisayar sistemlerinin gizliliğin</a:t>
            </a:r>
            <a:r>
              <a:rPr b="0" lang="tr-TR" sz="2400" spc="-1" strike="noStrike">
                <a:solidFill>
                  <a:srgbClr val="000000"/>
                </a:solidFill>
                <a:latin typeface="Calibri"/>
                <a:ea typeface="ＭＳ Ｐゴシック"/>
              </a:rPr>
              <a:t>e</a:t>
            </a:r>
            <a:r>
              <a:rPr b="0" lang="en-GB" sz="2400" spc="-1" strike="noStrike">
                <a:solidFill>
                  <a:srgbClr val="000000"/>
                </a:solidFill>
                <a:latin typeface="Calibri"/>
                <a:ea typeface="ＭＳ Ｐゴシック"/>
              </a:rPr>
              <a:t>, bütünlüğüne ve erişilebilirliğine yönelik suç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ＭＳ Ｐゴシック"/>
              </a:rPr>
              <a:t>Bilgisayarla </a:t>
            </a:r>
            <a:r>
              <a:rPr b="0" lang="en-US" sz="2400" spc="-1" strike="noStrike">
                <a:solidFill>
                  <a:srgbClr val="000000"/>
                </a:solidFill>
                <a:latin typeface="Calibri"/>
              </a:rPr>
              <a:t>bağlantılı </a:t>
            </a:r>
            <a:r>
              <a:rPr b="0" lang="tr-TR" sz="2400" spc="-1" strike="noStrike">
                <a:solidFill>
                  <a:srgbClr val="000000"/>
                </a:solidFill>
                <a:latin typeface="Calibri"/>
                <a:ea typeface="ＭＳ Ｐゴシック"/>
              </a:rPr>
              <a:t>suç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ＭＳ Ｐゴシック"/>
              </a:rPr>
              <a:t>İçerikle </a:t>
            </a:r>
            <a:r>
              <a:rPr b="0" lang="en-US" sz="2400" spc="-1" strike="noStrike">
                <a:solidFill>
                  <a:srgbClr val="000000"/>
                </a:solidFill>
                <a:latin typeface="Calibri"/>
              </a:rPr>
              <a:t>bağlantılı </a:t>
            </a:r>
            <a:r>
              <a:rPr b="0" lang="tr-TR" sz="2400" spc="-1" strike="noStrike">
                <a:solidFill>
                  <a:srgbClr val="000000"/>
                </a:solidFill>
                <a:latin typeface="Calibri"/>
                <a:ea typeface="ＭＳ Ｐゴシック"/>
              </a:rPr>
              <a:t>suçlar</a:t>
            </a:r>
            <a:endParaRPr b="0" lang="en-US" sz="2400" spc="-1" strike="noStrike">
              <a:solidFill>
                <a:srgbClr val="000000"/>
              </a:solidFill>
              <a:latin typeface="Calibri"/>
            </a:endParaRPr>
          </a:p>
          <a:p>
            <a:pPr lvl="2" marL="114300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7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ea typeface="ＭＳ Ｐゴシック"/>
              </a:rPr>
              <a:t>Maddi Ceza Hukuku Hükümler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38" name="PlaceHolder 2"/>
          <p:cNvSpPr>
            <a:spLocks noGrp="1"/>
          </p:cNvSpPr>
          <p:nvPr>
            <p:ph/>
          </p:nvPr>
        </p:nvSpPr>
        <p:spPr>
          <a:xfrm>
            <a:off x="457200" y="1544760"/>
            <a:ext cx="8229600" cy="498312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2.</a:t>
            </a:r>
            <a:r>
              <a:rPr b="0" lang="tr-TR" sz="2400" spc="-1" strike="noStrike">
                <a:solidFill>
                  <a:srgbClr val="000000"/>
                </a:solidFill>
                <a:latin typeface="Calibri"/>
              </a:rPr>
              <a:t>	</a:t>
            </a:r>
            <a:r>
              <a:rPr b="0" lang="tr-TR" sz="2400" spc="-1" strike="noStrike">
                <a:solidFill>
                  <a:srgbClr val="000000"/>
                </a:solidFill>
                <a:latin typeface="Calibri"/>
              </a:rPr>
              <a:t>İşbu madde, bu maddenin 1. fıkrasında atıfta bulunulan üretme, satma, kullanım amaçlı tedarik, ithalat, dağıtma veya başka şekilde erişilebilir hale getirme veya bulundurmanın, 2 ila 5. maddeler uyarınca suç işlemek maksadıyla gerçekleştirilmemesi durumunda, örneğin bir bilgisayar sisteminin yetkililerce test edilmesi veya korunmasının amaçlandığı hallerde, cezai yükümlülük doğuracağı şeklinde yorumlanmayacaktır. </a:t>
            </a: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3. Taraflardan her biri, çekincenin işbu maddenin 1.a.ii fıkrasında sözü edilen öğelerin satışı, dağıtımı veya başka şekilde erişilebilir hale getirilmesiyle alakalı olmaması kaydıyla, işbu maddenin 1. fıkrasını uygulamama hakkını saklı tutabilir. </a:t>
            </a:r>
            <a:endParaRPr b="0" lang="en-US" sz="2400" spc="-1" strike="noStrike">
              <a:solidFill>
                <a:srgbClr val="000000"/>
              </a:solidFill>
              <a:latin typeface="Calibri"/>
            </a:endParaRPr>
          </a:p>
        </p:txBody>
      </p:sp>
      <p:sp>
        <p:nvSpPr>
          <p:cNvPr id="2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A25663-1270-45DA-A336-5C35CA76C3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60560" y="274320"/>
            <a:ext cx="9304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41" name="PlaceHolder 2"/>
          <p:cNvSpPr>
            <a:spLocks noGrp="1"/>
          </p:cNvSpPr>
          <p:nvPr>
            <p:ph/>
          </p:nvPr>
        </p:nvSpPr>
        <p:spPr>
          <a:xfrm>
            <a:off x="457200" y="2120400"/>
            <a:ext cx="8229600" cy="452628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1.</a:t>
            </a:r>
            <a:r>
              <a:rPr b="0" lang="en-GB" sz="3200" spc="-1" strike="noStrike">
                <a:solidFill>
                  <a:srgbClr val="000000"/>
                </a:solidFill>
                <a:latin typeface="Calibri"/>
              </a:rPr>
              <a:t>	</a:t>
            </a:r>
            <a:r>
              <a:rPr b="0" lang="tr-TR" sz="3200" spc="-1" strike="noStrike">
                <a:solidFill>
                  <a:srgbClr val="000000"/>
                </a:solidFill>
                <a:latin typeface="Calibri"/>
              </a:rPr>
              <a:t>Taraflardan her biri, kasten veya </a:t>
            </a:r>
            <a:r>
              <a:rPr b="1" lang="tr-TR" sz="4400" spc="-1" strike="noStrike">
                <a:solidFill>
                  <a:srgbClr val="ff0000"/>
                </a:solidFill>
                <a:latin typeface="Calibri"/>
              </a:rPr>
              <a:t>haksız yere </a:t>
            </a:r>
            <a:r>
              <a:rPr b="0" lang="tr-TR" sz="3200" spc="-1" strike="noStrike">
                <a:solidFill>
                  <a:srgbClr val="000000"/>
                </a:solidFill>
                <a:latin typeface="Calibri"/>
              </a:rPr>
              <a:t>gerçekleştirildiği zaman, aşağıdakilerin kendi iç hukuku kapsamında cezai suç olarak tanımlanması için gerekli olabilecek yasama tedbirlerini ve diğer tedbirleri kabul edecektir. </a:t>
            </a:r>
            <a:endParaRPr b="0" lang="en-US" sz="3200" spc="-1" strike="noStrike">
              <a:solidFill>
                <a:srgbClr val="000000"/>
              </a:solidFill>
              <a:latin typeface="Calibri"/>
            </a:endParaRPr>
          </a:p>
        </p:txBody>
      </p:sp>
      <p:sp>
        <p:nvSpPr>
          <p:cNvPr id="2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FE6621A-B7EB-4799-B06C-5192A1E23C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244" name="PlaceHolder 2"/>
          <p:cNvSpPr>
            <a:spLocks noGrp="1"/>
          </p:cNvSpPr>
          <p:nvPr>
            <p:ph/>
          </p:nvPr>
        </p:nvSpPr>
        <p:spPr>
          <a:xfrm>
            <a:off x="457200" y="2203560"/>
            <a:ext cx="8229600" cy="34430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Haksız yere kötüye kullanma</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Meşru amaçlarla üretilip piyasaya sürülen cihazların aşırıya kaçılarak suç sayılmasını önler.</a:t>
            </a:r>
            <a:endParaRPr b="0" lang="en-US" sz="3200" spc="-1" strike="noStrike">
              <a:solidFill>
                <a:srgbClr val="000000"/>
              </a:solidFill>
              <a:latin typeface="Calibri"/>
            </a:endParaRPr>
          </a:p>
        </p:txBody>
      </p:sp>
      <p:sp>
        <p:nvSpPr>
          <p:cNvPr id="2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8D87894-CE80-4947-B43F-A41FE385BF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6804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47" name="PlaceHolder 2"/>
          <p:cNvSpPr>
            <a:spLocks noGrp="1"/>
          </p:cNvSpPr>
          <p:nvPr>
            <p:ph/>
          </p:nvPr>
        </p:nvSpPr>
        <p:spPr>
          <a:xfrm>
            <a:off x="-360" y="1282680"/>
            <a:ext cx="8961480" cy="5438880"/>
          </a:xfrm>
          <a:prstGeom prst="rect">
            <a:avLst/>
          </a:prstGeom>
          <a:noFill/>
          <a:ln w="0">
            <a:noFill/>
          </a:ln>
        </p:spPr>
        <p:txBody>
          <a:bodyPr anchor="t">
            <a:normAutofit fontScale="97000"/>
          </a:bodyPr>
          <a:p>
            <a:pPr lvl="1" marL="28476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a:t>
            </a:r>
            <a:r>
              <a:rPr b="1" lang="tr-TR" sz="3000" spc="-1" strike="noStrike">
                <a:solidFill>
                  <a:srgbClr val="ff0000"/>
                </a:solidFill>
                <a:latin typeface="Calibri"/>
              </a:rPr>
              <a:t>üretimi, satışı, kullanım amaçlı tedarik edilmesi, ithal edilmesi, dağıtımı </a:t>
            </a:r>
            <a:r>
              <a:rPr b="0" lang="tr-TR" sz="2400" spc="-1" strike="noStrike">
                <a:solidFill>
                  <a:srgbClr val="000000"/>
                </a:solidFill>
                <a:latin typeface="Calibri"/>
              </a:rPr>
              <a:t>veya başka bir şekilde </a:t>
            </a:r>
            <a:r>
              <a:rPr b="1" lang="tr-TR" sz="3000" spc="-1" strike="noStrike">
                <a:solidFill>
                  <a:srgbClr val="ff0000"/>
                </a:solidFill>
                <a:latin typeface="Calibri"/>
              </a:rPr>
              <a:t>erişilebilir hale getirilmesi</a:t>
            </a:r>
            <a:r>
              <a:rPr b="0" lang="tr-TR" sz="3000" spc="-1" strike="noStrike">
                <a:solidFill>
                  <a:srgbClr val="000000"/>
                </a:solidFill>
                <a:latin typeface="Calibri"/>
              </a:rPr>
              <a:t>: </a:t>
            </a:r>
            <a:endParaRPr b="0" lang="en-US" sz="3000" spc="-1" strike="noStrike">
              <a:solidFill>
                <a:srgbClr val="000000"/>
              </a:solidFill>
              <a:latin typeface="Calibri"/>
            </a:endParaRPr>
          </a:p>
          <a:p>
            <a:pPr lvl="2" marL="5587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0" lang="tr-TR" sz="2200" spc="-1" strike="noStrike">
                <a:solidFill>
                  <a:srgbClr val="000000"/>
                </a:solidFill>
                <a:latin typeface="Calibri"/>
              </a:rPr>
              <a:t>bir bilgisayar programı da dahil olmak üzere, öncelikli olarak yukarıda belirtilen 2 ila 5. maddelerde belirtilmiş herhangi bir suçu işlemek amacıyla tasarlanmış veya uyarlanmış bir cihaz;</a:t>
            </a:r>
            <a:endParaRPr b="0" lang="en-US" sz="2200" spc="-1" strike="noStrike">
              <a:solidFill>
                <a:srgbClr val="000000"/>
              </a:solidFill>
              <a:latin typeface="Calibri"/>
            </a:endParaRPr>
          </a:p>
          <a:p>
            <a:pPr lvl="2" marL="5587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0" lang="tr-TR" sz="2200" spc="-1" strike="noStrike">
                <a:solidFill>
                  <a:srgbClr val="000000"/>
                </a:solidFill>
                <a:latin typeface="Calibri"/>
              </a:rPr>
              <a:t>bir bilgisayar sisteminin tamamına veya herhangi bir kısmına erişimi mümkün kılan bir bilgisayar şifresi, erişim kodu veya benzer bir veri</a:t>
            </a:r>
            <a:endParaRPr b="0" lang="en-US" sz="2200" spc="-1" strike="noStrike">
              <a:solidFill>
                <a:srgbClr val="000000"/>
              </a:solidFill>
              <a:latin typeface="Calibri"/>
            </a:endParaRPr>
          </a:p>
          <a:p>
            <a:pPr lvl="1" marL="28476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84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a:t>
            </a:r>
            <a:r>
              <a:rPr b="0" lang="tr-TR" sz="2400" spc="-1" strike="noStrike">
                <a:solidFill>
                  <a:srgbClr val="000000"/>
                </a:solidFill>
                <a:latin typeface="Calibri"/>
              </a:rPr>
              <a:t>	</a:t>
            </a:r>
            <a:r>
              <a:rPr b="0" lang="tr-TR" sz="2400" spc="-1" strike="noStrike">
                <a:solidFill>
                  <a:srgbClr val="000000"/>
                </a:solidFill>
                <a:latin typeface="Calibri"/>
              </a:rPr>
              <a:t>yukarıdaki fıkra a.i veya ii’de atıfta bulunulmuş bir öğeyi, 2 ila 5. maddelerde belirtilmiş herhangi bir suçun işlenmesi için kullanılması amacıyla bulundurma. Taraflardan biri yasa gereği cezai sorumluluğun doğması için bahsi geçen öğelerden belli bir sayıda bulundurulmasını şart koşabilir. </a:t>
            </a:r>
            <a:endParaRPr b="0" lang="en-US" sz="2400" spc="-1" strike="noStrike">
              <a:solidFill>
                <a:srgbClr val="000000"/>
              </a:solidFill>
              <a:latin typeface="Calibri"/>
            </a:endParaRPr>
          </a:p>
        </p:txBody>
      </p:sp>
      <p:sp>
        <p:nvSpPr>
          <p:cNvPr id="2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54E9F50-E63C-44F7-9484-3C223DA070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Üretim, satış vs.</a:t>
            </a:r>
            <a:endParaRPr b="0" lang="en-US" sz="4400" spc="-1" strike="noStrike">
              <a:solidFill>
                <a:srgbClr val="000000"/>
              </a:solidFill>
              <a:latin typeface="Calibri"/>
            </a:endParaRPr>
          </a:p>
        </p:txBody>
      </p:sp>
      <p:sp>
        <p:nvSpPr>
          <p:cNvPr id="250" name="PlaceHolder 2"/>
          <p:cNvSpPr>
            <a:spLocks noGrp="1"/>
          </p:cNvSpPr>
          <p:nvPr>
            <p:ph/>
          </p:nvPr>
        </p:nvSpPr>
        <p:spPr>
          <a:xfrm>
            <a:off x="457200" y="1401480"/>
            <a:ext cx="8229600" cy="53197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Suç sayılanlar:</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Üretim;</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atış;</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Kullanım amaçlı tedarik;</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thalat;</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Dağıtım; veya</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Cihazların erişilebilir hale gelmesi</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ＭＳ Ｐゴシック"/>
              </a:rPr>
              <a:t>Dağıtım: faal olarak başkalarına veri iletme eylemi</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ＭＳ Ｐゴシック"/>
              </a:rPr>
              <a:t>Erişilebilir kılınma: çevrimiçi cihazların başkalarının kullanımına sunulması ve bu cihazlara erişimi kolaylaştırmak amacıyla çevrimiçi hiperlinkler yaratılmasını veya toplanmasını da kapsar.</a:t>
            </a:r>
            <a:endParaRPr b="0" lang="en-US" sz="2800" spc="-1" strike="noStrike">
              <a:solidFill>
                <a:srgbClr val="000000"/>
              </a:solidFill>
              <a:latin typeface="Calibri"/>
            </a:endParaRPr>
          </a:p>
        </p:txBody>
      </p:sp>
      <p:sp>
        <p:nvSpPr>
          <p:cNvPr id="2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B8D51B2-4E73-4AE9-8F3D-E1B468A03C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457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53" name="PlaceHolder 2"/>
          <p:cNvSpPr>
            <a:spLocks noGrp="1"/>
          </p:cNvSpPr>
          <p:nvPr>
            <p:ph/>
          </p:nvPr>
        </p:nvSpPr>
        <p:spPr>
          <a:xfrm>
            <a:off x="228600" y="1122120"/>
            <a:ext cx="8664480" cy="5599080"/>
          </a:xfrm>
          <a:prstGeom prst="rect">
            <a:avLst/>
          </a:prstGeom>
          <a:noFill/>
          <a:ln w="0">
            <a:noFill/>
          </a:ln>
        </p:spPr>
        <p:txBody>
          <a:bodyPr anchor="t">
            <a:normAutofit fontScale="96000"/>
          </a:bodyPr>
          <a:p>
            <a:pPr lvl="1" marL="28188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üretimi, satışı, kullanım amaçlı tedarik edilmesi, ithal edilmesi, dağıtımı veya başka bir şekilde erişilebilir hale getirilmesi: </a:t>
            </a:r>
            <a:endParaRPr b="0" lang="en-US" sz="2400" spc="-1" strike="noStrike">
              <a:solidFill>
                <a:srgbClr val="000000"/>
              </a:solidFill>
              <a:latin typeface="Calibri"/>
            </a:endParaRPr>
          </a:p>
          <a:p>
            <a:pPr lvl="2" marL="5529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1" lang="tr-TR" sz="2800" spc="-1" strike="noStrike">
                <a:solidFill>
                  <a:srgbClr val="ff0000"/>
                </a:solidFill>
                <a:latin typeface="Calibri"/>
              </a:rPr>
              <a:t>bir bilgisayar programı da dahil olmak üzere</a:t>
            </a:r>
            <a:r>
              <a:rPr b="0" lang="tr-TR" sz="2200" spc="-1" strike="noStrike">
                <a:solidFill>
                  <a:srgbClr val="000000"/>
                </a:solidFill>
                <a:latin typeface="Calibri"/>
              </a:rPr>
              <a:t>, öncelikli olarak yukarıda belirtilen 2 ila 5. maddelerde belirtilmiş herhangi bir suçu işlemek amacıyla tasarlanmış veya uyarlanmış bir cihaz;</a:t>
            </a:r>
            <a:endParaRPr b="0" lang="en-US" sz="2200" spc="-1" strike="noStrike">
              <a:solidFill>
                <a:srgbClr val="000000"/>
              </a:solidFill>
              <a:latin typeface="Calibri"/>
            </a:endParaRPr>
          </a:p>
          <a:p>
            <a:pPr lvl="2" marL="5529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0" lang="tr-TR" sz="2200" spc="-1" strike="noStrike">
                <a:solidFill>
                  <a:srgbClr val="000000"/>
                </a:solidFill>
                <a:latin typeface="Calibri"/>
              </a:rPr>
              <a:t>bir bilgisayar sisteminin tamamına veya herhangi bir kısmına erişimi mümkün kılan bir bilgisayar şifresi, erişim kodu veya benzer bir veri</a:t>
            </a:r>
            <a:endParaRPr b="0" lang="en-US" sz="2200" spc="-1" strike="noStrike">
              <a:solidFill>
                <a:srgbClr val="000000"/>
              </a:solidFill>
              <a:latin typeface="Calibri"/>
            </a:endParaRPr>
          </a:p>
          <a:p>
            <a:pPr lvl="1" marL="28188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8188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a:t>
            </a:r>
            <a:r>
              <a:rPr b="0" lang="tr-TR" sz="2400" spc="-1" strike="noStrike">
                <a:solidFill>
                  <a:srgbClr val="000000"/>
                </a:solidFill>
                <a:latin typeface="Calibri"/>
              </a:rPr>
              <a:t>	</a:t>
            </a:r>
            <a:r>
              <a:rPr b="0" lang="tr-TR" sz="2400" spc="-1" strike="noStrike">
                <a:solidFill>
                  <a:srgbClr val="000000"/>
                </a:solidFill>
                <a:latin typeface="Calibri"/>
              </a:rPr>
              <a:t>yukarıdaki fıkra a.i veya ii’de atıfta bulunulmuş bir öğeyi, 2 ila 5. maddelerde belirtilmiş herhangi bir suçun işlenmesi için kullanılması amacıyla bulundurma. Taraflardan biri yasa gereği cezai sorumluluğun doğması için bahsi geçen öğelerden belli bir sayıda bulundurulmasını şart koşabilir. </a:t>
            </a:r>
            <a:endParaRPr b="0" lang="en-US" sz="2400" spc="-1" strike="noStrike">
              <a:solidFill>
                <a:srgbClr val="000000"/>
              </a:solidFill>
              <a:latin typeface="Calibri"/>
            </a:endParaRPr>
          </a:p>
        </p:txBody>
      </p:sp>
      <p:sp>
        <p:nvSpPr>
          <p:cNvPr id="2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A3AE888-6C3D-4338-895E-03B6D6CAC2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ilgisayar programı</a:t>
            </a:r>
            <a:endParaRPr b="0" lang="en-US" sz="4400" spc="-1" strike="noStrike">
              <a:solidFill>
                <a:srgbClr val="000000"/>
              </a:solidFill>
              <a:latin typeface="Calibri"/>
            </a:endParaRPr>
          </a:p>
        </p:txBody>
      </p:sp>
      <p:sp>
        <p:nvSpPr>
          <p:cNvPr id="256" name="PlaceHolder 2"/>
          <p:cNvSpPr>
            <a:spLocks noGrp="1"/>
          </p:cNvSpPr>
          <p:nvPr>
            <p:ph/>
          </p:nvPr>
        </p:nvSpPr>
        <p:spPr>
          <a:xfrm>
            <a:off x="457200" y="1781280"/>
            <a:ext cx="8229600" cy="3659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 değiştirmek veya imha etmek yahut sistemlerin işleyişine müdahale etmek amacıyla tasarlanmış programlara atıf yapa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Örnekler:</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Virüs programları</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Bilgisayar sistemlerine erişim elde etmek amacıyla tasarlanmış veya uyarlanmış programlar</a:t>
            </a:r>
            <a:endParaRPr b="0" lang="en-US" sz="2600" spc="-1" strike="noStrike">
              <a:solidFill>
                <a:srgbClr val="000000"/>
              </a:solidFill>
              <a:latin typeface="Calibri"/>
            </a:endParaRPr>
          </a:p>
        </p:txBody>
      </p:sp>
      <p:sp>
        <p:nvSpPr>
          <p:cNvPr id="2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2C1E6DF-3274-48F7-9AEA-2673E0C8E1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13680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59" name="PlaceHolder 2"/>
          <p:cNvSpPr>
            <a:spLocks noGrp="1"/>
          </p:cNvSpPr>
          <p:nvPr>
            <p:ph/>
          </p:nvPr>
        </p:nvSpPr>
        <p:spPr>
          <a:xfrm>
            <a:off x="182520" y="1074240"/>
            <a:ext cx="8742240" cy="5440680"/>
          </a:xfrm>
          <a:prstGeom prst="rect">
            <a:avLst/>
          </a:prstGeom>
          <a:noFill/>
          <a:ln w="0">
            <a:noFill/>
          </a:ln>
        </p:spPr>
        <p:txBody>
          <a:bodyPr anchor="t">
            <a:normAutofit fontScale="94000"/>
          </a:bodyPr>
          <a:p>
            <a:pPr lvl="1" marL="2761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üretimi, satışı, kullanım amaçlı tedarik edilmesi, ithal edilmesi, dağıtımı veya başka bir şekilde erişilebilir hale getirilmesi: </a:t>
            </a:r>
            <a:endParaRPr b="0" lang="en-US" sz="2400" spc="-1" strike="noStrike">
              <a:solidFill>
                <a:srgbClr val="000000"/>
              </a:solidFill>
              <a:latin typeface="Calibri"/>
            </a:endParaRPr>
          </a:p>
          <a:p>
            <a:pPr lvl="2" marL="54144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0" lang="tr-TR" sz="2200" spc="-1" strike="noStrike">
                <a:solidFill>
                  <a:srgbClr val="000000"/>
                </a:solidFill>
                <a:latin typeface="Calibri"/>
              </a:rPr>
              <a:t>bir bilgisayar programı da dahil olmak üzere, </a:t>
            </a:r>
            <a:r>
              <a:rPr b="1" lang="tr-TR" sz="2800" spc="-1" strike="noStrike">
                <a:solidFill>
                  <a:srgbClr val="ff0000"/>
                </a:solidFill>
                <a:latin typeface="Calibri"/>
              </a:rPr>
              <a:t>öncelikli olarak yukarıda belirtilen 2 ila 5. maddelerde belirtilmiş herhangi bir suçu işlemek amacıyla tasarlanmış veya uyarlanmış</a:t>
            </a:r>
            <a:r>
              <a:rPr b="0" lang="tr-TR" sz="2200" spc="-1" strike="noStrike">
                <a:solidFill>
                  <a:srgbClr val="000000"/>
                </a:solidFill>
                <a:latin typeface="Calibri"/>
              </a:rPr>
              <a:t> bir cihaz;</a:t>
            </a:r>
            <a:endParaRPr b="0" lang="en-US" sz="2200" spc="-1" strike="noStrike">
              <a:solidFill>
                <a:srgbClr val="000000"/>
              </a:solidFill>
              <a:latin typeface="Calibri"/>
            </a:endParaRPr>
          </a:p>
          <a:p>
            <a:pPr lvl="2" marL="54144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0" lang="tr-TR" sz="2200" spc="-1" strike="noStrike">
                <a:solidFill>
                  <a:srgbClr val="000000"/>
                </a:solidFill>
                <a:latin typeface="Calibri"/>
              </a:rPr>
              <a:t>bir bilgisayar sisteminin tamamına veya herhangi bir kısmına erişimi mümkün kılan bir bilgisayar şifresi, erişim kodu veya benzer bir veri</a:t>
            </a:r>
            <a:endParaRPr b="0" lang="en-US" sz="2200" spc="-1" strike="noStrike">
              <a:solidFill>
                <a:srgbClr val="000000"/>
              </a:solidFill>
              <a:latin typeface="Calibri"/>
            </a:endParaRPr>
          </a:p>
          <a:p>
            <a:pPr lvl="1" marL="27612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761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a:t>
            </a:r>
            <a:r>
              <a:rPr b="0" lang="tr-TR" sz="2400" spc="-1" strike="noStrike">
                <a:solidFill>
                  <a:srgbClr val="000000"/>
                </a:solidFill>
                <a:latin typeface="Calibri"/>
              </a:rPr>
              <a:t>	</a:t>
            </a:r>
            <a:r>
              <a:rPr b="0" lang="tr-TR" sz="2400" spc="-1" strike="noStrike">
                <a:solidFill>
                  <a:srgbClr val="000000"/>
                </a:solidFill>
                <a:latin typeface="Calibri"/>
              </a:rPr>
              <a:t>yukarıdaki fıkra a.i veya ii’de atıfta bulunulmuş bir öğeyi, 2 ila 5. maddelerde belirtilmiş herhangi bir suçun işlenmesi için kullanılması amacıyla bulundurma. Taraflardan biri yasa gereği cezai sorumluluğun doğması için bahsi geçen öğelerden belli bir sayıda bulundurulmasını şart koşabilir.</a:t>
            </a:r>
            <a:endParaRPr b="0" lang="en-US" sz="2400" spc="-1" strike="noStrike">
              <a:solidFill>
                <a:srgbClr val="000000"/>
              </a:solidFill>
              <a:latin typeface="Calibri"/>
            </a:endParaRPr>
          </a:p>
        </p:txBody>
      </p:sp>
      <p:sp>
        <p:nvSpPr>
          <p:cNvPr id="260" name="Slide Number Placeholder 1"/>
          <p:cNvSpPr/>
          <p:nvPr/>
        </p:nvSpPr>
        <p:spPr>
          <a:xfrm>
            <a:off x="6791400" y="6478560"/>
            <a:ext cx="2133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D6D339B-2EB0-4EB2-B61D-B5917F7500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5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Öncelikli olarak suç işlemek amacıyla tasarlanmış veya uyarlanmış</a:t>
            </a:r>
            <a:endParaRPr b="0" lang="en-US" sz="4000" spc="-1" strike="noStrike">
              <a:solidFill>
                <a:srgbClr val="000000"/>
              </a:solidFill>
              <a:latin typeface="Calibri"/>
            </a:endParaRPr>
          </a:p>
        </p:txBody>
      </p:sp>
      <p:sp>
        <p:nvSpPr>
          <p:cNvPr id="262" name="PlaceHolder 2"/>
          <p:cNvSpPr>
            <a:spLocks noGrp="1"/>
          </p:cNvSpPr>
          <p:nvPr>
            <p:ph/>
          </p:nvPr>
        </p:nvSpPr>
        <p:spPr>
          <a:xfrm>
            <a:off x="457200" y="1994040"/>
            <a:ext cx="8229600" cy="4727520"/>
          </a:xfrm>
          <a:prstGeom prst="rect">
            <a:avLst/>
          </a:prstGeom>
          <a:noFill/>
          <a:ln w="0">
            <a:noFill/>
          </a:ln>
        </p:spPr>
        <p:txBody>
          <a:bodyPr anchor="t">
            <a:normAutofit fontScale="97000"/>
          </a:bodyPr>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udapeşte Sözleşmesi şu iki husus arasında denge gözetmektedir:</a:t>
            </a:r>
            <a:endParaRPr b="0" lang="en-US" sz="2800" spc="-1" strike="noStrike">
              <a:solidFill>
                <a:srgbClr val="000000"/>
              </a:solidFill>
              <a:latin typeface="Calibri"/>
            </a:endParaRPr>
          </a:p>
          <a:p>
            <a:pPr lvl="1" marL="720720" indent="-2772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Çift kullanımlı cihazları kapsam dışı bırakmak (çok dar ve ispatı çok zor olacaktır); ile</a:t>
            </a:r>
            <a:endParaRPr b="0" lang="en-US" sz="2400" spc="-1" strike="noStrike">
              <a:solidFill>
                <a:srgbClr val="000000"/>
              </a:solidFill>
              <a:latin typeface="Calibri"/>
            </a:endParaRPr>
          </a:p>
          <a:p>
            <a:pPr lvl="1" marL="720720" indent="-2772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Çift kullanımlı cihazları kapsam içine almak (hukuka uygun şekilde üretilmiş ve dağıtılmış olsa dahi tüm cihazları kapsayarak aşırı geniş bir suç yaratmış olacaktır)</a:t>
            </a:r>
            <a:endParaRPr b="0" lang="en-US" sz="2400" spc="-1" strike="noStrike">
              <a:solidFill>
                <a:srgbClr val="000000"/>
              </a:solidFill>
              <a:latin typeface="Calibri"/>
            </a:endParaRPr>
          </a:p>
          <a:p>
            <a:pPr lvl="1" marL="720720" indent="0" algn="just">
              <a:lnSpc>
                <a:spcPct val="90000"/>
              </a:lnSpc>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udapeşte Sözleşmesi cihazın </a:t>
            </a:r>
            <a:r>
              <a:rPr b="1" lang="en-GB" sz="2800" spc="-1" strike="noStrike">
                <a:solidFill>
                  <a:srgbClr val="000000"/>
                </a:solidFill>
                <a:latin typeface="Calibri"/>
                <a:ea typeface="Times New Roman"/>
              </a:rPr>
              <a:t>öncelikli olarak </a:t>
            </a:r>
            <a:r>
              <a:rPr b="0" lang="en-GB" sz="2800" spc="-1" strike="noStrike">
                <a:solidFill>
                  <a:srgbClr val="000000"/>
                </a:solidFill>
                <a:latin typeface="Calibri"/>
                <a:ea typeface="Times New Roman"/>
              </a:rPr>
              <a:t>(ama sadece bu amaçla değil) Sözleşme’nin 2-5. maddeleri kapsamında yer alan bir suçun işlenmesi amacıyla tasarlanmış veya uyarlanmış olmasını şart koşmaktadır. </a:t>
            </a:r>
            <a:endParaRPr b="0" lang="en-US" sz="2800" spc="-1" strike="noStrike">
              <a:solidFill>
                <a:srgbClr val="000000"/>
              </a:solidFill>
              <a:latin typeface="Calibri"/>
            </a:endParaRPr>
          </a:p>
        </p:txBody>
      </p:sp>
      <p:sp>
        <p:nvSpPr>
          <p:cNvPr id="2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1C89A82-2391-498F-B19D-16834F6881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457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65" name="PlaceHolder 2"/>
          <p:cNvSpPr>
            <a:spLocks noGrp="1"/>
          </p:cNvSpPr>
          <p:nvPr>
            <p:ph/>
          </p:nvPr>
        </p:nvSpPr>
        <p:spPr>
          <a:xfrm>
            <a:off x="182520" y="1188720"/>
            <a:ext cx="8710560" cy="5668920"/>
          </a:xfrm>
          <a:prstGeom prst="rect">
            <a:avLst/>
          </a:prstGeom>
          <a:noFill/>
          <a:ln w="0">
            <a:noFill/>
          </a:ln>
        </p:spPr>
        <p:txBody>
          <a:bodyPr anchor="t">
            <a:normAutofit fontScale="99000"/>
          </a:bodyPr>
          <a:p>
            <a:pPr lvl="1" marL="2905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üretimi, satışı, kullanım amaçlı tedarik edilmesi, ithal edilmesi, dağıtımı veya başka bir şekilde erişilebilir hale getirilmesi: </a:t>
            </a:r>
            <a:endParaRPr b="0" lang="en-US" sz="2400" spc="-1" strike="noStrike">
              <a:solidFill>
                <a:srgbClr val="000000"/>
              </a:solidFill>
              <a:latin typeface="Calibri"/>
            </a:endParaRPr>
          </a:p>
          <a:p>
            <a:pPr lvl="2" marL="57024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0" lang="tr-TR" sz="2200" spc="-1" strike="noStrike">
                <a:solidFill>
                  <a:srgbClr val="000000"/>
                </a:solidFill>
                <a:latin typeface="Calibri"/>
              </a:rPr>
              <a:t>bir bilgisayar programı da dahil olmak üzere, öncelikli olarak yukarıda belirtilen 2 ila 5. maddelerde belirtilmiş herhangi bir suçu işlemek amacıyla tasarlanmış veya uyarlanmış bir cihaz;</a:t>
            </a:r>
            <a:endParaRPr b="0" lang="en-US" sz="2200" spc="-1" strike="noStrike">
              <a:solidFill>
                <a:srgbClr val="000000"/>
              </a:solidFill>
              <a:latin typeface="Calibri"/>
            </a:endParaRPr>
          </a:p>
          <a:p>
            <a:pPr lvl="2" marL="570240" indent="0" algn="just">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1" lang="tr-TR" sz="2800" spc="-1" strike="noStrike">
                <a:solidFill>
                  <a:srgbClr val="ff0000"/>
                </a:solidFill>
                <a:latin typeface="Calibri"/>
              </a:rPr>
              <a:t>bir bilgisayar sisteminin tamamına veya herhangi bir kısmına erişimi mümkün kılan bir bilgisayar şifresi, erişim kodu veya benzer bir veri</a:t>
            </a:r>
            <a:endParaRPr b="0" lang="en-US" sz="2800" spc="-1" strike="noStrike">
              <a:solidFill>
                <a:srgbClr val="000000"/>
              </a:solidFill>
              <a:latin typeface="Calibri"/>
            </a:endParaRPr>
          </a:p>
          <a:p>
            <a:pPr lvl="1" marL="29052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905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a:t>
            </a:r>
            <a:r>
              <a:rPr b="0" lang="tr-TR" sz="2400" spc="-1" strike="noStrike">
                <a:solidFill>
                  <a:srgbClr val="000000"/>
                </a:solidFill>
                <a:latin typeface="Calibri"/>
              </a:rPr>
              <a:t>	</a:t>
            </a:r>
            <a:r>
              <a:rPr b="0" lang="tr-TR" sz="2400" spc="-1" strike="noStrike">
                <a:solidFill>
                  <a:srgbClr val="000000"/>
                </a:solidFill>
                <a:latin typeface="Calibri"/>
              </a:rPr>
              <a:t>yukarıdaki fıkra a.i veya ii’de atıfta bulunulmuş bir öğeyi, 2 ila 5. maddelerde belirtilmiş herhangi bir suçun işlenmesi için kullanılması amacıyla bulundurma. Taraflardan biri yasa gereği cezai sorumluluğun doğması için bahsi geçen öğelerden belli bir sayıda bulundurulmasını şart koşabilir.</a:t>
            </a:r>
            <a:endParaRPr b="0" lang="en-US" sz="2400" spc="-1" strike="noStrike">
              <a:solidFill>
                <a:srgbClr val="000000"/>
              </a:solidFill>
              <a:latin typeface="Calibri"/>
            </a:endParaRPr>
          </a:p>
        </p:txBody>
      </p:sp>
      <p:sp>
        <p:nvSpPr>
          <p:cNvPr id="2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6EEA7DB-BE40-4F46-B13D-07D02A40EB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Bilgisayar verilerinin ve sistemlerinin</a:t>
            </a: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gizliliğine, bütünlüğüne ve </a:t>
            </a:r>
            <a:r>
              <a:rPr b="1" lang="tr-TR" sz="3200" spc="-1" strike="noStrike">
                <a:solidFill>
                  <a:srgbClr val="000000"/>
                </a:solidFill>
                <a:latin typeface="Calibri"/>
                <a:ea typeface="ＭＳ Ｐゴシック"/>
              </a:rPr>
              <a:t>erişilebilirliğine</a:t>
            </a: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yönelik suçlar</a:t>
            </a:r>
            <a:endParaRPr b="0" lang="en-US" sz="3200" spc="-1" strike="noStrike">
              <a:solidFill>
                <a:srgbClr val="000000"/>
              </a:solidFill>
              <a:latin typeface="Calibri"/>
            </a:endParaRPr>
          </a:p>
        </p:txBody>
      </p:sp>
      <p:sp>
        <p:nvSpPr>
          <p:cNvPr id="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0651F9-10CD-452A-9CDE-698619AF8B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ilgisayar şifreleri, erişim kodları vs.</a:t>
            </a:r>
            <a:endParaRPr b="0" lang="en-US" sz="4400" spc="-1" strike="noStrike">
              <a:solidFill>
                <a:srgbClr val="000000"/>
              </a:solidFill>
              <a:latin typeface="Calibri"/>
            </a:endParaRPr>
          </a:p>
        </p:txBody>
      </p:sp>
      <p:sp>
        <p:nvSpPr>
          <p:cNvPr id="268" name="PlaceHolder 2"/>
          <p:cNvSpPr>
            <a:spLocks noGrp="1"/>
          </p:cNvSpPr>
          <p:nvPr>
            <p:ph/>
          </p:nvPr>
        </p:nvSpPr>
        <p:spPr>
          <a:xfrm>
            <a:off x="457200" y="1530360"/>
            <a:ext cx="8229600" cy="45957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ＭＳ Ｐゴシック"/>
              </a:rPr>
              <a:t>1(a)2. fıkra şunları şuç saymaktadır; </a:t>
            </a:r>
            <a:r>
              <a:rPr b="0" lang="tr-TR" sz="2800" spc="-1" strike="noStrike">
                <a:solidFill>
                  <a:srgbClr val="000000"/>
                </a:solidFill>
                <a:latin typeface="Calibri"/>
              </a:rPr>
              <a:t>bir bilgisayar sisteminin tamamına veya herhangi bir kısmına erişimi mümkün kılan bir bilgisayar şifresi, erişim kodu veya benzer bir verinin</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üretilmesi;</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satışı;</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kullanım amacıyla tedariki;</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ithalatı;</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dağıtımı; ya d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başka bir şekilde erişilebilir hale getirilmesi.</a:t>
            </a:r>
            <a:endParaRPr b="0" lang="en-US" sz="2400" spc="-1" strike="noStrike">
              <a:solidFill>
                <a:srgbClr val="000000"/>
              </a:solidFill>
              <a:latin typeface="Calibri"/>
            </a:endParaRPr>
          </a:p>
        </p:txBody>
      </p:sp>
      <p:sp>
        <p:nvSpPr>
          <p:cNvPr id="2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279CA2D-9CA7-43E6-B460-BD6F2B3413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71" name="PlaceHolder 2"/>
          <p:cNvSpPr>
            <a:spLocks noGrp="1"/>
          </p:cNvSpPr>
          <p:nvPr>
            <p:ph/>
          </p:nvPr>
        </p:nvSpPr>
        <p:spPr>
          <a:xfrm>
            <a:off x="-360" y="1136520"/>
            <a:ext cx="8961480" cy="4983120"/>
          </a:xfrm>
          <a:prstGeom prst="rect">
            <a:avLst/>
          </a:prstGeom>
          <a:noFill/>
          <a:ln w="0">
            <a:noFill/>
          </a:ln>
        </p:spPr>
        <p:txBody>
          <a:bodyPr anchor="t">
            <a:normAutofit fontScale="92000"/>
          </a:bodyPr>
          <a:p>
            <a:pPr lvl="1" marL="27000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üretimi, satışı, kullanım amaçlı tedarik edilmesi, ithal edilmesi, dağıtımı veya başka bir şekilde erişilebilir hale getirilmesi: </a:t>
            </a:r>
            <a:endParaRPr b="0" lang="en-US" sz="2400" spc="-1" strike="noStrike">
              <a:solidFill>
                <a:srgbClr val="000000"/>
              </a:solidFill>
              <a:latin typeface="Calibri"/>
            </a:endParaRPr>
          </a:p>
          <a:p>
            <a:pPr lvl="2" marL="5299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0" lang="tr-TR" sz="2200" spc="-1" strike="noStrike">
                <a:solidFill>
                  <a:srgbClr val="000000"/>
                </a:solidFill>
                <a:latin typeface="Calibri"/>
              </a:rPr>
              <a:t>bir bilgisayar programı da dahil olmak üzere, öncelikli olarak yukarıda belirtilen 2 ila 5. maddelerde belirtilmiş herhangi bir suçu işlemek amacıyla tasarlanmış veya uyarlanmış bir cihaz;</a:t>
            </a:r>
            <a:endParaRPr b="0" lang="en-US" sz="2200" spc="-1" strike="noStrike">
              <a:solidFill>
                <a:srgbClr val="000000"/>
              </a:solidFill>
              <a:latin typeface="Calibri"/>
            </a:endParaRPr>
          </a:p>
          <a:p>
            <a:pPr lvl="2" marL="5299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0" lang="tr-TR" sz="2200" spc="-1" strike="noStrike">
                <a:solidFill>
                  <a:srgbClr val="000000"/>
                </a:solidFill>
                <a:latin typeface="Calibri"/>
              </a:rPr>
              <a:t>bir bilgisayar sisteminin tamamına veya herhangi bir kısmına erişimi mümkün kılan bir bilgisayar şifresi, erişim kodu veya benzer bir veri</a:t>
            </a:r>
            <a:endParaRPr b="0" lang="en-US" sz="2200" spc="-1" strike="noStrike">
              <a:solidFill>
                <a:srgbClr val="000000"/>
              </a:solidFill>
              <a:latin typeface="Calibri"/>
            </a:endParaRPr>
          </a:p>
          <a:p>
            <a:pPr lvl="1" marL="27000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70000" indent="-270000" algn="just">
              <a:lnSpc>
                <a:spcPct val="90000"/>
              </a:lnSpc>
              <a:buClr>
                <a:srgbClr val="000000"/>
              </a:buClr>
              <a:buFont typeface="Calibri"/>
              <a:buAutoNum type="alphaL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yukarıdaki fıkra a.i veya ii’de atıfta bulunulmuş</a:t>
            </a:r>
            <a:r>
              <a:rPr b="1" lang="tr-TR" sz="3000" spc="-1" strike="noStrike">
                <a:solidFill>
                  <a:srgbClr val="ff0000"/>
                </a:solidFill>
                <a:latin typeface="Calibri"/>
              </a:rPr>
              <a:t> bir öğeyi, 2 ila 5. maddelerde belirtilmiş herhangi bir suçun işlenmesi için kullanılması amacıyla bulundurma</a:t>
            </a:r>
            <a:r>
              <a:rPr b="0" lang="tr-TR" sz="2400" spc="-1" strike="noStrike">
                <a:solidFill>
                  <a:srgbClr val="000000"/>
                </a:solidFill>
                <a:latin typeface="Calibri"/>
              </a:rPr>
              <a:t>. Taraflardan biri yasa gereği cezai sorumluluğun doğması için bahsi geçen öğelerden </a:t>
            </a:r>
            <a:r>
              <a:rPr b="1" lang="tr-TR" sz="3000" spc="-1" strike="noStrike">
                <a:solidFill>
                  <a:srgbClr val="ff0000"/>
                </a:solidFill>
                <a:latin typeface="Calibri"/>
              </a:rPr>
              <a:t>belli bir sayıda</a:t>
            </a:r>
            <a:r>
              <a:rPr b="0" lang="tr-TR" sz="2400" spc="-1" strike="noStrike">
                <a:solidFill>
                  <a:srgbClr val="000000"/>
                </a:solidFill>
                <a:latin typeface="Calibri"/>
              </a:rPr>
              <a:t> bulundurulmasını şart koşabilir.</a:t>
            </a:r>
            <a:endParaRPr b="0" lang="en-US" sz="2400" spc="-1" strike="noStrike">
              <a:solidFill>
                <a:srgbClr val="000000"/>
              </a:solidFill>
              <a:latin typeface="Calibri"/>
            </a:endParaRPr>
          </a:p>
        </p:txBody>
      </p:sp>
      <p:sp>
        <p:nvSpPr>
          <p:cNvPr id="2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74BA943-61A2-48B1-835F-4183F9F38F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22040"/>
            <a:ext cx="8391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ihazı, şifreyi vs. bulundurma</a:t>
            </a:r>
            <a:endParaRPr b="0" lang="en-US" sz="4400" spc="-1" strike="noStrike">
              <a:solidFill>
                <a:srgbClr val="000000"/>
              </a:solidFill>
              <a:latin typeface="Calibri"/>
            </a:endParaRPr>
          </a:p>
        </p:txBody>
      </p:sp>
      <p:sp>
        <p:nvSpPr>
          <p:cNvPr id="274" name="PlaceHolder 2"/>
          <p:cNvSpPr>
            <a:spLocks noGrp="1"/>
          </p:cNvSpPr>
          <p:nvPr>
            <p:ph/>
          </p:nvPr>
        </p:nvSpPr>
        <p:spPr>
          <a:xfrm>
            <a:off x="457200" y="1854360"/>
            <a:ext cx="8229600" cy="3443040"/>
          </a:xfrm>
          <a:prstGeom prst="rect">
            <a:avLst/>
          </a:prstGeom>
          <a:noFill/>
          <a:ln w="0">
            <a:noFill/>
          </a:ln>
        </p:spPr>
        <p:txBody>
          <a:bodyPr anchor="t">
            <a:normAutofit fontScale="87000"/>
          </a:bodyPr>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a)1. veya 1(a)2. fıkralarda belirtilen öğelerin bulundurulması</a:t>
            </a:r>
            <a:endParaRPr b="0" lang="en-US" sz="2800" spc="-1" strike="noStrike">
              <a:solidFill>
                <a:srgbClr val="000000"/>
              </a:solidFill>
              <a:latin typeface="Calibri"/>
            </a:endParaRPr>
          </a:p>
          <a:p>
            <a:pPr marL="29844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Bu bulundurma, Sözleşme’nin 2-5 maddeleri kapsamında bir suçun işlenmesi niyetiyle olmalıdır.</a:t>
            </a:r>
            <a:endParaRPr b="0" lang="en-US" sz="2800" spc="-1" strike="noStrike">
              <a:solidFill>
                <a:srgbClr val="000000"/>
              </a:solidFill>
              <a:latin typeface="Calibri"/>
            </a:endParaRPr>
          </a:p>
          <a:p>
            <a:pPr marL="29844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araflar iç mevzuatları yoluyla, cezai sorumluluğun söz konusu olması için kişinin belirli bir sayıda öğeyi bulundurması gereğini şart koşabilir. </a:t>
            </a:r>
            <a:endParaRPr b="0" lang="en-US" sz="2800" spc="-1" strike="noStrike">
              <a:solidFill>
                <a:srgbClr val="000000"/>
              </a:solidFill>
              <a:latin typeface="Calibri"/>
            </a:endParaRPr>
          </a:p>
        </p:txBody>
      </p:sp>
      <p:sp>
        <p:nvSpPr>
          <p:cNvPr id="2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372378F-43B2-4794-AB24-402A2122E4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Bilgisayarla Bağlantılı Suçlar</a:t>
            </a:r>
            <a:endParaRPr b="0" lang="en-US" sz="3200" spc="-1" strike="noStrike">
              <a:solidFill>
                <a:srgbClr val="000000"/>
              </a:solidFill>
              <a:latin typeface="Calibri"/>
            </a:endParaRPr>
          </a:p>
        </p:txBody>
      </p:sp>
      <p:sp>
        <p:nvSpPr>
          <p:cNvPr id="2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C8F281-A0D6-49FE-8E43-DCC16DFDFE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457200" y="558720"/>
            <a:ext cx="8229600" cy="575784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Bilgisayarla Bağlantılı Sahtecilik</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7 – Budapeşte Sözleşmesi)</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Somut evrakta sahtecilik suçuna paralel bir sahtecilik suçu yaratır.</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Klasik sahtecilik genellikle evraktaki ifade veya beyanların görsel olarak okunabilir olmasını gerektirdiği için ceza hukukunda bir boşluk söz konusudur.</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Klasik sahtecilik elektronik verilere uygulanamayabilir. </a:t>
            </a:r>
            <a:endParaRPr b="0" lang="en-US" sz="2800" spc="-1" strike="noStrike">
              <a:solidFill>
                <a:srgbClr val="000000"/>
              </a:solidFill>
              <a:latin typeface="Calibri"/>
            </a:endParaRPr>
          </a:p>
        </p:txBody>
      </p:sp>
      <p:sp>
        <p:nvSpPr>
          <p:cNvPr id="2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077079-600B-435D-AC3A-CA334FAA98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7 – Bilgisayarla Bağlantılı Sahtecilik</a:t>
            </a:r>
            <a:endParaRPr b="0" lang="en-US" sz="4000" spc="-1" strike="noStrike">
              <a:solidFill>
                <a:srgbClr val="000000"/>
              </a:solidFill>
              <a:latin typeface="Calibri"/>
            </a:endParaRPr>
          </a:p>
        </p:txBody>
      </p:sp>
      <p:sp>
        <p:nvSpPr>
          <p:cNvPr id="281" name="PlaceHolder 2"/>
          <p:cNvSpPr>
            <a:spLocks noGrp="1"/>
          </p:cNvSpPr>
          <p:nvPr>
            <p:ph/>
          </p:nvPr>
        </p:nvSpPr>
        <p:spPr>
          <a:xfrm>
            <a:off x="457200" y="169560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Taraflardan her biri, sahih olmayan verilerle sonuçlanan yeni veri girme, verileri değiştirme, silme veya engelleme eylemlerinin, söz konusu verilerin yasal açıdan sahih verilermiş gibi kabul edilmesi veya işlem görmesi niyetiyle, kasten ve haksız yere gerçekleştirildiği zaman, verilerin doğrudan okunabilir ve anlaşılabilir olup olmadığına bakılmaksızın, bu eylemlerin kendi iç hukukunda cezai suç olarak tanımlanması için gerekli olabilecek yasama tedbirlerini ve diğer tedbirleri kabul edecektir. Taraflardan biri, cezai yükümlülüğün doğması için, eylemin hile veya benzer bir sahtekârlık niyetiyle gerçekleştirilmiş olmasını şart koşabilir. </a:t>
            </a:r>
            <a:endParaRPr b="0" lang="en-US" sz="2600" spc="-1" strike="noStrike">
              <a:solidFill>
                <a:srgbClr val="000000"/>
              </a:solidFill>
              <a:latin typeface="Calibri"/>
            </a:endParaRPr>
          </a:p>
        </p:txBody>
      </p:sp>
      <p:sp>
        <p:nvSpPr>
          <p:cNvPr id="2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6CD623-063E-4D56-BE53-9506777246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7 – Bilgisayarla Bağlantılı Sahtecilik</a:t>
            </a:r>
            <a:endParaRPr b="0" lang="en-US" sz="4000" spc="-1" strike="noStrike">
              <a:solidFill>
                <a:srgbClr val="000000"/>
              </a:solidFill>
              <a:latin typeface="Calibri"/>
            </a:endParaRPr>
          </a:p>
        </p:txBody>
      </p:sp>
      <p:sp>
        <p:nvSpPr>
          <p:cNvPr id="284" name="PlaceHolder 2"/>
          <p:cNvSpPr>
            <a:spLocks noGrp="1"/>
          </p:cNvSpPr>
          <p:nvPr>
            <p:ph/>
          </p:nvPr>
        </p:nvSpPr>
        <p:spPr>
          <a:xfrm>
            <a:off x="457200" y="1767960"/>
            <a:ext cx="8229600" cy="4526280"/>
          </a:xfrm>
          <a:prstGeom prst="rect">
            <a:avLst/>
          </a:prstGeom>
          <a:noFill/>
          <a:ln w="0">
            <a:noFill/>
          </a:ln>
        </p:spPr>
        <p:txBody>
          <a:bodyPr anchor="t">
            <a:normAutofit fontScale="97000"/>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Taraflardan her biri, </a:t>
            </a:r>
            <a:r>
              <a:rPr b="1" lang="tr-TR" sz="3200" spc="-1" strike="noStrike">
                <a:solidFill>
                  <a:srgbClr val="ff0000"/>
                </a:solidFill>
                <a:latin typeface="Calibri"/>
              </a:rPr>
              <a:t>sahih olmayan verilerle sonuçlanan yeni veri girme</a:t>
            </a:r>
            <a:r>
              <a:rPr b="0" lang="tr-TR" sz="2600" spc="-1" strike="noStrike">
                <a:solidFill>
                  <a:srgbClr val="000000"/>
                </a:solidFill>
                <a:latin typeface="Calibri"/>
              </a:rPr>
              <a:t>, </a:t>
            </a:r>
            <a:r>
              <a:rPr b="1" lang="tr-TR" sz="3200" spc="-1" strike="noStrike">
                <a:solidFill>
                  <a:srgbClr val="ff0000"/>
                </a:solidFill>
                <a:latin typeface="Calibri"/>
              </a:rPr>
              <a:t>verileri değiştirme</a:t>
            </a:r>
            <a:r>
              <a:rPr b="0" lang="tr-TR" sz="2600" spc="-1" strike="noStrike">
                <a:solidFill>
                  <a:srgbClr val="000000"/>
                </a:solidFill>
                <a:latin typeface="Calibri"/>
              </a:rPr>
              <a:t>, </a:t>
            </a:r>
            <a:r>
              <a:rPr b="1" lang="tr-TR" sz="3200" spc="-1" strike="noStrike">
                <a:solidFill>
                  <a:srgbClr val="ff0000"/>
                </a:solidFill>
                <a:latin typeface="Calibri"/>
              </a:rPr>
              <a:t>silme</a:t>
            </a:r>
            <a:r>
              <a:rPr b="0" lang="tr-TR" sz="2600" spc="-1" strike="noStrike">
                <a:solidFill>
                  <a:srgbClr val="000000"/>
                </a:solidFill>
                <a:latin typeface="Calibri"/>
              </a:rPr>
              <a:t> veya </a:t>
            </a:r>
            <a:r>
              <a:rPr b="1" lang="tr-TR" sz="3200" spc="-1" strike="noStrike">
                <a:solidFill>
                  <a:srgbClr val="ff0000"/>
                </a:solidFill>
                <a:latin typeface="Calibri"/>
              </a:rPr>
              <a:t>engelleme</a:t>
            </a:r>
            <a:r>
              <a:rPr b="0" lang="tr-TR" sz="2600" spc="-1" strike="noStrike">
                <a:solidFill>
                  <a:srgbClr val="ff0000"/>
                </a:solidFill>
                <a:latin typeface="Calibri"/>
              </a:rPr>
              <a:t> </a:t>
            </a:r>
            <a:r>
              <a:rPr b="0" lang="tr-TR" sz="2600" spc="-1" strike="noStrike">
                <a:solidFill>
                  <a:srgbClr val="000000"/>
                </a:solidFill>
                <a:latin typeface="Calibri"/>
              </a:rPr>
              <a:t>eylemlerinin, söz konusu verilerin yasal açıdan sahih verilermiş gibi kabul edilmesi veya işlem görmesi niyetiyle, kasten ve haksız yere gerçekleştirildiği zaman, verilerin doğrudan okunabilir ve anlaşılabilir olup olmadığına bakılmaksızın, bu eylemlerin kendi iç hukukunda cezai suç olarak tanımlanması için gerekli olabilecek yasama tedbirlerini ve diğer tedbirleri kabul edecektir. Taraflardan biri, cezai yükümlülüğün doğması için, eylemin hile veya benzer bir sahtekârlık niyetiyle gerçekleştirilmiş olmasını şart koşabilir. </a:t>
            </a:r>
            <a:endParaRPr b="0" lang="en-US" sz="2600" spc="-1" strike="noStrike">
              <a:solidFill>
                <a:srgbClr val="000000"/>
              </a:solidFill>
              <a:latin typeface="Calibri"/>
            </a:endParaRPr>
          </a:p>
        </p:txBody>
      </p:sp>
      <p:sp>
        <p:nvSpPr>
          <p:cNvPr id="2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90C0794-D875-4D9F-9FA2-5CB27AE035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eri girme, verileri değiştirme, silme veya engelleme</a:t>
            </a:r>
            <a:endParaRPr b="0" lang="en-US" sz="4400" spc="-1" strike="noStrike">
              <a:solidFill>
                <a:srgbClr val="000000"/>
              </a:solidFill>
              <a:latin typeface="Calibri"/>
            </a:endParaRPr>
          </a:p>
        </p:txBody>
      </p:sp>
      <p:sp>
        <p:nvSpPr>
          <p:cNvPr id="287" name="PlaceHolder 2"/>
          <p:cNvSpPr>
            <a:spLocks noGrp="1"/>
          </p:cNvSpPr>
          <p:nvPr>
            <p:ph/>
          </p:nvPr>
        </p:nvSpPr>
        <p:spPr>
          <a:xfrm>
            <a:off x="457200" y="2276640"/>
            <a:ext cx="8229600" cy="34430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Sahih bir belgede şu yöntemlerle tahrifat: </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ea typeface="Times New Roman"/>
              </a:rPr>
              <a:t>Doğru veya yanlış veriler </a:t>
            </a:r>
            <a:r>
              <a:rPr b="1" lang="en-GB" sz="2800" spc="-1" strike="noStrike">
                <a:solidFill>
                  <a:srgbClr val="000000"/>
                </a:solidFill>
                <a:latin typeface="Calibri"/>
                <a:ea typeface="Times New Roman"/>
              </a:rPr>
              <a:t>girilmesi</a:t>
            </a:r>
            <a:r>
              <a:rPr b="0" lang="en-GB" sz="2800" spc="-1" strike="noStrike">
                <a:solidFill>
                  <a:srgbClr val="000000"/>
                </a:solidFill>
                <a:latin typeface="Calibri"/>
                <a:ea typeface="Times New Roman"/>
              </a:rPr>
              <a:t>;</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ea typeface="Times New Roman"/>
              </a:rPr>
              <a:t>Sonradan </a:t>
            </a:r>
            <a:r>
              <a:rPr b="1" lang="en-GB" sz="2800" spc="-1" strike="noStrike">
                <a:solidFill>
                  <a:srgbClr val="000000"/>
                </a:solidFill>
                <a:latin typeface="Calibri"/>
                <a:ea typeface="Times New Roman"/>
              </a:rPr>
              <a:t>değiştirme </a:t>
            </a:r>
            <a:r>
              <a:rPr b="0" lang="en-GB" sz="2800" spc="-1" strike="noStrike">
                <a:solidFill>
                  <a:srgbClr val="000000"/>
                </a:solidFill>
                <a:latin typeface="Calibri"/>
                <a:ea typeface="Times New Roman"/>
              </a:rPr>
              <a:t>(tadilat, farklılaştırma, kısmi değişiklikler);</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Silme </a:t>
            </a:r>
            <a:r>
              <a:rPr b="0" lang="en-GB" sz="2800" spc="-1" strike="noStrike">
                <a:solidFill>
                  <a:srgbClr val="000000"/>
                </a:solidFill>
                <a:latin typeface="Calibri"/>
                <a:ea typeface="Times New Roman"/>
              </a:rPr>
              <a:t>(bir veri ortamından verilerin kaldırılması);</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Engelleme </a:t>
            </a:r>
            <a:r>
              <a:rPr b="0" lang="en-GB" sz="2800" spc="-1" strike="noStrike">
                <a:solidFill>
                  <a:srgbClr val="000000"/>
                </a:solidFill>
                <a:latin typeface="Calibri"/>
                <a:ea typeface="Times New Roman"/>
              </a:rPr>
              <a:t>(verilerin alıkonulması, gizlenmesi)</a:t>
            </a:r>
            <a:endParaRPr b="0" lang="en-US" sz="2800" spc="-1" strike="noStrike">
              <a:solidFill>
                <a:srgbClr val="000000"/>
              </a:solidFill>
              <a:latin typeface="Calibri"/>
            </a:endParaRPr>
          </a:p>
        </p:txBody>
      </p:sp>
      <p:sp>
        <p:nvSpPr>
          <p:cNvPr id="28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9576680-DCDE-4FEC-92B6-900EEAF034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7 – Bilgisayarla Bağlantılı Sahtecilik</a:t>
            </a:r>
            <a:endParaRPr b="0" lang="en-US" sz="4000" spc="-1" strike="noStrike">
              <a:solidFill>
                <a:srgbClr val="000000"/>
              </a:solidFill>
              <a:latin typeface="Calibri"/>
            </a:endParaRPr>
          </a:p>
        </p:txBody>
      </p:sp>
      <p:sp>
        <p:nvSpPr>
          <p:cNvPr id="290" name="PlaceHolder 2"/>
          <p:cNvSpPr>
            <a:spLocks noGrp="1"/>
          </p:cNvSpPr>
          <p:nvPr>
            <p:ph/>
          </p:nvPr>
        </p:nvSpPr>
        <p:spPr>
          <a:xfrm>
            <a:off x="457200" y="1727280"/>
            <a:ext cx="8229600" cy="5130720"/>
          </a:xfrm>
          <a:prstGeom prst="rect">
            <a:avLst/>
          </a:prstGeom>
          <a:noFill/>
          <a:ln w="0">
            <a:noFill/>
          </a:ln>
        </p:spPr>
        <p:txBody>
          <a:bodyPr anchor="t">
            <a:normAutofit fontScale="99000"/>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Taraflardan her biri, sahih olmayan verilerle sonuçlanan yeni veri girme, verileri değiştirme, silme veya engelleme eylemlerinin, </a:t>
            </a:r>
            <a:r>
              <a:rPr b="1" lang="tr-TR" sz="3200" spc="-1" strike="noStrike">
                <a:solidFill>
                  <a:srgbClr val="ff0000"/>
                </a:solidFill>
                <a:latin typeface="Calibri"/>
              </a:rPr>
              <a:t>söz konusu verilerin yasal açıdan sahih verilermiş gibi kabul edilmesi veya işlem görmesi niyetiyle</a:t>
            </a:r>
            <a:r>
              <a:rPr b="0" lang="tr-TR" sz="2600" spc="-1" strike="noStrike">
                <a:solidFill>
                  <a:srgbClr val="000000"/>
                </a:solidFill>
                <a:latin typeface="Calibri"/>
              </a:rPr>
              <a:t>, kasten ve haksız yere gerçekleştirildiği zaman, verilerin doğrudan okunabilir ve anlaşılabilir olup olmadığına bakılmaksızın, bu eylemlerin kendi iç hukukunda cezai suç olarak tanımlanması için gerekli olabilecek yasama tedbirlerini ve diğer tedbirleri kabul edecektir. Taraflardan biri, cezai yükümlülüğün doğması için, eylemin </a:t>
            </a:r>
            <a:r>
              <a:rPr b="1" lang="tr-TR" sz="3200" spc="-1" strike="noStrike">
                <a:solidFill>
                  <a:srgbClr val="ff0000"/>
                </a:solidFill>
                <a:latin typeface="Calibri"/>
              </a:rPr>
              <a:t>hile veya benzer bir sahtekârlık niyetiyle </a:t>
            </a:r>
            <a:r>
              <a:rPr b="0" lang="tr-TR" sz="2600" spc="-1" strike="noStrike">
                <a:solidFill>
                  <a:srgbClr val="000000"/>
                </a:solidFill>
                <a:latin typeface="Calibri"/>
              </a:rPr>
              <a:t>gerçekleştirilmiş olmasını şart koşabilir.</a:t>
            </a:r>
            <a:endParaRPr b="0" lang="en-US" sz="2600" spc="-1" strike="noStrike">
              <a:solidFill>
                <a:srgbClr val="000000"/>
              </a:solidFill>
              <a:latin typeface="Calibri"/>
            </a:endParaRPr>
          </a:p>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29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5153BD3-0E1D-4A16-B46A-2686AE0A3C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74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1" lang="en-GB" sz="4400" spc="-1" strike="noStrike">
                <a:solidFill>
                  <a:srgbClr val="000000"/>
                </a:solidFill>
                <a:latin typeface="Calibri"/>
              </a:rPr>
              <a:t>Yasal açıdan kabul edilme veya işlem görme niyeti</a:t>
            </a:r>
            <a:br>
              <a:rPr sz="4400"/>
            </a:br>
            <a:endParaRPr b="0" lang="en-US" sz="4400" spc="-1" strike="noStrike">
              <a:solidFill>
                <a:srgbClr val="000000"/>
              </a:solidFill>
              <a:latin typeface="Calibri"/>
            </a:endParaRPr>
          </a:p>
        </p:txBody>
      </p:sp>
      <p:sp>
        <p:nvSpPr>
          <p:cNvPr id="293" name="PlaceHolder 2"/>
          <p:cNvSpPr>
            <a:spLocks noGrp="1"/>
          </p:cNvSpPr>
          <p:nvPr>
            <p:ph/>
          </p:nvPr>
        </p:nvSpPr>
        <p:spPr>
          <a:xfrm>
            <a:off x="457200" y="2499840"/>
            <a:ext cx="8229600" cy="34434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k niyet şartı</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a:r>
            <a:r>
              <a:rPr b="0" lang="en-GB" sz="2800" spc="-1" strike="noStrike">
                <a:solidFill>
                  <a:srgbClr val="000000"/>
                </a:solidFill>
                <a:latin typeface="Calibri"/>
              </a:rPr>
              <a:t>yasal açıdan” hukuki açıdan önem arz eden belgeleri ve yasal işlemleri içerir.</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araflar bu suçu, sahtekârlık niyetiyle yapılması şartı getirerek daha da kısıtlayabilir.</a:t>
            </a:r>
            <a:endParaRPr b="0" lang="en-US" sz="2800" spc="-1" strike="noStrike">
              <a:solidFill>
                <a:srgbClr val="000000"/>
              </a:solidFill>
              <a:latin typeface="Calibri"/>
            </a:endParaRPr>
          </a:p>
        </p:txBody>
      </p:sp>
      <p:sp>
        <p:nvSpPr>
          <p:cNvPr id="294" name="Slide Number Placeholder 1"/>
          <p:cNvSpPr/>
          <p:nvPr/>
        </p:nvSpPr>
        <p:spPr>
          <a:xfrm>
            <a:off x="653256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CF3FF82-37E8-4593-A352-CE33FF971E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tr-TR" sz="3200" spc="-1" strike="noStrike">
                <a:solidFill>
                  <a:srgbClr val="000000"/>
                </a:solidFill>
                <a:latin typeface="Calibri"/>
                <a:ea typeface="ＭＳ Ｐゴシック"/>
              </a:rPr>
              <a:t>Yasadışı Erişim</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ＭＳ Ｐゴシック"/>
              </a:rPr>
              <a:t>(</a:t>
            </a:r>
            <a:r>
              <a:rPr b="1" i="1" lang="tr-TR" sz="3200" spc="-1" strike="noStrike">
                <a:solidFill>
                  <a:srgbClr val="000000"/>
                </a:solidFill>
                <a:latin typeface="Calibri"/>
                <a:ea typeface="ＭＳ Ｐゴシック"/>
              </a:rPr>
              <a:t>Madde</a:t>
            </a:r>
            <a:r>
              <a:rPr b="1" i="1" lang="en-GB" sz="3200" spc="-1" strike="noStrike">
                <a:solidFill>
                  <a:srgbClr val="000000"/>
                </a:solidFill>
                <a:latin typeface="Calibri"/>
                <a:ea typeface="ＭＳ Ｐゴシック"/>
              </a:rPr>
              <a:t> 2 – </a:t>
            </a:r>
            <a:r>
              <a:rPr b="1" i="1" lang="tr-TR" sz="3200" spc="-1" strike="noStrike">
                <a:solidFill>
                  <a:srgbClr val="000000"/>
                </a:solidFill>
                <a:latin typeface="Calibri"/>
                <a:ea typeface="ＭＳ Ｐゴシック"/>
              </a:rPr>
              <a:t>Budapeşte Sözleşmesi</a:t>
            </a:r>
            <a:r>
              <a:rPr b="1" i="1" lang="en-GB" sz="3200" spc="-1" strike="noStrike">
                <a:solidFill>
                  <a:srgbClr val="000000"/>
                </a:solidFill>
                <a:latin typeface="Calibri"/>
                <a:ea typeface="ＭＳ Ｐゴシック"/>
              </a:rPr>
              <a:t>)</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ea typeface="ＭＳ Ｐゴシック"/>
              </a:rPr>
              <a:t>Bir bilgisayar sisteminin tamam</a:t>
            </a:r>
            <a:r>
              <a:rPr b="0" i="1" lang="tr-TR" sz="3200" spc="-1" strike="noStrike">
                <a:solidFill>
                  <a:srgbClr val="000000"/>
                </a:solidFill>
                <a:latin typeface="Calibri"/>
                <a:ea typeface="ＭＳ Ｐゴシック"/>
              </a:rPr>
              <a:t>ına</a:t>
            </a:r>
            <a:r>
              <a:rPr b="0" i="1" lang="en-GB" sz="3200" spc="-1" strike="noStrike">
                <a:solidFill>
                  <a:srgbClr val="000000"/>
                </a:solidFill>
                <a:latin typeface="Calibri"/>
                <a:ea typeface="ＭＳ Ｐゴシック"/>
              </a:rPr>
              <a:t> veya bir kısmına haksız yere erişim sağlamak</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3200" spc="-1" strike="noStrike">
                <a:solidFill>
                  <a:srgbClr val="000000"/>
                </a:solidFill>
                <a:latin typeface="Calibri"/>
                <a:ea typeface="ＭＳ Ｐゴシック"/>
              </a:rPr>
              <a:t>Kasıtlı olarak</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457200" y="1755720"/>
            <a:ext cx="8229600" cy="315432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Bilgisayarla Bağlantılı Dolandırıcılık</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8 – Budapeşte Sözleşmesi)</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Somut dolandırıcılık suçuna paralel bir dolandırıcılık suçu yaratır. </a:t>
            </a:r>
            <a:endParaRPr b="0" lang="en-US" sz="2800" spc="-1" strike="noStrike">
              <a:solidFill>
                <a:srgbClr val="000000"/>
              </a:solidFill>
              <a:latin typeface="Calibri"/>
            </a:endParaRPr>
          </a:p>
        </p:txBody>
      </p:sp>
      <p:sp>
        <p:nvSpPr>
          <p:cNvPr id="2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C3FD1A-65F3-44B0-B50E-790950BBAE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8 – Bilgisayarla Bağlantılı Dolandırıcılık</a:t>
            </a:r>
            <a:endParaRPr b="0" lang="en-US" sz="4000" spc="-1" strike="noStrike">
              <a:solidFill>
                <a:srgbClr val="000000"/>
              </a:solidFill>
              <a:latin typeface="Calibri"/>
            </a:endParaRPr>
          </a:p>
        </p:txBody>
      </p:sp>
      <p:sp>
        <p:nvSpPr>
          <p:cNvPr id="298" name="PlaceHolder 2"/>
          <p:cNvSpPr>
            <a:spLocks noGrp="1"/>
          </p:cNvSpPr>
          <p:nvPr>
            <p:ph/>
          </p:nvPr>
        </p:nvSpPr>
        <p:spPr>
          <a:xfrm>
            <a:off x="250920" y="1600200"/>
            <a:ext cx="8596080" cy="512136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Taraflardan her biri, aşağıda belirtilenler, kasten ve haksız yere gerçekleştirildiği zaman, bir başka şahsın mal kaybına sebebiyet verdiğinde, bunların kendi iç hukukunda cezai suç olarak tanımlanması için gerekli olabilecek yasama tedbirlerini ve diğer tedbirleri kabul edecektir: </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Şahısların kendilerine veya bir başkasına haksız yere maddi menfaat sağlamak için hile ve sahtekârlık niyetiyle;</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lgisayar sistemlerine veri girişi yapma, verileri değiştirme, silme veya engelleme;</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r bilgisayar sisteminin işleyişine herhangi bir müdahalede bulunma. </a:t>
            </a:r>
            <a:endParaRPr b="0" lang="en-US" sz="2800" spc="-1" strike="noStrike">
              <a:solidFill>
                <a:srgbClr val="000000"/>
              </a:solidFill>
              <a:latin typeface="Calibri"/>
            </a:endParaRPr>
          </a:p>
        </p:txBody>
      </p:sp>
      <p:sp>
        <p:nvSpPr>
          <p:cNvPr id="2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9129A62-5061-4FE2-BC95-55AC6A069C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8 – Bilgisayarla Bağlantılı Dolandırıcılık</a:t>
            </a:r>
            <a:endParaRPr b="0" lang="en-US" sz="4000" spc="-1" strike="noStrike">
              <a:solidFill>
                <a:srgbClr val="000000"/>
              </a:solidFill>
              <a:latin typeface="Calibri"/>
            </a:endParaRPr>
          </a:p>
        </p:txBody>
      </p:sp>
      <p:sp>
        <p:nvSpPr>
          <p:cNvPr id="301" name="PlaceHolder 2"/>
          <p:cNvSpPr>
            <a:spLocks noGrp="1"/>
          </p:cNvSpPr>
          <p:nvPr>
            <p:ph/>
          </p:nvPr>
        </p:nvSpPr>
        <p:spPr>
          <a:xfrm>
            <a:off x="456840" y="1600200"/>
            <a:ext cx="8389800" cy="4525920"/>
          </a:xfrm>
          <a:prstGeom prst="rect">
            <a:avLst/>
          </a:prstGeom>
          <a:noFill/>
          <a:ln w="0">
            <a:noFill/>
          </a:ln>
        </p:spPr>
        <p:txBody>
          <a:bodyPr anchor="t">
            <a:normAutofit fontScale="98000"/>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ea typeface="Times New Roman"/>
              </a:rPr>
              <a:t>Taraflardan her biri, aşağıda belirtilenler, kasten ve haksız yere gerçekleştirildiği zaman, bir başka şahsın mal kaybına sebebiyet verdiğinde, bunların kendi iç hukukunda cezai suç olarak tanımlanması için gerekli olabilecek yasama tedbirlerini ve diğer tedbirleri kabul edecektir: </a:t>
            </a:r>
            <a:endParaRPr b="0" lang="en-US" sz="2600" spc="-1" strike="noStrike">
              <a:solidFill>
                <a:srgbClr val="000000"/>
              </a:solidFill>
              <a:latin typeface="Calibri"/>
            </a:endParaRPr>
          </a:p>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ea typeface="Times New Roman"/>
              </a:rPr>
              <a:t>Şahısların kendilerine veya bir başkasına haksız yere maddi menfaat sağlamak için hile ve sahtekârlık niyetiyle;</a:t>
            </a:r>
            <a:endParaRPr b="0" lang="en-US" sz="26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lgisayar sistemlerine </a:t>
            </a:r>
            <a:r>
              <a:rPr b="1" lang="tr-TR" sz="3200" spc="-1" strike="noStrike">
                <a:solidFill>
                  <a:srgbClr val="ff0000"/>
                </a:solidFill>
                <a:latin typeface="Calibri"/>
                <a:ea typeface="Times New Roman"/>
              </a:rPr>
              <a:t>veri girişi yapma, verileri değiştirme, silme veya engelleme</a:t>
            </a:r>
            <a:r>
              <a:rPr b="0" lang="tr-TR" sz="2800" spc="-1" strike="noStrike">
                <a:solidFill>
                  <a:srgbClr val="000000"/>
                </a:solidFill>
                <a:latin typeface="Calibri"/>
                <a:ea typeface="Times New Roman"/>
              </a:rPr>
              <a:t>;</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r bilgisayar sisteminin </a:t>
            </a:r>
            <a:r>
              <a:rPr b="1" lang="tr-TR" sz="3200" spc="-1" strike="noStrike">
                <a:solidFill>
                  <a:srgbClr val="ff0000"/>
                </a:solidFill>
                <a:latin typeface="Calibri"/>
                <a:ea typeface="Times New Roman"/>
              </a:rPr>
              <a:t>işleyişine herhangi bir müdahalede bulunma</a:t>
            </a:r>
            <a:r>
              <a:rPr b="0" lang="tr-TR" sz="2800" spc="-1" strike="noStrike">
                <a:solidFill>
                  <a:srgbClr val="000000"/>
                </a:solidFill>
                <a:latin typeface="Calibri"/>
                <a:ea typeface="Times New Roman"/>
              </a:rPr>
              <a:t>. </a:t>
            </a:r>
            <a:endParaRPr b="0" lang="en-US" sz="28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8E2BE0B-4539-461E-AE33-B7AEF24F89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eri girme, verileri değiştirme, silme, engelleme ve </a:t>
            </a:r>
            <a:br>
              <a:rPr sz="4400"/>
            </a:br>
            <a:r>
              <a:rPr b="1" lang="en-GB" sz="4400" spc="-1" strike="noStrike">
                <a:solidFill>
                  <a:srgbClr val="000000"/>
                </a:solidFill>
                <a:latin typeface="Calibri"/>
              </a:rPr>
              <a:t>verilere müdahale</a:t>
            </a:r>
            <a:endParaRPr b="0" lang="en-US" sz="4400" spc="-1" strike="noStrike">
              <a:solidFill>
                <a:srgbClr val="000000"/>
              </a:solidFill>
              <a:latin typeface="Calibri"/>
            </a:endParaRPr>
          </a:p>
        </p:txBody>
      </p:sp>
      <p:sp>
        <p:nvSpPr>
          <p:cNvPr id="304" name=""/>
          <p:cNvSpPr txBox="1"/>
          <p:nvPr/>
        </p:nvSpPr>
        <p:spPr>
          <a:xfrm>
            <a:off x="457200" y="2120400"/>
            <a:ext cx="8229600" cy="4526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Şu yöntemlerle başka bir şahsın mal kaybına yol açmak: </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oğru veya yanlış veriler </a:t>
            </a:r>
            <a:r>
              <a:rPr b="1" lang="en-GB" sz="2800" spc="-1" strike="noStrike">
                <a:solidFill>
                  <a:srgbClr val="000000"/>
                </a:solidFill>
                <a:latin typeface="Calibri"/>
              </a:rPr>
              <a:t>girilmesi</a:t>
            </a:r>
            <a:r>
              <a:rPr b="0" lang="en-GB"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onradan </a:t>
            </a:r>
            <a:r>
              <a:rPr b="1" lang="en-GB" sz="2800" spc="-1" strike="noStrike">
                <a:solidFill>
                  <a:srgbClr val="000000"/>
                </a:solidFill>
                <a:latin typeface="Calibri"/>
              </a:rPr>
              <a:t>değiştirme </a:t>
            </a:r>
            <a:r>
              <a:rPr b="0" lang="en-GB" sz="2800" spc="-1" strike="noStrike">
                <a:solidFill>
                  <a:srgbClr val="000000"/>
                </a:solidFill>
                <a:latin typeface="Calibri"/>
              </a:rPr>
              <a:t>(tadilat, farklılaştırma, kısmi değişiklikler);</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Silme </a:t>
            </a:r>
            <a:r>
              <a:rPr b="0" lang="en-GB" sz="2800" spc="-1" strike="noStrike">
                <a:solidFill>
                  <a:srgbClr val="000000"/>
                </a:solidFill>
                <a:latin typeface="Calibri"/>
              </a:rPr>
              <a:t>(bir veri ortamından verilerin kaldırılması);</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Engelleme </a:t>
            </a:r>
            <a:r>
              <a:rPr b="0" lang="en-GB" sz="2800" spc="-1" strike="noStrike">
                <a:solidFill>
                  <a:srgbClr val="000000"/>
                </a:solidFill>
                <a:latin typeface="Calibri"/>
              </a:rPr>
              <a:t>(verilerin alıkonulması, gizlenmesi)</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Müdahale </a:t>
            </a:r>
            <a:r>
              <a:rPr b="0" lang="en-GB" sz="2800" spc="-1" strike="noStrike">
                <a:solidFill>
                  <a:srgbClr val="000000"/>
                </a:solidFill>
                <a:latin typeface="Calibri"/>
              </a:rPr>
              <a:t>(bilgisayar sisteminin işleyişine)</a:t>
            </a:r>
            <a:endParaRPr b="0" lang="en-US" sz="2800" spc="-1" strike="noStrike">
              <a:solidFill>
                <a:srgbClr val="000000"/>
              </a:solidFill>
              <a:latin typeface="Calibri"/>
            </a:endParaRPr>
          </a:p>
        </p:txBody>
      </p:sp>
      <p:sp>
        <p:nvSpPr>
          <p:cNvPr id="3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C035273-F3A4-41C3-A3B4-00BD615D7D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8 – Bilgisayarla Bağlantılı Dolandırıcılık</a:t>
            </a:r>
            <a:endParaRPr b="0" lang="en-US" sz="4000" spc="-1" strike="noStrike">
              <a:solidFill>
                <a:srgbClr val="000000"/>
              </a:solidFill>
              <a:latin typeface="Calibri"/>
            </a:endParaRPr>
          </a:p>
        </p:txBody>
      </p:sp>
      <p:sp>
        <p:nvSpPr>
          <p:cNvPr id="307" name="PlaceHolder 2"/>
          <p:cNvSpPr>
            <a:spLocks noGrp="1"/>
          </p:cNvSpPr>
          <p:nvPr>
            <p:ph/>
          </p:nvPr>
        </p:nvSpPr>
        <p:spPr>
          <a:xfrm>
            <a:off x="456840" y="1600200"/>
            <a:ext cx="8412120" cy="553248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ea typeface="Times New Roman"/>
              </a:rPr>
              <a:t>Taraflardan her biri, aşağıda belirtilenler, kasten ve haksız yere gerçekleştirildiği zaman, bir başka şahsın </a:t>
            </a:r>
            <a:r>
              <a:rPr b="1" lang="tr-TR" sz="3200" spc="-1" strike="noStrike">
                <a:solidFill>
                  <a:srgbClr val="ff0000"/>
                </a:solidFill>
                <a:latin typeface="Calibri"/>
                <a:ea typeface="Times New Roman"/>
              </a:rPr>
              <a:t>mal kaybına </a:t>
            </a:r>
            <a:r>
              <a:rPr b="0" lang="tr-TR" sz="2600" spc="-1" strike="noStrike">
                <a:solidFill>
                  <a:srgbClr val="000000"/>
                </a:solidFill>
                <a:latin typeface="Calibri"/>
                <a:ea typeface="Times New Roman"/>
              </a:rPr>
              <a:t>sebebiyet verdiğinde, bunların kendi iç hukukunda cezai suç olarak tanımlanması için gerekli olabilecek yasama tedbirlerini ve diğer tedbirleri kabul edecektir:</a:t>
            </a:r>
            <a:r>
              <a:rPr b="0" lang="tr-TR" sz="2800" spc="-1" strike="noStrike">
                <a:solidFill>
                  <a:srgbClr val="000000"/>
                </a:solidFill>
                <a:latin typeface="Calibri"/>
                <a:ea typeface="Times New Roman"/>
              </a:rPr>
              <a:t> </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ff0000"/>
                </a:solidFill>
                <a:latin typeface="Calibri"/>
                <a:ea typeface="Times New Roman"/>
              </a:rPr>
              <a:t>Şahısların kendilerine veya bir başkasına haksız yere maddi menfaat sağlamak için hile ve sahtekârlık niyetiyle</a:t>
            </a:r>
            <a:r>
              <a:rPr b="0" lang="tr-TR" sz="2800" spc="-1" strike="noStrike">
                <a:solidFill>
                  <a:srgbClr val="000000"/>
                </a:solidFill>
                <a:latin typeface="Calibri"/>
                <a:ea typeface="Times New Roman"/>
              </a:rPr>
              <a:t>;</a:t>
            </a:r>
            <a:endParaRPr b="0" lang="en-US" sz="2800" spc="-1" strike="noStrike">
              <a:solidFill>
                <a:srgbClr val="000000"/>
              </a:solidFill>
              <a:latin typeface="Calibri"/>
            </a:endParaRPr>
          </a:p>
          <a:p>
            <a:pPr algn="just">
              <a:lnSpc>
                <a:spcPct val="90000"/>
              </a:lnSpc>
              <a:spcBef>
                <a:spcPts val="64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ea typeface="Times New Roman"/>
              </a:rPr>
              <a:t>bilgisayar sistemlerine veri girişi yapma, verileri değiştirme, silme veya engelleme;</a:t>
            </a:r>
            <a:endParaRPr b="0" lang="en-US" sz="26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ea typeface="Times New Roman"/>
              </a:rPr>
              <a:t>bir bilgisayar sisteminin işleyişine herhangi bir müdahalede bulunma</a:t>
            </a:r>
            <a:r>
              <a:rPr b="0" lang="tr-TR" sz="2800" spc="-1" strike="noStrike">
                <a:solidFill>
                  <a:srgbClr val="000000"/>
                </a:solidFill>
                <a:latin typeface="Calibri"/>
                <a:ea typeface="Times New Roman"/>
              </a:rPr>
              <a:t>. </a:t>
            </a:r>
            <a:endParaRPr b="0" lang="en-US" sz="2800" spc="-1" strike="noStrike">
              <a:solidFill>
                <a:srgbClr val="000000"/>
              </a:solidFill>
              <a:latin typeface="Calibri"/>
            </a:endParaRPr>
          </a:p>
        </p:txBody>
      </p:sp>
      <p:sp>
        <p:nvSpPr>
          <p:cNvPr id="3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7EC0352-0483-47B3-ABCD-6B6E756F1B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5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al kaybı</a:t>
            </a:r>
            <a:endParaRPr b="0" lang="en-US" sz="4400" spc="-1" strike="noStrike">
              <a:solidFill>
                <a:srgbClr val="000000"/>
              </a:solidFill>
              <a:latin typeface="Calibri"/>
            </a:endParaRPr>
          </a:p>
        </p:txBody>
      </p:sp>
      <p:sp>
        <p:nvSpPr>
          <p:cNvPr id="310" name=""/>
          <p:cNvSpPr txBox="1"/>
          <p:nvPr/>
        </p:nvSpPr>
        <p:spPr>
          <a:xfrm>
            <a:off x="457200" y="1420920"/>
            <a:ext cx="8229600" cy="4525920"/>
          </a:xfrm>
          <a:prstGeom prst="rect">
            <a:avLst/>
          </a:prstGeom>
          <a:noFill/>
          <a:ln w="0">
            <a:noFill/>
          </a:ln>
        </p:spPr>
        <p:txBody>
          <a:bodyPr anchor="t">
            <a:normAutofit fontScale="90000"/>
          </a:bodyPr>
          <a:p>
            <a:pPr marL="308520" indent="-30852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iil başka bir kişinin malvarlığında doğrudan ekonomik veya zilyetliğe dair bir kayba yol açmalıdır.</a:t>
            </a:r>
            <a:endParaRPr b="0" lang="en-US" sz="3000" spc="-1" strike="noStrike">
              <a:solidFill>
                <a:srgbClr val="000000"/>
              </a:solidFill>
              <a:latin typeface="Calibri"/>
            </a:endParaRPr>
          </a:p>
          <a:p>
            <a:pPr marL="308520" indent="-30852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una şu kayıplar dahildir: </a:t>
            </a:r>
            <a:endParaRPr b="0" lang="en-US" sz="3000" spc="-1" strike="noStrike">
              <a:solidFill>
                <a:srgbClr val="000000"/>
              </a:solidFill>
              <a:latin typeface="Calibri"/>
            </a:endParaRPr>
          </a:p>
          <a:p>
            <a:pPr lvl="1" marL="668520" indent="-2570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a</a:t>
            </a:r>
            <a:endParaRPr b="0" lang="en-US" sz="2800" spc="-1" strike="noStrike">
              <a:solidFill>
                <a:srgbClr val="000000"/>
              </a:solidFill>
              <a:latin typeface="Calibri"/>
            </a:endParaRPr>
          </a:p>
          <a:p>
            <a:pPr lvl="1" marL="668520" indent="-2570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ddi aktifler</a:t>
            </a:r>
            <a:endParaRPr b="0" lang="en-US" sz="2800" spc="-1" strike="noStrike">
              <a:solidFill>
                <a:srgbClr val="000000"/>
              </a:solidFill>
              <a:latin typeface="Calibri"/>
            </a:endParaRPr>
          </a:p>
          <a:p>
            <a:pPr lvl="1" marL="668520" indent="-2570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konomik değeri olan ancak maddi olmayan aktifler</a:t>
            </a:r>
            <a:endParaRPr b="0" lang="en-US" sz="2800" spc="-1" strike="noStrike">
              <a:solidFill>
                <a:srgbClr val="000000"/>
              </a:solidFill>
              <a:latin typeface="Calibri"/>
            </a:endParaRPr>
          </a:p>
          <a:p>
            <a:pPr marL="308520" indent="-30852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yrıca, fiil fail tarafından kendisi veya başka bir kişi için haksız kazanç elde etme niyetiyle gerçekleştirilmelidir. </a:t>
            </a:r>
            <a:endParaRPr b="0" lang="en-US" sz="3000" spc="-1" strike="noStrike">
              <a:solidFill>
                <a:srgbClr val="000000"/>
              </a:solidFill>
              <a:latin typeface="Calibri"/>
            </a:endParaRPr>
          </a:p>
        </p:txBody>
      </p:sp>
      <p:sp>
        <p:nvSpPr>
          <p:cNvPr id="3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2108C81-BB62-44DD-BFFB-5EAD9AE4EE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İçerikle Bağlantılı Suçlar</a:t>
            </a:r>
            <a:endParaRPr b="0" lang="en-US" sz="3200" spc="-1" strike="noStrike">
              <a:solidFill>
                <a:srgbClr val="000000"/>
              </a:solidFill>
              <a:latin typeface="Calibri"/>
            </a:endParaRPr>
          </a:p>
        </p:txBody>
      </p:sp>
      <p:sp>
        <p:nvSpPr>
          <p:cNvPr id="3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DE4632-2607-42B1-A5B8-406A9FF984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42800" y="463320"/>
            <a:ext cx="8367840" cy="3066840"/>
          </a:xfrm>
          <a:prstGeom prst="rect">
            <a:avLst/>
          </a:prstGeom>
          <a:noFill/>
          <a:ln w="38160">
            <a:solidFill>
              <a:srgbClr val="ff0000"/>
            </a:solidFill>
            <a:miter/>
          </a:ln>
        </p:spPr>
        <p:txBody>
          <a:bodyPr anchor="t">
            <a:normAutofit fontScale="53000"/>
          </a:bodyPr>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Çocuk Pornografisi</a:t>
            </a: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9 – Budapeşte Sözleşmesi)</a:t>
            </a:r>
            <a:endParaRPr b="0" lang="en-US" sz="3200" spc="-1" strike="noStrike">
              <a:solidFill>
                <a:srgbClr val="000000"/>
              </a:solidFill>
              <a:latin typeface="Calibri"/>
            </a:endParaRPr>
          </a:p>
          <a:p>
            <a:pPr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Büyük yenilik</a:t>
            </a:r>
            <a:endParaRPr b="0" lang="en-US" sz="28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Bir bilgisayar sistemi aracılığıyla işlenen çocuk pornografisi fiillerinin suç sayılması</a:t>
            </a:r>
            <a:endParaRPr b="0" lang="en-US" sz="2800" spc="-1" strike="noStrike">
              <a:solidFill>
                <a:srgbClr val="000000"/>
              </a:solidFill>
              <a:latin typeface="Calibri"/>
            </a:endParaRPr>
          </a:p>
          <a:p>
            <a:pPr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Önemli hususlar: </a:t>
            </a:r>
            <a:endParaRPr b="0" lang="en-US" sz="28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a:t>
            </a:r>
            <a:r>
              <a:rPr b="0" i="1" lang="en-GB" sz="2400" spc="-1" strike="noStrike">
                <a:solidFill>
                  <a:srgbClr val="000000"/>
                </a:solidFill>
                <a:latin typeface="Calibri"/>
              </a:rPr>
              <a:t>Psödo imgelerin” suç sayılması;</a:t>
            </a:r>
            <a:endParaRPr b="0" lang="en-US" sz="24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Çocuk pornografisi materyallerinin sadece bulundurulmasının dahi cezalandırılması</a:t>
            </a:r>
            <a:endParaRPr b="0" lang="en-US" sz="24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Birçok ülke mevzuatında bulunmuyor</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Uluslararası arenada (örn. BM) çok yaygın bir yaklaşım</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Avrupa Birliği</a:t>
            </a:r>
            <a:endParaRPr b="0" lang="en-US" sz="20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Çocuk pornografisi materyallerinin sadece bulundurulmasını dahi suç sayıyor</a:t>
            </a:r>
            <a:endParaRPr b="0" lang="en-US" sz="16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Avrupa Parlamentosu ve Konseyi, 2011/92/EU sayılı Direktif</a:t>
            </a:r>
            <a:endParaRPr b="0" lang="en-US" sz="1600" spc="-1" strike="noStrike">
              <a:solidFill>
                <a:srgbClr val="000000"/>
              </a:solidFill>
              <a:latin typeface="Calibri"/>
            </a:endParaRPr>
          </a:p>
        </p:txBody>
      </p:sp>
      <p:sp>
        <p:nvSpPr>
          <p:cNvPr id="3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2D4D6B-5253-409A-A981-DA306637E1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17" name="PlaceHolder 2"/>
          <p:cNvSpPr>
            <a:spLocks noGrp="1"/>
          </p:cNvSpPr>
          <p:nvPr>
            <p:ph/>
          </p:nvPr>
        </p:nvSpPr>
        <p:spPr>
          <a:xfrm>
            <a:off x="457200" y="1642680"/>
            <a:ext cx="8229600" cy="4894200"/>
          </a:xfrm>
          <a:prstGeom prst="rect">
            <a:avLst/>
          </a:prstGeom>
          <a:noFill/>
          <a:ln w="0">
            <a:noFill/>
          </a:ln>
        </p:spPr>
        <p:txBody>
          <a:bodyPr anchor="t">
            <a:normAutofit fontScale="99000"/>
          </a:bodyPr>
          <a:p>
            <a:pPr marL="452520" indent="-45252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Taraflardan her biri, aşağıda belirtilenler, kasten ve haksız yere gerçekleştirildiği zaman, bunların kendi iç hukukunda cezai suç olarak tanımlanması için gerekli olabilecek yasama tedbirlerini ve diğer tedbirleri kabul edecektir:</a:t>
            </a:r>
            <a:endParaRPr b="0" lang="en-US" sz="2400" spc="-1" strike="noStrike">
              <a:solidFill>
                <a:srgbClr val="000000"/>
              </a:solidFill>
              <a:latin typeface="Calibri"/>
            </a:endParaRPr>
          </a:p>
          <a:p>
            <a:pPr lvl="1" marL="848520" indent="-4525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ea typeface="Times New Roman"/>
              </a:rPr>
              <a:t>bir bilgisayar sistemi üzerinden dağıtımını yapmak amacıyla çocuk pornografisi üretmek;</a:t>
            </a:r>
            <a:endParaRPr b="0" lang="en-US" sz="2000" spc="-1" strike="noStrike">
              <a:solidFill>
                <a:srgbClr val="000000"/>
              </a:solidFill>
              <a:latin typeface="Calibri"/>
            </a:endParaRPr>
          </a:p>
          <a:p>
            <a:pPr lvl="1" marL="848520" indent="-4525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ea typeface="Times New Roman"/>
              </a:rPr>
              <a:t>bir bilgisayar sistemi üzerinden çocuk pornografisini sunmak veya erişilebilir hale getirmek;</a:t>
            </a:r>
            <a:endParaRPr b="0" lang="en-US" sz="2000" spc="-1" strike="noStrike">
              <a:solidFill>
                <a:srgbClr val="000000"/>
              </a:solidFill>
              <a:latin typeface="Calibri"/>
            </a:endParaRPr>
          </a:p>
          <a:p>
            <a:pPr lvl="1" marL="848520" indent="-4525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ea typeface="Times New Roman"/>
              </a:rPr>
              <a:t>bir bilgisayar sistemi üzerinden çocuk pornografisinin dağıtım veya iletimini yapmak;</a:t>
            </a:r>
            <a:endParaRPr b="0" lang="en-US" sz="2000" spc="-1" strike="noStrike">
              <a:solidFill>
                <a:srgbClr val="000000"/>
              </a:solidFill>
              <a:latin typeface="Calibri"/>
            </a:endParaRPr>
          </a:p>
          <a:p>
            <a:pPr lvl="1" marL="848520" indent="-4525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ea typeface="Times New Roman"/>
              </a:rPr>
              <a:t>kendisi veya başkası için bir bilgisayar sistemi üzerinden çocuk pornografisi temin etmek;</a:t>
            </a:r>
            <a:endParaRPr b="0" lang="en-US" sz="2000" spc="-1" strike="noStrike">
              <a:solidFill>
                <a:srgbClr val="000000"/>
              </a:solidFill>
              <a:latin typeface="Calibri"/>
            </a:endParaRPr>
          </a:p>
          <a:p>
            <a:pPr lvl="1" marL="848520" indent="-4525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ea typeface="Times New Roman"/>
              </a:rPr>
              <a:t>bir bilgisayar sisteminde veya bilgisayar verileri depolama aygıtında çocuk pornografisi bulundurmak.</a:t>
            </a:r>
            <a:endParaRPr b="0" lang="en-US" sz="2000" spc="-1" strike="noStrike">
              <a:solidFill>
                <a:srgbClr val="000000"/>
              </a:solidFill>
              <a:latin typeface="Calibri"/>
            </a:endParaRPr>
          </a:p>
        </p:txBody>
      </p:sp>
      <p:sp>
        <p:nvSpPr>
          <p:cNvPr id="3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8E7379-0236-4041-A1A1-D3CB6CDBFD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6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20" name="PlaceHolder 2"/>
          <p:cNvSpPr>
            <a:spLocks noGrp="1"/>
          </p:cNvSpPr>
          <p:nvPr>
            <p:ph/>
          </p:nvPr>
        </p:nvSpPr>
        <p:spPr>
          <a:xfrm>
            <a:off x="457200" y="1262160"/>
            <a:ext cx="8229600" cy="5410080"/>
          </a:xfrm>
          <a:prstGeom prst="rect">
            <a:avLst/>
          </a:prstGeom>
          <a:noFill/>
          <a:ln w="0">
            <a:noFill/>
          </a:ln>
        </p:spPr>
        <p:txBody>
          <a:bodyPr anchor="t">
            <a:normAutofit fontScale="96000"/>
          </a:bodyPr>
          <a:p>
            <a:pPr marL="438840" indent="-43884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1. fıkrada belirtilen “çocuk pornografisi” terimi aşağıda belirtilenleri görsel anlamda tasvir eden pornografik malzemeleri içerecektir:</a:t>
            </a:r>
            <a:endParaRPr b="0" lang="en-US" sz="2400" spc="-1" strike="noStrike">
              <a:solidFill>
                <a:srgbClr val="000000"/>
              </a:solidFill>
              <a:latin typeface="Calibri"/>
            </a:endParaRPr>
          </a:p>
          <a:p>
            <a:pPr lvl="1" marL="822600" indent="-4388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a:t>
            </a:r>
            <a:endParaRPr b="0" lang="en-US" sz="2000" spc="-1" strike="noStrike">
              <a:solidFill>
                <a:srgbClr val="000000"/>
              </a:solidFill>
              <a:latin typeface="Calibri"/>
            </a:endParaRPr>
          </a:p>
          <a:p>
            <a:pPr lvl="1" marL="822600" indent="-4388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ıs görüntüsüne haiz şahsın cinsel içerikli eylemlerde bulunması;</a:t>
            </a:r>
            <a:endParaRPr b="0" lang="en-US" sz="2000" spc="-1" strike="noStrike">
              <a:solidFill>
                <a:srgbClr val="000000"/>
              </a:solidFill>
              <a:latin typeface="Calibri"/>
            </a:endParaRPr>
          </a:p>
          <a:p>
            <a:pPr lvl="1" marL="822600" indent="-4388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nı betimleyen gerçekçi görüntüler;</a:t>
            </a:r>
            <a:endParaRPr b="0" lang="en-US" sz="2000" spc="-1" strike="noStrike">
              <a:solidFill>
                <a:srgbClr val="000000"/>
              </a:solidFill>
              <a:latin typeface="Calibri"/>
            </a:endParaRPr>
          </a:p>
          <a:p>
            <a:pPr marL="438840" indent="-4388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2. fıkrada belirtilen “reşit olmayan” terimi 18 yaşında altındaki tüm şahısları kapsar. Bununla birlikte, Taraflar 16’dan küçük olmamak kaydıyla, daha düşük bir yaş sınırı getirebilir. </a:t>
            </a:r>
            <a:endParaRPr b="0" lang="en-US" sz="2400" spc="-1" strike="noStrike">
              <a:solidFill>
                <a:srgbClr val="000000"/>
              </a:solidFill>
              <a:latin typeface="Calibri"/>
            </a:endParaRPr>
          </a:p>
          <a:p>
            <a:pPr marL="438840" indent="-4388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1. fıkranın (d) ve (e) bentleri ile 2. fıkranın (b) ve (c) bentlerinin tamamını veya bir kısmını uygulamaya koymama hakkını saklı tutabilirler. </a:t>
            </a:r>
            <a:endParaRPr b="0" lang="en-US" sz="2400" spc="-1" strike="noStrike">
              <a:solidFill>
                <a:srgbClr val="000000"/>
              </a:solidFill>
              <a:latin typeface="Calibri"/>
            </a:endParaRPr>
          </a:p>
        </p:txBody>
      </p:sp>
      <p:sp>
        <p:nvSpPr>
          <p:cNvPr id="3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A0F3C9-23CA-4689-B57F-2A70C675E6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a:t>
            </a:r>
            <a:r>
              <a:rPr b="0" lang="tr-TR" sz="4400" spc="-1" strike="noStrike">
                <a:solidFill>
                  <a:srgbClr val="000000"/>
                </a:solidFill>
                <a:latin typeface="Calibri"/>
              </a:rPr>
              <a:t> – </a:t>
            </a:r>
            <a:r>
              <a:rPr b="1" lang="tr-TR" sz="4400" spc="-1" strike="noStrike">
                <a:solidFill>
                  <a:srgbClr val="000000"/>
                </a:solidFill>
                <a:latin typeface="Calibri"/>
              </a:rPr>
              <a:t>Yasadışı Erişim</a:t>
            </a:r>
            <a:endParaRPr b="0" lang="en-US" sz="4400" spc="-1" strike="noStrike">
              <a:solidFill>
                <a:srgbClr val="000000"/>
              </a:solidFill>
              <a:latin typeface="Calibri"/>
            </a:endParaRPr>
          </a:p>
        </p:txBody>
      </p:sp>
      <p:sp>
        <p:nvSpPr>
          <p:cNvPr id="77" name="PlaceHolder 2"/>
          <p:cNvSpPr>
            <a:spLocks noGrp="1"/>
          </p:cNvSpPr>
          <p:nvPr>
            <p:ph/>
          </p:nvPr>
        </p:nvSpPr>
        <p:spPr>
          <a:xfrm>
            <a:off x="457200" y="1810800"/>
            <a:ext cx="8229600" cy="391500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r bilgisayar sisteminin tamamına veya bir kısmına haksız yere gerçekleştirilen erişimi, kasten yapıldığı zaman, kendi iç hukuku kapsamında cezai bir suç olarak tanımlanması için gerekli olabilecek yasama tedbirlerini ve diğer tedbirleri kabul edecektir. Taraflardan biri, söz konusu suçun, bilgisayar verilerini elde etmek veya başka bir sahtekâr niyetle veya bir bilgisayar sistemine bağlı başka bir bilgisayar sistemiyle ilişkili olarak güvenlik tedbirlerinin ihlal edilmesi suretiyle işlenmiş olmasını şart koşabilir. </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555DF6-26D7-4C2E-9A8F-0F2DF248C4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A92AA0E-8F37-4EEC-A557-45A689BE51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4" name=""/>
          <p:cNvSpPr txBox="1"/>
          <p:nvPr/>
        </p:nvSpPr>
        <p:spPr>
          <a:xfrm>
            <a:off x="457200" y="1600200"/>
            <a:ext cx="8229600" cy="4525920"/>
          </a:xfrm>
          <a:prstGeom prst="rect">
            <a:avLst/>
          </a:prstGeom>
          <a:noFill/>
          <a:ln w="0">
            <a:noFill/>
          </a:ln>
        </p:spPr>
        <p:txBody>
          <a:bodyPr anchor="t">
            <a:normAutofit fontScale="89000"/>
          </a:bodyPr>
          <a:p>
            <a:pPr marL="406800" indent="-40680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aşağıda belirtilenler, kasten ve </a:t>
            </a:r>
            <a:r>
              <a:rPr b="1" lang="tr-TR" sz="3200" spc="-1" strike="noStrike">
                <a:solidFill>
                  <a:srgbClr val="ff0000"/>
                </a:solidFill>
                <a:latin typeface="Calibri"/>
              </a:rPr>
              <a:t>haksız yere </a:t>
            </a:r>
            <a:r>
              <a:rPr b="0" lang="tr-TR" sz="2400" spc="-1" strike="noStrike">
                <a:solidFill>
                  <a:srgbClr val="000000"/>
                </a:solidFill>
                <a:latin typeface="Calibri"/>
              </a:rPr>
              <a:t>gerçekleştirildiği zaman, bunların kendi iç hukukunda cezai suç olarak tanımlanması için gerekli olabilecek yasama tedbirlerini ve diğer tedbirleri kabul edecektir:</a:t>
            </a:r>
            <a:endParaRPr b="0" lang="en-US" sz="24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dağıtımını yapmak amacıyla çocuk pornografisi üretmek;</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 sunmak veya erişilebilir hale getirmek;</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n dağıtım veya iletimini yapmak;</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kendisi veya başkası için bir bilgisayar sistemi üzerinden çocuk pornografisi temin etmek;</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nde veya bilgisayar verileri depolama aygıtında çocuk pornografisi bulundurmak.</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326" name=""/>
          <p:cNvSpPr txBox="1"/>
          <p:nvPr/>
        </p:nvSpPr>
        <p:spPr>
          <a:xfrm>
            <a:off x="457200" y="1657440"/>
            <a:ext cx="8229600" cy="4525920"/>
          </a:xfrm>
          <a:prstGeom prst="rect">
            <a:avLst/>
          </a:prstGeom>
          <a:noFill/>
          <a:ln w="0">
            <a:noFill/>
          </a:ln>
        </p:spPr>
        <p:txBody>
          <a:bodyPr anchor="t">
            <a:normAutofit fontScale="99000"/>
          </a:bodyPr>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arafların aşağıdakileri içeren temel hakları dikkate almasına imkân tanır: </a:t>
            </a:r>
            <a:endParaRPr b="0" lang="en-US" sz="3000" spc="-1" strike="noStrike">
              <a:solidFill>
                <a:srgbClr val="000000"/>
              </a:solidFill>
              <a:latin typeface="Calibri"/>
            </a:endParaRPr>
          </a:p>
          <a:p>
            <a:pPr lvl="1" marL="735480" indent="-2829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fade özgürlüğü</a:t>
            </a:r>
            <a:endParaRPr b="0" lang="en-US" sz="2600" spc="-1" strike="noStrike">
              <a:solidFill>
                <a:srgbClr val="000000"/>
              </a:solidFill>
              <a:latin typeface="Calibri"/>
            </a:endParaRPr>
          </a:p>
          <a:p>
            <a:pPr lvl="1" marL="735480" indent="-2829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üşünce özgürlüğü</a:t>
            </a:r>
            <a:endParaRPr b="0" lang="en-US" sz="2600" spc="-1" strike="noStrike">
              <a:solidFill>
                <a:srgbClr val="000000"/>
              </a:solidFill>
              <a:latin typeface="Calibri"/>
            </a:endParaRPr>
          </a:p>
          <a:p>
            <a:pPr lvl="1" marL="735480" indent="-2829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Özel hayatın gizliliği</a:t>
            </a:r>
            <a:endParaRPr b="0" lang="en-US" sz="2600" spc="-1" strike="noStrike">
              <a:solidFill>
                <a:srgbClr val="000000"/>
              </a:solidFill>
              <a:latin typeface="Calibri"/>
            </a:endParaRPr>
          </a:p>
          <a:p>
            <a:pPr marL="339480" indent="-339480" algn="just">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araflar “pornografik materyalle” bağlantılı fiilin sanatsal, tıbbi, bilimsel veya benzeri bir esasa dayandığı yönünde savunma yapılmasına izin verebilir. </a:t>
            </a:r>
            <a:endParaRPr b="0" lang="en-US" sz="3000" spc="-1" strike="noStrike">
              <a:solidFill>
                <a:srgbClr val="000000"/>
              </a:solidFill>
              <a:latin typeface="Calibri"/>
            </a:endParaRPr>
          </a:p>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CFEF547-B26E-43B1-83E4-90E4882F5F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B701DCB-41A3-4133-BE51-D9FF89E2B8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0" name=""/>
          <p:cNvSpPr txBox="1"/>
          <p:nvPr/>
        </p:nvSpPr>
        <p:spPr>
          <a:xfrm>
            <a:off x="457200" y="1600200"/>
            <a:ext cx="8229600" cy="4525920"/>
          </a:xfrm>
          <a:prstGeom prst="rect">
            <a:avLst/>
          </a:prstGeom>
          <a:noFill/>
          <a:ln w="0">
            <a:noFill/>
          </a:ln>
        </p:spPr>
        <p:txBody>
          <a:bodyPr anchor="t">
            <a:normAutofit fontScale="88000"/>
          </a:bodyPr>
          <a:p>
            <a:pPr marL="402120" indent="-40212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aşağıda belirtilenler, kasten ve haksız yere gerçekleştirildiği zaman, bunların kendi iç hukukunda cezai suç olarak tanımlanması için gerekli olabilecek yasama tedbirlerini ve diğer tedbirleri kabul edecektir:</a:t>
            </a:r>
            <a:endParaRPr b="0" lang="en-US" sz="2400" spc="-1" strike="noStrike">
              <a:solidFill>
                <a:srgbClr val="000000"/>
              </a:solidFill>
              <a:latin typeface="Calibri"/>
            </a:endParaRPr>
          </a:p>
          <a:p>
            <a:pPr lvl="1" marL="754200" indent="-4021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dağıtımını yapmak amacıyla çocuk pornografisi </a:t>
            </a:r>
            <a:r>
              <a:rPr b="1" lang="tr-TR" sz="2400" spc="-1" strike="noStrike">
                <a:solidFill>
                  <a:srgbClr val="ff0000"/>
                </a:solidFill>
                <a:latin typeface="Calibri"/>
              </a:rPr>
              <a:t>üretmek</a:t>
            </a:r>
            <a:r>
              <a:rPr b="0" lang="tr-TR" sz="2000" spc="-1" strike="noStrike">
                <a:solidFill>
                  <a:srgbClr val="000000"/>
                </a:solidFill>
                <a:latin typeface="Calibri"/>
              </a:rPr>
              <a:t>;</a:t>
            </a:r>
            <a:endParaRPr b="0" lang="en-US" sz="2000" spc="-1" strike="noStrike">
              <a:solidFill>
                <a:srgbClr val="000000"/>
              </a:solidFill>
              <a:latin typeface="Calibri"/>
            </a:endParaRPr>
          </a:p>
          <a:p>
            <a:pPr lvl="1" marL="754200" indent="-4021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 </a:t>
            </a:r>
            <a:r>
              <a:rPr b="1" lang="tr-TR" sz="2400" spc="-1" strike="noStrike">
                <a:solidFill>
                  <a:srgbClr val="ff0000"/>
                </a:solidFill>
                <a:latin typeface="Calibri"/>
              </a:rPr>
              <a:t>sunmak</a:t>
            </a:r>
            <a:r>
              <a:rPr b="0" lang="tr-TR" sz="2000" spc="-1" strike="noStrike">
                <a:solidFill>
                  <a:srgbClr val="000000"/>
                </a:solidFill>
                <a:latin typeface="Calibri"/>
              </a:rPr>
              <a:t> veya </a:t>
            </a:r>
            <a:r>
              <a:rPr b="1" lang="tr-TR" sz="2400" spc="-1" strike="noStrike">
                <a:solidFill>
                  <a:srgbClr val="ff0000"/>
                </a:solidFill>
                <a:latin typeface="Calibri"/>
              </a:rPr>
              <a:t>erişilebilir hale getirmek</a:t>
            </a:r>
            <a:r>
              <a:rPr b="0" lang="tr-TR" sz="2000" spc="-1" strike="noStrike">
                <a:solidFill>
                  <a:srgbClr val="000000"/>
                </a:solidFill>
                <a:latin typeface="Calibri"/>
              </a:rPr>
              <a:t>;</a:t>
            </a:r>
            <a:endParaRPr b="0" lang="en-US" sz="2000" spc="-1" strike="noStrike">
              <a:solidFill>
                <a:srgbClr val="000000"/>
              </a:solidFill>
              <a:latin typeface="Calibri"/>
            </a:endParaRPr>
          </a:p>
          <a:p>
            <a:pPr lvl="1" marL="754200" indent="-4021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n dağıtım veya iletimini yapmak;</a:t>
            </a:r>
            <a:endParaRPr b="0" lang="en-US" sz="2000" spc="-1" strike="noStrike">
              <a:solidFill>
                <a:srgbClr val="000000"/>
              </a:solidFill>
              <a:latin typeface="Calibri"/>
            </a:endParaRPr>
          </a:p>
          <a:p>
            <a:pPr lvl="1" marL="754200" indent="-4021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kendisi veya başkası için bir bilgisayar sistemi üzerinden çocuk pornografisi temin etmek;</a:t>
            </a:r>
            <a:endParaRPr b="0" lang="en-US" sz="2000" spc="-1" strike="noStrike">
              <a:solidFill>
                <a:srgbClr val="000000"/>
              </a:solidFill>
              <a:latin typeface="Calibri"/>
            </a:endParaRPr>
          </a:p>
          <a:p>
            <a:pPr lvl="1" marL="754200" indent="-4021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nde veya bilgisayar verileri depolama aygıtında çocuk pornografisi bulundurmak.</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Üretmek, sunmak ve erişilebilir hale getirmek</a:t>
            </a:r>
            <a:endParaRPr b="0" lang="en-US" sz="4400" spc="-1" strike="noStrike">
              <a:solidFill>
                <a:srgbClr val="000000"/>
              </a:solidFill>
              <a:latin typeface="Calibri"/>
            </a:endParaRPr>
          </a:p>
        </p:txBody>
      </p:sp>
      <p:sp>
        <p:nvSpPr>
          <p:cNvPr id="332" name=""/>
          <p:cNvSpPr txBox="1"/>
          <p:nvPr/>
        </p:nvSpPr>
        <p:spPr>
          <a:xfrm>
            <a:off x="457200" y="1787400"/>
            <a:ext cx="8229600" cy="4525920"/>
          </a:xfrm>
          <a:prstGeom prst="rect">
            <a:avLst/>
          </a:prstGeom>
          <a:noFill/>
          <a:ln w="0">
            <a:noFill/>
          </a:ln>
        </p:spPr>
        <p:txBody>
          <a:bodyPr anchor="t">
            <a:normAutofit fontScale="96000"/>
          </a:bodyPr>
          <a:p>
            <a:pPr marL="329040" indent="-32904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Çocuk pornografisinin üretiminden bulundurulmasına dek zincirin her bir katılımcısı açısından cezai sonuçlar doğmaktadır.</a:t>
            </a:r>
            <a:endParaRPr b="0" lang="en-US" sz="2700" spc="-1" strike="noStrike">
              <a:solidFill>
                <a:srgbClr val="000000"/>
              </a:solidFill>
              <a:latin typeface="Calibri"/>
            </a:endParaRPr>
          </a:p>
          <a:p>
            <a:pPr marL="329040" indent="-32904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Şunlar suç sayılmaktadır:</a:t>
            </a:r>
            <a:endParaRPr b="0" lang="en-US" sz="27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Çocuk pornografisi üretilmesi (bilgisayar sistemleri üzerinden dağıtılmak amacıyla)</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Çocuk pornografisi sunulması (başkalarının çocuk pornografisi edinmeye sevk edilmesi)</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Çocuk pornografisinin erişilebilir kılınması (çocuk pornografisi web siteleri oluşturulması da dahil olmak üzere, çocuk pornografisinin başkalarının kullanımı için çevrimiçi kılınması)</a:t>
            </a:r>
            <a:endParaRPr b="0" lang="en-US" sz="2400" spc="-1" strike="noStrike">
              <a:solidFill>
                <a:srgbClr val="000000"/>
              </a:solidFill>
              <a:latin typeface="Calibri"/>
            </a:endParaRPr>
          </a:p>
        </p:txBody>
      </p:sp>
      <p:sp>
        <p:nvSpPr>
          <p:cNvPr id="3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97E27D0-3B01-4361-B0B5-99752668AF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109DB2A-0265-4D47-8410-5AEBE359CF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6" name=""/>
          <p:cNvSpPr txBox="1"/>
          <p:nvPr/>
        </p:nvSpPr>
        <p:spPr>
          <a:xfrm>
            <a:off x="457200" y="1515960"/>
            <a:ext cx="8229600" cy="4525920"/>
          </a:xfrm>
          <a:prstGeom prst="rect">
            <a:avLst/>
          </a:prstGeom>
          <a:noFill/>
          <a:ln w="0">
            <a:noFill/>
          </a:ln>
        </p:spPr>
        <p:txBody>
          <a:bodyPr anchor="t">
            <a:normAutofit fontScale="87000"/>
          </a:bodyPr>
          <a:p>
            <a:pPr marL="397440" indent="-39744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aşağıda belirtilenler, kasten ve haksız yere gerçekleştirildiği zaman, bunların kendi iç hukukunda cezai suç olarak tanımlanması için gerekli olabilecek yasama tedbirlerini ve diğer tedbirleri kabul edecektir:</a:t>
            </a:r>
            <a:endParaRPr b="0" lang="en-US" sz="24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dağıtımını yapmak amacıyla çocuk pornografisi üretmek;</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 sunmak veya erişilebilir hale getirmek;</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n </a:t>
            </a:r>
            <a:r>
              <a:rPr b="1" lang="tr-TR" sz="2400" spc="-1" strike="noStrike">
                <a:solidFill>
                  <a:srgbClr val="ff0000"/>
                </a:solidFill>
                <a:latin typeface="Calibri"/>
              </a:rPr>
              <a:t>dağıtım</a:t>
            </a:r>
            <a:r>
              <a:rPr b="0" lang="tr-TR" sz="2000" spc="-1" strike="noStrike">
                <a:solidFill>
                  <a:srgbClr val="000000"/>
                </a:solidFill>
                <a:latin typeface="Calibri"/>
              </a:rPr>
              <a:t> veya </a:t>
            </a:r>
            <a:r>
              <a:rPr b="1" lang="tr-TR" sz="2400" spc="-1" strike="noStrike">
                <a:solidFill>
                  <a:srgbClr val="ff0000"/>
                </a:solidFill>
                <a:latin typeface="Calibri"/>
              </a:rPr>
              <a:t>iletimini yapmak</a:t>
            </a:r>
            <a:r>
              <a:rPr b="0" lang="tr-TR" sz="2000" spc="-1" strike="noStrike">
                <a:solidFill>
                  <a:srgbClr val="000000"/>
                </a:solidFill>
                <a:latin typeface="Calibri"/>
              </a:rPr>
              <a:t>;</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kendisi veya başkası için bir bilgisayar sistemi üzerinden çocuk pornografisi </a:t>
            </a:r>
            <a:r>
              <a:rPr b="1" lang="tr-TR" sz="2400" spc="-1" strike="noStrike">
                <a:solidFill>
                  <a:srgbClr val="ff0000"/>
                </a:solidFill>
                <a:latin typeface="Calibri"/>
              </a:rPr>
              <a:t>temin etmek</a:t>
            </a:r>
            <a:r>
              <a:rPr b="0" lang="tr-TR" sz="2000" spc="-1" strike="noStrike">
                <a:solidFill>
                  <a:srgbClr val="000000"/>
                </a:solidFill>
                <a:latin typeface="Calibri"/>
              </a:rPr>
              <a:t>;</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nde veya bilgisayar verileri depolama aygıtında çocuk pornografisi </a:t>
            </a:r>
            <a:r>
              <a:rPr b="1" lang="tr-TR" sz="2400" spc="-1" strike="noStrike">
                <a:solidFill>
                  <a:srgbClr val="ff0000"/>
                </a:solidFill>
                <a:latin typeface="Calibri"/>
              </a:rPr>
              <a:t>bulundurmak</a:t>
            </a:r>
            <a:r>
              <a:rPr b="0" lang="tr-TR"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ağıtmak, iletmek, temin etmek ve bulundurmak</a:t>
            </a:r>
            <a:endParaRPr b="0" lang="en-US" sz="4400" spc="-1" strike="noStrike">
              <a:solidFill>
                <a:srgbClr val="000000"/>
              </a:solidFill>
              <a:latin typeface="Calibri"/>
            </a:endParaRPr>
          </a:p>
        </p:txBody>
      </p:sp>
      <p:sp>
        <p:nvSpPr>
          <p:cNvPr id="338" name=""/>
          <p:cNvSpPr txBox="1"/>
          <p:nvPr/>
        </p:nvSpPr>
        <p:spPr>
          <a:xfrm>
            <a:off x="457200" y="19382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Şunlar suç sayılmaktadır: </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Çocuk pornografisinin dağıtılması (çocuk pornografisinin aktif şekilde yayılması)</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Çocuk pornografisinin iletilmesi (bilgisayar sistemi üzerinden çocuk pornografisi gönderilmesi)</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Kendisi veya başka biri için çocuk pornografisi temini (çocuk pornografisi indirmek de dahil olmak üzere, aktif şekilde çocuk pornografisi elde etmek)</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Çocuk pornografisinin bulundurulması (bilgisayar sisteminde veya veri taşıyıcısında bulundurmak)</a:t>
            </a:r>
            <a:endParaRPr b="0" lang="en-US" sz="2400" spc="-1" strike="noStrike">
              <a:solidFill>
                <a:srgbClr val="000000"/>
              </a:solidFill>
              <a:latin typeface="Calibri"/>
            </a:endParaRPr>
          </a:p>
        </p:txBody>
      </p:sp>
      <p:sp>
        <p:nvSpPr>
          <p:cNvPr id="3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4AA7004-8E23-4BEB-BBC9-A6656239F0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1412338-908C-40AF-8FC2-BC12EBF3B4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2" name=""/>
          <p:cNvSpPr txBox="1"/>
          <p:nvPr/>
        </p:nvSpPr>
        <p:spPr>
          <a:xfrm>
            <a:off x="288720" y="1247760"/>
            <a:ext cx="8600760" cy="4525920"/>
          </a:xfrm>
          <a:prstGeom prst="rect">
            <a:avLst/>
          </a:prstGeom>
          <a:noFill/>
          <a:ln w="0">
            <a:noFill/>
          </a:ln>
        </p:spPr>
        <p:txBody>
          <a:bodyPr anchor="t">
            <a:normAutofit fontScale="89000"/>
          </a:bodyPr>
          <a:p>
            <a:pPr marL="406800" indent="-40680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1. fıkrada belirtilen “çocuk pornografisi” terimi aşağıda belirtilenleri </a:t>
            </a:r>
            <a:r>
              <a:rPr b="1" lang="tr-TR" sz="2800" spc="-1" strike="noStrike">
                <a:solidFill>
                  <a:srgbClr val="ff0000"/>
                </a:solidFill>
                <a:latin typeface="Calibri"/>
              </a:rPr>
              <a:t>görsel anlamda tasvir eden pornografik malzemeleri </a:t>
            </a:r>
            <a:r>
              <a:rPr b="0" lang="tr-TR" sz="2400" spc="-1" strike="noStrike">
                <a:solidFill>
                  <a:srgbClr val="000000"/>
                </a:solidFill>
                <a:latin typeface="Calibri"/>
              </a:rPr>
              <a:t>içerecektir:</a:t>
            </a:r>
            <a:endParaRPr b="0" lang="en-US" sz="24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ıs görüntüsüne haiz şahsın cinsel içerikli eylemlerde bulunması;</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nı betimleyen gerçekçi görüntüler;</a:t>
            </a:r>
            <a:endParaRPr b="0" lang="en-US" sz="2000" spc="-1" strike="noStrike">
              <a:solidFill>
                <a:srgbClr val="000000"/>
              </a:solidFill>
              <a:latin typeface="Calibri"/>
            </a:endParaRPr>
          </a:p>
          <a:p>
            <a:pPr marL="406800" indent="-40680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2. fıkrada belirtilen “reşit olmayan” terimi 18 yaşında altındaki tüm şahısları kapsar. Bununla birlikte, Taraflar 16’dan küçük olmamak kaydıyla, daha düşük bir yaş sınırı getirebilir. </a:t>
            </a:r>
            <a:endParaRPr b="0" lang="en-US" sz="2400" spc="-1" strike="noStrike">
              <a:solidFill>
                <a:srgbClr val="000000"/>
              </a:solidFill>
              <a:latin typeface="Calibri"/>
            </a:endParaRPr>
          </a:p>
          <a:p>
            <a:pPr marL="406800" indent="-40680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1. fıkranın (d) ve (e) bentleri ile 2. fıkranın (b) ve (c) bentlerinin tamamını veya bir kısmını uygulamaya koymama hakkını saklı tutabilirl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rnografik materyal</a:t>
            </a:r>
            <a:endParaRPr b="0" lang="en-US" sz="4400" spc="-1" strike="noStrike">
              <a:solidFill>
                <a:srgbClr val="000000"/>
              </a:solidFill>
              <a:latin typeface="Calibri"/>
            </a:endParaRPr>
          </a:p>
        </p:txBody>
      </p:sp>
      <p:sp>
        <p:nvSpPr>
          <p:cNvPr id="344" name=""/>
          <p:cNvSpPr txBox="1"/>
          <p:nvPr/>
        </p:nvSpPr>
        <p:spPr>
          <a:xfrm>
            <a:off x="279360" y="1739880"/>
            <a:ext cx="854712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teryalleri aşağıdaki kategorilere göre sınıflandıran ulusal standartlar getirilir: </a:t>
            </a:r>
            <a:endParaRPr b="0" lang="en-US" sz="28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üstehcen;</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enel ahlaka aykırı; veya</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enzer biçimde yozlaşmış</a:t>
            </a:r>
            <a:endParaRPr b="0" lang="en-US" sz="24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anatsal, tıbbi, bilimsel veya benzer bir esasa dayalı materyaller pornografik olarak sınıflandırılmayabilir.</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örsel betimleme bilgisayar sisteminde veya depolama aygıtında saklanan ve görsel imgeye dönüştürülebilen verileri kapsar. </a:t>
            </a:r>
            <a:endParaRPr b="0" lang="en-US" sz="2800" spc="-1" strike="noStrike">
              <a:solidFill>
                <a:srgbClr val="000000"/>
              </a:solidFill>
              <a:latin typeface="Calibri"/>
            </a:endParaRPr>
          </a:p>
        </p:txBody>
      </p:sp>
      <p:sp>
        <p:nvSpPr>
          <p:cNvPr id="3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3CB9CE3-6AE7-4070-A69E-4405777E32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68E4D49-176A-4BC5-9CFE-B86CC5A893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8" name=""/>
          <p:cNvSpPr txBox="1"/>
          <p:nvPr/>
        </p:nvSpPr>
        <p:spPr>
          <a:xfrm>
            <a:off x="457200" y="1206000"/>
            <a:ext cx="8229600" cy="4526280"/>
          </a:xfrm>
          <a:prstGeom prst="rect">
            <a:avLst/>
          </a:prstGeom>
          <a:noFill/>
          <a:ln w="0">
            <a:noFill/>
          </a:ln>
        </p:spPr>
        <p:txBody>
          <a:bodyPr anchor="t">
            <a:normAutofit fontScale="87000"/>
          </a:bodyPr>
          <a:p>
            <a:pPr marL="397440" indent="-39744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1. fıkrada belirtilen “çocuk pornografisi” terimi aşağıda belirtilenleri görsel anlamda tasvir eden pornografik malzemeleri içerecektir:</a:t>
            </a:r>
            <a:endParaRPr b="0" lang="en-US" sz="24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a:t>
            </a:r>
            <a:r>
              <a:rPr b="1" lang="tr-TR" sz="2800" spc="-1" strike="noStrike">
                <a:solidFill>
                  <a:srgbClr val="ff0000"/>
                </a:solidFill>
                <a:latin typeface="Calibri"/>
              </a:rPr>
              <a:t>cinsel içerikli eylemlerde </a:t>
            </a:r>
            <a:r>
              <a:rPr b="0" lang="tr-TR" sz="2000" spc="-1" strike="noStrike">
                <a:solidFill>
                  <a:srgbClr val="000000"/>
                </a:solidFill>
                <a:latin typeface="Calibri"/>
              </a:rPr>
              <a:t>bulunması;</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ıs görüntüsüne haiz şahsın cinsel içerikli eylemlerde bulunması;</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nı betimleyen gerçekçi görüntüler;</a:t>
            </a:r>
            <a:endParaRPr b="0" lang="en-US" sz="2000" spc="-1" strike="noStrike">
              <a:solidFill>
                <a:srgbClr val="000000"/>
              </a:solidFill>
              <a:latin typeface="Calibri"/>
            </a:endParaRPr>
          </a:p>
          <a:p>
            <a:pPr marL="397440" indent="-3974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2. fıkrada belirtilen “reşit olmayan” terimi 18 yaşında altındaki tüm şahısları kapsar. Bununla birlikte, Taraflar 16’dan küçük olmamak kaydıyla, daha düşük bir yaş sınırı getirebilir. </a:t>
            </a:r>
            <a:endParaRPr b="0" lang="en-US" sz="2400" spc="-1" strike="noStrike">
              <a:solidFill>
                <a:srgbClr val="000000"/>
              </a:solidFill>
              <a:latin typeface="Calibri"/>
            </a:endParaRPr>
          </a:p>
          <a:p>
            <a:pPr marL="397440" indent="-3974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1. fıkranın (d) ve (e) bentleri ile 2. fıkranın (b) ve (c) bentlerinin tamamını veya bir kısmını uygulamaya koymama hakkını saklı tutabilirl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8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insel içerikli eylem</a:t>
            </a:r>
            <a:endParaRPr b="0" lang="en-US" sz="4400" spc="-1" strike="noStrike">
              <a:solidFill>
                <a:srgbClr val="000000"/>
              </a:solidFill>
              <a:latin typeface="Calibri"/>
            </a:endParaRPr>
          </a:p>
        </p:txBody>
      </p:sp>
      <p:sp>
        <p:nvSpPr>
          <p:cNvPr id="350" name=""/>
          <p:cNvSpPr txBox="1"/>
          <p:nvPr/>
        </p:nvSpPr>
        <p:spPr>
          <a:xfrm>
            <a:off x="279360" y="1411200"/>
            <a:ext cx="8547120" cy="4525920"/>
          </a:xfrm>
          <a:prstGeom prst="rect">
            <a:avLst/>
          </a:prstGeom>
          <a:noFill/>
          <a:ln w="0">
            <a:noFill/>
          </a:ln>
        </p:spPr>
        <p:txBody>
          <a:bodyPr anchor="t">
            <a:normAutofit fontScale="85000"/>
          </a:bodyPr>
          <a:p>
            <a:pPr marL="291600" indent="-2916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En azından şunları içerir:</a:t>
            </a:r>
            <a:endParaRPr b="0" lang="en-US" sz="2800" spc="-1" strike="noStrike">
              <a:solidFill>
                <a:srgbClr val="000000"/>
              </a:solidFill>
              <a:latin typeface="Calibri"/>
            </a:endParaRPr>
          </a:p>
          <a:p>
            <a:pPr lvl="1" marL="631440" indent="-2426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ynı veya karşı cinsten, reşit olmayan kişiler (küçükler) arasında ve bir yetişkin ile bir küçük arasında genital-genital, oral-genital, anal-genital veya oral-anal cinsel ilişki;</a:t>
            </a:r>
            <a:endParaRPr b="0" lang="en-US" sz="2400" spc="-1" strike="noStrike">
              <a:solidFill>
                <a:srgbClr val="000000"/>
              </a:solidFill>
              <a:latin typeface="Calibri"/>
            </a:endParaRPr>
          </a:p>
          <a:p>
            <a:pPr lvl="1" marL="631440" indent="-2426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Hayvanlarla cinsel ilişki; </a:t>
            </a:r>
            <a:endParaRPr b="0" lang="en-US" sz="2400" spc="-1" strike="noStrike">
              <a:solidFill>
                <a:srgbClr val="000000"/>
              </a:solidFill>
              <a:latin typeface="Calibri"/>
            </a:endParaRPr>
          </a:p>
          <a:p>
            <a:pPr lvl="1" marL="631440" indent="-2426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Mastürbasyon;</a:t>
            </a:r>
            <a:endParaRPr b="0" lang="en-US" sz="2400" spc="-1" strike="noStrike">
              <a:solidFill>
                <a:srgbClr val="000000"/>
              </a:solidFill>
              <a:latin typeface="Calibri"/>
            </a:endParaRPr>
          </a:p>
          <a:p>
            <a:pPr lvl="1" marL="631440" indent="-2426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Cinsel faaliyette sadist veya mazoşist istismar; ya da</a:t>
            </a:r>
            <a:endParaRPr b="0" lang="en-US" sz="2400" spc="-1" strike="noStrike">
              <a:solidFill>
                <a:srgbClr val="000000"/>
              </a:solidFill>
              <a:latin typeface="Calibri"/>
            </a:endParaRPr>
          </a:p>
          <a:p>
            <a:pPr lvl="1" marL="631440" indent="-2426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Reşit olmayan kişinin genital organlarının veya kasık bölgesinin şehvet uyandırıcı şekilde sergilenmesi.</a:t>
            </a:r>
            <a:endParaRPr b="0" lang="en-US" sz="2400" spc="-1" strike="noStrike">
              <a:solidFill>
                <a:srgbClr val="000000"/>
              </a:solidFill>
              <a:latin typeface="Calibri"/>
            </a:endParaRPr>
          </a:p>
          <a:p>
            <a:pPr marL="291600" indent="-2916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 cinsel içerikli eyleme ilişkin daha geniş bir tanım benimseyebilirler. </a:t>
            </a:r>
            <a:endParaRPr b="0" lang="en-US" sz="2800" spc="-1" strike="noStrike">
              <a:solidFill>
                <a:srgbClr val="000000"/>
              </a:solidFill>
              <a:latin typeface="Calibri"/>
            </a:endParaRPr>
          </a:p>
          <a:p>
            <a:pPr marL="291600" indent="-2916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Fiilin gerçek veya taklit olması önem taşımamaktadır.</a:t>
            </a:r>
            <a:endParaRPr b="0" lang="en-US" sz="2800" spc="-1" strike="noStrike">
              <a:solidFill>
                <a:srgbClr val="000000"/>
              </a:solidFill>
              <a:latin typeface="Calibri"/>
            </a:endParaRPr>
          </a:p>
        </p:txBody>
      </p:sp>
      <p:sp>
        <p:nvSpPr>
          <p:cNvPr id="3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232E167-4393-4C18-BAFC-2DC6E3CBC5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defne orhun</cp:lastModifiedBy>
  <dcterms:modified xsi:type="dcterms:W3CDTF">2017-11-02T10:09:36Z</dcterms:modified>
  <cp:revision>546</cp:revision>
  <dc:subject/>
  <dc:title>Introductory Cybercrime Training for Judges and Prosecutors</dc:title>
</cp:coreProperties>
</file>