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7565-1772-4B8B-B5F9-D7F5354B0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B514-6170-420B-9EF7-20F945B09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DE47-3C3B-4681-939B-3AACAFA50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AD33-1A6F-499F-B188-5510D5C19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3F77-3D70-4761-B6B3-FC4367B44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735C-B75C-43DE-AC8F-D80CFFD52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8A11-8C32-4356-8886-588ED9EEA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C424-0778-461C-BAFC-409AA777F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F2A-57FC-4873-8759-D018CE726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9EAD-704B-44F4-B229-AA0614BC8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0435-C2D1-482F-9852-8C8D08744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979F-827F-4F45-B305-F0D32E5E3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9FD8-488C-48D2-8A2B-F4E36DA84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84E1-C0F0-42C8-81CD-806A8789A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4A00-153C-4A0A-87FD-D1650A9DD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9FD6-804C-4699-BD73-CC04AF67B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B552-3009-4673-A2D5-AF4AC21CD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B221-9E77-452D-B389-B746C064E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63D8-F4AD-4880-9090-556C1BD4A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3796-4288-43DC-8D0F-DD7EC1682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FEC4-4DEF-4F5C-8D88-E8DAA134A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5F36-F923-4730-BD80-3511905AB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B630-94E8-42A9-BA4D-D30223E67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B7FA-D1AD-4B7F-8138-F9F879F83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C1C-F585-4045-9373-452EEB5C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598-2DFC-4FDB-A5F6-B73E935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520-B3AE-4969-89D3-208E6014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FB5-978C-439B-9971-60A64110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F11-1113-4D51-93C0-BF0BC1CF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56A-366E-45D1-856C-84EBAEA8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76C-C83C-4860-8983-1B845696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6DA-5EDE-4E43-B648-54A95BF8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88D-8B6D-4B1C-9642-3CFB3124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835-F238-461B-9352-4CAA47EB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3B5-5438-449D-BBA0-78021E41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CCF-1AA9-4ADE-AF9F-CE19D16A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600E-C6F7-4C5D-AF37-7EFC0FAEAC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nal Ortamda Suç Teşkil E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Akışı Tür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Session 1.4.2/Hou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van şirketler halihazırda bir kara para aklama tekniği olarak kullanılmaktad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para aklama tekniği sanal dünyada da, öncelikli olarak işlemleri daha meşru gösterme gayretiyle kullanılmakta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van şirketlere aktarılan paralar genelde bireysel kuryelere veya bunlar tarafından aktarılan miktarlardan daha yüksek ol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: 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 hiçbir ticari faaliyeti, malvarlığı veya yükümlülüğü bulunmayan, sadece banka hesabına sahip olmak amacıyla yaratılmış şirketlerdi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 (veya bunların banka hesapları) genellikle öncül suç mahallinin dışındaki yabancı ülkelerde bulunu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, ödemeyi yapan bankadan yapılan havaleye meşru bir görünüm kat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anal suçlardan elde edilen gelirler bakımından paravan şirket kullanımı başka ne gibi güçlükler yaratıy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Tipolojisi (Örn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bir paravan şirket kur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yabancı bir ülkede bu paravan şirket adına bir banka hesabı aç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hileli bir faaliyette bulunur ve mağdurların hesaplarından paravan şirketin banka hesabına para aktar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i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den Gelen Paraların/Para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den gelen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ÖN ÖDEMELİ KART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Değerin ödeme kartıyla önceden ilişkilendirilmesine imkân sağla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İki türü vardı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apalı ön ödemeli kartlar: sadece belirli bir şirket veya mağazada kullanılabilir (örn. hediye kartları) ve anonim olarak satın alıp kullanılab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çık ön ödemeli kartlar: bir banka, kredi kartı veya başkaca bir finans kuruluşu tarafından düzenlenir. Başka herhangi bir ödeme kartı gibi kullanılab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Kontörlü cep telefonu kartları ve ön ödemeli cep telefonları açısından da aynı tipoloji geçerlid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çlu örneğin kötü amaçlı bankacılık yazılımı yoluyla para elde e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lar bir para kuryesine aktar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urye parayı nakit olarak çeker ve bunu ön ödemeli kartlar satın almakta kullanı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Daha sonra bu kartlar kullanılır veya satılır. Satılırsa, genellikle üzerinde yazılı olan değerden düşüğe satılı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üzerinden satın alı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teki kumar ve elektronik ticaret platform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ların/Kart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TEKİ KUMAR platformlar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nternet çeşitli kumar türlerine imkân sağ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lar sisteme genelde geleneksel bankacılık sektörü aracılığıyla giriş/çıkış yapar (örn. havale, kredi/banka kartı vb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nternetteki kumar sitelerinin hukuki statüsü ve bunlara ilişkin düzenlemeler değişkenlik arz etmekte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Tipolojisi (Örn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ın ve suç ortaklarının elinde, paraya çevrilmek üzere birçok çalıntı kredi kartı bulun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 ön ödemeli bir karta (veya aklanan kara paraların yüklenebileceği başka bir karta) sahiptir ve suç ortaklarında da çalıntı kredi kartları bulun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 ve suç ortakları kumar platformunda oturum açar ve parayı kendi kumar hesaplarına aktarırl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 ve suç ortakları (örneğin) hep birlikte bir poker salonuna girerl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Ortaklar bilerek suçluya yenilirl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zançlar suçlunun internet platformundaki kumar hesabına akta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 paraları kendisinde bulunan ödeme kartına aktarır, ardından da bu kartı kullanır veya sat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ı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2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ı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dan Elde Edilen Paraların/Para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dan elde edilen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üzerinden satın al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teki kumar ve elektronik ticaret platform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 ÜZERİNDEN SATIN AL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53016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l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ihlal edilen bir kartın verilerine veya bankacılık bilgilerine erişim elde ed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ihlal edilen bu bilgileri kullanarak mal (örn. uçak bileti) satın a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bu uçak biletlerini internetteki bir açık arttırma sitesinde satışa çıkar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Açık arttırmayı biri kazanır ve ödemeyi suçluya gönde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da uçak biletlerini açık arttırmayı kazanan kişiye gönde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tın Alımlar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 tespiti/faaliyet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ların/Alımlara Dondurulması, 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/alım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PARAVAN ŞİRKET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Hande Güner</cp:lastModifiedBy>
  <cp:lastPrinted>2016-05-18T07:38:13Z</cp:lastPrinted>
  <dcterms:modified xsi:type="dcterms:W3CDTF">2017-11-09T18:26:41Z</dcterms:modified>
  <cp:revision>374</cp:revision>
  <dc:subject/>
  <dc:title>PowerPoint Presentation</dc:title>
</cp:coreProperties>
</file>