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9874250" cy="67246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9874800" cy="672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6" name="PlaceHolder 1"/>
          <p:cNvSpPr>
            <a:spLocks noGrp="1"/>
          </p:cNvSpPr>
          <p:nvPr>
            <p:ph type="hdr"/>
          </p:nvPr>
        </p:nvSpPr>
        <p:spPr>
          <a:xfrm>
            <a:off x="0" y="-360"/>
            <a:ext cx="4278240" cy="336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2"/>
          <p:cNvSpPr>
            <a:spLocks noGrp="1"/>
          </p:cNvSpPr>
          <p:nvPr>
            <p:ph type="dt" idx="4"/>
          </p:nvPr>
        </p:nvSpPr>
        <p:spPr>
          <a:xfrm>
            <a:off x="5592240" y="-360"/>
            <a:ext cx="4280040" cy="336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8" name="PlaceHolder 3"/>
          <p:cNvSpPr>
            <a:spLocks noGrp="1"/>
          </p:cNvSpPr>
          <p:nvPr>
            <p:ph type="sldImg"/>
          </p:nvPr>
        </p:nvSpPr>
        <p:spPr>
          <a:xfrm>
            <a:off x="3255840" y="504360"/>
            <a:ext cx="3362400" cy="25210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 name="PlaceHolder 4"/>
          <p:cNvSpPr>
            <a:spLocks noGrp="1"/>
          </p:cNvSpPr>
          <p:nvPr>
            <p:ph type="body"/>
          </p:nvPr>
        </p:nvSpPr>
        <p:spPr>
          <a:xfrm>
            <a:off x="987120" y="3193560"/>
            <a:ext cx="7899480" cy="3025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 name="PlaceHolder 5"/>
          <p:cNvSpPr>
            <a:spLocks noGrp="1"/>
          </p:cNvSpPr>
          <p:nvPr>
            <p:ph type="ftr" idx="5"/>
          </p:nvPr>
        </p:nvSpPr>
        <p:spPr>
          <a:xfrm>
            <a:off x="0" y="6386040"/>
            <a:ext cx="4278240" cy="336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6"/>
          <p:cNvSpPr>
            <a:spLocks noGrp="1"/>
          </p:cNvSpPr>
          <p:nvPr>
            <p:ph type="sldNum" idx="6"/>
          </p:nvPr>
        </p:nvSpPr>
        <p:spPr>
          <a:xfrm>
            <a:off x="5592240" y="6386040"/>
            <a:ext cx="4280040" cy="336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1C456-7D60-4FBC-8BAA-D812F695BCA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3255840" y="504720"/>
            <a:ext cx="3362400" cy="2521080"/>
          </a:xfrm>
          <a:prstGeom prst="rect">
            <a:avLst/>
          </a:prstGeom>
          <a:ln w="0">
            <a:noFill/>
          </a:ln>
        </p:spPr>
      </p:sp>
      <p:sp>
        <p:nvSpPr>
          <p:cNvPr id="155"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600" spc="-1" strike="noStrike" u="sng">
                <a:solidFill>
                  <a:srgbClr val="000000"/>
                </a:solidFill>
                <a:uFillTx/>
                <a:latin typeface="Calibri"/>
              </a:rPr>
              <a:t>Siber suçlar konusunda eğitimin önemi</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Siber suçlar konusunu ele alabilmek için bu türden suç biçimlerine özgü teknik ve hukuki konulara dair bilgi sahibi olunması gerekmektedir.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Halihazırda siber suçlar konusunda uzmanlaştıysanız, (kimlik hırsızlığı, tuş kaydediciler, kötü amaçlı yazılım veya zombi ağı (botnet) gibi) teknik terim ve suçlar size tanıdık gelecektir. Oysa bu terimler sıradan insan açısından anlaşılır olmaktan çok uzaktır ve bunların neye işaret ettiğini kavrayabilmek ve ardından, benzer bir uzmanlık seviyesinde sahip olmayabilecek hakimlere ve jürilere açık ve anlaşılır bir şekilde anlatabilmek için yeterli eğitim alınması önem taşımaktadır.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Siber suç soruşturmaları öyle derin teknik bilgiler içerir ki, delilleri dondurmak, güvence altına almak ve kullanmak için bir dizi etkin uygulama edinmek şarttır.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Son olarak, günümüzde dijital delillerin yaygınlığı düşünülürse, siber suç eğitimi genel anlamda gitgide daha temel bir nitelik kazanmaktadır. Dijitalleşen modern dünyamızda, adam öldürme veya adam kaçırma gibi her türlü ağır suçun ardından yapılan ilk işlem bir bilgisayara veya akıllı telefona el konulması ve bunun incelenmesi olmaktadır. Dolayısıyla dijital delillerin nasıl uygun koşullar altında ele alınacağını öğrenmek elzem hale gelmektedir.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600" spc="-1" strike="noStrike" u="sng">
                <a:solidFill>
                  <a:srgbClr val="000000"/>
                </a:solidFill>
                <a:uFillTx/>
                <a:latin typeface="Calibri"/>
              </a:rPr>
              <a:t>Olay mahallinin korunması ve delillerin muhafazası</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Dijital deliller kolayca kaybolabildiğinden, soruşturmanın en başından itibaren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 delillerin nerede depolandığının tespit edilmesi,</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 güvenliklerinin sağlanması,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 bu delillerin kullanılması ve incelenmesi, böylece sahihliklerinin ve ortaya çıkacak sonuçların güvence altına alınması gerekmektedir.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Polis görevlileri ve savcıların bu iki aşamada mağdurun işbirliğine itimat etmesi ve ayrıca delilleri incelerken uzman kolluk uzmanlarının ve bağımsız uzmanların yardımını alması gerekebilir.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Bir mağdurun bilgisayar sisteminin saldırı altında olduğunu fark ettiğinde verdiği ilk tepki zararı kendi kendisine onarmaya çalışmak olabilir. Böyle bir düşünce son derece mantıksız olup, aksine ilk refleks delilleri dondurmak ve başlatılacak soruşturmaları tehlikeye atmamak olmalıdır. Saldırıya uğramış ve gizliliği ihlal edilmiş bilgisayarlar derhal karantinaya alınmalı ve adli bilim uzmanlarınca incelenmek üzere kapatılmalıdır.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Dijital deliller hizmet sağlayıcıların veya üçüncü şahısların tasarrufunda bulunuyorsa, gerekli verilerin muhafazası amacıyla bu kişilerle derhal temasa geçilmesi gerekir. Hizmet sağlayıcıya muhafaza talepleri gönderilerek, bilhassa günlük kayıtların ulusal yargılama alanı dışında bulunması halinde bunların saklanması istenmelidir.</a:t>
            </a:r>
            <a:endParaRPr b="0" lang="en-US" sz="600" spc="-1" strike="noStrike">
              <a:solidFill>
                <a:srgbClr val="000000"/>
              </a:solidFill>
              <a:latin typeface="Calibri"/>
            </a:endParaRPr>
          </a:p>
        </p:txBody>
      </p:sp>
      <p:sp>
        <p:nvSpPr>
          <p:cNvPr id="156"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EF8BC-49BF-4792-8C2E-167871E6F86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3255840" y="504720"/>
            <a:ext cx="3362400" cy="2521080"/>
          </a:xfrm>
          <a:prstGeom prst="rect">
            <a:avLst/>
          </a:prstGeom>
          <a:ln w="0">
            <a:noFill/>
          </a:ln>
        </p:spPr>
      </p:sp>
      <p:sp>
        <p:nvSpPr>
          <p:cNvPr id="158"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800" spc="-1" strike="noStrike" u="sng">
                <a:solidFill>
                  <a:srgbClr val="000000"/>
                </a:solidFill>
                <a:uFillTx/>
                <a:latin typeface="Calibri"/>
              </a:rPr>
              <a:t>Yardım talep ederken başvurulan hukuki metnin belirtilmesi – antlaşma, sözleşme veya başkaca bir işbirliği belgesi.</a:t>
            </a:r>
            <a:endParaRPr b="0" lang="en-US" sz="8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Karşılıklı adli yardım çok taraflı veya iki taraflı anlaşmaların (antlaşma veya sözleşme) varlığına dayanır.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u="sng">
                <a:solidFill>
                  <a:srgbClr val="000000"/>
                </a:solidFill>
                <a:uFillTx/>
                <a:latin typeface="Calibri"/>
              </a:rPr>
              <a:t>Siber suçlar açısından geçerli başlıca çok taraflı sözleşmeler: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a:lnSpc>
                <a:spcPct val="8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 </a:t>
            </a:r>
            <a:r>
              <a:rPr b="0" lang="tr-TR" sz="500" spc="-1" strike="noStrike">
                <a:solidFill>
                  <a:srgbClr val="000000"/>
                </a:solidFill>
                <a:latin typeface="Calibri"/>
              </a:rPr>
              <a:t>Avrupa Konseyi Üye Devletleri :</a:t>
            </a:r>
            <a:endParaRPr b="0" lang="en-US" sz="500" spc="-1" strike="noStrike">
              <a:solidFill>
                <a:srgbClr val="000000"/>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Ceza İşlerinde Karşılıklı Adli Yardım Avrupa Sözleşmesi (20 Nisan 1959) Avrupa Konseyi’ne üye 47 Devletin yanı sıra İsrail, Şili ve Kore tarafından da onaylanmış bulunmaktadır. Bu Sözleşme ilerleyen bölümlerde, yurtdışındaki dijital delillerin dondurulması bakımından temel bir araç olan Budapeşte Sözleşmesi’nin dayandığı bir temel olarak ele alınacaktır. </a:t>
            </a:r>
            <a:endParaRPr b="0" lang="en-US" sz="8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a:lnSpc>
                <a:spcPct val="8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 </a:t>
            </a:r>
            <a:r>
              <a:rPr b="0" lang="tr-TR" sz="500" spc="-1" strike="noStrike">
                <a:solidFill>
                  <a:srgbClr val="000000"/>
                </a:solidFill>
                <a:latin typeface="Calibri"/>
              </a:rPr>
              <a:t>Avrupa Birliği Üye Devletleri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Avrupa Birliği Üye Devletleri arasında Karşılıklı Adli Yardım Sözleşmesi (29 Mayıs 2000) 28 üye Devletin hakim ve savcılarına karşılıklı adli yardım taleplerini birbirlerine doğrudan iletme imkânı sağladığı için son derece önemlidir. Bu talepler görüntülü konferans (video-konferans), telekomünikasyon takibi veya ortak soruşturma ekipleri (OSE’ler) gibi modern soruşturma teknikleriyle ilgili olabilir.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u="sng">
                <a:solidFill>
                  <a:srgbClr val="000000"/>
                </a:solidFill>
                <a:uFillTx/>
                <a:latin typeface="Calibri"/>
              </a:rPr>
              <a:t>İki taraflı sözleşmeler</a:t>
            </a:r>
            <a:r>
              <a:rPr b="0" lang="tr-TR" sz="500" spc="-1" strike="noStrike">
                <a:solidFill>
                  <a:srgbClr val="000000"/>
                </a:solidFill>
                <a:latin typeface="Calibri"/>
              </a:rPr>
              <a:t> ise iki egemen Devleti birbirine bağlayan anlaşmalardır. Her bir sözleşmede geçerli karşılıklı adli yardım koşullarını belirleyen özel kurallar yer alacaktır.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Bir yabancı ülke ile çok taraflı veya iki taraflı hiçbir anlaşma bulunmadığında, genel “</a:t>
            </a:r>
            <a:r>
              <a:rPr b="0" lang="tr-TR" sz="500" spc="-1" strike="noStrike" u="sng">
                <a:solidFill>
                  <a:srgbClr val="000000"/>
                </a:solidFill>
                <a:uFillTx/>
                <a:latin typeface="Calibri"/>
              </a:rPr>
              <a:t>mütekabiliyet</a:t>
            </a:r>
            <a:r>
              <a:rPr b="0" lang="tr-TR" sz="500" spc="-1" strike="noStrike">
                <a:solidFill>
                  <a:srgbClr val="000000"/>
                </a:solidFill>
                <a:latin typeface="Calibri"/>
              </a:rPr>
              <a:t>” ilkesine dayanarak bir yardım talebi gönderilmesi her zaman mümkündür. Bu durumda söz konusu talebi icraya koyup koymamak tamamen yabancı makamların takdirine bağlı olacaktır.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800" spc="-1" strike="noStrike" u="sng">
                <a:solidFill>
                  <a:srgbClr val="000000"/>
                </a:solidFill>
                <a:uFillTx/>
                <a:latin typeface="Calibri"/>
              </a:rPr>
              <a:t>Soruşturmayı/kovuşturmayı kimin yürüttüğünün açık ve net biçimde belirtilmesi. Gerekli tüm irtibat bilgilerini ve tercih edilen iletişim araçlarını belirtiniz.</a:t>
            </a:r>
            <a:endParaRPr b="0" lang="en-US" sz="8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Soruşturma/kovuşturma irtibat noktasının hangi dillerde doğrudan iletişim kurabileceklerini belirtmeleri de faydalı olabilir.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500" spc="-1" strike="noStrike" u="sng">
                <a:solidFill>
                  <a:srgbClr val="000000"/>
                </a:solidFill>
                <a:uFillTx/>
                <a:latin typeface="Calibri"/>
              </a:rPr>
              <a:t>Olayın özetlenmesi</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Delillerin özetlenmesinin amacı, talebin (veya KAY talebinin) soruşturma açısından gerekliliğinin yanı sıra, talep edilen Devletin sözleşmeden ve iç hukuktan doğan yasal sorumluluklarına uygunluğunun da gösterilmesidir.</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Bu özet şu ya da bu şekilde, talep edilen tedbirlerin ne ölçüde cebri ve karmaşık olduğuna bağlı olacaktır. Daha ayrıntılı belirtmek gerekirse, söz konusu tedbirler cebri veya mütecaviz nitelik taşıyorsa (örneğin bir telefon konuşmasının gizlice dinlenmesi), arasında Anglosakson hukuk geleneğine bağlı ülkelerin de yer aldığı birçok ülke “geçerli sebep” sunulmasını isteyecektir. Bu durumda: </a:t>
            </a:r>
            <a:endParaRPr b="0" lang="en-US" sz="500" spc="-1" strike="noStrike">
              <a:solidFill>
                <a:srgbClr val="000000"/>
              </a:solidFill>
              <a:latin typeface="Calibri"/>
            </a:endParaRPr>
          </a:p>
          <a:p>
            <a:pPr>
              <a:lnSpc>
                <a:spcPct val="8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 </a:t>
            </a:r>
            <a:r>
              <a:rPr b="0" lang="tr-TR" sz="500" spc="-1" strike="noStrike">
                <a:solidFill>
                  <a:srgbClr val="000000"/>
                </a:solidFill>
                <a:latin typeface="Calibri"/>
              </a:rPr>
              <a:t>Cebri veya mütecaviz tedbirin suçun ağırlığı karşısında orantılı ve kesinlikle gerekli olduğunu kanıtlamanız (örneğin uygulanabilecek azami ceza miktarı, suçun “kamu düzenini” bozması, mağdurun uğradığı zarar);</a:t>
            </a:r>
            <a:endParaRPr b="0" lang="en-US" sz="500" spc="-1" strike="noStrike">
              <a:solidFill>
                <a:srgbClr val="000000"/>
              </a:solidFill>
              <a:latin typeface="Calibri"/>
            </a:endParaRPr>
          </a:p>
          <a:p>
            <a:pPr>
              <a:lnSpc>
                <a:spcPct val="8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 </a:t>
            </a:r>
            <a:r>
              <a:rPr b="0" lang="tr-TR" sz="500" spc="-1" strike="noStrike">
                <a:solidFill>
                  <a:srgbClr val="000000"/>
                </a:solidFill>
                <a:latin typeface="Calibri"/>
              </a:rPr>
              <a:t>Delillerin belirli bir yerde veya belirli bir kişinin elinde bulunduğunu düşünmek için makul gerekçelerini sunmanız;</a:t>
            </a:r>
            <a:endParaRPr b="0" lang="en-US" sz="500" spc="-1" strike="noStrike">
              <a:solidFill>
                <a:srgbClr val="000000"/>
              </a:solidFill>
              <a:latin typeface="Calibri"/>
            </a:endParaRPr>
          </a:p>
          <a:p>
            <a:pPr>
              <a:lnSpc>
                <a:spcPct val="8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 </a:t>
            </a:r>
            <a:r>
              <a:rPr b="0" lang="tr-TR" sz="500" spc="-1" strike="noStrike">
                <a:solidFill>
                  <a:srgbClr val="000000"/>
                </a:solidFill>
                <a:latin typeface="Calibri"/>
              </a:rPr>
              <a:t>Talep ettiğiniz delillerin suçu niteleyen hukuki bir kanıt öğesi oluşturacağını ortaya koymanız gerekmektedir. </a:t>
            </a:r>
            <a:endParaRPr b="0" lang="en-US" sz="500" spc="-1" strike="noStrike">
              <a:solidFill>
                <a:srgbClr val="000000"/>
              </a:solidFill>
              <a:latin typeface="Calibri"/>
            </a:endParaRPr>
          </a:p>
        </p:txBody>
      </p:sp>
      <p:sp>
        <p:nvSpPr>
          <p:cNvPr id="159"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1AE83-56AC-4A22-9930-C1AADE9BE8B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3255840" y="504720"/>
            <a:ext cx="3362400" cy="2521080"/>
          </a:xfrm>
          <a:prstGeom prst="rect">
            <a:avLst/>
          </a:prstGeom>
          <a:ln w="0">
            <a:noFill/>
          </a:ln>
        </p:spPr>
      </p:sp>
      <p:sp>
        <p:nvSpPr>
          <p:cNvPr id="161"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u="sng">
                <a:solidFill>
                  <a:srgbClr val="000000"/>
                </a:solidFill>
                <a:uFillTx/>
                <a:latin typeface="Calibri"/>
              </a:rPr>
              <a:t>Geçerli iç hukuk hükümlerine atıf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Geçerli iç hukuk hükümleri talep edilen makamların şu hususları teminine de imkân sağlayacaktır: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uçların siyasi veya tamamen askeri nitelik taşımadığı;</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Talebe karşılık verildiğinde kendi kamu düzeninin tehlikeye atılmayacağı;</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Gerekirse, bir eylemin her iki ülkede de suç niteliği taşıması koşullarının karşılandığı.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u="sng">
                <a:solidFill>
                  <a:srgbClr val="000000"/>
                </a:solidFill>
                <a:uFillTx/>
                <a:latin typeface="Calibri"/>
              </a:rPr>
              <a:t>Talep edilen yardımın net ve eksiksiz bir şekilde belirtilmesi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Elde etmek istediğiniz yardıma ilişkin olarak mümkün olduğunca net olunması önemlidir.</a:t>
            </a:r>
            <a:endParaRPr b="0" lang="en-US" sz="1200" spc="-1" strike="noStrike">
              <a:solidFill>
                <a:srgbClr val="000000"/>
              </a:solidFill>
              <a:latin typeface="Calibri"/>
            </a:endParaRPr>
          </a:p>
        </p:txBody>
      </p:sp>
      <p:sp>
        <p:nvSpPr>
          <p:cNvPr id="162"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66CAB-F7E2-4C43-8710-FCE6B220CA5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3255840" y="504720"/>
            <a:ext cx="3362400" cy="2521080"/>
          </a:xfrm>
          <a:prstGeom prst="rect">
            <a:avLst/>
          </a:prstGeom>
          <a:ln w="0">
            <a:noFill/>
          </a:ln>
        </p:spPr>
      </p:sp>
      <p:sp>
        <p:nvSpPr>
          <p:cNvPr id="164"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u="sng">
                <a:solidFill>
                  <a:srgbClr val="000000"/>
                </a:solidFill>
                <a:uFillTx/>
                <a:latin typeface="Calibri"/>
              </a:rPr>
              <a:t>Tanıklara ve tanıklardan nasıl ifade alınacağına ilişkin iç hukuktaki usul kuralları bir hukuk sisteminden diğerine farklılık gösterebilmektedir.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Ulusal mevzuata göre, ifadeden önce tanıklardan yemin etmeleri istenebilir veya istenmeyebilir ve tanıklara beyanlarının doğru olmaması halinde “yalancı şahitlik” veya “yalan tanıklıkta bulunmak” sebebiyle suç isnat edilebilir. Kimi ulusal mevzuatlar tanıklara mahkeme celbi gönderilmesine imkân tanımakla birlikte, para cezasından hapis cezasına dek çeşitlilik arz edebilen cebri yaptırımlar içermeyebilir. Son olarak, bazı kişiler şahsi konumları sebebiyle (örneğin şüphelinin eşi veya ebeveyni olmak) tanık olarak dinlenemeyebilir.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u="sng">
                <a:solidFill>
                  <a:srgbClr val="000000"/>
                </a:solidFill>
                <a:uFillTx/>
                <a:latin typeface="Calibri"/>
              </a:rPr>
              <a:t>Talep eden Devlet bir başka Devletten bir tanığın ifadesini ibraz etmesini istediğinde, iki taraflı veya çok taraflı bir sözleşmede aksi belirtilmediği müddetçe, talep edilen Devletin ulusal mevzuatı geçerli olacaktır</a:t>
            </a:r>
            <a:r>
              <a:rPr b="0" lang="tr-TR" sz="800" spc="-1" strike="noStrike">
                <a:solidFill>
                  <a:srgbClr val="000000"/>
                </a:solidFill>
                <a:latin typeface="Calibri"/>
              </a:rPr>
              <a:t>. Demek oluyor ki, tanığın ifadesiyle ilgili olarak kendi iç hukukunuzdaki usul kurallarını dayatabilirsiniz, fakat bu usul kurallarının uygulanacağına dair bağlayıcı nitelikte iki taraflı veya çok taraflı bir sözleşme bulunmadığı sürece, talep edilen Devlet bu kurallara uyma yükümlülüğü altında değildir.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Geçerli iç hukuk usullerine veya geçerli çok taraflı veya iki taraflı sözleşmelere ilişkin bilgileri sunarken şu hususları belirtmek önemlidir: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nSpc>
                <a:spcPct val="70000"/>
              </a:lnSpc>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 </a:t>
            </a:r>
            <a:r>
              <a:rPr b="0" lang="tr-TR" sz="800" spc="-1" strike="noStrike">
                <a:solidFill>
                  <a:srgbClr val="000000"/>
                </a:solidFill>
                <a:latin typeface="Calibri"/>
              </a:rPr>
              <a:t>Tanıkların cevaplarına göre farklı gelişen soruları da içerebilecek tam kapsamlı soru listesi;</a:t>
            </a:r>
            <a:endParaRPr b="0" lang="en-US" sz="800" spc="-1" strike="noStrike">
              <a:solidFill>
                <a:srgbClr val="000000"/>
              </a:solidFill>
              <a:latin typeface="Calibri"/>
            </a:endParaRPr>
          </a:p>
          <a:p>
            <a:pPr indent="0">
              <a:lnSpc>
                <a:spcPct val="70000"/>
              </a:lnSpc>
              <a:spcBef>
                <a:spcPts val="3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nSpc>
                <a:spcPct val="70000"/>
              </a:lnSpc>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Tanığın kimliğine ve nerede olduğuna dair faydalı olabilecek tüm bilgiler. </a:t>
            </a:r>
            <a:endParaRPr b="0" lang="en-US" sz="800" spc="-1" strike="noStrike">
              <a:solidFill>
                <a:srgbClr val="000000"/>
              </a:solidFill>
              <a:latin typeface="Calibri"/>
            </a:endParaRPr>
          </a:p>
          <a:p>
            <a:pPr indent="0">
              <a:lnSpc>
                <a:spcPct val="70000"/>
              </a:lnSpc>
              <a:spcBef>
                <a:spcPts val="3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Ayrıca, bir tercümanın da yardımıyla, </a:t>
            </a:r>
            <a:r>
              <a:rPr b="0" lang="tr-TR" sz="800" spc="-1" strike="noStrike" u="sng">
                <a:solidFill>
                  <a:srgbClr val="000000"/>
                </a:solidFill>
                <a:uFillTx/>
                <a:latin typeface="Calibri"/>
              </a:rPr>
              <a:t>görüntülü konferans </a:t>
            </a:r>
            <a:r>
              <a:rPr b="0" lang="tr-TR" sz="800" spc="-1" strike="noStrike">
                <a:solidFill>
                  <a:srgbClr val="000000"/>
                </a:solidFill>
                <a:latin typeface="Calibri"/>
              </a:rPr>
              <a:t>(video-konferans) seçeneğini değerlendirmek de faydalı olabilir, böylece ulusal kolluk makamları doğrudan sorgulamada bulunabilir.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Lütfen dikkat ediniz: Avrupa Konseyi’ne üye 47 Devletin yanı sıra İsrail, Şili ve Kore tarafından da onaylanmış bulunan Ceza İşlerinde Karşılıklı Adli Yardım Avrupa Sözleşmesi (20 Nisan 1959) tanıklara dair ulusal usul kurallarıyla çelişebilecek birtakım özel hükümler içermektedir.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Sözleşmenin 8. maddesi, talep eden bir Üye Devlet tarafından celpname gönderilmiş tanıkların yardım talep eden Devletin toprakları dışında bulundukları sürece zorlayıcı (cebri) tedbire tabi tutulamayacağını dile getirmektedir.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Sözleşmenin 11. maddesi, başka sebeplerle alıkonulan bir tanığın, yardım talep eden bir Devlete ifade vermek üzere geçici olarak gönderilebileceği koşulları sıralamaktadır.</a:t>
            </a:r>
            <a:endParaRPr b="0" lang="en-US" sz="800" spc="-1" strike="noStrike">
              <a:solidFill>
                <a:srgbClr val="000000"/>
              </a:solidFill>
              <a:latin typeface="Calibri"/>
            </a:endParaRPr>
          </a:p>
        </p:txBody>
      </p:sp>
      <p:sp>
        <p:nvSpPr>
          <p:cNvPr id="165"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CD1CB-575E-4E26-9BC2-771FEB257E9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3255840" y="504720"/>
            <a:ext cx="3362400" cy="2521080"/>
          </a:xfrm>
          <a:prstGeom prst="rect">
            <a:avLst/>
          </a:prstGeom>
          <a:ln w="0">
            <a:noFill/>
          </a:ln>
        </p:spPr>
      </p:sp>
      <p:sp>
        <p:nvSpPr>
          <p:cNvPr id="149"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0"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A22AD-6F8A-4851-AFAF-3D8B8A8E055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3255840" y="504720"/>
            <a:ext cx="3362400" cy="2521080"/>
          </a:xfrm>
          <a:prstGeom prst="rect">
            <a:avLst/>
          </a:prstGeom>
          <a:ln w="0">
            <a:noFill/>
          </a:ln>
        </p:spPr>
      </p:sp>
      <p:sp>
        <p:nvSpPr>
          <p:cNvPr id="167"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u="sng">
                <a:solidFill>
                  <a:srgbClr val="000000"/>
                </a:solidFill>
                <a:uFillTx/>
                <a:latin typeface="Calibri"/>
              </a:rPr>
              <a:t>Mali/banka hesabı evraklarıyla ilgili özel usuller: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Banka hesabı evrakları birçok soruşturma açısından ilgi çekicidir, zira: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	</a:t>
            </a:r>
            <a:r>
              <a:rPr b="0" lang="tr-TR" sz="500" spc="-1" strike="noStrike">
                <a:solidFill>
                  <a:srgbClr val="000000"/>
                </a:solidFill>
                <a:latin typeface="Calibri"/>
              </a:rPr>
              <a:t>- suçtan kazanç elde eden kişiyi tespit edebilir,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	</a:t>
            </a:r>
            <a:r>
              <a:rPr b="0" lang="tr-TR" sz="500" spc="-1" strike="noStrike">
                <a:solidFill>
                  <a:srgbClr val="000000"/>
                </a:solidFill>
                <a:latin typeface="Calibri"/>
              </a:rPr>
              <a:t>- kimi durumlarda paralara/ı el koyabilir veya müsadere edebilirsiniz.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Genel olarak iki tür bilgi talep edilebilir: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	</a:t>
            </a:r>
            <a:r>
              <a:rPr b="0" lang="tr-TR" sz="500" spc="-1" strike="noStrike">
                <a:solidFill>
                  <a:srgbClr val="000000"/>
                </a:solidFill>
                <a:latin typeface="Calibri"/>
              </a:rPr>
              <a:t>- belirli bir banka hesabının hamilinin kimliği,</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	</a:t>
            </a:r>
            <a:r>
              <a:rPr b="0" lang="tr-TR" sz="500" spc="-1" strike="noStrike">
                <a:solidFill>
                  <a:srgbClr val="000000"/>
                </a:solidFill>
                <a:latin typeface="Calibri"/>
              </a:rPr>
              <a:t>- belirli bir hesaptaki mali işlemlere dair detaylı bilgi sunan belgeler.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Bu tür belgeleri talep ederken mümkün olduğunca açık ve net olmak ve vakit kaybetmemek önemlidir. Bir KAY talebinde bulunmadan önce atılması yararlı olabilecek ilk adım, söz konusu bankanın ulusal şubesine yazı yazarak, bir banka hesabının hamilinin kimliğine ilişkin bilgileri talep etmek olabilir.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Mali evraklarla ilgili KAY talepleri açık, net ve eksiksiz olduğunda ve şu bilgileri içerdiğinde daha fazla başarı şansına sahip olacaktır: banka hesabının numarası, bankanın adı ve adresi ve şüpheli işlemlerin vuku bulduğu zaman aralığı.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Şu bilgiler elde edilebilir:</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	</a:t>
            </a:r>
            <a:r>
              <a:rPr b="0" lang="tr-TR" sz="500" spc="-1" strike="noStrike">
                <a:solidFill>
                  <a:srgbClr val="000000"/>
                </a:solidFill>
                <a:latin typeface="Calibri"/>
              </a:rPr>
              <a:t>- hamilin imzasının bir örneği;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	</a:t>
            </a:r>
            <a:r>
              <a:rPr b="0" lang="tr-TR" sz="500" spc="-1" strike="noStrike">
                <a:solidFill>
                  <a:srgbClr val="000000"/>
                </a:solidFill>
                <a:latin typeface="Calibri"/>
              </a:rPr>
              <a:t>- banka hesabını kullanma yetkisi olan herkesin kimliği ve imza örnekleri;</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	</a:t>
            </a:r>
            <a:r>
              <a:rPr b="0" lang="tr-TR" sz="500" spc="-1" strike="noStrike">
                <a:solidFill>
                  <a:srgbClr val="000000"/>
                </a:solidFill>
                <a:latin typeface="Calibri"/>
              </a:rPr>
              <a:t>- belirli bir zaman aralığındaki hesap dökümlerinin ve banka formlarının birer örneği;</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	</a:t>
            </a:r>
            <a:r>
              <a:rPr b="0" lang="tr-TR" sz="500" spc="-1" strike="noStrike">
                <a:solidFill>
                  <a:srgbClr val="000000"/>
                </a:solidFill>
                <a:latin typeface="Calibri"/>
              </a:rPr>
              <a:t>- kesilmiş çeklerin birer örneği;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	</a:t>
            </a:r>
            <a:r>
              <a:rPr b="0" lang="tr-TR" sz="500" spc="-1" strike="noStrike">
                <a:solidFill>
                  <a:srgbClr val="000000"/>
                </a:solidFill>
                <a:latin typeface="Calibri"/>
              </a:rPr>
              <a:t>- belirli bir kişiye ait tüm banka hesaplarının bilgisi;</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	</a:t>
            </a:r>
            <a:r>
              <a:rPr b="0" lang="tr-TR" sz="500" spc="-1" strike="noStrike">
                <a:solidFill>
                  <a:srgbClr val="000000"/>
                </a:solidFill>
                <a:latin typeface="Calibri"/>
              </a:rPr>
              <a:t>- gelecekteki belirli bir zaman aralığı boyunca banka hesaplarının izlenmesi.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Tıpkı diğer KAY taleplerinde olduğu gibi, talep edilen bilginin soruşturmalar açısından “ilgisi”nin belirtilmesi önemli olacaktır. Ayrıca geçerli sözleşmelerin doğrulanması ve yardım talep edilen Devletin iç hukuku ile uygunluğun teyidi de gerekli olacaktır.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u="sng">
                <a:solidFill>
                  <a:srgbClr val="000000"/>
                </a:solidFill>
                <a:uFillTx/>
                <a:latin typeface="Calibri"/>
              </a:rPr>
              <a:t>Talebin icrasının reddine ilişkin gerekçeler</a:t>
            </a:r>
            <a:r>
              <a:rPr b="0" lang="tr-TR" sz="500" spc="-1" strike="noStrike">
                <a:solidFill>
                  <a:srgbClr val="000000"/>
                </a:solidFill>
                <a:latin typeface="Calibri"/>
              </a:rPr>
              <a:t>: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Bu talepler genelde, en azından Avrupa Birliği veya Mali Eylem Görev Gücü (FATF - https://www.fatf-gafi.org/) dahilindeki üye devletler açısından güç olmamaktadır.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Genellikle şu iki ret gerekçesi öne sürülmektedir:</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	</a:t>
            </a:r>
            <a:r>
              <a:rPr b="0" lang="tr-TR" sz="500" spc="-1" strike="noStrike">
                <a:solidFill>
                  <a:srgbClr val="000000"/>
                </a:solidFill>
                <a:latin typeface="Calibri"/>
              </a:rPr>
              <a:t>- Talebin ulusal hukukla bağdaşmazlığı</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Avrupa Birliği veya Mali Eylem Görev Gücü (FATF) Üye Devletleri bir KAY talebini bu gerekçeyle reddedemez. FATF üyeleri halihazırda Avrupa Komisyonu, Körfez Arap Ülkeleri İşbirliği Konseyi, Avrupa Birliği üye Devletleri’nin yanı sıra İsviçre, Rusya, Kanada, Amerika Birleşik Devletleri, Meksika, Brezilya, Japonya, Çin, Hong Kong ve Singapur’dur.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	</a:t>
            </a:r>
            <a:r>
              <a:rPr b="0" lang="tr-TR" sz="500" spc="-1" strike="noStrike">
                <a:solidFill>
                  <a:srgbClr val="000000"/>
                </a:solidFill>
                <a:latin typeface="Calibri"/>
              </a:rPr>
              <a:t>- Her iki ülkede de suç niteliği taşıma koşulu</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Kimi Devletler bir KAY talebini ancak kendi iç hukuklarında da eşdeğer bir suç isnadının veya suçun bulunması halinde icraya koyacaktır. Avrupa Birliği üye Devletleri açısından 2001 Protokolü’nün 2.4. maddesi bir KAY talebini uygularken çifte suçluluk kriterinin dikkate alınmasını mümkün kılmaktadır. Budapeşte Sözleşmesi her iki ülkede de suç niteliği taşıma koşulunun karşılanmaması halinde karşılıklı adli yardım taleplerinin reddedilebileceğini öngörmektedir. Ancak Budapeşte Sözleşmesi’nin 25(5). maddesi ve ayrıca FATF’nin 37 No’lu Tavsiye Kararı, bu şartın karşılanmış sayılması için, yardım talep edilen tarafın söz konusu suçu, yardım talep eden tarafla aynı suç kategorisi altına sokup sokmadığına veya aynı terminoloji ile adlandırıp adlandırmadığına bakılmaksızın, sadece hakkında yardım talep edilen suçun zeminini oluşturan davranışın kendi mevzuatı kapsamında suç sayılmasının yeterli olduğunu dile getirmektedir. </a:t>
            </a:r>
            <a:endParaRPr b="0" lang="en-US" sz="500" spc="-1" strike="noStrike">
              <a:solidFill>
                <a:srgbClr val="000000"/>
              </a:solidFill>
              <a:latin typeface="Calibri"/>
            </a:endParaRPr>
          </a:p>
        </p:txBody>
      </p:sp>
      <p:sp>
        <p:nvSpPr>
          <p:cNvPr id="168"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AC002-DE68-49FF-8050-2233EA7C273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3255840" y="504720"/>
            <a:ext cx="3362400" cy="2521080"/>
          </a:xfrm>
          <a:prstGeom prst="rect">
            <a:avLst/>
          </a:prstGeom>
          <a:ln w="0">
            <a:noFill/>
          </a:ln>
        </p:spPr>
      </p:sp>
      <p:sp>
        <p:nvSpPr>
          <p:cNvPr id="170"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Örneğin, bilgisayar korsanları tarafından izinsiz girilmiş bir bilgisayara yönelik bir KAY talebinde, Yabancı Y Ülkesinin Yabancı X Şehrinde yer alan bir internet hizmet sağlayıcıya tekabül eden ve izinsiz giriş yapılan bilgisayara 1 Ocak 2017 tarihinde sabah 7:30 ile 11:30 (GMT+ X) saatleri arasında bağlı olan şüpheli 210.0.XXX.XXX IP adresi belirtilmek durumund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oruşturmalarımız sonucunda şüpheli 210.0.XXX.XXX IP adresinin fiziki adresi XXXX olan XXXX Şirketine ait olduğu tespit edilmişt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Mümkün olduğunca ayrıntılı bilgi verilmesi önem taşı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aatler her zaman milletlerarası saat sistemine (GMT) göre belirtilmelidir.</a:t>
            </a:r>
            <a:endParaRPr b="0" lang="en-US" sz="1200" spc="-1" strike="noStrike">
              <a:solidFill>
                <a:srgbClr val="000000"/>
              </a:solidFill>
              <a:latin typeface="Calibri"/>
            </a:endParaRPr>
          </a:p>
        </p:txBody>
      </p:sp>
      <p:sp>
        <p:nvSpPr>
          <p:cNvPr id="171"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DE09E-76F5-4F1F-AFCC-9C3FBDCD7C4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3255840" y="504720"/>
            <a:ext cx="3362400" cy="2521080"/>
          </a:xfrm>
          <a:prstGeom prst="rect">
            <a:avLst/>
          </a:prstGeom>
          <a:ln w="0">
            <a:noFill/>
          </a:ln>
        </p:spPr>
      </p:sp>
      <p:sp>
        <p:nvSpPr>
          <p:cNvPr id="173"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Talebin icrası için geçerli hukuk, aksi yönde bir hüküm taşıyan iki taraflı veya çok taraflı bir sözleşme bulunmadıkça, </a:t>
            </a:r>
            <a:r>
              <a:rPr b="1" lang="tr-TR" sz="600" spc="-1" strike="noStrike">
                <a:solidFill>
                  <a:srgbClr val="000000"/>
                </a:solidFill>
                <a:latin typeface="Calibri"/>
              </a:rPr>
              <a:t>yardım talep edilen Devletin </a:t>
            </a:r>
            <a:r>
              <a:rPr b="0" lang="tr-TR" sz="600" spc="-1" strike="noStrike">
                <a:solidFill>
                  <a:srgbClr val="000000"/>
                </a:solidFill>
                <a:latin typeface="Calibri"/>
              </a:rPr>
              <a:t>hukukudur. </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Bir arama emri açısından geçerli olan usul hukuku kurallarının, talep edilen Devletin yargı sisteminin, Fransa’daki veya Belçika’daki sorgu hakimi gibi bir sulh yargıcının arama emri vermek konusunda kendi inisiyatifiyle karar verdiği ülkeler gibi </a:t>
            </a:r>
            <a:r>
              <a:rPr b="1" lang="tr-TR" sz="600" spc="-1" strike="noStrike">
                <a:solidFill>
                  <a:srgbClr val="000000"/>
                </a:solidFill>
                <a:latin typeface="Calibri"/>
              </a:rPr>
              <a:t>soruşturmaya </a:t>
            </a:r>
            <a:r>
              <a:rPr b="0" lang="tr-TR" sz="600" spc="-1" strike="noStrike">
                <a:solidFill>
                  <a:srgbClr val="000000"/>
                </a:solidFill>
                <a:latin typeface="Calibri"/>
              </a:rPr>
              <a:t>mı dayalı, yoksa müzekkerelerin polis tarafından düzenlendiği İngiltere’deki gibi </a:t>
            </a:r>
            <a:r>
              <a:rPr b="1" lang="tr-TR" sz="600" spc="-1" strike="noStrike">
                <a:solidFill>
                  <a:srgbClr val="000000"/>
                </a:solidFill>
                <a:latin typeface="Calibri"/>
              </a:rPr>
              <a:t>çekişmeli</a:t>
            </a:r>
            <a:r>
              <a:rPr b="0" lang="tr-TR" sz="600" spc="-1" strike="noStrike">
                <a:solidFill>
                  <a:srgbClr val="000000"/>
                </a:solidFill>
                <a:latin typeface="Calibri"/>
              </a:rPr>
              <a:t> mi, yoksa soruşturmaların hukukiliğini güvence altına alan bir hakimin denetimi altında görev yapan bir savcı tarafından düzenlenen arama emirlerinin söz konusu olduğu İtalya veya Almanya örneğine benzer mi olduğuna göre çeşitlilik arz etmesinin sebebi budur. </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Arama emirleri genelde mütecaviz ve zorlayıcı yasal tedbirler olarak addedilmektedir. İşte bu nedenle olayın ayrıntılı bir şekilde özetlenmesi ve süregiden soruşturmalara ilişkin delillere ve işlemlere ilişkin gerekçenin her zaman açıklanması son derece önemlidir. Ayrıca, talep edilen Devletin iç hukuk düzenlemelerinin ve usullerinin bilinmesi de elzemdir. </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600" spc="-1" strike="noStrike">
                <a:solidFill>
                  <a:srgbClr val="000000"/>
                </a:solidFill>
                <a:latin typeface="Calibri"/>
              </a:rPr>
              <a:t>Anglosakson veya teamül hukuku</a:t>
            </a:r>
            <a:r>
              <a:rPr b="0" lang="tr-TR" sz="600" spc="-1" strike="noStrike">
                <a:solidFill>
                  <a:srgbClr val="000000"/>
                </a:solidFill>
                <a:latin typeface="Calibri"/>
              </a:rPr>
              <a:t> etkisi altındaki ülkeler özellikle geçerli sebebin varlığını tespit bakımından son derece kapsamlı bir olay özeti talep edecektir. Nitekim, soruşturma tedbirinin işleme konulabilmesi için yetkili yerel yargı makamının kendi müzekkeresini düzenlemesi gerekecektir. </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u="sng">
                <a:solidFill>
                  <a:srgbClr val="000000"/>
                </a:solidFill>
                <a:uFillTx/>
                <a:latin typeface="Calibri"/>
              </a:rPr>
              <a:t>Bu müzekkerenin düzenlenmesi için şu hususların kanıtlanması şarttır</a:t>
            </a:r>
            <a:r>
              <a:rPr b="0" lang="tr-TR" sz="600" spc="-1" strike="noStrike">
                <a:solidFill>
                  <a:srgbClr val="000000"/>
                </a:solidFill>
                <a:latin typeface="Calibri"/>
              </a:rPr>
              <a:t>: </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 soruşturma tedbirinin isnat edilen suçla orantılı olması;</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 gerekli olması (daha az mütecaviz ve zorlayıcı bir tedbir benzer sonuçları yaratamaz mı?);</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 delillerin aramanın yapılması planlanan yerde bulunacağına inanmak için ciddi sebeplerin varlığı.</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u="sng">
                <a:solidFill>
                  <a:srgbClr val="000000"/>
                </a:solidFill>
                <a:uFillTx/>
                <a:latin typeface="Calibri"/>
              </a:rPr>
              <a:t>Aranacak yerlerin ve eşyaların açık ve net bir şekilde belirtilmesi</a:t>
            </a:r>
            <a:r>
              <a:rPr b="0" lang="tr-TR" sz="600" spc="-1" strike="noStrike">
                <a:solidFill>
                  <a:srgbClr val="000000"/>
                </a:solidFill>
                <a:latin typeface="Calibri"/>
              </a:rPr>
              <a:t>:</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Aranacak yerlere ve eşyalara ilişkin ve ayrıca bu öğelerin bulunması gereken yerlere ilişkin açık ve net göstergeler sunulmalıdır. Bazı hallerde, örneğin KAY talebi yazıldığı sırada bu netlikte bilgiler sunulamaması halinde, yardım talep eden yargı makamının irtibat bilgileri verilebilir; böylece talep edilen taraf daha sonrasında gerekli olabilecek her türlü ek bilgiyi temasa geçerek sorabilir. </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OSE’lerden (ortak soruşturma ekipleri) yararlanan farklı ülkelerde veya EUROJUST ağı üzerinden </a:t>
            </a:r>
            <a:r>
              <a:rPr b="1" lang="tr-TR" sz="600" spc="-1" strike="noStrike">
                <a:solidFill>
                  <a:srgbClr val="000000"/>
                </a:solidFill>
                <a:latin typeface="Calibri"/>
              </a:rPr>
              <a:t>koordineli arama emirleri </a:t>
            </a:r>
            <a:r>
              <a:rPr b="0" lang="tr-TR" sz="600" spc="-1" strike="noStrike">
                <a:solidFill>
                  <a:srgbClr val="000000"/>
                </a:solidFill>
                <a:latin typeface="Calibri"/>
              </a:rPr>
              <a:t>düzenlenebilir. </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600" spc="-1" strike="noStrike">
                <a:solidFill>
                  <a:srgbClr val="000000"/>
                </a:solidFill>
                <a:latin typeface="Calibri"/>
              </a:rPr>
              <a:t>Bir arama emrinin icraya konulmasının reddine ilişkin özel gerekçeler:</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u="sng">
                <a:solidFill>
                  <a:srgbClr val="000000"/>
                </a:solidFill>
                <a:uFillTx/>
                <a:latin typeface="Calibri"/>
              </a:rPr>
              <a:t>- Schengen bölgesi dışındaki Avrupa Konseyi </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Ceza İşlerinde Karşılıklı Adli Yardım Avrupa Sözleşmesi’nin (20 Nisan 1959) 5. maddesi üye Devletlerin bir arama emrinin icrasını şu iki sebepten birini öne sürerek reddedebileceğini belirtmektedir: </a:t>
            </a:r>
            <a:endParaRPr b="0" lang="en-US" sz="600" spc="-1" strike="noStrike">
              <a:solidFill>
                <a:srgbClr val="000000"/>
              </a:solidFill>
              <a:latin typeface="Calibri"/>
            </a:endParaRPr>
          </a:p>
          <a:p>
            <a:pPr>
              <a:lnSpc>
                <a:spcPct val="70000"/>
              </a:lnSpc>
              <a:spcBef>
                <a:spcPts val="22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Her iki ülkede de suç niteliği taşıma koşulu: Yardım talep edilen Devlet söz konusu suçun kendi iç hukuku kapsamında cezalandırılabilir nitelik taşımaması veya suçlunun iadesine yol açacak denli ağır bir cezayla cezalandırılmaması (“iade edilebilir bir suç” olmaması) halinde arama emri çıkartmayı reddedebilir. </a:t>
            </a:r>
            <a:endParaRPr b="0" lang="en-US" sz="600" spc="-1" strike="noStrike">
              <a:solidFill>
                <a:srgbClr val="000000"/>
              </a:solidFill>
              <a:latin typeface="Calibri"/>
            </a:endParaRPr>
          </a:p>
          <a:p>
            <a:pPr>
              <a:lnSpc>
                <a:spcPct val="70000"/>
              </a:lnSpc>
              <a:spcBef>
                <a:spcPts val="22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Talebin yardım talep edilen Devletin ulusal hukukuyla bağdaşmaması: Bu sayede Devletler, söz konusu işlemi soruşturmaların kendi ulusal hukuk ve usul kurallarına göre hukuki olup olmadığını temin amacıyla bir ulusal hakimin onayına sunabilmektedir. </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Devletler bu ret gerekçelerini ancak Sözleşme’yi onaylarken bunları beyan etmiş olmaları halinde kullanabilmektedir. Her bir Devlet tarafından sunulan beyanlara Avrupa Konseyi’nin internet sitesinden erişilebilir (http://conventions.coe.int).</a:t>
            </a:r>
            <a:endParaRPr b="0" lang="en-US" sz="600" spc="-1" strike="noStrike">
              <a:solidFill>
                <a:srgbClr val="000000"/>
              </a:solidFill>
              <a:latin typeface="Calibri"/>
            </a:endParaRPr>
          </a:p>
        </p:txBody>
      </p:sp>
      <p:sp>
        <p:nvSpPr>
          <p:cNvPr id="174"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CA67F-EA03-43F7-B4F6-4A5634BC6F3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3255840" y="504720"/>
            <a:ext cx="3362400" cy="2521080"/>
          </a:xfrm>
          <a:prstGeom prst="rect">
            <a:avLst/>
          </a:prstGeom>
          <a:ln w="0">
            <a:noFill/>
          </a:ln>
        </p:spPr>
      </p:sp>
      <p:sp>
        <p:nvSpPr>
          <p:cNvPr id="176"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Yardım talep eden Devletin, talep edilen Devletten şu hususlar hakkında bir beyanat veya tasdikli belge hazırlamasını isteme imkânı bulun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	</a:t>
            </a:r>
            <a:r>
              <a:rPr b="0" lang="tr-TR" sz="1200" spc="-1" strike="noStrike">
                <a:solidFill>
                  <a:srgbClr val="000000"/>
                </a:solidFill>
                <a:latin typeface="Calibri"/>
              </a:rPr>
              <a:t>- el konulmuş olan her bir eşy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	</a:t>
            </a:r>
            <a:r>
              <a:rPr b="0" lang="tr-TR" sz="1200" spc="-1" strike="noStrike">
                <a:solidFill>
                  <a:srgbClr val="000000"/>
                </a:solidFill>
                <a:latin typeface="Calibri"/>
              </a:rPr>
              <a:t>- söz konusu eşyayı elinde bulunduran veya kullanan her bir şahı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	</a:t>
            </a:r>
            <a:r>
              <a:rPr b="0" lang="tr-TR" sz="1200" spc="-1" strike="noStrike">
                <a:solidFill>
                  <a:srgbClr val="000000"/>
                </a:solidFill>
                <a:latin typeface="Calibri"/>
              </a:rPr>
              <a:t>- eşyanın korunma veya muhafaza koşulları.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öylece kolluk makamlarının ve mahkemelerin delillerin nasıl elde edildiğini ve delillere herhangi bir halel gelmiş olup olmayabileceğini tam anlamıyla saptaması mümkün olacakt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7"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1CBA8-68B5-47E7-8384-326A2272791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3255840" y="504720"/>
            <a:ext cx="3362400" cy="2521080"/>
          </a:xfrm>
          <a:prstGeom prst="rect">
            <a:avLst/>
          </a:prstGeom>
          <a:ln w="0">
            <a:noFill/>
          </a:ln>
        </p:spPr>
      </p:sp>
      <p:sp>
        <p:nvSpPr>
          <p:cNvPr id="179"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u="sng">
                <a:solidFill>
                  <a:srgbClr val="000000"/>
                </a:solidFill>
                <a:uFillTx/>
                <a:latin typeface="Calibri"/>
              </a:rPr>
              <a:t>Özel soruşturma tedbirleri arasında şunlar yer alabilir: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 bir gizli ajanın gerçek kimliğini gizleyerek bir örgüte sızması gibi gizli operasyonlar (örneğin Avrupa Birliği Üye Devletleri arasında Karşılıklı Adli Yardım Sözleşmesi’nin (29 Mayıs 2000) 14. maddesi, Ceza İşlerinde Avrupa Soruşturma Emrine ilişkin 2014 tarihli Direktif’in 29. maddesi)</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 telekomünikasyonların ele geçirilmesi (veya gizli dinleme) (örneğin Avrupa Birliği Üye Devletleri arasında Karşılıklı Adli Yardım Sözleşmesi’nin (29 Mayıs 2000) 17-22. maddesi, Ceza İşlerinde Avrupa Soruşturma Emrine ilişkin 2014 tarihli Direktif’in 30 ve 31. maddesi)</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 görüntülü konferans (örneğin Avrupa Birliği Üye Devletleri arasında Karşılıklı Adli Yardım Sözleşmesi’nin (29 Mayıs 2000) 10. maddesi, Ceza İşlerinde Avrupa Soruşturma Emrine ilişkin 2014 tarihli Direktif’in 24. maddesi)</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 denetimli teslimat; (örneğin Avrupa Birliği Üye Devletleri arasında Karşılıklı Adli Yardım Sözleşmesi’nin (29 Mayıs 2000) 12. maddesi).</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Bir gizli ajan tarafından bir örgüte sızılması şeklindeki özel soruşturma tedbiri her yerde uygulanmamaktadır; zira bazı mevzuatlar bu tedbiri bir tür “provokasyon” biçimi sayabilmektedir.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Özel soruşturma tedbirleri genellikle olağan tedbirlerden daha külfetli ve masraflı olmaktadır. Yine de soruşturmanız açısından kesinlikle elzem görüyorsanız, bir ortak soruşturma ekibi (OSE) anlaşması imzalanmasının değerlendirilmesi mantıklı olabilir.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u="sng">
                <a:solidFill>
                  <a:srgbClr val="000000"/>
                </a:solidFill>
                <a:uFillTx/>
                <a:latin typeface="Calibri"/>
              </a:rPr>
              <a:t>OSE anlaşması:</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Avrupa Birliği Üye Devletleri arasında Karşılıklı Adli Yardım Sözleşmesi’nin (29 Mayıs 2000) 13. maddesi bir ortak soruşturma ekibi (OSE) oluşturulmasına ilişkin koşulları belirtmektedir.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Buna göre şu hallerde bir OSE oluşturulabilir: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 bir Üye Devletin cezai nitelik taşıyan suçlara yönelik soruşturmaları başka Üye Devletlerle bağlantıları olan güç ve çok çaba içeren soruşturmalar gerektiriyorsa;</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 birkaç Üye Devlet olayın koşulları gereği Üye Devletler arasında koordineli ve birlikte bir süreç yürütülmesini şart koşan soruşturmalar yürütüyorsa.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Bir OSE kurulması ilgili Üye Devletlerin yargı makamlarınca bir Protokol imzalanarak gerçekleştirilecektir.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Bu belge OSE’nin ne kadar süreyle oluşturulduğu, masraf ve harcamaları, hem faaliyet gösterdiği sırada hem de sonrasında OSE’ye yönelik bir değerlendirme takvimi gibi birtakım düzenlemeleri tesis edecektir.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OSE üyeleri geniş soruşturma yetkilerine sahip olabilir. Bunlar arasında şu yetkiler yer alabilir: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 suçların kaydedilmesi,</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 soruşturma tedbirleri alınması,</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 soruşturma tedbirleri alınmasına yardımcı olunması,</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 takip ve gizli operasyonlara girişilmesi veya buna yardımcı olunması.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Ayrıca söz konusu Üye Devletlerin tüm egemenlik alanı içerisinde yetkili olacaklardır.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p:txBody>
      </p:sp>
      <p:sp>
        <p:nvSpPr>
          <p:cNvPr id="180"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042DE-F38C-49B3-A403-996C254663C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3255840" y="504720"/>
            <a:ext cx="3362400" cy="2521080"/>
          </a:xfrm>
          <a:prstGeom prst="rect">
            <a:avLst/>
          </a:prstGeom>
          <a:ln w="0">
            <a:noFill/>
          </a:ln>
        </p:spPr>
      </p:sp>
      <p:sp>
        <p:nvSpPr>
          <p:cNvPr id="182"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800" spc="-1" strike="noStrike" u="sng">
                <a:solidFill>
                  <a:srgbClr val="000000"/>
                </a:solidFill>
                <a:uFillTx/>
                <a:latin typeface="Calibri"/>
              </a:rPr>
              <a:t>Her türlü özel gizlilik şartını vurgulayın:</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Birçok şirket kolluk makamlarına gereken bilgileri verirken aynı zamanda kendileriyle ilgili verilerin aktarılmış olduğunu müşteriye haber verme yükümlülüğü ve hakkı da öngördüğü içindir ki, gizlilik gerekliliklerinin özel olarak belirtilmesi son derece önem taşımaktadır.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800" spc="-1" strike="noStrike" u="sng">
                <a:solidFill>
                  <a:srgbClr val="000000"/>
                </a:solidFill>
                <a:uFillTx/>
                <a:latin typeface="Calibri"/>
              </a:rPr>
              <a:t>Talebin ifasındaki aciliyet düzeyini ve süre sınırlamalarını belirtin</a:t>
            </a:r>
            <a:r>
              <a:rPr b="1" lang="tr-TR" sz="800" spc="-1" strike="noStrike">
                <a:solidFill>
                  <a:srgbClr val="000000"/>
                </a:solidFill>
                <a:latin typeface="Calibri"/>
              </a:rPr>
              <a:t>: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Son derece özel olarak belirtilmiş olsa dahi süre sınırlamalarına uyulması şart değildir, zira KAY talepleri ister istemez vakit almaktadır.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Kolluk makamları açısından en iyi seçenek daima </a:t>
            </a:r>
            <a:r>
              <a:rPr b="0" lang="tr-TR" sz="800" spc="-1" strike="noStrike" u="sng">
                <a:solidFill>
                  <a:srgbClr val="000000"/>
                </a:solidFill>
                <a:uFillTx/>
                <a:latin typeface="Calibri"/>
              </a:rPr>
              <a:t>verilerin dondurulması</a:t>
            </a:r>
            <a:r>
              <a:rPr b="0" lang="tr-TR" sz="800" spc="-1" strike="noStrike">
                <a:solidFill>
                  <a:srgbClr val="000000"/>
                </a:solidFill>
                <a:latin typeface="Calibri"/>
              </a:rPr>
              <a:t> (daha sonra ele alınacağı üzere Budapeşte Sözleşmesi) ve daha sonrasında dondurulmuş verilerin elde edilmesi amacıyla bir KAY talebi hazırlanması olacaktır.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800" spc="-1" strike="noStrike">
                <a:solidFill>
                  <a:srgbClr val="000000"/>
                </a:solidFill>
                <a:latin typeface="Calibri"/>
              </a:rPr>
              <a:t>	</a:t>
            </a:r>
            <a:r>
              <a:rPr b="0" i="1" lang="tr-TR" sz="800" spc="-1" strike="noStrike">
                <a:solidFill>
                  <a:srgbClr val="000000"/>
                </a:solidFill>
                <a:latin typeface="Calibri"/>
              </a:rPr>
              <a:t>Kay talepleri neden bu kadar vakit alıyor?</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	</a:t>
            </a:r>
            <a:r>
              <a:rPr b="0" lang="tr-TR" sz="800" spc="-1" strike="noStrike">
                <a:solidFill>
                  <a:srgbClr val="000000"/>
                </a:solidFill>
                <a:latin typeface="Calibri"/>
              </a:rPr>
              <a:t>- daha önce değinildiği üzere, olayın özetlenmesi, geçerli ulusal yasal düzenlemelerin tespit edilmesi vs. gerekecektir.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	</a:t>
            </a:r>
            <a:r>
              <a:rPr b="0" lang="tr-TR" sz="800" spc="-1" strike="noStrike">
                <a:solidFill>
                  <a:srgbClr val="000000"/>
                </a:solidFill>
                <a:latin typeface="Calibri"/>
              </a:rPr>
              <a:t>- ardından talebin tercüme edilmesi gerekecektir,</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	</a:t>
            </a:r>
            <a:r>
              <a:rPr b="0" lang="tr-TR" sz="800" spc="-1" strike="noStrike">
                <a:solidFill>
                  <a:srgbClr val="000000"/>
                </a:solidFill>
                <a:latin typeface="Calibri"/>
              </a:rPr>
              <a:t>- talebin gönderilmesi ve ulaşması uzun sürebilmektedir: KAY talebi, nihayetinde yetkili kolluk veya yargı makamına  sunulmadan önce belirli diplomatik kanallar aracılığıyla veya bir adalet bakanlığından başka bir adalet bakanlığına gönderilmek durumunda olabilir.</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	</a:t>
            </a:r>
            <a:r>
              <a:rPr b="0" lang="tr-TR" sz="800" spc="-1" strike="noStrike">
                <a:solidFill>
                  <a:srgbClr val="000000"/>
                </a:solidFill>
                <a:latin typeface="Calibri"/>
              </a:rPr>
              <a:t>Ülkenizin bunun aksi düzenlemeler içeren bazı özel iki taraflı anlaşmalar imzalamış olması halinde yukarıda anılan son güçlük yaşanmayacaktır.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800" spc="-1" strike="noStrike" u="sng">
                <a:solidFill>
                  <a:srgbClr val="000000"/>
                </a:solidFill>
                <a:uFillTx/>
                <a:latin typeface="Calibri"/>
              </a:rPr>
              <a:t>Bunlar, KAY taleplerini/Avrupa Soruşturma Emri taleplerini doğrudan kendi yargı makamından yetkili yargı makamına (örneğin Fransa’daki bir savcıdan Almanya’daki bir mahkemeye) iletebilecek Avrupa Birliği Üye Devletleri açısından da geçerli değildir: 29 Mayıs 2000 tarihli sözleşmenin 4. maddesi ve </a:t>
            </a:r>
            <a:r>
              <a:rPr b="1" lang="tr-TR" sz="700" spc="-1" strike="noStrike" u="sng">
                <a:solidFill>
                  <a:srgbClr val="000000"/>
                </a:solidFill>
                <a:uFillTx/>
                <a:latin typeface="Calibri"/>
              </a:rPr>
              <a:t>Ceza İşlerinde Avrupa Soruşturma Emrine ilişkin 2014 tarihli Direktif’in 7. maddesi. </a:t>
            </a:r>
            <a:endParaRPr b="0" lang="en-US" sz="7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u="sng">
                <a:solidFill>
                  <a:srgbClr val="000000"/>
                </a:solidFill>
                <a:uFillTx/>
                <a:latin typeface="Calibri"/>
              </a:rPr>
              <a:t>Şüphelilere ait olası kimlik teşhislerinin mümkün olduğunca isabetli ve düzgün şekilde yapılması</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p:txBody>
      </p:sp>
      <p:sp>
        <p:nvSpPr>
          <p:cNvPr id="183"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287EF-4D9F-4BEC-9630-5BE07850EC3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3255840" y="504720"/>
            <a:ext cx="3362400" cy="2521080"/>
          </a:xfrm>
          <a:prstGeom prst="rect">
            <a:avLst/>
          </a:prstGeom>
          <a:ln w="0">
            <a:noFill/>
          </a:ln>
        </p:spPr>
      </p:sp>
      <p:sp>
        <p:nvSpPr>
          <p:cNvPr id="185"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KAY talepleri tüm taraflar açısından vakit aldığı içindir ki, önceliklerin belirlenmesi önem taşımaktadır.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Siber suç soruşturmalarının bir ucunun yurt dışına dokunması çok olası olup, karşınıza çıkan her siber suç olayında bir KAY talebinde bulunmak son derece ters sonuçlar yaratacaktır.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Şu kriterlerin daima hatırda tutulması gerekmektedir: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	</a:t>
            </a:r>
            <a:r>
              <a:rPr b="0" lang="tr-TR" sz="1000" spc="-1" strike="noStrike">
                <a:solidFill>
                  <a:srgbClr val="000000"/>
                </a:solidFill>
                <a:latin typeface="Calibri"/>
              </a:rPr>
              <a:t>- suçun ağırlığı (çocuk pornografisi veya terörizm gibi),</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	</a:t>
            </a:r>
            <a:r>
              <a:rPr b="0" lang="tr-TR" sz="1000" spc="-1" strike="noStrike">
                <a:solidFill>
                  <a:srgbClr val="000000"/>
                </a:solidFill>
                <a:latin typeface="Calibri"/>
              </a:rPr>
              <a:t>- uğranılan maddi zararın miktarı,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	</a:t>
            </a:r>
            <a:r>
              <a:rPr b="0" lang="tr-TR" sz="1000" spc="-1" strike="noStrike">
                <a:solidFill>
                  <a:srgbClr val="000000"/>
                </a:solidFill>
                <a:latin typeface="Calibri"/>
              </a:rPr>
              <a:t>- mağdurların sayısı,</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	</a:t>
            </a:r>
            <a:r>
              <a:rPr b="0" lang="tr-TR" sz="1000" spc="-1" strike="noStrike">
                <a:solidFill>
                  <a:srgbClr val="000000"/>
                </a:solidFill>
                <a:latin typeface="Calibri"/>
              </a:rPr>
              <a:t>- “kamu düzeni”nin bozulması (örneğin bilgisayar korsanlarınca devlete ait bir web sitesine girilmesi veya sanayi casusluğu),</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	</a:t>
            </a:r>
            <a:r>
              <a:rPr b="0" lang="tr-TR" sz="1000" spc="-1" strike="noStrike">
                <a:solidFill>
                  <a:srgbClr val="000000"/>
                </a:solidFill>
                <a:latin typeface="Calibri"/>
              </a:rPr>
              <a:t>- suçun işlendiği koşullar (örneğin örgütlü suç).</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Son olarak, başlıca telekomünikasyon hizmet sağlayıcılar (FACEBOOK, GOOGLE, TWITTER vb.) Amerika Birleşik Devletleri’nde yer aldığından bu ülkeye pek çok KAY talebi gönderilecektir. ABD bu konuda pek çok talep aldığından, yalnızca en ciddi suç türleriyle bağlantılı taleplerin öncelikli olarak ele alınacağını varsaymak doğru olacaktır. ABD’nin Anglosakson hukukuna dayalı yargı sistemi de geçerli bir sebebin varlığının tespiti amacıyla olaya ilişkin daha kapsamlı bir özet gerektirecektir.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186"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63BCE-D9FB-476D-9990-D2C1D19F208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3255840" y="504720"/>
            <a:ext cx="3362400" cy="2521080"/>
          </a:xfrm>
          <a:prstGeom prst="rect">
            <a:avLst/>
          </a:prstGeom>
          <a:ln w="0">
            <a:noFill/>
          </a:ln>
        </p:spPr>
      </p:sp>
      <p:sp>
        <p:nvSpPr>
          <p:cNvPr id="188"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u="sng">
                <a:solidFill>
                  <a:srgbClr val="000000"/>
                </a:solidFill>
                <a:uFillTx/>
                <a:latin typeface="Calibri"/>
              </a:rPr>
              <a:t>Başka ülkelerdeki uygun irtibat noktasını tespit etmek</a:t>
            </a:r>
            <a:endParaRPr b="0" lang="en-US" sz="7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Ulusal kolluk görevlilerinin ve yargı makamlarının başka ülkelerde dijital delilleri derhal dondurmasına ve/veya elde etmesine imkân sağlayacak uygun irtibat noktalarının tespiti önemlidir.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Veri saklama kuralları bu konudaki iç hukuka bağlı olarak ülkeden ülkeye muazzam değişiklik göstermekte, günler, haftalar ve hatta yıllar biçiminde karşımıza çıkabilmektedir… İşte bu nedenle gerekli dijital verilerin temini için derhal harekete geçilmesi son derece elzemdir.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Lütfen dikkat ediniz:</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Verdana"/>
              </a:rPr>
              <a:t>Avrupa’da veri saklama bilhassa değişkenlik arz etmektedir, zira Avrupa Birliği Adalet Divanı yakın tarihli bir kararında “veri saklama” direktifini geçersiz ilan etmiştir. Bu direktif uyarınca Üye Devletler vatandaşlarının telekomünikasyon verilerini en az altı ay ve en fazla iki yıl boyunca saklama yükümlülüğü altında bulunuyordu. Bu bilgilere erişim izni ise müteakiben verilecek bir mahkeme kararına bağlıydı. </a:t>
            </a:r>
            <a:endParaRPr b="0" lang="en-US" sz="6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Verdana"/>
              </a:rPr>
              <a:t>8 Nisan 2014’te Avrupa Birliği Adalet Divanı, Digital Rights Ireland tarafından İrlanda makamlarına ve başkaca makamlara karşı açılan bir davada bu direktifi geçersiz ilan etmiştir. Direktifin sınırlı amaç ve orantılılık ilkelerini ihlal ettiğine ve bireylerin özel hayatının gizliliği hakkıyla çeliştiğine hükmetmiştir. </a:t>
            </a:r>
            <a:endParaRPr b="0" lang="en-US" sz="6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Verdana"/>
              </a:rPr>
              <a:t>Mahkeme kararının ardından itiraz konusu yapılabilecek diğer AB yasaları ve yasa teklifleri arasında, bir AB veri koruma yönetmeliği tasarısı ile birlikte müzakere edilmekte olan, kolluk makamlarınca verilerin işlenmesine ilişkin AB direktifi tasarısı, bir AB Yolcu İsim Kaydı direktifi tasarısı, Avrupa Terör Finansmanı Takip Sistemi tasarıları, sığınmacıların parmak izlerini içeren Eurodac kolluk veri tabanına hükümetlerin erişimine ilişkin kurallar ve AB sınırlarından geçen yolcuları izleyen bir giriş-çıkış sistemine ilişkin tasarılar yer almaktadır. </a:t>
            </a:r>
            <a:endParaRPr b="0" lang="en-US" sz="6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Verdana"/>
              </a:rPr>
              <a:t>Veri Saklama Direktifi’nin uygulamaya geçirilmesi amacıyla çıkartılmış olan ulusal yasalar üzerindeki doğrudan etki bakımından ise AB ülkeleri mahkeme kararına farklı şekillerde yanıt vermiş bulunmaktadır. Üye devletlerdeki veri koruma makamları genellikle yasakoyucuların iradesini yansıtacak kararlar vermişlerdir</a:t>
            </a:r>
            <a:r>
              <a:rPr b="0" lang="tr-TR" sz="600" spc="-1" strike="noStrike">
                <a:solidFill>
                  <a:srgbClr val="000000"/>
                </a:solidFill>
                <a:latin typeface="Calibri"/>
              </a:rPr>
              <a:t>.</a:t>
            </a:r>
            <a:endParaRPr b="0" lang="en-US" sz="6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Ancak, Avrupa ülkelerinde veri saklama kurallarının statüsü bahsi geçen yargı kararı sonucunda bir şekilde muğlak hale gelmiştir. Bu nedenledir ki, Avrupa Birliği Üye Devletleri ile işbirliği yaparken dahi Budapeşte Sözleşmesi’ndeki yasal düzenlemeler kullanılarak süratle harekete geçilmesi ve verilerin dondurulması gerekli olabilir.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u="sng">
                <a:solidFill>
                  <a:srgbClr val="000000"/>
                </a:solidFill>
                <a:uFillTx/>
                <a:latin typeface="Calibri"/>
              </a:rPr>
              <a:t>Resmi karşılıklı adli yardım talebi sunmadan önce uygun mevkidaşlar ile gayrıresmi temaslar kurmak</a:t>
            </a:r>
            <a:endParaRPr b="0" lang="en-US" sz="7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Bir KAY talebi göndermeden önce ilgili mevkidaşlar ile önceden temasa geçmek faydalı olabilir. Böylece: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 mevkidaşınızın sizin gönderdiğiniz KAY talebini beklemesi ve tespit etmesi mümkün olacak,</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 mevkidaşınızla dosyanın içeriği ve ihtiyaç duyduğunuz delil hakkında önce gayriresmi bir iletişim kurmanız sağlanacak,</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 en nihayetinde de mevkidaşınıza dosya üzerinde önceden çalışmaya başlama imkânı verilmiş olacaktır.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İlgili mevkidaşın saptanması bakımından, muhtemelen bir kolluk veya yargı görevlisi ile bağlantı kurup size bilgi verebilecek yurtdışındaki büyükelçiliğiniz ile temasa geçmeniz faydalı olabilir. Ceza İşleri Avrupa Yargı Ağı (EJN) da bilgi ve irtibat bilgisi sunabilir.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p:txBody>
      </p:sp>
      <p:sp>
        <p:nvSpPr>
          <p:cNvPr id="189"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127B2-398B-49E4-9E5D-ACCA07A568A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3255840" y="504720"/>
            <a:ext cx="3362400" cy="2521080"/>
          </a:xfrm>
          <a:prstGeom prst="rect">
            <a:avLst/>
          </a:prstGeom>
          <a:ln w="0">
            <a:noFill/>
          </a:ln>
        </p:spPr>
      </p:sp>
      <p:sp>
        <p:nvSpPr>
          <p:cNvPr id="191"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u="sng">
                <a:solidFill>
                  <a:srgbClr val="000000"/>
                </a:solidFill>
                <a:uFillTx/>
                <a:latin typeface="Calibri"/>
              </a:rPr>
              <a:t>Yargılama yetkisi</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Siber suçlar ve elektronik deliller ile ilgili konularda temel hususlardan biri, yargılama yetkisinin usulünce tespitidir. Yargılama yetkisi belirlenirken çeşitli faktörler göz önüne alınmalıdır: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          Delillerin yeri</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          Faillerin yeri</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          Mağdurların yeri</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          Verilerin mülkiyeti</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          Hizmet sağlayıcının fiziki yeri</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          Hizmet sağlayıcıların yasal ikametgâhı</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Bulut Delil Grubu (Cloud Evidence Group) tarafından yapılan bir çalışmada dile getirildiği üzere, bu hususlar bulut verilerin özelliği düşünülecek olduğunda bilhassa önem arz etmektedir.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u="sng">
                <a:solidFill>
                  <a:srgbClr val="000000"/>
                </a:solidFill>
                <a:uFillTx/>
                <a:latin typeface="Calibri"/>
              </a:rPr>
              <a:t>Saat dilimleri</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Uluslararası işbirliği, yardım talep ediyor olabileceğiniz bir yerde farklı bir saat diliminin geçerli olması ve bunun da talepler cevaplanırken ve bazı durumlarda talepte bulunulurken dahi gecikmeler yaşanmasına yol açabileceği konusunda bir kavrayış gerektirir. Bazı ülkelerde acil taleplerin süratle alınması ve cevaplanması yönünde yetkilendirilmiş 7/24 çalışan irtibat noktaları bulunmaktadır. Ancak başka bazı ülkelerde uluslararası telefon görüşmelerine dahi erişim bulunmadığından, işbirliği güç ve masraflı olabilmektedir. </a:t>
            </a:r>
            <a:endParaRPr b="0" lang="en-US" sz="1000" spc="-1" strike="noStrike">
              <a:solidFill>
                <a:srgbClr val="000000"/>
              </a:solidFill>
              <a:latin typeface="Calibri"/>
            </a:endParaRPr>
          </a:p>
        </p:txBody>
      </p:sp>
      <p:sp>
        <p:nvSpPr>
          <p:cNvPr id="192"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542EF-72EF-429C-87BD-E60DECBBDC3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3255840" y="504720"/>
            <a:ext cx="3362400" cy="2521080"/>
          </a:xfrm>
          <a:prstGeom prst="rect">
            <a:avLst/>
          </a:prstGeom>
          <a:ln w="0">
            <a:noFill/>
          </a:ln>
        </p:spPr>
      </p:sp>
      <p:sp>
        <p:nvSpPr>
          <p:cNvPr id="194"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100" spc="-1" strike="noStrike" u="sng">
                <a:solidFill>
                  <a:srgbClr val="000000"/>
                </a:solidFill>
                <a:uFillTx/>
                <a:latin typeface="Calibri"/>
              </a:rPr>
              <a:t>Evrakların tercümesi</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İki taraflı ve çok taraflı sözleşmeler genellikle KAY taleplerinin hangi dillerde sunulabileceğini ve tercüme gerekip gerekmediğini belirtir. Örneğin </a:t>
            </a:r>
            <a:r>
              <a:rPr b="0" lang="tr-TR" sz="800" spc="-1" strike="noStrike">
                <a:solidFill>
                  <a:srgbClr val="000000"/>
                </a:solidFill>
                <a:latin typeface="Calibri"/>
              </a:rPr>
              <a:t>Avrupa Birliği Üye Devletleri arasında Karşılıklı Adli Yardım Sözleşmesi’nin (29 Mayıs 2000) 5. maddesi hitap edilen makamın bir belgenin dilini anlamayacağını düşünmek için haklı bir sebep bulunan durumlarda belgenin veya hiç değilse önemli bölümlerinin tercüme edilmesi gerektiğini öngörmektedir. </a:t>
            </a:r>
            <a:endParaRPr b="0" lang="en-US" sz="8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Siber suç soruşturmalarında uluslararası işbirliğini gerektiren çok sayıda durum söz konusu olabileceğinden, birlikte çalıştığınız tercümanların çıkardığı işin kalitesinden ve ayrıca siber suç KAY taleplerinde sık kullanılan daha teknik terimleri tercüme edebilecek kapasiteye sahip olduklarından emin olmak önemlidir.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100" spc="-1" strike="noStrike" u="sng">
                <a:solidFill>
                  <a:srgbClr val="000000"/>
                </a:solidFill>
                <a:uFillTx/>
                <a:latin typeface="Calibri"/>
              </a:rPr>
              <a:t>Dil engelleri</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irçok KAY talebinde ilgili kolluk makamlarının ve savcıların hangi dilleri konuşabildiği belirtilmektedir.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Telefonla iletişim kuruluyorsa, söylemeniz gereken şeyleri ve uygun teknik ya da hukuki terimleri önceden hazırlamak faydalı olabilir.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Ayrıca, bazen yabancı bir dilde eposta yoluyla iletişim kurmak daha kolay olabilir.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195"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D2EC0-8CA2-4180-A270-2A3ED2D97B5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3255840" y="504720"/>
            <a:ext cx="3362400" cy="2521080"/>
          </a:xfrm>
          <a:prstGeom prst="rect">
            <a:avLst/>
          </a:prstGeom>
          <a:ln w="0">
            <a:noFill/>
          </a:ln>
        </p:spPr>
      </p:sp>
      <p:sp>
        <p:nvSpPr>
          <p:cNvPr id="197"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000" spc="-1" strike="noStrike" u="sng">
                <a:solidFill>
                  <a:srgbClr val="000000"/>
                </a:solidFill>
                <a:uFillTx/>
                <a:latin typeface="Calibri"/>
              </a:rPr>
              <a:t>Farklı ülkelerde siber suç soruşturmalarının farklı önem seviyelerine sahip olması dolayısıyla yaşanacak gecikmeler:</a:t>
            </a:r>
            <a:r>
              <a:rPr b="1" lang="tr-TR" sz="1000" spc="-1" strike="noStrike">
                <a:solidFill>
                  <a:srgbClr val="000000"/>
                </a:solidFill>
                <a:latin typeface="Calibri"/>
              </a:rPr>
              <a:t>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ff0000"/>
                </a:solidFill>
                <a:latin typeface="Calibri"/>
              </a:rPr>
              <a:t>Bütün ülkelerde siber suç soruşturmalarını yürütmek üzere eğitim almış ve bu donanıma sahip uzman bir kolluk sistemi veya yargı yapısı bulunmamaktadır.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000" spc="-1" strike="noStrike" u="sng">
                <a:solidFill>
                  <a:srgbClr val="ff0000"/>
                </a:solidFill>
                <a:uFillTx/>
                <a:latin typeface="Calibri"/>
              </a:rPr>
              <a:t>Teknik destek ve uzman desteği sağlanması:</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ff0000"/>
                </a:solidFill>
                <a:latin typeface="Calibri"/>
              </a:rPr>
              <a:t>Bir KAY talebinde bulunulurken ve hangi soruşturma işlemlerine ihtiyacınız olduğu ve hangi sonuçları elde etmeyi amaçladığınız detaylandırılırken yeterince açık ve net olabilmek için teknik destek ve uzman desteği temin edilebilir (</a:t>
            </a:r>
            <a:r>
              <a:rPr b="0" lang="tr-TR" sz="1000" spc="-1" strike="noStrike" u="sng">
                <a:solidFill>
                  <a:srgbClr val="ff0000"/>
                </a:solidFill>
                <a:uFillTx/>
                <a:latin typeface="Calibri"/>
              </a:rPr>
              <a:t>bkz. slayt 55</a:t>
            </a:r>
            <a:r>
              <a:rPr b="0" lang="tr-TR" sz="1000" spc="-1" strike="noStrike">
                <a:solidFill>
                  <a:srgbClr val="ff0000"/>
                </a:solidFill>
                <a:latin typeface="Calibri"/>
              </a:rPr>
              <a:t>). Bu hususlar kolluk görevlileri ve savcılar arasındaki doğrudan ve gayriresmi temaslar sırasında da söz konusu edilebilir.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ff0000"/>
                </a:solidFill>
                <a:latin typeface="Calibri"/>
              </a:rPr>
              <a:t>Bu destek bir ortak soruşturma ekibi (OSE) anlaşması imzalanmak suretiyle daha resmi bir bağlamda da temin edilebilir (</a:t>
            </a:r>
            <a:r>
              <a:rPr b="0" lang="tr-TR" sz="1000" spc="-1" strike="noStrike" u="sng">
                <a:solidFill>
                  <a:srgbClr val="ff0000"/>
                </a:solidFill>
                <a:uFillTx/>
                <a:latin typeface="Calibri"/>
              </a:rPr>
              <a:t>bkz. slayt 61</a:t>
            </a:r>
            <a:r>
              <a:rPr b="0" lang="tr-TR" sz="1000" spc="-1" strike="noStrike">
                <a:solidFill>
                  <a:srgbClr val="ff0000"/>
                </a:solidFill>
                <a:latin typeface="Calibri"/>
              </a:rPr>
              <a:t>).</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ff0000"/>
                </a:solidFill>
                <a:latin typeface="Calibri"/>
              </a:rPr>
              <a:t>Genel olarak, tüm KAY taleplerinin kendi başınıza hiçbir şekilde yapamayacağınız soruşturma işlemleriyle sınırlanması uygun olacaktır. Örneğin bir bilgisayara el konulup incelenmesi gerekiyorsa, en iyisi, yardım talep edilen kolluk makamından söz konusu bilgisayara el koyup size göndermesini istemek olacaktır. Bunun ardından kendi kolluk görevlilerinizden veya uzmanlarınızdan bilgisayarı incelemelerini isteyebilir ve bu işlemin sizin kendi ulusal mevzuatınıza uygun bir şekilde yapıldığından emin olabilirsiniz.</a:t>
            </a:r>
            <a:endParaRPr b="0" lang="en-US" sz="10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3255840" y="504720"/>
            <a:ext cx="3362400" cy="2521080"/>
          </a:xfrm>
          <a:prstGeom prst="rect">
            <a:avLst/>
          </a:prstGeom>
          <a:ln w="0">
            <a:noFill/>
          </a:ln>
        </p:spPr>
      </p:sp>
      <p:sp>
        <p:nvSpPr>
          <p:cNvPr id="199"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Örneğin, tanık ifadelerinin alınması veya bankacılık evrakları ve mali deliller gibi daha geleneksel soruşturma biçimlerinin kullanılması ilginç olabilir (</a:t>
            </a:r>
            <a:r>
              <a:rPr b="0" lang="tr-TR" sz="1200" spc="-1" strike="noStrike" u="sng">
                <a:solidFill>
                  <a:srgbClr val="000000"/>
                </a:solidFill>
                <a:uFillTx/>
                <a:latin typeface="Calibri"/>
              </a:rPr>
              <a:t>slayt 56 ve 57</a:t>
            </a:r>
            <a:r>
              <a:rPr b="0" lang="tr-TR"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iber suçlar sanal bir dünya gibi görünebilir, fakat bu suçları işleyen insanlar da bunu başka herhangi bir suçla aynı temel güdü doğrultusunda işlemekted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a:t>
            </a:r>
            <a:r>
              <a:rPr b="0" lang="tr-TR" sz="1200" spc="-1" strike="noStrike">
                <a:solidFill>
                  <a:srgbClr val="000000"/>
                </a:solidFill>
                <a:latin typeface="Calibri"/>
              </a:rPr>
              <a:t>Para akışı”nın izlenmesi ve suçtan kimin kazanç sağladığının tespit edilmesi çoğu zaman siber suçların etkili bir şekilde soruşturulmasının en başlıca ve basit yollarından birini oluşturur. </a:t>
            </a:r>
            <a:endParaRPr b="0" lang="en-US" sz="1200" spc="-1" strike="noStrike">
              <a:solidFill>
                <a:srgbClr val="000000"/>
              </a:solidFill>
              <a:latin typeface="Calibri"/>
            </a:endParaRPr>
          </a:p>
        </p:txBody>
      </p:sp>
      <p:sp>
        <p:nvSpPr>
          <p:cNvPr id="200"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4EC04-EA23-4D4C-9D95-329341EC96A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3255840" y="504720"/>
            <a:ext cx="3362400" cy="2521080"/>
          </a:xfrm>
          <a:prstGeom prst="rect">
            <a:avLst/>
          </a:prstGeom>
          <a:ln w="0">
            <a:noFill/>
          </a:ln>
        </p:spPr>
      </p:sp>
      <p:sp>
        <p:nvSpPr>
          <p:cNvPr id="202"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ğitmen, katılımcılara dersin İkinci Bölümü ile ilgili sormak istedikleri her türlü soruyu sorma fırsatı tanımalıdır. </a:t>
            </a:r>
            <a:endParaRPr b="0" lang="en-US" sz="1200" spc="-1" strike="noStrike">
              <a:solidFill>
                <a:srgbClr val="000000"/>
              </a:solidFill>
              <a:latin typeface="Calibri"/>
            </a:endParaRPr>
          </a:p>
        </p:txBody>
      </p:sp>
      <p:sp>
        <p:nvSpPr>
          <p:cNvPr id="203"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E0308-81F5-4726-AF18-3549745DB12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3255840" y="504720"/>
            <a:ext cx="3362400" cy="2521080"/>
          </a:xfrm>
          <a:prstGeom prst="rect">
            <a:avLst/>
          </a:prstGeom>
          <a:ln w="0">
            <a:noFill/>
          </a:ln>
        </p:spPr>
      </p:sp>
      <p:sp>
        <p:nvSpPr>
          <p:cNvPr id="152"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3"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64FDF-7FF7-428E-8659-658C943BE47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4A7E97-7567-4846-8127-DC0A5F522B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68360" y="22762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59F653-2571-44F6-A1E2-834995191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4843CC-711B-4D14-91AD-A7536C00FD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6836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5080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3324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6836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5080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3324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452842-3E20-4EA0-9596-470EA75904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68360" y="2276280"/>
            <a:ext cx="8229600" cy="3917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BEDA2F-3CCC-4C58-839F-0FAC57D1CF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68360" y="2276280"/>
            <a:ext cx="82296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3586C7-941D-4D0D-B76A-12FC7F3A57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97E5E8-F458-43A2-A1C1-E45384FE11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2411EE-60A9-4952-9DFE-0D585CF6C1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68360" y="1052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8C897C-CCDA-4A1C-9161-741E6E6CA5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ABB0C-7783-44D9-AC0C-923B2468A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0A512-E28B-458A-90B6-D43EC2523D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AFC33-B3AF-407F-87DA-C4C0C61A5D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68360" y="2276280"/>
            <a:ext cx="8229600" cy="391788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384A7-B6EE-4020-BA78-80E42D2E25BA}"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 name="Rectangle 6"/>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 name="Picture 4" descr=""/>
          <p:cNvPicPr/>
          <p:nvPr/>
        </p:nvPicPr>
        <p:blipFill>
          <a:blip r:embed="rId2"/>
          <a:stretch/>
        </p:blipFill>
        <p:spPr>
          <a:xfrm>
            <a:off x="-9360" y="-22320"/>
            <a:ext cx="1322280" cy="1079640"/>
          </a:xfrm>
          <a:prstGeom prst="rect">
            <a:avLst/>
          </a:prstGeom>
          <a:ln w="0">
            <a:noFill/>
          </a:ln>
        </p:spPr>
      </p:pic>
      <p:sp>
        <p:nvSpPr>
          <p:cNvPr id="7"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ea typeface="MS PGothic"/>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ea typeface="MS PGothic"/>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8" name="Picture 8" descr="http://www.coe.int/documents/16695/995226/Funded+EU%2BCOE+-+Implemented+COE+dark+background.png/643b8f9d-517b-4fad-82f4-488bde2625b0?t=1375371137000?t=1375371137000"/>
          <p:cNvPicPr/>
          <p:nvPr/>
        </p:nvPicPr>
        <p:blipFill>
          <a:blip r:embed="rId3"/>
          <a:stretch/>
        </p:blipFill>
        <p:spPr>
          <a:xfrm>
            <a:off x="4876920" y="189000"/>
            <a:ext cx="4087800" cy="711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Rectangle 11"/>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4" name="Picture 4" descr=""/>
          <p:cNvPicPr/>
          <p:nvPr/>
        </p:nvPicPr>
        <p:blipFill>
          <a:blip r:embed="rId1"/>
          <a:stretch/>
        </p:blipFill>
        <p:spPr>
          <a:xfrm>
            <a:off x="-9360" y="-22320"/>
            <a:ext cx="1322280" cy="1079640"/>
          </a:xfrm>
          <a:prstGeom prst="rect">
            <a:avLst/>
          </a:prstGeom>
          <a:ln w="0">
            <a:noFill/>
          </a:ln>
        </p:spPr>
      </p:pic>
      <p:sp>
        <p:nvSpPr>
          <p:cNvPr id="55"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6" name="Rectangle 14"/>
          <p:cNvSpPr/>
          <p:nvPr/>
        </p:nvSpPr>
        <p:spPr>
          <a:xfrm>
            <a:off x="0" y="6813720"/>
            <a:ext cx="9180360" cy="58680"/>
          </a:xfrm>
          <a:prstGeom prst="rect">
            <a:avLst/>
          </a:prstGeom>
          <a:gradFill rotWithShape="0">
            <a:gsLst>
              <a:gs pos="0">
                <a:srgbClr val="286196"/>
              </a:gs>
              <a:gs pos="100000">
                <a:srgbClr val="133555"/>
              </a:gs>
            </a:gsLst>
            <a:lin ang="10800000"/>
          </a:gradFill>
          <a:ln w="0">
            <a:noFill/>
          </a:ln>
        </p:spPr>
        <p:style>
          <a:lnRef idx="0"/>
          <a:fillRef idx="0"/>
          <a:effectRef idx="0"/>
          <a:fontRef idx="minor"/>
        </p:style>
        <p:txBody>
          <a:bodyPr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Rectangle 15"/>
          <p:cNvSpPr/>
          <p:nvPr/>
        </p:nvSpPr>
        <p:spPr>
          <a:xfrm>
            <a:off x="-36360" y="6669000"/>
            <a:ext cx="9180360" cy="239760"/>
          </a:xfrm>
          <a:prstGeom prst="rect">
            <a:avLst/>
          </a:prstGeom>
          <a:gradFill rotWithShape="0">
            <a:gsLst>
              <a:gs pos="0">
                <a:srgbClr val="286196"/>
              </a:gs>
              <a:gs pos="100000">
                <a:srgbClr val="133555"/>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8" name="Picture 8" descr="http://www.coe.int/documents/16695/995226/Funded+EU%2BCOE+-+Implemented+COE+dark+background.png/643b8f9d-517b-4fad-82f4-488bde2625b0?t=1375371137000?t=1375371137000"/>
          <p:cNvPicPr/>
          <p:nvPr/>
        </p:nvPicPr>
        <p:blipFill>
          <a:blip r:embed="rId2"/>
          <a:stretch/>
        </p:blipFill>
        <p:spPr>
          <a:xfrm>
            <a:off x="4876920" y="189000"/>
            <a:ext cx="4087800" cy="711000"/>
          </a:xfrm>
          <a:prstGeom prst="rect">
            <a:avLst/>
          </a:prstGeom>
          <a:ln w="0">
            <a:noFill/>
          </a:ln>
        </p:spPr>
      </p:pic>
      <p:sp>
        <p:nvSpPr>
          <p:cNvPr id="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ULUSLARARASI İŞBİRLİĞİ</a:t>
            </a:r>
            <a:endParaRPr b="0" lang="en-US" sz="4000" spc="-1" strike="noStrike">
              <a:solidFill>
                <a:srgbClr val="000000"/>
              </a:solidFill>
              <a:latin typeface="Calibri"/>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898989"/>
                </a:solidFill>
                <a:latin typeface="Calibri"/>
              </a:rPr>
              <a:t>Oturum 1.3.4</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Uluslararası işbirliği </a:t>
            </a:r>
            <a:r>
              <a:rPr b="1" lang="tr-TR" sz="2800" spc="-1" strike="noStrike">
                <a:solidFill>
                  <a:srgbClr val="000000"/>
                </a:solidFill>
                <a:latin typeface="Calibri"/>
              </a:rPr>
              <a:t>– </a:t>
            </a:r>
            <a:r>
              <a:rPr b="0" lang="tr-TR" sz="2800" spc="-1" strike="noStrike">
                <a:solidFill>
                  <a:srgbClr val="000000"/>
                </a:solidFill>
                <a:latin typeface="Calibri"/>
              </a:rPr>
              <a:t>genel ilkeler</a:t>
            </a:r>
            <a:endParaRPr b="0" lang="en-US" sz="2800" spc="-1" strike="noStrike">
              <a:solidFill>
                <a:srgbClr val="000000"/>
              </a:solidFill>
              <a:latin typeface="Calibri"/>
            </a:endParaRPr>
          </a:p>
        </p:txBody>
      </p:sp>
      <p:graphicFrame>
        <p:nvGraphicFramePr>
          <p:cNvPr id="78" name=""/>
          <p:cNvGraphicFramePr/>
          <p:nvPr/>
        </p:nvGraphicFramePr>
        <p:xfrm>
          <a:off x="468360" y="1773360"/>
          <a:ext cx="8064360" cy="4824360"/>
        </p:xfrm>
        <a:graphic>
          <a:graphicData uri="http://schemas.openxmlformats.org/drawingml/2006/table">
            <a:tbl>
              <a:tblPr/>
              <a:tblGrid>
                <a:gridCol w="3959280"/>
                <a:gridCol w="4105080"/>
              </a:tblGrid>
              <a:tr h="482436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Budapeşte Sözleşmesi</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23-25. madde)</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Tarafl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siber suçlar (2-10. mad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veya bir suça ilişkin olarak </a:t>
                      </a:r>
                      <a:r>
                        <a:rPr b="0" lang="tr-TR" sz="1800" spc="-1" strike="noStrike" u="sng">
                          <a:solidFill>
                            <a:srgbClr val="000000"/>
                          </a:solidFill>
                          <a:uFillTx/>
                          <a:latin typeface="Calibri"/>
                        </a:rPr>
                        <a:t>elektronik ortamda delil</a:t>
                      </a:r>
                      <a:r>
                        <a:rPr b="0" lang="tr-TR" sz="1800" spc="-1" strike="noStrike">
                          <a:solidFill>
                            <a:srgbClr val="000000"/>
                          </a:solidFill>
                          <a:latin typeface="Calibri"/>
                        </a:rPr>
                        <a:t> toplanması amacıyl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soruşturma ve yargılama yapılmasını teminen karşılıklı işbirliğinde bulunacaktır.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Varşova Sözleşmesi</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15. madde)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Tarafl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000000"/>
                          </a:solidFill>
                          <a:uFillTx/>
                          <a:latin typeface="Calibri"/>
                        </a:rPr>
                        <a:t>gelirlerin ve suç araçlarının müsaderesi </a:t>
                      </a:r>
                      <a:r>
                        <a:rPr b="0" lang="tr-TR" sz="1800" spc="-1" strike="noStrike">
                          <a:solidFill>
                            <a:srgbClr val="000000"/>
                          </a:solidFill>
                          <a:latin typeface="Calibri"/>
                        </a:rPr>
                        <a:t>amacıyla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soruşturma ve yargılama yapılmasını teminen karşılıklı işbirliğinde bulunacaktır.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Talepler: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belirli mal unsurlarının müsaderesi</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gelirlerin değerine tekabül eden bir para miktarının ödenmesi</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soruşturma yardımında bulunulması</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müsadere amacıyla geçici önlemler alınması.</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Uluslararası işbirliği – </a:t>
            </a:r>
            <a:r>
              <a:rPr b="0" lang="tr-TR" sz="2800" spc="-1" strike="noStrike">
                <a:solidFill>
                  <a:srgbClr val="000000"/>
                </a:solidFill>
                <a:latin typeface="Calibri"/>
              </a:rPr>
              <a:t>geçici tedbirler</a:t>
            </a:r>
            <a:endParaRPr b="0" lang="en-US" sz="2800" spc="-1" strike="noStrike">
              <a:solidFill>
                <a:srgbClr val="000000"/>
              </a:solidFill>
              <a:latin typeface="Calibri"/>
            </a:endParaRPr>
          </a:p>
        </p:txBody>
      </p:sp>
      <p:graphicFrame>
        <p:nvGraphicFramePr>
          <p:cNvPr id="80" name=""/>
          <p:cNvGraphicFramePr/>
          <p:nvPr/>
        </p:nvGraphicFramePr>
        <p:xfrm>
          <a:off x="468360" y="1773360"/>
          <a:ext cx="8064360" cy="4765680"/>
        </p:xfrm>
        <a:graphic>
          <a:graphicData uri="http://schemas.openxmlformats.org/drawingml/2006/table">
            <a:tbl>
              <a:tblPr/>
              <a:tblGrid>
                <a:gridCol w="3960720"/>
                <a:gridCol w="4103640"/>
              </a:tblGrid>
              <a:tr h="2670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Budapeşte Sözleşmesi</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29-30. madde)</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Depolanan bilgisayar verilerinin süratli şekilde korunması</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Korunan trafik verilerinin süratli şekilde açıklanması</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Varşova Sözleşmesi</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21-22. madde)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Mallara yönelik her türlü muamelenin, devrin veya tasarrufun önlenmesi için </a:t>
                      </a:r>
                      <a:r>
                        <a:rPr b="0" lang="tr-TR" sz="1800" spc="-1" strike="noStrike" u="sng">
                          <a:solidFill>
                            <a:srgbClr val="000000"/>
                          </a:solidFill>
                          <a:uFillTx/>
                          <a:latin typeface="Calibri"/>
                        </a:rPr>
                        <a:t>dondurma veya el koyma</a:t>
                      </a:r>
                      <a:r>
                        <a:rPr b="0" lang="tr-TR" sz="1800" spc="-1" strike="noStrike">
                          <a:solidFill>
                            <a:srgbClr val="000000"/>
                          </a:solidFill>
                          <a:latin typeface="Calibri"/>
                        </a:rPr>
                        <a:t> v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geçici önlem bakımından </a:t>
                      </a:r>
                      <a:r>
                        <a:rPr b="0" lang="tr-TR" sz="1800" spc="-1" strike="noStrike" u="sng">
                          <a:solidFill>
                            <a:srgbClr val="000000"/>
                          </a:solidFill>
                          <a:uFillTx/>
                          <a:latin typeface="Calibri"/>
                        </a:rPr>
                        <a:t>önem arz eden tüm bilgileri kendiliğinden</a:t>
                      </a:r>
                      <a:r>
                        <a:rPr b="0" lang="tr-TR" sz="1800" spc="-1" strike="noStrike">
                          <a:solidFill>
                            <a:srgbClr val="000000"/>
                          </a:solidFill>
                          <a:latin typeface="Calibri"/>
                        </a:rPr>
                        <a:t> temin etme.</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2095560">
                <a:tc gridSpan="2">
                  <a:txBody>
                    <a:bodyPr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Kendiliğinden bilgi verme</a:t>
                      </a:r>
                      <a:endParaRPr b="0" lang="en-US" sz="2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Budapeşte Sözleşmesi, 26. madde) ve (Varşova Sözleşmesi, 20. madde): </a:t>
                      </a:r>
                      <a:endParaRPr b="0" lang="en-US" sz="1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Taraflardan biri, kendi iç hukukunun sınırları çerçevesinde ve önceden bir talep olmaksızın, kendi yürüttüğü soruşturmalar çerçevesinde edinilen bilgileri, söz konusu bilgilerin açıklanmasının bilgileri alan Tarafa işbu Sözleşmede tanımlanan </a:t>
                      </a:r>
                      <a:r>
                        <a:rPr b="1" lang="tr-TR" sz="1800" spc="-1" strike="noStrike">
                          <a:solidFill>
                            <a:srgbClr val="000000"/>
                          </a:solidFill>
                          <a:latin typeface="Calibri"/>
                        </a:rPr>
                        <a:t>cezai suçlara ilişkin soruşturma ve davaların başlatılması ve yürütülmesi </a:t>
                      </a:r>
                      <a:r>
                        <a:rPr b="0" lang="tr-TR" sz="1800" spc="-1" strike="noStrike">
                          <a:solidFill>
                            <a:srgbClr val="000000"/>
                          </a:solidFill>
                          <a:latin typeface="Calibri"/>
                        </a:rPr>
                        <a:t>konusunda yardımcı olabileceğini veya ilgili Tarafın bu bölüm çerçevesinde işbirliği talebinde bulunmasına neden olabileceğini düşündüğü takdirde başka bir Tarafa iletebilir.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b7de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Uluslararası işbirliği – </a:t>
            </a:r>
            <a:r>
              <a:rPr b="0" lang="tr-TR" sz="2800" spc="-1" strike="noStrike">
                <a:solidFill>
                  <a:srgbClr val="000000"/>
                </a:solidFill>
                <a:latin typeface="Calibri"/>
              </a:rPr>
              <a:t>soruşturma yardımı</a:t>
            </a:r>
            <a:endParaRPr b="0" lang="en-US" sz="2800" spc="-1" strike="noStrike">
              <a:solidFill>
                <a:srgbClr val="000000"/>
              </a:solidFill>
              <a:latin typeface="Calibri"/>
            </a:endParaRPr>
          </a:p>
        </p:txBody>
      </p:sp>
      <p:graphicFrame>
        <p:nvGraphicFramePr>
          <p:cNvPr id="82" name=""/>
          <p:cNvGraphicFramePr/>
          <p:nvPr/>
        </p:nvGraphicFramePr>
        <p:xfrm>
          <a:off x="468360" y="1773360"/>
          <a:ext cx="8064360" cy="4751280"/>
        </p:xfrm>
        <a:graphic>
          <a:graphicData uri="http://schemas.openxmlformats.org/drawingml/2006/table">
            <a:tbl>
              <a:tblPr/>
              <a:tblGrid>
                <a:gridCol w="3959280"/>
                <a:gridCol w="4105080"/>
              </a:tblGrid>
              <a:tr h="4751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Budapeşte Sözleşmesi</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31-34. madde)</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Soruşturma yetkileri konusunda karşılıklı yardımlaşma: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Depolanan bilgisayar verilerine erişim;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Depolanan bilgisayar verilerine izinli  şekilde veya bu verilerin halka açık olduğu durumlarda sınır ötesinden erişim</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Trafik verilerinin gerçek zamanlı olarak toplanması konusunda karşılıklı yardım</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İçerik verilerine el konulması konusunda karşılıklı yardımlaşma</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Varşova Sözleşmesi</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16-20. madde)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Taraflar, suç araçlarının ve gelirlerin tespitinde ve takibinde birbirleriyle yardımlaşacaktır; buna bahse konu malın varlığına, mahalline veya hareketine, niteliğine, hukuki statüsüne veya değerine ilişkin delillerin güvence altına alınması da dahildir.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Bu yardım şu talepleri de içermektedir: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banka hesaplarına ilişkin bilgi,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bankacılık işlemlerine ilişkin bilgi,</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bankacılık işlemlerinin izlenmesi,</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kendiliğinden verilen bilgiler.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Uluslararası işbirliği - </a:t>
            </a:r>
            <a:r>
              <a:rPr b="0" lang="tr-TR" sz="2800" spc="-1" strike="noStrike">
                <a:solidFill>
                  <a:srgbClr val="000000"/>
                </a:solidFill>
                <a:latin typeface="Calibri"/>
              </a:rPr>
              <a:t>müsadere</a:t>
            </a:r>
            <a:endParaRPr b="0" lang="en-US" sz="2800" spc="-1" strike="noStrike">
              <a:solidFill>
                <a:srgbClr val="000000"/>
              </a:solidFill>
              <a:latin typeface="Calibri"/>
            </a:endParaRPr>
          </a:p>
        </p:txBody>
      </p:sp>
      <p:graphicFrame>
        <p:nvGraphicFramePr>
          <p:cNvPr id="84" name=""/>
          <p:cNvGraphicFramePr/>
          <p:nvPr/>
        </p:nvGraphicFramePr>
        <p:xfrm>
          <a:off x="468360" y="1773360"/>
          <a:ext cx="8064360" cy="3535200"/>
        </p:xfrm>
        <a:graphic>
          <a:graphicData uri="http://schemas.openxmlformats.org/drawingml/2006/table">
            <a:tbl>
              <a:tblPr/>
              <a:tblGrid>
                <a:gridCol w="3959280"/>
                <a:gridCol w="4105080"/>
              </a:tblGrid>
              <a:tr h="35352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Varşova Sözleşmesi</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23–25. madde)</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23(5). madde: müsadereye eşdeğer tedbirler – cezai yaptırım niteliği olmayan (</a:t>
                      </a:r>
                      <a:r>
                        <a:rPr b="0" lang="tr-TR" sz="1800" spc="-1" strike="noStrike" u="sng">
                          <a:solidFill>
                            <a:srgbClr val="000000"/>
                          </a:solidFill>
                          <a:uFillTx/>
                          <a:latin typeface="Calibri"/>
                        </a:rPr>
                        <a:t>mahkûmiyete dayanmayan müsadere</a:t>
                      </a:r>
                      <a:r>
                        <a:rPr b="0" lang="tr-TR" sz="1800" spc="-1" strike="noStrike">
                          <a:solidFill>
                            <a:srgbClr val="000000"/>
                          </a:solidFill>
                          <a:latin typeface="Calibri"/>
                        </a:rPr>
                        <a: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malvarlığı paylaşım kuralları (</a:t>
                      </a:r>
                      <a:r>
                        <a:rPr b="0" lang="tr-TR" sz="1800" spc="-1" strike="noStrike" u="sng">
                          <a:solidFill>
                            <a:srgbClr val="000000"/>
                          </a:solidFill>
                          <a:uFillTx/>
                          <a:latin typeface="Calibri"/>
                        </a:rPr>
                        <a:t>mağdurlara tazminat, meşru malikler</a:t>
                      </a:r>
                      <a:r>
                        <a:rPr b="0" lang="tr-TR" sz="1800" spc="-1" strike="noStrike">
                          <a:solidFill>
                            <a:srgbClr val="000000"/>
                          </a:solidFill>
                          <a:latin typeface="Calibri"/>
                        </a:rPr>
                        <a: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Müsader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u="sng">
                          <a:solidFill>
                            <a:srgbClr val="000000"/>
                          </a:solidFill>
                          <a:uFillTx/>
                          <a:latin typeface="Calibri"/>
                        </a:rPr>
                        <a:t>bir müsadere emrinin icraya konulması</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ya da </a:t>
                      </a:r>
                      <a:r>
                        <a:rPr b="0" lang="tr-TR" sz="1800" spc="-1" strike="noStrike" u="sng">
                          <a:solidFill>
                            <a:srgbClr val="000000"/>
                          </a:solidFill>
                          <a:uFillTx/>
                          <a:latin typeface="Calibri"/>
                        </a:rPr>
                        <a:t>bir müsadere emri çıkartılması</a:t>
                      </a:r>
                      <a:r>
                        <a:rPr b="0" lang="tr-TR" sz="1800" spc="-1" strike="noStrike">
                          <a:solidFill>
                            <a:srgbClr val="000000"/>
                          </a:solidFill>
                          <a:latin typeface="Calibri"/>
                        </a:rPr>
                        <a:t> ve icraya konulması amacıyla yetkili makamlara talepte bulunulması</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gelirlerin değerine tekabül eden bir para miktarının ödenmesi veya belirli bir eşyanın müsaderesi talebi de dahil olmak üzer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Uluslararası işbirliği</a:t>
            </a:r>
            <a:endParaRPr b="0" lang="en-US" sz="2800" spc="-1" strike="noStrike">
              <a:solidFill>
                <a:srgbClr val="000000"/>
              </a:solidFill>
              <a:latin typeface="Calibri"/>
            </a:endParaRPr>
          </a:p>
        </p:txBody>
      </p:sp>
      <p:graphicFrame>
        <p:nvGraphicFramePr>
          <p:cNvPr id="86" name=""/>
          <p:cNvGraphicFramePr/>
          <p:nvPr/>
        </p:nvGraphicFramePr>
        <p:xfrm>
          <a:off x="468360" y="1773360"/>
          <a:ext cx="8064360" cy="5029200"/>
        </p:xfrm>
        <a:graphic>
          <a:graphicData uri="http://schemas.openxmlformats.org/drawingml/2006/table">
            <a:tbl>
              <a:tblPr/>
              <a:tblGrid>
                <a:gridCol w="3959280"/>
                <a:gridCol w="4105080"/>
              </a:tblGrid>
              <a:tr h="50292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Budapeşte Sözleşmesi</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7/24 ağı (35. madde)</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Her bir Taraf:</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bilgisayar sistemleri ve verileriyle ilgili suçlar konusundaki soruşturma veya yargılamalar,</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veya bir suçun elektronik ortamda toplanmış delilleri</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için derhal yardım temin edilmesi amacıyla 7/24 erişilebilecek bir irtibat noktası belirleyecektir.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Bu yardım şu tedbirlerin kolaylaştırılmasını ya da doğrudan yürütülmesini içerecektir: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teknik bilgi sağlanması;</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u="sng">
                          <a:solidFill>
                            <a:srgbClr val="000000"/>
                          </a:solidFill>
                          <a:uFillTx/>
                          <a:latin typeface="Calibri"/>
                        </a:rPr>
                        <a:t>verilerin korunması</a:t>
                      </a:r>
                      <a:r>
                        <a:rPr b="0" lang="tr-TR" sz="1600" spc="-1" strike="noStrike">
                          <a:solidFill>
                            <a:srgbClr val="000000"/>
                          </a:solidFill>
                          <a:latin typeface="Calibri"/>
                        </a:rPr>
                        <a:t> (29 ve 30. madde);</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u="sng">
                          <a:solidFill>
                            <a:srgbClr val="000000"/>
                          </a:solidFill>
                          <a:uFillTx/>
                          <a:latin typeface="Calibri"/>
                        </a:rPr>
                        <a:t>delil toplanması</a:t>
                      </a:r>
                      <a:r>
                        <a:rPr b="0" lang="tr-TR" sz="1600" spc="-1" strike="noStrike">
                          <a:solidFill>
                            <a:srgbClr val="000000"/>
                          </a:solidFill>
                          <a:latin typeface="Calibri"/>
                        </a:rPr>
                        <a:t>,</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hukuki bilgi sağlanması,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şüphelilerin yerinin tespit edilmesi. </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Varşova Sözleşmesi</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MİB işbirliği (46-47. madde)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MİB’ler kendiliğinden veya talep üzerine şu hususlar bakımından önem arz edebilecek erişilebilir her türlü bilgi alışverişinde bulunur:</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bilgilerin işlenmesi veya analizi ya da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u="sng">
                          <a:solidFill>
                            <a:srgbClr val="000000"/>
                          </a:solidFill>
                          <a:uFillTx/>
                          <a:latin typeface="Calibri"/>
                        </a:rPr>
                        <a:t>kara para aklama ile ilgili</a:t>
                      </a:r>
                      <a:r>
                        <a:rPr b="0" lang="tr-TR" sz="1600" spc="-1" strike="noStrike">
                          <a:solidFill>
                            <a:srgbClr val="000000"/>
                          </a:solidFill>
                          <a:latin typeface="Calibri"/>
                        </a:rPr>
                        <a:t> mali işlemlere ve bunlara dahil olan gerçek veya tüzel kişilere dair MİB tarafından yürütülen soruşturma.</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MİB’in şüpheli işlemleri geciktirme yetkisi.</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1052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ULUSAL İRTİBAT NOKTALARI?</a:t>
            </a:r>
            <a:endParaRPr b="0" lang="en-US" sz="2800" spc="-1" strike="noStrike">
              <a:solidFill>
                <a:srgbClr val="000000"/>
              </a:solidFill>
              <a:latin typeface="Calibri"/>
            </a:endParaRPr>
          </a:p>
        </p:txBody>
      </p:sp>
      <p:graphicFrame>
        <p:nvGraphicFramePr>
          <p:cNvPr id="88" name=""/>
          <p:cNvGraphicFramePr/>
          <p:nvPr/>
        </p:nvGraphicFramePr>
        <p:xfrm>
          <a:off x="468360" y="1916280"/>
          <a:ext cx="8064360" cy="4632120"/>
        </p:xfrm>
        <a:graphic>
          <a:graphicData uri="http://schemas.openxmlformats.org/drawingml/2006/table">
            <a:tbl>
              <a:tblPr/>
              <a:tblGrid>
                <a:gridCol w="3959280"/>
                <a:gridCol w="4105080"/>
              </a:tblGrid>
              <a:tr h="46332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Bilgi alışverişi</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CARIN/Malvarlıkları Geri Kazanım Kuruluşları</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EGMONT Grubu (MİB’ler)</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7/24 ağı</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İnterpo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Europo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Eurojus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PCCSEE (</a:t>
                      </a:r>
                      <a:r>
                        <a:rPr b="0" lang="tr-TR" sz="1800" spc="-1" strike="noStrike">
                          <a:solidFill>
                            <a:srgbClr val="000000"/>
                          </a:solidFill>
                          <a:latin typeface="Calibri"/>
                        </a:rPr>
                        <a:t>Güneydoğu Avrupa Polis İşbirliği Sözleşmesi)</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SELEC (</a:t>
                      </a:r>
                      <a:r>
                        <a:rPr b="0" lang="tr-TR" sz="1800" spc="-1" strike="noStrike">
                          <a:solidFill>
                            <a:srgbClr val="000000"/>
                          </a:solidFill>
                          <a:latin typeface="Calibri"/>
                        </a:rPr>
                        <a:t>Güneydoğu Avrupa Kolluk Merkezi)</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İki taraflı sözleşmeler</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Karşılıklı adli yardım</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Ulusal Merkezi Makam – Adalet Bakanlığı?</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Doğrudan işbirliğini (savcı-savcı, hakim-hakim) mümkün kılan iki taraflı sözleşmeler</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Kolaylaştırıcı iç hukuk hükümleri?: </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ea typeface="MS PGothic"/>
                        </a:rPr>
                        <a:t>OSE’ler, paralel soruşturma, yargılamaların devri</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ea typeface="MS PGothic"/>
                        </a:rPr>
                        <a:t>KAY konusunda iç hukuk hükümleri</a:t>
                      </a:r>
                      <a:endParaRPr b="0" lang="en-US" sz="1800" spc="-1" strike="noStrike">
                        <a:solidFill>
                          <a:srgbClr val="000000"/>
                        </a:solidFill>
                        <a:latin typeface="Calibri"/>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Uluslararası siber suç soruşturmalarına ilişkin bazı fiili meseleler </a:t>
            </a:r>
            <a:endParaRPr b="0" lang="en-US" sz="3200" spc="-1" strike="noStrike">
              <a:solidFill>
                <a:srgbClr val="000000"/>
              </a:solidFill>
              <a:latin typeface="Calibri"/>
            </a:endParaRPr>
          </a:p>
        </p:txBody>
      </p:sp>
      <p:sp>
        <p:nvSpPr>
          <p:cNvPr id="90" name=""/>
          <p:cNvSpPr txBox="1"/>
          <p:nvPr/>
        </p:nvSpPr>
        <p:spPr>
          <a:xfrm>
            <a:off x="468360" y="2205000"/>
            <a:ext cx="8229600" cy="4353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Dosyanın gereğince anlaşılması ve delillerin muhafazası ve ele geçirilmesi için zamanında ve yeterli tedbirlerin alınması için </a:t>
            </a:r>
            <a:r>
              <a:rPr b="1" lang="tr-TR" sz="2400" spc="-1" strike="noStrike">
                <a:solidFill>
                  <a:srgbClr val="000000"/>
                </a:solidFill>
                <a:latin typeface="Calibri"/>
              </a:rPr>
              <a:t>polis memurlarının </a:t>
            </a:r>
            <a:r>
              <a:rPr b="0" lang="tr-TR" sz="2400" spc="-1" strike="noStrike">
                <a:solidFill>
                  <a:srgbClr val="000000"/>
                </a:solidFill>
                <a:latin typeface="Calibri"/>
              </a:rPr>
              <a:t>ve savcıların olay bildirimi ve suç isnadı esnasındaki </a:t>
            </a:r>
            <a:r>
              <a:rPr b="1" lang="tr-TR" sz="2400" spc="-1" strike="noStrike">
                <a:solidFill>
                  <a:srgbClr val="000000"/>
                </a:solidFill>
                <a:latin typeface="Calibri"/>
              </a:rPr>
              <a:t>bilgi ve tecrübe seviyesi </a:t>
            </a:r>
            <a:r>
              <a:rPr b="0" lang="tr-TR" sz="2400" spc="-1" strike="noStrike">
                <a:solidFill>
                  <a:srgbClr val="000000"/>
                </a:solidFill>
                <a:latin typeface="Calibri"/>
              </a:rPr>
              <a:t>son derece önem taşıyabilmektedir.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Polis memurları ve savcılar gerektiğinde, hem “içeriden” hem de dışarıdan ek yardım isteme ihtiyacı hissedebilir; olayın çözülmesinde doğal olarak menfaati bulunan mağdur tarafından sergilenecek işbirliği ve katkılar da buna dahildir. </a:t>
            </a:r>
            <a:endParaRPr b="0" lang="en-US" sz="2400" spc="-1" strike="noStrike">
              <a:solidFill>
                <a:srgbClr val="000000"/>
              </a:solidFill>
              <a:latin typeface="Calibri"/>
            </a:endParaRPr>
          </a:p>
        </p:txBody>
      </p:sp>
      <p:sp>
        <p:nvSpPr>
          <p:cNvPr id="9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D9CC0-96C2-4BF3-92DD-36EF1A939D6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Uluslararası siber suç soruşturmalarına ilişkin bazı fiili meseleler </a:t>
            </a:r>
            <a:endParaRPr b="0" lang="en-US" sz="3200" spc="-1" strike="noStrike">
              <a:solidFill>
                <a:srgbClr val="000000"/>
              </a:solidFill>
              <a:latin typeface="Calibri"/>
            </a:endParaRPr>
          </a:p>
        </p:txBody>
      </p:sp>
      <p:sp>
        <p:nvSpPr>
          <p:cNvPr id="93" name=""/>
          <p:cNvSpPr txBox="1"/>
          <p:nvPr/>
        </p:nvSpPr>
        <p:spPr>
          <a:xfrm>
            <a:off x="468360" y="2320920"/>
            <a:ext cx="8229600" cy="4525920"/>
          </a:xfrm>
          <a:prstGeom prst="rect">
            <a:avLst/>
          </a:prstGeom>
          <a:noFill/>
          <a:ln w="0">
            <a:noFill/>
          </a:ln>
        </p:spPr>
        <p:txBody>
          <a:bodyPr anchor="t">
            <a:normAutofit/>
          </a:bodyPr>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Yardım talep ederken başvurulan hukuki metnin </a:t>
            </a:r>
            <a:r>
              <a:rPr b="0" lang="tr-TR" sz="2400" spc="-1" strike="noStrike">
                <a:solidFill>
                  <a:srgbClr val="000000"/>
                </a:solidFill>
                <a:latin typeface="Calibri"/>
              </a:rPr>
              <a:t>belirtilmesi – antlaşma, sözleşme veya başkaca bir işbirliği belgesi</a:t>
            </a:r>
            <a:endParaRPr b="0" lang="en-US" sz="2400" spc="-1" strike="noStrike">
              <a:solidFill>
                <a:srgbClr val="000000"/>
              </a:solidFill>
              <a:latin typeface="Calibri"/>
            </a:endParaRPr>
          </a:p>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Soruşturmayı/kovuşturmayı kimin yürüttüğünün açık ve net biçimde belirtilmesi.</a:t>
            </a:r>
            <a:r>
              <a:rPr b="0" lang="tr-TR" sz="2400" spc="-1" strike="noStrike">
                <a:solidFill>
                  <a:srgbClr val="000000"/>
                </a:solidFill>
                <a:latin typeface="Calibri"/>
              </a:rPr>
              <a:t> Gerekli tüm irtibat bilgilerini ve tercih edilen iletişim araçlarını belirtiniz. </a:t>
            </a:r>
            <a:endParaRPr b="0" lang="en-US" sz="2400" spc="-1" strike="noStrike">
              <a:solidFill>
                <a:srgbClr val="000000"/>
              </a:solidFill>
              <a:latin typeface="Calibri"/>
            </a:endParaRPr>
          </a:p>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Olayın özetlenmesi </a:t>
            </a:r>
            <a:r>
              <a:rPr b="0" lang="tr-TR" sz="2400" spc="-1" strike="noStrike">
                <a:solidFill>
                  <a:srgbClr val="000000"/>
                </a:solidFill>
                <a:latin typeface="Calibri"/>
              </a:rPr>
              <a:t>– soruşturmayı/kovuşturmayı destekleyen delillere ilişkin bir özet de dahil olmak üzere, soruşturma veya kovuşturma altındaki olaya dair ayrıntılı bir genel özet sunulması. Delillere ve süregiden soruşturmaya dair atılması öngörülen adımlara dair gerekçeleri açıklayınız. </a:t>
            </a:r>
            <a:endParaRPr b="0" lang="en-US" sz="2400" spc="-1" strike="noStrike">
              <a:solidFill>
                <a:srgbClr val="000000"/>
              </a:solidFill>
              <a:latin typeface="Calibri"/>
            </a:endParaRPr>
          </a:p>
        </p:txBody>
      </p:sp>
      <p:sp>
        <p:nvSpPr>
          <p:cNvPr id="9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79318-8CF1-41E2-AC4D-2ACE9F5C95B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Uluslararası siber suç soruşturmalarına ilişkin bazı fiili meseleler </a:t>
            </a:r>
            <a:endParaRPr b="0" lang="en-US" sz="3200" spc="-1" strike="noStrike">
              <a:solidFill>
                <a:srgbClr val="000000"/>
              </a:solidFill>
              <a:latin typeface="Calibri"/>
            </a:endParaRPr>
          </a:p>
        </p:txBody>
      </p:sp>
      <p:sp>
        <p:nvSpPr>
          <p:cNvPr id="96" name=""/>
          <p:cNvSpPr txBox="1"/>
          <p:nvPr/>
        </p:nvSpPr>
        <p:spPr>
          <a:xfrm>
            <a:off x="468360" y="2276280"/>
            <a:ext cx="8229600" cy="4198680"/>
          </a:xfrm>
          <a:prstGeom prst="rect">
            <a:avLst/>
          </a:prstGeom>
          <a:noFill/>
          <a:ln w="0">
            <a:noFill/>
          </a:ln>
        </p:spPr>
        <p:txBody>
          <a:bodyPr anchor="t">
            <a:normAutofit/>
          </a:bodyPr>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Geçerli iç hukuk hükümlerine atıf </a:t>
            </a:r>
            <a:r>
              <a:rPr b="0" lang="tr-TR" sz="2400" spc="-1" strike="noStrike">
                <a:solidFill>
                  <a:srgbClr val="000000"/>
                </a:solidFill>
                <a:latin typeface="Calibri"/>
              </a:rPr>
              <a:t>– geçerli ceza hükümleri de dahil olmak üzere, soruşturma/kovuşturma altındaki tüm ilgili hukuk hükümlerinin tam metni.</a:t>
            </a:r>
            <a:endParaRPr b="0" lang="en-US" sz="2400" spc="-1" strike="noStrike">
              <a:solidFill>
                <a:srgbClr val="000000"/>
              </a:solidFill>
              <a:latin typeface="Calibri"/>
            </a:endParaRPr>
          </a:p>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Talep edilen yardımın net ve eksiksiz bir şekilde belirtilmesi </a:t>
            </a:r>
            <a:r>
              <a:rPr b="0" lang="tr-TR" sz="2400" spc="-1" strike="noStrike">
                <a:solidFill>
                  <a:srgbClr val="000000"/>
                </a:solidFill>
                <a:latin typeface="Calibri"/>
              </a:rPr>
              <a:t>– tam olarak ne istiyorsunuz?</a:t>
            </a:r>
            <a:endParaRPr b="0" lang="en-US" sz="2400" spc="-1" strike="noStrike">
              <a:solidFill>
                <a:srgbClr val="000000"/>
              </a:solidFill>
              <a:latin typeface="Calibri"/>
            </a:endParaRPr>
          </a:p>
        </p:txBody>
      </p:sp>
      <p:sp>
        <p:nvSpPr>
          <p:cNvPr id="9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A242F-E3F8-44D2-81D2-A178357D189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Uluslararası siber suç soruşturmalarına ilişkin bazı fiili meseleler </a:t>
            </a:r>
            <a:endParaRPr b="0" lang="en-US" sz="3200" spc="-1" strike="noStrike">
              <a:solidFill>
                <a:srgbClr val="000000"/>
              </a:solidFill>
              <a:latin typeface="Calibri"/>
            </a:endParaRPr>
          </a:p>
        </p:txBody>
      </p:sp>
      <p:sp>
        <p:nvSpPr>
          <p:cNvPr id="99" name=""/>
          <p:cNvSpPr txBox="1"/>
          <p:nvPr/>
        </p:nvSpPr>
        <p:spPr>
          <a:xfrm>
            <a:off x="457200" y="2276280"/>
            <a:ext cx="8229600" cy="3849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200" spc="-1" strike="noStrike">
                <a:solidFill>
                  <a:srgbClr val="000000"/>
                </a:solidFill>
                <a:latin typeface="Calibri"/>
              </a:rPr>
              <a:t>Şu bilgileri temin ediniz: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r>
              <a:rPr b="1" lang="tr-TR" sz="3200" spc="-1" strike="noStrike">
                <a:solidFill>
                  <a:srgbClr val="000000"/>
                </a:solidFill>
                <a:latin typeface="Calibri"/>
              </a:rPr>
              <a:t>Tanık ifadesi/tanıklık </a:t>
            </a:r>
            <a:r>
              <a:rPr b="0" lang="tr-TR" sz="3200" spc="-1" strike="noStrike">
                <a:solidFill>
                  <a:srgbClr val="000000"/>
                </a:solidFill>
                <a:latin typeface="Calibri"/>
              </a:rPr>
              <a:t>içi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Kişinin yeri</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Tanıkla ilgili ulusal usul kuralları</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Tanıktan istenen hususi bilgiler ve yöneltilen soruların listesi</a:t>
            </a:r>
            <a:endParaRPr b="0" lang="en-US" sz="2800" spc="-1" strike="noStrike">
              <a:solidFill>
                <a:srgbClr val="000000"/>
              </a:solidFill>
              <a:latin typeface="Calibri"/>
            </a:endParaRPr>
          </a:p>
        </p:txBody>
      </p:sp>
      <p:sp>
        <p:nvSpPr>
          <p:cNvPr id="10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28082-C5E7-4EDD-9AE2-7F1D62A7DF0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Oturum Hedefleri</a:t>
            </a:r>
            <a:endParaRPr b="0" lang="en-US" sz="4400" spc="-1" strike="noStrike">
              <a:solidFill>
                <a:srgbClr val="000000"/>
              </a:solidFill>
              <a:latin typeface="Calibri"/>
            </a:endParaRPr>
          </a:p>
        </p:txBody>
      </p:sp>
      <p:sp>
        <p:nvSpPr>
          <p:cNvPr id="62" name=""/>
          <p:cNvSpPr txBox="1"/>
          <p:nvPr/>
        </p:nvSpPr>
        <p:spPr>
          <a:xfrm>
            <a:off x="468360" y="2276280"/>
            <a:ext cx="8229600" cy="4105080"/>
          </a:xfrm>
          <a:prstGeom prst="rect">
            <a:avLst/>
          </a:prstGeom>
          <a:noFill/>
          <a:ln w="0">
            <a:noFill/>
          </a:ln>
        </p:spPr>
        <p:txBody>
          <a:bodyPr anchor="t">
            <a:normAutofit/>
          </a:bodyPr>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Sanal suçlardan elde edilen gelirlerin hedef alınmasında uluslararası işbirliğinin öneminin açıklanması.</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Mali soruşturmaların ve kara para aklama suçunun yanı sıra, siber suçlar ve e-delil alanlarında uluslararası işbirliği yollarının birleştirilmesinin avantajlarının açıklanması.</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Bilgi alışverişi ile karşılıklı adli yardım konularında uluslararası işbirliğinin birbirinden ayrılması.</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Bilgi alışverişine ilişkin uluslararası ağların ve kuruluşların sıralanması.</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Karşılıklı adli yardımın (KAY) niteliği ve amacının tanımlanması.</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Konuyla ilgili uluslararası hukuk belgelerinin sunulması.</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Budapeşte ve Varşova Sözleşmelerinin bu konudaki hükümlerinin gereğince kullanılabilmesi amacıyla belirlenmesi.</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Uluslararası siber suç soruşturmalarına ilişkin bazı fiili meseleler </a:t>
            </a:r>
            <a:endParaRPr b="0" lang="en-US" sz="3200" spc="-1" strike="noStrike">
              <a:solidFill>
                <a:srgbClr val="000000"/>
              </a:solidFill>
              <a:latin typeface="Calibri"/>
            </a:endParaRPr>
          </a:p>
        </p:txBody>
      </p:sp>
      <p:sp>
        <p:nvSpPr>
          <p:cNvPr id="102" name=""/>
          <p:cNvSpPr txBox="1"/>
          <p:nvPr/>
        </p:nvSpPr>
        <p:spPr>
          <a:xfrm>
            <a:off x="468360" y="2349360"/>
            <a:ext cx="8229600" cy="4113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200" spc="-1" strike="noStrike">
                <a:solidFill>
                  <a:srgbClr val="000000"/>
                </a:solidFill>
                <a:latin typeface="Calibri"/>
              </a:rPr>
              <a:t>Şu bilgileri temin ediniz: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r>
              <a:rPr b="1" lang="tr-TR" sz="3200" spc="-1" strike="noStrike">
                <a:solidFill>
                  <a:srgbClr val="000000"/>
                </a:solidFill>
                <a:latin typeface="Calibri"/>
              </a:rPr>
              <a:t>Yazılı delil </a:t>
            </a:r>
            <a:r>
              <a:rPr b="0" lang="tr-TR" sz="3200" spc="-1" strike="noStrike">
                <a:solidFill>
                  <a:srgbClr val="000000"/>
                </a:solidFill>
                <a:latin typeface="Calibri"/>
              </a:rPr>
              <a:t>için :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Elde edilecek belgelerin açık ve net biçimde belirtilmesi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Belgelerin/eşyaların/delillerin nerede bulunabileceğinin veya bunları alıkoyan gerçek veya tüzel kişinin yerinin açık ve net biçimde belirtilmesi</a:t>
            </a:r>
            <a:endParaRPr b="0" lang="en-US" sz="2800" spc="-1" strike="noStrike">
              <a:solidFill>
                <a:srgbClr val="000000"/>
              </a:solidFill>
              <a:latin typeface="Calibri"/>
            </a:endParaRPr>
          </a:p>
        </p:txBody>
      </p:sp>
      <p:sp>
        <p:nvSpPr>
          <p:cNvPr id="10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BEF5D-3DF8-4A67-8F7E-AAE1F3FBE85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Uluslararası siber suç soruşturmalarına ilişkin bazı fiili meseleler </a:t>
            </a:r>
            <a:endParaRPr b="0" lang="en-US" sz="3200" spc="-1" strike="noStrike">
              <a:solidFill>
                <a:srgbClr val="000000"/>
              </a:solidFill>
              <a:latin typeface="Calibri"/>
            </a:endParaRPr>
          </a:p>
        </p:txBody>
      </p:sp>
      <p:sp>
        <p:nvSpPr>
          <p:cNvPr id="105" name=""/>
          <p:cNvSpPr txBox="1"/>
          <p:nvPr/>
        </p:nvSpPr>
        <p:spPr>
          <a:xfrm>
            <a:off x="468360" y="2276640"/>
            <a:ext cx="8229600" cy="4325760"/>
          </a:xfrm>
          <a:prstGeom prst="rect">
            <a:avLst/>
          </a:prstGeom>
          <a:noFill/>
          <a:ln w="0">
            <a:noFill/>
          </a:ln>
        </p:spPr>
        <p:txBody>
          <a:bodyPr anchor="t">
            <a:normAutofit fontScale="97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200" spc="-1" strike="noStrike">
                <a:solidFill>
                  <a:srgbClr val="000000"/>
                </a:solidFill>
                <a:latin typeface="Calibri"/>
              </a:rPr>
              <a:t>Şu bilgileri temin ediniz: </a:t>
            </a:r>
            <a:endParaRPr b="0" lang="en-US" sz="32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Elektronik deliller </a:t>
            </a:r>
            <a:r>
              <a:rPr b="0" lang="tr-TR" sz="2800" spc="-1" strike="noStrike">
                <a:solidFill>
                  <a:srgbClr val="000000"/>
                </a:solidFill>
                <a:latin typeface="Calibri"/>
              </a:rPr>
              <a:t>için: </a:t>
            </a:r>
            <a:endParaRPr b="0" lang="en-US" sz="2800" spc="-1" strike="noStrike">
              <a:solidFill>
                <a:srgbClr val="000000"/>
              </a:solidFill>
              <a:latin typeface="Calibri"/>
            </a:endParaRPr>
          </a:p>
          <a:p>
            <a:pPr lvl="1" marL="720720" indent="-277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Elde edilecek elektronik delillerle ilgili mümkün olduğunca ayrıntılı bilgilerin sunulması, varsa talep edilen deliller hakkında gereken </a:t>
            </a:r>
            <a:r>
              <a:rPr b="1" lang="tr-TR" sz="2600" spc="-1" strike="noStrike">
                <a:solidFill>
                  <a:srgbClr val="000000"/>
                </a:solidFill>
                <a:latin typeface="Calibri"/>
              </a:rPr>
              <a:t>teknik bilgilerin </a:t>
            </a:r>
            <a:r>
              <a:rPr b="0" lang="tr-TR" sz="2600" spc="-1" strike="noStrike">
                <a:solidFill>
                  <a:srgbClr val="000000"/>
                </a:solidFill>
                <a:latin typeface="Calibri"/>
              </a:rPr>
              <a:t>temini (</a:t>
            </a:r>
            <a:r>
              <a:rPr b="1" lang="tr-TR" sz="2600" spc="-1" strike="noStrike">
                <a:solidFill>
                  <a:srgbClr val="000000"/>
                </a:solidFill>
                <a:latin typeface="Calibri"/>
              </a:rPr>
              <a:t>sunucu/sistem zamanı, zaman çerçevesi, IP ve MAC adresleri gibi kimlik bilgileri, eposta adresi, kullanıcı hesabı bilgileri, vs</a:t>
            </a:r>
            <a:r>
              <a:rPr b="0" lang="tr-TR" sz="2600" spc="-1" strike="noStrike">
                <a:solidFill>
                  <a:srgbClr val="000000"/>
                </a:solidFill>
                <a:latin typeface="Calibri"/>
              </a:rPr>
              <a:t>.)</a:t>
            </a:r>
            <a:endParaRPr b="0" lang="en-US" sz="2600" spc="-1" strike="noStrike">
              <a:solidFill>
                <a:srgbClr val="000000"/>
              </a:solidFill>
              <a:latin typeface="Calibri"/>
            </a:endParaRPr>
          </a:p>
          <a:p>
            <a:pPr lvl="1" marL="720720" indent="-277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Malvarlıklarının veya bunları alıkoyan gerçek veya tüzel kişinin yerinin ve ayrıntılı bilgilerinin belirtilmesi.</a:t>
            </a:r>
            <a:endParaRPr b="0" lang="en-US" sz="2600" spc="-1" strike="noStrike">
              <a:solidFill>
                <a:srgbClr val="000000"/>
              </a:solidFill>
              <a:latin typeface="Calibri"/>
            </a:endParaRPr>
          </a:p>
        </p:txBody>
      </p:sp>
      <p:sp>
        <p:nvSpPr>
          <p:cNvPr id="10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FF915-8DA9-409D-8BCE-7115F205555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Uluslararası siber suç soruşturmalarına ilişkin bazı fiili meseleler </a:t>
            </a:r>
            <a:endParaRPr b="0" lang="en-US" sz="3200" spc="-1" strike="noStrike">
              <a:solidFill>
                <a:srgbClr val="000000"/>
              </a:solidFill>
              <a:latin typeface="Calibri"/>
            </a:endParaRPr>
          </a:p>
        </p:txBody>
      </p:sp>
      <p:sp>
        <p:nvSpPr>
          <p:cNvPr id="108" name=""/>
          <p:cNvSpPr txBox="1"/>
          <p:nvPr/>
        </p:nvSpPr>
        <p:spPr>
          <a:xfrm>
            <a:off x="395280" y="2349000"/>
            <a:ext cx="8229600" cy="43102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200" spc="-1" strike="noStrike">
                <a:solidFill>
                  <a:srgbClr val="000000"/>
                </a:solidFill>
                <a:latin typeface="Calibri"/>
              </a:rPr>
              <a:t>Şu bilgileri temin ediniz:</a:t>
            </a:r>
            <a:endParaRPr b="0" lang="en-US" sz="32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 </a:t>
            </a:r>
            <a:r>
              <a:rPr b="1" lang="tr-TR" sz="2800" spc="-1" strike="noStrike">
                <a:solidFill>
                  <a:srgbClr val="000000"/>
                </a:solidFill>
                <a:latin typeface="Calibri"/>
              </a:rPr>
              <a:t>Arama emrinin icrası </a:t>
            </a:r>
            <a:r>
              <a:rPr b="0" lang="tr-TR" sz="2800" spc="-1" strike="noStrike">
                <a:solidFill>
                  <a:srgbClr val="000000"/>
                </a:solidFill>
                <a:latin typeface="Calibri"/>
              </a:rPr>
              <a:t>için: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ulusal yargı makamlarınca düzenlenmiş geçerli arama emrini ekleyiniz.</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aranacak yerleri ve eşyaları açık ve net bir şekilde belirtiniz.</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arama icra edilirken izlenecek kuralları ayrıntılarıyla belirtiniz.</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aranacak delillere ilişkin isabetli göstergeleri belirtiniz.</a:t>
            </a:r>
            <a:endParaRPr b="0" lang="en-US" sz="2400" spc="-1" strike="noStrike">
              <a:solidFill>
                <a:srgbClr val="000000"/>
              </a:solidFill>
              <a:latin typeface="Calibri"/>
            </a:endParaRPr>
          </a:p>
        </p:txBody>
      </p:sp>
      <p:sp>
        <p:nvSpPr>
          <p:cNvPr id="10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61A2E-0AFD-4A7D-938D-4C82DB17C06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Uluslararası siber suç soruşturmalarına ilişkin bazı fiili meseleler </a:t>
            </a:r>
            <a:endParaRPr b="0" lang="en-US" sz="3200" spc="-1" strike="noStrike">
              <a:solidFill>
                <a:srgbClr val="000000"/>
              </a:solidFill>
              <a:latin typeface="Calibri"/>
            </a:endParaRPr>
          </a:p>
        </p:txBody>
      </p:sp>
      <p:sp>
        <p:nvSpPr>
          <p:cNvPr id="111" name=""/>
          <p:cNvSpPr txBox="1"/>
          <p:nvPr/>
        </p:nvSpPr>
        <p:spPr>
          <a:xfrm>
            <a:off x="468360" y="2349360"/>
            <a:ext cx="8229600" cy="4254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200" spc="-1" strike="noStrike">
                <a:solidFill>
                  <a:srgbClr val="000000"/>
                </a:solidFill>
                <a:latin typeface="Calibri"/>
              </a:rPr>
              <a:t>Şu bilgileri temin ediniz:</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Arama/müsadere </a:t>
            </a:r>
            <a:r>
              <a:rPr b="0" lang="tr-TR" sz="3200" spc="-1" strike="noStrike">
                <a:solidFill>
                  <a:srgbClr val="000000"/>
                </a:solidFill>
                <a:latin typeface="Calibri"/>
              </a:rPr>
              <a:t>için :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ulusal yargı makamlarınca düzenlenmiş geçerli bir el koyma veya müsadere emrinin nüshasını sunu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el konulacak/müsadere edilecek eşyalara ilişkin net göstergeleri belirtiniz.</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gerekirse, arama icrasına dair özel kuralları </a:t>
            </a:r>
            <a:r>
              <a:rPr b="0" lang="tr-TR" sz="2800" spc="-1" strike="noStrike">
                <a:solidFill>
                  <a:srgbClr val="000000"/>
                </a:solidFill>
                <a:latin typeface="Calibri"/>
              </a:rPr>
              <a:t>belirtiniz.</a:t>
            </a:r>
            <a:endParaRPr b="0" lang="en-US" sz="2800" spc="-1" strike="noStrike">
              <a:solidFill>
                <a:srgbClr val="000000"/>
              </a:solidFill>
              <a:latin typeface="Calibri"/>
            </a:endParaRPr>
          </a:p>
        </p:txBody>
      </p:sp>
      <p:sp>
        <p:nvSpPr>
          <p:cNvPr id="11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82E14-54CD-4044-93F5-FC0D633C2D3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Uluslararası siber suç soruşturmalarına ilişkin bazı fiili meseleler </a:t>
            </a:r>
            <a:endParaRPr b="0" lang="en-US" sz="3200" spc="-1" strike="noStrike">
              <a:solidFill>
                <a:srgbClr val="000000"/>
              </a:solidFill>
              <a:latin typeface="Calibri"/>
            </a:endParaRPr>
          </a:p>
        </p:txBody>
      </p:sp>
      <p:sp>
        <p:nvSpPr>
          <p:cNvPr id="114" name=""/>
          <p:cNvSpPr txBox="1"/>
          <p:nvPr/>
        </p:nvSpPr>
        <p:spPr>
          <a:xfrm>
            <a:off x="468360" y="2133720"/>
            <a:ext cx="8229600" cy="4535280"/>
          </a:xfrm>
          <a:prstGeom prst="rect">
            <a:avLst/>
          </a:prstGeom>
          <a:noFill/>
          <a:ln w="0">
            <a:noFill/>
          </a:ln>
        </p:spPr>
        <p:txBody>
          <a:bodyPr anchor="t">
            <a:normAutofit fontScale="96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200" spc="-1" strike="noStrike">
                <a:solidFill>
                  <a:srgbClr val="000000"/>
                </a:solidFill>
                <a:latin typeface="Calibri"/>
              </a:rPr>
              <a:t>Şu bilgileri temin ediniz:</a:t>
            </a:r>
            <a:endParaRPr b="0" lang="en-US" sz="32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 </a:t>
            </a:r>
            <a:r>
              <a:rPr b="1" lang="tr-TR" sz="2800" spc="-1" strike="noStrike">
                <a:solidFill>
                  <a:srgbClr val="000000"/>
                </a:solidFill>
                <a:latin typeface="Calibri"/>
              </a:rPr>
              <a:t>Özel soruşturma tedbirleri </a:t>
            </a:r>
            <a:r>
              <a:rPr b="0" lang="tr-TR" sz="2800" spc="-1" strike="noStrike">
                <a:solidFill>
                  <a:srgbClr val="000000"/>
                </a:solidFill>
                <a:latin typeface="Calibri"/>
              </a:rPr>
              <a:t>için: </a:t>
            </a:r>
            <a:endParaRPr b="0" lang="en-US" sz="28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yetkili ulusal yargı makamları tarafından düzenlenmiş özel araştırma yöntemlerine yönelik geçerli bir müzekkerenin nüshasını sunun.</a:t>
            </a:r>
            <a:endParaRPr b="0" lang="en-US" sz="24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atılacak işlemlerin kapsamını ve niteliğini belirleyin.</a:t>
            </a:r>
            <a:endParaRPr b="0" lang="en-US" sz="24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uyulması gereken özel koşulları belirleyin – </a:t>
            </a:r>
            <a:r>
              <a:rPr b="1" lang="tr-TR" sz="2400" spc="-1" strike="noStrike">
                <a:solidFill>
                  <a:srgbClr val="000000"/>
                </a:solidFill>
                <a:latin typeface="Calibri"/>
              </a:rPr>
              <a:t>gizli ajanların kimliği/kimliğinin gizli kalması</a:t>
            </a:r>
            <a:r>
              <a:rPr b="0" lang="tr-TR" sz="2400" spc="-1" strike="noStrike">
                <a:solidFill>
                  <a:srgbClr val="000000"/>
                </a:solidFill>
                <a:latin typeface="Calibri"/>
              </a:rPr>
              <a:t>, teknik ve lojistik şartlar, masraf ve harcamaların karşılanması, </a:t>
            </a:r>
            <a:r>
              <a:rPr b="1" lang="tr-TR" sz="2400" spc="-1" strike="noStrike">
                <a:solidFill>
                  <a:srgbClr val="000000"/>
                </a:solidFill>
                <a:latin typeface="Calibri"/>
              </a:rPr>
              <a:t>belirli iletişim kanalları </a:t>
            </a:r>
            <a:r>
              <a:rPr b="0" lang="tr-TR" sz="2400" spc="-1" strike="noStrike">
                <a:solidFill>
                  <a:srgbClr val="000000"/>
                </a:solidFill>
                <a:latin typeface="Calibri"/>
              </a:rPr>
              <a:t>vs. </a:t>
            </a:r>
            <a:endParaRPr b="0" lang="en-US" sz="24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erekirse, bir </a:t>
            </a:r>
            <a:r>
              <a:rPr b="1" lang="tr-TR" sz="2400" spc="-1" strike="noStrike" u="sng">
                <a:solidFill>
                  <a:srgbClr val="000000"/>
                </a:solidFill>
                <a:uFillTx/>
                <a:latin typeface="Calibri"/>
              </a:rPr>
              <a:t>OSE </a:t>
            </a:r>
            <a:r>
              <a:rPr b="0" lang="tr-TR" sz="2400" spc="-1" strike="noStrike">
                <a:solidFill>
                  <a:srgbClr val="000000"/>
                </a:solidFill>
                <a:latin typeface="Calibri"/>
              </a:rPr>
              <a:t>anlaşması imzalayın.</a:t>
            </a:r>
            <a:endParaRPr b="0" lang="en-US" sz="2400" spc="-1" strike="noStrike">
              <a:solidFill>
                <a:srgbClr val="000000"/>
              </a:solidFill>
              <a:latin typeface="Calibri"/>
            </a:endParaRPr>
          </a:p>
        </p:txBody>
      </p:sp>
      <p:sp>
        <p:nvSpPr>
          <p:cNvPr id="11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EB548-541D-4D1C-AAA3-0DFF57A73AF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Uluslararası siber suç soruşturmalarına ilişkin bazı fiili meseleler </a:t>
            </a:r>
            <a:endParaRPr b="0" lang="en-US" sz="3200" spc="-1" strike="noStrike">
              <a:solidFill>
                <a:srgbClr val="000000"/>
              </a:solidFill>
              <a:latin typeface="Calibri"/>
            </a:endParaRPr>
          </a:p>
        </p:txBody>
      </p:sp>
      <p:sp>
        <p:nvSpPr>
          <p:cNvPr id="117" name=""/>
          <p:cNvSpPr txBox="1"/>
          <p:nvPr/>
        </p:nvSpPr>
        <p:spPr>
          <a:xfrm>
            <a:off x="457200" y="2492280"/>
            <a:ext cx="8229600" cy="3633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Her türlü özel </a:t>
            </a:r>
            <a:r>
              <a:rPr b="1" lang="tr-TR" sz="2800" spc="-1" strike="noStrike">
                <a:solidFill>
                  <a:srgbClr val="000000"/>
                </a:solidFill>
                <a:latin typeface="Calibri"/>
              </a:rPr>
              <a:t>gizlilik şartını </a:t>
            </a:r>
            <a:r>
              <a:rPr b="0" lang="tr-TR" sz="2800" spc="-1" strike="noStrike">
                <a:solidFill>
                  <a:srgbClr val="000000"/>
                </a:solidFill>
                <a:latin typeface="Calibri"/>
              </a:rPr>
              <a:t>vurgulayı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Talebin ifasındaki aciliyet düzeyini ve süre sınırlamalarını belirti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Şüpheliye/şüphelilere ait olası kimlik teşhislerini mümkün olduğunca isabetli ve düzgün şekilde yapın – unutmayın ki bu sanal dünyada kimlik kolayca gizlenebilir, değiştirilebilir, çalınabilir. </a:t>
            </a:r>
            <a:endParaRPr b="0" lang="en-US" sz="2800" spc="-1" strike="noStrike">
              <a:solidFill>
                <a:srgbClr val="000000"/>
              </a:solidFill>
              <a:latin typeface="Calibri"/>
            </a:endParaRPr>
          </a:p>
        </p:txBody>
      </p:sp>
      <p:sp>
        <p:nvSpPr>
          <p:cNvPr id="1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0EE99-FB95-498A-BEC0-37B1E5B7433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Uluslararası siber suç soruşturmalarına ilişkin bazı fiili meseleler </a:t>
            </a:r>
            <a:endParaRPr b="0" lang="en-US" sz="3200" spc="-1" strike="noStrike">
              <a:solidFill>
                <a:srgbClr val="000000"/>
              </a:solidFill>
              <a:latin typeface="Calibri"/>
            </a:endParaRPr>
          </a:p>
        </p:txBody>
      </p:sp>
      <p:sp>
        <p:nvSpPr>
          <p:cNvPr id="120" name=""/>
          <p:cNvSpPr txBox="1"/>
          <p:nvPr/>
        </p:nvSpPr>
        <p:spPr>
          <a:xfrm>
            <a:off x="457200" y="2363400"/>
            <a:ext cx="8229600" cy="3762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Karşılıklı adli yardım talepleri kapsamında istenecek delilleri usulünce tespit edin ve </a:t>
            </a:r>
            <a:r>
              <a:rPr b="1" lang="tr-TR" sz="3200" spc="-1" strike="noStrike">
                <a:solidFill>
                  <a:srgbClr val="000000"/>
                </a:solidFill>
                <a:latin typeface="Calibri"/>
              </a:rPr>
              <a:t>öncelik sırasına dizin </a:t>
            </a:r>
            <a:r>
              <a:rPr b="0" lang="tr-TR" sz="3200" spc="-1" strike="noStrike">
                <a:solidFill>
                  <a:srgbClr val="000000"/>
                </a:solidFill>
                <a:latin typeface="Calibri"/>
              </a:rPr>
              <a:t>– öncelikleri belirleyin – sadece soruşturma bakımından hayati önem taşıyanları seçin – kaynakların rasyonalizasyonu ve verimliliğin arttırılması. </a:t>
            </a:r>
            <a:endParaRPr b="0" lang="en-US" sz="3200" spc="-1" strike="noStrike">
              <a:solidFill>
                <a:srgbClr val="000000"/>
              </a:solidFill>
              <a:latin typeface="Calibri"/>
            </a:endParaRPr>
          </a:p>
        </p:txBody>
      </p:sp>
      <p:sp>
        <p:nvSpPr>
          <p:cNvPr id="12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5DFAA-681C-40FB-BC02-5F0D88AFEA8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Uluslararası siber suç soruşturmalarına ilişkin bazı fiili meseleler </a:t>
            </a:r>
            <a:endParaRPr b="0" lang="en-US" sz="3200" spc="-1" strike="noStrike">
              <a:solidFill>
                <a:srgbClr val="000000"/>
              </a:solidFill>
              <a:latin typeface="Calibri"/>
            </a:endParaRPr>
          </a:p>
        </p:txBody>
      </p:sp>
      <p:sp>
        <p:nvSpPr>
          <p:cNvPr id="123" name=""/>
          <p:cNvSpPr txBox="1"/>
          <p:nvPr/>
        </p:nvSpPr>
        <p:spPr>
          <a:xfrm>
            <a:off x="468360" y="2276640"/>
            <a:ext cx="8229600" cy="431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Başka ülkelerdeki uygun irtibat noktasını tespit etmek – </a:t>
            </a:r>
            <a:r>
              <a:rPr b="0" lang="tr-TR" sz="2400" spc="-1" strike="noStrike">
                <a:solidFill>
                  <a:srgbClr val="000000"/>
                </a:solidFill>
                <a:latin typeface="Calibri"/>
              </a:rPr>
              <a:t>Budapeşte Sözleşmesi ışığında 7/24 noktalar, İnterpol kanalları – özellikle dijital verileri (elektronik delil) güvence altına almak ve korumak amacıyla acil eyleme geçilmesi gereken “</a:t>
            </a:r>
            <a:r>
              <a:rPr b="1" lang="tr-TR" sz="2400" spc="-1" strike="noStrike">
                <a:solidFill>
                  <a:srgbClr val="000000"/>
                </a:solidFill>
                <a:latin typeface="Calibri"/>
              </a:rPr>
              <a:t>sıcak takip</a:t>
            </a:r>
            <a:r>
              <a:rPr b="0" lang="tr-TR" sz="2400" spc="-1" strike="noStrike">
                <a:solidFill>
                  <a:srgbClr val="000000"/>
                </a:solidFill>
                <a:latin typeface="Calibri"/>
              </a:rPr>
              <a:t>” olaylarında.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Resmi karşılıklı adli yardım talebi sunmadan önce uygun mevkidaşlar ile gayrıresmi temaslar kurarak </a:t>
            </a:r>
            <a:r>
              <a:rPr b="0" lang="tr-TR" sz="2400" spc="-1" strike="noStrike">
                <a:solidFill>
                  <a:srgbClr val="000000"/>
                </a:solidFill>
                <a:latin typeface="Calibri"/>
              </a:rPr>
              <a:t>müstakbel karşılıklı adli yardım talebi hakkında onları bilgilendirmek, talebi mümkün olduğunca detaylandırabilmek için operasyonel kontroller gerçekleştirmek.</a:t>
            </a:r>
            <a:endParaRPr b="0" lang="en-US" sz="2400" spc="-1" strike="noStrike">
              <a:solidFill>
                <a:srgbClr val="000000"/>
              </a:solidFill>
              <a:latin typeface="Calibri"/>
            </a:endParaRPr>
          </a:p>
        </p:txBody>
      </p:sp>
      <p:sp>
        <p:nvSpPr>
          <p:cNvPr id="12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F73A6-DC3E-49B2-9003-E943D1EFC6A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Uluslararası siber suç soruşturmalarına ilişkin bazı fiili meseleler </a:t>
            </a:r>
            <a:endParaRPr b="0" lang="en-US" sz="3200" spc="-1" strike="noStrike">
              <a:solidFill>
                <a:srgbClr val="000000"/>
              </a:solidFill>
              <a:latin typeface="Calibri"/>
            </a:endParaRPr>
          </a:p>
        </p:txBody>
      </p:sp>
      <p:sp>
        <p:nvSpPr>
          <p:cNvPr id="126" name=""/>
          <p:cNvSpPr txBox="1"/>
          <p:nvPr/>
        </p:nvSpPr>
        <p:spPr>
          <a:xfrm>
            <a:off x="468360" y="2491920"/>
            <a:ext cx="8229600" cy="3917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Yargılama yetkisinin</a:t>
            </a:r>
            <a:r>
              <a:rPr b="0" lang="tr-TR" sz="2200" spc="-1" strike="noStrike">
                <a:solidFill>
                  <a:srgbClr val="000000"/>
                </a:solidFill>
                <a:latin typeface="Calibri"/>
              </a:rPr>
              <a:t>, sadece </a:t>
            </a:r>
            <a:r>
              <a:rPr b="1" lang="tr-TR" sz="2200" spc="-1" strike="noStrike">
                <a:solidFill>
                  <a:srgbClr val="000000"/>
                </a:solidFill>
                <a:latin typeface="Calibri"/>
              </a:rPr>
              <a:t>elektronik verilerin mülkiyeti, sunucu/fiziki yer sağlayıcı ve sunucu/sağlayıcı malik(ler)inin yasal ikameti – yani bir ülkede yer alan sunucular veya bulut bilişim durumunda farklı ülkede kayıtlı ve faal malikler </a:t>
            </a:r>
            <a:r>
              <a:rPr b="0" lang="tr-TR" sz="2200" spc="-1" strike="noStrike">
                <a:solidFill>
                  <a:srgbClr val="000000"/>
                </a:solidFill>
                <a:latin typeface="Calibri"/>
              </a:rPr>
              <a:t>gibi tamamen teknolojik konuları hatırda tutarak </a:t>
            </a:r>
            <a:r>
              <a:rPr b="1" lang="tr-TR" sz="2200" spc="-1" strike="noStrike">
                <a:solidFill>
                  <a:srgbClr val="000000"/>
                </a:solidFill>
                <a:latin typeface="Calibri"/>
              </a:rPr>
              <a:t>delillerin/faillerin/ mağdurların </a:t>
            </a:r>
            <a:r>
              <a:rPr b="0" lang="tr-TR" sz="2200" spc="-1" strike="noStrike">
                <a:solidFill>
                  <a:srgbClr val="000000"/>
                </a:solidFill>
                <a:latin typeface="Calibri"/>
              </a:rPr>
              <a:t>yerine ilişkin olarak usulünce saptanmasının sağlanması.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Farklı saat dilimleri </a:t>
            </a:r>
            <a:r>
              <a:rPr b="0" lang="tr-TR" sz="2200" spc="-1" strike="noStrike">
                <a:solidFill>
                  <a:srgbClr val="000000"/>
                </a:solidFill>
                <a:latin typeface="Calibri"/>
              </a:rPr>
              <a:t>– modern iletişim araçlarını (telekonferans) kullanırken dahi temas kurmakta yaşanan güçlükler – bu yüzden soruşturma/KAY talepleri gecikebilmekte ve maliyet artabilmektedir – halen uluslararası telefon görüşmelerine erişimi bulunmayan kolluk ve savcılıklar bulunmaktadır!</a:t>
            </a:r>
            <a:endParaRPr b="0" lang="en-US" sz="2200" spc="-1" strike="noStrike">
              <a:solidFill>
                <a:srgbClr val="000000"/>
              </a:solidFill>
              <a:latin typeface="Calibri"/>
            </a:endParaRPr>
          </a:p>
        </p:txBody>
      </p:sp>
      <p:sp>
        <p:nvSpPr>
          <p:cNvPr id="12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B88E2-5845-431D-8D10-D0D8D6F749F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Uluslararası siber suç soruşturmalarına ilişkin bazı fiili meseleler </a:t>
            </a:r>
            <a:endParaRPr b="0" lang="en-US" sz="3200" spc="-1" strike="noStrike">
              <a:solidFill>
                <a:srgbClr val="000000"/>
              </a:solidFill>
              <a:latin typeface="Calibri"/>
            </a:endParaRPr>
          </a:p>
        </p:txBody>
      </p:sp>
      <p:sp>
        <p:nvSpPr>
          <p:cNvPr id="129" name=""/>
          <p:cNvSpPr txBox="1"/>
          <p:nvPr/>
        </p:nvSpPr>
        <p:spPr>
          <a:xfrm>
            <a:off x="468360" y="2349000"/>
            <a:ext cx="8229600" cy="4240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Evrakların </a:t>
            </a:r>
            <a:r>
              <a:rPr b="1" lang="tr-TR" sz="3200" spc="-1" strike="noStrike">
                <a:solidFill>
                  <a:srgbClr val="000000"/>
                </a:solidFill>
                <a:latin typeface="Calibri"/>
              </a:rPr>
              <a:t>tercümesi </a:t>
            </a:r>
            <a:r>
              <a:rPr b="0" lang="tr-TR" sz="3200" spc="-1" strike="noStrike">
                <a:solidFill>
                  <a:srgbClr val="000000"/>
                </a:solidFill>
                <a:latin typeface="Calibri"/>
              </a:rPr>
              <a:t>– birçok devlet KAY taleplerinin kendi resmi dil(ler)ine tercümesini şart koşmaktadır.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Kolluk görevlileri, savcılar ve hakimler arasında doğrudan ve gayrıresmi temaslar sırasında dil engelleri.</a:t>
            </a:r>
            <a:endParaRPr b="0" lang="en-US" sz="3200" spc="-1" strike="noStrike">
              <a:solidFill>
                <a:srgbClr val="000000"/>
              </a:solidFill>
              <a:latin typeface="Calibri"/>
            </a:endParaRPr>
          </a:p>
        </p:txBody>
      </p:sp>
      <p:sp>
        <p:nvSpPr>
          <p:cNvPr id="13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30E75-7D18-4D82-AD7D-27813BF4F32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Uluslararası işbirliği konusuna giriş</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Sanal suçların özellikler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Uluslararası siber suç soruşturmalarına ilişkin bazı fiili meseleler </a:t>
            </a:r>
            <a:endParaRPr b="0" lang="en-US" sz="3200" spc="-1" strike="noStrike">
              <a:solidFill>
                <a:srgbClr val="000000"/>
              </a:solidFill>
              <a:latin typeface="Calibri"/>
            </a:endParaRPr>
          </a:p>
        </p:txBody>
      </p:sp>
      <p:sp>
        <p:nvSpPr>
          <p:cNvPr id="132" name=""/>
          <p:cNvSpPr txBox="1"/>
          <p:nvPr/>
        </p:nvSpPr>
        <p:spPr>
          <a:xfrm>
            <a:off x="457200" y="2492280"/>
            <a:ext cx="8229600" cy="3633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Farklı ülkelerde siber suç soruşturmalarının farklı önem seviyelerine sahip olması dolayısıyla yaşanacak </a:t>
            </a:r>
            <a:r>
              <a:rPr b="1" lang="tr-TR" sz="2800" spc="-1" strike="noStrike">
                <a:solidFill>
                  <a:srgbClr val="000000"/>
                </a:solidFill>
                <a:latin typeface="Calibri"/>
              </a:rPr>
              <a:t>gecikmelere hazır olun</a:t>
            </a:r>
            <a:r>
              <a:rPr b="0" lang="tr-TR"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Talep edilen taraf talebinizi icraya koyabilecek kapasiteye sahip değilse teknik destek ve uzman desteği sağlamayı değerlendirin. </a:t>
            </a:r>
            <a:endParaRPr b="0" lang="en-US" sz="2800" spc="-1" strike="noStrike">
              <a:solidFill>
                <a:srgbClr val="000000"/>
              </a:solidFill>
              <a:latin typeface="Calibri"/>
            </a:endParaRPr>
          </a:p>
        </p:txBody>
      </p:sp>
      <p:sp>
        <p:nvSpPr>
          <p:cNvPr id="13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98142-BC31-41C2-A1E2-E68261AEEE0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Uluslararası siber suç soruşturmalarına ilişkin bazı fiili meseleler </a:t>
            </a:r>
            <a:endParaRPr b="0" lang="en-US" sz="3200" spc="-1" strike="noStrike">
              <a:solidFill>
                <a:srgbClr val="000000"/>
              </a:solidFill>
              <a:latin typeface="Calibri"/>
            </a:endParaRPr>
          </a:p>
        </p:txBody>
      </p:sp>
      <p:sp>
        <p:nvSpPr>
          <p:cNvPr id="135" name=""/>
          <p:cNvSpPr txBox="1"/>
          <p:nvPr/>
        </p:nvSpPr>
        <p:spPr>
          <a:xfrm>
            <a:off x="457200" y="2349000"/>
            <a:ext cx="8229600" cy="37767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Mümkün olduğunda konvansiyonel/geleneksel soruşturma araçlarını ve tedbirlerini talep etmeyi ve kullanmayı değerlendirin </a:t>
            </a:r>
            <a:r>
              <a:rPr b="0" lang="tr-TR" sz="2800" spc="-1" strike="noStrike">
                <a:solidFill>
                  <a:srgbClr val="000000"/>
                </a:solidFill>
                <a:latin typeface="Calibri"/>
              </a:rPr>
              <a:t>– polis görevlileri/savcılar bunlara daha aşina oldukları için bu yolla da başarılı bir soruşturma ve ceza yargılaması için yeterli delilleri temin etmek mümkün olabilir. </a:t>
            </a:r>
            <a:endParaRPr b="0" lang="en-US" sz="2800" spc="-1" strike="noStrike">
              <a:solidFill>
                <a:srgbClr val="000000"/>
              </a:solidFill>
              <a:latin typeface="Calibri"/>
            </a:endParaRPr>
          </a:p>
        </p:txBody>
      </p:sp>
      <p:sp>
        <p:nvSpPr>
          <p:cNvPr id="13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3F828-2F2B-4596-927C-9ACEE8E3FCD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38" name="TextBox 3"/>
          <p:cNvSpPr/>
          <p:nvPr/>
        </p:nvSpPr>
        <p:spPr>
          <a:xfrm>
            <a:off x="3431520" y="4500720"/>
            <a:ext cx="2236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00000"/>
                </a:solidFill>
                <a:latin typeface="Calibri"/>
              </a:rPr>
              <a:t>Sorular</a:t>
            </a:r>
            <a:endParaRPr b="0" lang="en-US" sz="5400" spc="-1" strike="noStrike">
              <a:solidFill>
                <a:srgbClr val="000000"/>
              </a:solidFill>
              <a:latin typeface="Calibri"/>
            </a:endParaRPr>
          </a:p>
        </p:txBody>
      </p:sp>
      <p:sp>
        <p:nvSpPr>
          <p:cNvPr id="13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98D4D-FB0D-41F1-9717-2ACB589161C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1052280"/>
            <a:ext cx="8229600" cy="662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00000"/>
                </a:solidFill>
                <a:latin typeface="Calibri"/>
              </a:rPr>
              <a:t> </a:t>
            </a:r>
            <a:r>
              <a:rPr b="1" lang="tr-TR" sz="4400" spc="-1" strike="noStrike">
                <a:solidFill>
                  <a:srgbClr val="000000"/>
                </a:solidFill>
                <a:latin typeface="Calibri"/>
              </a:rPr>
              <a:t>Sorular:</a:t>
            </a:r>
            <a:endParaRPr b="0" lang="en-US" sz="4400" spc="-1" strike="noStrike">
              <a:solidFill>
                <a:srgbClr val="000000"/>
              </a:solidFill>
              <a:latin typeface="Calibri"/>
            </a:endParaRPr>
          </a:p>
        </p:txBody>
      </p:sp>
      <p:sp>
        <p:nvSpPr>
          <p:cNvPr id="141" name=""/>
          <p:cNvSpPr txBox="1"/>
          <p:nvPr/>
        </p:nvSpPr>
        <p:spPr>
          <a:xfrm>
            <a:off x="468360" y="2276280"/>
            <a:ext cx="8229600" cy="39178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Uluslararası işbirliğine dahil olan ulusal makamlar hangileridir: bilgi alışverişi, KAY veya işlemlerin geciktirilmesi?</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Konuyla ilgili ağlar ve kuruluşlar? Ulusal irtibat noktaları kimlerdir?</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Varşova ve Budapeşte Sözleşmesi kapsamındaki merkezi makam kimdir?</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Varşova ve Budapeşte Sözleşmesi’ne dayanarak hangi bilgiler talep edilebilir ve usule ilişkin hangi taleplerde bulunulabilir?</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Uluslararası işbirliği konusundaki ulusal mevzuat nelerdir (polis, savcılık, KAY?)</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ABD’de MSP’lerle doğrudan işbirliği konusunda uygulama nedir?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KAY/İSTATİSTİKLER hakkında bilgi?</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Pratik Çalışma</a:t>
            </a:r>
            <a:endParaRPr b="0" lang="en-US" sz="2800" spc="-1" strike="noStrike">
              <a:solidFill>
                <a:srgbClr val="000000"/>
              </a:solidFill>
              <a:latin typeface="Calibri"/>
            </a:endParaRPr>
          </a:p>
        </p:txBody>
      </p:sp>
      <p:graphicFrame>
        <p:nvGraphicFramePr>
          <p:cNvPr id="143" name=""/>
          <p:cNvGraphicFramePr/>
          <p:nvPr/>
        </p:nvGraphicFramePr>
        <p:xfrm>
          <a:off x="468360" y="1773360"/>
          <a:ext cx="8064360" cy="5059080"/>
        </p:xfrm>
        <a:graphic>
          <a:graphicData uri="http://schemas.openxmlformats.org/drawingml/2006/table">
            <a:tbl>
              <a:tblPr/>
              <a:tblGrid>
                <a:gridCol w="3959280"/>
                <a:gridCol w="4105080"/>
              </a:tblGrid>
              <a:tr h="5059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2060"/>
                          </a:solidFill>
                          <a:latin typeface="Calibri"/>
                        </a:rPr>
                        <a:t>Şu konulara dair iç </a:t>
                      </a:r>
                      <a:r>
                        <a:rPr b="1" lang="sl-SI" sz="2000" spc="-1" strike="noStrike" u="sng">
                          <a:solidFill>
                            <a:srgbClr val="002060"/>
                          </a:solidFill>
                          <a:uFillTx/>
                          <a:latin typeface="Calibri"/>
                        </a:rPr>
                        <a:t>hukuk mevzuatını</a:t>
                      </a:r>
                      <a:r>
                        <a:rPr b="1" lang="sl-SI" sz="2000" spc="-1" strike="noStrike">
                          <a:solidFill>
                            <a:srgbClr val="002060"/>
                          </a:solidFill>
                          <a:latin typeface="Calibri"/>
                        </a:rPr>
                        <a:t> ve içtihadını değerlendirin</a:t>
                      </a:r>
                      <a:r>
                        <a:rPr b="1" lang="en-US" sz="2000" spc="-1" strike="noStrike">
                          <a:solidFill>
                            <a:srgbClr val="002060"/>
                          </a:solidFill>
                          <a:latin typeface="Calibri"/>
                        </a:rPr>
                        <a:t>: </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Calibri"/>
                        </a:rPr>
                        <a:t> </a:t>
                      </a:r>
                      <a:r>
                        <a:rPr b="0" lang="en-US" sz="1900" spc="-1" strike="noStrike">
                          <a:solidFill>
                            <a:srgbClr val="002060"/>
                          </a:solidFill>
                          <a:latin typeface="Calibri"/>
                        </a:rPr>
                        <a:t>banka verilerine erişim</a:t>
                      </a:r>
                      <a:endParaRPr b="0" lang="en-US" sz="19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Calibri"/>
                        </a:rPr>
                        <a:t> </a:t>
                      </a:r>
                      <a:r>
                        <a:rPr b="0" lang="en-US" sz="1900" spc="-1" strike="noStrike">
                          <a:solidFill>
                            <a:srgbClr val="002060"/>
                          </a:solidFill>
                          <a:latin typeface="Calibri"/>
                        </a:rPr>
                        <a:t>ele geçirme de dahil olmak üzere, internet hizmet sağlayıcının abone, trafik ve içerik verilerine erişim</a:t>
                      </a:r>
                      <a:endParaRPr b="0" lang="en-US" sz="19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Calibri"/>
                        </a:rPr>
                        <a:t> </a:t>
                      </a:r>
                      <a:r>
                        <a:rPr b="0" lang="en-US" sz="1900" spc="-1" strike="noStrike">
                          <a:solidFill>
                            <a:srgbClr val="002060"/>
                          </a:solidFill>
                          <a:latin typeface="Calibri"/>
                        </a:rPr>
                        <a:t>internet hizmet sağlayıcıya doğrudan iletilen muhafaza talebi</a:t>
                      </a:r>
                      <a:endParaRPr b="0" lang="en-US" sz="19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Calibri"/>
                        </a:rPr>
                        <a:t> </a:t>
                      </a:r>
                      <a:r>
                        <a:rPr b="0" lang="en-US" sz="1900" spc="-1" strike="noStrike">
                          <a:solidFill>
                            <a:srgbClr val="002060"/>
                          </a:solidFill>
                          <a:latin typeface="Calibri"/>
                        </a:rPr>
                        <a:t>depolanan bilgisayar verilerine (e-delil) erişilmesi, el konulması ve bunlara yönelik adli bilimler incelemesi</a:t>
                      </a:r>
                      <a:endParaRPr b="0" lang="en-US" sz="19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Calibri"/>
                        </a:rPr>
                        <a:t> </a:t>
                      </a:r>
                      <a:r>
                        <a:rPr b="0" lang="en-US" sz="1900" spc="-1" strike="noStrike">
                          <a:solidFill>
                            <a:srgbClr val="002060"/>
                          </a:solidFill>
                          <a:latin typeface="Calibri"/>
                        </a:rPr>
                        <a:t>İşlemin/malın dondurulması</a:t>
                      </a:r>
                      <a:endParaRPr b="0" lang="en-US" sz="19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Calibri"/>
                        </a:rPr>
                        <a:t> </a:t>
                      </a:r>
                      <a:r>
                        <a:rPr b="0" lang="en-US" sz="1900" spc="-1" strike="noStrike">
                          <a:solidFill>
                            <a:srgbClr val="002060"/>
                          </a:solidFill>
                          <a:latin typeface="Calibri"/>
                        </a:rPr>
                        <a:t>Malların müsaderesi</a:t>
                      </a:r>
                      <a:endParaRPr b="0" lang="en-US" sz="19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Calibri"/>
                        </a:rPr>
                        <a:t> </a:t>
                      </a:r>
                      <a:r>
                        <a:rPr b="0" lang="en-US" sz="1900" spc="-1" strike="noStrike">
                          <a:solidFill>
                            <a:srgbClr val="002060"/>
                          </a:solidFill>
                          <a:latin typeface="Calibri"/>
                        </a:rPr>
                        <a:t>Malvarlığı paylaşımı</a:t>
                      </a:r>
                      <a:endParaRPr b="0" lang="en-US" sz="19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Calibri"/>
                        </a:rPr>
                        <a:t>konulu KAY talebi ve icrası</a:t>
                      </a:r>
                      <a:endParaRPr b="0" lang="en-US" sz="19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alibri"/>
                        </a:rPr>
                        <a:t>Şu konulara dair </a:t>
                      </a:r>
                      <a:r>
                        <a:rPr b="1" lang="en-US" sz="2000" spc="-1" strike="noStrike" u="sng">
                          <a:solidFill>
                            <a:srgbClr val="002060"/>
                          </a:solidFill>
                          <a:uFillTx/>
                          <a:latin typeface="Calibri"/>
                        </a:rPr>
                        <a:t>şablon/formlar </a:t>
                      </a:r>
                      <a:r>
                        <a:rPr b="1" lang="en-US" sz="2000" spc="-1" strike="noStrike">
                          <a:solidFill>
                            <a:srgbClr val="002060"/>
                          </a:solidFill>
                          <a:latin typeface="Calibri"/>
                        </a:rPr>
                        <a:t>temin edin/tartışın:</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 </a:t>
                      </a:r>
                      <a:r>
                        <a:rPr b="0" lang="en-US" sz="2000" spc="-1" strike="noStrike">
                          <a:solidFill>
                            <a:srgbClr val="002060"/>
                          </a:solidFill>
                          <a:latin typeface="Calibri"/>
                        </a:rPr>
                        <a:t>Budapeşte ve Varşova Sözleşmeleri ile bağlantılı olarak iç mevzuata dayanan </a:t>
                      </a:r>
                      <a:r>
                        <a:rPr b="0" lang="en-US" sz="2000" spc="-1" strike="noStrike" u="sng">
                          <a:solidFill>
                            <a:srgbClr val="002060"/>
                          </a:solidFill>
                          <a:uFillTx/>
                          <a:latin typeface="Calibri"/>
                        </a:rPr>
                        <a:t>KAY talebi</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 </a:t>
                      </a:r>
                      <a:r>
                        <a:rPr b="0" lang="en-US" sz="2000" spc="-1" strike="noStrike">
                          <a:solidFill>
                            <a:srgbClr val="002060"/>
                          </a:solidFill>
                          <a:latin typeface="Calibri"/>
                        </a:rPr>
                        <a:t>depolanan bilgisayar verilerinin süratli şekilde korunması ve trafik verilerinin açıklanması</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 </a:t>
                      </a:r>
                      <a:r>
                        <a:rPr b="0" lang="en-US" sz="2000" spc="-1" strike="noStrike">
                          <a:solidFill>
                            <a:srgbClr val="002060"/>
                          </a:solidFill>
                          <a:latin typeface="Calibri"/>
                        </a:rPr>
                        <a:t>internet hizmet sağlayıcıya doğrudan iletilen muhafaza talebi</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 </a:t>
                      </a:r>
                      <a:r>
                        <a:rPr b="0" lang="en-US" sz="2000" spc="-1" strike="noStrike">
                          <a:solidFill>
                            <a:srgbClr val="002060"/>
                          </a:solidFill>
                          <a:latin typeface="Calibri"/>
                        </a:rPr>
                        <a:t>7/24 ağ kanalıyla iletilen talepler (Budapeşte Sözleşmesi)</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 </a:t>
                      </a:r>
                      <a:r>
                        <a:rPr b="0" lang="en-US" sz="2000" spc="-1" strike="noStrike">
                          <a:solidFill>
                            <a:srgbClr val="002060"/>
                          </a:solidFill>
                          <a:latin typeface="Calibri"/>
                        </a:rPr>
                        <a:t>Yurtdışında finansal işlemlerin geciktirilmesine yönelik MİB talebi</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Özet</a:t>
            </a:r>
            <a:endParaRPr b="0" lang="en-US" sz="4400" spc="-1" strike="noStrike">
              <a:solidFill>
                <a:srgbClr val="000000"/>
              </a:solidFill>
              <a:latin typeface="Calibri"/>
            </a:endParaRPr>
          </a:p>
        </p:txBody>
      </p:sp>
      <p:sp>
        <p:nvSpPr>
          <p:cNvPr id="145" name=""/>
          <p:cNvSpPr txBox="1"/>
          <p:nvPr/>
        </p:nvSpPr>
        <p:spPr>
          <a:xfrm>
            <a:off x="468360" y="2060280"/>
            <a:ext cx="8229600" cy="413388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Sanal suçlardan elde edilen gelirlerin hedef alınmasında uluslararası işbirliğinin öneminin açıklanması.</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Mali soruşturmaların ve kara para aklama suçunun yanı sıra, siber suçlar ve e-delil alanlarında uluslararası işbirliği yollarının birleştirilmesinin avantajlarının açıklanması.</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Bilgi alışverişi ile karşılıklı adli yardım konularında uluslararası işbirliğinin birbirinden ayrılması.</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Bilgi alışverişine ilişkin uluslararası ağların ve kuruluşların sıralanması.</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Karşılıklı adli yardımın (KAY) niteliği ve amacının tanımlanması.</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Konuyla ilgili uluslararası hukuk belgelerinin sunulması.</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Budapeşte ve Varşova Sözleşmelerinin bu konudaki hükümlerinin gereğince kullanılabilmesi amacıyla belirlenmesi.</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47" name="TextBox 4"/>
          <p:cNvSpPr/>
          <p:nvPr/>
        </p:nvSpPr>
        <p:spPr>
          <a:xfrm>
            <a:off x="3458160" y="4500720"/>
            <a:ext cx="2181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Sorular</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0" y="1052280"/>
            <a:ext cx="91440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Sanal suç gelirleri – soruşturma tedbirleri: </a:t>
            </a:r>
            <a:br>
              <a:rPr sz="2800"/>
            </a:br>
            <a:r>
              <a:rPr b="1" lang="tr-TR" sz="2800" spc="-1" strike="noStrike">
                <a:solidFill>
                  <a:srgbClr val="000000"/>
                </a:solidFill>
                <a:latin typeface="Calibri"/>
              </a:rPr>
              <a:t>ulusal/uluslararası boyut</a:t>
            </a:r>
            <a:endParaRPr b="0" lang="en-US" sz="2800" spc="-1" strike="noStrike">
              <a:solidFill>
                <a:srgbClr val="000000"/>
              </a:solidFill>
              <a:latin typeface="Calibri"/>
            </a:endParaRPr>
          </a:p>
        </p:txBody>
      </p:sp>
      <p:graphicFrame>
        <p:nvGraphicFramePr>
          <p:cNvPr id="66" name=""/>
          <p:cNvGraphicFramePr/>
          <p:nvPr/>
        </p:nvGraphicFramePr>
        <p:xfrm>
          <a:off x="539640" y="1773360"/>
          <a:ext cx="8064720" cy="5106960"/>
        </p:xfrm>
        <a:graphic>
          <a:graphicData uri="http://schemas.openxmlformats.org/drawingml/2006/table">
            <a:tbl>
              <a:tblPr/>
              <a:tblGrid>
                <a:gridCol w="3024360"/>
                <a:gridCol w="2160360"/>
                <a:gridCol w="2880000"/>
              </a:tblGrid>
              <a:tr h="762480">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Savcılık</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soruşturmaları yürütür, tedbirleri alır, mahkemeye öneride bulunur)</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1604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Siber) suç soruşturması</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Siber) suçlara yönelik soruşturma</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Elektronik delillerin ve dijital adli tıbbın (bazen ayrı) önemi Şüphelinin</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IP numarasının</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Abone bilgisinin (örn. eposta, Facebook)</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İnternet hizmet sağlayıcı ilişkisinin (abone, trafik, içerik verisi) tespiti</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81add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Gizli görev</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Telefon dinlemesi</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Ev araması</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Görüşme</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Mali soruşturma</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Suç gelirlerinin hedef alınması</a:t>
                      </a:r>
                      <a:endParaRPr b="0" lang="en-US" sz="17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600" spc="-1" strike="noStrike">
                          <a:solidFill>
                            <a:srgbClr val="000000"/>
                          </a:solidFill>
                          <a:latin typeface="Calibri"/>
                        </a:rPr>
                        <a:t>Banka verilerine erişim</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Takip emri – banka hesabı</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El koyma/Dondurma emri</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Müsadere</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r>
              <a:tr h="1184040">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Kara Para Aklama - MİB</a:t>
                      </a:r>
                      <a:endParaRPr b="0" lang="en-US" sz="20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Şüpheli İşlem Bildirimi incelemesi</a:t>
                      </a:r>
                      <a:endParaRPr b="0" lang="en-US" sz="16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Banka verilerine erişim/inceleme</a:t>
                      </a:r>
                      <a:endParaRPr b="0" lang="en-US" sz="16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Şüpheli mali işlemlerin ertelenmesi</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1052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Uluslararası işbirliği</a:t>
            </a:r>
            <a:endParaRPr b="0" lang="en-US" sz="2800" spc="-1" strike="noStrike">
              <a:solidFill>
                <a:srgbClr val="000000"/>
              </a:solidFill>
              <a:latin typeface="Calibri"/>
            </a:endParaRPr>
          </a:p>
        </p:txBody>
      </p:sp>
      <p:graphicFrame>
        <p:nvGraphicFramePr>
          <p:cNvPr id="68" name=""/>
          <p:cNvGraphicFramePr/>
          <p:nvPr/>
        </p:nvGraphicFramePr>
        <p:xfrm>
          <a:off x="468360" y="1989000"/>
          <a:ext cx="8064360" cy="4481640"/>
        </p:xfrm>
        <a:graphic>
          <a:graphicData uri="http://schemas.openxmlformats.org/drawingml/2006/table">
            <a:tbl>
              <a:tblPr/>
              <a:tblGrid>
                <a:gridCol w="3959280"/>
                <a:gridCol w="4105080"/>
              </a:tblGrid>
              <a:tr h="4481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Bilgi alışverişi</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Süra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Ağlar</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Somut bir olayda bilgi alışverişi</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Soruşturma yardımı (KAY’a ilişkin ulusal koşullar)</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Deneyim paylaşımı</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Mahkeme kararlarının icrası söz konusu değildir</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rPr>
                        <a:t>Karşılıklı adli yardım</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 </a:t>
                      </a:r>
                      <a:r>
                        <a:rPr b="0" lang="sl-SI" sz="1800" spc="-1" strike="noStrike">
                          <a:solidFill>
                            <a:srgbClr val="000000"/>
                          </a:solidFill>
                          <a:latin typeface="Calibri"/>
                        </a:rPr>
                        <a:t>Resmi işbirliği</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 </a:t>
                      </a:r>
                      <a:r>
                        <a:rPr b="0" lang="sl-SI" sz="1800" spc="-1" strike="noStrike">
                          <a:solidFill>
                            <a:srgbClr val="000000"/>
                          </a:solidFill>
                          <a:latin typeface="Calibri"/>
                        </a:rPr>
                        <a:t>Taleplerin, yargı kararlarının icrası</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 </a:t>
                      </a:r>
                      <a:r>
                        <a:rPr b="0" lang="sl-SI" sz="1800" spc="-1" strike="noStrike">
                          <a:solidFill>
                            <a:srgbClr val="000000"/>
                          </a:solidFill>
                          <a:latin typeface="Calibri"/>
                        </a:rPr>
                        <a:t>uzun gecikmeler </a:t>
                      </a:r>
                      <a:r>
                        <a:rPr b="0" lang="sl-SI" sz="1800" spc="-1" strike="noStrike">
                          <a:solidFill>
                            <a:srgbClr val="000000"/>
                          </a:solidFill>
                          <a:latin typeface="Calibri"/>
                        </a:rPr>
                        <a:t>…</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a:rPr>
                        <a:t>ALTERNATİF SEÇENEKLER: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a:rPr>
                        <a:t>- </a:t>
                      </a:r>
                      <a:r>
                        <a:rPr b="0" lang="sl-SI" sz="2000" spc="-1" strike="noStrike">
                          <a:solidFill>
                            <a:srgbClr val="000000"/>
                          </a:solidFill>
                          <a:latin typeface="Calibri"/>
                        </a:rPr>
                        <a:t>OSE (ORTAK SORUŞTURMA EKİBİ)</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 PARALEL SORUŞTURMA</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 YARGILAMALARIN DEVRİ</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1052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Uluslararası işbirliği</a:t>
            </a:r>
            <a:endParaRPr b="0" lang="en-US" sz="2800" spc="-1" strike="noStrike">
              <a:solidFill>
                <a:srgbClr val="000000"/>
              </a:solidFill>
              <a:latin typeface="Calibri"/>
            </a:endParaRPr>
          </a:p>
        </p:txBody>
      </p:sp>
      <p:graphicFrame>
        <p:nvGraphicFramePr>
          <p:cNvPr id="70" name=""/>
          <p:cNvGraphicFramePr/>
          <p:nvPr/>
        </p:nvGraphicFramePr>
        <p:xfrm>
          <a:off x="468360" y="1916280"/>
          <a:ext cx="8064360" cy="4632120"/>
        </p:xfrm>
        <a:graphic>
          <a:graphicData uri="http://schemas.openxmlformats.org/drawingml/2006/table">
            <a:tbl>
              <a:tblPr/>
              <a:tblGrid>
                <a:gridCol w="3959280"/>
                <a:gridCol w="4105080"/>
              </a:tblGrid>
              <a:tr h="46332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Bilgi alışverişi</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CARIN (</a:t>
                      </a:r>
                      <a:r>
                        <a:rPr b="0" lang="tr-TR" sz="1800" spc="-1" strike="noStrike">
                          <a:solidFill>
                            <a:srgbClr val="000000"/>
                          </a:solidFill>
                          <a:latin typeface="Calibri"/>
                        </a:rPr>
                        <a:t>Camden Müsadere Ofisleri)</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EGMONT Grubu (MİB’ler)</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7/24 ağ</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İnterpo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Europo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Eurojus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PCCSEE (</a:t>
                      </a:r>
                      <a:r>
                        <a:rPr b="0" lang="tr-TR" sz="1800" spc="-1" strike="noStrike">
                          <a:solidFill>
                            <a:srgbClr val="000000"/>
                          </a:solidFill>
                          <a:latin typeface="Calibri"/>
                        </a:rPr>
                        <a:t>Güneydoğu Avrupa Polis İşbirliği Sözleşmesi)</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SELEC (</a:t>
                      </a:r>
                      <a:r>
                        <a:rPr b="0" lang="tr-TR" sz="1800" spc="-1" strike="noStrike">
                          <a:solidFill>
                            <a:srgbClr val="000000"/>
                          </a:solidFill>
                          <a:latin typeface="Calibri"/>
                        </a:rPr>
                        <a:t>Güneydoğu Avrupa Kolluk Merkezi)</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İki taraflı sözleşmeler</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Karşılıklı adli yardım</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Ulusal Merkezi makam (örn. Adalet Bakanlığı)</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İnterpol kanalıyla da mümkündür.</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İki taraflı sözleşmeler doğrudan işbirliğine imkân sağlayabilir.</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İç hukuk hükümleri şunları kolaylaştırabilir:</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ea typeface="MS PGothic"/>
                        </a:rPr>
                        <a:t>OSE’ler</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ea typeface="MS PGothic"/>
                        </a:rPr>
                        <a:t>PARALEL SORUŞTURMA</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ea typeface="MS PGothic"/>
                        </a:rPr>
                        <a:t>YARGILAMALARIN DEVRİ</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ea typeface="MS PGothic"/>
                        </a:rPr>
                        <a:t>KAY hakkındaki iç hukuk hükümleri</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2627280" y="1844280"/>
            <a:ext cx="82296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000000"/>
              </a:solidFill>
              <a:latin typeface="Calibri"/>
            </a:endParaRPr>
          </a:p>
        </p:txBody>
      </p:sp>
      <p:graphicFrame>
        <p:nvGraphicFramePr>
          <p:cNvPr id="72" name=""/>
          <p:cNvGraphicFramePr/>
          <p:nvPr/>
        </p:nvGraphicFramePr>
        <p:xfrm>
          <a:off x="539640" y="1484280"/>
          <a:ext cx="8064720" cy="4880160"/>
        </p:xfrm>
        <a:graphic>
          <a:graphicData uri="http://schemas.openxmlformats.org/drawingml/2006/table">
            <a:tbl>
              <a:tblPr/>
              <a:tblGrid>
                <a:gridCol w="2808360"/>
                <a:gridCol w="1224000"/>
                <a:gridCol w="1368360"/>
                <a:gridCol w="2664000"/>
              </a:tblGrid>
              <a:tr h="609480">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Mahkeme</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karar, icra)</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Adalet Bakanlığı</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merkezi makam)</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371600">
                <a:tc gridSpan="4">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Savcılık</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Eurojust (AB), EJN (Avrupa Adli Yargı Ağı) (AB),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OSE’ler, paralel soruşturmalar, operasyonel toplantılar</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KAY önerisi/talebi/icrası)</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0070c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899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Siber) suç soruşturması</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E-delil: abone (IP kimliği), trafik, içerik verisi)</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 </a:t>
                      </a:r>
                      <a:r>
                        <a:rPr b="1" lang="tr-TR" sz="1600" spc="-1" strike="noStrike">
                          <a:solidFill>
                            <a:srgbClr val="000000"/>
                          </a:solidFill>
                          <a:latin typeface="Calibri"/>
                        </a:rPr>
                        <a:t>MSP’ler ile doğrudan işbirliği</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 </a:t>
                      </a:r>
                      <a:r>
                        <a:rPr b="1" lang="tr-TR" sz="1600" spc="-1" strike="noStrike">
                          <a:solidFill>
                            <a:srgbClr val="000000"/>
                          </a:solidFill>
                          <a:latin typeface="Calibri"/>
                        </a:rPr>
                        <a:t>7/24 ağı</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 </a:t>
                      </a:r>
                      <a:r>
                        <a:rPr b="1" lang="tr-TR" sz="1600" spc="-1" strike="noStrike">
                          <a:solidFill>
                            <a:srgbClr val="000000"/>
                          </a:solidFill>
                          <a:latin typeface="Calibri"/>
                        </a:rPr>
                        <a:t>İnterpol kanalı</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 </a:t>
                      </a:r>
                      <a:r>
                        <a:rPr b="1" lang="tr-TR" sz="1600" spc="-1" strike="noStrike">
                          <a:solidFill>
                            <a:srgbClr val="000000"/>
                          </a:solidFill>
                          <a:latin typeface="Calibri"/>
                        </a:rPr>
                        <a:t>(Europol EC3)</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81add5"/>
                    </a:solidFill>
                  </a:tcPr>
                </a:tc>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Mali soruşturma</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Banka verileri, banka işlemlerinin izlenmesi,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malların kimlik tespiti,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dondurma, el koyma kararı)</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Müsadere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 </a:t>
                      </a:r>
                      <a:r>
                        <a:rPr b="1" lang="tr-TR" sz="1600" spc="-1" strike="noStrike">
                          <a:solidFill>
                            <a:srgbClr val="000000"/>
                          </a:solidFill>
                          <a:latin typeface="Calibri"/>
                        </a:rPr>
                        <a:t>CARIN</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Kara para aklama - MİB</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ŞİB konusunda bilgi alışverişi, mali işlemlerin geciktirilmesi)</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 </a:t>
                      </a:r>
                      <a:r>
                        <a:rPr b="1" lang="tr-TR" sz="1600" spc="-1" strike="noStrike">
                          <a:solidFill>
                            <a:srgbClr val="000000"/>
                          </a:solidFill>
                          <a:latin typeface="Calibri"/>
                        </a:rPr>
                        <a:t>EGMONT Grubu</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 </a:t>
                      </a:r>
                      <a:r>
                        <a:rPr b="1" lang="tr-TR" sz="1600" spc="-1" strike="noStrike">
                          <a:solidFill>
                            <a:srgbClr val="000000"/>
                          </a:solidFill>
                          <a:latin typeface="Calibri"/>
                        </a:rPr>
                        <a:t>(AB) FIUnet (MİB ağı)</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 </a:t>
                      </a:r>
                      <a:r>
                        <a:rPr b="1" lang="tr-TR" sz="1600" spc="-1" strike="noStrike">
                          <a:solidFill>
                            <a:srgbClr val="000000"/>
                          </a:solidFill>
                          <a:latin typeface="Calibri"/>
                        </a:rPr>
                        <a:t>MİB’den MİB’e (Mutabakat Anlaşmaları) </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Uluslararası Hukuk Belgeleri</a:t>
            </a:r>
            <a:br>
              <a:rPr sz="3600"/>
            </a:br>
            <a:endParaRPr b="0" lang="en-US" sz="2800" spc="-1" strike="noStrike">
              <a:solidFill>
                <a:srgbClr val="000000"/>
              </a:solidFill>
              <a:latin typeface="Calibri"/>
            </a:endParaRPr>
          </a:p>
        </p:txBody>
      </p:sp>
      <p:sp>
        <p:nvSpPr>
          <p:cNvPr id="74" name=""/>
          <p:cNvSpPr txBox="1"/>
          <p:nvPr/>
        </p:nvSpPr>
        <p:spPr>
          <a:xfrm>
            <a:off x="214200" y="1643040"/>
            <a:ext cx="8786880" cy="4857840"/>
          </a:xfrm>
          <a:prstGeom prst="rect">
            <a:avLst/>
          </a:prstGeom>
          <a:noFill/>
          <a:ln w="0">
            <a:noFill/>
          </a:ln>
        </p:spPr>
        <p:txBody>
          <a:bodyPr anchor="t">
            <a:normAutofit fontScale="99000"/>
          </a:bodyPr>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İşbirliği talebinin esasına bağlı olarak en etkili belgenin seçimi–zira belgelerin içerikleri çeşitlilik göstermektedir– güç olabilmektedir. </a:t>
            </a:r>
            <a:endParaRPr b="0" lang="en-US" sz="1800" spc="-1" strike="noStrike">
              <a:solidFill>
                <a:srgbClr val="000000"/>
              </a:solidFill>
              <a:latin typeface="Calibri"/>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Calibri"/>
              </a:rPr>
              <a:t> </a:t>
            </a:r>
            <a:endParaRPr b="0" lang="en-US" sz="10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Varşova Sözleşmesi </a:t>
            </a:r>
            <a:r>
              <a:rPr b="0" lang="tr-TR" sz="1800" spc="-1" strike="noStrike">
                <a:solidFill>
                  <a:srgbClr val="000000"/>
                </a:solidFill>
                <a:latin typeface="Calibri"/>
              </a:rPr>
              <a:t>sorgulama, dondurma ve müsadere konusunda karşılıklı adli yardım konusunda merkezi makamlar oluşturur. Acil durumlarda sorumlu yargı ve kovuşturma makamları arasında doğrudan işbirliğinin (34. madde) yanı sıra, idari dondurma kararı da dahil olmak üzere MİB’ler arasında doğrudan işbirliği de öngörülmektedir. </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Strazburg Sözleşmesi </a:t>
            </a:r>
            <a:r>
              <a:rPr b="0" lang="tr-TR" sz="1800" spc="-1" strike="noStrike">
                <a:solidFill>
                  <a:srgbClr val="000000"/>
                </a:solidFill>
                <a:latin typeface="Calibri"/>
              </a:rPr>
              <a:t>Varşova Sözleşmesi’nden önceki bir tarihe, 1990’lara dayanmaktadır. Varşova Sözleşmesi’ni onaylamamış olan Taraflar açısından geçerlidir.  </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Budapeşte Sözleşmesi </a:t>
            </a:r>
            <a:r>
              <a:rPr b="0" lang="tr-TR" sz="1800" spc="-1" strike="noStrike">
                <a:solidFill>
                  <a:srgbClr val="000000"/>
                </a:solidFill>
                <a:latin typeface="Calibri"/>
              </a:rPr>
              <a:t>7/24 operasyonel işbirliği ağı (polis ve/veya savcılık seviyesinde) öngörür ve acil durumlarda sorumlu makamlar arasında doğrudan KAY talebine olanak sağlar. </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Ceza İşlerinde Karşılıklı Adli Yardım Avrupa Sözleşmesi</a:t>
            </a:r>
            <a:r>
              <a:rPr b="0" lang="tr-TR" sz="1800" spc="-1" strike="noStrike">
                <a:solidFill>
                  <a:srgbClr val="000000"/>
                </a:solidFill>
                <a:latin typeface="Calibri"/>
              </a:rPr>
              <a:t>, AKAS 30, 20 Nisan 1959 ve ek protokoller, AKAS 99 ve AKAS 182. </a:t>
            </a:r>
            <a:endParaRPr b="0" lang="en-US" sz="1800" spc="-1" strike="noStrike">
              <a:solidFill>
                <a:srgbClr val="000000"/>
              </a:solidFill>
              <a:latin typeface="Calibri"/>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BM Sözleşmeleri</a:t>
            </a:r>
            <a:r>
              <a:rPr b="0" lang="tr-TR" sz="1800" spc="-1" strike="noStrike">
                <a:solidFill>
                  <a:srgbClr val="000000"/>
                </a:solidFill>
                <a:latin typeface="Calibri"/>
              </a:rPr>
              <a:t>: Uyuşturucu hakkında sözleşme (1988), Sınıraşan Örgütlü Suçlarla Mücadele Sözleşmesi (2000), Yolsuzlukla mücadele sözleşmesi (2003). </a:t>
            </a:r>
            <a:r>
              <a:rPr b="1" lang="tr-TR" sz="1800" spc="-1" strike="noStrike">
                <a:solidFill>
                  <a:srgbClr val="000000"/>
                </a:solidFill>
                <a:latin typeface="Calibri"/>
              </a:rPr>
              <a:t> </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1052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Uluslararası hukuk belgeleri</a:t>
            </a:r>
            <a:endParaRPr b="0" lang="en-US" sz="2800" spc="-1" strike="noStrike">
              <a:solidFill>
                <a:srgbClr val="000000"/>
              </a:solidFill>
              <a:latin typeface="Calibri"/>
            </a:endParaRPr>
          </a:p>
        </p:txBody>
      </p:sp>
      <p:graphicFrame>
        <p:nvGraphicFramePr>
          <p:cNvPr id="76" name=""/>
          <p:cNvGraphicFramePr/>
          <p:nvPr/>
        </p:nvGraphicFramePr>
        <p:xfrm>
          <a:off x="468360" y="1989000"/>
          <a:ext cx="8064360" cy="4297680"/>
        </p:xfrm>
        <a:graphic>
          <a:graphicData uri="http://schemas.openxmlformats.org/drawingml/2006/table">
            <a:tbl>
              <a:tblPr/>
              <a:tblGrid>
                <a:gridCol w="3959280"/>
                <a:gridCol w="4105080"/>
              </a:tblGrid>
              <a:tr h="2651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Budapeşte Sözleşmesi</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iber Suçlar) </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Varşova Sözleşmesi</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Gelirlerin Takibi, Kara Para Aklama, Terör Finansmanı)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noFill/>
                  </a:tcPr>
                </a:tc>
              </a:tr>
              <a:tr h="1798200">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rPr>
                        <a:t>Küresel (BM) sözleşmeler</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Bölgesel sözleşmeler</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İki taraflı sözleşmeler</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Mütekabiliyet</a:t>
                      </a: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b7de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24T06:40:18Z</dcterms:created>
  <dc:creator>alexander</dc:creator>
  <dc:description/>
  <dc:language>en-US</dc:language>
  <cp:lastModifiedBy>defne orhun</cp:lastModifiedBy>
  <cp:lastPrinted>2016-05-18T07:38:13Z</cp:lastPrinted>
  <dcterms:modified xsi:type="dcterms:W3CDTF">2017-11-06T15:24:28Z</dcterms:modified>
  <cp:revision>517</cp:revision>
  <dc:subject/>
  <dc:title>PowerPoint Presentation</dc:title>
</cp:coreProperties>
</file>