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E4E5-267C-4B46-976F-D4A1E62D5B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CA1D-5FD5-4BCB-A473-B3DB2DB503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4456-9EF2-4EA1-8387-966EECB81D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7989-6ED3-4B69-AF86-3872380410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5BF0-B4F4-4248-ADC7-D39910A511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CE94-8293-4AC2-BE94-B4E037D1E0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BB21-DBDD-4B12-B434-BEABAD6970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6752-FAF7-47B6-9A5A-30446EA6AD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C17C-B127-4014-A284-455F6FDE91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0AFE-C73F-42E6-B20F-94F16F7BC1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FA7B-5114-49D4-82B3-0230319420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1361-69D9-4A5B-B604-63C688346E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CDA2-2C5D-46C6-B907-4AC2118894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A639-515F-40F3-94F8-8688927FFA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1B81-BDEB-494C-856F-339FCB7CCA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F575-D8E6-4F4E-922E-C4546A5784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2385-8945-4F0B-B1D4-F7775B384A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2D29-0191-4B1A-9323-B1EEED00A2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2034-B429-4BB7-8BDD-0FC085257E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D175-4040-40C8-902C-35189506AF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E665-4F3F-4FC8-9505-7413E268AC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E542-7703-4355-9BC8-DBC7E63FF8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4EAF-0FF8-4C80-AB2A-52BCC61D7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BFD8-F018-4760-86D9-9E94B7B7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5E11-064B-4134-B5AC-64D078632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A3D0-2620-4FD5-842C-5E9F8EFFD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1C22-C241-4A13-BFAA-0C003F23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38C7-5AB9-4FA9-8B4C-197EED60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08FD-C4D0-489E-90FA-CF01A60A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17A4-CBBD-4D0B-89E2-872E2230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3FE4-F175-44B6-A2B1-B19B84E5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92D7-E1FE-4DEE-A81F-89266DA0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3D27-78C2-45B3-8D21-F6921775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CAC8-434D-46BE-B2C5-5ACA8F88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42B1-8B89-4F34-BBCD-879EFABD8AB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  <a:ea typeface="MS PGothic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MS PGothic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Sanal Ortamda Suç Teşkil Eden 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Para Akışı Tür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898989"/>
                </a:solidFill>
                <a:latin typeface="Calibri"/>
              </a:rPr>
              <a:t>Oturum 1.4.2/1. Sa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Calibri"/>
              </a:rPr>
              <a:t>ELEKTRONİK HAVALE, BANKA HESAPLARININ DEVRİ/AÇILMAS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Geleneksel Bankacılık Hizmet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Siber suç failleri de geleneksel bankacılık hizmetlerinden yararlanmaya devam eder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Bu durum elbette bilhassa, mağdurun banka hesaplarından para aktarılmasını içeren durumlar açısından söz konusudu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Geleneksel Bankacılık Hizmet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Geleneksel bankacılık sektöründe, bir mağdurun banka hesabından aktarılan paraların kaynağının gizlenmesinde hangi teknikler kullanılabil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Elektronik Havale Tipoloji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Calibri"/>
              </a:rPr>
              <a:t>Mağdur banka hesapları çeşitli siber suç teknikleri kullanılarak (örn. kimlik hırsızlığı, kötü amaçlı yazılım) ihlal edilir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Calibri"/>
              </a:rPr>
              <a:t>Mağdurun banka hesabına yeni lehdarlar eklenir ve paralar kurye hesaplara aktarılır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Calibri"/>
              </a:rPr>
              <a:t>Paralar nakit olarak çekilir veya başka noktalara aktarılır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Calibri"/>
              </a:rPr>
              <a:t>Havaleler bildirim için öngörülen miktarın altında kalması için ufak meblağlarda yapılır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Calibri"/>
              </a:rPr>
              <a:t>Paranın kaynağının gizlenmesi için kurye hesaplara anlamsız aktarımlar içeren karmaşık yapılar kullanılı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Müşterilerin Korunmas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491920"/>
            <a:ext cx="822960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Finans kuruluşları müşterilerin ihlal edilen internet bankacılığı kimliklerinin kötüye kullanılmasını önlemek için ne gibi kontrol araçları kullanı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Elektronik Havale 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Kullanımını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Elektronik havale kullanımına delalet olarak ne gibi delil kaynaklarından yararlanılabil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Elektronik Havale 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Kullanımını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Elektronik havalenin tespiti/kullanımı bakımından mevcut/ilgili usul yetkileri hangileri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Calibri"/>
              </a:rPr>
              <a:t>NAKİT ÇEKİM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Nakit para siber suçlular açısından ne gibi güçlükler yaratıyo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SİZ ne düşünüyorsunuz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Nakit Çekimi Tipoloji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Ödeme kartı ile bağlantılı suçlar gibi kimi siber suç örneklerinde suç gelirleri anında nakit olarak çekili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Başka örneklerde ise başka tür suçlardan elde edilen suç gelirleri kurye hesaplara aktarılır ve buradan çekili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Bu nakit paralar genelde çeşitli teknikler kullanılarak yeniden finans sistemine sokulur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Çeşitli türlerde ön ödemeli kartlar satın alınarak (örn. mağaza puanı, cep telefonu kontörü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Para kuryeleri veya ihlal edilmiş banka hesapları kullanılarak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Oturum Hedef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Sanal suçlardan elde edilen şu para akışı türlerini açıklayınız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Para Havalesi Sağlayıcılar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Elektronik Havale, Banka Hesaplarının Devri/Açılmas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Nakit Çeki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İnternet Ödeme Hizmetle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Nakit Çekimlerini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Nakit çekimi kullanımına delalet olarak ne gibi delil kaynaklarından yararlanılabil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Nakit Çekimlerini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Nakit çekimlerinin tespiti/kullanımı bakımından mevcut/ilgili usul yetkileri hangileri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Calibri"/>
              </a:rPr>
              <a:t>İnternet ÖDEME HİZMETLER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 Ödeme Hizmeti Nedi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SİZ ne düşünüyorsunuz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 Ödeme Hizmeti Tipoloji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Suç yoluyla elde edilen paralar bir İnternet Ödeme Hizmeti hesabına aktarılı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İki seçenek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ternet Ödeme Hizmeti bir sanal banka hesabına benzer hizmetler sunar; yani “internet havalesi/banka hesabı açılması veya devri”ne benzer özellikler kullanılır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ternet Ödeme Hizmetinde tutulan paralar internet üzerinden mal ve hizmet alımında kullanılır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 Ödeme Hizmetlerinin Kullanımını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İnternet Ödeme çekimi kullanımına delalet olarak ne gibi delil kaynaklarından yararlanılabil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 Ödeme Hizmetlerinin Kullanımını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İnternet ödeme hizmetlerinin tespiti/kullanımı bakımından mevcut/ilgili usul yetkileri hangileri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998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Calibri"/>
              </a:rPr>
              <a:t>İnternet Ödeme Hizmetlerinden Elde Edilen Paraların/Paralara Dondurulması, El Konulması ve Müsaderes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2895480"/>
            <a:ext cx="8229600" cy="39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İnternet ödeme hizmeti sağlayıcısının elindeki paraların/paralara dondurulması, el konulması ve müsaderesi bakımından mevcut/ilgili usul yetkileri hangileri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Öz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Sanal suçlardan elde edilen şu para akışı türlerini açıklayınız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Para Havalesi Sağlayıcılar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Elektronik Havale, Banka Hesaplarının Devri/Açılmas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Nakit Çeki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İnternet Ödeme Hizmetle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6" name="TextBox 4"/>
          <p:cNvSpPr/>
          <p:nvPr/>
        </p:nvSpPr>
        <p:spPr>
          <a:xfrm>
            <a:off x="3503880" y="4500720"/>
            <a:ext cx="218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Sorula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Calibri"/>
              </a:rPr>
              <a:t>PARA HAVALESİ SAĞLAYICILAR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Para havalesi sağlayıcısı nedi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SİZ ne düşünüyorsunuz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Para havalesi sağlayıcısı nedi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Havale sağlayıcıları ile ilgili sorun ne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Havale Sağlayıcısı Tipoloji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İnsanlar (bilerek veya bilmeyerek), genellikle “evden çalışın” türünden iş teklifleriyle kara para aklama planlarında kurye olarak çalıştırılı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Suç gelirleri kuryelerin banka hesaplarına aktarılı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Kurye parayı nakit olarak çeker ve bu nakit parayı belirli bir lehdara havale yoluyla aktarı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Kurye bu hizmeti yerine getirdiği için komisyon olarak bir ödeme alı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Bu para aktarımları, fark edilmesin diye, bildirim için öngörülen miktarın altındaki bir meblağdan oluşu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Havale sağlayıcıları sonra nakit paranın nihai varış noktasına ulaştırılmasında tekrar kullanılı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Suç Ortağı olan Sağlayıcı Tipoloji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Belirli bir havale sağlayıcının yoğun olarak kullanıldığı tespit edilen durumlar muvazaa ihtimali veya bu türden işlerin içine sızılmış olma olasılığı hakkında soru işaretleri uyandırı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Havale Sağlayıcıları 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Kullanıldığını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Havale sağlayıcılarının kullanıldığına delalet olarak ne gibi delil kaynaklarından yararlanılabil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Havale Sağlayıcıları 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Kullanıldığını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Havale sağlayıcılarının tespiti/kullanımı bakımından mevcut/ilgili usul yetkileri hangileri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Hande Güner</cp:lastModifiedBy>
  <cp:lastPrinted>2016-05-18T07:38:13Z</cp:lastPrinted>
  <dcterms:modified xsi:type="dcterms:W3CDTF">2017-11-09T18:18:03Z</dcterms:modified>
  <cp:revision>338</cp:revision>
  <dc:subject/>
  <dc:title>PowerPoint Presentation</dc:title>
</cp:coreProperties>
</file>