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B5D3-F530-45FE-9599-7A1D79EC3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AFF7-AE1D-4FA0-830C-EC974A14B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D63F-AD1D-4228-B986-A6F3EE842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F363-FD19-43C8-B026-18EE071D5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2B19-F1F3-427C-8A3D-C0EC4F8CF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B89-01F8-4C52-92F3-AB6E35757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A7A0-62E1-4264-AF32-12118FDDB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47D-8E7A-4A68-8361-DAF96ECB7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475-01F0-4EBD-BCD1-00E10A893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9166-3F2E-45ED-9604-AEE6186B1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B9F3-76C9-4300-B053-C423BC774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6FA-E295-41BA-9C22-0EFCE40B6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A0EC-0B9F-4446-9142-A82F3E055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022-B03D-4363-9556-C9ED81E3D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3017-AE22-4F0D-B0F7-34EE5676D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84F2-EF90-49DB-A5D7-EE21FD5C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C462-ACA5-428D-83A1-9B6159BF9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C12-A629-4A2E-862C-51D0D7FCC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C46C-7A62-4859-AE49-9378855CC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197-641A-46FF-94A4-BCEEDC784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3463-33DB-4981-A5F6-E93DDFA05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7B7C-4F13-4AB5-BE28-66EBA8289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B908-71DE-419B-958B-5D85C2BB9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1222-BA8B-47CD-9FEC-D3BCD3722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E66-D6F2-404C-848D-BC55DFB94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64EB-2EB7-45C3-AB81-85DF4C4DD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E01-01F5-4227-A228-56EFB91E0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85FB-7A21-4A18-BFF2-0125AAE10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811-017B-441F-88A4-A1BD0788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7CC-E159-40AF-BCA3-ECED6C4F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997-31AD-477E-BC16-37D451A5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02E-EF63-47C4-A507-30CEDB92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85C-6C81-441E-9798-DB0857BA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2CE-EAAA-4456-8028-D95B0A4D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CD4-08A0-4DF7-AC9C-6771D167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B61-66B0-463D-8EFC-9C02496C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E53-B101-48B0-932A-451D5AC0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19F-8B41-4414-975A-CA78EE9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CD4-2AC6-4984-807A-DB75EB9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5E3-9619-4C9D-BAE4-CB7A4A9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F11D-4E6A-4762-AB82-80F0DE8598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aktivnost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alci koriste međunarodne transfere različitih vrsta kako bi se otežalo praćenje tokova prihoda od krimin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đunarodni transferi se mogu obavljati pomoću bankovnih računa, e-valute, usluga plaćanja preko interneta, usluga novčane doznake 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azovi nastaju u istrazi, pretresanju, oduzimanju i konfiskaciji kriminalnih sredstava kada se sredstva prenose na međunarodnom niv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međunarodn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a kriminalne dobiti (na primer) od kompromitovanog bankovnog računa klij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u preneta na krijumčare u ist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i prenose sredstva putem međunarodnog bankarskog prenosa na fizičko ili pravno lice u drug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o korišt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elne val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Za koje virtuelne valute i e-novac z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e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na valuta je digitalna reprezentacija vrednosti kojom se može digitalno trgovati i funkcioniše kao (1) sredstvo razmene; (2) jedinica računa; i / ili (3) skladište vrednosti, ali nema status zakonitog tendera u bilo kojoj jurisdikci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ktronski novac / e-nov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elna valuta se razlikuje od e-novca, što je digitalno predstavljanje dekretne valute koja se koristi za elektronski prenos vrednosti izražene u dekretnoj valuti. E-novac je mehanizam digitalnog prenosa dekretne valute - tj. on elektronski prenosi vrednost koja ima status zakonskog tend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na valuta je digitalna reprezentacija bilo virtualne valute (ne-dekretne) ili e-novca (dekret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e kriminalnog toka novca korišćenj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h krijumča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h transf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mislite o značaju izraza "digitalno predstavljanje" u gore navedenim definicij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acija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vertibi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onvertibilna virtuelna valuta ima ekvivalentnu vrednost u stvarnoj valuti i može se razmenjivati napred-nazad za stvarnu valutu. Primeri: Bitcoin, Second Life Linden dolari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konvertib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Nekonvertibilna virtuelna valuta ima za cilj da bude specifična za određeni virtuelni domen ili svet, a prema pravilima koja regulišu njenu upotrebu ne može se zameniti za dekretnu valutu. Primeri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zov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zovane virtuelne valute imaju jedinstveni administrativni organ (tj. treće lice) koji kontroliše sistem. Administrator izdaje valutu, uspostavlja pravila za njenu upotrebu, vodi centralnu knjigu za plaćanje i ima nadležnost da otkupi valutu. Primeri: Linden dolari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zov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zovane virtuelne valute su distribuirane, matematičke bazirane, virtuelne valute od jedne do druge, bez centralnog administrativnog organa, bez centralnog nadzora i bez nadgledanja. Primeri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konvertibilna, decentralizovana virtuelna valu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e odvijaju između korisnika bez posredni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u potvrđene koristeći javnu distribuiranu knjigu za plaćanje, koja se zove blokčej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blockchai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 min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proces kojim korisnici nude svoja računarska ovlašćenja da verifikuju i uknjiž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ansakcije u blokčejnu. Za to korisnici dobijaju nagradu u novostvorenim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i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uće su globalne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ktično trenutne transakcije (oko 10 minuta dok se transakcija ne potvrd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se odvijaju između anonimnih ID-a (novčani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a (ili nulta) taksa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nisu reverzibi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isnički račun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70640" y="3532320"/>
            <a:ext cx="182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čanik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itco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188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&amp;C Infrastruk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6583680" y="61992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jumčar, tj. “mazg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532600" y="60976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min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vična upotreba virtuelne valute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zmena virtua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istrator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risnik / Vlasn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k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alac novča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gov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stali entiteti (programeri it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ejs između virtualnih valuta i tradicionalnog finansijskog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rivično stečena sredstva pretvaraju se u virtuelnu valutu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kriminalne usluge se plaćaju u virtualnoj valu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sredstva su iznuđena od žrtava u vidu virtualne valu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rtuelna valuta se trguje ili razmenjuje za dekretne valu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bog neusaglašene regulacije virtuelnih valuta, razmena virtuelnih valuta u svim jurisdikcijama ne može imati adekvatne kupovne evidencije i / ili obaveze izveštav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da bi se naznačila upotreba virtuelnih valu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acija virtue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i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 krijumčari su suštinska komponenta mnogih šema pranja novca na interne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jumčari se regrutuju kroz razne tehnike, koje se mogu široko kategorizovati 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brovoljne krijumčare, koje se regrutuju unapred znajući da učestvuju u ilegalnim aktivnosti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oljne krijumčare koji se regrutuju preko varljivih sredstava, poput lažne ponude za posa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brovoljni ili nevoljni krijumčar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zička lica se regrutuju ili dobrovoljno ili nevolj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e prenose na bankovni račun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tim ili povlači sredstva kao gotovinu ili prenosi sredstva na drugi račun (ili u inostranstv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država proviz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načaj uhapšenih/osuđenih krijumčar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novačani krijumč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novčanim krijumčar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naznačila upotreba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43:45Z</dcterms:modified>
  <cp:revision>349</cp:revision>
  <dc:subject/>
  <dc:title>PowerPoint Presentation</dc:title>
</cp:coreProperties>
</file>