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4418F-23DD-42BC-A035-4FA033059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werPoint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omogućen da pomogne treneru u podsticanju rasprave o svim sesijama kursa. Trener treb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eda formular za evaluaciju pre početka ove sesije. U nekim okolnostima može biti odgovarajuće izdavanje obrazaca za evaluaciju na početku kursa, kako bi ih delegati mogli završiti tokom kursa i kada su sesij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oš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sveže u njihovom umu. Na kraju kurs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često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ostoji tendencija d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ih učesnici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popune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u potpu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98202-4F2E-4C92-A0A6-106516875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94269-971E-4C12-A403-3D919156E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EED13-6128-467A-991D-A0B3F05DC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5DB60-6379-4207-AD0E-307DC4A306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169-6FF8-4556-8550-3627F930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AED-9CE0-456F-A851-B3A030B6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76C-A7C7-42B0-BF74-F6C1842F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34A-88E7-43DF-9EEF-BEE57BE8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EB0-8912-4399-AEB2-DC63E45B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B9E-65EE-448B-AC88-D4CB8CE8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361-2FBA-4A69-A07A-4CF15646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473-3CBE-4566-8512-43F34E07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BDE-6742-4211-9A08-BB8EB20C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06B-1998-45F6-91BF-37789B9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842-06B2-4E64-A184-D7A8886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875-B555-46E0-84AD-544C652F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64A63-D730-4DAF-819D-3D3A4F773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371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</a:t>
            </a: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ja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4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Završetak ku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685800" y="2208240"/>
            <a:ext cx="77724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Uvodna obuka o internet kriminalu</a:t>
            </a:r>
            <a:r>
              <a:rPr b="0" lang="en-GB" sz="4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elektronskim dokazima i prihodima od internet kriminala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234800"/>
            <a:ext cx="8093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Na kraju ove sesije učesnici će moći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 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Obezbede odgovarajuće povratne informacije o kursu i njegovoj efikas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opune obrazac za evaluaciju ku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Utvrde sledeći nivo učenja koj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i je neophodan</a:t>
            </a: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 kako bi poboljšali svoje znanje i veštine u predme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Cilej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68440" y="2076480"/>
          <a:ext cx="8020080" cy="4311720"/>
        </p:xfrm>
        <a:graphic>
          <a:graphicData uri="http://schemas.openxmlformats.org/drawingml/2006/table">
            <a:tbl>
              <a:tblPr/>
              <a:tblGrid>
                <a:gridCol w="8020080"/>
              </a:tblGrid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varanje kursa, uvod i prezentacija ciljeva i sadržaja obu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internet kriminal, pretnje, trendovi i izazo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tehnologi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j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dur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55480" y="1465200"/>
          <a:ext cx="8082000" cy="4838760"/>
        </p:xfrm>
        <a:graphic>
          <a:graphicData uri="http://schemas.openxmlformats.org/drawingml/2006/table">
            <a:tbl>
              <a:tblPr/>
              <a:tblGrid>
                <a:gridCol w="8082000"/>
              </a:tblGrid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finasijske ist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n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 dokazi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sa i postup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đunarodna saradnja i saradnja javnog i privatnog sekt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ovanje osumnjičenih na interne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kovi novca od internet kriminala i njihova tipolog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ne informacije od učesnik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anja i odgov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ela sertifik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ršna re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3600" spc="-1" strike="noStrike">
                <a:solidFill>
                  <a:srgbClr val="000000"/>
                </a:solidFill>
                <a:latin typeface="Calibri"/>
              </a:rPr>
              <a:t>Obrasci za evaluaci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Zahteva ga SE za evalu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ti se za poboljšanje kursa u buduć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ni su samo ako ih popun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Molimo da popunite i predate tren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07908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Aleksandra</cp:lastModifiedBy>
  <dcterms:modified xsi:type="dcterms:W3CDTF">2017-10-10T14:28:49Z</dcterms:modified>
  <cp:revision>37</cp:revision>
  <dc:subject/>
  <dc:title>Introductory Cybercrime Training for Judges and Prosecutors</dc:title>
</cp:coreProperties>
</file>