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6911-3593-4AEA-8E81-EA3A3A95D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F9F1-CD68-4778-A021-504BBD42D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AFD3-1130-45E5-B9B8-D0D134814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F2E5-AF8C-4496-A047-0BA258058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FCA6-F696-47E8-999E-B318E818F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11A8-0194-4F99-827F-2C3800FB4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569F-52E4-46F2-B612-016E9C482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8BA5-68A6-4EDF-A443-E4D88D249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B9F8-E5C5-4E63-A5FE-CB147AA81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7BE4-6C96-45D1-B786-DCBDF7CBA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7D1B-5532-4A6A-8870-E26C18A2A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DEFF-2E4F-47A1-AF79-653A9EF4E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477A-E5AD-436D-B760-9C02F0551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57C2-9E3A-4FD3-8426-57DEF16BA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D8E7-451A-4733-B36C-88D006471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4750-4502-4615-A4AE-15D985CA7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121C-9B69-4E7D-88DA-1784A7BDC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E034-2700-47F0-A045-D0E948463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335C-D608-430C-B516-931B6B143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A727-9C5F-409E-B991-1B87B8B5F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D351-C2C6-494D-9F20-87C169160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0DFC-B6AE-4C9F-99EE-5C0B77ABB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66F1-9263-4B87-8E1D-C329174B9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5552-5BBA-4639-9263-1D05564BD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EF48-4FDC-4E77-9EDB-9E2705B42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CAEB-B946-48DB-BCA2-C661B147B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F4AB-0290-43D8-8AB4-CDC1B42D2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EC8E-B5F7-4C3F-82C9-572A6914C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FB3-4BF4-4DE0-A781-0AFC1138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472-76F1-40C4-A23D-D111B2C1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CA4-9F91-4224-A6BE-7580FA90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735-F080-47B9-8B0B-20A41678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91A-F8D3-411C-923F-7455998C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628-6E66-4C3B-AC3B-845BC6F2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45D-AC1F-4EAD-BB30-C115635A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1D4-2CDF-41A4-9324-C5EE1056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676-C86A-44DD-8F88-4E2E9666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FD8-44B0-4DCD-9450-013FB03E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F8C-106C-4127-84C5-7FA64E53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06C-12E9-431D-AF97-182B4E40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11D6-5EEA-410E-BBAC-059BB4BE54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e tokova novca od internet krimin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ja 1.4.2/Ča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novčanih krijumč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aktivnost novčanih krijumča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minalci koriste međunarodne transfere različitih vrsta kako bi se otežalo praćenje tokova prihoda od krimina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đunarodni transferi se mogu obavljati pomoću bankovnih računa, e-valute, usluga plaćanja preko interneta, usluga novčane doznake it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azovi nastaju u istrazi, pretresanju, oduzimanju i konfiskaciji kriminalnih sredstava kada se sredstva prenose na međunarodnom niv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međunarodnog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a kriminalne dobiti (na primer) od kompromitovanog bankovnog računa klijen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redstva su preneta na krijumčare u istoj jurisdikci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jumčari prenose sredstva putem međunarodnog bankarskog prenosa na fizičko ili pravno lice u drugoj jurisdikci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međunarodn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mogu biti korišćeni kako bi se naznačilo korištenje međunarodn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međunarodn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međunarodn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elne valu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elne valute i e-nov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Za koje virtuelne valute i e-novac zn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rtuelna valu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alna valuta je digitalna reprezentacija vrednosti kojom se može digitalno trgovati i funkcioniše kao (1) sredstvo razmene; (2) jedinica računa; i / ili (3) skladište vrednosti, ali nema status zakonitog tendera u bilo kojoj jurisdikci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ktronski novac / e-nova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elna valuta se razlikuje od e-novca, što je digitalno predstavljanje dekretne valute koja se koristi za elektronski prenos vrednosti izražene u dekretnoj valuti. E-novac je mehanizam digitalnog prenosa dekretne valute - tj. on elektronski prenosi vrednost koja ima status zakonskog tend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italna valu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gitalna valuta je digitalna reprezentacija bilo virtualne valute (ne-dekretne) ili e-novca (dekretn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lje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e kriminalnog toka novca korišćenje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včanih krijumča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đunarodnih transf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elnih valu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elne valute i e-nov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mislite o značaju izraza "digitalno predstavljanje" u gore navedenim definicija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tegorizacija virtuelnih val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vertibil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Konvertibilna virtuelna valuta ima ekvivalentnu vrednost u stvarnoj valuti i može se razmenjivati napred-nazad za stvarnu valutu. Primeri: Bitcoin, Second Life Linden dolari, WebMone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ekonvertibl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Nekonvertibilna virtuelna valuta ima za cilj da bude specifična za određeni virtuelni domen ili svet, a prema pravilima koja regulišu njenu upotrebu ne može se zameniti za dekretnu valutu. Primeri: Q Coins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alizov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Centralizovane virtuelne valute imaju jedinstveni administrativni organ (tj. treće lice) koji kontroliše sistem. Administrator izdaje valutu, uspostavlja pravila za njenu upotrebu, vodi centralnu knjigu za plaćanje i ima nadležnost da otkupi valutu. Primeri: Linden dolari, WebMoney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entralizova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ecentralizovane virtuelne valute su distribuirane, matematičke bazirane, virtuelne valute od jedne do druge, bez centralnog administrativnog organa, bez centralnog nadzora i bez nadgledanja. Primeri: Bitcoin, LiteCoin, Ripp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ija slučaja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je konvertibilna, decentralizovana virtuelna valut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kcije se odvijaju između korisnika bez posrednik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kcije su potvrđene koristeći javnu distribuiranu knjigu za plaćanje, koja se zove blokčejn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(blockchain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 min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je proces kojim korisnici nude svoja računarska ovlašćenja da verifikuju i uknjiž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ransakcije u blokčejnu. Za to korisnici dobijaju nagradu u novostvorenim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im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ija slučaja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akteristik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guće su globalne transakci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ktično trenutne transakcije (oko 10 minuta dok se transakcija ne potvrd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cije se odvijaju između anonimnih ID-a (novčanik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a (ili nulta) taksa transakci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cije nisu reverzibil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6"/>
          <p:cNvSpPr/>
          <p:nvPr/>
        </p:nvSpPr>
        <p:spPr>
          <a:xfrm>
            <a:off x="685800" y="345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risnički račun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570640" y="3532320"/>
            <a:ext cx="182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včanik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itco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3431880" y="505620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&amp;C Infrastruk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9"/>
          <p:cNvSpPr/>
          <p:nvPr/>
        </p:nvSpPr>
        <p:spPr>
          <a:xfrm>
            <a:off x="6583680" y="619920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rijumčar, tj. “mazg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532600" y="609768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rimin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rivična upotreba virtuelne valute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kosistem virtualne val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zmena virtualne valu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ministrator virtuelne valu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orisnik / Vlasni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včanik virtuelne valu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valac novčan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gov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stali entiteti (programeri itd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ejs između virtualnih valuta i tradicionalnog finansijskog sist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virtualne val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rivično stečena sredstva pretvaraju se u virtuelnu valutu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no, kriminalne usluge se plaćaju u virtualnoj valu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no, sredstva su iznuđena od žrtava u vidu virtualne valu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rtuelna valuta se trguje ili razmenjuje za dekretne valut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bog neusaglašene regulacije virtuelnih valuta, razmena virtuelnih valuta u svim jurisdikcijama ne može imati adekvatne kupovne evidencije i / ili obaveze izveštavanj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virtuelnih val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se izvori dokaza mogu koristiti da bi se naznačila upotreba virtuelnih valu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virtuelnih val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davalac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včani krijumča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rzavanje, oduzimanje i konfiskacija virtuelne val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zamrzavanje, oduzimanje i konfiskaciju sredstava koje poseduje davalac uluga plaćanja preko i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u kriminalnog toka novca korišćenja novčanih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včani krijumč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elnih valu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3527280" y="4500720"/>
            <a:ext cx="21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včani krijumča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včani krijumčari su suštinska komponenta mnogih šema pranja novca na interne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rijumčari se regrutuju kroz razne tehnike, koje se mogu široko kategorizovati n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brovoljne krijumčare, koje se regrutuju unapred znajući da učestvuju u ilegalnim aktivnostim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oljne krijumčare koji se regrutuju preko varljivih sredstava, poput lažne ponude za posa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brovoljni ili nevoljni krijumčar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novčanih krijumč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zička lica se regrutuju ili dobrovoljno ili nevolj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redstva se prenose na bankovni račun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jumčar zatim ili povlači sredstva kao gotovinu ili prenosi sredstva na drugi račun (ili u inostranstv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jumčar zadržava provizi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načaj uhapšenih/osuđenih krijumčar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Šta je novačani krijumč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U čemu je problem sa novčanim krijumčari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novčanih krijumč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se izvori dokaza mogu koristiti kako bi se naznačila upotreba novčanih krijumča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Aleksandra</cp:lastModifiedBy>
  <cp:lastPrinted>2016-05-18T07:38:13Z</cp:lastPrinted>
  <dcterms:modified xsi:type="dcterms:W3CDTF">2017-10-10T13:43:45Z</dcterms:modified>
  <cp:revision>349</cp:revision>
  <dc:subject/>
  <dc:title>PowerPoint Presentation</dc:title>
</cp:coreProperties>
</file>