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6A66-99ED-4CAA-934A-C5EE7D51C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C55-3C9D-4F97-BE95-1E0DF51D1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7CE-491C-4D1D-B701-693CE2358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D963-CD29-43D0-8415-C13943B3D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BB74-89FF-4D84-9ACB-4B1B8E798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D4C-C995-4B4F-A5F2-9BBA0E0A6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886B-1AA6-4C5E-A76C-21716C00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5067-342B-4CA0-A539-F4A9192D7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0C8-0973-43D3-A01A-A34256888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588-5C11-4D65-9CCA-5E8F91015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7AA-1B55-44A5-A045-45B271B8D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461-5A88-45F3-B752-B6CE293AE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97A-4739-4660-94F4-D32551264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D65A-5163-4D69-9475-D1E2357E6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F1F-4229-45DE-94B6-02A7BE399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0591-A583-4838-9842-D9D5AD648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D08-0ED1-49C5-A585-1B601CE59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523-2677-4B06-BF84-E5DEDB07E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33B-4C88-4414-B72C-F302BB18D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1424-6909-4FAA-B88F-B6166018B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50F-B45C-4B93-B0DC-6A3B11FD0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ED03-376F-484A-B186-44D992692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5D8-ACD5-43C5-8207-F9E47076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D57-94C2-40E0-B592-AEB8F1D4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360-DD07-412C-8049-0E5E35DE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70A-EF63-4936-9FFE-900DDCD4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9F6-EED0-4310-B95D-C2DF9D0D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3BA-1945-4ED0-B2DB-066F64A3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457-39FC-4181-8F2B-C4536E5F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136-65A5-4D15-B13A-4223F9CC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36E-3A23-4D51-A7FF-D9A4FC7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78B-386B-47BB-B3CC-598FE7D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770-E8DE-4B3A-A9DE-000A632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FE6-727D-493A-B3FB-60FC1E8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AA44-6301-4C4A-AE47-DCFFAA02CD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ektronski transfer, preuzimanje/otvaranje bankovnih rač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okotehnološki kriminalci se i dalje oslanjaju na tradicionalne bankarske uslu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o je očigledno naročito značajno u slučajevima koji uključuju izvlačenje novca sa bankovnih računa žrt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okviru tradicionalnog bankarskog sektora, koje tehnike se mogu iskoristiti kako bi se izbegli izvori sredstava izvučeni sa bankovnog računa žrt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elektronsk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nkovni računi žrtava su kompromitovani kroz različite tehnike visokotehnološkog kriminala (npr. 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phish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w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vi korisnici su dodati na bankovni račun žrtve i sredstva se prenose na račune krijumč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redstva se povlače u gotovini ili prenose u druga odrediš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i se vrše u malim iznosima kako bi se izbegli pragovi izveštav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leksne strukture beznačajnih transfera na raču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krijumčara koriste se da za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tam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zvore sredsta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štita klij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e kontrole koriste finansijske institucije kako bi sprečile zloupotrebu kompromitovanih akreditiva klijenta za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karst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vlačenja gotov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ave izazove pruža gotovina visokotehnološkim kriminalci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nekim slučajevima visokotehnološkog kriminala, kao što je kriminal vezan za platne kartice, prihodi od kriminala se odmah povlače u gotovi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drugim slučajevima, prihodi od kriminala iz drugih oblika kriminala se prenose na račune krijumča</a:t>
            </a:r>
            <a:r>
              <a:rPr b="0" lang="sr-Latn-BA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sa kojih se povlač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tovina se obično ponovo unosi u finansijske sisteme kroz razne tehnike kao što s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povina pripejd kartica raznih vrsta (npr. kredit za kupovinu, kredit za mobilne telef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išćenje krijumčara novca ili kompromitovanih bankovnih raču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i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se mogu koristiti da bi se naznačila upotreba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ten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luge plaćanja preko </a:t>
            </a:r>
            <a:r>
              <a:rPr b="1" lang="sr-Latn-BA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to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minalno stečena sredstva se prenose na račun usluga plaćanja preko </a:t>
            </a:r>
            <a:r>
              <a:rPr b="0" lang="sr-Latn-BA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tern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e opci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užba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nudi usluge sličn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nkovnom računu, u kom slučaju se koriste tipologije slične "elektronskom transferu / kreiranju ili prebacivanju bankovnih računa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redstva koja se drže sa kod Služb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korist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a kupovinu proizvoda i usluga na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ovanje sredstava od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 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davaocim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zička lica (svesno i bez znanja) se regrutuju kao krijumčari za šemu pranja, često putem radnih mesta "posao kod kuće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hodi od kriminala se prenose na bankovne račune krijumč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čari podižu gotovinu i prenose gotovinu putem elektronskog transfera određenom korisnik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</a:t>
            </a:r>
            <a:r>
              <a:rPr b="0" lang="sr-Latn-BA" sz="2200" spc="-1" strike="noStrike">
                <a:solidFill>
                  <a:srgbClr val="000000"/>
                </a:solidFill>
                <a:latin typeface="Calibri"/>
              </a:rPr>
              <a:t>čar, tzv. “mazga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zadržava deo uplate kao proviziju za obavljanje ove uslu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 su obično u iznosima koji manji od praga izveštavanja, kako bi se izbeglo otkriva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aoci doznaka se ponovo koriste kako bi se gotovina prebacila na krajnje odrediš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mešanog davao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ovani su slučajevi kada je opsežna upotreba određenih davaoca doznaka izazvala zabrinutost zbog mogućeg dosluha ili infiltracije takv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ukaza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33:32Z</dcterms:modified>
  <cp:revision>316</cp:revision>
  <dc:subject/>
  <dc:title>PowerPoint Presentation</dc:title>
</cp:coreProperties>
</file>