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1594-7EDB-4CF1-8E35-5C7609608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8A7-0055-4A05-AA65-B5864E0738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uži učesnicima priliku da postavljaju sva pitanja koja mogu biti u vezi sa drug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E4C-71FE-4B52-968C-17B28E90A3E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werPoint ili druga prezent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adržaj slajdova u ovom odeljku predstavlja samo primer onoga što se može opisati u svakoj od lokalnih obu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idealnom slučaju, prezentacija bi trebalo da pomene međunarodne pravne instrumente potpisane ili ratifikovane od strane svake države i rezultat prenosa 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zak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sim toga, treba da se obezbedi opis vrsta istražnih mera po nacionalnom zakonu, kao i objašnjenje o značaju i zahtevima prikupljanja i čuvanja elektronskih dokaz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ko je primenljivo, potrebno je navesti eventualne specifičnosti nacionalnih postupaka u vezi sa elektronskim dokaz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9C0E-8B7E-4906-8A29-298CB9E16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a prezentacija ima tri del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vi deo će se odnositi na Nacionalno materijalno zakonodavstvo u oblasti visokotehnološkog kriminala: koje krivična dela koja se odnose na visokotehnološki kriminal se inkriminišu u okviru postojećeg zakonodavnog okvir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rugi deo će se odnositi na procesne odredbe prema nacionalnom zakon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ći deo će predložiti rekapitulacij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8832-8FD5-44D0-9BA6-62C38AF76F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 ovom slajdu trener može dodati bilo kakv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specifičnost ili važno pitanje koje bi trebalo da se naglasi u odnosu na uslove i ograničenja. To treba da obuhva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pšte ili posebne odredbe koje obezbeđuju potrebu i srazmernos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izvor (određenih) zaštitnih mera (zakon, sudska praksa ...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labost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g zakona po ovom pitan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e sva pitanja koja mogu biti u vezi s trećim delom č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292-D496-4EB0-9B7D-4BF5AFFE7D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treba da rekapituliše/proveri znanje o sledećim ciljevi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vesti odredbe u materijalnom krivičnom zakonu i identifikovati neke od ključnih faktora koji se koriste za opisivanje zločina, na osnovu postojećeg nacionalnog zak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važnost uslova i ograničenja u skladu sa nacionalnim zakon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postojeće procesne odredbe prema nacionalnom zako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nalizirati potrebe i prednosti usklađivanja između nacionalnog zakonodavstva i međunarodnih instrumenata, posebno Konvencije iz Budimpeš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F23D-FC8F-4AE6-9E53-41E356705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Calibri"/>
              </a:rPr>
              <a:t>Ciljevi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Cilj ove sesije je da pruži sve potrebne informacije i pozadinu sudijama i tužiocima kako bi im se omogućilo da efikasno koriste procesne odredbe u lokalnom zakonodavstvu radi krivičnog gonjenja i rešavanja slučajeva visokotehnološkog kriminala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Do kraja sesije učesnici će moći da identifikuju i objasn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u neke od ključnih faktora koji se koriste za opisivanje zločina, na osnovu postojećeg nacionalnog zakon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Tačnije, delegat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o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i da identifikuje i objasni odredb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g zakonodavstva koje se odnose na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krivična dela u materijalnom nacionalnom zakonodavstvu u oblasti visokotehnološkog kriminal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 prist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o presretanj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siste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Zloupotreba uređ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dečijom pornografij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kršenjem autorskih prav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Oblast primene procesnih odredbi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Hitna zaštita sačuvanih rašunarskih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Izdavanja naredb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traživanje i zaple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ikupljanje podataka o saobraćaju u realnom vreme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sretanje podataka iz sadrž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Uslovi i ograničenj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1BB2-3F90-4ECC-BD0F-7FFAE75AA6B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v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aktične vežbe (ako je primenjiv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ovoj lekciji nema predviđenih praktičnih vežb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overa zn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overi znanje postavljanjem relevantnih pitanja iz svakog aspekta ses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FACE-0D60-413D-A2D9-57CE12C42E6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ethodnim slajdov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FB61-1AA5-4C61-AB34-F3989E7584B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C109-DB7C-4DAE-A65B-546AA52DD7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D74-1EF2-4B0E-858A-83D86E78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6EC-C085-43EF-8E49-CCF559F5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9F3-82BE-4B25-9282-A6D9E4E2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945-DE56-4895-8D79-11E24A92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641-4BBC-40EA-B605-72B7078D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522-5682-46D3-9FE7-9DA27D07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0E4-D412-499E-AF26-3B20EBB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33D-D2FD-49DC-9814-5DC57A53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3D5-E840-4E27-8A70-6F72768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98E-D392-47A3-9542-FA4DCBD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6B7-441E-42AB-8AF3-164DDC0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B49-5722-4A8A-89CB-30AA617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D0EC-35C8-48D3-9FDA-EB98A5511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Uvodna obuka o visokotehnološkom kriminalu za sudije i tužio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Sesija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Nacionalno zakonodavstvo o visokotehnološkom krimina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5B3A-0E21-40BA-9938-F18904E92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CAB-9E53-4500-917A-BCFD40FEE7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loupotreba uređa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03D8-E7BA-40FF-9FD9-2107CCE7A7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753-B2EF-492D-B873-B903B20FB4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9BBC-74ED-43F8-B5FD-5B5265234C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dečjom pornografij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B3FA-471B-47E2-94B1-FC635021AF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kršenjem autorskih pra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95D8-7B8A-4987-833A-9B968E24D3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  <a:ea typeface="MS PGothic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31C4-E268-45E4-AD1C-A611EF0BF6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Drug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ocesne odredbe prema nacionalnom zakon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6ABD-4C25-4704-9548-62E5D28A1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14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AutoShape 4"/>
            <p:cNvSpPr/>
            <p:nvPr/>
          </p:nvSpPr>
          <p:spPr>
            <a:xfrm>
              <a:off x="2828880" y="872640"/>
              <a:ext cx="3668760" cy="554580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45800"/>
                <a:gd name="textAreaBottom" fmla="*/ 5519520 h 5545800"/>
              </a:gdLst>
              <a:ahLst/>
              <a:rect l="textAreaLeft" t="textAreaTop" r="textAreaRight" b="textAreaBottom"/>
              <a:pathLst>
                <a:path w="21600" h="32650">
                  <a:moveTo>
                    <a:pt x="532" y="0"/>
                  </a:moveTo>
                  <a:arcTo wR="532" hR="532" stAng="16200000" swAng="-5400000"/>
                  <a:lnTo>
                    <a:pt x="0" y="32118"/>
                  </a:lnTo>
                  <a:arcTo wR="532" hR="532" stAng="10800000" swAng="-5400000"/>
                  <a:lnTo>
                    <a:pt x="21068" y="32650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936B-DA06-4F5F-9E64-F58EABDB8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4EA0-8914-4F07-B237-64D2DBF9F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Obim odredaba Nacionalnog zako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7062-89C2-42A9-B3E8-42CC46611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1080"/>
            <a:ext cx="82915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vi deo - Nacionalno materijalno zakonodavstvo o visokotehnološkom krimin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i deo -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eti deo - Rekapitul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3B57-3F4A-47E0-8CB9-9B29A3DFB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B767-6A0F-4AA5-9A8B-1C54A7404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i delimično otkrivanje podataka o saobraća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6B62-DF73-4824-91A5-F0DA1F451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zdavanje nared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A07-A470-4606-A2BB-CCF8D9400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etraživanje i zaplen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3F41-B403-42EF-86E3-BEA7C2726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ikupljanje podataka o saobraćaju u realnom vre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746D-61E1-4718-82EF-93970DB4F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esretanje podataka iz sadrža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88B3-978A-4939-8CA2-5703B76FB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Uslovi i ogranič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8B1-3D5B-4353-8C53-1F1C6F6A2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F174-7EEA-45C0-B802-285B918D0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Treći deo</a:t>
            </a:r>
            <a:br>
              <a:rPr sz="40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5FD6-315C-4897-9B80-2288EADED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1235160"/>
            <a:ext cx="82184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1257-D854-4639-AD9F-0209692F1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6980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59E5-C407-440F-956D-CFF51B5F5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946D-F484-44E0-95CF-545FC24FF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0" y="324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2E2B-F6A8-40EF-A85F-777AE0489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v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Nacionalno materijalno krivično pra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A98-6CA1-4A38-8C4E-3D0EE03175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67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A9FA-5102-4694-80E8-457A4372B8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C59-6D06-482C-91FB-CED3848572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 pris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6FE3-981D-4912-B851-408539106D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o presret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447F-3759-4358-8D39-1BA153E102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poda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F23-D128-49B6-B8B9-9B8436B153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3T13:26:16Z</dcterms:created>
  <dc:creator>LUCCHETTI Matteo</dc:creator>
  <dc:description/>
  <dc:language>en-US</dc:language>
  <cp:lastModifiedBy>Aleksandra</cp:lastModifiedBy>
  <dcterms:modified xsi:type="dcterms:W3CDTF">2017-10-10T12:31:07Z</dcterms:modified>
  <cp:revision>14</cp:revision>
  <dc:subject/>
  <dc:title>Introductory Cybercrime Training for Judges and Prosecutors</dc:title>
</cp:coreProperties>
</file>