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94C1-AB9E-4595-9BBF-09DBF2993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C09F-2A2A-4B50-9909-BA9A6BC79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9DC2-2D75-4A0D-9060-03F624B50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E08A-7728-4A22-9A57-A0FEFEB0F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4E64-207C-459A-B207-999EBAF28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848D-F03F-4C7D-99D5-8841EBC28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873C-E3A3-4AC1-AE9C-572049A97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285D-0142-4A8B-B577-8E1C01078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9234-460E-4B1A-9482-769D31339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8599-6270-4897-B431-0B0DFFDA9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46AB-388D-4DC5-BC55-CDA92F609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7066-0C63-4358-9CC0-AA1B5BBF8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37D2-24D4-4AD9-9634-D79812E83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6D62-6FFB-4861-B7D0-F9D99B215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002C-3584-4C50-B18C-4209555D5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74C6-A39C-4D43-9644-DA2718A0B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432240" y="465120"/>
            <a:ext cx="3097080" cy="2322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0ABC-7D1B-463E-9363-13EFB217E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94BA-5F47-4D61-9629-BB1F9939C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D3AF-0282-4156-BBC0-2516AF736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A538-AC00-45A8-A242-3293DE814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A647-66D3-454F-9271-FE363216C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FF4A-94DC-435D-8C42-CEFBC8472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0C16-8F56-48EF-B43B-6617C1F28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4155-98A8-48E6-8C69-6DC10C1F7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12A6-CF27-4B33-AD01-C9C9ADFD8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4611-CDEA-443D-BD21-EB3792299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C85E-EB2C-45CC-B495-28A137884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F2FA-3F9F-4CD4-9358-071C732E2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A83-EE92-4AB7-89D0-0CF852B9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0FC-4119-4FED-9619-E71A80A0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551D-9654-48E8-BDD2-2464805C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A026-F860-4B5C-8F98-1700D45F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AAA-28C9-4A20-A4A7-99B837D2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DF1-116D-4931-B35E-720609A5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EF33-1EF7-4AB7-87D2-EFE36387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F26-5845-4A8D-853C-7A098883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332-DB43-4ACA-B658-1E85A29B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AAE-B573-45ED-848D-13487E34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6CC6-E336-4170-B07D-E8E36F22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BEB3-0F35-4B81-A378-696809BC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A222-A987-4A28-99EF-04E58ECB3D6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e tokova novca od internet krimin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ja 1.4.2/Ča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novčanih krijumča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aktivnost novčanih krijumča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đunarodni transfe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đunarodni transf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minalci koriste međunarodne transfere različitih vrsta kako bi se otežalo praćenje tokova prihoda od krimina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đunarodni transferi se mogu obavljati pomoću bankovnih računa, e-valute, usluga plaćanja preko interneta, usluga novčane doznake it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đunarodni transf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azovi nastaju u istrazi, pretresanju, oduzimanju i konfiskaciji kriminalnih sredstava kada se sredstva prenose na međunarodnom niv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međunarodnog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ola kriminalne dobiti (na primer) od kompromitovanog bankovnog računa klijen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redstva su preneta na krijumčare u istoj jurisdikci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jumčari prenose sredstva putem međunarodnog bankarskog prenosa na fizičko ili pravno lice u drugoj jurisdikci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međunarodnih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vori dokaza mogu biti korišćeni kako bi se naznačilo korištenje međunarodnih transf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međunarodnih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međunarodnih transf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irtuelne valu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elne valute i e-nov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Za koje virtuelne valute i e-novac zna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olog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rtuelna valu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irtualna valuta je digitalna reprezentacija vrednosti kojom se može digitalno trgovati i funkcioniše kao (1) sredstvo razmene; (2) jedinica računa; i / ili (3) skladište vrednosti, ali nema status zakonitog tendera u bilo kojoj jurisdikcij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ektronski novac / e-nova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irtuelna valuta se razlikuje od e-novca, što je digitalno predstavljanje dekretne valute koja se koristi za elektronski prenos vrednosti izražene u dekretnoj valuti. E-novac je mehanizam digitalnog prenosa dekretne valute - tj. on elektronski prenosi vrednost koja ima status zakonskog tende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gitalna valu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gitalna valuta je digitalna reprezentacija bilo virtualne valute (ne-dekretne) ili e-novca (dekretn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ljevi ses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objasne tipologije kriminalnog toka novca korišćenjem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včanih krijumča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đunarodnih transf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elnih valu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elne valute i e-nov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mislite o značaju izraza "digitalno predstavljanje" u gore navedenim definicija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tegorizacija virtuelnih valu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nvertibil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Konvertibilna virtuelna valuta ima ekvivalentnu vrednost u stvarnoj valuti i može se razmenjivati napred-nazad za stvarnu valutu. Primeri: Bitcoin, Second Life Linden dolari, WebMoney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ekonvertibl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Nekonvertibilna virtuelna valuta ima za cilj da bude specifična za određeni virtuelni domen ili svet, a prema pravilima koja regulišu njenu upotrebu ne može se zameniti za dekretnu valutu. Primeri: Q Coins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entralizov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Centralizovane virtuelne valute imaju jedinstveni administrativni organ (tj. treće lice) koji kontroliše sistem. Administrator izdaje valutu, uspostavlja pravila za njenu upotrebu, vodi centralnu knjigu za plaćanje i ima nadležnost da otkupi valutu. Primeri: Linden dolari, WebMoney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centralizova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Decentralizovane virtuelne valute su distribuirane, matematičke bazirane, virtuelne valute od jedne do druge, bez centralnog administrativnog organa, bez centralnog nadzora i bez nadgledanja. Primeri: Bitcoin, LiteCoin, Rippl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ija slučaja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Bitcoi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je konvertibilna, decentralizovana virtuelna valut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kcije se odvijaju između korisnika bez posrednik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kcije su potvrđene koristeći javnu distribuiranu knjigu za plaćanje, koja se zove blokčejn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(blockchain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Bitcoin minin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je proces kojim korisnici nude svoja računarska ovlašćenja da verifikuju i uknjiž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bitcoi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ransakcije u blokčejnu. Za to korisnici dobijaju nagradu u novostvorenim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bitcoinim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ija slučaja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rakteristik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guće su globalne transakci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ktično trenutne transakcije (oko 10 minuta dok se transakcija ne potvrdi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cije se odvijaju između anonimnih ID-a (novčanik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a (ili nulta) taksa transakci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cije nisu reverzibil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MC900434845"/>
          <p:cNvPicPr/>
          <p:nvPr/>
        </p:nvPicPr>
        <p:blipFill>
          <a:blip r:embed="rId1"/>
          <a:stretch/>
        </p:blipFill>
        <p:spPr>
          <a:xfrm>
            <a:off x="5715000" y="2008080"/>
            <a:ext cx="1612800" cy="161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MP900402149"/>
          <p:cNvPicPr/>
          <p:nvPr/>
        </p:nvPicPr>
        <p:blipFill>
          <a:blip r:embed="rId2"/>
          <a:stretch/>
        </p:blipFill>
        <p:spPr>
          <a:xfrm>
            <a:off x="914400" y="2160720"/>
            <a:ext cx="1447920" cy="130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pc"/>
          <p:cNvPicPr/>
          <p:nvPr/>
        </p:nvPicPr>
        <p:blipFill>
          <a:blip r:embed="rId3"/>
          <a:stretch/>
        </p:blipFill>
        <p:spPr>
          <a:xfrm>
            <a:off x="3581280" y="3760920"/>
            <a:ext cx="125100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6"/>
          <p:cNvSpPr/>
          <p:nvPr/>
        </p:nvSpPr>
        <p:spPr>
          <a:xfrm>
            <a:off x="685800" y="345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risnički račun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570640" y="3532320"/>
            <a:ext cx="182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včanik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itco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3431880" y="505620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&amp;C Infrastruk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2362320" y="277020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1"/>
          <p:cNvSpPr/>
          <p:nvPr/>
        </p:nvSpPr>
        <p:spPr>
          <a:xfrm flipH="1" flipV="1">
            <a:off x="1587240" y="3912840"/>
            <a:ext cx="22222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2286000" y="3836880"/>
            <a:ext cx="15238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23"/>
          <p:cNvSpPr/>
          <p:nvPr/>
        </p:nvSpPr>
        <p:spPr>
          <a:xfrm flipV="1">
            <a:off x="4800600" y="3912840"/>
            <a:ext cx="8380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6400800" y="39895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6" descr="MC900139499"/>
          <p:cNvPicPr/>
          <p:nvPr/>
        </p:nvPicPr>
        <p:blipFill>
          <a:blip r:embed="rId4"/>
          <a:stretch/>
        </p:blipFill>
        <p:spPr>
          <a:xfrm>
            <a:off x="7238880" y="4903920"/>
            <a:ext cx="132084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MC900445014"/>
          <p:cNvPicPr/>
          <p:nvPr/>
        </p:nvPicPr>
        <p:blipFill>
          <a:blip r:embed="rId5"/>
          <a:stretch/>
        </p:blipFill>
        <p:spPr>
          <a:xfrm>
            <a:off x="1143000" y="2160720"/>
            <a:ext cx="94140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robber_clipart"/>
          <p:cNvPicPr/>
          <p:nvPr/>
        </p:nvPicPr>
        <p:blipFill>
          <a:blip r:embed="rId6"/>
          <a:stretch/>
        </p:blipFill>
        <p:spPr>
          <a:xfrm>
            <a:off x="3851280" y="5594400"/>
            <a:ext cx="853920" cy="12193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9"/>
          <p:cNvSpPr/>
          <p:nvPr/>
        </p:nvSpPr>
        <p:spPr>
          <a:xfrm>
            <a:off x="6583680" y="619920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rijumčar, tj. “mazga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2532600" y="609768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rimin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31"/>
          <p:cNvSpPr/>
          <p:nvPr/>
        </p:nvSpPr>
        <p:spPr>
          <a:xfrm flipH="1">
            <a:off x="4787640" y="5970600"/>
            <a:ext cx="2755800" cy="27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rivična upotreba virtuelne valute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Ransom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kosistem virtualne val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zmena virtualne valu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ministrator virtuelne valu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orisnik / Vlasni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včanik virtuelne valu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valac novčani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gov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stali entiteti (programeri itd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fejs između virtualnih valuta i tradicionalnog finansijskog sist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virtualne val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rivično stečena sredstva pretvaraju se u virtuelnu valutu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no, kriminalne usluge se plaćaju u virtualnoj valu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no, sredstva su iznuđena od žrtava u vidu virtualne valu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irtuelna valuta se trguje ili razmenjuje za dekretne valut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bog neusaglašene regulacije virtuelnih valuta, razmena virtuelnih valuta u svim jurisdikcijama ne može imati adekvatne kupovne evidencije i / ili obaveze izveštavanj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potrebe virtuelnih valu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se izvori dokaza mogu koristiti da bi se naznačila upotreba virtuelnih valu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potrebe virtuelnih valu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davalaca dozna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včani krijumča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rzavanje, oduzimanje i konfiskacija virtuelne val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zamrzavanje, oduzimanje i konfiskaciju sredstava koje poseduje davalac uluga plaćanja preko inter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objasne tipologiju kriminalnog toka novca korišćenja novčanih krijumč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včani krijumča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đunarodni transf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elnih valu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3527280" y="4500720"/>
            <a:ext cx="210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včani krijumča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včani krijumčari su suštinska komponenta mnogih šema pranja novca na internet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rijumčari se regrutuju kroz razne tehnike, koje se mogu široko kategorizovati n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brovoljne krijumčare, koje se regrutuju unapred znajući da učestvuju u ilegalnim aktivnostim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oljne krijumčare koji se regrutuju preko varljivih sredstava, poput lažne ponude za posa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brovoljni ili nevoljni krijumčar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novčanih krijumča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zička lica se regrutuju ili dobrovoljno ili nevolj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redstva se prenose na bankovni račun krijumč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jumčar zatim ili povlači sredstva kao gotovinu ili prenosi sredstva na drugi račun (ili u inostranstv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jumčar zadržava provizi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načaj uhapšenih/osuđenih krijumčar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Šta je novačani krijumč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U čemu je problem sa novčanim krijumčari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novčanih krijumča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se izvori dokaza mogu koristiti kako bi se naznačila upotreba novčanih krijumča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Aleksandra</cp:lastModifiedBy>
  <cp:lastPrinted>2016-05-18T07:38:13Z</cp:lastPrinted>
  <dcterms:modified xsi:type="dcterms:W3CDTF">2017-10-10T13:43:45Z</dcterms:modified>
  <cp:revision>349</cp:revision>
  <dc:subject/>
  <dc:title>PowerPoint Presentation</dc:title>
</cp:coreProperties>
</file>