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95D37-640A-45E6-AB6D-7BE3BEDC2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omogućen da pomogne treneru u podsticanju rasprave o svim sesijama kursa. Trener treb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eda formular za evaluaciju pre početka ove sesije. U nekim okolnostima može biti odgovarajuće izdavanje obrazaca za evaluaciju na početku kursa, kako bi ih delegati mogli završiti tokom kursa i kada su sesij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oš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veže u njihovom umu. Na kraju kurs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često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ostoji tendencija d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ih učesnici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popune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u potpu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2A299-A453-4408-934F-258D8DBE8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97DD6-BCC8-46FA-A04C-3776D22A9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979F7-035E-4FFB-B0C3-A98B70CD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FAA18-A96C-41E4-B963-4FA5836AF6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3F5-F751-4A48-B4F3-EC10147E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FE6-3D66-47EA-A5FE-A213628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D8E-F7E4-4CE0-8A85-452F2978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DA9-AC42-4937-A937-7085EE82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0A1-1868-4983-B533-72AE6B0E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9AB-55E0-446B-B2FE-58DAA0F0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370-A585-4364-9636-0FE104A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DD1-B5A0-48BE-8413-1A1219F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C2F-E8BA-490E-BA40-D7203A90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D4D-D7FF-4095-AAE4-D5650A9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960-4987-4E68-9F69-3AFB162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25D-1C31-4153-AD74-F9BC999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9A353-12BB-44E9-99E2-FE5E386EA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371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</a:t>
            </a: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ja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Završetak ku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85800" y="2208240"/>
            <a:ext cx="77724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Uvodna obuka o internet kriminalu</a:t>
            </a:r>
            <a:r>
              <a:rPr b="0" lang="en-GB" sz="4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elektronskim dokazima i prihodima od internet kriminal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234800"/>
            <a:ext cx="8093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Na kraju ove sesije učesnici će moći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Obezbede odgovarajuće povratne informacije o kursu i njegovoj efikas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opune obrazac za evaluaciju ku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Utvrde sledeći nivo učenja koj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i je neophodan</a:t>
            </a: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 kako bi poboljšali svoje znanje i veštine u predme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Cilej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8440" y="2076480"/>
          <a:ext cx="8020080" cy="4311720"/>
        </p:xfrm>
        <a:graphic>
          <a:graphicData uri="http://schemas.openxmlformats.org/drawingml/2006/table">
            <a:tbl>
              <a:tblPr/>
              <a:tblGrid>
                <a:gridCol w="8020080"/>
              </a:tblGrid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varanje kursa, uvod i prezentacija ciljeva i sadržaja obu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internet kriminal, pretnje, trendovi i izazo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tehnologi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dur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55480" y="1465200"/>
          <a:ext cx="8082000" cy="4838760"/>
        </p:xfrm>
        <a:graphic>
          <a:graphicData uri="http://schemas.openxmlformats.org/drawingml/2006/table">
            <a:tbl>
              <a:tblPr/>
              <a:tblGrid>
                <a:gridCol w="8082000"/>
              </a:tblGrid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finasijske ist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n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 dokaz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sa i postup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đunarodna saradnja i saradnja javnog i privatnog sek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ovanje osumnjičenih na interne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kovi novca od internet kriminala i njihova tipolog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ne informacije od učesnik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anja i odgov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la sertifik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ršna re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3600" spc="-1" strike="noStrike">
                <a:solidFill>
                  <a:srgbClr val="000000"/>
                </a:solidFill>
                <a:latin typeface="Calibri"/>
              </a:rPr>
              <a:t>Obrasci za evaluaci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Zahteva ga SE za evalu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ti se za poboljšanje kursa u buduć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ni su samo ako ih popu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Molimo da popunite i predate tren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07908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Aleksandra</cp:lastModifiedBy>
  <dcterms:modified xsi:type="dcterms:W3CDTF">2017-10-10T14:28:49Z</dcterms:modified>
  <cp:revision>37</cp:revision>
  <dc:subject/>
  <dc:title>Introductory Cybercrime Training for Judges and Prosecutors</dc:title>
</cp:coreProperties>
</file>