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9874250" cy="6724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874800" cy="672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592240" y="-36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255840" y="504360"/>
            <a:ext cx="3362400" cy="252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638604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592240" y="638604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F6561-49C4-4130-ABBE-ED6AFF2DA7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1417-9484-4C5E-B961-4158B7D8EF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A85D9-2C82-4491-9C4D-2760C09810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161AA-42B3-4076-B422-64AB9FEE26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C578A-D0CE-4F99-B115-028F7B31BB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8095E-94B5-4AB6-8B8B-CB81028DB5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E8433-A7E9-4577-BA5A-A527CD52AA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707AF-0210-42C2-811B-174EBE41A6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91D57-FD4E-454E-ABED-85E91C97B6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9EF07-9BB8-44EC-8836-5B5C74F15B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BAF63-3D78-497A-8874-3AA955EB0C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68F83-2C51-4AEE-8EAE-BDD47C80C5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6D698-BDDD-4CBC-A093-6058570E9B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5BCCA-12BD-49E7-BA42-1F36560CA6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EC342-D7DA-4D26-9757-E55E269F1E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41E4A-3CF8-4437-BD07-8A71E1DCDC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952DF-F5F1-444A-9085-0E99B1C22C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5D96A-49A7-4EA5-A3E3-BF66881F71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1F092-8829-4BAA-80B8-EC1174D387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9940B-3AC3-4A4F-B7DA-FCFDEECA60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47D26-2B62-4211-9F59-CABADA7087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B9B0F-0C22-425E-AE12-074C3153B1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6EFB-D2FC-44E0-9499-F94EDD83E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F5B4-5EA0-4A51-9E93-B5A27989B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69EE-3847-4A8A-B380-52CFC896E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7B0A-3F72-45F7-B7AC-46A1B0A95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3D63-EB4E-40DB-B5CE-E0C9A9E62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A471-48C5-47D2-B791-F34021AF0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66CA-E415-4AB6-A7CF-6FB3207A1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7A8B-1939-4D57-AB4A-1154D85A4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D274-3BDE-4A80-A62C-1559045CE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23EE-3BBC-4AEC-9354-74B47A5E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77CE-BC41-42A8-9990-74A627C3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2F6D-96BA-4F8E-B1EF-C0C7F8BF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DB177-0523-47A9-A9C3-550B26EF633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4" descr=""/>
          <p:cNvPicPr/>
          <p:nvPr/>
        </p:nvPicPr>
        <p:blipFill>
          <a:blip r:embed="rId2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7" name="TextBox 13"/>
          <p:cNvSpPr/>
          <p:nvPr/>
        </p:nvSpPr>
        <p:spPr>
          <a:xfrm>
            <a:off x="1258920" y="-33480"/>
            <a:ext cx="3817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Projekt na ciljane prihode od kriminal na internetu u Jugoistočnoj Europi i Turskoj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3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13"/>
          <p:cNvSpPr/>
          <p:nvPr/>
        </p:nvSpPr>
        <p:spPr>
          <a:xfrm>
            <a:off x="1258920" y="-33480"/>
            <a:ext cx="3817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Projekt na ciljane prihode od kriminal na internetu u Jugoistočnoj Europi i Turskoj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0" y="6813720"/>
            <a:ext cx="9180360" cy="58680"/>
          </a:xfrm>
          <a:prstGeom prst="rect">
            <a:avLst/>
          </a:prstGeom>
          <a:gradFill rotWithShape="0">
            <a:gsLst>
              <a:gs pos="0">
                <a:srgbClr val="133555"/>
              </a:gs>
              <a:gs pos="100000">
                <a:srgbClr val="2861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-36360" y="6669000"/>
            <a:ext cx="9180360" cy="239760"/>
          </a:xfrm>
          <a:prstGeom prst="rect">
            <a:avLst/>
          </a:prstGeom>
          <a:gradFill rotWithShape="0">
            <a:gsLst>
              <a:gs pos="0">
                <a:srgbClr val="133555"/>
              </a:gs>
              <a:gs pos="100000">
                <a:srgbClr val="2861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2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ije tokova novca od internet krimina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sija 1.4.2/Čas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Elektronski transfer, preuzimanje/otvaranje bankovnih raču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dicionalne bankarske uslu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sokotehnološki kriminalci se i dalje oslanjaju na tradicionalne bankarske uslu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o je očigledno naročito značajno u slučajevima koji uključuju izvlačenje novca sa bankovnih računa žrt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dicionalne bankarske uslu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U okviru tradicionalnog bankarskog sektora, koje tehnike se mogu iskoristiti kako bi se izbegli izvori sredstava izvučeni sa bankovnog računa žrt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ija elektronskog transfe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Bankovni računi žrtava su kompromitovani kroz različite tehnike visokotehnološkog kriminala (npr. </a:t>
            </a:r>
            <a:r>
              <a:rPr b="0" i="1" lang="sr-Latn-BA" sz="2500" spc="-1" strike="noStrike">
                <a:solidFill>
                  <a:srgbClr val="000000"/>
                </a:solidFill>
                <a:latin typeface="Calibri"/>
              </a:rPr>
              <a:t>phishing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mal</a:t>
            </a:r>
            <a:r>
              <a:rPr b="0" i="1" lang="sr-Latn-BA" sz="2500" spc="-1" strike="noStrike">
                <a:solidFill>
                  <a:srgbClr val="000000"/>
                </a:solidFill>
                <a:latin typeface="Calibri"/>
              </a:rPr>
              <a:t>war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ovi korisnici su dodati na bankovni račun žrtve i sredstva se prenose na račune krijumčar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redstva se povlače u gotovini ili prenose u druga odredišt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ransferi se vrše u malim iznosima kako bi se izbegli pragovi izveštavanj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Kompleksne strukture beznačajnih transfera na raču</a:t>
            </a:r>
            <a:r>
              <a:rPr b="0" lang="sr-Latn-BA" sz="25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 krijumčara koriste se da za</a:t>
            </a:r>
            <a:r>
              <a:rPr b="0" lang="sr-Latn-BA" sz="2500" spc="-1" strike="noStrike">
                <a:solidFill>
                  <a:srgbClr val="000000"/>
                </a:solidFill>
                <a:latin typeface="Calibri"/>
              </a:rPr>
              <a:t>tamn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izvore sredstav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Zaštita klijen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2491920"/>
            <a:ext cx="822960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Koje kontrole koriste finansijske institucije kako bi sprečile zloupotrebu kompromitovanih akreditiva klijenta za </a:t>
            </a:r>
            <a:r>
              <a:rPr b="0" lang="sr-Latn-BA" sz="3200" spc="-1" strike="noStrike">
                <a:solidFill>
                  <a:srgbClr val="000000"/>
                </a:solidFill>
                <a:latin typeface="Calibri"/>
              </a:rPr>
              <a:t>interne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ankarstv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acija upotrebe elektronskih transfe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Koji izvori dokaza mogu biti korišćeni kako bi se naznačila upotreba elektronskih transfer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acija upotrebe elektronskih transfe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Koja procesna ovlašćenja su dostupna / relevantna za identifikaciju / korišćenje elektronskih transfer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ovlačenja gotovi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akave izazove pruža gotovina visokotehnološkim kriminalcim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Šta VI mislit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ija povlačenja gotov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U nekim slučajevima visokotehnološkog kriminala, kao što je kriminal vezan za platne kartice, prihodi od kriminala se odmah povlače u gotovini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U drugim slučajevima, prihodi od kriminala iz drugih oblika kriminala se prenose na račune krijumča</a:t>
            </a:r>
            <a:r>
              <a:rPr b="0" lang="sr-Latn-BA" sz="27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 sa kojih se povlač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otovina se obično ponovo unosi u finansijske sisteme kroz razne tehnike kao što su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upovina pripejd kartica raznih vrsta (npr. kredit za kupovinu, kredit za mobilne telefon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orišćenje krijumčara novca ili kompromitovanih bankovnih raču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ljevi sesi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 objasne tipologiju kriminalnog toka novca korišćenja novčanih krijumčar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vaoci novčanih dozna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ktronski transferi, preuzimanje/otvaranje raču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dizanja gotov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vaoci internet uslu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acija povlačenja gotov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Koji izvori dokaza se mogu koristiti da bi se naznačila upotreba podizanja gotovi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acija korištenja povlačenja gotov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Koja procesna ovlašćenja su dostupna / relevantna za identifikaciju / korišćenje podizanja gotovi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Usluge plaćanja preko </a:t>
            </a:r>
            <a:r>
              <a:rPr b="1" lang="sr-Latn-BA" sz="4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nterne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70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Šta je to usluga plaćanja preko </a:t>
            </a:r>
            <a:r>
              <a:rPr b="0" lang="sr-Latn-BA" sz="4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ternet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Šta VI mislit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ija usluga plaćanja preko </a:t>
            </a:r>
            <a:r>
              <a:rPr b="0" lang="sr-Latn-BA" sz="4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terne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riminalno stečena sredstva se prenose na račun usluga plaćanja preko </a:t>
            </a:r>
            <a:r>
              <a:rPr b="0" lang="sr-Latn-BA" sz="3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terneta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ve opcij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lužba za plaćanje preko </a:t>
            </a:r>
            <a:r>
              <a:rPr b="0" lang="sr-Latn-BA" sz="2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terneta nudi usluge slične </a:t>
            </a:r>
            <a:r>
              <a:rPr b="0" lang="sr-Latn-BA" sz="2600" spc="-1" strike="noStrike">
                <a:solidFill>
                  <a:srgbClr val="000000"/>
                </a:solidFill>
                <a:latin typeface="Calibri"/>
              </a:rPr>
              <a:t>interne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ankovnom računu, u kom slučaju se koriste tipologije slične "elektronskom transferu / kreiranju ili prebacivanju bankovnih računa"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redstva koja se drže sa kod Služb</a:t>
            </a:r>
            <a:r>
              <a:rPr b="0" lang="sr-Latn-BA" sz="2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za plaćanje preko </a:t>
            </a:r>
            <a:r>
              <a:rPr b="0" lang="sr-Latn-BA" sz="2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terneta koriste </a:t>
            </a:r>
            <a:r>
              <a:rPr b="0" lang="sr-Latn-BA" sz="2600" spc="-1" strike="noStrike">
                <a:solidFill>
                  <a:srgbClr val="000000"/>
                </a:solidFill>
                <a:latin typeface="Calibri"/>
              </a:rPr>
              <a:t>se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za kupovinu proizvoda i usluga na </a:t>
            </a:r>
            <a:r>
              <a:rPr b="0" lang="sr-Latn-BA" sz="2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ternetu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acija usluga plaćanja preko </a:t>
            </a:r>
            <a:r>
              <a:rPr b="0" lang="sr-Latn-BA" sz="4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terne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Koji izvori dokaza mogu biti korišćeni kako bi se naznačila upotreba usluga plaćanja preko </a:t>
            </a:r>
            <a:r>
              <a:rPr b="0" lang="sr-Latn-BA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ternet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acija korišćenja usluga plaćanja preko </a:t>
            </a:r>
            <a:r>
              <a:rPr b="0" lang="sr-Latn-BA" sz="4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terne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Koja procesna ovlašćenja su dostupna / relevantna za identifikaciju / korišćenje usluga plaćanja preko </a:t>
            </a:r>
            <a:r>
              <a:rPr b="0" lang="sr-Latn-BA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ternet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Zamrzavanje, oduzimanje i konfiskovanje sredstava od usluga plaćanja preko </a:t>
            </a:r>
            <a:r>
              <a:rPr b="0" lang="sr-Latn-BA" sz="4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terne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Koja procesna ovlašćenja su dostupna / relevantna za zamrzavanje, oduzimanje i konfiskaciju sredstava koje poseduje davalac uluga plaćanja preko </a:t>
            </a:r>
            <a:r>
              <a:rPr b="0" lang="sr-Latn-BA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ternet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kapitulaci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 objasne tipologiju kriminalnog toka novca korišćenja novčanih krijumčar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vaoci novčanih dozna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ktronski transferi, preuzimanje/otvaranje raču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dizanja gotov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vaoci </a:t>
            </a:r>
            <a:r>
              <a:rPr b="0" lang="sr-Latn-BA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ternet uslu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16" name="TextBox 4"/>
          <p:cNvSpPr/>
          <p:nvPr/>
        </p:nvSpPr>
        <p:spPr>
          <a:xfrm>
            <a:off x="3527280" y="4500720"/>
            <a:ext cx="210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itanja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avaoci novčanih doznak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o je davalac novčanih doznak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Šta VI mislit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55736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oje davalac novčanih doznak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U čemu je problem sa davaocima doznak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ija davaoca dozna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zička lica (svesno i bez znanja) se regrutuju kao krijumčari za šemu pranja, često putem radnih mesta "posao kod kuće"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ihodi od kriminala se prenose na bankovne račune krijumčar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rijumčari podižu gotovinu i prenose gotovinu putem elektronskog transfera određenom korisniku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rijum</a:t>
            </a:r>
            <a:r>
              <a:rPr b="0" lang="sr-Latn-BA" sz="2200" spc="-1" strike="noStrike">
                <a:solidFill>
                  <a:srgbClr val="000000"/>
                </a:solidFill>
                <a:latin typeface="Calibri"/>
              </a:rPr>
              <a:t>čar, tzv. “mazga”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zadržava deo uplate kao proviziju za obavljanje ove uslug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ansferi su obično u iznosima koji manji od praga izveštavanja, kako bi se izbeglo otkrivanj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vaoci doznaka se ponovo koriste kako bi se gotovina prebacila na krajnje odredišt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ija umešanog davao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ikovani su slučajevi kada je opsežna upotreba određenih davaoca doznaka izazvala zabrinutost zbog mogućeg dosluha ili infiltracije takvih poslov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acija korišćenja davaoca dozna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Koji se izvori dokaza mogu koristiti kako bi se ukazal</a:t>
            </a:r>
            <a:r>
              <a:rPr b="0" lang="sr-Latn-BA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na korišćenje davalaca doznak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acija korišćenja davaoca dozna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Koja procesna ovlašćenja su dostupna / relevantna za identifikaciju / korišćenje davalaca doznak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4T06:40:18Z</dcterms:created>
  <dc:creator>alexander</dc:creator>
  <dc:description/>
  <dc:language>en-US</dc:language>
  <cp:lastModifiedBy>Aleksandra</cp:lastModifiedBy>
  <cp:lastPrinted>2016-05-18T07:38:13Z</cp:lastPrinted>
  <dcterms:modified xsi:type="dcterms:W3CDTF">2017-10-10T13:33:32Z</dcterms:modified>
  <cp:revision>316</cp:revision>
  <dc:subject/>
  <dc:title>PowerPoint Presentation</dc:title>
</cp:coreProperties>
</file>