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7A1E-A76A-4D64-8EBF-8D9F627E0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EEDE-042F-4848-90AF-F5AD65344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C524-54D9-43F9-AEF1-0916A85C4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D894-32A3-419C-8F4B-3B7D6A426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B3A1-FA5E-4ED8-A796-829B8B1B0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EA42-33E2-40D9-BE9B-23050A29C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66CE-D75E-4992-9854-9401E216D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1036-1402-493A-A796-7787EE0FB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7EB3-9304-48AB-B63C-6A4C26A31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3244-DFEF-4253-BD3F-DE9D10F35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74E2-C922-4529-9CC8-FA59CBD40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2823-FC9D-44FD-85A9-6C85C0FDE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5F7A-C176-42BA-9F51-B279F4490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3DF5-A7F2-4479-8DED-B05B50E75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3507-A206-48B4-8EFF-836FEA765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D3C2-FF2A-4100-B942-3DFF4C19E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3FFC-749F-405B-91E8-F6CF5371E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FDBA-9BD1-4486-93BE-918144370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A6F4-B4E1-4B8B-8016-42DEA450C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D3A8-BE59-46D1-9ED1-1CE8ADCE1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DB61-C6BE-4A16-9147-F52CC7541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24D1-6833-4954-B764-DFBF71C69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2CC-5390-4E3B-9F73-C3736D29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EECB-09F7-45BC-B892-9FD8DDDD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434-BF2B-4378-BB53-3C8AB4CB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B12-AC1F-457F-9B6B-9E3787EA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BEA-7B07-49A1-B769-54010330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1C4B-56A5-4A7D-BB8A-51F1510D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9D0-DF86-49EC-9F0F-7433D4E3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B12-63C7-4ED4-9D34-F9C6A1B1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56D-21E6-42D7-83FB-862CFFCF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534-7FD1-4CC4-9517-29A88BC1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F25-BA0D-4AF5-A1A1-2E27700C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08D-483D-409C-87DC-D8A43C4A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C02A-4526-493C-9E90-1AC58597CE5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e tokova novca od internet krimin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ja 1.4.2/Čas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lektronski transfer, preuzimanje/otvaranje bankovnih raču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cionalne bankarske uslu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okotehnološki kriminalci se i dalje oslanjaju na tradicionalne bankarske uslu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o je očigledno naročito značajno u slučajevima koji uključuju izvlačenje novca sa bankovnih računa žrt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cionalne bankarske uslu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U okviru tradicionalnog bankarskog sektora, koje tehnike se mogu iskoristiti kako bi se izbegli izvori sredstava izvučeni sa bankovnog računa žrt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elektronskog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ankovni računi žrtava su kompromitovani kroz različite tehnike visokotehnološkog kriminala (npr. </a:t>
            </a:r>
            <a:r>
              <a:rPr b="0" i="1" lang="sr-Latn-BA" sz="2500" spc="-1" strike="noStrike">
                <a:solidFill>
                  <a:srgbClr val="000000"/>
                </a:solidFill>
                <a:latin typeface="Calibri"/>
              </a:rPr>
              <a:t>phishing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mal</a:t>
            </a:r>
            <a:r>
              <a:rPr b="0" i="1" lang="sr-Latn-BA" sz="2500" spc="-1" strike="noStrike">
                <a:solidFill>
                  <a:srgbClr val="000000"/>
                </a:solidFill>
                <a:latin typeface="Calibri"/>
              </a:rPr>
              <a:t>wa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vi korisnici su dodati na bankovni račun žrtve i sredstva se prenose na račune krijumča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redstva se povlače u gotovini ili prenose u druga odrediš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i se vrše u malim iznosima kako bi se izbegli pragovi izveštavanj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ompleksne strukture beznačajnih transfera na raču</a:t>
            </a:r>
            <a:r>
              <a:rPr b="0" lang="sr-Latn-BA" sz="2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 krijumčara koriste se da za</a:t>
            </a:r>
            <a:r>
              <a:rPr b="0" lang="sr-Latn-BA" sz="2500" spc="-1" strike="noStrike">
                <a:solidFill>
                  <a:srgbClr val="000000"/>
                </a:solidFill>
                <a:latin typeface="Calibri"/>
              </a:rPr>
              <a:t>tam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zvore sredstav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štita klijen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e kontrole koriste finansijske institucije kako bi sprečile zloupotrebu kompromitovanih akreditiva klijenta za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ntern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nkarstv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elektronsk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mogu biti korišćeni kako bi se naznačila upotreba elektronsk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elektronsk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elektronsk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vlačenja gotov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kave izazove pruža gotovina visokotehnološkim kriminalcim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povlačenja gotov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nekim slučajevima visokotehnološkog kriminala, kao što je kriminal vezan za platne kartice, prihodi od kriminala se odmah povlače u gotovin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drugim slučajevima, prihodi od kriminala iz drugih oblika kriminala se prenose na račune krijumča</a:t>
            </a:r>
            <a:r>
              <a:rPr b="0" lang="sr-Latn-BA" sz="27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sa kojih se povlač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otovina se obično ponovo unosi u finansijske sisteme kroz razne tehnike kao što s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upovina pripejd kartica raznih vrsta (npr. kredit za kupovinu, kredit za mobilne telefon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rišćenje krijumčara novca ili kompromitovanih bankovnih raču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lje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u kriminalnog toka novca korišćenja novčanih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novčanih dozn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ktronski transferi, preuzimanje/otvaranje raču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dizanja gotov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internet uslu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povlačenja gotov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se mogu koristiti da bi se naznačila upotreba podizanja gotov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tenja povlačenja gotov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podizanja gotov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sluge plaćanja preko </a:t>
            </a:r>
            <a:r>
              <a:rPr b="1" lang="sr-Latn-BA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Šta je to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riminalno stečena sredstva se prenose na račun usluga plaćanja preko </a:t>
            </a:r>
            <a:r>
              <a:rPr b="0" lang="sr-Latn-BA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tern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ve opcij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lužba za plaćanje preko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terneta nudi usluge slične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nterne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nkovnom računu, u kom slučaju se koriste tipologije slične "elektronskom transferu / kreiranju ili prebacivanju bankovnih računa"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redstva koja se drže sa kod Služb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za plaćanje preko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terneta koriste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za kupovinu proizvoda i usluga na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ternet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mogu biti korišćeni kako bi se naznačila upotreba usluga plaćanja preko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usluga plaćanja preko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rzavanje, oduzimanje i konfiskovanje sredstava od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zamrzavanje, oduzimanje i konfiskaciju sredstava koje poseduje davalac uluga plaćanja preko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u kriminalnog toka novca korišćenja novčanih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novčanih dozn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ktronski transferi, preuzimanje/otvaranje raču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dizanja gotov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ernet uslu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527280" y="4500720"/>
            <a:ext cx="21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vaoci novčanih dozna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 je davalac novčanih doznak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je davalac novčanih doznak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U čemu je problem sa davaocim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davaoca dozn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zička lica (svesno i bez znanja) se regrutuju kao krijumčari za šemu pranja, često putem radnih mesta "posao kod kuće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hodi od kriminala se prenose na bankovne račune krijumča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rijumčari podižu gotovinu i prenose gotovinu putem elektronskog transfera određenom korisnik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rijum</a:t>
            </a:r>
            <a:r>
              <a:rPr b="0" lang="sr-Latn-BA" sz="2200" spc="-1" strike="noStrike">
                <a:solidFill>
                  <a:srgbClr val="000000"/>
                </a:solidFill>
                <a:latin typeface="Calibri"/>
              </a:rPr>
              <a:t>čar, tzv. “mazga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zadržava deo uplate kao proviziju za obavljanje ove uslug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i su obično u iznosima koji manji od praga izveštavanja, kako bi se izbeglo otkrivan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vaoci doznaka se ponovo koriste kako bi se gotovina prebacila na krajnje odrediš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umešanog davao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ikovani su slučajevi kada je opsežna upotreba određenih davaoca doznaka izazvala zabrinutost zbog mogućeg dosluha ili infiltracije takvih poslo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davaoca dozn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se izvori dokaza mogu koristiti kako bi se ukazal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 korišćenje davalac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davaoca dozn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davalac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Aleksandra</cp:lastModifiedBy>
  <cp:lastPrinted>2016-05-18T07:38:13Z</cp:lastPrinted>
  <dcterms:modified xsi:type="dcterms:W3CDTF">2017-10-10T13:33:32Z</dcterms:modified>
  <cp:revision>316</cp:revision>
  <dc:subject/>
  <dc:title>PowerPoint Presentation</dc:title>
</cp:coreProperties>
</file>