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8C10E0-AB7B-4556-8DE1-BF55B9CBBD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werPoint </a:t>
            </a:r>
            <a:r>
              <a:rPr b="0" lang="sr-Latn-BA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omogućen da pomogne treneru u podsticanju rasprave o svim sesijama kursa. Trener treba </a:t>
            </a:r>
            <a:r>
              <a:rPr b="0" lang="sr-Latn-BA" sz="1200" spc="-1" strike="noStrike">
                <a:solidFill>
                  <a:srgbClr val="000000"/>
                </a:solidFill>
                <a:latin typeface="Calibri"/>
              </a:rPr>
              <a:t>da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preda formular za evaluaciju pre početka ove sesije. U nekim okolnostima može biti odgovarajuće izdavanje obrazaca za evaluaciju na početku kursa, kako bi ih delegati mogli završiti tokom kursa i kada su sesije </a:t>
            </a:r>
            <a:r>
              <a:rPr b="0" lang="sr-Latn-BA" sz="1200" spc="-1" strike="noStrike">
                <a:solidFill>
                  <a:srgbClr val="000000"/>
                </a:solidFill>
                <a:latin typeface="Calibri"/>
              </a:rPr>
              <a:t>još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sveže u njihovom umu. Na kraju kursa </a:t>
            </a:r>
            <a:r>
              <a:rPr b="0" lang="sr-Latn-BA" sz="1200" spc="-1" strike="noStrike">
                <a:solidFill>
                  <a:srgbClr val="000000"/>
                </a:solidFill>
                <a:latin typeface="Calibri"/>
              </a:rPr>
              <a:t>često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postoji tendencija da </a:t>
            </a:r>
            <a:r>
              <a:rPr b="0" lang="sr-Latn-BA" sz="1200" spc="-1" strike="noStrike">
                <a:solidFill>
                  <a:srgbClr val="000000"/>
                </a:solidFill>
                <a:latin typeface="Calibri"/>
              </a:rPr>
              <a:t>ih učesnici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ne </a:t>
            </a:r>
            <a:r>
              <a:rPr b="0" lang="sr-Latn-BA" sz="1200" spc="-1" strike="noStrike">
                <a:solidFill>
                  <a:srgbClr val="000000"/>
                </a:solidFill>
                <a:latin typeface="Calibri"/>
              </a:rPr>
              <a:t>popune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u potpunost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F34ECE-129F-4620-AB37-8C34655275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BA" sz="1200" spc="-1" strike="noStrike">
                <a:solidFill>
                  <a:srgbClr val="000000"/>
                </a:solidFill>
                <a:latin typeface="Calibri"/>
              </a:rPr>
              <a:t>Kao i kod svih prethodnih lekcija, ovo treba da sledi sličan obrazac sa ciljevima dnevnog reda i sesijama koji su postavljeni na početku lekci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1B79DB-48ED-4F82-8571-7E986472D3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BA" sz="1200" spc="-1" strike="noStrike">
                <a:solidFill>
                  <a:srgbClr val="000000"/>
                </a:solidFill>
                <a:latin typeface="Calibri"/>
              </a:rPr>
              <a:t>Kao i kod svih prethodnih lekcija, ovo treba da sledi sličan obrazac sa ciljevima dnevnog reda i sesijama koji su postavljeni na početku lekci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BFA6EC-C1B0-44B4-A71C-653709F15A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F2BF83-E7AD-4BB8-B012-743F09AFB8E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84CC-FD7C-4DA2-98C6-09F921C86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8240-2EE0-4656-A653-CC302650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46A9-24BF-4643-96D7-CCA5259A7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2FCB-156F-4EE7-9A52-D2B265DD5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7616-81F8-49EF-9B08-6E2096DA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0762-17A0-4564-BEE0-5018464E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6759-D912-4A54-93C3-C793737F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A4DF-5B59-42E7-B50D-FA157F44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DF5F-6E02-4133-BAB3-972618C5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F5F4-236D-4AC3-B6AC-0E8A2132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910D-978F-45E1-B37B-A043E529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C2AB-8608-4C68-AE19-E7E1C449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E6EB5B-0BBC-4D93-B743-FF8A200F6F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4371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i</a:t>
            </a:r>
            <a:r>
              <a:rPr b="0" lang="sr-Latn-BA" sz="3200" spc="-1" strike="noStrike">
                <a:solidFill>
                  <a:srgbClr val="898989"/>
                </a:solidFill>
                <a:latin typeface="Calibri"/>
              </a:rPr>
              <a:t>ja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1.4.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BA" sz="3200" spc="-1" strike="noStrike">
                <a:solidFill>
                  <a:srgbClr val="898989"/>
                </a:solidFill>
                <a:latin typeface="Calibri"/>
              </a:rPr>
              <a:t>Završetak kur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685800" y="2208240"/>
            <a:ext cx="7772400" cy="20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BA" sz="4300" spc="-1" strike="noStrike">
                <a:solidFill>
                  <a:srgbClr val="000000"/>
                </a:solidFill>
                <a:latin typeface="Calibri"/>
              </a:rPr>
              <a:t>Uvodna obuka o internet kriminalu</a:t>
            </a:r>
            <a:r>
              <a:rPr b="0" lang="en-GB" sz="43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BA" sz="4300" spc="-1" strike="noStrike">
                <a:solidFill>
                  <a:srgbClr val="000000"/>
                </a:solidFill>
                <a:latin typeface="Calibri"/>
              </a:rPr>
              <a:t>elektronskim dokazima i prihodima od internet kriminala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2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  <a:ea typeface="MS PGothic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MS PGothic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1234800"/>
            <a:ext cx="8093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Calibri (Body)"/>
              </a:rPr>
              <a:t>Na kraju ove sesije učesnici će moći</a:t>
            </a:r>
            <a:r>
              <a:rPr b="0" lang="sr-Latn-BA" sz="2800" spc="-1" strike="noStrike">
                <a:solidFill>
                  <a:srgbClr val="000000"/>
                </a:solidFill>
                <a:latin typeface="Calibri (Body)"/>
              </a:rPr>
              <a:t> d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Obezbede odgovarajuće povratne informacije o kursu i njegovoj efikas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Popune obrazac za evaluaciju kur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Calibri (Body)"/>
              </a:rPr>
              <a:t>Utvrde sledeći nivo učenja koj</a:t>
            </a:r>
            <a:r>
              <a:rPr b="0" lang="sr-Latn-BA" sz="2800" spc="-1" strike="noStrike">
                <a:solidFill>
                  <a:srgbClr val="000000"/>
                </a:solidFill>
                <a:latin typeface="Calibri (Body)"/>
              </a:rPr>
              <a:t>i je neophodan</a:t>
            </a:r>
            <a:r>
              <a:rPr b="0" lang="vi-VN" sz="2800" spc="-1" strike="noStrike">
                <a:solidFill>
                  <a:srgbClr val="000000"/>
                </a:solidFill>
                <a:latin typeface="Calibri (Body)"/>
              </a:rPr>
              <a:t> kako bi poboljšali svoje znanje i veštine u predmet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BA" sz="4400" spc="-1" strike="noStrike">
                <a:solidFill>
                  <a:srgbClr val="000000"/>
                </a:solidFill>
                <a:latin typeface="Calibri"/>
              </a:rPr>
              <a:t>Cilejvi sesi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BA" sz="4400" spc="-1" strike="noStrike">
                <a:solidFill>
                  <a:srgbClr val="000000"/>
                </a:solidFill>
                <a:latin typeface="Calibri"/>
              </a:rPr>
              <a:t>Dnevni 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68440" y="2076480"/>
          <a:ext cx="8020080" cy="4311720"/>
        </p:xfrm>
        <a:graphic>
          <a:graphicData uri="http://schemas.openxmlformats.org/drawingml/2006/table">
            <a:tbl>
              <a:tblPr/>
              <a:tblGrid>
                <a:gridCol w="8020080"/>
              </a:tblGrid>
              <a:tr h="861840">
                <a:tc>
                  <a:txBody>
                    <a:bodyPr lIns="68760" rIns="68760" tIns="17640" bIns="17640" anchor="ctr">
                      <a:noAutofit/>
                    </a:bodyPr>
                    <a:p>
                      <a:pPr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varanje kursa, uvod i prezentacija ciljeva i sadržaja obu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68760" rIns="68760" tIns="17640" bIns="17640" anchor="ctr">
                      <a:noAutofit/>
                    </a:bodyPr>
                    <a:p>
                      <a:pPr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vod u internet kriminal, pretnje, trendovi i izazov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68760" rIns="68760" tIns="17640" bIns="176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vod u tehnologij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840">
                <a:tc>
                  <a:txBody>
                    <a:bodyPr lIns="68760" rIns="68760" tIns="17640" bIns="1764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jalni članovi Budimpeštanske konvencije o internet kriminal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68760" rIns="68760" tIns="17640" bIns="1764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duralni članovi Budimpeštanske konvencije o internet kriminal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BA" sz="4400" spc="-1" strike="noStrike">
                <a:solidFill>
                  <a:srgbClr val="000000"/>
                </a:solidFill>
                <a:latin typeface="Calibri"/>
              </a:rPr>
              <a:t>Dnevni 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55480" y="1465200"/>
          <a:ext cx="8082000" cy="4838760"/>
        </p:xfrm>
        <a:graphic>
          <a:graphicData uri="http://schemas.openxmlformats.org/drawingml/2006/table">
            <a:tbl>
              <a:tblPr/>
              <a:tblGrid>
                <a:gridCol w="8082000"/>
              </a:tblGrid>
              <a:tr h="735120">
                <a:tc>
                  <a:txBody>
                    <a:bodyPr lIns="68760" rIns="68760" tIns="17640" bIns="17640" anchor="ctr">
                      <a:noAutofit/>
                    </a:bodyPr>
                    <a:p>
                      <a:pPr marL="228600" indent="-228600" algn="just"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vod u finasijske ist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68760" rIns="68760" tIns="17640" bIns="1764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</a:t>
                      </a: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n</a:t>
                      </a: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i dokazi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</a:t>
                      </a: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ksa i postup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68760" rIns="68760" tIns="17640" bIns="176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đunarodna saradnja i saradnja javnog i privatnog sekto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68760" rIns="68760" tIns="17640" bIns="17640" anchor="ctr">
                      <a:noAutofit/>
                    </a:bodyPr>
                    <a:p>
                      <a:pPr marL="228600" indent="-228600" algn="just"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</a:t>
                      </a: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kovanje osumnjičenih na interne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68760" rIns="68760" tIns="17640" bIns="17640" anchor="ctr">
                      <a:noAutofit/>
                    </a:bodyPr>
                    <a:p>
                      <a:pPr marL="228600" indent="-228600" algn="just"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kovi novca od internet kriminala i njihova tipologi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2000">
                <a:tc>
                  <a:txBody>
                    <a:bodyPr lIns="68760" rIns="68760" tIns="17640" bIns="176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vratne informacije od učesnika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tanja i odgovo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ela sertifik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vršna re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BA" sz="3600" spc="-1" strike="noStrike">
                <a:solidFill>
                  <a:srgbClr val="000000"/>
                </a:solidFill>
                <a:latin typeface="Calibri"/>
              </a:rPr>
              <a:t>Obrasci za evaluacij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Zahteva ga SE za evaluacij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Koristi se za poboljšanje kursa u buduć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Korisni su samo ako ih popun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Molimo da popunite i predate tren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3079080" y="4500720"/>
            <a:ext cx="21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BA" sz="5400" spc="-1" strike="noStrike">
                <a:solidFill>
                  <a:srgbClr val="000000"/>
                </a:solidFill>
                <a:latin typeface="Calibri"/>
              </a:rPr>
              <a:t>Pitanj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1:04:42Z</dcterms:created>
  <dc:creator>Nigel Jones</dc:creator>
  <dc:description/>
  <dc:language>en-US</dc:language>
  <cp:lastModifiedBy>Aleksandra</cp:lastModifiedBy>
  <dcterms:modified xsi:type="dcterms:W3CDTF">2017-10-10T14:28:49Z</dcterms:modified>
  <cp:revision>37</cp:revision>
  <dc:subject/>
  <dc:title>Introductory Cybercrime Training for Judges and Prosecutors</dc:title>
</cp:coreProperties>
</file>