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2852-7E25-49AF-8702-3D2FAB07A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4362-819B-4E67-BD30-2976EEF416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pruži učesnicima priliku da postavljaju sva pitanja koja mogu biti u vezi sa drugim delom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FF27-AAF2-4F5D-B7D8-53BE3578C0E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werPoint ili druga prezentaci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adržaj slajdova u ovom odeljku predstavlja samo primer onoga što se može opisati u svakoj od lokalnih obuk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idealnom slučaju, prezentacija bi trebalo da pomene međunarodne pravne instrumente potpisane ili ratifikovane od strane svake države i rezultat prenosa 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 zak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sim toga, treba da se obezbedi opis vrsta istražnih mera po nacionalnom zakonu, kao i objašnjenje o značaju i zahtevima prikupljanja i čuvanja elektronskih dokaz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ko je primenljivo, potrebno je navesti eventualne specifičnosti nacionalnih postupaka u vezi sa elektronskim dokaz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F92D-7D40-403E-99DB-7BA7D5755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a prezentacija ima tri del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vi deo će se odnositi na Nacionalno materijalno zakonodavstvo u oblasti visokotehnološkog kriminala: koje krivična dela koja se odnose na visokotehnološki kriminal se inkriminišu u okviru postojećeg zakonodavnog okvir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rugi deo će se odnositi na procesne odredbe prema nacionalnom zakon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ći deo će predložiti rekapitulacij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2A4A-B141-4EA8-8F1A-46A744A73E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a ovom slajdu trener može dodati bilo kakv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specifičnost ili važno pitanje koje bi trebalo da se naglasi u odnosu na uslove i ograničenja. To treba da obuhvat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pšte ili posebne odredbe koje obezbeđuju potrebu i srazmernos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 izvor (određenih) zaštitnih mera (zakon, sudska praksa ...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labost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g zakona po ovom pitanj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e sva pitanja koja mogu biti u vezi s trećim delom č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604A-2F1B-442F-80B1-D5A13691C2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treba da rekapituliše/proveri znanje o sledećim ciljevim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avesti odredbe u materijalnom krivičnom zakonu i identifikovati neke od ključnih faktora koji se koriste za opisivanje zločina, na osnovu postojećeg nacionalnog zak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bjasniti važnost uslova i ograničenja u skladu sa nacionalnim zakon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bjasniti postojeće procesne odredbe prema nacionalnom zako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nalizirati potrebe i prednosti usklađivanja između nacionalnog zakonodavstva i međunarodnih instrumenata, posebno Konvencije iz Budimpeš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EF5E-1ADF-41BC-82E8-D0CA3B52B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Calibri"/>
              </a:rPr>
              <a:t>Ciljevi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Cilj ove sesije je da pruži sve potrebne informacije i pozadinu sudijama i tužiocima kako bi im se omogućilo da efikasno koriste procesne odredbe u lokalnom zakonodavstvu radi krivičnog gonjenja i rešavanja slučajeva visokotehnološkog kriminala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Do kraja sesije učesnici će moći da identifikuju i objasne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u neke od ključnih faktora koji se koriste za opisivanje zločina, na osnovu postojećeg nacionalnog zakon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Tačnije, delegat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o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i da identifikuje i objasni odredb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eg zakonodavstva koje se odnose na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krivična dela u materijalnom nacionalnom zakonodavstvu u oblasti visokotehnološkog kriminal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Nezakonit prist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Nezakonito presretanj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Ometanje podatak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Ometanje siste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Zloupotreba uređaj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Falsifikovanje u vezi sa računari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Falsifikovanje u vezi sa računari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Dela u vezi sa dečijom pornografij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Dela u vezi sa kršenjem autorskih prav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Oblast primene procesnih odredbi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Hitna zaštita sačuvanih rašunarskih podatak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Izdavanja naredb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etraživanje i zaple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ikupljanje podataka o saobraćaju u realnom vremen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esretanje podataka iz sadržaj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Uslovi i ograničenj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29A5-D527-4199-9075-70C23F3FEBB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ljaju sva pitanja koja mogu biti u vezi sa prvim delom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Praktične vežbe (ako je primenjiv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ovoj lekciji nema predviđenih praktičnih vežb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Provera znan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proveri znanje postavljanjem relevantnih pitanja iz svakog aspekta ses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95AA-0BF1-4DD8-8A25-2FB6E05E095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ljaju sva pitanja koja mogu biti u vezi sa prethodnim slajdov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88D8-CA19-4D68-8A9A-B50C1745372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FE63-5A40-4493-84E9-6D3F5B1CF0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A34-5710-48E2-A74F-1FB55D05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983-7CD5-4CA4-BF67-191B44F4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66B-A987-4FD9-B89D-4C7A16E7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693-6831-4571-9DB2-783A74E7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16A-CBF4-4EDF-9E57-A3378BFB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A1A-288A-463D-A78A-2DF9E75D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CAE-2F9D-4631-A31D-0A2C79AE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BD5-B697-4FF2-9F51-918C102E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E44-27E0-4FA7-8E23-795D4FA6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30A-58B4-4936-8BFC-A99A2C22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617-4579-4EC9-A829-E8586743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105-8EA0-4D48-817A-739B21B6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31A8-3A3B-4168-9825-8E9B813D1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Uvodna obuka o visokotehnološkom kriminalu za sudije i tužio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Sesija 1.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Nacionalno zakonodavstvo o visokotehnološkom krimina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9C9E-1C42-47A2-99B2-7CA9366B2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Ometanje sist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F0AD-498F-42B1-855B-FFFD73998F3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loupotreba uređa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5BCB-B55A-46A2-BD45-C36D64DBB68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Falsifikovanje u vezi sa računar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D09C-9B97-4946-98E6-FA307678DB0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Falsifikovanje u vezi sa računar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D5D8-9530-42B8-9728-281EC86F3A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Dela u vezi sa dečjom pornografij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7157-1BB6-4B10-8C88-5C864E0A0F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Dela u vezi sa kršenjem autorskih pra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B6CD-9BB2-4ACB-8E3E-316028A3A4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  <a:ea typeface="MS PGothic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1C1F-C15C-46D5-937E-5AE2ECC2A5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Drugi deo</a:t>
            </a:r>
            <a:br>
              <a:rPr sz="4000"/>
            </a:b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ocesne odredbe prema nacionalnom zakon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75EF-7B87-49A7-AB29-4E89B9E32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148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AutoShape 4"/>
            <p:cNvSpPr/>
            <p:nvPr/>
          </p:nvSpPr>
          <p:spPr>
            <a:xfrm>
              <a:off x="2828880" y="872640"/>
              <a:ext cx="3668760" cy="554580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45800"/>
                <a:gd name="textAreaBottom" fmla="*/ 5519520 h 5545800"/>
              </a:gdLst>
              <a:ahLst/>
              <a:rect l="textAreaLeft" t="textAreaTop" r="textAreaRight" b="textAreaBottom"/>
              <a:pathLst>
                <a:path w="21600" h="32650">
                  <a:moveTo>
                    <a:pt x="532" y="0"/>
                  </a:moveTo>
                  <a:arcTo wR="532" hR="532" stAng="16200000" swAng="-5400000"/>
                  <a:lnTo>
                    <a:pt x="0" y="32118"/>
                  </a:lnTo>
                  <a:arcTo wR="532" hR="532" stAng="10800000" swAng="-5400000"/>
                  <a:lnTo>
                    <a:pt x="21068" y="32650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2921760" y="872640"/>
              <a:ext cx="3506760" cy="181800"/>
            </a:xfrm>
            <a:custGeom>
              <a:avLst/>
              <a:gdLst>
                <a:gd name="textAreaLeft" fmla="*/ 0 w 3506760"/>
                <a:gd name="textAreaRight" fmla="*/ 3507120 w 35067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3048" h="124">
                  <a:moveTo>
                    <a:pt x="0" y="124"/>
                  </a:moveTo>
                  <a:lnTo>
                    <a:pt x="13" y="77"/>
                  </a:lnTo>
                  <a:lnTo>
                    <a:pt x="45" y="37"/>
                  </a:lnTo>
                  <a:lnTo>
                    <a:pt x="94" y="11"/>
                  </a:lnTo>
                  <a:lnTo>
                    <a:pt x="152" y="0"/>
                  </a:lnTo>
                  <a:lnTo>
                    <a:pt x="2896" y="0"/>
                  </a:lnTo>
                  <a:lnTo>
                    <a:pt x="2954" y="11"/>
                  </a:lnTo>
                  <a:lnTo>
                    <a:pt x="3003" y="37"/>
                  </a:lnTo>
                  <a:lnTo>
                    <a:pt x="3035" y="77"/>
                  </a:lnTo>
                  <a:lnTo>
                    <a:pt x="3048" y="124"/>
                  </a:lnTo>
                  <a:lnTo>
                    <a:pt x="2913" y="62"/>
                  </a:lnTo>
                  <a:lnTo>
                    <a:pt x="112" y="62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8"/>
            <p:cNvSpPr/>
            <p:nvPr/>
          </p:nvSpPr>
          <p:spPr>
            <a:xfrm>
              <a:off x="4053240" y="648720"/>
              <a:ext cx="1234800" cy="644760"/>
            </a:xfrm>
            <a:custGeom>
              <a:avLst/>
              <a:gdLst>
                <a:gd name="textAreaLeft" fmla="*/ 0 w 1234800"/>
                <a:gd name="textAreaRight" fmla="*/ 1235160 w 12348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73" h="421">
                  <a:moveTo>
                    <a:pt x="359" y="0"/>
                  </a:moveTo>
                  <a:lnTo>
                    <a:pt x="292" y="7"/>
                  </a:lnTo>
                  <a:lnTo>
                    <a:pt x="224" y="32"/>
                  </a:lnTo>
                  <a:lnTo>
                    <a:pt x="166" y="65"/>
                  </a:lnTo>
                  <a:lnTo>
                    <a:pt x="112" y="109"/>
                  </a:lnTo>
                  <a:lnTo>
                    <a:pt x="67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6" y="417"/>
                  </a:lnTo>
                  <a:lnTo>
                    <a:pt x="157" y="421"/>
                  </a:lnTo>
                  <a:lnTo>
                    <a:pt x="916" y="421"/>
                  </a:lnTo>
                  <a:lnTo>
                    <a:pt x="947" y="417"/>
                  </a:lnTo>
                  <a:lnTo>
                    <a:pt x="974" y="410"/>
                  </a:lnTo>
                  <a:lnTo>
                    <a:pt x="1028" y="384"/>
                  </a:lnTo>
                  <a:lnTo>
                    <a:pt x="1060" y="340"/>
                  </a:lnTo>
                  <a:lnTo>
                    <a:pt x="1068" y="318"/>
                  </a:lnTo>
                  <a:lnTo>
                    <a:pt x="1073" y="292"/>
                  </a:lnTo>
                  <a:lnTo>
                    <a:pt x="1064" y="252"/>
                  </a:lnTo>
                  <a:lnTo>
                    <a:pt x="1037" y="205"/>
                  </a:lnTo>
                  <a:lnTo>
                    <a:pt x="1001" y="157"/>
                  </a:lnTo>
                  <a:lnTo>
                    <a:pt x="947" y="109"/>
                  </a:lnTo>
                  <a:lnTo>
                    <a:pt x="889" y="65"/>
                  </a:lnTo>
                  <a:lnTo>
                    <a:pt x="826" y="32"/>
                  </a:lnTo>
                  <a:lnTo>
                    <a:pt x="754" y="7"/>
                  </a:lnTo>
                  <a:lnTo>
                    <a:pt x="687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9"/>
            <p:cNvSpPr/>
            <p:nvPr/>
          </p:nvSpPr>
          <p:spPr>
            <a:xfrm>
              <a:off x="4063680" y="648720"/>
              <a:ext cx="1209240" cy="6447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51" h="421">
                  <a:moveTo>
                    <a:pt x="355" y="0"/>
                  </a:moveTo>
                  <a:lnTo>
                    <a:pt x="287" y="7"/>
                  </a:lnTo>
                  <a:lnTo>
                    <a:pt x="220" y="32"/>
                  </a:lnTo>
                  <a:lnTo>
                    <a:pt x="162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98" y="421"/>
                  </a:lnTo>
                  <a:lnTo>
                    <a:pt x="929" y="417"/>
                  </a:lnTo>
                  <a:lnTo>
                    <a:pt x="956" y="410"/>
                  </a:lnTo>
                  <a:lnTo>
                    <a:pt x="1006" y="384"/>
                  </a:lnTo>
                  <a:lnTo>
                    <a:pt x="1037" y="340"/>
                  </a:lnTo>
                  <a:lnTo>
                    <a:pt x="1051" y="292"/>
                  </a:lnTo>
                  <a:lnTo>
                    <a:pt x="1042" y="252"/>
                  </a:lnTo>
                  <a:lnTo>
                    <a:pt x="1019" y="205"/>
                  </a:lnTo>
                  <a:lnTo>
                    <a:pt x="979" y="157"/>
                  </a:lnTo>
                  <a:lnTo>
                    <a:pt x="929" y="109"/>
                  </a:lnTo>
                  <a:lnTo>
                    <a:pt x="875" y="65"/>
                  </a:lnTo>
                  <a:lnTo>
                    <a:pt x="808" y="32"/>
                  </a:lnTo>
                  <a:lnTo>
                    <a:pt x="741" y="7"/>
                  </a:lnTo>
                  <a:lnTo>
                    <a:pt x="673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"/>
            <p:cNvSpPr/>
            <p:nvPr/>
          </p:nvSpPr>
          <p:spPr>
            <a:xfrm>
              <a:off x="4074120" y="648720"/>
              <a:ext cx="1188720" cy="64476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33" h="421">
                  <a:moveTo>
                    <a:pt x="346" y="0"/>
                  </a:moveTo>
                  <a:lnTo>
                    <a:pt x="278" y="7"/>
                  </a:lnTo>
                  <a:lnTo>
                    <a:pt x="215" y="32"/>
                  </a:lnTo>
                  <a:lnTo>
                    <a:pt x="157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80" y="421"/>
                  </a:lnTo>
                  <a:lnTo>
                    <a:pt x="911" y="417"/>
                  </a:lnTo>
                  <a:lnTo>
                    <a:pt x="938" y="410"/>
                  </a:lnTo>
                  <a:lnTo>
                    <a:pt x="988" y="384"/>
                  </a:lnTo>
                  <a:lnTo>
                    <a:pt x="1019" y="340"/>
                  </a:lnTo>
                  <a:lnTo>
                    <a:pt x="1033" y="292"/>
                  </a:lnTo>
                  <a:lnTo>
                    <a:pt x="1024" y="252"/>
                  </a:lnTo>
                  <a:lnTo>
                    <a:pt x="1001" y="205"/>
                  </a:lnTo>
                  <a:lnTo>
                    <a:pt x="961" y="157"/>
                  </a:lnTo>
                  <a:lnTo>
                    <a:pt x="916" y="109"/>
                  </a:lnTo>
                  <a:lnTo>
                    <a:pt x="857" y="65"/>
                  </a:lnTo>
                  <a:lnTo>
                    <a:pt x="795" y="32"/>
                  </a:lnTo>
                  <a:lnTo>
                    <a:pt x="727" y="7"/>
                  </a:lnTo>
                  <a:lnTo>
                    <a:pt x="660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4078440" y="648720"/>
              <a:ext cx="1173600" cy="64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20" h="421">
                  <a:moveTo>
                    <a:pt x="342" y="0"/>
                  </a:moveTo>
                  <a:lnTo>
                    <a:pt x="279" y="7"/>
                  </a:lnTo>
                  <a:lnTo>
                    <a:pt x="216" y="32"/>
                  </a:lnTo>
                  <a:lnTo>
                    <a:pt x="158" y="65"/>
                  </a:lnTo>
                  <a:lnTo>
                    <a:pt x="104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5" y="410"/>
                  </a:lnTo>
                  <a:lnTo>
                    <a:pt x="122" y="417"/>
                  </a:lnTo>
                  <a:lnTo>
                    <a:pt x="153" y="421"/>
                  </a:lnTo>
                  <a:lnTo>
                    <a:pt x="867" y="421"/>
                  </a:lnTo>
                  <a:lnTo>
                    <a:pt x="898" y="417"/>
                  </a:lnTo>
                  <a:lnTo>
                    <a:pt x="925" y="410"/>
                  </a:lnTo>
                  <a:lnTo>
                    <a:pt x="975" y="384"/>
                  </a:lnTo>
                  <a:lnTo>
                    <a:pt x="1006" y="340"/>
                  </a:lnTo>
                  <a:lnTo>
                    <a:pt x="1020" y="292"/>
                  </a:lnTo>
                  <a:lnTo>
                    <a:pt x="1011" y="252"/>
                  </a:lnTo>
                  <a:lnTo>
                    <a:pt x="988" y="205"/>
                  </a:lnTo>
                  <a:lnTo>
                    <a:pt x="948" y="157"/>
                  </a:lnTo>
                  <a:lnTo>
                    <a:pt x="903" y="109"/>
                  </a:lnTo>
                  <a:lnTo>
                    <a:pt x="844" y="65"/>
                  </a:lnTo>
                  <a:lnTo>
                    <a:pt x="782" y="32"/>
                  </a:lnTo>
                  <a:lnTo>
                    <a:pt x="719" y="7"/>
                  </a:lnTo>
                  <a:lnTo>
                    <a:pt x="651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4088880" y="648720"/>
              <a:ext cx="1146960" cy="64476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97" h="421">
                  <a:moveTo>
                    <a:pt x="337" y="0"/>
                  </a:moveTo>
                  <a:lnTo>
                    <a:pt x="274" y="7"/>
                  </a:lnTo>
                  <a:lnTo>
                    <a:pt x="211" y="32"/>
                  </a:lnTo>
                  <a:lnTo>
                    <a:pt x="153" y="65"/>
                  </a:lnTo>
                  <a:lnTo>
                    <a:pt x="104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0" y="410"/>
                  </a:lnTo>
                  <a:lnTo>
                    <a:pt x="117" y="417"/>
                  </a:lnTo>
                  <a:lnTo>
                    <a:pt x="149" y="421"/>
                  </a:lnTo>
                  <a:lnTo>
                    <a:pt x="853" y="421"/>
                  </a:lnTo>
                  <a:lnTo>
                    <a:pt x="885" y="417"/>
                  </a:lnTo>
                  <a:lnTo>
                    <a:pt x="912" y="410"/>
                  </a:lnTo>
                  <a:lnTo>
                    <a:pt x="957" y="384"/>
                  </a:lnTo>
                  <a:lnTo>
                    <a:pt x="988" y="340"/>
                  </a:lnTo>
                  <a:lnTo>
                    <a:pt x="997" y="292"/>
                  </a:lnTo>
                  <a:lnTo>
                    <a:pt x="988" y="252"/>
                  </a:lnTo>
                  <a:lnTo>
                    <a:pt x="966" y="205"/>
                  </a:lnTo>
                  <a:lnTo>
                    <a:pt x="930" y="157"/>
                  </a:lnTo>
                  <a:lnTo>
                    <a:pt x="885" y="109"/>
                  </a:lnTo>
                  <a:lnTo>
                    <a:pt x="831" y="65"/>
                  </a:lnTo>
                  <a:lnTo>
                    <a:pt x="768" y="32"/>
                  </a:lnTo>
                  <a:lnTo>
                    <a:pt x="705" y="7"/>
                  </a:lnTo>
                  <a:lnTo>
                    <a:pt x="642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4099320" y="648720"/>
              <a:ext cx="1126440" cy="644760"/>
            </a:xfrm>
            <a:custGeom>
              <a:avLst/>
              <a:gdLst>
                <a:gd name="textAreaLeft" fmla="*/ 0 w 1126440"/>
                <a:gd name="textAreaRight" fmla="*/ 1126800 w 11264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79" h="421">
                  <a:moveTo>
                    <a:pt x="328" y="0"/>
                  </a:moveTo>
                  <a:lnTo>
                    <a:pt x="265" y="7"/>
                  </a:lnTo>
                  <a:lnTo>
                    <a:pt x="207" y="32"/>
                  </a:lnTo>
                  <a:lnTo>
                    <a:pt x="149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4" y="421"/>
                  </a:lnTo>
                  <a:lnTo>
                    <a:pt x="835" y="421"/>
                  </a:lnTo>
                  <a:lnTo>
                    <a:pt x="889" y="410"/>
                  </a:lnTo>
                  <a:lnTo>
                    <a:pt x="934" y="384"/>
                  </a:lnTo>
                  <a:lnTo>
                    <a:pt x="966" y="340"/>
                  </a:lnTo>
                  <a:lnTo>
                    <a:pt x="979" y="292"/>
                  </a:lnTo>
                  <a:lnTo>
                    <a:pt x="970" y="252"/>
                  </a:lnTo>
                  <a:lnTo>
                    <a:pt x="948" y="205"/>
                  </a:lnTo>
                  <a:lnTo>
                    <a:pt x="912" y="157"/>
                  </a:lnTo>
                  <a:lnTo>
                    <a:pt x="867" y="109"/>
                  </a:lnTo>
                  <a:lnTo>
                    <a:pt x="813" y="65"/>
                  </a:lnTo>
                  <a:lnTo>
                    <a:pt x="755" y="32"/>
                  </a:lnTo>
                  <a:lnTo>
                    <a:pt x="692" y="7"/>
                  </a:lnTo>
                  <a:lnTo>
                    <a:pt x="629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4109760" y="648720"/>
              <a:ext cx="1105920" cy="644760"/>
            </a:xfrm>
            <a:custGeom>
              <a:avLst/>
              <a:gdLst>
                <a:gd name="textAreaLeft" fmla="*/ 0 w 1105920"/>
                <a:gd name="textAreaRight" fmla="*/ 1106280 w 11059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61" h="421">
                  <a:moveTo>
                    <a:pt x="319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0" y="421"/>
                  </a:lnTo>
                  <a:lnTo>
                    <a:pt x="817" y="421"/>
                  </a:lnTo>
                  <a:lnTo>
                    <a:pt x="849" y="417"/>
                  </a:lnTo>
                  <a:lnTo>
                    <a:pt x="876" y="410"/>
                  </a:lnTo>
                  <a:lnTo>
                    <a:pt x="921" y="384"/>
                  </a:lnTo>
                  <a:lnTo>
                    <a:pt x="952" y="340"/>
                  </a:lnTo>
                  <a:lnTo>
                    <a:pt x="961" y="292"/>
                  </a:lnTo>
                  <a:lnTo>
                    <a:pt x="952" y="252"/>
                  </a:lnTo>
                  <a:lnTo>
                    <a:pt x="930" y="205"/>
                  </a:lnTo>
                  <a:lnTo>
                    <a:pt x="894" y="157"/>
                  </a:lnTo>
                  <a:lnTo>
                    <a:pt x="849" y="109"/>
                  </a:lnTo>
                  <a:lnTo>
                    <a:pt x="800" y="65"/>
                  </a:lnTo>
                  <a:lnTo>
                    <a:pt x="741" y="32"/>
                  </a:lnTo>
                  <a:lnTo>
                    <a:pt x="678" y="7"/>
                  </a:lnTo>
                  <a:lnTo>
                    <a:pt x="615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4120200" y="648720"/>
              <a:ext cx="1080360" cy="64476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39" h="421">
                  <a:moveTo>
                    <a:pt x="315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1" y="410"/>
                  </a:lnTo>
                  <a:lnTo>
                    <a:pt x="108" y="417"/>
                  </a:lnTo>
                  <a:lnTo>
                    <a:pt x="135" y="421"/>
                  </a:lnTo>
                  <a:lnTo>
                    <a:pt x="804" y="421"/>
                  </a:lnTo>
                  <a:lnTo>
                    <a:pt x="831" y="417"/>
                  </a:lnTo>
                  <a:lnTo>
                    <a:pt x="858" y="410"/>
                  </a:lnTo>
                  <a:lnTo>
                    <a:pt x="898" y="384"/>
                  </a:lnTo>
                  <a:lnTo>
                    <a:pt x="930" y="340"/>
                  </a:lnTo>
                  <a:lnTo>
                    <a:pt x="939" y="292"/>
                  </a:lnTo>
                  <a:lnTo>
                    <a:pt x="930" y="252"/>
                  </a:lnTo>
                  <a:lnTo>
                    <a:pt x="907" y="205"/>
                  </a:lnTo>
                  <a:lnTo>
                    <a:pt x="876" y="157"/>
                  </a:lnTo>
                  <a:lnTo>
                    <a:pt x="831" y="109"/>
                  </a:lnTo>
                  <a:lnTo>
                    <a:pt x="782" y="65"/>
                  </a:lnTo>
                  <a:lnTo>
                    <a:pt x="723" y="32"/>
                  </a:lnTo>
                  <a:lnTo>
                    <a:pt x="665" y="7"/>
                  </a:lnTo>
                  <a:lnTo>
                    <a:pt x="602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3764160" y="457200"/>
              <a:ext cx="1797480" cy="1020600"/>
            </a:xfrm>
            <a:custGeom>
              <a:avLst/>
              <a:gdLst>
                <a:gd name="textAreaLeft" fmla="*/ 0 w 1797480"/>
                <a:gd name="textAreaRight" fmla="*/ 1797840 w 17974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1562" h="666">
                  <a:moveTo>
                    <a:pt x="601" y="0"/>
                  </a:moveTo>
                  <a:lnTo>
                    <a:pt x="493" y="297"/>
                  </a:lnTo>
                  <a:lnTo>
                    <a:pt x="525" y="527"/>
                  </a:lnTo>
                  <a:lnTo>
                    <a:pt x="49" y="527"/>
                  </a:lnTo>
                  <a:lnTo>
                    <a:pt x="0" y="666"/>
                  </a:lnTo>
                  <a:lnTo>
                    <a:pt x="1562" y="666"/>
                  </a:lnTo>
                  <a:lnTo>
                    <a:pt x="1535" y="527"/>
                  </a:lnTo>
                  <a:lnTo>
                    <a:pt x="1055" y="527"/>
                  </a:lnTo>
                  <a:lnTo>
                    <a:pt x="1086" y="297"/>
                  </a:lnTo>
                  <a:lnTo>
                    <a:pt x="974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4383720" y="490680"/>
              <a:ext cx="594720" cy="4384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517" h="286">
                  <a:moveTo>
                    <a:pt x="0" y="286"/>
                  </a:moveTo>
                  <a:lnTo>
                    <a:pt x="95" y="0"/>
                  </a:lnTo>
                  <a:lnTo>
                    <a:pt x="427" y="4"/>
                  </a:lnTo>
                  <a:lnTo>
                    <a:pt x="517" y="282"/>
                  </a:lnTo>
                  <a:lnTo>
                    <a:pt x="395" y="44"/>
                  </a:lnTo>
                  <a:lnTo>
                    <a:pt x="113" y="4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TextBox 48"/>
          <p:cNvSpPr/>
          <p:nvPr/>
        </p:nvSpPr>
        <p:spPr>
          <a:xfrm>
            <a:off x="3144960" y="31464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NACIONAL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ZA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F6AD-8273-43B2-85E8-882725EE9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872A-13B1-4D6D-93DF-8A0B7704D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Obim odredaba Nacionalnog zako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0378-C835-4636-8323-8CB378BD3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11080"/>
            <a:ext cx="82915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vi deo - Nacionalno materijalno zakonodavstvo o visokotehnološkom krimin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rugi deo - Procesne odredbe prema nacionalnom zako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eti deo - Rekapitul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A5BD-FC1A-47A4-BB79-F10A023E7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itna zaštita sačuvanih računarskih poda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8505-5207-43FC-AC8B-417A14E97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itna zaštita i delimično otkrivanje podataka o saobraća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1DD0-66AC-4113-BADB-C90A90727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zdavanje nared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5FBE-E21D-4551-8DD1-2742BE7AF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retraživanje i zaplena sačuvanih računarskih poda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DBCA-D9A1-4EEA-BC8E-76F62D980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rikupljanje podataka o saobraćaju u realnom vre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CB89-CF75-4D1A-95BD-E9A6849FA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esretanje podataka iz sadrža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C312-0467-4183-8A82-56095651A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Uslovi i ograniče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5A53-53D5-46A4-9FFF-62B503E6B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43BE-7A86-44EA-82C0-E7F59BC2F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Treći deo</a:t>
            </a:r>
            <a:br>
              <a:rPr sz="40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2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2746-9280-4FEE-9948-7C4324643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6840" y="1235160"/>
            <a:ext cx="821844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o kraja lekcije delegati će moći d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te neke od ključnih faktora koji se koriste za opisivanje zločina, na osnovu postojećeg nacionalnog zak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12B2-9254-4E9B-AA43-595E5C759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6980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Do kraja lekcije delegati će moći da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te neke od ključnih faktora koji se koriste za opisivanje zločina, na osnovu postojećeg nacionalnog zako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D641-2761-45A5-B647-A29FCF9EC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EB87-FA5A-4D79-B86E-C6BCFD5F8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680" y="324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5986-29F0-47EE-8B2D-97EE160BE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vi deo</a:t>
            </a:r>
            <a:br>
              <a:rPr sz="4000"/>
            </a:b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Nacionalno materijalno krivično pra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E35C-FCDA-41F0-8E7B-A76941364A0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67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6"/>
            <p:cNvSpPr/>
            <p:nvPr/>
          </p:nvSpPr>
          <p:spPr>
            <a:xfrm>
              <a:off x="2921760" y="872640"/>
              <a:ext cx="3506760" cy="181800"/>
            </a:xfrm>
            <a:custGeom>
              <a:avLst/>
              <a:gdLst>
                <a:gd name="textAreaLeft" fmla="*/ 0 w 3506760"/>
                <a:gd name="textAreaRight" fmla="*/ 3507120 w 35067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3048" h="124">
                  <a:moveTo>
                    <a:pt x="0" y="124"/>
                  </a:moveTo>
                  <a:lnTo>
                    <a:pt x="13" y="77"/>
                  </a:lnTo>
                  <a:lnTo>
                    <a:pt x="45" y="37"/>
                  </a:lnTo>
                  <a:lnTo>
                    <a:pt x="94" y="11"/>
                  </a:lnTo>
                  <a:lnTo>
                    <a:pt x="152" y="0"/>
                  </a:lnTo>
                  <a:lnTo>
                    <a:pt x="2896" y="0"/>
                  </a:lnTo>
                  <a:lnTo>
                    <a:pt x="2954" y="11"/>
                  </a:lnTo>
                  <a:lnTo>
                    <a:pt x="3003" y="37"/>
                  </a:lnTo>
                  <a:lnTo>
                    <a:pt x="3035" y="77"/>
                  </a:lnTo>
                  <a:lnTo>
                    <a:pt x="3048" y="124"/>
                  </a:lnTo>
                  <a:lnTo>
                    <a:pt x="2913" y="62"/>
                  </a:lnTo>
                  <a:lnTo>
                    <a:pt x="112" y="62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8"/>
            <p:cNvSpPr/>
            <p:nvPr/>
          </p:nvSpPr>
          <p:spPr>
            <a:xfrm>
              <a:off x="4053240" y="648720"/>
              <a:ext cx="1234800" cy="644760"/>
            </a:xfrm>
            <a:custGeom>
              <a:avLst/>
              <a:gdLst>
                <a:gd name="textAreaLeft" fmla="*/ 0 w 1234800"/>
                <a:gd name="textAreaRight" fmla="*/ 1235160 w 12348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73" h="421">
                  <a:moveTo>
                    <a:pt x="359" y="0"/>
                  </a:moveTo>
                  <a:lnTo>
                    <a:pt x="292" y="7"/>
                  </a:lnTo>
                  <a:lnTo>
                    <a:pt x="224" y="32"/>
                  </a:lnTo>
                  <a:lnTo>
                    <a:pt x="166" y="65"/>
                  </a:lnTo>
                  <a:lnTo>
                    <a:pt x="112" y="109"/>
                  </a:lnTo>
                  <a:lnTo>
                    <a:pt x="67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6" y="417"/>
                  </a:lnTo>
                  <a:lnTo>
                    <a:pt x="157" y="421"/>
                  </a:lnTo>
                  <a:lnTo>
                    <a:pt x="916" y="421"/>
                  </a:lnTo>
                  <a:lnTo>
                    <a:pt x="947" y="417"/>
                  </a:lnTo>
                  <a:lnTo>
                    <a:pt x="974" y="410"/>
                  </a:lnTo>
                  <a:lnTo>
                    <a:pt x="1028" y="384"/>
                  </a:lnTo>
                  <a:lnTo>
                    <a:pt x="1060" y="340"/>
                  </a:lnTo>
                  <a:lnTo>
                    <a:pt x="1068" y="318"/>
                  </a:lnTo>
                  <a:lnTo>
                    <a:pt x="1073" y="292"/>
                  </a:lnTo>
                  <a:lnTo>
                    <a:pt x="1064" y="252"/>
                  </a:lnTo>
                  <a:lnTo>
                    <a:pt x="1037" y="205"/>
                  </a:lnTo>
                  <a:lnTo>
                    <a:pt x="1001" y="157"/>
                  </a:lnTo>
                  <a:lnTo>
                    <a:pt x="947" y="109"/>
                  </a:lnTo>
                  <a:lnTo>
                    <a:pt x="889" y="65"/>
                  </a:lnTo>
                  <a:lnTo>
                    <a:pt x="826" y="32"/>
                  </a:lnTo>
                  <a:lnTo>
                    <a:pt x="754" y="7"/>
                  </a:lnTo>
                  <a:lnTo>
                    <a:pt x="687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9"/>
            <p:cNvSpPr/>
            <p:nvPr/>
          </p:nvSpPr>
          <p:spPr>
            <a:xfrm>
              <a:off x="4063680" y="648720"/>
              <a:ext cx="1209240" cy="6447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51" h="421">
                  <a:moveTo>
                    <a:pt x="355" y="0"/>
                  </a:moveTo>
                  <a:lnTo>
                    <a:pt x="287" y="7"/>
                  </a:lnTo>
                  <a:lnTo>
                    <a:pt x="220" y="32"/>
                  </a:lnTo>
                  <a:lnTo>
                    <a:pt x="162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98" y="421"/>
                  </a:lnTo>
                  <a:lnTo>
                    <a:pt x="929" y="417"/>
                  </a:lnTo>
                  <a:lnTo>
                    <a:pt x="956" y="410"/>
                  </a:lnTo>
                  <a:lnTo>
                    <a:pt x="1006" y="384"/>
                  </a:lnTo>
                  <a:lnTo>
                    <a:pt x="1037" y="340"/>
                  </a:lnTo>
                  <a:lnTo>
                    <a:pt x="1051" y="292"/>
                  </a:lnTo>
                  <a:lnTo>
                    <a:pt x="1042" y="252"/>
                  </a:lnTo>
                  <a:lnTo>
                    <a:pt x="1019" y="205"/>
                  </a:lnTo>
                  <a:lnTo>
                    <a:pt x="979" y="157"/>
                  </a:lnTo>
                  <a:lnTo>
                    <a:pt x="929" y="109"/>
                  </a:lnTo>
                  <a:lnTo>
                    <a:pt x="875" y="65"/>
                  </a:lnTo>
                  <a:lnTo>
                    <a:pt x="808" y="32"/>
                  </a:lnTo>
                  <a:lnTo>
                    <a:pt x="741" y="7"/>
                  </a:lnTo>
                  <a:lnTo>
                    <a:pt x="673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0"/>
            <p:cNvSpPr/>
            <p:nvPr/>
          </p:nvSpPr>
          <p:spPr>
            <a:xfrm>
              <a:off x="4074120" y="648720"/>
              <a:ext cx="1188720" cy="64476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33" h="421">
                  <a:moveTo>
                    <a:pt x="346" y="0"/>
                  </a:moveTo>
                  <a:lnTo>
                    <a:pt x="278" y="7"/>
                  </a:lnTo>
                  <a:lnTo>
                    <a:pt x="215" y="32"/>
                  </a:lnTo>
                  <a:lnTo>
                    <a:pt x="157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80" y="421"/>
                  </a:lnTo>
                  <a:lnTo>
                    <a:pt x="911" y="417"/>
                  </a:lnTo>
                  <a:lnTo>
                    <a:pt x="938" y="410"/>
                  </a:lnTo>
                  <a:lnTo>
                    <a:pt x="988" y="384"/>
                  </a:lnTo>
                  <a:lnTo>
                    <a:pt x="1019" y="340"/>
                  </a:lnTo>
                  <a:lnTo>
                    <a:pt x="1033" y="292"/>
                  </a:lnTo>
                  <a:lnTo>
                    <a:pt x="1024" y="252"/>
                  </a:lnTo>
                  <a:lnTo>
                    <a:pt x="1001" y="205"/>
                  </a:lnTo>
                  <a:lnTo>
                    <a:pt x="961" y="157"/>
                  </a:lnTo>
                  <a:lnTo>
                    <a:pt x="916" y="109"/>
                  </a:lnTo>
                  <a:lnTo>
                    <a:pt x="857" y="65"/>
                  </a:lnTo>
                  <a:lnTo>
                    <a:pt x="795" y="32"/>
                  </a:lnTo>
                  <a:lnTo>
                    <a:pt x="727" y="7"/>
                  </a:lnTo>
                  <a:lnTo>
                    <a:pt x="660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1"/>
            <p:cNvSpPr/>
            <p:nvPr/>
          </p:nvSpPr>
          <p:spPr>
            <a:xfrm>
              <a:off x="4078440" y="648720"/>
              <a:ext cx="1173600" cy="64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20" h="421">
                  <a:moveTo>
                    <a:pt x="342" y="0"/>
                  </a:moveTo>
                  <a:lnTo>
                    <a:pt x="279" y="7"/>
                  </a:lnTo>
                  <a:lnTo>
                    <a:pt x="216" y="32"/>
                  </a:lnTo>
                  <a:lnTo>
                    <a:pt x="158" y="65"/>
                  </a:lnTo>
                  <a:lnTo>
                    <a:pt x="104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5" y="410"/>
                  </a:lnTo>
                  <a:lnTo>
                    <a:pt x="122" y="417"/>
                  </a:lnTo>
                  <a:lnTo>
                    <a:pt x="153" y="421"/>
                  </a:lnTo>
                  <a:lnTo>
                    <a:pt x="867" y="421"/>
                  </a:lnTo>
                  <a:lnTo>
                    <a:pt x="898" y="417"/>
                  </a:lnTo>
                  <a:lnTo>
                    <a:pt x="925" y="410"/>
                  </a:lnTo>
                  <a:lnTo>
                    <a:pt x="975" y="384"/>
                  </a:lnTo>
                  <a:lnTo>
                    <a:pt x="1006" y="340"/>
                  </a:lnTo>
                  <a:lnTo>
                    <a:pt x="1020" y="292"/>
                  </a:lnTo>
                  <a:lnTo>
                    <a:pt x="1011" y="252"/>
                  </a:lnTo>
                  <a:lnTo>
                    <a:pt x="988" y="205"/>
                  </a:lnTo>
                  <a:lnTo>
                    <a:pt x="948" y="157"/>
                  </a:lnTo>
                  <a:lnTo>
                    <a:pt x="903" y="109"/>
                  </a:lnTo>
                  <a:lnTo>
                    <a:pt x="844" y="65"/>
                  </a:lnTo>
                  <a:lnTo>
                    <a:pt x="782" y="32"/>
                  </a:lnTo>
                  <a:lnTo>
                    <a:pt x="719" y="7"/>
                  </a:lnTo>
                  <a:lnTo>
                    <a:pt x="651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"/>
            <p:cNvSpPr/>
            <p:nvPr/>
          </p:nvSpPr>
          <p:spPr>
            <a:xfrm>
              <a:off x="4088880" y="648720"/>
              <a:ext cx="1146960" cy="64476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97" h="421">
                  <a:moveTo>
                    <a:pt x="337" y="0"/>
                  </a:moveTo>
                  <a:lnTo>
                    <a:pt x="274" y="7"/>
                  </a:lnTo>
                  <a:lnTo>
                    <a:pt x="211" y="32"/>
                  </a:lnTo>
                  <a:lnTo>
                    <a:pt x="153" y="65"/>
                  </a:lnTo>
                  <a:lnTo>
                    <a:pt x="104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0" y="410"/>
                  </a:lnTo>
                  <a:lnTo>
                    <a:pt x="117" y="417"/>
                  </a:lnTo>
                  <a:lnTo>
                    <a:pt x="149" y="421"/>
                  </a:lnTo>
                  <a:lnTo>
                    <a:pt x="853" y="421"/>
                  </a:lnTo>
                  <a:lnTo>
                    <a:pt x="885" y="417"/>
                  </a:lnTo>
                  <a:lnTo>
                    <a:pt x="912" y="410"/>
                  </a:lnTo>
                  <a:lnTo>
                    <a:pt x="957" y="384"/>
                  </a:lnTo>
                  <a:lnTo>
                    <a:pt x="988" y="340"/>
                  </a:lnTo>
                  <a:lnTo>
                    <a:pt x="997" y="292"/>
                  </a:lnTo>
                  <a:lnTo>
                    <a:pt x="988" y="252"/>
                  </a:lnTo>
                  <a:lnTo>
                    <a:pt x="966" y="205"/>
                  </a:lnTo>
                  <a:lnTo>
                    <a:pt x="930" y="157"/>
                  </a:lnTo>
                  <a:lnTo>
                    <a:pt x="885" y="109"/>
                  </a:lnTo>
                  <a:lnTo>
                    <a:pt x="831" y="65"/>
                  </a:lnTo>
                  <a:lnTo>
                    <a:pt x="768" y="32"/>
                  </a:lnTo>
                  <a:lnTo>
                    <a:pt x="705" y="7"/>
                  </a:lnTo>
                  <a:lnTo>
                    <a:pt x="642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3"/>
            <p:cNvSpPr/>
            <p:nvPr/>
          </p:nvSpPr>
          <p:spPr>
            <a:xfrm>
              <a:off x="4099320" y="648720"/>
              <a:ext cx="1126440" cy="644760"/>
            </a:xfrm>
            <a:custGeom>
              <a:avLst/>
              <a:gdLst>
                <a:gd name="textAreaLeft" fmla="*/ 0 w 1126440"/>
                <a:gd name="textAreaRight" fmla="*/ 1126800 w 11264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79" h="421">
                  <a:moveTo>
                    <a:pt x="328" y="0"/>
                  </a:moveTo>
                  <a:lnTo>
                    <a:pt x="265" y="7"/>
                  </a:lnTo>
                  <a:lnTo>
                    <a:pt x="207" y="32"/>
                  </a:lnTo>
                  <a:lnTo>
                    <a:pt x="149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4" y="421"/>
                  </a:lnTo>
                  <a:lnTo>
                    <a:pt x="835" y="421"/>
                  </a:lnTo>
                  <a:lnTo>
                    <a:pt x="889" y="410"/>
                  </a:lnTo>
                  <a:lnTo>
                    <a:pt x="934" y="384"/>
                  </a:lnTo>
                  <a:lnTo>
                    <a:pt x="966" y="340"/>
                  </a:lnTo>
                  <a:lnTo>
                    <a:pt x="979" y="292"/>
                  </a:lnTo>
                  <a:lnTo>
                    <a:pt x="970" y="252"/>
                  </a:lnTo>
                  <a:lnTo>
                    <a:pt x="948" y="205"/>
                  </a:lnTo>
                  <a:lnTo>
                    <a:pt x="912" y="157"/>
                  </a:lnTo>
                  <a:lnTo>
                    <a:pt x="867" y="109"/>
                  </a:lnTo>
                  <a:lnTo>
                    <a:pt x="813" y="65"/>
                  </a:lnTo>
                  <a:lnTo>
                    <a:pt x="755" y="32"/>
                  </a:lnTo>
                  <a:lnTo>
                    <a:pt x="692" y="7"/>
                  </a:lnTo>
                  <a:lnTo>
                    <a:pt x="629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4"/>
            <p:cNvSpPr/>
            <p:nvPr/>
          </p:nvSpPr>
          <p:spPr>
            <a:xfrm>
              <a:off x="4109760" y="648720"/>
              <a:ext cx="1105920" cy="644760"/>
            </a:xfrm>
            <a:custGeom>
              <a:avLst/>
              <a:gdLst>
                <a:gd name="textAreaLeft" fmla="*/ 0 w 1105920"/>
                <a:gd name="textAreaRight" fmla="*/ 1106280 w 11059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61" h="421">
                  <a:moveTo>
                    <a:pt x="319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0" y="421"/>
                  </a:lnTo>
                  <a:lnTo>
                    <a:pt x="817" y="421"/>
                  </a:lnTo>
                  <a:lnTo>
                    <a:pt x="849" y="417"/>
                  </a:lnTo>
                  <a:lnTo>
                    <a:pt x="876" y="410"/>
                  </a:lnTo>
                  <a:lnTo>
                    <a:pt x="921" y="384"/>
                  </a:lnTo>
                  <a:lnTo>
                    <a:pt x="952" y="340"/>
                  </a:lnTo>
                  <a:lnTo>
                    <a:pt x="961" y="292"/>
                  </a:lnTo>
                  <a:lnTo>
                    <a:pt x="952" y="252"/>
                  </a:lnTo>
                  <a:lnTo>
                    <a:pt x="930" y="205"/>
                  </a:lnTo>
                  <a:lnTo>
                    <a:pt x="894" y="157"/>
                  </a:lnTo>
                  <a:lnTo>
                    <a:pt x="849" y="109"/>
                  </a:lnTo>
                  <a:lnTo>
                    <a:pt x="800" y="65"/>
                  </a:lnTo>
                  <a:lnTo>
                    <a:pt x="741" y="32"/>
                  </a:lnTo>
                  <a:lnTo>
                    <a:pt x="678" y="7"/>
                  </a:lnTo>
                  <a:lnTo>
                    <a:pt x="615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5"/>
            <p:cNvSpPr/>
            <p:nvPr/>
          </p:nvSpPr>
          <p:spPr>
            <a:xfrm>
              <a:off x="4120200" y="648720"/>
              <a:ext cx="1080360" cy="64476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39" h="421">
                  <a:moveTo>
                    <a:pt x="315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1" y="410"/>
                  </a:lnTo>
                  <a:lnTo>
                    <a:pt x="108" y="417"/>
                  </a:lnTo>
                  <a:lnTo>
                    <a:pt x="135" y="421"/>
                  </a:lnTo>
                  <a:lnTo>
                    <a:pt x="804" y="421"/>
                  </a:lnTo>
                  <a:lnTo>
                    <a:pt x="831" y="417"/>
                  </a:lnTo>
                  <a:lnTo>
                    <a:pt x="858" y="410"/>
                  </a:lnTo>
                  <a:lnTo>
                    <a:pt x="898" y="384"/>
                  </a:lnTo>
                  <a:lnTo>
                    <a:pt x="930" y="340"/>
                  </a:lnTo>
                  <a:lnTo>
                    <a:pt x="939" y="292"/>
                  </a:lnTo>
                  <a:lnTo>
                    <a:pt x="930" y="252"/>
                  </a:lnTo>
                  <a:lnTo>
                    <a:pt x="907" y="205"/>
                  </a:lnTo>
                  <a:lnTo>
                    <a:pt x="876" y="157"/>
                  </a:lnTo>
                  <a:lnTo>
                    <a:pt x="831" y="109"/>
                  </a:lnTo>
                  <a:lnTo>
                    <a:pt x="782" y="65"/>
                  </a:lnTo>
                  <a:lnTo>
                    <a:pt x="723" y="32"/>
                  </a:lnTo>
                  <a:lnTo>
                    <a:pt x="665" y="7"/>
                  </a:lnTo>
                  <a:lnTo>
                    <a:pt x="602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32"/>
            <p:cNvSpPr/>
            <p:nvPr/>
          </p:nvSpPr>
          <p:spPr>
            <a:xfrm>
              <a:off x="3764160" y="457200"/>
              <a:ext cx="1797480" cy="1020600"/>
            </a:xfrm>
            <a:custGeom>
              <a:avLst/>
              <a:gdLst>
                <a:gd name="textAreaLeft" fmla="*/ 0 w 1797480"/>
                <a:gd name="textAreaRight" fmla="*/ 1797840 w 17974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1562" h="666">
                  <a:moveTo>
                    <a:pt x="601" y="0"/>
                  </a:moveTo>
                  <a:lnTo>
                    <a:pt x="493" y="297"/>
                  </a:lnTo>
                  <a:lnTo>
                    <a:pt x="525" y="527"/>
                  </a:lnTo>
                  <a:lnTo>
                    <a:pt x="49" y="527"/>
                  </a:lnTo>
                  <a:lnTo>
                    <a:pt x="0" y="666"/>
                  </a:lnTo>
                  <a:lnTo>
                    <a:pt x="1562" y="666"/>
                  </a:lnTo>
                  <a:lnTo>
                    <a:pt x="1535" y="527"/>
                  </a:lnTo>
                  <a:lnTo>
                    <a:pt x="1055" y="527"/>
                  </a:lnTo>
                  <a:lnTo>
                    <a:pt x="1086" y="297"/>
                  </a:lnTo>
                  <a:lnTo>
                    <a:pt x="974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4"/>
            <p:cNvSpPr/>
            <p:nvPr/>
          </p:nvSpPr>
          <p:spPr>
            <a:xfrm>
              <a:off x="4383720" y="490680"/>
              <a:ext cx="594720" cy="4384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517" h="286">
                  <a:moveTo>
                    <a:pt x="0" y="286"/>
                  </a:moveTo>
                  <a:lnTo>
                    <a:pt x="95" y="0"/>
                  </a:lnTo>
                  <a:lnTo>
                    <a:pt x="427" y="4"/>
                  </a:lnTo>
                  <a:lnTo>
                    <a:pt x="517" y="282"/>
                  </a:lnTo>
                  <a:lnTo>
                    <a:pt x="395" y="44"/>
                  </a:lnTo>
                  <a:lnTo>
                    <a:pt x="113" y="4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48"/>
          <p:cNvSpPr/>
          <p:nvPr/>
        </p:nvSpPr>
        <p:spPr>
          <a:xfrm>
            <a:off x="3144960" y="31464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NACIONAL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ZA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256B-0293-46AF-8E84-648E35CABF7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E2E5-A8F1-4F08-8D9F-C6B62586FB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Nezakonit pris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3FE7-2305-4C6E-BCF6-6F05F8D30E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Nezakonito presret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073C-D8C5-4964-AFB3-30E01AD5C0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Ometanje podat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7563-2870-443F-A56D-0E2636C72E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13T13:26:16Z</dcterms:created>
  <dc:creator>LUCCHETTI Matteo</dc:creator>
  <dc:description/>
  <dc:language>en-US</dc:language>
  <cp:lastModifiedBy>Aleksandra</cp:lastModifiedBy>
  <dcterms:modified xsi:type="dcterms:W3CDTF">2017-10-10T12:31:07Z</dcterms:modified>
  <cp:revision>14</cp:revision>
  <dc:subject/>
  <dc:title>Introductory Cybercrime Training for Judges and Prosecutors</dc:title>
</cp:coreProperties>
</file>