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6B94-AC5C-4D02-A8CB-718EEEF65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3255840" y="504720"/>
            <a:ext cx="3362400" cy="2521080"/>
          </a:xfrm>
          <a:prstGeom prst="rect">
            <a:avLst/>
          </a:prstGeom>
          <a:ln w="0">
            <a:noFill/>
          </a:ln>
        </p:spPr>
      </p:sp>
      <p:sp>
        <p:nvSpPr>
          <p:cNvPr id="9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213-E1B6-47E7-84A9-85910A956C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55535-D00D-44FB-8AF9-BCA64690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C20E-3B3A-49C9-9BAD-79C8F570B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8C097-67A9-4B14-9570-585D8562C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561AC-D2F1-48D9-8AFC-40F3C0C60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48B7A-B5B2-4DF7-B95E-57D678680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16414-8B80-46EE-9525-FF44610A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8F699-6781-46B9-95F9-6AE1C222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BD113-55E9-47C6-A161-7C34C2BD4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620C-43DF-45FD-B779-7585C08E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190E-6D49-4E59-960E-16325035D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FEF2-B5E4-47E0-8AC9-B6CCA546A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ECF92-F731-4D85-A8DC-247073188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62FD-BEAD-4285-B450-073C77A7640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a:t>
            </a:r>
            <a:r>
              <a:rPr b="0" lang="sl-SI" sz="3200" spc="-1" strike="noStrike">
                <a:solidFill>
                  <a:srgbClr val="898989"/>
                </a:solidFill>
                <a:latin typeface="Calibri"/>
              </a:rPr>
              <a:t>2</a:t>
            </a:r>
            <a:r>
              <a:rPr b="0" lang="en-US" sz="3200" spc="-1" strike="noStrike">
                <a:solidFill>
                  <a:srgbClr val="898989"/>
                </a:solidFill>
                <a:latin typeface="Calibri"/>
              </a:rPr>
              <a:t>.</a:t>
            </a:r>
            <a:r>
              <a:rPr b="0" lang="sl-SI" sz="3200" spc="-1" strike="noStrike">
                <a:solidFill>
                  <a:srgbClr val="898989"/>
                </a:solidFill>
                <a:latin typeface="Calibri"/>
              </a:rPr>
              <a:t>5</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r>
              <a:rPr b="1" lang="sl-SI"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9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delays</a:t>
                      </a:r>
                      <a:r>
                        <a:rPr b="0" lang="sl-SI" sz="1800" spc="-1" strike="noStrike">
                          <a:solidFill>
                            <a:srgbClr val="ff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41Z</dcterms:modified>
  <cp:revision>409</cp:revision>
  <dc:subject/>
  <dc:title>PowerPoint Presentation</dc:title>
</cp:coreProperties>
</file>