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887B-D4E0-40FD-8DD6-A934FAA23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6F53-D8BB-4464-AF34-11415983C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26D4-7E7B-4850-8C1B-A74783F70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63B-6C1E-4AB3-A3D1-E11A82B144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780-0F78-482B-B242-0F3474DCF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423B-1D35-489F-8247-CC8FEA73C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2E16-49B6-43EA-976B-3AAB591C4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D3D-3D2A-41EB-8C42-1E7FE4A50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B37D-AF43-4388-9E82-DC05A9D88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53D-735B-445F-B192-CE41904995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229C-48E1-4C16-88D6-844637A75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CB81-AC57-476A-B4BF-7371BB658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BB9F-24D4-4177-8876-CB0D03CC4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5F30-3BA2-4E44-BF15-18F42DCF0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3BC-683E-4C47-B79D-2B67DF0BD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4359-119C-434B-B5C0-E5E5922C0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311-529D-4DA4-AC82-89C8866A4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2E1-D990-4B10-B1F9-D1B1B58E5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AC6-9122-4A05-903A-4320A0E1E9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BFF-D475-4FD8-A56A-4F3D02AA5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B5F-6EE0-4918-B1CE-EFD8AAD12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383-2FCB-4D9B-AD15-32801EBE0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06CF-2EF8-480E-923C-BF69CC4C5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36D-5048-4455-B7EF-690C9A0F4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A9A-BEA0-4FC2-9C2D-D8C6A8AE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541-0F15-48D9-9DF9-F7E05D7B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E5C-1D34-4F00-B9AF-1DAB4791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403-5A4A-4529-A07C-48E00BD0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FD1-6CE5-4F66-B009-1CE0D5F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FA1-46A3-4274-9A32-AAE5EE4F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CBF-7EC5-4E21-87D0-044CADB1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4D6-83A0-40F0-994C-A71671C6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DAA-967F-4A36-9595-22F2CCC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69-A305-4087-9F36-1CF96D7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F8C-34E1-45E7-80D2-44D77C8A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D09-C675-45E2-BDAE-092B81B9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A68B-FCF1-4725-B6EA-9D462ACDDB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24T05:14:53Z</dcterms:modified>
  <cp:revision>344</cp:revision>
  <dc:subject/>
  <dc:title>PowerPoint Presentation</dc:title>
</cp:coreProperties>
</file>