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D232-6876-4EC7-9819-EE52AF6F3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38E6-47B7-4204-BC39-30E780FA7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6190-AA91-412C-AF74-CD6AD4B06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360B-73D9-47E7-917B-CE71359DC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47CD-ED2C-4D39-A024-5502BBFD4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E8F5-C23D-40D6-9B91-FE13C1B1E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A032-7477-47BF-989F-D7C06A91C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E97E-D9F4-4EE3-A6BF-83198AB0E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89CC-88B1-4395-ABB6-A89999671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759A-4370-4E2A-AB03-7DF2D093B1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D69-02CD-48E9-BCCB-807502F84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B174-21CE-4B97-A366-8BFD1D8A4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6659-D53D-47C8-9BAD-C2DD3C086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D7C0-A71C-470C-9D62-5D5668700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4617-7BF7-4F6D-ABD4-EAE3289CC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A4E0-26F7-476A-8815-84BEEE6C68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C356-3956-41A1-931D-923E21FF3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1834-D70C-40F9-8683-D24595A84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66ED-0948-4F60-851A-1CBAC31EC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6B14-2891-4EFC-94DA-F1FDEA294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183C-0E8C-4541-B239-323B2603F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C715-3AC4-497F-B879-745A37F97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5CDA-23BC-472E-8375-F04F4D058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265C-8EC2-4F7C-AEE8-0882F1E4B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C45B-94EE-47F9-82CB-39D738CBF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D900-AC8E-4066-9270-AB93946AA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0AF7-DFA1-4DCB-8764-F6DABC351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D7E2-650B-448C-B43A-B49C93F31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B0B-005B-4D41-A275-D5950285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D15-9C5B-437C-9A61-E5858240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5A7-CCDD-4F39-9C5D-6EC0FA3C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604-46BF-41A0-B718-1FE86B1F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CEF-A358-436B-BF25-0EC0F445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47E-B96D-4A60-B04D-EFF000B5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AA6-61ED-45B5-AC88-6B42B658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0EF-400B-4A88-B00B-E0E50578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F7E-E633-4EFB-967C-E92B28FE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880-32BC-464A-9E19-BA1E3337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2F2-6565-4A7B-9FCB-8FE31DEE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392-AA7B-42C0-AF81-34A237CC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EF43-3275-4CEA-B451-2438503D58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20:16:34Z</dcterms:modified>
  <cp:revision>341</cp:revision>
  <dc:subject/>
  <dc:title>PowerPoint Presentation</dc:title>
</cp:coreProperties>
</file>