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5060-560C-4B12-AF43-4A8F9E5CE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4E89-3FA5-4AD5-9FEF-414735D54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1CF4-15E4-44CF-8D87-E605B10A9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3970-D2D4-4981-B83B-C28FA395B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9087-DD9E-4B98-9079-58D5C1768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9ED1-2F75-4BD7-93DF-68981F0FC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286C-650F-46BE-9B85-0CC43E5B4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A1FF-BB96-4C70-B604-700429EA2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B878-6F75-4A16-B0C3-A233B30CC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241D-7B8C-4A4B-BE9B-FE647ED6D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2E5B-D9B0-4827-A9A8-4DC7E5678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97D2-CB7B-4426-AAF5-F4CF56314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968F-1421-4458-9571-96940ED8E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0C0F-221D-49C3-BD16-A76A0C30C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6343-A6E2-46B4-AC93-DD8BBF999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9A24-D412-4B88-826E-675E1B6A8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6B2B-3978-4C0D-910A-9CEAB5385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9A81-AFAA-4EDC-8149-9CD6C740B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C926-7566-4E93-BDD5-CD56A2111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0A35-9B51-44EA-BEBE-B091D624C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9EAF-05C8-4883-8BE0-C075DE41E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D72D-550F-46D1-B62D-982676146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BEDF-CE3E-4EF3-B8D0-04EAAF84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41C6-0257-4457-BF3C-4D501846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A082-5BE5-4C06-B22A-F7C85B27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9E0-2AAE-4CAA-B13F-06574E74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9901-4A52-4AC8-BCF3-1935FA0C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06A-C86C-4E2B-9115-CA7312BB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608D-13FC-40F6-9FC9-8DA6558C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B0BD-DC1B-443F-B72A-9CC1794F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77C-BE5A-4F19-A462-B3380EDE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778E-AC01-4134-AA6E-485B6C77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52B-30FB-4342-AE11-EAABCDEE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0DB-36E8-4495-8795-11864BF2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88EB-46A9-4B76-B2B5-8FF3CF325BD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2.3/Hour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ire transfer, Takeover/opening of bank accou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al Bank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bercriminals continue to rely on traditional banking ser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obviously particularly relevant in cases that involve extracting money from victim’s bank accou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al Bank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ithin the traditional banking sector, what techniques can be used to obfuscate the sources of funds extracted from a victim’s bank accou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re Transf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Victim bank accounts are compromised through various cybercrime techniques (e.g. phishing, malware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w beneficiaries are added to the victim’s bank account and funds are transferred to mule accoun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nds are withdrawn in cash or transferred to other destin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fers are made in small amounts to avoid reporting threshol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plex structures of meaningless transfers to mule accounts are used to obfuscate the source of fun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er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controls do financial institutions use to prevent the misuse of customer’s compromised online banking credenti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Wire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wire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Wire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wire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hallenges does cash present for cybercrimin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h Withdrawal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some instances of cybercrime, such as payment card-related crime, crime proceeds are immediately withdrawn in cas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other instances, crime proceeds from other types of crime are transferred to mule accounts, from which they are withdraw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sh it typically re-introduced to the financial system through a variety of techniques such a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chase of pre-paid cards of various types (e.g. store credit, mobile phone credi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e of money mules or compromised bank accou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 Transfers, Takeover/Opening of Bank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Cash Withdraw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cash withdraw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Cash Withdraw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cash withdraw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 Internet Payment Servi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ayment Service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iminally obtained funds are transferred to an Internet Payment Service accou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o op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ternet Payment Service offers services similar to an online bank account, in which case typologies similar to “wire transfer/bank account creation or takover” are us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unds held with the Internet Payment Service are used to purchase products and services on the Interne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et Payment Serv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Internet payment serv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an Internet payment service provi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3085200" y="450072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remittance provid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remittance provid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is the problem with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ttance Provid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s (both knowingly and without knowledge) are recruited as mules to the laundering scheme, often via “work at home” job off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e proceeds are transferred to the bank accounts of the mu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ule withdraws the cash and transfers the cash by wire transfer to a specific beneficiar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ule retains a payment as commission for performing this servic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ers are usually of an amount lower than the reporting threshold, to avoid detec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ittance providers are used again to move the cash to its final destin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icit Provid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s have been identified where extensive use of particular remittance providers has raised concerns about possible collusion or infiltration of such busin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Remittance Provi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Remittance Provi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4-14T18:32:41Z</dcterms:modified>
  <cp:revision>311</cp:revision>
  <dc:subject/>
  <dc:title>PowerPoint Presentation</dc:title>
</cp:coreProperties>
</file>