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7918-C131-442D-AD2F-EEBF07DD5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053B-7826-403E-BDAC-85198973B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1A8B-4935-43F7-9E54-B73E773BD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BF1A-B835-4218-8D74-BCFCFED5E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F1F2-5BBA-4CA2-A804-75ABEF603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182F-9187-4DBB-890E-99C25B2C7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B4C8-D04B-4C9F-AC78-B65EAED7A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088-0B66-4ED3-B185-1D0ACEF4C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AC85-A15B-4087-B14F-D216C8417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5859-88C0-4133-9D65-82DE0965D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1F53-BDCC-4FF0-B5CC-D447161B3A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FAE-466E-4ED2-A00B-A31F9C00C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E5CA-DB76-45FE-94B7-4605F56B36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6CA0-A51C-43CD-B12B-8C67B19D7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814-0F98-4C29-8672-E8E3996D6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C401-CFD0-4585-9AD8-0F03C6692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9537-1F4F-4630-9878-6BDE19A9E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42B5-F705-41C7-A9AB-5142EBF61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21E1-BD51-4D5F-BD6F-A7F3726F0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95B6-BFF9-4F89-BA69-A5C4D13EC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FDFE-F5A6-4B80-AE34-1E7845858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6574-578E-4750-A5DF-BEF3FFE05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5773-6937-45F2-B3AE-CB8011D14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4FAE-B2B8-4B29-81D6-85BCAB180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CF56-303A-4FA2-BE19-57599D4D3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52EE-32FD-4C07-AE28-9DACA6438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259B-5D4C-4953-8C2D-18FDD349E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FB0-ADE4-4C25-8C57-F974726DC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0E58-FF98-4F9E-9D54-904B9BEB5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99A9-D4F6-4D1F-90CD-95558135D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7CF-E58C-41D5-A305-40A591DD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1FF-F169-443C-9233-8C2A405A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0D9-7417-4362-94D6-48BD5761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7F2-7CEB-41AC-9293-571DDECD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F23-D09B-461D-B99C-019229CF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FB9-A3BD-4F42-85A3-4F17B3DB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94A-B6C4-402F-931F-82BE98A2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B462-4252-4EE3-9E21-1940AE4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4CF-1BE2-42F4-BA9F-06044C6F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0FD-64AF-465A-BB44-5447032D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C359-E925-4214-99F4-4C5481E4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298-796E-4979-BB99-D05D1E9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1D07-6016-4DBB-90A1-7E2814401A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Questio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the shared infrastructure know how to get information from our organisation to Goog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Traffic Forwar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True internet"/>
          <p:cNvPicPr/>
          <p:nvPr/>
        </p:nvPicPr>
        <p:blipFill>
          <a:blip r:embed="rId1"/>
          <a:stretch/>
        </p:blipFill>
        <p:spPr>
          <a:xfrm>
            <a:off x="971640" y="2060640"/>
            <a:ext cx="68403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= Specific Pers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necessari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not always accur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XERCISE: What is yOUR IP ADDRESS? WHAT CAN YOU FIND OUT ABOUT 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640"/>
            <a:ext cx="8229600" cy="49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important Internet terminolo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an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4836-2114-45AB-B8DB-9117AE04D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any other online services will keep records of IP addresses used to communicate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ich others can you think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: IP Address != Specific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will also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ai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TERMINOLOGY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DR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Both intentional and unintentional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Internet” is a contraction of the words “Interconnected Network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name suggests, it is the name given to a set of technologies used for connecting different, smaller network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you connect your PC or laptop to your office network, you are connecting to a Local Area Network, or L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nerally speaking, the characteristics of a LAN a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ing infrastructure is owned and managed by the organisation that uses the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 is geographically limited in extent (e.g. one building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or more of a small number of possible networking communication protocols are used (typically Ethernet (for wired connections) and/or Wi-Fi (for wireless connections)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organisation has more than one location (e.g. more than one building) they might want to connect the two local network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technique for doing this is to lease a connection from a telecommunications provider (known as a leased li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: 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2000px-EPN_Leased_Line_and_dial-up_Network.svg.png"/>
          <p:cNvPicPr/>
          <p:nvPr/>
        </p:nvPicPr>
        <p:blipFill>
          <a:blip r:embed="rId1"/>
          <a:stretch/>
        </p:blipFill>
        <p:spPr>
          <a:xfrm>
            <a:off x="1187280" y="2073240"/>
            <a:ext cx="6769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ndwid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name given to how much information per second can be transferred across a particular connec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 of hardware that decides which connection to transfer information along nex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ub or Switc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s of hardware that connect PCs to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twork Interface Card (NIC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iece of hardware inside your PC or laptop that sends and receives information on the network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dia Access Control (MAC) addr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unique identifier used to identify your Network Interface Card (NIC) address on the network. This ID is only used on the Local Are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computer that provides information or services on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two organisations want to connect their networks and share information or provide services to each 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09:29Z</dcterms:modified>
  <cp:revision>272</cp:revision>
  <dc:subject/>
  <dc:title>PowerPoint Presentation</dc:title>
</cp:coreProperties>
</file>