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CF56-1BCE-4886-9557-F8BE550F7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3B09-B647-440F-BEED-F7D0D2A0E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29F5-4FDE-4A06-BD12-F4FE0EDB9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F690-EAF9-4455-84A7-418FDB6E61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92E6-79C6-4584-9D73-9B59F8F78E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2F75-0585-4C42-8A9A-F49C1EF14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BCF-E779-4A18-B3D0-09B257386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D904-A63D-43C6-A431-9B3FC0DD5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A8D0-E762-45DC-A4E2-347A8AEB5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005E-BC89-48F6-B831-676F2A20B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A7FA-98D6-4D79-B7AA-F40287C47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584-84E9-4D6E-810A-E331B88BE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C4F-FE35-4418-81D4-F06F3F9D5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572C-B8AA-4920-84C1-F6DF87D1B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392B-96B5-46A2-AD71-866C9757D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BF55-50FD-4D75-8FA2-51C9D2B4E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F81-EC8A-4A33-88ED-CBA186D16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B1CA-7C92-4179-A791-881A5A367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A1A6-D22A-4A09-BB58-A627B0CB0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3B4C-C881-42CB-9AD2-63C1A0A1A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BBA-2C9A-43E0-8B6E-87594B242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E339-D74C-450A-8808-4BC04E1BA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C06A-09C9-4403-B4D6-A35B4DD87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171E-7E36-4D04-A971-3228F663D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3C2-30C6-45C8-8AA6-E16971C0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B63-50E4-46C3-8B2C-E1BB2A34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657-EC96-4965-B458-D80DF539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00F-1135-4047-BFBB-9A88B235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30B-BEA1-44D1-BDD3-50B52D85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A0A-D4F2-4AB6-815B-555B3453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361-731B-4377-A154-A84E4D57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A59A-2AE6-42D3-8153-1ABF1B7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8FE-F3C1-4B2A-848C-93F2126E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25F-1A1C-4D09-84B4-12152CE4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13B-11B5-4592-A74E-00408CB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54B-6B47-4A97-BB07-CF1568EB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A6BE-E575-461D-82ED-FE529CCD047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ll companies are already well understood to be a money laundering techniqu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laundering technique is also used in the online world, primarily in an attempt to make transactions look more legitim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s of funds transferred to shell companies tend to be larger than amounts transferred to/by individual mu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p: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are companies with no business activity, assets or liabilities, created solely for the purpose of holding bank acc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(or their bank accounts) are often located in foreign jurisdictions to the location of the predicate off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ell companies give a façade of legitimacy to the transfer from the payer’s ban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additional challenges arise when shell companies are used for online crime procee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ell Company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reates a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opens a bank account in the name of the shell company in a foreign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conducts fraudulent activity and transfers funds from victim accounts into the bank account of the shell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Shell Compan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shell compan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ow value to be pre-associated with a payment car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wo typ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d prepaid cards: can only be used in a particular company or store (e.g. gift cards) and can be bought and used anonymous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prepaid cards: issued by a bank, credit card or other financial institution. Can be used just like any other payment c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ame typology applies to mobile phone top-up credit and pre-paid mobile phon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id Card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s obtain funds, e.g. through banking malwa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to a money m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withdraws cash and uses the cash to purchase prepaid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rds are then used or sold. When sold, the cards are usually sold for less than f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id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gaming and online trading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Prepaid C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prepaid car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gambling of various types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 funds are cashed in/cashed out via traditional banking sector (e.g. funds transfer, credit/debit card, etc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nsistent legal status and regulation of online gamb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Gambling Typology (Examp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s and associates have multiple stolen credit cards to moneti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holds a prepaid card (or other card where laundered funds are to be placed) and associates hold stolen credit car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log on to gambling platform and transfer funds to their gambling accou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and associates enter (for example) a poker room toget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es deliberately lose to crimin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nnings are transferred to criminal’s online gambling accou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inal transfers funds to the payment card in their possession, which is then used or sol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Online Gambling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from online gambling platfor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urchase through the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chases through the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 Typ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acquires access to compromised card data or banking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purchases goods (e.g. airline ticket) using compromised credenti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lists airline tickets for sale on online auction sit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one wins the auction and sends payment to the crimin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 sends airline tickets to winner of au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Internet Purch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Internet Purcha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ll compan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24T05:14:53Z</dcterms:modified>
  <cp:revision>344</cp:revision>
  <dc:subject/>
  <dc:title>PowerPoint Presentation</dc:title>
</cp:coreProperties>
</file>