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3C72-C9D2-4114-BB05-8E0467EEA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3FA2-D94B-4494-842B-EBF553CCF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3B1F-D545-4EDD-95C6-65761CDD7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7C80-9E61-4A14-B8B4-D4B1909CA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EC1-59A7-4792-8BCA-5EA3E46F7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156A-CCEE-42B6-99CF-00FDAD59D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2804-B6A9-4BB0-8F12-28BF4EAA9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C524-AAD9-4620-AA6A-AB80018BF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031B-A42B-48CC-B58E-F45A886FB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D15F-E949-4E36-8227-2AE4FB80D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842-E8EF-4131-A963-CB5173072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922F-089A-49F5-839B-CD06DBB59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1F37-A84F-4AE9-85C8-FEE0C0E2E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EE60-3B87-4C3F-BF16-014CC795C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7F6-22D3-4FD5-9918-B6AF10BF7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CF6-F913-460C-8FE7-95202B4D54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6EE-7549-4426-BA10-40EE939B8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E1E6-0C7A-44BA-96F9-BF923EFA3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7AE6-2DC8-4086-ADCC-88C670823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A0E1-A35E-4C5C-956F-ADAE0A71E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EE9-D905-467D-9B69-28B2161B7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F7A-E6F0-4D59-A261-D9DECB714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774-BF5C-48AF-93D3-77942CE55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55ED-E1A0-4BDA-BED9-39F0C39E0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D595-DDB2-4C62-AAE1-B89A4F885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C543-75F1-47C6-BC67-16C9A9ADE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0AB-1B5F-4320-B798-319E933B3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113C-DB9C-4918-8812-E6554ADE6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7B4-3C2F-44E7-A028-1EBDE949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649-E67D-47D9-9511-B344727E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996-841C-4458-8EF9-EF9B5E23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F83-55E1-463E-8F41-0447CAC1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570-54AD-478F-A937-1BC11840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01F-A799-4A0E-B9BE-CD00B976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FD8-E4A5-4ECF-8412-EF9DDA3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134-6DA0-4EA0-BBAD-1552640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D2A-2945-4408-B63D-FD9D2775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946-DD48-45A3-AC04-ACBEA3A0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6B1-8BDE-4837-8A1E-053AE200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6D1-34B1-4F48-845B-0CEAA17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7769-C4C9-4306-B3F3-2F99E11C5B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activity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of various types are used by criminals to make crime proceeds more difficult to tr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 transfers can be performed using bank accounts, e-currency, Internet payment services, money remittance service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hallenges arise to the investigation, search, seizure and confiscation of criminal funds when the funds have been transferred internationall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minal gains control of (for example) compromised customer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transferred to mules in same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es transfer funds by international bank transfer to a natural or legal person in a different juris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ational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ational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virtual currencies and e-money do you know ab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virtual currency is a digital representation of value that can be traded on the Internet and functions as (1) a medium of exchange; (2) a unit of account; and/or (3) a store of value, but does not have legal tender status in any jurisdi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ctronic Money/e-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 currency is distinct from e-money, which is a digital representation of fiat currency used to electronically transfer value denominated in fiat currency. E-money is a digital transfer mechanism for fiat currency – i.e. it electronically transfers value that has legal tender stat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 Curr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 currency is a digital representation of either virtual currency (non-fiat) or e-money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Trans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 Curr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ies and e-mon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 is the significance of the expression “digital representation” in the above defin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tegorising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vertible virtual currency has an equivalent value in real currency and can be exchanged back-and-forth for real currency. Examples: Bitcoin, Second Life Linden Dollars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n-Convert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A non-convertible virtual currency is intended to be specific to a particular virtual domain or world, and under the rules governing its use cannot be exchanged for fiat currency. Examples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sed virtual currencies have a single administrating authority (i.e. a third party) that controls the system. The administrator issues the currency, establishes the rules for its use, maintains a central payment ledger and has authority to redeem the currency. Examples: Linden Dollars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sed virtual currencies are distributed, math-based, peer-to-peer virtual currencies that have no central administrating authority, no central monitoring and no oversight. Examples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is a convertible, decentralised virtual currenc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take place between users without an intermedi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ctions are verified using a public distributed ledger, called the blockcha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tcoin mining is the process by which users offer their computing power to verify and record bitcoin transactions into the blockchain. For this, the users receive a reward in newly created bitcoi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transactions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ally instantaneous transactions (approx 10 mins until transaction is confirm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take place between anonymous IDs (walle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(or zero) transaction f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ctions are not rever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ustomer 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65240" y="35323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itcoin 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3680" y="505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&amp;C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7548120" y="619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849760" y="609768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rim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inal Use of Virtual Currency: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Ex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r/Ow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rtual Currency Wall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allet Provi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entities (software developers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ace between Virtual Currencies and the Traditional Financia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al Currency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iminally obtained funds are converted to virtual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criminal services are paid for in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ly, funds are extorted from victims in the form of virtual currenc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virtual currency is traded or exchanged for fiat currenc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inconsistent regulation of virtual currencies, virtual currency exchanges in all jurisdictions may not have adequate customer records and/or reporting obliga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Virtual Curr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virtual curr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Virtual Curr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ey mules are an essential component of many online laundering sche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ules are recruited through a variety of techniques, which can be broadly categorised in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lling mules, who are recruited knowing in advance that they are participating in illegal a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willing mules, who are recruited through deceptive means, such as through a fake job off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lling vs unwill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y Mul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are recruited either willingly or unwilling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ds are transferred into the mule’s bank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then either withdraws the funds as cash or transfers the funds to another account (or abroa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ule retains a com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value of arresting/charging mu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mul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Money M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money m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20:16:34Z</dcterms:modified>
  <cp:revision>341</cp:revision>
  <dc:subject/>
  <dc:title>PowerPoint Presentation</dc:title>
</cp:coreProperties>
</file>