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DBB-84DF-4238-8B28-B51B95DE9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C39D-1141-4D3E-8539-B705F4590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1648-57B4-4049-9F4D-7776231D2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DDAD-AC51-47E0-979D-0D2EC08C8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A88-8290-4EB5-AB43-2ACF11163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ACF3-7F00-474B-85E0-8829CDDD7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B879-666C-4A81-953F-1D30B32B2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9999-5B4B-471F-BC45-D5D059335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39E3-416F-423F-86AC-401E7161B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5EE-D245-4F6B-AEF5-1B0E3B70F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3910-B093-4A76-BA80-76E1CE6FB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B655-B4E6-4425-9D6C-279B8E0C2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B0B2-0245-4284-91C3-6D05079AA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301E-5D41-413B-AA5F-378D6A39D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0B01-A8B3-400B-8045-9BBD843BB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893-2E03-4475-97B4-C4FF91CB1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EEB7-6E31-4D1A-9096-5A4424163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BE4B-CDD8-4298-87E8-3524ADE77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9DEB-00A5-40EC-AE11-C9CECC892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8B4-E443-42F3-A5C5-4D272218B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6B65-4232-4AD1-B6AD-576549B6B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A3D-600A-482A-A916-D7539B4DD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615-91CA-4844-8F93-31B5D86C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CCAC-36E7-4B18-950B-19DD1288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85A-D65F-4CF3-B365-0C53C81B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7E7-3AD4-4490-BA33-BD1E0110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E81-F8D5-4F6C-BD7A-40EB639A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2A7-67CA-4E56-83DF-2420AAE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09D-4752-4758-A8E2-0630AD4B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DA5-D644-47AF-9802-6AD1A9B5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807-55CD-4630-951F-5AC4A94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D03-6351-4F21-9349-4A9A7E2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577-EB1E-4E60-89A6-AC07CEEB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D8B-362E-4AFC-A03B-032615B3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B2F2-402D-48A9-8EA9-69E4656894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Criminal Money Flow Typ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2.3/Hour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re transfer, Takeover/opening of bank accou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bercriminals continue to rely on traditional banking servi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obviously particularly relevant in cases that involve extracting money from victim’s bank acc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al Bank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ithin the traditional banking sector, what techniques can be used to obfuscate the sources of funds extracted from a victim’s bank accou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re Transf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Victim bank accounts are compromised through various cybercrime techniques (e.g. phishing, malwar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w beneficiaries are added to the victim’s bank account and funds are transferred to mule accou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unds are withdrawn in cash or transferred to other destin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s are made in small amounts to avoid reporting threshol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plex structures of meaningless transfers to mule accounts are used to obfuscate the source of fun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er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controls do financial institutions use to prevent the misuse of customer’s compromised online banking credenti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Wire Trans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wire transf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llenges does cash present for cybercriminal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h Withdrawal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some instances of cybercrime, such as payment card-related crime, crime proceeds are immediately withdrawn in c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 other instances, crime proceeds from other types of crime are transferred to mule accounts, from which they are withdra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it typically re-introduced to the financial system through a variety of techniques such a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chase of pre-paid cards of various types (e.g. store credit, mobile phone credi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 of money mules or compromised bank accou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criminal money flow typologies of the use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 Transfers, Takeover/Opening of 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h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Cash Withdraw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cash withdraw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Payment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nternet Payment Serv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Payment Service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iminally obtained funds are transferred to an Internet Payment Service accou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wo op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nternet Payment Service offers services similar to an online bank account, in which case typologies similar to “wire transfer/bank account creation or takover” are u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unds held with the Internet Payment Service are used to purchase products and services on the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Internet payment servic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ezing, Seizing and Confiscation of funds from Internet Payment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freezing, seizing and confiscation of funds held by an Internet payment service provi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y Remittance provi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do YOU thin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money remittance provid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is the problem with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ittance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s (both knowingly and without knowledge) are recruited as mules to the laundering scheme, often via “work at home” job off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ime proceeds are transferred to the bank accounts of the m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withdraws the cash and transfers the cash by wire transfer to a specific benefici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ule retains a payment as commission for performing this servic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s are usually of an amount lower than the reporting threshold, to avoid detec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mittance providers are used again to move the cash to its final destin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it Provider Typ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s have been identified where extensive use of particular remittance providers has raised concerns about possible collusion or infiltration of such busin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sources of evidence can be used to indicate the 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cation of use of Remittance Provi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: What procedural powers are available/relevant to the identification/use of remittance provid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32:41Z</dcterms:modified>
  <cp:revision>311</cp:revision>
  <dc:subject/>
  <dc:title>PowerPoint Presentation</dc:title>
</cp:coreProperties>
</file>