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1518-BDB4-426E-BE37-4A3D36898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9756-5CF0-40D6-9C4A-805713E20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CDB5-D70E-4520-A426-504F8CA1F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2380-687A-4C27-940B-49E314E29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FA4F-4608-4CE0-B22E-5E496A9EB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3722-C7B1-4E0A-A2C8-1FCDB6FC1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E51C-D509-4DDE-B529-6296F29A4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8D57-31FC-47BA-B119-5E0456C45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2DD3-08E0-4A9D-99EA-57166AC08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5997-D173-4FE5-A15E-37C62C402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7BDA-2143-4825-B469-E19352748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7602-EBA6-4C75-9590-B4F5F6FC4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FC8B-15E2-48FA-9514-7F9F9C0DA0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8B8E-E6AE-4BB4-B348-1F94E82A4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3AFF-4871-4396-85E8-CE2C8D81B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243F-9C63-49E0-A7F4-80491B87E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BF99-086B-42CD-926C-26021D28C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5C0A-8FFB-44AB-B911-A22FC874F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49C4-85DC-42A3-9E51-52890D862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1375-7627-44C9-91D4-4E774DC46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D8A9-3738-476B-A007-652C01E0E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8A33-D67D-4E42-AE83-C19FF4625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490C-9929-4CD7-96E9-BFAB4429F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6842-5FC7-4DF6-AFD1-376915144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42C8-1C87-4B74-8141-08464E684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1582-2EEA-4683-8158-FB869BDB6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A69D-3AF2-47D7-A8F5-3E19B7384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1367-A49A-4642-9502-D056DFCDB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A1EE-FFCC-4F70-8B1F-F6A37CBA1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DCCF-1305-4774-A889-80C46405A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9C0-1B6E-461D-BD9D-DDD1474F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C60-2065-4AB8-A5B8-58ECB852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D85-3AAD-440C-B979-EA6FECB5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EC9-E087-4084-8EF9-13FF46AF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C66-F811-4355-BAB8-FA8A753F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370-4222-4253-8C2A-73AB6568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C87C-D7AE-42D7-896B-BA9F9975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63A-5308-4033-8073-1CF04AF7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23D-D1E4-4010-A8BA-67600449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B6D-FB15-4488-B502-8AC17F48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6A9-BFE2-4C3B-8123-6CAB3947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55F-00F5-4B5A-AA9D-FDC0FFB4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14E3-5140-4E05-A535-7BFCEF36454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286196"/>
              </a:gs>
              <a:gs pos="100000">
                <a:srgbClr val="13355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Suspects on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1.1.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Question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ill the shared infrastructure know how to get information from our organisation to Goog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et Traffic Forwar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True internet"/>
          <p:cNvPicPr/>
          <p:nvPr/>
        </p:nvPicPr>
        <p:blipFill>
          <a:blip r:embed="rId1"/>
          <a:stretch/>
        </p:blipFill>
        <p:spPr>
          <a:xfrm>
            <a:off x="971640" y="2060640"/>
            <a:ext cx="68403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(version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 address consists of four numbers between 0 and 255, separated by full-stops/peri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also a newer form of IP addresses (version 6) which will not be discussed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P Address = Specific Pers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 necessaril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P address might allow identification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net Service Prov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olo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ever, not always accur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so, not always traceable to a specific pers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tic vs. Dynamic IP addre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twork Address Translation (NA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2160" y="29304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XERCISE: What is yOUR IP ADDRESS? WHAT CAN YOU FIND OUT ABOUT I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ntifying Suspect IP Add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in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user’s online activity might generate rec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records might contain the IP address of the user’s commun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an be an important piece of information for identifying a susp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Necessary but not sufficien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b browsing activity involves a user sending requests to a web server and the web server sending responses back to the us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format of the requests and responses is described using a protocol known as Hypertext Transfer Protocol (HTTP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default, a web server will log all incoming requests, including the IP address from which the request was receiv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Web Browsing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640"/>
            <a:ext cx="8229600" cy="496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cords of the storing and forwarding of a particular email message are associated with that mess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 important Internet terminolog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 what is an IP addr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ribe how you can find a suspect IP addres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scribe how you can associate a suspect IP address with a real pers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st three technical challenges to identification of suspects on the Inter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 is not sent directly from one person to ano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ther, a technique known as “store and forward” is us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person has an incoming and an outgoing mail server and email is sent and delivered a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2362320" y="43434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When Alice presses SEND her E-mail is moved from her computer to her Internet Service Providers outgoing mail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79280" y="2492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lice’s ISP then forwards the E-mail out onto the 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mail is forwarded to the incoming (POP3) mail server of Bob’s I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5486400" y="457200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he next time Bob connects to his ISP the E-mail is downloaded to his 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72B7-A73B-49A0-9B24-6B597325C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: Email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mail consists of two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der: Contains information about who the message is from, who it is for, subject, date etc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how it has been stored/forwarded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: The actual content of the email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ample email with headers is shown on the next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Mar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w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omainKey-Signature: a=rsa-sha1; q=dns; c=nofw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w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ME-Version: 1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any other online services will keep records of IP addresses used to communicate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Which others can you think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SSOCIATING IP Address TO Real world IDENT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ll: IP Address != Specific Pers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c vs. Dynamic IP addr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Address Translation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P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et Service Providers will typically keep records of which subscriber was using a particular IP address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long these records are retained for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to get access to these records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national Service Provider Rec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ultinational Service Providers (Facebook, Google. Etc.) will also typically keep records of which subscriber was using a particular IP address at a particula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nternational cooperation typically requi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por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rporations using Network Address Translation (NAT) may have the records to be able to assocaite suspect activity with a specific internal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How engagement with the company takes place will depend on national legi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 TERMINOLOGY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P ADDRES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ical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Both intentional and unintentional obfuscation may take p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ome example will be discus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nymising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Both paid and free services are available to conceal online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web proxies specifically conceal the source of web browsing activ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email providers specifically conceal the sender of emai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nonymising IP proxies conceal all the source of all Internet traffi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600" spc="-1" strike="noStrike">
                <a:solidFill>
                  <a:srgbClr val="000000"/>
                </a:solidFill>
                <a:latin typeface="Calibri"/>
              </a:rPr>
              <a:t>Example: 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Grade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A technique for associating a very large number of users with a single IP add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Commonly used for Internet connectivity on mobile phone netwo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3085200" y="4500720"/>
            <a:ext cx="29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d “Internet” is a contraction of the words “Interconnected Networks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 name suggests, it is the name given to a set of technologies used for connecting different, smaller networks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al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en you connect your PC or laptop to your office network, you are connecting to a Local Area Network, or LA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enerally speaking, the characteristics of a LAN a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networking infrastructure is owned and managed by the organisation that uses the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network is geographically limited in extent (e.g. one building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or more of a small number of possible networking communication protocols are used (typically Ethernet (for wired connections) and/or Wi-Fi (for wireless connections)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e Area Net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n organisation has more than one location (e.g. more than one building) they might want to connect the two local networks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common technique for doing this is to lease a connection from a telecommunications provider (known as a leased lin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e Area Networks: 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2000px-EPN_Leased_Line_and_dial-up_Network.svg.png"/>
          <p:cNvPicPr/>
          <p:nvPr/>
        </p:nvPicPr>
        <p:blipFill>
          <a:blip r:embed="rId1"/>
          <a:stretch/>
        </p:blipFill>
        <p:spPr>
          <a:xfrm>
            <a:off x="1187280" y="2073240"/>
            <a:ext cx="6769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working Termi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ndwid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 name given to how much information per second can be transferred across a particular connec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 piece of hardware that decides which connection to transfer information along nex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ub or Switc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 pieces of hardware that connect PCs to a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etwork Interface Card (NIC)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iece of hardware inside your PC or laptop that sends and receives information on the network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dia Access Control (MAC) addr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A unique identifier used to identify your Network Interface Card (NIC) address on the network. This ID is only used on the Local Area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rv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A computer that provides information or services on a networ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f two organisations want to connect their networks and share information or provide services to each o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ave O'Reilly</cp:lastModifiedBy>
  <cp:lastPrinted>2016-05-18T07:38:13Z</cp:lastPrinted>
  <dcterms:modified xsi:type="dcterms:W3CDTF">2017-04-14T18:09:29Z</dcterms:modified>
  <cp:revision>272</cp:revision>
  <dc:subject/>
  <dc:title>PowerPoint Presentation</dc:title>
</cp:coreProperties>
</file>