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403-4341-4C1B-89D3-3E0D132CA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6E5A-E9AA-4EA0-9B76-4D9ED9B05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B150-D036-4A4C-B5D6-81523EEFE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7E11-3398-4F3A-92C8-D4C0DFF78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2666-A8DA-4F02-B804-9941CC7D3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1F5D-05C2-4901-BA95-A40E0DBB1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4C0B-DC06-4830-B4DA-502AEB2B4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CEC4-B1EA-4C3E-B429-D5087AD8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74E1-196C-4B21-841A-51FBADD05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5218-FB58-4B30-8375-AF4BD486D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9534-74CB-4F27-8CF3-82479E9D1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5A0C-7B42-4D1F-B95D-D13DD279E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3350-5B05-4F55-8522-A953903DA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FE3C-B7EE-4FA1-8ACD-CF2E62030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D21-9ACF-40DC-A633-007EAC2B0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07B1-FFA3-41C2-97DB-833CF5078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1DA6-4BA0-4116-9571-A08AFD10B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D2B9-96B5-4A9A-B94D-3EE6A8253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11FC-67EC-4B50-9AAC-D50DF6699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3A9A-D07B-4211-8937-1096E846F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F134-A409-42AA-BB7F-1F9B86B33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AE9D-3EE0-4BB7-AE55-1A2CD8B9B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F67F-FE85-4710-B059-81352C068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0704-29B5-40CC-9E99-ED8A8B5C2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F0B-908B-4878-A50A-4C0B4FD5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91C-261F-4CF9-8D4A-946840A1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0F6-E003-4F64-A101-1482FCBF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358-77A7-478B-A2BA-8F0A25AA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03A-5614-4916-9572-965D2AE2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DE5-0867-4AC6-8AE7-073DF7A4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DF5-CD49-4D68-BCD2-6A35C41B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D5F-7B50-4E36-B8B9-4637FF9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09C-5694-4F66-8EB4-AECDF1FC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E60-5B29-4C7E-8918-ED7E405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565-DFCA-4957-8CD1-608495A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832-D8E0-4E7C-AEA3-0145C86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0ACA-0930-40CB-BE22-CE4B3F04EB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48Z</dcterms:modified>
  <cp:revision>346</cp:revision>
  <dc:subject/>
  <dc:title>PowerPoint Presentation</dc:title>
</cp:coreProperties>
</file>