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28D9-EF88-4520-AA7B-AD6EF32230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071D-A231-44E3-A262-9B8071926D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B83A-9339-46ED-B442-FA7DA92430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EE08-7F65-47DB-BAE0-5DD1D7DFAD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50F1-E079-49FE-93AF-D6F3A16C19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2479-791D-47CC-B326-E8206EF2D0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ED2C-4452-4618-A7E3-A47BBB5EBE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F3E3-8153-4FA9-8C1C-95275A29EF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F305-596E-4E3E-A827-256DB7BE23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BD63-81B9-4333-9622-C0B1ADE37C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3357-C630-4C39-99D8-E8347584A8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E213-4219-4A0A-A4FD-D3467FAD42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4D04-60F1-4E71-AE30-BCBA79392D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932D-EA8E-4453-9151-62CEC33C54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4B2D-DF57-4823-956D-6D0B9E9D3C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E8C6A-3DE0-4786-B7EC-250F93313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D1345-C04D-457E-9B71-269F4C001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C4E44-41BA-4FBB-8AF7-591046BCD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A4B78-7EAC-44BD-8FDD-5DA29AD6D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3E52-F29A-49EC-B9B1-62D2C59B1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09B3E-1F6B-4E36-AE0F-4C88F6F2A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175A8-9CE0-45C6-AFB3-5E5E658F7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36D58-3FC0-4AD5-B08F-9A7C7DEF9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11040-45E7-4512-926F-C8C5DAC06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15D1-A3B1-4571-8DB7-550339128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85280-DC1E-44FB-B952-67E324829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08DAB-B40D-44AE-88D3-82A68B2EE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E73B-8FB1-4F96-A19F-1D9E54E113A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agement of frozen and confiscated property</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cs on financial investigations, freezing and confiscation</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al aspe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NCIAL INVESTIGATIONS AND THE MONEY LAUNDERING OFF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1900" spc="-1" strike="noStrike">
                <a:solidFill>
                  <a:srgbClr val="000000"/>
                </a:solidFill>
                <a:latin typeface="Calibri"/>
              </a:rPr>
              <a:t> offence</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uspicious Transaction Report (STR) analysis conducted by a Financial Intelligence Unit (FIU) can also lead to the investigation of (predicate) offence and related proceeds.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n such conditions are met, the </a:t>
            </a:r>
            <a:r>
              <a:rPr b="1" lang="en-US" sz="1900" spc="-1" strike="noStrike">
                <a:solidFill>
                  <a:srgbClr val="000000"/>
                </a:solidFill>
                <a:latin typeface="Calibri"/>
              </a:rPr>
              <a:t>FIU can be engaged </a:t>
            </a:r>
            <a:r>
              <a:rPr b="0" lang="en-US" sz="1900" spc="-1" strike="noStrike">
                <a:solidFill>
                  <a:srgbClr val="000000"/>
                </a:solidFill>
                <a:latin typeface="Calibri"/>
              </a:rPr>
              <a:t>and its powers can be invoked</a:t>
            </a:r>
            <a:r>
              <a:rPr b="0" lang="sl-SI"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ess to bank data (STR)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alytical capability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imely suspend the bank transaction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Money laundering </a:t>
            </a:r>
            <a:r>
              <a:rPr b="1" lang="en-US" sz="2000" spc="-1" strike="noStrike">
                <a:solidFill>
                  <a:srgbClr val="000000"/>
                </a:solidFill>
                <a:latin typeface="Calibri"/>
              </a:rPr>
              <a:t>and financial investigations</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ION</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national legislation and jurisprudence (including relevant judgments)</a:t>
            </a:r>
            <a:r>
              <a:rPr b="0" i="1" lang="en-US" sz="2000" spc="-1" strike="noStrike">
                <a:solidFill>
                  <a:srgbClr val="000000"/>
                </a:solidFill>
                <a:latin typeface="Calibri"/>
              </a:rPr>
              <a:t> </a:t>
            </a:r>
            <a:r>
              <a:rPr b="0" lang="en-US" sz="2000" spc="-1" strike="noStrike">
                <a:solidFill>
                  <a:srgbClr val="000000"/>
                </a:solidFill>
                <a:latin typeface="Calibri"/>
              </a:rPr>
              <a:t>on the necessary elements for the criminal offence of Money Launder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ractice, is the result of a Financial Investigation </a:t>
            </a:r>
            <a:r>
              <a:rPr b="0" lang="sl-SI" sz="2000" spc="-1" strike="noStrike">
                <a:solidFill>
                  <a:srgbClr val="000000"/>
                </a:solidFill>
                <a:latin typeface="Calibri"/>
              </a:rPr>
              <a:t>a</a:t>
            </a:r>
            <a:r>
              <a:rPr b="0" lang="en-US" sz="2000" spc="-1" strike="noStrike">
                <a:solidFill>
                  <a:srgbClr val="000000"/>
                </a:solidFill>
                <a:latin typeface="Calibri"/>
              </a:rPr>
              <a:t> Money Laundering charg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the Money Laundering charge be more efficient than charging for the predicate offenc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IU data be used as evidence in criminal proceeding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10:07:37Z</dcterms:modified>
  <cp:revision>402</cp:revision>
  <dc:subject/>
  <dc:title>PowerPoint Presentation</dc:title>
</cp:coreProperties>
</file>