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E82F-360D-46EB-B3DB-77F32ECB2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F160-0002-44BF-B42C-C21162245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3896-FF52-40A9-B89A-DCB0DCEE9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77BF-CF99-4F7E-B64B-9EA088113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F81A-B883-4D91-97F0-16B689617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D84C-6A49-4047-8F91-EAE81EECF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09E8-EC5A-43E3-A043-1DCB028CE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6906-6A5E-4A86-A258-A4226A28C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6A1E-E658-4CBA-A3DD-19A604B5F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3541-1E41-48BD-8535-6AF154A20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A0CB-82A6-460F-9104-43F34BBB6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8EE2-1F43-418A-91B0-0CFD9F132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66E1-EB19-4810-966A-CC2936D22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94DA-EDB6-49A6-A5B0-22E1A0839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6F81-A930-4D79-9802-EBD72FC08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0472-0873-48F4-9908-4A1D6FC09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363D-2416-4891-928A-D3A5AF9C7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1F93-0BE6-4F8A-8B33-0E90AE94C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9E5D-0F24-4571-94D1-FF84045B6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5B96-7B6A-4629-A9EF-555114187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36C0-F5D1-436C-A062-17B0D21D29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EDC0-FB43-4DDD-8C00-033B8038F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E170-79B1-47EA-A129-2653DB5B05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2C54-C360-4EE6-8CD9-285ABF04A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4A2-EE36-4B53-95C8-7EC05981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4EC1-5138-409F-A31D-206BF2A2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86A-C28D-4397-B2DD-ED0FC2F8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5BFB-2F9B-4840-8227-19E572F1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A62-6214-4AA1-ADE0-236387E4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0D54-88DC-476D-87E8-9037506E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EFC0-DEE0-4691-AEA3-6E1678E8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9780-D346-417F-B68A-C6BF85E5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D625-B32B-467B-8B54-3E0275AC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BA6-D74A-496C-AF3C-0F881F67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E33-84D9-4F90-8A1E-733E9A8C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1CC-E076-43D0-99A1-269DDC2E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2613-4CF6-4A1B-BD6C-BF40350CB5A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4.2/Hour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ll companies are already well understood to be a money laundering techniqu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aundering technique is also used in the online world, primarily in an attempt to make transactions look more legitim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s of funds transferred to shell companies tend to be larger than amounts transferred to/by individual m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are companies with no business activity, assets or liabilities, created solely for the purpose of holding bank acc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(or their bank accounts) are often located in foreign jurisdictions to the location of the predicate off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give a façade of legitimacy to the transfer from the payer’s ban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additional challenges arise when shell companies are used for online crime procee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y Typology (Examp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creates a shell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opens a bank account in the name of the shell company in a foreign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conducts fraudulent activity and transfers funds from victim accounts into the bank account of the shell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ow value to be pre-associated with a payment car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wo typ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d prepaid cards: can only be used in a particular company or store (e.g. gift cards) and can be bought and used anonymous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prepaid cards: issued by a bank, credit card or other financial institution. Can be used just like any other payment c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ame typology applies to mobile phone top-up credit and pre-paid mobile phon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id Card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s obtain funds, e.g. through banking malwa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are transferred to a money m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withdraws cash and uses the cash to purchase prepaid c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rds are then used or sold. When sold, the cards are usually sold for less than face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gaming and online trading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nline gaming platfo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Gam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 gambling of various types onl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ly funds are cashed in/cashed out via traditional banking sector (e.g. funds transfer, credit/debit card, etc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nsistent legal status and regulation of online gamb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Gambling Typology (Examp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s and associates have multiple stolen credit cards to moneti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holds a prepaid card (or other card where laundered funds are to be placed) and associates hold stolen credit car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and associates log on to gambling platform and transfer funds to their gambling accou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and associates enter (for example) a poker room toget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es deliberately lose to crimi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nings are transferred to criminal’s online gambling accou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transfers funds to the payment card in their possession, which is then used or sol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from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gaming and online trading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chases through the Intern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urchase Typolo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acquires access to compromised card data or banking credenti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purchases goods (e.g. airline ticket) using compromised credenti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lists airline tickets for sale on online auction sit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meone wins the auction and sends payment to the crimin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sends airline tickets to winner of auc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activity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9-01T15:22:48Z</dcterms:modified>
  <cp:revision>346</cp:revision>
  <dc:subject/>
  <dc:title>PowerPoint Presentation</dc:title>
</cp:coreProperties>
</file>