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F947-902C-4702-8419-2579D9D5B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3D1-E5D1-4CD1-88D0-58C2C7F9F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F7F-7365-48FC-931A-4471AFF0D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869-3F16-41A8-A0AF-FADCD71DD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AD3-09F9-4E4C-8204-62B0F87C7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9E2-D56A-4DFF-9EE0-E16339DA2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082-DFA4-435A-BD97-99E022AE6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BD1-FF98-43D0-A16F-548DEBB57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EAEF-0E6B-473D-B73A-31D8A1528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5CA-435C-4F0E-A0CE-066527499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753-9997-457F-8269-C29B08900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A06-867B-4DAC-B068-8EA78BEC1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F7F-75CC-4022-A6B7-DAA9725C5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539-7727-495A-B2E4-579C59A96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1904-08B8-41CD-8344-846AD80CA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B102-2163-4251-83A6-DA81B924B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01A-EF52-4ACB-9F86-5C26CA096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B00-B7EA-4E1B-9299-428455E3D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6AA-3717-4E1A-BF50-1583E9322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762-A808-4889-9B0F-06D7D7730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FC16-2D92-480E-A7FB-51C917AA2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E2A-177B-4F7C-883E-A48588CEE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166-CD16-4968-83EA-D4C95744F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38D0-2958-4892-9D5C-0D532856D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CB1-95A7-47D7-A313-54A9D1D55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10E-7230-44DD-85A5-6F51A99E2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31CF-B148-4354-A611-CA5C7CF11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749-4E39-45FE-ABDD-F9754EC83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E1-326A-4BE3-92B2-5C07D21D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9EC-1AD5-435F-89A2-B090A711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E27-B926-465D-841B-13215B7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3DA-E8DC-45EA-BCCA-888F888B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8CF-CE28-4ACB-AA86-CA7455C5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303-2C9E-430E-A359-36ACCFF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2D0-30FA-42C6-9124-B2DA225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E9C-EA33-4CDE-8353-059D6A6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251-9E5E-4511-95D4-C87758DF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B0A-6757-4DBD-BF8E-3AE4856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D2A-6BD6-4037-ABF3-35E30014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198-771B-4573-8BB3-E95A915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7DF-284C-45CC-A1C6-DC3C9B8D30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32Z</dcterms:modified>
  <cp:revision>343</cp:revision>
  <dc:subject/>
  <dc:title>PowerPoint Presentation</dc:title>
</cp:coreProperties>
</file>