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2B16-5350-46BF-9891-0B28AAE1DC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The importance of cybercrime training</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ealing with cybercriminal offences implies the knowledge of technical and legal aspects which are specific to this form of criminal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f you are already specialised in cybercrime, technical terms and offences (such as phishing, keyloggers, malware or botnets) are familiar to you. They are however far from being layman terms and it will be important to receive adequate training in order to comprehend what they represent and then explain them in a clear and comprehensible way to judges and juries, who may not have an equivalent level of expertis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ybercriminal investigations are also extremely technical in the sense that one must have acquired a series of good operative practices in order to freeze proof, secure it and exploit i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ly, because of the prevalence of digital evidence today, cybercriminal training is becoming more and more fundamental generally. In our modern, digitalised world, the first step after any serious crime, whether a murder or a kidnapping, will be to seize and analyse a computer or a smartphone. It is thus imperative to learn how to deal with digital evidence in good condition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Protection of the scene and preservation of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igital evidence is volatile and it is vital from the very beginning of an investigation t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dentify where the evidence is stored,</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nsure its secur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xploit and analyse this evidence, so as to guarantee its authenticity and the results that will emerg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lice officers and prosecutors, in handling these two steps, may have to rely on the cooperation of the victim, as well as on the additional assistance of specialised law enforcement and independent experts when analysing the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victim’s first reaction, when finding out that their computer system is under attack, might be to try to repair the damage on their own. Such thinking is highly counterintuitive since on the contrary their first reflex should be to freeze the evidence and not endanger upcoming investigations. Attacked or compromised computers must immediately be isolated and shut down in order to be analysed by forensic expert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en digital evidence is at the disposal of service providers or third parties, they have to be contacted immediately in order to preserve the necessary data. Preservation requests may be sent to service providers, asking them to store the logs, especially when such logs are outside of national jurisdictio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7AFA-A944-4969-AE8D-8D2C7EA3E1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pecifying the legal instrument used to seek assistance – the treaty, convention or other instrument of cooper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tual legal assistance is based on the existence of </a:t>
            </a:r>
            <a:r>
              <a:rPr b="0" lang="en-US" sz="500" spc="-1" strike="noStrike" u="sng">
                <a:solidFill>
                  <a:srgbClr val="000000"/>
                </a:solidFill>
                <a:uFillTx/>
                <a:latin typeface="Calibri"/>
              </a:rPr>
              <a:t>multilateral or bilateral</a:t>
            </a:r>
            <a:r>
              <a:rPr b="0" lang="en-US" sz="500" spc="-1" strike="noStrike">
                <a:solidFill>
                  <a:srgbClr val="000000"/>
                </a:solidFill>
                <a:latin typeface="Calibri"/>
              </a:rPr>
              <a:t> agreements (treaty or conven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The principle multilateral agreements applicable to cybercriminal offenc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Council of Europe:</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European Convention on Mutual Assistance in Criminal Matters (20 April 1959) has been ratified by the 47 member States of the Council of Europe as well as by Israel, Chile, Korea. This Convention will be addressed later on as it is the background to the Budapest Convention, which is a fundamental tool for freezing digital evidence abroa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onvention on Mutual Legal Assistance between member States of the European Union (29 May 2000) is very important in that it allows prosecutors and judges of the 28 member States to directly transmit to each other mutual legal assistance requests (MLATs). These can concern modern investigative techniques, such as videoconferencing, telecommunications surveillance or joint investigations teams (JIT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Bilateral conventions</a:t>
            </a:r>
            <a:r>
              <a:rPr b="0" lang="en-US" sz="500" spc="-1" strike="noStrike">
                <a:solidFill>
                  <a:srgbClr val="000000"/>
                </a:solidFill>
                <a:latin typeface="Calibri"/>
              </a:rPr>
              <a:t> are agreements linking two sovereign States. Each convention will contain its own specific rules determining the mutual legal assistance conditions which appl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e absence of any kind of multilateral or bilateral agreement with a foreign country, it is always possible to send a request for assistance founded on the general principle of </a:t>
            </a:r>
            <a:r>
              <a:rPr b="0" lang="en-US" sz="500" spc="-1" strike="noStrike" u="sng">
                <a:solidFill>
                  <a:srgbClr val="000000"/>
                </a:solidFill>
                <a:uFillTx/>
                <a:latin typeface="Calibri"/>
              </a:rPr>
              <a:t>“reciprocity</a:t>
            </a:r>
            <a:r>
              <a:rPr b="0" lang="en-US" sz="500" spc="-1" strike="noStrike">
                <a:solidFill>
                  <a:srgbClr val="000000"/>
                </a:solidFill>
                <a:latin typeface="Calibri"/>
              </a:rPr>
              <a:t>”. It will then be up to the foreign authorities to decide on a purely discretionary basis whether or not they wish to execute the reques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ying clearly who is conducting the investigation / prosecution. Provide all necessary contact details and preferred means of communic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can also be useful for the investigating/prosecuting contact point to specify which languages they can directly exchange i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ummarising the cas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of the evidence’s purpose is to show the necessity of the request (or MLAT) for the investigation, as well as its conformity with the requested State’s conventional and national legal disposition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will be more or less long depending on how coercive and complicated the measures asked for are. In particular, if these measures are coercive or intrusive (for example wire tapping a conversation), many countries, among which countries with an Anglo-Saxon legal tradition, will ask for you to show “probable cause”. In this case, you mus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ow that the coercive or intrusive measure is strictly necessary and proportionate to the seriousness of the offence (for example, the maximum applicable sentence, the disruption of “public order” the offence has caused, the prejudice of the vict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the motives that allow you to reasonably think that evidence is located in a certain place or in the possession of a certain person;</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how the evidence you are asking for will constitute a legal element of proof characterising the offence.</a:t>
            </a:r>
            <a:endParaRPr b="0" lang="en-US" sz="5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C237-6A09-4561-A683-C8978419AD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 to the applicable national legal provi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ble national legal provisions will also allow the requested authorities to ens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offences are not of a political or exclusively military na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its own public order will not be jeopardised by answering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condition of double criminality, if required, is satisfi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cise identification of the assistance being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as precise as possible concerning the assistance you wish to obtain.  </a:t>
            </a:r>
            <a:endParaRPr b="0" lang="en-US" sz="12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520C-540B-4B5E-9C13-1962042EF7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National procedural rules concerning witnesses and how to receive their testimony may vary from one legal system to anothe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ccording to national legislation, witnesses may or may not have to take a sworn oath before testimony and may be liable to incrimination on the grounds of “perjury” or “false testimony” if their statement is not accurate. Some national legislations may also subject witnesses who receive a summons but do not appear to coercive measures, ranging from a fine to imprisonment. Finally, due to their personal situation (for example as spouse or parent of the suspect), some people cannot be heard at all as witness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When a requesting State asks another State to produce a witness’s testimony, the national legislation of the requested State will apply unless a bilateral or multilateral convention specifies otherwise.</a:t>
            </a:r>
            <a:r>
              <a:rPr b="0" lang="en-US" sz="800" spc="-1" strike="noStrike">
                <a:solidFill>
                  <a:srgbClr val="000000"/>
                </a:solidFill>
                <a:latin typeface="Calibri"/>
              </a:rPr>
              <a:t>  This means that you can indeed give your own national procedural rules concerning the testimony of the witness, but unless you have a binding bilateral or multilateral convention which enforces these national procedure rules, the requested State is under no obligation to follow them.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nce you dispose of information concerning the applicable national law procedures, or the applicable multilateral or bilateral conventions, it is important to giv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xhaustive list of questions which can also specify different developing questions according to the witness’s answer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ll useful information relating to the witness’s identity and his or her whereabout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can also be useful to consider a </a:t>
            </a:r>
            <a:r>
              <a:rPr b="0" lang="en-US" sz="800" spc="-1" strike="noStrike" u="sng">
                <a:solidFill>
                  <a:srgbClr val="000000"/>
                </a:solidFill>
                <a:uFillTx/>
                <a:latin typeface="Calibri"/>
              </a:rPr>
              <a:t>videoconferencing</a:t>
            </a:r>
            <a:r>
              <a:rPr b="0" lang="en-US" sz="800" spc="-1" strike="noStrike">
                <a:solidFill>
                  <a:srgbClr val="000000"/>
                </a:solidFill>
                <a:latin typeface="Calibri"/>
              </a:rPr>
              <a:t> option, with the eventual help of a translator, so that national law enforcement can proceed to questioning directly.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The European convention on mutual assistance in criminal matters (20 April 1959), ratified by the 47 member States of the Council of Europe as well as by Israel, Korea and Chile contains specific articles relevant to witnesses which may contradict national procedural rul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of the Convention states that witnesses who have received a summons to appear from a requesting member State cannot be subjected to coercive measures so long as they remain outside the territory of the requesting State.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of the Convention specifies under which conditions a witness who is detained for other reasons may be temporarily transferred to a requesting member State to give testimony.</a:t>
            </a:r>
            <a:endParaRPr b="0" lang="en-US" sz="8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D9C2-0730-4D55-83D2-8D5BBC69E3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fic procedures concerning financial / bank account document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Bank account documents are interesting for a large number of investigations si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identify the person profiting from the offe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seize or confiscate the funds in certain cas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eneral types of information can be requested: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the holder of a certain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documents detailing the financial transactions taking place on a certain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is important to be as precise as possible when requesting such information and to not waste time. A first good step, before writing out an MLAT request can be to send a request to the national branch of the bank you’re interested in, asking them information on the identity of the holder of a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LAT requests related to financial documents will have more chances of succeeding when they are precise, complete and contain such information as the following: the bank account number, the name and address of the bank and the period of time during which suspicious transactions occurr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following elements may be obtain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the holder’s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ty of anyone mandated to use the bank account and a copy of their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bank statements and forms during a specified time perio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written check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all bank accounts held by a certain perso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surveillance of bank accounts over a future period of tim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with any other MLAT request, it will be important to specify why the information requested is “pertinent” to the investigations. Il will also be necessary to verify the applicable conventions and the compatibility with the requested State’s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Grounds for refusal to execute the request:</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uch requests are generally not difficult, at least with member States of the European Union or of the Financial Action Task Force (https://www.fatf-gafi.or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rounds of refusal are often invok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ncompatibility of the request with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 and of the Financial Action Task Force (FATF) cannot refuse an MLAT request on these grounds. Members of the FATF currently are the European Commission, the Gulf Cooperation Council, member States of the European Union, as well as Switzerland, Russia, Canada, the United States of America, Mexico, Brazil, Japan, China, Hong Kong and Singapo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Double criminality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ome States will execute an MLAT only if an equivalent incrimination or offence exists under their own national law. For member States of the European Union, article 2.4 of the 2001 Protocol allows them to take under consideration double criminality when executing an MLAT request. The Budapest Convention provides that parties may refuse mutual legal assistance if dual criminality is not fulfilled. However, under Article 25 (5) of the Budapest Convention as well as Recommendation 37 of FATF Recommendations, the condition of dual criminality shall be deemed to be fulfilled, irrespective of whether its laws place the offence within the same category of offence or denominate the offence by the same terminology as the requesting Party, if the conduct underlying the offence for which assistance is sought is a criminal offence under its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04A9-8A62-4C5F-A45F-84ECB6EDD5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an MLAT referring to a computer getting hacked should specify that a suspicious IP address 210.0.XXX.XXX corresponding to an internet service provider located in Foreign City X, Foreign Country Y, which connected to the hacked computer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17 between 7:30 AM and 11:30 AM (GMT+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investigations enabled us to determine that suspicious IP address 210.0.XXX.XXX is attributed to Company XXXX, whose physical address is XXX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give as much specific and detailed information as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references must always be given according to Greenwich Mean Time (GMT).    </a:t>
            </a:r>
            <a:endParaRPr b="0" lang="en-US" sz="12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89D9-EA38-4878-A20E-F04F24A373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applicable law to the execution of the request is the law of the </a:t>
            </a:r>
            <a:r>
              <a:rPr b="1" lang="en-US" sz="600" spc="-1" strike="noStrike">
                <a:solidFill>
                  <a:srgbClr val="000000"/>
                </a:solidFill>
                <a:latin typeface="Calibri"/>
              </a:rPr>
              <a:t>requested State </a:t>
            </a:r>
            <a:r>
              <a:rPr b="0" lang="en-US" sz="600" spc="-1" strike="noStrike">
                <a:solidFill>
                  <a:srgbClr val="000000"/>
                </a:solidFill>
                <a:latin typeface="Calibri"/>
              </a:rPr>
              <a:t>unless a bilateral or multilateral convention specifies otherwis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is is why the procedural laws applicable to a search warrant will vary according to whether the judicial system of the requested State is </a:t>
            </a:r>
            <a:r>
              <a:rPr b="1" lang="en-US" sz="600" spc="-1" strike="noStrike">
                <a:solidFill>
                  <a:srgbClr val="000000"/>
                </a:solidFill>
                <a:latin typeface="Calibri"/>
              </a:rPr>
              <a:t>inquisitorial</a:t>
            </a:r>
            <a:r>
              <a:rPr b="0" lang="en-US" sz="600" spc="-1" strike="noStrike">
                <a:solidFill>
                  <a:srgbClr val="000000"/>
                </a:solidFill>
                <a:latin typeface="Calibri"/>
              </a:rPr>
              <a:t>, in which a magistrate – such as the French or Belgian investigating judge – decides on his or her own initiative to deliver a search warrant, or </a:t>
            </a:r>
            <a:r>
              <a:rPr b="1" lang="en-US" sz="600" spc="-1" strike="noStrike">
                <a:solidFill>
                  <a:srgbClr val="000000"/>
                </a:solidFill>
                <a:latin typeface="Calibri"/>
              </a:rPr>
              <a:t>adversarial</a:t>
            </a:r>
            <a:r>
              <a:rPr b="0" lang="en-US" sz="600" spc="-1" strike="noStrike">
                <a:solidFill>
                  <a:srgbClr val="000000"/>
                </a:solidFill>
                <a:latin typeface="Calibri"/>
              </a:rPr>
              <a:t>, in which the warrant will be executed by the police, as in England, or by a prosecutor, as in Italy or Germany, under the control of a judge guaranteeing the legality of investigations.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arch warrants are generally considered as intrusive and coercive legal measures. It is thus very important to summarise the case in a thorough manner and to always explain the rationale for evidence and actions being sought in regard to the on-going investigations. It is also essential to know the national legal dispositions and procedures of the requested Stat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untries influenced by </a:t>
            </a:r>
            <a:r>
              <a:rPr b="1" lang="en-US" sz="600" spc="-1" strike="noStrike">
                <a:solidFill>
                  <a:srgbClr val="000000"/>
                </a:solidFill>
                <a:latin typeface="Calibri"/>
              </a:rPr>
              <a:t>Anglo-Saxon or common law </a:t>
            </a:r>
            <a:r>
              <a:rPr b="0" lang="en-US" sz="600" spc="-1" strike="noStrike">
                <a:solidFill>
                  <a:srgbClr val="000000"/>
                </a:solidFill>
                <a:latin typeface="Calibri"/>
              </a:rPr>
              <a:t>will specifically require a very extensive summary of the case in order to determine the existence of probable cause. Indeed, the local competent judicial authority will have to deliver his or her own warrant in order for the investigative measure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The delivery of such a warrant will be conditioned to the demonstration of:</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proportionality of the investigative measure to the reproached offenc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ts necessity (couldn’t a less intrusive and coercive measure produce similar resul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existence of serious reasons leading to believe that evidence will be found in the place where the search is supposed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Providing precise indications of the places and the objects to be search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recise indications on the evidence and objects searched should be provided, as well as the places where these elements should be located. In some cases, for instance when these precisions cannot be given at the time the MLAT request is written, it is possible to specify the contact details of the requesting judicial authority so that the requested authority might ask later on for any necessary complementary informat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oordinated search warrants </a:t>
            </a:r>
            <a:r>
              <a:rPr b="0" lang="en-US" sz="600" spc="-1" strike="noStrike">
                <a:solidFill>
                  <a:srgbClr val="000000"/>
                </a:solidFill>
                <a:latin typeface="Calibri"/>
              </a:rPr>
              <a:t>may be executed in different countries using JITs (joint investigations teams) or through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pecific grounds for refusal to execute a search warra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Council of Europe, Schengen area exclud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5 of the European Convention on Mutual Assistance in Criminal Matters (20 April 1959) specifies that member States may refuse to execute a search warrant for one of the following two reasons:</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uble criminality: the requested State may refuse to execute the search warrant if the offence it refers to is not punished under its national law or if the offence in question is not punished, under its own law, by a sentence severe enough to allow extradition (not an “extraditable offence”).</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inconsistency of the request with the national law of the requested State: this allows States to submit the execution of the warrant to the authorisation of a national judge guaranteeing the legality of investigations in accordance with national law and procedu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tates may only invoke these grounds of refusal if they declared them during the ratification of the Convention. To know which declarations were made by each State, this information is available on the Council of Europe website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F46F-7372-4820-B4E9-552E59061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for the requesting State to ask the requested State to furnish a statement or a certified document attes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object that has been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person who has handled or had possession of the object i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conditions in which the object was guarded or ke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allow law enforcement and courts to determine precisely how the evidence was obtained and whether or not it may have been contamin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5BA4-9113-431D-8BE6-EED62C9F21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al investigative measures may includ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vert operations, such as infiltration by an undercover agent; (e.g. Article 14 of the Convention on Mutual Legal Assistance between member States of the European Union (29 May 2000), art. 29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nterception of telecommunications (or wire tapping); (e.g. Article 17 – 22 of the Convention on Mutual Legal Assistance between member States of the European Union (29 May 2000), art. 30 and 31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videoconferencing; (e.g. Article 10 of the convention on mutual legal assistance between member States of the European Union (29 May 2000), art. 24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ntrolled deliveries; (e.g. Article 12 of the convention on mutual legal assistance between member States of the European Union (29 May 2000))</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cerning infiltration by an undercover agent, this special investigative measure is not applied everywhere since legislations may consider this measure to be a form of “provocatio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pecial investigative measures are generally more burdensome and expensive than ordinary measures. If you consider them to be nonetheless strictly necessary to your investigation, it may also be a good idea to consider signing a joint investigation team (JIT) agreemen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JIT agreemen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13 of the convention on mutual legal assistance between member States of the European Union (29 May 2000) lays out the conditions for setting up a joint investigation team (JI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states that a JIT may be set up whe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Member State’s investigations into criminal offences requires difficult and demanding investigations having links with other Member Stat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number of Member States are conducting investigations into criminal offences in which the circumstances of the case necessitate coordinated, concerted action in the Member States involved.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reation of a JIT will be materialised by the signature of a Protocol by the judicial authorities of the concerned Member States.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is document will establish a certain number of arrangements such as how long the JIT is created for, costs and expenses, the evaluation calendar of the JIT both during and after the operation etc.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s of the JIT may have a wide range of investigative powers. They ca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record offenc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help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proceed or help proceed in surveillances and infiltration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y will also have jurisdiction on the entire territory of the Member States that are concerned.</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F470-7CCD-4139-90F2-806B27F65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Highlight any specific confidentiality requirement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very important to specify confidentiality requirements since many companies will give law enforcement authorities the information but also consider it their duty and right to inform the client that they have transmitted data concerning them.</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t out and specify urgency level in the execution of the request as well as the time limi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e limits, even if very specific, will not necessarily be respected because MLAT requests are necessarily time consuming.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best option for law enforcement will always be to </a:t>
            </a:r>
            <a:r>
              <a:rPr b="0" lang="en-US" sz="800" spc="-1" strike="noStrike" u="sng">
                <a:solidFill>
                  <a:srgbClr val="000000"/>
                </a:solidFill>
                <a:uFillTx/>
                <a:latin typeface="Calibri"/>
              </a:rPr>
              <a:t>freeze data</a:t>
            </a:r>
            <a:r>
              <a:rPr b="0" lang="en-US" sz="800" spc="-1" strike="noStrike">
                <a:solidFill>
                  <a:srgbClr val="000000"/>
                </a:solidFill>
                <a:latin typeface="Calibri"/>
              </a:rPr>
              <a:t> (Budapest Convention, which will be discussed later on) and then write an MLAT request to obtain the data that has been froze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Why are MLAT requests so time consuming?</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s discussed before, it will be necessary to summarise the case, find the applicable national legal dispositions, etc.</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you will then need to translate the request,</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sending and receiving the request can be a lengthy procedure: the MLAT request may have to be transmitted according to specific diplomatic channels or </a:t>
            </a:r>
            <a:r>
              <a:rPr b="0" lang="en-US" sz="800" spc="-1" strike="noStrike">
                <a:solidFill>
                  <a:srgbClr val="000000"/>
                </a:solidFill>
                <a:latin typeface="Calibri"/>
              </a:rPr>
              <a:t>	</a:t>
            </a:r>
            <a:r>
              <a:rPr b="0" lang="en-US" sz="800" spc="-1" strike="noStrike">
                <a:solidFill>
                  <a:srgbClr val="000000"/>
                </a:solidFill>
                <a:latin typeface="Calibri"/>
              </a:rPr>
              <a:t>from ministry of justice to ministry of justice, before being at last submitted to the competent law enforcement or judicial authority.</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This last difficulty will not exist if your country has a specific bilateral agreement which provides contrary disposition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It also does not apply to Member States of the European Union who can directly transmit MLAT requests/EIOs from judicial authority to competent judicial authority (for example from a Prosecutor in France to a courthouse in Germany): article 4 of the 29 May 2000 convention and article 7 of the 2014 Directive regarding the European Investigation Order in Criminal Matter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Proper and as accurate as possible identification of the suspec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167F-E843-47AA-AD5F-8BA30035BE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MLAT requests are time consuming for all parties, it is important to set up prioriti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ybercriminal investigations can very easily lead you abroad, and it would be highly counter-productive to send an MLAT request for every cybercriminal case you tre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important to always keep in mind criteria such a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seriousness of the offence (for example child pornography or terroris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amount of financial damage caus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number of victim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disturbance of “public order” (for example the hacking of a government website or industrial espionag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circumstances in which the offence was committed (for example, organised cr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many MLAT requests will be sent to the United States of America, where most of the major telecommunications service providers are located (FACEBOOK, GOOGLE, TWITTER etc.). Since this country receives so many requests in this particular matter, it is safe to assume that only the ones linked to the more serious types of offences will receive priority treatment. The United State’s judicial system, based on common law, will also require a more extensive summary of the case in order to determine the existence of probable caus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0EA9-A4FC-4875-BF2C-8D73C97F4B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ying appropriate point of contact in other countrie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important to identify the appropriate points of contact in other countries that will allow national law enforcement agents and judicial authorities to freeze and/or obtain digital evidence immediately.</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ta retention rules vary enormously from country to country depending on their national law in this matter, ranging from days, weeks to years…. This is why it so fundamental to take immediate action to secure the necessary digital data.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The state of data retention in Europe is particularly volatile since a recent ruling of the </a:t>
            </a:r>
            <a:r>
              <a:rPr b="0" lang="en-US" sz="600" spc="-1" strike="noStrike">
                <a:solidFill>
                  <a:srgbClr val="000000"/>
                </a:solidFill>
                <a:latin typeface="Calibri"/>
              </a:rPr>
              <a:t>Court of Justice of the European Union has invalidated the so-called “data retention” directive. According to the directive, member States were under the obligation to store citizens’ telecommunications data for a minimum of six months and at most for two years. The permission to access the information relied on a subsequent court decision.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 8 April 2014, the Court of Justice of the European Union declared the directive invalid in response to a case brought by Digital Rights Ireland against the Irish authorities and others. It was ruled that the directive violated principles of purpose limitation and proportionality and contravened individual privacy rights.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ther EU laws and proposals that might be vulnerable to challenge after the court ruling are the draft EU directive on the processing of data by law enforcement authorities, which is being negotiated alongside a proposed EU data protection regulation, a draft EU PNR directive, proposals for a European Terrorist Financing Tracking System, rules on access by governments to the Eurodac law enforcement database of the fingerprints of asylum seekers and proposals for an entry-exit system to track travellers crossing EU borde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terms of the direct effect on national laws that were enacted to implement the Data Retention Directive, EU countries have responded differently to the court judgment. Data protection authorities in the member states generally said decisions on how to precede lay with legislato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owever, the exact status of data retention rules among European countries is somewhat unsure as an effect of this ruling. It can thus also be necessary to react immediately and freeze data, using the legal dispositions of the Budapest Convention, even when dealing with Member States of the European Un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Establishing informal contacts with appropriate counterparts prior to submitting formal MLAT reques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can be interesting to contact in advance the relevant counterparts to inform them that you will be sending an MLAT request. This will:</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r counterpart to identify and anticipate your MLAT reque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 to have a first informal exchange with your counterpart on the content of the case and the evidence you ne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ventually allow your counterpart to start working on the case in advan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order to identify the relevant counterpart, it can be useful to make contact with your national embassy abroad where a law enforcement agent or judicial authority is most likely detached and will be able to give you information. The European Judicial Network (EJN) in criminal matters may also provide information and contact detail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3078-DFB9-4078-9E8D-28EE2B1FA9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Jurisdic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key issues in matters related to cybercrime and electronic evidence is the proper identification of jurisdiction. Various factors are relevant when determining jurisdiction, includi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evidenc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offen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victim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Ownership of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Physical location of service provide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egal residence of service provi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 noted in the work done by the Cloud Evidence Group, these challenges are particularly relevant given the nature of cloud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Time zon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ternational cooperation requires an understanding that a place where you may be requesting cooperation may be running on a different time zone, which could result in delays in receiving responses to requests, or in certain cases, even making requests. Some jurisdictions have 24/7 contact points that may be authorised to receive and respond expeditiously to urgent requests. However, other jurisdictions may not even have access to international phone calls, making it difficult and expensive to coopera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FE29-7015-4F30-8DA6-9D5FE7DAFD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Translation of docum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ateral and multilateral conventions normally specify in which language(s) MLAT requests can be exchanged and whether or not translation is necessary. For instance, Article 5 of the convention on mutual legal assistance between member States of the European Union (29 May 2000) provides that if there is reason to believe that the addressee does not understand the language of a document, the document or at least important passages of the document must be translat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cybercriminal investigations may imply a lot of international cooperation, it is important to identify translators whose work you know is good and who are also capable of translating some of the more technical terms that sometimes appear in cybercriminal MLAT reques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Language barri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ny MLAT requests specify which languages the relevant law enforcement officials and prosecutors can communicate i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are communicating by phone, it could be interesting to prepare in advance what you need to say and the technical or legal terms which are appropriat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can also sometimes be easier to exchange in a foreign language by e mai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54C2-7A9A-40B1-BD18-FF44B01DF2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Delays due to the different importance levels of cybercrime investigations in different countri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ot all countries have a specialised law enforcement or judicial structure that is trained and equipped to handle cybercriminal investig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Providing technical and expert suppor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echnical and expert support can be provided by being sufficiently precise when establishing an MLAT request and detailing exactly which investigative acts you need done and which results you are seeking (</a:t>
            </a:r>
            <a:r>
              <a:rPr b="0" lang="en-GB" sz="1000" spc="-1" strike="noStrike" u="sng">
                <a:solidFill>
                  <a:srgbClr val="ff0000"/>
                </a:solidFill>
                <a:uFillTx/>
                <a:latin typeface="Calibri"/>
              </a:rPr>
              <a:t>see slide 55</a:t>
            </a:r>
            <a:r>
              <a:rPr b="0" lang="en-GB" sz="1000" spc="-1" strike="noStrike">
                <a:solidFill>
                  <a:srgbClr val="ff0000"/>
                </a:solidFill>
                <a:latin typeface="Calibri"/>
              </a:rPr>
              <a:t>). These questions may also be evoked during direct and informal contacts between law enforcement officers and prosecutor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his support can be provided in a more formal context by </a:t>
            </a:r>
            <a:r>
              <a:rPr b="0" lang="en-US" sz="1000" spc="-1" strike="noStrike">
                <a:solidFill>
                  <a:srgbClr val="000000"/>
                </a:solidFill>
                <a:latin typeface="Calibri"/>
              </a:rPr>
              <a:t>signing a joint investigation team (JIT) agreement (</a:t>
            </a:r>
            <a:r>
              <a:rPr b="0" lang="en-US" sz="1000" spc="-1" strike="noStrike" u="sng">
                <a:solidFill>
                  <a:srgbClr val="000000"/>
                </a:solidFill>
                <a:uFillTx/>
                <a:latin typeface="Calibri"/>
              </a:rPr>
              <a:t>see slide 6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general, it is a good idea to limit all MLAT requests to investigative acts that you can in no case do on your own. For example if you need to have a computer seized and analysed, the best option is to only ask for the requested law enforcement authorities to seize the relevant computer and send it. You can then ask your own law enforcement officials or experts to analyse the computer and are sure that the procedures in doing this will be in conformity with your national legislation.  </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it can be interesting to exploit more traditional forms of investigation, such as obtaining witness statements or banking documents and financial evidence. (</a:t>
            </a:r>
            <a:r>
              <a:rPr b="0" lang="en-US" sz="1200" spc="-1" strike="noStrike" u="sng">
                <a:solidFill>
                  <a:srgbClr val="000000"/>
                </a:solidFill>
                <a:uFillTx/>
                <a:latin typeface="Calibri"/>
              </a:rPr>
              <a:t>slides 56 and 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bercrime may seem like a virtual world but the people who commit these offences do so with the same basic motivation as for any other 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the “money flow” and determining who profits from the offence is often one of the most pertinent and simple ways to investigate cybercrime offences efficiently.   </a:t>
            </a:r>
            <a:endParaRPr b="0" lang="en-US" sz="1200" spc="-1" strike="noStrike">
              <a:solidFill>
                <a:srgbClr val="000000"/>
              </a:solidFill>
              <a:latin typeface="Calibri"/>
            </a:endParaRPr>
          </a:p>
        </p:txBody>
      </p:sp>
      <p:sp>
        <p:nvSpPr>
          <p:cNvPr id="19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C643-E94D-4BEA-8A5B-F4CC854754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p:txBody>
      </p:sp>
      <p:sp>
        <p:nvSpPr>
          <p:cNvPr id="20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8530-A9AC-4A3C-A185-3E5B35573A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D784-A601-4D99-BEEF-F0CC268E00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45E28-E54C-4B56-B7BA-27814C985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3E48-2608-487C-9547-205A3DF0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D08FF-B988-4557-A358-A1CB4D25E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301A1-4C5E-4324-825B-B1412BC4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9392-40C0-493D-ABB2-431D6267E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11AB9-D390-4E5B-B43B-C6A5295E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AC73-E869-4351-A8A0-8EC5152E3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DD8A6-8F4B-4344-AEE9-B7BBE71E9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4E62-0A8E-47D0-81F9-B16B1F565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8E48-2303-4681-A1A3-91F5573C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403D-FD18-4EF4-BE52-C51BAFBD2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5201-05AE-4E17-B5B2-61AF9F599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58A4-E7CF-4486-A58B-C6893945BC6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level of knowledge and experience of police officers </a:t>
            </a:r>
            <a:r>
              <a:rPr b="0" lang="en-GB" sz="2400" spc="-1" strike="noStrike">
                <a:solidFill>
                  <a:srgbClr val="000000"/>
                </a:solidFill>
                <a:latin typeface="Calibri"/>
              </a:rPr>
              <a:t>and prosecutors when reporting and filling charges to them could be of crucial importance for proper understanding of the case and for the timely and adequate actions to be taken in order to preserve and obtain evid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e officers and prosecutors may need to seek additional assistance when needed, both from within „the house“ as well as from the outside, including cooperation and contribution by the victim who will naturally have an interest in solving the c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A102-1CC7-46BA-AEFA-9BF6B7A881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fying the </a:t>
            </a:r>
            <a:r>
              <a:rPr b="1" lang="en-GB" sz="2400" spc="-1" strike="noStrike">
                <a:solidFill>
                  <a:srgbClr val="000000"/>
                </a:solidFill>
                <a:latin typeface="Calibri"/>
              </a:rPr>
              <a:t>legal instrument used to seek assistance </a:t>
            </a:r>
            <a:r>
              <a:rPr b="0" lang="en-GB" sz="2400" spc="-1" strike="noStrike">
                <a:solidFill>
                  <a:srgbClr val="000000"/>
                </a:solidFill>
                <a:latin typeface="Calibri"/>
              </a:rPr>
              <a:t>- treaty, convention or other instrument of cooperation.</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clearly who is conducting the investigation/prosecution</a:t>
            </a:r>
            <a:r>
              <a:rPr b="0" lang="en-GB" sz="2400" spc="-1" strike="noStrike">
                <a:solidFill>
                  <a:srgbClr val="000000"/>
                </a:solidFill>
                <a:latin typeface="Calibri"/>
              </a:rPr>
              <a:t>. Provide all necessary contact details and preferred means of communication.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mmarising the case </a:t>
            </a:r>
            <a:r>
              <a:rPr b="0" lang="en-GB" sz="2400" spc="-1" strike="noStrike">
                <a:solidFill>
                  <a:srgbClr val="000000"/>
                </a:solidFill>
                <a:latin typeface="Calibri"/>
              </a:rPr>
              <a:t>- provide a detailed outline of the case under investigation or prosecution, including a summary of the evidence that supports the investigation/prosecution. Explain rationale for evidence and actions being sought in regard to the on-going investigation.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62F2-6148-411D-9B3E-0A1558B682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e to the applicable national legal provisions </a:t>
            </a:r>
            <a:r>
              <a:rPr b="0" lang="en-GB" sz="2400" spc="-1" strike="noStrike">
                <a:solidFill>
                  <a:srgbClr val="000000"/>
                </a:solidFill>
                <a:latin typeface="Calibri"/>
              </a:rPr>
              <a:t>– full text of all relevant legal provisions under investigation/prosecution, including applicable sentencing provisions.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recise identification of the assistance being sought </a:t>
            </a:r>
            <a:r>
              <a:rPr b="0" lang="en-GB" sz="2400" spc="-1" strike="noStrike">
                <a:solidFill>
                  <a:srgbClr val="000000"/>
                </a:solidFill>
                <a:latin typeface="Calibri"/>
              </a:rPr>
              <a:t>- what are you seeking exactly. </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3338-911B-4D91-B017-59569B4400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witness statement/testimony</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Wherabouts of the per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ational procedural rules related to the witne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The specific information and list of questions sought from the witness</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EF22-5AC8-4E41-95A4-D91A20CDA0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documentary evidenc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A clear indication of the documents to acqui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 </a:t>
            </a:r>
            <a:r>
              <a:rPr b="0" lang="bs-BA" sz="2800" spc="-1" strike="noStrike">
                <a:solidFill>
                  <a:srgbClr val="000000"/>
                </a:solidFill>
                <a:latin typeface="Calibri"/>
              </a:rPr>
              <a:t>A clear indication as to the place where the documents/items/evidence can be found or the person or the entity which detains them</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AF3B-E385-4756-9575-30FAEDC19A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lectronic evidenc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as many details as possible related to electronic evidence to acquire, provide necessary </a:t>
            </a:r>
            <a:r>
              <a:rPr b="1" lang="en-US" sz="2600" spc="-1" strike="noStrike">
                <a:solidFill>
                  <a:srgbClr val="000000"/>
                </a:solidFill>
                <a:latin typeface="Calibri"/>
              </a:rPr>
              <a:t>technical information</a:t>
            </a:r>
            <a:r>
              <a:rPr b="0" lang="en-US" sz="2600" spc="-1" strike="noStrike">
                <a:solidFill>
                  <a:srgbClr val="000000"/>
                </a:solidFill>
                <a:latin typeface="Calibri"/>
              </a:rPr>
              <a:t> on sought evidence if available (</a:t>
            </a:r>
            <a:r>
              <a:rPr b="1" lang="en-US" sz="2600" spc="-1" strike="noStrike">
                <a:solidFill>
                  <a:srgbClr val="000000"/>
                </a:solidFill>
                <a:latin typeface="Calibri"/>
              </a:rPr>
              <a:t>server/system time, time framework, identification details such as IP and MAC addresses, email address, user account details, etc.</a:t>
            </a:r>
            <a:r>
              <a:rPr b="0" lang="en-US"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Indicate the place and details where the assets can be found or the person or the entity which detains them </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AD3E-930B-4F0F-8F1D-4B284845A1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xecution of a search warrant</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enclose valid search warrant issued by domestic judicial autho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precise indications of the places and objects to be search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detailed rules to follow in executing the sear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accurate indications on the evidence to be search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EBF6-F918-4996-B204-3B735A2C26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seizure/confiscatio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copy of the valid seizure or confiscation order issued by the domestic judicial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cise indications of the items to be seized/confiscat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dicate any </a:t>
            </a:r>
            <a:r>
              <a:rPr b="1" lang="en-GB" sz="2800" spc="-1" strike="noStrike">
                <a:solidFill>
                  <a:srgbClr val="000000"/>
                </a:solidFill>
                <a:latin typeface="Calibri"/>
              </a:rPr>
              <a:t>specific rules if needed in executing the search </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20EF-26EB-4073-966F-0332FFFB84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special investigative measure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provide a copy of the valid warrant for SIMs issued by the competent domestic judicial autho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cope and nature of actions to be take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pecial conditions to be observed – </a:t>
            </a:r>
            <a:r>
              <a:rPr b="1" lang="bs-BA" sz="2400" spc="-1" strike="noStrike">
                <a:solidFill>
                  <a:srgbClr val="000000"/>
                </a:solidFill>
                <a:latin typeface="Calibri"/>
              </a:rPr>
              <a:t>identity/anonimity of undercover agents,</a:t>
            </a:r>
            <a:r>
              <a:rPr b="0" lang="bs-BA" sz="2400" spc="-1" strike="noStrike">
                <a:solidFill>
                  <a:srgbClr val="000000"/>
                </a:solidFill>
                <a:latin typeface="Calibri"/>
              </a:rPr>
              <a:t> technical and logistics requirements, covering of costs and expenses, </a:t>
            </a:r>
            <a:r>
              <a:rPr b="1" lang="bs-BA" sz="2400" spc="-1" strike="noStrike">
                <a:solidFill>
                  <a:srgbClr val="000000"/>
                </a:solidFill>
                <a:latin typeface="Calibri"/>
              </a:rPr>
              <a:t>channels of communications specified</a:t>
            </a:r>
            <a:r>
              <a:rPr b="0" lang="bs-BA" sz="2400" spc="-1" strike="noStrike">
                <a:solidFill>
                  <a:srgbClr val="000000"/>
                </a:solidFill>
                <a:latin typeface="Calibri"/>
              </a:rPr>
              <a:t>,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If necessary, have a </a:t>
            </a:r>
            <a:r>
              <a:rPr b="1" lang="bs-BA" sz="2400" spc="-1" strike="noStrike" u="sng">
                <a:solidFill>
                  <a:srgbClr val="000000"/>
                </a:solidFill>
                <a:uFillTx/>
                <a:latin typeface="Calibri"/>
              </a:rPr>
              <a:t>JIT</a:t>
            </a:r>
            <a:r>
              <a:rPr b="0" lang="bs-BA" sz="2400" spc="-1" strike="noStrike">
                <a:solidFill>
                  <a:srgbClr val="000000"/>
                </a:solidFill>
                <a:latin typeface="Calibri"/>
              </a:rPr>
              <a:t> agreement signed </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915B-1125-42CA-A730-8CCF237327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light any specific </a:t>
            </a:r>
            <a:r>
              <a:rPr b="1" lang="en-GB" sz="2800" spc="-1" strike="noStrike">
                <a:solidFill>
                  <a:srgbClr val="000000"/>
                </a:solidFill>
                <a:latin typeface="Calibri"/>
              </a:rPr>
              <a:t>confidentiality requirements</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t out and specify urgency level in the execution of the request as well as the time limi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er and as accurate as possible identification of the suspect(s) – bear in mind this is a virtual world – identity could be easily hidden, altered, stol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5688-A88F-454B-BDB9-DFC14317B4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per identification </a:t>
            </a:r>
            <a:r>
              <a:rPr b="0" lang="bs-BA" sz="3200" spc="-1" strike="noStrike">
                <a:solidFill>
                  <a:srgbClr val="000000"/>
                </a:solidFill>
                <a:latin typeface="Calibri"/>
              </a:rPr>
              <a:t>and </a:t>
            </a:r>
            <a:r>
              <a:rPr b="0" lang="en-GB" sz="3200" spc="-1" strike="noStrike">
                <a:solidFill>
                  <a:srgbClr val="000000"/>
                </a:solidFill>
                <a:latin typeface="Calibri"/>
              </a:rPr>
              <a:t>of </a:t>
            </a:r>
            <a:r>
              <a:rPr b="1" lang="en-GB" sz="3200" spc="-1" strike="noStrike">
                <a:solidFill>
                  <a:srgbClr val="000000"/>
                </a:solidFill>
                <a:latin typeface="Calibri"/>
              </a:rPr>
              <a:t>prioritisation</a:t>
            </a:r>
            <a:r>
              <a:rPr b="0" lang="en-GB" sz="3200" spc="-1" strike="noStrike">
                <a:solidFill>
                  <a:srgbClr val="000000"/>
                </a:solidFill>
                <a:latin typeface="Calibri"/>
              </a:rPr>
              <a:t> evidence to be requested by MLAT –</a:t>
            </a:r>
            <a:r>
              <a:rPr b="0" lang="bs-BA" sz="3200" spc="-1" strike="noStrike">
                <a:solidFill>
                  <a:srgbClr val="000000"/>
                </a:solidFill>
                <a:latin typeface="Calibri"/>
              </a:rPr>
              <a:t> </a:t>
            </a:r>
            <a:r>
              <a:rPr b="0" lang="en-GB" sz="3200" spc="-1" strike="noStrike">
                <a:solidFill>
                  <a:srgbClr val="000000"/>
                </a:solidFill>
                <a:latin typeface="Calibri"/>
              </a:rPr>
              <a:t>setting up priorities – choosing only the vital ones for the investigation – rationalisation of resources and increasing efficiency.</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7EC9-9CB5-48D3-BF12-835C4A258A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appropriate point of contact in other countries </a:t>
            </a:r>
            <a:r>
              <a:rPr b="0" lang="en-GB" sz="2400" spc="-1" strike="noStrike">
                <a:solidFill>
                  <a:srgbClr val="000000"/>
                </a:solidFill>
                <a:latin typeface="Calibri"/>
              </a:rPr>
              <a:t>– 24/7 points in light of Budapest Convention, Interpol channels, etc. – especially for </a:t>
            </a:r>
            <a:r>
              <a:rPr b="1" lang="en-GB" sz="2400" spc="-1" strike="noStrike">
                <a:solidFill>
                  <a:srgbClr val="000000"/>
                </a:solidFill>
                <a:latin typeface="Calibri"/>
              </a:rPr>
              <a:t>“hot pursuit” </a:t>
            </a:r>
            <a:r>
              <a:rPr b="0" lang="en-GB" sz="2400" spc="-1" strike="noStrike">
                <a:solidFill>
                  <a:srgbClr val="000000"/>
                </a:solidFill>
                <a:latin typeface="Calibri"/>
              </a:rPr>
              <a:t>cases where immediate action is to be taken in order to secure and preserve digital data (electronic evid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ing informal contacts with appropriate counterparts prior to submitting formal MLAT</a:t>
            </a:r>
            <a:r>
              <a:rPr b="0" lang="en-GB" sz="2400" spc="-1" strike="noStrike">
                <a:solidFill>
                  <a:srgbClr val="000000"/>
                </a:solidFill>
                <a:latin typeface="Calibri"/>
              </a:rPr>
              <a:t> in order to inform them about the upcoming MLAT, conducting operational checks in order to specify the request as detailed as possi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6EB6-5596-4A37-B551-E2664B2BA9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king sure the </a:t>
            </a:r>
            <a:r>
              <a:rPr b="1" lang="en-GB" sz="2200" spc="-1" strike="noStrike">
                <a:solidFill>
                  <a:srgbClr val="000000"/>
                </a:solidFill>
                <a:latin typeface="Calibri"/>
              </a:rPr>
              <a:t>jurisdiction</a:t>
            </a:r>
            <a:r>
              <a:rPr b="0" lang="en-GB" sz="2200" spc="-1" strike="noStrike">
                <a:solidFill>
                  <a:srgbClr val="000000"/>
                </a:solidFill>
                <a:latin typeface="Calibri"/>
              </a:rPr>
              <a:t> was properly identified in terms of where </a:t>
            </a:r>
            <a:r>
              <a:rPr b="1" lang="en-GB" sz="2200" spc="-1" strike="noStrike">
                <a:solidFill>
                  <a:srgbClr val="000000"/>
                </a:solidFill>
                <a:latin typeface="Calibri"/>
              </a:rPr>
              <a:t>evidence/offenders/victims are located</a:t>
            </a:r>
            <a:r>
              <a:rPr b="0" lang="en-GB" sz="2200" spc="-1" strike="noStrike">
                <a:solidFill>
                  <a:srgbClr val="000000"/>
                </a:solidFill>
                <a:latin typeface="Calibri"/>
              </a:rPr>
              <a:t> bearing in mind purely technological matters such as </a:t>
            </a:r>
            <a:r>
              <a:rPr b="1" lang="en-GB" sz="2200" spc="-1" strike="noStrike">
                <a:solidFill>
                  <a:srgbClr val="000000"/>
                </a:solidFill>
                <a:latin typeface="Calibri"/>
              </a:rPr>
              <a:t>ownership of electronic data, server/provider physical location and legal residence of the server/provider owner(s) – i.e. servers located in one country or cloud-computing case with owners registered and operating from different jurisdi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fferent time zones </a:t>
            </a:r>
            <a:r>
              <a:rPr b="0" lang="en-GB" sz="2200" spc="-1" strike="noStrike">
                <a:solidFill>
                  <a:srgbClr val="000000"/>
                </a:solidFill>
                <a:latin typeface="Calibri"/>
              </a:rPr>
              <a:t>– difficulties in establishing contacts even when using modern means of communication (i.e. teleconferences) – it could delay investigation/MLAT requests and increase of costs – there are still police and prosecution offices with no access to international phone calls!</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3FD3-EC72-42C4-AC24-F7D9F27C0C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anslation</a:t>
            </a:r>
            <a:r>
              <a:rPr b="0" lang="en-GB" sz="3200" spc="-1" strike="noStrike">
                <a:solidFill>
                  <a:srgbClr val="000000"/>
                </a:solidFill>
                <a:latin typeface="Calibri"/>
              </a:rPr>
              <a:t> of documents – many states require MLATs translated into their official langu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 barriers during direct and informal contacts between law enforcement officials, prosecutors and judges.</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327E-C7A4-4F66-86A9-6876B45B7F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Be prepared for delays</a:t>
            </a:r>
            <a:r>
              <a:rPr b="0" lang="bs-BA" sz="2800" spc="-1" strike="noStrike">
                <a:solidFill>
                  <a:srgbClr val="000000"/>
                </a:solidFill>
                <a:latin typeface="Calibri"/>
              </a:rPr>
              <a:t> due </a:t>
            </a:r>
            <a:r>
              <a:rPr b="0" lang="fr-FR" sz="2800" spc="-1" strike="noStrike">
                <a:solidFill>
                  <a:srgbClr val="000000"/>
                </a:solidFill>
                <a:latin typeface="Calibri"/>
              </a:rPr>
              <a:t>to </a:t>
            </a:r>
            <a:r>
              <a:rPr b="0" lang="bs-BA" sz="2800" spc="-1" strike="noStrike">
                <a:solidFill>
                  <a:srgbClr val="000000"/>
                </a:solidFill>
                <a:latin typeface="Calibri"/>
              </a:rPr>
              <a:t>the </a:t>
            </a:r>
            <a:r>
              <a:rPr b="0" lang="en-GB" sz="2800" spc="-1" strike="noStrike">
                <a:solidFill>
                  <a:srgbClr val="000000"/>
                </a:solidFill>
                <a:latin typeface="Calibri"/>
              </a:rPr>
              <a:t>different importance levels of cybercrime investigations in different countr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ider providing technical and expert support if requested party has no own capacities to execute your requ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C9C0-E4E7-4F87-B555-C900B5BA95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ider requesting and deploying conventional/ traditional investigative tools and measures whenever possible </a:t>
            </a:r>
            <a:r>
              <a:rPr b="0" lang="en-GB" sz="2800" spc="-1" strike="noStrike">
                <a:solidFill>
                  <a:srgbClr val="000000"/>
                </a:solidFill>
                <a:latin typeface="Calibri"/>
              </a:rPr>
              <a:t>– police officers/prosecutors more used to it, could sometimes equally serve the purpose and provide sufficient evidence for successful investigation and criminal proceeding.</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FF10-C908-45F8-BDA9-C8B503CFFA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Questions</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7423-1403-47EA-BF4A-5CB31AEA96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a:t>
                      </a:r>
                      <a:r>
                        <a:rPr b="0" lang="sl-SI" sz="1800" spc="-1" strike="noStrike">
                          <a:solidFill>
                            <a:srgbClr val="000000"/>
                          </a:solidFill>
                          <a:latin typeface="Calibri"/>
                        </a:rPr>
                        <a:t>delay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09:13:36Z</dcterms:modified>
  <cp:revision>412</cp:revision>
  <dc:subject/>
  <dc:title>PowerPoint Presentation</dc:title>
</cp:coreProperties>
</file>