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F222-73A3-483E-AC31-FDCA5CE49C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B7E4-D7F7-4513-8741-AF89A6AC69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76B8-8A47-4484-9E01-0F7849568D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FE51-C1E0-44BA-A2F6-352BE7A1422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255840" y="506520"/>
            <a:ext cx="3357720" cy="2517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316160" y="3193560"/>
            <a:ext cx="7238880" cy="302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CA3B-3BDE-4466-B726-5A37411835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5D4B-4E9E-4D9A-8B18-20FE3FFC4C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C63C-B364-47ED-86A4-CF0FA9BC00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ABAE-68A7-4F6A-AFCD-14DBE5FCAB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4015-31CC-40FF-BA1F-78ACC7CF6A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FFB4-B4C4-4380-B253-6174D1A56D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A165-361F-45C6-AA5D-83E1CDC00D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DC29-E763-4141-B8B4-715BF61F61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873F-BF57-4CF4-A3AE-B9726EB0EB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4C97-A584-45D2-A935-4153D56E1F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C639-4DF7-452E-8892-114548FD6D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50F7-A5FD-4788-BB24-413C184F90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8E9B-E2D2-46BB-8361-14112AA7E5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DCBF-B7D8-4776-8F97-043E418D0D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F81B-D2A5-4FB8-85D2-CD0F2A6C1F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57FC-3D59-4D5C-9942-9A20BAD98B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917F-F555-437B-8B96-C943B3E4B0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0FE7-1343-44E3-9A8B-D1928C1CA7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6583-0223-4093-822C-9D287C1F08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3D4F-93AF-4E1F-8D62-9C244DB2B4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1F08-F1DF-4967-941A-C402E9CD3E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264C-13AD-4980-BA20-F552899FD0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8130-9375-4214-BA3E-87869BDA7F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F985-133F-4169-BADE-852DB42C58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3317-0433-4E8C-A57B-C6D750DABF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6825-C4C5-487A-85A1-3D4D6498CB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F6E1-8C7D-4ACC-A193-CE0E1AE4F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2C8E-403C-4B8A-A52A-FD5D944E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48C2-CBC6-454B-9117-21D6F4BDC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6885-5AB2-4E93-BBE5-27A9577DC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AED3-74D0-4121-AFD6-87115ACD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6EC9-CD32-443A-975C-8827EFB6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5F3F-7BE1-4A01-B6D6-1FE1274F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AAB8-9B5B-42AE-959E-81DE650C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453E-1318-4476-9822-3E34C8B3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37AC-C88C-4EA6-B950-859B91E2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9450-0410-4129-AF6A-44E200F1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EFBA-469E-4E87-8296-53143549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256C-AFA1-494F-A02C-902012A852A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ying Suspects on the 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sion 1.1.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Email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mail is not sent directly from one person to anothe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ather, a technique known as “store and forward” is used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cords of the storing and forwarding of a particular email message are associated with that messag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ach person has an incoming and an outgoing mail server and email is sent and delivered as shown on the next slid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Email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ail is not sent directly from one person to anoth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her, a technique known as “store and forward” is us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person has an incoming and an outgoing mail server and email is sent and delivered as shown on the next sl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2"/>
          <p:cNvSpPr/>
          <p:nvPr/>
        </p:nvSpPr>
        <p:spPr>
          <a:xfrm>
            <a:off x="6877080" y="4076640"/>
            <a:ext cx="574560" cy="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Line 3"/>
          <p:cNvSpPr/>
          <p:nvPr/>
        </p:nvSpPr>
        <p:spPr>
          <a:xfrm flipV="1">
            <a:off x="1332000" y="4365360"/>
            <a:ext cx="934920" cy="86364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Line 4"/>
          <p:cNvSpPr/>
          <p:nvPr/>
        </p:nvSpPr>
        <p:spPr>
          <a:xfrm flipV="1">
            <a:off x="2700360" y="3141360"/>
            <a:ext cx="792000" cy="64620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5"/>
          <p:cNvSpPr/>
          <p:nvPr/>
        </p:nvSpPr>
        <p:spPr>
          <a:xfrm>
            <a:off x="5219640" y="2924280"/>
            <a:ext cx="863640" cy="79380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Line 6"/>
          <p:cNvSpPr/>
          <p:nvPr/>
        </p:nvSpPr>
        <p:spPr>
          <a:xfrm>
            <a:off x="7885080" y="4365720"/>
            <a:ext cx="0" cy="64764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95280" y="3645000"/>
            <a:ext cx="100800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OP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loud"/>
          <p:cNvSpPr/>
          <p:nvPr/>
        </p:nvSpPr>
        <p:spPr>
          <a:xfrm>
            <a:off x="2916360" y="1197000"/>
            <a:ext cx="3168360" cy="21240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  <a:ea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omputr2"/>
          <p:cNvSpPr/>
          <p:nvPr/>
        </p:nvSpPr>
        <p:spPr>
          <a:xfrm>
            <a:off x="539640" y="5013360"/>
            <a:ext cx="1800360" cy="1512720"/>
          </a:xfrm>
          <a:custGeom>
            <a:avLst/>
            <a:gdLst>
              <a:gd name="textAreaLeft" fmla="*/ 516240 w 1800360"/>
              <a:gd name="textAreaRight" fmla="*/ 1297440 w 1800360"/>
              <a:gd name="textAreaTop" fmla="*/ 133920 h 1512720"/>
              <a:gd name="textAreaBottom" fmla="*/ 682560 h 151272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computr2"/>
          <p:cNvSpPr/>
          <p:nvPr/>
        </p:nvSpPr>
        <p:spPr>
          <a:xfrm>
            <a:off x="6875640" y="5013360"/>
            <a:ext cx="1800000" cy="1511280"/>
          </a:xfrm>
          <a:custGeom>
            <a:avLst/>
            <a:gdLst>
              <a:gd name="textAreaLeft" fmla="*/ 516240 w 1800000"/>
              <a:gd name="textAreaRight" fmla="*/ 1297080 w 1800000"/>
              <a:gd name="textAreaTop" fmla="*/ 133560 h 1511280"/>
              <a:gd name="textAreaBottom" fmla="*/ 681840 h 151128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1835280" y="3645000"/>
            <a:ext cx="100800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M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7451640" y="3716280"/>
            <a:ext cx="100800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OP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4"/>
          <p:cNvSpPr/>
          <p:nvPr/>
        </p:nvSpPr>
        <p:spPr>
          <a:xfrm>
            <a:off x="6084720" y="3716280"/>
            <a:ext cx="100836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M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2362320" y="434340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When Alice presses SEND her E-mail is moved from her computer to her Internet Service Providers outgoing mail 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179280" y="249228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Alice’s ISP then forwards the E-mail out onto the Intern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6781680" y="2492280"/>
            <a:ext cx="227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he mail is forwarded to the incoming (POP3) mail server of Bob’s IS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5486400" y="457200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he next time Bob connects to his ISP the E-mail is downloaded to his compu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19"/>
          <p:cNvSpPr/>
          <p:nvPr/>
        </p:nvSpPr>
        <p:spPr>
          <a:xfrm>
            <a:off x="1042920" y="5157720"/>
            <a:ext cx="7923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AL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20"/>
          <p:cNvSpPr/>
          <p:nvPr/>
        </p:nvSpPr>
        <p:spPr>
          <a:xfrm>
            <a:off x="7380360" y="5157720"/>
            <a:ext cx="792000" cy="57636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BO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2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CD24-DCCA-40FF-A677-DC4F9ECA77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8817120" y="423396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Email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mail consists of two pa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der: Contains information about who the message is from, who it is for, subject, date etc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how it has been stored/forwarded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dy: The actual content of the email mess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xample email with headers is shown on the next sl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468360" y="1341360"/>
            <a:ext cx="822960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Microsoft Mail Internet Headers Version 2.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ceived: from xproxy.gmail.com ([66.249.82.197]) by exchange1.trl.org with Microsoft SMTPSVC(6.0.3790.0); Tue, 27 Mar 2007 09:44:54 +01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ceived: by xproxy.gmail.com with SMTP id h28so988094wx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for &lt;Jim.Stark@trl.org&gt;; Tue, 27 Mar 2007 00:44:31 -0800 (PS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DomainKey-Signature: a=rsa-sha1; q=dns; c=nofw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s=beta; d=gmail.com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h=received:message-id:date:from:to:subject:in-reply-to:mime-version:content-type:reference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b=RY8mK69lgiScvczLvTJmfvlXoZa1zUskwWsukAn3jlzblALGzxF/pzpDKyrEnIDyZrKp8VnthCyCgyHOfi7KCHhaseAXG4UAQO8zIbSFDxw6uVN0jUVYQx0a60pjkFBxmdzL/PCDEllSFEExVQB+m0WD/lcGQEgGmecYV1nRmy8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ceived: by 10.70.100.14 with SMTP id x14mr6330299wxb; Tue, 27 Mar 2007 00:44:30 -0800 (PS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ceived: by 10.70.122.16 with HTTP; Tue, 27 Mar 2007 00:44:30 -0800 (PS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Message-ID: &lt;95ecf0550603280044n7a18048fs8e37cf2c2ea3a3d8@mail.gmail.com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Date: Tue, 27 Mar 2007 09:44:30 +01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From: "Jim Stark" &lt;jc.stark@gmail.com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o: "Jim Stark" &lt;Jim.Stark@trl.org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Subject: Re: te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In-Reply-To: &lt;42675D880C511048AE555539A210615627A281@exchange1.trl.org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MIME-Version: 1.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Content-Type: multipart/alternative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boundary="----=_Part_21605_28805312.1143535470923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ferences: &lt;42675D880C511048AE555539A210615627A281@exchange1.trl.org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turn-Path: jc.stark@gmail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X-OriginalArrivalTime: 27 Mar 2007 08:44:54.0322 (UTC) FILETIME=[E283E920:01C65243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ltinational Service Provider Reco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Multinational Service Providers (Facebook, Google. Etc.) might be able to tell you which IP address was used by a subscriber at a particular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Need to know the ID (e.g. Facebook user ID) of the susp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International cooperation typically requir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vert Investigation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If you already have a suspect, covert investigation techniques (e.g. Wiretapping) can be used to identify the IP address(es) in use by the susp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SSOCIATING IP Address TO Real world IDENT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22160" y="29304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emonstration: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at is MY IP ADDRESS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no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P address might allow identification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et Service Provi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olo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ssion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resher: Know what an IP address 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how you can find a suspect IP addr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how you can associate a suspect IP address with a real pers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 three technical challenges to identification of suspects on the Intern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P Reco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Internet Service Providers will typically keep records of which subscriber was using a particular IP address at a particular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How long these records are retained for will depend on national legis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How to get access to these records will depend on national legis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P Records: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What is involved in getting access to ISP subscriber da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How do you know which ISP to request data fr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olocation: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Where do you think the geolocation data comes fr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Absolutely no guarantees of reliability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no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, not always traceable to a specific pers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c vs. Dynamic IP addr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twork Address Translation (NA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ime of the activity is crucial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poratio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Corporations using Network Address Translation (NAT) may have the records to be able to associate suspect activity with a specific internal IP addr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How engagement with the company takes place will depend on national legis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Records seldom exi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en if you can find the computer</a:t>
            </a:r>
            <a:r>
              <a:rPr b="0" lang="is-I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was using the compu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ote control of the compu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Fi access poi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of VP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ome MORE Technical Challen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Intentional and unintentional, legitimate and illegitimate obfuscation may take pl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Some example will be discus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onymising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Both paid and free services are available to conceal online activi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Anonymising web proxies specifically conceal the source of web browsing activi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Anonymising email providers specifically conceal the sender of emai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Anonymising IP proxies conceal all the source of all Internet traffi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600" spc="-1" strike="noStrike">
                <a:solidFill>
                  <a:srgbClr val="000000"/>
                </a:solidFill>
                <a:latin typeface="Calibri"/>
              </a:rPr>
              <a:t>Example: T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360" y="2276280"/>
            <a:ext cx="8229600" cy="3917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scl8"/>
          <p:cNvPicPr/>
          <p:nvPr/>
        </p:nvPicPr>
        <p:blipFill>
          <a:blip r:embed="rId2"/>
          <a:stretch/>
        </p:blipFill>
        <p:spPr>
          <a:xfrm>
            <a:off x="1042920" y="1197000"/>
            <a:ext cx="70437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 Address (version 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P address consists of four numbers between 0 and 255, separated by full-stops/perio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2.3.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0.4.0.18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also a newer form of IP addresses (version 6) which will not be discussed he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cry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It is possible that communication might be encrypt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Either the content of the entire communication might be encryp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rier Grade N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A technique for associating a very large number of users with a single IP addr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Commonly used for Internet connectivity on mobile phone networ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IP addresses are a necessary but not sufficient identifier of a person’s online activi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Associating an IP address with a real person is extremely difficul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Technologies are available to make tracing a person online even more difficul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Wherever possible other sources of evidence should be used to support the IP address eviden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41" name="TextBox 4"/>
          <p:cNvSpPr/>
          <p:nvPr/>
        </p:nvSpPr>
        <p:spPr>
          <a:xfrm>
            <a:off x="3087360" y="4500720"/>
            <a:ext cx="298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 Address (version 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IP addresses are not valid on the Internet, only for private (internal) u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.x.x.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92.168.x.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72.16.x.x-172.31.x.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dentifying Suspect IP Addr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ine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user’s online activity might generate recor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records might contain the IP address of the user’s communic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can be an important piece of information for identifying a susp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ecessary but not sufficient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Web Browsing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b browsing activity involves a user sending requests to a web server and the web server sending responses back to the us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format of the requests and responses is described using a protocol known as Hypertext Transfer Protocol (HTTP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y default, a web server will log all incoming requests, including the IP address from which the request was receive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Web Browsing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276640"/>
            <a:ext cx="8229600" cy="459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192.220.98.177 - - [23/Sep/2006:21:09:27 -0400] "GET / HTTP/1.0" 206 1729 "-" "Servmon::Monitor::apache/1.03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ahoma"/>
              </a:rPr>
              <a:t>216.128.130.126 - - [23/Sep/2006:21:30:02 -0400] "GET /pgp/ HTTP/1.0" 200 1871 "http://dir.yahoo.com/Computers_and_Internet/Security_and_Encryption/PGP___Pretty_Good_Privacy/" "Mozilla/4.0 (compatible; MSIE 6.0 [en] Win NT 5.1; U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66.196.73.20 - - [23/Sep/2006:21:33:35 -0400] "GET /pgp/pgpdoc2/pgpdoc2_65.html HTTP/1.0" 200 7185 "-" "Mozilla/5.0 (Slurp/cat; slurp@inktomi.com; http://www.inktomi.com/slurp.html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63.229.162.177 - - [23/Sep/2006:21:34:31 -0400] "GET /stephen/singers/ HTTP/1.1" 200 1936 "http://www.dosado.com/callers/default.htm " "Mozilla/4.0 (compatible; MSIE 5.5; Windows 98; Win 9x 4.90)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138.162.0.41 - - [23/Sep/2006:21:36:27 -0400] "GET /gallery/Colorado02?&amp;page=2 HTTP/1.0" 200 19649 "http://www.google.com/search?q=st+malo+chapel+colorado&amp;hl=en&amp;lr=&amp;ie=UTF-8&amp;start=20&amp;sa=N" "Mozilla/4.76 [en] (Windows NT 5.0; U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12.255.212.29 - - [23/Sep/2006:21:51:42 -0400] "GET /cgi- bin/formmail.cgi?recipient=lharleyren49@aol.com&amp;subject= http://www.gildea.com/cgi-bin/formmail.cgi&amp;body=48462427&amp;email=uqizakzbi@aol.com HTTP/1.1" 404 291 "-" "Mozilla/4.0 (compatible; MSIE 5.0; Windows 98; DigExt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64.156.198.78 - - [23/Sep/2006:21:52:53 -0400] "GET /wang-center/schedules/wang.html HTTP/1.1" 200 1438 "-" "Mozilla/5.0 (X11; Linux i686; en-US; rv:1.0rc5; OBJR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163.139.58.174 - - [23/Sep/2006:21:54:29 -0400] "GET /sd/ HTTP/1.1" 304 - "-" "Mozilla/4.0 (compatible; MSIE 6.0; Windows NT 5.1; .NET CLR 1.0.3705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205.188.209.51 - - [23/Sep/2006:21:57:23 -0400] "GET / HTTP/1.0" 200 1729 "http://aolsearch.aol.com/dirsearch.adp?query=Gildea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Web Browsing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276280"/>
            <a:ext cx="8229600" cy="366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216.128.130.12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[23/Sep/2006:21:30:02 -0400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"GET /pgp/ HTTP/1.0"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20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1871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"http://dir.yahoo.com/Computers_and_Internet/Security_and_Encryption/PGP___Pretty_Good_Privacy/"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"Mozilla/4.0 (compatible; MSIE 6.0 [en] Win NT 5.1; U)”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Dave O'Reilly</cp:lastModifiedBy>
  <cp:lastPrinted>2016-05-18T07:38:13Z</cp:lastPrinted>
  <dcterms:modified xsi:type="dcterms:W3CDTF">2017-09-01T13:07:29Z</dcterms:modified>
  <cp:revision>286</cp:revision>
  <dc:subject/>
  <dc:title>PowerPoint Presentation</dc:title>
</cp:coreProperties>
</file>