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76B4-BAF5-4F68-A01A-47240F67E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771A-C487-484E-A1DA-F46BDE9BF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3BDD-09F4-435C-90EE-85AE64035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EE96-1347-4E06-871E-F4A7DE513D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6520"/>
            <a:ext cx="3357720" cy="2517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316160" y="3193560"/>
            <a:ext cx="7238880" cy="30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50BF-0B27-42B4-994E-504CA82DC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8EC7-C4AF-4E7F-8511-CABF5E214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7175-4463-4A87-8929-573614F06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4918-1497-4F44-9069-43676D0CC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8E00-4284-459B-9B3C-CC5AFF513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4C59-0F61-4A5E-A6E7-23DDB8BC1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F189-88F1-4CA2-8A61-C231CAF67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8266-55CA-4EF5-AED3-AB4EAC259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729E-1ECB-443E-815F-563B76D79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0D8C-2FBB-42E8-8A10-273CF7FAF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8324-8B00-4913-8FFA-293F6D18B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4B88-34AE-4C27-B4D0-594E07ED3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EAE7-FCB4-454A-8829-A66AC5CD2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91C5-EF30-48A9-A0D3-C2580F908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27B4-E5BF-41EA-8086-858D2AB00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B7BC-7788-40CA-B564-17FD096E7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CCB3-B6D3-40DF-B4F8-8CAFD4ACA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1ACC-F77C-4925-A7AD-89130C042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E090-EC0E-4D09-A284-5DC88C415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B299-8E50-4A74-B8D4-6B38E0687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34A8-1DD3-4AA2-A400-9897D82A0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E47D-81A5-4B63-8261-62B7ED8BDD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038C-C320-438C-A3E0-1CC5848B7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7A51-6A3B-4A33-A73E-6E73E6AAD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4ECD-13CB-4CE2-9884-28ABC4976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C1B5-818D-413F-A056-DEE809B2D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543B-DA00-4A32-AC89-C2000B6A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4554-64DE-4D7B-8D02-92DB9CA8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DBC3-BEBC-46D1-9C16-CB442A72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81C-1BE1-42AA-89F1-8B373FE0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26D-9BDD-4394-8040-904AB675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519E-B8E2-4EB4-80E3-69574FB1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168-33C9-4D75-9576-7A868758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7A4B-8EEE-40ED-AF59-6522D29E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CD8-F133-4D80-B830-0EC70C70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D2FB-720E-4AB5-BC59-764A88CB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6B30-EB2E-498C-8A84-4A239155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D7B0-7B1D-4748-BC88-206D1370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0ED7-D694-4F57-9EB3-20BD0AFFEC3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Suspects on the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1.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mail is not sent directly from one person to anoth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ther, a technique known as “store and forward” is use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cords of the storing and forwarding of a particular email message are associated with that mess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ach person has an incoming and an outgoing mail server and email is sent and delivered as shown on the next slid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 is not sent directly from one person to an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her, a technique known as “store and forward” is us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person has an incoming and an outgoing mail server and email is sent and delivered as shown on the next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6877080" y="4076640"/>
            <a:ext cx="574560" cy="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3"/>
          <p:cNvSpPr/>
          <p:nvPr/>
        </p:nvSpPr>
        <p:spPr>
          <a:xfrm flipV="1">
            <a:off x="1332000" y="4365360"/>
            <a:ext cx="934920" cy="863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4"/>
          <p:cNvSpPr/>
          <p:nvPr/>
        </p:nvSpPr>
        <p:spPr>
          <a:xfrm flipV="1">
            <a:off x="2700360" y="3141360"/>
            <a:ext cx="792000" cy="6462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5"/>
          <p:cNvSpPr/>
          <p:nvPr/>
        </p:nvSpPr>
        <p:spPr>
          <a:xfrm>
            <a:off x="5219640" y="2924280"/>
            <a:ext cx="863640" cy="7938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6"/>
          <p:cNvSpPr/>
          <p:nvPr/>
        </p:nvSpPr>
        <p:spPr>
          <a:xfrm>
            <a:off x="7885080" y="4365720"/>
            <a:ext cx="0" cy="647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loud"/>
          <p:cNvSpPr/>
          <p:nvPr/>
        </p:nvSpPr>
        <p:spPr>
          <a:xfrm>
            <a:off x="2916360" y="1197000"/>
            <a:ext cx="3168360" cy="2124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mputr2"/>
          <p:cNvSpPr/>
          <p:nvPr/>
        </p:nvSpPr>
        <p:spPr>
          <a:xfrm>
            <a:off x="539640" y="5013360"/>
            <a:ext cx="1800360" cy="1512720"/>
          </a:xfrm>
          <a:custGeom>
            <a:avLst/>
            <a:gdLst>
              <a:gd name="textAreaLeft" fmla="*/ 516240 w 1800360"/>
              <a:gd name="textAreaRight" fmla="*/ 1297440 w 1800360"/>
              <a:gd name="textAreaTop" fmla="*/ 133920 h 1512720"/>
              <a:gd name="textAreaBottom" fmla="*/ 682560 h 1512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mputr2"/>
          <p:cNvSpPr/>
          <p:nvPr/>
        </p:nvSpPr>
        <p:spPr>
          <a:xfrm>
            <a:off x="6875640" y="5013360"/>
            <a:ext cx="1800000" cy="1511280"/>
          </a:xfrm>
          <a:custGeom>
            <a:avLst/>
            <a:gdLst>
              <a:gd name="textAreaLeft" fmla="*/ 516240 w 1800000"/>
              <a:gd name="textAreaRight" fmla="*/ 1297080 w 1800000"/>
              <a:gd name="textAreaTop" fmla="*/ 133560 h 1511280"/>
              <a:gd name="textAreaBottom" fmla="*/ 681840 h 151128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183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7451640" y="371628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6084720" y="3716280"/>
            <a:ext cx="10083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362320" y="434340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When Alice presses SEND her E-mail is moved from her computer to her Internet Service Providers outgoing mail 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79280" y="2492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Alice’s ISP then forwards the E-mail out onto the 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6781680" y="249228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he mail is forwarded to the incoming (POP3) mail server of Bob’s IS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5486400" y="457200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he next time Bob connects to his ISP the E-mail is downloaded to his compu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1042920" y="5157720"/>
            <a:ext cx="792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7380360" y="5157720"/>
            <a:ext cx="792000" cy="57636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03A5-8324-41EF-A398-B66E29F7A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8817120" y="42339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mail consists of two 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er: Contains information about who the message is from, who it is for, subject, date etc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how it has been stored/forwarde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: The actual content of the email mess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ample email with headers is shown on the next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468360" y="1341360"/>
            <a:ext cx="82296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crosoft Mail Internet Headers Version 2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from xproxy.gmail.com ([66.249.82.197]) by exchange1.trl.org with Microsoft SMTPSVC(6.0.3790.0); Tue, 27 Mar 2007 09:44:54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xproxy.gmail.com with SMTP id h28so988094wx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or &lt;Jim.Stark@trl.org&gt;; Tue, 27 Mar 2007 00:44:31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omainKey-Signature: a=rsa-sha1; q=dns; c=nofw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=beta; d=gmail.com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=received:message-id:date:from:to:subject:in-reply-to:mime-version:content-type:reference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=RY8mK69lgiScvczLvTJmfvlXoZa1zUskwWsukAn3jlzblALGzxF/pzpDKyrEnIDyZrKp8VnthCyCgyHOfi7KCHhaseAXG4UAQO8zIbSFDxw6uVN0jUVYQx0a60pjkFBxmdzL/PCDEllSFEExVQB+m0WD/lcGQEgGmecYV1nRmy8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00.14 with SMTP id x14mr6330299wxb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22.16 with HTTP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essage-ID: &lt;95ecf0550603280044n7a18048fs8e37cf2c2ea3a3d8@mail.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ate: Tue, 27 Mar 2007 09:44:30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rom: "Jim Stark" &lt;jc.stark@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: "Jim Stark" &lt;Jim.Stark@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ubject: Re: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-Reply-To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ME-Version: 1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ontent-Type: multipart/alternative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oundary="----=_Part_21605_28805312.1143535470923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ferences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turn-Path: jc.stark@gmai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X-OriginalArrivalTime: 27 Mar 2007 08:44:54.0322 (UTC) FILETIME=[E283E920:01C65243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national Service Provider Rec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Multinational Service Providers (Facebook, Google. Etc.) might be able to tell you which IP address was used by a subscriber at a particula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Need to know the ID (e.g. Facebook user ID) of the susp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rnational cooperation typically requi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vert Investigation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f you already have a suspect, covert investigation techniques (e.g. Wiretapping) can be used to identify the IP address(es) in use by the susp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SSOCIATING IP Address TO Real world IDENT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29304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monstration: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is MY IP ADDRESS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no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dress might allow identificatio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Service Provi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resher: Know what an IP address 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how you can find a suspect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how you can associate a suspect IP address with a real pers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three technical challenges to identification of suspects on the Inter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P Rec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rnet Service Providers will typically keep records of which subscriber was using a particular IP address at a particula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long these records are retained for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to get access to these records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P Records: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What is involved in getting access to ISP subscriber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do you know which ISP to request data f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olocation: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Where do you think the geolocation data comes f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Absolutely no guarantees of reliabilit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no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not always traceable to a specific pers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c vs. Dynamic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Address Translation (N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ime of the activity is crucia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por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Corporations using Network Address Translation (NAT) may have the records to be able to associate suspect activity with a specific internal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engagement with the company takes place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Records seldom ex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 if you can find the computer</a:t>
            </a:r>
            <a:r>
              <a:rPr b="0" lang="is-I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as using the compu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te control of the compu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Fi access poi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VP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me MORE Technical Challe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ntional and unintentional, legitimate and illegitimate obfuscation may take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Some example will be discus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ymis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Both paid and free services are available to conceal online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web proxies specifically conceal the source of web browsing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email providers specifically conceal the sender of emai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IP proxies conceal all the source of all Internet traffi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600" spc="-1" strike="noStrike">
                <a:solidFill>
                  <a:srgbClr val="000000"/>
                </a:solidFill>
                <a:latin typeface="Calibri"/>
              </a:rPr>
              <a:t>Example: T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2276280"/>
            <a:ext cx="8229600" cy="391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cl8"/>
          <p:cNvPicPr/>
          <p:nvPr/>
        </p:nvPicPr>
        <p:blipFill>
          <a:blip r:embed="rId2"/>
          <a:stretch/>
        </p:blipFill>
        <p:spPr>
          <a:xfrm>
            <a:off x="1042920" y="1197000"/>
            <a:ext cx="7043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 (version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dress consists of four numbers between 0 and 255, separated by full-stops/peri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2.3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.4.0.1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lso a newer form of IP addresses (version 6) which will not be discussed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ry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t is possible that communication might be encryp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Either the content of the entire communication might be encryp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Grade N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A technique for associating a very large number of users with a single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Commonly used for Internet connectivity on mobile phone networ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IP addresses are a necessary but not sufficient identifier of a person’s online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ssociating an IP address with a real person is extremely difficul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Technologies are available to make tracing a person online even more difficul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Wherever possible other sources of evidence should be used to support the IP address evid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 (version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IP addresses are not valid on the Internet, only for private (internal) u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x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2.168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2.16.x.x-172.31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dentifying Suspect IP Add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user’s online activity might generate rec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records might contain the IP address of the user’s communic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n be an important piece of information for identifying a susp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cessary but not sufficien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b browsing activity involves a user sending requests to a web server and the web server sending responses back to the us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format of the requests and responses is described using a protocol known as Hypertext Transfer Protocol (HTTP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y default, a web server will log all incoming requests, including the IP address from which the request was receiv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640"/>
            <a:ext cx="8229600" cy="45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92.220.98.177 - - [23/Sep/2006:21:09:27 -0400] "GET / HTTP/1.0" 206 1729 "-" "Servmon::Monitor::apache/1.03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ahoma"/>
              </a:rPr>
              <a:t>216.128.130.126 - - [23/Sep/2006:21:30:02 -0400] "GET /pgp/ HTTP/1.0" 200 1871 "http://dir.yahoo.com/Computers_and_Internet/Security_and_Encryption/PGP___Pretty_Good_Privacy/" "Mozilla/4.0 (compatible; MSIE 6.0 [en] Win NT 5.1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6.196.73.20 - - [23/Sep/2006:21:33:35 -0400] "GET /pgp/pgpdoc2/pgpdoc2_65.html HTTP/1.0" 200 7185 "-" "Mozilla/5.0 (Slurp/cat; slurp@inktomi.com; http://www.inktomi.com/slurp.html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3.229.162.177 - - [23/Sep/2006:21:34:31 -0400] "GET /stephen/singers/ HTTP/1.1" 200 1936 "http://www.dosado.com/callers/default.htm " "Mozilla/4.0 (compatible; MSIE 5.5; Windows 98; Win 9x 4.90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38.162.0.41 - - [23/Sep/2006:21:36:27 -0400] "GET /gallery/Colorado02?&amp;page=2 HTTP/1.0" 200 19649 "http://www.google.com/search?q=st+malo+chapel+colorado&amp;hl=en&amp;lr=&amp;ie=UTF-8&amp;start=20&amp;sa=N" "Mozilla/4.76 [en] (Windows NT 5.0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2.255.212.29 - - [23/Sep/2006:21:51:42 -0400] "GET /cgi- bin/formmail.cgi?recipient=lharleyren49@aol.com&amp;subject= http://www.gildea.com/cgi-bin/formmail.cgi&amp;body=48462427&amp;email=uqizakzbi@aol.com HTTP/1.1" 404 291 "-" "Mozilla/4.0 (compatible; MSIE 5.0; Windows 98; DigExt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4.156.198.78 - - [23/Sep/2006:21:52:53 -0400] "GET /wang-center/schedules/wang.html HTTP/1.1" 200 1438 "-" "Mozilla/5.0 (X11; Linux i686; en-US; rv:1.0rc5; OBJR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63.139.58.174 - - [23/Sep/2006:21:54:29 -0400] "GET /sd/ HTTP/1.1" 304 - "-" "Mozilla/4.0 (compatible; MSIE 6.0; Windows NT 5.1; .NET CLR 1.0.3705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205.188.209.51 - - [23/Sep/2006:21:57:23 -0400] "GET / HTTP/1.0" 200 1729 "http://aolsearch.aol.com/dirsearch.adp?query=Gilde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6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216.128.130.12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[23/Sep/2006:21:30:02 -0400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GET /pgp/ HTTP/1.0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2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187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http://dir.yahoo.com/Computers_and_Internet/Security_and_Encryption/PGP___Pretty_Good_Privacy/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Mozilla/4.0 (compatible; MSIE 6.0 [en] Win NT 5.1; U)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9-01T13:07:29Z</dcterms:modified>
  <cp:revision>286</cp:revision>
  <dc:subject/>
  <dc:title>PowerPoint Presentation</dc:title>
</cp:coreProperties>
</file>