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FD8E-87C6-482B-86AA-64CE90EBA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33B-A829-4ECD-BF95-D797ABD04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29DC-1BE2-4F55-A811-339A3A19D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CBA9-F0CB-4AFD-AEEB-EE2DCD66F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69F3-4CCA-4809-8F15-E033F6C89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77A3-C0CB-436F-BFB0-426FCE1F2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70FA-3E0B-4FED-920E-9A96072F7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901-9AAA-43FE-B1AB-2796B08AD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142-CE25-4B0F-871A-DF8B087F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A061-6011-4B37-96DB-02ADF6CDD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E03-469B-4B29-BC9C-D6135B79A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75AE-4AC5-45DA-A719-314B2F2F6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18A8-24C4-44E7-8985-09E51F1BC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DEC-3422-4635-92EA-18FBFEF90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53C-EF2E-4BF2-A860-C9CBA7124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82C-815E-4CD7-BBB6-703AFE0A2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D54A-3F32-4251-A328-8184ED5D9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15F7-6271-4EDD-9663-735BAAEC1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D556-291E-4F32-ADF2-AEF57718E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2F9-3FA9-4646-866B-C8C45185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2D9-CA56-4F02-AA62-3C2D11C94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C2D-D2EE-4CBE-9A1C-D713A22C2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889-DD3A-454B-97FD-2D06F7BA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70C-4FDA-45BD-B2D5-E636922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59E-820F-48C6-B296-47C44E36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F32-13EB-4BA8-815E-11D645F7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649-476C-4B38-AE6F-40084995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A8C-79F7-49EB-970E-83B61801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5AD-C63B-4CAD-9DB9-A98DB272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D6A-6BB7-47E9-B628-60A623E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D2F-2333-4D56-AF31-90CC13F4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05A-C212-4F8A-AFF9-4F8E78B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BCB-47DE-48D1-A1B9-F0A0744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792-2681-42D4-8EC6-EF0E289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57CA-9962-49E7-A7E4-384F5848A2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21Z</dcterms:modified>
  <cp:revision>313</cp:revision>
  <dc:subject/>
  <dc:title>PowerPoint Presentation</dc:title>
</cp:coreProperties>
</file>