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AAC2-3CBF-4C45-8E66-7A0CDA382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D992-B99A-4B20-8950-9BBA6025E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343B-E68B-4EB0-B668-D8764EF26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332F-156A-4004-91D8-FC4896720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3ABA-7D6F-453F-B569-2081B5E82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08C8-CEC2-4464-9005-0A78ADD36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E4AC-0679-4658-94F5-6205462E6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48F2-244F-46E9-8FF3-FB9D9A4B2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9ECD-C673-4B33-98C1-3A6A41F68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84FE-BE6A-4AE0-B596-F4ECB20AD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616C-6E8F-48C1-80DD-FA2CAF407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656D-0D31-42AF-A692-4ADE7FE98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E12C-73DA-41C5-B519-3D5DD3A3B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6143-06F8-4684-8847-3DA6EA950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7120-68AB-4D2F-8D78-1DFD47DD1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2ED0-671B-4AB2-96F3-8749265D7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17F4-72B2-46B2-9C6E-AC85D2588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60C-FEC0-45EB-9388-6CF453CD4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757D-8466-4AD1-86F9-27AEF4B26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2BE9-2445-40FE-8AFE-810E26BA8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6A9E-357C-4CFD-8662-EA8EEB9E2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DE56-7E3D-47FC-A339-F04DC0E86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81AD-E8D8-4C9C-85A2-1175A8A23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B02B-8CA7-4B8D-AB4C-458D521A3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A31-BE92-4A80-B76F-3DF21C60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788-525D-40AC-806C-565527AA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9CE-23FD-44D1-9C3C-105D1B42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64A-EA55-4B21-B1FE-C7035A21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00E-1B39-4BB6-B3F1-E512AD6C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55E-EC30-433D-ACC5-958570E4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DFC-5F8B-40A5-ABA7-31AAA88F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468-9340-4A67-B1F5-31A93C01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970-55D8-401D-B252-5F9CB754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62E-3E7B-46B2-B1F3-A05A8FE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986-FFDA-4F6C-AB4A-68809F16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148-2F63-4136-91BE-1E376F72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2241-5EC8-4D20-B79B-47A4DFDD76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ll companies are already well understood to be a money laundering techn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aundering technique is also used in the online world, primarily in an attempt to make transactions look more legit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s of funds transferred to shell companies tend to be larger than amounts transferred to/by individual m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are companies with no business activity, assets or liabilities, created solely for the purpose of holding bank acc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(or their bank accounts) are often located in foreign jurisdictions to the location of the predicate off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give a façade of legitimacy to the transfer from the payer’s ba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additional challenges arise when shell companies are used for online crime proc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y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reates a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opens a bank account in the name of the shell company in a foreign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onducts fraudulent activity and transfers funds from victim accounts into the bank account of the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ow value to be pre-associated with a payment car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 prepaid cards: can only be used in a particular company or store (e.g. gift cards) and can be bought and used anonym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prepaid cards: issued by a bank, credit card or other financial institution. Can be used just like any other payment c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ame typology applies to mobile phone top-up credit and pre-paid mobile phon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s obtain funds, e.g. through banking malwa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to a money m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withdraws cash and uses the cash to purchase prepaid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ds are then used or sold. When sold, the cards are usually sold for less than f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gambling of various types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funds are cashed in/cashed out via traditional banking sector (e.g. funds transfer, credit/debit card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nsistent legal status and regulation of online gamb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bling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s and associates have multiple stolen credit cards to monet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holds a prepaid card (or other card where laundered funds are to be placed) and associates hold stolen credit ca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log on to gambling platform and transfer funds to their gambling accou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enter (for example) a poker room toge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s deliberately lose to crimi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ings are transferred to criminal’s online gambling accou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transfers funds to the payment card in their possession, which is then used or so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from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chases through the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 Typ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acquires access to compromised card data or banking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purchases goods (e.g. airline ticket) using compromised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lists airline tickets for sale on online auction si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one wins the auction and sends payment to the crimi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sends airline tickets to winner of au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48Z</dcterms:modified>
  <cp:revision>346</cp:revision>
  <dc:subject/>
  <dc:title>PowerPoint Presentation</dc:title>
</cp:coreProperties>
</file>