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B9B-40D2-4DFE-8804-8AD3C340E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5D7-7C47-4456-8169-598E18D93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524-79C3-41DD-B00C-D6ED3FD78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765-A623-4ADA-8E1B-3A6E01BA4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DEBA-9A7F-426E-AAEE-FB902D2FD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003B-3EE4-41B4-9C15-4D03ECFA8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8A85-A613-49BE-8666-F68385480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165-421E-4281-A699-12F4E9C96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1E1-1EA5-422D-B131-88C4B90D5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BA2-43AA-4A31-982D-6A3A7A953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8D22-B8D4-43DC-8797-0D4DAFFD9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28EE-4D1C-4B72-BED1-4C0A3C823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6D2D-61BC-485C-B09A-6157F6E21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9DB-C99D-4251-82A9-78A636CA2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9D7-732B-401B-9286-9ACF91DDB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C79-55AE-4C5D-A49C-99DF5490E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B28B-FC24-4F1D-993B-86598B956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EEE4-7B8A-4DB9-B344-965397882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435-88D5-4E8A-9B90-49F6118A1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8D68-236E-4584-9B06-0BF239A61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2B5-D0A8-4E17-904B-221FD680B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699-1310-45CC-A8EE-3B4A1C93C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B4B6-020F-442F-8276-17AD44C92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9145-5D24-4BA0-B08B-ADCFA1FA9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F11B-075D-437E-95A3-031034C91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579-4E32-4F34-A33C-DB9AA4CE6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9BA3-1114-47E6-A0D4-427B4172E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274-FAD6-48F6-AE4E-0FA573D83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928-CCE0-4F5F-BC39-9B0CD743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3AF-3EB1-4A5E-BB47-1170CB8C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DDF-FC3C-4807-82F7-24841526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1BD-C0A5-4880-986B-409BE53F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BCB-8DD5-4611-AE9B-75176B0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7C1-644A-4360-9E1E-AF03C05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04E-54D4-4708-ACB4-953D2D50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A57-3AF9-43FC-9718-0735EA2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A18-D750-4E16-9151-CEDF2DD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0FF-13A4-4939-97BB-3BF98AB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E73-D0A5-4428-B828-29FDE74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AB0-F105-4B69-A0C9-8320F26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D90-7EE4-479A-8845-102A52376A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32Z</dcterms:modified>
  <cp:revision>343</cp:revision>
  <dc:subject/>
  <dc:title>PowerPoint Presentation</dc:title>
</cp:coreProperties>
</file>