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CA525-5AA7-4225-BB52-FF2172418955}"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39065-CA01-426A-ABAD-84B7E8814E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or other type of presen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ntent of the slides in this section are only an example of what can be described in each of the local training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ally, the session on substantive national law should mention the international legal instruments signed or ratified and the result of its transposition to the domestic law.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sides, a description of the types of crimes according to national law and, at the end, if applicable, a description of any eventual specificities of the national substantive law should be provided.</a:t>
            </a:r>
            <a:endParaRPr b="0" lang="en-US" sz="1200" spc="-1" strike="noStrike">
              <a:solidFill>
                <a:srgbClr val="000000"/>
              </a:solidFill>
              <a:latin typeface="Calibri"/>
            </a:endParaRPr>
          </a:p>
        </p:txBody>
      </p:sp>
      <p:sp>
        <p:nvSpPr>
          <p:cNvPr id="4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A40B2-1697-4A67-9003-1CFAF39373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ubject of the depiction under Article 9. Depictions of sexual abuse of real children; images which depict a person appearing to be a minor (whether or not actually a minor) engaging in sexually explicit conduct; and images which although realistic do not in fact involve a real child engaged in sexually explicit conduct.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B40C8-B635-48DE-AD9C-6D1BEAE3E2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efines the term “Minor” as used under Article 9.  The scope of this definition is limited to the depiction of real/fictitious children as sexual objects; and does not relate in any way to determining the age of consent for sexual relations. </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D6777-0C5B-420A-A138-ECD4406A91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fences related to infringement of copyrights and related rights protect against the infringements of copyrights and related rights online or committed by means of a computer system.</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st Convention does not include any provision with specific offense on copyright mat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However, Article 10 of the Convention refers to it, even if </a:t>
            </a:r>
            <a:r>
              <a:rPr b="0" lang="fr-FR" sz="1200" spc="-1" strike="noStrike">
                <a:solidFill>
                  <a:srgbClr val="000000"/>
                </a:solidFill>
                <a:latin typeface="Calibri"/>
              </a:rPr>
              <a:t>it </a:t>
            </a:r>
            <a:r>
              <a:rPr b="0" lang="hr-HR" sz="1200" spc="-1" strike="noStrike">
                <a:solidFill>
                  <a:srgbClr val="000000"/>
                </a:solidFill>
                <a:latin typeface="Calibri"/>
              </a:rPr>
              <a:t>does not create conceptually new regulations on this subject. Rather, the Convention only emphasises that previous rules on copyright in the real world should apply to the online environment: what is prohibited in the real life must also be prohibited online. Infringements of copyright online, or committed by the means of a computer system, must be punished as if they were committed in the real world. For this reason the Convention refers to already existing international treaties and agreements on this matter (Paris Agreement from 24 of July of 1971, Bern Convention and WIPO treaties).</a:t>
            </a:r>
            <a:endParaRPr b="0" lang="en-US" sz="1200" spc="-1" strike="noStrike">
              <a:solidFill>
                <a:srgbClr val="000000"/>
              </a:solidFill>
              <a:latin typeface="Calibri"/>
            </a:endParaRPr>
          </a:p>
        </p:txBody>
      </p:sp>
      <p:sp>
        <p:nvSpPr>
          <p:cNvPr id="7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451B9-CD92-4755-85EB-3F0DB2F655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undamental element and required conduct under Article 2 is the term “access”. The term refers to the act of entering the whole or any part of a computer system.  Article 2 is technology neutral and does not specify the means by which access is to be conducted.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infringement of copyrights (and related rights); but not moral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C0891-B27D-45CE-9C8E-499DA2CC6B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copyright infringements on a commercial sale. </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2D214-1AEE-4BB9-954F-EFFBD70299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wo final issues, referring to substantive penal law, must be considered at this point: the punishment of aiding and abetting, on one hand, and the criminal responsibility of legal entiti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11 of Budapest Convention describes acts of aiding and abetting that all the Parties of the Convention must consider in their domestic law. However, it recognises that internet crime is often a “multi-party” activity with often unclear degrees of contribution by different parties, making prosecution potentially difficul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nally Article 12 of the Convention requires from all the Parties the criminalisation of acts of legal entities. This is an important issue. In fact, within the European Union, criminalisation of acts of legal entities is an important and very controversial theme, and it is therefore in the framework of the Council of Europ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335E1-2213-4B20-A7A8-B8E51755EF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oth of the perspectives of the European Union and of the Council of Europe include, at least, any kind (criminal or not) of responsibility of companies and other legal entities by criminal acts of their representatives, acting in their representation and interest. In addition, the Convention states that responsibility of legal entities occurs also in case of lack of supervision or control of a legal representative of the company or other legal entity over someone under its supervis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countries in Europe prefer civil remedies, rather to criminal solutions, to regulate the responsibility of a legal person. </a:t>
            </a:r>
            <a:endParaRPr b="0" lang="en-US" sz="1200" spc="-1" strike="noStrike">
              <a:solidFill>
                <a:srgbClr val="000000"/>
              </a:solidFill>
              <a:latin typeface="Calibri"/>
            </a:endParaRPr>
          </a:p>
        </p:txBody>
      </p:sp>
      <p:sp>
        <p:nvSpPr>
          <p:cNvPr id="7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47427-6332-434F-8048-64F59157C7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E6451-B43C-495D-A790-BCF28580C5CE}"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25 following case studies cannot be presented within the allocated time. The trainer should select some of them and go through the selected cases elaborating where necessary on specific aspects that have been considered to be emphasised during the two first parts of the course. </a:t>
            </a:r>
            <a:r>
              <a:rPr b="0" lang="en-US" sz="1200" spc="-1" strike="noStrike">
                <a:solidFill>
                  <a:srgbClr val="000000"/>
                </a:solidFill>
                <a:latin typeface="Calibri"/>
              </a:rPr>
              <a:t>The trainer should explain how the materials will be delivered and that there will be time for interaction and questions.  The trainer should emphasis that this training is designed to be interactive and that delegates will be expected to participate throughout.  </a:t>
            </a:r>
            <a:endParaRPr b="0" lang="en-US" sz="1200" spc="-1" strike="noStrike">
              <a:solidFill>
                <a:srgbClr val="000000"/>
              </a:solidFill>
              <a:latin typeface="Calibri"/>
            </a:endParaRPr>
          </a:p>
        </p:txBody>
      </p:sp>
      <p:sp>
        <p:nvSpPr>
          <p:cNvPr id="7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6EDE2-7CF2-4819-8EF8-18BF28F33D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is student at</a:t>
            </a:r>
            <a:r>
              <a:rPr b="0" lang="hr-HR" sz="500" spc="-1" strike="noStrike">
                <a:solidFill>
                  <a:srgbClr val="000000"/>
                </a:solidFill>
                <a:latin typeface="Calibri"/>
              </a:rPr>
              <a:t> </a:t>
            </a:r>
            <a:r>
              <a:rPr b="0" lang="fr-FR" sz="500" spc="-1" strike="noStrike">
                <a:solidFill>
                  <a:srgbClr val="000000"/>
                </a:solidFill>
                <a:latin typeface="Calibri"/>
              </a:rPr>
              <a:t>a</a:t>
            </a:r>
            <a:r>
              <a:rPr b="0" lang="hr-HR" sz="500" spc="-1" strike="noStrike">
                <a:solidFill>
                  <a:srgbClr val="000000"/>
                </a:solidFill>
                <a:latin typeface="Calibri"/>
              </a:rPr>
              <a:t> </a:t>
            </a:r>
            <a:r>
              <a:rPr b="0" lang="en-US" sz="5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a nice greetings. The latest IT system that she hacked was the information system of the Ministry of Internal Affairs of her countr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Reminder to the traine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2 – ILLEG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Issu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500" spc="-1" strike="noStrike">
                <a:solidFill>
                  <a:srgbClr val="000000"/>
                </a:solidFill>
                <a:latin typeface="Calibri"/>
              </a:rPr>
              <a:t>- </a:t>
            </a:r>
            <a:r>
              <a:rPr b="0" i="1" lang="en-US" sz="500" spc="-1" strike="noStrike">
                <a:solidFill>
                  <a:srgbClr val="000000"/>
                </a:solidFill>
                <a:latin typeface="Calibri"/>
              </a:rPr>
              <a:t>Is this case criminal offence in your country and if yes – which one</a:t>
            </a:r>
            <a:r>
              <a:rPr b="0" i="1" lang="hr-HR" sz="500" spc="-1" strike="noStrike">
                <a:solidFill>
                  <a:srgbClr val="000000"/>
                </a:solidFill>
                <a:latin typeface="Calibri"/>
              </a:rPr>
              <a:t>; w</a:t>
            </a:r>
            <a:r>
              <a:rPr b="0" i="1" lang="en-US" sz="500" spc="-1" strike="noStrike">
                <a:solidFill>
                  <a:srgbClr val="000000"/>
                </a:solidFill>
                <a:latin typeface="Calibri"/>
              </a:rPr>
              <a:t>hat are the constitutive elements of that offence</a:t>
            </a:r>
            <a:r>
              <a:rPr b="0" i="1" lang="hr-HR" sz="500" spc="-1" strike="noStrike">
                <a:solidFill>
                  <a:srgbClr val="000000"/>
                </a:solidFill>
                <a:latin typeface="Calibri"/>
              </a:rPr>
              <a: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Points for discussio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llegal access covers the basic offence of dangerous threats to and attacks against the security (i.e. the confidentiality, integrity and availability) of computer systems and data. Such intrusions may give access to confidential data (including passwords, information about the targeted system) and secrets, to the use of the system without payment or even encourage hackers to commit more dangerous forms of computer-related offences, like computer-related fraud or forger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CHR in case Copland vs. UK, 62617/00 decided that the Right to respect for private and family life applies on a electronic data as wel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is case the perpetrator has been sentenced, because all the elements of the criminal offence of illegal access have been committed according to national law, namely (Croatia</a:t>
            </a:r>
            <a:r>
              <a:rPr b="0" lang="hr-HR" sz="500" spc="-1" strike="noStrike">
                <a:solidFill>
                  <a:srgbClr val="000000"/>
                </a:solidFill>
                <a:latin typeface="Calibri"/>
              </a:rPr>
              <a:t> – </a:t>
            </a:r>
            <a:r>
              <a:rPr b="0" lang="en-US" sz="500" spc="-1" strike="noStrike">
                <a:solidFill>
                  <a:srgbClr val="000000"/>
                </a:solidFill>
                <a:latin typeface="Calibri"/>
              </a:rPr>
              <a:t>Municipal Court in Split - settlemen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unauthorised access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tention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erpetrator’s motivation does not constitute an element of the criminal offence (even simple curiosity will be punishabl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Regarding to the facts of this case - in some member States we will not talk about Illegal acces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ates parties to the Budapest Convection can attach any or all of the qualifying elements listed in the second sentence in the provision of Article 2: infringing security measures, special intent to obtain computer data, other dishonest intent that justifies criminal culpability, or the requirement that the offence is committed in relation to a computer system that is connected remotely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ince in the Croatian legal system the intent is not taken into account (beyond the intention to access a system illegally),  the perpetrator has been sentenced despite the lack of „dishonest intent” (all attacked IT systems have been the subject of a penetration test for free). In some member States a lack of dishonest intent would have prevented criminal liabilit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trainer should know the answer</a:t>
            </a:r>
            <a:r>
              <a:rPr b="0" lang="hr-HR" sz="500" spc="-1" strike="noStrike">
                <a:solidFill>
                  <a:srgbClr val="000000"/>
                </a:solidFill>
                <a:latin typeface="Calibri"/>
              </a:rPr>
              <a:t>s on</a:t>
            </a:r>
            <a:r>
              <a:rPr b="0" lang="en-US" sz="500" spc="-1" strike="noStrike">
                <a:solidFill>
                  <a:srgbClr val="000000"/>
                </a:solidFill>
                <a:latin typeface="Calibri"/>
              </a:rPr>
              <a:t> the questions according to national law</a:t>
            </a:r>
            <a:r>
              <a:rPr b="0" lang="hr-HR" sz="500" spc="-1" strike="noStrike">
                <a:solidFill>
                  <a:srgbClr val="000000"/>
                </a:solidFill>
                <a:latin typeface="Calibri"/>
              </a:rPr>
              <a:t> or </a:t>
            </a:r>
            <a:r>
              <a:rPr b="0" lang="en-US" sz="500" spc="-1" strike="noStrike">
                <a:solidFill>
                  <a:srgbClr val="000000"/>
                </a:solidFill>
                <a:latin typeface="Calibri"/>
              </a:rPr>
              <a:t>discuss this question in the light of court practices if not unifie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671B6-4CCC-4F85-BD3A-402DF76F56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person </a:t>
            </a:r>
            <a:r>
              <a:rPr b="0" lang="en-GB" sz="7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an he deleted the digital </a:t>
            </a:r>
            <a:r>
              <a:rPr b="0" lang="en-US" sz="700" spc="-1" strike="noStrike">
                <a:solidFill>
                  <a:srgbClr val="000000"/>
                </a:solidFill>
                <a:latin typeface="Calibri"/>
              </a:rPr>
              <a:t>maps on the hard disc.</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4 – DATA INTERFERENCE</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A Party may reserve the right to require that the conduct described in paragraph 1 result in serious harm.</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hich offence</a:t>
            </a:r>
            <a:r>
              <a:rPr b="0" lang="hr-HR" sz="700" spc="-1" strike="noStrike">
                <a:solidFill>
                  <a:srgbClr val="000000"/>
                </a:solidFill>
                <a:latin typeface="Calibri"/>
              </a:rPr>
              <a:t>s </a:t>
            </a:r>
            <a:r>
              <a:rPr b="0" lang="fr-FR" sz="700" spc="-1" strike="noStrike">
                <a:solidFill>
                  <a:srgbClr val="000000"/>
                </a:solidFill>
                <a:latin typeface="Calibri"/>
              </a:rPr>
              <a:t>must be </a:t>
            </a:r>
            <a:r>
              <a:rPr b="0" lang="en-US" sz="700" spc="-1" strike="noStrike">
                <a:solidFill>
                  <a:srgbClr val="000000"/>
                </a:solidFill>
                <a:latin typeface="Calibri"/>
              </a:rPr>
              <a:t>considered?</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irstly there is an identity theft. In a „real world” it would correspond to the perpetrator use, without right, of someone else's pass card in order to enter a working space. Some member States have criminalised identity theft but if they did not, the access is generally considered illegal in itself.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deed, secondly, there is an illegal access. Some countries do include the constitutive elements of this offence into the constitutive elements of the offence of data interference (such as in Croatia), but in some other countries the infringement is a distinct one (such as in France, where do exist the offence of illegal access, the offence of illegal stay in the computer system, and the offence of interference. A person has for example been sentenced for data theft and illegal stay in the computer system, even though the access to the system was found not illegal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irdly, there is a data interference due to the delet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legates should be invited to answer the question in the light of their own national legislat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776C0-92DE-4410-96F7-358B13875B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5 – SYSTEM INTERFER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700" spc="-1" strike="noStrike">
                <a:solidFill>
                  <a:srgbClr val="000000"/>
                </a:solidFill>
                <a:latin typeface="Calibri"/>
              </a:rPr>
              <a:t>- </a:t>
            </a:r>
            <a:r>
              <a:rPr b="0" i="1" lang="en-US" sz="700" spc="-1" strike="noStrike">
                <a:solidFill>
                  <a:srgbClr val="000000"/>
                </a:solidFill>
                <a:latin typeface="Calibri"/>
              </a:rPr>
              <a:t>Which criminal offence</a:t>
            </a:r>
            <a:r>
              <a:rPr b="0" i="1" lang="hr-HR" sz="700" spc="-1" strike="noStrike">
                <a:solidFill>
                  <a:srgbClr val="000000"/>
                </a:solidFill>
                <a:latin typeface="Calibri"/>
              </a:rPr>
              <a:t> is</a:t>
            </a:r>
            <a:r>
              <a:rPr b="0" i="1" lang="en-US" sz="700" spc="-1" strike="noStrike">
                <a:solidFill>
                  <a:srgbClr val="000000"/>
                </a:solidFill>
                <a:latin typeface="Calibri"/>
              </a:rPr>
              <a:t> this case in your country?</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Which offence</a:t>
            </a:r>
            <a:r>
              <a:rPr b="0" i="1" lang="hr-HR" sz="700" spc="-1" strike="noStrike">
                <a:solidFill>
                  <a:srgbClr val="000000"/>
                </a:solidFill>
                <a:latin typeface="Calibri"/>
              </a:rPr>
              <a:t>s are </a:t>
            </a:r>
            <a:r>
              <a:rPr b="0" i="1" lang="en-US" sz="700" spc="-1" strike="noStrike">
                <a:solidFill>
                  <a:srgbClr val="000000"/>
                </a:solidFill>
                <a:latin typeface="Calibri"/>
              </a:rPr>
              <a:t>considerab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is case the perpetrator was authorised or had the right to change passwords. So, we can’t talk about data interference or illegal acces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ut this authorisation does not include the right to not reveal the access code to the company, which is a serious hindering without right of the functioning of a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at way the perpetrator committed the criminal offence of system interference. (Croatia – Municipal criminal Court in Zagreb  Ko-74/15  27th January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ccording to national law delegates should answer the following question: would it be indictment for 2 offences or just for 1 offence – System interference (consumption) if the perpetrator didn’t have the right to change a passwor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nd if the answer is 2 offences – which one: data interference or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sually it corresponds to one offence with one or more qualifying elements, but there is a ground for 2 offences: Data interference and System interference. (Croatia has no unfitted practi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36815-5913-45F3-BF57-040EF54DDC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 COMPUTER-RELATED FRAU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person by: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any input, alteration, deletion or suppression of computer dat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 any interference with the functioning of a computer system,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w</a:t>
            </a:r>
            <a:r>
              <a:rPr b="0" lang="en-US" sz="800" spc="-1" strike="noStrike">
                <a:solidFill>
                  <a:srgbClr val="000000"/>
                </a:solidFill>
                <a:latin typeface="Calibri"/>
              </a:rPr>
              <a:t>ith fraudulent or dishonest intent of procuring, without right, an economic benefit for oneself or for another pers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 ATTEMPT AND AIDING OR ABETTING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Each Party shall adopt such legislative and other measures as may be necessary to establish as criminal offences under its domestic law, when committed intentionally, aiding or abetting the commission of any of the offences established in accordance with Articles 2 through 10 of the present Convention with intent that such offence be committe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Each Party shall adopt such legislative and other measures as may be necessary to establish as criminal offences under its domestic law, when committed intentionally, an attempt to commit any of the offences established in accordance with Articles 3 through 5, 7, 8, and 9.1. a and c. of this Convent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Each Party may reserve the right not to apply, in whole or in part, paragraph 2 of this article.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 </a:t>
            </a:r>
            <a:r>
              <a:rPr b="0" i="1" lang="en-US" sz="800" spc="-1" strike="noStrike">
                <a:solidFill>
                  <a:srgbClr val="000000"/>
                </a:solidFill>
                <a:latin typeface="Calibri"/>
              </a:rPr>
              <a:t>In a role of a public prosecutor would you  accuse X and Y for the same offence or no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800" spc="-1" strike="noStrike">
                <a:solidFill>
                  <a:srgbClr val="000000"/>
                </a:solidFill>
                <a:latin typeface="Calibri"/>
              </a:rPr>
              <a:t>- </a:t>
            </a:r>
            <a:r>
              <a:rPr b="0" i="1" lang="en-US" sz="800" spc="-1" strike="noStrike">
                <a:solidFill>
                  <a:srgbClr val="000000"/>
                </a:solidFill>
                <a:latin typeface="Calibri"/>
              </a:rPr>
              <a:t>Which offence</a:t>
            </a:r>
            <a:r>
              <a:rPr b="0" i="1" lang="hr-HR" sz="800" spc="-1" strike="noStrike">
                <a:solidFill>
                  <a:srgbClr val="000000"/>
                </a:solidFill>
                <a:latin typeface="Calibri"/>
              </a:rPr>
              <a:t>s are </a:t>
            </a:r>
            <a:r>
              <a:rPr b="0" i="1" lang="en-US" sz="800" spc="-1" strike="noStrike">
                <a:solidFill>
                  <a:srgbClr val="000000"/>
                </a:solidFill>
                <a:latin typeface="Calibri"/>
              </a:rPr>
              <a:t>considerabl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one of the most common examples of computer related forgery. Every single element of this offence was committed by X. He used the bank account of Z just for purpose to get money without opening his own bank accoun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has committed an offence as well - aiding or abetting the commission of criminal offence computer-related fraud. Punishable by the same sentence. (Croatia – Municipal Court in Velika Gorica K-545/15 od 18</a:t>
            </a:r>
            <a:r>
              <a:rPr b="0" lang="hr-HR" sz="800" spc="-1" strike="noStrike">
                <a:solidFill>
                  <a:srgbClr val="000000"/>
                </a:solidFill>
                <a:latin typeface="Calibri"/>
              </a:rPr>
              <a:t>th </a:t>
            </a:r>
            <a:r>
              <a:rPr b="0" lang="en-US" sz="800" spc="-1" strike="noStrike">
                <a:solidFill>
                  <a:srgbClr val="000000"/>
                </a:solidFill>
                <a:latin typeface="Calibri"/>
              </a:rPr>
              <a:t>of December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trainer should know the answer</a:t>
            </a:r>
            <a:r>
              <a:rPr b="0" lang="hr-HR" sz="800" spc="-1" strike="noStrike">
                <a:solidFill>
                  <a:srgbClr val="000000"/>
                </a:solidFill>
                <a:latin typeface="Calibri"/>
              </a:rPr>
              <a:t>s on</a:t>
            </a:r>
            <a:r>
              <a:rPr b="0" lang="en-US" sz="800" spc="-1" strike="noStrike">
                <a:solidFill>
                  <a:srgbClr val="000000"/>
                </a:solidFill>
                <a:latin typeface="Calibri"/>
              </a:rPr>
              <a:t> the questions according to national law</a:t>
            </a:r>
            <a:r>
              <a:rPr b="0" lang="hr-HR" sz="800" spc="-1" strike="noStrike">
                <a:solidFill>
                  <a:srgbClr val="000000"/>
                </a:solidFill>
                <a:latin typeface="Calibri"/>
              </a:rPr>
              <a:t> or </a:t>
            </a:r>
            <a:r>
              <a:rPr b="0" lang="en-US" sz="800" spc="-1" strike="noStrike">
                <a:solidFill>
                  <a:srgbClr val="000000"/>
                </a:solidFill>
                <a:latin typeface="Calibri"/>
              </a:rPr>
              <a:t>discuss this question in the light of court practices if not unifi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5046B-BC2B-44FD-99FC-475D8DFA1C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perpetrator has repeatedly visited pornographic websites, including child pornography.</a:t>
            </a:r>
            <a:r>
              <a:rPr b="0" lang="hr-HR" sz="600" spc="-1" strike="noStrike">
                <a:solidFill>
                  <a:srgbClr val="000000"/>
                </a:solidFill>
                <a:latin typeface="Calibri"/>
              </a:rPr>
              <a:t> </a:t>
            </a:r>
            <a:r>
              <a:rPr b="0" lang="fr-FR" sz="600" spc="-1" strike="noStrike">
                <a:solidFill>
                  <a:srgbClr val="000000"/>
                </a:solidFill>
                <a:latin typeface="Calibri"/>
              </a:rPr>
              <a:t>He n</a:t>
            </a:r>
            <a:r>
              <a:rPr b="0" lang="en-US" sz="600" spc="-1" strike="noStrike">
                <a:solidFill>
                  <a:srgbClr val="000000"/>
                </a:solidFill>
                <a:latin typeface="Calibri"/>
              </a:rPr>
              <a:t>ever downloaded materials</a:t>
            </a:r>
            <a:r>
              <a:rPr b="0" lang="hr-HR" sz="600" spc="-1" strike="noStrike">
                <a:solidFill>
                  <a:srgbClr val="000000"/>
                </a:solidFill>
                <a:latin typeface="Calibri"/>
              </a:rPr>
              <a:t>. But </a:t>
            </a:r>
            <a:r>
              <a:rPr b="0" lang="fr-FR" sz="600" spc="-1" strike="noStrike">
                <a:solidFill>
                  <a:srgbClr val="000000"/>
                </a:solidFill>
                <a:latin typeface="Calibri"/>
              </a:rPr>
              <a:t>the </a:t>
            </a:r>
            <a:r>
              <a:rPr b="0" lang="en-US" sz="600" spc="-1" strike="noStrike">
                <a:solidFill>
                  <a:srgbClr val="000000"/>
                </a:solidFill>
                <a:latin typeface="Calibri"/>
              </a:rPr>
              <a:t>computer</a:t>
            </a:r>
            <a:r>
              <a:rPr b="0" lang="hr-HR" sz="600" spc="-1" strike="noStrike">
                <a:solidFill>
                  <a:srgbClr val="000000"/>
                </a:solidFill>
                <a:latin typeface="Calibri"/>
              </a:rPr>
              <a:t> </a:t>
            </a:r>
            <a:r>
              <a:rPr b="0" lang="en-US" sz="600" spc="-1" strike="noStrike">
                <a:solidFill>
                  <a:srgbClr val="000000"/>
                </a:solidFill>
                <a:latin typeface="Calibri"/>
              </a:rPr>
              <a:t>was</a:t>
            </a:r>
            <a:r>
              <a:rPr b="0" lang="hr-HR" sz="600" spc="-1" strike="noStrike">
                <a:solidFill>
                  <a:srgbClr val="000000"/>
                </a:solidFill>
                <a:latin typeface="Calibri"/>
              </a:rPr>
              <a:t> </a:t>
            </a:r>
            <a:r>
              <a:rPr b="0" lang="en-US" sz="600" spc="-1" strike="noStrike">
                <a:solidFill>
                  <a:srgbClr val="000000"/>
                </a:solidFill>
                <a:latin typeface="Calibri"/>
              </a:rPr>
              <a:t>automatically storing these materials into </a:t>
            </a:r>
            <a:r>
              <a:rPr b="0" lang="hr-HR" sz="600" spc="-1" strike="noStrike">
                <a:solidFill>
                  <a:srgbClr val="000000"/>
                </a:solidFill>
                <a:latin typeface="Calibri"/>
              </a:rPr>
              <a:t>a </a:t>
            </a:r>
            <a:r>
              <a:rPr b="0" lang="en-US" sz="600" spc="-1" strike="noStrike">
                <a:solidFill>
                  <a:srgbClr val="000000"/>
                </a:solidFill>
                <a:latin typeface="Calibri"/>
              </a:rPr>
              <a:t>folder  </a:t>
            </a:r>
            <a:r>
              <a:rPr b="0" lang="hr-HR" sz="600" spc="-1" strike="noStrike">
                <a:solidFill>
                  <a:srgbClr val="000000"/>
                </a:solidFill>
                <a:latin typeface="Calibri"/>
              </a:rPr>
              <a:t>C:/…, </a:t>
            </a:r>
            <a:r>
              <a:rPr b="0" lang="en-US" sz="600" spc="-1" strike="noStrike">
                <a:solidFill>
                  <a:srgbClr val="000000"/>
                </a:solidFill>
                <a:latin typeface="Calibri"/>
              </a:rPr>
              <a:t>(in between - images containing child pornography)</a:t>
            </a:r>
            <a:r>
              <a:rPr b="0" lang="hr-HR" sz="600" spc="-1" strike="noStrike">
                <a:solidFill>
                  <a:srgbClr val="000000"/>
                </a:solidFill>
                <a:latin typeface="Calibri"/>
              </a:rPr>
              <a:t>, </a:t>
            </a:r>
            <a:r>
              <a:rPr b="0" lang="en-US" sz="600" spc="-1" strike="noStrike">
                <a:solidFill>
                  <a:srgbClr val="000000"/>
                </a:solidFill>
                <a:latin typeface="Calibri"/>
              </a:rPr>
              <a:t>without any knowledge o</a:t>
            </a:r>
            <a:r>
              <a:rPr b="0" lang="hr-HR" sz="600" spc="-1" strike="noStrike">
                <a:solidFill>
                  <a:srgbClr val="000000"/>
                </a:solidFill>
                <a:latin typeface="Calibri"/>
              </a:rPr>
              <a:t>r</a:t>
            </a:r>
            <a:r>
              <a:rPr b="0" lang="en-US" sz="600" spc="-1" strike="noStrike">
                <a:solidFill>
                  <a:srgbClr val="000000"/>
                </a:solidFill>
                <a:latin typeface="Calibri"/>
              </a:rPr>
              <a:t> action of a perpetra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Reminder to the traine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9 – OFFENCES RELATED TO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Each Party shall adopt such legislative and other measures as may be necessary to establish as criminal offences under its domestic law, when committed intentionally and without right, the following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producing child pornography for the purpose of its distribution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offering or making available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distributing or transmitting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procuring child pornography through a computer system for oneself or for another pers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possessing child pornography in a computer system or on a computer-data storage mediu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For the purpose of paragraph l above, the term »child pornography« shall include pornographic material that visually depict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a person appearing to be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realistic images representing a minor engaged in sexually explicit conduc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For the purpose of paragraph 2 above, the term »minor« shall include all persons under 18 years of age. A Party may, however, require a lower age-limit, which shall be not less than 16 year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Each Party may reserve the right not to apply, in whole or in part, paragraphs 1, subparagraphs d. and e, and 2, sub-paragraphs b. and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Issu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Is this  offence – possessing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W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Points for discussi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offender was free to go in this case in front of the Croatian Court because the</a:t>
            </a:r>
            <a:r>
              <a:rPr b="0" lang="hr-HR" sz="600" spc="-1" strike="noStrike">
                <a:solidFill>
                  <a:srgbClr val="000000"/>
                </a:solidFill>
                <a:latin typeface="Calibri"/>
              </a:rPr>
              <a:t> Court </a:t>
            </a:r>
            <a:r>
              <a:rPr b="0" lang="en-US" sz="600" spc="-1" strike="noStrike">
                <a:solidFill>
                  <a:srgbClr val="000000"/>
                </a:solidFill>
                <a:latin typeface="Calibri"/>
              </a:rPr>
              <a:t>concluded that intention for committing offence - Possessing child pornography on the computer system – was missing.</a:t>
            </a:r>
            <a:r>
              <a:rPr b="0" lang="hr-HR" sz="600" spc="-1" strike="noStrike">
                <a:solidFill>
                  <a:srgbClr val="000000"/>
                </a:solidFill>
                <a:latin typeface="Calibri"/>
              </a:rPr>
              <a:t> </a:t>
            </a:r>
            <a:r>
              <a:rPr b="0" lang="en-US" sz="600" spc="-1" strike="noStrike">
                <a:solidFill>
                  <a:srgbClr val="000000"/>
                </a:solidFill>
                <a:latin typeface="Calibri"/>
              </a:rPr>
              <a:t>Direct intention is a constitutive element for this criminal offence.</a:t>
            </a:r>
            <a:r>
              <a:rPr b="0" lang="hr-HR" sz="600" spc="-1" strike="noStrike">
                <a:solidFill>
                  <a:srgbClr val="000000"/>
                </a:solidFill>
                <a:latin typeface="Calibri"/>
              </a:rPr>
              <a:t> (</a:t>
            </a:r>
            <a:r>
              <a:rPr b="0" lang="pl-PL" sz="600" spc="-1" strike="noStrike">
                <a:solidFill>
                  <a:srgbClr val="000000"/>
                </a:solidFill>
                <a:latin typeface="Calibri"/>
              </a:rPr>
              <a:t>County Court in Osijek, Kž-339/08-4 o</a:t>
            </a:r>
            <a:r>
              <a:rPr b="0" lang="fr-FR" sz="600" spc="-1" strike="noStrike">
                <a:solidFill>
                  <a:srgbClr val="000000"/>
                </a:solidFill>
                <a:latin typeface="Calibri"/>
              </a:rPr>
              <a:t>f</a:t>
            </a:r>
            <a:r>
              <a:rPr b="0" lang="pl-PL" sz="600" spc="-1" strike="noStrike">
                <a:solidFill>
                  <a:srgbClr val="000000"/>
                </a:solidFill>
                <a:latin typeface="Calibri"/>
              </a:rPr>
              <a:t> 23.5.2008)</a:t>
            </a:r>
            <a:r>
              <a:rPr b="0" lang="fr-FR"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Calibri"/>
              </a:rPr>
              <a:t>For this reason, after this case, a new offence has been created in Croatia, punishing the simple </a:t>
            </a:r>
            <a:r>
              <a:rPr b="0" lang="en-GB" sz="600" spc="-1" strike="noStrike">
                <a:solidFill>
                  <a:srgbClr val="000000"/>
                </a:solidFill>
                <a:latin typeface="Calibri"/>
              </a:rPr>
              <a:t>“accession” to child pornography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a similar case in Germany (</a:t>
            </a:r>
            <a:r>
              <a:rPr b="0" lang="de-DE" sz="600" spc="-1" strike="noStrike">
                <a:solidFill>
                  <a:srgbClr val="000000"/>
                </a:solidFill>
                <a:latin typeface="Calibri"/>
              </a:rPr>
              <a:t>Bundesgerichtshof Beschluss vom 10. Oktober 2006 (BGH NStZ 2007 95</a:t>
            </a:r>
            <a:r>
              <a:rPr b="0" lang="en-US" sz="600" spc="-1" strike="noStrike">
                <a:solidFill>
                  <a:srgbClr val="000000"/>
                </a:solidFill>
                <a:latin typeface="Calibri"/>
              </a:rPr>
              <a:t>), the court decided that “possession” includes data that are stored by default on the computer system, including temporary Internet files, cache memory– which many people use as a short cut for faster accessing to various contents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trainer should know the answer</a:t>
            </a:r>
            <a:r>
              <a:rPr b="0" lang="hr-HR" sz="600" spc="-1" strike="noStrike">
                <a:solidFill>
                  <a:srgbClr val="000000"/>
                </a:solidFill>
                <a:latin typeface="Calibri"/>
              </a:rPr>
              <a:t>s on</a:t>
            </a:r>
            <a:r>
              <a:rPr b="0" lang="en-US" sz="600" spc="-1" strike="noStrike">
                <a:solidFill>
                  <a:srgbClr val="000000"/>
                </a:solidFill>
                <a:latin typeface="Calibri"/>
              </a:rPr>
              <a:t> the questions according to national law</a:t>
            </a:r>
            <a:r>
              <a:rPr b="0" lang="hr-HR" sz="600" spc="-1" strike="noStrike">
                <a:solidFill>
                  <a:srgbClr val="000000"/>
                </a:solidFill>
                <a:latin typeface="Calibri"/>
              </a:rPr>
              <a:t> or </a:t>
            </a:r>
            <a:r>
              <a:rPr b="0" lang="en-US" sz="600" spc="-1" strike="noStrike">
                <a:solidFill>
                  <a:srgbClr val="000000"/>
                </a:solidFill>
                <a:latin typeface="Calibri"/>
              </a:rPr>
              <a:t>discuss this question in the light of court practices if not unifi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283BF-661A-4601-A03C-3A82E91C71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 criminal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accessed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Was that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computer was accessed by Mary not Bobby she has is authorised to access the data on the computer, she is innocent. It was Bobby who, acting through an innocent agent caused the data to be accessed. He lied to Mary (an illustration of social engineering) does this amount to access in law?</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th Bobby and Mary have the right to access the Police computer but subject to strict conditions relating to a legitimate query in connection with police activity. Where the access exceeds this authorisation does this constitute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Bobby goes into the police station and manages to look over Mary’s shoulder (shoulder surfing) whilst she is making a legitimate enquiry in relation to the ownership of the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shoulder surfing’ has resulted in Bobby gaining access to computer data. There may be a question as to his ‘intention’ and of course he has not manipulated the computer system in order to gain access but he has still obtained access without right (though this would be very difficult to prov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case study is designed to have delegates consider the question of authorisation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could also be asked to consider the position had Bobby gone  into the police station and looked up the information as to the ownership of the Mercedes  on a card index system – the information being the same as that held on computer? The point here is that it is not the data itself that is protected (though that may be protected under other data protection legislation whilst Bobby’s misconduct might also constitute an offence) rather it is the medium on which that data is stored that is being protect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lice computer systems hold vast amounts of personal information relating to individuals along with a lot of sensitive information. Access to such data should only be granted to those who have a legitimate interest in it. In the UK police officers and police computer operators are frequently found illegally accessing police systems for purposes of their own e.g. to find information that might be interest to the press or in the case of corrupt officers to discover what information is held on a particular person or whether a particular person or group are under active investigation.</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llegal intercep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ntercep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at interception been achieved by technical mean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data been transmitted to or from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key logger is a technical device that is capturing data transmitted from the terminal. This amounts to an interception and is clearly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about the Skype calls? In this scenario it appears that the data travels on the same line as other data transmitted from the computer but what if the user had a stand alone Skype phone? Would such a phone constitute a computer system. The convention defines a ‘computer system’ </a:t>
            </a:r>
            <a:r>
              <a:rPr b="0" i="1" lang="en-GB" sz="700" spc="-1" strike="noStrike">
                <a:solidFill>
                  <a:srgbClr val="000000"/>
                </a:solidFill>
                <a:latin typeface="Calibri"/>
              </a:rPr>
              <a:t>any device or a group of interconnected or related devices, one or more of which, pursuant to a program, performs automatic processing of data</a:t>
            </a:r>
            <a:r>
              <a:rPr b="0" lang="en-GB" sz="700" spc="-1" strike="noStrike">
                <a:solidFill>
                  <a:srgbClr val="000000"/>
                </a:solidFill>
                <a:latin typeface="Calibri"/>
              </a:rPr>
              <a:t>; and ‘computer data’ </a:t>
            </a:r>
            <a:r>
              <a:rPr b="0" i="1" lang="en-GB" sz="700" spc="-1" strike="noStrike">
                <a:solidFill>
                  <a:srgbClr val="000000"/>
                </a:solidFill>
                <a:latin typeface="Calibri"/>
              </a:rPr>
              <a:t>as any representation of facts, information or concepts in a form suitable for processing in a computer system, including a program suitable to cause a computer system to perform a function</a:t>
            </a:r>
            <a:r>
              <a:rPr b="0"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use of the audio bug may be a little more difficult. Is it an ‘interception’? In the UK the courts have held that for an interception to have taken place there has to be some sort of interference or abstraction of the signal whilst it was being transmitted on the network, here the recording takes place independently of the transmission notwithstanding that the same information is obtained had the device been placed on the ‘lin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key logger was placed on the system by the Company who are anxious to ensure that their employees are not using the internet for an inappropriate purpos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Most telecommunications systems travel on both public and private networks. At the point where the communication leaves your property it moves from a private system to a public system. The controller of a private system has the right to access communications using that system; so for instance, you would be able to monitor conversations on your home telephone line provided that whatever technical device you used in order to do so was connected to the private side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scenario is designed to have the delegates consider each of the elements of interception, that there is an interception of computer data in the course of its transmission by technical mean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should be clear that this provision is designed to protect the contents of communications rather than information connected with the addressing of the message or the cost of the service.</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Issu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Is the message being transmitt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Points for discuss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Most states require the police to establish a high threshold of suspicion before authorising the interception of the contents of a communication. Obtaining evidence without the requisite authority may result in the case being stopped or the evidence being inadmissibl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omputers and the internet facilitate a number of different forms of communication, e.g. e mail, instant messaging, twitter, etc. Messages will frequently be stored before they are retrieved by the intended recipient. Is a message that has yet to be retried still to be regarded as being in the course of its transmission? There is no way of knowing whether the draft message has been read by the intended recipient. Should the law grant the same protection to those who deliberately choose to subvert the normal means of sending communications by e mail as it gives to those who use e mail as it was designed to be used?</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is a fairly common way for criminals to communicate with each other. Whether seeking to access such messages in an interception or not will depend on domestic legislation and or the attitude of the domestic courts but it may be worth delegates realising that if they need to rely on Mutual Legal Assistance to obtain such data the requested state may consider it an intercept or at the least because access to the contents of a communication are being  sought will  have a higher legal  threshold that needs to be established in order to obtain the necessary judicial authority.</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Is this an intercep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voice message still in the course of its transmi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re been an interception of computer data?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Until the message has reached its destination it is probably still in the course of being transmitted even though it is stored within the system. The message is probably being digitally stored on the phone companies’ server and thus Bobby has accessed computer data. Is a phone a computer?  Probably yes, it undertakes the automated processing of data.  Police officers conducting searches who find phones may need to consider this in order to ensure that they have the necessary authority to access such messages. It would be different if the recipient had listened to the message and opted to store i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scenario raised similar issues to the previous scenario. It serves to illustrate what might be a fairly common situation that can equally apply to officers who executing a search warrant seize a computer which contains both opened and unopened e mail. It also serves to illustrate that the offence established under Article 3 applies to all forms of electronic data transfer, whether by telephone, fax, e-mail or file transf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an unauthorised access of itself amount to an offence of Data or System Interfer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erasing the evidence of unauthorised access amount to an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serious harm have to be caused to the operation of the computer before criminal liability is incurred?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aim of these provisions is to provide computer data and computer programs with protection similar to that enjoyed by corporeal property against intentional infliction of damag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was not authorised to access the Air Force site, it was password protected. Access therefore would constitute an offence of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has deleted data , the log files and the Air Force insignia.Though perhaps he generated the log files they are not his, the system was configured to record such activity. He has no right to delete them. The Air Force may wish to know who has access to thei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y altering the image on the front page he has both deleted and added data to the system which, whilst it is unlikely to have resulted in any important information having been lost, would be an embarrassment to the Air force. However, more importantly though Bobby may claim that he only accessed the system to find information and that he only deleted logs or other data of no importance can any systems administrator have confidence in the integrity of the data following such an unlawful intru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ether an offence has been committed in these circumstances will be a matter of local interpretation. It may be that the seriousness threshold has not been established. However the systems administrator would probably feel obliged to take the site off line in order in order to establish the effect of the intrusion, particularly if the site that has been accessed contains confidential or sensitive data or is used in operations which, if they were to go wrong would endanger the public such as a system responsible for running a nuclear power sta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f for the sake of argument the system that Bobby accessed was that used to run a nuclear PowerStation would the offences set out in Articles 4 and 5 be adequate to reflect the seriousness of such an intrusion which amounts to an attack on the National Critical Infrastructure?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an offence contrary to Article 4 or 5 been committed by the person responsible for sending the spa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unauthorised access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data been altered on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damage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ven though no damage has been caused the software brings about an alteration of the data on the users computer. That alteration was not authorised as the user was not given any warning or asked to consent in any way to the modification of his computer. Is the sending of Spam itself illegal or is it merely a nuisance? Does it only become illegal when it has an adverse impac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spam e-mail contained an attachment and invitation to the recipient to open the attachment saying “you will like this” ?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t might be argued that the recipient has chosen and thereby consented to downloading data to his computer. The reality however is that any consent that may have been given has not been an informed consent though it may be argued that those who choose to open attachments from unknown recipients do so at their own risk.</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it make any difference that the user doesn’t care whether their computer became part of ‘bot net’ or no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s we travel around the internet we visit sites and download data without giving proper consideration to the nature of the material that may be finding its way onto our computer but trusting to the names that websites give themselves, the names of files or the results returned by our search engine to make our decisions. Clicking on a thumbnail image of a picture in order to acquire a full size image indicates an awareness of the data that we are seeking to acquire and a fully informed consent as to the nature of that data. Should we click on a thumbnail image of a motor car only to find that the full size image we have acquired is that of an aeroplane we cannot be said to have given our consent to the acquisition of that data.</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hoosing to open a link to a website will result in a lot of data being downloaded. If the site is a legitimate one the bulk of that data will probably relate to the content of the website though a proportion may consist of advertisements placed by third parties. Again we have made an informed choice and given an implicit consent to receive the advertisement knowing that this is a common practice on the internet.  A common practice in the internet industry is to download data to the users internet browser , ‘cookie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okies perform a variety of functions including recording a users web browsing history. A user will be given the option to disable the cookie function on the browser, is such an option sufficient to imply that the user has subsequently given their consent to the downloading of such data?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Is this an offence of system interfer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Sending an e mail involves accessing or seeking to access a computer system, the e mail </a:t>
            </a:r>
            <a:r>
              <a:rPr b="0" lang="en-GB" sz="900" spc="-1" strike="noStrike">
                <a:solidFill>
                  <a:srgbClr val="000000"/>
                </a:solidFill>
                <a:latin typeface="Calibri"/>
              </a:rPr>
              <a:t>server.  To what extent does the owner of such a server authorise such acces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If you have an e mail address does that not mean that you are inviting others to send you e mail messag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question is one of right. Bobby has accessed a system and caused the system to collapse by inputting data. By establishing an e mail address which is accessible to the public the owner of the address is implicitly giving their consent to the receipt of messages.  Bobby might argue that the police have consented to the receipt of each individual e mail and that is not his fault that their system lacked the capability to handle so many messages. But has their really been consent?  The owner of a house grants an implied consent for the postman to post letters through his letter box that are addressed to the owner. There is also an implied consent to receive ‘junk’ mail such as pizza flyers. The homeowner however does not consent to receiving so many pizza flyers that he is unable to open his front doo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Might it not also be said that by altering the details of the sender of the e mail access to the e mail server has been gained through fraud?  Consent is not given to the receipt of such ‘spoofed’ e mail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ilst this scenario concerns e mails the principle is good for those who seek to cause websites to collapse through a denial of service attack whereby the site is unable to handle the volume of traffic directed towards it. Connecting to a website involves the exchange of data between the users computer and the website. Similar issues as to implied consent to connect to the site arise as discussed in relation to email messages.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Has Bobby committed an offence contrary to Article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brought about a suppression of data held on the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hindered the functioning of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any such suppression of data or hindrance to the functioning of the system been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response of the system administrator to Bobby’s e mail means that service has been denied to the users of the system. Access to data held on the system has therefore been suppressed, albeit it the restriction on access is likely to be temporary. The offence does not require data to be permanently unavailabl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e have discussed the extent to which the owner of an e mail address grants consent to the receipt of data from oth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5 concerns computer systems, that is one or more computers linked together. Is a lone computer connected to the internet part of a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s wife’s work computer is more likely than not part of a system, she is probably part of a LAN (Local Area Network) or WAN ( Wide Area Network) or Intranet. Has Bobby hindered the working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might argue that he is not responsible for the denial of service and that he had no intention to bring about such an event, in fact quite the opposite he wanted the system to carry on running so that he could find out what his wife was up to. Frequently denial of service attacks are insufficient to take a website off line , however service providers will take the site offline in order to minimise the effect of the attack on its systems and minimise inconvenience to other custom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scenario Bobby does not appear to have the requisite intention for an Article 5 offence though this does not mean of course that he escapes criminal liability.</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is an example of a Trojan virus which is a common way for cyber criminals to gain access to the computers of other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2 extends to accessing either the whole or part of a computer system. This slide explains through examples what the term “part of computer system” means.</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make the Supergun available for downloading?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be in possession of the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the fact that the Supergun can be used for a legitimate purpose mean that a prosecution cannot be brough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making the Supergun available to be downloaded amount to distribut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offences to which this Article relates are; unauthorised access, illegal interception, data and system interfer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ilst the software was originally dual use, that is had a legitimate function, now that the user interface has been modified does this mean that its possession etc is an off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ooking back at our previous case studies, the ‘access all areas’ software used by Bobby to gain access to his wife’s computer has a legitimate use. Programmes such as this allow users to access their own computers remotely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at about Bobby’s possession of password cracking software; would this be an offence?  May be an issue of intent, what legitimate reason does he have to possess such software? Is there any evidence to show that he has sought to deploy this software in order to commit an offenc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offence is not designed to be used to criminalise legitimate software providers and users. Where, as there is here, evidence of a malicious intent the problem does not perhaps arise. However those involved in cybercrime are also frequently involved in legitimate internet activity and may well be industry professionals who use and develop such software but whom , when opportunity presents itself are prepared to deploy it in furtherance of illegal activity . What about shopkeepers? how are they supposed to know what intention a customer might have in relation to a particular piece of hard ware or software.  Is the ambit of the offence too vague?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the manufacture, production, distribution use or possession of such software constitute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re all being constantly urged to keep our data secure. Whilst such a programme is obviously useful to those engaged in crime and in particular those who are fearful that the contents of their computers might incriminate them, the programme is not being used by them to commit an offence rather it is being used to conceal evid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yber criminals may make use of other programmes or systems to avoid detection including anonymisers which enable them to surf the internet without disclosing their true IP address or evidence eliminator programmes which can erase the contents of a hard drive.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Nick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the compan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Jupiter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 device been designed or adapted primarily for the purposes of committing designated criminal offenc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ybercriminals are able to access a variety of tools that enable them to commit offences or which will assist them in doing so. It is possible to purchase the code which will enable you to build your own ‘bot’ or purchase a ‘bot net ‘ or to purchase access to a bot net which will enable the user to undertake various types of crime such as ‘phishing’ .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Jupiter will use this programme to obtain financial information from users which can be exploited by either Jupiter himself or others. The company presumably thought that Nick had produced this during the course of his employment. Nick is innocent and has inadvertently helped Jupiter create a powerful criminal tool. Neither Nick nor the Company have the requisite criminal intent.  Would it be different if Jupiter went on to market  the programme to other companies who wished to monitor their employees internet activity?  Could Jupiter argue that the software has a legitimate purpose despite its obvious attraction for criminal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What offence has Stefan committed?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production of the forged bankers draft a computer related forgery?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offence only completed once the bank clerk accepts the draft as being genuin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reating the bank draft involves inputting inauthentic data into a computer, i.e. that the draft has been made out in favour of Stefan. However has this been done without right or has Stefan the right to produce such a document on his own computer? Stefan may have the intention to use the draft to defraud the bank but, for whatever reason may never get around to printing the draft. Does it make a difference to Stefan’s liability whether the document is ever produced on paper?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was not really created to deal with this type of scenario though it may serve if domestic legislation would not otherwise criminalise the production of a forged banker’s draft These offences may better be considered in terms of secondary liability such as attemp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is really aimed at those who use a computer as the mechanism to commit the offence, thus when acting in good faith the bank clerk inputs the data supplied by Stefan accepting that the data is authentic.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is an offence of computer related forgery?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that has been altered will not be acted upon for any legal purpo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efan has altered data and inputted inauthentic data. It is clear that this access and alteration is without right. Leaving aside the other offences that Stefan may have committed it is doubtful that he has committed a computer related forgery as this data will not be acted upon for legal purpos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rgery related offence is not concerned with financial or other gain; those offences come within the ambit of computer related fraud. This Article seeks to ensure the security and reliability of electronic data which may have consequences for legal relations. The term "for legal purposes" refers to transactions and documents which are legally relevant.</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Bobb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Bobbie’s message untru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was untrue has another person lost property as a resul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ie gained an economic advantag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posted by Bobby is untrue then he may have committed an offence. He has inputted false data into a computer and has gained an economic benefit for himself in the rise in the share pri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causal connection between the inputting of the data and the effect to remot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y caused a loss to another?  Arguably yes in that the shares are incorrectly valued and will at some point presumably fall. However it has to be recognised that the market for shares is extremely volatile, is not the value of a share the price that anyone is willing to pay for it at any particular time? Has anyone really been defrauded, are these types of rumours and messages not rife on the internet? is anyone really going to believe this post or fail to see it as a clumsy attempt to manipulate the share price ?  Does this mean that we cannot tell lies on the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Has Stefan committed an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 the parking machine a compute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it matter that the parking machine produces tickets automatically and no human being has been deceiv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the status of the parking tick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machine is a computer, it processes data calculating the amount of money tendered against the parking tariff and issuing a ticket for the appropriate length of time. Stefan has inputted inauthentic data, the washer rather than the appropriate coin. Article 7 does not require a human to have acted on the data suppli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ticket is a forgery, the data used to create it was false and it was produced in order that a person, the car park attendant, would regard it as genuine and not give Stefan a parking ticket.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e possession of this data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status do computer files have? Are they ‘things’ in law despite the fact that all they consist of is a string of binary cod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UK it is a substantive criminal offence to be in possession of an article for use in fraud. Article includes a computer file. Of course it is necessary to prove the necessary intent but it is difficult to argue a legitimate reason to have possession of data of this typ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that this might be regarded as a preparatory offence.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What offences has Adam committ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finitions of production, procurement and distributi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am has downloaded image files from the internet. Does downloading equate to the production of such an image?  Downloading, and particularly saving an image on a computer is not like watching TV. The act of downloading creates a new thing, a computer file thus viewing images on the internet involves the making of new images. Prosecutors may find this concept usefu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er to Peer file sharing networks allow members to access files made available to them by other members of the network. By placing the images into the shared folder Adam is making them available for distribution.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an Bill be prosecuted in respect of the imag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ctio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hoice of substantive offence, being in possession of an image or making the imag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re may be jurisdictional issues in relation the making of the images as these appear to have been produced oversea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should not be a proble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the position be if all of the images were found on unallocated spa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requires both knowledge and control. Bill may or may now know that images which are deleted may still be accessible on the hard drive, however unless he has the technical means and expertise he will never be able to recover them. However it remains ( subject to jurisdictional issues) for a prosecutor to either prosecute for making the image or for being in possession of the images in the past .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be the position if the images were of nude children aged 3- 7 playing on a beach and Bill explains that he is a naturist but accepts that he obtains sexual gratification from looking at the image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ther such images are illegal is a matter for local interpretation. In the UK we generally require images to have sexual element and we would regard the motivation of the photographer as being irrelevan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Who decides which image is illegal? Is the ambit of the offence sufficiently clear?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ow to prove that John is responsible for the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impact on suspects accused of paedophile offences</a:t>
            </a:r>
            <a:r>
              <a:rPr b="1" lang="en-GB" sz="1100" spc="-1" strike="noStrike">
                <a:solidFill>
                  <a:srgbClr val="000000"/>
                </a:solidFill>
                <a:latin typeface="Calibri"/>
              </a:rPr>
              <a:t>.</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method of concealing images is not uncommon. Groups will post links to the images. However, it may be dangerous to rely on the IP address alone to obtain a search warrant without understanding how that IP address came to be logged on the site, they could have got their entirely innocently having been referred by another site and not gone on to access any images once they realised what they were. Of course they may have visited on more than one occasion or accessed a number of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Can use this to discuss the care needed before accusing ain individual of being a paedophile. There is a high rate of suicide amongst persons accused of these offences. As in all cyber crime cases you need to be able to put the suspect at the keyboard at the relevant time, an IP address may be used by a number of individuals at the same address or the wireless network may have been hijacked by someone else. Accusations of this type can have a devastating effect on an innocent individual.</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Has Oswald committed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Has Oswald committed a substantive offence or one of secondary liability?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re there issues about jurisdict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Does it matter that the US website was fully automated?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at do we say about the use of the Evidence Elimination programm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Oswald is not in possession of any images and we cannot prove that he ever accessed a website to view such images albeit that we can prove that he paid a subscription in order to do so. However Oswald has paid money in order to persuade another person, the website owner in the USA to distribute or make available child abuse images for distribution. Does this therefore constitute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at the US website if fully automated means that no human being is actually involved in the processing of the credit card details. Even so, the process was created by and is administered and maintained by a person who is profiting financially.</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use of an evidence elimination programme is not, per se illegal. Unless Oswald was able to activate the programme during the course of the police investigation he is unlikely to have committed an offence connected with the administration of justice. However if Oswald is prosecuted the use of such programmes may be regarded as an aggravating feature by the court.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97ECB-F8B7-47D2-9A61-58EA1F74AF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666BE-5C0F-4462-B747-115A6BF6DF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bstantive criminal law provisions and some of the key factors used to describe the crimes, based on the Convention of Budapes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levant substantive law provisions from case study discussions</a:t>
            </a:r>
            <a:endParaRPr b="0" lang="en-US" sz="1200" spc="-1" strike="noStrike">
              <a:solidFill>
                <a:srgbClr val="000000"/>
              </a:solidFill>
              <a:latin typeface="Calibri"/>
            </a:endParaRPr>
          </a:p>
        </p:txBody>
      </p:sp>
      <p:sp>
        <p:nvSpPr>
          <p:cNvPr id="8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39E63-6B08-4E6A-9BA4-8CFBD338A6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AA2D3-988D-47AE-ADF7-B13C353298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The authority may be legislative, administrative, judicial, contractual or consensual in any given case. Authorised conduct is not criminalized; nor is the access of a computer system that permits free and open access by the publ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may narrow the scope of Article 2, which provides for the general criminalisation of illegal access, with certain qualifying elements. For instance, parties may require that the conduct of illegal access be done by infringing security measures (e.g. passwords or other access codes), or otherwise with dishonest intent or to obtain computer data from the computer system being accessed or any other computer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all the qualifying elements that Parties may wish to adopt in their domestic legislatio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egal interception, described under Article 3 of the Convention of Budapest, is also an intentional infringement. It is committed by those that, without right, intercept, by technical means, non-public transmissions of computer</a:t>
            </a:r>
            <a:r>
              <a:rPr b="1" lang="en-GB" sz="1200" spc="-1" strike="noStrike">
                <a:solidFill>
                  <a:srgbClr val="000000"/>
                </a:solidFill>
                <a:latin typeface="Calibri"/>
              </a:rPr>
              <a:t> </a:t>
            </a:r>
            <a:r>
              <a:rPr b="0" lang="en-GB" sz="1200" spc="-1" strike="noStrike">
                <a:solidFill>
                  <a:srgbClr val="000000"/>
                </a:solidFill>
                <a:latin typeface="Calibri"/>
              </a:rPr>
              <a:t>data, to, from or within a computer system, by technic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3</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will focus on the Substantive Criminal Law of the Budapest Convention on Cyber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Substantive Criminal Law, will be the object of Part Tw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will focus on Case Stud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a summary of all parts will be presented in Part Four.</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7995A-D577-40FD-A0CB-696194EC83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ception refers to listening to, monitoring or surveillance of communications. Interception affects the privacy of data communications; and Article 3 of the Convention aims to protect against interception of non-public transmissions of data.</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case of interception, it is possible that the conduct is being done with authorisation; possibly by law enforcement officials or persons authorized to conduct testing or protection activities. Thus legitimate interception done “with right” does not fall within the scope of Article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does not envisage criminalisation of non-technical interception of transmissions, and applies either when a person accesses and uses a computer system to intercept a transmission, uses an electronic eavesdropping or tapping device or any other technical means. This slide lists some examples of forms of interception that would fall within the scope of Article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on of public transmissions is not an offence under Article 3, which specifies that the scope of the article relates only to transmissions that are non-public. It is important to distinguish between non-public transmissions and non-public data as Article 3 does not take into consideration the nature of the data; but rather the transmission. Hence, interception of confidential information communicated through a publically accessible transmission of data would not constitute an offence; while the interception of publically available information communicated through a non-public transmission of data would constitute an offence under Article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ception of transmissions to, from or within a computer system are criminalised. This slide provides examples that explain the scope of Article 3 in this respect, and the difference between these three element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would cover the following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Budapest Conven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existing 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eds and the advantages of the harmonisation between national legislation and the international instruments, in particular the Budapest Convention.</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6AD52-7307-44AB-9E36-2684C023B5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ther than interception of computer data, Budapest Convention also criminalizes interception of transmissions of electromagnetic emissions, which do not fall under the Budapest Convention definition of “computer data” under Article 1. Computer systems often emit electromagnetic which contain data. The interception of electromagnetic emissions has been criminalised as it is possible to reconstruct computer data from electromagnetic emissions; and thus leaving this element uncriminalised would leave a lacuna in the law.</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provides for general criminalisation of intentional interception without right, made by technical means, of non-public transmissions of computer data. Parties may limit the scope of Article 3 by requiring certain qualifying elements to be met. The qualifying elements that parties may adopt are listed in this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nduct of i</a:t>
            </a:r>
            <a:r>
              <a:rPr b="0" lang="hr-HR" sz="1200" spc="-1" strike="noStrike">
                <a:solidFill>
                  <a:srgbClr val="000000"/>
                </a:solidFill>
                <a:latin typeface="Calibri"/>
              </a:rPr>
              <a:t>ntentionally and without right, damaging, deletion, deterioration, alteration or suppression of computer</a:t>
            </a:r>
            <a:r>
              <a:rPr b="1" lang="hr-HR" sz="1200" spc="-1" strike="noStrike">
                <a:solidFill>
                  <a:srgbClr val="000000"/>
                </a:solidFill>
                <a:latin typeface="Calibri"/>
              </a:rPr>
              <a:t> </a:t>
            </a:r>
            <a:r>
              <a:rPr b="0" lang="hr-HR" sz="1200" spc="-1" strike="noStrike">
                <a:solidFill>
                  <a:srgbClr val="000000"/>
                </a:solidFill>
                <a:latin typeface="Calibri"/>
              </a:rPr>
              <a:t>data</a:t>
            </a:r>
            <a:r>
              <a:rPr b="0" lang="en-US" sz="1200" spc="-1" strike="noStrike">
                <a:solidFill>
                  <a:srgbClr val="000000"/>
                </a:solidFill>
                <a:latin typeface="Calibri"/>
              </a:rPr>
              <a:t> will constitute the offence of data interference as provided </a:t>
            </a:r>
            <a:r>
              <a:rPr b="0" lang="hr-HR" sz="1200" spc="-1" strike="noStrike">
                <a:solidFill>
                  <a:srgbClr val="000000"/>
                </a:solidFill>
                <a:latin typeface="Calibri"/>
              </a:rPr>
              <a:t>under Article 4 of the Budapest</a:t>
            </a:r>
            <a:r>
              <a:rPr b="0" lang="en-US" sz="1200" spc="-1" strike="noStrike">
                <a:solidFill>
                  <a:srgbClr val="000000"/>
                </a:solidFill>
                <a:latin typeface="Calibri"/>
              </a:rPr>
              <a:t> </a:t>
            </a:r>
            <a:r>
              <a:rPr b="0" lang="hr-HR" sz="1200" spc="-1" strike="noStrike">
                <a:solidFill>
                  <a:srgbClr val="000000"/>
                </a:solidFill>
                <a:latin typeface="Calibri"/>
              </a:rPr>
              <a:t>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4</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Data interference protects the integrity of data against unauthorised interference. The owner of the data has the right to keep them as they are, as the owner of a good, in the real life, has the right to keep his property safe from interference from others. In some jurisdictions, regular and classic damage also covers data interference; in others, there is a need to describe separately the damage on computer data, or data interfe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is crime enfaces the great increase of relevant data (computer data) to the modern life. Computer data are very vulnerable and can very easily be destroyed or manipulated. This criminal rule protects its integrity and its availabi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One of the most frequent cases of data interference is the result of the action of viruses – that without right install themselves on the computer of the victim and, for example, delete data.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maging and deterioration of computer data without right refers to the negative alteration of the integrity or information content of data and programs. Both terms are overlapping act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fers the destruction of data; and results in the deleted data being rendered unrecognisab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levant substantive law provisions based on the discussions relating to the presented case studies</a:t>
            </a: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E61E6-6116-4449-8FFA-2247495202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eration refers to the modification of existing data (but not the deletion of the same). Data may be altered in a number of ways; including the input of malicious codes such as viruses and Trojan horses.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of data refers to any action that either prevents or terminates the availability of the data to the person who has access to the data or storage medium in which it is stored. Unlike deletion of data, suppression of data does not involve the destruction of data, but rather non-availability of data.</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data is doing so “with right”. This slide lists certain examples where a person may legitimately interfere with data without attracting criminal liability under Article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iven that the offence of data interference has a broad scope, parties may elect to restrict this offence by requiring that the conduct result in serious harm. No specific definition of serious harm is provided under Article 4, and the criteria may be determined under domestic law.</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System interference is the</a:t>
            </a:r>
            <a:r>
              <a:rPr b="1" lang="hr-HR" sz="1200" spc="-1" strike="noStrike">
                <a:solidFill>
                  <a:srgbClr val="000000"/>
                </a:solidFill>
                <a:latin typeface="Calibri"/>
              </a:rPr>
              <a:t> </a:t>
            </a:r>
            <a:r>
              <a:rPr b="0" lang="hr-HR" sz="1200" spc="-1" strike="noStrike">
                <a:solidFill>
                  <a:srgbClr val="000000"/>
                </a:solidFill>
                <a:latin typeface="Calibri"/>
              </a:rPr>
              <a:t>hindering of the functioning of a computer system – the serious hindering: Article 5 of Budapest Convention does not cover non-serious hindering. This effect can be the result of inputting, transmitting, damaging, deleting, deteriorating, altering or suppressing computer data, if this is committed intentionally and without righ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icular aspect excludes, in general, for example, security tests, conducted by the administrator of the network. This infringement covers a wide range of acts, able to interfere with the normal and proper functioning of a network. In fact, Budapest Convention recognises the importance of the communication systems and of the computer technology in the everyday life – the availability of these systems is crucial for the regular functioning of public, economic and social activities. But this type of crime does not only cover interferences on a big scale, like denial-of-service attack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small actions, just envisaging one computer, can be system interference – it will be the case of </a:t>
            </a:r>
            <a:r>
              <a:rPr b="0" i="1" lang="en-GB" sz="1200" spc="-1" strike="noStrike">
                <a:solidFill>
                  <a:srgbClr val="000000"/>
                </a:solidFill>
                <a:latin typeface="Calibri"/>
              </a:rPr>
              <a:t>mail bombing</a:t>
            </a:r>
            <a:r>
              <a:rPr b="0" lang="en-GB" sz="1200" spc="-1" strike="noStrike">
                <a:solidFill>
                  <a:srgbClr val="000000"/>
                </a:solidFill>
                <a:latin typeface="Calibri"/>
              </a:rPr>
              <a:t> targeted to a single email address. In fact, it will have always a crime of system interference when a perpetrator targets a computer system with more requests than that system can manag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envisages to protect the access to communication networks, both protecting the operators of the system and the end user.</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5</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the first international treaty on cybercrime, the Budapest Convention aims to facilitate and develop international cooperation in criminal investig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se two sessions the focus will be on substantive criminal law, i.e. those offences that the Budapest Convention requires each country to criminalize in the national legislation.</a:t>
            </a: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AA3E2-30C3-4AE5-AA5C-D19F3C0AF0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and the element displayed in the previous slide are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ffence of system interference requires conduct that results in the hindering of a the proper functioning of a computer system. Article 4 specifies that such hindering must take place through (i) inputting (ii) transmitting (iii) damaging (iv) altering and (v) suppressing computer data.  The explanations of each of these terms has already been discussed under the offence of data interference (Article 4), and the same explanations will apply to system interference.</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5 criminalises the </a:t>
            </a:r>
            <a:r>
              <a:rPr b="1" lang="en-GB" sz="1200" spc="-1" strike="noStrike">
                <a:solidFill>
                  <a:srgbClr val="000000"/>
                </a:solidFill>
                <a:latin typeface="Calibri"/>
              </a:rPr>
              <a:t>serious hindering </a:t>
            </a:r>
            <a:r>
              <a:rPr b="0" lang="en-GB" sz="1200" spc="-1" strike="noStrike">
                <a:solidFill>
                  <a:srgbClr val="000000"/>
                </a:solidFill>
                <a:latin typeface="Calibri"/>
              </a:rPr>
              <a:t>of the functioning of a computer system and not the mere hindering of computer system that is not serious in nature. This element has been included to narrow the scope of the offence and to prevent over-criminalisation of hindrances which are not serious in nature. The seriousness of a hindrance is to be determined under domestic legislation, and may include sending of data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a computer system is doing so “with right”. This slide lists certain examples where a person may legitimately interfere with a computer system without attracting criminal liability under Article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most complexes infringements described on Budapest Convention is the crime of misuse of devices – Article 6.</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Like with other crimes, the action of the perpetrator must be intentional and without right. Covers a wide range of activities, all of them related with devices which are able to be misused.</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is a very “new” crime, not included in the Recommendation of 1989. It is also very innovative - the facts described in there were not recognised previously as a crime in many of the national legislation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ssentially, it prohibits the production, sale, procurement for use, import, distribution or otherwise making available of devices, including a computer program that are designed or adapted primarily for the purpose of committing any of the other substantial offences named in the Conventio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qually, it criminalises the sale of computer passwords, access code, or similar data by which the whole or any part of a computer system is capable of being accessed. With this provision, the Convention recognises the need of incriminating the flourishing and increasingly economically important “secondary market” in “crime enabling equipment”: hackers selling online their tools of the trade, self-made virus kits widely available online and wholesale disposal of passwords that were stolen using Trojans and other devices. This means that </a:t>
            </a:r>
            <a:r>
              <a:rPr b="0" i="1" lang="en-GB" sz="1100" spc="-1" strike="noStrike">
                <a:solidFill>
                  <a:srgbClr val="000000"/>
                </a:solidFill>
                <a:latin typeface="Calibri"/>
              </a:rPr>
              <a:t>hacking</a:t>
            </a:r>
            <a:r>
              <a:rPr b="0" lang="en-GB" sz="1100" spc="-1" strike="noStrike">
                <a:solidFill>
                  <a:srgbClr val="000000"/>
                </a:solidFill>
                <a:latin typeface="Calibri"/>
              </a:rPr>
              <a:t> into a computer system is not any longer the preserve of highly skilled programmers. Every “regular” criminal can easily buy the necessary tools, or directly the stolen passwords - very often the criminal seller will offer also a “customer service” and help his client setting up his computer for the commission of a crim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most discussed details of Article 6 refers to 1, b, that (still intentionally and without right), incriminates the possession of </a:t>
            </a:r>
            <a:r>
              <a:rPr b="0" i="1" lang="en-GB" sz="1200" spc="-1" strike="noStrike">
                <a:solidFill>
                  <a:srgbClr val="000000"/>
                </a:solidFill>
                <a:latin typeface="Calibri"/>
              </a:rPr>
              <a:t>a device</a:t>
            </a:r>
            <a:r>
              <a:rPr b="0" lang="en-GB" sz="1200" spc="-1" strike="noStrike">
                <a:solidFill>
                  <a:srgbClr val="000000"/>
                </a:solidFill>
                <a:latin typeface="Calibri"/>
              </a:rPr>
              <a:t> with the intent that it is used for the purpose of committing any of the offences established in Articles 2 to 5 of the Convention (illegal access, illegal interception, data interference and system interfer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option is similar to what some jurisdiction call “preparatory acts” that, in this case, are already and autonomously criminalised.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ary goal is to </a:t>
            </a:r>
            <a:r>
              <a:rPr b="0" lang="en-GB" sz="1200" spc="-1" strike="noStrike">
                <a:solidFill>
                  <a:srgbClr val="000000"/>
                </a:solidFill>
                <a:latin typeface="Calibri"/>
              </a:rPr>
              <a:t>harmonise</a:t>
            </a:r>
            <a:r>
              <a:rPr b="0" lang="en-US" sz="1200" spc="-1" strike="noStrike">
                <a:solidFill>
                  <a:srgbClr val="000000"/>
                </a:solidFill>
                <a:latin typeface="Calibri"/>
              </a:rPr>
              <a:t> substantive law between the Parties to permit coope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st Convention def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fences against the confidentiality, integrity and availability of computer systems and data:  Illegal access, Illegal interception, Data interference, System interference, Misuse of de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mputer-related offences: computer-related forgery, computer-related fra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ntent-related offences: Offences related to child pornography, Offences related to infringements of copyright and related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D1210-3AFD-4F3A-B5E6-071B42240D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6, </a:t>
            </a:r>
            <a:r>
              <a:rPr b="0" lang="en-US" sz="1200" spc="-1" strike="noStrike">
                <a:solidFill>
                  <a:srgbClr val="ff0000"/>
                </a:solidFill>
                <a:latin typeface="Calibri"/>
              </a:rPr>
              <a:t>§2 &amp;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a person has the right to produce and put on market devices that may fall under the scope of Article 6, including where such devices are to be used for authorised testing or for the protection of computer sys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makes it an offence to produce, sell, procure for use, import, distribute or make available devices designed or adapted primarily for the purpose of committing cybercrime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extends not only to the misuse of devices, but also computer programs. This means that Article 6 includes the production, sale etc. of programs that are designed to alter or destroy data, or interfere with the operation of computer systems. This means that virus programs that are not contained in devices also fall within the scope of Article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rafters of the Convention had to decide whether to include or exclude dual-use devices from the ambit of Article 6. The inclusion of dual use devices may have resulted in over-criminalisation of production and distribution of devices even though the same were produced and distributed for non-criminal purposes. The exclusion of dual use devices would been too narrow as it would require that it be proved that the devices be specifically produced and the purposes of committing cybercrime. The Convention has adopted a balanced approach whereby devices that are designed or adapted </a:t>
            </a:r>
            <a:r>
              <a:rPr b="1" lang="en-GB" sz="1200" spc="-1" strike="noStrike">
                <a:solidFill>
                  <a:srgbClr val="000000"/>
                </a:solidFill>
                <a:latin typeface="Calibri"/>
              </a:rPr>
              <a:t>primarily</a:t>
            </a:r>
            <a:r>
              <a:rPr b="0" lang="en-GB" sz="1200" spc="-1" strike="noStrike">
                <a:solidFill>
                  <a:srgbClr val="000000"/>
                </a:solidFill>
                <a:latin typeface="Calibri"/>
              </a:rPr>
              <a:t>, but not solely, for the commission of a cybercrime are covered by Article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ction refers to one of the most important categories of cybercrime: offences against the confidentiality, integrity and availability of computer data and systems. This may be called cybercrime in the narrow sense.</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misuse of devices and computer programs, Article 6 also criminalises the production, sale etc. of access codes, computer passwords and other similar data which enables access to the whole or any part of a computer system.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producing or distributing devices, computer programs, passwords, access codes etc, Article 6 also criminalizes the possession of the same if so possessed with the intent to commit a cybercrime.</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offences are crimes committed by the means of a computer system. These infringements are new modalities of traditional crimes, but they just can be committed within the digital environment and they cannot happen outside this virtual world.</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orgery, described under Article 7 of Budapest Convention is a particular modality of forgery. In most countries forgery is a traditional criminal infringement. But normally, it refers to tangible objects and sometimes cannot be used to criminalise computer forgery, or forgery of computer data. That was the reason of introduction in the Convention of Article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is point, the Convention aims to introduce a parallel offence to the traditional forgery of documents (tangible documents). But in this case, the object of the crime is computer data. This crime is committed by those who input, alter, delete or suppress computer data, resulting in inauthentic data with the intent that those data are considered or acted upon for legal purposes as if it were authent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requires, of course, and intentional and without right action.</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falsification of a genuine document can occur under Article 6.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requirement that computer-related forgery be committed intentionally, Article 7 also requires that a person commit the necessary conduct with the intent that the forged document be considered or acted upon for legal purposes (i.e. legal transactions and documents which are legally relevant). Further, Parties may require that the conduct be committed with the intent to defraud another perso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e crime of illegal access is committed by those who access</a:t>
            </a:r>
            <a:r>
              <a:rPr b="1" lang="hr-HR" sz="1200" spc="-1" strike="noStrike">
                <a:solidFill>
                  <a:srgbClr val="000000"/>
                </a:solidFill>
                <a:latin typeface="Calibri"/>
              </a:rPr>
              <a:t> </a:t>
            </a:r>
            <a:r>
              <a:rPr b="0" lang="hr-HR" sz="1200" spc="-1" strike="noStrike">
                <a:solidFill>
                  <a:srgbClr val="000000"/>
                </a:solidFill>
                <a:latin typeface="Calibri"/>
              </a:rPr>
              <a:t>the whole or any part of a computer system without right. This action must be intentional and it is described under Article 2 of the Convention of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raud, described under Article 8 of Budapest Convention is</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loss to the property of another person may be caused.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ference (with the functioning of a computer system)</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D8BB2-39D2-481F-B4D5-CFFB8DD79D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respect to the offence of computer–related fraud, it is necessary that the conduct result in the direct economic or possessory loss of another person’s property. This may include the loss of money, tangibles and intangibles with an economic value.</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F11B7-513A-440C-82E7-389571430F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t-related offences refer to those crimes that became easier through the use of computers or networks. These kinds of infringements can be committed by other means, but computers and networks made them easier.</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9 of Budapest Convention discloses one of the great innovations of this treaty: it criminalises child pornography acts committed by the means of a computer syste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trade with child pornography increased enormously with the advent of Internet. The communication and information networks offer a great number of advantages and possibilities for those who look for such kind of content. Besides, on Internet, the users can be anonymous, while gaining access to child abuse material onli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cerning child pornography offences, one aspect is particularly contentious: the criminalisation of “pseudo images”. The articles of the Convention cover not only situations of pictures where a real child is photographed during sexual activity, but also fake representations of children – for example, pictures of children completely created by computers (morphing for instance the head of a child on the body of the adult that commits the sexual act) or pictures from adults (convincingly) pretending (acting or dressing like) to be childre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second important aspect must be discussed, because it is broadly considered in the text of the Convention: the punishment of the mere possession of child pornography materials. Article 9, 1 defines as an infringement the mere possession of this kind of material, within a computer system and also the procurement of such images for purely personal use. This approach is commonly adopted by other international </a:t>
            </a:r>
            <a:r>
              <a:rPr b="0" i="1" lang="en-GB" sz="700" spc="-1" strike="noStrike">
                <a:solidFill>
                  <a:srgbClr val="000000"/>
                </a:solidFill>
                <a:latin typeface="Calibri"/>
              </a:rPr>
              <a:t>fora</a:t>
            </a:r>
            <a:r>
              <a:rPr b="0" lang="en-GB" sz="700" spc="-1" strike="noStrike">
                <a:solidFill>
                  <a:srgbClr val="000000"/>
                </a:solidFill>
                <a:latin typeface="Calibri"/>
              </a:rPr>
              <a:t> that studied the the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riminalising the mere possession of child pornography material is making it much easier to conduct a criminal investigation into this topic, since under this provision anyone who has in his possession this type of material can be prosecuted, and the specific intent to use the pictures in a certain way (for example sell them) or participating in their production does not need to be proven. This also means that suspected paedophiles can be punished without any evidence that they acted on their impulses towards a child. And of course, police and courts can investigate and convict this way suspected suppliers of child pornography (even if by the mere possession), with or without evidence that actual trade took pla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respect, it is important to also consider the legal option from the European Union. For many years, the European Union decided to criminalise the mere possession of child pornography materials - since the Decision from the Council from 29 of May of 2000. More recently, Directive 2011/92/EU of the European Parliament and of the Council of 13 December 2011, on combating the sexual abuse and sexual exploitation of children and child pornography, and replacing Council Framework Decision 2004/68/JHA, stated that Member States from the European Union should criminalise, among other illegal behaviours, the acquisition or possession of child pornography (Article 5, 2). However, the same document gives discretion to each of the Member States to decide whether this incrimination applies to cases where that pornographic material possessed by the producer solely for his or her private use (in so far as no pornographic material has been used for the purpose of its production and provided that the act involves no risk of dissemination of the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from the European Union is absolutely in line with Article 9 of Budapest Convention that incriminates producing, offering or making available, distributing or transmitting, procuring or merely possessing child pornography in a computer system or on a computer-data storage medium. However, the inclusion of “procuring” or “possessing” allows reservation from the Parties to the Conven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was reinforced by the Convention on the Protection of Children (CETS 201), issued by the Council of Europe and opened for signature in 2007. The aim of this treaty is to harmonise criminal law provisions, within the Parties, aiming to protect children from sexual exploitation. According to Article 20, among others “</a:t>
            </a:r>
            <a:r>
              <a:rPr b="0" i="1" lang="en-GB" sz="700" spc="-1" strike="noStrike">
                <a:solidFill>
                  <a:srgbClr val="000000"/>
                </a:solidFill>
                <a:latin typeface="Calibri"/>
              </a:rPr>
              <a:t>procuring child pornography for oneself or for another person</a:t>
            </a:r>
            <a:r>
              <a:rPr b="0" lang="en-GB" sz="700" spc="-1" strike="noStrike">
                <a:solidFill>
                  <a:srgbClr val="000000"/>
                </a:solidFill>
                <a:latin typeface="Calibri"/>
              </a:rPr>
              <a:t>” and “</a:t>
            </a:r>
            <a:r>
              <a:rPr b="0" i="1" lang="en-GB" sz="700" spc="-1" strike="noStrike">
                <a:solidFill>
                  <a:srgbClr val="000000"/>
                </a:solidFill>
                <a:latin typeface="Calibri"/>
              </a:rPr>
              <a:t>possessing child pornography</a:t>
            </a:r>
            <a:r>
              <a:rPr b="0" lang="en-GB" sz="700" spc="-1" strike="noStrike">
                <a:solidFill>
                  <a:srgbClr val="000000"/>
                </a:solidFill>
                <a:latin typeface="Calibri"/>
              </a:rPr>
              <a:t>” should be criminalised.</a:t>
            </a:r>
            <a:endParaRPr b="0" lang="en-US" sz="700" spc="-1" strike="noStrike">
              <a:solidFill>
                <a:srgbClr val="000000"/>
              </a:solidFill>
              <a:latin typeface="Calibri"/>
            </a:endParaRPr>
          </a:p>
        </p:txBody>
      </p:sp>
      <p:sp>
        <p:nvSpPr>
          <p:cNvPr id="6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49EFB-3951-4D52-AB25-5BD1D2636A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9.</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2</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It is very often referred to as </a:t>
            </a:r>
            <a:r>
              <a:rPr b="0" i="1" lang="hr-HR" sz="1200" spc="-1" strike="noStrike">
                <a:solidFill>
                  <a:srgbClr val="000000"/>
                </a:solidFill>
                <a:latin typeface="Calibri"/>
              </a:rPr>
              <a:t>hacking</a:t>
            </a:r>
            <a:r>
              <a:rPr b="0" lang="hr-HR" sz="1200" spc="-1" strike="noStrike">
                <a:solidFill>
                  <a:srgbClr val="000000"/>
                </a:solidFill>
                <a:latin typeface="Calibri"/>
              </a:rPr>
              <a:t> of computer systems and is one of the most common computer crimes. However, there are other phenomena, besides </a:t>
            </a:r>
            <a:r>
              <a:rPr b="0" i="1" lang="hr-HR" sz="1200" spc="-1" strike="noStrike">
                <a:solidFill>
                  <a:srgbClr val="000000"/>
                </a:solidFill>
                <a:latin typeface="Calibri"/>
              </a:rPr>
              <a:t>hacking</a:t>
            </a:r>
            <a:r>
              <a:rPr b="0" lang="hr-HR" sz="1200" spc="-1" strike="noStrike">
                <a:solidFill>
                  <a:srgbClr val="000000"/>
                </a:solidFill>
                <a:latin typeface="Calibri"/>
              </a:rPr>
              <a:t>, that can be classified as illegal access – in fact </a:t>
            </a:r>
            <a:r>
              <a:rPr b="0" i="1" lang="hr-HR" sz="1200" spc="-1" strike="noStrike">
                <a:solidFill>
                  <a:srgbClr val="000000"/>
                </a:solidFill>
                <a:latin typeface="Calibri"/>
              </a:rPr>
              <a:t>hacking</a:t>
            </a:r>
            <a:r>
              <a:rPr b="0" lang="hr-HR" sz="1200" spc="-1" strike="noStrike">
                <a:solidFill>
                  <a:srgbClr val="000000"/>
                </a:solidFill>
                <a:latin typeface="Calibri"/>
              </a:rPr>
              <a:t> is used, normally, to describe the act of unlawfully accessing a computer system, by the means of technology. But illegal access also covers any </a:t>
            </a:r>
            <a:r>
              <a:rPr b="0" lang="en-US" sz="1200" spc="-1" strike="noStrike">
                <a:solidFill>
                  <a:srgbClr val="000000"/>
                </a:solidFill>
                <a:latin typeface="Calibri"/>
              </a:rPr>
              <a:t>unauthorized </a:t>
            </a:r>
            <a:r>
              <a:rPr b="0" lang="hr-HR" sz="1200" spc="-1" strike="noStrike">
                <a:solidFill>
                  <a:srgbClr val="000000"/>
                </a:solidFill>
                <a:latin typeface="Calibri"/>
              </a:rPr>
              <a:t>entering in a system, regardless of the technology used or even the use or not of technology. Such case, for example, would be the unlawfully obtained password by the perpetrator. The protected interest here is the confidentiality of a computer system and data.</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the conduct described in Article 9 be done “with right”. There are certain other defences to the conduct described in Article 9; e.g. that the pornographic material has artistic, medical, scientific or other similar mer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E969E-74EF-4DD5-AF2D-0D3173DAF9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production, offering and making available of child pornography. </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C74FD-3A8E-4919-A64F-05BF00A875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distribution, transmission, procuring and possessing of child pornograph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17ACE-9811-4FD3-AB3E-283451BBA7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the criteria by which it is to be determined whether certain material is pornographic in nature.  The content is to be determined by national standards pertaining to obscenity,  public morality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the language of Article 9 suggests that the pornographic material must constitute a visual depiction, it is also intended to include data stored on a computer system or a computer data storage medium that is capable of conversation into a visual image.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EA3F1-51D6-400D-83B4-4539769E17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minimum criteria for determining whether certain material is depicting “sexually explicit conduct”. Parties are free to use a broader definition. It is important to note that sexually explicit conduct being depicted does not have to be real sexually explicit conduct; and it may be simulated.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CF090-1B32-458B-A4D8-2FD5960044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E0A3C-423E-4E32-A396-863FF5708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CFF25-6904-4E74-AF1F-416EF4F86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BA0CA-77D5-4DB7-9759-60C1911F7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AF870-7B6C-45ED-96C6-EAA7E9B1D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83564-8CA2-40BB-9012-38CC5ACC1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6740A-2B70-4A96-84DF-4DDA5E6D1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FB9AB-B962-4A2A-8ECB-5CC01D03E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3030B-0A52-4658-84AD-0486DBD03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3B94B-63CD-4F5D-A1BA-182883E6B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259E0-C9A8-4EAD-9EB0-C7FDFDE9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4757C-5980-4A7C-999C-BAFEBEEED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F808-4DFD-43CD-A470-87BFDE42B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61F01-F13C-4D4A-AE36-923C3B32EACC}"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B4284-7872-4AD7-BCF0-09457DE690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Criminal Law provisions under the Budapest Convention</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0E528B-1A2E-4185-9668-80C0651454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5" name="PlaceHolder 2"/>
          <p:cNvSpPr>
            <a:spLocks noGrp="1"/>
          </p:cNvSpPr>
          <p:nvPr>
            <p:ph/>
          </p:nvPr>
        </p:nvSpPr>
        <p:spPr>
          <a:xfrm>
            <a:off x="457200" y="1866600"/>
            <a:ext cx="8229600" cy="397188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access</a:t>
            </a:r>
            <a:r>
              <a:rPr b="0" lang="en-GB" sz="2800" spc="-1" strike="noStrike">
                <a:solidFill>
                  <a:srgbClr val="000000"/>
                </a:solidFill>
                <a:latin typeface="Calibri"/>
              </a:rPr>
              <a:t>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4B95F4-ED97-4D5E-BB46-AB2C342520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760515-F112-4715-B6E0-1D299209DD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9" name=""/>
          <p:cNvSpPr txBox="1"/>
          <p:nvPr/>
        </p:nvSpPr>
        <p:spPr>
          <a:xfrm>
            <a:off x="254160" y="1600200"/>
            <a:ext cx="859464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a:t>
            </a:r>
            <a:r>
              <a:rPr b="1" lang="en-GB" sz="3200" spc="-1" strike="noStrike">
                <a:solidFill>
                  <a:srgbClr val="ff0000"/>
                </a:solidFill>
                <a:latin typeface="Calibri"/>
              </a:rPr>
              <a:t>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person appearing to be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istic images representing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pictions</a:t>
            </a:r>
            <a:endParaRPr b="0" lang="en-US" sz="4400" spc="-1" strike="noStrike">
              <a:solidFill>
                <a:srgbClr val="000000"/>
              </a:solidFill>
              <a:latin typeface="Calibri"/>
            </a:endParaRPr>
          </a:p>
        </p:txBody>
      </p:sp>
      <p:sp>
        <p:nvSpPr>
          <p:cNvPr id="361"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following depictions are covered:</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xual abuse of a real chil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depict a person appearing to be a minor engaged in sexually explicit conduct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although "realistic", do not in fact involve a real child engaged in sexually explicit conduct; including pictures which are altered, such as morphed images of natural persons, or even generated entirely by the computer</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A8C489-C7C1-4BA4-AF98-89081B13BF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C571E4-622F-4831-9732-8271FBBE24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5" name=""/>
          <p:cNvSpPr txBox="1"/>
          <p:nvPr/>
        </p:nvSpPr>
        <p:spPr>
          <a:xfrm>
            <a:off x="457200" y="16002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a:t>
            </a:r>
            <a:r>
              <a:rPr b="1" lang="en-GB" sz="3200" spc="-1" strike="noStrike">
                <a:solidFill>
                  <a:srgbClr val="ff0000"/>
                </a:solidFill>
                <a:latin typeface="Calibri"/>
              </a:rPr>
              <a:t>minor</a:t>
            </a:r>
            <a:r>
              <a:rPr b="0" lang="en-GB" sz="2400" spc="-1" strike="noStrike">
                <a:solidFill>
                  <a:srgbClr val="000000"/>
                </a:solidFill>
                <a:latin typeface="Calibri"/>
              </a:rPr>
              <a:t>”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nor</a:t>
            </a:r>
            <a:endParaRPr b="0" lang="en-US" sz="4400" spc="-1" strike="noStrike">
              <a:solidFill>
                <a:srgbClr val="000000"/>
              </a:solidFill>
              <a:latin typeface="Calibri"/>
            </a:endParaRPr>
          </a:p>
        </p:txBody>
      </p:sp>
      <p:sp>
        <p:nvSpPr>
          <p:cNvPr id="367" name=""/>
          <p:cNvSpPr txBox="1"/>
          <p:nvPr/>
        </p:nvSpPr>
        <p:spPr>
          <a:xfrm>
            <a:off x="279360" y="1593720"/>
            <a:ext cx="854712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istent with definition of child in Article 1 of the UN Convention on the Rights of the Child</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nor generally to mean all persons under 18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ies may require a lower age-limit provided it is not less than 16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ge refers to use of (real or fictitious) children as sexual objects; and not age of consent for sexual relations</a:t>
            </a:r>
            <a:endParaRPr b="0" lang="en-US" sz="2800" spc="-1" strike="noStrike">
              <a:solidFill>
                <a:srgbClr val="000000"/>
              </a:solidFill>
              <a:latin typeface="Calibri"/>
            </a:endParaRPr>
          </a:p>
        </p:txBody>
      </p:sp>
      <p:sp>
        <p:nvSpPr>
          <p:cNvPr id="3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8E7753-D28D-4C39-9A3C-8C08241C43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Offences related to infringements of copyrights and related rights</a:t>
            </a:r>
            <a:endParaRPr b="0" lang="en-US" sz="32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53E2C-5932-45D2-ACBC-A9607A60BB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6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Intellectual Property Rights</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10 – Budapest Convention)</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not create a new regulation on this subject</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purpose of the Budapest Convention</a:t>
            </a:r>
            <a:endParaRPr b="0" lang="en-US" sz="24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o apply previous rules on copyright: what is complied with the real world must be also observed within the on-line reality</a:t>
            </a:r>
            <a:endParaRPr b="0" lang="en-US" sz="20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infringements of copyright on-line, or committed by the means of a computer system, must be punished as if it was committed in the real world</a:t>
            </a:r>
            <a:endParaRPr b="0" lang="en-US" sz="2000" spc="-1" strike="noStrike">
              <a:solidFill>
                <a:srgbClr val="000000"/>
              </a:solidFill>
              <a:latin typeface="Calibri"/>
            </a:endParaRPr>
          </a:p>
          <a:p>
            <a:pPr lvl="2" marL="754200" indent="0">
              <a:lnSpc>
                <a:spcPct val="90000"/>
              </a:lnSpc>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dapest Convention refers to existing international treaties </a:t>
            </a:r>
            <a:endParaRPr b="0" lang="en-US" sz="24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aris Agreement from 24 of July of 1971</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Convention</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WIPO treaties</a:t>
            </a:r>
            <a:endParaRPr b="0" lang="en-US" sz="20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3FFBD-B1C7-4CCE-A34D-C20F626CB8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895400"/>
            <a:ext cx="8229600" cy="4525920"/>
          </a:xfrm>
          <a:prstGeom prst="rect">
            <a:avLst/>
          </a:prstGeom>
          <a:noFill/>
          <a:ln w="0">
            <a:noFill/>
          </a:ln>
        </p:spPr>
        <p:txBody>
          <a:bodyPr anchor="t">
            <a:normAutofit fontScale="97000"/>
          </a:bodyPr>
          <a:p>
            <a:pPr marL="498960" indent="-49896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26697-9D0F-4602-A635-DD3B7B3CDE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adopt such legislative and other measures as may be necessary to establish as criminal offences under its domestic law the infringement of related rights, as defined under the law of that Party, pursuant to the obligations it has undertaken under the International Convention for the Protection of Performers, Producers of Phonograms and Broadcasting Organisations (Rome Convention), the Agreement on Trade-Related Aspects of Intellectual Property Rights and the WIPO Performances and Phonograms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383BE-743A-499E-A55F-7AA012F593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 Party may reserve the right not to impose criminal liability under paragraphs 1 and 2 of this article in limited circumstances, provided that other effective remedies are available and that such reservation does not derogate from the Party’s international obligations set forth in the international instruments referred to in paragraphs 1 and 2 of this article.</a:t>
            </a:r>
            <a:endParaRPr b="0" lang="en-US" sz="26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3FAEA-7EF5-4E12-BD5F-EB68A58F0A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3" name="PlaceHolder 2"/>
          <p:cNvSpPr>
            <a:spLocks noGrp="1"/>
          </p:cNvSpPr>
          <p:nvPr>
            <p:ph/>
          </p:nvPr>
        </p:nvSpPr>
        <p:spPr>
          <a:xfrm>
            <a:off x="442800" y="16286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a:t>
            </a:r>
            <a:r>
              <a:rPr b="1" lang="en-GB" sz="3200" spc="-1" strike="noStrike">
                <a:solidFill>
                  <a:srgbClr val="ff0000"/>
                </a:solidFill>
                <a:latin typeface="Calibri"/>
              </a:rPr>
              <a:t>infringement of copyright</a:t>
            </a:r>
            <a:r>
              <a:rPr b="0" lang="en-GB" sz="2400" spc="-1" strike="noStrike">
                <a:solidFill>
                  <a:srgbClr val="000000"/>
                </a:solidFill>
                <a:latin typeface="Calibri"/>
              </a:rPr>
              <a: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a:t>
            </a:r>
            <a:r>
              <a:rPr b="1" lang="en-GB" sz="3200" spc="-1" strike="noStrike">
                <a:solidFill>
                  <a:srgbClr val="ff0000"/>
                </a:solidFill>
                <a:latin typeface="Calibri"/>
              </a:rPr>
              <a:t>with the exception of any moral rights</a:t>
            </a:r>
            <a:r>
              <a:rPr b="1" lang="en-GB" sz="3200" spc="-1" strike="noStrike">
                <a:solidFill>
                  <a:srgbClr val="000000"/>
                </a:solidFill>
                <a:latin typeface="Calibri"/>
              </a:rPr>
              <a:t> </a:t>
            </a:r>
            <a:r>
              <a:rPr b="0" lang="en-GB" sz="2400" spc="-1" strike="noStrike">
                <a:solidFill>
                  <a:srgbClr val="000000"/>
                </a:solidFill>
                <a:latin typeface="Calibri"/>
              </a:rPr>
              <a:t>conferred by such Conventions, where such acts are committed </a:t>
            </a:r>
            <a:r>
              <a:rPr b="1" lang="en-GB" sz="3200" spc="-1" strike="noStrike">
                <a:solidFill>
                  <a:srgbClr val="ff0000"/>
                </a:solidFill>
                <a:latin typeface="Calibri"/>
              </a:rPr>
              <a:t>wilfully</a:t>
            </a:r>
            <a:r>
              <a:rPr b="0" lang="en-GB" sz="2400" spc="-1" strike="noStrike">
                <a:solidFill>
                  <a:srgbClr val="000000"/>
                </a:solidFill>
                <a:latin typeface="Calibri"/>
              </a:rPr>
              <a:t>, on a commercial scale and </a:t>
            </a:r>
            <a:r>
              <a:rPr b="1" lang="en-GB" sz="3200" spc="-1" strike="noStrike">
                <a:solidFill>
                  <a:srgbClr val="ff0000"/>
                </a:solidFill>
                <a:latin typeface="Calibri"/>
              </a:rPr>
              <a:t>by means of a computer system</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FD9AB3-0365-4475-8C32-5C0E83E7BA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a:t>
            </a:r>
            <a:endParaRPr b="0" lang="en-US" sz="4400" spc="-1" strike="noStrike">
              <a:solidFill>
                <a:srgbClr val="000000"/>
              </a:solidFill>
              <a:latin typeface="Calibri"/>
            </a:endParaRPr>
          </a:p>
        </p:txBody>
      </p:sp>
      <p:sp>
        <p:nvSpPr>
          <p:cNvPr id="88"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ccess is entering whole or party of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s the entering of another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Where it is connected via public telecommunications networ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To a computer system on the same network (LAN or Intranet within an organisation)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oes not include mere sending of e-mail message or file to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ethod of communication with computer system does not matter (whether from distance via wireless links; or at a close range)</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59BF02-5A6D-4372-B11A-68CF4743FA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ringement of copyright</a:t>
            </a:r>
            <a:endParaRPr b="0" lang="en-US" sz="4400" spc="-1" strike="noStrike">
              <a:solidFill>
                <a:srgbClr val="000000"/>
              </a:solidFill>
              <a:latin typeface="Calibri"/>
            </a:endParaRPr>
          </a:p>
        </p:txBody>
      </p:sp>
      <p:sp>
        <p:nvSpPr>
          <p:cNvPr id="386"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to criminalise infringement of copyrights</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does not extend to criminalising of moral rights, such as in:</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6bis of Bern Conven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5 of WIPO Treaty</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pyright offences must be committed wilfully </a:t>
            </a:r>
            <a:endParaRPr b="0" lang="en-US" sz="30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5EF697-9E54-49CF-B2BE-E63C68C37C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9"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a:t>
            </a:r>
            <a:r>
              <a:rPr b="1" lang="en-GB" sz="3200" spc="-1" strike="noStrike">
                <a:solidFill>
                  <a:srgbClr val="ff0000"/>
                </a:solidFill>
                <a:latin typeface="Calibri"/>
              </a:rPr>
              <a:t>commercial scale</a:t>
            </a:r>
            <a:r>
              <a:rPr b="0" lang="en-GB" sz="3200" spc="-1" strike="noStrike">
                <a:solidFill>
                  <a:srgbClr val="000000"/>
                </a:solidFill>
                <a:latin typeface="Calibri"/>
              </a:rPr>
              <a:t> </a:t>
            </a:r>
            <a:r>
              <a:rPr b="0" lang="en-GB" sz="2400" spc="-1" strike="noStrike">
                <a:solidFill>
                  <a:srgbClr val="000000"/>
                </a:solidFill>
                <a:latin typeface="Calibri"/>
              </a:rPr>
              <a:t>and by means of a computer system.</a:t>
            </a:r>
            <a:endParaRPr b="0" lang="en-US" sz="24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4CF5A1-141A-42B1-B7B2-4C8FF9B683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ercial scale</a:t>
            </a:r>
            <a:endParaRPr b="0" lang="en-US" sz="4400" spc="-1" strike="noStrike">
              <a:solidFill>
                <a:srgbClr val="000000"/>
              </a:solidFill>
              <a:latin typeface="Calibri"/>
            </a:endParaRPr>
          </a:p>
        </p:txBody>
      </p:sp>
      <p:sp>
        <p:nvSpPr>
          <p:cNvPr id="392"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line with Article 61 of TRIPS Agreemen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als with piracy on a commercial scal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ies may go beyond threshold of piracy on a commercial scale and criminalise other instances of copyright infringement </a:t>
            </a:r>
            <a:endParaRPr b="0" lang="en-US" sz="3000" spc="-1" strike="noStrike">
              <a:solidFill>
                <a:srgbClr val="000000"/>
              </a:solidFill>
              <a:latin typeface="Calibri"/>
            </a:endParaRPr>
          </a:p>
        </p:txBody>
      </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C63063-F773-4933-97F3-0E77BADE55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ncillary liability and sanction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Punishment of aiding and abett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cts of aiding and abetting that all the Parties of the Convention must consider in the domestic law</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most of the national legislations already consider this point of view</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Criminal responsibility of legal entit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requires from all the Parties the criminalisation of acts of legal entiti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within European Union, criminalisation of acts of legal entities is also an important issue</a:t>
            </a:r>
            <a:endParaRPr b="0" lang="en-US" sz="2000" spc="-1" strike="noStrike">
              <a:solidFill>
                <a:srgbClr val="000000"/>
              </a:solidFill>
              <a:latin typeface="Calibri"/>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2BF63-7CA0-4651-9C10-B1E6A8BCE3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riminal responsibility of companies and other legal entities</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y criminal acts of its representative bod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ng on its representation and intere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addition, responsibility of legal entities occurs also in case of</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lack of supervision or control of a legal representative of the company or other legal entity over someone under its supervision </a:t>
            </a:r>
            <a:endParaRPr b="0" lang="en-US" sz="2400" spc="-1" strike="noStrike">
              <a:solidFill>
                <a:srgbClr val="000000"/>
              </a:solidFill>
              <a:latin typeface="Calibri"/>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3C161-D1BB-4741-B0A9-13DDF3061E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CAC36-9BD4-4B0E-8D8C-C303E856FC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Two</a:t>
            </a:r>
            <a:br>
              <a:rPr sz="3200"/>
            </a:br>
            <a:r>
              <a:rPr b="1" lang="en-GB" sz="3200" spc="-1" strike="noStrike">
                <a:solidFill>
                  <a:srgbClr val="000000"/>
                </a:solidFill>
                <a:latin typeface="Calibri"/>
              </a:rPr>
              <a:t> Case Studies</a:t>
            </a:r>
            <a:endParaRPr b="0" lang="en-US" sz="3200" spc="-1" strike="noStrike">
              <a:solidFill>
                <a:srgbClr val="000000"/>
              </a:solidFill>
              <a:latin typeface="Calibri"/>
            </a:endParaRPr>
          </a:p>
        </p:txBody>
      </p:sp>
      <p:pic>
        <p:nvPicPr>
          <p:cNvPr id="402" name="Picture 3" descr=""/>
          <p:cNvPicPr/>
          <p:nvPr/>
        </p:nvPicPr>
        <p:blipFill>
          <a:blip r:embed="rId1"/>
          <a:stretch/>
        </p:blipFill>
        <p:spPr>
          <a:xfrm>
            <a:off x="6786720" y="4643280"/>
            <a:ext cx="1962000" cy="1766880"/>
          </a:xfrm>
          <a:prstGeom prst="rect">
            <a:avLst/>
          </a:prstGeom>
          <a:ln w="0">
            <a:noFill/>
          </a:ln>
        </p:spPr>
      </p:pic>
      <p:sp>
        <p:nvSpPr>
          <p:cNvPr id="4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0739D-A9BB-4A50-9ADD-49108A2205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5" name=""/>
          <p:cNvSpPr txBox="1"/>
          <p:nvPr/>
        </p:nvSpPr>
        <p:spPr>
          <a:xfrm>
            <a:off x="456840" y="1135080"/>
            <a:ext cx="8513640" cy="5494320"/>
          </a:xfrm>
          <a:prstGeom prst="rect">
            <a:avLst/>
          </a:prstGeom>
          <a:noFill/>
          <a:ln w="0">
            <a:noFill/>
          </a:ln>
        </p:spPr>
        <p:txBody>
          <a:bodyPr anchor="t">
            <a:normAutofit fontScale="99000"/>
          </a:bodyPr>
          <a:p>
            <a:pPr marL="2880" indent="-2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is student at</a:t>
            </a:r>
            <a:r>
              <a:rPr b="0" lang="hr-HR" sz="2400" spc="-1" strike="noStrike">
                <a:solidFill>
                  <a:srgbClr val="000000"/>
                </a:solidFill>
                <a:latin typeface="Calibri"/>
              </a:rPr>
              <a:t> </a:t>
            </a:r>
            <a:r>
              <a:rPr b="0" lang="fr-FR" sz="2400" spc="-1" strike="noStrike">
                <a:solidFill>
                  <a:srgbClr val="000000"/>
                </a:solidFill>
                <a:latin typeface="Calibri"/>
              </a:rPr>
              <a:t>a</a:t>
            </a:r>
            <a:r>
              <a:rPr b="0" lang="hr-HR" sz="2400" spc="-1" strike="noStrike">
                <a:solidFill>
                  <a:srgbClr val="000000"/>
                </a:solidFill>
                <a:latin typeface="Calibri"/>
              </a:rPr>
              <a:t> </a:t>
            </a:r>
            <a:r>
              <a:rPr b="0" lang="en-US" sz="24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nice greetings. The latest IT system that she hacked was the information system of the Ministry of Internal Affairs of her country.</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Is this case criminal offence in your country and if yes – which one</a:t>
            </a:r>
            <a:r>
              <a:rPr b="0" i="1" lang="hr-HR" sz="2400" spc="-1" strike="noStrike">
                <a:solidFill>
                  <a:srgbClr val="000000"/>
                </a:solidFill>
                <a:latin typeface="Calibri"/>
              </a:rPr>
              <a:t>; w</a:t>
            </a:r>
            <a:r>
              <a:rPr b="0" i="1" lang="en-US" sz="2400" spc="-1" strike="noStrike">
                <a:solidFill>
                  <a:srgbClr val="000000"/>
                </a:solidFill>
                <a:latin typeface="Calibri"/>
              </a:rPr>
              <a:t>hat are the constitutive elements of that offence</a:t>
            </a:r>
            <a:r>
              <a:rPr b="0" i="1" lang="hr-HR" sz="2400" spc="-1" strike="noStrike">
                <a:solidFill>
                  <a:srgbClr val="000000"/>
                </a:solidFill>
                <a:latin typeface="Calibri"/>
              </a:rPr>
              <a:t>?</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B1692-CB17-478B-B7A5-5AE962FD92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2</a:t>
            </a:r>
            <a:endParaRPr b="0" lang="en-US" sz="4400" spc="-1" strike="noStrike">
              <a:solidFill>
                <a:srgbClr val="000000"/>
              </a:solidFill>
              <a:latin typeface="Calibri"/>
            </a:endParaRPr>
          </a:p>
        </p:txBody>
      </p:sp>
      <p:sp>
        <p:nvSpPr>
          <p:cNvPr id="408"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erson </a:t>
            </a:r>
            <a:r>
              <a:rPr b="0" lang="en-GB" sz="24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en he deleted the digital </a:t>
            </a:r>
            <a:r>
              <a:rPr b="0" lang="en-US" sz="2400" spc="-1" strike="noStrike">
                <a:solidFill>
                  <a:srgbClr val="000000"/>
                </a:solidFill>
                <a:latin typeface="Calibri"/>
              </a:rPr>
              <a:t>maps on the hard disc.</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en-US" sz="2400" spc="-1" strike="noStrike">
                <a:solidFill>
                  <a:srgbClr val="000000"/>
                </a:solidFill>
                <a:latin typeface="Calibri"/>
              </a:rPr>
              <a:t>According to the national law of your country </a:t>
            </a:r>
            <a:r>
              <a:rPr b="0" i="1" lang="hr-HR" sz="2400" spc="-1" strike="noStrike">
                <a:solidFill>
                  <a:srgbClr val="000000"/>
                </a:solidFill>
                <a:latin typeface="Calibri"/>
              </a:rPr>
              <a:t>- </a:t>
            </a:r>
            <a:r>
              <a:rPr b="0" i="1" lang="en-US" sz="2400" spc="-1" strike="noStrike">
                <a:solidFill>
                  <a:srgbClr val="000000"/>
                </a:solidFill>
                <a:latin typeface="Calibri"/>
              </a:rPr>
              <a:t>Which offence</a:t>
            </a:r>
            <a:r>
              <a:rPr b="0" i="1" lang="hr-HR" sz="2400" spc="-1" strike="noStrike">
                <a:solidFill>
                  <a:srgbClr val="000000"/>
                </a:solidFill>
                <a:latin typeface="Calibri"/>
              </a:rPr>
              <a:t>s </a:t>
            </a:r>
            <a:r>
              <a:rPr b="0" i="1" lang="fr-FR" sz="2400" spc="-1" strike="noStrike">
                <a:solidFill>
                  <a:srgbClr val="000000"/>
                </a:solidFill>
                <a:latin typeface="Calibri"/>
              </a:rPr>
              <a:t>must be </a:t>
            </a:r>
            <a:r>
              <a:rPr b="0" i="1" lang="en-US" sz="2400" spc="-1" strike="noStrike">
                <a:solidFill>
                  <a:srgbClr val="000000"/>
                </a:solidFill>
                <a:latin typeface="Calibri"/>
              </a:rPr>
              <a:t>considered?</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AFBE2-CB2B-458C-BF41-7CD04698D1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criminal offence</a:t>
            </a:r>
            <a:r>
              <a:rPr b="0" i="1" lang="hr-HR" sz="2400" spc="-1" strike="noStrike">
                <a:solidFill>
                  <a:srgbClr val="000000"/>
                </a:solidFill>
                <a:latin typeface="Calibri"/>
              </a:rPr>
              <a:t> is</a:t>
            </a:r>
            <a:r>
              <a:rPr b="0" i="1" lang="en-US" sz="2400" spc="-1" strike="noStrike">
                <a:solidFill>
                  <a:srgbClr val="000000"/>
                </a:solidFill>
                <a:latin typeface="Calibri"/>
              </a:rPr>
              <a:t> this case in your country?</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offence</a:t>
            </a:r>
            <a:r>
              <a:rPr b="0" i="1" lang="hr-HR" sz="2400" spc="-1" strike="noStrike">
                <a:solidFill>
                  <a:srgbClr val="000000"/>
                </a:solidFill>
                <a:latin typeface="Calibri"/>
              </a:rPr>
              <a:t>s are </a:t>
            </a:r>
            <a:r>
              <a:rPr b="0" i="1" lang="en-US" sz="2400" spc="-1" strike="noStrike">
                <a:solidFill>
                  <a:srgbClr val="000000"/>
                </a:solidFill>
                <a:latin typeface="Calibri"/>
              </a:rPr>
              <a:t>considerabl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3</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881A6-7843-4053-BD2D-78F46E6E2F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a:t>
            </a:r>
            <a:r>
              <a:rPr b="1" lang="en-GB" sz="4000" spc="-1" strike="noStrike">
                <a:solidFill>
                  <a:srgbClr val="ff0000"/>
                </a:solidFill>
                <a:latin typeface="Calibri"/>
                <a:ea typeface="Times New Roman"/>
              </a:rPr>
              <a:t>whole or any part of a computer system </a:t>
            </a:r>
            <a:r>
              <a:rPr b="0" lang="en-GB" sz="2800" spc="-1" strike="noStrike">
                <a:solidFill>
                  <a:srgbClr val="000000"/>
                </a:solidFill>
                <a:latin typeface="Calibri"/>
                <a:ea typeface="Times New Roman"/>
              </a:rPr>
              <a:t>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5061D18-CF3A-4952-884A-7635E32A24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sent to Y - head of the company </a:t>
            </a:r>
            <a:r>
              <a:rPr b="0" lang="ja-JP" sz="2000" spc="-1" strike="noStrike">
                <a:solidFill>
                  <a:srgbClr val="000000"/>
                </a:solidFill>
                <a:latin typeface="Calibri"/>
              </a:rPr>
              <a:t>“</a:t>
            </a:r>
            <a:r>
              <a:rPr b="0" lang="en-US" sz="2000" spc="-1" strike="noStrike">
                <a:solidFill>
                  <a:srgbClr val="000000"/>
                </a:solidFill>
                <a:latin typeface="Calibri"/>
              </a:rPr>
              <a:t>K</a:t>
            </a:r>
            <a:r>
              <a:rPr b="0" lang="ja-JP" sz="2000" spc="-1" strike="noStrike">
                <a:solidFill>
                  <a:srgbClr val="000000"/>
                </a:solidFill>
                <a:latin typeface="Calibri"/>
              </a:rPr>
              <a:t>”</a:t>
            </a:r>
            <a:r>
              <a:rPr b="0" lang="en-US" sz="2000" spc="-1" strike="noStrike">
                <a:solidFill>
                  <a:srgbClr val="000000"/>
                </a:solidFill>
                <a:latin typeface="Calibri"/>
              </a:rPr>
              <a:t> - an e-mail message with the </a:t>
            </a:r>
            <a:r>
              <a:rPr b="0" lang="ja-JP" sz="2000" spc="-1" strike="noStrike">
                <a:solidFill>
                  <a:srgbClr val="000000"/>
                </a:solidFill>
                <a:latin typeface="Calibri"/>
              </a:rPr>
              <a:t>“</a:t>
            </a:r>
            <a:r>
              <a:rPr b="0" lang="en-US" sz="2000" spc="-1" strike="noStrike">
                <a:solidFill>
                  <a:srgbClr val="000000"/>
                </a:solidFill>
                <a:latin typeface="Calibri"/>
              </a:rPr>
              <a:t>E. Bank</a:t>
            </a:r>
            <a:r>
              <a:rPr b="0" lang="ja-JP" sz="2000" spc="-1" strike="noStrike">
                <a:solidFill>
                  <a:srgbClr val="000000"/>
                </a:solidFill>
                <a:latin typeface="Calibri"/>
              </a:rPr>
              <a:t>”</a:t>
            </a:r>
            <a:r>
              <a:rPr b="0" lang="en-US" sz="2000" spc="-1" strike="noStrike">
                <a:solidFill>
                  <a:srgbClr val="000000"/>
                </a:solidFill>
                <a:latin typeface="Calibri"/>
              </a:rPr>
              <a:t> logo, in which he stated that the Bank uses a new approach to online business sites and it is necessary to change the software in order to enable further access to business e-banking. </a:t>
            </a:r>
            <a:r>
              <a:rPr b="0" lang="en-GB" sz="2000" spc="-1" strike="noStrike">
                <a:solidFill>
                  <a:srgbClr val="000000"/>
                </a:solidFill>
                <a:latin typeface="Calibri"/>
              </a:rPr>
              <a:t>The message contained an attachment with software "Driver", with clear indication that it needs to be downloaded. </a:t>
            </a:r>
            <a:r>
              <a:rPr b="0" lang="en-US" sz="2000" spc="-1" strike="noStrike">
                <a:solidFill>
                  <a:srgbClr val="000000"/>
                </a:solidFill>
                <a:latin typeface="Calibri"/>
              </a:rPr>
              <a:t>After downloading, the given computer program recorded data from the user's (Y) computer without his knowledge and X has thus obtained the PIN number and transaction authentication number (TAN). X used the acquired PIN and TAN to confirm the transaction and transferred 65,000.00 € to the Z</a:t>
            </a:r>
            <a:r>
              <a:rPr b="0" lang="ja-JP" sz="2000" spc="-1" strike="noStrike">
                <a:solidFill>
                  <a:srgbClr val="000000"/>
                </a:solidFill>
                <a:latin typeface="Calibri"/>
              </a:rPr>
              <a:t>’</a:t>
            </a:r>
            <a:r>
              <a:rPr b="0" lang="en-US" sz="2000" spc="-1" strike="noStrike">
                <a:solidFill>
                  <a:srgbClr val="000000"/>
                </a:solidFill>
                <a:latin typeface="Calibri"/>
              </a:rPr>
              <a:t>s bank account, opened two days before in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In the office of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Z was falsely stating that he received money from the sale of real estate. After the payment, X took 63.000,00 € and Z took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In a role of a public prosecutor would you accuse X and Z for the same offence or not?</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ich offence</a:t>
            </a:r>
            <a:r>
              <a:rPr b="0" i="1" lang="hr-HR" sz="2000" spc="-1" strike="noStrike">
                <a:solidFill>
                  <a:srgbClr val="000000"/>
                </a:solidFill>
                <a:latin typeface="Calibri"/>
              </a:rPr>
              <a:t>s are </a:t>
            </a:r>
            <a:r>
              <a:rPr b="0" i="1" lang="en-US" sz="2000" spc="-1" strike="noStrike">
                <a:solidFill>
                  <a:srgbClr val="000000"/>
                </a:solidFill>
                <a:latin typeface="Calibri"/>
              </a:rPr>
              <a:t>considerabl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4</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D2850-1C7A-44AF-BB7A-C302A73375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uspect has repeatedly visited  pornographic websites, including child pornography.</a:t>
            </a:r>
            <a:r>
              <a:rPr b="0" lang="hr-HR" sz="2800" spc="-1" strike="noStrike">
                <a:solidFill>
                  <a:srgbClr val="000000"/>
                </a:solidFill>
                <a:latin typeface="Calibri"/>
              </a:rPr>
              <a:t> </a:t>
            </a:r>
            <a:r>
              <a:rPr b="0" lang="en-US" sz="2800" spc="-1" strike="noStrike">
                <a:solidFill>
                  <a:srgbClr val="000000"/>
                </a:solidFill>
                <a:latin typeface="Calibri"/>
              </a:rPr>
              <a:t>Never downloaded materials</a:t>
            </a:r>
            <a:r>
              <a:rPr b="0" lang="hr-HR" sz="2800" spc="-1" strike="noStrike">
                <a:solidFill>
                  <a:srgbClr val="000000"/>
                </a:solidFill>
                <a:latin typeface="Calibri"/>
              </a:rPr>
              <a:t>. But </a:t>
            </a:r>
            <a:r>
              <a:rPr b="0" lang="fr-FR" sz="2800" spc="-1" strike="noStrike">
                <a:solidFill>
                  <a:srgbClr val="000000"/>
                </a:solidFill>
                <a:latin typeface="Calibri"/>
              </a:rPr>
              <a:t>the </a:t>
            </a:r>
            <a:r>
              <a:rPr b="0" lang="en-US" sz="2800" spc="-1" strike="noStrike">
                <a:solidFill>
                  <a:srgbClr val="000000"/>
                </a:solidFill>
                <a:latin typeface="Calibri"/>
              </a:rPr>
              <a:t>computer</a:t>
            </a:r>
            <a:r>
              <a:rPr b="0" lang="hr-HR" sz="2800" spc="-1" strike="noStrike">
                <a:solidFill>
                  <a:srgbClr val="000000"/>
                </a:solidFill>
                <a:latin typeface="Calibri"/>
              </a:rPr>
              <a:t> </a:t>
            </a:r>
            <a:r>
              <a:rPr b="0" lang="en-US" sz="2800" spc="-1" strike="noStrike">
                <a:solidFill>
                  <a:srgbClr val="000000"/>
                </a:solidFill>
                <a:latin typeface="Calibri"/>
              </a:rPr>
              <a:t>was</a:t>
            </a:r>
            <a:r>
              <a:rPr b="0" lang="hr-HR" sz="2800" spc="-1" strike="noStrike">
                <a:solidFill>
                  <a:srgbClr val="000000"/>
                </a:solidFill>
                <a:latin typeface="Calibri"/>
              </a:rPr>
              <a:t> </a:t>
            </a:r>
            <a:r>
              <a:rPr b="0" lang="en-US" sz="2800" spc="-1" strike="noStrike">
                <a:solidFill>
                  <a:srgbClr val="000000"/>
                </a:solidFill>
                <a:latin typeface="Calibri"/>
              </a:rPr>
              <a:t>automatically storing these materials into </a:t>
            </a:r>
            <a:r>
              <a:rPr b="0" lang="hr-HR" sz="2800" spc="-1" strike="noStrike">
                <a:solidFill>
                  <a:srgbClr val="000000"/>
                </a:solidFill>
                <a:latin typeface="Calibri"/>
              </a:rPr>
              <a:t>a </a:t>
            </a:r>
            <a:r>
              <a:rPr b="0" lang="en-US" sz="2800" spc="-1" strike="noStrike">
                <a:solidFill>
                  <a:srgbClr val="000000"/>
                </a:solidFill>
                <a:latin typeface="Calibri"/>
              </a:rPr>
              <a:t>folder  </a:t>
            </a:r>
            <a:r>
              <a:rPr b="0" lang="hr-HR" sz="2800" spc="-1" strike="noStrike">
                <a:solidFill>
                  <a:srgbClr val="000000"/>
                </a:solidFill>
                <a:latin typeface="Calibri"/>
              </a:rPr>
              <a:t>C:/…, </a:t>
            </a:r>
            <a:r>
              <a:rPr b="0" lang="en-US" sz="2800" spc="-1" strike="noStrike">
                <a:solidFill>
                  <a:srgbClr val="000000"/>
                </a:solidFill>
                <a:latin typeface="Calibri"/>
              </a:rPr>
              <a:t>(in between - images containing child pornography)</a:t>
            </a:r>
            <a:r>
              <a:rPr b="0" lang="hr-HR" sz="2800" spc="-1" strike="noStrike">
                <a:solidFill>
                  <a:srgbClr val="000000"/>
                </a:solidFill>
                <a:latin typeface="Calibri"/>
              </a:rPr>
              <a:t>, </a:t>
            </a:r>
            <a:r>
              <a:rPr b="0" lang="en-US" sz="2800" spc="-1" strike="noStrike">
                <a:solidFill>
                  <a:srgbClr val="000000"/>
                </a:solidFill>
                <a:latin typeface="Calibri"/>
              </a:rPr>
              <a:t>without any knowledge o</a:t>
            </a:r>
            <a:r>
              <a:rPr b="0" lang="hr-HR" sz="2800" spc="-1" strike="noStrike">
                <a:solidFill>
                  <a:srgbClr val="000000"/>
                </a:solidFill>
                <a:latin typeface="Calibri"/>
              </a:rPr>
              <a:t>r</a:t>
            </a:r>
            <a:r>
              <a:rPr b="0" lang="en-US" sz="2800" spc="-1" strike="noStrike">
                <a:solidFill>
                  <a:srgbClr val="000000"/>
                </a:solidFill>
                <a:latin typeface="Calibri"/>
              </a:rPr>
              <a:t> action of the suspect.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Is this  offence – possessing child pornography?</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Why?</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5</a:t>
            </a:r>
            <a:endParaRPr b="0" lang="en-US" sz="44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DC996-A569-47A4-A8E9-0193A28E19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6</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bby is a Police Officer. One night he is on duty and sees a Mercedes parked outside his house. He does not recognise the car but suspects that it belongs to his wife's boss. He phones into the police station and asks Mary the computer operator to tell him who owns the Mercedes saying that the car had just driven through a red traffic light. Mary confirms that the car does indeed belong to his wife’s boss.</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Has Bobby committed a criminal offence?</a:t>
            </a:r>
            <a:endParaRPr b="0" lang="en-US" sz="28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E6269-FECB-4188-86B8-F2F26675BC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7</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ecurity guard at a bank is approached by a group of criminals who ask him to place a device known as a key logger onto the back of a number of terminals in the bank. The key logger records the keystrokes of the user and captures passwords and other information that would enable someone who had access to the terminal to log into the user accounts of bank staff.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dditional feature of the key logger device enabled it to record Skype phone calls made by the user of the terminal.</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criminals also placed a bug on the desk which picked up sound, including all phone calls made and received by the user of the terminal.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there been an illegal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AB465-C378-4FD2-938D-E4E7AC6268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8</a:t>
            </a:r>
            <a:endParaRPr b="0" lang="en-US" sz="4400" spc="-1" strike="noStrike">
              <a:solidFill>
                <a:srgbClr val="000000"/>
              </a:solidFill>
              <a:latin typeface="Calibri"/>
            </a:endParaRPr>
          </a:p>
        </p:txBody>
      </p:sp>
      <p:sp>
        <p:nvSpPr>
          <p:cNvPr id="426"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criminal gang communicates using a web based e-mail system that can be accessed through the Internet anywhere in the world. Rather than send each other messages that might be intercepted by the police or which may incriminate them if found on their computer they use a ‘dead letter drop’ system. What they do is write their message as a draft which is never sent, other members of the gang have the password which enables them to access the e mail account and read and respond to the message.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f the police were able to access the draft e-mail box would this amount to an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4BA5B-9025-46FC-A3DB-4BDD3B4D46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9</a:t>
            </a: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olice Officer Bobby has taken his wife’s phone, guessed her password and listened to a stored voice message that she has not yet retrieved.</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interception?</a:t>
            </a:r>
            <a:endParaRPr b="0" lang="en-US" sz="32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B5608-FA2B-478B-93EE-6CBA389C30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0</a:t>
            </a: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interested in UFOs and he believes that the Russian Government has captured an alien space craft that landed in Siberia in the early part of the 20th Century. He visits a Russian Military recruitment site which has a link to a site operated by the Russian Air force. The Air Force site requires a password but using a password cracking tool he manages to gain access. He spends some time exploring the system and copies a number of files. He also tries to delete all of the log files of his activity in order to prevent the Russians from identifying him. He then alters the front page of the site so that it displays a picture of a UFO instead of the Air Force insignia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8AC737-2169-4000-B2F7-AB17ECBADA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1</a:t>
            </a:r>
            <a:endParaRPr b="0" lang="en-US" sz="4400" spc="-1" strike="noStrike">
              <a:solidFill>
                <a:srgbClr val="000000"/>
              </a:solidFill>
              <a:latin typeface="Calibri"/>
            </a:endParaRPr>
          </a:p>
        </p:txBody>
      </p:sp>
      <p:sp>
        <p:nvSpPr>
          <p:cNvPr id="435" name="PlaceHolder 2"/>
          <p:cNvSpPr>
            <a:spLocks noGrp="1"/>
          </p:cNvSpPr>
          <p:nvPr>
            <p:ph/>
          </p:nvPr>
        </p:nvSpPr>
        <p:spPr>
          <a:xfrm>
            <a:off x="457200" y="1417680"/>
            <a:ext cx="8229600" cy="496872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utomated spam e-mail programme sends unsolicited e mails to thousands of users all around the world every day. If the e-mail is opened it downloads software to the user’s machine. The software does nothing which affects the running of the users computer, it doesn’t acquire data from the users computer nor does it delete any data or cause any other sort of damage, however it means that the users computer is now a ‘Zombie’ forming part of a ‘Botnet’ which the ‘bot controller’ can use to undertake various types of activity.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an offence contrary to Article 4 or 5 of the Budapest Convention been committed by the person responsible for sending the spam?</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862EA-5D16-4317-8F18-1962211AE7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2</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a former police officer who was sacked for improper use of the police computer system. He decides to get his own back on the police department. He uses an e-mail programme which enables him to send 70,000 e-mails per hour to his old department. He alters the e-mail header to make it appear that it came from the chief officer of police thus fooling the police e-mail server into believing that it came from a legitimate source. The police server was unable to handle the volume of traffic and collapsed.</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this an offence of system interfer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FED33-7ECC-4890-A275-E860A95D77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3</a:t>
            </a: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sends an e-mail to his estranged wife at her place of work. He alters the header to make it appear that it has come from one of her friends. The e-mail contains a programme called ‘access all areas’ which allows Bobby to assume control over his wife’s computer.  Before Bobby has the chance to use the programme its presence is detected by the system administrator who shuts down the system in order to undertake an evaluation of the extent of the intrusion.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 contrary to Article 5 of the Budapest Convention?</a:t>
            </a:r>
            <a:endParaRPr b="0" lang="en-US" sz="24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6A538-9039-45E8-A596-677B7D8F41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hole or part of computer system</a:t>
            </a:r>
            <a:endParaRPr b="0" lang="en-US" sz="4400" spc="-1" strike="noStrike">
              <a:solidFill>
                <a:srgbClr val="000000"/>
              </a:solidFill>
              <a:latin typeface="Calibri"/>
            </a:endParaRPr>
          </a:p>
        </p:txBody>
      </p:sp>
      <p:sp>
        <p:nvSpPr>
          <p:cNvPr id="94"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Part of computer system</a:t>
            </a:r>
            <a:r>
              <a:rPr b="0" lang="en-GB" sz="3200" spc="-1" strike="noStrike">
                <a:solidFill>
                  <a:srgbClr val="000000"/>
                </a:solidFill>
                <a:latin typeface="Calibri"/>
              </a:rPr>
              <a:t>” includes:</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ardware</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mponents</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tored data of the system installed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rectories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raffic data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ntent-related data in computer system</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F226C6-4D2E-4955-ACB3-DB02AABE14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4</a:t>
            </a:r>
            <a:endParaRPr b="0" lang="en-US" sz="4400" spc="-1" strike="noStrike">
              <a:solidFill>
                <a:srgbClr val="000000"/>
              </a:solidFill>
              <a:latin typeface="Calibri"/>
            </a:endParaRPr>
          </a:p>
        </p:txBody>
      </p:sp>
      <p:sp>
        <p:nvSpPr>
          <p:cNvPr id="444" name="PlaceHolder 2"/>
          <p:cNvSpPr>
            <a:spLocks noGrp="1"/>
          </p:cNvSpPr>
          <p:nvPr>
            <p:ph/>
          </p:nvPr>
        </p:nvSpPr>
        <p:spPr>
          <a:xfrm>
            <a:off x="457200" y="953640"/>
            <a:ext cx="8362800" cy="492444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online internet ‘hacktivist ‘ group who are protesting against the use of animals to test cosmetics undertake ‘Distributed Denial of Service’ (DDOS)  attacks against the websites of cosmetic companies , and glamour magazines.  Through their website the group distribute software they call the ‘Supergun’ which enables the group to co-ordinate attacks on websites and to thereby maximise the amount of traffic seeking to access a website at a particular time . The ‘Supergun’ software was originally developed as a tool by systems administrators to test the security of their systems. However whilst the software still works in exactly the same way the user interface has been rendered much easier to use and now bears the logo of the group.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make the Supergun available for downloading?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be in possession of the Supergu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8C9A3-79A0-4723-AC11-4AF8DFB2A3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5</a:t>
            </a:r>
            <a:endParaRPr b="0" lang="en-US" sz="4400" spc="-1" strike="noStrike">
              <a:solidFill>
                <a:srgbClr val="000000"/>
              </a:solidFill>
              <a:latin typeface="Calibri"/>
            </a:endParaRPr>
          </a:p>
        </p:txBody>
      </p:sp>
      <p:sp>
        <p:nvSpPr>
          <p:cNvPr id="447" name="PlaceHolder 2"/>
          <p:cNvSpPr>
            <a:spLocks noGrp="1"/>
          </p:cNvSpPr>
          <p:nvPr>
            <p:ph/>
          </p:nvPr>
        </p:nvSpPr>
        <p:spPr>
          <a:xfrm>
            <a:off x="457200" y="1298520"/>
            <a:ext cx="8229600" cy="4525920"/>
          </a:xfrm>
          <a:prstGeom prst="rect">
            <a:avLst/>
          </a:prstGeom>
          <a:noFill/>
          <a:ln w="0">
            <a:noFill/>
          </a:ln>
        </p:spPr>
        <p:txBody>
          <a:bodyPr anchor="t">
            <a:normAutofit fontScale="94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oftware provider has produced encryption software. The software divides the contents of the hard drive into two volumes, each requires a password to access however only one volume is visible to the ordinary user and the existence of the hidden volume cannot be detected using forensic software that is currently availabl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manufacture claims that this software would be of use to anyone who may find themselves in a situation where they are under coercion to reveal their password. It would mean that the data on the hidden volume can be kept secure even if they disclose the password to the visible folder.</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the provider of this software commit a criminal offence?</a:t>
            </a:r>
            <a:endParaRPr b="0" lang="en-US" sz="24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9A32F-7B79-44C3-933F-0162F3E420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6</a:t>
            </a:r>
            <a:endParaRPr b="0" lang="en-US" sz="4400" spc="-1" strike="noStrike">
              <a:solidFill>
                <a:srgbClr val="000000"/>
              </a:solidFill>
              <a:latin typeface="Calibri"/>
            </a:endParaRPr>
          </a:p>
        </p:txBody>
      </p:sp>
      <p:sp>
        <p:nvSpPr>
          <p:cNvPr id="450" name="PlaceHolder 2"/>
          <p:cNvSpPr>
            <a:spLocks noGrp="1"/>
          </p:cNvSpPr>
          <p:nvPr>
            <p:ph/>
          </p:nvPr>
        </p:nvSpPr>
        <p:spPr>
          <a:xfrm>
            <a:off x="457200" y="1417320"/>
            <a:ext cx="8229600" cy="4708440"/>
          </a:xfrm>
          <a:prstGeom prst="rect">
            <a:avLst/>
          </a:prstGeom>
          <a:noFill/>
          <a:ln w="0">
            <a:noFill/>
          </a:ln>
        </p:spPr>
        <p:txBody>
          <a:bodyPr anchor="t">
            <a:normAutofit fontScale="94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Facts / scena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ick works for in the IT department of a large company which has its own Intranet. Company policy forbids its employees from using their companies’ computer and Internet connection to make online purchases. In his spare time Nick begins to develop software which would enable the company to identify those employees who are making online payments and to capture that information so that it can be used in evidence in disciplinary proceedings.  Nick lacks the necessary skills and makes online contact with ‘Jupiter’. Together they develop a piece of software that once downloaded to a users computer will activate when  that user begins to complete an online, form such as that used to process online payments and will capture the data inputted by the user . Nick’s company is very pleased whilst Jupiter begins to deploy the software using a Trojan programme.</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Nick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the company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Jupiter committed an offence?</a:t>
            </a: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1DCD3-7783-4DB6-9D9C-B01DE6DD87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7</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uses a commercially available photographic software to produce a realistic bankers draft on his home computer. He takes the draft to his bank who accept it as genuine and transfer funds to Stefan’s accoun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What offence has Stefan committed?</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67675-63E3-485B-9A40-243EBAAD1B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8</a:t>
            </a: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has always boasted to his friends of his prowess as an athlete when he was in his teens. His friends are sceptical. He manages to gain access to the database of his old school and alters the records to show him as captain of the school athletics squad and him having won a number of medals.</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offence of computer related forgery?</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7A859-5200-4B9F-B21E-336A40A672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9</a:t>
            </a:r>
            <a:endParaRPr b="0" lang="en-US" sz="4400" spc="-1" strike="noStrike">
              <a:solidFill>
                <a:srgbClr val="000000"/>
              </a:solidFill>
              <a:latin typeface="Calibri"/>
            </a:endParaRPr>
          </a:p>
        </p:txBody>
      </p:sp>
      <p:sp>
        <p:nvSpPr>
          <p:cNvPr id="459"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ow that he has lost his job in the Police Force and is having to pay alimony to his wife since their divorce Bobby is looking for another way to make money. He has always had an interest in share dealing and purchases 1000 shares in Flanders Mining Inc a company with an exclusive right to mine uranium in Belgium for 1 euro apiece. Bobby is a member of an internet forum whose members are, like Bobby, interested in the stock market. Bobby posts a message saying that a friend in the Belgium government has told him that substantial amounts of uranium have been detected in Belgium. Following this announcement the share price in Flanders Mining takes off, by the end of the week each share is worth 1000 euro. Bobby then sells his shares.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00D56-3D73-4019-97B9-03BF22C013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0</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drives to the bank. In the car park he finds that he is short of change. He puts a washer into the automated parking machine and obtains a ticke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Has Stefan committed an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839A5-C62E-4B97-AE82-A6ACD856D4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1</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fter his arrest the police discover that Stefan is in possession of the credit card details belonging to a large number of third partie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e possession of this data a criminal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27613-7697-4617-99CD-C722AF3358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2</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scenario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is a member of an exclusive online group who exchange photographs of children being sexually abused.  Adam is also a member of a ‘peer to peer’ file sharing group, he places photographs of children being abused that he has obtained from the online group into this peer to peer shared folders which makes it accessible to others on the peer to peer network.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What offences has Adam committed?</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9CA3E-2967-4B3B-9A84-4AB95F974F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3</a:t>
            </a: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is arrested at the airport on his return from Cambodia. His laptop is found to contain a large number of images of him engaged in sexual activity with children who appear to be from South East Asi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Can Bill be prosecuted in respect of the images?</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C579E-585C-47D4-8878-0BBB81907A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whole or any part of a computer system </a:t>
            </a:r>
            <a:r>
              <a:rPr b="1" lang="en-GB" sz="4000" spc="-1" strike="noStrike">
                <a:solidFill>
                  <a:srgbClr val="ff0000"/>
                </a:solidFill>
                <a:latin typeface="Calibri"/>
                <a:ea typeface="Times New Roman"/>
              </a:rPr>
              <a:t>without right</a:t>
            </a:r>
            <a:r>
              <a:rPr b="0" lang="en-GB" sz="2800" spc="-1" strike="noStrike">
                <a:solidFill>
                  <a:srgbClr val="000000"/>
                </a:solidFill>
                <a:latin typeface="Calibri"/>
                <a:ea typeface="Times New Roman"/>
              </a:rPr>
              <a: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CCF3F6-586D-4BDC-81FF-B740359E61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4</a:t>
            </a:r>
            <a:endParaRPr b="0" lang="en-US" sz="4400" spc="-1" strike="noStrike">
              <a:solidFill>
                <a:srgbClr val="000000"/>
              </a:solidFill>
              <a:latin typeface="Calibri"/>
            </a:endParaRPr>
          </a:p>
        </p:txBody>
      </p:sp>
      <p:sp>
        <p:nvSpPr>
          <p:cNvPr id="474" name="PlaceHolder 2"/>
          <p:cNvSpPr>
            <a:spLocks noGrp="1"/>
          </p:cNvSpPr>
          <p:nvPr>
            <p:ph/>
          </p:nvPr>
        </p:nvSpPr>
        <p:spPr>
          <a:xfrm>
            <a:off x="457200" y="1328760"/>
            <a:ext cx="8229600" cy="4525920"/>
          </a:xfrm>
          <a:prstGeom prst="rect">
            <a:avLst/>
          </a:prstGeom>
          <a:noFill/>
          <a:ln w="0">
            <a:noFill/>
          </a:ln>
        </p:spPr>
        <p:txBody>
          <a:bodyPr anchor="t">
            <a:normAutofit fontScale="88000"/>
          </a:bodyPr>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Calibri"/>
              </a:rPr>
              <a:t>WWW.Iuvfishin.com</a:t>
            </a:r>
            <a:r>
              <a:rPr b="0" lang="en-GB" sz="2400" spc="-1" strike="noStrike">
                <a:solidFill>
                  <a:srgbClr val="000000"/>
                </a:solidFill>
                <a:latin typeface="Calibri"/>
              </a:rPr>
              <a:t> is a Website devoted to angling. The site is hosted on servers located in the USA. The owners of the site discover that it had been hacked and that a thousand child abuse images have been uploaded and embedded within the site . The way it has been done means that these images would not be visible to ordinary users of the site. The site logs the IP addresses of those who have accessed the photographs.</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IP address attributed to John has been given to the police in your country. They search John’s address and seise his computer which contains thousands of child abuse images. It is clear from the internet history and the data within these files that most of the images have been downloaded from the internet.</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What crimes has John committed?</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E16E6-5B23-41AF-BFE9-43907464BB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5</a:t>
            </a: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Case Study 20</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police in the USA have taken down a website that hosts sites offering child abuse images for those who pay a monthly subscription. The USA authorities have captured data from those who have paid for access, including IP address, credit card numbers, e mail address, billing address and password. One of the customers is Oswald. Having obtained a search warrant his computer is examined. Nothing incriminating is found because Oswald has used a programme called ‘Elimination of Evidenc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Oswald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1F2C2-B3D8-4132-82A0-AABA7F91BF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E4F0D-83BE-4AE8-AFA7-9ADB7BE6F0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483" name="Picture 3" descr=""/>
          <p:cNvPicPr/>
          <p:nvPr/>
        </p:nvPicPr>
        <p:blipFill>
          <a:blip r:embed="rId1"/>
          <a:stretch/>
        </p:blipFill>
        <p:spPr>
          <a:xfrm>
            <a:off x="6786720" y="4643280"/>
            <a:ext cx="1962000" cy="1766880"/>
          </a:xfrm>
          <a:prstGeom prst="rect">
            <a:avLst/>
          </a:prstGeom>
          <a:ln w="0">
            <a:noFill/>
          </a:ln>
        </p:spPr>
      </p:pic>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BFB97-F14F-4675-BF96-2E2B466C5F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486"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F09C6-AAA4-4132-89F5-981C76DFC1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B0B3A-6699-4ECD-B363-BCA2B12741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00"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Accessing without legislative, executive, administrative, judicial, contractual or consensual authority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o criminalisation of:</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authorised by owner/right holder of computer system or part of it</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of computer system that permits free and open access by the public</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0962B9-43B9-49B2-9BF8-55A4266A1D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a:t>
            </a:r>
            <a:r>
              <a:rPr b="1" lang="en-GB" sz="3200" spc="-1" strike="noStrike">
                <a:solidFill>
                  <a:srgbClr val="ff0000"/>
                </a:solidFill>
                <a:latin typeface="Calibri"/>
              </a:rPr>
              <a:t>infringing security measures, with the intent of obtaining computer data </a:t>
            </a:r>
            <a:r>
              <a:rPr b="0" lang="en-GB" sz="2800" spc="-1" strike="noStrike">
                <a:solidFill>
                  <a:srgbClr val="000000"/>
                </a:solidFill>
                <a:latin typeface="Calibri"/>
              </a:rPr>
              <a:t>or other </a:t>
            </a:r>
            <a:r>
              <a:rPr b="1" lang="en-GB" sz="3200" spc="-1" strike="noStrike">
                <a:solidFill>
                  <a:srgbClr val="ff0000"/>
                </a:solidFill>
                <a:latin typeface="Calibri"/>
              </a:rPr>
              <a:t>dishonest intent, or 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6A2032-7B0A-4FAE-80DF-93A5447E2E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06"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arties may limit the criminalization of intentional access  to whole or part of computer system without right with the following qualifying elements:</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fringing security measures;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tent to obtain computer data;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honest inten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 relation to a computer system that is connected to another system</a:t>
            </a: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00AEFA-23DB-4DEB-8D96-0319A5960B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Intercep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3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and without right</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intercept, by technical means, non-public transmissions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from or within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B8A2E-7D19-4771-ACFE-6278CCCC98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AFC0B-60A0-4A25-B89A-A8B63CD01A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Budapest Convention on Cybercrime -</a:t>
            </a:r>
            <a:br>
              <a:rPr sz="2600"/>
            </a:br>
            <a:r>
              <a:rPr b="0" lang="en-US" sz="2600" spc="-1" strike="noStrike">
                <a:solidFill>
                  <a:srgbClr val="000000"/>
                </a:solidFill>
                <a:latin typeface="Calibri"/>
              </a:rPr>
              <a:t>Substantive Criminal Law</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Stud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Summary</a:t>
            </a:r>
            <a:endParaRPr b="0" lang="en-US" sz="26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A52F98-B6D0-4E01-A85F-B55EF2FAF2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interception</a:t>
            </a:r>
            <a:r>
              <a:rPr b="0" lang="en-GB" sz="2800" spc="-1" strike="noStrike">
                <a:solidFill>
                  <a:srgbClr val="000000"/>
                </a:solidFill>
                <a:latin typeface="Calibri"/>
              </a:rPr>
              <a:t>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29E510-B3A0-4824-A931-B03860C62B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rception</a:t>
            </a:r>
            <a:endParaRPr b="0" lang="en-US" sz="4400" spc="-1" strike="noStrike">
              <a:solidFill>
                <a:srgbClr val="000000"/>
              </a:solidFill>
              <a:latin typeface="Calibri"/>
            </a:endParaRPr>
          </a:p>
        </p:txBody>
      </p:sp>
      <p:sp>
        <p:nvSpPr>
          <p:cNvPr id="117" name="PlaceHolder 2"/>
          <p:cNvSpPr>
            <a:spLocks noGrp="1"/>
          </p:cNvSpPr>
          <p:nvPr>
            <p:ph/>
          </p:nvPr>
        </p:nvSpPr>
        <p:spPr>
          <a:xfrm>
            <a:off x="457200" y="1698480"/>
            <a:ext cx="8229600" cy="4167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terception means listening to, monitoring or surveillance of communications</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rovision aims to protect the privacy of data communication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ckles equivalents of traditional tapping and recording of oral telephone conversations when done to transmission of computer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B5BA0B-BF76-4650-9330-66F544997D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a:t>
            </a:r>
            <a:r>
              <a:rPr b="1" lang="en-GB" sz="4000" spc="-1" strike="noStrike">
                <a:solidFill>
                  <a:srgbClr val="ff0000"/>
                </a:solidFill>
                <a:latin typeface="Calibri"/>
              </a:rPr>
              <a:t>without right</a:t>
            </a:r>
            <a:r>
              <a:rPr b="0" lang="en-GB" sz="2800" spc="-1" strike="noStrike">
                <a:solidFill>
                  <a:srgbClr val="000000"/>
                </a:solidFill>
                <a:latin typeface="Calibri"/>
              </a:rPr>
              <a: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4A2902-34E1-43D0-B083-23C9B2630A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23"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pply where intercepting person has right to do s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tercepting person instructed or authorised by participants of transmission, including for:</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Authorised testing agreed to by participants</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Protection activities agreed to by participant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mploying cookies on websi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urveillance by law enforcement authorities lawfully authorised in interest of:</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National security</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Detection of offences</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CBE431-1427-4BB4-950E-82EA7C8453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6" name="PlaceHolder 2"/>
          <p:cNvSpPr>
            <a:spLocks noGrp="1"/>
          </p:cNvSpPr>
          <p:nvPr>
            <p:ph/>
          </p:nvPr>
        </p:nvSpPr>
        <p:spPr>
          <a:xfrm>
            <a:off x="457200" y="174456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a:t>
            </a:r>
            <a:r>
              <a:rPr b="1" lang="en-GB" sz="4000" spc="-1" strike="noStrike">
                <a:solidFill>
                  <a:srgbClr val="ff0000"/>
                </a:solidFill>
                <a:latin typeface="Calibri"/>
              </a:rPr>
              <a:t>made by technical means</a:t>
            </a:r>
            <a:r>
              <a:rPr b="0" lang="en-GB" sz="2800" spc="-1" strike="noStrike">
                <a:solidFill>
                  <a:srgbClr val="000000"/>
                </a:solidFill>
                <a:latin typeface="Calibri"/>
              </a:rPr>
              <a:t>,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CFD23E-BDD9-479A-9942-43733514A6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chnical means</a:t>
            </a:r>
            <a:endParaRPr b="0" lang="en-US" sz="4400" spc="-1" strike="noStrike">
              <a:solidFill>
                <a:srgbClr val="000000"/>
              </a:solidFill>
              <a:latin typeface="Calibri"/>
            </a:endParaRPr>
          </a:p>
        </p:txBody>
      </p:sp>
      <p:sp>
        <p:nvSpPr>
          <p:cNvPr id="129"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rough:</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Access &amp; use of computer system; or</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electronic eavesdropping or tapping devices</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y includ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Recording</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technical devices fixed to transmission lin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devices to collect &amp; record wireless communication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software, passwords and codes</a:t>
            </a:r>
            <a:endParaRPr b="0" lang="en-US" sz="24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320B06-317D-4E1E-A628-A2D2117EDD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2" name="PlaceHolder 2"/>
          <p:cNvSpPr>
            <a:spLocks noGrp="1"/>
          </p:cNvSpPr>
          <p:nvPr>
            <p:ph/>
          </p:nvPr>
        </p:nvSpPr>
        <p:spPr>
          <a:xfrm>
            <a:off x="457200" y="15336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a:t>
            </a:r>
            <a:r>
              <a:rPr b="1" lang="en-GB" sz="4000" spc="-1" strike="noStrike">
                <a:solidFill>
                  <a:srgbClr val="ff0000"/>
                </a:solidFill>
                <a:latin typeface="Calibri"/>
              </a:rPr>
              <a:t>non-public transmissions</a:t>
            </a:r>
            <a:r>
              <a:rPr b="0" lang="en-GB" sz="28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75AA0D-58CD-44B8-9353-C266914143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on-public Transmissions</a:t>
            </a:r>
            <a:endParaRPr b="0" lang="en-US" sz="4400" spc="-1" strike="noStrike">
              <a:solidFill>
                <a:srgbClr val="000000"/>
              </a:solidFill>
              <a:latin typeface="Calibri"/>
            </a:endParaRPr>
          </a:p>
        </p:txBody>
      </p:sp>
      <p:sp>
        <p:nvSpPr>
          <p:cNvPr id="135"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criminalize interception of non-public data, but of non-public transmission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a:t>
            </a:r>
            <a:r>
              <a:rPr b="0" i="1" lang="en-GB" sz="3200" spc="-1" strike="noStrike">
                <a:solidFill>
                  <a:srgbClr val="000000"/>
                </a:solidFill>
                <a:latin typeface="Calibri"/>
                <a:ea typeface="Times New Roman"/>
              </a:rPr>
              <a:t>per se </a:t>
            </a:r>
            <a:r>
              <a:rPr b="0" lang="en-GB" sz="3200" spc="-1" strike="noStrike">
                <a:solidFill>
                  <a:srgbClr val="000000"/>
                </a:solidFill>
                <a:latin typeface="Calibri"/>
                <a:ea typeface="Times New Roman"/>
              </a:rPr>
              <a:t>exclude communications over public network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ay include publically available information communicated through non-public transmissions</a:t>
            </a:r>
            <a:endParaRPr b="0" lang="en-US" sz="3200" spc="-1" strike="noStrike">
              <a:solidFill>
                <a:srgbClr val="000000"/>
              </a:solidFill>
              <a:latin typeface="Calibri"/>
            </a:endParaRPr>
          </a:p>
          <a:p>
            <a:pPr lvl="1" marL="743040" indent="0" algn="just">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A7439F-887A-4EED-9D49-8D3381988E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8" name="PlaceHolder 2"/>
          <p:cNvSpPr>
            <a:spLocks noGrp="1"/>
          </p:cNvSpPr>
          <p:nvPr>
            <p:ph/>
          </p:nvPr>
        </p:nvSpPr>
        <p:spPr>
          <a:xfrm>
            <a:off x="457200" y="156204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a:t>
            </a:r>
            <a:r>
              <a:rPr b="1" lang="en-GB" sz="4000" spc="-1" strike="noStrike">
                <a:solidFill>
                  <a:srgbClr val="ff0000"/>
                </a:solidFill>
                <a:latin typeface="Calibri"/>
              </a:rPr>
              <a:t>to, from or within a computer system</a:t>
            </a:r>
            <a:r>
              <a:rPr b="0" lang="en-GB" sz="2800" spc="-1" strike="noStrike">
                <a:solidFill>
                  <a:srgbClr val="000000"/>
                </a:solidFill>
                <a:latin typeface="Calibri"/>
              </a:rPr>
              <a:t>,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5D571CE-36CB-41B1-BDB4-BA9EE3A538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o, from or within a computer system</a:t>
            </a:r>
            <a:endParaRPr b="0" lang="en-US" sz="4400" spc="-1" strike="noStrike">
              <a:solidFill>
                <a:srgbClr val="000000"/>
              </a:solidFill>
              <a:latin typeface="Calibri"/>
            </a:endParaRPr>
          </a:p>
        </p:txBody>
      </p:sp>
      <p:sp>
        <p:nvSpPr>
          <p:cNvPr id="141"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o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person to keyboard</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From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one computer system to another computer system</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in computer system: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CPU to print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566C63-A96C-464C-B338-62C732F581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9"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EE1DF0-B1F2-41D3-AE14-FBD302D595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4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a:t>
            </a:r>
            <a:r>
              <a:rPr b="1" lang="en-GB" sz="4000" spc="-1" strike="noStrike">
                <a:solidFill>
                  <a:srgbClr val="ff0000"/>
                </a:solidFill>
                <a:latin typeface="Calibri"/>
              </a:rPr>
              <a:t>electromagnetic emissions </a:t>
            </a:r>
            <a:r>
              <a:rPr b="0" lang="en-GB" sz="2800" spc="-1" strike="noStrike">
                <a:solidFill>
                  <a:srgbClr val="000000"/>
                </a:solidFill>
                <a:latin typeface="Calibri"/>
              </a:rPr>
              <a:t>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E33B51-8721-46F6-9064-7536E7F8CC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ctromagnetic emissions</a:t>
            </a:r>
            <a:endParaRPr b="0" lang="en-US" sz="4400" spc="-1" strike="noStrike">
              <a:solidFill>
                <a:srgbClr val="000000"/>
              </a:solidFill>
              <a:latin typeface="Calibri"/>
            </a:endParaRPr>
          </a:p>
        </p:txBody>
      </p:sp>
      <p:sp>
        <p:nvSpPr>
          <p:cNvPr id="147" name="PlaceHolder 2"/>
          <p:cNvSpPr>
            <a:spLocks noGrp="1"/>
          </p:cNvSpPr>
          <p:nvPr>
            <p:ph/>
          </p:nvPr>
        </p:nvSpPr>
        <p:spPr>
          <a:xfrm>
            <a:off x="457200" y="1544760"/>
            <a:ext cx="8229600" cy="4039920"/>
          </a:xfrm>
          <a:prstGeom prst="rect">
            <a:avLst/>
          </a:prstGeom>
          <a:noFill/>
          <a:ln w="0">
            <a:noFill/>
          </a:ln>
        </p:spPr>
        <p:txBody>
          <a:bodyPr anchor="t">
            <a:normAutofit fontScale="82000"/>
          </a:bodyPr>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d to ensure more comprehensive scope</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systems may emit electromagnetic emissions during operation</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missions do not fall under Budapest Convention definition of computer data</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ta may be reconstructed from such emissions</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us interception of electromagnetic emissions is included within offence</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A50C09-FD47-4BAE-BB15-70511F6722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5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a:t>
            </a:r>
            <a:r>
              <a:rPr b="1" lang="en-GB" sz="3200" spc="-1" strike="noStrike">
                <a:solidFill>
                  <a:srgbClr val="ff0000"/>
                </a:solidFill>
                <a:latin typeface="Calibri"/>
              </a:rPr>
              <a:t>dishonest intent</a:t>
            </a:r>
            <a:r>
              <a:rPr b="0" lang="en-GB" sz="2800" spc="-1" strike="noStrike">
                <a:solidFill>
                  <a:srgbClr val="000000"/>
                </a:solidFill>
                <a:latin typeface="Calibri"/>
              </a:rPr>
              <a:t>, or </a:t>
            </a:r>
            <a:r>
              <a:rPr b="1" lang="en-GB" sz="3200" spc="-1" strike="noStrike">
                <a:solidFill>
                  <a:srgbClr val="ff0000"/>
                </a:solidFill>
                <a:latin typeface="Calibri"/>
              </a:rPr>
              <a:t>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86D9B8-ADA5-4656-9682-DC4072B717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53"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rties may limit the criminalization of intentional unauthorized interception with the following qualifying elements:</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Dishonest intent</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In relation to a computer system that is connected to another system</a:t>
            </a:r>
            <a:endParaRPr b="0" lang="en-US" sz="30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CA55EC-CAA0-4801-8CDD-E6AC40128C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Data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4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Damaging, deletion, deterioration, alteration or suppression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57918-BD69-486A-953D-DF8DC3F388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58"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BA98C-C85F-4AF6-BF02-E48D4ABDEA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1"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damaging</a:t>
            </a:r>
            <a:r>
              <a:rPr b="0" lang="en-GB" sz="2800" spc="-1" strike="noStrike">
                <a:solidFill>
                  <a:srgbClr val="000000"/>
                </a:solidFill>
                <a:latin typeface="Calibri"/>
              </a:rPr>
              <a:t>, deletion, </a:t>
            </a:r>
            <a:r>
              <a:rPr b="1" lang="en-GB" sz="4000" spc="-1" strike="noStrike">
                <a:solidFill>
                  <a:srgbClr val="ff0000"/>
                </a:solidFill>
                <a:latin typeface="Calibri"/>
                <a:ea typeface="Times New Roman"/>
              </a:rPr>
              <a:t>deterioration</a:t>
            </a:r>
            <a:r>
              <a:rPr b="0" lang="en-GB" sz="2800" spc="-1" strike="noStrike">
                <a:solidFill>
                  <a:srgbClr val="000000"/>
                </a:solidFill>
                <a:latin typeface="Calibri"/>
              </a:rPr>
              <a:t>,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4B85DC-7A21-481B-B69D-1853D986B6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amaging, deterioration </a:t>
            </a:r>
            <a:endParaRPr b="0" lang="en-US" sz="4400" spc="-1" strike="noStrike">
              <a:solidFill>
                <a:srgbClr val="000000"/>
              </a:solidFill>
              <a:latin typeface="Calibri"/>
            </a:endParaRPr>
          </a:p>
        </p:txBody>
      </p:sp>
      <p:sp>
        <p:nvSpPr>
          <p:cNvPr id="164"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maging and deterioration are overlapping act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egative alteration of:</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tegrity; or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formation content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f data and programme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C5BF03-47C4-4225-A11F-93B6FF00F0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7"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a:t>
            </a:r>
            <a:r>
              <a:rPr b="1" lang="en-GB" sz="4000" spc="-1" strike="noStrike">
                <a:solidFill>
                  <a:srgbClr val="ff0000"/>
                </a:solidFill>
                <a:latin typeface="Calibri"/>
                <a:ea typeface="Times New Roman"/>
              </a:rPr>
              <a:t>deletion</a:t>
            </a:r>
            <a:r>
              <a:rPr b="0" lang="en-GB" sz="2800" spc="-1" strike="noStrike">
                <a:solidFill>
                  <a:srgbClr val="000000"/>
                </a:solidFill>
                <a:latin typeface="Calibri"/>
              </a:rPr>
              <a:t>,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4B5B81-8C1D-49EF-BA5A-923F6D8BAE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letion</a:t>
            </a:r>
            <a:endParaRPr b="0" lang="en-US" sz="4400" spc="-1" strike="noStrike">
              <a:solidFill>
                <a:srgbClr val="000000"/>
              </a:solidFill>
              <a:latin typeface="Calibri"/>
            </a:endParaRPr>
          </a:p>
        </p:txBody>
      </p:sp>
      <p:sp>
        <p:nvSpPr>
          <p:cNvPr id="170"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letion of data is equivalent to destruction of a corporeal thing</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stroys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kes data unrecognisable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9BAC9D-EA91-48C6-905C-CD7E88830E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Budapest Convention on Cybercrime -</a:t>
            </a:r>
            <a:br>
              <a:rPr sz="4000"/>
            </a:br>
            <a:r>
              <a:rPr b="1" lang="en-GB" sz="4000" spc="-1" strike="noStrike">
                <a:solidFill>
                  <a:srgbClr val="000000"/>
                </a:solidFill>
                <a:latin typeface="Calibri"/>
              </a:rPr>
              <a:t>Substantive Criminal Law</a:t>
            </a:r>
            <a:br>
              <a:rPr sz="4000"/>
            </a:br>
            <a:endParaRPr b="0" lang="en-US" sz="4000" spc="-1" strike="noStrike">
              <a:solidFill>
                <a:srgbClr val="000000"/>
              </a:solidFill>
              <a:latin typeface="Calibri"/>
            </a:endParaRPr>
          </a:p>
        </p:txBody>
      </p:sp>
      <p:pic>
        <p:nvPicPr>
          <p:cNvPr id="62" name="Picture 3" descr=""/>
          <p:cNvPicPr/>
          <p:nvPr/>
        </p:nvPicPr>
        <p:blipFill>
          <a:blip r:embed="rId1"/>
          <a:stretch/>
        </p:blipFill>
        <p:spPr>
          <a:xfrm>
            <a:off x="6786720" y="4643280"/>
            <a:ext cx="1962000" cy="1766880"/>
          </a:xfrm>
          <a:prstGeom prst="rect">
            <a:avLst/>
          </a:prstGeom>
          <a:ln w="0">
            <a:noFill/>
          </a:ln>
        </p:spPr>
      </p:pic>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5523C-B5C9-4049-BCE2-95EC466FD9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3"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t>
            </a:r>
            <a:r>
              <a:rPr b="1" lang="en-GB" sz="4000" spc="-1" strike="noStrike">
                <a:solidFill>
                  <a:srgbClr val="ff0000"/>
                </a:solidFill>
                <a:latin typeface="Calibri"/>
                <a:ea typeface="Times New Roman"/>
              </a:rPr>
              <a:t>alteration</a:t>
            </a:r>
            <a:r>
              <a:rPr b="0" lang="en-GB" sz="2800" spc="-1" strike="noStrike">
                <a:solidFill>
                  <a:srgbClr val="000000"/>
                </a:solidFill>
                <a:latin typeface="Calibri"/>
              </a:rPr>
              <a:t>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673CFA-25C1-46BD-BA9D-916EF68AF2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lteration</a:t>
            </a:r>
            <a:endParaRPr b="0" lang="en-US" sz="4400" spc="-1" strike="noStrike">
              <a:solidFill>
                <a:srgbClr val="000000"/>
              </a:solidFill>
              <a:latin typeface="Calibri"/>
            </a:endParaRPr>
          </a:p>
        </p:txBody>
      </p:sp>
      <p:sp>
        <p:nvSpPr>
          <p:cNvPr id="176"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odification of existing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cludes the input of malicious codes such as viruses and Trojan horses and resulting modification of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30D66A-52F1-41B2-81BD-AB6E4D8697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a:t>
            </a:r>
            <a:r>
              <a:rPr b="1" lang="en-GB" sz="4000" spc="-1" strike="noStrike">
                <a:solidFill>
                  <a:srgbClr val="ff0000"/>
                </a:solidFill>
                <a:latin typeface="Calibri"/>
                <a:ea typeface="Times New Roman"/>
              </a:rPr>
              <a:t>suppression</a:t>
            </a:r>
            <a:r>
              <a:rPr b="0" lang="en-GB" sz="2800" spc="-1" strike="noStrike">
                <a:solidFill>
                  <a:srgbClr val="ff0000"/>
                </a:solidFill>
                <a:latin typeface="Calibri"/>
              </a:rPr>
              <a:t> </a:t>
            </a:r>
            <a:r>
              <a:rPr b="0" lang="en-GB" sz="2800" spc="-1" strike="noStrike">
                <a:solidFill>
                  <a:srgbClr val="000000"/>
                </a:solidFill>
                <a:latin typeface="Calibri"/>
              </a:rPr>
              <a:t>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945FD3-E18A-4DF1-A0EA-DCF1A331EF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ppression</a:t>
            </a:r>
            <a:endParaRPr b="0" lang="en-US" sz="4400" spc="-1" strike="noStrike">
              <a:solidFill>
                <a:srgbClr val="000000"/>
              </a:solidFill>
              <a:latin typeface="Calibri"/>
            </a:endParaRPr>
          </a:p>
        </p:txBody>
      </p:sp>
      <p:sp>
        <p:nvSpPr>
          <p:cNvPr id="182"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Any action that prevents or terminates availability of data to person who has access to the computer or storage medium in which it was stored</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ffect the content of data itself but its availability </a:t>
            </a:r>
            <a:endParaRPr b="0" lang="en-US" sz="30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87F88F-6AC7-49C6-A87A-C2E177D582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8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a:t>
            </a:r>
            <a:r>
              <a:rPr b="1" lang="en-GB" sz="4000" spc="-1" strike="noStrike">
                <a:solidFill>
                  <a:srgbClr val="ff0000"/>
                </a:solidFill>
                <a:latin typeface="Calibri"/>
              </a:rPr>
              <a:t>without right</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serious harm.</a:t>
            </a:r>
            <a:endParaRPr b="0" lang="en-US" sz="28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B4E116-F759-417F-AC3D-212116F9BB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88" name="PlaceHolder 2"/>
          <p:cNvSpPr>
            <a:spLocks noGrp="1"/>
          </p:cNvSpPr>
          <p:nvPr>
            <p:ph/>
          </p:nvPr>
        </p:nvSpPr>
        <p:spPr>
          <a:xfrm>
            <a:off x="457200" y="1730520"/>
            <a:ext cx="8229600" cy="3443040"/>
          </a:xfrm>
          <a:prstGeom prst="rect">
            <a:avLst/>
          </a:prstGeom>
          <a:noFill/>
          <a:ln w="0">
            <a:noFill/>
          </a:ln>
        </p:spPr>
        <p:txBody>
          <a:bodyPr anchor="t">
            <a:normAutofit fontScale="80000"/>
          </a:bodyPr>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Does not apply where interfering person has right to interfere with data</a:t>
            </a:r>
            <a:endParaRPr b="0" lang="en-US" sz="2600" spc="-1" strike="noStrike">
              <a:solidFill>
                <a:srgbClr val="000000"/>
              </a:solidFill>
              <a:latin typeface="Calibri"/>
            </a:endParaRPr>
          </a:p>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xamples include:</a:t>
            </a:r>
            <a:endParaRPr b="0" lang="en-US" sz="26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ctivities inherent in design of networks or common operating or commercial practice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Testing or protection of security system of computer authorised by owner or operator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configuration of computer’s operating system at time of installation of new software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traffic data for purpose of facilitating anonymous communications (e.g. anonymous remailer system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data for purpose of secure communications (e.g. encryption)</a:t>
            </a:r>
            <a:endParaRPr b="0" lang="en-US" sz="22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E20405-D416-42DC-B367-681070CB00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91"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a:t>
            </a:r>
            <a:r>
              <a:rPr b="1" lang="en-GB" sz="4000" spc="-1" strike="noStrike">
                <a:solidFill>
                  <a:srgbClr val="ff0000"/>
                </a:solidFill>
                <a:latin typeface="Calibri"/>
              </a:rPr>
              <a:t>serious harm</a:t>
            </a:r>
            <a:r>
              <a:rPr b="1" lang="en-GB" sz="2800" spc="-1" strike="noStrike">
                <a:solidFill>
                  <a:srgbClr val="ff0000"/>
                </a:solidFill>
                <a:latin typeface="Calibri"/>
              </a:rPr>
              <a:t>.</a:t>
            </a:r>
            <a:endParaRPr b="0" lang="en-US" sz="28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4F067E-CE46-4A0C-8B5F-85CCEF3BDF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arm</a:t>
            </a:r>
            <a:endParaRPr b="0" lang="en-US" sz="4400" spc="-1" strike="noStrike">
              <a:solidFill>
                <a:srgbClr val="000000"/>
              </a:solidFill>
              <a:latin typeface="Calibri"/>
            </a:endParaRPr>
          </a:p>
        </p:txBody>
      </p:sp>
      <p:sp>
        <p:nvSpPr>
          <p:cNvPr id="194"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arties may limit the scope of this offence by requiring that the conduct result in serious harm</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finition of serious harm to be provided for in domestic legislation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y be qualified on the basis of quantum of monetary harm arising out of conduct</a:t>
            </a:r>
            <a:endParaRPr b="0" lang="en-US" sz="30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497CED6-9509-4A89-B232-BDCDC28860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ystem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5 – Budapest Conven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he serious hindering of the functioning of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y inputting, transmitting, damaging, deleting, deteriorating, altering or suppressing computer 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 </a:t>
            </a:r>
            <a:endParaRPr b="0" lang="en-US" sz="32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080AD-B96B-4B1D-9AEF-BAA0900A90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4DFC9-DD5F-4C6A-B299-2209613829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feld 12"/>
          <p:cNvSpPr/>
          <p:nvPr/>
        </p:nvSpPr>
        <p:spPr>
          <a:xfrm>
            <a:off x="179280" y="1052640"/>
            <a:ext cx="2786040" cy="326484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riminalising conduct</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acces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Data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ystem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isuse of device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Fraud and forger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Child pornograph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PR-offence</a:t>
            </a:r>
            <a:r>
              <a:rPr b="1" lang="de-DE" sz="2000" spc="-1" strike="noStrike">
                <a:solidFill>
                  <a:srgbClr val="000000"/>
                </a:solidFill>
                <a:latin typeface="Arial"/>
              </a:rPr>
              <a:t>s</a:t>
            </a:r>
            <a:endParaRPr b="0" lang="en-US" sz="2000" spc="-1" strike="noStrike">
              <a:solidFill>
                <a:srgbClr val="000000"/>
              </a:solidFill>
              <a:latin typeface="Arial"/>
            </a:endParaRPr>
          </a:p>
        </p:txBody>
      </p:sp>
      <p:sp>
        <p:nvSpPr>
          <p:cNvPr id="65" name="Textfeld 3"/>
          <p:cNvSpPr/>
          <p:nvPr/>
        </p:nvSpPr>
        <p:spPr>
          <a:xfrm>
            <a:off x="3465360" y="1041480"/>
            <a:ext cx="2428920" cy="32648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Procedural tool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Production order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earch and seizur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nterception of computer data</a:t>
            </a:r>
            <a:endParaRPr b="0" lang="en-US" sz="2000" spc="-1" strike="noStrike">
              <a:solidFill>
                <a:srgbClr val="000000"/>
              </a:solidFill>
              <a:latin typeface="Arial"/>
            </a:endParaRPr>
          </a:p>
        </p:txBody>
      </p:sp>
      <p:sp>
        <p:nvSpPr>
          <p:cNvPr id="66" name="Textfeld 4"/>
          <p:cNvSpPr/>
          <p:nvPr/>
        </p:nvSpPr>
        <p:spPr>
          <a:xfrm>
            <a:off x="6394320" y="1004760"/>
            <a:ext cx="2571840" cy="448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International cooperation</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tradi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pontaneous inform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accessing computer dat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24/7 points of contact</a:t>
            </a:r>
            <a:endParaRPr b="0" lang="en-US" sz="2000" spc="-1" strike="noStrike">
              <a:solidFill>
                <a:srgbClr val="000000"/>
              </a:solidFill>
              <a:latin typeface="Arial"/>
            </a:endParaRPr>
          </a:p>
        </p:txBody>
      </p:sp>
      <p:sp>
        <p:nvSpPr>
          <p:cNvPr id="67"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8"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9"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rPr>
              <a:t>Harmonisation </a:t>
            </a:r>
            <a:endParaRPr b="0" lang="en-US" sz="1800" spc="-1" strike="noStrike">
              <a:solidFill>
                <a:srgbClr val="000000"/>
              </a:solidFill>
              <a:latin typeface="Arial"/>
            </a:endParaRPr>
          </a:p>
        </p:txBody>
      </p:sp>
      <p:cxnSp>
        <p:nvCxnSpPr>
          <p:cNvPr id="70" name="Form 20"/>
          <p:cNvCxnSpPr>
            <a:stCxn id="64" idx="2"/>
          </p:cNvCxnSpPr>
          <p:nvPr/>
        </p:nvCxnSpPr>
        <p:spPr>
          <a:xfrm flipH="1" rot="16200000">
            <a:off x="3651840" y="2881800"/>
            <a:ext cx="664560" cy="4821840"/>
          </a:xfrm>
          <a:prstGeom prst="bentConnector2">
            <a:avLst/>
          </a:prstGeom>
          <a:ln w="9360">
            <a:solidFill>
              <a:srgbClr val="002060"/>
            </a:solidFill>
            <a:miter/>
            <a:tailEnd len="med" type="arrow" w="med"/>
          </a:ln>
        </p:spPr>
      </p:cxnSp>
      <p:sp>
        <p:nvSpPr>
          <p:cNvPr id="71" name="Gerade Verbindung 27"/>
          <p:cNvSpPr/>
          <p:nvPr/>
        </p:nvSpPr>
        <p:spPr>
          <a:xfrm>
            <a:off x="4680000" y="4334040"/>
            <a:ext cx="0" cy="1290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the Budapest Convention</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BAF8D-6598-4AC8-AC4F-87F735C486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a:t>
            </a:r>
            <a:r>
              <a:rPr b="1" lang="en-GB" sz="4000" spc="-1" strike="noStrike">
                <a:solidFill>
                  <a:srgbClr val="ff0000"/>
                </a:solidFill>
                <a:latin typeface="Calibri"/>
                <a:ea typeface="Times New Roman"/>
              </a:rPr>
              <a:t>hindering</a:t>
            </a:r>
            <a:r>
              <a:rPr b="0" lang="en-GB" sz="2800" spc="-1" strike="noStrike">
                <a:solidFill>
                  <a:srgbClr val="000000"/>
                </a:solidFill>
                <a:latin typeface="Calibri"/>
                <a:ea typeface="Times New Roman"/>
              </a:rPr>
              <a:t>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766ACAE-6704-4B4D-80CF-C7EB654ABE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indering the functioning of a computer system</a:t>
            </a:r>
            <a:endParaRPr b="0" lang="en-US" sz="4400" spc="-1" strike="noStrike">
              <a:solidFill>
                <a:srgbClr val="000000"/>
              </a:solidFill>
              <a:latin typeface="Calibri"/>
            </a:endParaRPr>
          </a:p>
        </p:txBody>
      </p:sp>
      <p:sp>
        <p:nvSpPr>
          <p:cNvPr id="205"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is an action that interferes with proper functioning of computer system</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takes place through:</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npu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transmi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amag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le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alter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uppressing;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3593B3-4025-44E9-8269-98F1AD0528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7" name="Rectangle 1"/>
          <p:cNvSpPr/>
          <p:nvPr/>
        </p:nvSpPr>
        <p:spPr>
          <a:xfrm>
            <a:off x="5577840" y="4567320"/>
            <a:ext cx="23205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data</a:t>
            </a:r>
            <a:endParaRPr b="0" lang="en-US" sz="2800" spc="-1" strike="noStrike">
              <a:solidFill>
                <a:srgbClr val="000000"/>
              </a:solidFill>
              <a:latin typeface="Arial"/>
            </a:endParaRPr>
          </a:p>
        </p:txBody>
      </p:sp>
      <p:sp>
        <p:nvSpPr>
          <p:cNvPr id="208"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4" name="Straight Arrow Connector 4"/>
          <p:cNvCxnSpPr>
            <a:stCxn id="208" idx="3"/>
            <a:endCxn id="207" idx="1"/>
          </p:cNvCxnSpPr>
          <p:nvPr/>
        </p:nvCxnSpPr>
        <p:spPr>
          <a:xfrm>
            <a:off x="3038400" y="3897000"/>
            <a:ext cx="2532960" cy="910440"/>
          </a:xfrm>
          <a:prstGeom prst="straightConnector1">
            <a:avLst/>
          </a:prstGeom>
          <a:ln w="25560">
            <a:solidFill>
              <a:srgbClr val="4f81bd"/>
            </a:solidFill>
            <a:miter/>
            <a:tailEnd len="med" type="arrow" w="med"/>
          </a:ln>
        </p:spPr>
      </p:cxnSp>
      <p:cxnSp>
        <p:nvCxnSpPr>
          <p:cNvPr id="215" name="Straight Arrow Connector 16"/>
          <p:cNvCxnSpPr>
            <a:stCxn id="209" idx="3"/>
            <a:endCxn id="207" idx="1"/>
          </p:cNvCxnSpPr>
          <p:nvPr/>
        </p:nvCxnSpPr>
        <p:spPr>
          <a:xfrm>
            <a:off x="3036960" y="4301640"/>
            <a:ext cx="2534400" cy="505800"/>
          </a:xfrm>
          <a:prstGeom prst="straightConnector1">
            <a:avLst/>
          </a:prstGeom>
          <a:ln w="25560">
            <a:solidFill>
              <a:srgbClr val="4f81bd"/>
            </a:solidFill>
            <a:miter/>
            <a:tailEnd len="med" type="arrow" w="med"/>
          </a:ln>
        </p:spPr>
      </p:cxnSp>
      <p:cxnSp>
        <p:nvCxnSpPr>
          <p:cNvPr id="216" name="Straight Arrow Connector 19"/>
          <p:cNvCxnSpPr>
            <a:stCxn id="210" idx="3"/>
            <a:endCxn id="207" idx="1"/>
          </p:cNvCxnSpPr>
          <p:nvPr/>
        </p:nvCxnSpPr>
        <p:spPr>
          <a:xfrm>
            <a:off x="3036960" y="4709880"/>
            <a:ext cx="2534400" cy="97560"/>
          </a:xfrm>
          <a:prstGeom prst="straightConnector1">
            <a:avLst/>
          </a:prstGeom>
          <a:ln w="25560">
            <a:solidFill>
              <a:srgbClr val="4f81bd"/>
            </a:solidFill>
            <a:miter/>
            <a:tailEnd len="med" type="arrow" w="med"/>
          </a:ln>
        </p:spPr>
      </p:cxnSp>
      <p:cxnSp>
        <p:nvCxnSpPr>
          <p:cNvPr id="217" name="Straight Arrow Connector 22"/>
          <p:cNvCxnSpPr>
            <a:stCxn id="211" idx="3"/>
            <a:endCxn id="207" idx="1"/>
          </p:cNvCxnSpPr>
          <p:nvPr/>
        </p:nvCxnSpPr>
        <p:spPr>
          <a:xfrm flipV="1">
            <a:off x="3033360" y="4806720"/>
            <a:ext cx="2537640" cy="310320"/>
          </a:xfrm>
          <a:prstGeom prst="straightConnector1">
            <a:avLst/>
          </a:prstGeom>
          <a:ln w="25560">
            <a:solidFill>
              <a:srgbClr val="4f81bd"/>
            </a:solidFill>
            <a:miter/>
            <a:tailEnd len="med" type="arrow" w="med"/>
          </a:ln>
        </p:spPr>
      </p:cxnSp>
      <p:cxnSp>
        <p:nvCxnSpPr>
          <p:cNvPr id="218" name="Straight Arrow Connector 30"/>
          <p:cNvCxnSpPr>
            <a:stCxn id="212" idx="3"/>
            <a:endCxn id="207" idx="1"/>
          </p:cNvCxnSpPr>
          <p:nvPr/>
        </p:nvCxnSpPr>
        <p:spPr>
          <a:xfrm flipV="1">
            <a:off x="3036960" y="4806360"/>
            <a:ext cx="2534400" cy="719640"/>
          </a:xfrm>
          <a:prstGeom prst="straightConnector1">
            <a:avLst/>
          </a:prstGeom>
          <a:ln w="25560">
            <a:solidFill>
              <a:srgbClr val="4f81bd"/>
            </a:solidFill>
            <a:miter/>
            <a:tailEnd len="med" type="arrow" w="med"/>
          </a:ln>
        </p:spPr>
      </p:cxnSp>
      <p:cxnSp>
        <p:nvCxnSpPr>
          <p:cNvPr id="219" name="Straight Arrow Connector 33"/>
          <p:cNvCxnSpPr>
            <a:stCxn id="213" idx="3"/>
            <a:endCxn id="207" idx="1"/>
          </p:cNvCxnSpPr>
          <p:nvPr/>
        </p:nvCxnSpPr>
        <p:spPr>
          <a:xfrm flipV="1">
            <a:off x="3033360" y="4806720"/>
            <a:ext cx="253764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serious hindering </a:t>
            </a:r>
            <a:r>
              <a:rPr b="0" lang="en-GB" sz="2800" spc="-1" strike="noStrike">
                <a:solidFill>
                  <a:srgbClr val="000000"/>
                </a:solidFill>
                <a:latin typeface="Calibri"/>
                <a:ea typeface="Times New Roman"/>
              </a:rPr>
              <a:t>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22EBCE-C7C8-45F2-B2BF-B979230052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indering</a:t>
            </a:r>
            <a:endParaRPr b="0" lang="en-US" sz="4400" spc="-1" strike="noStrike">
              <a:solidFill>
                <a:srgbClr val="000000"/>
              </a:solidFill>
              <a:latin typeface="Calibri"/>
            </a:endParaRPr>
          </a:p>
        </p:txBody>
      </p:sp>
      <p:sp>
        <p:nvSpPr>
          <p:cNvPr id="224" name="PlaceHolder 2"/>
          <p:cNvSpPr>
            <a:spLocks noGrp="1"/>
          </p:cNvSpPr>
          <p:nvPr>
            <p:ph/>
          </p:nvPr>
        </p:nvSpPr>
        <p:spPr>
          <a:xfrm>
            <a:off x="457200" y="1428840"/>
            <a:ext cx="8229600" cy="3443040"/>
          </a:xfrm>
          <a:prstGeom prst="rect">
            <a:avLst/>
          </a:prstGeom>
          <a:noFill/>
          <a:ln w="0">
            <a:noFill/>
          </a:ln>
        </p:spPr>
        <p:txBody>
          <a:bodyPr anchor="t">
            <a:normAutofit fontScale="72000"/>
          </a:bodyPr>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teria to determine what constitutes serious conduct is to be determined by the Parties </a:t>
            </a:r>
            <a:endParaRPr b="0" lang="en-US" sz="28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ending of data to particular system in a form, size or frequency that has a significant detrimental effect on the ability of the owner or operator to:</a:t>
            </a:r>
            <a:endParaRPr b="0" lang="en-US" sz="28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the system; or</a:t>
            </a:r>
            <a:endParaRPr b="0" lang="en-US" sz="24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ommunicate with other systems</a:t>
            </a:r>
            <a:endParaRPr b="0" lang="en-US" sz="24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xamples:</a:t>
            </a:r>
            <a:endParaRPr b="0" lang="en-US" sz="28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generate denial of service attacks</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alicious codes that prevent or slow down operation of system</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send huge quantities of electronic mail to a recipient in order to block communication functions of system</a:t>
            </a:r>
            <a:endParaRPr b="0" lang="en-US" sz="22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597B2C-07A0-4CBF-BB32-D821AAD918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7"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hindering </a:t>
            </a:r>
            <a:r>
              <a:rPr b="1" lang="en-GB" sz="4000" spc="-1" strike="noStrike">
                <a:solidFill>
                  <a:srgbClr val="ff0000"/>
                </a:solidFill>
                <a:latin typeface="Calibri"/>
                <a:ea typeface="Times New Roman"/>
              </a:rPr>
              <a:t>without right </a:t>
            </a:r>
            <a:r>
              <a:rPr b="0" lang="en-GB" sz="2800" spc="-1" strike="noStrike">
                <a:solidFill>
                  <a:srgbClr val="000000"/>
                </a:solidFill>
                <a:latin typeface="Calibri"/>
                <a:ea typeface="Times New Roman"/>
              </a:rPr>
              <a:t>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B13351-DEC4-4387-A96D-75CAAAB1B1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30" name="PlaceHolder 2"/>
          <p:cNvSpPr>
            <a:spLocks noGrp="1"/>
          </p:cNvSpPr>
          <p:nvPr>
            <p:ph/>
          </p:nvPr>
        </p:nvSpPr>
        <p:spPr>
          <a:xfrm>
            <a:off x="457200" y="1161720"/>
            <a:ext cx="8229600" cy="3443400"/>
          </a:xfrm>
          <a:prstGeom prst="rect">
            <a:avLst/>
          </a:prstGeom>
          <a:noFill/>
          <a:ln w="0">
            <a:noFill/>
          </a:ln>
        </p:spPr>
        <p:txBody>
          <a:bodyPr anchor="t">
            <a:normAutofit fontScale="72000"/>
          </a:bodyPr>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es not apply where interfering person has right to interfere with data</a:t>
            </a:r>
            <a:endParaRPr b="0" lang="en-US" sz="3000" spc="-1" strike="noStrike">
              <a:solidFill>
                <a:srgbClr val="000000"/>
              </a:solidFill>
              <a:latin typeface="Calibri"/>
            </a:endParaRPr>
          </a:p>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 include:</a:t>
            </a:r>
            <a:endParaRPr b="0" lang="en-US" sz="30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vities inherent in design of networks, or common operational or commercial purposes</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sting of security of computer system authorised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tection of computer system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configuration of computer’s operating system where operator of system installs new software that disables previously installed programs;</a:t>
            </a:r>
            <a:endParaRPr b="0" lang="en-US" sz="2800" spc="-1" strike="noStrike">
              <a:solidFill>
                <a:srgbClr val="000000"/>
              </a:solidFill>
              <a:latin typeface="Calibri"/>
            </a:endParaRPr>
          </a:p>
        </p:txBody>
      </p:sp>
      <p:sp>
        <p:nvSpPr>
          <p:cNvPr id="2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93FE4B-28C3-4653-B851-A4357F498A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80960" y="274320"/>
            <a:ext cx="8205840" cy="5791320"/>
          </a:xfrm>
          <a:prstGeom prst="rect">
            <a:avLst/>
          </a:prstGeom>
          <a:noFill/>
          <a:ln w="0">
            <a:noFill/>
          </a:ln>
        </p:spPr>
        <p:txBody>
          <a:bodyPr anchor="t">
            <a:normAutofit fontScale="93000"/>
          </a:bodyPr>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isuse of Devices</a:t>
            </a:r>
            <a:endParaRPr b="0" lang="en-US" sz="2800" spc="-1" strike="noStrike">
              <a:solidFill>
                <a:srgbClr val="000000"/>
              </a:solidFill>
              <a:latin typeface="Calibri"/>
            </a:endParaRPr>
          </a:p>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6 –Budapest Convention)</a:t>
            </a:r>
            <a:endParaRPr b="0" lang="en-US" sz="2800" spc="-1" strike="noStrike">
              <a:solidFill>
                <a:srgbClr val="000000"/>
              </a:solidFill>
              <a:latin typeface="Calibri"/>
            </a:endParaRPr>
          </a:p>
          <a:p>
            <a:pPr marL="31896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o produce, sale, procure for use, import, distribute or otherwise make available of:</a:t>
            </a:r>
            <a:endParaRPr b="0" lang="en-US" sz="28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1.</a:t>
            </a:r>
            <a:r>
              <a:rPr b="0" lang="en-GB" sz="2400" spc="-1" strike="noStrike">
                <a:solidFill>
                  <a:srgbClr val="000000"/>
                </a:solidFill>
                <a:latin typeface="Calibri"/>
              </a:rPr>
              <a:t>	</a:t>
            </a:r>
            <a:r>
              <a:rPr b="0" lang="en-GB" sz="2400" spc="-1" strike="noStrike">
                <a:solidFill>
                  <a:srgbClr val="000000"/>
                </a:solidFill>
                <a:latin typeface="Calibri"/>
              </a:rPr>
              <a:t>a device,</a:t>
            </a:r>
            <a:r>
              <a:rPr b="1" lang="en-GB" sz="2400" spc="-1" strike="noStrike">
                <a:solidFill>
                  <a:srgbClr val="000000"/>
                </a:solidFill>
                <a:latin typeface="Calibri"/>
              </a:rPr>
              <a:t> </a:t>
            </a:r>
            <a:r>
              <a:rPr b="0" lang="en-GB" sz="2400" spc="-1" strike="noStrike">
                <a:solidFill>
                  <a:srgbClr val="000000"/>
                </a:solidFill>
                <a:latin typeface="Calibri"/>
              </a:rPr>
              <a:t>including a computer program, designed or </a:t>
            </a:r>
            <a:r>
              <a:rPr b="0" lang="en-GB" sz="2400" spc="-1" strike="noStrike">
                <a:solidFill>
                  <a:srgbClr val="000000"/>
                </a:solidFill>
                <a:latin typeface="Calibri"/>
              </a:rPr>
              <a:t>	</a:t>
            </a:r>
            <a:r>
              <a:rPr b="0" lang="en-GB" sz="2400" spc="-1" strike="noStrike">
                <a:solidFill>
                  <a:srgbClr val="000000"/>
                </a:solidFill>
                <a:latin typeface="Calibri"/>
              </a:rPr>
              <a:t>adapted primarily</a:t>
            </a:r>
            <a:r>
              <a:rPr b="1" lang="en-GB" sz="2400" spc="-1" strike="noStrike">
                <a:solidFill>
                  <a:srgbClr val="000000"/>
                </a:solidFill>
                <a:latin typeface="Calibri"/>
              </a:rPr>
              <a:t> </a:t>
            </a:r>
            <a:r>
              <a:rPr b="0" lang="en-GB" sz="2400" spc="-1" strike="noStrike">
                <a:solidFill>
                  <a:srgbClr val="000000"/>
                </a:solidFill>
                <a:latin typeface="Calibri"/>
              </a:rPr>
              <a:t>for the </a:t>
            </a:r>
            <a:r>
              <a:rPr b="0" lang="en-GB" sz="2400" spc="-1" strike="noStrike">
                <a:solidFill>
                  <a:srgbClr val="000000"/>
                </a:solidFill>
                <a:latin typeface="Calibri"/>
              </a:rPr>
              <a:t>	</a:t>
            </a:r>
            <a:r>
              <a:rPr b="0" lang="en-GB" sz="2400" spc="-1" strike="noStrike">
                <a:solidFill>
                  <a:srgbClr val="000000"/>
                </a:solidFill>
                <a:latin typeface="Calibri"/>
              </a:rPr>
              <a:t>purpose of committing any </a:t>
            </a:r>
            <a:r>
              <a:rPr b="0" lang="en-GB" sz="2400" spc="-1" strike="noStrike">
                <a:solidFill>
                  <a:srgbClr val="000000"/>
                </a:solidFill>
                <a:latin typeface="Calibri"/>
              </a:rPr>
              <a:t>	</a:t>
            </a:r>
            <a:r>
              <a:rPr b="0" lang="en-GB" sz="2400" spc="-1" strike="noStrike">
                <a:solidFill>
                  <a:srgbClr val="000000"/>
                </a:solidFill>
                <a:latin typeface="Calibri"/>
              </a:rPr>
              <a:t>of the offences established in accordance with Article </a:t>
            </a:r>
            <a:r>
              <a:rPr b="0" lang="en-GB" sz="2400" spc="-1" strike="noStrike">
                <a:solidFill>
                  <a:srgbClr val="000000"/>
                </a:solidFill>
                <a:latin typeface="Calibri"/>
              </a:rPr>
              <a:t>	</a:t>
            </a:r>
            <a:r>
              <a:rPr b="0" lang="en-GB" sz="2400" spc="-1" strike="noStrike">
                <a:solidFill>
                  <a:srgbClr val="000000"/>
                </a:solidFill>
                <a:latin typeface="Calibri"/>
              </a:rPr>
              <a:t>2 – 5;</a:t>
            </a:r>
            <a:endParaRPr b="0" lang="en-US" sz="24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2.</a:t>
            </a:r>
            <a:r>
              <a:rPr b="0" lang="en-GB" sz="2400" spc="-1" strike="noStrike">
                <a:solidFill>
                  <a:srgbClr val="000000"/>
                </a:solidFill>
                <a:latin typeface="Calibri"/>
              </a:rPr>
              <a:t>	</a:t>
            </a:r>
            <a:r>
              <a:rPr b="0" lang="en-GB" sz="2400" spc="-1" strike="noStrike">
                <a:solidFill>
                  <a:srgbClr val="000000"/>
                </a:solidFill>
                <a:latin typeface="Calibri"/>
              </a:rPr>
              <a:t>a computer password, access code, or similar data by </a:t>
            </a:r>
            <a:r>
              <a:rPr b="0" lang="en-GB" sz="2400" spc="-1" strike="noStrike">
                <a:solidFill>
                  <a:srgbClr val="000000"/>
                </a:solidFill>
                <a:latin typeface="Calibri"/>
              </a:rPr>
              <a:t>	</a:t>
            </a:r>
            <a:r>
              <a:rPr b="0" lang="en-GB" sz="2400" spc="-1" strike="noStrike">
                <a:solidFill>
                  <a:srgbClr val="000000"/>
                </a:solidFill>
                <a:latin typeface="Calibri"/>
              </a:rPr>
              <a:t>which the whole or any part of a computer system is </a:t>
            </a:r>
            <a:r>
              <a:rPr b="0" lang="en-GB" sz="2400" spc="-1" strike="noStrike">
                <a:solidFill>
                  <a:srgbClr val="000000"/>
                </a:solidFill>
                <a:latin typeface="Calibri"/>
              </a:rPr>
              <a:t>	</a:t>
            </a:r>
            <a:r>
              <a:rPr b="0" lang="en-GB" sz="2400" spc="-1" strike="noStrike">
                <a:solidFill>
                  <a:srgbClr val="000000"/>
                </a:solidFill>
                <a:latin typeface="Calibri"/>
              </a:rPr>
              <a:t>capable of being accessed with intent that it be used </a:t>
            </a:r>
            <a:r>
              <a:rPr b="0" lang="en-GB" sz="2400" spc="-1" strike="noStrike">
                <a:solidFill>
                  <a:srgbClr val="000000"/>
                </a:solidFill>
                <a:latin typeface="Calibri"/>
              </a:rPr>
              <a:t>	</a:t>
            </a:r>
            <a:r>
              <a:rPr b="0" lang="en-GB" sz="2400" spc="-1" strike="noStrike">
                <a:solidFill>
                  <a:srgbClr val="000000"/>
                </a:solidFill>
                <a:latin typeface="Calibri"/>
              </a:rPr>
              <a:t>for the purpose of committing any of the offences </a:t>
            </a:r>
            <a:r>
              <a:rPr b="0" lang="en-GB" sz="2400" spc="-1" strike="noStrike">
                <a:solidFill>
                  <a:srgbClr val="000000"/>
                </a:solidFill>
                <a:latin typeface="Calibri"/>
              </a:rPr>
              <a:t>	</a:t>
            </a:r>
            <a:r>
              <a:rPr b="0" lang="en-GB" sz="2400" spc="-1" strike="noStrike">
                <a:solidFill>
                  <a:srgbClr val="000000"/>
                </a:solidFill>
                <a:latin typeface="Calibri"/>
              </a:rPr>
              <a:t>established in </a:t>
            </a:r>
            <a:r>
              <a:rPr b="0" lang="en-GB" sz="2400" spc="-1" strike="noStrike">
                <a:solidFill>
                  <a:srgbClr val="000000"/>
                </a:solidFill>
                <a:latin typeface="Calibri"/>
              </a:rPr>
              <a:t>	</a:t>
            </a:r>
            <a:r>
              <a:rPr b="0" lang="en-GB" sz="2400" spc="-1" strike="noStrike">
                <a:solidFill>
                  <a:srgbClr val="000000"/>
                </a:solidFill>
                <a:latin typeface="Calibri"/>
              </a:rPr>
              <a:t>Articles 2 - 5</a:t>
            </a:r>
            <a:endParaRPr b="0" lang="en-US" sz="24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C2538E-B9FF-458A-BB41-E8E5652A03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isuse of Device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6 – Budapest Convention)</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o possess an item referred to in paragraphs (a)(1) or</a:t>
            </a:r>
            <a:r>
              <a:rPr b="1" i="1" lang="en-GB" sz="2800" spc="-1" strike="noStrike">
                <a:solidFill>
                  <a:srgbClr val="000000"/>
                </a:solidFill>
                <a:latin typeface="Calibri"/>
              </a:rPr>
              <a:t> </a:t>
            </a:r>
            <a:r>
              <a:rPr b="0" i="1" lang="en-GB" sz="2800" spc="-1" strike="noStrike">
                <a:solidFill>
                  <a:srgbClr val="000000"/>
                </a:solidFill>
                <a:latin typeface="Calibri"/>
              </a:rPr>
              <a:t>(2) above, with intent that it be used for the purpose of committing any of the offences established in Articles 2 – 5.</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BFFF62-6F3B-43D2-9CC3-B83D84D39B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37"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en-GB" sz="3200" spc="-1" strike="noStrike">
                <a:solidFill>
                  <a:srgbClr val="000000"/>
                </a:solidFill>
                <a:latin typeface="Calibri"/>
              </a:rPr>
              <a:t>Each Party shall adopt such legislative and </a:t>
            </a:r>
            <a:r>
              <a:rPr b="0" lang="en-GB" sz="3200" spc="-1" strike="noStrike">
                <a:solidFill>
                  <a:srgbClr val="000000"/>
                </a:solidFill>
                <a:latin typeface="Calibri"/>
              </a:rPr>
              <a:t>	</a:t>
            </a:r>
            <a:r>
              <a:rPr b="0" lang="en-GB" sz="3200" spc="-1" strike="noStrike">
                <a:solidFill>
                  <a:srgbClr val="000000"/>
                </a:solidFill>
                <a:latin typeface="Calibri"/>
              </a:rPr>
              <a:t>other measures as may be necessary to </a:t>
            </a:r>
            <a:r>
              <a:rPr b="0" lang="en-GB" sz="3200" spc="-1" strike="noStrike">
                <a:solidFill>
                  <a:srgbClr val="000000"/>
                </a:solidFill>
                <a:latin typeface="Calibri"/>
              </a:rPr>
              <a:t>	</a:t>
            </a:r>
            <a:r>
              <a:rPr b="0" lang="en-GB" sz="3200" spc="-1" strike="noStrike">
                <a:solidFill>
                  <a:srgbClr val="000000"/>
                </a:solidFill>
                <a:latin typeface="Calibri"/>
              </a:rPr>
              <a:t>establish as criminal offences under its </a:t>
            </a:r>
            <a:r>
              <a:rPr b="0" lang="en-GB" sz="3200" spc="-1" strike="noStrike">
                <a:solidFill>
                  <a:srgbClr val="000000"/>
                </a:solidFill>
                <a:latin typeface="Calibri"/>
              </a:rPr>
              <a:t>	</a:t>
            </a:r>
            <a:r>
              <a:rPr b="0" lang="en-GB" sz="3200" spc="-1" strike="noStrike">
                <a:solidFill>
                  <a:srgbClr val="000000"/>
                </a:solidFill>
                <a:latin typeface="Calibri"/>
              </a:rPr>
              <a:t>domestic law when committed intentionally </a:t>
            </a:r>
            <a:r>
              <a:rPr b="0" lang="en-GB" sz="3200" spc="-1" strike="noStrike">
                <a:solidFill>
                  <a:srgbClr val="000000"/>
                </a:solidFill>
                <a:latin typeface="Calibri"/>
              </a:rPr>
              <a:t>	</a:t>
            </a:r>
            <a:r>
              <a:rPr b="0" lang="en-GB" sz="3200" spc="-1" strike="noStrike">
                <a:solidFill>
                  <a:srgbClr val="000000"/>
                </a:solidFill>
                <a:latin typeface="Calibri"/>
              </a:rPr>
              <a:t>and without righ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B3BF1-2057-407E-BF4A-1E8E419593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0"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en-GB" sz="2400" spc="-1" strike="noStrike">
                <a:solidFill>
                  <a:srgbClr val="000000"/>
                </a:solidFill>
                <a:latin typeface="Calibri"/>
              </a:rPr>
              <a:t>the production, sale, procurement for use, import, </a:t>
            </a:r>
            <a:r>
              <a:rPr b="0" lang="en-GB" sz="2400" spc="-1" strike="noStrike">
                <a:solidFill>
                  <a:srgbClr val="000000"/>
                </a:solidFill>
                <a:latin typeface="Calibri"/>
              </a:rPr>
              <a:t>	</a:t>
            </a:r>
            <a:r>
              <a:rPr b="0" lang="en-GB" sz="2400" spc="-1" strike="noStrike">
                <a:solidFill>
                  <a:srgbClr val="000000"/>
                </a:solidFill>
                <a:latin typeface="Calibri"/>
              </a:rPr>
              <a:t>distribution or otherwise making available of:</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1.</a:t>
            </a:r>
            <a:r>
              <a:rPr b="0" lang="en-GB" sz="2200" spc="-1" strike="noStrike">
                <a:solidFill>
                  <a:srgbClr val="000000"/>
                </a:solidFill>
                <a:latin typeface="Calibri"/>
              </a:rPr>
              <a:t>	</a:t>
            </a:r>
            <a:r>
              <a:rPr b="0" lang="en-GB" sz="2200" spc="-1" strike="noStrike">
                <a:solidFill>
                  <a:srgbClr val="000000"/>
                </a:solidFill>
                <a:latin typeface="Calibri"/>
              </a:rPr>
              <a:t>a device, including a computer program, designed or adapted </a:t>
            </a:r>
            <a:r>
              <a:rPr b="0" lang="en-GB" sz="2200" spc="-1" strike="noStrike">
                <a:solidFill>
                  <a:srgbClr val="000000"/>
                </a:solidFill>
                <a:latin typeface="Calibri"/>
              </a:rPr>
              <a:t>	</a:t>
            </a:r>
            <a:r>
              <a:rPr b="0" lang="en-GB" sz="2200" spc="-1" strike="noStrike">
                <a:solidFill>
                  <a:srgbClr val="000000"/>
                </a:solidFill>
                <a:latin typeface="Calibri"/>
              </a:rPr>
              <a:t>primarily for the purpose of committing any of the offences </a:t>
            </a:r>
            <a:r>
              <a:rPr b="0" lang="en-GB" sz="2200" spc="-1" strike="noStrike">
                <a:solidFill>
                  <a:srgbClr val="000000"/>
                </a:solidFill>
                <a:latin typeface="Calibri"/>
              </a:rPr>
              <a:t>	</a:t>
            </a:r>
            <a:r>
              <a:rPr b="0" lang="en-GB" sz="2200" spc="-1" strike="noStrike">
                <a:solidFill>
                  <a:srgbClr val="000000"/>
                </a:solidFill>
                <a:latin typeface="Calibri"/>
              </a:rPr>
              <a:t>established in accordance with Article 2 – 5;</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2.</a:t>
            </a:r>
            <a:r>
              <a:rPr b="0" lang="en-GB" sz="2200" spc="-1" strike="noStrike">
                <a:solidFill>
                  <a:srgbClr val="000000"/>
                </a:solidFill>
                <a:latin typeface="Calibri"/>
              </a:rPr>
              <a:t>	</a:t>
            </a:r>
            <a:r>
              <a:rPr b="0" lang="en-GB" sz="2200" spc="-1" strike="noStrike">
                <a:solidFill>
                  <a:srgbClr val="000000"/>
                </a:solidFill>
                <a:latin typeface="Calibri"/>
              </a:rPr>
              <a:t>a computer password, access code, or similar data by which </a:t>
            </a:r>
            <a:r>
              <a:rPr b="0" lang="en-GB" sz="2200" spc="-1" strike="noStrike">
                <a:solidFill>
                  <a:srgbClr val="000000"/>
                </a:solidFill>
                <a:latin typeface="Calibri"/>
              </a:rPr>
              <a:t>	</a:t>
            </a:r>
            <a:r>
              <a:rPr b="0" lang="en-GB" sz="2200" spc="-1" strike="noStrike">
                <a:solidFill>
                  <a:srgbClr val="000000"/>
                </a:solidFill>
                <a:latin typeface="Calibri"/>
              </a:rPr>
              <a:t>the whole or any part of a computer system is capable of being </a:t>
            </a:r>
            <a:r>
              <a:rPr b="0" lang="en-GB" sz="2200" spc="-1" strike="noStrike">
                <a:solidFill>
                  <a:srgbClr val="000000"/>
                </a:solidFill>
                <a:latin typeface="Calibri"/>
              </a:rPr>
              <a:t>	</a:t>
            </a:r>
            <a:r>
              <a:rPr b="0" lang="en-GB" sz="2200" spc="-1" strike="noStrike">
                <a:solidFill>
                  <a:srgbClr val="000000"/>
                </a:solidFill>
                <a:latin typeface="Calibri"/>
              </a:rPr>
              <a:t>accessed with intent that it be used for the purpose of </a:t>
            </a:r>
            <a:r>
              <a:rPr b="0" lang="en-GB" sz="2200" spc="-1" strike="noStrike">
                <a:solidFill>
                  <a:srgbClr val="000000"/>
                </a:solidFill>
                <a:latin typeface="Calibri"/>
              </a:rPr>
              <a:t>	</a:t>
            </a:r>
            <a:r>
              <a:rPr b="0" lang="en-GB" sz="2200" spc="-1" strike="noStrike">
                <a:solidFill>
                  <a:srgbClr val="000000"/>
                </a:solidFill>
                <a:latin typeface="Calibri"/>
              </a:rPr>
              <a:t>committing any of the offences established in Articles 2 - 5; </a:t>
            </a:r>
            <a:endParaRPr b="0" lang="en-US" sz="22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a:t>
            </a:r>
            <a:r>
              <a:rPr b="0" lang="en-GB" sz="2400" spc="-1" strike="noStrike">
                <a:solidFill>
                  <a:srgbClr val="000000"/>
                </a:solidFill>
                <a:latin typeface="Calibri"/>
              </a:rPr>
              <a:t>	</a:t>
            </a:r>
            <a:r>
              <a:rPr b="0" lang="en-GB" sz="2400" spc="-1" strike="noStrike">
                <a:solidFill>
                  <a:srgbClr val="000000"/>
                </a:solidFill>
                <a:latin typeface="Calibri"/>
              </a:rPr>
              <a:t>the possession of an item referred to in paragraphs (a)(1) or </a:t>
            </a:r>
            <a:r>
              <a:rPr b="0" lang="en-GB" sz="2400" spc="-1" strike="noStrike">
                <a:solidFill>
                  <a:srgbClr val="000000"/>
                </a:solidFill>
                <a:latin typeface="Calibri"/>
              </a:rPr>
              <a:t>	</a:t>
            </a:r>
            <a:r>
              <a:rPr b="0" lang="en-GB" sz="2400" spc="-1" strike="noStrike">
                <a:solidFill>
                  <a:srgbClr val="000000"/>
                </a:solidFill>
                <a:latin typeface="Calibri"/>
              </a:rPr>
              <a:t>(2) above, with intent that it be used for the purpose of </a:t>
            </a:r>
            <a:r>
              <a:rPr b="0" lang="en-GB" sz="2400" spc="-1" strike="noStrike">
                <a:solidFill>
                  <a:srgbClr val="000000"/>
                </a:solidFill>
                <a:latin typeface="Calibri"/>
              </a:rPr>
              <a:t>	</a:t>
            </a:r>
            <a:r>
              <a:rPr b="0" lang="en-GB" sz="2400" spc="-1" strike="noStrike">
                <a:solidFill>
                  <a:srgbClr val="000000"/>
                </a:solidFill>
                <a:latin typeface="Calibri"/>
              </a:rPr>
              <a:t>committing any of the offences established in Articles 2 – 5. </a:t>
            </a:r>
            <a:r>
              <a:rPr b="0" lang="en-GB" sz="2400" spc="-1" strike="noStrike">
                <a:solidFill>
                  <a:srgbClr val="000000"/>
                </a:solidFill>
                <a:latin typeface="Calibri"/>
              </a:rPr>
              <a:t>	</a:t>
            </a:r>
            <a:r>
              <a:rPr b="0" lang="en-GB" sz="2400" spc="-1" strike="noStrike">
                <a:solidFill>
                  <a:srgbClr val="000000"/>
                </a:solidFill>
                <a:latin typeface="Calibri"/>
              </a:rPr>
              <a:t>A Party may require by law that a number of such items be </a:t>
            </a:r>
            <a:r>
              <a:rPr b="0" lang="en-GB" sz="2400" spc="-1" strike="noStrike">
                <a:solidFill>
                  <a:srgbClr val="000000"/>
                </a:solidFill>
                <a:latin typeface="Calibri"/>
              </a:rPr>
              <a:t>	</a:t>
            </a:r>
            <a:r>
              <a:rPr b="0" lang="en-GB" sz="2400" spc="-1" strike="noStrike">
                <a:solidFill>
                  <a:srgbClr val="000000"/>
                </a:solidFill>
                <a:latin typeface="Calibri"/>
              </a:rPr>
              <a:t>possessed before criminal liability attaches.</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DF85D-D786-489E-BCA7-73355A66CC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facilitating and developing international cooperation in criminal investig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harmonising substantive la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efining</a:t>
            </a:r>
            <a:r>
              <a:rPr b="0" lang="hr-HR"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000000"/>
                </a:solidFill>
                <a:latin typeface="Calibri"/>
              </a:rPr>
              <a:t> </a:t>
            </a:r>
            <a:r>
              <a:rPr b="0" lang="hr-HR" sz="2000" spc="-1" strike="noStrike">
                <a:solidFill>
                  <a:srgbClr val="000000"/>
                </a:solidFill>
                <a:latin typeface="Calibri"/>
              </a:rPr>
              <a:t>-   </a:t>
            </a:r>
            <a:r>
              <a:rPr b="0" lang="en-US" sz="2800" spc="-1" strike="noStrike">
                <a:solidFill>
                  <a:srgbClr val="000000"/>
                </a:solidFill>
                <a:latin typeface="Calibri"/>
              </a:rPr>
              <a:t>Offences against the confidentiality, integrity and availability of computer systems and data</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uter-related offenc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ent-related offences</a:t>
            </a:r>
            <a:endParaRPr b="0" lang="en-US" sz="2800" spc="-1" strike="noStrike">
              <a:solidFill>
                <a:srgbClr val="000000"/>
              </a:solidFill>
              <a:latin typeface="Calibri"/>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e Substantive Criminal Law Provisions</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09F89-6A8E-47A0-A4BF-4B6AB1413C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3"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This article shall not be interpreted as imposing criminal liability where the production, sale, procurement for use, import, distribution or otherwise making available or possession referred to in paragraph 1 of this article is not for the purpose of committing an offence established in accordance with Articles 2 through 5 of this Convention, such as for the authorised testing or protection of a computer system.</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Each Party may reserve the right not to apply paragraph 1 of this article, provided that the reservation does not concern the sale, distribution or otherwise making available of the items referred to in paragraph 1 a.ii of this article.</a:t>
            </a:r>
            <a:endParaRPr b="0" lang="en-US" sz="24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1F2B9-2BD2-4CC2-B2C9-E48EA8AC0C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6"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1.</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ach Party shall adopt such legislative and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other measures as may be necessary to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stablish as criminal offences under its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domestic law when committed intentionally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and </a:t>
            </a:r>
            <a:r>
              <a:rPr b="1" lang="en-GB" sz="4000" spc="-1" strike="noStrike">
                <a:solidFill>
                  <a:srgbClr val="ff0000"/>
                </a:solidFill>
                <a:latin typeface="Calibri"/>
                <a:ea typeface="Times New Roman"/>
              </a:rPr>
              <a:t>without right</a:t>
            </a:r>
            <a:r>
              <a:rPr b="0"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7D57E3-C066-4C91-8A80-D733D974CE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49"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isuse without right</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revents over-criminalisation where devices are produced and put on market for legitimate purpose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B4E77B-700D-4986-B577-86F2C33339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2"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a:t>
            </a:r>
            <a:r>
              <a:rPr b="1" lang="en-GB" sz="2800" spc="-1" strike="noStrike">
                <a:solidFill>
                  <a:srgbClr val="ff0000"/>
                </a:solidFill>
                <a:latin typeface="Calibri"/>
              </a:rPr>
              <a:t>production</a:t>
            </a:r>
            <a:r>
              <a:rPr b="0" lang="en-GB" sz="2000" spc="-1" strike="noStrike">
                <a:solidFill>
                  <a:srgbClr val="000000"/>
                </a:solidFill>
                <a:latin typeface="Calibri"/>
              </a:rPr>
              <a:t>, </a:t>
            </a:r>
            <a:r>
              <a:rPr b="1" lang="en-GB" sz="2800" spc="-1" strike="noStrike">
                <a:solidFill>
                  <a:srgbClr val="ff0000"/>
                </a:solidFill>
                <a:latin typeface="Calibri"/>
              </a:rPr>
              <a:t>sale</a:t>
            </a:r>
            <a:r>
              <a:rPr b="0" lang="en-GB" sz="2000" spc="-1" strike="noStrike">
                <a:solidFill>
                  <a:srgbClr val="000000"/>
                </a:solidFill>
                <a:latin typeface="Calibri"/>
              </a:rPr>
              <a:t>, </a:t>
            </a:r>
            <a:r>
              <a:rPr b="1" lang="en-GB" sz="2800" spc="-1" strike="noStrike">
                <a:solidFill>
                  <a:srgbClr val="ff0000"/>
                </a:solidFill>
                <a:latin typeface="Calibri"/>
              </a:rPr>
              <a:t>procurement for use</a:t>
            </a:r>
            <a:r>
              <a:rPr b="0" lang="en-GB" sz="2000" spc="-1" strike="noStrike">
                <a:solidFill>
                  <a:srgbClr val="000000"/>
                </a:solidFill>
                <a:latin typeface="Calibri"/>
              </a:rPr>
              <a:t>, </a:t>
            </a:r>
            <a:r>
              <a:rPr b="1" lang="en-GB" sz="2800" spc="-1" strike="noStrike">
                <a:solidFill>
                  <a:srgbClr val="ff0000"/>
                </a:solidFill>
                <a:latin typeface="Calibri"/>
              </a:rPr>
              <a:t>import</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distribution</a:t>
            </a:r>
            <a:r>
              <a:rPr b="0" lang="en-GB" sz="2800" spc="-1" strike="noStrike">
                <a:solidFill>
                  <a:srgbClr val="000000"/>
                </a:solidFill>
                <a:latin typeface="Calibri"/>
              </a:rPr>
              <a:t> </a:t>
            </a:r>
            <a:r>
              <a:rPr b="0" lang="en-GB" sz="2000" spc="-1" strike="noStrike">
                <a:solidFill>
                  <a:srgbClr val="000000"/>
                </a:solidFill>
                <a:latin typeface="Calibri"/>
              </a:rPr>
              <a:t>or otherwise </a:t>
            </a:r>
            <a:r>
              <a:rPr b="1" lang="en-GB" sz="2800" spc="-1" strike="noStrike">
                <a:solidFill>
                  <a:srgbClr val="ff0000"/>
                </a:solidFill>
                <a:latin typeface="Calibri"/>
              </a:rPr>
              <a:t>making available of</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 </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FA7EF9-77AC-4EC8-8299-49735C1599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duction, sale etc.</a:t>
            </a:r>
            <a:endParaRPr b="0" lang="en-US" sz="4400" spc="-1" strike="noStrike">
              <a:solidFill>
                <a:srgbClr val="000000"/>
              </a:solidFill>
              <a:latin typeface="Calibri"/>
            </a:endParaRPr>
          </a:p>
        </p:txBody>
      </p:sp>
      <p:sp>
        <p:nvSpPr>
          <p:cNvPr id="255"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minalisation of:</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duction;</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l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curement for us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mport;</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istribution; or</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Making available of device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tribution: active act of forwarding data to other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king available: placing online devices for the use of others, and includes creation or compilation of online hyperlinks in order to facilitate access to such devices</a:t>
            </a:r>
            <a:endParaRPr b="0" lang="en-US" sz="28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732F87-2C15-4E5D-9224-494CE8B918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8"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a:t>
            </a:r>
            <a:r>
              <a:rPr b="1" lang="en-GB" sz="2800" spc="-1" strike="noStrike">
                <a:solidFill>
                  <a:srgbClr val="ff0000"/>
                </a:solidFill>
                <a:latin typeface="Calibri"/>
              </a:rPr>
              <a:t>including a computer program</a:t>
            </a:r>
            <a:r>
              <a:rPr b="0" lang="en-GB" sz="2000" spc="-1" strike="noStrike">
                <a:solidFill>
                  <a:srgbClr val="000000"/>
                </a:solidFill>
                <a:latin typeface="Calibri"/>
              </a:rPr>
              <a:t>, designed or </a:t>
            </a:r>
            <a:r>
              <a:rPr b="0" lang="en-GB" sz="2000" spc="-1" strike="noStrike">
                <a:solidFill>
                  <a:srgbClr val="000000"/>
                </a:solidFill>
                <a:latin typeface="Calibri"/>
              </a:rPr>
              <a:t>	</a:t>
            </a:r>
            <a:r>
              <a:rPr b="0" lang="en-GB" sz="2000" spc="-1" strike="noStrike">
                <a:solidFill>
                  <a:srgbClr val="000000"/>
                </a:solidFill>
                <a:latin typeface="Calibri"/>
              </a:rPr>
              <a:t>adapted 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a:t>
            </a:r>
            <a:r>
              <a:rPr b="0" lang="en-GB" sz="2000" spc="-1" strike="noStrike">
                <a:solidFill>
                  <a:srgbClr val="000000"/>
                </a:solidFill>
                <a:latin typeface="Calibri"/>
              </a:rPr>
              <a:t>	</a:t>
            </a:r>
            <a:r>
              <a:rPr b="0" lang="en-GB" sz="2000" spc="-1" strike="noStrike">
                <a:solidFill>
                  <a:srgbClr val="000000"/>
                </a:solidFill>
                <a:latin typeface="Calibri"/>
              </a:rPr>
              <a:t>offences 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AE528F-8619-4FBD-A238-7FB472BD4A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rogram</a:t>
            </a:r>
            <a:endParaRPr b="0" lang="en-US" sz="4400" spc="-1" strike="noStrike">
              <a:solidFill>
                <a:srgbClr val="000000"/>
              </a:solidFill>
              <a:latin typeface="Calibri"/>
            </a:endParaRPr>
          </a:p>
        </p:txBody>
      </p:sp>
      <p:sp>
        <p:nvSpPr>
          <p:cNvPr id="261" name="PlaceHolder 2"/>
          <p:cNvSpPr>
            <a:spLocks noGrp="1"/>
          </p:cNvSpPr>
          <p:nvPr>
            <p:ph/>
          </p:nvPr>
        </p:nvSpPr>
        <p:spPr>
          <a:xfrm>
            <a:off x="457200" y="1781280"/>
            <a:ext cx="8229600" cy="3443040"/>
          </a:xfrm>
          <a:prstGeom prst="rect">
            <a:avLst/>
          </a:prstGeom>
          <a:noFill/>
          <a:ln w="0">
            <a:noFill/>
          </a:ln>
        </p:spPr>
        <p:txBody>
          <a:bodyPr anchor="t">
            <a:normAutofit fontScale="97000"/>
          </a:bodyPr>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Refers to programs that are designed to alter or destroy data or interfere with operation of systems</a:t>
            </a:r>
            <a:endParaRPr b="0" lang="en-US" sz="3000" spc="-1" strike="noStrike">
              <a:solidFill>
                <a:srgbClr val="000000"/>
              </a:solidFill>
              <a:latin typeface="Calibri"/>
            </a:endParaRPr>
          </a:p>
          <a:p>
            <a:pPr marL="33264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us programs</a:t>
            </a:r>
            <a:endParaRPr b="0" lang="en-US" sz="26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s designed or adapted to gain access to computer systems</a:t>
            </a:r>
            <a:endParaRPr b="0" lang="en-US" sz="2600" spc="-1" strike="noStrike">
              <a:solidFill>
                <a:srgbClr val="000000"/>
              </a:solidFill>
              <a:latin typeface="Calibri"/>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2F5A3B-B1E0-4980-9D39-DA1100A64F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64"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 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a:t>
            </a:r>
            <a:r>
              <a:rPr b="1" lang="en-GB" sz="2800" spc="-1" strike="noStrike">
                <a:solidFill>
                  <a:srgbClr val="ff0000"/>
                </a:solidFill>
                <a:latin typeface="Calibri"/>
              </a:rPr>
              <a:t>designed or </a:t>
            </a:r>
            <a:r>
              <a:rPr b="1" lang="en-GB" sz="2800" spc="-1" strike="noStrike">
                <a:solidFill>
                  <a:srgbClr val="ff0000"/>
                </a:solidFill>
                <a:latin typeface="Calibri"/>
              </a:rPr>
              <a:t>	</a:t>
            </a:r>
            <a:r>
              <a:rPr b="1" lang="en-GB" sz="2800" spc="-1" strike="noStrike">
                <a:solidFill>
                  <a:srgbClr val="ff0000"/>
                </a:solidFill>
                <a:latin typeface="Calibri"/>
              </a:rPr>
              <a:t>adapted primarily for 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a:t>
            </a:r>
            <a:r>
              <a:rPr b="1" lang="en-GB" sz="2800" spc="-1" strike="noStrike">
                <a:solidFill>
                  <a:srgbClr val="ff0000"/>
                </a:solidFill>
                <a:latin typeface="Calibri"/>
              </a:rPr>
              <a:t>	</a:t>
            </a:r>
            <a:r>
              <a:rPr b="1" lang="en-GB" sz="2800" spc="-1" strike="noStrike">
                <a:solidFill>
                  <a:srgbClr val="ff0000"/>
                </a:solidFill>
                <a:latin typeface="Calibri"/>
              </a:rPr>
              <a:t>in accordance with Article 2 – </a:t>
            </a:r>
            <a:r>
              <a:rPr b="1" lang="en-GB" sz="2800" spc="-1" strike="noStrike">
                <a:solidFill>
                  <a:srgbClr val="ff0000"/>
                </a:solidFill>
                <a:latin typeface="Calibri"/>
              </a:rPr>
              <a:t>	</a:t>
            </a:r>
            <a:r>
              <a:rPr b="1" lang="en-GB" sz="2800" spc="-1" strike="noStrike">
                <a:solidFill>
                  <a:srgbClr val="ff0000"/>
                </a:solidFill>
                <a:latin typeface="Calibri"/>
              </a:rPr>
              <a:t>5</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65"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DDAA79-1D44-465E-943B-F56C916650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signed or adapted primarily for purpose of committing offence</a:t>
            </a:r>
            <a:endParaRPr b="0" lang="en-US" sz="4400" spc="-1" strike="noStrike">
              <a:solidFill>
                <a:srgbClr val="000000"/>
              </a:solidFill>
              <a:latin typeface="Calibri"/>
            </a:endParaRPr>
          </a:p>
        </p:txBody>
      </p:sp>
      <p:sp>
        <p:nvSpPr>
          <p:cNvPr id="267" name="PlaceHolder 2"/>
          <p:cNvSpPr>
            <a:spLocks noGrp="1"/>
          </p:cNvSpPr>
          <p:nvPr>
            <p:ph/>
          </p:nvPr>
        </p:nvSpPr>
        <p:spPr>
          <a:xfrm>
            <a:off x="457200" y="1994040"/>
            <a:ext cx="8229600" cy="3443040"/>
          </a:xfrm>
          <a:prstGeom prst="rect">
            <a:avLst/>
          </a:prstGeom>
          <a:noFill/>
          <a:ln w="0">
            <a:noFill/>
          </a:ln>
        </p:spPr>
        <p:txBody>
          <a:bodyPr anchor="t">
            <a:normAutofit fontScale="87000"/>
          </a:bodyPr>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strikes balance between:</a:t>
            </a:r>
            <a:endParaRPr b="0" lang="en-US" sz="28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xcluding dual-use devices (which would have been too narrow and difficult to prove); and</a:t>
            </a:r>
            <a:endParaRPr b="0" lang="en-US" sz="24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cluding dual-use devices (which would have resulted in over-criminalisation by including all devices even if legally produced and distributed)</a:t>
            </a:r>
            <a:endParaRPr b="0" lang="en-US" sz="2400" spc="-1" strike="noStrike">
              <a:solidFill>
                <a:srgbClr val="000000"/>
              </a:solidFill>
              <a:latin typeface="Calibri"/>
            </a:endParaRPr>
          </a:p>
          <a:p>
            <a:pPr lvl="1" marL="6462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requires that device be designed or adapted </a:t>
            </a:r>
            <a:r>
              <a:rPr b="1" lang="en-GB" sz="2800" spc="-1" strike="noStrike">
                <a:solidFill>
                  <a:srgbClr val="000000"/>
                </a:solidFill>
                <a:latin typeface="Calibri"/>
                <a:ea typeface="Times New Roman"/>
              </a:rPr>
              <a:t>primarily </a:t>
            </a:r>
            <a:r>
              <a:rPr b="0" lang="en-GB" sz="2800" spc="-1" strike="noStrike">
                <a:solidFill>
                  <a:srgbClr val="000000"/>
                </a:solidFill>
                <a:latin typeface="Calibri"/>
                <a:ea typeface="Times New Roman"/>
              </a:rPr>
              <a:t>(but not solely) for the commission of an offence under Articles 2-5 of Convention</a:t>
            </a:r>
            <a:endParaRPr b="0" lang="en-US" sz="28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BD5371-3BE2-4C6F-93B1-5E803B0FEE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0" name="PlaceHolder 2"/>
          <p:cNvSpPr>
            <a:spLocks noGrp="1"/>
          </p:cNvSpPr>
          <p:nvPr>
            <p:ph/>
          </p:nvPr>
        </p:nvSpPr>
        <p:spPr>
          <a:xfrm>
            <a:off x="457200" y="1417680"/>
            <a:ext cx="8229600" cy="4983120"/>
          </a:xfrm>
          <a:prstGeom prst="rect">
            <a:avLst/>
          </a:prstGeom>
          <a:noFill/>
          <a:ln w="0">
            <a:noFill/>
          </a:ln>
        </p:spPr>
        <p:txBody>
          <a:bodyPr anchor="t">
            <a:normAutofit fontScale="98000"/>
          </a:bodyPr>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6448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1" lang="en-GB" sz="2800" spc="-1" strike="noStrike">
                <a:solidFill>
                  <a:srgbClr val="ff0000"/>
                </a:solidFill>
                <a:latin typeface="Calibri"/>
              </a:rPr>
              <a:t>a computer password, access code, or similar </a:t>
            </a:r>
            <a:r>
              <a:rPr b="1" lang="en-GB" sz="2800" spc="-1" strike="noStrike">
                <a:solidFill>
                  <a:srgbClr val="ff0000"/>
                </a:solidFill>
                <a:latin typeface="Calibri"/>
              </a:rPr>
              <a:t>	</a:t>
            </a:r>
            <a:r>
              <a:rPr b="1" lang="en-GB" sz="2800" spc="-1" strike="noStrike">
                <a:solidFill>
                  <a:srgbClr val="ff0000"/>
                </a:solidFill>
                <a:latin typeface="Calibri"/>
              </a:rPr>
              <a:t>data by which the whole or any part of a </a:t>
            </a:r>
            <a:r>
              <a:rPr b="1" lang="en-GB" sz="2800" spc="-1" strike="noStrike">
                <a:solidFill>
                  <a:srgbClr val="ff0000"/>
                </a:solidFill>
                <a:latin typeface="Calibri"/>
              </a:rPr>
              <a:t>	</a:t>
            </a:r>
            <a:r>
              <a:rPr b="1" lang="en-GB" sz="2800" spc="-1" strike="noStrike">
                <a:solidFill>
                  <a:srgbClr val="ff0000"/>
                </a:solidFill>
                <a:latin typeface="Calibri"/>
              </a:rPr>
              <a:t>computer system is capable of being accessed </a:t>
            </a:r>
            <a:r>
              <a:rPr b="1" lang="en-GB" sz="2800" spc="-1" strike="noStrike">
                <a:solidFill>
                  <a:srgbClr val="ff0000"/>
                </a:solidFill>
                <a:latin typeface="Calibri"/>
              </a:rPr>
              <a:t>	</a:t>
            </a:r>
            <a:r>
              <a:rPr b="1" lang="en-GB" sz="2800" spc="-1" strike="noStrike">
                <a:solidFill>
                  <a:srgbClr val="ff0000"/>
                </a:solidFill>
                <a:latin typeface="Calibri"/>
              </a:rPr>
              <a:t>with intent that it be used for </a:t>
            </a:r>
            <a:r>
              <a:rPr b="1" lang="en-GB" sz="2800" spc="-1" strike="noStrike">
                <a:solidFill>
                  <a:srgbClr val="ff0000"/>
                </a:solidFill>
                <a:latin typeface="Calibri"/>
              </a:rPr>
              <a:t>	</a:t>
            </a:r>
            <a:r>
              <a:rPr b="1" lang="en-GB" sz="2800" spc="-1" strike="noStrike">
                <a:solidFill>
                  <a:srgbClr val="ff0000"/>
                </a:solidFill>
                <a:latin typeface="Calibri"/>
              </a:rPr>
              <a:t>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 and </a:t>
            </a:r>
            <a:endParaRPr b="0" lang="en-US" sz="28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the possession of an item referred to in paragraphs (a)(1) or (2) above, with intent that it be used for the purpose of committing any of the offences established in Articles 2 – 5. A Party may require by law that a number of such items be possessed before criminal liability attaches.</a:t>
            </a:r>
            <a:endParaRPr b="0" lang="en-US" sz="20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71D10F-78C6-4216-AB10-61E9B876F0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ffences against the confidentiality, integrity and availability of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omputer data and system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E53F1-2E69-41CB-9ECC-2B4BD3CCB7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asswords, access codes etc.</a:t>
            </a:r>
            <a:endParaRPr b="0" lang="en-US" sz="4400" spc="-1" strike="noStrike">
              <a:solidFill>
                <a:srgbClr val="000000"/>
              </a:solidFill>
              <a:latin typeface="Calibri"/>
            </a:endParaRPr>
          </a:p>
        </p:txBody>
      </p:sp>
      <p:sp>
        <p:nvSpPr>
          <p:cNvPr id="273"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graph 1(a)2 criminalises the:</a:t>
            </a:r>
            <a:endParaRPr b="0" lang="en-US" sz="30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uction;</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l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ement for us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r </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making available of:</a:t>
            </a:r>
            <a:endParaRPr b="0" lang="en-US" sz="2400" spc="-1" strike="noStrike">
              <a:solidFill>
                <a:srgbClr val="000000"/>
              </a:solidFill>
              <a:latin typeface="Calibri"/>
            </a:endParaRPr>
          </a:p>
          <a:p>
            <a:pPr marL="25020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 computer password, access code or similar </a:t>
            </a:r>
            <a:r>
              <a:rPr b="0" lang="en-US" sz="3000" spc="-1" strike="noStrike">
                <a:solidFill>
                  <a:srgbClr val="000000"/>
                </a:solidFill>
                <a:latin typeface="Calibri"/>
              </a:rPr>
              <a:t>	</a:t>
            </a:r>
            <a:r>
              <a:rPr b="0" lang="en-US" sz="3000" spc="-1" strike="noStrike">
                <a:solidFill>
                  <a:srgbClr val="000000"/>
                </a:solidFill>
                <a:latin typeface="Calibri"/>
              </a:rPr>
              <a:t>data by which the whole or any part of a </a:t>
            </a:r>
            <a:r>
              <a:rPr b="0" lang="en-US" sz="3000" spc="-1" strike="noStrike">
                <a:solidFill>
                  <a:srgbClr val="000000"/>
                </a:solidFill>
                <a:latin typeface="Calibri"/>
              </a:rPr>
              <a:t>	</a:t>
            </a:r>
            <a:r>
              <a:rPr b="0" lang="en-US" sz="3000" spc="-1" strike="noStrike">
                <a:solidFill>
                  <a:srgbClr val="000000"/>
                </a:solidFill>
                <a:latin typeface="Calibri"/>
              </a:rPr>
              <a:t>computer system is capable of being accessed.</a:t>
            </a:r>
            <a:endParaRPr b="0" lang="en-US" sz="3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163594-C44D-4D0C-AAA6-35E9D00447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6" name="PlaceHolder 2"/>
          <p:cNvSpPr>
            <a:spLocks noGrp="1"/>
          </p:cNvSpPr>
          <p:nvPr>
            <p:ph/>
          </p:nvPr>
        </p:nvSpPr>
        <p:spPr>
          <a:xfrm>
            <a:off x="457200" y="157176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the possession of an item</a:t>
            </a:r>
            <a:r>
              <a:rPr b="0" lang="en-GB" sz="2800" spc="-1" strike="noStrike">
                <a:solidFill>
                  <a:srgbClr val="000000"/>
                </a:solidFill>
                <a:latin typeface="Calibri"/>
              </a:rPr>
              <a:t> </a:t>
            </a:r>
            <a:r>
              <a:rPr b="0" lang="en-GB" sz="2000" spc="-1" strike="noStrike">
                <a:solidFill>
                  <a:srgbClr val="000000"/>
                </a:solidFill>
                <a:latin typeface="Calibri"/>
              </a:rPr>
              <a:t>referred to in paragraphs (a)(1) or </a:t>
            </a:r>
            <a:r>
              <a:rPr b="0" lang="en-GB" sz="2000" spc="-1" strike="noStrike">
                <a:solidFill>
                  <a:srgbClr val="000000"/>
                </a:solidFill>
                <a:latin typeface="Calibri"/>
              </a:rPr>
              <a:t>	</a:t>
            </a:r>
            <a:r>
              <a:rPr b="0" lang="en-GB" sz="2000" spc="-1" strike="noStrike">
                <a:solidFill>
                  <a:srgbClr val="000000"/>
                </a:solidFill>
                <a:latin typeface="Calibri"/>
              </a:rPr>
              <a:t>(2) above, </a:t>
            </a:r>
            <a:r>
              <a:rPr b="1" lang="en-GB" sz="2800" spc="-1" strike="noStrike">
                <a:solidFill>
                  <a:srgbClr val="ff0000"/>
                </a:solidFill>
                <a:latin typeface="Calibri"/>
              </a:rPr>
              <a:t>with intent that it be used for the purpose </a:t>
            </a:r>
            <a:r>
              <a:rPr b="1" lang="en-GB" sz="2800" spc="-1" strike="noStrike">
                <a:solidFill>
                  <a:srgbClr val="ff0000"/>
                </a:solidFill>
                <a:latin typeface="Calibri"/>
              </a:rPr>
              <a:t>	</a:t>
            </a:r>
            <a:r>
              <a:rPr b="1" lang="en-GB" sz="2800" spc="-1" strike="noStrike">
                <a:solidFill>
                  <a:srgbClr val="ff0000"/>
                </a:solidFill>
                <a:latin typeface="Calibri"/>
              </a:rPr>
              <a:t>of 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a:t>
            </a:r>
            <a:r>
              <a:rPr b="0" lang="en-GB" sz="2800" spc="-1" strike="noStrike">
                <a:solidFill>
                  <a:srgbClr val="000000"/>
                </a:solidFill>
                <a:latin typeface="Calibri"/>
              </a:rPr>
              <a:t>. </a:t>
            </a:r>
            <a:r>
              <a:rPr b="0" lang="en-GB" sz="2000" spc="-1" strike="noStrike">
                <a:solidFill>
                  <a:srgbClr val="000000"/>
                </a:solidFill>
                <a:latin typeface="Calibri"/>
              </a:rPr>
              <a:t>A Party may require by law that a </a:t>
            </a:r>
            <a:r>
              <a:rPr b="1" lang="en-GB" sz="2800" spc="-1" strike="noStrike">
                <a:solidFill>
                  <a:srgbClr val="ff0000"/>
                </a:solidFill>
                <a:latin typeface="Calibri"/>
              </a:rPr>
              <a:t>number of </a:t>
            </a:r>
            <a:r>
              <a:rPr b="1" lang="en-GB" sz="2800" spc="-1" strike="noStrike">
                <a:solidFill>
                  <a:srgbClr val="ff0000"/>
                </a:solidFill>
                <a:latin typeface="Calibri"/>
              </a:rPr>
              <a:t>	</a:t>
            </a:r>
            <a:r>
              <a:rPr b="1" lang="en-GB" sz="2800" spc="-1" strike="noStrike">
                <a:solidFill>
                  <a:srgbClr val="ff0000"/>
                </a:solidFill>
                <a:latin typeface="Calibri"/>
              </a:rPr>
              <a:t>such items</a:t>
            </a:r>
            <a:r>
              <a:rPr b="0" lang="en-GB" sz="2800" spc="-1" strike="noStrike">
                <a:solidFill>
                  <a:srgbClr val="000000"/>
                </a:solidFill>
                <a:latin typeface="Calibri"/>
              </a:rPr>
              <a:t> </a:t>
            </a:r>
            <a:r>
              <a:rPr b="0" lang="en-GB" sz="2000" spc="-1" strike="noStrike">
                <a:solidFill>
                  <a:srgbClr val="000000"/>
                </a:solidFill>
                <a:latin typeface="Calibri"/>
              </a:rPr>
              <a:t>be possessed before criminal liability attaches.</a:t>
            </a:r>
            <a:endParaRPr b="0" lang="en-US" sz="20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6BF4EB-3912-4800-A3F6-ECD985E298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ession of device, password etc.</a:t>
            </a:r>
            <a:endParaRPr b="0" lang="en-US" sz="4400" spc="-1" strike="noStrike">
              <a:solidFill>
                <a:srgbClr val="000000"/>
              </a:solidFill>
              <a:latin typeface="Calibri"/>
            </a:endParaRPr>
          </a:p>
        </p:txBody>
      </p:sp>
      <p:sp>
        <p:nvSpPr>
          <p:cNvPr id="279" name="PlaceHolder 2"/>
          <p:cNvSpPr>
            <a:spLocks noGrp="1"/>
          </p:cNvSpPr>
          <p:nvPr>
            <p:ph/>
          </p:nvPr>
        </p:nvSpPr>
        <p:spPr>
          <a:xfrm>
            <a:off x="457200" y="1854360"/>
            <a:ext cx="8229600" cy="344304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of items set out in Paragraph 1(a)1 or 1(a)2</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must be with intent to commit an offence under Articles 2 – 5 of the Convention</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through domestic legislation require that a person possess a certain number of items to attract criminal liability</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C9078D-96F1-484E-96F7-DFAF7A3411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mputer-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F1323-36CA-4A25-B9AC-2095C8B330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orgery</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7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orgery of tangible offences</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ap in criminal law as traditional forgery usually requires visual readability of statements or declarations embodied in document</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raditional forgery may not apply to electronic data </a:t>
            </a:r>
            <a:endParaRPr b="0" lang="en-US" sz="28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4DE6B-D24A-4213-8613-12BBAB8F8E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2FC47-3B69-4557-B308-B25C2E165B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9"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GB" sz="3200" spc="-1" strike="noStrike">
                <a:solidFill>
                  <a:srgbClr val="ff0000"/>
                </a:solidFill>
                <a:latin typeface="Calibri"/>
              </a:rPr>
              <a:t>input</a:t>
            </a:r>
            <a:r>
              <a:rPr b="0" lang="en-GB" sz="2600" spc="-1" strike="noStrike">
                <a:solidFill>
                  <a:srgbClr val="000000"/>
                </a:solidFill>
                <a:latin typeface="Calibri"/>
              </a:rPr>
              <a:t>, </a:t>
            </a:r>
            <a:r>
              <a:rPr b="1" lang="en-GB" sz="3200" spc="-1" strike="noStrike">
                <a:solidFill>
                  <a:srgbClr val="ff0000"/>
                </a:solidFill>
                <a:latin typeface="Calibri"/>
              </a:rPr>
              <a:t>alteration</a:t>
            </a:r>
            <a:r>
              <a:rPr b="0" lang="en-GB" sz="2600" spc="-1" strike="noStrike">
                <a:solidFill>
                  <a:srgbClr val="000000"/>
                </a:solidFill>
                <a:latin typeface="Calibri"/>
              </a:rPr>
              <a:t>, </a:t>
            </a:r>
            <a:r>
              <a:rPr b="1" lang="en-GB" sz="3200" spc="-1" strike="noStrike">
                <a:solidFill>
                  <a:srgbClr val="ff0000"/>
                </a:solidFill>
                <a:latin typeface="Calibri"/>
              </a:rPr>
              <a:t>deletion</a:t>
            </a:r>
            <a:r>
              <a:rPr b="0" lang="en-GB" sz="2600" spc="-1" strike="noStrike">
                <a:solidFill>
                  <a:srgbClr val="000000"/>
                </a:solidFill>
                <a:latin typeface="Calibri"/>
              </a:rPr>
              <a:t>, or </a:t>
            </a:r>
            <a:r>
              <a:rPr b="1" lang="en-GB" sz="3200" spc="-1" strike="noStrike">
                <a:solidFill>
                  <a:srgbClr val="ff0000"/>
                </a:solidFill>
                <a:latin typeface="Calibri"/>
              </a:rPr>
              <a:t>suppression</a:t>
            </a:r>
            <a:r>
              <a:rPr b="0" lang="en-GB" sz="3200" spc="-1" strike="noStrike">
                <a:solidFill>
                  <a:srgbClr val="ff0000"/>
                </a:solidFill>
                <a:latin typeface="Calibri"/>
              </a:rPr>
              <a:t> </a:t>
            </a:r>
            <a:r>
              <a:rPr b="1" lang="en-GB" sz="3200" spc="-1" strike="noStrike">
                <a:solidFill>
                  <a:srgbClr val="ff0000"/>
                </a:solidFill>
                <a:latin typeface="Calibri"/>
              </a:rPr>
              <a:t>of computer data</a:t>
            </a:r>
            <a:r>
              <a:rPr b="0" lang="en-GB" sz="2600" spc="-1" strike="noStrike">
                <a:solidFill>
                  <a:srgbClr val="000000"/>
                </a:solidFill>
                <a:latin typeface="Calibri"/>
              </a:rPr>
              <a:t>, </a:t>
            </a:r>
            <a:r>
              <a:rPr b="1" lang="en-GB" sz="3200" spc="-1" strike="noStrike">
                <a:solidFill>
                  <a:srgbClr val="ff0000"/>
                </a:solidFill>
                <a:latin typeface="Calibri"/>
              </a:rPr>
              <a:t>resulting in inauthentic data</a:t>
            </a:r>
            <a:r>
              <a:rPr b="0" lang="en-GB" sz="3200" spc="-1" strike="noStrike">
                <a:solidFill>
                  <a:srgbClr val="000000"/>
                </a:solidFill>
                <a:latin typeface="Calibri"/>
              </a:rPr>
              <a:t> </a:t>
            </a:r>
            <a:r>
              <a:rPr b="0" lang="en-GB" sz="2600" spc="-1" strike="noStrike">
                <a:solidFill>
                  <a:srgbClr val="000000"/>
                </a:solidFill>
                <a:latin typeface="Calibri"/>
              </a:rPr>
              <a:t>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3113D3-5CAB-4919-BBA3-D8D8115B13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put, alteration, deletion or suppression</a:t>
            </a:r>
            <a:endParaRPr b="0" lang="en-US" sz="4400" spc="-1" strike="noStrike">
              <a:solidFill>
                <a:srgbClr val="000000"/>
              </a:solidFill>
              <a:latin typeface="Calibri"/>
            </a:endParaRPr>
          </a:p>
        </p:txBody>
      </p:sp>
      <p:sp>
        <p:nvSpPr>
          <p:cNvPr id="292"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Falsification of genuine document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Input</a:t>
            </a:r>
            <a:r>
              <a:rPr b="0" lang="en-GB" sz="2800" spc="-1" strike="noStrike">
                <a:solidFill>
                  <a:srgbClr val="000000"/>
                </a:solidFill>
                <a:latin typeface="Calibri"/>
                <a:ea typeface="Times New Roman"/>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ubsequent </a:t>
            </a:r>
            <a:r>
              <a:rPr b="1" lang="en-GB" sz="2800" spc="-1" strike="noStrike">
                <a:solidFill>
                  <a:srgbClr val="000000"/>
                </a:solidFill>
                <a:latin typeface="Calibri"/>
                <a:ea typeface="Times New Roman"/>
              </a:rPr>
              <a:t>alteration</a:t>
            </a:r>
            <a:r>
              <a:rPr b="0" lang="en-GB" sz="2800" spc="-1" strike="noStrike">
                <a:solidFill>
                  <a:srgbClr val="000000"/>
                </a:solidFill>
                <a:latin typeface="Calibri"/>
                <a:ea typeface="Times New Roman"/>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Deletion</a:t>
            </a:r>
            <a:r>
              <a:rPr b="0" lang="en-GB" sz="2800" spc="-1" strike="noStrike">
                <a:solidFill>
                  <a:srgbClr val="000000"/>
                </a:solidFill>
                <a:latin typeface="Calibri"/>
                <a:ea typeface="Times New Roman"/>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uppression </a:t>
            </a:r>
            <a:r>
              <a:rPr b="0" lang="en-GB" sz="2800" spc="-1" strike="noStrike">
                <a:solidFill>
                  <a:srgbClr val="000000"/>
                </a:solidFill>
                <a:latin typeface="Calibri"/>
                <a:ea typeface="Times New Roman"/>
              </a:rPr>
              <a:t>(holding back, concealment of data)</a:t>
            </a:r>
            <a:endParaRPr b="0" lang="en-US" sz="28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80F48E-3BE1-4747-8191-1ED8772F81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 </a:t>
            </a:r>
            <a:endParaRPr b="0" lang="en-US" sz="4000" spc="-1" strike="noStrike">
              <a:solidFill>
                <a:srgbClr val="000000"/>
              </a:solidFill>
              <a:latin typeface="Calibri"/>
            </a:endParaRPr>
          </a:p>
        </p:txBody>
      </p:sp>
      <p:sp>
        <p:nvSpPr>
          <p:cNvPr id="295"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a:t>
            </a:r>
            <a:r>
              <a:rPr b="1" lang="en-GB" sz="3200" spc="-1" strike="noStrike">
                <a:solidFill>
                  <a:srgbClr val="ff0000"/>
                </a:solidFill>
                <a:latin typeface="Calibri"/>
              </a:rPr>
              <a:t>intent that it be considered or acted upon for legal purposes as if it were authentic</a:t>
            </a:r>
            <a:r>
              <a:rPr b="0" lang="en-GB" sz="2600" spc="-1" strike="noStrike">
                <a:solidFill>
                  <a:srgbClr val="000000"/>
                </a:solidFill>
                <a:latin typeface="Calibri"/>
              </a:rPr>
              <a:t>, regardless whether or not the data is directly readable and intelligible. A Party may require an </a:t>
            </a:r>
            <a:r>
              <a:rPr b="1" lang="en-GB" sz="3200" spc="-1" strike="noStrike">
                <a:solidFill>
                  <a:srgbClr val="ff0000"/>
                </a:solidFill>
                <a:latin typeface="Calibri"/>
              </a:rPr>
              <a:t>intent to defraud</a:t>
            </a:r>
            <a:r>
              <a:rPr b="0" lang="en-GB" sz="2600" spc="-1" strike="noStrike">
                <a:solidFill>
                  <a:srgbClr val="000000"/>
                </a:solidFill>
                <a:latin typeface="Calibri"/>
              </a:rPr>
              <a:t>, or </a:t>
            </a:r>
            <a:r>
              <a:rPr b="1" lang="en-GB" sz="3200" spc="-1" strike="noStrike">
                <a:solidFill>
                  <a:srgbClr val="ff0000"/>
                </a:solidFill>
                <a:latin typeface="Calibri"/>
              </a:rPr>
              <a:t>similar dishonest intent</a:t>
            </a:r>
            <a:r>
              <a:rPr b="0" lang="en-GB" sz="2600" spc="-1" strike="noStrike">
                <a:solidFill>
                  <a:srgbClr val="000000"/>
                </a:solidFill>
                <a:latin typeface="Calibri"/>
              </a:rPr>
              <a:t>, before criminal liability attaches.</a:t>
            </a:r>
            <a:endParaRPr b="0" lang="en-US" sz="26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3A3C09-FD4C-4CCD-8508-3A62FA4838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nt that it be considered or acted upon for legal purposes</a:t>
            </a:r>
            <a:endParaRPr b="0" lang="en-US" sz="4400" spc="-1" strike="noStrike">
              <a:solidFill>
                <a:srgbClr val="000000"/>
              </a:solidFill>
              <a:latin typeface="Calibri"/>
            </a:endParaRPr>
          </a:p>
        </p:txBody>
      </p:sp>
      <p:sp>
        <p:nvSpPr>
          <p:cNvPr id="298"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ditional intent requireme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for legal purposes” includes legal transactions and documents which are legally releva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further restrict this offence by requiring that the conduct be done with the intent to defraud </a:t>
            </a:r>
            <a:endParaRPr b="0" lang="en-US" sz="2800" spc="-1" strike="noStrike">
              <a:solidFill>
                <a:srgbClr val="000000"/>
              </a:solidFill>
              <a:latin typeface="Calibri"/>
            </a:endParaRPr>
          </a:p>
        </p:txBody>
      </p:sp>
      <p:sp>
        <p:nvSpPr>
          <p:cNvPr id="299"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37B96F-9015-4F3F-9737-97A4C68496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Acces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2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access to the whole or any part of a computer system without right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C77D5-A885-49CA-9E30-DBFD21389C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raud</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8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raud related to tangible offences</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5C58C-67E4-4CB6-AA24-F93989B617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put, alteration, deletion or suppression of computer data,</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 the intent of procuring, without right, an economic benefit for oneself or for anothe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447EB9-E14E-454B-BE86-4E6533703D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put</a:t>
            </a:r>
            <a:r>
              <a:rPr b="0" lang="en-GB" sz="3200" spc="-1" strike="noStrike">
                <a:solidFill>
                  <a:srgbClr val="000000"/>
                </a:solidFill>
                <a:latin typeface="Calibri"/>
              </a:rPr>
              <a:t>, </a:t>
            </a:r>
            <a:r>
              <a:rPr b="1" lang="en-GB" sz="3200" spc="-1" strike="noStrike">
                <a:solidFill>
                  <a:srgbClr val="ff0000"/>
                </a:solidFill>
                <a:latin typeface="Calibri"/>
              </a:rPr>
              <a:t>alteration</a:t>
            </a:r>
            <a:r>
              <a:rPr b="0" lang="en-GB" sz="3200" spc="-1" strike="noStrike">
                <a:solidFill>
                  <a:srgbClr val="000000"/>
                </a:solidFill>
                <a:latin typeface="Calibri"/>
              </a:rPr>
              <a:t>, </a:t>
            </a:r>
            <a:r>
              <a:rPr b="1" lang="en-GB" sz="3200" spc="-1" strike="noStrike">
                <a:solidFill>
                  <a:srgbClr val="ff0000"/>
                </a:solidFill>
                <a:latin typeface="Calibri"/>
              </a:rPr>
              <a:t>deletion</a:t>
            </a:r>
            <a:r>
              <a:rPr b="0" lang="en-GB" sz="3200" spc="-1" strike="noStrike">
                <a:solidFill>
                  <a:srgbClr val="ff0000"/>
                </a:solidFill>
                <a:latin typeface="Calibri"/>
              </a:rPr>
              <a:t> </a:t>
            </a:r>
            <a:r>
              <a:rPr b="0" lang="en-GB" sz="2800" spc="-1" strike="noStrike">
                <a:solidFill>
                  <a:srgbClr val="000000"/>
                </a:solidFill>
                <a:latin typeface="Calibri"/>
              </a:rPr>
              <a:t>or </a:t>
            </a:r>
            <a:r>
              <a:rPr b="1" lang="en-GB" sz="3200" spc="-1" strike="noStrike">
                <a:solidFill>
                  <a:srgbClr val="ff0000"/>
                </a:solidFill>
                <a:latin typeface="Calibri"/>
              </a:rPr>
              <a:t>suppression</a:t>
            </a:r>
            <a:r>
              <a:rPr b="0" lang="en-GB" sz="3200" spc="-1" strike="noStrike">
                <a:solidFill>
                  <a:srgbClr val="ff0000"/>
                </a:solidFill>
                <a:latin typeface="Calibri"/>
              </a:rPr>
              <a:t> </a:t>
            </a:r>
            <a:r>
              <a:rPr b="0" lang="en-GB" sz="3200" spc="-1" strike="noStrike">
                <a:solidFill>
                  <a:srgbClr val="ff0000"/>
                </a:solidFill>
                <a:latin typeface="Calibri"/>
              </a:rPr>
              <a:t>	</a:t>
            </a:r>
            <a:r>
              <a:rPr b="0" lang="en-GB" sz="2800" spc="-1" strike="noStrike">
                <a:solidFill>
                  <a:srgbClr val="000000"/>
                </a:solidFill>
                <a:latin typeface="Calibri"/>
              </a:rPr>
              <a:t>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terference with the functioning</a:t>
            </a:r>
            <a:r>
              <a:rPr b="0" lang="en-GB" sz="3200" spc="-1" strike="noStrike">
                <a:solidFill>
                  <a:srgbClr val="000000"/>
                </a:solidFill>
                <a:latin typeface="Calibri"/>
              </a:rPr>
              <a:t> </a:t>
            </a:r>
            <a:r>
              <a:rPr b="0" lang="en-GB" sz="2800" spc="-1" strike="noStrike">
                <a:solidFill>
                  <a:srgbClr val="000000"/>
                </a:solidFill>
                <a:latin typeface="Calibri"/>
              </a:rPr>
              <a:t>of a </a:t>
            </a:r>
            <a:r>
              <a:rPr b="0" lang="en-GB" sz="2800" spc="-1" strike="noStrike">
                <a:solidFill>
                  <a:srgbClr val="000000"/>
                </a:solidFill>
                <a:latin typeface="Calibri"/>
              </a:rPr>
              <a:t>	</a:t>
            </a:r>
            <a:r>
              <a:rPr b="0" lang="en-GB" sz="2800" spc="-1" strike="noStrike">
                <a:solidFill>
                  <a:srgbClr val="000000"/>
                </a:solidFill>
                <a:latin typeface="Calibri"/>
              </a:rPr>
              <a:t>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057A04-2DBB-4C13-A13C-DE1F498DF9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put, alteration, deletion, suppression &amp; interference</a:t>
            </a:r>
            <a:endParaRPr b="0" lang="en-US" sz="4400" spc="-1" strike="noStrike">
              <a:solidFill>
                <a:srgbClr val="000000"/>
              </a:solidFill>
              <a:latin typeface="Calibri"/>
            </a:endParaRPr>
          </a:p>
        </p:txBody>
      </p:sp>
      <p:sp>
        <p:nvSpPr>
          <p:cNvPr id="309"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ing loss to property of another person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put</a:t>
            </a:r>
            <a:r>
              <a:rPr b="0" lang="en-GB" sz="2800" spc="-1" strike="noStrike">
                <a:solidFill>
                  <a:srgbClr val="000000"/>
                </a:solidFill>
                <a:latin typeface="Calibri"/>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ubsequent </a:t>
            </a:r>
            <a:r>
              <a:rPr b="1" lang="en-GB" sz="2800" spc="-1" strike="noStrike">
                <a:solidFill>
                  <a:srgbClr val="000000"/>
                </a:solidFill>
                <a:latin typeface="Calibri"/>
              </a:rPr>
              <a:t>alteration</a:t>
            </a:r>
            <a:r>
              <a:rPr b="0" lang="en-GB" sz="2800" spc="-1" strike="noStrike">
                <a:solidFill>
                  <a:srgbClr val="000000"/>
                </a:solidFill>
                <a:latin typeface="Calibri"/>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letion</a:t>
            </a:r>
            <a:r>
              <a:rPr b="0" lang="en-GB" sz="2800" spc="-1" strike="noStrike">
                <a:solidFill>
                  <a:srgbClr val="000000"/>
                </a:solidFill>
                <a:latin typeface="Calibri"/>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uppression </a:t>
            </a:r>
            <a:r>
              <a:rPr b="0" lang="en-GB" sz="2800" spc="-1" strike="noStrike">
                <a:solidFill>
                  <a:srgbClr val="000000"/>
                </a:solidFill>
                <a:latin typeface="Calibri"/>
              </a:rPr>
              <a:t>(holding back, concealment of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terference </a:t>
            </a:r>
            <a:r>
              <a:rPr b="0" lang="en-GB" sz="2800" spc="-1" strike="noStrike">
                <a:solidFill>
                  <a:srgbClr val="000000"/>
                </a:solidFill>
                <a:latin typeface="Calibri"/>
              </a:rPr>
              <a:t>(with functioning of computer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A604EB-4AB6-4241-A306-07E8DD62A3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a:t>
            </a:r>
            <a:r>
              <a:rPr b="0" lang="en-GB" sz="2800" spc="-1" strike="noStrike">
                <a:solidFill>
                  <a:srgbClr val="ff0000"/>
                </a:solidFill>
                <a:latin typeface="Calibri"/>
              </a:rPr>
              <a:t> </a:t>
            </a:r>
            <a:r>
              <a:rPr b="1" lang="en-GB" sz="2800" spc="-1" strike="noStrike">
                <a:solidFill>
                  <a:srgbClr val="ff0000"/>
                </a:solidFill>
                <a:latin typeface="Calibri"/>
              </a:rPr>
              <a:t>loss of property </a:t>
            </a:r>
            <a:r>
              <a:rPr b="0" lang="en-GB" sz="2800" spc="-1" strike="noStrike">
                <a:solidFill>
                  <a:srgbClr val="000000"/>
                </a:solidFill>
                <a:latin typeface="Calibri"/>
              </a:rPr>
              <a:t>to</a:t>
            </a:r>
            <a:r>
              <a:rPr b="1" lang="en-GB" sz="2800" spc="-1" strike="noStrike">
                <a:solidFill>
                  <a:srgbClr val="000000"/>
                </a:solidFill>
                <a:latin typeface="Calibri"/>
              </a:rPr>
              <a:t> </a:t>
            </a:r>
            <a:r>
              <a:rPr b="0" lang="en-GB" sz="2800" spc="-1" strike="noStrike">
                <a:solidFill>
                  <a:srgbClr val="000000"/>
                </a:solidFill>
                <a:latin typeface="Calibri"/>
              </a:rPr>
              <a:t>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 any input, alteration, deletion or suppression 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 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BA14527-ABEF-4441-B916-C2E7E7511A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oss of property</a:t>
            </a:r>
            <a:endParaRPr b="0" lang="en-US" sz="4400" spc="-1" strike="noStrike">
              <a:solidFill>
                <a:srgbClr val="000000"/>
              </a:solidFill>
              <a:latin typeface="Calibri"/>
            </a:endParaRPr>
          </a:p>
        </p:txBody>
      </p:sp>
      <p:sp>
        <p:nvSpPr>
          <p:cNvPr id="315" name=""/>
          <p:cNvSpPr txBox="1"/>
          <p:nvPr/>
        </p:nvSpPr>
        <p:spPr>
          <a:xfrm>
            <a:off x="457200" y="1671120"/>
            <a:ext cx="8229600" cy="452628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produce direct economic or possessory loss of another person’s property</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des loss of:</a:t>
            </a:r>
            <a:endParaRPr b="0" lang="en-US" sz="30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ney</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ibles</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ibles with an economic value</a:t>
            </a:r>
            <a:endParaRPr b="0" lang="en-US" sz="28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also be committed by the perpetrator with the intent of procuring unlawful gain for himself or for another person</a:t>
            </a:r>
            <a:endParaRPr b="0" lang="en-US" sz="3000" spc="-1" strike="noStrike">
              <a:solidFill>
                <a:srgbClr val="000000"/>
              </a:solidFill>
              <a:latin typeface="Calibri"/>
            </a:endParaRPr>
          </a:p>
        </p:txBody>
      </p:sp>
      <p:sp>
        <p:nvSpPr>
          <p:cNvPr id="3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C6BA68-1609-4563-94F2-054558736E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ntent-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62934-F0FC-42C9-89ED-3FC0CB8B11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hild Pornography</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9 – Budapest Convention)</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reat innovation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iminalisation of child pornography acts, committed by the means of a computer system</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mportant aspects: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Criminalisation of “pseudo images”;</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Punishment of the mere possession of child pornography materials </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Not covered by many of the legislations</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Very common approach from all the international fora  (eg. UN)</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European Union </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Enfaces the mere possession of child pornography materials</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Directive 2011/92/EU, from the European Parliament and the Council</a:t>
            </a:r>
            <a:endParaRPr b="0" lang="en-US" sz="16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7F0E6-FB5E-4BF3-959C-2A11BB426E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2" name="PlaceHolder 2"/>
          <p:cNvSpPr>
            <a:spLocks noGrp="1"/>
          </p:cNvSpPr>
          <p:nvPr>
            <p:ph/>
          </p:nvPr>
        </p:nvSpPr>
        <p:spPr>
          <a:xfrm>
            <a:off x="457200" y="1643040"/>
            <a:ext cx="8229600" cy="4378320"/>
          </a:xfrm>
          <a:prstGeom prst="rect">
            <a:avLst/>
          </a:prstGeom>
          <a:noFill/>
          <a:ln w="0">
            <a:noFill/>
          </a:ln>
        </p:spPr>
        <p:txBody>
          <a:bodyPr anchor="t">
            <a:normAutofit fontScale="92000"/>
          </a:bodyPr>
          <a:p>
            <a:pPr marL="420480" indent="-420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88400" indent="-42048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E6582-F0C6-4E3C-8300-94E1D47685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5" name="PlaceHolder 2"/>
          <p:cNvSpPr>
            <a:spLocks noGrp="1"/>
          </p:cNvSpPr>
          <p:nvPr>
            <p:ph/>
          </p:nvPr>
        </p:nvSpPr>
        <p:spPr>
          <a:xfrm>
            <a:off x="457200" y="1670040"/>
            <a:ext cx="8229600" cy="4525920"/>
          </a:xfrm>
          <a:prstGeom prst="rect">
            <a:avLst/>
          </a:prstGeom>
          <a:noFill/>
          <a:ln w="0">
            <a:noFill/>
          </a:ln>
        </p:spPr>
        <p:txBody>
          <a:bodyPr anchor="t">
            <a:normAutofit fontScale="97000"/>
          </a:bodyPr>
          <a:p>
            <a:pPr marL="443160" indent="-443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
        <p:nvSpPr>
          <p:cNvPr id="3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4EC88-6679-4026-8DB4-2524FC1BA0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2" name="PlaceHolder 2"/>
          <p:cNvSpPr>
            <a:spLocks noGrp="1"/>
          </p:cNvSpPr>
          <p:nvPr>
            <p:ph/>
          </p:nvPr>
        </p:nvSpPr>
        <p:spPr>
          <a:xfrm>
            <a:off x="457200" y="1810800"/>
            <a:ext cx="8229600" cy="391500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199B3-795F-4E51-BACE-1F5190335B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6D0FCB-15CE-4451-9639-F1087C2752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9"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a:t>
            </a:r>
            <a:r>
              <a:rPr b="1" lang="en-GB" sz="2800" spc="-1" strike="noStrike">
                <a:solidFill>
                  <a:srgbClr val="ff0000"/>
                </a:solidFill>
                <a:latin typeface="Calibri"/>
                <a:ea typeface="Times New Roman"/>
              </a:rPr>
              <a:t>without righ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331" name=""/>
          <p:cNvSpPr txBox="1"/>
          <p:nvPr/>
        </p:nvSpPr>
        <p:spPr>
          <a:xfrm>
            <a:off x="457200" y="165744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lows party to take into account fundamental rights including:</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express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thought</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ight to privacy</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y may allow defence in respect of conduct related to “pornographic material” having artistic, medical, scientific or similar meri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8FAB46-AE3F-45D8-BF25-08A0ED4C90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F95B42-A084-4848-ABF7-171EED0EF1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5"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duc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offer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making available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cing, offering and making available</a:t>
            </a:r>
            <a:endParaRPr b="0" lang="en-US" sz="4400" spc="-1" strike="noStrike">
              <a:solidFill>
                <a:srgbClr val="000000"/>
              </a:solidFill>
              <a:latin typeface="Calibri"/>
            </a:endParaRPr>
          </a:p>
        </p:txBody>
      </p:sp>
      <p:sp>
        <p:nvSpPr>
          <p:cNvPr id="337"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 consequences attached to each participant in chain from production to possession of child pornography</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production of child pornography (for the purpose of distribution by means of computer system)</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fering child pornography (soliciting others to obtain child pornography)</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king available child pornography (placing of child pornography on line for the use of others, including by making child pornography websites)</a:t>
            </a:r>
            <a:endParaRPr b="0" lang="en-US" sz="2400" spc="-1" strike="noStrike">
              <a:solidFill>
                <a:srgbClr val="000000"/>
              </a:solidFill>
              <a:latin typeface="Calibri"/>
            </a:endParaRPr>
          </a:p>
        </p:txBody>
      </p:sp>
      <p:sp>
        <p:nvSpPr>
          <p:cNvPr id="3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D046BA-599C-4A8E-A872-AFDC319460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B61106-8B09-4F83-A96C-77D7EBE0D9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1" name=""/>
          <p:cNvSpPr txBox="1"/>
          <p:nvPr/>
        </p:nvSpPr>
        <p:spPr>
          <a:xfrm>
            <a:off x="457200" y="151596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a:t>
            </a:r>
            <a:r>
              <a:rPr b="1" lang="en-GB" sz="2800" spc="-1" strike="noStrike">
                <a:solidFill>
                  <a:srgbClr val="ff0000"/>
                </a:solidFill>
                <a:latin typeface="Calibri"/>
                <a:ea typeface="Times New Roman"/>
              </a:rPr>
              <a: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distribu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transmit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cur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ossess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ting, transmitting, procuring and possessing</a:t>
            </a:r>
            <a:endParaRPr b="0" lang="en-US" sz="4400" spc="-1" strike="noStrike">
              <a:solidFill>
                <a:srgbClr val="000000"/>
              </a:solidFill>
              <a:latin typeface="Calibri"/>
            </a:endParaRPr>
          </a:p>
        </p:txBody>
      </p:sp>
      <p:sp>
        <p:nvSpPr>
          <p:cNvPr id="343"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f child pornography (active dissemination of child pornography)</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sion of child pornography (sending child pornography through computer syst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ing child pornography for oneself or another (actively obtaining child pornography, including by downloading 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session of child pornography (possession in computer system or data carrier)</a:t>
            </a:r>
            <a:endParaRPr b="0" lang="en-US" sz="2400" spc="-1" strike="noStrike">
              <a:solidFill>
                <a:srgbClr val="000000"/>
              </a:solidFill>
              <a:latin typeface="Calibri"/>
            </a:endParaRPr>
          </a:p>
        </p:txBody>
      </p:sp>
      <p:sp>
        <p:nvSpPr>
          <p:cNvPr id="3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565611F-FE4A-46EB-9E32-BB9DB8AB59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C0FBE61-807B-4A17-A119-F967ABBC6B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7" name=""/>
          <p:cNvSpPr txBox="1"/>
          <p:nvPr/>
        </p:nvSpPr>
        <p:spPr>
          <a:xfrm>
            <a:off x="288720" y="1754280"/>
            <a:ext cx="860076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a:t>
            </a:r>
            <a:r>
              <a:rPr b="1" lang="en-GB" sz="3200" spc="-1" strike="noStrike">
                <a:solidFill>
                  <a:srgbClr val="ff0000"/>
                </a:solidFill>
                <a:latin typeface="Calibri"/>
              </a:rPr>
              <a:t>pornographic material that visually 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phic material </a:t>
            </a:r>
            <a:endParaRPr b="0" lang="en-US" sz="4400" spc="-1" strike="noStrike">
              <a:solidFill>
                <a:srgbClr val="000000"/>
              </a:solidFill>
              <a:latin typeface="Calibri"/>
            </a:endParaRPr>
          </a:p>
        </p:txBody>
      </p:sp>
      <p:sp>
        <p:nvSpPr>
          <p:cNvPr id="349"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verned by national standards pertaining to classification of materials as:</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 with public morals; or</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milarly corrupt</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ls having artistic, medical, scientific or similar merit may not be classified as pornographic</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isual depiction includes data stored on computer system or storage medium which is capable of conversion into visual image</a:t>
            </a:r>
            <a:endParaRPr b="0" lang="en-US" sz="2800" spc="-1" strike="noStrike">
              <a:solidFill>
                <a:srgbClr val="000000"/>
              </a:solidFill>
              <a:latin typeface="Calibri"/>
            </a:endParaRPr>
          </a:p>
        </p:txBody>
      </p:sp>
      <p:sp>
        <p:nvSpPr>
          <p:cNvPr id="3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DD271B-14DF-4292-85AD-DD6D97886D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8B3A20-FC65-4CAF-A41A-312EDAC0EF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3" name=""/>
          <p:cNvSpPr txBox="1"/>
          <p:nvPr/>
        </p:nvSpPr>
        <p:spPr>
          <a:xfrm>
            <a:off x="457200" y="16146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a:t>
            </a:r>
            <a:r>
              <a:rPr b="1" lang="en-GB" sz="2800" spc="-1" strike="noStrike">
                <a:solidFill>
                  <a:srgbClr val="ff0000"/>
                </a:solidFill>
                <a:latin typeface="Calibri"/>
              </a:rPr>
              <a:t>sexually explicit conduct</a:t>
            </a:r>
            <a:r>
              <a:rPr b="0" lang="en-GB" sz="2000" spc="-1" strike="noStrike">
                <a:solidFill>
                  <a:srgbClr val="000000"/>
                </a:solidFill>
                <a:latin typeface="Calibri"/>
              </a:rPr>
              <a: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xually explicit conduct</a:t>
            </a:r>
            <a:endParaRPr b="0" lang="en-US" sz="4400" spc="-1" strike="noStrike">
              <a:solidFill>
                <a:srgbClr val="000000"/>
              </a:solidFill>
              <a:latin typeface="Calibri"/>
            </a:endParaRPr>
          </a:p>
        </p:txBody>
      </p:sp>
      <p:sp>
        <p:nvSpPr>
          <p:cNvPr id="355"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vers at least:</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xual intercourse including genital-genital, oral-genital, anal-genital or oral-anal between minors, or between an adult and a minor, of the same or opposite sex;</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ty;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tion;</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distic or masochistic abuse in sexual conduct; or</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scivious exhibition of genitals or pubic area of mi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y may use broader definition of sexually explicit conduct</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t relevant whether conduct is real or simulated</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3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9E1493-E8C6-4FF1-A3A7-D49D9B05FB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UREANU Georgeta</cp:lastModifiedBy>
  <dcterms:modified xsi:type="dcterms:W3CDTF">2017-09-06T14:25:52Z</dcterms:modified>
  <cp:revision>251</cp:revision>
  <dc:subject/>
  <dc:title>Introductory Cybercrime Training for Judges and Prosecutors</dc:title>
</cp:coreProperties>
</file>