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B84-DF87-4C6A-855A-905EEBE4F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7D59-800C-420E-899F-801004AEA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E1C3-B2C7-42A8-895F-1DB919B28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BED-5A01-42D7-B50B-CB368151C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1423-B975-4913-9C0D-66870819E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2185-5B50-4119-BA1C-8F497844D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5DD-1B87-49DE-BF4C-A2F771A28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8B8D-438D-4778-968C-7EB0FBD97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94AB-BFE2-4FD7-8D25-FCFA96308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657B-5258-4805-AD49-B291EBF83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965A-D92B-4456-8270-8EAD6FE4F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18BA-5E39-44DD-AB65-A17B4FA49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A16-0868-42BB-AAE9-D4F0049CE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BD1-4A7C-43A4-9B68-E842325BE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1F84-3AE3-4D59-B17F-034A25CA5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FCB-4E01-4B8F-AFF4-1D6F9AC9A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BF8-46CF-4010-A8EC-7E6FF4EB4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C24F-0A2A-449D-B7AC-A4203B8A4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BB76-8F81-401C-9077-C53715199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322D-D52B-4C68-9579-48525462C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820-9E09-414E-8FB6-2AA59DFEF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ECC-8EC2-4A65-A6A3-7DF923958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F91-F792-4A3B-8DA3-3FF4D138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092-262C-4913-A18B-BAF07ED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BC3-359F-4578-AE29-BD66A787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677-A257-430D-B206-6FBABEC8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96F-86A9-4E51-B445-364B2E28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FAF-708A-41F3-902E-6468613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7D8-4A13-436E-AC1C-9809B5A0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A27-6770-4593-8BDD-A2965BC8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EF6-C934-40B2-89C4-A9CA09E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218-246C-4A94-882E-A1F700E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45E-34AB-420F-A722-1676EE4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2AA-3092-4562-B61B-498E2201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558F-5264-4BF5-A348-08AA0B08E5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21Z</dcterms:modified>
  <cp:revision>313</cp:revision>
  <dc:subject/>
  <dc:title>PowerPoint Presentation</dc:title>
</cp:coreProperties>
</file>