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B9E0-9DB5-4672-A922-CEB7EAB27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E459-8134-4807-ADE3-F4901D15C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BEE9-B5FE-49A2-8DAB-78F51DB3F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99D5-A318-435E-8383-2AC134482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71BC-C379-41F5-B512-A779A7E84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75CB-2278-40F8-B1D8-C2EEF4B5A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D0B6-FB2D-4832-968C-F1B02BD7E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0CA3-1A2F-4384-8863-12F81E100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DD6B-0C21-45E8-A210-795317C6E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F684-A797-4DB0-9DAA-8FB76EF63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9625-C232-4DEC-8943-3DDD92877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D81D-8BE0-464A-820B-FA129EC99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91FF-72D6-4DBD-99C0-4AA863F89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1D33-6B84-457C-99D1-93392BA96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DF51-E8B3-466B-B027-997106B00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5C4C-C48B-4E76-B8CE-C4045D4E88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7B10-6746-4979-BA40-449C59C6C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9FFD-E1C2-4370-B5E4-15D5D9430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7A20-F675-4C3A-B165-8237E8614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136C-B3EE-46C9-B823-4315350CA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D1F3-D531-409D-B9EB-EC0C017C3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D870-980F-48A5-A495-F0A7C6A98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7321-F58C-4C0F-8926-73A26FA10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4D97-61F8-402B-9009-019D7F8C3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EBFC-F016-4EC8-8FDF-C310F3AFC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B72B-5666-4B44-A6B5-CF93E0114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250B-F1FD-4FAB-9EB1-AFF9E94A0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0A88-9408-4930-A423-5D38CFFE1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BAE-F709-4B46-977F-504F73BB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207-948D-4DAD-9B5F-C37B03CE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451-16B5-419C-8DF6-93118F68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C59-A6A2-457D-9C17-D17F8F2C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68E-A92B-4338-93DE-5C2AE761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C74-0A0A-4A2F-9D3B-FF2B01A6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0A1-0C17-4719-86DE-8606D457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A23-CCA2-44F1-A4FB-EBF805CD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34F-A1BC-42A1-B6DB-F051FCB2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FAA-1856-4332-84AA-FB9DE9D2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CC3-D778-4C34-B29E-38A35E3A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57C-3A88-4FE7-AFE2-4C1CDCB2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DFB4-80BA-4361-86B8-8047AD70855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4.2/Hou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of various types are used by criminals to make crime proceeds more difficult to tr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can be performed using bank accounts, e-currency, Internet payment services, money remittance servic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hallenges arise to the investigation, search, seizure and confiscation of criminal funds when the funds have been transferred international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gains control of (for example) compromised customer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transferred to mules in same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es transfer funds by international bank transfer to a natural or legal person in a different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virtual currencies and e-money do you know ab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rtu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virtual currency is a digital representation of value that can be traded on the Internet and functions as (1) a medium of exchange; (2) a unit of account; and/or (3) a store of value, but does not have legal tender status in any jurisdi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ctronic Money/e-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al currency is distinct from e-money, which is a digital representation of fiat currency used to electronically transfer value denominated in fiat currency. E-money is a digital transfer mechanism for fiat currency – i.e. it electronically transfers value that has legal tender stat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it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gital currency is a digital representation of either virtual currency (non-fiat) or e-money (fia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 is the significance of the expression “digital representation” in the above defini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tegorising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convertible virtual currency has an equivalent value in real currency and can be exchanged back-and-forth for real currency. Examples: Bitcoin, Second Life Linden Dollars, WebMone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n-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A non-convertible virtual currency is intended to be specific to a particular virtual domain or world, and under the rules governing its use cannot be exchanged for fiat currency. Examples: Q Coins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Centralised virtual currencies have a single administrating authority (i.e. a third party) that controls the system. The administrator issues the currency, establishes the rules for its use, maintains a central payment ledger and has authority to redeem the currency. Examples: Linden Dollars, WebMoney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ecentralised virtual currencies are distributed, math-based, peer-to-peer virtual currencies that have no central administrating authority, no central monitoring and no oversight. Examples: Bitcoin, LiteCoin, Ripp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is a convertible, decentralised virtual currenc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take place between users without an intermedia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are verified using a public distributed ledger, called the blockchai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mining is the process by which users offer their computing power to verify and record bitcoin transactions into the blockchain. For this, the users receive a reward in newly created bitcoi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transaction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ly instantaneous transactions (approx 10 mins until transaction is confirme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take place between anonymous IDs (wallet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(or zero) transaction f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are not rever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6"/>
          <p:cNvSpPr/>
          <p:nvPr/>
        </p:nvSpPr>
        <p:spPr>
          <a:xfrm>
            <a:off x="685800" y="345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stomer 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565240" y="353232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itcoin Wal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3433680" y="505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&amp;C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9"/>
          <p:cNvSpPr/>
          <p:nvPr/>
        </p:nvSpPr>
        <p:spPr>
          <a:xfrm>
            <a:off x="7548120" y="6199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849760" y="60976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rim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inal Use of Virtual Currency: 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Eco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Ex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Administ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r/Ow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Wall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llet Provi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ch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ities (software developers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 between Virtual Currencies and the Traditional Financia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ly obtained funds are converted to virtual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criminal services are paid for in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funds are extorted from victims in the form of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virtual currency is traded or exchanged for fiat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the inconsistent regulation of virtual currencies, virtual currency exchanges in all jurisdictions may not have adequate customer records and/or reporting obliga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Virtual Curr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ey mules are an essential component of many online laundering sche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les are recruited through a variety of techniques, which can be broadly categorised in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ing mules, who are recruited knowing in advance that they are participating in illegal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willing mules, who are recruited through deceptive means, such as through a fake job off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lling vs unwill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are recruited either willingly or unwilling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into the mule’s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then either withdraws the funds as cash or transfers the funds to another account (or abroa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retains a commi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alue of arresting/charg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m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5:22:32Z</dcterms:modified>
  <cp:revision>343</cp:revision>
  <dc:subject/>
  <dc:title>PowerPoint Presentation</dc:title>
</cp:coreProperties>
</file>