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9874250" cy="6724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874800" cy="672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592240" y="-36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255840" y="504360"/>
            <a:ext cx="3362400" cy="252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638604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592240" y="638604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74EA6-D36D-4D15-AF58-CD71B877BD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FD96C-3DD8-428D-9142-E1E412BC71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E13FD-AFB5-4FC9-AB5A-D1CAA5F829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84EFE-595A-495A-A64F-BFAEFA0679A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3255840" y="506520"/>
            <a:ext cx="3357720" cy="2517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1316160" y="3193560"/>
            <a:ext cx="7238880" cy="302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21C83-9EE8-4763-8E7C-F9B1D11BAC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B59F2-8409-47E8-ACBC-E3C7338806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364B1-A7E5-4BDF-849B-808AF37ABE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BF7AD-DEDB-4A15-9738-7083C2124C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1A1F6-CE79-48DE-A40F-DB89C55312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F5912-2DA8-47C6-B204-51D2E2CB01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DBFD9-4EBB-4C91-A224-4A24963AE6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B6985-B35C-4EE7-8954-C7CB8DBF98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CC978-FE26-4668-93FA-949D833BB4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27D7E-8D37-4641-B5FB-9D3F2BD71B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BD814-EDEB-4DFB-A87B-9DFB229685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F03AE-EFCD-43D1-B36A-9B3B34B983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03767-5208-4AA0-A2E6-FA45B1063C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669F-E897-4B11-A0BF-0A9A447B25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DD946-591C-4537-8593-8091BE9B65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4F36D-F0C5-4745-A2B2-1251D15B56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DFD31-7CF3-4268-B52C-A31D4B69C1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75080-0D6F-4839-BB15-C5B54F5AB5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4B944-EE52-44D3-A1F0-C98DF22840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4D70A-A2C6-4E18-9204-F22C52A936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F40C5-70AC-4367-8D75-56F76CFC5F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209F6-4192-4267-BC2B-5E43D02EAB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B41F2-B90F-4E58-8E91-6A2A148D1C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3E4DD-08EC-496E-A56F-4B60496807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D36C7-7997-456E-BB17-0F3BF9069B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015E5-C3A4-45F4-A7EB-4EB3D2CEE7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3058-2B02-4BFF-BA89-9B3BF75F8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4616-6B5D-42B3-8AAD-437635680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0DDC-EA2B-49AC-9509-920611CFD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FA44-C167-4CBC-82B3-2041FA5BE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F6C4-7839-467A-8E40-4E7699232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99BE-65CC-4276-8EC2-D11A16E19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D24B-EE17-42A6-81CE-EF91C281C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1164-6FB9-4CD3-894E-7E6147631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F65E-ACB4-483A-8382-39F8AC043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6B0E-458E-48D0-AE87-E4F7A816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8966-CC8A-4CBE-A1BA-B92C23F6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17D9-F6DD-4EE4-B0B4-87BC0B10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1E78B-D836-4784-A3BA-911DA3EFD68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4" descr=""/>
          <p:cNvPicPr/>
          <p:nvPr/>
        </p:nvPicPr>
        <p:blipFill>
          <a:blip r:embed="rId2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7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3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0" y="6813720"/>
            <a:ext cx="9180360" cy="58680"/>
          </a:xfrm>
          <a:prstGeom prst="rect">
            <a:avLst/>
          </a:prstGeom>
          <a:gradFill rotWithShape="0">
            <a:gsLst>
              <a:gs pos="0">
                <a:srgbClr val="286196"/>
              </a:gs>
              <a:gs pos="100000">
                <a:srgbClr val="1335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-36360" y="6669000"/>
            <a:ext cx="9180360" cy="239760"/>
          </a:xfrm>
          <a:prstGeom prst="rect">
            <a:avLst/>
          </a:prstGeom>
          <a:gradFill rotWithShape="0">
            <a:gsLst>
              <a:gs pos="0">
                <a:srgbClr val="286196"/>
              </a:gs>
              <a:gs pos="100000">
                <a:srgbClr val="1335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2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ying Suspects on the Inter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ssion 1.1.4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: Email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mail is not sent directly from one person to another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ather, a technique known as “store and forward” is used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cords of the storing and forwarding of a particular email message are associated with that messag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ach person has an incoming and an outgoing mail server and email is sent and delivered as shown on the next slid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: Email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ail is not sent directly from one person to anoth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ther, a technique known as “store and forward” is use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person has an incoming and an outgoing mail server and email is sent and delivered as shown on the next sli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Line 2"/>
          <p:cNvSpPr/>
          <p:nvPr/>
        </p:nvSpPr>
        <p:spPr>
          <a:xfrm>
            <a:off x="6877080" y="4076640"/>
            <a:ext cx="574560" cy="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Line 3"/>
          <p:cNvSpPr/>
          <p:nvPr/>
        </p:nvSpPr>
        <p:spPr>
          <a:xfrm flipV="1">
            <a:off x="1332000" y="4365360"/>
            <a:ext cx="934920" cy="86364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Line 4"/>
          <p:cNvSpPr/>
          <p:nvPr/>
        </p:nvSpPr>
        <p:spPr>
          <a:xfrm flipV="1">
            <a:off x="2700360" y="3141360"/>
            <a:ext cx="792000" cy="64620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Line 5"/>
          <p:cNvSpPr/>
          <p:nvPr/>
        </p:nvSpPr>
        <p:spPr>
          <a:xfrm>
            <a:off x="5219640" y="2924280"/>
            <a:ext cx="863640" cy="79380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Line 6"/>
          <p:cNvSpPr/>
          <p:nvPr/>
        </p:nvSpPr>
        <p:spPr>
          <a:xfrm>
            <a:off x="7885080" y="4365720"/>
            <a:ext cx="0" cy="64764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95280" y="3645000"/>
            <a:ext cx="100800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OP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Cloud"/>
          <p:cNvSpPr/>
          <p:nvPr/>
        </p:nvSpPr>
        <p:spPr>
          <a:xfrm>
            <a:off x="2916360" y="1197000"/>
            <a:ext cx="3168360" cy="21240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  <a:ea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computr2"/>
          <p:cNvSpPr/>
          <p:nvPr/>
        </p:nvSpPr>
        <p:spPr>
          <a:xfrm>
            <a:off x="539640" y="5013360"/>
            <a:ext cx="1800360" cy="1512720"/>
          </a:xfrm>
          <a:custGeom>
            <a:avLst/>
            <a:gdLst>
              <a:gd name="textAreaLeft" fmla="*/ 516240 w 1800360"/>
              <a:gd name="textAreaRight" fmla="*/ 1297440 w 1800360"/>
              <a:gd name="textAreaTop" fmla="*/ 133920 h 1512720"/>
              <a:gd name="textAreaBottom" fmla="*/ 682560 h 1512720"/>
            </a:gdLst>
            <a:ahLst/>
            <a:rect l="textAreaLeft" t="textAreaTop" r="textAreaRight" b="textAreaBottom"/>
            <a:pathLst>
              <a:path w="21600" h="21600">
                <a:moveTo>
                  <a:pt x="21022" y="20295"/>
                </a:moveTo>
                <a:lnTo>
                  <a:pt x="18828" y="18396"/>
                </a:lnTo>
                <a:lnTo>
                  <a:pt x="18828" y="13174"/>
                </a:lnTo>
                <a:lnTo>
                  <a:pt x="15478" y="13174"/>
                </a:lnTo>
                <a:lnTo>
                  <a:pt x="15478" y="11631"/>
                </a:lnTo>
                <a:lnTo>
                  <a:pt x="17326" y="11631"/>
                </a:lnTo>
                <a:lnTo>
                  <a:pt x="17326" y="11156"/>
                </a:lnTo>
                <a:lnTo>
                  <a:pt x="17326" y="0"/>
                </a:lnTo>
                <a:lnTo>
                  <a:pt x="10858" y="0"/>
                </a:lnTo>
                <a:lnTo>
                  <a:pt x="4274" y="0"/>
                </a:lnTo>
                <a:lnTo>
                  <a:pt x="4274" y="11037"/>
                </a:lnTo>
                <a:lnTo>
                  <a:pt x="4274" y="11631"/>
                </a:lnTo>
                <a:lnTo>
                  <a:pt x="6122" y="11631"/>
                </a:lnTo>
                <a:lnTo>
                  <a:pt x="6122" y="13174"/>
                </a:lnTo>
                <a:lnTo>
                  <a:pt x="2772" y="13174"/>
                </a:lnTo>
                <a:lnTo>
                  <a:pt x="2772" y="18514"/>
                </a:lnTo>
                <a:lnTo>
                  <a:pt x="693" y="20295"/>
                </a:lnTo>
                <a:lnTo>
                  <a:pt x="462" y="20413"/>
                </a:lnTo>
                <a:lnTo>
                  <a:pt x="231" y="20651"/>
                </a:lnTo>
                <a:lnTo>
                  <a:pt x="116" y="20888"/>
                </a:lnTo>
                <a:lnTo>
                  <a:pt x="0" y="21125"/>
                </a:lnTo>
                <a:lnTo>
                  <a:pt x="0" y="21244"/>
                </a:lnTo>
                <a:lnTo>
                  <a:pt x="116" y="21363"/>
                </a:lnTo>
                <a:lnTo>
                  <a:pt x="116" y="21481"/>
                </a:lnTo>
                <a:lnTo>
                  <a:pt x="231" y="21481"/>
                </a:lnTo>
                <a:lnTo>
                  <a:pt x="347" y="21600"/>
                </a:lnTo>
                <a:lnTo>
                  <a:pt x="578" y="21600"/>
                </a:lnTo>
                <a:lnTo>
                  <a:pt x="693" y="21600"/>
                </a:lnTo>
                <a:lnTo>
                  <a:pt x="10858" y="21600"/>
                </a:lnTo>
                <a:lnTo>
                  <a:pt x="20907" y="21600"/>
                </a:lnTo>
                <a:lnTo>
                  <a:pt x="21138" y="21600"/>
                </a:lnTo>
                <a:lnTo>
                  <a:pt x="21253" y="21600"/>
                </a:lnTo>
                <a:lnTo>
                  <a:pt x="21369" y="21481"/>
                </a:lnTo>
                <a:lnTo>
                  <a:pt x="21484" y="21481"/>
                </a:lnTo>
                <a:lnTo>
                  <a:pt x="21600" y="21363"/>
                </a:lnTo>
                <a:lnTo>
                  <a:pt x="21600" y="21244"/>
                </a:lnTo>
                <a:lnTo>
                  <a:pt x="21600" y="21125"/>
                </a:lnTo>
                <a:lnTo>
                  <a:pt x="21484" y="20888"/>
                </a:lnTo>
                <a:lnTo>
                  <a:pt x="21369" y="20651"/>
                </a:lnTo>
                <a:lnTo>
                  <a:pt x="21253" y="20413"/>
                </a:lnTo>
                <a:lnTo>
                  <a:pt x="21022" y="20295"/>
                </a:lnTo>
                <a:close/>
              </a:path>
              <a:path w="21600" h="21600">
                <a:moveTo>
                  <a:pt x="18019" y="18514"/>
                </a:moveTo>
                <a:lnTo>
                  <a:pt x="17326" y="17921"/>
                </a:lnTo>
                <a:lnTo>
                  <a:pt x="4389" y="17921"/>
                </a:lnTo>
                <a:lnTo>
                  <a:pt x="3696" y="18514"/>
                </a:lnTo>
                <a:lnTo>
                  <a:pt x="18019" y="18514"/>
                </a:lnTo>
                <a:close/>
              </a:path>
              <a:path w="21600" h="21600">
                <a:moveTo>
                  <a:pt x="19174" y="19701"/>
                </a:moveTo>
                <a:lnTo>
                  <a:pt x="18481" y="19108"/>
                </a:lnTo>
                <a:lnTo>
                  <a:pt x="3119" y="19108"/>
                </a:lnTo>
                <a:lnTo>
                  <a:pt x="2426" y="19701"/>
                </a:lnTo>
                <a:lnTo>
                  <a:pt x="19174" y="19701"/>
                </a:lnTo>
                <a:close/>
              </a:path>
              <a:path w="21600" h="21600">
                <a:moveTo>
                  <a:pt x="20560" y="20769"/>
                </a:moveTo>
                <a:lnTo>
                  <a:pt x="19867" y="20176"/>
                </a:lnTo>
                <a:lnTo>
                  <a:pt x="1848" y="20176"/>
                </a:lnTo>
                <a:lnTo>
                  <a:pt x="1155" y="20769"/>
                </a:lnTo>
                <a:lnTo>
                  <a:pt x="20560" y="20769"/>
                </a:lnTo>
                <a:close/>
              </a:path>
              <a:path w="21600" h="21600">
                <a:moveTo>
                  <a:pt x="18828" y="18396"/>
                </a:moveTo>
                <a:lnTo>
                  <a:pt x="17442" y="17209"/>
                </a:lnTo>
                <a:lnTo>
                  <a:pt x="4158" y="17209"/>
                </a:lnTo>
                <a:lnTo>
                  <a:pt x="2772" y="18514"/>
                </a:lnTo>
                <a:moveTo>
                  <a:pt x="13168" y="14123"/>
                </a:moveTo>
                <a:lnTo>
                  <a:pt x="13168" y="14716"/>
                </a:lnTo>
                <a:lnTo>
                  <a:pt x="17788" y="14716"/>
                </a:lnTo>
                <a:lnTo>
                  <a:pt x="17788" y="14123"/>
                </a:lnTo>
                <a:lnTo>
                  <a:pt x="13168" y="14123"/>
                </a:lnTo>
                <a:close/>
              </a:path>
              <a:path w="21600" h="21600">
                <a:moveTo>
                  <a:pt x="6122" y="1899"/>
                </a:moveTo>
                <a:lnTo>
                  <a:pt x="6122" y="9732"/>
                </a:lnTo>
                <a:lnTo>
                  <a:pt x="15478" y="9732"/>
                </a:lnTo>
                <a:lnTo>
                  <a:pt x="15478" y="1899"/>
                </a:lnTo>
                <a:lnTo>
                  <a:pt x="6122" y="1899"/>
                </a:lnTo>
                <a:moveTo>
                  <a:pt x="6122" y="11631"/>
                </a:moveTo>
                <a:lnTo>
                  <a:pt x="15478" y="11631"/>
                </a:lnTo>
                <a:lnTo>
                  <a:pt x="15478" y="13174"/>
                </a:lnTo>
                <a:lnTo>
                  <a:pt x="6122" y="13174"/>
                </a:lnTo>
                <a:lnTo>
                  <a:pt x="6122" y="11631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computr2"/>
          <p:cNvSpPr/>
          <p:nvPr/>
        </p:nvSpPr>
        <p:spPr>
          <a:xfrm>
            <a:off x="6875640" y="5013360"/>
            <a:ext cx="1800000" cy="1511280"/>
          </a:xfrm>
          <a:custGeom>
            <a:avLst/>
            <a:gdLst>
              <a:gd name="textAreaLeft" fmla="*/ 516240 w 1800000"/>
              <a:gd name="textAreaRight" fmla="*/ 1297080 w 1800000"/>
              <a:gd name="textAreaTop" fmla="*/ 133560 h 1511280"/>
              <a:gd name="textAreaBottom" fmla="*/ 681840 h 1511280"/>
            </a:gdLst>
            <a:ahLst/>
            <a:rect l="textAreaLeft" t="textAreaTop" r="textAreaRight" b="textAreaBottom"/>
            <a:pathLst>
              <a:path w="21600" h="21600">
                <a:moveTo>
                  <a:pt x="21022" y="20295"/>
                </a:moveTo>
                <a:lnTo>
                  <a:pt x="18828" y="18396"/>
                </a:lnTo>
                <a:lnTo>
                  <a:pt x="18828" y="13174"/>
                </a:lnTo>
                <a:lnTo>
                  <a:pt x="15478" y="13174"/>
                </a:lnTo>
                <a:lnTo>
                  <a:pt x="15478" y="11631"/>
                </a:lnTo>
                <a:lnTo>
                  <a:pt x="17326" y="11631"/>
                </a:lnTo>
                <a:lnTo>
                  <a:pt x="17326" y="11156"/>
                </a:lnTo>
                <a:lnTo>
                  <a:pt x="17326" y="0"/>
                </a:lnTo>
                <a:lnTo>
                  <a:pt x="10858" y="0"/>
                </a:lnTo>
                <a:lnTo>
                  <a:pt x="4274" y="0"/>
                </a:lnTo>
                <a:lnTo>
                  <a:pt x="4274" y="11037"/>
                </a:lnTo>
                <a:lnTo>
                  <a:pt x="4274" y="11631"/>
                </a:lnTo>
                <a:lnTo>
                  <a:pt x="6122" y="11631"/>
                </a:lnTo>
                <a:lnTo>
                  <a:pt x="6122" y="13174"/>
                </a:lnTo>
                <a:lnTo>
                  <a:pt x="2772" y="13174"/>
                </a:lnTo>
                <a:lnTo>
                  <a:pt x="2772" y="18514"/>
                </a:lnTo>
                <a:lnTo>
                  <a:pt x="693" y="20295"/>
                </a:lnTo>
                <a:lnTo>
                  <a:pt x="462" y="20413"/>
                </a:lnTo>
                <a:lnTo>
                  <a:pt x="231" y="20651"/>
                </a:lnTo>
                <a:lnTo>
                  <a:pt x="116" y="20888"/>
                </a:lnTo>
                <a:lnTo>
                  <a:pt x="0" y="21125"/>
                </a:lnTo>
                <a:lnTo>
                  <a:pt x="0" y="21244"/>
                </a:lnTo>
                <a:lnTo>
                  <a:pt x="116" y="21363"/>
                </a:lnTo>
                <a:lnTo>
                  <a:pt x="116" y="21481"/>
                </a:lnTo>
                <a:lnTo>
                  <a:pt x="231" y="21481"/>
                </a:lnTo>
                <a:lnTo>
                  <a:pt x="347" y="21600"/>
                </a:lnTo>
                <a:lnTo>
                  <a:pt x="578" y="21600"/>
                </a:lnTo>
                <a:lnTo>
                  <a:pt x="693" y="21600"/>
                </a:lnTo>
                <a:lnTo>
                  <a:pt x="10858" y="21600"/>
                </a:lnTo>
                <a:lnTo>
                  <a:pt x="20907" y="21600"/>
                </a:lnTo>
                <a:lnTo>
                  <a:pt x="21138" y="21600"/>
                </a:lnTo>
                <a:lnTo>
                  <a:pt x="21253" y="21600"/>
                </a:lnTo>
                <a:lnTo>
                  <a:pt x="21369" y="21481"/>
                </a:lnTo>
                <a:lnTo>
                  <a:pt x="21484" y="21481"/>
                </a:lnTo>
                <a:lnTo>
                  <a:pt x="21600" y="21363"/>
                </a:lnTo>
                <a:lnTo>
                  <a:pt x="21600" y="21244"/>
                </a:lnTo>
                <a:lnTo>
                  <a:pt x="21600" y="21125"/>
                </a:lnTo>
                <a:lnTo>
                  <a:pt x="21484" y="20888"/>
                </a:lnTo>
                <a:lnTo>
                  <a:pt x="21369" y="20651"/>
                </a:lnTo>
                <a:lnTo>
                  <a:pt x="21253" y="20413"/>
                </a:lnTo>
                <a:lnTo>
                  <a:pt x="21022" y="20295"/>
                </a:lnTo>
                <a:close/>
              </a:path>
              <a:path w="21600" h="21600">
                <a:moveTo>
                  <a:pt x="18019" y="18514"/>
                </a:moveTo>
                <a:lnTo>
                  <a:pt x="17326" y="17921"/>
                </a:lnTo>
                <a:lnTo>
                  <a:pt x="4389" y="17921"/>
                </a:lnTo>
                <a:lnTo>
                  <a:pt x="3696" y="18514"/>
                </a:lnTo>
                <a:lnTo>
                  <a:pt x="18019" y="18514"/>
                </a:lnTo>
                <a:close/>
              </a:path>
              <a:path w="21600" h="21600">
                <a:moveTo>
                  <a:pt x="19174" y="19701"/>
                </a:moveTo>
                <a:lnTo>
                  <a:pt x="18481" y="19108"/>
                </a:lnTo>
                <a:lnTo>
                  <a:pt x="3119" y="19108"/>
                </a:lnTo>
                <a:lnTo>
                  <a:pt x="2426" y="19701"/>
                </a:lnTo>
                <a:lnTo>
                  <a:pt x="19174" y="19701"/>
                </a:lnTo>
                <a:close/>
              </a:path>
              <a:path w="21600" h="21600">
                <a:moveTo>
                  <a:pt x="20560" y="20769"/>
                </a:moveTo>
                <a:lnTo>
                  <a:pt x="19867" y="20176"/>
                </a:lnTo>
                <a:lnTo>
                  <a:pt x="1848" y="20176"/>
                </a:lnTo>
                <a:lnTo>
                  <a:pt x="1155" y="20769"/>
                </a:lnTo>
                <a:lnTo>
                  <a:pt x="20560" y="20769"/>
                </a:lnTo>
                <a:close/>
              </a:path>
              <a:path w="21600" h="21600">
                <a:moveTo>
                  <a:pt x="18828" y="18396"/>
                </a:moveTo>
                <a:lnTo>
                  <a:pt x="17442" y="17209"/>
                </a:lnTo>
                <a:lnTo>
                  <a:pt x="4158" y="17209"/>
                </a:lnTo>
                <a:lnTo>
                  <a:pt x="2772" y="18514"/>
                </a:lnTo>
                <a:moveTo>
                  <a:pt x="13168" y="14123"/>
                </a:moveTo>
                <a:lnTo>
                  <a:pt x="13168" y="14716"/>
                </a:lnTo>
                <a:lnTo>
                  <a:pt x="17788" y="14716"/>
                </a:lnTo>
                <a:lnTo>
                  <a:pt x="17788" y="14123"/>
                </a:lnTo>
                <a:lnTo>
                  <a:pt x="13168" y="14123"/>
                </a:lnTo>
                <a:close/>
              </a:path>
              <a:path w="21600" h="21600">
                <a:moveTo>
                  <a:pt x="6122" y="1899"/>
                </a:moveTo>
                <a:lnTo>
                  <a:pt x="6122" y="9732"/>
                </a:lnTo>
                <a:lnTo>
                  <a:pt x="15478" y="9732"/>
                </a:lnTo>
                <a:lnTo>
                  <a:pt x="15478" y="1899"/>
                </a:lnTo>
                <a:lnTo>
                  <a:pt x="6122" y="1899"/>
                </a:lnTo>
                <a:moveTo>
                  <a:pt x="6122" y="11631"/>
                </a:moveTo>
                <a:lnTo>
                  <a:pt x="15478" y="11631"/>
                </a:lnTo>
                <a:lnTo>
                  <a:pt x="15478" y="13174"/>
                </a:lnTo>
                <a:lnTo>
                  <a:pt x="6122" y="13174"/>
                </a:lnTo>
                <a:lnTo>
                  <a:pt x="6122" y="11631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12"/>
          <p:cNvSpPr/>
          <p:nvPr/>
        </p:nvSpPr>
        <p:spPr>
          <a:xfrm>
            <a:off x="1835280" y="3645000"/>
            <a:ext cx="100800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MT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3"/>
          <p:cNvSpPr/>
          <p:nvPr/>
        </p:nvSpPr>
        <p:spPr>
          <a:xfrm>
            <a:off x="7451640" y="3716280"/>
            <a:ext cx="100800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OP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14"/>
          <p:cNvSpPr/>
          <p:nvPr/>
        </p:nvSpPr>
        <p:spPr>
          <a:xfrm>
            <a:off x="6084720" y="3716280"/>
            <a:ext cx="100836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MT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15"/>
          <p:cNvSpPr/>
          <p:nvPr/>
        </p:nvSpPr>
        <p:spPr>
          <a:xfrm>
            <a:off x="2362320" y="4343400"/>
            <a:ext cx="198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When Alice presses SEND her E-mail is moved from her computer to her Internet Service Providers outgoing mail 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179280" y="249228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Alice’s ISP then forwards the E-mail out onto the Intern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17"/>
          <p:cNvSpPr/>
          <p:nvPr/>
        </p:nvSpPr>
        <p:spPr>
          <a:xfrm>
            <a:off x="6781680" y="2492280"/>
            <a:ext cx="227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The mail is forwarded to the incoming (POP3) mail server of Bob’s IS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18"/>
          <p:cNvSpPr/>
          <p:nvPr/>
        </p:nvSpPr>
        <p:spPr>
          <a:xfrm>
            <a:off x="5486400" y="457200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The next time Bob connects to his ISP the E-mail is downloaded to his compu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19"/>
          <p:cNvSpPr/>
          <p:nvPr/>
        </p:nvSpPr>
        <p:spPr>
          <a:xfrm>
            <a:off x="1042920" y="5157720"/>
            <a:ext cx="79236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AL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20"/>
          <p:cNvSpPr/>
          <p:nvPr/>
        </p:nvSpPr>
        <p:spPr>
          <a:xfrm>
            <a:off x="7380360" y="5157720"/>
            <a:ext cx="792000" cy="57636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BO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2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029B0-D9C7-44A2-B33C-3999727CCC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1"/>
          <p:cNvSpPr/>
          <p:nvPr/>
        </p:nvSpPr>
        <p:spPr>
          <a:xfrm>
            <a:off x="8817120" y="423396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: Email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email consists of two pa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ader: Contains information about who the message is from, who it is for, subject, date etc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how it has been stored/forwarded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dy: The actual content of the email mess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example email with headers is shown on the next sli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3"/>
          <p:cNvSpPr/>
          <p:nvPr/>
        </p:nvSpPr>
        <p:spPr>
          <a:xfrm>
            <a:off x="468360" y="1341360"/>
            <a:ext cx="822960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Microsoft Mail Internet Headers Version 2.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Received: from xproxy.gmail.com ([66.249.82.197]) by exchange1.trl.org with Microsoft SMTPSVC(6.0.3790.0); Tue, 27 Mar 2007 09:44:54 +01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Received: by xproxy.gmail.com with SMTP id h28so988094wx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for &lt;Jim.Stark@trl.org&gt;; Tue, 27 Mar 2007 00:44:31 -0800 (PS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DomainKey-Signature: a=rsa-sha1; q=dns; c=nofw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s=beta; d=gmail.com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h=received:message-id:date:from:to:subject:in-reply-to:mime-version:content-type:reference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b=RY8mK69lgiScvczLvTJmfvlXoZa1zUskwWsukAn3jlzblALGzxF/pzpDKyrEnIDyZrKp8VnthCyCgyHOfi7KCHhaseAXG4UAQO8zIbSFDxw6uVN0jUVYQx0a60pjkFBxmdzL/PCDEllSFEExVQB+m0WD/lcGQEgGmecYV1nRmy8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Received: by 10.70.100.14 with SMTP id x14mr6330299wxb; Tue, 27 Mar 2007 00:44:30 -0800 (PS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Received: by 10.70.122.16 with HTTP; Tue, 27 Mar 2007 00:44:30 -0800 (PS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Message-ID: &lt;95ecf0550603280044n7a18048fs8e37cf2c2ea3a3d8@mail.gmail.com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Date: Tue, 27 Mar 2007 09:44:30 +01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From: "Jim Stark" &lt;jc.stark@gmail.com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To: "Jim Stark" &lt;Jim.Stark@trl.org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Subject: Re: te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In-Reply-To: &lt;42675D880C511048AE555539A210615627A281@exchange1.trl.org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MIME-Version: 1.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Content-Type: multipart/alternative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boundary="----=_Part_21605_28805312.1143535470923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References: &lt;42675D880C511048AE555539A210615627A281@exchange1.trl.org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Return-Path: jc.stark@gmail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X-OriginalArrivalTime: 27 Mar 2007 08:44:54.0322 (UTC) FILETIME=[E283E920:01C65243]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ultinational Service Provider Reco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Multinational Service Providers (Facebook, Google. Etc.) might be able to tell you which IP address was used by a subscriber at a particular ti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Need to know the ID (e.g. Facebook user ID) of the suspe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International cooperation typically requir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vert Investigation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If you already have a suspect, covert investigation techniques (e.g. Wiretapping) can be used to identify the IP address(es) in use by the suspe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SSOCIATING IP Address TO Real world IDENT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22160" y="29304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emonstration: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hat is MY IP ADDRESS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no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P address might allow identification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et Service Provi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olo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ssion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fresher: Know what an IP address 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 how you can find a suspect IP addre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 how you can associate a suspect IP address with a real pers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st three technical challenges to identification of suspects on the Intern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P Reco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Internet Service Providers will typically keep records of which subscriber was using a particular IP address at a particular ti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How long these records are retained for will depend on national legis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How to get access to these records will depend on national legis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P Records: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What is involved in getting access to ISP subscriber dat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How do you know which ISP to request data fro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olocation: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Where do you think the geolocation data comes fro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Absolutely no guarantees of reliability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no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o, not always traceable to a specific pers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ic vs. Dynamic IP addr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twork Address Translation (NA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ime of the activity is crucial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rporation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Corporations using Network Address Translation (NAT) may have the records to be able to associate suspect activity with a specific internal IP addre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How engagement with the company takes place will depend on national legis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Records seldom exi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en if you can find the computer</a:t>
            </a:r>
            <a:r>
              <a:rPr b="0" lang="is-I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was using the compu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ote control of the compu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Fi access poi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of VP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ome MORE Technical Challeng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Intentional and unintentional, legitimate and illegitimate obfuscation may take pl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Some example will be discuss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onymising Ser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Both paid and free services are available to conceal online activit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Anonymising web proxies specifically conceal the source of web browsing activit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Anonymising email providers specifically conceal the sender of emai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Anonymising IP proxies conceal all the source of all Internet traffic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600" spc="-1" strike="noStrike">
                <a:solidFill>
                  <a:srgbClr val="000000"/>
                </a:solidFill>
                <a:latin typeface="Calibri"/>
              </a:rPr>
              <a:t>Example: T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360" y="2276280"/>
            <a:ext cx="8229600" cy="3917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scl8"/>
          <p:cNvPicPr/>
          <p:nvPr/>
        </p:nvPicPr>
        <p:blipFill>
          <a:blip r:embed="rId2"/>
          <a:stretch/>
        </p:blipFill>
        <p:spPr>
          <a:xfrm>
            <a:off x="1042920" y="1197000"/>
            <a:ext cx="70437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P Address (version 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P address consists of four numbers between 0 and 255, separated by full-stops/perio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.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2.3.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0.4.0.18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is also a newer form of IP addresses (version 6) which will not be discussed he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cry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It is possible that communication might be encrypte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Either the content of the entire communication might be encryp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rrier Grade N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A technique for associating a very large number of users with a single IP addre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Commonly used for Internet connectivity on mobile phone network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IP addresses are a necessary but not sufficient identifier of a person’s online activit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Associating an IP address with a real person is extremely difficul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Technologies are available to make tracing a person online even more difficul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Wherever possible other sources of evidence should be used to support the IP address evidenc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41" name="TextBox 4"/>
          <p:cNvSpPr/>
          <p:nvPr/>
        </p:nvSpPr>
        <p:spPr>
          <a:xfrm>
            <a:off x="3087360" y="4500720"/>
            <a:ext cx="2983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P Address (version 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IP addresses are not valid on the Internet, only for private (internal) u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.x.x.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92.168.x.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72.16.x.x-172.31.x.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dentifying Suspect IP Addres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line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user’s online activity might generate recor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records might contain the IP address of the user’s communic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can be an important piece of information for identifying a suspe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ecessary but not sufficient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: Web Browsing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b browsing activity involves a user sending requests to a web server and the web server sending responses back to the us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format of the requests and responses is described using a protocol known as Hypertext Transfer Protocol (HTTP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y default, a web server will log all incoming requests, including the IP address from which the request was received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: Web Browsing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2276640"/>
            <a:ext cx="8229600" cy="459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192.220.98.177 - - [23/Sep/2006:21:09:27 -0400] "GET / HTTP/1.0" 206 1729 "-" "Servmon::Monitor::apache/1.03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Tahoma"/>
              </a:rPr>
              <a:t>216.128.130.126 - - [23/Sep/2006:21:30:02 -0400] "GET /pgp/ HTTP/1.0" 200 1871 "http://dir.yahoo.com/Computers_and_Internet/Security_and_Encryption/PGP___Pretty_Good_Privacy/" "Mozilla/4.0 (compatible; MSIE 6.0 [en] Win NT 5.1; U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66.196.73.20 - - [23/Sep/2006:21:33:35 -0400] "GET /pgp/pgpdoc2/pgpdoc2_65.html HTTP/1.0" 200 7185 "-" "Mozilla/5.0 (Slurp/cat; slurp@inktomi.com; http://www.inktomi.com/slurp.html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63.229.162.177 - - [23/Sep/2006:21:34:31 -0400] "GET /stephen/singers/ HTTP/1.1" 200 1936 "http://www.dosado.com/callers/default.htm " "Mozilla/4.0 (compatible; MSIE 5.5; Windows 98; Win 9x 4.90)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138.162.0.41 - - [23/Sep/2006:21:36:27 -0400] "GET /gallery/Colorado02?&amp;page=2 HTTP/1.0" 200 19649 "http://www.google.com/search?q=st+malo+chapel+colorado&amp;hl=en&amp;lr=&amp;ie=UTF-8&amp;start=20&amp;sa=N" "Mozilla/4.76 [en] (Windows NT 5.0; U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12.255.212.29 - - [23/Sep/2006:21:51:42 -0400] "GET /cgi- bin/formmail.cgi?recipient=lharleyren49@aol.com&amp;subject= http://www.gildea.com/cgi-bin/formmail.cgi&amp;body=48462427&amp;email=uqizakzbi@aol.com HTTP/1.1" 404 291 "-" "Mozilla/4.0 (compatible; MSIE 5.0; Windows 98; DigExt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64.156.198.78 - - [23/Sep/2006:21:52:53 -0400] "GET /wang-center/schedules/wang.html HTTP/1.1" 200 1438 "-" "Mozilla/5.0 (X11; Linux i686; en-US; rv:1.0rc5; OBJR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163.139.58.174 - - [23/Sep/2006:21:54:29 -0400] "GET /sd/ HTTP/1.1" 304 - "-" "Mozilla/4.0 (compatible; MSIE 6.0; Windows NT 5.1; .NET CLR 1.0.3705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205.188.209.51 - - [23/Sep/2006:21:57:23 -0400] "GET / HTTP/1.0" 200 1729 "http://aolsearch.aol.com/dirsearch.adp?query=Gildea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: Web Browsing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2276280"/>
            <a:ext cx="8229600" cy="366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216.128.130.126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[23/Sep/2006:21:30:02 -0400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"GET /pgp/ HTTP/1.0"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20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1871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"http://dir.yahoo.com/Computers_and_Internet/Security_and_Encryption/PGP___Pretty_Good_Privacy/"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"Mozilla/4.0 (compatible; MSIE 6.0 [en] Win NT 5.1; U)”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4T06:40:18Z</dcterms:created>
  <dc:creator>alexander</dc:creator>
  <dc:description/>
  <dc:language>en-US</dc:language>
  <cp:lastModifiedBy>Dave O'Reilly</cp:lastModifiedBy>
  <cp:lastPrinted>2016-05-18T07:38:13Z</cp:lastPrinted>
  <dcterms:modified xsi:type="dcterms:W3CDTF">2017-09-01T13:07:29Z</dcterms:modified>
  <cp:revision>286</cp:revision>
  <dc:subject/>
  <dc:title>PowerPoint Presentation</dc:title>
</cp:coreProperties>
</file>