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47F8-1E23-4A1C-B14C-0FE0D6D6B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3C8C-FC0A-4E33-A6F4-AB98A0E57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D706-6509-482E-934E-B5FFCA709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8AF-AC83-497F-A5B1-0E8AB1557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6CB9-B387-4F8E-B7FC-F65769CF1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AFC-685F-4744-AE86-E361565CA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060A-60DB-40B9-B499-854BBCDEA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86FE-CB5B-4273-B6EC-EAAE5402C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0CCF-24DE-49D1-94CD-B71FAF6C3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F88E-3EB5-4AC5-8BEF-C9110E826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A50A-4E93-40E6-A4BA-5F413B9D7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771B-D0B7-4BD8-947D-C516070FA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3A30-4A42-40E1-AA9B-3C255A195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0575-E490-4848-ABCA-F347E6801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16E2-9A3C-42E5-BC09-B5A003429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5F2E-FA4F-4307-A3F3-430FFC15D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3B5-6C30-47F5-A039-35DDB19B9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2A1-6311-497A-BA93-E66A0D9E9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AE63-0769-4CF3-9244-13A7D22D9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45FB-2F62-4F42-96F4-3DBBAC429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3825-3D8F-4D05-8EC1-C2F228314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A595-BA12-4D26-AF4C-D3F1422DF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D85-70A4-4936-A130-4BCCA0B7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9D5-D9BB-4270-B3E9-2E57AABA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274-CC1E-4ADB-A5BA-8FBD60BC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8C7-0DAC-4B66-873F-3A627DF1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90C-3900-4558-9DCA-BD534B65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5AB-73B1-4D2F-9355-4F5D6527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608-5C87-49F2-9B85-6A5995D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B78-3C95-46DF-9177-25D8E56D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309-4104-4F25-B8BA-30BA6DBD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B3D-90F3-4DAD-A955-7D38A15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8F1-A1BF-4DCB-8E90-4A28FB6F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21D-A864-4302-A3D2-C7903BA5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7350-1C7C-439C-B914-5D29D8EE12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21Z</dcterms:modified>
  <cp:revision>313</cp:revision>
  <dc:subject/>
  <dc:title>PowerPoint Presentation</dc:title>
</cp:coreProperties>
</file>