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3C56-9915-4C00-A12C-754D3C7E2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8E0E-BB69-40B7-A4B4-7DBB60D0C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7851-F455-4B2A-8BEE-C407E0E67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7DE7-2C2D-42E6-A40C-192DC4163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4763-BD27-429C-9510-3DA74C24A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F2BF-DCFD-4033-B690-4AB0AFBFB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3BF-8CE1-403A-9582-57B048B00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5607-2939-43F8-B44B-28151C403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1CB1-0CB6-4571-9258-5B9F02538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21FF-1974-476D-BE82-A264DB3EAE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F2F4-70C7-44BF-AC53-E05DA57D0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01B3-E308-4676-9BEF-4E88DB554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341A-790B-4155-A911-277D422E7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7C28-0B2E-47BB-B4C3-B633AC996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CF75-44E9-42F6-ACBE-948CCF9A2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BEA3-5DB1-4729-9E21-BF94460000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3B24-F274-4774-8637-CDEF11C40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A315-4176-444D-8001-2D21880C3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AC6E-586A-43A9-A1A7-125ACC5D2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7C4B-6F0D-4593-8000-7BF2FDCA4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684-00E6-44C0-9276-EE2D4C7AD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4563-29F8-4369-9E34-977438C12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81B5-3C6F-49A1-8687-6159CFACB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2846-C328-410F-A973-D21A7336E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B040-4DE8-4A35-8E45-959D772EB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2B50-C59D-432A-9BE0-FE7C17049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64AB-82A3-4B51-B557-00C60E044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5DD4-93FD-4F8E-B0F5-A58C6A624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82B-C4EC-4BBD-8A8E-B1377AC1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0CF-E097-443D-BB12-54E3CA0E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432-138E-41B3-B2CD-571C4C22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DF7-1C65-48EE-9EEE-2941801E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EB1-FEA6-481C-9EEE-657CB22C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6BD-01BF-43E7-A16E-D9761DAE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AA7-1C38-4497-B44F-02AEFC20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191-75B0-443A-9E13-8846FE88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ECB-3A30-426F-9900-5C6412C1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A78-1D99-4747-8962-AEA65FD6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852-B577-4A0E-90DA-BAE6C7A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943-25D2-4AD2-BC59-FA5A5699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E6CE-F60F-43BE-BD5F-7F3796641D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4.2/Or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pentenca procedurale janë të disponueshme / kanë lidhje me identifikimin / aktivitetin e mushka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imet ndërkombëtare të llojeve të ndryshme përdoren nga kriminelët për ta bërë më të vështirë gjurmimin e të ardhurave nga kri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tat ndërkombëtare mund të realizohen me anë të llogarive bankare, monedhave virtuale, shërbimeve të pagesave në Internet, shërbimeve të remitancave, et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sfida lindin në hetimin, kontrollin, sekuestrimin dhe konfiskimin e fondeve kriminale kur fondet janë transferuar ndërkombëtaris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elët marrin kontrollin e (për shembull) llogarisë bankare të kompromentuar të klient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ndet transferohen tek mushkat (ndërmjetësit) në të njëjtin juridik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hkat (ndërmjetësit) transferojnë fondet me transfertë bankare ndërkombëtare tek një person juridik ose fizik në një juridiksion tjetë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112536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transfertave ndërkombët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I: Cilat janë kompetencat procedural janë në dispozicion / kanë lidhje me identifikimin / përdorimin e transfertave ndërkombët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DHAT VIRTU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dhat virtuale dhe paratë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monedha virtuale dhe para elektronike njih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edhë virtu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jë monedhë virtuale është një përfaqësim digjital i vlerës që mund të tregtohet në Internet dhe funksionon si (1) mjet shkëmbimi; (2) njësi e llogarisë; dhe / ose (3) një aset me vlerë, por nuk ka statusin e parave zyrtare në asnjë juridik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atë elektronik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nedha virtuale dallon nga paraja elektronike, e cila është një përfaqësim digjital i monedhës fiat që përdoret për të transferuar në mënyrë elektronike vlera të denominuara në monedhën fiat. Paraja elektronike është një mekanizëm transferimi digjital për monedhën fiat – d.m.th transferon në mënyrë elektronike vlerën që ka statusin e monedhës së ligjsh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edha digjit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nedha digjitale është një përfaqësim digjital ose i monedhës virtuale (jo-fiat) ose e parave elektronike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hkave (ndërmjetësve) të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ve Ndërkombë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dhave Virtu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dhat virtulae dhe paratë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 mendoni se është rëndësia e shprehjes "përfaqësim digjital" në përkufizimet e mësipër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gorizimi i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konvertuesh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jë monedhë virtuale e konvertueshme ka vlerë ekuivalente në monedhën reale dhe mund të shkëmbehet për valutë reale. Shembuj: Bitcoin, Second Life Linden Dollars, webMone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pa konvertuesh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jë monedhë virtuale e pa konvertueshme ka për qëllim të jetë specifike për një fushë ose botë të veçantë virtuale, dhe sipas rregullave që rregullojnë përdorimin e saj nuk mund të shkëmbehet me valutë fiat. Shembuj: Q Coins, World of Warcraft G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centraliz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nedhat virtuale të centralizuara kanë një autoritet të vetëm administrativ (p.sh. një palë të tretë) që kontrollon sistemin. Administratori lëshon monedhën, përcakton rregullat për përdorimin e saj, mban një regjistër qendror të pagesave dhe ka autorizim për të riblerë monedhën. Shembuj: Linden Dollars, WebMoney, World of Warcraft G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decentraliz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nedhat virtuale të decentralizuara janë monedha virtuale shpërndahen bazuar në matematikë, nga një përdorues tek tjetri, që nuk kanë autoritet qendror administrimi, pa monitorim qendror dhe pa mbikëqyrje. Shembuj: Bitcoin, LiteCoin, Ripp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tcoin është një monedhë virtuale e decentralizuar dhe e konvertuesh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aksionet bëhen ndërmjet përdoruesve pa ndërmjetë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aksionet verifikohen duke përdorur një regjistër publik të shpërndarë, të quajtur blockcha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ërkimi për Bitcoin është procesi përmes të cilit përdoruesit ofrojnë fuqinë e tyre informatike për të verifikuar dhe regjistruar transaksionet me bitcoin në regjistrin blockchain. Për këtë, përdoruesit marrin një shpërblim me bitcoins të sapo krijua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akteristik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globale të mund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 virtualisht të menjëhershme (rreth 10 minuta deri sa të konfirmohet transaksion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kryhen ndërmjet ID-ve anonime (portofolet digjital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ifa të ulëta (ose zero) për transaksio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nuk janë të kthye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6"/>
          <p:cNvSpPr/>
          <p:nvPr/>
        </p:nvSpPr>
        <p:spPr>
          <a:xfrm>
            <a:off x="685800" y="345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ompjuteri i Klient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5595480" y="353232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rtofoli Digjital për Bitco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458160" y="50562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rastruktura 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9"/>
          <p:cNvSpPr/>
          <p:nvPr/>
        </p:nvSpPr>
        <p:spPr>
          <a:xfrm>
            <a:off x="7551000" y="61992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sh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dërmjetës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2555280" y="60912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qbërë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dorimi Kriminal i Monedhës Virtuale: Programi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kosistemi i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këmbimi i Monedhave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ministratori i Monedhave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ërdoruesi/pronar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ëshuesi i monedhë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tofoli i Monedhës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ruesi i portofolit digjit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gtarë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te të tjera (zhvilluesit e programeve kompjuterike etj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ërfaqja midis monedhave virtuale dhe sistemit tradicional financi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ndet e fituara në mënyrë kriminale konvertohen në monedhën virtual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a ana tjetër, shërbimet kriminale paguhen në monedhën virtu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a ana tjetër, fondet nxirren nga viktimat në formën e monedhës virtu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edha virtuale tregtohet ose shkëmbehet për monedhën fia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 shkak të rregullimit jo konsistent të valutave virtuale, shkëmbimet virtuale të monedhave në të gjitha juridiksionet mund të mos kenë të dhëna adekuate të klientëve dhe / ose detyrime raporti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328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monedhave virtu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364464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janë kompetencat procedurale që janë të disponueshme / kanë lidhje me identifikimin / përdorimin e monedhave virtu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SHKAT E PARA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fondeve të mbajtura nga një ofrues i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hkave (ndërmjetësve) të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dhat virtu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451320" y="450864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hkat e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shkat e parave (ndërmjetësit) janë një komponent i rëndësishëm i shumë skemave të pastrimit të parave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a rekrutohen me një shumëllojshmëri teknikash, që mund të kategorizohen gjerësisht në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hka të vullnetshme, që rekrutohen duke e ditur paraprakisht se po marrin pjesë në aktivitet të paligjshë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hka të pa vullnetshme, që rekrutohen me mashtrim, si p.sh. me anë të një oferte punësimi të rre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hkat e vullnetshme vs. të pa vullnetsh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92428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ët rekrutohen ose me dëshirë ose pa dëshi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ndet transferohen në llogarinë bankare të mushkë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ë pas mushka (ndërmjetësi) ose i tërheq fondet në kesh ose i transferon tek një llogari tjetër (ose jashtë shtet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hka (ndërmjetësi) mban një komi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lera e arrestimit /akuzimit të mushka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mushkë par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KUTIM: Cili është problemi me mushkat e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mushka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8T07:26:13Z</dcterms:modified>
  <cp:revision>358</cp:revision>
  <dc:subject/>
  <dc:title>PowerPoint Presentation</dc:title>
</cp:coreProperties>
</file>