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7965-EC80-41EF-88FC-CCB007DAB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796C-E9AC-4F2C-8028-67593ED8F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F56C-27D6-4F96-BDCA-9DA4770E0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A184-DAA9-4B9E-B056-6172C7D31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0598-9C57-46BA-B264-C5717012F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B9D8-6A8C-4CDE-B590-F4452110A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E9DD-9A8F-414A-80E0-06A88F784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D293-83D9-40CA-B9AC-5D1A921A4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D9D9-40E6-4EC3-B372-2E9BB595D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E08F-9060-4E4B-AD76-7844447FC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A0A1-0A8C-4CC2-8D50-03ABEC0C2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5482-9764-484D-8A12-04BA8B6F3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DE3B-ECCC-4119-840D-A5776783E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8BF5-47D4-4A6A-ADC1-E73DF041B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DA7D-1D47-4FAC-9728-3486F5ED7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4A59-4958-47E0-8822-44CE0EDFE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881E-E5E3-4215-8062-AE3A72A08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1B50-393B-43DA-BE47-9BBC1DC5C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4EEC-518C-4F1C-9D4F-75B8550BF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C845-863E-46B7-8F93-F6835532C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A283-9CCF-43EC-A83D-479E7E252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93F2-2DF8-4ACB-B2CA-7EAABC40A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03C8-2EE3-4AE2-A808-7D872D3C8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D8D5-3E20-457B-B69A-DD8B547F6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F42D-DAD3-4064-83F0-F6F21DAD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27F4-7EA1-49FA-977E-1C22BACC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0CE-4765-4952-8C42-323EF4D9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44A9-C5FC-4262-BBD7-684213E7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6A3-68F6-4978-896B-99203A60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CA7-EF64-4ED1-B3CB-20B34424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CFE-7F41-4C8A-BDAE-D878A628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509-724D-4747-BD3B-DCA97509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B74-65D8-4C14-B357-B77C576A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970-2AF5-44E2-AED9-2BE5C638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3D31-F21C-4B7B-BD1A-E6D1AFCB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A25-C3DB-49B3-B35D-225C1511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79EA-E9FE-425B-8288-07820B82ECD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të e Qarkullimit të Parave Kriminale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oni 1.4.2/Ora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qëritë Tregtare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98900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qëritë jo aktive tashmë kuptohen mirë si  teknika për pastrimin e parav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jo teknikë pastrimi parash përdoret edhe në botën virtuale, kryesisht në përpjekje për t’i bërë transaksionet të duken të ligjsh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umat e fondeve të transferuara drejt shoqërive jo aktive priren të jenë më të mëdha sesa shumat që transferohen tek/nga mushkat (ndërmjetësit) individu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mbledhje: Shoqëritë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oqëritë jo aktive janë shoqëri pa aktivitet biznesi, pa aktiv ose pasiv, të themeluara vetëm me qëllimin e pasjes së llogarive bank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oqëritë jo aktive (ose llogaritë e tyre bankare) shpesh ndodhen në juridiksione të huaja në vendndodhjen e veprës pena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oqëritë jo aktive janë fasadë ligjshmërie për transfertat nga banka e pagues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qëritë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sfidash të tjera dalin kur shoqëritë jo aktive përdoren për të ardhurat e krimit on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Shoqërive jo Aktive (Shembul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qbërësi themelon një shoqëri jo ak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qbërësi hap një llogari bankare në emër të shoqërisë jo aktive në një juridiksion të hua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qbërësi kryen aktivitet mashtrues dhe transferon fonde nga llogaritë e viktimës në llogarinë bankare të shoqërisë jo ak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5640" y="1052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Shoqërive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3213000"/>
            <a:ext cx="82296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shoqërive jo ak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Shoqërive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shoqërive jo ak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rirja, Sekuestrimi dhe Konfiskimi i Fondeve të Shoqërive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në dispozicion / kanë lidhje me ngrirjen, sekuestrimin dhe konfiskimin e fondeve që mbahen nga shoqëritë jo ak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RTAT ME PARAPAG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rtat me Parapag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jojnë që vlerat të jenë të lidhura paraprakisht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e një kartë pages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y llojesh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arta me parapagim të mbyllura: mund të përdoren vetëm me një shoqëri ose dyqan të caktuar (p.sh. kartat për dhurata) dhe me to mund të bëhen blerje dhe të përdoren në mënyrë anoni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arta me parapagim të hapura: të lëshuara nga banka, karta krediti ose institucion financiar tjetër. Mund të përdoren njësoj si kartat e tjera për pages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 njëjta tipologji përdoret për kartat e rimbushjes së telefonave celularë dhe telefonat celularë të parapagua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Kartave me Parapag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qbërësit marrin fonde, p.sh. nëpërmjet programeve malware për marrjen e paautorizuar të të dhënave banka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ndet transferohet tek një mushkë (ndërmjetës) paras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shka (ndërmjetësi) tërheq para kesh dhe i përdor ato për blerjen e kartave me parapagi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ë pas kartat përdoren ose shiten. Kur shiten, kartat zakonisht shiten më pak sesa vlera e tyre nomina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e kriminale të përdorimit t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erjes nëpërmjet Internet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qërive tregtare jo ak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tave me parapag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tformat e lojrave dhe të tregtisë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Kartave me Parapag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kartave me parapagi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Kartave me Parapag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kartave me parapagi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rirja, Sekuestrimi dhe Konfiskimi i Kartave me Parapag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ngrirjen, sekuestrimin dhe konfiskimin e kartave me parapagi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LATFORMAT E LOJRAVE TË FATIT ON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TFORMAT E LOJRAVE TË FATIT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ndësojnë lojrat e llojeve të ndryshme onl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konisht fondet hyjnë/dalin nëpërmjet sektorit bankar të zakonshëm (p.sh. transferim fondesh, kartë krediti/debiti, etj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i ligjor i paqëndrueshëm dhe rregullimi i lojërave të fatit në inter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pologjia e Lojrave të Fatit Online (Shembul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05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qbërësit dhe bashkëpunëtorët kanë shumë karta krediti të vjedhura për t’i konvertuar në kes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qbërësi mban kartë me parapagim (ose kartë tjetër kur duhen vendosur fonde të pastruara) dhe bashkëpunëtorët e tij mbajnë karta krediti të vjedhu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qbërësi dhe bashkëpunëtorët hyjnë në platformën e lojrave të fatit dhe transferojnë fonde në llogaritë e tyre të lojrave të fat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ër shembull, keqbërësi dhe bashkëpunëtorët hyjnë në një dhomë pokeri së bashk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hkëpunëtorët qëllimisht humbasin lojën kundër keqbërës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timet transferohen në llogarinë e lojrave të fatit online të keqbërës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qbërësi transferon fonde në kartën e pagesës në dispozicionin e tyre, e cila më pas përdoret ose shit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Platformave të Lojrave të Fatit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9970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platformave të lojërave të fatit on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114200"/>
            <a:ext cx="907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Platformave të Lojrave të Fatit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platformave të lojërave të fatit on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grirja, Sekuestrimi dhe Konfiskimi i Fondeve nga Platformat e Lojrave të Fatit On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ngrirjen, sekuestrimin dhe konfiskimin e fondeve nga platformat e lojërave të fatit on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mbledh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e të krimit të përdorimit t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erjes nëpërmjet Internet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qërive jo Ak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tave me Parapag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tformave të lojrave dhe tregtisë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234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LERJA NËPËRMJET INTERNET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3451320" y="4581360"/>
            <a:ext cx="224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Pyetj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erje nëpërmjet Internet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Blerje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qbërësi arrin të futet tek të dhënat e kartës së kompromentuar ose kredencialet banka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qbërësi blen mallra (p.sh. Biletë avioni) duke përdorur kredencialet e kompromentuar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qbërësi i nxjerr biletat e avionit në shitje në një faqe Interneti për ankande onli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kush e fiton ankandin dhe i dërgon pagesën keqbërësi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qbërësi i dërgon biletat e avionit fituesit të ankandi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erjet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blerje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Blerje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e aktivitetit të blerje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rirja, Sekuestrimi dhe Konfiskimi i Blerje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278100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/kanë lidhje me ngrirjen, sekuestrimin dhe konfiskimin e Blerje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19890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OQËRITË TREGTARE JO AK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JB</cp:lastModifiedBy>
  <cp:lastPrinted>2016-05-18T07:38:13Z</cp:lastPrinted>
  <dcterms:modified xsi:type="dcterms:W3CDTF">2017-10-05T05:26:57Z</dcterms:modified>
  <cp:revision>362</cp:revision>
  <dc:subject/>
  <dc:title>PowerPoint Presentation</dc:title>
</cp:coreProperties>
</file>