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2B1F-A19F-4631-9DFC-E69C0517D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CBB8-E966-4765-BB0E-BE7BC22651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733B-5868-448A-BEAD-4B673CD98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9BE8-1CE2-4622-B2E1-E35596FCE5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D931-FC07-44C2-B4E5-3D7F4BC51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85C5-7EE3-4F77-888C-5163A9DEB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F737-E994-4E34-8EDD-9873A3D4D8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7298-79CF-46C5-8AD7-893DC9E900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A7FA-1F6E-46ED-9527-C07E40701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1C43-7368-441C-93DC-4013B0011B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FE05-F789-4102-B63A-99EE7E8D9C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0A59-6695-4C1D-BA51-4B69C6020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7943-B3B1-40AB-8CFE-041BFE350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F23A-FC94-47F2-B37F-E5F995CC3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792A-1871-4530-A8AF-FFCBDBFBD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46AC-6AF9-4B30-A9B1-B0FD92C31E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3432240" y="465120"/>
            <a:ext cx="3097080" cy="2322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501C-61E8-46AB-86A7-0C3E4BD85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D871-2FFB-4433-BD8F-92D4A5103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F877-4BE7-4C6F-B98B-777564F6B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3168-DD0C-4870-BDBC-A605359AFF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6003-EB24-469B-BF22-FDC3178C9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5FD1-5689-456B-815D-60D9DB00C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2B71-B224-4F7D-B5E9-19AC6ED2C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4A8B-55F4-4066-B7C0-6CC1EDD0A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C7FC-F568-4820-AE3E-C9FEBDB7A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9768-1EF5-44E9-9838-A1012F2FD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F44A-58A8-4078-9D92-246960B3A8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B043-3E4C-4BCB-8536-6A511B40D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F987-489E-42CD-8A1E-7489523BE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50D7-F873-4F13-A28D-B0FE5F43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94E-0F82-49E4-A594-18BD760A7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FC2-6A17-40CA-B432-4DD1D578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C8D-B02E-47A1-9E97-B0372F3F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FC1-3340-4412-8733-6B0B8E89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E67F-94EA-4D94-BCEB-789F9519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BC75-0080-428F-BE53-4F45DF77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B72-7D17-4A37-8342-D50BF1B9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F52-CA83-4377-8E36-3B482357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DB10-AA6F-4AC0-9C4F-9460F557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CB41-74F5-44C6-B35B-8D0E0671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2A8C-ECBB-4EBB-B391-B8E63CEBFC3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të e Qarkullimit të Parave Kriminale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sioni 1.4.2/Ora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13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Mushkave të Par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pentenca procedurale janë të disponueshme / kanë lidhje me identifikimin / aktivitetin e mushkave të par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ANSFERTAT NDËRKOMBËT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ertat Ndërkombët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erimet ndërkombëtare të llojeve të ndryshme përdoren nga kriminelët për ta bërë më të vështirë gjurmimin e të ardhurave nga krim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ertat ndërkombëtare mund të realizohen me anë të llogarive bankare, monedhave virtuale, shërbimeve të pagesave në Internet, shërbimeve të remitancave, etj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ertat Ndërkombët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sfida lindin në hetimin, kontrollin, sekuestrimin dhe konfiskimin e fondeve kriminale kur fondet janë transferuar ndërkombëtarish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Transfertave Ndërkombët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minelët marrin kontrollin e (për shembull) llogarisë bankare të kompromentuar të klient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ndet transferohen tek mushkat (ndërmjetësit) në të njëjtin juridik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hkat (ndërmjetësit) transferojnë fondet me transfertë bankare ndërkombëtare tek një person juridik ose fizik në një juridiksion tjetë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6560" y="112536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Transfertave Ndërkombët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transfertave ndërkombët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Transfertave Ndërkombët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I: Cilat janë kompetencat procedural janë në dispozicion / kanë lidhje me identifikimin / përdorimin e transfertave ndërkombët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EDHAT VIRTU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dhat virtuale dhe paratë elektron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29970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monedha virtuale dhe para elektronike njih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minolog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edhë virtua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Një monedhë virtuale është një përfaqësim digjital i vlerës që mund të tregtohet në Internet dhe funksionon si (1) mjet shkëmbimi; (2) njësi e llogarisë; dhe / ose (3) një aset me vlerë, por nuk ka statusin e parave zyrtare në asnjë juridik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atë elektronik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onedha virtuale dallon nga paraja elektronike, e cila është një përfaqësim digjital i monedhës fiat që përdoret për të transferuar në mënyrë elektronike vlera të denominuara në monedhën fiat. Paraja elektronike është një mekanizëm transferimi digjital për monedhën fiat – d.m.th transferon në mënyrë elektronike vlerën që ka statusin e monedhës së ligjsh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edha digjita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Monedha digjitale është një përfaqësim digjital ose i monedhës virtuale (jo-fiat) ose e parave elektronike (fia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e kriminale të përdorimit t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hkave (ndërmjetësve) të Par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tave Ndërkombët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dhave Virtu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edhat virtulae dhe paratë elektron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 mendoni se është rëndësia e shprehjes "përfaqësim digjital" në përkufizimet e mësipër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tegorizimi i Monedhave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 konvertuesh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jë monedhë virtuale e konvertueshme ka vlerë ekuivalente në monedhën reale dhe mund të shkëmbehet për valutë reale. Shembuj: Bitcoin, Second Life Linden Dollars, webMone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 pa konvertuesh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jë monedhë virtuale e pa konvertueshme ka për qëllim të jetë specifike për një fushë ose botë të veçantë virtuale, dhe sipas rregullave që rregullojnë përdorimin e saj nuk mund të shkëmbehet me valutë fiat. Shembuj: Q Coins, World of Warcraft Go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 centralizu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nedhat virtuale të centralizuara kanë një autoritet të vetëm administrativ (p.sh. një palë të tretë) që kontrollon sistemin. Administratori lëshon monedhën, përcakton rregullat për përdorimin e saj, mban një regjistër qendror të pagesave dhe ka autorizim për të riblerë monedhën. Shembuj: Linden Dollars, WebMoney, World of Warcraft Go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E decentralizu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onedhat virtuale të decentralizuara janë monedha virtuale shpërndahen bazuar në matematikë, nga një përdorues tek tjetri, që nuk kanë autoritet qendror administrimi, pa monitorim qendror dhe pa mbikëqyrje. Shembuj: Bitcoin, LiteCoin, Ripp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Bitcoin është një monedhë virtuale e decentralizuar dhe e konvertueshm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aksionet bëhen ndërmjet përdoruesve pa ndërmjetë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aksionet verifikohen duke përdorur një regjistër publik të shpërndarë, të quajtur blockchai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Kërkimi për Bitcoin është procesi përmes të cilit përdoruesit ofrojnë fuqinë e tyre informatike për të verifikuar dhe regjistruar transaksionet me bitcoin në regjistrin blockchain. Për këtë, përdoruesit marrin një shpërblim me bitcoins të sapo krijua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Bitc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rakteristik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sionet globale të mundsh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sione virtualisht të menjëhershme (rreth 10 minuta deri sa të konfirmohet transaksioni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sionet kryhen ndërmjet ID-ve anonime (portofolet digjital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rifa të ulëta (ose zero) për transaksio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aksionet nuk janë të kthyesh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2" descr="MC900434845"/>
          <p:cNvPicPr/>
          <p:nvPr/>
        </p:nvPicPr>
        <p:blipFill>
          <a:blip r:embed="rId1"/>
          <a:stretch/>
        </p:blipFill>
        <p:spPr>
          <a:xfrm>
            <a:off x="5715000" y="2008080"/>
            <a:ext cx="1612800" cy="1613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MP900402149"/>
          <p:cNvPicPr/>
          <p:nvPr/>
        </p:nvPicPr>
        <p:blipFill>
          <a:blip r:embed="rId2"/>
          <a:stretch/>
        </p:blipFill>
        <p:spPr>
          <a:xfrm>
            <a:off x="914400" y="2160720"/>
            <a:ext cx="1447920" cy="1301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pc"/>
          <p:cNvPicPr/>
          <p:nvPr/>
        </p:nvPicPr>
        <p:blipFill>
          <a:blip r:embed="rId3"/>
          <a:stretch/>
        </p:blipFill>
        <p:spPr>
          <a:xfrm>
            <a:off x="3581280" y="3760920"/>
            <a:ext cx="125100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6"/>
          <p:cNvSpPr/>
          <p:nvPr/>
        </p:nvSpPr>
        <p:spPr>
          <a:xfrm>
            <a:off x="685800" y="345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ompjuteri i Klient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5595480" y="353232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rtofoli Digjital për Bitco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3458160" y="505620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frastruktura C&amp;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2362320" y="2770200"/>
            <a:ext cx="3504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Line 21"/>
          <p:cNvSpPr/>
          <p:nvPr/>
        </p:nvSpPr>
        <p:spPr>
          <a:xfrm flipH="1" flipV="1">
            <a:off x="1587240" y="3912840"/>
            <a:ext cx="22222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2286000" y="3836880"/>
            <a:ext cx="152388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23"/>
          <p:cNvSpPr/>
          <p:nvPr/>
        </p:nvSpPr>
        <p:spPr>
          <a:xfrm flipV="1">
            <a:off x="4800600" y="3912840"/>
            <a:ext cx="83808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24"/>
          <p:cNvSpPr/>
          <p:nvPr/>
        </p:nvSpPr>
        <p:spPr>
          <a:xfrm>
            <a:off x="6400800" y="3989520"/>
            <a:ext cx="121932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6" descr="MC900139499"/>
          <p:cNvPicPr/>
          <p:nvPr/>
        </p:nvPicPr>
        <p:blipFill>
          <a:blip r:embed="rId4"/>
          <a:stretch/>
        </p:blipFill>
        <p:spPr>
          <a:xfrm>
            <a:off x="7238880" y="4903920"/>
            <a:ext cx="1320840" cy="1371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MC900445014"/>
          <p:cNvPicPr/>
          <p:nvPr/>
        </p:nvPicPr>
        <p:blipFill>
          <a:blip r:embed="rId5"/>
          <a:stretch/>
        </p:blipFill>
        <p:spPr>
          <a:xfrm>
            <a:off x="1143000" y="2160720"/>
            <a:ext cx="94140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8" descr="robber_clipart"/>
          <p:cNvPicPr/>
          <p:nvPr/>
        </p:nvPicPr>
        <p:blipFill>
          <a:blip r:embed="rId6"/>
          <a:stretch/>
        </p:blipFill>
        <p:spPr>
          <a:xfrm>
            <a:off x="3851280" y="5594400"/>
            <a:ext cx="853920" cy="12193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9"/>
          <p:cNvSpPr/>
          <p:nvPr/>
        </p:nvSpPr>
        <p:spPr>
          <a:xfrm>
            <a:off x="7551000" y="6199200"/>
            <a:ext cx="143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ushk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ndërmjetës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0"/>
          <p:cNvSpPr/>
          <p:nvPr/>
        </p:nvSpPr>
        <p:spPr>
          <a:xfrm>
            <a:off x="2555280" y="609120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Keqbërës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31"/>
          <p:cNvSpPr/>
          <p:nvPr/>
        </p:nvSpPr>
        <p:spPr>
          <a:xfrm flipH="1">
            <a:off x="4787640" y="5970600"/>
            <a:ext cx="2755800" cy="27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dorimi Kriminal i Monedhës Virtuale: Programi Ransom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kosistemi i Monedhës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këmbimi i Monedhave Virtua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dministratori i Monedhave Virtua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ërdoruesi/pronar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ëshuesi i monedhë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rtofoli i Monedhës Virtua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fruesi i portofolit digjit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gtarë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te të tjera (zhvilluesit e programeve kompjuterike etj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dërfaqja midis monedhave virtuale dhe sistemit tradicional financi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MONEDHëS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ndet e fituara në mënyrë kriminale konvertohen në monedhën virtuale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ga ana tjetër, shërbimet kriminale paguhen në monedhën virtua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ga ana tjetër, fondet nxirren nga viktimat në formën e monedhës virtua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onedha virtuale tregtohet ose shkëmbehet për monedhën fia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ër shkak të rregullimit jo konsistent të valutave virtuale, shkëmbimet virtuale të monedhave në të gjitha juridiksionet mund të mos kenë të dhëna adekuate të klientëve dhe / ose detyrime raportim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Monedhave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3284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monedhave virtua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Monedhave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364464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janë kompetencat procedurale që janë të disponueshme / kanë lidhje me identifikimin / përdorimin e monedhave virtua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191592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USHKAT E PARAV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grirja, Sekuestrimi dhe Konfiskimi i Monedhës Virtu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ngrirjen, sekuestrimin dhe konfiskimin e fondeve të mbajtura nga një ofrues i shërbimeve të pagesa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mbledh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e kriminale të përdorimit t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hkave (ndërmjetësve) të par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tat ndërkombët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dhat virtu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3451320" y="4508640"/>
            <a:ext cx="224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Pyetj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shkat e Par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ushkat e parave (ndërmjetësit) janë një komponent i rëndësishëm i shumë skemave të pastrimit të parave onli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ta rekrutohen me një shumëllojshmëri teknikash, që mund të kategorizohen gjerësisht në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hka të vullnetshme, që rekrutohen duke e ditur paraprakisht se po marrin pjesë në aktivitet të paligjshë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hka të pa vullnetshme, që rekrutohen me mashtrim, si p.sh. me anë të një oferte punësimi të rre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483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shkat e vullnetshme vs. të pa vullnetshm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924280"/>
            <a:ext cx="822960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Mushkave të Par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ët rekrutohen ose me dëshirë ose pa dëshirë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ndet transferohen në llogarinë bankare të mushkë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ë pas mushka (ndërmjetësi) ose i tërheq fondet në kesh ose i transferon tek një llogari tjetër (ose jashtë shteti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hka (ndërmjetësi) mban një komi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lera e arrestimit /akuzimit të mushka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farë është një mushkë paras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DISKUTIM: Cili është problemi me mushkat e par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Mushkave të Par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mushkave të par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JB</cp:lastModifiedBy>
  <cp:lastPrinted>2016-05-18T07:38:13Z</cp:lastPrinted>
  <dcterms:modified xsi:type="dcterms:W3CDTF">2017-10-08T07:26:13Z</dcterms:modified>
  <cp:revision>358</cp:revision>
  <dc:subject/>
  <dc:title>PowerPoint Presentation</dc:title>
</cp:coreProperties>
</file>