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A9DA-C918-46EE-8990-7C59EF61FF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0A8-3A50-4BEB-9F91-BAB4BA583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620-7866-40B8-8863-070852980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CFD1-ED62-4071-B463-840700806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63D9-40D2-4D92-9BDB-5EA715B26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EF98-11AE-4DFD-A98C-FDA3FAB61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8E83-2A0D-4E2C-8A51-A08492088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1E5-BD73-474D-9378-0DBFFB4D1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6498-5B39-4A05-BCCD-28DFB5300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74C-CE43-4DFC-BEA0-DFBD84F7A7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4ACC-BE43-4CBB-8C73-3748B6656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1F79-0DD0-45D2-96E7-B606357E5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0F58-6A87-4B98-A167-30D96BF997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FCE6-F524-4302-ADEB-C178DA8103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B8A-86EF-4195-BE1E-8A2876428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4714-4411-4B73-83AA-C4B3DAA64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802-7947-4C72-B1F3-41E1CE7AE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68E-C687-4A6F-91C3-2FFD2B893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017D-5E8D-4134-AEEB-834B258BBF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BC9-B585-4D76-8CF5-C2EB4A855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9933-309F-4431-8412-A6243BE59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BE88-36D9-4658-A3E3-289E71DF0F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77A1-2CD4-4056-BFCF-6CA1D3C618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C7F-4E6D-4C00-A34E-20F2E5BE1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F16A-9E77-4461-B6BA-971A66C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E43-B99B-40A5-976F-67BFCAC2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D84-1526-4127-A9B6-3F6323B5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855-37F5-43DD-8CA0-04A6B8CD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085-C016-4C27-811D-E14C336F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2BA6-86F1-404E-BDFE-22E83E96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CF3-4CCD-4714-B69E-99E7E64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36E-4E05-4604-8E30-7F52CF85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233-304B-49C2-B56C-0EEBB2AE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023B-718C-4889-AF64-6F681356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2E5-984B-47FB-B6AC-57B1099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41BD-242A-48D2-9981-80E1DFCA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9AD4-E1E4-4F85-8CFF-465A18A5E5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4.2/Ora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8900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të jo aktive tashmë kuptohen mirë si  teknika për pastrimin e para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jo teknikë pastrimi parash përdoret edhe në botën virtuale, kryesisht në përpjekje për t’i bërë transaksionet të duken të ligj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umat e fondeve të transferuara drejt shoqërive jo aktive priren të jenë më të mëdha sesa shumat që transferohen tek/nga mushkat (ndërmjetësit) individu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: 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shoqëri pa aktivitet biznesi, pa aktiv ose pasiv, të themeluara vetëm me qëllimin e pasjes së llogarive banka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(ose llogaritë e tyre bankare) shpesh ndodhen në juridiksione të huaja në vendndodhjen e veprës pena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oqëritë jo aktive janë fasadë ligjshmërie për transfertat nga banka e pagues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qëritë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sfidash të tjera dalin kur shoqëritë jo aktive përdoren për të ardhurat e krim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oqërive jo Aktive (Shembull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themelon një shoqëri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hap një llogari bankare në emër të shoqërisë jo aktive në një juridiksion të hua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qbërësi kryen aktivitet mashtrues dhe transferon fonde nga llogaritë e viktimës në llogarinë bankare të shoqërisë jo ak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3213000"/>
            <a:ext cx="822960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oqërive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oqërive jo Ak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në dispozicion / kanë lidhje me ngrirjen, sekuestrimin dhe konfiskimin e fondeve që mbahen nga shoqëritë jo ak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8446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rtat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ejojnë që vlerat të jenë të lidhura paraprakisht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e një kartë pages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y llojesh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mbyllura: mund të përdoren vetëm me një shoqëri ose dyqan të caktuar (p.sh. kartat për dhurata) dhe me to mund të bëhen blerje dhe të përdoren në mënyrë anon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arta me parapagim të hapura: të lëshuara nga banka, karta krediti ose institucion financiar tjetër. Mund të përdoren njësoj si kartat e tjera për pages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njëjta tipologji përdoret për kartat e rimbushjes së telefonave celularë dhe telefonat celularë të parapagu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t marrin fonde, p.sh. nëpërmjet programeve malware për marrjen e paautorizuar të të dhënave banka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ndet transferohet tek një mushkë (ndërmjetës) paras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 (ndërmjetësi) tërheq para kesh dhe i përdor ato për blerjen e kartave me parapagi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ë pas kartat përdoren ose shiten. Kur shiten, kartat zakonisht shiten më pak sesa vlera e tyre nomina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tregtar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t e lojrave dhe të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Kartave me Parapag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kartave me parapagi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TFORMAT E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ësojnë lojrat e llojeve të ndryshme onlin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konisht fondet hyjnë/dalin nëpërmjet sektorit bankar të zakonshëm (p.sh. transferim fondesh, kartë krediti/debiti, etj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usi ligjor i paqëndrueshëm dhe rregullimi i lojërave të fatit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ipologjia e Lojrave të Fatit Online (Shembull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205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t dhe bashkëpunëtorët kanë shumë karta krediti të vjedhura për t’i konvertuar në kes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mban kartë me parapagim (ose kartë tjetër kur duhen vendosur fonde të pastruara) dhe bashkëpunëtorët e tij mbajnë karta krediti të vjedhu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dhe bashkëpunëtorët hyjnë në platformën e lojrave të fatit dhe transferojnë fonde në llogaritë e tyre të lojrave të fat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embull, keqbërësi dhe bashkëpunëtorët hyjnë në një dhomë pokeri së bashk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hkëpunëtorët qëllimisht humbasin lojën kundër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imet transferohen në llogarinë e lojrave të fatit online të keqbërës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qbërësi transferon fonde në kartën e pagesës në dispozicionin e tyre, e cila më pas përdoret ose shit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1420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Platformave të Lojrave të Fatit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platformave të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grirja, Sekuestrimi dhe Konfiskimi i Fondeve nga Platformat e Lojrave të Fatit Onli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nga platformat e lojërave të fatit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të krimit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erjes nëpërmjet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qërive jo Ak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rtave me Parapagi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tformave të lojrave dhe tregtisë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LERJA NËPËRMJET INTERNET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3451320" y="45813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 nëpërmjet Internet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arrin të futet tek të dhënat e kartës së kompromentuar ose kredencialet banka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blen mallra (p.sh. Biletë avioni) duke përdorur kredencialet e kompromentuar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nxjerr biletat e avionit në shitje në një faqe Interneti për ankand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kush e fiton ankandin dhe i dërgon pagesën keqbërës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eqbërësi i dërgon biletat e avionit fituesit të ankandi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erjet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e aktivitetit të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Blerje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78100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/kanë lidhje me ngrirjen, sekuestrimin dhe konfiskimin e Blerje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9890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HOQËRITË TREGTARE JO AK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5T05:26:57Z</dcterms:modified>
  <cp:revision>362</cp:revision>
  <dc:subject/>
  <dc:title>PowerPoint Presentation</dc:title>
</cp:coreProperties>
</file>