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8408-1D47-4900-926A-EBD6325EB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1F94-31C1-497F-B66A-329BB79DA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4A34-40CA-42D1-9116-61A7BCDD7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9BEF-F3EC-4AF3-B2F3-E2E18C9F0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AC9C-206A-4744-BE1F-C0056E730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6CD7-0E59-4C52-9D3C-A226436FC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0CFA-4FB6-47AA-B4BA-290F980F3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4FFD-000B-4A2F-8F16-749055C6F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E0A3-6CD0-4E22-9EFD-373FB8EEA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BFDB-1986-4B87-988F-279C5AB69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2762-AF52-487C-8AEF-CC6C588D1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7F05-A0B1-4DD6-B9CD-CC0C6FEA6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BD45-1F88-4BDD-A317-DA563863D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83F1-953C-4DB4-9629-69030FD18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2203-27D0-48C6-8AED-3AE6C3681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40BE-3034-44FD-970E-7DED98C72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B4B9-DC3E-41BE-8290-9822B47F8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E6BB-E76E-4670-9038-6496853D4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4990-9600-48A4-986C-F37E062CE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3CDA-10FE-4276-AE90-1679E6D8F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7FEF-2637-4446-B25B-2C5047508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2CF8-2DDF-492C-B955-E4B98733A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C0E-B407-46DE-9CA1-2F94225A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A38-CBE8-4808-A297-797CCC9E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EA6-17DB-4EB3-AEE7-6BDD9948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B5E-FDB4-404D-804C-27F43393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E41-6B04-40A9-B553-E6BFE4A1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F07D-613B-42D6-84B9-93665D0C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268-1EC4-4340-8C1F-0400E0D7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3107-AB97-4FE5-A755-7C2B8076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41B-6887-4323-B692-7CD490BE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409-0DF3-4B11-837E-A4B5F475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DA9-AC2E-4F24-97C8-3447C97C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AC9-DE4B-45F8-A25C-1547D477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FF5F-C1DF-460E-93FF-1053262832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të e Qarkullimit të Parave Kriminale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ioni 1.4.2/Ora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77724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ANSFERTAT BANKARE, MARRJA E KONTROLLIT TW/HAPJA E LLOGARIVE BANK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ërbimet tradicionale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minelët kibernetikë vazhdojnë të mbështeten në shërbimet tradicionale bank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jo është veçanërisht e rëndësishme në çështjet që kanë të bëjnë me tërheqjen e parave nga llogaritë bankare të viktimë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ërbimet tradicionale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Brenda sektorit bankar tradicional, cilat teknika mund të përdoren për të fshehur burimet e fondeve të nxjerra nga llogaria bankare e viktimë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Transfertës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logaritë bankare të viktimave komprometohen përmes teknikave të ndryshme të krimit në Internet (p.sh. Nëpërmjet programeve phishing, malware për marrjen e paautorizuar të të dhënav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ërfitues të rinj i shtohen llogarisë bankare të viktimës dhe fondet transferohen në llogaritë e mushkave (ndërmjetësv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ndet tërhiqen në para kesh ose transferohen në destinacione të tje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tat bëhen në sasi të vogla për të shmangur limitet e raportimi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uktura komplekse të transfertave të pakuptimta në llogaritë e mushkave (ndërmjetësve) përdoren për të fshehur burimin e fonde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brojtja e Klientë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kontrollesh përdorin institucionet financiare për të parandaluar keqpërdorimin e kredencialeve bankare të kompromentuara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35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ransfertave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9970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e mund të përdoren për të demonstruar përdorimin e transfertave bank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ransfertave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transfertave bank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ËRHEQJET E PARAVE KE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sfidash paraqesin paratë kesh për keqbërësit kibernetikë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350028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Tërheqjes së Parave K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ë disa raste të krimit kibernetik, siç është krimi në lidhje me kartën e pagesave, të ardhurat nga krimet tërhiqen menjëherë në para kes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ë raste të tjera, të ardhurat nga llojet e tjera të krimit transferohen në llogaritë e mushkave (ndërmjetësve), nga të cilat tërhiqen më pa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ratë kesh zakonisht rifuten në sistemin financiar përmes një shumëllojshmërie teknikash të tilla si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erja e kartave të debisë të llojeve të ndryshme (p.sh. Krediti i dyqaneve, krediti i telefonave celularë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ërdorimi i mushkave (ndërmjetësve) të parave ose llogaritë bankare të kompromentua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ë kriminale të përdorimit të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ruesve të Remitanc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tat bankare, Marrja/Hapja e Llogarive Bank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ërheqja e pa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ërbimet e pagesave në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Tërheqjeve K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tërheqjeve të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ërheqjeve të Parave K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tërheqjeve të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GESAT E SHËRBIMEVE NË 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është një Shërbim i Pagesave në Intern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Shërbimit të Pagesa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42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ndet e fituara kriminalisht transferohen tek një llogari e Shërbimit të Pagesave në Interne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y altern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ërbimi i Pagesave në Internet ofron shërbime të ngjashme me një llogari bankare online, rast në të cilin përdoren tipologji të ngjashme me "transfertat bankare/krijimin/marrjen e kontrollit të llogarisë bankare"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ndet e mbajtura me Shërbimin e Pagesave në Internet përdoren për të blerë produkte dhe shërbime në Interne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Shërbimeve të Pagesa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85228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Shërbimeve të Pagesa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Shërbimeve të Pagesa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shërbimeve të pagesa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fondeve të Shërbimeve të Pagesa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3500280"/>
            <a:ext cx="8229600" cy="26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w lidhje me ngrirjen, sekuestrimin dhe konfiskimin e fondeve të mbajtura nga një ofrues i shërbimeve të pagesa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kriminale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ruesit e Remitanc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tat Bankare, Hapja/marrja kontroll e Llogarive Bank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ërheqjet ke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ërbimet e Pagesave në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3451320" y="4508640"/>
            <a:ext cx="22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Pyetj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RUESIT E REMITANC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është një ofrues remitancas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637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është një ofrues remitancas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i është problemi me ofruesit e remitanc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Ofruesit të Remitanc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ë (me dijeni dhe pa dijeni) rekrutohen si mushka (ndërmjetës) në skemën e pastrimit, shpesh përmes ofertave të "punës në shtëpi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ë ardhurat nga krimi transferohen në llogaritë bankare të mushkave (ndërmjetësv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hka (ndërmjetësi) tërheq paratë dhe e transferon paranë kesh tek një përfitues të caktu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hka (ndërmjetësi) mban një pagesë si komision për kryerjen e këtij shërbim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imet zakonisht janë të një sasie më të ulët se kufiri i raportimit, për të shmangur zbulimi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ruesit e remitancave përdoren përsëri për të zhvendosur paratë drejt destinacionit përfundimt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Bashkëpunimit për Ofrues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708280"/>
            <a:ext cx="822960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në identifikuar raste kur përdorimi i gjerë i ofruesve të remitancave të veçanta ka krijuar shqetësime rreth bashkëveprimit të mundshëm ose infiltrimit të këtyre biznese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1267920"/>
            <a:ext cx="90360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Ofruesit të Remitanc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ofruesve të remitanc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785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Ofruesit të Remitanc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ofruesve të remitanc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ori</cp:lastModifiedBy>
  <cp:lastPrinted>2016-05-18T07:38:13Z</cp:lastPrinted>
  <dcterms:modified xsi:type="dcterms:W3CDTF">2017-10-05T14:54:03Z</dcterms:modified>
  <cp:revision>324</cp:revision>
  <dc:subject/>
  <dc:title>PowerPoint Presentation</dc:title>
</cp:coreProperties>
</file>