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D234-0848-4321-8AAD-204396AF0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3D92-FE9E-40C6-8EDD-65F9AB098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1D99-D8F6-4707-B4C4-0C12ADBCB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7905-ECEA-44D9-82DB-01DD4B6A9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3378-79B9-4042-BA99-C0339672D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7F11-8FFB-4538-866B-E8BC94525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978F-842D-411E-AC60-ACFB078AEB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C798-D66B-4496-9D63-1D705033E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0E8B-C010-4F01-B1D0-2FF0DE6CF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AD5E-8106-41CC-AFB9-643AECB9D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469E-6987-4A46-B3FA-23E779714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241B-A676-457E-83C6-C8D3413C2B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D007-51E8-49E9-AEFA-E68A20270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DF92-B4D5-4EC4-B0CF-206B0B1BD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1798-1EC5-4DF8-9E31-24DC65BF4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C324-1FA9-4F35-8075-32D7F3012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D880-4DA5-49D4-8B5D-B86824A59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AED7-EECD-49E0-A609-E8874C7D60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237D-8B29-40BA-81E9-3A20D591D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6777-4728-4963-B91D-03C8A77CC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0DF2-46FF-4ECC-9A48-9FD21CBCF6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AAB8-2F72-4D96-9EEE-D41B73AB8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F08-A099-44FA-9FEF-B30216FF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ECF1-A9C5-47EE-ABD5-591157DD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596C-66F7-4183-B14B-BA9C97D2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B5C4-BEEC-4FF6-81A1-39D7B190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C4A-4CB9-4F44-8AA9-5B7E2835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3685-B7E2-4C7C-93DB-90DA29C6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2D0A-D260-49B8-A8E2-7661974D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FDBC-BCE6-4029-A21A-B43A0A53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A30-6DA9-4DAC-A246-311F09B0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8929-F5DF-4FAA-BBE5-186CF671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55E-9672-4CD7-8BF8-DDCA1F65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616E-05E0-424D-99CA-0268F668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B51F-CDB7-4D85-8917-B72135F4375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të e Qarkullimit të Parave Kriminale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sioni 1.4.2/Ora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2133720"/>
            <a:ext cx="77724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ANSFERTAT BANKARE, MARRJA E KONTROLLIT TW/HAPJA E LLOGARIVE BANK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ërbimet tradicionale bank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minelët kibernetikë vazhdojnë të mbështeten në shërbimet tradicionale bank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jo është veçanërisht e rëndësishme në çështjet që kanë të bëjnë me tërheqjen e parave nga llogaritë bankare të viktimë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ërbimet tradicionale bank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Brenda sektorit bankar tradicional, cilat teknika mund të përdoren për të fshehur burimet e fondeve të nxjerra nga llogaria bankare e viktimë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Transfertës Bank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logaritë bankare të viktimave komprometohen përmes teknikave të ndryshme të krimit në Internet (p.sh. Nëpërmjet programeve phishing, malware për marrjen e paautorizuar të të dhënave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ërfitues të rinj i shtohen llogarisë bankare të viktimës dhe fondet transferohen në llogaritë e mushkave (ndërmjetësve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ndet tërhiqen në para kesh ose transferohen në destinacione të tjer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fertat bëhen në sasi të vogla për të shmangur limitet e raportimi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ruktura komplekse të transfertave të pakuptimta në llogaritë e mushkave (ndërmjetësve) përdoren për të fshehur burimin e fonde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brojtja e Klientë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kontrollesh përdorin institucionet financiare për të parandaluar keqpërdorimin e kredencialeve bankare të kompromentuara on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35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Transfertave Bank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9970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e mund të përdoren për të demonstruar përdorimin e transfertave bank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Transfertave Bank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transfertave bank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34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ËRHEQJET E PARAVE KES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farë sfidash paraqesin paratë kesh për keqbërësit kibernetikë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3500280"/>
            <a:ext cx="82296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Tërheqjes së Parave Ke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ë disa raste të krimit kibernetik, siç është krimi në lidhje me kartën e pagesave, të ardhurat nga krimet tërhiqen menjëherë në para kes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ë raste të tjera, të ardhurat nga llojet e tjera të krimit transferohen në llogaritë e mushkave (ndërmjetësve), nga të cilat tërhiqen më pa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aratë kesh zakonisht rifuten në sistemin financiar përmes një shumëllojshmërie teknikash të tilla si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erja e kartave të debisë të llojeve të ndryshme (p.sh. Krediti i dyqaneve, krediti i telefonave celularë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ërdorimi i mushkave (ndërmjetësve) të parave ose llogaritë bankare të kompromentua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ë kriminale të përdorimit të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ruesve të Remitanc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tat bankare, Marrja/Hapja e Llogarive Bank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ërheqja e par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ërbimet e pagesave në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Tërheqjeve Ke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tërheqjeve të par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Tërheqjeve të Parave Ke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tërheqjeve të par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GESAT E SHËRBIMEVE NË 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farë është një Shërbim i Pagesave në Intern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Shërbimit të Pagesa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420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ndet e fituara kriminalisht transferohen tek një llogari e Shërbimit të Pagesave në Interne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y altern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ërbimi i Pagesave në Internet ofron shërbime të ngjashme me një llogari bankare online, rast në të cilin përdoren tipologji të ngjashme me "transfertat bankare/krijimin/marrjen e kontrollit të llogarisë bankare"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ndet e mbajtura me Shërbimin e Pagesave në Internet përdoren për të blerë produkte dhe shërbime në Interne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Shërbimeve të Pagesa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852280"/>
            <a:ext cx="82296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Shërbimeve të Pagesa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Shërbimeve të Pagesa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shërbimeve të pagesa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grirja, sekuestrimi dhe konfiskimi i fondeve të Shërbimeve të Pagesa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3500280"/>
            <a:ext cx="8229600" cy="26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w lidhje me ngrirjen, sekuestrimin dhe konfiskimin e fondeve të mbajtura nga një ofrues i shërbimeve të pagesa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mbledh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e kriminale të përdorimit t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ruesit e Remitanc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tat Bankare, Hapja/marrja kontroll e Llogarive Bank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ërheqjet ke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ërbimet e Pagesave në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3451320" y="4508640"/>
            <a:ext cx="224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Pyetj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FRUESIT E REMITANC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farë është një ofrues remitancas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2637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farë është një ofrues remitancas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i është problemi me ofruesit e remitanc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Ofruesit të Remitanc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ë (me dijeni dhe pa dijeni) rekrutohen si mushka (ndërmjetës) në skemën e pastrimit, shpesh përmes ofertave të "punës në shtëpi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ë ardhurat nga krimi transferohen në llogaritë bankare të mushkave (ndërmjetësve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shka (ndërmjetësi) tërheq paratë dhe e transferon paranë kesh tek një përfitues të caktu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shka (ndërmjetësi) mban një pagesë si komision për kryerjen e këtij shërbim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erimet zakonisht janë të një sasie më të ulët se kufiri i raportimit, për të shmangur zbulimi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ruesit e remitancave përdoren përsëri për të zhvendosur paratë drejt destinacionit përfundimt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Bashkëpunimit për Ofrues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2708280"/>
            <a:ext cx="822960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në identifikuar raste kur përdorimi i gjerë i ofruesve të remitancave të veçanta ka krijuar shqetësime rreth bashkëveprimit të mundshëm ose infiltrimit të këtyre biznese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1267920"/>
            <a:ext cx="90360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Ofruesit të Remitanc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ofruesve të remitanc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8785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Ofruesit të Remitanc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ofruesve të remitanc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ori</cp:lastModifiedBy>
  <cp:lastPrinted>2016-05-18T07:38:13Z</cp:lastPrinted>
  <dcterms:modified xsi:type="dcterms:W3CDTF">2017-10-05T14:54:03Z</dcterms:modified>
  <cp:revision>324</cp:revision>
  <dc:subject/>
  <dc:title>PowerPoint Presentation</dc:title>
</cp:coreProperties>
</file>