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874250" cy="67246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874800" cy="672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255840" y="504360"/>
            <a:ext cx="3362400" cy="25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6386040"/>
            <a:ext cx="42782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592240" y="6386040"/>
            <a:ext cx="428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8A6C-5190-431E-B638-0BAFC5126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2799-2974-40D6-8EBD-A5AB57575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054F-770C-4F26-B494-46304C5D2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0BDB-6414-4BAE-B3EB-1BBD7EA8B5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3255840" y="506520"/>
            <a:ext cx="3357720" cy="2517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316160" y="3193560"/>
            <a:ext cx="7238880" cy="30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258-023C-42D0-8B65-91356ED175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A8AF-E879-45E8-ADAA-B8B55B489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5CE2-55CD-4BCA-8D85-F2EFEF50C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0D1B-FB1D-49B3-8D32-BB2BEAF19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B02C-10DE-43B5-9385-27104ADC34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CA2C-8D20-4C4A-B8EF-5ED0EFE44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FB02-3466-4F12-A539-4D69F845B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3053-F834-4284-869D-D6A96CB05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63E6-3210-4B03-8867-7BE0BE683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10EA-605E-43B4-8F99-E127E011B0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FFE7-DAC8-4299-8ACB-264C21502B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9B0A-2A1D-4164-8A97-FE43DDA9B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88C9-CA61-4D5A-A49F-BB3819781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3C38-F204-47DA-8700-1A1D67C9A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7BF8-E82F-4A7B-BE0C-E98D55E07A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2AC5-187E-4C50-A83C-3FFFEAD91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2A38-627E-4C22-B3BE-BFEB12F3D7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B7E3-527A-480B-BE61-065EB6262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43AF-D372-46E1-B166-8BCAF4C73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56E6-29B2-481F-8BCA-1E00EC2451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E2DD-9C09-4F80-B079-3AAD8652A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CF9C-27C4-401E-B610-F49135A14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99A-C92F-4E8F-8D49-E5C7C26E77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7856-C348-4351-A11A-DF114886A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553A-F63B-4CDB-818E-37A25330C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255840" y="504720"/>
            <a:ext cx="3362400" cy="25210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87120" y="3193560"/>
            <a:ext cx="78994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592600" y="6386400"/>
            <a:ext cx="4280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E98E-2214-41C5-941D-07E8A89B66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F98-1EDB-407E-B77F-0CE3BDF0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D8D-055B-46CA-B6DC-83B3DFAF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66C-2A07-4C59-8A0B-9D1BBDF6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5080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3240" y="22762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36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5080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3240" y="4322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D85-F1D8-4CDD-AD37-170CB96D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213-5C64-4B6B-B84C-84D5E137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FCE-7047-4C07-84DC-A8C7E164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736-1101-403A-84C7-6381D848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375-F018-4A84-9B31-A9042400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360" y="1052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35B-3948-48BA-9500-2A2E513A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EB40-F9ED-46F9-8605-9AF76BFC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400" y="4322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3F9F-ADBB-4D15-977A-438F6C8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762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322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8C5-25B0-4A12-9305-810EC92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E752-6FAE-4D8C-ABAC-ECD8547C631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4" descr=""/>
          <p:cNvPicPr/>
          <p:nvPr/>
        </p:nvPicPr>
        <p:blipFill>
          <a:blip r:embed="rId2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7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  <a:ea typeface="MS PGothic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MS PGothic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3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-36360" y="-27000"/>
            <a:ext cx="9180360" cy="1079640"/>
          </a:xfrm>
          <a:prstGeom prst="rect">
            <a:avLst/>
          </a:prstGeom>
          <a:solidFill>
            <a:srgbClr val="2f61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-9360" y="-22320"/>
            <a:ext cx="1322280" cy="107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13"/>
          <p:cNvSpPr/>
          <p:nvPr/>
        </p:nvSpPr>
        <p:spPr>
          <a:xfrm>
            <a:off x="1258920" y="-33480"/>
            <a:ext cx="3817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Narrow"/>
              </a:rPr>
              <a:t>iPROCEE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</a:rPr>
              <a:t>Project on targeting crime proceeds on the Internet in South-eastern Europe and Turke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0" y="6813720"/>
            <a:ext cx="9180360" cy="5868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-36360" y="6669000"/>
            <a:ext cx="9180360" cy="239760"/>
          </a:xfrm>
          <a:prstGeom prst="rect">
            <a:avLst/>
          </a:prstGeom>
          <a:gradFill rotWithShape="0">
            <a:gsLst>
              <a:gs pos="0">
                <a:srgbClr val="133555"/>
              </a:gs>
              <a:gs pos="100000">
                <a:srgbClr val="2861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http://www.coe.int/documents/16695/995226/Funded+EU%2BCOE+-+Implemented+COE+dark+background.png/643b8f9d-517b-4fad-82f4-488bde2625b0?t=1375371137000?t=1375371137000"/>
          <p:cNvPicPr/>
          <p:nvPr/>
        </p:nvPicPr>
        <p:blipFill>
          <a:blip r:embed="rId2"/>
          <a:stretch/>
        </p:blipFill>
        <p:spPr>
          <a:xfrm>
            <a:off x="4876920" y="189000"/>
            <a:ext cx="4087800" cy="711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ikimi i të Dyshuarve në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ioni 1.1.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227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sta elektronike nuk dërgohet direkt nga një person tek një tjetër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r përdoret një teknikë e njohur si “ruaj dhe përcill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ë dhënat e ruajtjes dhe përcjelljes së një mesazhi të caktuar të postës elektronike janë të lidhura me atë mesaz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Çdo person ka një server të postës në dalje dhe posta elektronike dërgohet siç tregohet në slajdin pasu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sazhi elektronik nuk dërgohet direkt nga një person tek një tjetë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 përdoret një teknikë e njohur si “ruaj dhe përcill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Çdo person ka një server të postës në dalje dhe në hyrje dhe mesazhi elektronik dërgohet dhe mbërrin siç tregohet në slajdin pas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6877080" y="4076640"/>
            <a:ext cx="574560" cy="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Line 3"/>
          <p:cNvSpPr/>
          <p:nvPr/>
        </p:nvSpPr>
        <p:spPr>
          <a:xfrm flipV="1">
            <a:off x="1332000" y="4365360"/>
            <a:ext cx="934920" cy="863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 flipV="1">
            <a:off x="2700360" y="3141360"/>
            <a:ext cx="792000" cy="6462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5"/>
          <p:cNvSpPr/>
          <p:nvPr/>
        </p:nvSpPr>
        <p:spPr>
          <a:xfrm>
            <a:off x="5219640" y="2924280"/>
            <a:ext cx="863640" cy="79380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6"/>
          <p:cNvSpPr/>
          <p:nvPr/>
        </p:nvSpPr>
        <p:spPr>
          <a:xfrm>
            <a:off x="7885080" y="4365720"/>
            <a:ext cx="0" cy="647640"/>
          </a:xfrm>
          <a:prstGeom prst="line">
            <a:avLst/>
          </a:prstGeom>
          <a:ln w="572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loud"/>
          <p:cNvSpPr/>
          <p:nvPr/>
        </p:nvSpPr>
        <p:spPr>
          <a:xfrm>
            <a:off x="2916360" y="1197000"/>
            <a:ext cx="3168360" cy="2124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omputr2"/>
          <p:cNvSpPr/>
          <p:nvPr/>
        </p:nvSpPr>
        <p:spPr>
          <a:xfrm>
            <a:off x="539640" y="5013360"/>
            <a:ext cx="1800360" cy="1512720"/>
          </a:xfrm>
          <a:custGeom>
            <a:avLst/>
            <a:gdLst>
              <a:gd name="textAreaLeft" fmla="*/ 516240 w 1800360"/>
              <a:gd name="textAreaRight" fmla="*/ 1297440 w 1800360"/>
              <a:gd name="textAreaTop" fmla="*/ 133920 h 1512720"/>
              <a:gd name="textAreaBottom" fmla="*/ 682560 h 1512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omputr2"/>
          <p:cNvSpPr/>
          <p:nvPr/>
        </p:nvSpPr>
        <p:spPr>
          <a:xfrm>
            <a:off x="6875640" y="5013360"/>
            <a:ext cx="1800000" cy="1511280"/>
          </a:xfrm>
          <a:custGeom>
            <a:avLst/>
            <a:gdLst>
              <a:gd name="textAreaLeft" fmla="*/ 516240 w 1800000"/>
              <a:gd name="textAreaRight" fmla="*/ 1297080 w 1800000"/>
              <a:gd name="textAreaTop" fmla="*/ 133560 h 1511280"/>
              <a:gd name="textAreaBottom" fmla="*/ 681840 h 151128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1835280" y="364500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7451640" y="3716280"/>
            <a:ext cx="10080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PO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6084720" y="3716280"/>
            <a:ext cx="1008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MT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alibri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2362320" y="434340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Kur Alisa klikon butonin SEND, mesazhi elektronik i saj zhvendoset nga kompjuteri i saj tek serveri i postës në dalje të Kompanisë Shërbimofruese e Internetit (ISP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179280" y="249228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ë pas, ISP-ja e Alisës e përcjell mesazhin elektronik nëpërmjet Internet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781680" y="2492280"/>
            <a:ext cx="227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Mesazhi përcillet në serverin e postës në hyrje (POP3) të ISP së Bob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219640" y="4572000"/>
            <a:ext cx="186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Herën tjetër që Bobi lidhet me ISP e tij, mesazhi elektronik i shkarkohet në kompjuerin e t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9"/>
          <p:cNvSpPr/>
          <p:nvPr/>
        </p:nvSpPr>
        <p:spPr>
          <a:xfrm>
            <a:off x="1042920" y="5157720"/>
            <a:ext cx="792360" cy="5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L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0"/>
          <p:cNvSpPr/>
          <p:nvPr/>
        </p:nvSpPr>
        <p:spPr>
          <a:xfrm>
            <a:off x="7380360" y="5157720"/>
            <a:ext cx="792000" cy="57636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alibri"/>
              </a:rPr>
              <a:t>B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2EBC-C3E2-4001-933E-CC904AAE5F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8817120" y="42339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Postës Elektronik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ë mesazh elektronik përbëhet nga dy pjesë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reu: përmban të dhëna se kush e dërgon mesazhin, për kë është, lëndën, datën, etj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he sesi është ruajtur/përcjellë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upi: përmbajtja konkrete e mesazhit elektroni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ë slajdin tjetër tregohet shembulli i një mesazhi me kreu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468360" y="1341360"/>
            <a:ext cx="82296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crosoft Mail Internet Headers Version 2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from xproxy.gmail.com ([66.249.82.197]) by exchange1.trl.org with Microsoft SMTPSVC(6.0.3790.0); Tue, 27 Mar 2007 09:44:54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xproxy.gmail.com with SMTP id h28so988094ëx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or &lt;Jim.Stark@trl.org&gt;; Tue, 27 Mar 2007 00:44:31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omainKey-Signature: a=rsa-sha1; q=dns; c=nofë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=beta; d=gmail.com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h=received:message-id:date:from:to:subject:in-reply-to:mime-version:content-type:reference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=RY8mK69lgiScvczLvTJmfvlXoZa1zUskwwsukAn3jlzblALGzxF/pzpDKyrEnIDyZrKp8VnthCyCgyHOfi7KCHhaseAXG4UAQO8zIbSFDxw6uVN0jUVYQx0a60pjkFBxmdzL/PCDEllSFEExVQB+m0wD/lcGQEgGmecYV1nRmy8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00.14 with SMTP id x14mr6330299ëxb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ceived: by 10.70.122.16 with HTTP; Tue, 27 Mar 2007 00:44:30 -0800 (PS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essage-ID: &lt;95ecf0550603280044n7a18048fs8e37cf2c2ea3a3d8@mail.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Date: Tue, 27 Mar 2007 09:44:30 +0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From: "Jim Stark" &lt;jc.stark@gmail.com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To: "Jim Stark" &lt;Jim.Stark@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ubject: Re: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In-Reply-To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MIME-Version: 1.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ontent-Type: multipart/alternative;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boundary="----=_Part_21605_28805312.1143535470923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ferences: &lt;42675D880C511048AE555539A210615627A281@exchange1.trl.org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Return-Path: jc.stark@gmai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X-OriginalArrivalTime: 27 Mar 2007 08:44:54.0322 (UTC) FILETIME=[E283E920:01C65243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ë Dhënat e Shërbimofruesve Ndërkombët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000" y="227664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ërbimofruesit Ndërkombët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(Facebook, Goog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) 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 të jenë në gjendje t’ju thonë se cila adresë IP u përdor nga një abonent në një kohë të cak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het të dini Identifikimin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ikimin e përdoruesit të rrjetit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Facebook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të dyshuari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ërkohet zakonisht bashkëpunimi ndër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knikat e Hetimit të Masku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ëse tashm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eni një të dyshuar, teknikat e fshehta të hetimit (p.sh. përgjimi) mund të përdoren për të identifikuar adresë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t)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IP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ë përd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nga i dyshu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DHJA E ADRESËS IP ME IDENTITETIN NË JETËN REA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2930040"/>
            <a:ext cx="77724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NSTRIM: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ILA ËSHTË ADRESA IME IP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 j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sa IP mund të lejojë identifikimin 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ompanisë Shërbimofruese të Internet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dndodhjen gjeograf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ktivat e Sesion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freskim: Mësoni se ç’është një adresë 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shkruani si të gjeni adresën IP të të dyshuar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shkruani se si të bëni lidhjen ndërmjet adresës IP të një të dyshuari dhe personit re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ditni tre sfida teknike për identifikimin e të dyshuarve në Inter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ë Dhënat e ISP-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-të i mbajnë zakonisht të dhënat e abonentit që po përdorte një adresë IP të caktuar në një kohë të cak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sa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gjatë mbahen kët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varet nga legjislacioni 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si mund të merren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këto të dhëna varet nga legjislacioni kombë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ë Dhënat e ISP-ve: Pyet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Çfarë përfshihet në marrjen e të dhënave të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nentëve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të ISP-së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të zbuloni se cilës ISP t’i kërkoni të dhëna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ndndodhja gjeografike: Pyet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ga mendoni se vijnë të dhënat e vendndodhjes gjeograf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k ka absolutisht asnjë garanci besueshmëri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se j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jithashtu, jo gjithmonë të çojnë tek një person i caktu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resat IP Statike vs. Dinam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ërkthimi i Adresës së Rrjetit (NA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ha e aktivitetit është e rëndësish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rporat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rporatat që përdorin Përkthimin e Adresës së Rrjetit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(NAT) 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 të kenë të dhëna që mundësojnë lidhjen ndërmjet aktivitetit të të dyshuarit me një adrese IP të brendshme specifik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 si do të realizohet angazhimi me kompaninë do të varet nga legjislacioni kombët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ë dhënat rrallë ekzistojnë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he sikur të gjeni kompjuterin</a:t>
            </a:r>
            <a:r>
              <a:rPr b="0" lang="is-I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ush po e përdorte atë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l i largët i kompjuter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kë aksesi WiF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dorim i VPN-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ISA SFIDA TEKNIKE TË TJER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fi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nd të ndodhë një ngatërresë e qëllimshme apo e paqëllimshme, ligjshme apo e paligjshme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të diskutojmë disa shembuj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ërbimet e anonimizim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Janë në dispozicion 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ë dyja shërbime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e pagesë 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dhe falas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ër të fshehur aktivitetin onlin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rvera rrjeti anonimizues e fshehin specifikisht burimin e aktivitetit të navigimit në rrje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ërbimofruesit anonimizues të postës elektronike e fshehin dërguesin e mesazhit elektronik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rverat IP anonimizues i fshehin të gjitha burimet  e trafikut në Internet</a:t>
            </a:r>
            <a:r>
              <a:rPr b="0" lang="ga-IE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embull</a:t>
            </a:r>
            <a:r>
              <a:rPr b="0" lang="ga-IE" sz="2400" spc="-1" strike="noStrike">
                <a:solidFill>
                  <a:srgbClr val="000000"/>
                </a:solidFill>
                <a:latin typeface="Calibri"/>
              </a:rPr>
              <a:t>: 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8360" y="2276280"/>
            <a:ext cx="8229600" cy="3917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cl8"/>
          <p:cNvPicPr/>
          <p:nvPr/>
        </p:nvPicPr>
        <p:blipFill>
          <a:blip r:embed="rId2"/>
          <a:stretch/>
        </p:blipFill>
        <p:spPr>
          <a:xfrm>
            <a:off x="1042920" y="1197000"/>
            <a:ext cx="7043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resa IP (versioni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resa IP përbëhet nga katër numra ndërmjet 0 dhe 255, të ndarë me pikë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2.3.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0.4.0.18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 edhe një formë të re të adresave IP (versioni 6) që nuk do të diskutohet kët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ipti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Është e mundur që komunikimi të kriptohe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e e gjithë përmbajtja e të gjitha komunikimit mund të jetë e kriptuar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rier Grade N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708280"/>
            <a:ext cx="8229600" cy="34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Një teknikë pë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dhjen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e një numri shumë të mad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ërdoruesish 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me një adresë të vetme 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Përdorur zakonisht për lidhjen në interne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ë rrje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 të</a:t>
            </a:r>
            <a:r>
              <a:rPr b="0" lang="ga-IE" sz="3200" spc="-1" strike="noStrike">
                <a:solidFill>
                  <a:srgbClr val="000000"/>
                </a:solidFill>
                <a:latin typeface="Calibri"/>
              </a:rPr>
              <a:t> telefonisë celul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ërmbledh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Adresat IP janë identifiku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nevojs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m, por jo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mjaftues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aktivitetit online të një person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Lidhja e një adrese IP me një person real është shumë e vështirë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a t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eknologji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për 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bërë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dhe më të vështirë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 gjurmimin e një personi në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nterne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Kudo që është e mundur, duhet të përdoren burime të tjer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ash </a:t>
            </a:r>
            <a:r>
              <a:rPr b="0" lang="ga-IE" sz="3000" spc="-1" strike="noStrike">
                <a:solidFill>
                  <a:srgbClr val="000000"/>
                </a:solidFill>
                <a:latin typeface="Calibri"/>
              </a:rPr>
              <a:t>për të mbështetur provat e adresës I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4"/>
          <p:cNvSpPr/>
          <p:nvPr/>
        </p:nvSpPr>
        <p:spPr>
          <a:xfrm>
            <a:off x="3610440" y="4508640"/>
            <a:ext cx="192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Pyetj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resa IP (versioni 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a adresa IP nuk janë të vlefshme në Internet, për vetëm për përdorim (të brendshëm) priv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.x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92.168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72.16.x.x-172.31.x.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DENTIFIKIMI I ADRESËS IP TË TË DYSHUAR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ktiviteti On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27628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ktiviteti online i një përdoruesi mund të prodhojë të dhë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ëto të dhëna mund të përmbajnë adresën IP të komunikimeve të përdorues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jo mund të jetë një pjesë e rëndësishme e informacionit për identifikimin e një të dyshuar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 nevojshme por jo e mjaftueshm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22762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ktiviteti i navigimit në rrjeti është dërgimi i kërkesave nga një përdorues tek një server rrjeti, dhe kthimi i përgjigjeve nga serveri i rrjetit tek përdoruesi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mati i kërkesave dhe përgjigjeve përshkruhet me anë të përdorimit të një protokolli të njohur si Protokolli i Transferimit të Hipertekstit (HTTP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Zakonisht, një server rrjeti regjistron të gjitha kërkesat në ardhje, duke përfshirë adresën IP nga e cila u dërgua kërkes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2276640"/>
            <a:ext cx="8229600" cy="44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92.220.98.177 - - [23/Sep/2006:21:09:27 -0400] "GET / HTTP/1.0" 206 1729 "-" "Servmon::Monitor::apache/1.03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Tahoma"/>
              </a:rPr>
              <a:t>216.128.130.126 - - [23/Sep/2006:21:30:02 -0400] "GET /pgp/ HTTP/1.0" 200 1871 "http://dir.yahoo.com/Computers_and_Internet/Security_and_Encryption/PGP___Pretty_Good_Privacy/" "Mozilla/4.0 (compatible; MSIE 6.0 [en] win NT 5.1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6.196.73.20 - - [23/Sep/2006:21:33:35 -0400] "GET /pgp/pgpdoc2/pgpdoc2_65.html HTTP/1.0" 200 7185 "-" "Mozilla/5.0 (Slurp/cat; slurp@inktomi.com; http://www.inktomi.com/slurp.html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3.229.162.177 - - [23/Sep/2006:21:34:31 -0400] "GET /stephen/singers/ HTTP/1.1" 200 1936 "http://www.dosado.com/callers/default.htm " "Mozilla/4.0 (compatible; MSIE 5.5; windows 98; win 9x 4.90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38.162.0.41 - - [23/Sep/2006:21:36:27 -0400] "GET /gallery/Colorado02?&amp;page=2 HTTP/1.0" 200 19649 "http://www.google.com/search?q=st+malo+chapel+colorado&amp;hl=en&amp;lr=&amp;ie=UTF-8&amp;start=20&amp;sa=N" "Mozilla/4.76 [en] (windows NT 5.0; U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2.255.212.29 - - [23/Sep/2006:21:51:42 -0400] "GET /cgi- bin/formmail.cgi?recipient=lharleyren49@aol.com&amp;subject= http://www.gildea.com/cgi-bin/formmail.cgi&amp;body=48462427&amp;email=uqizakzbi@aol.com HTTP/1.1" 404 291 "-" "Mozilla/4.0 (compatible; MSIE 5.0; windows 98; DigExt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64.156.198.78 - - [23/Sep/2006:21:52:53 -0400] "GET /wang-center/schedules/wang.html HTTP/1.1" 200 1438 "-" "Mozilla/5.0 (X11; Linux i686; en-US; rv:1.0rc5; OBJR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163.139.58.174 - - [23/Sep/2006:21:54:29 -0400] "GET /sd/ HTTP/1.1" 304 - "-" "Mozilla/4.0 (compatible; MSIE 6.0; windows NT 5.1; .NET CLR 1.0.3705)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205.188.209.51 - - [23/Sep/2006:21:57:23 -0400] "GET / HTTP/1.0" 200 1729 "http://aolsearch.aol.com/dirsearch.adp?query=Gilde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st Praktik: Aktiviteti i Navigimit në Rrj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2276280"/>
            <a:ext cx="8229600" cy="366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16.128.130.12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[23/Sep/2006:21:30:02 -0400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GET /pgp/ HTTP/1.0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20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1871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http://dir.yahoo.com/Computers_and_Internet/Security_and_Encryption/PGP___Pretty_Good_Privacy/"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"Mozilla/4.0 (compatible; MSIE 6.0 [en] win NT 5.1; U)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6:40:18Z</dcterms:created>
  <dc:creator>alexander</dc:creator>
  <dc:description/>
  <dc:language>en-US</dc:language>
  <cp:lastModifiedBy>JB</cp:lastModifiedBy>
  <cp:lastPrinted>2016-05-18T07:38:13Z</cp:lastPrinted>
  <dcterms:modified xsi:type="dcterms:W3CDTF">2017-10-08T07:21:54Z</dcterms:modified>
  <cp:revision>305</cp:revision>
  <dc:subject/>
  <dc:title>PowerPoint Presentation</dc:title>
</cp:coreProperties>
</file>