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F6A3E-D2CE-4349-B93E-51EE9AD94EB7}"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C1164-C3DC-4DFD-A386-44E114A7F1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ëerPoint (ose lloj tjetër i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ajtja e slajdeve në këtë sesion është vetëm një shembull i asaj që mund të përshkruhet në secilën prej trajnimeve lok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isht, seanca në të drejtën kombëtare duhet të përmendë instrumentet ligjore ndërkombëtare të nënshkruara ose të ratifikuara dhe rezultatin e transpozimit të tyre në ligjin vend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saj, një përshkrim i llojeve të krimeve sipas ligjit kombëtar dhe, në fund, nëse sipas rastit, duhet të jepet një përshkrim i çdo specifikimi eventual të të drejtës materiale kombëtare.</a:t>
            </a:r>
            <a:endParaRPr b="0" lang="en-US" sz="1200" spc="-1" strike="noStrike">
              <a:solidFill>
                <a:srgbClr val="000000"/>
              </a:solidFill>
              <a:latin typeface="Calibri"/>
            </a:endParaRPr>
          </a:p>
        </p:txBody>
      </p:sp>
      <p:sp>
        <p:nvSpPr>
          <p:cNvPr id="4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EB8E9-EE0A-49C2-857C-B91CB69DDF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rendit dhe shpjegon temën e paraqitjes sipas Nenit 9. Figura të abuzimit seksual të fëmijëve të vërtetë; imazhe të cilat e përshkruajnë një person që duket të jetë i mitur (nëse është apo jo në të vërtetë një i mitur) që angazhohet në sjellje seksualisht eksplicite; dhe imazhe të cilat edhe pse realiste nuk përfshijnë në të vërtetë një fëmijë të vërtetë të angazhuar në sjellje seksualisht eksplicite. </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0AC6B-D6BC-433D-B950-FF731676E0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rrëshqitje përcakton termin "Minoren" siç përdoret në nenin 9. Qëllimi i këtij përkufizimi është i kufizuar në përshkrimin e fëmijëve realë / fiktivë si objekte seksuale dhe nuk lidhet në asnjë mënyrë me përcaktimin e moshës së pëlqimit për marrëdhëniet seksuale.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45971-E1AC-43DB-8BD3-34745B54D8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që lidhen me shkeljen e të drejtave të autorit dhe të drejtat e ndërlidhura mbrojnë kundër shkeljeve të të drejtave të autorit dhe të drejtave të ndërlidhura online ose të kryera me anë të një sistemi kompjuterik.</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onventa e Budapestit nuk përfshin asnjë dispozitë me një shkelje të veçantë për çështjet e të drejtës së auto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Megjithatë, neni 10 i Konventës i referohet asaj, edhe </a:t>
            </a:r>
            <a:r>
              <a:rPr b="0" lang="en-US" sz="1200" spc="-1" strike="noStrike">
                <a:solidFill>
                  <a:srgbClr val="000000"/>
                </a:solidFill>
                <a:latin typeface="Calibri"/>
              </a:rPr>
              <a:t>pse </a:t>
            </a:r>
            <a:r>
              <a:rPr b="0" lang="hr-HR" sz="1200" spc="-1" strike="noStrike">
                <a:solidFill>
                  <a:srgbClr val="000000"/>
                </a:solidFill>
                <a:latin typeface="Calibri"/>
              </a:rPr>
              <a:t>nuk krijon rregulla konceptuale të reja mbi këtë temë. Përkundrazi, Konventa vetëm thekson se rregullat e mëparshme mbi të drejtën e autorit në botën reale duhet të zbatohen për mjedisin online: ajo që është e ndaluar në jetën reale duhet gjithashtu të ndalohet në internet. Shkeljet e të drejtës së autorit në internet, ose të kryera me anë të një sistemi kompjuterik, duhet të dënohen sikur të ishin kryer në botën reale. Për këtë arsye, Konventa i referohet traktateve dhe marrëveshjeve ndërkombëtare tashmë ekzistuese për këtë çështje (Marrëveshja e Parisit që nga 24 korriku i vitit 1971, Konventa e Bernës dhe traktatet e ëIPO).</a:t>
            </a:r>
            <a:endParaRPr b="0" lang="en-US" sz="1200" spc="-1" strike="noStrike">
              <a:solidFill>
                <a:srgbClr val="000000"/>
              </a:solidFill>
              <a:latin typeface="Calibri"/>
            </a:endParaRPr>
          </a:p>
        </p:txBody>
      </p:sp>
      <p:sp>
        <p:nvSpPr>
          <p:cNvPr id="7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3790E-8840-48D5-BE75-16E0C631ED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menti themelor dhe sjellja e kërkuar sipas nenit 2 është termi “hyrje". Termi nënkupton aktin e hyrjes në tërësi ose në ndonjë pjesë të një sistemi kompjuterik. Neni 2 është neutral teknologjikisht dhe nuk specifikon mjetet me të cilat duhet të bëhet hyrja.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përfshin shkeljen e të drejtave të autorit (dhe të drejtave të përafërta); por jo të drejtave mor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FB10C-E0BD-4F5F-9DEE-C412E4BF48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shtrihet në shkelje të të drejtës së autorit në një shitje tregtare.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4FFB7-D009-4D8A-ACF2-212D61DE0D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y çështje përfundimtare, duke iu referuar të drejtës materiale penale, duhet të merren parasysh në këtë pikë: dënimi i bashkëpunimit, nga njëra anë, dhe përgjegjësia penale e personave juridik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11 i Konventës së Budapestit përshkruan aktet e bashkëpunimit që të gjitha palët në Konventë duhet të marrin parasysh në ligjin e tyre të brendshëm. Sidoqoftë, ajo pranon se krimi në internet shpesh është një aktivitet "shumëpartiak" me shpesh nivele të paqarta të kontributit nga palë të ndryshme, duke e bërë të vështirë për prokurori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eni 12 i Konventës kërkon nga të gjitha Palët kriminalizimin e akteve të personave juridikë. Kjo është një çështje e rëndësishme. Në fakt, brenda Bashkimit Evropian, kriminalizimi i akteve të personave juridik është një temë e rëndësishme dhe shumë e diskutueshme dhe prandaj është në kuadër të Këshillit të Evrop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FA77C-ADF9-4804-8D8F-530DDA0C84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y perspektivat e Bashkimit Evropian dhe të Këshillit të Evropës përfshijnë, të paktën, çdo lloj të përgjegjësisë (penale ose jo) të shoqërive dhe personave të tjerë juridikë me vepra penale të përfaqësuesve të tyre, duke vepruar në përfaqësimin dhe interesat e tyre. Përveç kësaj, Konventa thekson se përgjegjësia e subjekteve juridike ndodh edhe në rast të mungesës së mbikëqyrjes apo kontrollit të një përfaqësuesi ligjor të kompanisë ose personit tjetër juridik mbi dikë nën mbikëqyrjen e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a vende në Evropë preferojnë mjetet juridike civile, në vend të zgjidhjeve penale, për të rregulluar përgjegjësinë e një personi juridik.. </a:t>
            </a:r>
            <a:endParaRPr b="0" lang="en-US" sz="1200" spc="-1" strike="noStrike">
              <a:solidFill>
                <a:srgbClr val="000000"/>
              </a:solidFill>
              <a:latin typeface="Calibri"/>
            </a:endParaRPr>
          </a:p>
        </p:txBody>
      </p:sp>
      <p:sp>
        <p:nvSpPr>
          <p:cNvPr id="7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15348-558D-4C3A-B0CD-2E0C4E8208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parë të mësimit.</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B7798-6788-4171-AC87-F0CB974E455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25 rastet praktike të mëposhtme nuk mund të paraqiten brenda kohës së caktuar. Trajnuesi duhet të zgjedhë disa prej tyre dhe të kalojë nëpër rastet e përzgjedhura duke elaboruar aty ku është e nevojshme në aspekte të veçanta që janë konsideruar të jenë të theksuara gjatë dy pjesëve të para të kursit. Trajnuesi duhet të shpjegojë se si do të zhvillohen materialet dhe se do të ketë kohë për ndërveprim dhe pyetje. Trajnuesi duhet të theksojë se ky trajnim është përgatitur të jetë interaktiv dhe që pjesëmarrësit pritet të marrin pjesë që të gjithë</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B9C7F-4A21-43F7-9E78-3598264B66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Kujtesë për trajneri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ni 2 – HYRJET E PALIGJSHME</a:t>
            </a:r>
            <a:endParaRPr b="0" lang="en-US" sz="500" spc="-1" strike="noStrike">
              <a:solidFill>
                <a:srgbClr val="000000"/>
              </a:solidFill>
              <a:latin typeface="Calibri"/>
            </a:endParaRPr>
          </a:p>
          <a:p>
            <a:pPr indent="0" algn="just">
              <a:lnSpc>
                <a:spcPct val="9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adapton legjislacion të tillë dhe masa të tjera që mund të jenë të nevojshme për të</a:t>
            </a:r>
            <a:r>
              <a:rPr b="0" lang="en-US" sz="1100" spc="-1" strike="noStrike">
                <a:solidFill>
                  <a:srgbClr val="000000"/>
                </a:solidFill>
                <a:latin typeface="Calibri"/>
              </a:rPr>
              <a:t> </a:t>
            </a:r>
            <a:r>
              <a:rPr b="0" lang="sq-AL" sz="1100" spc="-1" strike="noStrike">
                <a:solidFill>
                  <a:srgbClr val="000000"/>
                </a:solidFill>
                <a:latin typeface="Calibri"/>
              </a:rPr>
              <a:t>përcaktuar si vepra penale sipas ligjit të brendshëm, kur kryhet me qëllim hyrja në një pjesë apo në</a:t>
            </a:r>
            <a:r>
              <a:rPr b="0" lang="en-US" sz="1100" spc="-1" strike="noStrike">
                <a:solidFill>
                  <a:srgbClr val="000000"/>
                </a:solidFill>
                <a:latin typeface="Calibri"/>
              </a:rPr>
              <a:t> </a:t>
            </a:r>
            <a:r>
              <a:rPr b="0" lang="sq-AL" sz="1100" spc="-1" strike="noStrike">
                <a:solidFill>
                  <a:srgbClr val="000000"/>
                </a:solidFill>
                <a:latin typeface="Calibri"/>
              </a:rPr>
              <a:t>tërësi të një sistemi kompjuterik pa të drejtë. Një Palë mund të kërkojë që vepra të jetë kryer nga</a:t>
            </a:r>
            <a:r>
              <a:rPr b="0" lang="en-US" sz="1100" spc="-1" strike="noStrike">
                <a:solidFill>
                  <a:srgbClr val="000000"/>
                </a:solidFill>
                <a:latin typeface="Calibri"/>
              </a:rPr>
              <a:t> </a:t>
            </a:r>
            <a:r>
              <a:rPr b="0" lang="sq-AL" sz="1100" spc="-1" strike="noStrike">
                <a:solidFill>
                  <a:srgbClr val="000000"/>
                </a:solidFill>
                <a:latin typeface="Calibri"/>
              </a:rPr>
              <a:t>shkelje e masave të sigurimit, me qëllimin e përftimit të të dhënave kompjuterike ose qëllimet e tjera</a:t>
            </a:r>
            <a:r>
              <a:rPr b="0" lang="en-US" sz="1100" spc="-1" strike="noStrike">
                <a:solidFill>
                  <a:srgbClr val="000000"/>
                </a:solidFill>
                <a:latin typeface="Calibri"/>
              </a:rPr>
              <a:t> </a:t>
            </a:r>
            <a:r>
              <a:rPr b="0" lang="sq-AL" sz="1100" spc="-1" strike="noStrike">
                <a:solidFill>
                  <a:srgbClr val="000000"/>
                </a:solidFill>
                <a:latin typeface="Calibri"/>
              </a:rPr>
              <a:t>të pandershme ose në marrëdhënie me një sistem kompjuterik që është i lidhur me një sistem tjetër</a:t>
            </a:r>
            <a:r>
              <a:rPr b="0" lang="en-US" sz="1100" spc="-1" strike="noStrike">
                <a:solidFill>
                  <a:srgbClr val="000000"/>
                </a:solidFill>
                <a:latin typeface="Calibri"/>
              </a:rPr>
              <a:t> </a:t>
            </a:r>
            <a:r>
              <a:rPr b="0" lang="sq-AL" sz="1100" spc="-1" strike="noStrike">
                <a:solidFill>
                  <a:srgbClr val="000000"/>
                </a:solidFill>
                <a:latin typeface="Calibri"/>
              </a:rPr>
              <a:t>kompjuterik</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është ky rast vepër penale në vendin tuaj dhe nëse po – cili?; cilat janë elementet përbërëse të asaj vepre penal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 për diskutim</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a e paligjshme mbulon veprën themelore të kërcënimeve të rrezikshme dhe sulmeve ndaj sigurisë (për shembull, konfidencialiteti, integriteti dhe disponueshmëria) e sistemeve kompjuterike dhe të dhënave. Ndërhyrje të tilla mund të japin akses në të dhënat konfidenciale (përfshirë fjalëkalimet, informacionin rreth sistemit të synuar) dhe sekretet, përdorimin e sistemit pa pagesë ose madje inkurajojnë hakerët që të bëjnë forma më të rrezikshme të shkeljeve kompjuterike, siç janë mashtrimet kompjuterike, falsifikim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KEDNJ në rastin Copland kundër Mbretërisë së Bashkuar, 62617/00 vendosi që e drejta për respektimin e jetës private dhe familjare zbatohet edhe në të dhënat elektronik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Në këtë rast keqbërësi është dënuar, sepse të gjitha elementet e veprës penale të hyrjes së paligjshme janë kryer sipas ligjit kombëtar, konkretisht (Kroacia - Gjykata Komunale në Split - zgjid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e paautorizu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me das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Motivimi i autorit nuk përbën element të veprës penale (madje kurioziteti i thjeshtë do të dënoh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Lidhur me faktet e këtij rasti - në disa shtete anëtare nuk do të flasim për hyrje të paligjshm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Shtetet palë në Konventën e Budapestit mund të bashkëngjisin ndonjë ose të gjitha elementet kualifikuese të renditura në fjalinë e dytë në dispozitën e nenit 2: cenimi i masave të sigurisë, qëllimi i veçantë për të marrë të dhëna kompjuterike, qëllime të tjera të pandershme që justifikojnë fajësinë kriminale ose kërkesën që vepra është kryer në lidhje me një sistem kompjuterik që është i lidhur në distancë me një sistem tjetër kompjuterik.</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Meqenëse në sistemin ligjor kroat qëllimi nuk është marrë parasysh (përtej qëllimit për të hyrë në një sistem në mënyrë të paligjshme), autori i veprës penale është dënuar pavarësisht mungesës së "qëllimit të pandershëm" (të gjitha sistemet e sulmuara të IT kanë qenë subjekt i testit të penetrimit falas). Në disa shtete anëtare mungesa e një synimi të pandershëm do të kishte parandaluar përgjegjësinë penal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Trajnuesi duhet të dijë përgjigjet në pyetjet sipas ligjit kombëtar ose të diskutojë këtë pyetje në dritën e praktikave gjyqësore nëse nuk është i unifikuar</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C053F-5C1D-4C79-9945-E58C4FAADE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Kujtesë për trajnerin:</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ni 4 – INTERFERENCA E Të DHëNAVE</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sq-AL" sz="1200" spc="-1" strike="noStrike">
                <a:solidFill>
                  <a:srgbClr val="000000"/>
                </a:solidFill>
                <a:latin typeface="Calibri"/>
              </a:rPr>
              <a:t>Çdo Palë duhet të </a:t>
            </a:r>
            <a:r>
              <a:rPr b="0" lang="en-US" sz="1200" spc="-1" strike="noStrike">
                <a:solidFill>
                  <a:srgbClr val="000000"/>
                </a:solidFill>
                <a:latin typeface="Calibri"/>
              </a:rPr>
              <a:t>miratojë </a:t>
            </a:r>
            <a:r>
              <a:rPr b="0" lang="sq-AL" sz="1200" spc="-1" strike="noStrike">
                <a:solidFill>
                  <a:srgbClr val="000000"/>
                </a:solidFill>
                <a:latin typeface="Calibri"/>
              </a:rPr>
              <a:t>një legjislacion të tillë dhe masa të tjera, që mund të jenë të</a:t>
            </a:r>
            <a:r>
              <a:rPr b="0" lang="en-US" sz="1200" spc="-1" strike="noStrike">
                <a:solidFill>
                  <a:srgbClr val="000000"/>
                </a:solidFill>
                <a:latin typeface="Calibri"/>
              </a:rPr>
              <a:t> </a:t>
            </a:r>
            <a:r>
              <a:rPr b="0" lang="sq-AL" sz="1200" spc="-1" strike="noStrike">
                <a:solidFill>
                  <a:srgbClr val="000000"/>
                </a:solidFill>
                <a:latin typeface="Calibri"/>
              </a:rPr>
              <a:t>nevojshme të përcaktojnë si vepra penale sipas ligjit të brendshëm, kur kryhet me qëllim dëmtimi,</a:t>
            </a:r>
            <a:r>
              <a:rPr b="0" lang="en-US" sz="1200" spc="-1" strike="noStrike">
                <a:solidFill>
                  <a:srgbClr val="000000"/>
                </a:solidFill>
                <a:latin typeface="Calibri"/>
              </a:rPr>
              <a:t> </a:t>
            </a:r>
            <a:r>
              <a:rPr b="0" lang="sq-AL" sz="1200" spc="-1" strike="noStrike">
                <a:solidFill>
                  <a:srgbClr val="000000"/>
                </a:solidFill>
                <a:latin typeface="Calibri"/>
              </a:rPr>
              <a:t>fshirja, shtrembërimi, ndryshimi, apo shuarja e të dhënave kompjuterike pa të drejtë</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t>
            </a:r>
            <a:r>
              <a:rPr b="0" lang="sq-AL" sz="1200" spc="-1" strike="noStrike">
                <a:solidFill>
                  <a:srgbClr val="000000"/>
                </a:solidFill>
                <a:latin typeface="Calibri"/>
              </a:rPr>
              <a:t>Një Palë mund të rezervojë të drejtën të kërkojë që veprimi i përshkruar në paragrafin 1</a:t>
            </a:r>
            <a:r>
              <a:rPr b="0" lang="en-US" sz="1200" spc="-1" strike="noStrike">
                <a:solidFill>
                  <a:srgbClr val="000000"/>
                </a:solidFill>
                <a:latin typeface="Calibri"/>
              </a:rPr>
              <a:t> </a:t>
            </a:r>
            <a:r>
              <a:rPr b="0" lang="sq-AL" sz="1200" spc="-1" strike="noStrike">
                <a:solidFill>
                  <a:srgbClr val="000000"/>
                </a:solidFill>
                <a:latin typeface="Calibri"/>
              </a:rPr>
              <a:t>të shkaktojë dëmtime serioze</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6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ilat vepra penale duhet të merren parasysh?</a:t>
            </a:r>
            <a:endParaRPr b="0" lang="en-US" sz="800" spc="-1" strike="noStrike">
              <a:solidFill>
                <a:srgbClr val="000000"/>
              </a:solidFill>
              <a:latin typeface="Calibri"/>
            </a:endParaRPr>
          </a:p>
          <a:p>
            <a:pPr indent="0">
              <a:lnSpc>
                <a:spcPct val="6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pari ka një vjedhje identiteti. Në një "botë reale" do të korrespondonte me përdorimin nga autori, pa të drejtë, të kartës së kalimit të dikujt tjetër për të hyrë në një hapësirë ​​pune. Disa shtete anëtare kanë kriminalizuar vjedhjet e identitetit, por nëse jo, aksesi në përgjithësi konsiderohet i paligjshëm në vetvete.</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ë të vërtetë, së dyti, ka një hyrje të paligjshme. Disa vende përfshijnë elementet përbërëse të kësaj vepre në elementet përbërëse të shkeljes së ndërhyrjeve të të dhënave (si në Kroaci), por në disa vende të tjera shkelja është e dallueshme (si në Francë, ku ekziston vepra penale hyrja e paligjshme, vepra e qëndrimit të paligjshëm në sistemin kompjuterik, dhe vepra e ndërhyrjes Një personi për shembull është dënuar për vjedhje të të dhënave dhe qëndrim të paligjshëm në sistemin kompjuterik, edhe pse hyrja në sistem nuk u gjet i paligjshëm d'appel de Paris Pôle 4, chambre 10 Arrestimi i 5 mars 2014, OL c. Ministère public, https://ëëë.legalis.net/jurisprudences/cour-dappel-de-paris-pole-4-chambre-10- arret-du-5-Fevrier-2014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treti, ekziston një ndërhyrje e të dhënave për shkak të fshirjes së të dhënave kompjuterike pa të drejtë.</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jesëmarrësit duhet të ftohen për t'iu përgjigjur pyetjes në këndvështrimin e legjislacionit të tyre kombët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rajnuesi duhet të dijë përgjigjet në pyetjet sipas ligjit kombëtar ose të diskutojë këtë pyetje në këndvështrimin e praktikave gjyqësore nëse nuk është i unifiku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892E9-5D15-48FA-A696-2131CAA9B5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 INTERFERENCA E SISTEMEVE</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do të adaptojë legjislacionin të tillë dhe masat të tjera që mund të jenë të</a:t>
            </a:r>
            <a:r>
              <a:rPr b="0" lang="en-US" sz="1100" spc="-1" strike="noStrike">
                <a:solidFill>
                  <a:srgbClr val="000000"/>
                </a:solidFill>
                <a:latin typeface="Calibri"/>
              </a:rPr>
              <a:t> </a:t>
            </a:r>
            <a:r>
              <a:rPr b="0" lang="sq-AL" sz="1100" spc="-1" strike="noStrike">
                <a:solidFill>
                  <a:srgbClr val="000000"/>
                </a:solidFill>
                <a:latin typeface="Calibri"/>
              </a:rPr>
              <a:t>nevojshme të përcaktojnë si vepra penale sipas ligjit të brendshëm, kur kryhet me qëllim, pengesat</a:t>
            </a:r>
            <a:r>
              <a:rPr b="0" lang="en-US" sz="1100" spc="-1" strike="noStrike">
                <a:solidFill>
                  <a:srgbClr val="000000"/>
                </a:solidFill>
                <a:latin typeface="Calibri"/>
              </a:rPr>
              <a:t> </a:t>
            </a:r>
            <a:r>
              <a:rPr b="0" lang="sq-AL" sz="1100" spc="-1" strike="noStrike">
                <a:solidFill>
                  <a:srgbClr val="000000"/>
                </a:solidFill>
                <a:latin typeface="Calibri"/>
              </a:rPr>
              <a:t>serioze pa të drejtë të funksionimit të një sistemi kompjuterik nëpërmjet futjes së të dhënave,</a:t>
            </a:r>
            <a:r>
              <a:rPr b="0" lang="en-US" sz="1100" spc="-1" strike="noStrike">
                <a:solidFill>
                  <a:srgbClr val="000000"/>
                </a:solidFill>
                <a:latin typeface="Calibri"/>
              </a:rPr>
              <a:t> </a:t>
            </a:r>
            <a:r>
              <a:rPr b="0" lang="sq-AL" sz="1100" spc="-1" strike="noStrike">
                <a:solidFill>
                  <a:srgbClr val="000000"/>
                </a:solidFill>
                <a:latin typeface="Calibri"/>
              </a:rPr>
              <a:t>transmetimit, dëmtimit, fshirjes, shtrembërimit, ndryshimit apo shuarjes të të dhënave kompjuterike</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700" spc="-1" strike="noStrike">
                <a:solidFill>
                  <a:srgbClr val="000000"/>
                </a:solidFill>
                <a:latin typeface="Calibri"/>
              </a:rPr>
              <a:t>Cila vepër penale është ky rast në vendin tuaj</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A ka kryer autori apo nuk ka të drejtë të ndryshojë një fjalëkalim - dhe a është ky fakt më i rëndësishmi për të përcaktuar veprën sipas ligjit tuaj kombëtar</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Cilat vepra janë të konsiderueshme?</a:t>
            </a: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rast, autori i veprës penale ishte i autorizuar ose kishte të drejtën të ndryshonte fjalëkalimet. Pra, ne nuk mund të flasim për ndërhyrjen e të dhënave ose qasje të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ky autorizim nuk përfshin të drejtën për të mos zbuluar kodin e qasjes për kompaninë, gjë që përbën një pengesë serioze pa të drejtë për funksionimin e një sistemi kompjuterik.</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mënyrë, keqbërësi ka kryer veprën penale të interferencës në sistem. (Kroaci - Gjykata Penale Komunale në Zagreb Ko-74/15 27 Janar 2015).</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pas të drejtës kombëtare, pjesëmarrësit duhet të përgjigjen në pyetjen e mëposhtme: a do të kishte një aktakuzë për 2 vepra apo vetëm për 1 vepër – interferencë e sistemit (konsumimi) nëse keqbërësi nuk kishte të drejtë të ndryshonte një fjalëkal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he nëse përgjigjja është 2 vepra penale - cila prej tyre: ndërhyrja e të dhënave ose hyrja e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akonisht kjo korrespondon me një shkelje me një ose më shumë elemente kualifikuese, por ekziston një bazë për 2 vepra: Ndërhyrja e të dhënave dhe Ndërhyrja e sistemit. (Kroacia nuk ka praktikë të parregull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e pyetjeve sipas ligjit kombëtar ose të diskutojë këtë pyetje duke pasur parasysh praktikat gjyqësore nëse nuk është i unifik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035ED-4AA6-4ECA-8CEC-33C17EA8DD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8 – MASHTRIMET E LIDHURA ME KOMPJUTERë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Çdo Palë do të adaptojë legjislacion të tillë dhe masa të tjera, që mund të jenë të nevojshm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ë përcaktojnë si vepra penale sipas ligjit të brendshëm, kur kryhet me qëllim dhe pa të drej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shkaktimin e humbjes së pasurisë të një tjetri nëpërmj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a) futjes së ndonjë të dhëne, ndryshimin, fshirjen apo heqjen e të dhënave kompjuterik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b) ndonjë interferencë me funksionimin e një sistemi kompjuterik, me synimin e pa</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ershëm e mashtrues për prokurimin pa të drejtë të një përfitimi ekonomik për vete apo për një</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jetër.</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1 – PëRPJEKJET DHE NDIHMAT APO PëRKRAHJE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1.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për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ihmuar apo kryet me qëllim, për të ndihmuar apo kryer një nga veprat penale të përcaktuara n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uthje me nenin 2 deri në 10 të Konventës aktuale, me qëllimin që kjo vepër penale të kryh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nj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jekje për të kryer një nga veprat penale të përcaktuara në përputhje me nenet 5, 7, 8, 9 (1)a dh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9(1)c të kësaj Konvent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3. Çdo Shtet mund të rezervojë të drejtën të mos aplikojë në tërësi apo pjesërisht paragrafin</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të këtij neni.</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i="1" lang="en-US" sz="600" spc="-1" strike="noStrike">
                <a:solidFill>
                  <a:srgbClr val="000000"/>
                </a:solidFill>
                <a:latin typeface="Calibri"/>
              </a:rPr>
              <a:t>Në rolin e një prokurori publik do të akuzonit X dhe Z për të njëjtën vepër apo j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i="1" lang="sv-SE" sz="600" spc="-1" strike="noStrike">
                <a:solidFill>
                  <a:srgbClr val="000000"/>
                </a:solidFill>
                <a:latin typeface="Calibri"/>
              </a:rPr>
              <a:t>Cilat vepra janë të konsiderueshme</a:t>
            </a:r>
            <a:r>
              <a:rPr b="0" i="1" lang="en-US"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është një nga shembujt më të zakonshëm të falsifikimit kompjuterik. Çdo element i vetëm i kësaj vepre është kryer nga X. Ai përdorte llogarinë bankare të Z vetëm për qëllimin për të marrë para pa hapur llogarinë e tij bankar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 ka kryer gjithashtu një vepër penale - duke ndihmuar ose inkurajuar kryerjen e mashtrimit kompjuterik lidhur me veprën penale. Dënohet me të njëjtin dënim. (Kroaci - Gjykata Komunale në Velika Gorica K-545/15, datë 18 Dhjetor 2015).</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në pyetjet sipas ligjit kombëtar ose të diskutojë këtë pyetje duke pasur parasysh praktikën gjyqësore nëse nuk është e unifikuar.</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F1083-5631-4133-8A52-A38BE400CE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 spc="-1" strike="noStrike">
                <a:solidFill>
                  <a:srgbClr val="000000"/>
                </a:solidFill>
                <a:latin typeface="Calibri"/>
              </a:rPr>
              <a:t>Kujtesë për trajner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eni 9 – VEPRAT PENALE Të LIDHURA ME PORNOGRAFINë E FëMIJëVE</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Çdo Palë do të adaptojë legjislacion të tillë dhe masa të tjera, që mund të jenë të nevo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të përcaktojnë si vepra penale sipas ligjit të brendshëm, kur kryhet me qëllim dhe pa të drejtë, n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rejtimet e mëposht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prodhimin e pornografisë me fëmijë, me qëllimin e shpërndarjes së tij nëpërmjet 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ofrimi apo vënia në disponim e pornografisë për fëmijë nëpërmjet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shpërndarja apo transmetimi i pornografisë për fëmijë nëpërmjet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 prokurimi i pornografisë për fëmijë nëpërmjet një sistemi kompjuterik për vete apo p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jë tjet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zotërimi i pornografisë për fëmijë nëpërmjet një sistemi kompjuterik apo në një mjet 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emorizimit të të dhënave kompjuter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2. Për qëllimin e paragrafit 1 të mësipërm “pornografi me fëmijë” do të përfshijë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pornografik që dallon nga ana pamo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një minoren, i cili angazhohet në drejtime të qarta seksu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një person, i cili duket që është minoren, i angazhuar në drejtime të qarta seksuale;</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imazhe realiste që prezantojnë një minoren të angazhuar në drejtime të qarta seksual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3. Për qëllimin e paragrafit 2 të mësipërm, termi “minoren” do të përfshijë të gjith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ersonat nën moshën 18 vjeç. Një Palë mundet, megjithatë, të kërkojë një limit moshe më të vogë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cila nuk duhet të jetë më pak se 16 vjeç.</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4. Çdo Palë mund të rezervojë të drejtën të mos aplikojë në tërësi apo pjesërisht paragrafin</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1(d) dhe 1(e) dhe 2 d dhe 2 (c).</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Çështj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i="1" lang="en-US" sz="400" spc="-1" strike="noStrike">
                <a:solidFill>
                  <a:srgbClr val="000000"/>
                </a:solidFill>
                <a:latin typeface="Calibri"/>
              </a:rPr>
              <a:t>A është kjo vepër penale - posedimi i pornografisë së fëmijëv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lang="en-US" sz="300" spc="-1" strike="noStrike">
                <a:solidFill>
                  <a:srgbClr val="000000"/>
                </a:solidFill>
                <a:latin typeface="Calibri"/>
              </a:rPr>
              <a:t>Pse?</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Pikat për diskutim</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I akuzuar u lirua në këtë rast para Gjykatës Kroate sepse Gjykata arriti në përfundimin se qëllimi për kryerjen e veprës penale - Posedimi i pornografisë së fëmijëve në sistemin kompjuterik - mungonte. Qëllimi i drejtpërdrejtë është një element përbërës për këtë vepër penale. (Gjykata e Qarkut në Osijek, Kž-339 / 08-4, datë 23.5.2008).</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Për këtë arsye, pas këtij rasti, një krim i ri është krijuar në Kroaci, duke dënuar "hyrjen" e thjeshtë në pornografinë e fëmijëv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ë një rast të ngjashëm në Gjermani (Bundesgerichtshof Beschluss vom 10. Oktober 2006 (BGH NStZ 2007 95) gjykata vendosi që "posedimi" përfshin të dhëna që ruhen në mënyrë të parazgjedhur në sistemin kompjuterik, duke përfshirë skedarët e përkohshëm të Internetit, memorien e kujtesës - njerëzit përdorin si një shkurtore për akses më të shpejtë në përmbajtje të ndryshm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Trajnuesi duhet të dijë përgjigjet e pyetjeve sipas ligjit kombëtar ose të diskutojë këtë pyetje në këndvështrimin e praktikave gjyqësore nëse nuk është i unifikua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7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F5223-9F81-4610-828F-F7C42623F6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ka kryer Bobi vepër penale</a:t>
            </a:r>
            <a:r>
              <a:rPr b="0" i="1"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aksesuar Bobi një sy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ishte pa të drejtë akses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u aksesua nga Meri jo Bobi, ajo ka qenë e autorizuar për të hyrë në të dhënat në kompjuter, ajo është e pafajshme. Ishte Bobi i cili, duke vepruar përmes një agjenti të pafajshëm, aksesoi të dhënat në dispozicion. Ai gënjeu Merin (një ilustrim i inxhinierisë sociale), a përbën kjo akses sipas ligj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ë dy Bobi dhe Meri kanë të drejtë të hyjnë në kompjuterin e Policisë, por duke iu nënshtruar kushteve strikte në lidhje me një pyetje legjitime në lidhje me aktivitetin e policisë. Aty ku aksesi tejkalon këtë autorizim, a përbën kjo një kundërvajtj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Bobi të shkonte në stacionin e policisë dhe arrin të shikonte mbi shpatullën e Merit (navigim në shpinë) ndërsa ajo po bën një hetim legjitim në lidhje me pronësinë e Mercedes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avigimi mbi shpinë' ka sjellë aksesin nga Bobi tek të dhënat kompjuterike. Mund të ketë një pyetje për "qëllimin" e tij dhe natyrisht që ai nuk e ka manipuluar sistemin kompjuterik me qëllim që të ketë akses, por ai ende ka akses pa të drejtë (edhe pse kjo do të ishte shumë e vështirë të provohej).</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rast praktik është përgatiru që pjesëmarrësit të marrin në konsideratë çështjen e autorizimit (akses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ve gjithashtu mund të kërkohet të marrin në konsideratë pozicionin nëse Bobi ka shkuar në stacionin e policisë dhe ka shikuar informacionin në lidhje me pronësinë e Mercedesit në një sistem të indeksit të kartës – a është i njëjtë informacioni me atë të mbajtur në kompjuter? Pika këtu është se nuk janë vetë të dhënat që janë të mbrojtura (megjithëse mund të mbrohen nga legjislacioni tjetër i mbrojtjes së të dhënave, ndërkohë që sjellja e gabuar e Bobit mund të përbëjë kundërvajtje), por është pajisja në të cilën ruhen të dhënat që mbroh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istemet kompjuterike të policisë mbajnë një sasi të madhe të informacionit personal në lidhje me individët së bashku me shumë informata delikate. Aksesi në këto të dhëna duhet t'u jepet vetëm atyre që kanë një interes të ligjshëm në të. Në Mbretërinë e Bashkuar, oficerët e policisë dhe operatorët e kompjuterëve të policisë shpesh konstatohen se në mënyrë të paligjshme aksesojnë sistemet e policisë për qëllimet e tyre, p.sh. për të gjetur informacione që mund të jenë me interes për shtypin ose në rastin e zyrtarëve të korruptuar për të zbuluar se çfarë informacioni mbahet për një person të caktuar ose nëse një person ose grup i caktuar janë nën hetim aktiv.</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 të paligjshë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është arritur ky interceptim me mjete tekn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janë transmetuar të dhëna për dhe nga një si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ajisja keylogger është një pajisje teknike që bën kapjen e të dhënave të transmetuara nga terminali. Kjo përbën një përgjim dhe është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lidhje me thirrjet Skype? Në këtë skenar duket se të dhënat udhëtojnë në të njëjtën linjë si të dhënat e tjera të transmetuara nga kompjuteri, por çfarë ndodh nëse përdoruesi kishte një telefon të vetëm Skype? A do të përbënte një sistem kompjuterik një telefon i tillë. Konventa përcakton një 'sistem kompjuterik' çdo pajisje ose grup i pajisjeve të ndërlidhura, një ose më shumë prej të cilave, në përputhje me programin, kryejnë përpunimin automatik të të dhënave; dhe 'të dhëna kompjuterike' si çdo përfaqësim i fakteve, informacioneve ose koncepteve në një formë të përshtatshme për përpunim në një sistem kompjuterik, duke përfshirë një program të përshtatshëm për të shkaktuar një sistem kompjuterik për të kryer një funk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dorimi i pajisjes audio mund të jetë pak më i vështirë. A është një "përgjim"? Në Mbretërinë e Bashkuar gjykatat kanë pohuar se që të ndodhë një përgjim duhet të ketë ndodhur një lloj ndërhyrjeje në sinjal ndërkohë që është transmetuar në rrjet. Këtu regjistrimi ndodh pavarësisht nga transmetimi, pavarësisht se të njëjtat merret i njëjti informacion, sikur pajisja të ishte vendosur në “li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pajisje keylogger të ishte vendosur në sistem nga Kompania për të siguruar që punonjësit e tyre nuk po e përdorin internetin për një qëllim të papërshtat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humica e sistemeve të telekomunikimit veprojnë në rrjetet publike dhe private. Në pikën ku komunikimi e lë pronën tuaj, ai zhvendoset nga një sistem privat në një sistem publik. Kontrolluesi i një sistemi privat ka të drejtën e aksesit në komunikimet duke përdorur atë sistem; kështu që për shembull, do të jeni në gjendje të monitoroni biseda në linjën tuaj telefonike në shtëpi me kusht që çdo pajisje teknike që keni përdorur për ta bërë këtë është lidhur me anën privat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skenar është përgatitur që pjesëmarrësit të marrin në konsideratë secilin prej elementeve të përgjimit, se ekziston një përgjim i të dhënave kompjuterike gjatë transmetimit të tij me mjete teknike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sit duhet të jenë të qartë se kjo dispozitë është e hartuar për të mbrojtur më tepër përmbajtjen e komunikimeve sesa informacionin që lidhet me adresimin e mesazhit ose koston e shërbimit.</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Çështje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A transmetohet mesazh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ikat për diskuti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humica e shteteve kërkojnë që policia të vendosë një prag të lartë dyshimi përpara autorizimit të përgjimit të përmbajtjes së një komunikimi. Marrja e provave pa autorizimin e kërkuar mund të rezultojë në ndërprerjen e rastit ose provat janë të papranuesh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ompjuterët dhe interneti mundësojnë një numër të formave të ndryshme të komunikimit, p.sh. e-mail, mesazhe të menjëhershme, tëitter, etj. Mesazhet shpesh do të ruhen para se të merren nga marrësi i synuar. A duhet një mesazh që ende duhet të ridergohet të konsiderohet si në transmetim? Nuk ka asnjë mënyrë për të ditur nëse mesazhi i padërguar është lexuar nga marrësi i synuar. A duhet që ligji të ofrojë të njëjtën mbrojtje për ata që me dashje zgjedhin të shkatërrojnë mjetet normale të dërgimit të komunikimeve me postë elektronike ashtu siç u jep atyre që përdorin postën elektronike ashtu siç është projektuar për t'u përdoru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jo është një mënyrë mjaft e zakonshme për kriminelët që të komunikojnë me njëri-tjetrin. Nëse kërkohet që mesazhe të tilla hyjnë në një përgjim apo jo nuk do të varet nga legjislacioni i brendshëm dhe as nga qëndrimi i gjykatave vendore, por mund të jetë me vlerë që pjesëmarrësit të kuptojnë se nëse ata duhet të mbështeten në Ndihmën e Ndërsjellë Juridike për të marrë të dhëna të tilla, shteti i kërkuar mund të marrë parasysh se ajo është një interceptim sepse po kërkohen aksesi në përmbajtjen e një komunikimi dhe do të ketë një prag më të lartë ligjor që duhet të krijohet për të marrë autoritetin e duhur gjyqësor.</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është ky interceptim?</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ende mesazhi zanor gjatë transmetimit të tij?</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pasur një përgjim të të dhënave kompjuterik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risa mesazhi të ketë arritur destinacionin e vet, ndoshta është ende në rrjedhën e transmetimit edhe pse është ruajtur brenda sistemit. Mesazhi ndoshta është duke u ruajtur digjitalisht në serverin e kompanive të telefonit dhe kështu Bobi ka hyrë në të dhënat kompjuterike. A është telefoni një kompjuter? Ndoshta po, ai bën përpunimin automatik të të dhënave. Oficerët e policisë që kryejnë kërkime, që gjejnë telefona mund të kenë nevojë ta marrin në konsideratë këtë, me qëllim që të sigurojnë se ata kanë autoritetin e nevojshëm për të hyrë në mesazhe të tilla. Do të ishte ndryshe nëse marrësi do ta kishte dëgjuar mesazhin dhe do të donte ta ruante atë.</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skenar ngriti probleme të ngjashme me skenarin e mëparshëm. Shërben për të ilustruar se çfarë mund të jetë një situatë mjaft e zakonshme që mund të zbatohet në mënyrë të barabartë tek zyrtarët të cilët, duke ekzekutuar një urdhër kërkimi, konfiskojnë një kompjuter që përmban të dyja mesazhe elektronike të hapura dhe të pahapura. Gjithashtu shërben për të ilustruar se vepra penale e krijuar sipas nenit 3 zbatohet për të gjitha format e transferimit elektronik të të dhënave, qoftë përmes telefonit, faksit, e-mailit ose transferimit të skedarëv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kryer Bobi vepër pena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mundet aksesi i paautorizuar në vetvete të përbëjë shkelje të të dhënave ose ndërhyrj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përbën shkelje fshirja e aksesit të paautorizua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duhet të shkaktohet dëm serioz në funksionimin e kompjuterit përpara se të lindë përgjegjësia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Qëllimi i këtyre dispozitave është mbrojtja e të dhënave kompjuterike dhe programeve kompjuterike të ngjashme me mbrojtjen që gëzon prona kundër shkaktimit të qëllimshëm të dë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nuk ishte i autorizuar për të hyrë në faqen e Forcave Ajrore, ajo ishte e mbrojtur me fjalëkalim. Aksesi pra do të përbënte një vepër penale të aksesit të paligj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ka fshirë të dhënat, skedarët e dosjeve dhe stemën e Forcave Ajrore. Megjithëse ndoshta ka gjeneruar skedarë nga aktiviteti në kompjuter që nuk janë të tij, sepse sistemi është konfiguruar të regjistrojë një aktivitet të tillë. Ai nuk ka të drejtë t'i fshijë ato. Forca Ajrore mund të dëshirojë të dijë se kush e ka aksesuar sistemin e ty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uke ndryshuar imazhin në faqen e parë ai ka fshirë dhe shtuar të dhëna në sistem, të cilat, ndonëse nuk ka gjasa të kenë rezultuar në ndonjë informacion të rëndësishëm që janë humbur, do të ishte një siklet për Forcën Ajrore. Sidoqoftë, më e rëndësishmja edhe pse Bobi mund të pohojë se ai ka hyrë në sistem vetëm për të gjetur informacione dhe se ai vetëm fshiu të dhëna të pa rëndësishme, a mundet një administrator i sistemeve të ketë besim në integritetin e të dhënave pas një ndërhyrjeje të palig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një vepër penale është kryer në këto rrethana, do të jetë çështje e interpretimit lokal. Mund të jetë që pragu i seriozitetit nuk është përcaktuar. Megjithatë, administratori i sistemeve ndoshta do të ndihej i detyruar ta nxirrte uebsajtin offline në mënyrë që të përcaktohej efekti i ndërhyrjes, veçanërisht nëse faqja që është aksesuar përmban të dhëna konfidenciale ose delikate ose përdoret në operacione të cilat, nëse do të përdoreshin keq do të rrezikonin publikun si p.sh. një sistem përgjegjës për drejtimin e një centrali bërtham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për hir të argumentit themi se sistemi që Bobi kishte në dispozicion ishte ai që përdoret për të drejtuar një stacion bërthamor. A do ishin të mjaftueshme veprat penale të përcaktuara në nenet 4 dhe 5 për të reflektuar seriozitetin e një ndërhyrjeje të tillë, që përbën një sulm ndaj Infrastrukturës Kombëtare Kritike?</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kryer vepër në kundërshtim me Nenin 4 ose 5 të Konventës së Budapestit nga personi përgjegjës për dërgimin e spam-it</a:t>
            </a:r>
            <a:r>
              <a:rPr b="0" i="1" lang="en-GB" sz="700" spc="-1" strike="noStrike">
                <a:solidFill>
                  <a:srgbClr val="000000"/>
                </a:solidFill>
                <a:latin typeface="Calibri"/>
              </a:rPr>
              <a: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akses të paautorizuar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janë ndryshuar të dhënat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ndonjë dëmtim të kompjuterit të përdoruesi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dhe pse nuk është shkaktuar dëm, softueri sjell ndryshime të të dhënave në kompjuterin e përdoruesve. Ky ndryshim nuk u autorizua sepse përdoruesit nuk iu dha asnjë paralajmërim ose nuk kërkoi pëlqimin në asnjë mënyrë për modifikimin e kompjuterit të tij. A është dërgimi i vetë Spam-it i paligjshëm ose është thjesht një shqetësim? A bëhet e paligjshme vetëm nëse ka një ndikim negativ?</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qoftë se e-mail-i me bllokim përmbante një skedar bashkëngjitur dhe ftesë për pranuesin për të hapur skedarin bashkëngjitur duke thënë "do të pëlqeni kë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und të argumentohet se marrësi ka zgjedhur dhe në këtë mënyrë ka miratuar shkarkimin e të dhënave në kompjuterin e tij. Megjithatë realiteti është se çdo pëlqim që mund të jetë dhënë nuk ka qenë një pëlqim i informuar edhe pse mund të argumentohet se ata që zgjedhin të hapin skedarët bashkëngjitur nga përfituesit e panjohur e bëjnë këtë duke marrë parasysh rrezikun e tyr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bën ndonjë dallim se përdoruesi nuk kujdeset nëse kompjuteri i tyre u bë pjesë e 'botnet-it' apo j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dërsa navigojmë nëpër internet, ne vizitojmë faqet dhe shkarkojmë të dhëna pa i kushtuar vëmendje natyrës së materialit që mund të hyjë në kompjuterin tonë, por duke u besuar emrave që u jepen faqeve të internetit, emrave të dosjeve ose rezultateve të dhëna nga motorët e kërkimit për të marrë vendimet tona. Duke klikuar mbi imazhin e tablove të një foto për të fituar një imazh të plotë, tregon një ndërgjegjësim për të dhënat që kërkojmë të fitojmë dhe një pëlqim të informuar plotësisht për natyrën e atyre të dhënave. A duhet të klikojmë në imazhin e një veture vetëm për të zbuluar se imazhi i plotë që kemi fituar është ai i një aeroplani që nuk mund të thuhet se ka pëlqimin tonë për marrjen e atyre të dhënav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Zgjedhja për të klikuar një link në një faqe interneti do të rezultojë në shkarkimin e shumë të dhënave. Nëse faqja është e ligjshme, pjesa më e madhe e këtyre të dhënave ndoshta do të lidhen me përmbajtjen e internetit, ndonëse një proporcion mund të përbëhet nga reklamat e vendosura nga palët e treta. Përsëri kemi bërë një zgjedhje të informuar dhe kemi dhënë një pëlqim të nënkuptuar për të marrë shpalljen duke e ditur se kjo është një praktikë e zakonshme në internet. Një praktikë e zakonshme në industrinë e internetit është të shkarkosh të dhëna në shfletuesin e internetit të përdoruesve,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kryejnë një sërë funksionesh duke përfshirë regjistrimin e një historie të shfletimit të internetit të përdoruesve. Një përdoruesi do t’i jepet opsioni për të çaktivizuar funksionin e cookie-t në program, a është një opsion i tillë i mjaftueshëm për të nënkuptuar që përdoruesi më pas ka dhënë pëlqimin për shkarkimin e këtyre të dhënave?</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është kjo vepër interferencë në sistem?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Dërgimi i një email-i përfshin hyrjen ose kërkimin për të hyrë në një sistem kompjuterik, serverin e postës elektronike. Deri në çfarë mase pronari i një serveri të tillë autorizon një akses të till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Nëse keni një adresë e-mail, a nuk do të thotë që jeni duke ftuar të tjerët që t'ju dërgojnë mesazhe postar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yetja ka të bëjë me të drejtën. Bobi ka hyrë në një sistem dhe ka bërë që sistemi të prishet duke futur të dhëna. Duke krijuar një adresë e-mail e cila është e aksesueshme për publikun, pronari i adresës, në mënyrë implicite, jep pëlqimin e tij për marrjen e mesazheve. Bobi mund të argumentojë se policia ka pranuar marrjen e çdo e-mail të veçantë dhe ky nuk është faji i tij që sistemi i tyre nuk kishte aftësinë për të trajtuar aq shumë mesazhe. Por, a është me të vërtetë pëlqim ai i tyre? Pronari i një shtëpie jep një pëlqim të nënkuptuar për postën, që t’i dërgohen letra përmes kutisë së letrës që i drejtohet pronarit. Ekziston edhe një pëlqim i nënkuptuar për të marrë mesazhe të padëshirueshme si reklamat për pizza. Megjithatë, pronari i shtëpisë nuk pranon të marrë aq shumë fletushka se ai nuk është në gjendje të hapë derën e tij të përparm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nuk mund të thuhet gjithashtu se ndryshimi i detajeve të dërguesit të e-mailit, aksesi në serverin e postës elektronike është fituar nëpërmjet mashtrimit? Pëlqimi nuk i jepet marrjes së e-mailve të tillë të “rrem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erisa ky skenar ka të bëjë me postën elektronike, parimi është i mirë për ata që kërkojnë të shkaktojnë rrënimin e faqeve të internetit përmes një sulmi të refuzimit të shërbimit, ku uebsajti nuk është në gjendje të përballojë vëllimin e trafikut të drejtuar ndaj tij. Lidhja me një faqe interneti përfshin shkëmbimin e të dhënave në mes të kompjuterit të përdoruesve dhe faqes së internetit. Çështje të ngjashme me pëlqimin e nënkuptuar për t'u lidhur me këtë faqe shfaqen në lidhje me mesazhet m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A ka Bobby kryer një vepër penale në kundërshtim me nenin 5 të Konventës së Budapest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kryer Bobi një pengim në disponueshmërinë e të dhënave të mbajtura në si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enguar Bobi funksionimin e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është bërë pa të drejtë pengimi i disponueshmërisë së të dhënave apo pengesa për funksionimin e sistemi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gjigja e administratorit të sistemit në postën e Bobit nënkupton që shërbimi i është mohuar përdoruesve të sistemit. Aksesi në të dhënat e mbajtura në sistem është prishur, megjithëse kufizimi i aksesit ka të ngjarë të jetë i përkohshëm. Vepra nuk kërkon që të dhënat të jenë përgjithmonë të disponue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 kemi diskutuar shkallën në të cilën pronari i një adrese e-mail jep pëlqimin për marrjen e të dhënave nga të tjerë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5 ka të bëjë me sistemet kompjuterike, që janë një ose më shumë kompjuterë të lidhur së bashku. A është një kompjuter i vetëm i lidhur me pjesën e internetit të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i punës së gruas së Bobit ka më shumë gjasa të jetë pjesë e një sistemi sesa jo. Ajo ndoshta është pjesë e një rrjeti lokal (LAN) ose ëAN (ëide Area Netëork) ose Intranet. A ka penguar Bobi punën e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mund të argumentojë se ai nuk është përgjegjës për mohimin e shërbimit dhe se ai nuk kishte ndërmend të sillte një ngjarje të tillë. Në të vërtetë është e kundërta, ai donte që sistemi të vazhdonte të funksiononte në mënyrë që të gjente se çfarë gruaja e tij po bënte. Ndonjëherë sulmet e mohimit të shërbimit janë të pamjaftueshme për të nxjerrë një faqe interneti offline, por ofruesit e shërbimeve do ta nxjerrin uebsajtin offline në mënyrë që të minimizojnë efektin e sulmit në sistemet e tij dhe të minimizojnë shqetësimet ndaj klientëve të tjer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skenar Bobi nuk duket se ka synimin e duhur për një shkelje të Nenit 5, edhe pse kjo nuk do të thotë sigurisht se ai i shpëton përgjegjësisë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është një shembull i një virusi Trojan, i cili është një mënyrë e zakonshme për kriminelët kibernetikë për të fituar akses në kompjuterët e të tjerëve.</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2 përfshin hyrjen në tërësi ose pjesë të një sistemi kompjuterik. Ky slajd shpjegon përmes shembujve se çfarë do të thotë termi "pjesë e sistemit kompjuterik".</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shkelje për të bërë Supergun në dispozicion për shkark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vepër penale të jetë në posedim të Supergu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do të thotë fakti që Supergun mund të përdoret për një qëllim legjitim, që nuk mund të ketë një ndjekje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përbërn përhapje bërja e disponueshme e programit Supergun për t'u shkar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Veprat penale me të cilat lidhet ky nen janë; akses i paautorizuar, përgjimi i paligjshëm, interference tek të dhënat dhe sistem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ërderisa softueri ishte fillimisht me përdorim të dyfishtë, ai ka një funksion të ligjshëm, tani që ndërfaqja e përdoruesit është modifikuar, a do të thotë kjo që posedimi i tij etj është një shkelj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uke iu referuar studimeve të mëparshme të rastit, softueri "aksesi i të gjitha zonave" i përdorur nga Bobi për të fituar akses në kompjuterin e gruas së tij ka një përdorim të ligjshëm. Programet si ky lejojnë përdoruesit të kenë akses në kompjuterët e tyre në dista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o në lidhje me zotërimin e softuerit të gjetjes së fjalëkalimit nga Bobi; a do të ishte kjo një shkelje? Mund të jetë një çështje e qëllimit, çfarë arsye të ligjshme duhet të ketë ai për të pasur një softuer të tillë? A ka ndonjë provë për të treguar se ai ka kërkuar ta vendosë këtë softuer në kompjuter në mënyrë që të kryejë një vepër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Kjo vepër nuk është synuar për t'u përdorur për të kriminalizuar ofruesit dhe përdoruesit e softuerëve të ligjshëm. Aty ku ka, siç ka këtu, prova të një qëllimi të keq, mund të lindë problemi. Megjithatë, ata që janë të përfshirë në krimin kibernetik janë gjithashtu të përfshirë shpesh në aktivitetin legjitim të internetit dhe mund të jenë profesionistë të industries, të cilët përdorin dhe zhvillojnë softuer të tillë, por të cilët, kur paraqitet rasti, janë të përgatitur për ta shpërndarë atë në promovimin e aktivitetit të paligjshëm. Po në lidhje me tregtarët? si duhet ta dinë ata se çfarë qëllimi mund të ketë një klient në lidhje me një pjesë të veçantë të komputerit apo softuerit. A është fusha e veprës shumë e paqartë?</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bërja, prodhimi, përdorimi, shpërndarja apo posedimi i një softueri të tillë një vepër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 të gjithë kërkojmë vazhdimisht që të mbajmë të dhënat tona të sigurta. Megjithëse një program i tillë është padyshim i dobishëm për ata që merren me krime dhe në veçanti, ata që kanë frikë se përmbajtja e kompjuterëve të tyre mund t'i inkriminojë, programi nuk është duke u përdorur nga ata për të kryer një vepër, por po përdoret për fshehjen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nelët kibernetikë mund të përdorin programe ose sisteme të tjera për të shmangur zbulimin duke përfshirë edhe programet anonimë që u mundësojnë atyre të shfletojnë internetin pa zbuluar adresën e tyre të vërtetë IP ose programet e fshirjes së provave, të cilat mund të fshijnë përmbajtjen e diskut të kompjuterit.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Niku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kompania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jupiteri shkelje?</a:t>
            </a: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jektuar ose përshtatur pajisja kryesisht për qëllimet e kryerjes së veprave të caktuara penal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minelët kibernetikë janë në gjendje të kenë një shumëllojshmëri mjetesh që u mundësojnë atyre të kryejnë krime ose që do t'i ndihmojnë ata ta bëjnë këtë. Është e mundur të blini kodin që do t'ju mundësojë të ndërtoni botin tuaj ose të blini një botnet ose të blini akses në një botnet, i cili do t'i mundësojë përdoruesit të ndërmarrë lloje të ndryshme të krimit si “marrja e paautorizuar e të dhënav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do të përdorë këtë program për të marrë informacione financiare nga përdoruesit, të cilët mund të shfrytëzohen nga vetë Jupiteri ose nga të tjerët. Kompania me sa duket mendonte se Niku e kishte prodhuar këtë gjatë punës së tij. Niku është i pafajshëm dhe pa dashje ndihmoi Jupiterin të krijonte një mjet të fuqishëm kriminal. As Niku as Kompania nuk kanë qëllimin e duhur kriminal. A do të ishte ndryshe nëse Jupiteri do të tregonte programin për kompani të tjera që dëshironin të monitoronin aktivitetin e punonjësve të tyre në internet? A mund të argumentojë Jupiteri se softueri ka një qëllim të ligjshëm, pavarësisht tërheqjes së tij të dukshme për kriminelët?</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Çfarë vepre ka kryer stefani?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dhimi i çeqeve të falsifikuar bankare një falsifikim kompjuterik?</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kryer vepra vetëm pasi nëpunësi i bankës e pranon çekun si të vërtetë?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jimi i çekut të bankës përfshin futjen e të dhënave joautentike në një kompjuter, domethënë se çeku është bërë në favor të Stefanit. Megjithatë a është bërë kjo pa të drejtë ose a ka Stefan të drejtën për të prodhuar një dokument të tillë në kompjuterin e tij? Stefan mund të ketë qëllimin për të përdorur çekun për të mashtruar bankën, por, për çfarëdo arsye, kurrë nuk mund të marrë rreth për shtypjen e çekut . A bën një ndryshim në përgjegjësinë e Stefanit nëse dokumenti është prodhuar ndonjëherë në letër?</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nuk u krijua me të vërtetë për t'u marrë me këtë lloj skenari edhe pse mund të shërbejë nëse legjislacioni vendas nuk do të penalizonte ndryshe prodhimin e një çeku të falsifikuar banker. Këto vepra mund të shqyrtohen më mirë në aspektin e përgjegjësisë dytësore siç është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ka të bëjë me ata që përdorin kompjuterin si mekanizëm për kryerjen e veprës penale, kështu që kur veprojnë në mirëbesim nëpunësi i bankës fut të dhëna që merr nga Stefani duke pranuar se të dhënat janë autentik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është kjo vepër e mashtrimit kompjuterik?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hënat që janë ndryshuar nuk do të zbatohen për ndonjë qëllim ligjo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ka ndryshuar të dhënat dhe ka future të dhëna joautentike. Është e qartë se ky akses dhe ndryshimi është pa të drejtë. Duke lënë mënjanë veprat e tjera që Stefani mund ta ketë kryer, është e dyshimtë se ai ka kryer një falsifikim kompjuterik, pasi këto të dhëna nuk do të jenë bazë për qëllime ligjor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lidhur me falsifikimin nuk ka të bëjë me përfitime financiare ose të tjera; këto vepra penale vijnë brenda kuadrit të mashtrimit kompjuterik. Ky nen kërkon të sigurojë sigurinë dhe besueshmërinë e të dhënave elektronike të cilat mund të kenë pasoja për marrëdhëniet juridike. Termi "për qëllime ligjore" i referohet transaksioneve dhe dokumenteve që janë ligjërisht të rëndësishme.</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shkelje Bobi?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i pavërtetë mesazhi i Bobi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shte i pavërtetë, a ka humbur pronën ndonjë një person tjetër si rezultat i kësaj?</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fituar bobi avantazh ekonomik?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 postuar nga Bobi nuk është i vërtetë atëherë ai mund të ketë kryer një vepër penale. Ai ka futur të dhëna të rreme në një kompjuter dhe ka pasur përfitim ekonomik për vete në rritjen e çmimit të aksionev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lidhja shkakësore midis futjes së të dhënave dhe efektit shumë e largët?</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Bobi ka shkaktuar një humbje një tjetri? Ndoshta po, sepse aksionet vlerësohen gabimisht dhe në një moment do të bien me sa duket. Megjithatë duhet të pranohet se tregu për aksionet është jashtëzakonisht i paqëndrueshëm, a nuk është vlera e një aksioni çmimi që dikush është i gatshëm të paguajë për të në ndonjë kohë të caktuar? A ka është mashtruar dikush me të vërtetë, a janë këto lloje thashethemesh dhe mesazhe të përhapura në internet? A do t’i besojë me të vërtetë njeri këtij postimi ose a nuk e shohin atë si një përpjekje të ngathët për të manipuluar çmimin e aksioneve? A do të thotë kjo se ne nuk mund të themi gënjeshtra në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ka kryer Stefani shkelj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makineria e parkimit kompjute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ka rëndësi që makineria e parkimit i prodhon biletat automatikisht dhe asnjë njeri nuk është mashtrua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ili është statusi i biletës së parkimi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ina e parkimit është një kompjuter, përpunon të dhënat duke llogaritur shumën e parave të tenderuara kundrejt tarifës së parkimit dhe lëshimin e një bilete për kohëzgjatjen e duhur. Stefan ka future të dhëna jo të vërteta, rondele dhe jo monedhë të përshtatshme. Neni 7 nuk kërkon që një njeri të ketë vepruar me të dhënat e ofruara.</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eta e parkimit është një falsifikim, të dhënat e përdorura për ta krijuar atë ishin të rreme dhe u prodhuan në mënyrë që një person, kujdestar i parkut të makinave, ta konsideronte atë si të vërtetë dhe të mos i japë Stefanit një biletë parkimi.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posedimi i këtyre të dhënave vepër penale?</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Çfarë statusi kanë skedarët e kompjuerit? A janë ato “objekte” në ligj, pavarësisht faktit se të gjitha konsistojnë në një zinxhir kodi dina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Mbretërinë e Bashkuar është një vepër penale thelbësore të posedosh një artikull për t'u përdorur në mashtrime. Neni përfshin një skedar kompjuterik. Natyrisht që është e nevojshme të provohet synimi i nevojshëm, por është e vështirë të argumentohet një arsye e ligjshme për të pasur posedim të të dhënave të këtij lloji.</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und të jetë se kjo mund të konsiderohet si një shkelje përgatitor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Çfarë veprat ka kryer Adam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kufizimet e prodhimit, prokurimit dhe shpërndar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i ka shkarkuar skedarë imazhesh nga interneti. A barazohet shkarkimi me prodhimin e një imazhi të tillë? Shkarkimi, dhe veçanërisht ruajtja e një imazhi në një kompjuter nuk është si shikimi i televizorit. Akti i shkarkimit krijon një gjë të re, një skedar kompjuteri duke parë imazhe në internet përfshin bërjen e imazheve të reja. Prokurorët mund ta gjejnë këtë koncept të dobi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rjetet e ndarjes së skedarëve nga Peer to Peer lejojnë anëtarët të kenë akses në skedarët e vënë në dispozicion të tyre nga anëtarë të tjerë të rrjetit. Duke vendosur imazhet në dosjen e përbashkët, Adami i bën ato të disponueshme për shpërndarje.</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mundet Billit të ndiqet penalisht në lidhje me imazhe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diksion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gjedhja e shkeljes materiale, duke qenë në posedim të një imazhi ose duke e bërë imazhi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und të ketë çështje të jurisdiksionit në lidhje me bërjen e imazheve pasi ato duket se janë prodhuar jashtë shteti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nuk duhet të jetë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të gjitha imazhet u gjetën në hapësirë ​​të pa-alo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kërkon njohuri dhe kontroll. Bill mund ose ndoshta tani e di se imazhet që fshihen mund të jenë ende të aksesueshme në hard drive, megjithatë, po të mos ketë mjetet teknike dhe ekspertizën ai kurrë nuk do të jetë në gjendje t'i rimarrë ato. Megjithatë, mbetet (subjekt i çështjeve të juridiksionit) për një prokuror ose të ndjekë penalisht për bërjen e imazhit ose për të qenë në posedim të imazheve në të kaluarë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imazhet ishin të fëmijëve të moshave 3-7 vjeç duke luajtur në një plazh dhe Bill shpjegon se ai është një naturist, por pranon se ai merr kënaqësi seksuale nga shikimi i imazhev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ëse imazhet e tilla janë të paligjshme është një çështje për interpretimin lokal. Në Mbretërinë e Bashkuar ne përgjithësisht kërkojmë që imazhet të kenë një element seksual dhe do ta konsideronim motivimin e fotografit si të parëndësishë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ush vendos se cili imazh është i paligjshëm? A është fusha e veprës mjaft e qartë?</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Si të provojmë se Xhoni është përgjegjës për imazh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dikimi mbi të dyshuarit të akuzuar për veprën penale të pedofilisë.</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etodë e fshehjes së imazheve nuk është e pazakontë. Grupet do të vendosin lidhje me imazhet. Sidoqoftë, mund të jetë e rrezikshme të mbështetesh vetëm në adresën IP për të marrë një urdhër kërkimi pa kuptuar se si kjo adresë IP u regjistrohej në uebsajt. Ato mund të kishin qenë tërësisht të referuara nga një faqe tjetër dhe jo më tej të kishin akses në ndonjë imazh pasi ta kuptonin çfarë ishin. Natyrisht, ata mund të kenë vizituar më shumë se një rast ose të kenë akses në një numër imazhesh.</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und të përdoret për të diskutuar kujdesin e nevojshëm para se të akuzohet një individ për të qenë pedofil. Ka një shkallë të lartë të vetëvrasjes në mesin e personave të akuzuar për këto vepra penale. Ashtu si në të gjitha rastet e krimit në internet ju duhet të jeni në gjendje të vendosni të dyshuarin përpara tastierës në kohën përkatëse, një adresë IP mund të përdoret nga një numër individësh në të njëjtën adresë ose rrjeti pa kabull mund të ketë qenë rrëmbyer nga dikush tjetër. Akuzat e këtij lloji mund të kenë një efekt shkatërrues në një individ të pafajshëm.</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ka kryer vepër penale Osvaldi?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kryer Osvaldi shkelje substanciale ose një shkelje me përgjegjësi dytësor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probleme rreth juridiksioni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rëndësi që faqja e internetit e SHBA-së ishte plotësisht e automatizua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Çfarë themi për përdorimin e programit të eliminimit të provav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valdi nuk posedon asnjë imazh dhe ne nuk mund të provojmë se ai ndonjëherë ka hyrë në një faqe interneti për të parë imazhe të tilla, edhe pse ne mund të provojmë se ai pagoi një abonim për ta bërë këtë. Sidoqoftë, Osvald ka paguar para për të bindur një person tjetër, pronarin e internetit në SHBA për të shpërndarë ose për të vënë në dispozicion imazhet e abuzimit të fëmijëve për shpërndarje. A përbën kjo një shkelj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Se faqja e internetit e SHBA-së është e automatizuar do të thotë se asnjë njeri nuk është përfshirë në përpunimin e detajeve të kartës së kreditit. Megjithatë, procesi u krijua nga dhe administrohet dhe mirëmbahet nga një person që përfiton financiarish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orimi i një programi për eleminimin e provave nuk është i paligjshëm. Nëse Osvald nuk ishte në gjendje të aktivizonte programin gjatë rrjedhës së hetimit të policisë ai nuk ka gjasa të ketë kryer një shkelje të lidhur me administrimin e drejtësisë. Megjithatë, nëse Osvaldi ndiqet penalisht, përdorimi i programeve të tilla mund të konsiderohet si një tipar rëndues nga gjykata.</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tretë të mësimit.</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B933C-137A-4886-BA0B-F205AF81CB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7F0E2-FDCE-4BAA-81E5-643C942506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ledhje/Përsëritj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përmbledhë / përsërisë njohuritë mbi pikat e mëposht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përkatëse të të drejtës materiale nga diskutimet e rasteve praktike</a:t>
            </a:r>
            <a:endParaRPr b="0" lang="en-US" sz="1200" spc="-1" strike="noStrike">
              <a:solidFill>
                <a:srgbClr val="000000"/>
              </a:solidFill>
              <a:latin typeface="Calibri"/>
            </a:endParaRPr>
          </a:p>
        </p:txBody>
      </p:sp>
      <p:sp>
        <p:nvSpPr>
          <p:cNvPr id="8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146C7-F700-4AD6-9BA1-E231A7D353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mës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shtrime praktike (nëse k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 këtë session nuk janë përgatitur ushtrime të tjera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ontrolli i Njohur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kontrollojë njohurinë duke bërë pyetje përkatëse nga secili prej aspekteve të sesionit.</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FE6A8-4B19-41AD-A5A9-5D80180335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Autoriteti mund të jetë legjislativ, administrativ, gjyqësor, kontraktual ose konsensual në çdo rast të caktuar. Sjellja e autorizuar nuk është penalizohet; e nuk është as hyrja në një sistem kompjuterik që lejon hyrje të lirë dhe të hapur nga publiku.</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lët mund të ngushtojnë fushëveprimin e nenit 2, i cili parashikon kriminalizimin e përgjithshëm të hyrjes së paligjshme, me elemente të caktuara kualifikuese. Për shembull, palët mund të kërkojnë që kryerja e hyrjes së paligjshme të bëhet duke shkelur masat e sigurisë (p.sh. fjalëkalimet ose kodet e tjera të hyrjes) ose ndryshe me qëllime të pandershme ose për marrjen e të dhënave kompjuterike nga sistemi kompjuterik ku po hyhet ose ndonjë sistem tjetër kompjuter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rendit të gjitha elementet kualifikuese që Palët mund të dëshirojnë të miratojnë në legjislacionin e tyre të brendshë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paligjshëm, i përshkruar në nenin 3 të Konventës së Budapestit, është gjithashtu një shkelje e qëllimshme. Është kryer nga ata që, pa të drejtë, interceptojnë me anë të mjeteve teknike, transmetimet jopublike të të dhënave kompjuterike, për, nga, ose brenda një sistemi kompjuterik, me mjete teknik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metimet e të dhënave në një sistem kompjuterik, ose nga ai sistem, ose brenda të njëjtit sistem, janë realitetet më të rëndësishme në jetën e sotme në rrje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knikisht, mund të jetë shumë e lehtë për të interceptuar komunikimet nëse rrjeti dhe komunikimi nuk janë të mbrojtur siç duhet. Një përgj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 i interceptimit të paligjshëm synon, për rrjedhojë, të ndikojë në vulnerabilitetin e teknologjisë së komunikimit, duke mbrojtur fshehtësinë e komunikimeve jo publik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etimet e të dhënave në një sistem kompjuterik, ose nga ai sistem, ose brenda të njëjtit sistem, janë realitetet më të rëndësishme në jetën e sotme në rrjet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knikisht, mund të jetë shumë e lehtë për të interceptuar komunikimet nëse rrjeti dhe komunikimi nuk janë të mbrojtura siç duhet. Një intercept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i interceptimit të paligjshëm synon, prandaj, të ndikojë në vulnerabilitetin e teknologjisë së komunikimit, duke mbrojtur fshehtësinë e komunikimeve jo publike</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j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sion ka katër pje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Parë, do të përqëndrohet në ligjin material penal të Konventës së Budapestit për krimin kibernet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igji Penal Material Kombëtar, do të jetë objekt i Pjesës së Dy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tretë do të fokusohet në rastet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jë përmbledhje e të gjitha pjesëve do të paraqitet në Pjesën Katë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88FAD-E570-40D4-AA6B-102346CFA7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gjimi i referohet dëgjimit, monitorimit ose mbikëqyrjes së komunikimit. Ndërhyrja ndikon privatësinë e komunikimit të të dhënave; dhe neni 3 i Konventës ka për qëllim të mbrojë kundër përgjimit të transmetimeve jopublike të të dhënav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rastin e interceptimit, është e mundur që veprimi të bëhet me autorizim; ndoshta nga zyrtarët e zbatimit të ligjit ose personat e autorizuar për të kryer testime ose aktivitete mbrojtëse. Kështu interceptimi i ligjshëm i kryer "me të drejtë" nuk përfshihet në objektin e neni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nuk parashikon kriminalizimin e interceptimit jo-teknik të transmetimeve dhe zbatohet ose kur personi futet dhe përdor një sistem kompjuterik për të interceptuar një transmetim, përdor një pajisje elektronike përgjimi ose ndonjë mjet tjetër teknik. Ky slajd liston disa shembuj të formave të interceptimit që do të përfshiheshin në objektin e neni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ërprerja e transmetimeve publike nuk është një shkelje sipas Nenit 3, i cili përcakton se fushëveprimi i nenit ka të bëjë vetëm me transmetimet që nuk janë publike. Është e rëndësishme të bëhet dallimi ndërmjet transmetimeve jopublike dhe të dhënave jo publike, pasi Neni 3 nuk merr parasysh natyrën e të dhënave; por transmetimin. Rrjedhimisht, interceptimi i informacionit konfidencial të komunikuar nëpërmjet një transmetimi të aksesueshëm nga publiku nuk do të përbënte një vepër penale; ndërkohë që interceptimi i informacionit të disponueshëm publikisht të komunikuar përmes një transmetimi jopublik të të dhënave do të përbënte një vepër penale sipas neni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transmetimeve për, nga ose brenda një sistemi kompjuterik është kriminalizuar. Ky slajd jep shembuj që shpjegojnë fushëveprimin e nenit 3 në këtë drejtim dhe dallimin midis këtyre tre elementev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eri do të trajtojë pik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ligjin ekzistues kombët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ojat dhe avantazhet e harmonizimit ndërmjet legjislacionit kombëtar dhe instrumenteve ndërkombëtare, në veçanti, Konventës së Budapesti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DA883-DCD6-4CB3-A63F-E42281AD5E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c interceptimit të të dhënave kompjuterike, Konventa e Budapestit gjithashtu penalizon interceptimin e transmetimeve të emetimeve elektromagnetike, të cilat nuk bien nën përkufizimin e Konventës së Budapestit të "të dhënave kompjuterike" sipas nenit 1. Sistemet kompjuterike shpesh lëshojnë valë elektromagnetike që përmbajnë të dhëna. Interceptimi i emetimeve elektromagnetike është kriminalizuar sepse është e mundur të rindërtohen të dhënat kompjuterike nga emetimet elektromagnetike dhe duke lënë këtë element jo të kriminalizuar do të linte një zbrazëti në ligj.</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parashikon kriminalizimin e përgjithshëm të interceptimit të qëllimshëm pa të drejtë, të bërë me mjete teknike, të transmetimeve jopublike të të dhënave kompjuterike. Palët mund të kufizojnë fushëveprimin e nenit 3 duke kërkuar elemente të caktuara kualifikuese për t'u përmbushur. Elementet kualifikuese që palët mund të miratojnë janë të shënuara në këtë slaj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jellja e qëllimshme dhe pa të drejtë, e dëmtimit, fshirjes, shtrembërimit, ndryshimit ose shuarjes së të dhënave kompjuterike do të përbëjë kundërvajtjen e interferecës tek të dhënat siç parashikohet në nenin 4 të Konventës së Budapestit</a:t>
            </a:r>
            <a:r>
              <a:rPr b="0" lang="hr-H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e të dhënave mbron integritetin e të dhënave kundër ndërhyrjeve të paautorizuara. Pronari i të dhënave ka të drejtë t’i mbajë ato siç janë, si pronar i një malli, në jetën reale, ka të drejtën të mbajë pronën e tij të sigurt nga ndërhyrja e të tjerëve. Në disa juridiksione, dëmtimi i rregullt dhe klasik gjithashtu përfshin interferencën tek të dhënat; në të tjerat, ekziston nevoja për të përshkruar veçmas dëmin në të dhënat kompjuterike, ose ndërhyrjen e të dhën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krim përmbledh rritjen e madhe të të dhënave përkatëse (të dhëna kompjuterike) në jetën moderne. Të dhënat kompjuterike janë shumë të cënueshme dhe shumë lehtë mund të shkatërrohen ose manipulohen. Ky rregull penal mbron integritetin dhe disponueshmërinë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jë nga rastet më të shpeshta të interferencës tek të dhënat është rezultat i veprimit të viruseve - që pa të drejtë instalohen në kompjuterin e viktimës dhe, për shembull, fshijnë të dhënat</a:t>
            </a:r>
            <a:r>
              <a:rPr b="0" lang="hr-H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ëmtimi dhe shtrembërimi i të dhënave kompjuterike pa të drejtë i referohet ndryshimit negativ të integritetit ose përmbajtjes së informacionit të të dhënave dhe programeve. Të dyja kushtet janë akte që mbivendosen.</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shirja i referohet shkatërrimit të të dhënave; dhe rezultatet e të dhënat e fshira bëhen të panjohura.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përkatëse të të drejtës materiale bazohen në diskutimet lidhur me rastet praktike të paraqitura</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8F493-AE03-4A5F-AAB6-96E3656A3E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ryshimi ka të bëjë me modifikimin e të dhënave ekzistuese (por jo fshirjen e të njëjtave). Të dhënat mund të ndryshohen me një numër mënyrash; duke përfshirë futjen e kodeve me qëllim të keq si viruset dhe kuajt e Trojë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uarja e të dhënave i referohet çdo veprimi që ose pengon ose përfundon disponueshmërinë e të dhënave ndaj personit që ka akses tek të dhënat ose në pajisjen ku janë ruajtur. Për dallim nga fshirja e të dhënave, shuarja e të dhënave nuk ka të bëjë shkatërrimin e të dhënave, por me mosdisponueshmërinë e të dhënave.</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ndërhyn me të dhënat po e bën këtë "me të drejtë". Ky slajd tregon disa shembuj ku një person mund të ndërhyjë në mënyrë legjitime tek të dhënat pa marrë përgjegjësinë penale sipas neni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ke pasur parasysh se vepra e interferencës tek të dhënat ka një fushë të gjerë, palët mund të zgjedhin ta kufizojnë këtë vepër duke kërkuar që sjellja të rezultojë në dëmtime serioze. Asnjë përcaktim specifik i dëmit të rëndë nuk është parashikuar sipas nenit 4, dhe kriteret mund të përcaktohen sipas ligjit të brendshëm.</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a:t>
            </a:r>
            <a:r>
              <a:rPr b="0" lang="hr-HR" sz="1200" spc="-1" strike="noStrike">
                <a:solidFill>
                  <a:srgbClr val="000000"/>
                </a:solidFill>
                <a:latin typeface="Calibri"/>
              </a:rPr>
              <a:t>e sistemit është pengesa e funksionimit të sistemit kompjuterik - pengesa serioze: Neni 5 i Konventës së Budapestit nuk mbulon pengimin jo-serioz. Ky efekt mund të jetë rezultat i </a:t>
            </a:r>
            <a:r>
              <a:rPr b="0" lang="en-US" sz="1200" spc="-1" strike="noStrike">
                <a:solidFill>
                  <a:srgbClr val="000000"/>
                </a:solidFill>
                <a:latin typeface="Calibri"/>
              </a:rPr>
              <a:t>futjes</a:t>
            </a:r>
            <a:r>
              <a:rPr b="0" lang="hr-HR" sz="1200" spc="-1" strike="noStrike">
                <a:solidFill>
                  <a:srgbClr val="000000"/>
                </a:solidFill>
                <a:latin typeface="Calibri"/>
              </a:rPr>
              <a:t>, transmetimit, dëmtimit, fshirjes, </a:t>
            </a:r>
            <a:r>
              <a:rPr b="0" lang="en-US" sz="1200" spc="-1" strike="noStrike">
                <a:solidFill>
                  <a:srgbClr val="000000"/>
                </a:solidFill>
                <a:latin typeface="Calibri"/>
              </a:rPr>
              <a:t>shtrembërimit</a:t>
            </a:r>
            <a:r>
              <a:rPr b="0" lang="hr-HR" sz="1200" spc="-1" strike="noStrike">
                <a:solidFill>
                  <a:srgbClr val="000000"/>
                </a:solidFill>
                <a:latin typeface="Calibri"/>
              </a:rPr>
              <a:t>, ndryshimit ose </a:t>
            </a:r>
            <a:r>
              <a:rPr b="0" lang="en-US" sz="1200" spc="-1" strike="noStrike">
                <a:solidFill>
                  <a:srgbClr val="000000"/>
                </a:solidFill>
                <a:latin typeface="Calibri"/>
              </a:rPr>
              <a:t>bërjes së padisponueshme t</a:t>
            </a:r>
            <a:r>
              <a:rPr b="0" lang="hr-HR" sz="1200" spc="-1" strike="noStrike">
                <a:solidFill>
                  <a:srgbClr val="000000"/>
                </a:solidFill>
                <a:latin typeface="Calibri"/>
              </a:rPr>
              <a:t>ë të dhënave kompjuterike, nëse kjo kryhet qëllimisht dhe pa të drejt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aspekt i veçantë përjashton, në përgjithësi, për shembull, testet e sigurisë, të kryera nga administratori i rrjetit. Kjo shkelje mbulon një gamë të gjerë veprash, të cilat mund të ndërhyjnë në funksionimin normal dhe të duhur të një rrjeti. Në fakt, Konventa e Budapestit pranon rëndësinë e sistemeve të komunikimit dhe të teknologjisë kompjuterike në jetën e përditshme - disponueshmëria e këtyre sistemeve është vendimtare për funksionimin e rregullt të aktiviteteve publike, ekonomike dhe sociale. Por ky lloj i krimit nuk mbulon vetëm ndërhyrje në një shkallë të madhe, si sulmet e mohimit të shërbimi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Edhe veprimet e vogla, vetëm duke parashikuar një kompjuter, mund të jenë ndërhyrje në sistem - do të jetë rasti i bombardimeve me postë që synojnë një adresë të vetme elektronike. Në fakt, do të ketë gjithmonë një krim të ndërhyrjes së sistemit kur një kryes i krimit synon një sistem kompjuterik me më shumë kërkesa sesa sistemi që mund të menaxhoj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krim parashikon të mbrojë </a:t>
            </a:r>
            <a:r>
              <a:rPr b="0" lang="en-US" sz="1200" spc="-1" strike="noStrike">
                <a:solidFill>
                  <a:srgbClr val="000000"/>
                </a:solidFill>
                <a:latin typeface="Calibri"/>
              </a:rPr>
              <a:t>hyrjen </a:t>
            </a:r>
            <a:r>
              <a:rPr b="0" lang="hr-HR" sz="1200" spc="-1" strike="noStrike">
                <a:solidFill>
                  <a:srgbClr val="000000"/>
                </a:solidFill>
                <a:latin typeface="Calibri"/>
              </a:rPr>
              <a:t>në rrjetet e komunikimit, si në mbrojtjen e operatorëve të sistemit dhe përdoruesit përfundimta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traktati i parë ndërkombëtar për krimin kibernetik, Konventa e Budapestit synon të lehtësojë dhe zhvillojë bashkëpunimin ndërkombëtar në hetimet pen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këto dy seanca</a:t>
            </a:r>
            <a:r>
              <a:rPr b="0" lang="en-US" sz="1200" spc="-1" strike="noStrike">
                <a:solidFill>
                  <a:srgbClr val="000000"/>
                </a:solidFill>
                <a:latin typeface="Calibri"/>
              </a:rPr>
              <a:t>,</a:t>
            </a:r>
            <a:r>
              <a:rPr b="0" lang="sq-AL" sz="1200" spc="-1" strike="noStrike">
                <a:solidFill>
                  <a:srgbClr val="000000"/>
                </a:solidFill>
                <a:latin typeface="Calibri"/>
              </a:rPr>
              <a:t> fokusi do të jetë në të drejtën penale </a:t>
            </a:r>
            <a:r>
              <a:rPr b="0" lang="en-US" sz="1200" spc="-1" strike="noStrike">
                <a:solidFill>
                  <a:srgbClr val="000000"/>
                </a:solidFill>
                <a:latin typeface="Calibri"/>
              </a:rPr>
              <a:t>materiale</a:t>
            </a:r>
            <a:r>
              <a:rPr b="0" lang="sq-AL" sz="1200" spc="-1" strike="noStrike">
                <a:solidFill>
                  <a:srgbClr val="000000"/>
                </a:solidFill>
                <a:latin typeface="Calibri"/>
              </a:rPr>
              <a:t>, pra ato vepra penale që Konventa e Budapestit kërkon që çdo vend t</a:t>
            </a:r>
            <a:r>
              <a:rPr b="0" lang="en-US" sz="1200" spc="-1" strike="noStrike">
                <a:solidFill>
                  <a:srgbClr val="000000"/>
                </a:solidFill>
                <a:latin typeface="Calibri"/>
              </a:rPr>
              <a:t>’i</a:t>
            </a:r>
            <a:r>
              <a:rPr b="0" lang="sq-AL" sz="1200" spc="-1" strike="noStrike">
                <a:solidFill>
                  <a:srgbClr val="000000"/>
                </a:solidFill>
                <a:latin typeface="Calibri"/>
              </a:rPr>
              <a:t> kriminalizo</a:t>
            </a:r>
            <a:r>
              <a:rPr b="0" lang="en-US" sz="1200" spc="-1" strike="noStrike">
                <a:solidFill>
                  <a:srgbClr val="000000"/>
                </a:solidFill>
                <a:latin typeface="Calibri"/>
              </a:rPr>
              <a:t>jë</a:t>
            </a:r>
            <a:r>
              <a:rPr b="0" lang="sq-AL" sz="1200" spc="-1" strike="noStrike">
                <a:solidFill>
                  <a:srgbClr val="000000"/>
                </a:solidFill>
                <a:latin typeface="Calibri"/>
              </a:rPr>
              <a:t> në legjislacionin kombëta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3072F-B1CE-45CB-83E0-ECCC29D444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dhe elementi i shfaqur në sladin e mëparshëm jan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interferencës në sistem kërkon sjellje që sjellin pengimin e funksionimit të duhur të një sistemi kompjuterik. Neni 4 specifikon se pengesa të tilla duhet të bëhen përmes (i) futjes (ii) transmetimit (iii) dëmtimit (iv) ndryshimit dhe (v) bërjes së padisponueshme të të dhënave kompjuterike. Shpjegimet e secilit prej këtyre termave tashmë janë diskutuar nën veprën e interferencës së të dhënave (neni 4), dhe të njëjtat shpjegime do të zbatohen për interferencës së sistemit.</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5.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5 penalizon pengimin serioz të funksionimit të një sistemi kompjuterik dhe jo thjesht pengimin e një sistemi kompjuterik që nuk është serioz në natyrë. Ky element është përfshirë për të ngushtuar fushën e veprës dhe për të parandaluar kriminalizimin e tepërt të pengesave, të cilat nuk janë serioze në natyrë. Serioziteti i pengesës duhet të përcaktohet sipas legjislacionit të brendshëm dhe mund të përfshijë dërgimin e të dhënave.</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po ndërhyn me një sistem kompjuterik po e bën këtë "me të drejtë". Ky slajd tregon disa shembuj ku një person mund të ndërhyjë në mënyrë legjitime në një sistem kompjuterik pa marrë përgjegjësinë penale sipas neni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jë nga shkeljet më komplekse të përshkruara në Konventën e Budapestit është krimi i keqpërdorimit të pajisjeve - Neni 6.</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htu si me krime të tjera, veprimi i keqbërësit duhet të jetë i qëllimshëm dhe pa të drejtë. Mbulon një gamë të gjerë veprimtarish, të gjitha të lidhura me pajisjet që mund të keqpërdoren.</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është një krim shumë i "ri", i cili nuk është përfshirë në Rekomandimin e vitit 1989. Është gjithashtu shumë novator - faktet e përshkruara aty nuk u njohën më parë si krim në shumë prej legjislacioneve kombëtar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 thelb, ndalon prodhimin, shitjen, prokurimin për përdorim, importimin, shpërndarjen ose përndryshe venien në dispozicion të pajisjeve, duke përfshirë një program kompjuterik të projektuar ose përshtatur kryesisht për qëllimin e kryerjes së ndonjë prej veprave të tjera të rëndësishme të përmendura në Konventë.</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Po ashtu, ai penalizon shitjen e fjalëkalimeve kompjuterike, kodit të hyrjes ose të dhënave të ngjashme me anë të të cilave është në gjendje të aksesohet i gjithë ose një pjesë e një sistemi kompjuterik. Me këtë dispozitë, Konventa njeh nevojën e inkriminimit të "tregut sekondar" të lulëzuar dhe gjithnjë e më të rëndësishëm ekonomikisht të "pajisjeve që mundësojnë krimin": Keqbërësit shesin në internet mjetet e tyre të tregtisë, mjetet e virusëve vetë-gjenerues, fjalëkalimet e disponueshme gjerësisht në Internet që janë vjedhur duke përdorur Trojans dhe pajisje të tjera. Kjo do të thotë se hyrja e paautorizuar në një sistem kompjuterik nuk është më aftësi vetëm e programuesve shumë të aftë. Çdo kriminel "i zakonshëm" mund të blejë me lehtësi mjetet e nevojshme, ose drejtpërsëdrejti fjalëkalimet e vjedhura - shumë shpesh shitësi criminal do të ofrojë edhe një "shërbimin e konsumatorit" dhe do të ndihmojë klientin e tij të bëjë gati kompjuterin e tij për kryerjen e një krimi.</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jë nga detajet më të diskutuara të nenit 6 i referohet 1, b, që (akoma qëllimisht dhe pa të drejtë) inkriminon posedimin e një pajisje me qëllim që të përdoret me qëllimin e kryerjes së ndonjërës prej veprave penale të përcaktuara në nenin 2 në 5 të Konventës (hyrja e paligjshme, interceptimi i paligjshëm, interferenca e të dhënave dhe interference e siste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opsion është i ngjashëm me atë që disa juridiksione e quajnë "akte përgatitore" që, në këtë rast, tashmë janë të kriminalizuara në mënyrë autonome.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ëllimi parësor është harmonizimi i të drejtës materiale midis palëve për të lejuar bashkëpun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onventa e Budapestit përcak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 kundër konfidencialitetit, integritetit dhe disponueshmërisë së sistemeve dhe të dhënave kompjuterike: aksesi i paligjshëm, përgjime të paligjshme, ndërhyrje tek të dhënat, ndërhyrja në sistem, keqpërdorimi i pajisje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e kryera me anë të sistemeve kompjuterike: falsifikimet kompjuterike, mashtrimet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penale të lidhura me përmbajtjen: Veprat penale që lidhen me pornografinë e fëmijëve, Veprat penale që lidhen me shkeljet e të drejtave të autorit dhe të drejtat e lidh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81C29-F68E-40C6-8AA7-B3268F174A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jep të gjithë tekstin e Nenit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një person ka të drejtë të prodhojë dhe të hedhë në treg pajisje që mund të përfshihen në objektin e Nenit 6, duke përfshirë ato kur pajisjet e tilla duhet të përdoren për testim të autorizuar ose për mbrojtjen e sistemeve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e përcakton si shkelje prodhimin, shitjen, prokurimin për përdorim, importimin, shpërndarjen ose vënien në dispozicion të pajisjeve të projektuara ose të përshtatura kryesisht për qëllim të kryerjes së krimeve kibernetike.</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përfshin jo vetëm keqpërdorimin e pajisjeve, por edhe programet kompjuterike. Kjo do të thotë se Neni 6 përfshin prodhimin, shitjen etj të programeve që janë të dizajnuara për të ndryshuar ose shkatërruar të dhënat, ose të ndërhyjnë në funksionimin e sistemeve kompjuterike. Kjo do të thotë që programet e viruseve që nuk janë të përfshira në pajisje gjithashtu bien në kuadër të fushës së neni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rtuesit e Konventës duhej të vendosnin nëse do të përfshinin ose përjashtonin pajisjet me përdorim të dyfishtë nga fusha e Nenit 6. Përfshirja e pajisjeve me përdorim të dyfishtë mund të ketë rezultuar në kriminalizimin e tepërt të prodhimit dhe shpërndarjes së pajisjeve edhe pse të njëjtat janë prodhuar dhe shpërndarë për qëllime jo-kriminale. Përjashtimi i pajisjeve me përdorim të dyfishtë do të ishte shumë i ngushtë pasi do të kërkonte që të provohej se pajisjet duhet të prodhohen në mënyrë specifike dhe qëllimet e kryerjes së krimit kibernetik. Konventa ka miratuar një qasje të balancuar, në të cilën pajisjet e hartuara ose përshtatura </a:t>
            </a:r>
            <a:r>
              <a:rPr b="1" lang="en-GB" sz="1200" spc="-1" strike="noStrike">
                <a:solidFill>
                  <a:srgbClr val="000000"/>
                </a:solidFill>
                <a:latin typeface="Calibri"/>
              </a:rPr>
              <a:t>kryesisht</a:t>
            </a:r>
            <a:r>
              <a:rPr b="0" lang="en-GB" sz="1200" spc="-1" strike="noStrike">
                <a:solidFill>
                  <a:srgbClr val="000000"/>
                </a:solidFill>
                <a:latin typeface="Calibri"/>
              </a:rPr>
              <a:t>, por jo vetëm për kryerjen e një krimi kibernetik mbulohen nga Neni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ksion i referohet një prej kategorive më të rëndësishme të krimit kibernetik: veprat kundër konfidencialitetit, integritetit dhe disponueshmërisë së të dhënave kompjuterike dhe sistemeve. Ky mund të quhet krimi kibernetik në kuptimin e ngushtë.</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eqpërdorimit të pajisjeve dhe programeve kompjuterike, Neni 6 gjithashtu kriminalizon prodhimin, shitjen etj të kodeve të hyrjes, fjalëkalimet kompjuterike dhe të dhëna të tjera të ngjashme që mundësojnë hyrjen në të gjithë ose në ndonjë pjesë të një sistemi kompjuterik.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prodhimit ose shpërndarjes së pajisjeve, programeve kompjuterike, fjalëkalimeve, kodeve të hyrjes, etj, neni 6 gjithashtu penalizon posedimin e të njejtave në qoftë se kanë atë qëllim, kryerjen e një krimi kibernetik.</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kompjuterike janë krime të kryera me anë të një sistemi kompjuterik. Këto vepra janë modalitete të reja të krimeve tradicionale, por ato thjesht mund të kryhen brenda mjedisit digjital dhe nuk mund të ndodhin jashtë kësaj bote virtuale.</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lsifikimi i lidhur me kompjuterit, i përshkruar në nenin 7 të Konventës së Budapestit, është një mënyrë e veçantë e falsifikimit. Në shumicën e vendeve, falsifikimi është një shkelje tradicionale kriminale. Por normalisht, ajo i referohet objekteve të prekshme dhe nganjëherë nuk mund të përdoret për të kriminalizuar falsifikimin kompjuterik, ose falsifikimin e të dhënave kompjuterike. Kjo ishte arsyeja e hyrjes në Konventë të Neni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këtë pikë, Konventa synon të paraqesë një vepër paralele ndaj falsifikimit tradicional të dokumenteve (dokumente të prekshme). Por në këtë rast, objekti i krimit janë të dhënat kompjuterike. Ky krim kryhet nga ata që futin, ndryshojnë, fshijnë ose bëjnë të padisponueshme të dhënat kompjuterike, duke rezultuar në të dhëna joautentike me qëllim që këto të dhëna të konsiderohen ose të veprojnë për qëllime ligjore sikur të ishin auten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krim kërkon, sigurisht, të kryhet me dashje dhe pa veprim të drejtë.</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a:t>
            </a:r>
            <a:r>
              <a:rPr b="0" lang="en-US" sz="1200" spc="-1" strike="noStrike">
                <a:solidFill>
                  <a:srgbClr val="000000"/>
                </a:solidFill>
                <a:latin typeface="Calibri"/>
              </a:rPr>
              <a:t>7</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ndodhë falsifikimi i një dokumenti të vërtetë sipas nenit 6.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utja </a:t>
            </a:r>
            <a:r>
              <a:rPr b="0" lang="en-GB" sz="1200" spc="-1" strike="noStrike">
                <a:solidFill>
                  <a:srgbClr val="000000"/>
                </a:solidFill>
                <a:latin typeface="Calibri"/>
                <a:ea typeface="Times New Roman"/>
              </a:rPr>
              <a:t>e të dhënave të sakta dhe të pasakt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Ndryshimi</a:t>
            </a:r>
            <a:r>
              <a:rPr b="0" lang="en-GB" sz="1200" spc="-1" strike="noStrike">
                <a:solidFill>
                  <a:srgbClr val="000000"/>
                </a:solidFill>
                <a:latin typeface="Calibri"/>
                <a:ea typeface="Times New Roman"/>
              </a:rPr>
              <a:t> pasues (modifikimet, ndryshimet, ndryshimet e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shirja </a:t>
            </a:r>
            <a:r>
              <a:rPr b="0" lang="en-GB" sz="1200" spc="-1" strike="noStrike">
                <a:solidFill>
                  <a:srgbClr val="000000"/>
                </a:solidFill>
                <a:latin typeface="Calibri"/>
                <a:ea typeface="Times New Roman"/>
              </a:rPr>
              <a:t>(heqja e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Bërja e padisponueshme </a:t>
            </a:r>
            <a:r>
              <a:rPr b="0" lang="en-GB" sz="1200" spc="-1" strike="noStrike">
                <a:solidFill>
                  <a:srgbClr val="000000"/>
                </a:solidFill>
                <a:latin typeface="Calibri"/>
                <a:ea typeface="Times New Roman"/>
              </a:rPr>
              <a:t>(pengimi, fshehja e të dhënav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rkesës që falsifikimi kompjuterik të bëhet me dashje, neni 7 gjithashtu kërkon që një person të kryejë veprimet e nevojshme me qëllim që të konsiderohet ose të veprohet me dokument të falsifikuar për qëllime ligjore (p.sh. transaksionet ligjore dhe dokumentet që janë ligjërisht të lidhura). Më tej, Palët mund të kërkojnë që sjellja të kryhet me qëllimin për të mashtruar një person tjetë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rimi i </a:t>
            </a:r>
            <a:r>
              <a:rPr b="0" lang="en-US" sz="1200" spc="-1" strike="noStrike">
                <a:solidFill>
                  <a:srgbClr val="000000"/>
                </a:solidFill>
                <a:latin typeface="Calibri"/>
              </a:rPr>
              <a:t>hyrjes </a:t>
            </a:r>
            <a:r>
              <a:rPr b="0" lang="hr-HR" sz="1200" spc="-1" strike="noStrike">
                <a:solidFill>
                  <a:srgbClr val="000000"/>
                </a:solidFill>
                <a:latin typeface="Calibri"/>
              </a:rPr>
              <a:t>së paligjshme kryhet nga ata që </a:t>
            </a:r>
            <a:r>
              <a:rPr b="0" lang="en-US" sz="1200" spc="-1" strike="noStrike">
                <a:solidFill>
                  <a:srgbClr val="000000"/>
                </a:solidFill>
                <a:latin typeface="Calibri"/>
              </a:rPr>
              <a:t>hyjnë </a:t>
            </a:r>
            <a:r>
              <a:rPr b="0" lang="hr-HR" sz="1200" spc="-1" strike="noStrike">
                <a:solidFill>
                  <a:srgbClr val="000000"/>
                </a:solidFill>
                <a:latin typeface="Calibri"/>
              </a:rPr>
              <a:t>në tërësi ose në ndonjë pjesë të një sistemi kompjuterik pa të drejtë. Ky veprim duhet të jetë i qëllimshëm dhe përshkruhet në nenin 2 të Konventës së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shtrimi kompjuterik, i përshkruar në nenin 8 të Konventës së Budapestit është</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shkaktohet humbja në pronën e një personi tjetër.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utja</a:t>
            </a:r>
            <a:r>
              <a:rPr b="0" lang="en-GB" sz="1200" spc="-1" strike="noStrike">
                <a:solidFill>
                  <a:srgbClr val="000000"/>
                </a:solidFill>
                <a:latin typeface="Calibri"/>
              </a:rPr>
              <a:t> së të dhënave të sakta ose të gabuar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ndryshimi</a:t>
            </a:r>
            <a:r>
              <a:rPr b="0" lang="en-GB" sz="1200" spc="-1" strike="noStrike">
                <a:solidFill>
                  <a:srgbClr val="000000"/>
                </a:solidFill>
                <a:latin typeface="Calibri"/>
              </a:rPr>
              <a:t> pasues (modifikime, ndryshime, ndryshime të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shirja</a:t>
            </a:r>
            <a:r>
              <a:rPr b="0" lang="en-GB" sz="1200" spc="-1" strike="noStrike">
                <a:solidFill>
                  <a:srgbClr val="000000"/>
                </a:solidFill>
                <a:latin typeface="Calibri"/>
              </a:rPr>
              <a:t> (heqjes së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Bërja e padisponueshme </a:t>
            </a:r>
            <a:r>
              <a:rPr b="0" lang="en-GB" sz="1200" spc="-1" strike="noStrike">
                <a:solidFill>
                  <a:srgbClr val="000000"/>
                </a:solidFill>
                <a:latin typeface="Calibri"/>
              </a:rPr>
              <a:t>(pengimit, fshehjes së të dhënav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Interferenca </a:t>
            </a:r>
            <a:r>
              <a:rPr b="0" lang="en-GB" sz="1200" spc="-1" strike="noStrike">
                <a:solidFill>
                  <a:srgbClr val="000000"/>
                </a:solidFill>
                <a:latin typeface="Calibri"/>
              </a:rPr>
              <a:t>(në funksionimin e një sistemi kompjuterik)</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C09BB-CD04-4961-9AC1-D984D273F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ë lidhje me veprën penale të mashtrimit kompjuterik, është e nevojshme që sjellja të rezultojë në humbjen e drejtpërdrejtë ekonomike ose poseduese të pasurisë së një personi tjetër. Kjo mund të përfshijë humbjen e parave, të pasurive të paluajtshme dhe të pasurive të paluajtshme me vlerë ekonomike.</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45ACC-4D7E-49A9-AF89-2AE31204AC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të lidhura me përmbajtjen i referohen atyre krimeve që u bënë më të lehta nëpërmjet përdorimit të kompjuterëve ose rrjeteve. Këto lloje të shkeljeve mund të kryhen me mjete të tjera, por kompjuterat dhe rrjetet i bëjnë ato më të lehta.</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9 i Konventës së Budapestit nxjerr në pah një nga risitë e mëdha të këtij traktati: kriminalizon veprimet e pornografisë së fëmijëve të kryera me anë të një sistemi kompjuterik.</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regtia me pornografinë e fëmijëve u rrit jashtëzakonisht shumë me ardhjen e internetit. Rrjetet e komunikimit dhe informacionit ofrojnë një numër të madh përparësish dhe mundësish për ata që kërkojnë një lloj të tillë përmbajtjeje. Përveç kësaj, në internet, përdoruesit mund të jenë anonim, duke fituar akses në materialin abuzues të fëmijëve në intern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idhur me veprat penale të pornografisë së fëmijëve, një aspekt është veçanërisht i diskutueshëm: kriminalizimi i "pseudo imazheve". Nenet e Konventës mbulojnë jo vetëm situatat e fotografive ku një fëmijë i vërtetë është fotografuar gjatë aktivitetit seksual, por edhe përfaqësime të rreme të fëmijëve - për shembull, fotografitë e fëmijëve të krijuara tërësisht nga kompjutera (shnderrimi për shembull koka e një fëmije në trupin e një të rrituri që kryen aktin seksual) ose fotot nga të rriturit (bindshëm) duke pretenduar (duke vepruar ose duke u veshur si) të jenë fëmij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jë aspekt i dytë i rëndësishëm duhet të diskutohet, sepse ai gjykohet gjerësisht në tekstin e Konventës: dënimi i zotërimit të thjeshtë të materialeve pornografike të fëmijëve. Neni 9, 1 përcakton si një shkelje thjesht zotërimin e këtij lloji të materialit, brenda një sistemi kompjuterik dhe gjithashtu prokurimin e imazheve të tilla për përdorim thjesht personal. Kjo qasje është miratuar zakonisht nga forume të tjera ndërkombëtare që studiojnë temën.</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riminalizimi i zotërimit të thjeshtë të materialit pornografik të fëmijëve e bën shumë më të lehtë kryerjen e një hetimi penal mbi këtë temë, pasi sipas kësaj dispozite, kushdo që ka në zotërim këtë lloj materiali mund të ndiqet penalisht dhe qëllimi specifik për të përdorur fotot në një në mënyrë të caktuar (për shembull t'i shesin) ose të marrin pjesë në prodhimin e tyre nuk ka nevojë të vërtetohet. Kjo gjithashtu do të thotë se pedofilët e dyshuar mund të dënohen pa ndonjë dëshmi se ata vepruan në impulset e tyre ndaj një fëmije. Dhe sigurisht, policia dhe gjykatat mund të hetojnë dhe dënojnë në këtë mënyrë furnizuesit e dyshuar të pornografisë së fëmijëve (edhe nëse nga posedimi i thjeshtë), me ose pa dëshmi që ndodhi tregtia aktual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drejtim, është e rëndësishme të shqyrtohet edhe opsioni ligjor nga Bashkimi Evropian. Për shumë vite, Bashkimi Evropian vendosi të kriminalizojë thjesht zotërimin e materialeve pornografike të fëmijëve - që nga Vendimi i Këshillit që nga 29 maji i vitit 2000. Kohët e fundit, Direktiva 2011/92 / BE e Parlamentit Europian dhe e Këshillit të 13 Dhjetor 2011, mbi luftën kundër abuzimit seksual dhe shfrytëzimit seksual të fëmijëve dhe pornografisë së fëmijëve, dhe duke zëvendësuar Vendimin Kuadër të Këshillit 2004/68 / JHA, deklaroi se Shtetet Anëtare nga Bashkimi Evropian duhet të kriminalizojnë, ndër të tjera, sjellje të paligjshme, blerjen ose posedimin e pornografisë se fëmijëvë (Neni 5, 2). Megjithatë, i njëjti dokument i jep gjykatës së çdo shteti anëtar të vendosë nëse kjo inkriminimi zbatohet në rastet kur ai material pornografik posedohet nga prodhuesi vetëm për shfrytëzimin e tij privat (për aq sa nuk është përdorur ndonjë material pornografik për qëllimin e prodhimit të tij dhe me kusht që akti të mos përfshijë rrezik për shpërndarjen e material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nga Bashkimi Evropian është absolutisht në përputhje me nenin 9 të Konventës së Budapestit që inkriminon prodhimin, ofrimin ose vënien në dispozicion, shpërndarjen ose transmetimin, prokurimin ose thjesht posedimin e pornografisë së fëmijëve në një sistem kompjuterik ose në një medium të ruajtjes së të dhënave kompjuterike. Megjithatë, përfshirja e "prokurimit" ose "zotërimit" lejon rezervimin nga Palët në Konven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u përforcua nga Konventa për Mbrojtjen e Fëmijëve (CETS 201), e lëshuar nga Këshilli i Evropës dhe i hapur për nënshkrim në vitin 2007. Qëllimi i këtij traktati është harmonizimi i dispozitave të ligjit penal, brenda Palëve, me qëllim mbrojtjen e fëmijëve nga shfrytëzimi seksual. Sipas nenit 20, ndër të tjera, "prokurimi i pornografisë së fëmijëve për veten ose për një person tjetër" dhe "posedimi i pornografisë së fëmijëve" duhet të penalizohet.</a:t>
            </a:r>
            <a:endParaRPr b="0" lang="en-US" sz="700" spc="-1" strike="noStrike">
              <a:solidFill>
                <a:srgbClr val="000000"/>
              </a:solidFill>
              <a:latin typeface="Calibri"/>
            </a:endParaRPr>
          </a:p>
        </p:txBody>
      </p:sp>
      <p:sp>
        <p:nvSpPr>
          <p:cNvPr id="6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AB084-CAD7-40F1-B19E-9B480F9445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faq tekstin e plotë të nenit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shpesh quhet si hyrje e paautorizuar e sistemeve kompjuterike dhe është një nga krimet kompjuterike më të zakonshme. Megjithatë, ka edhe dukuri të tjera, përveç saj, që mund të klasifikohen si hyrje të paligjshme - në të vërtetë, përdorimi i hyrjes së paautorizuar zakonisht përdoret për të përshkruar veprimin e hyrjes në mënyrë të paligjshme në një sistem kompjuterik, me anë të teknologjisë. Por hyrja e paligjshme gjithashtu mbulon çdo hyrje të paautorizuar në një sistem, pavarësisht nga teknologjia e përdorur apo edhe përdorimi ose jo i teknologjisë. Një rast i tillë, për shembull, do të ishte fjalëkalimi i fituar në mënyrë të paligjshme nga keqbërësi. Interesi i mbrojtur këtu është konfidencialiteti i një sistemi kompjuterik dhe të dhënave.</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sjellja e përshkruar në nenin 9 të bëhet "me të drejtë". Ekzistojnë disa mbrojtje të caktuara për sjelljen e përshkruar në Nenin 9; p.sh. që materiali pornografik ka merita artistike, mjekësore, shkencore ose të tjera të ngjash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8C49B-D775-4C2A-B8C0-2B40424896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slajd liston dhe shpjegon disa nga sjelljet që përbëjnë vepër penale sipas nenit 9. Kjo përfshin prodhimin, ofrimin dhe vënien në dispozicion të pornografisë së fëmijëve.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385AF-C61C-4D95-8023-A3C577DE20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liston dhe shpjegon disa nga sjelljet që përbëjnë vepër penale sipas nenit 9. Kjo përfshin shpërndarjen, transmetimin, prokurimin dhe posedimin e pornografisë së fëmijë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E4620-E0B5-47F8-ADA7-0D6388C144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pjegon kriteret me të cilat do të përcaktohet nëse materiali i caktuar është pornografik në natyrë. Përmbajtja duhet të përcaktohet nga standardet kombëtare që kanë të bëjnë me imoralitetin, moralin publik et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gjithëse gjuha e nenit 9 sugjeron që materiali pornografik duhet të jetë një përshkrim vizual, ai gjithashtu synon të përfshijë të dhënat e ruajtura në një sistem kompjuterik ose një mjet të ruajtjes së të dhënave kompjuterike që është në gjendje të konvertojë në një imazh vizual.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831C3-50A1-4705-9DE4-F738046F73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përcakton kritere minimale për përcaktimin nëse një material i caktuar përshkruan "sjelljen seksualisht të qartë". Palët janë të lira të përdorin një përkufizim më të gjerë. Është e rëndësishme të theksohet se sjellja seksualisht eksplicite që përshkruhet nuk duhet të jetë sjellje e vërtetë seksuale; dhe mund të simulohet. </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87249-7322-4EEF-B1B8-CB58838E11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6FD6-277E-4C11-BAF8-3008CFC37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AA1B-7552-4FE7-A6D7-09B368103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400F0-AEB2-4DF8-9500-A02EAB4F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DD029-7400-461B-BA89-FFB4D15B2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2F63-FC85-448E-9C97-EA2D9B36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B82C8-BA18-48C9-BFEC-D387B148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F919-1CF4-4EE5-AED4-F3D9615A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E386E-DDCD-4EE3-96BA-61B435DB8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EB8AB-3A26-42C8-A778-6E193A60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2690-126F-423B-9C5D-BBE70433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664D-AB53-46C4-BFBE-F9BA533DA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CED9-7D24-43DC-97AC-414796795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41F22-1717-4E15-8CA4-0453AA3FBB31}"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0158D-FC40-4E07-A299-664B22C454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130120"/>
            <a:ext cx="8123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Bazë për Krimin Kibernetik për Gjyqtarët dhe Prokurorë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sioni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pozitat e Ligjit Penal Material në kuadër të Konventës së Budapestit</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CD6A76-467E-416C-ACAD-B0420C7C56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4"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a:t>
            </a:r>
            <a:r>
              <a:rPr b="1" lang="sq-AL" sz="4000" spc="-1" strike="noStrike">
                <a:solidFill>
                  <a:srgbClr val="ff0000"/>
                </a:solidFill>
                <a:latin typeface="Calibri"/>
              </a:rPr>
              <a:t>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26C4DE-14EE-4CFD-8382-535F26E07D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875557-4691-491C-A7CF-0E04EBC8D5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8" name=""/>
          <p:cNvSpPr txBox="1"/>
          <p:nvPr/>
        </p:nvSpPr>
        <p:spPr>
          <a:xfrm>
            <a:off x="254160" y="1127160"/>
            <a:ext cx="859464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a:t>
            </a:r>
            <a:r>
              <a:rPr b="1" lang="it-IT" sz="2400" spc="-1" strike="noStrike">
                <a:solidFill>
                  <a:srgbClr val="ff0000"/>
                </a:solidFill>
                <a:latin typeface="Calibri"/>
              </a:rPr>
              <a:t>përshkruan</a:t>
            </a:r>
            <a:r>
              <a:rPr b="0" lang="it-IT" sz="2400" spc="-1" strike="noStrike">
                <a:solidFill>
                  <a:srgbClr val="000000"/>
                </a:solidFill>
                <a:latin typeface="Calibri"/>
              </a:rPr>
              <a:t>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a:t>
            </a:r>
            <a:r>
              <a:rPr b="1" lang="sq-AL" sz="2400" spc="-1" strike="noStrike">
                <a:solidFill>
                  <a:srgbClr val="ff0000"/>
                </a:solidFill>
                <a:latin typeface="Calibri"/>
              </a:rPr>
              <a:t>një minoren</a:t>
            </a:r>
            <a:r>
              <a:rPr b="0" lang="sq-AL" sz="2400" spc="-1" strike="noStrike">
                <a:solidFill>
                  <a:srgbClr val="000000"/>
                </a:solidFill>
                <a:latin typeface="Calibri"/>
              </a:rPr>
              <a:t>,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a:t>
            </a:r>
            <a:r>
              <a:rPr b="1" lang="sq-AL" sz="2400" spc="-1" strike="noStrike">
                <a:solidFill>
                  <a:srgbClr val="ff0000"/>
                </a:solidFill>
                <a:latin typeface="Calibri"/>
              </a:rPr>
              <a:t>një person, i cili duket që është minoren</a:t>
            </a:r>
            <a:r>
              <a:rPr b="0" lang="sq-AL" sz="2400" spc="-1" strike="noStrike">
                <a:solidFill>
                  <a:srgbClr val="000000"/>
                </a:solidFill>
                <a:latin typeface="Calibri"/>
              </a:rPr>
              <a:t>,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a:t>
            </a:r>
            <a:r>
              <a:rPr b="1" lang="sq-AL" sz="2400" spc="-1" strike="noStrike">
                <a:solidFill>
                  <a:srgbClr val="ff0000"/>
                </a:solidFill>
                <a:latin typeface="Calibri"/>
              </a:rPr>
              <a:t>imazhe realiste që prezantojnë një minoren </a:t>
            </a:r>
            <a:r>
              <a:rPr b="0" lang="sq-AL" sz="2400" spc="-1" strike="noStrike">
                <a:solidFill>
                  <a:srgbClr val="000000"/>
                </a:solidFill>
                <a:latin typeface="Calibri"/>
              </a:rPr>
              <a:t>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ërshkrimet</a:t>
            </a:r>
            <a:endParaRPr b="0" lang="en-US" sz="4400" spc="-1" strike="noStrike">
              <a:solidFill>
                <a:srgbClr val="000000"/>
              </a:solidFill>
              <a:latin typeface="Calibri"/>
            </a:endParaRPr>
          </a:p>
        </p:txBody>
      </p:sp>
      <p:sp>
        <p:nvSpPr>
          <p:cNvPr id="360"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fshihen përshkrimet e mëposhtm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zimi seksual i një fëmije të vërtetë</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përshkruajnë një person që shfaqet si i mitur, i angazhuar në sjellje seksualisht eksplicit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ndonëse "realiste", nuk përfshijnë në të vërtetë një fëmijë të vërtetë të angazhuar në sjellje seksualisht eksplicite; duke përfshirë fotografitë të cilat janë ndryshuar, të tilla si imazhe të shndërruara të personave fizikë, apo edhe të krijuara tërësisht nga kompjuteri </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8F346C-D1C0-43D8-8CA9-9680E58CBB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BE7C38-02E5-4542-B040-EE8380E447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4" name=""/>
          <p:cNvSpPr txBox="1"/>
          <p:nvPr/>
        </p:nvSpPr>
        <p:spPr>
          <a:xfrm>
            <a:off x="457200" y="1127160"/>
            <a:ext cx="822960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përshkrua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a:t>
            </a:r>
            <a:r>
              <a:rPr b="1" lang="sq-AL" sz="2400" spc="-1" strike="noStrike">
                <a:solidFill>
                  <a:srgbClr val="ff0000"/>
                </a:solidFill>
                <a:latin typeface="Calibri"/>
              </a:rPr>
              <a:t>minoren</a:t>
            </a:r>
            <a:r>
              <a:rPr b="0" lang="sq-AL" sz="2400" spc="-1" strike="noStrike">
                <a:solidFill>
                  <a:srgbClr val="000000"/>
                </a:solidFill>
                <a:latin typeface="Calibri"/>
              </a:rPr>
              <a:t>”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15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en</a:t>
            </a:r>
            <a:endParaRPr b="0" lang="en-US" sz="4400" spc="-1" strike="noStrike">
              <a:solidFill>
                <a:srgbClr val="000000"/>
              </a:solidFill>
              <a:latin typeface="Calibri"/>
            </a:endParaRPr>
          </a:p>
        </p:txBody>
      </p:sp>
      <p:sp>
        <p:nvSpPr>
          <p:cNvPr id="366" name=""/>
          <p:cNvSpPr txBox="1"/>
          <p:nvPr/>
        </p:nvSpPr>
        <p:spPr>
          <a:xfrm>
            <a:off x="279360" y="1127160"/>
            <a:ext cx="8547120" cy="499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ë përputhje me përkufizimin e fëmijës në nenin 1 të Konventës së Kombeve të Bashkuara për të Drejtat e Fëmijë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vogël përgjithësisht nënkupton të gjithë personat nën moshën 18 vjeç</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lët mund të kërkojnë një kufizim më të ulët të moshës, me kusht që të mos jetë më pak se 16 vje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ha i referohet përdorimit të fëmijëve (realë ose fiktivë) si objekte seksuale; dhe jo mosha e pëlqimit për marrëdhëniet seksuale</a:t>
            </a:r>
            <a:endParaRPr b="0" lang="en-US" sz="28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DEC7EB-E265-442B-9C81-26C260EC0E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 penale të lidhura me shkeljen e të drejtës së autorit dhe të drejtave të  lidhura me të</a:t>
            </a:r>
            <a:endParaRPr b="0" lang="en-US" sz="32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20898-2422-44F4-BC6B-7FE32F134F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Të Drejtat e Pronësisë Intelektuale</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10 – Konventa e Budapestit)</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uk krijon një rregull të ri për këtë temë</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Qëllimi i Konventës së Budapestit</a:t>
            </a:r>
            <a:endParaRPr b="0" lang="en-US" sz="24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për të aplikuar rregulla të mëparshme mbi të drejtën e autorit: ajo që përputhet me botën reale duhet të respektohet edhe brenda realitetit on-line</a:t>
            </a:r>
            <a:endParaRPr b="0" lang="en-US" sz="20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hkeljet e të drejtës së autorit në internet, ose të kryera me anë të një sistemi kompjuterik, duhet të dënohen sikur të ishin kryer në botën reale</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onventa e Budapestit i referohet traktateve ekzistuese ndërkombëtare</a:t>
            </a:r>
            <a:endParaRPr b="0" lang="en-US" sz="24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Marrëveshja e Parisit që e 24 korrikut 1971</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Konventa e Bernës</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raktatet e ëIPO</a:t>
            </a:r>
            <a:endParaRPr b="0" lang="en-US" sz="2000" spc="-1" strike="noStrike">
              <a:solidFill>
                <a:srgbClr val="000000"/>
              </a:solidFill>
              <a:latin typeface="Calibri"/>
            </a:endParaRPr>
          </a:p>
        </p:txBody>
      </p:sp>
      <p:sp>
        <p:nvSpPr>
          <p:cNvPr id="3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1391A-C9FD-49FE-857C-F249D60126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3" name="PlaceHolder 2"/>
          <p:cNvSpPr>
            <a:spLocks noGrp="1"/>
          </p:cNvSpPr>
          <p:nvPr>
            <p:ph/>
          </p:nvPr>
        </p:nvSpPr>
        <p:spPr>
          <a:xfrm>
            <a:off x="168120" y="1417320"/>
            <a:ext cx="8717040" cy="5003640"/>
          </a:xfrm>
          <a:prstGeom prst="rect">
            <a:avLst/>
          </a:prstGeom>
          <a:noFill/>
          <a:ln w="0">
            <a:noFill/>
          </a:ln>
        </p:spPr>
        <p:txBody>
          <a:bodyPr anchor="t">
            <a:normAutofit fontScale="99000"/>
          </a:bodyPr>
          <a:p>
            <a:pPr indent="0" algn="just">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a:t>
            </a:r>
            <a:r>
              <a:rPr b="0" lang="sq-AL" sz="2700" spc="-1" strike="noStrike">
                <a:solidFill>
                  <a:srgbClr val="000000"/>
                </a:solidFill>
                <a:latin typeface="Calibri"/>
              </a:rPr>
              <a:t>Çdo Palë do të </a:t>
            </a:r>
            <a:r>
              <a:rPr b="0" lang="en-US" sz="2700" spc="-1" strike="noStrike">
                <a:solidFill>
                  <a:srgbClr val="000000"/>
                </a:solidFill>
                <a:latin typeface="Calibri"/>
              </a:rPr>
              <a:t>miratojë </a:t>
            </a:r>
            <a:r>
              <a:rPr b="0" lang="sq-AL" sz="2700" spc="-1" strike="noStrike">
                <a:solidFill>
                  <a:srgbClr val="000000"/>
                </a:solidFill>
                <a:latin typeface="Calibri"/>
              </a:rPr>
              <a:t>legjislacion të tillë dhe masa të tjera, që mund të jenë të</a:t>
            </a:r>
            <a:r>
              <a:rPr b="0" lang="en-US" sz="2700" spc="-1" strike="noStrike">
                <a:solidFill>
                  <a:srgbClr val="000000"/>
                </a:solidFill>
                <a:latin typeface="Calibri"/>
              </a:rPr>
              <a:t> </a:t>
            </a:r>
            <a:r>
              <a:rPr b="0" lang="sq-AL" sz="2700" spc="-1" strike="noStrike">
                <a:solidFill>
                  <a:srgbClr val="000000"/>
                </a:solidFill>
                <a:latin typeface="Calibri"/>
              </a:rPr>
              <a:t>nevojshme të përcaktojnë si vepra penale sipas ligjit të brendshëm, dhunimin e të drejtës së autorit,</a:t>
            </a:r>
            <a:r>
              <a:rPr b="0" lang="en-US" sz="2700" spc="-1" strike="noStrike">
                <a:solidFill>
                  <a:srgbClr val="000000"/>
                </a:solidFill>
                <a:latin typeface="Calibri"/>
              </a:rPr>
              <a:t> </a:t>
            </a:r>
            <a:r>
              <a:rPr b="0" lang="sq-AL" sz="2700" spc="-1" strike="noStrike">
                <a:solidFill>
                  <a:srgbClr val="000000"/>
                </a:solidFill>
                <a:latin typeface="Calibri"/>
              </a:rPr>
              <a:t>sikurse është përcaktuar në ligjet e asaj Pale në pajtim me detyrimet që ajo ka marrë sipas Aktit të</a:t>
            </a:r>
            <a:r>
              <a:rPr b="0" lang="en-US" sz="2700" spc="-1" strike="noStrike">
                <a:solidFill>
                  <a:srgbClr val="000000"/>
                </a:solidFill>
                <a:latin typeface="Calibri"/>
              </a:rPr>
              <a:t> </a:t>
            </a:r>
            <a:r>
              <a:rPr b="0" lang="sq-AL" sz="2700" spc="-1" strike="noStrike">
                <a:solidFill>
                  <a:srgbClr val="000000"/>
                </a:solidFill>
                <a:latin typeface="Calibri"/>
              </a:rPr>
              <a:t>Parisit të 24 korrikut 1971 të Konventës së Bernës për Mbrojtjen e Veprave Letrare dhe Artistike,</a:t>
            </a:r>
            <a:r>
              <a:rPr b="0" lang="en-US" sz="2700" spc="-1" strike="noStrike">
                <a:solidFill>
                  <a:srgbClr val="000000"/>
                </a:solidFill>
                <a:latin typeface="Calibri"/>
              </a:rPr>
              <a:t> </a:t>
            </a:r>
            <a:r>
              <a:rPr b="0" lang="sq-AL" sz="2700" spc="-1" strike="noStrike">
                <a:solidFill>
                  <a:srgbClr val="000000"/>
                </a:solidFill>
                <a:latin typeface="Calibri"/>
              </a:rPr>
              <a:t>Marrëveshjen në Aspektet e Lidhura me Tregtimin e të Drejtave të Pasurisë Intelektuale dhe të</a:t>
            </a:r>
            <a:r>
              <a:rPr b="0" lang="en-US" sz="2700" spc="-1" strike="noStrike">
                <a:solidFill>
                  <a:srgbClr val="000000"/>
                </a:solidFill>
                <a:latin typeface="Calibri"/>
              </a:rPr>
              <a:t> </a:t>
            </a:r>
            <a:r>
              <a:rPr b="0" lang="sq-AL" sz="2700" spc="-1" strike="noStrike">
                <a:solidFill>
                  <a:srgbClr val="000000"/>
                </a:solidFill>
                <a:latin typeface="Calibri"/>
              </a:rPr>
              <a:t>Traktatit ëIPO të të drejtave të autorit, me përjashtim të të drejtave morale të këshilluara nga kjo</a:t>
            </a:r>
            <a:r>
              <a:rPr b="0" lang="en-US" sz="2700" spc="-1" strike="noStrike">
                <a:solidFill>
                  <a:srgbClr val="000000"/>
                </a:solidFill>
                <a:latin typeface="Calibri"/>
              </a:rPr>
              <a:t> </a:t>
            </a:r>
            <a:r>
              <a:rPr b="0" lang="sq-AL" sz="2700" spc="-1" strike="noStrike">
                <a:solidFill>
                  <a:srgbClr val="000000"/>
                </a:solidFill>
                <a:latin typeface="Calibri"/>
              </a:rPr>
              <a:t>Konventë, ku akte të tilla janë kryer me dëshirë në shkallë komerciale dhe nëpërmjet një sistemi</a:t>
            </a:r>
            <a:r>
              <a:rPr b="0" lang="en-US" sz="2700" spc="-1" strike="noStrike">
                <a:solidFill>
                  <a:srgbClr val="000000"/>
                </a:solidFill>
                <a:latin typeface="Calibri"/>
              </a:rPr>
              <a:t> </a:t>
            </a:r>
            <a:r>
              <a:rPr b="0" lang="sq-AL" sz="2700" spc="-1" strike="noStrike">
                <a:solidFill>
                  <a:srgbClr val="000000"/>
                </a:solidFill>
                <a:latin typeface="Calibri"/>
              </a:rPr>
              <a:t>kompjuterik</a:t>
            </a:r>
            <a:r>
              <a:rPr b="0" lang="en-GB" sz="2700" spc="-1" strike="noStrike">
                <a:solidFill>
                  <a:srgbClr val="000000"/>
                </a:solidFill>
                <a:latin typeface="Calibri"/>
              </a:rPr>
              <a:t>.</a:t>
            </a:r>
            <a:endParaRPr b="0" lang="en-US" sz="2700" spc="-1" strike="noStrike">
              <a:solidFill>
                <a:srgbClr val="000000"/>
              </a:solidFill>
              <a:latin typeface="Calibri"/>
            </a:endParaRPr>
          </a:p>
        </p:txBody>
      </p:sp>
      <p:sp>
        <p:nvSpPr>
          <p:cNvPr id="3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5694B-8722-44D2-9766-D9C3EA081F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6" name="PlaceHolder 2"/>
          <p:cNvSpPr>
            <a:spLocks noGrp="1"/>
          </p:cNvSpPr>
          <p:nvPr>
            <p:ph/>
          </p:nvPr>
        </p:nvSpPr>
        <p:spPr>
          <a:xfrm>
            <a:off x="258840" y="1600200"/>
            <a:ext cx="8702640" cy="49528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a:t>
            </a:r>
            <a:r>
              <a:rPr b="0" lang="en-US" sz="2400" spc="-1" strike="noStrike">
                <a:solidFill>
                  <a:srgbClr val="000000"/>
                </a:solidFill>
                <a:latin typeface="Calibri"/>
              </a:rPr>
              <a:t> </a:t>
            </a:r>
            <a:r>
              <a:rPr b="0" lang="sq-AL" sz="2400" spc="-1" strike="noStrike">
                <a:solidFill>
                  <a:srgbClr val="000000"/>
                </a:solidFill>
                <a:latin typeface="Calibri"/>
              </a:rPr>
              <a:t>brendshëm dhunimin e të drejtave përkatëse,</a:t>
            </a:r>
            <a:r>
              <a:rPr b="0" lang="en-US" sz="2400" spc="-1" strike="noStrike">
                <a:solidFill>
                  <a:srgbClr val="000000"/>
                </a:solidFill>
                <a:latin typeface="Calibri"/>
              </a:rPr>
              <a:t> </a:t>
            </a:r>
            <a:r>
              <a:rPr b="0" lang="sq-AL" sz="2400" spc="-1" strike="noStrike">
                <a:solidFill>
                  <a:srgbClr val="000000"/>
                </a:solidFill>
                <a:latin typeface="Calibri"/>
              </a:rPr>
              <a:t>sikurse janë përcaktuar sipas ligjit të asaj Pale, në pajtim me detyrimet që kanë ndërmarrë nën</a:t>
            </a:r>
            <a:r>
              <a:rPr b="0" lang="en-US" sz="2400" spc="-1" strike="noStrike">
                <a:solidFill>
                  <a:srgbClr val="000000"/>
                </a:solidFill>
                <a:latin typeface="Calibri"/>
              </a:rPr>
              <a:t> </a:t>
            </a:r>
            <a:r>
              <a:rPr b="0" lang="sq-AL" sz="2400" spc="-1" strike="noStrike">
                <a:solidFill>
                  <a:srgbClr val="000000"/>
                </a:solidFill>
                <a:latin typeface="Calibri"/>
              </a:rPr>
              <a:t>Konventën Ndërkombëtare për Mbrojtjen e Ekzekutuesve, Prodhuesve të Fonogrameve dhe</a:t>
            </a:r>
            <a:r>
              <a:rPr b="0" lang="en-US" sz="2400" spc="-1" strike="noStrike">
                <a:solidFill>
                  <a:srgbClr val="000000"/>
                </a:solidFill>
                <a:latin typeface="Calibri"/>
              </a:rPr>
              <a:t> </a:t>
            </a:r>
            <a:r>
              <a:rPr b="0" lang="sq-AL" sz="2400" spc="-1" strike="noStrike">
                <a:solidFill>
                  <a:srgbClr val="000000"/>
                </a:solidFill>
                <a:latin typeface="Calibri"/>
              </a:rPr>
              <a:t>Organizatave të Transmetimit, bërë në Romë (Konventa e Romës), Marrëveshjes në Aspektet e</a:t>
            </a:r>
            <a:r>
              <a:rPr b="0" lang="en-US" sz="2400" spc="-1" strike="noStrike">
                <a:solidFill>
                  <a:srgbClr val="000000"/>
                </a:solidFill>
                <a:latin typeface="Calibri"/>
              </a:rPr>
              <a:t> </a:t>
            </a:r>
            <a:r>
              <a:rPr b="0" lang="sq-AL" sz="2400" spc="-1" strike="noStrike">
                <a:solidFill>
                  <a:srgbClr val="000000"/>
                </a:solidFill>
                <a:latin typeface="Calibri"/>
              </a:rPr>
              <a:t>Lidhura me Tregtimin e të drejtave të Pasurive të Intelektualëve dhe të Ekzekutimeve ëIPO dhe</a:t>
            </a:r>
            <a:r>
              <a:rPr b="0" lang="en-US" sz="2400" spc="-1" strike="noStrike">
                <a:solidFill>
                  <a:srgbClr val="000000"/>
                </a:solidFill>
                <a:latin typeface="Calibri"/>
              </a:rPr>
              <a:t> </a:t>
            </a:r>
            <a:r>
              <a:rPr b="0" lang="sq-AL" sz="2400" spc="-1" strike="noStrike">
                <a:solidFill>
                  <a:srgbClr val="000000"/>
                </a:solidFill>
                <a:latin typeface="Calibri"/>
              </a:rPr>
              <a:t>Traktateve të Fonogrameve, me përjashtim të ndonjë të drejte morale të këshilluar nga konventa të</a:t>
            </a:r>
            <a:r>
              <a:rPr b="0" lang="en-US" sz="2400" spc="-1" strike="noStrike">
                <a:solidFill>
                  <a:srgbClr val="000000"/>
                </a:solidFill>
                <a:latin typeface="Calibri"/>
              </a:rPr>
              <a:t> </a:t>
            </a:r>
            <a:r>
              <a:rPr b="0" lang="sq-AL" sz="2400" spc="-1" strike="noStrike">
                <a:solidFill>
                  <a:srgbClr val="000000"/>
                </a:solidFill>
                <a:latin typeface="Calibri"/>
              </a:rPr>
              <a:t>tilla, ku akte të tilla janë kryer me dëshirë në shkallë komerciale dhe nëpërmjet sistemeve</a:t>
            </a:r>
            <a:r>
              <a:rPr b="0" lang="en-US" sz="2400" spc="-1" strike="noStrike">
                <a:solidFill>
                  <a:srgbClr val="000000"/>
                </a:solidFill>
                <a:latin typeface="Calibri"/>
              </a:rPr>
              <a:t> </a:t>
            </a:r>
            <a:r>
              <a:rPr b="0" lang="sq-AL" sz="2400" spc="-1" strike="noStrike">
                <a:solidFill>
                  <a:srgbClr val="000000"/>
                </a:solidFill>
                <a:latin typeface="Calibri"/>
              </a:rPr>
              <a:t>kompjuterik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94B10-361A-4F13-A4C8-B0D090115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9" name="PlaceHolder 2"/>
          <p:cNvSpPr>
            <a:spLocks noGrp="1"/>
          </p:cNvSpPr>
          <p:nvPr>
            <p:ph/>
          </p:nvPr>
        </p:nvSpPr>
        <p:spPr>
          <a:xfrm>
            <a:off x="457200" y="2063880"/>
            <a:ext cx="8229600" cy="330984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a:t>
            </a:r>
            <a:r>
              <a:rPr b="0" lang="sq-AL" sz="2800" spc="-1" strike="noStrike">
                <a:solidFill>
                  <a:srgbClr val="000000"/>
                </a:solidFill>
                <a:latin typeface="Calibri"/>
              </a:rPr>
              <a:t>Një Palë mund të rezervojë të drejtën për të mos imponuar përgjegjësi penale sipas</a:t>
            </a:r>
            <a:r>
              <a:rPr b="0" lang="en-US" sz="2800" spc="-1" strike="noStrike">
                <a:solidFill>
                  <a:srgbClr val="000000"/>
                </a:solidFill>
                <a:latin typeface="Calibri"/>
              </a:rPr>
              <a:t> </a:t>
            </a:r>
            <a:r>
              <a:rPr b="0" lang="sq-AL" sz="2800" spc="-1" strike="noStrike">
                <a:solidFill>
                  <a:srgbClr val="000000"/>
                </a:solidFill>
                <a:latin typeface="Calibri"/>
              </a:rPr>
              <a:t>paragrafëve 1 dhe 2 të këtij neni në rrethana të kufizuara, me kushtin që zhdëmtime të tjera efektive</a:t>
            </a:r>
            <a:r>
              <a:rPr b="0" lang="en-US" sz="2800" spc="-1" strike="noStrike">
                <a:solidFill>
                  <a:srgbClr val="000000"/>
                </a:solidFill>
                <a:latin typeface="Calibri"/>
              </a:rPr>
              <a:t> </a:t>
            </a:r>
            <a:r>
              <a:rPr b="0" lang="sq-AL" sz="2800" spc="-1" strike="noStrike">
                <a:solidFill>
                  <a:srgbClr val="000000"/>
                </a:solidFill>
                <a:latin typeface="Calibri"/>
              </a:rPr>
              <a:t>të vihen në dispozicion dhe nuk shmangin Palën(ët) nga detyrimet ndërkombëtare të parashikuara në</a:t>
            </a:r>
            <a:r>
              <a:rPr b="0" lang="en-US" sz="2800" spc="-1" strike="noStrike">
                <a:solidFill>
                  <a:srgbClr val="000000"/>
                </a:solidFill>
                <a:latin typeface="Calibri"/>
              </a:rPr>
              <a:t> </a:t>
            </a:r>
            <a:r>
              <a:rPr b="0" lang="sq-AL" sz="2800" spc="-1" strike="noStrike">
                <a:solidFill>
                  <a:srgbClr val="000000"/>
                </a:solidFill>
                <a:latin typeface="Calibri"/>
              </a:rPr>
              <a:t>instrumentet ndërkombëtare që përmenden në paragrafin 1 dhe 2 të këtij neni</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6A415-36A8-41E5-A6B8-B9E7384523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2" name="PlaceHolder 2"/>
          <p:cNvSpPr>
            <a:spLocks noGrp="1"/>
          </p:cNvSpPr>
          <p:nvPr>
            <p:ph/>
          </p:nvPr>
        </p:nvSpPr>
        <p:spPr>
          <a:xfrm>
            <a:off x="304920" y="1628280"/>
            <a:ext cx="8626320" cy="5092920"/>
          </a:xfrm>
          <a:prstGeom prst="rect">
            <a:avLst/>
          </a:prstGeom>
          <a:noFill/>
          <a:ln w="0">
            <a:noFill/>
          </a:ln>
        </p:spPr>
        <p:txBody>
          <a:bodyPr anchor="t">
            <a:normAutofit/>
          </a:bodyPr>
          <a:p>
            <a:pPr marL="514440" indent="-514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a:t>
            </a:r>
            <a:r>
              <a:rPr b="1" lang="sq-AL" sz="2400" spc="-1" strike="noStrike">
                <a:solidFill>
                  <a:srgbClr val="ff0000"/>
                </a:solidFill>
                <a:latin typeface="Calibri"/>
              </a:rPr>
              <a:t>dhunimin</a:t>
            </a:r>
            <a:r>
              <a:rPr b="0" lang="sq-AL" sz="2400" spc="-1" strike="noStrike">
                <a:solidFill>
                  <a:srgbClr val="ff0000"/>
                </a:solidFill>
                <a:latin typeface="Calibri"/>
              </a:rPr>
              <a:t> </a:t>
            </a:r>
            <a:r>
              <a:rPr b="0" lang="sq-AL" sz="2400" spc="-1" strike="noStrike">
                <a:solidFill>
                  <a:srgbClr val="000000"/>
                </a:solidFill>
                <a:latin typeface="Calibri"/>
              </a:rPr>
              <a:t>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a:t>
            </a:r>
            <a:r>
              <a:rPr b="1" lang="sq-AL" sz="2400" spc="-1" strike="noStrike">
                <a:solidFill>
                  <a:srgbClr val="ff0000"/>
                </a:solidFill>
                <a:latin typeface="Calibri"/>
              </a:rPr>
              <a:t>me përjashtim të të drejtave morale të këshilluara nga kjo</a:t>
            </a:r>
            <a:r>
              <a:rPr b="1" lang="en-US" sz="2400" spc="-1" strike="noStrike">
                <a:solidFill>
                  <a:srgbClr val="ff0000"/>
                </a:solidFill>
                <a:latin typeface="Calibri"/>
              </a:rPr>
              <a:t> </a:t>
            </a:r>
            <a:r>
              <a:rPr b="1" lang="sq-AL" sz="2400" spc="-1" strike="noStrike">
                <a:solidFill>
                  <a:srgbClr val="ff0000"/>
                </a:solidFill>
                <a:latin typeface="Calibri"/>
              </a:rPr>
              <a:t>Konventë</a:t>
            </a:r>
            <a:r>
              <a:rPr b="0" lang="sq-AL" sz="2400" spc="-1" strike="noStrike">
                <a:solidFill>
                  <a:srgbClr val="000000"/>
                </a:solidFill>
                <a:latin typeface="Calibri"/>
              </a:rPr>
              <a:t>, ku akte të tilla janë kryer </a:t>
            </a:r>
            <a:r>
              <a:rPr b="1" lang="sq-AL" sz="2400" spc="-1" strike="noStrike">
                <a:solidFill>
                  <a:srgbClr val="ff0000"/>
                </a:solidFill>
                <a:latin typeface="Calibri"/>
              </a:rPr>
              <a:t>me dëshirë</a:t>
            </a:r>
            <a:r>
              <a:rPr b="0" lang="sq-AL" sz="2400" spc="-1" strike="noStrike">
                <a:solidFill>
                  <a:srgbClr val="000000"/>
                </a:solidFill>
                <a:latin typeface="Calibri"/>
              </a:rPr>
              <a:t> në shkallë komerciale dhe </a:t>
            </a:r>
            <a:r>
              <a:rPr b="1" lang="sq-AL" sz="2400" spc="-1" strike="noStrike">
                <a:solidFill>
                  <a:srgbClr val="ff0000"/>
                </a:solidFill>
                <a:latin typeface="Calibri"/>
              </a:rPr>
              <a:t>nëpërmjet një sistemi</a:t>
            </a:r>
            <a:r>
              <a:rPr b="1" lang="en-US" sz="2400" spc="-1" strike="noStrike">
                <a:solidFill>
                  <a:srgbClr val="ff0000"/>
                </a:solidFill>
                <a:latin typeface="Calibri"/>
              </a:rPr>
              <a:t> </a:t>
            </a:r>
            <a:r>
              <a:rPr b="1" lang="sq-AL" sz="2400" spc="-1" strike="noStrike">
                <a:solidFill>
                  <a:srgbClr val="ff0000"/>
                </a:solidFill>
                <a:latin typeface="Calibri"/>
              </a:rPr>
              <a:t>kompjuterik</a:t>
            </a:r>
            <a:r>
              <a:rPr b="1" lang="en-GB" sz="2400" spc="-1" strike="noStrike">
                <a:solidFill>
                  <a:srgbClr val="ff0000"/>
                </a:solidFill>
                <a:latin typeface="Calibri"/>
              </a:rPr>
              <a:t>.</a:t>
            </a:r>
            <a:endParaRPr b="0" lang="en-US" sz="24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CBA96D-76DC-4CD2-9471-261EF0BC11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yrja</a:t>
            </a:r>
            <a:endParaRPr b="0" lang="en-US" sz="4400" spc="-1" strike="noStrike">
              <a:solidFill>
                <a:srgbClr val="000000"/>
              </a:solidFill>
              <a:latin typeface="Calibri"/>
            </a:endParaRPr>
          </a:p>
        </p:txBody>
      </p:sp>
      <p:sp>
        <p:nvSpPr>
          <p:cNvPr id="87"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yrja është futja në tërësi ose në një pjesë të sistemit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n hyrjen në një sistem tjetër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 është i lidhur nëpërmjet rrjetit publik të telekomunikacioni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 në të njëjtin rrjet (LAN ose Intranet brenda një organizat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uk përfshin thjesht dërgimin e mesazhit e-mail ose skedarit në sistemin kompjuterik</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oda e komunikimit me sistemin kompjuterik nuk ka rëndësi (qoftë nga distanca nëpërmjet lidhjeve pa kabull, ose në një distancë të afërt)</a:t>
            </a:r>
            <a:endParaRPr b="0" lang="en-US" sz="2800" spc="-1" strike="noStrike">
              <a:solidFill>
                <a:srgbClr val="000000"/>
              </a:solidFill>
              <a:latin typeface="Calibri"/>
            </a:endParaRPr>
          </a:p>
        </p:txBody>
      </p:sp>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945EB9-8AFF-4870-A9EF-140C14D8B1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elja e të Drejtave të Autorit</a:t>
            </a:r>
            <a:endParaRPr b="0" lang="en-US" sz="4400" spc="-1" strike="noStrike">
              <a:solidFill>
                <a:srgbClr val="000000"/>
              </a:solidFill>
              <a:latin typeface="Calibri"/>
            </a:endParaRPr>
          </a:p>
        </p:txBody>
      </p:sp>
      <p:sp>
        <p:nvSpPr>
          <p:cNvPr id="385"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për të penalizuar shkeljen e të drejtave të auto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nuk shtrihet në kriminalizimin e të drejtave morale, si n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6bis i Konventës së Bernë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5 i Traktatit të ëIPO</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keljet e të drejtave të autorit duhet të kryhen me dashje</a:t>
            </a:r>
            <a:endParaRPr b="0" lang="en-US" sz="3000" spc="-1" strike="noStrike">
              <a:solidFill>
                <a:srgbClr val="000000"/>
              </a:solidFill>
              <a:latin typeface="Calibri"/>
            </a:endParaRPr>
          </a:p>
        </p:txBody>
      </p:sp>
      <p:sp>
        <p:nvSpPr>
          <p:cNvPr id="3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074DBD-9AC5-4502-9078-6A8D623E6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8"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dhunimin 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me përjashtim të të drejtave morale të këshilluara nga kjo</a:t>
            </a:r>
            <a:r>
              <a:rPr b="0" lang="en-US" sz="2400" spc="-1" strike="noStrike">
                <a:solidFill>
                  <a:srgbClr val="000000"/>
                </a:solidFill>
                <a:latin typeface="Calibri"/>
              </a:rPr>
              <a:t> </a:t>
            </a:r>
            <a:r>
              <a:rPr b="0" lang="sq-AL" sz="2400" spc="-1" strike="noStrike">
                <a:solidFill>
                  <a:srgbClr val="000000"/>
                </a:solidFill>
                <a:latin typeface="Calibri"/>
              </a:rPr>
              <a:t>Konventë, ku akte të tilla janë kryer me dëshirë në </a:t>
            </a:r>
            <a:r>
              <a:rPr b="1" lang="sq-AL" sz="2400" spc="-1" strike="noStrike">
                <a:solidFill>
                  <a:srgbClr val="ff0000"/>
                </a:solidFill>
                <a:latin typeface="Calibri"/>
              </a:rPr>
              <a:t>shkallë komerciale </a:t>
            </a:r>
            <a:r>
              <a:rPr b="0" lang="sq-AL" sz="2400" spc="-1" strike="noStrike">
                <a:solidFill>
                  <a:srgbClr val="000000"/>
                </a:solidFill>
                <a:latin typeface="Calibri"/>
              </a:rPr>
              <a:t>dhe nëpërmjet një sistemi</a:t>
            </a:r>
            <a:r>
              <a:rPr b="0" lang="en-US" sz="2400" spc="-1" strike="noStrike">
                <a:solidFill>
                  <a:srgbClr val="000000"/>
                </a:solidFill>
                <a:latin typeface="Calibri"/>
              </a:rPr>
              <a:t> </a:t>
            </a:r>
            <a:r>
              <a:rPr b="0" lang="sq-AL" sz="2400" spc="-1" strike="noStrike">
                <a:solidFill>
                  <a:srgbClr val="000000"/>
                </a:solidFill>
                <a:latin typeface="Calibri"/>
              </a:rPr>
              <a:t>kompjuterik</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D77B85-3D3D-4B81-A1FE-4801D46EC9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allë Tregtare</a:t>
            </a:r>
            <a:endParaRPr b="0" lang="en-US" sz="4400" spc="-1" strike="noStrike">
              <a:solidFill>
                <a:srgbClr val="000000"/>
              </a:solidFill>
              <a:latin typeface="Calibri"/>
            </a:endParaRPr>
          </a:p>
        </p:txBody>
      </p:sp>
      <p:sp>
        <p:nvSpPr>
          <p:cNvPr id="391"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ë përputhje me Nenin 61 të Marrëveshjes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jton piraterinë në një shkallë tregta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ët mund të shkojnë përtej pragut të piraterisë në një shkallë tregtare dhe të penalizojnë raste të tjera të shkeljes së të drejtës së autorit</a:t>
            </a:r>
            <a:endParaRPr b="0" lang="en-US" sz="3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1D8D92-5A40-4A42-AC42-4FEC42716C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28600" y="428760"/>
            <a:ext cx="874728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ërgjegjësitë dhe sanksionet e ndërvarura</a:t>
            </a:r>
            <a:endParaRPr b="0" lang="en-US" sz="40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dëshkimi i bashkëpunimi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ktet e bashkëpunimit që të gjitha Palët në Konventë duhet të parashikojnë në legjislacionin e brendshë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humica e legjislacioneve kombëtare e kanë përfshirë tashmë këtë këndvështrim</a:t>
            </a: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ërgjegjësia penale e personit juridik</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Kërkon nga të gjitha Palët kriminalizimin e akteve të personave juridik</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Brenda Bashkimit Evropian, kriminalizimi i akteve të personave juridik gjithashtu është një çështje e rëndësishme</a:t>
            </a:r>
            <a:endParaRPr b="0" lang="en-US" sz="20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D1E57-E28C-455C-A229-2BF686D853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57200" y="1262160"/>
            <a:ext cx="8229600" cy="559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ërgjegjësia Penale e Shoqërive dhe Personave të tjerë Juridikë</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nga veprimet kriminale të organeve të saj përfaqësue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ke vepruar në përfaqësimin dhe interesin e saj</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ërveç kësaj, përgjegjësia e personave juridik ndodh edhe në rastin 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mungesës së mbikëqyrjes ose kontrollit të një përfaqësuesi ligjor të shoqërisë ose personit tjetër juridik mbi dikë nën mbikëqyrjen e tij </a:t>
            </a:r>
            <a:endParaRPr b="0" lang="en-US" sz="2400" spc="-1" strike="noStrike">
              <a:solidFill>
                <a:srgbClr val="000000"/>
              </a:solidFill>
              <a:latin typeface="Calibri"/>
            </a:endParaRPr>
          </a:p>
        </p:txBody>
      </p:sp>
      <p:sp>
        <p:nvSpPr>
          <p:cNvPr id="3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774B9-7808-4264-BE0D-433471EEDE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3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391E8-3580-4247-A8DC-110844646C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jesa e Dytë</a:t>
            </a:r>
            <a:br>
              <a:rPr sz="3200"/>
            </a:br>
            <a:r>
              <a:rPr b="1" lang="en-GB" sz="3200" spc="-1" strike="noStrike">
                <a:solidFill>
                  <a:srgbClr val="000000"/>
                </a:solidFill>
                <a:latin typeface="Calibri"/>
              </a:rPr>
              <a:t>Rastet Praktike</a:t>
            </a:r>
            <a:endParaRPr b="0" lang="en-US" sz="3200" spc="-1" strike="noStrike">
              <a:solidFill>
                <a:srgbClr val="000000"/>
              </a:solidFill>
              <a:latin typeface="Calibri"/>
            </a:endParaRPr>
          </a:p>
        </p:txBody>
      </p:sp>
      <p:pic>
        <p:nvPicPr>
          <p:cNvPr id="401" name="Picture 3" descr=""/>
          <p:cNvPicPr/>
          <p:nvPr/>
        </p:nvPicPr>
        <p:blipFill>
          <a:blip r:embed="rId1"/>
          <a:stretch/>
        </p:blipFill>
        <p:spPr>
          <a:xfrm>
            <a:off x="6786720" y="4643280"/>
            <a:ext cx="1962000" cy="1766880"/>
          </a:xfrm>
          <a:prstGeom prst="rect">
            <a:avLst/>
          </a:prstGeom>
          <a:ln w="0">
            <a:noFill/>
          </a:ln>
        </p:spPr>
      </p:pic>
      <p:sp>
        <p:nvSpPr>
          <p:cNvPr id="4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73BD9-64B4-4821-9D45-CB108D39F4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4" name=""/>
          <p:cNvSpPr txBox="1"/>
          <p:nvPr/>
        </p:nvSpPr>
        <p:spPr>
          <a:xfrm>
            <a:off x="456840" y="800280"/>
            <a:ext cx="8513640" cy="58291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është ky rast vepër penale në vendin tuaj dhe nëse po – cili?; cilat janë elementet përbërëse të asaj vepre penal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1F23A-26A0-40BF-9E25-78DEA1931D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2</a:t>
            </a:r>
            <a:endParaRPr b="0" lang="en-US" sz="4400" spc="-1" strike="noStrike">
              <a:solidFill>
                <a:srgbClr val="000000"/>
              </a:solidFill>
              <a:latin typeface="Calibri"/>
            </a:endParaRPr>
          </a:p>
        </p:txBody>
      </p:sp>
      <p:sp>
        <p:nvSpPr>
          <p:cNvPr id="407" name=""/>
          <p:cNvSpPr txBox="1"/>
          <p:nvPr/>
        </p:nvSpPr>
        <p:spPr>
          <a:xfrm>
            <a:off x="49356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Sipas ligjit kombëtar të vendit tuaj - Cilat vepra penale duhet të merren parasysh?</a:t>
            </a:r>
            <a:endParaRPr b="0" lang="en-US" sz="2400" spc="-1" strike="noStrike">
              <a:solidFill>
                <a:srgbClr val="000000"/>
              </a:solidFill>
              <a:latin typeface="Calibri"/>
            </a:endParaRPr>
          </a:p>
        </p:txBody>
      </p:sp>
      <p:sp>
        <p:nvSpPr>
          <p:cNvPr id="4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D9CFF-F00D-45A0-BE6F-3FD2151445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Cila vepër penale është ky rast në vendin tuaj?</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 ka kryer autori apo nuk ka të drejtë të ndryshojë një fjalëkalim - dhe a është ky fakt më i rëndësishmi për të përcaktuar veprën sipas ligjit tuaj kombëtar?</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Cilat vepra janë të konsiderueshme</a:t>
            </a:r>
            <a:r>
              <a:rPr b="0" i="1"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3</a:t>
            </a:r>
            <a:endParaRPr b="0" lang="en-US" sz="4400" spc="-1" strike="noStrike">
              <a:solidFill>
                <a:srgbClr val="000000"/>
              </a:solidFill>
              <a:latin typeface="Calibri"/>
            </a:endParaRPr>
          </a:p>
        </p:txBody>
      </p:sp>
      <p:sp>
        <p:nvSpPr>
          <p:cNvPr id="4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B8DFC-06DE-4843-B2B4-A1454EB99E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a:t>
            </a:r>
            <a:r>
              <a:rPr b="1" lang="sq-AL" sz="3600" spc="-1" strike="noStrike">
                <a:solidFill>
                  <a:srgbClr val="ff0000"/>
                </a:solidFill>
                <a:latin typeface="Calibri"/>
              </a:rPr>
              <a:t>në një pjesë apo në</a:t>
            </a:r>
            <a:r>
              <a:rPr b="1" lang="en-US" sz="3600" spc="-1" strike="noStrike">
                <a:solidFill>
                  <a:srgbClr val="ff0000"/>
                </a:solidFill>
                <a:latin typeface="Calibri"/>
              </a:rPr>
              <a:t> </a:t>
            </a:r>
            <a:r>
              <a:rPr b="1" lang="sq-AL" sz="3600" spc="-1" strike="noStrike">
                <a:solidFill>
                  <a:srgbClr val="ff0000"/>
                </a:solidFill>
                <a:latin typeface="Calibri"/>
              </a:rPr>
              <a:t>tërësi të një sistemi kompjuterik</a:t>
            </a:r>
            <a:r>
              <a:rPr b="0" lang="sq-AL" sz="2800" spc="-1" strike="noStrike">
                <a:solidFill>
                  <a:srgbClr val="000000"/>
                </a:solidFill>
                <a:latin typeface="Calibri"/>
              </a:rPr>
              <a:t>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245995-A503-4E5D-860E-3FFBC8EB65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17320"/>
            <a:ext cx="8229600" cy="5303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dërgoi tek Y - kreu i kompanisë "K" - një mesazh e-mail me logon "E. Banka ", në të cilën ai deklaroi se Banka përdor një qasje të re në faqet e biznesit online dhe është e nevojshme të ndryshohet programi kompjuterik në mënyrë që të mundësohet aksesi i mëtejshëm në e-banking të biznesit. Mesazhi përmbante një shtojcë me programin "Driver", me një tregues të qartë se duhet të shkarkohet. Pas shkarkimit, programi kompjuterik i dhënë regjistroi të dhëna nga kompjuteri i përdoruesit (Y) pa dijeninë e tij dhe X-ja ka marrë numrin PIN dhe numrin e legalizimit të transaksionit (TAN). X e ka përdorur PIN-in e fituar dhe TAN-in për të konfirmuar transaksionin dhe ka transferuar 65,000.00 € në llogarinë bankare të Z, të hapur dy ditë më parë në Bankën "P". Në zyrën e "P" Bank, Z deklaroi në mënyrë të gabuar se kishte marrë para nga shitja e pasurive të paluajtshme. Pas pagesës, X mori 63.000,00 € dhe Z mori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Në rolin e një prokurori publik do të akuzonit X dhe Z për të njëjtën vepër apo j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v-SE" sz="2000" spc="-1" strike="noStrike">
                <a:solidFill>
                  <a:srgbClr val="000000"/>
                </a:solidFill>
                <a:latin typeface="Calibri"/>
              </a:rPr>
              <a:t>Cilat vepra janë të konsiderueshme</a:t>
            </a:r>
            <a:r>
              <a:rPr b="0" i="1"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4</a:t>
            </a:r>
            <a:endParaRPr b="0" lang="en-US" sz="4400" spc="-1" strike="noStrike">
              <a:solidFill>
                <a:srgbClr val="000000"/>
              </a:solidFill>
              <a:latin typeface="Calibri"/>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010F9-E2AA-4CFB-8FBE-45C1453EB3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 është kjo vepër penale - posedimi i pornografisë së fëmijëve?</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se?</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5</a:t>
            </a:r>
            <a:endParaRPr b="0" lang="en-US" sz="4400" spc="-1" strike="noStrike">
              <a:solidFill>
                <a:srgbClr val="000000"/>
              </a:solidFill>
              <a:latin typeface="Calibri"/>
            </a:endParaRPr>
          </a:p>
        </p:txBody>
      </p:sp>
      <p:sp>
        <p:nvSpPr>
          <p:cNvPr id="4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45C86-11AF-48BB-835B-AD0E31ED4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9" name="PlaceHolder 2"/>
          <p:cNvSpPr>
            <a:spLocks noGrp="1"/>
          </p:cNvSpPr>
          <p:nvPr>
            <p:ph/>
          </p:nvPr>
        </p:nvSpPr>
        <p:spPr>
          <a:xfrm>
            <a:off x="457200" y="1417320"/>
            <a:ext cx="8229600" cy="51656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i është një oficer policie. Një natë ai është në detyrë dhe sheh një Mercedes parkuar jashtë shtëpisë së tij. Ai nuk e njeh makinën, por dyshon se i përket shefit të gruas së tij. Ai telefonon në stacionin e policisë dhe i kërkon Merit operatorin kompjuterik të tregojë atë që zotëron Mercedesin duke thënë se makina sapo ishte drejtuar nëpër një semafor të kuq. Maria konfirmon se makina me të vërtetë i përket shefit të grua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ka kryer Bobi vepër penale</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80F6E-EFD3-4490-B91C-FA0C39EA54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7</a:t>
            </a:r>
            <a:endParaRPr b="0" lang="en-US" sz="4400" spc="-1" strike="noStrike">
              <a:solidFill>
                <a:srgbClr val="000000"/>
              </a:solidFill>
              <a:latin typeface="Calibri"/>
            </a:endParaRPr>
          </a:p>
        </p:txBody>
      </p:sp>
      <p:sp>
        <p:nvSpPr>
          <p:cNvPr id="422" name="PlaceHolder 2"/>
          <p:cNvSpPr>
            <a:spLocks noGrp="1"/>
          </p:cNvSpPr>
          <p:nvPr>
            <p:ph/>
          </p:nvPr>
        </p:nvSpPr>
        <p:spPr>
          <a:xfrm>
            <a:off x="457200" y="1074600"/>
            <a:ext cx="8229600" cy="56469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roje sigurie në një bankë e kontaktojnë një grup kriminelësh që i kërkojnë atij të vendosë një pajisje të njohur si një keylogger në anën e pasme të një numri terminalesh në bankë. Pajisja Keylogger regjistron prekjet e tastierës nga përdoruesit dhe kap fjalëkalime dhe informacione të tjera që do të mundësonin dikë që kishte akses në terminal për të hyrë në llogaritë e përdoruesve të stafit të bankës.</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veçori shtesë e pajisjes keylogger mundësoi atë të regjistrojë telefonata Skype të bëra nga përdoruesi i terminali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riminelët gjithashtu vendosën një pajisje në tryezë që mori zërin, duke përfshirë të gjitha telefonatat e bëra dhe të pranuara nga përdoruesi i terminali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pasur interceptim të paligjshë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161D8-9B8C-4BD4-8D19-A38AC1A2C7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8</a:t>
            </a:r>
            <a:endParaRPr b="0" lang="en-US" sz="4400" spc="-1" strike="noStrike">
              <a:solidFill>
                <a:srgbClr val="000000"/>
              </a:solidFill>
              <a:latin typeface="Calibri"/>
            </a:endParaRPr>
          </a:p>
        </p:txBody>
      </p:sp>
      <p:sp>
        <p:nvSpPr>
          <p:cNvPr id="425" name="PlaceHolder 2"/>
          <p:cNvSpPr>
            <a:spLocks noGrp="1"/>
          </p:cNvSpPr>
          <p:nvPr>
            <p:ph/>
          </p:nvPr>
        </p:nvSpPr>
        <p:spPr>
          <a:xfrm>
            <a:off x="457200" y="1417320"/>
            <a:ext cx="8229600" cy="492444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bandë kriminale komunikon duke përdorur një sistem të e-mail-it të bazuar në internet që mund të aksesohet përmes internetit kudo në botë. Në vend që të dërgojnë mesazhe të tjera që mund të kapen nga policia ose të cilat mund t'i inkriminojnë ata nëse gjenden në kompjuterin e tyre, ata përdorin sistemin dead letter drop'. Ajo që ata bëjnë është të shkruajnë mesazhin e tyre si një draft që nuk është dërguar kurrë, anëtarët e tjerë të bandës kanë fjalëkalimin që u mundëson atyre të kenë akses në llogarinë e postës elektronike dhe të lexojnë dhe të përgjigjen në mesazhi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ëse policia do të mund të hynte në kutinë e e-mailit, a do të ishte një përgji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C5764-A624-4702-8E80-E75F171641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9</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Zyrtari policor Bobi ka marrë telefonin e gruas së tij, ka gjetur fjalëkalimin e saj dhe ka dëgjuar një mesazh zëri të ruajtur që ajo ende nuk e ka dëgjuar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ky përgjim?</a:t>
            </a:r>
            <a:endParaRPr b="0" lang="en-US" sz="3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9D07B-5ED4-46E8-AB65-EC6E842FFC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0</a:t>
            </a:r>
            <a:endParaRPr b="0" lang="en-US" sz="4400" spc="-1" strike="noStrike">
              <a:solidFill>
                <a:srgbClr val="000000"/>
              </a:solidFill>
              <a:latin typeface="Calibri"/>
            </a:endParaRPr>
          </a:p>
        </p:txBody>
      </p:sp>
      <p:sp>
        <p:nvSpPr>
          <p:cNvPr id="431" name="PlaceHolder 2"/>
          <p:cNvSpPr>
            <a:spLocks noGrp="1"/>
          </p:cNvSpPr>
          <p:nvPr>
            <p:ph/>
          </p:nvPr>
        </p:nvSpPr>
        <p:spPr>
          <a:xfrm>
            <a:off x="457200" y="1265400"/>
            <a:ext cx="8229600" cy="54561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është i interesuar për UFO-t dhe beson se qeveria ruse ka kapur një anije kozmike të huaj që u ul në Siberi në fillim të shekullit të 20-të. Ai viziton një vend të rekrutimit ushtarak rus, i cili ka një lidhje me një faqe të operuar nga Forcat Ajrore të Rusisë. Faqja e Forcave Ajrore kërkon një fjalëkalim, por duke përdorur një mjet për gjetje të fjalëkalimit ai arrin të fitojë akses. Ai kalon disa kohë duke eksploruar sistemin dhe kopjon një numër dosjesh. Ai gjithashtu përpiqet të fshijë të gjitha dosjet e regjistrit të veprimtarisë së tij në mënyrë që të parandalojë rusët nga identifikimi i tij. Ai pastaj ndryshon faqen e parë të faqes në mënyrë që të shfaq një pamje të një UFO në vend të shenjës së Forcave Ajror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Bobi vepër penal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489FD-87DF-4D30-A66C-C46CD8EA3E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1</a:t>
            </a:r>
            <a:endParaRPr b="0" lang="en-US" sz="4400" spc="-1" strike="noStrike">
              <a:solidFill>
                <a:srgbClr val="000000"/>
              </a:solidFill>
              <a:latin typeface="Calibri"/>
            </a:endParaRPr>
          </a:p>
        </p:txBody>
      </p:sp>
      <p:sp>
        <p:nvSpPr>
          <p:cNvPr id="434" name="PlaceHolder 2"/>
          <p:cNvSpPr>
            <a:spLocks noGrp="1"/>
          </p:cNvSpPr>
          <p:nvPr>
            <p:ph/>
          </p:nvPr>
        </p:nvSpPr>
        <p:spPr>
          <a:xfrm>
            <a:off x="457200" y="960480"/>
            <a:ext cx="8229600" cy="54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gram i automatizuar e-mail spam dërgon e-mail të padëshiruara për mijëra përdorues në mbarë botën çdo ditë. Nëse hapet e-maili, shkarkon softuerin në kompjuterin e përdoruesit. Softueri nuk bën asgjë që ndikon në drejtimin e kompjuterit të përdoruesve, nuk merr të dhëna nga kompjuteri i përdoruesve, as nuk fshin ndonjë të dhënë ose shkakton ndonjë lloj tjetër dëmi, megjithatë kjo do të thotë që kompjuteri i përdoruesve tani është një 'Zombie' duke qenë pjesë e një "Botnet" që "kontrolluesi bot" mund të përdorë për të ndërmarrë lloje të ndryshme aktivitetesh.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ryer vepër në kundërshtim me Nenin 4 ose 5 të Konventës së Budapestit nga personi përgjegjës për dërgimin e spam-it?</a:t>
            </a:r>
            <a:endParaRPr b="0" lang="en-US" sz="2400" spc="-1" strike="noStrike">
              <a:solidFill>
                <a:srgbClr val="000000"/>
              </a:solidFill>
              <a:latin typeface="Calibri"/>
            </a:endParaRPr>
          </a:p>
        </p:txBody>
      </p:sp>
      <p:sp>
        <p:nvSpPr>
          <p:cNvPr id="4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D5AE1-3F5C-4221-8E0A-0AD92E0446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2</a:t>
            </a: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është një ish oficer i policisë që është shkarkuar për përdorim të pahijshëm të sistemit kompjuterik të policisë. Ai vendos të kthehet në departamentin e policisë. Ai përdor një program e-maili, i cili i mundëson atij të dërgojë 70,000 e-mail në orë në departamentin e tij të vjetër. Ai ndryshon kreun e mesazhit për të bërë të duket se erdhi nga shefi i policisë duke mashtruar serverin e e-mail të policisë në besimin se erdhi nga një burim i ligjshëm. Serveri i policisë nuk ishte në gjendje të përballonte vëllimin e trafikut dhe u prish.</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jo vepër interferencë në siste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BF077-A837-4F6A-8344-66C54499CB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3</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dërgon një e-mail gruas së tij të huaj në vendin e punës. Ai ndryshon kreun për ta bërë atë të duket se ka ardhur nga një prej miqve të saj. E-mail përmban një program të quajtur akseso të gjitha fushat' që lejon Bobin të marrë kontrollin e kompjuterit të gruas së tij. Para se Bobi të ketë mundësinë të përdorë programin, prania e tij zbulohet nga administratori i sistemit, i cili mbyll sistemin për të bërë një vlerësim të shkallës së ndërhyrjes.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Bobby kryer një vepër penale në kundërshtim me nenin 5 të Konventës së Budapestit??</a:t>
            </a:r>
            <a:endParaRPr b="0" lang="en-US" sz="24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986F0-C52D-4DE9-B5CC-F61CE10742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ë tërësi ose pjesë të sistemit kompjuterik</a:t>
            </a:r>
            <a:endParaRPr b="0" lang="en-US" sz="4400" spc="-1" strike="noStrike">
              <a:solidFill>
                <a:srgbClr val="000000"/>
              </a:solidFill>
              <a:latin typeface="Calibri"/>
            </a:endParaRPr>
          </a:p>
        </p:txBody>
      </p:sp>
      <p:sp>
        <p:nvSpPr>
          <p:cNvPr id="93"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jesë të sistemit kompjuterik</a:t>
            </a:r>
            <a:r>
              <a:rPr b="0" lang="en-GB" sz="3200" spc="-1" strike="noStrike">
                <a:solidFill>
                  <a:srgbClr val="000000"/>
                </a:solidFill>
                <a:latin typeface="Calibri"/>
              </a:rPr>
              <a:t>” përfshin:</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jesët fizik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omponentë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ruajtura në systemin e instaluar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ktoritë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trafikut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lidhura me përmbajtjen në sistemin kompjuterik</a:t>
            </a:r>
            <a:endParaRPr b="0" lang="en-US" sz="28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377542-B18A-4FF3-9386-4A97A117F9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4920"/>
            <a:ext cx="8229600" cy="44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4</a:t>
            </a:r>
            <a:endParaRPr b="0" lang="en-US" sz="4400" spc="-1" strike="noStrike">
              <a:solidFill>
                <a:srgbClr val="000000"/>
              </a:solidFill>
              <a:latin typeface="Calibri"/>
            </a:endParaRPr>
          </a:p>
        </p:txBody>
      </p:sp>
      <p:sp>
        <p:nvSpPr>
          <p:cNvPr id="443" name="PlaceHolder 2"/>
          <p:cNvSpPr>
            <a:spLocks noGrp="1"/>
          </p:cNvSpPr>
          <p:nvPr>
            <p:ph/>
          </p:nvPr>
        </p:nvSpPr>
        <p:spPr>
          <a:xfrm>
            <a:off x="456840" y="647640"/>
            <a:ext cx="8550360" cy="6073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grup 'hacktivist' në internet që po proteston kundër përdorimit të kafshëve për testimn e kozmetikave, ndërmerr sulme të “Mohimit të përhapur të Shërbimit" (DDOS) kundër faqeve të kompanive kozmetike dhe revistave. Nëpërmjet faqes së tyre të internetit, grupi shpërndan softuerin që e quajnë "Supergun", i cili i mundëson grupit që të koordinojë sulmet në faqet e internetit dhe të maksimizojë sasinë e trafikut që kërkon të hyjë në një faqe në një kohë të caktuar. Softueri 'Supergun' u zhvillua fillimisht si një mjet nga administratorët e sistemit për të testuar sigurinë e sistemeve të tyre. Megjithatë ndërsa softueri ende punon në të njëjtën mënyrë, ndërfaqja e përdoruesit është bërë shumë më e lehtë për t'u përdorur dhe tani mban logon e grupi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shkelje për të bërë Supergun në dispozicion për shkarkim?</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vepër penale të jetë në posedim të Supergun?</a:t>
            </a:r>
            <a:endParaRPr b="0" lang="en-US" sz="24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35099-8B37-44DA-9F6F-5A8B39CD51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5</a:t>
            </a:r>
            <a:endParaRPr b="0" lang="en-US" sz="4400" spc="-1" strike="noStrike">
              <a:solidFill>
                <a:srgbClr val="000000"/>
              </a:solidFill>
              <a:latin typeface="Calibri"/>
            </a:endParaRPr>
          </a:p>
        </p:txBody>
      </p:sp>
      <p:sp>
        <p:nvSpPr>
          <p:cNvPr id="446" name="PlaceHolder 2"/>
          <p:cNvSpPr>
            <a:spLocks noGrp="1"/>
          </p:cNvSpPr>
          <p:nvPr>
            <p:ph/>
          </p:nvPr>
        </p:nvSpPr>
        <p:spPr>
          <a:xfrm>
            <a:off x="457200" y="1298520"/>
            <a:ext cx="8229600" cy="505800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dhues programesh ka prodhuar një program kriptimi. Programi ndan përmbajtjen e diskut të kompjuterit në dy vëllime, secili kërkon një fjalëkalim për të hyrë, megjithatë vetëm një vëllim është i dukshëm për përdoruesit e zakonshëm dhe ekzistenca e vëllimit të fshehur nuk mund të zbulohet duke përdorur programin mjeko-ligjor të agjencive ligjzbatuese që aktualisht është në dispozicion.</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dhuesi pretendon se ky program do të jetë i përdorshëm për këdo që mund të gjendet në një situatë ku është nën shtrëngim të zbulojë fjalëkalimin e tij. Kjo do të thotë se të dhënat në vëllimin e fshehur mund të mbahen të sigurta edhe nëse ato zbulojnë fjalëkalimin në dosjen e dukshm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vepër penale prodhuesi i këtij programi?</a:t>
            </a:r>
            <a:endParaRPr b="0" lang="en-US" sz="24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664AA-F155-424B-92E6-D941FE294A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0"/>
            <a:ext cx="8229600" cy="102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6</a:t>
            </a:r>
            <a:endParaRPr b="0" lang="en-US" sz="4400" spc="-1" strike="noStrike">
              <a:solidFill>
                <a:srgbClr val="000000"/>
              </a:solidFill>
              <a:latin typeface="Calibri"/>
            </a:endParaRPr>
          </a:p>
        </p:txBody>
      </p:sp>
      <p:sp>
        <p:nvSpPr>
          <p:cNvPr id="449" name="PlaceHolder 2"/>
          <p:cNvSpPr>
            <a:spLocks noGrp="1"/>
          </p:cNvSpPr>
          <p:nvPr>
            <p:ph/>
          </p:nvPr>
        </p:nvSpPr>
        <p:spPr>
          <a:xfrm>
            <a:off x="457200" y="1028520"/>
            <a:ext cx="8229600" cy="5097240"/>
          </a:xfrm>
          <a:prstGeom prst="rect">
            <a:avLst/>
          </a:prstGeom>
          <a:noFill/>
          <a:ln w="0">
            <a:noFill/>
          </a:ln>
        </p:spPr>
        <p:txBody>
          <a:bodyPr anchor="t">
            <a:normAutofit fontScale="92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ktet / Skenari</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ku punon për në departamentin e TI të një kompanie të madhe e cila ka Intranetin e vet. Politika e kompanisë ndalon punonjësit e saj të përdorin kompjuterin dhe lidhjen e internetit të kompanive të tyre për të bërë blerje në internet. Në kohën e tij të lirë, Niku fillon të zhvillojë programme që do t'i mundësonin kompanisë që të identifikojë këta punonjës, të cilët bëjnë pagesa në internet dhe për të kapur atë informacion në mënyrë që të përdoret si provë në procedurat disiplinore. Nikut i mungojnë aftësitë e nevojshme dhe e bën kontaktin në internet me 'Jupiterin'. Së bashku ata zhvillojnë një pjesë të programit që kur shkarkohet një herë në një kompjuter, do të aktivizohet kur ai përdorues fillon të plotësojë një formular online, i cili përdoret për të përpunuar pagesat në internet dhe do të kapë të dhënat e future nga përdoruesi. Kompania e Nikut është shumë e kënaqur ndërsa Jupiter fillon të vendosë programin duke përdorur një program Trojan.</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Niku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kompania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jupiteri shkelj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8E7F5-A8D7-4FEE-8E1A-C739B93ACA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7</a:t>
            </a: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përdor një program fotografik të disponueshëm në treg për të prodhuar një çek bankar real në kompjuterin e tij të shtëpisë. Ai çon çekun në bankën e tij që e pranon atë si të vërtetë dhe transferon fonde në llogarinë e Stefani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Çfarë vepre ka kryer Stefani?</a:t>
            </a:r>
            <a:endParaRPr b="0" lang="en-US" sz="32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BF2CA-2B8D-4A83-9A6B-9123C72628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8</a:t>
            </a: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gjithmonë mburret tek miqtë e tij për stilin e tij si një atlet kur ai ishte në adoleshencë. Miqtë e tij janë skeptikë. Ai arrin të fitojë akses në bazën e të dhënave të shkollës së tij të vjetër dhe ndryshon të dhënat për ta shfaqur atë si kapiten të skuadrës së atletikës së shkollës dhe që ka fituar një numër medaljesh.</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A është kjo vepër e mashtrimit kompjuterik?</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E3495-D21C-475A-ABF9-9ACA71870B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9</a:t>
            </a:r>
            <a:endParaRPr b="0" lang="en-US" sz="4400" spc="-1" strike="noStrike">
              <a:solidFill>
                <a:srgbClr val="000000"/>
              </a:solidFill>
              <a:latin typeface="Calibri"/>
            </a:endParaRPr>
          </a:p>
        </p:txBody>
      </p:sp>
      <p:sp>
        <p:nvSpPr>
          <p:cNvPr id="458" name="PlaceHolder 2"/>
          <p:cNvSpPr>
            <a:spLocks noGrp="1"/>
          </p:cNvSpPr>
          <p:nvPr>
            <p:ph/>
          </p:nvPr>
        </p:nvSpPr>
        <p:spPr>
          <a:xfrm>
            <a:off x="457200" y="808200"/>
            <a:ext cx="8229600" cy="5317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ani që ka humbur punën në Polici dhe duhet të paguajë detyrim ushqimor për gruan e tij që nga divorci i tyre, Bob po kërkon një mënyrë tjetër për të fituar para. Ai gjithmonë ka pasur interes në blerjen e aksioneve dhe blen 1000 aksione në Flanders Mining Inc një kompani me të drejtë ekskluzive për minierën e uraniumit në Belgjikë për 1 euro secila. Bobi është anëtar i një forumi në internet, anëtarët e të cilit janë, si Bobi, të interesuar në tregun e aksioneve. Bobi ka postuar një mesazh duke thënë se një mik në qeverinë e Belgjikës i ka thënë atij se në Belgjikë janë zbuluar sasi të konsiderueshme të uraniumit. Pas këtij njoftimi, çmimi i aksioneve në Flanders Mining rritet, deri në fund të javës secili aksion kushton 1000 euro. Bobi pastaj shet aksionet e tij.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shkelje Bobi?</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68074-E011-4F7D-867F-0D55CCA724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0</a:t>
            </a: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shkon me makinë në bankë. Në parkimin e makinave ai gjen se nuk ka para të holla. Ai vendos një rondele në makinën e parkimit të automatizuar dhe merr një biletë.</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ka kryer Stefan një shkelje?</a:t>
            </a:r>
            <a:endParaRPr b="0" lang="en-US" sz="3200" spc="-1" strike="noStrike">
              <a:solidFill>
                <a:srgbClr val="000000"/>
              </a:solidFill>
              <a:latin typeface="Calibri"/>
            </a:endParaRPr>
          </a:p>
        </p:txBody>
      </p:sp>
      <p:sp>
        <p:nvSpPr>
          <p:cNvPr id="4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541E4-ECDA-4A20-9CBD-DC003E90DC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1</a:t>
            </a:r>
            <a:endParaRPr b="0" lang="en-US" sz="4400" spc="-1" strike="noStrike">
              <a:solidFill>
                <a:srgbClr val="000000"/>
              </a:solidFill>
              <a:latin typeface="Calibri"/>
            </a:endParaRPr>
          </a:p>
        </p:txBody>
      </p:sp>
      <p:sp>
        <p:nvSpPr>
          <p:cNvPr id="464" name="PlaceHolder 2"/>
          <p:cNvSpPr>
            <a:spLocks noGrp="1"/>
          </p:cNvSpPr>
          <p:nvPr>
            <p:ph/>
          </p:nvPr>
        </p:nvSpPr>
        <p:spPr>
          <a:xfrm>
            <a:off x="493560" y="14176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as arrestimit të tij policia zbulon se Stefan është në posedim të detajeve të kartës së kreditit që i përkasin një numri të madh të palëve të treta.</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posedimi i këtyre të dhënave vepër penale?</a:t>
            </a:r>
            <a:endParaRPr b="0" lang="en-US" sz="32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4E8B8-33C0-4A21-A31E-A3320798B6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2</a:t>
            </a: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i është anëtar i një grupi ekskluziv në internet i cili shkëmben fotografi të fëmijëve që abuzohen seksualisht. Adami është gjithashtu anëtar i një grupi për ndarjen e skedarëve "peer to peer“. Ai vendos fotografitë e fëmijëve që abuzohen që ka marrë nga grupi online në këtë në folderat e përbashkët të rrjetit që i bën ato të aksesueshëm nga të tjerët në rrjetin peer to peer.</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Çfarë veprash ka kryer Adami?</a:t>
            </a:r>
            <a:endParaRPr b="0" lang="en-US" sz="2800" spc="-1" strike="noStrike">
              <a:solidFill>
                <a:srgbClr val="000000"/>
              </a:solidFill>
              <a:latin typeface="Calibri"/>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BE596-56D9-495E-8CB1-FA3D681CBA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3</a:t>
            </a: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është arrestuar në aeroport në kthimin e tij nga Kamboxhia. Laptopi i tij zbulohet se përmban një numër të madh fotografish të tij të angazhuar në aktivitete seksuale me fëmijë që duket se janë nga Azia Juglindor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undet Bill të ndiqet penalisht në lidhje me imazhet?</a:t>
            </a:r>
            <a:endParaRPr b="0" lang="en-US" sz="3200" spc="-1" strike="noStrike">
              <a:solidFill>
                <a:srgbClr val="000000"/>
              </a:solidFill>
              <a:latin typeface="Calibri"/>
            </a:endParaRPr>
          </a:p>
        </p:txBody>
      </p:sp>
      <p:sp>
        <p:nvSpPr>
          <p:cNvPr id="4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FF966-5D09-49A5-B0D2-B53472DA20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a:t>
            </a:r>
            <a:r>
              <a:rPr b="1" lang="sq-AL" sz="3600" spc="-1" strike="noStrike">
                <a:solidFill>
                  <a:srgbClr val="ff0000"/>
                </a:solidFill>
                <a:latin typeface="Calibri"/>
              </a:rPr>
              <a:t>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E8C251-5617-43EA-A22C-F82D6D2CE9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0"/>
            <a:ext cx="8229600" cy="57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4</a:t>
            </a:r>
            <a:endParaRPr b="0" lang="en-US" sz="4400" spc="-1" strike="noStrike">
              <a:solidFill>
                <a:srgbClr val="000000"/>
              </a:solidFill>
              <a:latin typeface="Calibri"/>
            </a:endParaRPr>
          </a:p>
        </p:txBody>
      </p:sp>
      <p:sp>
        <p:nvSpPr>
          <p:cNvPr id="473" name="PlaceHolder 2"/>
          <p:cNvSpPr>
            <a:spLocks noGrp="1"/>
          </p:cNvSpPr>
          <p:nvPr>
            <p:ph/>
          </p:nvPr>
        </p:nvSpPr>
        <p:spPr>
          <a:xfrm>
            <a:off x="457200" y="745920"/>
            <a:ext cx="8229600" cy="5776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ëëë.Iuvfishin.com</a:t>
            </a:r>
            <a:r>
              <a:rPr b="0" lang="en-GB" sz="2400" spc="-1" strike="noStrike">
                <a:solidFill>
                  <a:srgbClr val="000000"/>
                </a:solidFill>
                <a:latin typeface="Calibri"/>
              </a:rPr>
              <a:t> është një faqe interneti e përkushtuar për peshkimin. Faqja është e hostuar në serverët e vendosur në SHBA. Pronarët e faqes zbulojnë se ishte sulmuar dhe se një mijë imazhet e abuzimit të fëmijëve janë ngarkuar dhe vendosur brenda faqes. Mënyra se si është bërë, do të thotë që këto imazhe nuk do të ishin të dukshme për përdoruesit e zakonshëm të faqes. Faqja regjistron adresat IP të atyre që kanë hyrë në fotografi. Një adresë IP që i atribuohet Xhoni i është dhënë policisë në vendin tuaj. Ata kërkojnë adresën e Xhonit dhe e mbajnë kompjuterin e tij që përmban mijëra imazhe të abuzimit të fëmijëve. Është e qartë nga historia e internetit dhe të dhënat brenda këtyre dosjeve se shumica e imazheve janë shkarkuar nga internet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Çfarë krime ka kryer Xhoni?</a:t>
            </a:r>
            <a:endParaRPr b="0" lang="en-US" sz="2400" spc="-1" strike="noStrike">
              <a:solidFill>
                <a:srgbClr val="000000"/>
              </a:solidFill>
              <a:latin typeface="Calibri"/>
            </a:endParaRPr>
          </a:p>
        </p:txBody>
      </p:sp>
      <p:sp>
        <p:nvSpPr>
          <p:cNvPr id="4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DFBE0-BBA6-41B9-88F2-5AB04107FE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5</a:t>
            </a: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licia në SHBA ka mbyllur një faqe interneti që hoston faqet që ofrojnë imazhe abuzimi me fëmijët për ata që paguajnë një abonim mujor. Autoritetet e SH.B.A.-së kanë kapur të dhëna nga ata që kanë paguar për akses, duke përfshirë adresën IP, numrat e kartës së kreditit, adresën e postës elektronike, adresën e faturimit dhe fjalëkalimin. Një nga klientët është Osvaldi. Pasi të jetë marrë një urdhër kontrolli, kompjuteri i tij ekzaminohet. Asgjë inkriminuese nuk është gjetur sepse Osvaldi ka përdorur një program të quajtur 'Eliminimi i provav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ka kryer një vepër penale Osvaldi?</a:t>
            </a:r>
            <a:endParaRPr b="0" lang="en-US" sz="2400" spc="-1" strike="noStrike">
              <a:solidFill>
                <a:srgbClr val="000000"/>
              </a:solidFill>
              <a:latin typeface="Calibri"/>
            </a:endParaRPr>
          </a:p>
        </p:txBody>
      </p:sp>
      <p:sp>
        <p:nvSpPr>
          <p:cNvPr id="4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12D05-F93C-4292-9A4C-4D1965EE35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9"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4E997-E13A-4A8C-90E5-69358A8506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Katërt </a:t>
            </a:r>
            <a:br>
              <a:rPr sz="4000"/>
            </a:br>
            <a:r>
              <a:rPr b="1" lang="en-GB" sz="4000" spc="-1" strike="noStrike">
                <a:solidFill>
                  <a:srgbClr val="000000"/>
                </a:solidFill>
                <a:latin typeface="Calibri"/>
              </a:rPr>
              <a:t>Përmbledhje</a:t>
            </a:r>
            <a:br>
              <a:rPr sz="4000"/>
            </a:br>
            <a:endParaRPr b="0" lang="en-US" sz="4000" spc="-1" strike="noStrike">
              <a:solidFill>
                <a:srgbClr val="000000"/>
              </a:solidFill>
              <a:latin typeface="Calibri"/>
            </a:endParaRPr>
          </a:p>
        </p:txBody>
      </p:sp>
      <p:pic>
        <p:nvPicPr>
          <p:cNvPr id="482" name="Picture 3" descr=""/>
          <p:cNvPicPr/>
          <p:nvPr/>
        </p:nvPicPr>
        <p:blipFill>
          <a:blip r:embed="rId1"/>
          <a:stretch/>
        </p:blipFill>
        <p:spPr>
          <a:xfrm>
            <a:off x="6786720" y="4643280"/>
            <a:ext cx="1962000" cy="1766880"/>
          </a:xfrm>
          <a:prstGeom prst="rect">
            <a:avLst/>
          </a:prstGeom>
          <a:ln w="0">
            <a:noFill/>
          </a:ln>
        </p:spPr>
      </p:pic>
      <p:sp>
        <p:nvSpPr>
          <p:cNvPr id="4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AC0B8-638F-4402-B464-9B31C2582E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485"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ë fund të këtij sesioni, pjesëmarrësit do të jenë në gjendje të:</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ojnë dispozitat e ligjit material penal dhe identifikoni disa nga faktorët kryesorë të përdorur për të përshkruar krimet, bazuar në Konventën e Budapest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dentifikojnë dispozitat përkatëse të substancës nga diskutimet e studimit të rasteve.</a:t>
            </a:r>
            <a:endParaRPr b="0" lang="en-US" sz="2400" spc="-1" strike="noStrike">
              <a:solidFill>
                <a:srgbClr val="000000"/>
              </a:solidFill>
              <a:latin typeface="Arial"/>
            </a:endParaRPr>
          </a:p>
        </p:txBody>
      </p:sp>
      <p:sp>
        <p:nvSpPr>
          <p:cNvPr id="4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5D898-A9A1-4E43-8971-235C8B9C63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31A8D-A217-404A-82B8-B30D3DA91B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99"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yrja pa autorizime legjislative, ekzekutive, administrative, gjyqësore, kontraktuale ose konsensuale</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 kriminalizimin e:</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es së autorizuar nga mbajtësi i të drejtës/pronari i sistemit kompjuterik ose pjesë të tij</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a në sistemin kompjuterik që lejon hyrje të lirë dhe të hapur nga publiku</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297698-00BF-46ED-8C2A-7CF6376D5C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5121360"/>
          </a:xfrm>
          <a:prstGeom prst="rect">
            <a:avLst/>
          </a:prstGeom>
          <a:noFill/>
          <a:ln w="0">
            <a:noFill/>
          </a:ln>
        </p:spPr>
        <p:txBody>
          <a:bodyPr anchor="t">
            <a:normAutofit fontScale="94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a:t>
            </a:r>
            <a:r>
              <a:rPr b="0" lang="en-US" sz="2800" spc="-1" strike="noStrike">
                <a:solidFill>
                  <a:srgbClr val="000000"/>
                </a:solidFill>
                <a:latin typeface="Calibri"/>
              </a:rPr>
              <a:t>k 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1" lang="sq-AL" sz="3600" spc="-1" strike="noStrike">
                <a:solidFill>
                  <a:srgbClr val="ff0000"/>
                </a:solidFill>
                <a:latin typeface="Calibri"/>
              </a:rPr>
              <a:t>shkelj</a:t>
            </a:r>
            <a:r>
              <a:rPr b="1" lang="en-US" sz="3600" spc="-1" strike="noStrike">
                <a:solidFill>
                  <a:srgbClr val="ff0000"/>
                </a:solidFill>
                <a:latin typeface="Calibri"/>
              </a:rPr>
              <a:t>a</a:t>
            </a:r>
            <a:r>
              <a:rPr b="1" lang="sq-AL" sz="3600" spc="-1" strike="noStrike">
                <a:solidFill>
                  <a:srgbClr val="ff0000"/>
                </a:solidFill>
                <a:latin typeface="Calibri"/>
              </a:rPr>
              <a:t> e masave të sigurimit, me qëllimin e përftimit të të dhënave kompjuterike ose qëllimet e tjera</a:t>
            </a:r>
            <a:r>
              <a:rPr b="1" lang="en-US" sz="3600" spc="-1" strike="noStrike">
                <a:solidFill>
                  <a:srgbClr val="ff0000"/>
                </a:solidFill>
                <a:latin typeface="Calibri"/>
              </a:rPr>
              <a:t> </a:t>
            </a:r>
            <a:r>
              <a:rPr b="1" lang="sq-AL" sz="3600" spc="-1" strike="noStrike">
                <a:solidFill>
                  <a:srgbClr val="ff0000"/>
                </a:solidFill>
                <a:latin typeface="Calibri"/>
              </a:rPr>
              <a:t>të pandershme ose në marrëdhënie me një sistem kompjuterik që është i lidhur me një sistem tjetër</a:t>
            </a:r>
            <a:r>
              <a:rPr b="1" lang="en-US" sz="3600" spc="-1" strike="noStrike">
                <a:solidFill>
                  <a:srgbClr val="ff0000"/>
                </a:solidFill>
                <a:latin typeface="Calibri"/>
              </a:rPr>
              <a:t> </a:t>
            </a:r>
            <a:r>
              <a:rPr b="1" lang="sq-AL" sz="3600" spc="-1" strike="noStrike">
                <a:solidFill>
                  <a:srgbClr val="ff0000"/>
                </a:solidFill>
                <a:latin typeface="Calibri"/>
              </a:rPr>
              <a:t>kompjuterik</a:t>
            </a:r>
            <a:r>
              <a:rPr b="1" lang="en-GB" sz="3600" spc="-1" strike="noStrike">
                <a:solidFill>
                  <a:srgbClr val="ff0000"/>
                </a:solidFill>
                <a:latin typeface="Calibri"/>
                <a:ea typeface="Times New Roman"/>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1104D0-1065-4044-838B-16C0D9F4DD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81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05" name="PlaceHolder 2"/>
          <p:cNvSpPr>
            <a:spLocks noGrp="1"/>
          </p:cNvSpPr>
          <p:nvPr>
            <p:ph/>
          </p:nvPr>
        </p:nvSpPr>
        <p:spPr>
          <a:xfrm>
            <a:off x="457200" y="818640"/>
            <a:ext cx="8229600" cy="581508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lët mund të kufizojnë kriminalizimin e hyrjes së qëllimshme në tërësi ose pjesë të një sistemi kompjuterik pa të drejtë me elementet kualifikuese si në viji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kelja e masave të sigurisë;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për të marrë të dhëna kompjuterike;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i pandershëm</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 lidhje me një sistem kompjuterik që është i lidhur me një sistem tjetër</a:t>
            </a:r>
            <a:endParaRPr b="0" lang="en-US" sz="28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AD5BAA-385C-4DC5-98B0-EB29B334DF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ceptimi i paligjshëm</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3 – Konventa e Budapestit)</a:t>
            </a:r>
            <a:endParaRPr b="0" lang="en-US" sz="3200" spc="-1" strike="noStrike">
              <a:solidFill>
                <a:srgbClr val="000000"/>
              </a:solidFill>
              <a:latin typeface="Calibri"/>
            </a:endParaRPr>
          </a:p>
          <a:p>
            <a:pPr marL="3326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dhe pa të drejtë</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rceptimi, me mjete teknike, i transmetimeve jo publik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ër, nga ose brenda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971C0-EE23-4416-91D8-4ABC91E397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0" name="PlaceHolder 2"/>
          <p:cNvSpPr>
            <a:spLocks noGrp="1"/>
          </p:cNvSpPr>
          <p:nvPr>
            <p:ph/>
          </p:nvPr>
        </p:nvSpPr>
        <p:spPr>
          <a:xfrm>
            <a:off x="457200" y="971280"/>
            <a:ext cx="8229600" cy="529884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interceptimi 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7E922-3714-4864-A31A-A90AE410A0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j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Parë</a:t>
            </a:r>
            <a:br>
              <a:rPr sz="2600"/>
            </a:br>
            <a:r>
              <a:rPr b="0" lang="sq-AL" sz="2600" spc="-1" strike="noStrike">
                <a:solidFill>
                  <a:srgbClr val="000000"/>
                </a:solidFill>
                <a:latin typeface="Calibri"/>
              </a:rPr>
              <a:t>Konventa e Budapestit për Krimin Kibernetik</a:t>
            </a:r>
            <a:br>
              <a:rPr sz="2600"/>
            </a:br>
            <a:r>
              <a:rPr b="0" lang="sq-AL" sz="2600" spc="-1" strike="noStrike">
                <a:solidFill>
                  <a:srgbClr val="000000"/>
                </a:solidFill>
                <a:latin typeface="Calibri"/>
              </a:rPr>
              <a:t>Ligji Penal Mater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Dytë</a:t>
            </a:r>
            <a:br>
              <a:rPr sz="2600"/>
            </a:br>
            <a:r>
              <a:rPr b="0" lang="sq-AL" sz="2600" spc="-1" strike="noStrike">
                <a:solidFill>
                  <a:srgbClr val="000000"/>
                </a:solidFill>
                <a:latin typeface="Calibri"/>
              </a:rPr>
              <a:t>Rastet Praktik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a:t>
            </a:r>
            <a:r>
              <a:rPr b="1" lang="en-US" sz="2600" spc="-1" strike="noStrike">
                <a:solidFill>
                  <a:srgbClr val="000000"/>
                </a:solidFill>
                <a:latin typeface="Calibri"/>
              </a:rPr>
              <a:t>Tretë</a:t>
            </a:r>
            <a:br>
              <a:rPr sz="2600"/>
            </a:br>
            <a:r>
              <a:rPr b="0" lang="sq-AL" sz="2600" spc="-1" strike="noStrike">
                <a:solidFill>
                  <a:srgbClr val="000000"/>
                </a:solidFill>
                <a:latin typeface="Calibri"/>
              </a:rPr>
              <a:t>Përmbledhje</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EAF63D-E103-4958-BA0F-F811D9E7DD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3" name="PlaceHolder 2"/>
          <p:cNvSpPr>
            <a:spLocks noGrp="1"/>
          </p:cNvSpPr>
          <p:nvPr>
            <p:ph/>
          </p:nvPr>
        </p:nvSpPr>
        <p:spPr>
          <a:xfrm>
            <a:off x="457200" y="174456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a:t>
            </a:r>
            <a:r>
              <a:rPr b="1" lang="sq-AL" sz="3600" spc="-1" strike="noStrike">
                <a:solidFill>
                  <a:srgbClr val="ff0000"/>
                </a:solidFill>
                <a:latin typeface="Calibri"/>
              </a:rPr>
              <a:t>interceptimi</a:t>
            </a:r>
            <a:r>
              <a:rPr b="0" lang="sq-AL" sz="2800" spc="-1" strike="noStrike">
                <a:solidFill>
                  <a:srgbClr val="ff0000"/>
                </a:solidFill>
                <a:latin typeface="Calibri"/>
              </a:rPr>
              <a:t> </a:t>
            </a:r>
            <a:r>
              <a:rPr b="0" lang="sq-AL" sz="2800" spc="-1" strike="noStrike">
                <a:solidFill>
                  <a:srgbClr val="000000"/>
                </a:solidFill>
                <a:latin typeface="Calibri"/>
              </a:rPr>
              <a:t>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endParaRPr b="0" lang="en-US" sz="28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F1A3AE-9391-49C8-BDED-2B605C96F2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mi</a:t>
            </a:r>
            <a:endParaRPr b="0" lang="en-US" sz="4400" spc="-1" strike="noStrike">
              <a:solidFill>
                <a:srgbClr val="000000"/>
              </a:solidFill>
              <a:latin typeface="Calibri"/>
            </a:endParaRPr>
          </a:p>
        </p:txBody>
      </p:sp>
      <p:sp>
        <p:nvSpPr>
          <p:cNvPr id="116" name="PlaceHolder 2"/>
          <p:cNvSpPr>
            <a:spLocks noGrp="1"/>
          </p:cNvSpPr>
          <p:nvPr>
            <p:ph/>
          </p:nvPr>
        </p:nvSpPr>
        <p:spPr>
          <a:xfrm>
            <a:off x="457200" y="1698480"/>
            <a:ext cx="8229600" cy="48736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mi nënkupton dëgjimin, monitorimin ose mbikëqyrjen e komunikimi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ispozita ka për qëllim të mbrojë privatësinë e komunikimit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rajton ekuivalentet e përgjimit tradicional dhe regjistrimin e bisedave telefonike me gojë kur bëhet për transmetimin e të dhënave kompjuterike</a:t>
            </a:r>
            <a:endParaRPr b="0" lang="en-US" sz="30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B75F16-AE96-421A-94AE-BE231ADD3B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9" name="PlaceHolder 2"/>
          <p:cNvSpPr>
            <a:spLocks noGrp="1"/>
          </p:cNvSpPr>
          <p:nvPr>
            <p:ph/>
          </p:nvPr>
        </p:nvSpPr>
        <p:spPr>
          <a:xfrm>
            <a:off x="457200" y="1744200"/>
            <a:ext cx="8229600" cy="4977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a:t>
            </a:r>
            <a:r>
              <a:rPr b="0" lang="sq-AL" sz="2800" spc="-1" strike="noStrike">
                <a:solidFill>
                  <a:srgbClr val="ff0000"/>
                </a:solidFill>
                <a:latin typeface="Calibri"/>
              </a:rPr>
              <a:t> </a:t>
            </a:r>
            <a:r>
              <a:rPr b="1" lang="sq-AL" sz="4000" spc="-1" strike="noStrike">
                <a:solidFill>
                  <a:srgbClr val="ff0000"/>
                </a:solidFill>
                <a:latin typeface="Calibri"/>
              </a:rPr>
              <a:t>pa të</a:t>
            </a:r>
            <a:r>
              <a:rPr b="1" lang="en-US" sz="4000" spc="-1" strike="noStrike">
                <a:solidFill>
                  <a:srgbClr val="ff0000"/>
                </a:solidFill>
                <a:latin typeface="Calibri"/>
              </a:rPr>
              <a:t> </a:t>
            </a:r>
            <a:r>
              <a:rPr b="1" lang="sq-AL" sz="4000" spc="-1" strike="noStrike">
                <a:solidFill>
                  <a:srgbClr val="ff0000"/>
                </a:solidFill>
                <a:latin typeface="Calibri"/>
              </a:rPr>
              <a:t>drejtë</a:t>
            </a:r>
            <a:r>
              <a:rPr b="0" lang="sq-AL" sz="2800" spc="-1" strike="noStrike">
                <a:solidFill>
                  <a:srgbClr val="000000"/>
                </a:solidFill>
                <a:latin typeface="Calibri"/>
              </a:rPr>
              <a:t>,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081BAF-8B7A-46E5-BA6D-4A4EFD1316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22"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zbatohet kur interceptimi i personit ka të drejtë ta bëjë këtë</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mi i personit të udhëzuar ose autorizuar nga pjesëmarrësit e transmetimit, duke përfshir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Testimi i autorizuar i pranuar nga pjesëmarrësi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Aktivitetet e mbrojtjes të dakorduara nga pjesëmarrësit</a:t>
            </a:r>
            <a:endParaRPr b="0" lang="en-US" sz="2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i skedarëve cookies në faqet e internet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bikëqyrja nga autoritetet e zbatimit të ligjit të autorizuar ligjërisht në interes t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Siguria Kombetare</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Zbulimi i veprave penale</a:t>
            </a:r>
            <a:endParaRPr b="0" lang="en-US" sz="20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5DF0C1-0E30-4DE2-B8E7-9E64A5FE1B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25" name="PlaceHolder 2"/>
          <p:cNvSpPr>
            <a:spLocks noGrp="1"/>
          </p:cNvSpPr>
          <p:nvPr>
            <p:ph/>
          </p:nvPr>
        </p:nvSpPr>
        <p:spPr>
          <a:xfrm>
            <a:off x="457200" y="1257120"/>
            <a:ext cx="8229600" cy="5013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1" lang="sq-AL" sz="4000" spc="-1" strike="noStrike">
                <a:solidFill>
                  <a:srgbClr val="ff0000"/>
                </a:solidFill>
                <a:latin typeface="Calibri"/>
              </a:rPr>
              <a:t>kryer me mjete teknike,</a:t>
            </a:r>
            <a:r>
              <a:rPr b="0" lang="sq-AL" sz="2800" spc="-1" strike="noStrike">
                <a:solidFill>
                  <a:srgbClr val="000000"/>
                </a:solidFill>
                <a:latin typeface="Calibri"/>
              </a:rPr>
              <a:t>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EA24FE-A0CD-4832-A1D6-5407847DB9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jetet teknike</a:t>
            </a:r>
            <a:endParaRPr b="0" lang="en-US" sz="4400" spc="-1" strike="noStrike">
              <a:solidFill>
                <a:srgbClr val="000000"/>
              </a:solidFill>
              <a:latin typeface="Calibri"/>
            </a:endParaRPr>
          </a:p>
        </p:txBody>
      </p:sp>
      <p:sp>
        <p:nvSpPr>
          <p:cNvPr id="128" name="PlaceHolder 2"/>
          <p:cNvSpPr>
            <a:spLocks noGrp="1"/>
          </p:cNvSpPr>
          <p:nvPr>
            <p:ph/>
          </p:nvPr>
        </p:nvSpPr>
        <p:spPr>
          <a:xfrm>
            <a:off x="457200" y="1642680"/>
            <a:ext cx="8229600" cy="49100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p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Hyrjes &amp; përdorimit të sistemeve kompjuterike;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të pajisjeve elektronike të përgjimit</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und të përfshij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gjistrimi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eknike të kapura në linjat e transme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ë mbledhjes dhe regjistrimit të komunikimeve pa kabull</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t të programeve kompjuterike, fjalëkalimeve dhe kodeve</a:t>
            </a:r>
            <a:endParaRPr b="0" lang="en-US" sz="2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8E8005-9697-4AFA-9C94-8ECA1903EA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1" name="PlaceHolder 2"/>
          <p:cNvSpPr>
            <a:spLocks noGrp="1"/>
          </p:cNvSpPr>
          <p:nvPr>
            <p:ph/>
          </p:nvPr>
        </p:nvSpPr>
        <p:spPr>
          <a:xfrm>
            <a:off x="457200" y="1533240"/>
            <a:ext cx="8229600" cy="50194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a:t>
            </a:r>
            <a:r>
              <a:rPr b="0" lang="sq-AL" sz="2800" spc="-1" strike="noStrike">
                <a:solidFill>
                  <a:srgbClr val="000000"/>
                </a:solidFill>
                <a:latin typeface="Calibri"/>
              </a:rPr>
              <a:t>ë </a:t>
            </a:r>
            <a:r>
              <a:rPr b="1" lang="sq-AL" sz="4000" spc="-1" strike="noStrike">
                <a:solidFill>
                  <a:srgbClr val="ff0000"/>
                </a:solidFill>
                <a:latin typeface="Calibri"/>
              </a:rPr>
              <a:t>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027833-8815-46F7-984E-83ACE4D8BB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ransmetime jo publike</a:t>
            </a:r>
            <a:endParaRPr b="0" lang="en-US" sz="4400" spc="-1" strike="noStrike">
              <a:solidFill>
                <a:srgbClr val="000000"/>
              </a:solidFill>
              <a:latin typeface="Calibri"/>
            </a:endParaRPr>
          </a:p>
        </p:txBody>
      </p:sp>
      <p:sp>
        <p:nvSpPr>
          <p:cNvPr id="134"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e kriminalizon interceptimin e të dhënave jo-publike, por të transmetimeve jo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përjashton në vetvete komunikimet mbi rrjetet 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und të përfshijë informata të disponueshme në publik, të transmetuara përmes transmetimeve jopublike</a:t>
            </a:r>
            <a:endParaRPr b="0" lang="en-US" sz="32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F422A0-F194-4E7B-AD96-1282AE54DE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7" name="PlaceHolder 2"/>
          <p:cNvSpPr>
            <a:spLocks noGrp="1"/>
          </p:cNvSpPr>
          <p:nvPr>
            <p:ph/>
          </p:nvPr>
        </p:nvSpPr>
        <p:spPr>
          <a:xfrm>
            <a:off x="457200" y="1218960"/>
            <a:ext cx="8229600" cy="535284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1" lang="en-US" sz="4000" spc="-1" strike="noStrike">
                <a:solidFill>
                  <a:srgbClr val="ff0000"/>
                </a:solidFill>
                <a:latin typeface="Calibri"/>
              </a:rPr>
              <a:t>për, </a:t>
            </a:r>
            <a:r>
              <a:rPr b="1" lang="sq-AL" sz="4000" spc="-1" strike="noStrike">
                <a:solidFill>
                  <a:srgbClr val="ff0000"/>
                </a:solidFill>
                <a:latin typeface="Calibri"/>
              </a:rPr>
              <a:t>nga ose</a:t>
            </a:r>
            <a:r>
              <a:rPr b="1" lang="en-US" sz="4000" spc="-1" strike="noStrike">
                <a:solidFill>
                  <a:srgbClr val="ff0000"/>
                </a:solidFill>
                <a:latin typeface="Calibri"/>
              </a:rPr>
              <a:t> </a:t>
            </a:r>
            <a:r>
              <a:rPr b="1" lang="sq-AL" sz="4000" spc="-1" strike="noStrike">
                <a:solidFill>
                  <a:srgbClr val="ff0000"/>
                </a:solidFill>
                <a:latin typeface="Calibri"/>
              </a:rPr>
              <a:t>brenda një sistemi kompjuterik,</a:t>
            </a:r>
            <a:r>
              <a:rPr b="0" lang="sq-AL" sz="2800" spc="-1" strike="noStrike">
                <a:solidFill>
                  <a:srgbClr val="000000"/>
                </a:solidFill>
                <a:latin typeface="Calibri"/>
              </a:rPr>
              <a:t>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F82E17-3E2C-41FE-A215-9E3B741CFB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 nga ose brenda një sistemi kompjuterik</a:t>
            </a:r>
            <a:endParaRPr b="0" lang="en-US" sz="4400" spc="-1" strike="noStrike">
              <a:solidFill>
                <a:srgbClr val="000000"/>
              </a:solidFill>
              <a:latin typeface="Calibri"/>
            </a:endParaRPr>
          </a:p>
        </p:txBody>
      </p:sp>
      <p:sp>
        <p:nvSpPr>
          <p:cNvPr id="140"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 që shkon nga personi tek tastiera</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ga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një sistem kompjuterik tek një sistem kompjuterik tjetë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renda sistemit kompjuteri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Procesori tek Printeri</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CA2BF8-76FE-4421-B398-93034FCC76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rPr>
              <a:t>Në mbyllje të këtij sesioni, pjesëmarrësit do të jenë në gjendje të </a:t>
            </a:r>
            <a:r>
              <a:rPr b="0" lang="en-GB"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Rendisin dispozitat e ligjit penal material, dhe identifikojnë disa prej faktorëve kyç të përdorur për përshkrimin e veprave penale, bazuar në Ko</a:t>
            </a:r>
            <a:r>
              <a:rPr b="0" lang="en-US" sz="2400" spc="-1" strike="noStrike">
                <a:solidFill>
                  <a:srgbClr val="000000"/>
                </a:solidFill>
                <a:latin typeface="Arial"/>
                <a:ea typeface="Arial"/>
              </a:rPr>
              <a:t>n</a:t>
            </a:r>
            <a:r>
              <a:rPr b="0" lang="sq-AL" sz="2400" spc="-1" strike="noStrike">
                <a:solidFill>
                  <a:srgbClr val="000000"/>
                </a:solidFill>
                <a:latin typeface="Arial"/>
                <a:ea typeface="Arial"/>
              </a:rPr>
              <a:t>ventën e Budapestit</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Identifikojnë dispozitat përkatëse të ligjit material nga diskutimet e rasteve praktike</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C00871-1218-493C-A074-EBDFE872AE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3" name="PlaceHolder 2"/>
          <p:cNvSpPr>
            <a:spLocks noGrp="1"/>
          </p:cNvSpPr>
          <p:nvPr>
            <p:ph/>
          </p:nvPr>
        </p:nvSpPr>
        <p:spPr>
          <a:xfrm>
            <a:off x="457200" y="1142640"/>
            <a:ext cx="8229600" cy="51274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a:t>
            </a:r>
            <a:r>
              <a:rPr b="1" lang="sq-AL" sz="4000" spc="-1" strike="noStrike">
                <a:solidFill>
                  <a:srgbClr val="ff0000"/>
                </a:solidFill>
                <a:latin typeface="Calibri"/>
              </a:rPr>
              <a:t>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F72C3D-8EB5-416E-B30F-C80A40E7C8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metime elektromagnetike</a:t>
            </a:r>
            <a:endParaRPr b="0" lang="en-US" sz="4400" spc="-1" strike="noStrike">
              <a:solidFill>
                <a:srgbClr val="000000"/>
              </a:solidFill>
              <a:latin typeface="Calibri"/>
            </a:endParaRPr>
          </a:p>
        </p:txBody>
      </p:sp>
      <p:sp>
        <p:nvSpPr>
          <p:cNvPr id="146" name="PlaceHolder 2"/>
          <p:cNvSpPr>
            <a:spLocks noGrp="1"/>
          </p:cNvSpPr>
          <p:nvPr>
            <p:ph/>
          </p:nvPr>
        </p:nvSpPr>
        <p:spPr>
          <a:xfrm>
            <a:off x="457200" y="1417320"/>
            <a:ext cx="8229600" cy="53038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përfshira për të siguruar një fushë më të gjerë</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istemet kompjuterike mund të lëshojnë shkarkime elektromagnetike gjatë funksionimit</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etimet nuk përfshihen në përkufizimin e Konventës së Budapestit për të dhënat kompjuterike</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dhënat mund të rindërtohen nga emetime të tilla</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ra, interceptimi i shkarkimeve elektromagnetike përfshihet në vepër penale</a:t>
            </a:r>
            <a:endParaRPr b="0" lang="en-US" sz="28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527B8C-3EB7-4132-A0E9-35CADC7C1A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9" name="PlaceHolder 2"/>
          <p:cNvSpPr>
            <a:spLocks noGrp="1"/>
          </p:cNvSpPr>
          <p:nvPr>
            <p:ph/>
          </p:nvPr>
        </p:nvSpPr>
        <p:spPr>
          <a:xfrm>
            <a:off x="457200" y="1257480"/>
            <a:ext cx="8229600" cy="5464080"/>
          </a:xfrm>
          <a:prstGeom prst="rect">
            <a:avLst/>
          </a:prstGeom>
          <a:noFill/>
          <a:ln w="0">
            <a:noFill/>
          </a:ln>
        </p:spPr>
        <p:txBody>
          <a:bodyPr anchor="t">
            <a:normAutofit fontScale="98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a:t>
            </a:r>
            <a:r>
              <a:rPr b="0" lang="en-US" sz="2800" spc="-1" strike="noStrike">
                <a:solidFill>
                  <a:srgbClr val="000000"/>
                </a:solidFill>
                <a:latin typeface="Calibri"/>
              </a:rPr>
              <a:t>ë 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a:t>
            </a:r>
            <a:r>
              <a:rPr b="1" lang="sq-AL" sz="3600" spc="-1" strike="noStrike">
                <a:solidFill>
                  <a:srgbClr val="ff0000"/>
                </a:solidFill>
                <a:latin typeface="Calibri"/>
              </a:rPr>
              <a:t>të pandershëm ose në marrëdhënie me një sistem kompjuterik që është i lidhur me një sistem</a:t>
            </a:r>
            <a:r>
              <a:rPr b="1" lang="en-US" sz="3600" spc="-1" strike="noStrike">
                <a:solidFill>
                  <a:srgbClr val="ff0000"/>
                </a:solidFill>
                <a:latin typeface="Calibri"/>
              </a:rPr>
              <a:t> </a:t>
            </a:r>
            <a:r>
              <a:rPr b="1" lang="sq-AL" sz="3600" spc="-1" strike="noStrike">
                <a:solidFill>
                  <a:srgbClr val="ff0000"/>
                </a:solidFill>
                <a:latin typeface="Calibri"/>
              </a:rPr>
              <a:t>tjetër kompjuterik</a:t>
            </a:r>
            <a:r>
              <a:rPr b="1" lang="en-GB" sz="3600" spc="-1" strike="noStrike">
                <a:solidFill>
                  <a:srgbClr val="ff0000"/>
                </a:solidFill>
                <a:latin typeface="Calibri"/>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5CB549-C9D4-4820-9FA1-98F8E2A6E4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52"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lët mund ta kufizojnë kriminalizimin e interceptimit të paautorizuar me elementët kualifikues të mëposhtëm:</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Qëllimi i pandershëm</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Në lidhje me një sistem kompjuterik që është i lidhur me një sistem tjetër</a:t>
            </a:r>
            <a:endParaRPr b="0" lang="en-US" sz="30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9156EF-26C8-4E85-BB95-81797B42CF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të Dhënav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4 – Konventa e Budapestit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ëmtimi, fshirja, shtrembërimi, ndryshimi ose shuarja e të dhënave kompjuterike</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F945C-341F-4CCB-9E70-253B37232D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57" name="PlaceHolder 2"/>
          <p:cNvSpPr>
            <a:spLocks noGrp="1"/>
          </p:cNvSpPr>
          <p:nvPr>
            <p:ph/>
          </p:nvPr>
        </p:nvSpPr>
        <p:spPr>
          <a:xfrm>
            <a:off x="457200" y="1895400"/>
            <a:ext cx="8229600" cy="452592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dëmtimi,</a:t>
            </a:r>
            <a:r>
              <a:rPr b="0" lang="en-US" sz="2800" spc="-1" strike="noStrike">
                <a:solidFill>
                  <a:srgbClr val="000000"/>
                </a:solidFill>
                <a:latin typeface="Calibri"/>
              </a:rPr>
              <a:t> </a:t>
            </a:r>
            <a:r>
              <a:rPr b="0" lang="sq-AL" sz="2800" spc="-1" strike="noStrike">
                <a:solidFill>
                  <a:srgbClr val="000000"/>
                </a:solidFill>
                <a:latin typeface="Calibri"/>
              </a:rPr>
              <a:t>fshirja, shtrembërimi,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8AFB7-3A52-4EF7-95C9-983F53575A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0" name="PlaceHolder 2"/>
          <p:cNvSpPr>
            <a:spLocks noGrp="1"/>
          </p:cNvSpPr>
          <p:nvPr>
            <p:ph/>
          </p:nvPr>
        </p:nvSpPr>
        <p:spPr>
          <a:xfrm>
            <a:off x="457200" y="1839960"/>
            <a:ext cx="8229600" cy="4525920"/>
          </a:xfrm>
          <a:prstGeom prst="rect">
            <a:avLst/>
          </a:prstGeom>
          <a:noFill/>
          <a:ln w="0">
            <a:noFill/>
          </a:ln>
        </p:spPr>
        <p:txBody>
          <a:bodyPr anchor="t">
            <a:normAutofit fontScale="94000"/>
          </a:bodyPr>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dëmtimi</a:t>
            </a:r>
            <a:r>
              <a:rPr b="0" lang="sq-AL" sz="2800" spc="-1" strike="noStrike">
                <a:solidFill>
                  <a:srgbClr val="000000"/>
                </a:solidFill>
                <a:latin typeface="Calibri"/>
              </a:rPr>
              <a:t>,</a:t>
            </a:r>
            <a:r>
              <a:rPr b="0" lang="en-US" sz="2800" spc="-1" strike="noStrike">
                <a:solidFill>
                  <a:srgbClr val="000000"/>
                </a:solidFill>
                <a:latin typeface="Calibri"/>
              </a:rPr>
              <a:t> </a:t>
            </a:r>
            <a:r>
              <a:rPr b="0" lang="sq-AL" sz="2800" spc="-1" strike="noStrike">
                <a:solidFill>
                  <a:srgbClr val="000000"/>
                </a:solidFill>
                <a:latin typeface="Calibri"/>
              </a:rPr>
              <a:t>fshirja, </a:t>
            </a:r>
            <a:r>
              <a:rPr b="1" lang="sq-AL" sz="4000" spc="-1" strike="noStrike">
                <a:solidFill>
                  <a:srgbClr val="ff0000"/>
                </a:solidFill>
                <a:latin typeface="Calibri"/>
              </a:rPr>
              <a:t>shtrembërimi</a:t>
            </a:r>
            <a:r>
              <a:rPr b="0" lang="sq-AL" sz="2800" spc="-1" strike="noStrike">
                <a:solidFill>
                  <a:srgbClr val="000000"/>
                </a:solidFill>
                <a:latin typeface="Calibri"/>
              </a:rPr>
              <a:t>,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1FA94C-7C5D-4B2C-A323-E9AB3BEE48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i, Shtrembërimi</a:t>
            </a:r>
            <a:endParaRPr b="0" lang="en-US" sz="4400" spc="-1" strike="noStrike">
              <a:solidFill>
                <a:srgbClr val="000000"/>
              </a:solidFill>
              <a:latin typeface="Calibri"/>
            </a:endParaRPr>
          </a:p>
        </p:txBody>
      </p:sp>
      <p:sp>
        <p:nvSpPr>
          <p:cNvPr id="163"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ëmtimi dhe shtrembërimi janë veprime që mbivendos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dryshim negative i:</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etit; ose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ërmbajtjes së informacioni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të të dhënave dhe programeve</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EBE347-10F9-4318-8033-9EF72E9201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6" name="PlaceHolder 2"/>
          <p:cNvSpPr>
            <a:spLocks noGrp="1"/>
          </p:cNvSpPr>
          <p:nvPr>
            <p:ph/>
          </p:nvPr>
        </p:nvSpPr>
        <p:spPr>
          <a:xfrm>
            <a:off x="457200" y="181080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a:t>
            </a:r>
            <a:r>
              <a:rPr b="1" lang="sq-AL" sz="4000" spc="-1" strike="noStrike">
                <a:solidFill>
                  <a:srgbClr val="ff0000"/>
                </a:solidFill>
                <a:latin typeface="Calibri"/>
              </a:rPr>
              <a:t>fshirj</a:t>
            </a:r>
            <a:r>
              <a:rPr b="1" lang="en-US" sz="4000" spc="-1" strike="noStrike">
                <a:solidFill>
                  <a:srgbClr val="ff0000"/>
                </a:solidFill>
                <a:latin typeface="Calibri"/>
              </a:rPr>
              <a:t>eje</a:t>
            </a:r>
            <a:r>
              <a:rPr b="0" lang="sq-AL" sz="2800" spc="-1" strike="noStrike">
                <a:solidFill>
                  <a:srgbClr val="000000"/>
                </a:solidFill>
                <a:latin typeface="Calibri"/>
              </a:rPr>
              <a:t>, </a:t>
            </a:r>
            <a:r>
              <a:rPr b="0" lang="en-US" sz="2800" spc="-1" strike="noStrike">
                <a:solidFill>
                  <a:srgbClr val="000000"/>
                </a:solidFill>
                <a:latin typeface="Calibri"/>
              </a:rPr>
              <a:t>shtrembërimi, n</a:t>
            </a:r>
            <a:r>
              <a:rPr b="0" lang="sq-AL" sz="2800" spc="-1" strike="noStrike">
                <a:solidFill>
                  <a:srgbClr val="000000"/>
                </a:solidFill>
                <a:latin typeface="Calibri"/>
              </a:rPr>
              <a:t>dryshimi,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48C806-2F45-4B01-8040-FBA8B6A369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shirja</a:t>
            </a:r>
            <a:endParaRPr b="0" lang="en-US" sz="4400" spc="-1" strike="noStrike">
              <a:solidFill>
                <a:srgbClr val="000000"/>
              </a:solidFill>
              <a:latin typeface="Calibri"/>
            </a:endParaRPr>
          </a:p>
        </p:txBody>
      </p:sp>
      <p:sp>
        <p:nvSpPr>
          <p:cNvPr id="169"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Fshirja e të dhënave është e barabartë me shkatërrimin e një objekti fizik</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katërron të dhëna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bën të dhënat që të mos njih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041A32-9D26-4B12-8EA3-E58F53E617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930240"/>
            <a:ext cx="9144000" cy="3713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Parë</a:t>
            </a:r>
            <a:br>
              <a:rPr sz="4000"/>
            </a:br>
            <a:r>
              <a:rPr b="1" lang="en-GB" sz="4000" spc="-1" strike="noStrike">
                <a:solidFill>
                  <a:srgbClr val="000000"/>
                </a:solidFill>
                <a:latin typeface="Calibri"/>
              </a:rPr>
              <a:t>Konventa </a:t>
            </a:r>
            <a:br>
              <a:rPr sz="4000"/>
            </a:br>
            <a:r>
              <a:rPr b="1" lang="en-GB" sz="4000" spc="-1" strike="noStrike">
                <a:solidFill>
                  <a:srgbClr val="000000"/>
                </a:solidFill>
                <a:latin typeface="Calibri"/>
              </a:rPr>
              <a:t>e Budapestit për Krimin Kibernetik</a:t>
            </a:r>
            <a:br>
              <a:rPr sz="4000"/>
            </a:br>
            <a:r>
              <a:rPr b="1" lang="en-GB" sz="4000" spc="-1" strike="noStrike">
                <a:solidFill>
                  <a:srgbClr val="000000"/>
                </a:solidFill>
                <a:latin typeface="Calibri"/>
              </a:rPr>
              <a:t>Ligji Penal Material</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AB8E6-A712-4798-B652-647BADEBB6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2" name="PlaceHolder 2"/>
          <p:cNvSpPr>
            <a:spLocks noGrp="1"/>
          </p:cNvSpPr>
          <p:nvPr>
            <p:ph/>
          </p:nvPr>
        </p:nvSpPr>
        <p:spPr>
          <a:xfrm>
            <a:off x="457200" y="174096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a:t>
            </a:r>
            <a:r>
              <a:rPr b="1" lang="en-US" sz="4000" spc="-1" strike="noStrike">
                <a:solidFill>
                  <a:srgbClr val="ff0000"/>
                </a:solidFill>
                <a:latin typeface="Calibri"/>
              </a:rPr>
              <a:t>n</a:t>
            </a:r>
            <a:r>
              <a:rPr b="1" lang="sq-AL" sz="4000" spc="-1" strike="noStrike">
                <a:solidFill>
                  <a:srgbClr val="ff0000"/>
                </a:solidFill>
                <a:latin typeface="Calibri"/>
              </a:rPr>
              <a:t>dryshimi</a:t>
            </a:r>
            <a:r>
              <a:rPr b="0" lang="sq-AL" sz="2800" spc="-1" strike="noStrike">
                <a:solidFill>
                  <a:srgbClr val="000000"/>
                </a:solidFill>
                <a:latin typeface="Calibri"/>
              </a:rPr>
              <a:t>,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C6C755-A9B7-496C-BEF7-642AF0398C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dryshimi</a:t>
            </a:r>
            <a:endParaRPr b="0" lang="en-US" sz="4400" spc="-1" strike="noStrike">
              <a:solidFill>
                <a:srgbClr val="000000"/>
              </a:solidFill>
              <a:latin typeface="Calibri"/>
            </a:endParaRPr>
          </a:p>
        </p:txBody>
      </p:sp>
      <p:sp>
        <p:nvSpPr>
          <p:cNvPr id="175"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kimi i të dhënave ekzistues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fshin futjen e kodeve me qëllim të keq si viruset dhe kuajt e Trojës dhe modifikimin e rezultateve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6B9917-1920-4880-8C99-BA1FCD2719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o </a:t>
            </a:r>
            <a:r>
              <a:rPr b="1" lang="en-US" sz="4000" spc="-1" strike="noStrike">
                <a:solidFill>
                  <a:srgbClr val="ff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C4143E-2046-4BB9-AEC9-5A248DC69A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ërja e pa Disponueshme</a:t>
            </a:r>
            <a:endParaRPr b="0" lang="en-US" sz="4400" spc="-1" strike="noStrike">
              <a:solidFill>
                <a:srgbClr val="000000"/>
              </a:solidFill>
              <a:latin typeface="Calibri"/>
            </a:endParaRPr>
          </a:p>
        </p:txBody>
      </p:sp>
      <p:sp>
        <p:nvSpPr>
          <p:cNvPr id="181"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Çdo veprim që pengon ose përfundon disponueshmërinë e të dhënave për personin që ka akses në kompjuter ose në pajisjen ku janë ruajtu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ndikon në përmbajtjen e të dhënave, por disponueshmërinë e tyre</a:t>
            </a:r>
            <a:endParaRPr b="0" lang="en-US" sz="3000" spc="-1" strike="noStrike">
              <a:solidFill>
                <a:srgbClr val="000000"/>
              </a:solidFill>
              <a:latin typeface="Calibri"/>
            </a:endParaRPr>
          </a:p>
        </p:txBody>
      </p:sp>
      <p:sp>
        <p:nvSpPr>
          <p:cNvPr id="1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7F61E9-080A-4B2B-87E4-AA3409677F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84" name="PlaceHolder 2"/>
          <p:cNvSpPr>
            <a:spLocks noGrp="1"/>
          </p:cNvSpPr>
          <p:nvPr>
            <p:ph/>
          </p:nvPr>
        </p:nvSpPr>
        <p:spPr>
          <a:xfrm>
            <a:off x="457200" y="1895400"/>
            <a:ext cx="8229600" cy="4525920"/>
          </a:xfrm>
          <a:prstGeom prst="rect">
            <a:avLst/>
          </a:prstGeom>
          <a:noFill/>
          <a:ln w="0">
            <a:noFill/>
          </a:ln>
        </p:spPr>
        <p:txBody>
          <a:bodyPr anchor="t">
            <a:normAutofit fontScale="96000"/>
          </a:bodyPr>
          <a:p>
            <a:pPr marL="493560" indent="-493560" algn="just">
              <a:spcBef>
                <a:spcPts val="10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e të padisponueshme të</a:t>
            </a:r>
            <a:r>
              <a:rPr b="0" lang="sq-AL" sz="2800" spc="-1" strike="noStrike">
                <a:solidFill>
                  <a:srgbClr val="000000"/>
                </a:solidFill>
                <a:latin typeface="Calibri"/>
              </a:rPr>
              <a:t> të dhënave kompjuterike </a:t>
            </a:r>
            <a:r>
              <a:rPr b="1" lang="sq-AL" sz="4000" spc="-1" strike="noStrike">
                <a:solidFill>
                  <a:srgbClr val="ff0000"/>
                </a:solidFill>
                <a:latin typeface="Calibri"/>
              </a:rPr>
              <a:t>pa të drejtë</a:t>
            </a:r>
            <a:r>
              <a:rPr b="1" lang="en-GB" sz="4000" spc="-1" strike="noStrike">
                <a:solidFill>
                  <a:srgbClr val="ff0000"/>
                </a:solidFill>
                <a:latin typeface="Calibri"/>
              </a:rPr>
              <a:t>.</a:t>
            </a:r>
            <a:endParaRPr b="0" lang="en-US" sz="4000" spc="-1" strike="noStrike">
              <a:solidFill>
                <a:srgbClr val="000000"/>
              </a:solidFill>
              <a:latin typeface="Calibri"/>
            </a:endParaRPr>
          </a:p>
          <a:p>
            <a:pPr marL="493560" indent="-4935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00C4CF-0CC1-4A51-97C7-5B66A8F56F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87" name="PlaceHolder 2"/>
          <p:cNvSpPr>
            <a:spLocks noGrp="1"/>
          </p:cNvSpPr>
          <p:nvPr>
            <p:ph/>
          </p:nvPr>
        </p:nvSpPr>
        <p:spPr>
          <a:xfrm>
            <a:off x="457200" y="1161720"/>
            <a:ext cx="8229600" cy="555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uk zbatohet kur personi ndërhyrës ka të drejtë të ndërhyjë në të dhën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mbujt përfshijnë:</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ktivitetet e brendshme në hartimin e rrjeteve ose praktikave të përbashkëta operative ose komercial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estimin ose mbrojtjen e sistemit të sigurisë të kompjuterit të autorizuar nga pronari ose operato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konfigurimin e sistemit operativ të kompjuterit në kohën e instalimit të programit të ri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n e të dhënave të trafikut me qëllim lehtësimin e komunikimit anonim (p.sh. sistemet anonim të postës elektronik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 i të dhënave për qëllime të komunikimit të sigurt (p.sh. kodimi)</a:t>
            </a:r>
            <a:endParaRPr b="0" lang="en-US" sz="2400" spc="-1" strike="noStrike">
              <a:solidFill>
                <a:srgbClr val="000000"/>
              </a:solidFill>
              <a:latin typeface="Calibri"/>
            </a:endParaRPr>
          </a:p>
        </p:txBody>
      </p:sp>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D38426-77A1-49CA-96D9-3B6918F874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90" name="PlaceHolder 2"/>
          <p:cNvSpPr>
            <a:spLocks noGrp="1"/>
          </p:cNvSpPr>
          <p:nvPr>
            <p:ph/>
          </p:nvPr>
        </p:nvSpPr>
        <p:spPr>
          <a:xfrm>
            <a:off x="457200" y="1881360"/>
            <a:ext cx="8229600" cy="452592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a e padisponueshme e </a:t>
            </a:r>
            <a:r>
              <a:rPr b="0" lang="sq-AL" sz="2800" spc="-1" strike="noStrike">
                <a:solidFill>
                  <a:srgbClr val="000000"/>
                </a:solidFill>
                <a:latin typeface="Calibri"/>
              </a:rPr>
              <a:t>të dhënave kompjuterike</a:t>
            </a:r>
            <a:r>
              <a:rPr b="0" lang="en-US" sz="2800" spc="-1" strike="noStrike">
                <a:solidFill>
                  <a:srgbClr val="000000"/>
                </a:solidFill>
                <a:latin typeface="Calibri"/>
              </a:rPr>
              <a:t> pa të drejtë.</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a:t>
            </a:r>
            <a:r>
              <a:rPr b="1" lang="sq-AL" sz="4000" spc="-1" strike="noStrike">
                <a:solidFill>
                  <a:srgbClr val="ff0000"/>
                </a:solidFill>
                <a:latin typeface="Calibri"/>
              </a:rPr>
              <a:t>dëmtime serioz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BE9638-8CB5-47A9-BD05-8AA148B1F9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e serioze</a:t>
            </a:r>
            <a:endParaRPr b="0" lang="en-US" sz="4400" spc="-1" strike="noStrike">
              <a:solidFill>
                <a:srgbClr val="000000"/>
              </a:solidFill>
              <a:latin typeface="Calibri"/>
            </a:endParaRPr>
          </a:p>
        </p:txBody>
      </p:sp>
      <p:sp>
        <p:nvSpPr>
          <p:cNvPr id="193" name="PlaceHolder 2"/>
          <p:cNvSpPr>
            <a:spLocks noGrp="1"/>
          </p:cNvSpPr>
          <p:nvPr>
            <p:ph/>
          </p:nvPr>
        </p:nvSpPr>
        <p:spPr>
          <a:xfrm>
            <a:off x="457200" y="1899720"/>
            <a:ext cx="8229600" cy="42721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lët mund të kufizojnë shtrirjen e kësaj vepre duke kërkuar që sjellja të rezultojë në dëmtime serioz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caktimi i dëmit serioz që duhet të sigurohet në legjislacionin e brendshë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und të kualifikohet në bazë të sasisë së dëmit monetar që rrjedh nga sjellja</a:t>
            </a:r>
            <a:endParaRPr b="0" lang="en-US" sz="30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C03D64-EFC5-4D14-BE60-D188FD31EA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Sistem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5 – Konventa e Budapest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engesa serioze ndaj funksionimit të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Nëpërmjet futjes, transmetimit, dëmtimit, fshirjes, shtrembërimit, ndryshimit apo bërjes së padisponueshm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 </a:t>
            </a:r>
            <a:endParaRPr b="0" lang="en-US" sz="3200" spc="-1" strike="noStrike">
              <a:solidFill>
                <a:srgbClr val="000000"/>
              </a:solidFill>
              <a:latin typeface="Calibri"/>
            </a:endParaRPr>
          </a:p>
        </p:txBody>
      </p:sp>
      <p:sp>
        <p:nvSpPr>
          <p:cNvPr id="1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9FB59-532C-4F14-912F-7F88F6CA01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710D2-0C96-455E-96F6-B0B2969E59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94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Konventa e Budapestit: Fusha e Veprimit</a:t>
            </a:r>
            <a:endParaRPr b="0" lang="en-US" sz="4000" spc="-1" strike="noStrike">
              <a:solidFill>
                <a:srgbClr val="000000"/>
              </a:solidFill>
              <a:latin typeface="Calibri"/>
            </a:endParaRPr>
          </a:p>
        </p:txBody>
      </p:sp>
      <p:sp>
        <p:nvSpPr>
          <p:cNvPr id="65" name="Textfeld 12"/>
          <p:cNvSpPr/>
          <p:nvPr/>
        </p:nvSpPr>
        <p:spPr>
          <a:xfrm>
            <a:off x="179280" y="1052640"/>
            <a:ext cx="3036960" cy="3508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Kriminalizimi i sjellje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kses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Interceptim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te të dhëna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në siste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buzimi me paisje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Mashtrimi dhe falsifikimi i dokumente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Pornografia e fëmijë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Veprat e shkeljes së të drejtave të autorit</a:t>
            </a:r>
            <a:endParaRPr b="0" lang="en-US" sz="2000" spc="-1" strike="noStrike">
              <a:solidFill>
                <a:srgbClr val="000000"/>
              </a:solidFill>
              <a:latin typeface="Arial"/>
            </a:endParaRPr>
          </a:p>
        </p:txBody>
      </p:sp>
      <p:sp>
        <p:nvSpPr>
          <p:cNvPr id="66" name="Textfeld 3"/>
          <p:cNvSpPr/>
          <p:nvPr/>
        </p:nvSpPr>
        <p:spPr>
          <a:xfrm>
            <a:off x="3465360" y="1041480"/>
            <a:ext cx="2643480" cy="31410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jetet Procedurale</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e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Urdhrat e Prodhimit</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Kontroll dhe sekuestr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terceptim i të dhënave kompjuterike</a:t>
            </a:r>
            <a:endParaRPr b="0" lang="en-US" sz="2200" spc="-1" strike="noStrike">
              <a:solidFill>
                <a:srgbClr val="000000"/>
              </a:solidFill>
              <a:latin typeface="Arial"/>
            </a:endParaRPr>
          </a:p>
        </p:txBody>
      </p:sp>
      <p:sp>
        <p:nvSpPr>
          <p:cNvPr id="67" name="Textfeld 4"/>
          <p:cNvSpPr/>
          <p:nvPr/>
        </p:nvSpPr>
        <p:spPr>
          <a:xfrm>
            <a:off x="6394320" y="1004760"/>
            <a:ext cx="2571840" cy="5182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Bashkëpunimi Ndërkombëtar</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Ekstradimi</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formacioni Spontan</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a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aksesimin e të dhënave kompjuterike</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intercept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Pikat e kontaktit 24/7 </a:t>
            </a:r>
            <a:endParaRPr b="0" lang="en-US" sz="2200" spc="-1" strike="noStrike">
              <a:solidFill>
                <a:srgbClr val="000000"/>
              </a:solidFill>
              <a:latin typeface="Arial"/>
            </a:endParaRPr>
          </a:p>
        </p:txBody>
      </p:sp>
      <p:sp>
        <p:nvSpPr>
          <p:cNvPr id="68" name="Textfeld 16"/>
          <p:cNvSpPr/>
          <p:nvPr/>
        </p:nvSpPr>
        <p:spPr>
          <a:xfrm>
            <a:off x="3144960" y="1004760"/>
            <a:ext cx="641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7"/>
          <p:cNvSpPr/>
          <p:nvPr/>
        </p:nvSpPr>
        <p:spPr>
          <a:xfrm>
            <a:off x="5823000" y="1123920"/>
            <a:ext cx="100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  </a:t>
            </a:r>
            <a:r>
              <a:rPr b="1" lang="de-DE" sz="4400" spc="-1" strike="noStrike">
                <a:solidFill>
                  <a:srgbClr val="000000"/>
                </a:solidFill>
                <a:latin typeface="Calibri"/>
                <a:ea typeface="Arial"/>
              </a:rPr>
              <a:t>+</a:t>
            </a:r>
            <a:endParaRPr b="0" lang="en-US" sz="4400" spc="-1" strike="noStrike">
              <a:solidFill>
                <a:srgbClr val="000000"/>
              </a:solidFill>
              <a:latin typeface="Arial"/>
            </a:endParaRPr>
          </a:p>
        </p:txBody>
      </p:sp>
      <p:sp>
        <p:nvSpPr>
          <p:cNvPr id="70" name="Textfeld 18"/>
          <p:cNvSpPr/>
          <p:nvPr/>
        </p:nvSpPr>
        <p:spPr>
          <a:xfrm>
            <a:off x="3216240" y="5638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Calibri"/>
              </a:rPr>
              <a:t>Harmonizimi </a:t>
            </a:r>
            <a:endParaRPr b="0" lang="en-US" sz="1800" spc="-1" strike="noStrike">
              <a:solidFill>
                <a:srgbClr val="000000"/>
              </a:solidFill>
              <a:latin typeface="Arial"/>
            </a:endParaRPr>
          </a:p>
        </p:txBody>
      </p:sp>
      <p:cxnSp>
        <p:nvCxnSpPr>
          <p:cNvPr id="71" name="Form 20"/>
          <p:cNvCxnSpPr>
            <a:stCxn id="65" idx="2"/>
          </p:cNvCxnSpPr>
          <p:nvPr/>
        </p:nvCxnSpPr>
        <p:spPr>
          <a:xfrm flipH="1" rot="16200000">
            <a:off x="3836880" y="3066840"/>
            <a:ext cx="418320" cy="4698000"/>
          </a:xfrm>
          <a:prstGeom prst="bentConnector2">
            <a:avLst/>
          </a:prstGeom>
          <a:ln w="9360">
            <a:solidFill>
              <a:srgbClr val="002060"/>
            </a:solidFill>
            <a:miter/>
            <a:tailEnd len="med" type="arrow" w="med"/>
          </a:ln>
        </p:spPr>
      </p:cxnSp>
      <p:sp>
        <p:nvSpPr>
          <p:cNvPr id="72" name="Gerade Verbindung 27"/>
          <p:cNvSpPr/>
          <p:nvPr/>
        </p:nvSpPr>
        <p:spPr>
          <a:xfrm>
            <a:off x="4792680" y="3873600"/>
            <a:ext cx="0" cy="1765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0" lang="en-US" sz="2800" spc="-1" strike="noStrike">
                <a:solidFill>
                  <a:srgbClr val="ff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86C733-5C71-4CFA-BB3C-81BCDA50A6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ndaj funksionimit të një sistemi kompjuterik</a:t>
            </a:r>
            <a:endParaRPr b="0" lang="en-US" sz="4400" spc="-1" strike="noStrike">
              <a:solidFill>
                <a:srgbClr val="000000"/>
              </a:solidFill>
              <a:latin typeface="Calibri"/>
            </a:endParaRPr>
          </a:p>
        </p:txBody>
      </p:sp>
      <p:sp>
        <p:nvSpPr>
          <p:cNvPr id="204" name="PlaceHolder 2"/>
          <p:cNvSpPr>
            <a:spLocks noGrp="1"/>
          </p:cNvSpPr>
          <p:nvPr>
            <p:ph/>
          </p:nvPr>
        </p:nvSpPr>
        <p:spPr>
          <a:xfrm>
            <a:off x="457200" y="1914120"/>
            <a:ext cx="8229600" cy="3443400"/>
          </a:xfrm>
          <a:prstGeom prst="rect">
            <a:avLst/>
          </a:prstGeom>
          <a:noFill/>
          <a:ln w="0">
            <a:noFill/>
          </a:ln>
        </p:spPr>
        <p:txBody>
          <a:bodyPr anchor="t">
            <a:normAutofit fontScale="73000"/>
          </a:bodyPr>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esa ndaj një veprimi që ndërhyn me funksionimin e duhur të një sistemi kompjuterik</a:t>
            </a:r>
            <a:endParaRPr b="0" lang="en-US" sz="2800" spc="-1" strike="noStrike">
              <a:solidFill>
                <a:srgbClr val="000000"/>
              </a:solidFill>
              <a:latin typeface="Calibri"/>
            </a:endParaRPr>
          </a:p>
          <a:p>
            <a:pPr marL="25020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imi ndodh nëpërmjet:</a:t>
            </a:r>
            <a:endParaRPr b="0" lang="en-US" sz="28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ut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e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ëm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shir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ndrysh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Bërjes të </a:t>
            </a:r>
            <a:endParaRPr b="0" lang="en-US" sz="2400" spc="-1" strike="noStrike">
              <a:solidFill>
                <a:srgbClr val="000000"/>
              </a:solidFill>
              <a:latin typeface="Calibri"/>
            </a:endParaRPr>
          </a:p>
          <a:p>
            <a:pPr lvl="1" marL="542160" indent="0" algn="just">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  </a:t>
            </a:r>
            <a:r>
              <a:rPr b="0" i="1" lang="en-GB" sz="2400" spc="-1" strike="noStrike">
                <a:solidFill>
                  <a:srgbClr val="000000"/>
                </a:solidFill>
                <a:latin typeface="Calibri"/>
                <a:ea typeface="Times New Roman"/>
              </a:rPr>
              <a:t>padisponueshme; </a:t>
            </a:r>
            <a:endParaRPr b="0" lang="en-US" sz="2400" spc="-1" strike="noStrike">
              <a:solidFill>
                <a:srgbClr val="000000"/>
              </a:solidFill>
              <a:latin typeface="Calibri"/>
            </a:endParaRPr>
          </a:p>
          <a:p>
            <a:pPr marL="2502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359840-CED8-4181-BCED-AFFDCBA0A7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1"/>
          <p:cNvSpPr/>
          <p:nvPr/>
        </p:nvSpPr>
        <p:spPr>
          <a:xfrm>
            <a:off x="4646160" y="4567320"/>
            <a:ext cx="4184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të dhënave kompjuterike</a:t>
            </a:r>
            <a:endParaRPr b="0" lang="en-US" sz="2800" spc="-1" strike="noStrike">
              <a:solidFill>
                <a:srgbClr val="000000"/>
              </a:solidFill>
              <a:latin typeface="Arial"/>
            </a:endParaRPr>
          </a:p>
        </p:txBody>
      </p:sp>
      <p:sp>
        <p:nvSpPr>
          <p:cNvPr id="207"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3" name="Straight Arrow Connector 4"/>
          <p:cNvCxnSpPr>
            <a:stCxn id="207" idx="3"/>
            <a:endCxn id="206" idx="1"/>
          </p:cNvCxnSpPr>
          <p:nvPr/>
        </p:nvCxnSpPr>
        <p:spPr>
          <a:xfrm>
            <a:off x="3038040" y="3897000"/>
            <a:ext cx="1567800" cy="910440"/>
          </a:xfrm>
          <a:prstGeom prst="straightConnector1">
            <a:avLst/>
          </a:prstGeom>
          <a:ln w="25560">
            <a:solidFill>
              <a:srgbClr val="4f81bd"/>
            </a:solidFill>
            <a:miter/>
            <a:tailEnd len="med" type="triangle" w="med"/>
          </a:ln>
        </p:spPr>
      </p:cxnSp>
      <p:cxnSp>
        <p:nvCxnSpPr>
          <p:cNvPr id="214" name="Straight Arrow Connector 16"/>
          <p:cNvCxnSpPr>
            <a:stCxn id="208" idx="3"/>
            <a:endCxn id="206" idx="1"/>
          </p:cNvCxnSpPr>
          <p:nvPr/>
        </p:nvCxnSpPr>
        <p:spPr>
          <a:xfrm>
            <a:off x="3036600" y="4301640"/>
            <a:ext cx="1569240" cy="505800"/>
          </a:xfrm>
          <a:prstGeom prst="straightConnector1">
            <a:avLst/>
          </a:prstGeom>
          <a:ln w="25560">
            <a:solidFill>
              <a:srgbClr val="4f81bd"/>
            </a:solidFill>
            <a:miter/>
            <a:tailEnd len="med" type="arrow" w="med"/>
          </a:ln>
        </p:spPr>
      </p:cxnSp>
      <p:cxnSp>
        <p:nvCxnSpPr>
          <p:cNvPr id="215" name="Straight Arrow Connector 19"/>
          <p:cNvCxnSpPr>
            <a:stCxn id="209" idx="3"/>
            <a:endCxn id="206" idx="1"/>
          </p:cNvCxnSpPr>
          <p:nvPr/>
        </p:nvCxnSpPr>
        <p:spPr>
          <a:xfrm>
            <a:off x="3036600" y="4709880"/>
            <a:ext cx="1569240" cy="97560"/>
          </a:xfrm>
          <a:prstGeom prst="straightConnector1">
            <a:avLst/>
          </a:prstGeom>
          <a:ln w="25560">
            <a:solidFill>
              <a:srgbClr val="4f81bd"/>
            </a:solidFill>
            <a:miter/>
            <a:tailEnd len="med" type="arrow" w="med"/>
          </a:ln>
        </p:spPr>
      </p:cxnSp>
      <p:cxnSp>
        <p:nvCxnSpPr>
          <p:cNvPr id="216" name="Straight Arrow Connector 22"/>
          <p:cNvCxnSpPr>
            <a:stCxn id="210" idx="3"/>
            <a:endCxn id="206" idx="1"/>
          </p:cNvCxnSpPr>
          <p:nvPr/>
        </p:nvCxnSpPr>
        <p:spPr>
          <a:xfrm flipV="1">
            <a:off x="3033720" y="4806720"/>
            <a:ext cx="1572480" cy="310320"/>
          </a:xfrm>
          <a:prstGeom prst="straightConnector1">
            <a:avLst/>
          </a:prstGeom>
          <a:ln w="25560">
            <a:solidFill>
              <a:srgbClr val="4f81bd"/>
            </a:solidFill>
            <a:miter/>
            <a:tailEnd len="med" type="arrow" w="med"/>
          </a:ln>
        </p:spPr>
      </p:cxnSp>
      <p:cxnSp>
        <p:nvCxnSpPr>
          <p:cNvPr id="217" name="Straight Arrow Connector 30"/>
          <p:cNvCxnSpPr>
            <a:stCxn id="211" idx="3"/>
            <a:endCxn id="206" idx="1"/>
          </p:cNvCxnSpPr>
          <p:nvPr/>
        </p:nvCxnSpPr>
        <p:spPr>
          <a:xfrm flipV="1">
            <a:off x="3036600" y="4806360"/>
            <a:ext cx="1569240" cy="719640"/>
          </a:xfrm>
          <a:prstGeom prst="straightConnector1">
            <a:avLst/>
          </a:prstGeom>
          <a:ln w="25560">
            <a:solidFill>
              <a:srgbClr val="4f81bd"/>
            </a:solidFill>
            <a:miter/>
            <a:tailEnd len="med" type="arrow" w="med"/>
          </a:ln>
        </p:spPr>
      </p:cxnSp>
      <p:cxnSp>
        <p:nvCxnSpPr>
          <p:cNvPr id="218" name="Straight Arrow Connector 33"/>
          <p:cNvCxnSpPr>
            <a:stCxn id="212" idx="3"/>
            <a:endCxn id="206" idx="1"/>
          </p:cNvCxnSpPr>
          <p:nvPr/>
        </p:nvCxnSpPr>
        <p:spPr>
          <a:xfrm flipV="1">
            <a:off x="3033720" y="4806720"/>
            <a:ext cx="157248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1" lang="en-US" sz="4000" spc="-1" strike="noStrike">
                <a:solidFill>
                  <a:srgbClr val="ff0000"/>
                </a:solidFill>
                <a:latin typeface="Calibri"/>
              </a:rPr>
              <a:t> </a:t>
            </a:r>
            <a:r>
              <a:rPr b="1" lang="sq-AL" sz="4000" spc="-1" strike="noStrike">
                <a:solidFill>
                  <a:srgbClr val="ff0000"/>
                </a:solidFill>
                <a:latin typeface="Calibri"/>
              </a:rPr>
              <a:t>serioze </a:t>
            </a:r>
            <a:r>
              <a:rPr b="0" lang="sq-AL" sz="2800" spc="-1" strike="noStrike">
                <a:solidFill>
                  <a:srgbClr val="000000"/>
                </a:solidFill>
                <a:latin typeface="Calibri"/>
              </a:rPr>
              <a:t>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5FBA36-3FCA-485D-9F4A-DFFE250A38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serioze</a:t>
            </a:r>
            <a:endParaRPr b="0" lang="en-US" sz="4400" spc="-1" strike="noStrike">
              <a:solidFill>
                <a:srgbClr val="000000"/>
              </a:solidFill>
              <a:latin typeface="Calibri"/>
            </a:endParaRPr>
          </a:p>
        </p:txBody>
      </p:sp>
      <p:sp>
        <p:nvSpPr>
          <p:cNvPr id="223" name="PlaceHolder 2"/>
          <p:cNvSpPr>
            <a:spLocks noGrp="1"/>
          </p:cNvSpPr>
          <p:nvPr>
            <p:ph/>
          </p:nvPr>
        </p:nvSpPr>
        <p:spPr>
          <a:xfrm>
            <a:off x="456840" y="1036440"/>
            <a:ext cx="8427960" cy="5684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teri për përcaktimin se çfarë përbën vepër të rëndë duhet të përcaktohet nga Pal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ërgimi i të dhënave tek një sistem i caktuar në një formë ose frekuencë që ka një efekt dëmtues të konsiderueshëm mbi aftësinë e pronarit ose operatorit për t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ur sistemin; ose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omunikuar me sisteme të tjer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hembuj:</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prodhojnë sulme të mohimit të shërbi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Kode të dëmshëm që pengojnë ose ngadalësojnë funksionimin e siste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dërgojnë sasi të mëdha të postës elektronike tek një marrës për bllokimin e funksioneve komunikuese të një sistemi</a:t>
            </a:r>
            <a:endParaRPr b="0" lang="en-US" sz="2200" spc="-1" strike="noStrike">
              <a:solidFill>
                <a:srgbClr val="000000"/>
              </a:solidFill>
              <a:latin typeface="Calibri"/>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FF154E-6AF6-4000-9886-A6532704A3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6"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a:t>
            </a:r>
            <a:r>
              <a:rPr b="1" lang="sq-AL" sz="4000" spc="-1" strike="noStrike">
                <a:solidFill>
                  <a:srgbClr val="ff0000"/>
                </a:solidFill>
                <a:latin typeface="Calibri"/>
              </a:rPr>
              <a:t>pa të drejtë </a:t>
            </a:r>
            <a:r>
              <a:rPr b="0" lang="sq-AL" sz="2800" spc="-1" strike="noStrike">
                <a:solidFill>
                  <a:srgbClr val="000000"/>
                </a:solidFill>
                <a:latin typeface="Calibri"/>
              </a:rPr>
              <a:t>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17D521-3369-4779-A096-8523E7CABF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29" name="PlaceHolder 2"/>
          <p:cNvSpPr>
            <a:spLocks noGrp="1"/>
          </p:cNvSpPr>
          <p:nvPr>
            <p:ph/>
          </p:nvPr>
        </p:nvSpPr>
        <p:spPr>
          <a:xfrm>
            <a:off x="457200" y="1161720"/>
            <a:ext cx="8229600" cy="3443400"/>
          </a:xfrm>
          <a:prstGeom prst="rect">
            <a:avLst/>
          </a:prstGeom>
          <a:noFill/>
          <a:ln w="0">
            <a:noFill/>
          </a:ln>
        </p:spPr>
        <p:txBody>
          <a:bodyPr anchor="t">
            <a:normAutofit fontScale="74000"/>
          </a:bodyPr>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Nuk zbatohet kur personi ndërhyrës ka të drejtë të ndërhyjë në të dhëna</a:t>
            </a:r>
            <a:endParaRPr b="0" lang="en-US" sz="3000" spc="-1" strike="noStrike">
              <a:solidFill>
                <a:srgbClr val="000000"/>
              </a:solidFill>
              <a:latin typeface="Calibri"/>
            </a:endParaRPr>
          </a:p>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hembujt përfshijnë:</a:t>
            </a:r>
            <a:endParaRPr b="0" lang="en-US" sz="30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ktivitetet e brendshme në dizajnimin e rrjeteve, ose qëllimet e përbashkëta operacionale ose komerciale</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mi i sigurisë së sistemit kompjuterik të autorizuar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brojtja e sistemit kompjuterik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konfigurimi i sistemit operativ të kompjuterit ku operatori i sistemit instalon program të ri që lejon programet e instaluara më parë;</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33DAD0-2D92-497B-A55F-8824ADE7C0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Keqpërdorimi i Pajisjeve</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6 – Konventa e Budapestit)</a:t>
            </a:r>
            <a:endParaRPr b="0" lang="en-US" sz="2800" spc="-1" strike="noStrike">
              <a:solidFill>
                <a:srgbClr val="000000"/>
              </a:solidFill>
              <a:latin typeface="Calibri"/>
            </a:endParaRPr>
          </a:p>
          <a:p>
            <a:pPr marL="3430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ër prodhimin, shitjen, prokurimin për përdorim, importimin, shpërndarjen ose përndryshe venien në dispozicion të:</a:t>
            </a:r>
            <a:endParaRPr b="0" lang="en-US" sz="28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pajisjeje që përmban një program kompjuterik, të projektuar apo të përshtatur kryesisht për qëllimin e kryerjes së njërës prej veprave penale të parashikuara, në përputhje me nenin 2 deri në 5;</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fjalëkalimi kompjuterik, kod hyrjeje apo të dhënave të ngjashme, nëpërmjet të cilave mundësohet hyrja në tërësinë apo në ndonjë pjesë të një sistemi kompjuterik, me qëllimin që ai të përdoret për arsyen e kryerjes së një prej krimeve të përcaktuara në nenet 2 deri në 5;</a:t>
            </a:r>
            <a:endParaRPr b="0" lang="en-US" sz="20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D8002C-58E1-4D3C-A07E-787E51FB02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Keqpërdorimi i Pajisjev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6 – Konventa e Budapesti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ë zotërojë një pajisje të referuar në paragrafet (a)(1) ose</a:t>
            </a:r>
            <a:r>
              <a:rPr b="1" i="1" lang="en-GB" sz="2800" spc="-1" strike="noStrike">
                <a:solidFill>
                  <a:srgbClr val="000000"/>
                </a:solidFill>
                <a:latin typeface="Calibri"/>
              </a:rPr>
              <a:t> </a:t>
            </a:r>
            <a:r>
              <a:rPr b="0" i="1" lang="en-GB" sz="2800" spc="-1" strike="noStrike">
                <a:solidFill>
                  <a:srgbClr val="000000"/>
                </a:solidFill>
                <a:latin typeface="Calibri"/>
              </a:rPr>
              <a:t>(2) më lart, me qëllimin që të përdoret për qëllimin e kryerjes së një prej veprave penale të parashikuara nga Nenet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2C8827-C070-4C5D-A2DE-B26AEC5044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6" name="PlaceHolder 2"/>
          <p:cNvSpPr>
            <a:spLocks noGrp="1"/>
          </p:cNvSpPr>
          <p:nvPr>
            <p:ph/>
          </p:nvPr>
        </p:nvSpPr>
        <p:spPr>
          <a:xfrm>
            <a:off x="457200" y="2106360"/>
            <a:ext cx="8229600" cy="4111560"/>
          </a:xfrm>
          <a:prstGeom prst="rect">
            <a:avLst/>
          </a:prstGeom>
          <a:noFill/>
          <a:ln w="0">
            <a:noFill/>
          </a:ln>
        </p:spPr>
        <p:txBody>
          <a:bodyPr anchor="t">
            <a:norm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pa të</a:t>
            </a:r>
            <a:r>
              <a:rPr b="0" lang="en-GB" sz="3200" spc="-1" strike="noStrike">
                <a:solidFill>
                  <a:srgbClr val="000000"/>
                </a:solidFill>
                <a:latin typeface="Calibri"/>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795C8-632D-4A61-AD6F-5E88845D0F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9" name="PlaceHolder 2"/>
          <p:cNvSpPr>
            <a:spLocks noGrp="1"/>
          </p:cNvSpPr>
          <p:nvPr>
            <p:ph/>
          </p:nvPr>
        </p:nvSpPr>
        <p:spPr>
          <a:xfrm>
            <a:off x="457200" y="1006200"/>
            <a:ext cx="8229600" cy="534996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36A68-5ACA-4CCC-BC95-9AE566FB4A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lehtësojnë dhe zhvillojnë bashkëpunimin ndërkombëtar në hetimet pen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harmonizojnë ligjin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uke përcaktuar</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sq-AL" sz="2000" spc="-1" strike="noStrike">
                <a:solidFill>
                  <a:srgbClr val="000000"/>
                </a:solidFill>
                <a:latin typeface="Calibri"/>
              </a:rPr>
              <a:t>Veprat kundër konfidencialitetit, integritetit dhe disponueshmërisë së sistemeve </a:t>
            </a:r>
            <a:r>
              <a:rPr b="0" lang="en-US" sz="2000" spc="-1" strike="noStrike">
                <a:solidFill>
                  <a:srgbClr val="000000"/>
                </a:solidFill>
                <a:latin typeface="Calibri"/>
              </a:rPr>
              <a:t>dhe të dhënave </a:t>
            </a:r>
            <a:r>
              <a:rPr b="0" lang="sq-AL" sz="2000" spc="-1" strike="noStrike">
                <a:solidFill>
                  <a:srgbClr val="000000"/>
                </a:solidFill>
                <a:latin typeface="Calibri"/>
              </a:rPr>
              <a:t>kompjuterike</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prat e kryera me anë të sistemeve kompjuterik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prat e kryera në lidhje me përmbajtjen</a:t>
            </a:r>
            <a:endParaRPr b="0" lang="en-US" sz="2800" spc="-1" strike="noStrike">
              <a:solidFill>
                <a:srgbClr val="000000"/>
              </a:solidFill>
              <a:latin typeface="Calibri"/>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zitat e Ligjit Penal Material</a:t>
            </a:r>
            <a:endParaRPr b="0" lang="en-US" sz="44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163F8-F08E-43FF-9B16-B5F2927090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2" name="PlaceHolder 2"/>
          <p:cNvSpPr>
            <a:spLocks noGrp="1"/>
          </p:cNvSpPr>
          <p:nvPr>
            <p:ph/>
          </p:nvPr>
        </p:nvSpPr>
        <p:spPr>
          <a:xfrm>
            <a:off x="288720" y="1544760"/>
            <a:ext cx="8397720" cy="49831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sq-AL" sz="2400" spc="-1" strike="noStrike">
                <a:solidFill>
                  <a:srgbClr val="000000"/>
                </a:solidFill>
                <a:latin typeface="Calibri"/>
              </a:rPr>
              <a:t>Ky nen nuk duhet të interpretohet si ngarkesë e përgjegjësisë </a:t>
            </a:r>
            <a:r>
              <a:rPr b="0" lang="en-US" sz="2400" spc="-1" strike="noStrike">
                <a:solidFill>
                  <a:srgbClr val="000000"/>
                </a:solidFill>
                <a:latin typeface="Calibri"/>
              </a:rPr>
              <a:t>	</a:t>
            </a:r>
            <a:r>
              <a:rPr b="0" lang="sq-AL" sz="2400" spc="-1" strike="noStrike">
                <a:solidFill>
                  <a:srgbClr val="000000"/>
                </a:solidFill>
                <a:latin typeface="Calibri"/>
              </a:rPr>
              <a:t>penale kur prodhimi, shitja,</a:t>
            </a:r>
            <a:r>
              <a:rPr b="0" lang="en-US" sz="2400" spc="-1" strike="noStrike">
                <a:solidFill>
                  <a:srgbClr val="000000"/>
                </a:solidFill>
                <a:latin typeface="Calibri"/>
              </a:rPr>
              <a:t> </a:t>
            </a:r>
            <a:r>
              <a:rPr b="0" lang="sq-AL" sz="2400" spc="-1" strike="noStrike">
                <a:solidFill>
                  <a:srgbClr val="000000"/>
                </a:solidFill>
                <a:latin typeface="Calibri"/>
              </a:rPr>
              <a:t>prokurimi për përdorim, </a:t>
            </a:r>
            <a:r>
              <a:rPr b="0" lang="en-US" sz="2400" spc="-1" strike="noStrike">
                <a:solidFill>
                  <a:srgbClr val="000000"/>
                </a:solidFill>
                <a:latin typeface="Calibri"/>
              </a:rPr>
              <a:t>	</a:t>
            </a:r>
            <a:r>
              <a:rPr b="0" lang="sq-AL" sz="2400" spc="-1" strike="noStrike">
                <a:solidFill>
                  <a:srgbClr val="000000"/>
                </a:solidFill>
                <a:latin typeface="Calibri"/>
              </a:rPr>
              <a:t>importimi, shpërndarja apo, përndryshe, vënia në dispo</a:t>
            </a:r>
            <a:r>
              <a:rPr b="0" lang="en-US" sz="2400" spc="-1" strike="noStrike">
                <a:solidFill>
                  <a:srgbClr val="000000"/>
                </a:solidFill>
                <a:latin typeface="Calibri"/>
              </a:rPr>
              <a:t>zicion</a:t>
            </a:r>
            <a:r>
              <a:rPr b="0" lang="sq-AL"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ose zotërimi që</a:t>
            </a:r>
            <a:r>
              <a:rPr b="0" lang="en-US" sz="2400" spc="-1" strike="noStrike">
                <a:solidFill>
                  <a:srgbClr val="000000"/>
                </a:solidFill>
                <a:latin typeface="Calibri"/>
              </a:rPr>
              <a:t> </a:t>
            </a:r>
            <a:r>
              <a:rPr b="0" lang="sq-AL" sz="2400" spc="-1" strike="noStrike">
                <a:solidFill>
                  <a:srgbClr val="000000"/>
                </a:solidFill>
                <a:latin typeface="Calibri"/>
              </a:rPr>
              <a:t>referohet në paragrafin 1 të këtij neni nuk </a:t>
            </a:r>
            <a:r>
              <a:rPr b="0" lang="en-US" sz="2400" spc="-1" strike="noStrike">
                <a:solidFill>
                  <a:srgbClr val="000000"/>
                </a:solidFill>
                <a:latin typeface="Calibri"/>
              </a:rPr>
              <a:t>	</a:t>
            </a:r>
            <a:r>
              <a:rPr b="0" lang="sq-AL" sz="2400" spc="-1" strike="noStrike">
                <a:solidFill>
                  <a:srgbClr val="000000"/>
                </a:solidFill>
                <a:latin typeface="Calibri"/>
              </a:rPr>
              <a:t>bëhet për qëllimet e kryerjes së një vepre penale, të</a:t>
            </a:r>
            <a:r>
              <a:rPr b="0" lang="en-US"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përcaktuar në përputhje me nenet 2-5 të kësaj Konvente, </a:t>
            </a:r>
            <a:r>
              <a:rPr b="0" lang="en-US" sz="2400" spc="-1" strike="noStrike">
                <a:solidFill>
                  <a:srgbClr val="000000"/>
                </a:solidFill>
                <a:latin typeface="Calibri"/>
              </a:rPr>
              <a:t>	</a:t>
            </a:r>
            <a:r>
              <a:rPr b="0" lang="sq-AL" sz="2400" spc="-1" strike="noStrike">
                <a:solidFill>
                  <a:srgbClr val="000000"/>
                </a:solidFill>
                <a:latin typeface="Calibri"/>
              </a:rPr>
              <a:t>sikurse dhe për testimin e autorizuar apo</a:t>
            </a:r>
            <a:r>
              <a:rPr b="0" lang="en-US" sz="2400" spc="-1" strike="noStrike">
                <a:solidFill>
                  <a:srgbClr val="000000"/>
                </a:solidFill>
                <a:latin typeface="Calibri"/>
              </a:rPr>
              <a:t> </a:t>
            </a:r>
            <a:r>
              <a:rPr b="0" lang="sq-AL" sz="2400" spc="-1" strike="noStrike">
                <a:solidFill>
                  <a:srgbClr val="000000"/>
                </a:solidFill>
                <a:latin typeface="Calibri"/>
              </a:rPr>
              <a:t>mbrojtjen e një </a:t>
            </a:r>
            <a:r>
              <a:rPr b="0" lang="en-US" sz="2400" spc="-1" strike="noStrike">
                <a:solidFill>
                  <a:srgbClr val="000000"/>
                </a:solidFill>
                <a:latin typeface="Calibri"/>
              </a:rPr>
              <a:t>	</a:t>
            </a:r>
            <a:r>
              <a:rPr b="0" lang="sq-AL" sz="2400" spc="-1" strike="noStrike">
                <a:solidFill>
                  <a:srgbClr val="000000"/>
                </a:solidFill>
                <a:latin typeface="Calibri"/>
              </a:rPr>
              <a:t>sistemi kompjuterik</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a:t>
            </a:r>
            <a:r>
              <a:rPr b="0" lang="sq-AL" sz="2400" spc="-1" strike="noStrike">
                <a:solidFill>
                  <a:srgbClr val="000000"/>
                </a:solidFill>
                <a:latin typeface="Calibri"/>
              </a:rPr>
              <a:t>Çdo Palë mund të rezervojë të drejtën të mos aplikojë </a:t>
            </a:r>
            <a:r>
              <a:rPr b="0" lang="en-US" sz="2400" spc="-1" strike="noStrike">
                <a:solidFill>
                  <a:srgbClr val="000000"/>
                </a:solidFill>
                <a:latin typeface="Calibri"/>
              </a:rPr>
              <a:t>	</a:t>
            </a:r>
            <a:r>
              <a:rPr b="0" lang="sq-AL" sz="2400" spc="-1" strike="noStrike">
                <a:solidFill>
                  <a:srgbClr val="000000"/>
                </a:solidFill>
                <a:latin typeface="Calibri"/>
              </a:rPr>
              <a:t>paragrafin 1 të kësaj Konvente, me</a:t>
            </a:r>
            <a:r>
              <a:rPr b="0" lang="en-US" sz="2400" spc="-1" strike="noStrike">
                <a:solidFill>
                  <a:srgbClr val="000000"/>
                </a:solidFill>
                <a:latin typeface="Calibri"/>
              </a:rPr>
              <a:t> </a:t>
            </a:r>
            <a:r>
              <a:rPr b="0" lang="sq-AL" sz="2400" spc="-1" strike="noStrike">
                <a:solidFill>
                  <a:srgbClr val="000000"/>
                </a:solidFill>
                <a:latin typeface="Calibri"/>
              </a:rPr>
              <a:t>kusht që rezervimi të mos </a:t>
            </a:r>
            <a:r>
              <a:rPr b="0" lang="en-US" sz="2400" spc="-1" strike="noStrike">
                <a:solidFill>
                  <a:srgbClr val="000000"/>
                </a:solidFill>
                <a:latin typeface="Calibri"/>
              </a:rPr>
              <a:t>	</a:t>
            </a:r>
            <a:r>
              <a:rPr b="0" lang="sq-AL" sz="2400" spc="-1" strike="noStrike">
                <a:solidFill>
                  <a:srgbClr val="000000"/>
                </a:solidFill>
                <a:latin typeface="Calibri"/>
              </a:rPr>
              <a:t>përfshijë shitjen,</a:t>
            </a:r>
            <a:r>
              <a:rPr b="0" lang="en-US" sz="2400" spc="-1" strike="noStrike">
                <a:solidFill>
                  <a:srgbClr val="000000"/>
                </a:solidFill>
                <a:latin typeface="Calibri"/>
              </a:rPr>
              <a:t> </a:t>
            </a:r>
            <a:r>
              <a:rPr b="0" lang="sq-AL" sz="2400" spc="-1" strike="noStrike">
                <a:solidFill>
                  <a:srgbClr val="000000"/>
                </a:solidFill>
                <a:latin typeface="Calibri"/>
              </a:rPr>
              <a:t>shpërndarjen ose, përndryshe, vënien në </a:t>
            </a:r>
            <a:r>
              <a:rPr b="0" lang="en-US" sz="2400" spc="-1" strike="noStrike">
                <a:solidFill>
                  <a:srgbClr val="000000"/>
                </a:solidFill>
                <a:latin typeface="Calibri"/>
              </a:rPr>
              <a:t>	</a:t>
            </a:r>
            <a:r>
              <a:rPr b="0" lang="sq-AL" sz="2400" spc="-1" strike="noStrike">
                <a:solidFill>
                  <a:srgbClr val="000000"/>
                </a:solidFill>
                <a:latin typeface="Calibri"/>
              </a:rPr>
              <a:t>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 </a:t>
            </a:r>
            <a:r>
              <a:rPr b="0" lang="pt-BR" sz="2400" spc="-1" strike="noStrike">
                <a:solidFill>
                  <a:srgbClr val="000000"/>
                </a:solidFill>
                <a:latin typeface="Calibri"/>
              </a:rPr>
              <a:t>çështjeve të referuara në paragrafin 1 (a) (ii).</a:t>
            </a:r>
            <a:endParaRPr b="0" lang="en-US" sz="2400" spc="-1" strike="noStrike">
              <a:solidFill>
                <a:srgbClr val="000000"/>
              </a:solidFill>
              <a:latin typeface="Calibri"/>
            </a:endParaRPr>
          </a:p>
        </p:txBody>
      </p:sp>
      <p:sp>
        <p:nvSpPr>
          <p:cNvPr id="2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02DE4-6C30-4EF6-BAA3-F6CE1B6134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5"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a:t>
            </a:r>
            <a:r>
              <a:rPr b="1" lang="sq-AL" sz="4000" spc="-1" strike="noStrike">
                <a:solidFill>
                  <a:srgbClr val="ff0000"/>
                </a:solidFill>
                <a:latin typeface="Calibri"/>
              </a:rPr>
              <a:t>pa të</a:t>
            </a:r>
            <a:r>
              <a:rPr b="1" lang="en-GB" sz="4000" spc="-1" strike="noStrike">
                <a:solidFill>
                  <a:srgbClr val="ff0000"/>
                </a:solidFill>
                <a:latin typeface="Calibri"/>
              </a:rPr>
              <a:t> drejtë</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A1D810-59EB-4DC0-B134-7B8E77C622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48"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Keqpërdorim pa të drejtë</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andalon kriminalizimin e tepërt ku pajisjet prodhohen dhe hidhen në treg për qëllime të ligjshm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576AAC-4D45-43C4-A55C-70F8DEA617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1" name="PlaceHolder 2"/>
          <p:cNvSpPr>
            <a:spLocks noGrp="1"/>
          </p:cNvSpPr>
          <p:nvPr>
            <p:ph/>
          </p:nvPr>
        </p:nvSpPr>
        <p:spPr>
          <a:xfrm>
            <a:off x="228240" y="1295280"/>
            <a:ext cx="8458200" cy="53596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1" lang="sq-AL" sz="2400" spc="-1" strike="noStrike">
                <a:solidFill>
                  <a:srgbClr val="ff0000"/>
                </a:solidFill>
                <a:latin typeface="Calibri"/>
              </a:rPr>
              <a:t>prodhimin, shitjen, prokurimin për përdorim, importim, shpërndarje</a:t>
            </a:r>
            <a:r>
              <a:rPr b="0" lang="sq-AL" sz="2400" spc="-1" strike="noStrike">
                <a:solidFill>
                  <a:srgbClr val="000000"/>
                </a:solidFill>
                <a:latin typeface="Calibri"/>
              </a:rPr>
              <a:t> ose, përndryshe</a:t>
            </a:r>
            <a:r>
              <a:rPr b="0" lang="en-US" sz="2400" spc="-1" strike="noStrike">
                <a:solidFill>
                  <a:srgbClr val="000000"/>
                </a:solidFill>
                <a:latin typeface="Calibri"/>
              </a:rPr>
              <a:t> </a:t>
            </a:r>
            <a:r>
              <a:rPr b="1" lang="sq-AL" sz="2400" spc="-1" strike="noStrike">
                <a:solidFill>
                  <a:srgbClr val="ff0000"/>
                </a:solidFill>
                <a:latin typeface="Calibri"/>
              </a:rPr>
              <a:t>vënie</a:t>
            </a:r>
            <a:r>
              <a:rPr b="1" lang="en-US" sz="2400" spc="-1" strike="noStrike">
                <a:solidFill>
                  <a:srgbClr val="ff0000"/>
                </a:solidFill>
                <a:latin typeface="Calibri"/>
              </a:rPr>
              <a:t>n</a:t>
            </a:r>
            <a:r>
              <a:rPr b="1" lang="sq-AL" sz="2400" spc="-1" strike="noStrike">
                <a:solidFill>
                  <a:srgbClr val="ff0000"/>
                </a:solidFill>
                <a:latin typeface="Calibri"/>
              </a:rPr>
              <a:t> në dispo</a:t>
            </a:r>
            <a:r>
              <a:rPr b="1" lang="en-US" sz="2400" spc="-1" strike="noStrike">
                <a:solidFill>
                  <a:srgbClr val="ff0000"/>
                </a:solidFill>
                <a:latin typeface="Calibri"/>
              </a:rPr>
              <a:t>z</a:t>
            </a:r>
            <a:r>
              <a:rPr b="1" lang="sq-AL" sz="2400" spc="-1" strike="noStrike">
                <a:solidFill>
                  <a:srgbClr val="ff0000"/>
                </a:solidFill>
                <a:latin typeface="Calibri"/>
              </a:rPr>
              <a:t>i</a:t>
            </a:r>
            <a:r>
              <a:rPr b="1" lang="en-US" sz="2400" spc="-1" strike="noStrike">
                <a:solidFill>
                  <a:srgbClr val="ff0000"/>
                </a:solidFill>
                <a:latin typeface="Calibri"/>
              </a:rPr>
              <a:t>cion</a:t>
            </a:r>
            <a:r>
              <a:rPr b="1" lang="sq-AL" sz="2400" spc="-1" strike="noStrike">
                <a:solidFill>
                  <a:srgbClr val="ff0000"/>
                </a:solidFill>
                <a:latin typeface="Calibri"/>
              </a:rPr>
              <a:t> </a:t>
            </a:r>
            <a:r>
              <a:rPr b="0" lang="sq-AL" sz="2400" spc="-1" strike="noStrike">
                <a:solidFill>
                  <a:srgbClr val="000000"/>
                </a:solidFill>
                <a:latin typeface="Calibri"/>
              </a:rPr>
              <a:t>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3081E7-A7B7-48C4-8BFD-960FEBCB1F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22040"/>
            <a:ext cx="8229600" cy="51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himi, shitja etj.</a:t>
            </a:r>
            <a:endParaRPr b="0" lang="en-US" sz="4400" spc="-1" strike="noStrike">
              <a:solidFill>
                <a:srgbClr val="000000"/>
              </a:solidFill>
              <a:latin typeface="Calibri"/>
            </a:endParaRPr>
          </a:p>
        </p:txBody>
      </p:sp>
      <p:sp>
        <p:nvSpPr>
          <p:cNvPr id="254" name="PlaceHolder 2"/>
          <p:cNvSpPr>
            <a:spLocks noGrp="1"/>
          </p:cNvSpPr>
          <p:nvPr>
            <p:ph/>
          </p:nvPr>
        </p:nvSpPr>
        <p:spPr>
          <a:xfrm>
            <a:off x="456840" y="746280"/>
            <a:ext cx="8488440" cy="5760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minalizimi i:</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himn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itj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kurimit për përdor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përndarjes;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ërjes së disponueshme të pajisjeve</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përndarja: veprimi aktiv i përcjelljes tek të tjer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ërja e disponueshme: vendosja e pajisjeve online për përdorim nga të tjerë, që përfshin krijimin ose përpilimin e hiperlinkeve online për lehtësimin e hyrjes në pajisje të tilla.</a:t>
            </a:r>
            <a:endParaRPr b="0" lang="en-US" sz="2800" spc="-1" strike="noStrike">
              <a:solidFill>
                <a:srgbClr val="000000"/>
              </a:solidFill>
              <a:latin typeface="Calibri"/>
            </a:endParaRPr>
          </a:p>
        </p:txBody>
      </p:sp>
      <p:sp>
        <p:nvSpPr>
          <p:cNvPr id="2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FA9A7B-C09D-4B3D-BBFE-831FFB3021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7" name="PlaceHolder 2"/>
          <p:cNvSpPr>
            <a:spLocks noGrp="1"/>
          </p:cNvSpPr>
          <p:nvPr>
            <p:ph/>
          </p:nvPr>
        </p:nvSpPr>
        <p:spPr>
          <a:xfrm>
            <a:off x="457200" y="1279440"/>
            <a:ext cx="8229600" cy="53755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a:t>
            </a:r>
            <a:r>
              <a:rPr b="1" lang="en-GB" sz="2000" spc="-1" strike="noStrike">
                <a:solidFill>
                  <a:srgbClr val="ff0000"/>
                </a:solidFill>
                <a:latin typeface="Calibri"/>
              </a:rPr>
              <a:t>një program kompjuterik</a:t>
            </a:r>
            <a:r>
              <a:rPr b="0" lang="en-GB" sz="2000" spc="-1" strike="noStrike">
                <a:solidFill>
                  <a:srgbClr val="000000"/>
                </a:solidFill>
                <a:latin typeface="Calibri"/>
              </a:rPr>
              <a:t>,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83DC3A-F1F5-4B53-AD17-36E166BB43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gram kompjuterik</a:t>
            </a:r>
            <a:endParaRPr b="0" lang="en-US" sz="4400" spc="-1" strike="noStrike">
              <a:solidFill>
                <a:srgbClr val="000000"/>
              </a:solidFill>
              <a:latin typeface="Calibri"/>
            </a:endParaRPr>
          </a:p>
        </p:txBody>
      </p:sp>
      <p:sp>
        <p:nvSpPr>
          <p:cNvPr id="260" name="PlaceHolder 2"/>
          <p:cNvSpPr>
            <a:spLocks noGrp="1"/>
          </p:cNvSpPr>
          <p:nvPr>
            <p:ph/>
          </p:nvPr>
        </p:nvSpPr>
        <p:spPr>
          <a:xfrm>
            <a:off x="457200" y="1265400"/>
            <a:ext cx="8229600" cy="49068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referohet programeve që janë të dizajnuara për të ndryshuar ose shkatërruar të dhëna ose për të ndërhyrë në funksionimin e sisteme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t e virusit.</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 të dizajnuara ose të përshtatura për të mundësuar hyrjen në sistemet kompjuterike.</a:t>
            </a:r>
            <a:endParaRPr b="0" lang="en-US" sz="2600" spc="-1" strike="noStrike">
              <a:solidFill>
                <a:srgbClr val="000000"/>
              </a:solidFill>
              <a:latin typeface="Calibri"/>
            </a:endParaRPr>
          </a:p>
        </p:txBody>
      </p:sp>
      <p:sp>
        <p:nvSpPr>
          <p:cNvPr id="2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4E3DFB-CB28-4FA7-98DA-032D993BC0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3" name="PlaceHolder 2"/>
          <p:cNvSpPr>
            <a:spLocks noGrp="1"/>
          </p:cNvSpPr>
          <p:nvPr>
            <p:ph/>
          </p:nvPr>
        </p:nvSpPr>
        <p:spPr>
          <a:xfrm>
            <a:off x="457200" y="807840"/>
            <a:ext cx="8229600" cy="5592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a:t>
            </a:r>
            <a:r>
              <a:rPr b="1" lang="en-GB" sz="2000" spc="-1" strike="noStrike">
                <a:solidFill>
                  <a:srgbClr val="ff0000"/>
                </a:solidFill>
                <a:latin typeface="Calibri"/>
              </a:rPr>
              <a:t>të projektuar </a:t>
            </a:r>
            <a:r>
              <a:rPr b="1" lang="en-GB" sz="2000" spc="-1" strike="noStrike">
                <a:solidFill>
                  <a:srgbClr val="ff0000"/>
                </a:solidFill>
                <a:latin typeface="Calibri"/>
              </a:rPr>
              <a:t>	</a:t>
            </a:r>
            <a:r>
              <a:rPr b="1" lang="en-GB" sz="2000" spc="-1" strike="noStrike">
                <a:solidFill>
                  <a:srgbClr val="ff0000"/>
                </a:solidFill>
                <a:latin typeface="Calibri"/>
              </a:rPr>
              <a:t>apo të përshtatur kryesisht për qëllimin e kryerjes së njërës prej </a:t>
            </a:r>
            <a:r>
              <a:rPr b="1" lang="en-GB" sz="2000" spc="-1" strike="noStrike">
                <a:solidFill>
                  <a:srgbClr val="ff0000"/>
                </a:solidFill>
                <a:latin typeface="Calibri"/>
              </a:rPr>
              <a:t>	</a:t>
            </a:r>
            <a:r>
              <a:rPr b="1" lang="en-GB" sz="2000" spc="-1" strike="noStrike">
                <a:solidFill>
                  <a:srgbClr val="ff0000"/>
                </a:solidFill>
                <a:latin typeface="Calibri"/>
              </a:rPr>
              <a:t>veprave penale të parashikuara, në përputhje me nenin 2 deri në 5</a:t>
            </a:r>
            <a:r>
              <a:rPr b="0" lang="en-GB" sz="2000" spc="-1" strike="noStrike">
                <a:solidFill>
                  <a:srgbClr val="000000"/>
                </a:solidFill>
                <a:latin typeface="Calibri"/>
              </a:rPr>
              <a:t>;</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64"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A2D269-F3B6-4757-BBDD-35A31F3243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0"/>
            <a:ext cx="847404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jektuar ose përshtatur kryesisht për qëllimin e kryerjes së veprës penale</a:t>
            </a:r>
            <a:endParaRPr b="0" lang="en-US" sz="4400" spc="-1" strike="noStrike">
              <a:solidFill>
                <a:srgbClr val="000000"/>
              </a:solidFill>
              <a:latin typeface="Calibri"/>
            </a:endParaRPr>
          </a:p>
        </p:txBody>
      </p:sp>
      <p:sp>
        <p:nvSpPr>
          <p:cNvPr id="266" name="PlaceHolder 2"/>
          <p:cNvSpPr>
            <a:spLocks noGrp="1"/>
          </p:cNvSpPr>
          <p:nvPr>
            <p:ph/>
          </p:nvPr>
        </p:nvSpPr>
        <p:spPr>
          <a:xfrm>
            <a:off x="457200" y="1994040"/>
            <a:ext cx="8229600" cy="47275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vendos balancë nd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jashtimit të pajisjeve me përdorim të dyfishtë (të cilat do të ishin shumë të ngushta dhe të vështira për t'u vërtetuar); dh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rjes së pajisjeve me përdorim të dyfishtë (të cilat do të rezultonin në kriminalizim të tepruar duke përfshirë të gjitha pajisjet edhe nëse prodhohen dhe shpërndahen ligjërish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kërkon që pajisja të projektohet ose përshtatet </a:t>
            </a:r>
            <a:r>
              <a:rPr b="1" lang="en-GB" sz="2800" spc="-1" strike="noStrike">
                <a:solidFill>
                  <a:srgbClr val="000000"/>
                </a:solidFill>
                <a:latin typeface="Calibri"/>
                <a:ea typeface="Times New Roman"/>
              </a:rPr>
              <a:t>kryesisht</a:t>
            </a:r>
            <a:r>
              <a:rPr b="0" lang="en-GB" sz="2800" spc="-1" strike="noStrike">
                <a:solidFill>
                  <a:srgbClr val="000000"/>
                </a:solidFill>
                <a:latin typeface="Calibri"/>
                <a:ea typeface="Times New Roman"/>
              </a:rPr>
              <a:t> (por jo vetëm) për kryerjen e një vepre penale sipas neneve 2-5 të Konventës</a:t>
            </a:r>
            <a:endParaRPr b="0" lang="en-US" sz="2800" spc="-1" strike="noStrike">
              <a:solidFill>
                <a:srgbClr val="000000"/>
              </a:solidFill>
              <a:latin typeface="Calibri"/>
            </a:endParaRPr>
          </a:p>
        </p:txBody>
      </p:sp>
      <p:sp>
        <p:nvSpPr>
          <p:cNvPr id="2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EF0C49-D49D-4896-A42B-554BA57260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9" name="PlaceHolder 2"/>
          <p:cNvSpPr>
            <a:spLocks noGrp="1"/>
          </p:cNvSpPr>
          <p:nvPr>
            <p:ph/>
          </p:nvPr>
        </p:nvSpPr>
        <p:spPr>
          <a:xfrm>
            <a:off x="457200" y="1219320"/>
            <a:ext cx="8229600" cy="550224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1" lang="en-GB" sz="2000" spc="-1" strike="noStrike">
                <a:solidFill>
                  <a:srgbClr val="ff0000"/>
                </a:solidFill>
                <a:latin typeface="Calibri"/>
              </a:rPr>
              <a:t>(ii) Një fjalëkalimi kompjuterik, kod hyrjeje apo të dhënave të </a:t>
            </a:r>
            <a:r>
              <a:rPr b="1" lang="en-GB" sz="2000" spc="-1" strike="noStrike">
                <a:solidFill>
                  <a:srgbClr val="ff0000"/>
                </a:solidFill>
                <a:latin typeface="Calibri"/>
              </a:rPr>
              <a:t>	</a:t>
            </a:r>
            <a:r>
              <a:rPr b="1" lang="en-GB" sz="2000" spc="-1" strike="noStrike">
                <a:solidFill>
                  <a:srgbClr val="ff0000"/>
                </a:solidFill>
                <a:latin typeface="Calibri"/>
              </a:rPr>
              <a:t>ngjashme, nëpërmjet të cilave mundësohet hyrja në </a:t>
            </a:r>
            <a:r>
              <a:rPr b="1" lang="en-GB" sz="2000" spc="-1" strike="noStrike">
                <a:solidFill>
                  <a:srgbClr val="ff0000"/>
                </a:solidFill>
                <a:latin typeface="Calibri"/>
              </a:rPr>
              <a:t>	</a:t>
            </a:r>
            <a:r>
              <a:rPr b="1" lang="en-GB" sz="2000" spc="-1" strike="noStrike">
                <a:solidFill>
                  <a:srgbClr val="ff0000"/>
                </a:solidFill>
                <a:latin typeface="Calibri"/>
              </a:rPr>
              <a:t>tërësinë apo </a:t>
            </a:r>
            <a:r>
              <a:rPr b="1" lang="en-GB" sz="2000" spc="-1" strike="noStrike">
                <a:solidFill>
                  <a:srgbClr val="ff0000"/>
                </a:solidFill>
                <a:latin typeface="Calibri"/>
              </a:rPr>
              <a:t>	</a:t>
            </a:r>
            <a:r>
              <a:rPr b="1" lang="en-GB" sz="2000" spc="-1" strike="noStrike">
                <a:solidFill>
                  <a:srgbClr val="ff0000"/>
                </a:solidFill>
                <a:latin typeface="Calibri"/>
              </a:rPr>
              <a:t>në ndonjë pjesë të një sistemi kompjuterik, </a:t>
            </a:r>
            <a:r>
              <a:rPr b="1" lang="en-GB" sz="2000" spc="-1" strike="noStrike">
                <a:solidFill>
                  <a:srgbClr val="ff0000"/>
                </a:solidFill>
                <a:latin typeface="Calibri"/>
              </a:rPr>
              <a:t>	</a:t>
            </a:r>
            <a:r>
              <a:rPr b="1" lang="en-GB" sz="2000" spc="-1" strike="noStrike">
                <a:solidFill>
                  <a:srgbClr val="ff0000"/>
                </a:solidFill>
                <a:latin typeface="Calibri"/>
              </a:rPr>
              <a:t>me qëllimin që ai të </a:t>
            </a:r>
            <a:r>
              <a:rPr b="1" lang="en-GB" sz="2000" spc="-1" strike="noStrike">
                <a:solidFill>
                  <a:srgbClr val="ff0000"/>
                </a:solidFill>
                <a:latin typeface="Calibri"/>
              </a:rPr>
              <a:t>	</a:t>
            </a:r>
            <a:r>
              <a:rPr b="1" lang="en-GB" sz="2000" spc="-1" strike="noStrike">
                <a:solidFill>
                  <a:srgbClr val="ff0000"/>
                </a:solidFill>
                <a:latin typeface="Calibri"/>
              </a:rPr>
              <a:t>përdoret për arsyen e kryerjes së një prej krimeve të përcaktuara në </a:t>
            </a:r>
            <a:r>
              <a:rPr b="1" lang="en-GB" sz="2000" spc="-1" strike="noStrike">
                <a:solidFill>
                  <a:srgbClr val="ff0000"/>
                </a:solidFill>
                <a:latin typeface="Calibri"/>
              </a:rPr>
              <a:t>	</a:t>
            </a:r>
            <a:r>
              <a:rPr b="1" lang="en-GB" sz="2000" spc="-1" strike="noStrike">
                <a:solidFill>
                  <a:srgbClr val="ff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65C671-796D-4EFA-97ED-CA76A337A8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Times New Roman"/>
              </a:rPr>
              <a:t>Veprat kundër konfidencialitetit, integritetit dhe disponueshmërisë së të dhënave dhe sistemeve kompjuterike</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B6D8A-A758-40F9-8C5A-8E9D0CFD8B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jalëkalimet kompjuterike, kodet e hyrjes etj.</a:t>
            </a:r>
            <a:endParaRPr b="0" lang="en-US" sz="4400" spc="-1" strike="noStrike">
              <a:solidFill>
                <a:srgbClr val="000000"/>
              </a:solidFill>
              <a:latin typeface="Calibri"/>
            </a:endParaRPr>
          </a:p>
        </p:txBody>
      </p:sp>
      <p:sp>
        <p:nvSpPr>
          <p:cNvPr id="272" name="PlaceHolder 2"/>
          <p:cNvSpPr>
            <a:spLocks noGrp="1"/>
          </p:cNvSpPr>
          <p:nvPr>
            <p:ph/>
          </p:nvPr>
        </p:nvSpPr>
        <p:spPr>
          <a:xfrm>
            <a:off x="457200" y="1530360"/>
            <a:ext cx="8229600" cy="519120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fi 1(a)2 kriminalizon:</a:t>
            </a:r>
            <a:endParaRPr b="0" lang="en-US" sz="3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itje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për përdor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ose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ërndryshe bërjen të disponueshme të:</a:t>
            </a:r>
            <a:endParaRPr b="0" lang="en-US" sz="2400" spc="-1" strike="noStrike">
              <a:solidFill>
                <a:srgbClr val="000000"/>
              </a:solidFill>
              <a:latin typeface="Calibri"/>
            </a:endParaRPr>
          </a:p>
          <a:p>
            <a:pPr marL="34308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jë fjalëkalimi kompjuerik, kodi hyrjeje ose të </a:t>
            </a:r>
            <a:r>
              <a:rPr b="0" lang="en-US" sz="3000" spc="-1" strike="noStrike">
                <a:solidFill>
                  <a:srgbClr val="000000"/>
                </a:solidFill>
                <a:latin typeface="Calibri"/>
              </a:rPr>
              <a:t>	</a:t>
            </a:r>
            <a:r>
              <a:rPr b="0" lang="en-US" sz="3000" spc="-1" strike="noStrike">
                <a:solidFill>
                  <a:srgbClr val="000000"/>
                </a:solidFill>
                <a:latin typeface="Calibri"/>
              </a:rPr>
              <a:t>dhënave të ngjashme me anë të të cilave </a:t>
            </a:r>
            <a:r>
              <a:rPr b="0" lang="en-US" sz="3000" spc="-1" strike="noStrike">
                <a:solidFill>
                  <a:srgbClr val="000000"/>
                </a:solidFill>
                <a:latin typeface="Calibri"/>
              </a:rPr>
              <a:t>	</a:t>
            </a:r>
            <a:r>
              <a:rPr b="0" lang="en-US" sz="3000" spc="-1" strike="noStrike">
                <a:solidFill>
                  <a:srgbClr val="000000"/>
                </a:solidFill>
                <a:latin typeface="Calibri"/>
              </a:rPr>
              <a:t>mund të hyet tërësisht ose pjesërisht tek një </a:t>
            </a:r>
            <a:r>
              <a:rPr b="0" lang="en-US" sz="3000" spc="-1" strike="noStrike">
                <a:solidFill>
                  <a:srgbClr val="000000"/>
                </a:solidFill>
                <a:latin typeface="Calibri"/>
              </a:rPr>
              <a:t>	</a:t>
            </a:r>
            <a:r>
              <a:rPr b="0" lang="en-US" sz="3000" spc="-1" strike="noStrike">
                <a:solidFill>
                  <a:srgbClr val="000000"/>
                </a:solidFill>
                <a:latin typeface="Calibri"/>
              </a:rPr>
              <a:t>sistem kompjuterik.</a:t>
            </a:r>
            <a:endParaRPr b="0" lang="en-US" sz="3000" spc="-1" strike="noStrike">
              <a:solidFill>
                <a:srgbClr val="000000"/>
              </a:solidFill>
              <a:latin typeface="Calibri"/>
            </a:endParaRPr>
          </a:p>
        </p:txBody>
      </p:sp>
      <p:sp>
        <p:nvSpPr>
          <p:cNvPr id="2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478AF5-52EA-4440-9164-81CA3A3FEF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75" name="PlaceHolder 2"/>
          <p:cNvSpPr>
            <a:spLocks noGrp="1"/>
          </p:cNvSpPr>
          <p:nvPr>
            <p:ph/>
          </p:nvPr>
        </p:nvSpPr>
        <p:spPr>
          <a:xfrm>
            <a:off x="457200" y="1295280"/>
            <a:ext cx="8229600" cy="5259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1" lang="sq-AL" sz="2400" spc="-1" strike="noStrike">
                <a:solidFill>
                  <a:srgbClr val="ff0000"/>
                </a:solidFill>
                <a:latin typeface="Calibri"/>
              </a:rPr>
              <a:t>zotërimin e një pajisjeje </a:t>
            </a:r>
            <a:r>
              <a:rPr b="0" lang="sq-AL" sz="2400" spc="-1" strike="noStrike">
                <a:solidFill>
                  <a:srgbClr val="000000"/>
                </a:solidFill>
                <a:latin typeface="Calibri"/>
              </a:rPr>
              <a:t>të referuar në paragrafët (a) (1) ose (2) të mësipërm, </a:t>
            </a:r>
            <a:r>
              <a:rPr b="1" lang="sq-AL" sz="2400" spc="-1" strike="noStrike">
                <a:solidFill>
                  <a:srgbClr val="ff0000"/>
                </a:solidFill>
                <a:latin typeface="Calibri"/>
              </a:rPr>
              <a:t>me qëllimin</a:t>
            </a:r>
            <a:r>
              <a:rPr b="1" lang="en-US" sz="2400" spc="-1" strike="noStrike">
                <a:solidFill>
                  <a:srgbClr val="ff0000"/>
                </a:solidFill>
                <a:latin typeface="Calibri"/>
              </a:rPr>
              <a:t> </a:t>
            </a:r>
            <a:r>
              <a:rPr b="1" lang="sq-AL" sz="2400" spc="-1" strike="noStrike">
                <a:solidFill>
                  <a:srgbClr val="ff0000"/>
                </a:solidFill>
                <a:latin typeface="Calibri"/>
              </a:rPr>
              <a:t>që të përdoret për arsyen e kryerjes së një prej veprave penale të përcaktuar</a:t>
            </a:r>
            <a:r>
              <a:rPr b="1" lang="en-US" sz="2400" spc="-1" strike="noStrike">
                <a:solidFill>
                  <a:srgbClr val="ff0000"/>
                </a:solidFill>
                <a:latin typeface="Calibri"/>
              </a:rPr>
              <a:t>a</a:t>
            </a:r>
            <a:r>
              <a:rPr b="1" lang="sq-AL" sz="2400" spc="-1" strike="noStrike">
                <a:solidFill>
                  <a:srgbClr val="ff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a:t>
            </a:r>
            <a:r>
              <a:rPr b="1" lang="sq-AL" sz="2400" spc="-1" strike="noStrike">
                <a:solidFill>
                  <a:srgbClr val="ff0000"/>
                </a:solidFill>
                <a:latin typeface="Calibri"/>
              </a:rPr>
              <a:t>një numër i këtyre mjeteve </a:t>
            </a:r>
            <a:r>
              <a:rPr b="0" lang="sq-AL" sz="2400" spc="-1" strike="noStrike">
                <a:solidFill>
                  <a:srgbClr val="000000"/>
                </a:solidFill>
                <a:latin typeface="Calibri"/>
              </a:rPr>
              <a:t>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C33617-FC3D-406A-B212-9400FBCC1C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391600" cy="1265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edimi i një pajisjeje, fjalëkalimi, etj.</a:t>
            </a:r>
            <a:endParaRPr b="0" lang="en-US" sz="4400" spc="-1" strike="noStrike">
              <a:solidFill>
                <a:srgbClr val="000000"/>
              </a:solidFill>
              <a:latin typeface="Calibri"/>
            </a:endParaRPr>
          </a:p>
        </p:txBody>
      </p:sp>
      <p:sp>
        <p:nvSpPr>
          <p:cNvPr id="278" name="PlaceHolder 2"/>
          <p:cNvSpPr>
            <a:spLocks noGrp="1"/>
          </p:cNvSpPr>
          <p:nvPr>
            <p:ph/>
          </p:nvPr>
        </p:nvSpPr>
        <p:spPr>
          <a:xfrm>
            <a:off x="457200" y="1854360"/>
            <a:ext cx="8229600" cy="468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i artikujve të parashtruar në Paragrafin 1(a)1 ose 1(a)2</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duhet të jetë me qëllimin e kryerjes së shkeljeje në kuadër të Neneve 2 – 5 të Konventës</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et me anë të legjislacionit të brendshëm të kërkojë që një person të ketë një numër të caktuar artikujsh për të marrë përgjegjësinë penal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7B1A9C-E748-47B1-8111-641B07589B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kryera nëpërmjet një sistemi kompjuterik</a:t>
            </a:r>
            <a:endParaRPr b="0" lang="en-US" sz="32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B66D9-A04A-43C2-8BF3-6ECC7BECF2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Falsifik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7 – Konventa e Budapesti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rijon vepër paralele ndaj falsifikimit të veprave të prekshme</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oshllëk në ligjin penal sepse falsifikim i zakonshëm zakonisht kërkon lexueshmëri vizuale të deklaratave apo thënieve të mishëruara në dokument</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Falsifikimi i zakonshëm nuk mund të zbatohet për të dhënat elektronike</a:t>
            </a:r>
            <a:endParaRPr b="0" lang="en-US" sz="3200" spc="-1" strike="noStrike">
              <a:solidFill>
                <a:srgbClr val="000000"/>
              </a:solidFill>
              <a:latin typeface="Calibri"/>
            </a:endParaRPr>
          </a:p>
        </p:txBody>
      </p:sp>
      <p:sp>
        <p:nvSpPr>
          <p:cNvPr id="2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34E91-0919-48F5-A41F-03DE5515E0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4800"/>
            <a:ext cx="91440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7 – Falsifikimet e lidhura me Kompjuterët</a:t>
            </a:r>
            <a:endParaRPr b="0" lang="en-US" sz="3600" spc="-1" strike="noStrike">
              <a:solidFill>
                <a:srgbClr val="000000"/>
              </a:solidFill>
              <a:latin typeface="Calibri"/>
            </a:endParaRPr>
          </a:p>
        </p:txBody>
      </p:sp>
      <p:sp>
        <p:nvSpPr>
          <p:cNvPr id="285" name="PlaceHolder 2"/>
          <p:cNvSpPr>
            <a:spLocks noGrp="1"/>
          </p:cNvSpPr>
          <p:nvPr>
            <p:ph/>
          </p:nvPr>
        </p:nvSpPr>
        <p:spPr>
          <a:xfrm>
            <a:off x="457200" y="944280"/>
            <a:ext cx="8229600" cy="550548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futja</a:t>
            </a:r>
            <a:r>
              <a:rPr b="0" lang="en-US" sz="2800" spc="-1" strike="noStrike">
                <a:solidFill>
                  <a:srgbClr val="000000"/>
                </a:solidFill>
                <a:latin typeface="Calibri"/>
              </a:rPr>
              <a:t> </a:t>
            </a:r>
            <a:r>
              <a:rPr b="0" lang="sq-AL" sz="2800" spc="-1" strike="noStrike">
                <a:solidFill>
                  <a:srgbClr val="000000"/>
                </a:solidFill>
                <a:latin typeface="Calibri"/>
              </a:rPr>
              <a:t>e të dhënave, ndryshimi, fshirja, apo </a:t>
            </a:r>
            <a:r>
              <a:rPr b="0" lang="en-US" sz="2800" spc="-1" strike="noStrike">
                <a:solidFill>
                  <a:srgbClr val="000000"/>
                </a:solidFill>
                <a:latin typeface="Calibri"/>
              </a:rPr>
              <a:t>bërja e padisponueshme </a:t>
            </a:r>
            <a:r>
              <a:rPr b="0" lang="sq-AL" sz="2800" spc="-1" strike="noStrike">
                <a:solidFill>
                  <a:srgbClr val="000000"/>
                </a:solidFill>
                <a:latin typeface="Calibri"/>
              </a:rPr>
              <a:t>e të dhënave kompjuterike që rezultojnë në të dhëna</a:t>
            </a:r>
            <a:r>
              <a:rPr b="0" lang="en-US" sz="2800" spc="-1" strike="noStrike">
                <a:solidFill>
                  <a:srgbClr val="000000"/>
                </a:solidFill>
                <a:latin typeface="Calibri"/>
              </a:rPr>
              <a:t> </a:t>
            </a:r>
            <a:r>
              <a:rPr b="0" lang="sq-AL" sz="2800" spc="-1" strike="noStrike">
                <a:solidFill>
                  <a:srgbClr val="000000"/>
                </a:solidFill>
                <a:latin typeface="Calibri"/>
              </a:rPr>
              <a:t>joautentike,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3B8B4-B2E1-46BE-AE0D-A0B0B333D0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88" name="PlaceHolder 2"/>
          <p:cNvSpPr>
            <a:spLocks noGrp="1"/>
          </p:cNvSpPr>
          <p:nvPr>
            <p:ph/>
          </p:nvPr>
        </p:nvSpPr>
        <p:spPr>
          <a:xfrm>
            <a:off x="457200" y="1310760"/>
            <a:ext cx="8229600" cy="4983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a:t>
            </a:r>
            <a:r>
              <a:rPr b="1" lang="sq-AL" sz="2800" spc="-1" strike="noStrike">
                <a:solidFill>
                  <a:srgbClr val="ff0000"/>
                </a:solidFill>
                <a:latin typeface="Calibri"/>
              </a:rPr>
              <a:t>futja</a:t>
            </a:r>
            <a:r>
              <a:rPr b="1" lang="en-US" sz="2800" spc="-1" strike="noStrike">
                <a:solidFill>
                  <a:srgbClr val="ff0000"/>
                </a:solidFill>
                <a:latin typeface="Calibri"/>
              </a:rPr>
              <a:t> </a:t>
            </a:r>
            <a:r>
              <a:rPr b="1" lang="sq-AL" sz="2800" spc="-1" strike="noStrike">
                <a:solidFill>
                  <a:srgbClr val="ff0000"/>
                </a:solidFill>
                <a:latin typeface="Calibri"/>
              </a:rPr>
              <a:t>e të dhënave, ndryshimi, fshirja, apo </a:t>
            </a:r>
            <a:r>
              <a:rPr b="1" lang="en-US" sz="2800" spc="-1" strike="noStrike">
                <a:solidFill>
                  <a:srgbClr val="ff0000"/>
                </a:solidFill>
                <a:latin typeface="Calibri"/>
              </a:rPr>
              <a:t>bërja e padisponueshme </a:t>
            </a:r>
            <a:r>
              <a:rPr b="1" lang="sq-AL" sz="2800" spc="-1" strike="noStrike">
                <a:solidFill>
                  <a:srgbClr val="ff0000"/>
                </a:solidFill>
                <a:latin typeface="Calibri"/>
              </a:rPr>
              <a:t>e të dhënave kompjuterike që rezultojnë në të dhëna</a:t>
            </a:r>
            <a:r>
              <a:rPr b="1" lang="en-US" sz="2800" spc="-1" strike="noStrike">
                <a:solidFill>
                  <a:srgbClr val="ff0000"/>
                </a:solidFill>
                <a:latin typeface="Calibri"/>
              </a:rPr>
              <a:t> </a:t>
            </a:r>
            <a:r>
              <a:rPr b="1" lang="sq-AL" sz="2800" spc="-1" strike="noStrike">
                <a:solidFill>
                  <a:srgbClr val="ff0000"/>
                </a:solidFill>
                <a:latin typeface="Calibri"/>
              </a:rPr>
              <a:t>joautentike</a:t>
            </a:r>
            <a:r>
              <a:rPr b="0" lang="sq-AL" sz="2800" spc="-1" strike="noStrike">
                <a:solidFill>
                  <a:srgbClr val="000000"/>
                </a:solidFill>
                <a:latin typeface="Calibri"/>
              </a:rPr>
              <a:t>,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2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B5325E-35A4-47BA-83EC-1426FAE1DE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000000"/>
                </a:solidFill>
                <a:latin typeface="Calibri"/>
              </a:rPr>
              <a:t>futja</a:t>
            </a:r>
            <a:r>
              <a:rPr b="1" lang="en-US" sz="4000" spc="-1" strike="noStrike">
                <a:solidFill>
                  <a:srgbClr val="000000"/>
                </a:solidFill>
                <a:latin typeface="Calibri"/>
              </a:rPr>
              <a:t> </a:t>
            </a:r>
            <a:r>
              <a:rPr b="1" lang="sq-AL" sz="4000" spc="-1" strike="noStrike">
                <a:solidFill>
                  <a:srgbClr val="000000"/>
                </a:solidFill>
                <a:latin typeface="Calibri"/>
              </a:rPr>
              <a:t>e të dhënave, ndryshimi, fshirja, apo </a:t>
            </a:r>
            <a:r>
              <a:rPr b="1" lang="en-US" sz="4000" spc="-1" strike="noStrike">
                <a:solidFill>
                  <a:srgbClr val="000000"/>
                </a:solidFill>
                <a:latin typeface="Calibri"/>
              </a:rPr>
              <a:t>bërja e padisponueshme</a:t>
            </a:r>
            <a:endParaRPr b="0" lang="en-US" sz="4000" spc="-1" strike="noStrike">
              <a:solidFill>
                <a:srgbClr val="000000"/>
              </a:solidFill>
              <a:latin typeface="Calibri"/>
            </a:endParaRPr>
          </a:p>
        </p:txBody>
      </p:sp>
      <p:sp>
        <p:nvSpPr>
          <p:cNvPr id="291"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kimi i dokumenteve origjinal:</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utja </a:t>
            </a:r>
            <a:r>
              <a:rPr b="0" lang="en-GB" sz="2800" spc="-1" strike="noStrike">
                <a:solidFill>
                  <a:srgbClr val="000000"/>
                </a:solidFill>
                <a:latin typeface="Calibri"/>
                <a:ea typeface="Times New Roman"/>
              </a:rPr>
              <a:t>e të dhënave të sakta dhe të pasakt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Ndryshimi</a:t>
            </a:r>
            <a:r>
              <a:rPr b="0" lang="en-GB" sz="2800" spc="-1" strike="noStrike">
                <a:solidFill>
                  <a:srgbClr val="000000"/>
                </a:solidFill>
                <a:latin typeface="Calibri"/>
                <a:ea typeface="Times New Roman"/>
              </a:rPr>
              <a:t> pasues (modifikimet, ndryshimet, ndryshimet e pjesshm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shirja </a:t>
            </a:r>
            <a:r>
              <a:rPr b="0" lang="en-GB" sz="2800" spc="-1" strike="noStrike">
                <a:solidFill>
                  <a:srgbClr val="000000"/>
                </a:solidFill>
                <a:latin typeface="Calibri"/>
                <a:ea typeface="Times New Roman"/>
              </a:rPr>
              <a:t>(heqja e të dhënave nga një pajisj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Bërja e padisponueshme </a:t>
            </a:r>
            <a:r>
              <a:rPr b="0" lang="en-GB" sz="2800" spc="-1" strike="noStrike">
                <a:solidFill>
                  <a:srgbClr val="000000"/>
                </a:solidFill>
                <a:latin typeface="Calibri"/>
                <a:ea typeface="Times New Roman"/>
              </a:rPr>
              <a:t>(pengimi, fshehja e të dhënave)</a:t>
            </a:r>
            <a:endParaRPr b="0" lang="en-US" sz="2800" spc="-1" strike="noStrike">
              <a:solidFill>
                <a:srgbClr val="000000"/>
              </a:solidFill>
              <a:latin typeface="Calibri"/>
            </a:endParaRPr>
          </a:p>
        </p:txBody>
      </p:sp>
      <p:sp>
        <p:nvSpPr>
          <p:cNvPr id="2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BD9159-0D00-4C61-89FA-5F0B0E436C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94"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Çdo Palë do të adaptojë legjislacion të tillë dhe masa të tjera që mund të jenë të nevojshme</a:t>
            </a:r>
            <a:r>
              <a:rPr b="0" lang="en-US" sz="2400" spc="-1" strike="noStrike">
                <a:solidFill>
                  <a:srgbClr val="000000"/>
                </a:solidFill>
                <a:latin typeface="Calibri"/>
              </a:rPr>
              <a:t> </a:t>
            </a:r>
            <a:r>
              <a:rPr b="0" lang="sq-AL" sz="2400" spc="-1" strike="noStrike">
                <a:solidFill>
                  <a:srgbClr val="000000"/>
                </a:solidFill>
                <a:latin typeface="Calibri"/>
              </a:rPr>
              <a:t>të përcaktojnë si vepra penale sipas ligjit të brendshëm, kur kryhet me qëllim dhe pa të drejtë, futja</a:t>
            </a:r>
            <a:r>
              <a:rPr b="0" lang="en-US" sz="2400" spc="-1" strike="noStrike">
                <a:solidFill>
                  <a:srgbClr val="000000"/>
                </a:solidFill>
                <a:latin typeface="Calibri"/>
              </a:rPr>
              <a:t> </a:t>
            </a:r>
            <a:r>
              <a:rPr b="0" lang="sq-AL" sz="2400" spc="-1" strike="noStrike">
                <a:solidFill>
                  <a:srgbClr val="000000"/>
                </a:solidFill>
                <a:latin typeface="Calibri"/>
              </a:rPr>
              <a:t>e të dhënave, ndryshimi, fshirja, apo </a:t>
            </a:r>
            <a:r>
              <a:rPr b="0" lang="en-US" sz="2400" spc="-1" strike="noStrike">
                <a:solidFill>
                  <a:srgbClr val="000000"/>
                </a:solidFill>
                <a:latin typeface="Calibri"/>
              </a:rPr>
              <a:t>bërja e padisponueshme </a:t>
            </a:r>
            <a:r>
              <a:rPr b="0" lang="sq-AL" sz="2400" spc="-1" strike="noStrike">
                <a:solidFill>
                  <a:srgbClr val="000000"/>
                </a:solidFill>
                <a:latin typeface="Calibri"/>
              </a:rPr>
              <a:t>e të dhënave kompjuterike që rezultojnë në të dhëna</a:t>
            </a:r>
            <a:r>
              <a:rPr b="0" lang="en-US" sz="2400" spc="-1" strike="noStrike">
                <a:solidFill>
                  <a:srgbClr val="000000"/>
                </a:solidFill>
                <a:latin typeface="Calibri"/>
              </a:rPr>
              <a:t> </a:t>
            </a:r>
            <a:r>
              <a:rPr b="0" lang="sq-AL" sz="2400" spc="-1" strike="noStrike">
                <a:solidFill>
                  <a:srgbClr val="000000"/>
                </a:solidFill>
                <a:latin typeface="Calibri"/>
              </a:rPr>
              <a:t>joautentike, me </a:t>
            </a:r>
            <a:r>
              <a:rPr b="1" lang="sq-AL" sz="2400" spc="-1" strike="noStrike">
                <a:solidFill>
                  <a:srgbClr val="ff0000"/>
                </a:solidFill>
                <a:latin typeface="Calibri"/>
              </a:rPr>
              <a:t>qëllim që të konsiderohen apo të veprohet mbi to për qëllime ligjore sikurse ato</a:t>
            </a:r>
            <a:r>
              <a:rPr b="1" lang="en-US" sz="2400" spc="-1" strike="noStrike">
                <a:solidFill>
                  <a:srgbClr val="ff0000"/>
                </a:solidFill>
                <a:latin typeface="Calibri"/>
              </a:rPr>
              <a:t> </a:t>
            </a:r>
            <a:r>
              <a:rPr b="1" lang="sq-AL" sz="2400" spc="-1" strike="noStrike">
                <a:solidFill>
                  <a:srgbClr val="ff0000"/>
                </a:solidFill>
                <a:latin typeface="Calibri"/>
              </a:rPr>
              <a:t>të ishin autentike</a:t>
            </a:r>
            <a:r>
              <a:rPr b="0" lang="sq-AL" sz="2400" spc="-1" strike="noStrike">
                <a:solidFill>
                  <a:srgbClr val="000000"/>
                </a:solidFill>
                <a:latin typeface="Calibri"/>
              </a:rPr>
              <a:t>, pavarësisht nëse të dhënat janë të lexueshme apo të kuptueshme direkt. Një Palë</a:t>
            </a:r>
            <a:r>
              <a:rPr b="0" lang="en-US" sz="2400" spc="-1" strike="noStrike">
                <a:solidFill>
                  <a:srgbClr val="000000"/>
                </a:solidFill>
                <a:latin typeface="Calibri"/>
              </a:rPr>
              <a:t> </a:t>
            </a:r>
            <a:r>
              <a:rPr b="0" lang="sq-AL" sz="2400" spc="-1" strike="noStrike">
                <a:solidFill>
                  <a:srgbClr val="000000"/>
                </a:solidFill>
                <a:latin typeface="Calibri"/>
              </a:rPr>
              <a:t>mund të kërkojë </a:t>
            </a:r>
            <a:r>
              <a:rPr b="1" lang="sq-AL" sz="2400" spc="-1" strike="noStrike">
                <a:solidFill>
                  <a:srgbClr val="ff0000"/>
                </a:solidFill>
                <a:latin typeface="Calibri"/>
              </a:rPr>
              <a:t>synimin për të mashtruar ose një synim të ngjashëm të pandershëm përpara lindjes</a:t>
            </a:r>
            <a:r>
              <a:rPr b="1" lang="en-US" sz="2400" spc="-1" strike="noStrike">
                <a:solidFill>
                  <a:srgbClr val="ff0000"/>
                </a:solidFill>
                <a:latin typeface="Calibri"/>
              </a:rPr>
              <a:t> </a:t>
            </a:r>
            <a:r>
              <a:rPr b="1" lang="sq-AL" sz="2400" spc="-1" strike="noStrike">
                <a:solidFill>
                  <a:srgbClr val="ff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82B50F-0E39-46DC-964B-CB5FB873EA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36080"/>
            <a:ext cx="9144000" cy="1481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ff0000"/>
                </a:solidFill>
                <a:latin typeface="Calibri"/>
              </a:rPr>
              <a:t>qëllim që të konsiderohen apo të veprohet mbi to për qëllime </a:t>
            </a:r>
            <a:r>
              <a:rPr b="1" lang="en-US" sz="4000" spc="-1" strike="noStrike">
                <a:solidFill>
                  <a:srgbClr val="ff0000"/>
                </a:solidFill>
                <a:latin typeface="Calibri"/>
              </a:rPr>
              <a:t>të ligjshme</a:t>
            </a:r>
            <a:endParaRPr b="0" lang="en-US" sz="4000" spc="-1" strike="noStrike">
              <a:solidFill>
                <a:srgbClr val="000000"/>
              </a:solidFill>
              <a:latin typeface="Calibri"/>
            </a:endParaRPr>
          </a:p>
        </p:txBody>
      </p:sp>
      <p:sp>
        <p:nvSpPr>
          <p:cNvPr id="297" name="PlaceHolder 2"/>
          <p:cNvSpPr>
            <a:spLocks noGrp="1"/>
          </p:cNvSpPr>
          <p:nvPr>
            <p:ph/>
          </p:nvPr>
        </p:nvSpPr>
        <p:spPr>
          <a:xfrm>
            <a:off x="457200" y="2500200"/>
            <a:ext cx="8229600" cy="38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Kriteri i qëllimit shtesë</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për qëllime të ligjshme” përfshin veprimet dhe dokumentet ligjore, që janë ligjërisht të rëndësishme</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 të kufizojë më tej këtë vepër duke kërkuar që veprimet të bëhen me qëllimin për t mashtruar</a:t>
            </a:r>
            <a:endParaRPr b="0" lang="en-US" sz="2800" spc="-1" strike="noStrike">
              <a:solidFill>
                <a:srgbClr val="000000"/>
              </a:solidFill>
              <a:latin typeface="Calibri"/>
            </a:endParaRPr>
          </a:p>
        </p:txBody>
      </p:sp>
      <p:sp>
        <p:nvSpPr>
          <p:cNvPr id="298"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AFE774-A3E0-470E-917F-AA433BD04A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Aksesi i Paligjshë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Neni 2 – Konventa e Budapesti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yrja në një pjesë apo në tërësit të një sistemi kompjuterik pa të drejtë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846C3-A403-4C32-98D3-2A249B6775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shtr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8 – Konventa e Budapesti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jon vepër paralele ndaj mashtrimeve që lidhen me veprat e prekshme</a:t>
            </a:r>
            <a:endParaRPr b="0" lang="en-US" sz="2800" spc="-1" strike="noStrike">
              <a:solidFill>
                <a:srgbClr val="000000"/>
              </a:solidFill>
              <a:latin typeface="Calibri"/>
            </a:endParaRPr>
          </a:p>
        </p:txBody>
      </p:sp>
      <p:sp>
        <p:nvSpPr>
          <p:cNvPr id="3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93095-6773-40CB-9EDB-FAEF38D095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a:t>
            </a:r>
            <a:r>
              <a:rPr b="1" i="1" lang="en-GB" sz="3400" spc="-1" strike="noStrike">
                <a:solidFill>
                  <a:srgbClr val="000000"/>
                </a:solidFill>
                <a:latin typeface="Calibri"/>
              </a:rPr>
              <a:t>Mashtrimet e lidhura me Kompjuterët</a:t>
            </a:r>
            <a:endParaRPr b="0" lang="en-US" sz="3400" spc="-1" strike="noStrike">
              <a:solidFill>
                <a:srgbClr val="000000"/>
              </a:solidFill>
              <a:latin typeface="Calibri"/>
            </a:endParaRPr>
          </a:p>
        </p:txBody>
      </p:sp>
      <p:sp>
        <p:nvSpPr>
          <p:cNvPr id="302" name="PlaceHolder 2"/>
          <p:cNvSpPr>
            <a:spLocks noGrp="1"/>
          </p:cNvSpPr>
          <p:nvPr>
            <p:ph/>
          </p:nvPr>
        </p:nvSpPr>
        <p:spPr>
          <a:xfrm>
            <a:off x="457200" y="1127160"/>
            <a:ext cx="8229600" cy="499896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heqjen e të dhënave kompjuterike;</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F7F181-877E-4B26-9628-36EB177E35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912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Mashtrimet e lidhura me Kompjuterët</a:t>
            </a:r>
            <a:endParaRPr b="0" lang="en-US" sz="3400" spc="-1" strike="noStrike">
              <a:solidFill>
                <a:srgbClr val="000000"/>
              </a:solidFill>
              <a:latin typeface="Calibri"/>
            </a:endParaRPr>
          </a:p>
        </p:txBody>
      </p:sp>
      <p:sp>
        <p:nvSpPr>
          <p:cNvPr id="305" name="PlaceHolder 2"/>
          <p:cNvSpPr>
            <a:spLocks noGrp="1"/>
          </p:cNvSpPr>
          <p:nvPr>
            <p:ph/>
          </p:nvPr>
        </p:nvSpPr>
        <p:spPr>
          <a:xfrm>
            <a:off x="456840" y="1143000"/>
            <a:ext cx="8458200" cy="49831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a:t>
            </a:r>
            <a:r>
              <a:rPr b="1" lang="sq-AL" sz="2800" spc="-1" strike="noStrike">
                <a:solidFill>
                  <a:srgbClr val="ff0000"/>
                </a:solidFill>
                <a:latin typeface="Calibri"/>
              </a:rPr>
              <a:t>futjes</a:t>
            </a:r>
            <a:r>
              <a:rPr b="0" lang="sq-AL" sz="2800" spc="-1" strike="noStrike">
                <a:solidFill>
                  <a:srgbClr val="ff0000"/>
                </a:solidFill>
                <a:latin typeface="Calibri"/>
              </a:rPr>
              <a:t> </a:t>
            </a:r>
            <a:r>
              <a:rPr b="0" lang="sq-AL" sz="2800" spc="-1" strike="noStrike">
                <a:solidFill>
                  <a:srgbClr val="000000"/>
                </a:solidFill>
                <a:latin typeface="Calibri"/>
              </a:rPr>
              <a:t>së ndonjë të dhëne, </a:t>
            </a:r>
            <a:r>
              <a:rPr b="1" lang="sq-AL" sz="2800" spc="-1" strike="noStrike">
                <a:solidFill>
                  <a:srgbClr val="ff0000"/>
                </a:solidFill>
                <a:latin typeface="Calibri"/>
              </a:rPr>
              <a:t>ndryshimin</a:t>
            </a:r>
            <a:r>
              <a:rPr b="0" lang="sq-AL" sz="2800" spc="-1" strike="noStrike">
                <a:solidFill>
                  <a:srgbClr val="000000"/>
                </a:solidFill>
                <a:latin typeface="Calibri"/>
              </a:rPr>
              <a:t>, </a:t>
            </a:r>
            <a:r>
              <a:rPr b="1" lang="sq-AL" sz="2800" spc="-1" strike="noStrike">
                <a:solidFill>
                  <a:srgbClr val="ff0000"/>
                </a:solidFill>
                <a:latin typeface="Calibri"/>
              </a:rPr>
              <a:t>fshirjen</a:t>
            </a:r>
            <a:r>
              <a:rPr b="0" lang="sq-AL" sz="2800" spc="-1" strike="noStrike">
                <a:solidFill>
                  <a:srgbClr val="ff0000"/>
                </a:solidFill>
                <a:latin typeface="Calibri"/>
              </a:rPr>
              <a:t> </a:t>
            </a:r>
            <a:r>
              <a:rPr b="0" lang="sq-AL" sz="2800" spc="-1" strike="noStrike">
                <a:solidFill>
                  <a:srgbClr val="000000"/>
                </a:solidFill>
                <a:latin typeface="Calibri"/>
              </a:rPr>
              <a:t>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a:t>
            </a:r>
            <a:r>
              <a:rPr b="1" lang="sq-AL" sz="2800" spc="-1" strike="noStrike">
                <a:solidFill>
                  <a:srgbClr val="ff0000"/>
                </a:solidFill>
                <a:latin typeface="Calibri"/>
              </a:rPr>
              <a:t>interferencë me funksionimin </a:t>
            </a:r>
            <a:r>
              <a:rPr b="0" lang="sq-AL" sz="2800" spc="-1" strike="noStrike">
                <a:solidFill>
                  <a:srgbClr val="000000"/>
                </a:solidFill>
                <a:latin typeface="Calibri"/>
              </a:rPr>
              <a:t>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D7058B-EF7F-440F-9409-C7CC6DAFDA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tja, ndryshimi, fshirja, bërja e padisponueshme &amp; interferenca</a:t>
            </a:r>
            <a:endParaRPr b="0" lang="en-US" sz="4400" spc="-1" strike="noStrike">
              <a:solidFill>
                <a:srgbClr val="000000"/>
              </a:solidFill>
              <a:latin typeface="Calibri"/>
            </a:endParaRPr>
          </a:p>
        </p:txBody>
      </p:sp>
      <p:sp>
        <p:nvSpPr>
          <p:cNvPr id="308" name=""/>
          <p:cNvSpPr txBox="1"/>
          <p:nvPr/>
        </p:nvSpPr>
        <p:spPr>
          <a:xfrm>
            <a:off x="457200" y="1615680"/>
            <a:ext cx="8229600" cy="50310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kaktimi i humbjes së pasurisë së personit tjetër me anë t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utjes</a:t>
            </a:r>
            <a:r>
              <a:rPr b="0" lang="en-GB" sz="2800" spc="-1" strike="noStrike">
                <a:solidFill>
                  <a:srgbClr val="000000"/>
                </a:solidFill>
                <a:latin typeface="Calibri"/>
              </a:rPr>
              <a:t> së të dhënave të sakta ose të gabuar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ndryshimit</a:t>
            </a:r>
            <a:r>
              <a:rPr b="0" lang="en-GB" sz="2800" spc="-1" strike="noStrike">
                <a:solidFill>
                  <a:srgbClr val="000000"/>
                </a:solidFill>
                <a:latin typeface="Calibri"/>
              </a:rPr>
              <a:t> pasues (modifikime, ndryshime, ndryshime të pjes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shirjes</a:t>
            </a:r>
            <a:r>
              <a:rPr b="0" lang="en-GB" sz="2800" spc="-1" strike="noStrike">
                <a:solidFill>
                  <a:srgbClr val="000000"/>
                </a:solidFill>
                <a:latin typeface="Calibri"/>
              </a:rPr>
              <a:t> (heqjes së të dhënave nga një pajisj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Bërjes së padisponueshme </a:t>
            </a:r>
            <a:r>
              <a:rPr b="0" lang="en-GB" sz="2800" spc="-1" strike="noStrike">
                <a:solidFill>
                  <a:srgbClr val="000000"/>
                </a:solidFill>
                <a:latin typeface="Calibri"/>
              </a:rPr>
              <a:t>(pengimit, fshehjes së 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ës </a:t>
            </a:r>
            <a:r>
              <a:rPr b="0" lang="en-GB" sz="2800" spc="-1" strike="noStrike">
                <a:solidFill>
                  <a:srgbClr val="000000"/>
                </a:solidFill>
                <a:latin typeface="Calibri"/>
              </a:rPr>
              <a:t>(në funksionimin e një sistemi kompjuteri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4A59AE-BBB9-4293-9FD0-06B7412988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66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Neni 8 – Mashtrimet e lidhura me Kompjuterët</a:t>
            </a:r>
            <a:endParaRPr b="0" lang="en-US" sz="3200" spc="-1" strike="noStrike">
              <a:solidFill>
                <a:srgbClr val="000000"/>
              </a:solidFill>
              <a:latin typeface="Calibri"/>
            </a:endParaRPr>
          </a:p>
        </p:txBody>
      </p:sp>
      <p:sp>
        <p:nvSpPr>
          <p:cNvPr id="311" name="PlaceHolder 2"/>
          <p:cNvSpPr>
            <a:spLocks noGrp="1"/>
          </p:cNvSpPr>
          <p:nvPr>
            <p:ph/>
          </p:nvPr>
        </p:nvSpPr>
        <p:spPr>
          <a:xfrm>
            <a:off x="457200" y="669960"/>
            <a:ext cx="8229600" cy="591336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a:t>
            </a:r>
            <a:r>
              <a:rPr b="1" lang="sq-AL" sz="2800" spc="-1" strike="noStrike">
                <a:solidFill>
                  <a:srgbClr val="ff0000"/>
                </a:solidFill>
                <a:latin typeface="Calibri"/>
              </a:rPr>
              <a:t>pasurisë</a:t>
            </a:r>
            <a:r>
              <a:rPr b="0" lang="sq-AL" sz="2800" spc="-1" strike="noStrike">
                <a:solidFill>
                  <a:srgbClr val="ff0000"/>
                </a:solidFill>
                <a:latin typeface="Calibri"/>
              </a:rPr>
              <a:t> </a:t>
            </a:r>
            <a:r>
              <a:rPr b="0" lang="sq-AL" sz="2800" spc="-1" strike="noStrike">
                <a:solidFill>
                  <a:srgbClr val="000000"/>
                </a:solidFill>
                <a:latin typeface="Calibri"/>
              </a:rPr>
              <a:t>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ff0000"/>
                </a:solidFill>
                <a:latin typeface="Calibri"/>
              </a:rPr>
              <a:t>sistemi kompjuterik, me synimin e pandershëm e mashtrues për prokurimin pa të drejtë të një përfitimi ekonomik për vete apo për një</a:t>
            </a:r>
            <a:r>
              <a:rPr b="1" lang="en-US" sz="2800" spc="-1" strike="noStrike">
                <a:solidFill>
                  <a:srgbClr val="ff0000"/>
                </a:solidFill>
                <a:latin typeface="Calibri"/>
              </a:rPr>
              <a:t> </a:t>
            </a:r>
            <a:r>
              <a:rPr b="1" lang="sq-AL" sz="2800" spc="-1" strike="noStrike">
                <a:solidFill>
                  <a:srgbClr val="ff0000"/>
                </a:solidFill>
                <a:latin typeface="Calibri"/>
              </a:rPr>
              <a:t>tjetër</a:t>
            </a:r>
            <a:r>
              <a:rPr b="1" lang="en-GB" sz="2800" spc="-1" strike="noStrike">
                <a:solidFill>
                  <a:srgbClr val="ff0000"/>
                </a:solidFill>
                <a:latin typeface="Calibri"/>
              </a:rPr>
              <a:t> </a:t>
            </a:r>
            <a:endParaRPr b="0" lang="en-US" sz="2800" spc="-1" strike="noStrike">
              <a:solidFill>
                <a:srgbClr val="000000"/>
              </a:solidFill>
              <a:latin typeface="Calibri"/>
            </a:endParaRPr>
          </a:p>
        </p:txBody>
      </p:sp>
      <p:sp>
        <p:nvSpPr>
          <p:cNvPr id="3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4B9AFD-9191-45E0-B21B-AA212FF502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umbja e pasurisë</a:t>
            </a:r>
            <a:endParaRPr b="0" lang="en-US" sz="4400" spc="-1" strike="noStrike">
              <a:solidFill>
                <a:srgbClr val="000000"/>
              </a:solidFill>
              <a:latin typeface="Calibri"/>
            </a:endParaRPr>
          </a:p>
        </p:txBody>
      </p:sp>
      <p:sp>
        <p:nvSpPr>
          <p:cNvPr id="314" name=""/>
          <p:cNvSpPr txBox="1"/>
          <p:nvPr/>
        </p:nvSpPr>
        <p:spPr>
          <a:xfrm>
            <a:off x="457200" y="1417680"/>
            <a:ext cx="8229600" cy="50594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shkaktojë humbje posedimi ose ekonomike të drejtpërdrejtë të pasurisë së personit tjetë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rfshin humbjen e:</a:t>
            </a:r>
            <a:endParaRPr b="0" lang="en-US" sz="30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luajt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paluajtshme me vlerë ekonomike</a:t>
            </a:r>
            <a:endParaRPr b="0" lang="en-US" sz="28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kryhet nga keqbërësi me qëllimin e sigurimit të përfitimeve të paligjshme për vete ose për një person tjetër</a:t>
            </a:r>
            <a:endParaRPr b="0" lang="en-US" sz="30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14D973-DE1B-44E5-AFF6-0009927C51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lidhura me Përmbajtjen</a:t>
            </a:r>
            <a:endParaRPr b="0" lang="en-US" sz="32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73126-350C-46AB-9AEC-15D99293C2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25160" y="128520"/>
            <a:ext cx="8367480" cy="306720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Pornografia e Fëmijëve</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9 – Konventa e Budapestit)</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Risi e madhe</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minalizimi i akteve të pornografisë së fëmijëve, të kryera me anë të një sistemi kompjuterik</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Aspekte të rëndësishme: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Kriminalizimi i “pseudo imazheve”;</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Ndëshkimin e posedimit të thjeshtë të materialeve të pornografisë së fëmijëve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Të pa parashikuar nga shumë prej legjislacioneve</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Qasje shumë e zakonshme nga të gjithë forumet ndërkombëtare (psh.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ashkimi Evropia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Thekson posedimin e thjeshtë të materialeve pornografike të fëmijëve</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ktiva 2011/92/EU, nga Parlamenti dhe Këshilli Evropian</a:t>
            </a:r>
            <a:endParaRPr b="0" lang="en-US" sz="1600" spc="-1" strike="noStrike">
              <a:solidFill>
                <a:srgbClr val="000000"/>
              </a:solidFill>
              <a:latin typeface="Calibri"/>
            </a:endParaRPr>
          </a:p>
        </p:txBody>
      </p:sp>
      <p:sp>
        <p:nvSpPr>
          <p:cNvPr id="3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89068-8E29-49EE-A6FE-DF887C4535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0"/>
            <a:ext cx="8229600" cy="130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1" name="PlaceHolder 2"/>
          <p:cNvSpPr>
            <a:spLocks noGrp="1"/>
          </p:cNvSpPr>
          <p:nvPr>
            <p:ph/>
          </p:nvPr>
        </p:nvSpPr>
        <p:spPr>
          <a:xfrm>
            <a:off x="152280" y="1307880"/>
            <a:ext cx="8763120" cy="541332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 </a:t>
            </a:r>
            <a:r>
              <a:rPr b="0" lang="sq-AL" sz="2300" spc="-1" strike="noStrike">
                <a:solidFill>
                  <a:srgbClr val="000000"/>
                </a:solidFill>
                <a:latin typeface="Calibri"/>
              </a:rPr>
              <a:t>Çdo Palë do të </a:t>
            </a:r>
            <a:r>
              <a:rPr b="0" lang="en-US" sz="2300" spc="-1" strike="noStrike">
                <a:solidFill>
                  <a:srgbClr val="000000"/>
                </a:solidFill>
                <a:latin typeface="Calibri"/>
              </a:rPr>
              <a:t>miratojë </a:t>
            </a:r>
            <a:r>
              <a:rPr b="0" lang="sq-AL" sz="2300" spc="-1" strike="noStrike">
                <a:solidFill>
                  <a:srgbClr val="000000"/>
                </a:solidFill>
                <a:latin typeface="Calibri"/>
              </a:rPr>
              <a:t>legjislacion të tillë dhe masa të tjera, që mund të jenë të nevojshme</a:t>
            </a:r>
            <a:r>
              <a:rPr b="0" lang="en-US" sz="2300" spc="-1" strike="noStrike">
                <a:solidFill>
                  <a:srgbClr val="000000"/>
                </a:solidFill>
                <a:latin typeface="Calibri"/>
              </a:rPr>
              <a:t> për </a:t>
            </a:r>
            <a:r>
              <a:rPr b="0" lang="sq-AL" sz="2300" spc="-1" strike="noStrike">
                <a:solidFill>
                  <a:srgbClr val="000000"/>
                </a:solidFill>
                <a:latin typeface="Calibri"/>
              </a:rPr>
              <a:t>të përcakt</a:t>
            </a:r>
            <a:r>
              <a:rPr b="0" lang="en-US" sz="2300" spc="-1" strike="noStrike">
                <a:solidFill>
                  <a:srgbClr val="000000"/>
                </a:solidFill>
                <a:latin typeface="Calibri"/>
              </a:rPr>
              <a:t>uar</a:t>
            </a:r>
            <a:r>
              <a:rPr b="0" lang="sq-AL" sz="2300" spc="-1" strike="noStrike">
                <a:solidFill>
                  <a:srgbClr val="000000"/>
                </a:solidFill>
                <a:latin typeface="Calibri"/>
              </a:rPr>
              <a:t> si vepra penale sipas ligjit të brendshëm, kur kryhet me qëllim dhe pa të drejtë, në</a:t>
            </a:r>
            <a:r>
              <a:rPr b="0" lang="en-US" sz="2300" spc="-1" strike="noStrike">
                <a:solidFill>
                  <a:srgbClr val="000000"/>
                </a:solidFill>
                <a:latin typeface="Calibri"/>
              </a:rPr>
              <a:t> </a:t>
            </a:r>
            <a:r>
              <a:rPr b="0" lang="sq-AL" sz="2300" spc="-1" strike="noStrike">
                <a:solidFill>
                  <a:srgbClr val="000000"/>
                </a:solidFill>
                <a:latin typeface="Calibri"/>
              </a:rPr>
              <a:t>drejtimet e mëposhtme:</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prodhimin e pornografisë me fëmijë, me qëllimin e shpërndarjes së tij nëpërmjet një</a:t>
            </a:r>
            <a:r>
              <a:rPr b="0" lang="en-US" sz="2300" spc="-1" strike="noStrike">
                <a:solidFill>
                  <a:srgbClr val="000000"/>
                </a:solidFill>
                <a:latin typeface="Calibri"/>
              </a:rPr>
              <a:t> </a:t>
            </a:r>
            <a:r>
              <a:rPr b="0" lang="sq-AL" sz="2300" spc="-1" strike="noStrike">
                <a:solidFill>
                  <a:srgbClr val="000000"/>
                </a:solidFill>
                <a:latin typeface="Calibri"/>
              </a:rPr>
              <a:t>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ofrimi apo vënia në dispo</a:t>
            </a:r>
            <a:r>
              <a:rPr b="0" lang="en-US" sz="2300" spc="-1" strike="noStrike">
                <a:solidFill>
                  <a:srgbClr val="000000"/>
                </a:solidFill>
                <a:latin typeface="Calibri"/>
              </a:rPr>
              <a:t>zicion</a:t>
            </a:r>
            <a:r>
              <a:rPr b="0" lang="sq-AL" sz="2300" spc="-1" strike="noStrike">
                <a:solidFill>
                  <a:srgbClr val="000000"/>
                </a:solidFill>
                <a:latin typeface="Calibri"/>
              </a:rPr>
              <a:t> e pornografisë për fëmijë nëpërmjet një sistemi</a:t>
            </a:r>
            <a:r>
              <a:rPr b="0" lang="en-US" sz="2300" spc="-1" strike="noStrike">
                <a:solidFill>
                  <a:srgbClr val="000000"/>
                </a:solidFill>
                <a:latin typeface="Calibri"/>
              </a:rPr>
              <a:t> </a:t>
            </a:r>
            <a:r>
              <a:rPr b="0" lang="sq-AL" sz="2300" spc="-1" strike="noStrike">
                <a:solidFill>
                  <a:srgbClr val="000000"/>
                </a:solidFill>
                <a:latin typeface="Calibri"/>
              </a:rPr>
              <a:t>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shpërndarja apo transmetimi i pornografisë për fëmijë nëpërmjet një 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d) prokurimi i pornografisë për fëmijë nëpërmjet një sistemi kompjuterik për vete apo për</a:t>
            </a:r>
            <a:r>
              <a:rPr b="0" lang="en-US" sz="2300" spc="-1" strike="noStrike">
                <a:solidFill>
                  <a:srgbClr val="000000"/>
                </a:solidFill>
                <a:latin typeface="Calibri"/>
              </a:rPr>
              <a:t> </a:t>
            </a:r>
            <a:r>
              <a:rPr b="0" lang="sq-AL" sz="2300" spc="-1" strike="noStrike">
                <a:solidFill>
                  <a:srgbClr val="000000"/>
                </a:solidFill>
                <a:latin typeface="Calibri"/>
              </a:rPr>
              <a:t>një tjetër</a:t>
            </a:r>
            <a:endParaRPr b="0" lang="en-US" sz="2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e) zotërimi i pornografisë për fëmijë nëpërmjet një sistemi kompjuterik apo në një mjet të</a:t>
            </a:r>
            <a:r>
              <a:rPr b="0" lang="en-US" sz="2300" spc="-1" strike="noStrike">
                <a:solidFill>
                  <a:srgbClr val="000000"/>
                </a:solidFill>
                <a:latin typeface="Calibri"/>
              </a:rPr>
              <a:t> </a:t>
            </a:r>
            <a:r>
              <a:rPr b="0" lang="sq-AL" sz="24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7AA71-0B9A-4ADF-8A26-24D307005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4" name="PlaceHolder 2"/>
          <p:cNvSpPr>
            <a:spLocks noGrp="1"/>
          </p:cNvSpPr>
          <p:nvPr>
            <p:ph/>
          </p:nvPr>
        </p:nvSpPr>
        <p:spPr>
          <a:xfrm>
            <a:off x="457200" y="1417320"/>
            <a:ext cx="8229600" cy="518148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2. </a:t>
            </a:r>
            <a:r>
              <a:rPr b="0" lang="sq-AL" sz="2300" spc="-1" strike="noStrike">
                <a:solidFill>
                  <a:srgbClr val="000000"/>
                </a:solidFill>
                <a:latin typeface="Calibri"/>
              </a:rPr>
              <a:t>Për qëllimin e paragrafit 1 të mësipërm “pornografi me fëmijë” do të përfshijë material</a:t>
            </a:r>
            <a:r>
              <a:rPr b="0" lang="en-US" sz="2300" spc="-1" strike="noStrike">
                <a:solidFill>
                  <a:srgbClr val="000000"/>
                </a:solidFill>
                <a:latin typeface="Calibri"/>
              </a:rPr>
              <a:t> </a:t>
            </a:r>
            <a:r>
              <a:rPr b="0" lang="it-IT" sz="2300" spc="-1" strike="noStrike">
                <a:solidFill>
                  <a:srgbClr val="000000"/>
                </a:solidFill>
                <a:latin typeface="Calibri"/>
              </a:rPr>
              <a:t>pornografik që dallon nga ana pamor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një minoren, i cili angazhohet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një person, i cili duket që është minoren, i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imazhe realiste që prezantojnë një minoren të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3. Për qëllimin e paragrafit 2 të mësipërm, termi “minoren” do të përfshijë të gjithë</a:t>
            </a:r>
            <a:r>
              <a:rPr b="0" lang="en-US" sz="2300" spc="-1" strike="noStrike">
                <a:solidFill>
                  <a:srgbClr val="000000"/>
                </a:solidFill>
                <a:latin typeface="Calibri"/>
              </a:rPr>
              <a:t> </a:t>
            </a:r>
            <a:r>
              <a:rPr b="0" lang="sq-AL" sz="2300" spc="-1" strike="noStrike">
                <a:solidFill>
                  <a:srgbClr val="000000"/>
                </a:solidFill>
                <a:latin typeface="Calibri"/>
              </a:rPr>
              <a:t>personat nën moshën 18 vjeç. Një Palë mundet, megjithatë, të kërkojë një limit moshe më të vogël,</a:t>
            </a:r>
            <a:r>
              <a:rPr b="0" lang="en-US" sz="2300" spc="-1" strike="noStrike">
                <a:solidFill>
                  <a:srgbClr val="000000"/>
                </a:solidFill>
                <a:latin typeface="Calibri"/>
              </a:rPr>
              <a:t> </a:t>
            </a:r>
            <a:r>
              <a:rPr b="0" lang="sq-AL" sz="2300" spc="-1" strike="noStrike">
                <a:solidFill>
                  <a:srgbClr val="000000"/>
                </a:solidFill>
                <a:latin typeface="Calibri"/>
              </a:rPr>
              <a:t>e cila nuk duhet të jetë më pak se 16 vjeç.</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4. Çdo Palë mund të rezervojë të drejtën të mos aplikojë në tërësi apo pjesërisht paragrafin</a:t>
            </a:r>
            <a:r>
              <a:rPr b="0" lang="en-US" sz="2300" spc="-1" strike="noStrike">
                <a:solidFill>
                  <a:srgbClr val="000000"/>
                </a:solidFill>
                <a:latin typeface="Calibri"/>
              </a:rPr>
              <a:t> </a:t>
            </a:r>
            <a:r>
              <a:rPr b="0" lang="it-IT" sz="2300" spc="-1" strike="noStrike">
                <a:solidFill>
                  <a:srgbClr val="000000"/>
                </a:solidFill>
                <a:latin typeface="Calibri"/>
              </a:rPr>
              <a:t>1(d) dhe 1(e) dhe 2 d dhe 2 (c).</a:t>
            </a:r>
            <a:endParaRPr b="0" lang="en-US" sz="23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B43CD-6FF8-446B-8278-FF3291F18B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1" name="PlaceHolder 2"/>
          <p:cNvSpPr>
            <a:spLocks noGrp="1"/>
          </p:cNvSpPr>
          <p:nvPr>
            <p:ph/>
          </p:nvPr>
        </p:nvSpPr>
        <p:spPr>
          <a:xfrm>
            <a:off x="457200" y="1417680"/>
            <a:ext cx="8229600" cy="471168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endParaRPr b="0" lang="en-US" sz="28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6F6BC-BD04-4F59-908C-E49375985A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8FD5AE-8D5A-415B-B422-00A4A79DA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8" name=""/>
          <p:cNvSpPr txBox="1"/>
          <p:nvPr/>
        </p:nvSpPr>
        <p:spPr>
          <a:xfrm>
            <a:off x="152280" y="1417320"/>
            <a:ext cx="8809200" cy="49388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a:t>
            </a:r>
            <a:r>
              <a:rPr b="1" lang="sq-AL" sz="2800" spc="-1" strike="noStrike">
                <a:solidFill>
                  <a:srgbClr val="ff0000"/>
                </a:solidFill>
                <a:latin typeface="Calibri"/>
              </a:rPr>
              <a:t>pa të drejtë</a:t>
            </a:r>
            <a:r>
              <a:rPr b="0" lang="sq-AL" sz="2000" spc="-1" strike="noStrike">
                <a:solidFill>
                  <a:srgbClr val="000000"/>
                </a:solidFill>
                <a:latin typeface="Calibri"/>
              </a:rPr>
              <a:t>,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shpërndarja apo transmetimi 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prokurimi 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zotërimi 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330" name=""/>
          <p:cNvSpPr txBox="1"/>
          <p:nvPr/>
        </p:nvSpPr>
        <p:spPr>
          <a:xfrm>
            <a:off x="457200" y="1417320"/>
            <a:ext cx="8229600" cy="49388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jon palën të marrë parasysh të drejtat themelore duke përfshir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shprehj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mendimi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ë drejtën e jetës private</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a mund të lejojë mbrojtjen në lidhje me sjelljen e lidhur me "materialin pornografik" që ka merita artistike, mjekësore, shkencore ose të ngjashme</a:t>
            </a:r>
            <a:endParaRPr b="0" lang="en-US" sz="30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F5B88D-CB5C-4EA7-BC8D-6DBE743AFA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F78F9E-2094-451C-9E26-AD197A352D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4" name=""/>
          <p:cNvSpPr txBox="1"/>
          <p:nvPr/>
        </p:nvSpPr>
        <p:spPr>
          <a:xfrm>
            <a:off x="182520" y="1600200"/>
            <a:ext cx="8809200" cy="5121360"/>
          </a:xfrm>
          <a:prstGeom prst="rect">
            <a:avLst/>
          </a:prstGeom>
          <a:noFill/>
          <a:ln w="0">
            <a:noFill/>
          </a:ln>
        </p:spPr>
        <p:txBody>
          <a:bodyPr anchor="t">
            <a:normAutofit fontScale="98000"/>
          </a:bodyPr>
          <a:p>
            <a:pPr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200" spc="-1" strike="noStrike">
                <a:solidFill>
                  <a:srgbClr val="000000"/>
                </a:solidFill>
                <a:latin typeface="Calibri"/>
              </a:rPr>
              <a:t>. </a:t>
            </a:r>
            <a:r>
              <a:rPr b="0" lang="sq-AL" sz="2200" spc="-1" strike="noStrike">
                <a:solidFill>
                  <a:srgbClr val="000000"/>
                </a:solidFill>
                <a:latin typeface="Calibri"/>
              </a:rPr>
              <a:t>Çdo Palë do të </a:t>
            </a:r>
            <a:r>
              <a:rPr b="0" lang="en-US" sz="2200" spc="-1" strike="noStrike">
                <a:solidFill>
                  <a:srgbClr val="000000"/>
                </a:solidFill>
                <a:latin typeface="Calibri"/>
              </a:rPr>
              <a:t>miratojë </a:t>
            </a:r>
            <a:r>
              <a:rPr b="0" lang="sq-AL" sz="2200" spc="-1" strike="noStrike">
                <a:solidFill>
                  <a:srgbClr val="000000"/>
                </a:solidFill>
                <a:latin typeface="Calibri"/>
              </a:rPr>
              <a:t>legjislacion të tillë dhe masa të tjera, që mund të jenë të nevojshme</a:t>
            </a:r>
            <a:r>
              <a:rPr b="0" lang="en-US" sz="2200" spc="-1" strike="noStrike">
                <a:solidFill>
                  <a:srgbClr val="000000"/>
                </a:solidFill>
                <a:latin typeface="Calibri"/>
              </a:rPr>
              <a:t> për </a:t>
            </a:r>
            <a:r>
              <a:rPr b="0" lang="sq-AL" sz="2200" spc="-1" strike="noStrike">
                <a:solidFill>
                  <a:srgbClr val="000000"/>
                </a:solidFill>
                <a:latin typeface="Calibri"/>
              </a:rPr>
              <a:t>të përcakt</a:t>
            </a:r>
            <a:r>
              <a:rPr b="0" lang="en-US" sz="2200" spc="-1" strike="noStrike">
                <a:solidFill>
                  <a:srgbClr val="000000"/>
                </a:solidFill>
                <a:latin typeface="Calibri"/>
              </a:rPr>
              <a:t>uar</a:t>
            </a:r>
            <a:r>
              <a:rPr b="0" lang="sq-AL" sz="2200" spc="-1" strike="noStrike">
                <a:solidFill>
                  <a:srgbClr val="000000"/>
                </a:solidFill>
                <a:latin typeface="Calibri"/>
              </a:rPr>
              <a:t> si vepra penale sipas ligjit të brendshëm, kur kryhet me qëllim dhe pa të drejtë, në</a:t>
            </a:r>
            <a:r>
              <a:rPr b="0" lang="en-US" sz="2200" spc="-1" strike="noStrike">
                <a:solidFill>
                  <a:srgbClr val="000000"/>
                </a:solidFill>
                <a:latin typeface="Calibri"/>
              </a:rPr>
              <a:t> </a:t>
            </a:r>
            <a:r>
              <a:rPr b="0" lang="sq-AL" sz="2200" spc="-1" strike="noStrike">
                <a:solidFill>
                  <a:srgbClr val="000000"/>
                </a:solidFill>
                <a:latin typeface="Calibri"/>
              </a:rPr>
              <a:t>drejtimet e mëposhtme:</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a) </a:t>
            </a:r>
            <a:r>
              <a:rPr b="1" lang="sq-AL" sz="2400" spc="-1" strike="noStrike">
                <a:solidFill>
                  <a:srgbClr val="ff0000"/>
                </a:solidFill>
                <a:latin typeface="Calibri"/>
              </a:rPr>
              <a:t>prodhimin</a:t>
            </a:r>
            <a:r>
              <a:rPr b="0" lang="sq-AL" sz="2200" spc="-1" strike="noStrike">
                <a:solidFill>
                  <a:srgbClr val="ff0000"/>
                </a:solidFill>
                <a:latin typeface="Calibri"/>
              </a:rPr>
              <a:t> </a:t>
            </a:r>
            <a:r>
              <a:rPr b="0" lang="sq-AL" sz="2200" spc="-1" strike="noStrike">
                <a:solidFill>
                  <a:srgbClr val="000000"/>
                </a:solidFill>
                <a:latin typeface="Calibri"/>
              </a:rPr>
              <a:t>e pornografisë me fëmijë, me qëllimin e shpërndarjes së tij nëpërmjet një</a:t>
            </a:r>
            <a:r>
              <a:rPr b="0" lang="en-US" sz="2200" spc="-1" strike="noStrike">
                <a:solidFill>
                  <a:srgbClr val="000000"/>
                </a:solidFill>
                <a:latin typeface="Calibri"/>
              </a:rPr>
              <a:t> </a:t>
            </a:r>
            <a:r>
              <a:rPr b="0" lang="sq-AL" sz="2200" spc="-1" strike="noStrike">
                <a:solidFill>
                  <a:srgbClr val="000000"/>
                </a:solidFill>
                <a:latin typeface="Calibri"/>
              </a:rPr>
              <a:t>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b) </a:t>
            </a:r>
            <a:r>
              <a:rPr b="1" lang="sq-AL" sz="2400" spc="-1" strike="noStrike">
                <a:solidFill>
                  <a:srgbClr val="ff0000"/>
                </a:solidFill>
                <a:latin typeface="Calibri"/>
              </a:rPr>
              <a:t>ofrimi apo vënia në dispo</a:t>
            </a:r>
            <a:r>
              <a:rPr b="1" lang="en-US" sz="2400" spc="-1" strike="noStrike">
                <a:solidFill>
                  <a:srgbClr val="ff0000"/>
                </a:solidFill>
                <a:latin typeface="Calibri"/>
              </a:rPr>
              <a:t>zicion</a:t>
            </a:r>
            <a:r>
              <a:rPr b="1" lang="sq-AL" sz="2400" spc="-1" strike="noStrike">
                <a:solidFill>
                  <a:srgbClr val="ff0000"/>
                </a:solidFill>
                <a:latin typeface="Calibri"/>
              </a:rPr>
              <a:t> </a:t>
            </a:r>
            <a:r>
              <a:rPr b="0" lang="sq-AL" sz="2200" spc="-1" strike="noStrike">
                <a:solidFill>
                  <a:srgbClr val="000000"/>
                </a:solidFill>
                <a:latin typeface="Calibri"/>
              </a:rPr>
              <a:t>e pornografisë për fëmijë nëpërmjet një sistemi</a:t>
            </a:r>
            <a:r>
              <a:rPr b="0" lang="en-US" sz="2200" spc="-1" strike="noStrike">
                <a:solidFill>
                  <a:srgbClr val="000000"/>
                </a:solidFill>
                <a:latin typeface="Calibri"/>
              </a:rPr>
              <a:t> </a:t>
            </a:r>
            <a:r>
              <a:rPr b="0" lang="sq-AL" sz="2200" spc="-1" strike="noStrike">
                <a:solidFill>
                  <a:srgbClr val="000000"/>
                </a:solidFill>
                <a:latin typeface="Calibri"/>
              </a:rPr>
              <a:t>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c) shpërndarja apo transmetimi i pornografisë për fëmijë nëpërmjet një 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 prokurimi i pornografisë për fëmijë nëpërmjet një sistemi kompjuterik për vete apo për</a:t>
            </a:r>
            <a:r>
              <a:rPr b="0" lang="en-US" sz="2200" spc="-1" strike="noStrike">
                <a:solidFill>
                  <a:srgbClr val="000000"/>
                </a:solidFill>
                <a:latin typeface="Calibri"/>
              </a:rPr>
              <a:t> </a:t>
            </a:r>
            <a:r>
              <a:rPr b="0" lang="sq-AL" sz="2200" spc="-1" strike="noStrike">
                <a:solidFill>
                  <a:srgbClr val="000000"/>
                </a:solidFill>
                <a:latin typeface="Calibri"/>
              </a:rPr>
              <a:t>një tjetër</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 zotërimi i pornografisë për fëmijë nëpërmjet një sistemi kompjuterik apo në një mjet të</a:t>
            </a:r>
            <a:r>
              <a:rPr b="0" lang="en-US" sz="2200" spc="-1" strike="noStrike">
                <a:solidFill>
                  <a:srgbClr val="000000"/>
                </a:solidFill>
                <a:latin typeface="Calibri"/>
              </a:rPr>
              <a:t> </a:t>
            </a:r>
            <a:r>
              <a:rPr b="0" lang="sq-AL" sz="2200" spc="-1" strike="noStrike">
                <a:solidFill>
                  <a:srgbClr val="000000"/>
                </a:solidFill>
                <a:latin typeface="Calibri"/>
              </a:rPr>
              <a:t>memorizimit të të dhënave kompjuterike</a:t>
            </a:r>
            <a:r>
              <a:rPr b="0" lang="en-GB" sz="2200" spc="-1" strike="noStrike">
                <a:solidFill>
                  <a:srgbClr val="000000"/>
                </a:solidFill>
                <a:latin typeface="Calibri"/>
                <a:ea typeface="Times New Roman"/>
              </a:rPr>
              <a:t>.</a:t>
            </a:r>
            <a:r>
              <a:rPr b="0" lang="en-GB"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himi, ofrimi apo venia në dispozicion</a:t>
            </a:r>
            <a:endParaRPr b="0" lang="en-US" sz="4400" spc="-1" strike="noStrike">
              <a:solidFill>
                <a:srgbClr val="000000"/>
              </a:solidFill>
              <a:latin typeface="Calibri"/>
            </a:endParaRPr>
          </a:p>
        </p:txBody>
      </p:sp>
      <p:sp>
        <p:nvSpPr>
          <p:cNvPr id="336" name=""/>
          <p:cNvSpPr txBox="1"/>
          <p:nvPr/>
        </p:nvSpPr>
        <p:spPr>
          <a:xfrm>
            <a:off x="457200" y="1554120"/>
            <a:ext cx="8229600" cy="5167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sojat penale të lidhura me secilin pjesëmarrës në zinxhir që nga prodhimi deri te posedimi i pornografisë së fëmijë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 e pornografisë së fëmijëve (për qëllime të shpërndarjes me anë të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imin e pornografisë së fëmijëve (kërkimi nga të tjerët për të marrë pornografi t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ja në dispozicion e pornografisë së fëmijëve (vendosja e pornografisë së fëmijëve online për përdorimin e të tjerëve, duke përfshirë edhe faqet e internetit të pornografisë së fëmijëve)</a:t>
            </a:r>
            <a:endParaRPr b="0" lang="en-US" sz="24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2CD5E0-DB57-4EB7-A3C5-87678719F7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0F1124-B2F6-4C78-8C2C-7C53B0B54F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0" name=""/>
          <p:cNvSpPr txBox="1"/>
          <p:nvPr/>
        </p:nvSpPr>
        <p:spPr>
          <a:xfrm>
            <a:off x="457200" y="1515960"/>
            <a:ext cx="8229600" cy="484056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pa të drejtë,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a:t>
            </a:r>
            <a:r>
              <a:rPr b="1" lang="sq-AL" sz="2000" spc="-1" strike="noStrike">
                <a:solidFill>
                  <a:srgbClr val="ff0000"/>
                </a:solidFill>
                <a:latin typeface="Calibri"/>
              </a:rPr>
              <a:t>shpërndarja</a:t>
            </a:r>
            <a:r>
              <a:rPr b="0" lang="sq-AL" sz="2000" spc="-1" strike="noStrike">
                <a:solidFill>
                  <a:srgbClr val="000000"/>
                </a:solidFill>
                <a:latin typeface="Calibri"/>
              </a:rPr>
              <a:t> apo </a:t>
            </a:r>
            <a:r>
              <a:rPr b="1" lang="sq-AL" sz="2000" spc="-1" strike="noStrike">
                <a:solidFill>
                  <a:srgbClr val="ff0000"/>
                </a:solidFill>
                <a:latin typeface="Calibri"/>
              </a:rPr>
              <a:t>transmet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a:t>
            </a:r>
            <a:r>
              <a:rPr b="1" lang="sq-AL" sz="2000" spc="-1" strike="noStrike">
                <a:solidFill>
                  <a:srgbClr val="ff0000"/>
                </a:solidFill>
                <a:latin typeface="Calibri"/>
              </a:rPr>
              <a:t>proku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a:t>
            </a:r>
            <a:r>
              <a:rPr b="1" lang="sq-AL" sz="2000" spc="-1" strike="noStrike">
                <a:solidFill>
                  <a:srgbClr val="ff0000"/>
                </a:solidFill>
                <a:latin typeface="Calibri"/>
              </a:rPr>
              <a:t>zotë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përndarja, transmetimi, prokurimi dhe posedimi</a:t>
            </a:r>
            <a:endParaRPr b="0" lang="en-US" sz="4400" spc="-1" strike="noStrike">
              <a:solidFill>
                <a:srgbClr val="000000"/>
              </a:solidFill>
              <a:latin typeface="Calibri"/>
            </a:endParaRPr>
          </a:p>
        </p:txBody>
      </p:sp>
      <p:sp>
        <p:nvSpPr>
          <p:cNvPr id="342"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e pornografisë së fëmijëve (shpërndarja aktive e pornografisë s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etimin e pornografisë së fëmijëve (dërgimi i pornografisë së fëmijëve nëpërmjet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e pornografisë së fëmijëve për vete ose për një tjetër (në mënyrë aktive marrjen e pornografisë së fëmijëve, duke përfshirë shkarkimin e saj)</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dimin e pornografisë së fëmijëve (posedim në sistemin kompjuterik ose bartës të të dhënave)</a:t>
            </a:r>
            <a:endParaRPr b="0" lang="en-US" sz="24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79CF80-B638-44D3-8615-90EF0E90C8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0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3A8FC6-AF18-4521-8E84-D759A4180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6" name=""/>
          <p:cNvSpPr txBox="1"/>
          <p:nvPr/>
        </p:nvSpPr>
        <p:spPr>
          <a:xfrm>
            <a:off x="288720" y="1104840"/>
            <a:ext cx="8600760" cy="5175360"/>
          </a:xfrm>
          <a:prstGeom prst="rect">
            <a:avLst/>
          </a:prstGeom>
          <a:noFill/>
          <a:ln w="0">
            <a:noFill/>
          </a:ln>
        </p:spPr>
        <p:txBody>
          <a:bodyPr anchor="t">
            <a:normAutofit fontScale="99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a:t>
            </a:r>
            <a:r>
              <a:rPr b="1" lang="sq-AL" sz="2400" spc="-1" strike="noStrike">
                <a:solidFill>
                  <a:srgbClr val="ff0000"/>
                </a:solidFill>
                <a:latin typeface="Calibri"/>
              </a:rPr>
              <a:t>material</a:t>
            </a:r>
            <a:r>
              <a:rPr b="1" lang="en-US" sz="2400" spc="-1" strike="noStrike">
                <a:solidFill>
                  <a:srgbClr val="ff0000"/>
                </a:solidFill>
                <a:latin typeface="Calibri"/>
              </a:rPr>
              <a:t> </a:t>
            </a:r>
            <a:r>
              <a:rPr b="1" lang="it-IT" sz="2400" spc="-1" strike="noStrike">
                <a:solidFill>
                  <a:srgbClr val="ff0000"/>
                </a:solidFill>
                <a:latin typeface="Calibri"/>
              </a:rPr>
              <a:t>pornografik që dallon nga ana pamore</a:t>
            </a:r>
            <a:r>
              <a:rPr b="0" lang="it-IT"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afik</a:t>
            </a:r>
            <a:endParaRPr b="0" lang="en-US" sz="4400" spc="-1" strike="noStrike">
              <a:solidFill>
                <a:srgbClr val="000000"/>
              </a:solidFill>
              <a:latin typeface="Calibri"/>
            </a:endParaRPr>
          </a:p>
        </p:txBody>
      </p:sp>
      <p:sp>
        <p:nvSpPr>
          <p:cNvPr id="348" name=""/>
          <p:cNvSpPr txBox="1"/>
          <p:nvPr/>
        </p:nvSpPr>
        <p:spPr>
          <a:xfrm>
            <a:off x="279360" y="1276200"/>
            <a:ext cx="8547120" cy="5445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regulluar nga standardet kombëtare që lidhen me klasifikimin e materialeve si:</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turpshm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ë mospërputhje me moralin publik;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korruptuar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et që kanë vlerë artistike, mjekësore, shkencore ose të ngjashme nuk mund të klasifikohen si pornografik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ërshkrimi vizual përfshin të dhënat e ruajtura në sistemin kompjuterik ose pajisjen e ruajtjes, që është i aftë të konvertohet në imazhin vizual</a:t>
            </a:r>
            <a:endParaRPr b="0" lang="en-US" sz="28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B2DD1B-B097-40DA-A914-896A2CD5F2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265048-6730-484F-95F2-E544F7CBD1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2" name=""/>
          <p:cNvSpPr txBox="1"/>
          <p:nvPr/>
        </p:nvSpPr>
        <p:spPr>
          <a:xfrm>
            <a:off x="136080" y="1417320"/>
            <a:ext cx="8550360" cy="53038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dallo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1" lang="en-US" sz="2400" spc="-1" strike="noStrike">
                <a:solidFill>
                  <a:srgbClr val="ff0000"/>
                </a:solidFill>
                <a:latin typeface="Calibri"/>
              </a:rPr>
              <a:t>sjellje </a:t>
            </a:r>
            <a:r>
              <a:rPr b="1" lang="sq-AL" sz="2400" spc="-1" strike="noStrike">
                <a:solidFill>
                  <a:srgbClr val="ff0000"/>
                </a:solidFill>
                <a:latin typeface="Calibri"/>
              </a:rPr>
              <a:t>të qarta seksuale</a:t>
            </a:r>
            <a:r>
              <a:rPr b="0"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jellje e qartë seksuale</a:t>
            </a:r>
            <a:endParaRPr b="0" lang="en-US" sz="4400" spc="-1" strike="noStrike">
              <a:solidFill>
                <a:srgbClr val="000000"/>
              </a:solidFill>
              <a:latin typeface="Calibri"/>
            </a:endParaRPr>
          </a:p>
        </p:txBody>
      </p:sp>
      <p:sp>
        <p:nvSpPr>
          <p:cNvPr id="354" name=""/>
          <p:cNvSpPr txBox="1"/>
          <p:nvPr/>
        </p:nvSpPr>
        <p:spPr>
          <a:xfrm>
            <a:off x="279360" y="944640"/>
            <a:ext cx="8547120" cy="553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bulon të paktë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t seksuale, përfshirë gjenital-gjenital, oral-gjenital, anal-gjenital ose oral-anal midis të miturve, ose midis një të rrituri dhe të miturit, të seksit të njëjtë ose të kundër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 me kafshë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zimi sadist ose mazokist në sjelljen seksuale;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kspozim epshor të organeve gjenitale apo zonës pubike të të mitur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la mund të përdorë përkufizime më të gjera të sjelljes seksualisht të qartë</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uk është e rëndësishme nëse sjellja është reale apo e simuluar</a:t>
            </a:r>
            <a:endParaRPr b="0" lang="en-US" sz="24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D833A9-943C-4541-99B2-B2E90D1932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JB</cp:lastModifiedBy>
  <dcterms:modified xsi:type="dcterms:W3CDTF">2017-10-08T07:16:24Z</dcterms:modified>
  <cp:revision>315</cp:revision>
  <dc:subject/>
  <dc:title>Introductory Cybercrime Training for Judges and Prosecutors</dc:title>
</cp:coreProperties>
</file>