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784F-DB6D-4BB6-B013-AB587C58B2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306A-5299-474E-9980-9CA1E5CBD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119D-E219-46FD-B68A-41594E94F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7B34-52EC-49E2-85E5-7767CE1AD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B96-D3D1-49BF-A08C-67B65BC62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C31-C5CB-47A8-9F13-691FD14BB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B11-BA06-470A-BF72-93978690A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CDA-B851-462D-B8FE-50AF9EB64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DDFA-2F12-4535-907C-159594813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348-8DA7-4042-A60C-125CC5B7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21C-0FFA-4393-BBC5-4497AC3F8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375-43AA-4C79-8F7B-AA9C6070B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099-D0D3-4B39-8844-BD9F3BA75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090-EACB-4927-B7C2-1BB533086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1987-A197-4E97-B90C-C502592E3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3FF9-99A1-401D-B568-68CE4FDB0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DE7C-F9A8-4D6B-BD96-155557F23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6C7A-A850-499D-ADF9-554A38798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26A-0222-4AFD-AA62-DAEEAB797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519A-84A1-46ED-A7CC-B03B120E8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CE1-D841-4E93-A70C-F6615BA40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9588-05BA-407A-A0B6-CBEA8336F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80A1-FA38-49A8-B432-7D58C7273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8C8B-6FD5-420D-8086-C3A9EC276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AF5-6E02-43BB-B205-4DAE40C7D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ED40-6034-4F25-976A-991347B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814-AAEF-42C6-BE0E-4A8E2277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853-A0EF-4AFF-9980-91A6CB94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0F3-9687-44D9-8092-A74602C5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58FF-955A-415C-A9DE-38AC033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366-D3CA-4420-B0A3-48634DA3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31F-0A16-4113-B35C-0B5EB7E7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070D-8FE4-4E11-B5A3-BADD3614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052-26D2-4332-83F5-4163DE7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740-1C2F-4D60-B948-F55F9BF6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496-6D47-4628-B4C7-3EDBCEE5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31A-8661-4C95-8088-F149A636ADF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4.2/Or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8900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të jo aktive tashmë kuptohen mirë si  teknika për pastrimin e par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jo teknikë pastrimi parash përdoret edhe në botën virtuale, kryesisht në përpjekje për t’i bërë transaksionet të duken të ligj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umat e fondeve të transferuara drejt shoqërive jo aktive priren të jenë më të mëdha sesa shumat që transferohen tek/nga mushkat (ndërmjetësit)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: 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shoqëri pa aktivitet biznesi, pa aktiv ose pasiv, të themeluara vetëm me qëllimin e pasjes së llogarive bank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(ose llogaritë e tyre bankare) shpesh ndodhen në juridiksione të huaja në vendndodhjen e veprës pen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fasadë ligjshmërie për transfertat nga banka e pagues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sfidash të tjera dalin kur shoqëritë jo aktive përdoren për të ardhurat e krim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oqërive jo Aktive (Shembu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themelon një shoqëri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hap një llogari bankare në emër të shoqërisë jo aktive në një juridiksion të hua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kryen aktivitet mashtrues dhe transferon fonde nga llogaritë e viktimës në llogarinë bankare të shoqërisë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3213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në dispozicion / kanë lidhje me ngrirjen, sekuestrimin dhe konfiskimin e fondeve që mbahen nga shoqëritë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jojnë që vlerat të jenë të lidhura paraprakish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 një kartë pages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y llojes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mbyllura: mund të përdoren vetëm me një shoqëri ose dyqan të caktuar (p.sh. kartat për dhurata) dhe me to mund të bëhen blerje dhe të përdoren në mënyrë anon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hapura: të lëshuara nga banka, karta krediti ose institucion financiar tjetër. Mund të përdoren njësoj si kartat e tjera për page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njëjta tipologji përdoret për kartat e rimbushjes së telefonave celularë dhe telefonat celularë të parapagu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t marrin fonde, p.sh. nëpërmjet programeve malware për marrjen e paautorizuar të të dhënave bank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ndet transferohet tek një mushkë (ndërmjetës) par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 (ndërmjetësi) tërheq para kesh dhe i përdor ato për blerjen e kartave me parapagi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ë pas kartat përdoren ose shiten. Kur shiten, kartat zakonisht shiten më pak sesa vlera e tyre nomin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tregtar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t e lojrave dhe të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ësojnë lojrat e llojeve të ndryshme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onisht fondet hyjnë/dalin nëpërmjet sektorit bankar të zakonshëm (p.sh. transferim fondesh, kartë krediti/debiti, etj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i ligjor i paqëndrueshëm dhe rregullimi i lojërave të fatit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ologjia e Lojrave të Fatit Online (Shembul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t dhe bashkëpunëtorët kanë shumë karta krediti të vjedhura për t’i konvertuar në kes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mban kartë me parapagim (ose kartë tjetër kur duhen vendosur fonde të pastruara) dhe bashkëpunëtorët e tij mbajnë karta krediti të vjedh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dhe bashkëpunëtorët hyjnë në platformën e lojrave të fatit dhe transferojnë fonde në llogaritë e tyre të lojrave të fat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embull, keqbërësi dhe bashkëpunëtorët hyjnë në një dhomë pokeri së bashk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hkëpunëtorët qëllimisht humbasin lojën kundër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imet transferohen në llogarinë e lojrave të fatit online të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transferon fonde në kartën e pagesës në dispozicionin e tyre, e cila më pas përdoret ose shit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142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grirja, Sekuestrimi dhe Konfiskimi i Fondeve nga 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nga platformat e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të krimit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ve të lojrave dhe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ERJA NËPËRMJET INTERNET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451320" y="45813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 nëpërmjet Internet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arrin të futet tek të dhënat e kartës së kompromentuar ose kredencialet bank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blen mallra (p.sh. Biletë avioni) duke përdorur kredencialet e kompromentua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nxjerr biletat e avionit në shitje në një faqe Interneti për ankand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kush e fiton ankandin dhe i dërgon pagesën keqbërës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dërgon biletat e avionit fituesit të ankand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t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e aktivitetit të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/kanë lidhje me ngrirjen, sekuestrimin dhe konfisk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5T05:26:57Z</dcterms:modified>
  <cp:revision>362</cp:revision>
  <dc:subject/>
  <dc:title>PowerPoint Presentation</dc:title>
</cp:coreProperties>
</file>