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80E-9597-49FE-8C6E-488BC34FC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3011-051A-4585-A67B-19B3F3BB08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DA4C-4D1F-4AF2-8568-F6EA29341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A9A1-84BE-4335-AD26-45577DECE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CC81-25D2-4FC3-BE60-C9500D4A2F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7DC8-8848-495B-AD9C-0CB75211A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F879-F8D3-4245-904D-8D1531B61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0E2-5382-4954-91E5-92121AB7A3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3729-A003-4332-8531-91CFD9D2C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0FEC-C309-4BCF-97C5-56E38B3C2F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C1BF-0639-4E83-8B67-C0DA65BF66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F1D-A738-43EC-8E84-CFC26CCAE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78FA-DF1C-4301-8EC6-93C4FE246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6FC-D779-4F2F-B0B9-56248623D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A13F-A079-44E2-B2CB-1E8D1D2E3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E488-72E7-44BC-9A2E-754A5DCF0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E4BB-3714-40FA-852C-C9C1018748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277B-13E5-4AC2-AA1A-5E2C5A99AB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B774-8ADF-47FA-A48D-B667239E25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21A-3C5F-4DCB-B0FD-E8255850E1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9EC8-9189-4442-9527-08EC937A0D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E91D-595C-4C70-90E7-86F969753C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E99-CBC6-467B-980A-EE69D17C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4271-9E8F-443B-B09F-F58FF23E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7F87-D8FB-44BD-AA7D-200AACD3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8EB-F3A2-4413-BA16-1A07CFE6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054-7B02-43DA-A54F-DE94ACCD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F67-51E5-4652-8D3C-C411F49B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03E-0A60-4345-8E65-AE1F11CB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41C-39F4-4B4E-9D3C-BAA7510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46A-3545-43D5-9F92-2B4E789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341-A166-4E3D-8C87-47B1C29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05B-062D-4AC3-9A38-5898D927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6ED-2C3C-4DCA-9399-20796ADD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6957-9A26-43C7-9570-23CEA05C10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të e Qarkullimit të Parave Kriminale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sioni 1.4.2/Ora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77724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RANSFERTAT BANKARE, MARRJA E KONTROLLIT TW/HAPJA E LLOGARIVE BANK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minelët kibernetikë vazhdojnë të mbështeten në shërbimet tradicionale bank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është veçanërisht e rëndësishme në çështjet që kanë të bëjnë me tërheqjen e parave nga llogaritë bankare të viktimë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tradicional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Brenda sektorit bankar tradicional, cilat teknika mund të përdoren për të fshehur burimet e fondeve të nxjerra nga llogaria bankare e viktimë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ransfertës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logaritë bankare të viktimave komprometohen përmes teknikave të ndryshme të krimit në Internet (p.sh. Nëpërmjet programeve phishing, malware për marrjen e paautorizuar të të dhëna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ërfitues të rinj i shtohen llogarisë bankare të viktimës dhe fondet transferohen në llogaritë e mushkave (ndërmjetësve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ndet tërhiqen në para kesh ose transferohen në destinacione të tje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nsfertat bëhen në sasi të vogla për të shmangur limitet e raportimi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truktura komplekse të transfertave të pakuptimta në llogaritë e mushkave (ndërmjetësve) përdoren për të fshehur burimin e fonde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brojtja e Klientë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2491920"/>
            <a:ext cx="822960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kontrollesh përdorin institucionet financiare për të parandaluar keqpërdorimin e kredencialeve bankare të kompromentuara onlin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3560" y="141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9970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e mund të përdoren për të demonstruar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ransfertave Bank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ransfertave bank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ËRHEQJET E PARAVE KE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sfidash paraqesin paratë kesh për keqbërësit kibernetikë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3500280"/>
            <a:ext cx="8229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Tërheqjes s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disa raste të krimit kibernetik, siç është krimi në lidhje me kartën e pagesave, të ardhurat nga krimet tërhiqen menjëherë në para kesh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ë raste të tjera, të ardhurat nga llojet e tjera të krimit transferohen në llogaritë e mushkave (ndërmjetësve), nga të cilat tërhiqen më pa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aratë kesh zakonisht rifuten në sistemin financiar përmes një shumëllojshmërie teknikash të tilla si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erja e kartave të debisë të llojeve të ndryshme (p.sh. Krediti i dyqaneve, krediti i telefonave celularë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ërdorimi i mushkave (ndërmjetësve) të parave ose llogaritë bankare të kompromentuar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ë kriminale të përdorimit të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ve të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Marrja/Hapja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a e par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rheqje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Tërheqjeve të Parave Ke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tërheqjeve të par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GESAT E SHËRBIMEVE NË 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Shërbim i Pagesave në Intern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Shërbimit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2420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ndet e fituara kriminalisht transferohen tek një llogari e Shërbimit të Pagesave në Intern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y altern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ërbimi i Pagesave në Internet ofron shërbime të ngjashme me një llogari bankare online, rast në të cilin përdoren tipologji të ngjashme me "transfertat bankare/krijimin/marrjen e kontrollit të llogarisë bankare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ndet e mbajtura me Shërbimin e Pagesave në Internet përdoren për të blerë produkte dhe shërbime në Interne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285228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rirja, sekuestrimi dhe konfiskimi i fondeve të Shërbimeve të Pagesa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350028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w lidhje me ngrirjen, sekuestrimin dhe konfiskimin e fondeve të mbajtura nga një ofrues i shërbimeve të pagesave në Intern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pjegoni tipologjitë e qarkullimit të parave kriminale të përdorimit t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tat Bankare, Hapja/marrja kontroll e Llogarive Bank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ërheqjet k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ërbimet e Pagesave në 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451320" y="450864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RUESIT E REMITANCA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2637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Çfarë mendon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Çfarë është një ofrues remitancas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i është problemi me ofruesit e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ë (me dijeni dhe pa dijeni) rekrutohen si mushka (ndërmjetës) në skemën e pastrimit, shpesh përmes ofertave të "punës në shtëpi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ë ardhurat nga krimi transferohen në llogaritë bankare të mushkave (ndërmjetësve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tërheq paratë dhe e transferon paranë kesh tek një përfitues të caktu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shka (ndërmjetësi) mban një pagesë si komision për kryerjen e këtij shërbimi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nsferimet zakonisht janë të një sasie më të ulët se kufiri i raportimit, për të shmangur zbulimi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ruesit e remitancave përdoren përsëri për të zhvendosur paratë drejt destinacionit përfundimt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pologjia e Bashkëpunimit për Ofrues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në identifikuar raste kur përdorimi i gjerë i ofruesve të remitancave të veçanta ka krijuar shqetësime rreth bashkëveprimit të mundshëm ose infiltrimit të këtyre biznese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8000" y="1267920"/>
            <a:ext cx="90360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burime provash mund të përdoren për të demonstruar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Përdorimit të Ofruesit të Remitanca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KUTIM: Cilat kompetenca procedurale janë të disponueshme / kanë lidhje me identifikimin / përdorimin e ofruesve të remitanc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Dori</cp:lastModifiedBy>
  <cp:lastPrinted>2016-05-18T07:38:13Z</cp:lastPrinted>
  <dcterms:modified xsi:type="dcterms:W3CDTF">2017-10-05T14:54:03Z</dcterms:modified>
  <cp:revision>324</cp:revision>
  <dc:subject/>
  <dc:title>PowerPoint Presentation</dc:title>
</cp:coreProperties>
</file>