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A0E4-26E3-464A-83A4-65B28B120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1D4D-5124-4CAA-87FD-E4E060C3E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0B92-CBD2-4C9C-9E03-9C8E56C9E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C1AB-BA89-4178-8377-1F0D676042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16D5-F623-4C8D-A4AD-149A880BA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680-A547-4DAC-954F-F08959D10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662-94FF-4203-8E6A-3ADB42868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75B4-06A1-45AD-A1C7-0F8BD7CDC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D29C-7E55-4E06-9414-59264FEF8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3C72-FF7E-4BB8-A17B-9C5B82ECC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508C-DE72-4578-8B03-1AB75CAEB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6644-CD8D-4CF1-AB78-33CF5F181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FF52-9881-45E6-BF37-2B20BC267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3777-CE36-482B-868A-54D1CD38F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498-3D16-4092-A191-704D04A81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F885-88B7-406C-8B94-78945271A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186E-750D-464E-992C-D71B254CE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96D3-B864-48F1-94D5-0A9BD8EE8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622D-4EDE-4466-839C-D9766BF8C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1115-8693-4153-B20B-94170A864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C3A5-F356-428C-BB05-9193B8BA9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E293-884B-4C6A-872F-523F4C6F8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ADD3-867D-4B43-B2C4-7C6F6FB94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1BEF-2C6F-4338-8FF7-967E1F94E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9F0E-2D2E-44AF-A27C-64C1849BE8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6D8F-8C54-4F23-AFF6-9E5812F94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1757-A04B-4CAC-A8AE-5D8FC896F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2E2-040A-4A07-82C2-4BD316EBB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C3E8-BE26-4581-9000-9E3121BEA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4E6C-8342-4EC8-B25B-E05103CA0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593-9F2B-4742-B111-C87C0F6F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146-2372-4EA5-8ACC-175F2A8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366-4150-482B-B674-EFD7ED60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780-51E2-4DE8-A2AC-6BC495E2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66C-23EF-4C2B-8243-87A65105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17F0-DF0A-46AF-A243-0832F6CA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6C2-4A94-4C86-AA29-32EDE773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CCA-8907-4418-A31D-2F72595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24B-7140-4B7B-85CF-25457205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470-4EA4-425C-8FE5-0C041422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087-8750-4C54-B103-F94E84F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044-F8EC-4F29-90C5-98C6813D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5371-34D1-4A64-AD6F-6522F23D0A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 Dyshuar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ta elektronike nuk dërgohet direkt nga një person tek një tjetë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ë dhënat e ruajtjes dhe përcjelljes së një mesazhi të caktuar të postës elektronike janë të lidhura me atë mesaz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Çdo person ka një server të postës në dalje dhe posta elektronike dërgohet siç tregohet në slajdin pa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zhi elektronik nuk dërgohet direkt nga një person tek një tjetë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do person ka një server të postës në dalje dhe në hyrje dhe mesazhi elektronik dërgohet dhe mbërrin siç tregohet në slajdin pa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2362320" y="434340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Kur Alisa klikon butonin SEND, mesazhi elektronik i saj zhvendoset nga kompjuteri i saj tek serveri i postës në dalje të Kompanisë Shërbimofruese e Internetit (I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ë pas, ISP-ja e Alisës e përcjell mesazhin elektronik nëpërmjet Interne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esazhi përcillet në serverin e postës në hyrje (POP3) të ISP së Bo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219640" y="4572000"/>
            <a:ext cx="186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erën tjetër që Bobi lidhet me ISP e tij, mesazhi elektronik i shkarkohet në kompjuerin e t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2508-1E32-41E6-BAA4-73D2A6118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mesazh elektronik përbëhet nga dy pjes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eu: përmban të dhëna se kush e dërgon mesazhin, për kë është, lëndën, datën, et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e sesi është ruajtur/përcjellë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pi: përmbajtja konkrete e mesazhit elektron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ë slajdin tjetër tregohet shembulli i një mesazhi me kre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ë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ë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ë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ë Dhënat e Shërbimofruesve Ndërkombë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ërbimofruesit Ndër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Facebook, Goog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jenë në gjendje t’ju thonë se cila adresë IP u përdor nga një abonent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dini Identifikimi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imin e përdoruesit t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Facebook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të dyshuari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rkohet zakonisht bashkëpunimi ndër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knikat e Hetimit të Masku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ëse tashm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eni një të dyshuar, teknikat e fshehta të hetimit (p.sh. përgjimi) mund të përdoren për të identifikuar adresë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t)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përd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nga i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DHJA E ADRESËS IP ME IDENTITETIN NË JETËN RE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930040"/>
            <a:ext cx="77724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LA ËSHTË ADRESA IME I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mund të lejojë identifikimin 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mpanisë Shërbimofruese të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ndodhjen gjeograf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freskim: Mësoni se ç’është një adresë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i të gjeni adresën IP të të dyshuar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e si të bëni lidhjen ndërmjet adresës IP të një të dyshuari dhe personit r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ditni tre sfida teknike për identifikimin e të dyshuarve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-të i mbajnë zakonisht të dhënat e abonentit që po përdorte një adresë IP të caktuar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gjatë mbahen kë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i mund të merr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to të dhëna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Çfarë përfshihet në marrjen e të dhënave t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nentëv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ë ISP-s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të zbuloni se cilës ISP t’i kërkoni të dhëna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dndodhja gjeografik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ga mendoni se vijnë të dhënat e vendndodhjes gjeograf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k ka absolutisht asnjë garanci besueshmëri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, jo gjithmonë të çojnë tek një person i caktu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sat IP Statike vs. Dinam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ërkthimi i Adresës së Rrjetit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a e aktivitetit është e rëndësish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pora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rporatat që përdorin Përkthimin e Adresës s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(NAT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kenë të dhëna që mundësojnë lidhjen ndërmjet aktivitetit të të dyshuarit me një adrese IP të brendshme specifik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si do të realizohet angazhimi me kompaninë do të varet nga legjislacioni 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rrallë ekzistojn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he sikur të gjeni kompjuteri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sh po e përdorte at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l i largët i kompjuter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ë aksesi WiF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im i VPN-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A SFIDA TEKNIKE TË TJ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fi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 të ndodhë një ngatërresë e qëllimshme apo e paqëllimshme, ligjshme apo e paligjshm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ë diskutojmë disa shembu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e anonimiz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në në dispozicion 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 dyja shërbime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 pagesë 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dhe fala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r të fshehur aktivitetin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 rrjeti anonimizues e fshehin specifikisht burimin e aktivitetit të navigimit në rrj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ërbimofruesit anonimizues të postës elektronike e fshehin dërguesin e mesazhit elektronik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t IP anonimizues i fshehin të gjitha burimet  e trafikut në Intern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mbull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: 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përbëhet nga katër numra ndërmjet 0 dhe 255, të ndarë me pik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 edhe një formë të re të adresave IP (versioni 6) që nuk do të diskutohet kë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p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e mundur që komunikimi të kriptohe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e e gjithë përmbajtja e të gjitha komunikimit mund të jetë e krip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jë teknikë pë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dhj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 një numri shumë të mad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uesish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e një adresë të vetme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Përdorur zakonisht për lidhjen në interne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rrje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 t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telefonisë celul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dresat IP janë identifiku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nevoj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, por j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mjaftue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aktivitetit online të një person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Lidhja e një adrese IP me një person real është shumë e vështirë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 t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eknologj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bërë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dhe më të vështir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gjurmimin e një personi në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Kudo që është e mundur, duhet të përdoren burime të tje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ash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ë mbështetur provat e adresës I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610440" y="4508640"/>
            <a:ext cx="192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 adresa IP nuk janë të vlefshme në Internet, për vetëm për përdorim (të brendshëm) priv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IKIMI I ADRESËS IP TË TË DYSHUAR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tiviteti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iteti online i një përdoruesi mund të prodhojë të dhë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ëto të dhëna mund të përmbajnë adresën IP të komunikimeve të përdorues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mund të jetë një pjesë e rëndësishme e informacionit për identifikimin e një të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 nevojshme por jo e mjaftuesh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ktiviteti i navigimit në rrjeti është dërgimi i kërkesave nga një përdorues tek një server rrjeti, dhe kthimi i përgjigjeve nga serveri i rrjetit tek përdorues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mati i kërkesave dhe përgjigjeve përshkruhet me anë të përdorimit të një protokolli të njohur si Protokolli i Transferimit të Hipertekstit (HTTP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akonisht, një server rrjeti regjistron të gjitha kërkesat në ardhje, duke përfshirë adresën IP nga e cila u dërgua kërke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640"/>
            <a:ext cx="8229600" cy="44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1:54Z</dcterms:modified>
  <cp:revision>305</cp:revision>
  <dc:subject/>
  <dc:title>PowerPoint Presentation</dc:title>
</cp:coreProperties>
</file>