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E108-FBF9-4A98-B756-08CE940A0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4ED5-CFFE-445B-A8A8-3F09E8975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49C2-4D86-4586-8D4A-E97318574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86D4-CF50-4522-8B62-1135F661DF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EE39-D0EC-453A-8F61-B58F83B3F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5C53-AAC4-49CB-94C2-16C7E1FA7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13EB-1D74-4CD7-84F3-C4C221E06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A95E-C216-4A09-B995-4F222CCF6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A5C2-B6FE-4559-8EBD-D725DE7C4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3460-F3A6-456B-A12A-C44541B25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A782-4E24-4BEE-BC93-C4A854F21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3BC0-4B05-4FD0-8F3E-06557281F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B58E-F48A-4127-9812-D63370DA9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96AD-A3D5-4833-BC77-28FB6FEB8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2C20-E6EC-4EB4-8791-2AB3344AB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CC9F-B53F-4AB8-877A-F869BFA41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B2A7-6576-48F2-A74C-613CCC0E0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8EDF-17DE-4626-8F5B-E1314063F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555D-246E-4D57-842D-4A1D2A145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6C28-61C8-415D-A20E-303A25F6A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D27B-3EEA-4610-BB66-253A140AB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8E72-E500-4C37-9A89-CAB6D2290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E598-DE26-44DF-8057-042B60CB7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7429-56C5-48F0-837F-B59FE713D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858B-8934-4815-A436-AC94D2A83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63D9-86ED-479B-93A3-61DACF50D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A941-31B0-4943-878D-0B642A752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D9C7-0FF9-4CFA-B3B3-2CE0544FD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0EC5-274D-4911-8119-8DBC0EB49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AFD6-81C1-44C1-8F0C-4EC9282E9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D03-1AD7-4956-9451-675D0DC0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913-19A5-44FF-8077-D2A8A473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219-3EAA-47E5-8237-589887BE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C8F-4EA8-4E5D-9183-376F1C4D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76B-89BF-4F62-853F-7A61810C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D77-10AD-49B8-9801-8C5BBA0B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13E-E2DD-450A-86FC-622DD216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A4A-4339-4C79-8EA5-E4AE0E35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3B0-3A77-41F6-893D-70B95E97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452-2A2F-4CBB-A8DB-371A87F0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BE3-8DEF-40E8-88C5-56386FB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8FB-34C9-4402-B190-162D5BE7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5071-3545-46E7-8238-29E76E9E92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të Dyshuar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oni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ta elektronike nuk dërgohet direkt nga një person tek një tjetë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 përdoret një teknikë e njohur si “ruaj dhe përcil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ë dhënat e ruajtjes dhe përcjelljes së një mesazhi të caktuar të postës elektronike janë të lidhura me atë mesaz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Çdo person ka një server të postës në dalje dhe posta elektronike dërgohet siç tregohet në slajdin pa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azhi elektronik nuk dërgohet direkt nga një person tek një tjetë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 përdoret një teknikë e njohur si “ruaj dhe përcill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Çdo person ka një server të postës në dalje dhe në hyrje dhe mesazhi elektronik dërgohet dhe mbërrin siç tregohet në slajdin pas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2362320" y="434340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Kur Alisa klikon butonin SEND, mesazhi elektronik i saj zhvendoset nga kompjuteri i saj tek serveri i postës në dalje të Kompanisë Shërbimofruese e Internetit (IS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ë pas, ISP-ja e Alisës e përcjell mesazhin elektronik nëpërmjet Internet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esazhi përcillet në serverin e postës në hyrje (POP3) të ISP së Bob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219640" y="4572000"/>
            <a:ext cx="186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erën tjetër që Bobi lidhet me ISP e tij, mesazhi elektronik i shkarkohet në kompjuerin e t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9243-6E05-4336-8D8D-9EA5520AC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mesazh elektronik përbëhet nga dy pjes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eu: përmban të dhëna se kush e dërgon mesazhin, për kë është, lëndën, datën, et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he sesi është ruajtur/përcjellë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pi: përmbajtja konkrete e mesazhit elektroni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ë slajdin tjetër tregohet shembulli i një mesazhi me kre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ë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ë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ë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ë Dhënat e Shërbimofruesve Ndërkombët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ërbimofruesit Ndërkombët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(Facebook, Goog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) 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 të jenë në gjendje t’ju thonë se cila adresë IP u përdor nga një abonent në një kohë të cak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het të dini Identifikimin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kimin e përdoruesit të rrjetit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Facebook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të dyshuari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ërkohet zakonisht bashkëpunimi ndër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knikat e Hetimit të Masku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ëse tashmë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eni një të dyshuar, teknikat e fshehta të hetimit (p.sh. përgjimi) mund të përdoren për të identifikuar adresë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t)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ë përd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nga i dyshu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DHJA E ADRESËS IP ME IDENTITETIN NË JETËN RE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2930040"/>
            <a:ext cx="77724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NSTRIM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LA ËSHTË ADRESA IME IP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e j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sa IP mund të lejojë identifikimin 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mpanisë Shërbimofruese të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dndodhjen gjeograf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freskim: Mësoni se ç’është një adresë 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shkruani si të gjeni adresën IP të të dyshuar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shkruani se si të bëni lidhjen ndërmjet adresës IP të një të dyshuari dhe personit re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ditni tre sfida teknike për identifikimin e të dyshuarve në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ë Dhënat e ISP-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-të i mbajnë zakonisht të dhënat e abonentit që po përdorte një adresë IP të caktuar në një kohë të cak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sa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gjatë mbahen kë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varet nga legjislacioni 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si mund të merren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ëto të dhëna varet nga legjislacioni 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ë Dhënat e ISP-ve: Pyet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Çfarë përfshihet në marrjen e të dhënave të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nentëve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të ISP-së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të zbuloni se cilës ISP t’i kërkoni të dhëna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ndndodhja gjeografike: Pyet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30682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ga mendoni se vijnë të dhënat e vendndodhjes gjeograf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k ka absolutisht asnjë garanci besueshmëri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e j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ithashtu, jo gjithmonë të çojnë tek një person i caktu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resat IP Statike vs. Dinam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ërkthimi i Adresës së Rrjetit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a e aktivitetit është e rëndësish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pora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rporatat që përdorin Përkthimin e Adresës së Rrjetit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(NAT) 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 të kenë të dhëna që mundësojnë lidhjen ndërmjet aktivitetit të të dyshuarit me një adrese IP të brendshme specifik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si do të realizohet angazhimi me kompaninë do të varet nga legjislacioni kombët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t rrallë ekzistojnë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he sikur të gjeni kompjuterin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sh po e përdorte atë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l i largët i kompjuter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kë aksesi WiF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dorim i VPN-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SA SFIDA TEKNIKE TË TJE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fid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d të ndodhë një ngatërresë e qëllimshme apo e paqëllimshme, ligjshme apo e paligjshm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ë diskutojmë disa shembuj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e anonimiz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në në dispozicion 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ë dyja shërbime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 pagesë 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dhe fala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ër të fshehur aktivitetin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rvera rrjeti anonimizues e fshehin specifikisht burimin e aktivitetit të navigimit në rrje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ërbimofruesit anonimizues të postës elektronike e fshehin dërguesin e mesazhit elektronik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rverat IP anonimizues i fshehin të gjitha burimet  e trafikut në Interne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mbull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: 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resa IP (versioni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sa IP përbëhet nga katër numra ndërmjet 0 dhe 255, të ndarë me pik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 edhe një formë të re të adresave IP (versioni 6) që nuk do të diskutohet kë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ipti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30682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e mundur që komunikimi të kriptohe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e e gjithë përmbajtja e të gjitha komunikimit mund të jetë e krip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708280"/>
            <a:ext cx="82296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jë teknikë pë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dhjen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e një numri shumë të mad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doruesish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e një adresë të vetme 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Përdorur zakonisht për lidhjen në interne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ë rrje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 të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telefonisë celul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dresat IP janë identifiku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nevojs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m, por jo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mjaftues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aktivitetit online të një person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Lidhja e një adrese IP me një person real është shumë e vështirë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a t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eknologj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për 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bërë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dhe më të vështir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gjurmimin e një personi në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Kudo që është e mundur, duhet të përdoren burime të tje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ash 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për të mbështetur provat e adresës I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610440" y="4508640"/>
            <a:ext cx="192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resa IP (versioni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 adresa IP nuk janë të vlefshme në Internet, për vetëm për përdorim (të brendshëm) priv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IKIMI I ADRESËS IP TË TË DYSHUAR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tiviteti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iviteti online i një përdoruesi mund të prodhojë të dhë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ëto të dhëna mund të përmbajnë adresën IP të komunikimeve të përdorues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jo mund të jetë një pjesë e rëndësishme e informacionit për identifikimin e një të dyshu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 nevojshme por jo e mjaftueshm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ktiviteti i navigimit në rrjeti është dërgimi i kërkesave nga një përdorues tek një server rrjeti, dhe kthimi i përgjigjeve nga serveri i rrjetit tek përdorues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mati i kërkesave dhe përgjigjeve përshkruhet me anë të përdorimit të një protokolli të njohur si Protokolli i Transferimit të Hipertekstit (HTTP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Zakonisht, një server rrjeti regjistron të gjitha kërkesat në ardhje, duke përfshirë adresën IP nga e cila u dërgua kërke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640"/>
            <a:ext cx="8229600" cy="44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8T07:21:54Z</dcterms:modified>
  <cp:revision>305</cp:revision>
  <dc:subject/>
  <dc:title>PowerPoint Presentation</dc:title>
</cp:coreProperties>
</file>