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BB3-558F-4175-92ED-05689D5D2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B91-F601-4C77-ACB1-E7B1DEEED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B0F-E20C-452F-957C-D9F8C6898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DF2-D7A3-4257-9282-929AB378E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EA51-7B7A-4B7F-8FFF-8CABDC571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F545-687D-4C82-A23B-CB558A9E2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930E-664D-4295-947A-4BBC7ABFC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72F-CE59-4B3F-BCFF-98A8415D6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8F3-AE14-4E1F-BFFC-1829E76DB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EF28-5FD9-4896-B528-3ED0BB7B2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FF9-876E-49C7-AEE4-58CB641E1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055-50FA-4557-8903-ECCC30F82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55E-92F8-491F-8CBC-C90EA2980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4639-DB9E-442E-8663-3A6C66A8F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40AE-74FB-486D-8041-9C1B510AC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2F9-1771-4E3C-B8DB-C9443DCF2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D2F-C10F-452D-BE9D-7581AA867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1C99-47D1-45E1-A05E-752A95E92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21B-6CDD-4195-8EB7-3B3F35C57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AC4-C9FA-439A-8497-3C5B2AF7C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F54-0EDA-40E9-8398-4AA539402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FE33-D645-40BB-93D6-7EFAC6728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C1CC-B4BA-49F8-B192-47586C90B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C60-7247-4858-A041-BD7F90D84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B8A-3389-4C1F-871E-072928FC6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E06F-D147-451E-A995-CCE41C4C5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84D2-8ADD-40C2-BD1D-0CAEEAC1F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5F9-91BD-40EA-8CD2-EAB88E775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F25-17AF-44A7-86E8-2B02A411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ED4-05A1-4B9A-B271-CEE4362D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E35-70FA-493F-9503-7F8D892D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178-1247-424C-9F32-4AF88B8C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A51-5171-43D7-B7D4-63BA47F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972-2FCA-4127-82CC-9AAA6DA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A55-2069-4083-B1C5-240F6A26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89E-4ED5-4094-BB9B-C7411CB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95F-F53B-455C-8001-AAED543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4C9-93D4-4320-87DE-94D0B80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4F0-13D0-4DDC-94F9-F64FB25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86B-E6D5-4305-AB29-2ABA008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B78-CA46-4496-A844-08C96A66B4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pentenca procedurale janë të disponueshme / kanë lidhje me identifikimin / aktivitet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imet ndërkombëtare të llojeve të ndryshme përdoren nga kriminelët për ta bërë më të vështirë gjurmimin e të ardhurave nga kri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tat ndërkombëtare mund të realizohen me anë të llogarive bankare, monedhave virtuale, shërbimeve të pagesave në Internet, shërbimeve të remitancave, e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sfida lindin në hetimin, kontrollin, sekuestrimin dhe konfiskimin e fondeve kriminale kur fondet janë transferuar ndërkombëtaris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marrin kontrollin e (për shembull) llogarisë bankare të kompromentuar të klien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tek mushkat (ndërmjetësit) në të njëjtin juridik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t (ndërmjetësit) transferojnë fondet me transfertë bankare ndërkombëtare tek një person juridik ose fizik në një juridiksion tjetë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25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I: Cilat janë kompetencat procedural janë në dispozicion / kanë lidhje me identifikimin /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al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monedha virtuale dhe para elektronike njih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ë virtu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jë monedhë virtuale është një përfaqësim digjital i vlerës që mund të tregtohet në Internet dhe funksionon si (1) mjet shkëmbimi; (2) njësi e llogarisë; dhe / ose (3) një aset me vlerë, por nuk ka statusin e parave zyrtare në asnjë juridik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atë elektronik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virtuale dallon nga paraja elektronike, e cila është një përfaqësim digjital i monedhës fiat që përdoret për të transferuar në mënyrë elektronike vlera të denominuara në monedhën fiat. Paraja elektronike është një mekanizëm transferimi digjital për monedhën fiat – d.m.th transferon në mënyrë elektronike vlerën që ka statusin e monedhës së ligjsh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a digjit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digjitale është një përfaqësim digjital ose i monedhës virtuale (jo-fiat) ose e parave elektronike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ve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ve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la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 mendoni se është rëndësia e shprehjes "përfaqësim digjital" në përkufizimet e mësipë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imi i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jë monedhë virtuale e konvertueshme ka vlerë ekuivalente në monedhën reale dhe mund të shkëmbehet për valutë reale. Shembuj: Bitcoin, Second Life Linden Dollars, webMone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pa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jë monedhë virtuale e pa konvertueshme ka për qëllim të jetë specifike për një fushë ose botë të veçantë virtuale, dhe sipas rregullave që rregullojnë përdorimin e saj nuk mund të shkëmbehet me valutë fiat. Shembuj: Q Coins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centralizuara kanë një autoritet të vetëm administrativ (p.sh. një palë të tretë) që kontrollon sistemin. Administratori lëshon monedhën, përcakton rregullat për përdorimin e saj, mban një regjistër qendror të pagesave dhe ka autorizim për të riblerë monedhën. Shembuj: Linden Dollars, WebMoney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de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decentralizuara janë monedha virtuale shpërndahen bazuar në matematikë, nga një përdorues tek tjetri, që nuk kanë autoritet qendror administrimi, pa monitorim qendror dhe pa mbikëqyrje. Shembuj: Bitcoin, LiteCoin, Ri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tcoin është një monedhë virtuale e decentralizuar dhe e konvertuesh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bëhen ndërmjet përdoruesve pa ndërmjetë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verifikohen duke përdorur një regjistër publik të shpërndarë, të quajtur blockch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ërkimi për Bitcoin është procesi përmes të cilit përdoruesit ofrojnë fuqinë e tyre informatike për të verifikuar dhe regjistruar transaksionet me bitcoin në regjistrin blockchain. Për këtë, përdoruesit marrin një shpërblim me bitcoins të sapo kriju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globale të mund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 virtualisht të menjëhershme (rreth 10 minuta deri sa të konfirmohet transaksion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kryhen ndërmjet ID-ve anonime (portofolet digjita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ifa të ulëta (ose zero) për transaksio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nuk janë të kthye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ompjuteri i Klien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595480" y="353232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rtofoli Digjital për Bitc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5816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rastruktura 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9"/>
          <p:cNvSpPr/>
          <p:nvPr/>
        </p:nvSpPr>
        <p:spPr>
          <a:xfrm>
            <a:off x="7551000" y="61992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sh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dërmjetë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2555280" y="60912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qbërë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dorimi Kriminal i Monedhës Virtuale: Programi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këmbim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ministrator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ërdoruesi/pronar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ëshuesi i monedhë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tofoli i Monedhës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ruesi i portofolit digjit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gtarë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te të tjera (zhvilluesit e programeve kompjuterike etj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ërfaqja midis monedhave virtuale dhe sistemit tradicional financi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e fituara në mënyrë kriminale konvertohen në monedhën virtua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shërbimet kriminale paguhen në monedhën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fondet nxirren nga viktimat në formën e monedhës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dha virtuale tregtohet ose shkëmbehet për monedhën fia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kak të rregullimit jo konsistent të valutave virtuale, shkëmbimet virtuale të monedhave në të gjitha juridiksionet mund të mos kenë të dhëna adekuate të klientëve dhe / ose detyrime raport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36446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janë kompetencat procedurale që janë të disponueshme / kanë lidhje me identifikimin /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t e parave (ndërmjetësit) janë një komponent i rëndësishëm i shumë skemave të pastrimit të parav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a rekrutohen me një shumëllojshmëri teknikash, që mund të kategorizohen gjerësisht në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vullnetshme, që rekrutohen duke e ditur paraprakisht se po marrin pjesë në aktivitet të paligjshë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pa vullnetshme, që rekrutohen me mashtrim, si p.sh. me anë të një oferte punësimi të rre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vullnetshme vs. të pa vullnetsh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24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ët rekrutohen ose me dëshirë ose pa dëshi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në llogarinë bankare të mushk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ë pas mushka (ndërmjetësi) ose i tërheq fondet në kesh ose i transferon tek një llogari tjetër (ose jashtë shtet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 (ndërmjetësi) mban një kom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lera e arrestimit /akuzimit të mushk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mushkë par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KUTIM: Cili është problemi me mushkat e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6:13Z</dcterms:modified>
  <cp:revision>358</cp:revision>
  <dc:subject/>
  <dc:title>PowerPoint Presentation</dc:title>
</cp:coreProperties>
</file>