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A863A-DD4F-4382-A735-6972B381B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tr-T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16C5CE-E727-460C-8875-836A7F73A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Daha önceki bütün derslerde olduğu gibi bu ders de başlangıcında belirtilen gündem ve oturum amaçlarına benzer bir şekilde düzenlenmelidi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E1D015-0948-413C-AC9A-71D8D9512E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9E957-B69D-4D52-992D-2E7152D5203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8BCE-090F-4C60-A8BC-165BE39A0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66D0-4771-4E8D-9DFC-2BBBE350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EE6A-C8F5-406C-B636-B0128655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668-487E-46EB-B098-7EE448F66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989F-32FD-4973-A80C-87316634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3A3C-4B50-4DCD-8A42-C5C77681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A619-D9B6-448A-B63A-D22173D6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CF1F-B9B4-4C40-9F9B-3DDA2040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A9C4-83FD-4A4F-B8F9-9D55B404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09F1-75FE-45D9-9DC8-33CDD14E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58D0-561C-425F-9E30-7A3E6736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688-52BC-429D-9F9E-A224656C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3E789E-E353-4307-BB73-027F9A3D83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lker.com/clipart-10842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898989"/>
                </a:solidFill>
                <a:latin typeface="Calibri"/>
              </a:rPr>
              <a:t>Oturum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1.2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3200" spc="-1" strike="noStrike">
                <a:solidFill>
                  <a:srgbClr val="898989"/>
                </a:solidFill>
                <a:latin typeface="Calibri"/>
              </a:rPr>
              <a:t>Günlük Gözden Geçir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COE.png"/>
          <p:cNvPicPr/>
          <p:nvPr/>
        </p:nvPicPr>
        <p:blipFill>
          <a:blip r:embed="rId1"/>
          <a:stretch/>
        </p:blipFill>
        <p:spPr>
          <a:xfrm>
            <a:off x="1517760" y="552600"/>
            <a:ext cx="6108480" cy="1104840"/>
          </a:xfrm>
          <a:prstGeom prst="rect">
            <a:avLst/>
          </a:prstGeom>
          <a:ln w="0">
            <a:noFill/>
          </a:ln>
        </p:spPr>
      </p:pic>
      <p:sp>
        <p:nvSpPr>
          <p:cNvPr id="50" name="Title 1"/>
          <p:cNvSpPr/>
          <p:nvPr/>
        </p:nvSpPr>
        <p:spPr>
          <a:xfrm>
            <a:off x="838080" y="228276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Calibri"/>
              </a:rPr>
              <a:t>Hakimler ve Savcılar İçin İleri Düzey Bilişim Suçları Eğiti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1235160"/>
            <a:ext cx="85122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Dersin sonunda öğrencile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bir önceki günün faaliyetlerin anlaşım oldukları kısımlarını belirleyebilecek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Calibri"/>
              </a:rPr>
              <a:t>bilgilerinin gerekli düzeye getirilmesi için belgeleri gözden geçirmeleri gereken alanları belirleyebileceklerdi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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Oturumun Amaçlar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Calibri"/>
              </a:rPr>
              <a:t>Günd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420920"/>
            <a:ext cx="8513640" cy="46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4100" spc="-1" strike="noStrike">
                <a:solidFill>
                  <a:srgbClr val="000000"/>
                </a:solidFill>
                <a:latin typeface="Calibri"/>
              </a:rPr>
              <a:t>Birinci Günün Konuları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Kursun Açılışı ve Tanış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unu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Bir Soruşturmanın Geliştirilme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oruşturmalar Hakkında Grup Çalışmas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Sunum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Uluslar arası İşbirliğ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Uluslar arası İşbirliği Hakkında Grup Çalışmas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Calibri"/>
              </a:rPr>
              <a:t>Zanlının Belirlenmesi Konusunda Grup Çalışmas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6" descr="Question Mark Clip Ar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43160" y="1357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3083760" y="4500720"/>
            <a:ext cx="223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tr-TR" sz="5400" spc="-1" strike="noStrike">
                <a:solidFill>
                  <a:srgbClr val="000000"/>
                </a:solidFill>
                <a:latin typeface="Calibri"/>
              </a:rPr>
              <a:t>Sorul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0T11:04:42Z</dcterms:created>
  <dc:creator>OPERATOR</dc:creator>
  <dc:description>Uğur Mumucu Caddesi Kırçiçeği Sokağı No: 8/2
TR-06700 G.O.P Çankaya/ANKARA
Fax: +90-312- 441 91 05</dc:description>
  <cp:keywords>www.erenoglu.com.tr</cp:keywords>
  <dc:language>en-US</dc:language>
  <cp:lastModifiedBy>OPERATOR</cp:lastModifiedBy>
  <dcterms:modified xsi:type="dcterms:W3CDTF">2013-08-05T07:04:16Z</dcterms:modified>
  <cp:revision>15</cp:revision>
  <dc:subject>ERENOGLU CONSULTANCY, TRANSLATION AND FOREIGN TRADE LTD CO.</dc:subject>
  <dc:title>ERENOĞLU DANIŞMANLIK TERCÜMANLIK VE DIŞ TİCARET LTD. ŞTİ.</dc:title>
</cp:coreProperties>
</file>