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8.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327F6E-6798-4827-B113-B81700C9F7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467B1C-C380-41D5-BEA2-74A34C4152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ff0000"/>
                </a:solidFill>
                <a:latin typeface="Calibri"/>
              </a:rPr>
              <a:t>Örneğin bazı olaylarda ekonomik nitelikli bilişim suçları, şiddet suçlarının yaygın olduğu ve bilgi teknolojisi altyapısı ve bilincinin düşük olduğu ülkelerin öncelikler listesinde çok alt sıralarda yer alabilir. Diğer yandan organize suçlara ve terörizmle ilgili bilişim suçlarına yaklaşım, tamamen farklı bir öneme sahip olabilir. Sonuç olarak bilişim suçları olaylarına düşük öncelik verilebilir. Geçmişte benzer durumlarda hiç işbirliği yapmamış veya çok az işbirliği yapmış olan “kötü şöhretli” ülkeler söz konusu olduğunda ilave bir sorun ortaya çıkabili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4A765C-AFDF-4CBC-A6F4-69E3649FC3C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EBABFB-52DC-4027-866F-36D1185D7B5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592EF7-1A00-404F-B57D-FBFDFA380A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476453-DFA0-4EBA-A1DC-23EDCBECC0D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335EBC-DC0E-4F82-A3AA-7C78DEB9F1D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CC1350-BB82-4B6F-9B88-792E858E3F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44DE58-3DF3-48D3-A053-78526A6C805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0159C-3D5E-4838-8009-9AAF73197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EF43D-8ED6-4402-A730-6A1244A0A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09608-96DA-4E1C-94F6-61D161CBD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1619B-CA58-4670-A0DF-2BE713B1D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C417F-FBF6-4B3D-86E4-E0FBA3004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9D388-643A-499D-8864-1EC1FF5C6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084F7-94E6-450A-B6AD-351AA2A80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E166B-30EB-4847-8A0F-7676CD822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966D7-4572-4B55-9DC3-D0456E738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8FE65-A52A-4B7E-BB59-F5EBDD651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E6854-69A5-48C0-BFC1-B312D1A35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EE8B2-2BC0-4891-8977-D7818B146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EE7682-0EA0-4C48-BFE1-50F03DC117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400" spc="-1" strike="noStrike">
                <a:solidFill>
                  <a:srgbClr val="000000"/>
                </a:solidFill>
                <a:latin typeface="Calibri"/>
              </a:rPr>
              <a:t>Hakimler ve Savcılar İçin İleri Düzey Bilişim Suçları Eğitim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a6a6a6"/>
                </a:solidFill>
                <a:latin typeface="Calibri"/>
              </a:rPr>
              <a:t>Uluslararası İşbirliği</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a6a6a6"/>
                </a:solidFill>
                <a:latin typeface="Calibri"/>
              </a:rPr>
              <a:t>Oturumu</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Elektronik kanıtlar için: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Elde edilecek elektronik kanıtları mümkün olduğu kadar ayrıntılı belirtin, mevcut olduğu taktirde talep edilen kanıtlara ilişkin gerekli teknik bilgileri verin (sunucu/sistem tarihi, zaman çerçevesi IP ve MAC adresleri, e-mail adresleri, kullanıcı hesap bilgileri, vs. gibi kimlik belirleme bilgileri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Varlıkların bulunabileceği yeri ve ayrıntıları ya da bunlara el koymuş olan kişi veya kuruluşu belirti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ir arama emrinin uygulanması için: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 </a:t>
            </a:r>
            <a:r>
              <a:rPr b="0" lang="tr-TR" sz="2400" spc="-1" strike="noStrike">
                <a:solidFill>
                  <a:srgbClr val="000000"/>
                </a:solidFill>
                <a:latin typeface="Calibri"/>
              </a:rPr>
              <a:t>yerli adli makam tarafından düzenlenmiş geçerli arama emrini ekley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ranacak yerleri ve eşyaları kesin olarak belirt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ramanın yapılması sırasında uyulması gereken ayrıntılı kuralları belirt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ranacak kanıtlar hakkında kesin bilgiler veri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El koyma/müsadere için: </a:t>
            </a:r>
            <a:endParaRPr b="0" lang="en-US" sz="32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Ülkedeki adli makam tarafından düzenlenmiş olan geçerli el koyma veya müsadere emrinin bir suretini verin</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El konulacak / müsadere edilecek eşyaların kesin tanımı</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Aramanın yapılması sırasında uyulması gereken özel kuralları belirti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 </a:t>
            </a:r>
            <a:endParaRPr b="0" lang="en-US" sz="32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Özel soruşturma önlemleri için: </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 </a:t>
            </a:r>
            <a:r>
              <a:rPr b="0" lang="tr-TR" sz="2400" spc="-1" strike="noStrike">
                <a:solidFill>
                  <a:srgbClr val="000000"/>
                </a:solidFill>
                <a:latin typeface="Calibri"/>
              </a:rPr>
              <a:t>ülkedeki yetkili adli makam tarafından düzenlenmiş olan SIMs ile ilgili geçerli emrin bir suretini verin </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lınacak önlemlerin kapsamını ve özelliğini belirtin</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erine getirilmesi gereken özel şartları belirtin – gizli görevdeki ajanların kimliği/kimliklerinin gizli tutulması, teknik ve lojistik  gereksinimler, masrafların ve giderlerin karşılanması, belirtilen haberleşme kanalları, vs. </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Gerektiği taktirde bir JIT anlaşması imzalanmasını sağlayı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ütün gizlilik şartlarını açıklayı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lebin karşılanmasına ilişkin aciliyet seviyesini ve ayrıca süre sınırlamalarını belirleyin ve açıklayı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Zanlının veya zanlıların kimliklerinin mümkün olduğu ölçüde doğru ve kesin şekilde belirtilmesi – bunun sanal bir dünya olduğunu unutmayın – kimlik, kolaylıkla saklanabilir, değiştirilebilir veya çalınabili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MLA tarafından talep edilecek kanıtların doğru bir şekilde belirlenmesi ve önceliklendirilmesi – önceliklerin belirlenmesi – sadece çok önemli olanların soruşturma için seçilmesi – kaynakların rasyonelleştirilmesi ve verimliliğin artırılmas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Özellikle dijital verilerin güvence altına alınması ve muhafaza edilmesi için acil önlem alınacak “sıcak takip” vakaları için diğer ülkede uygun irtibat görevlilerinin belirlenmesi (Budapeşte Sözleşmesi ışığında 24/7 irtibat görevlileri, İnterpol kanalları, vs.).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İlgili meslektaşların gelecek MLC konusunda bilgilendirilmesi amacıyla resmi MLA sunulmasından önce onlarla gayrı resmi temaslar kurulması, talebin mümkün olduğu kadar ayrıntılı bir şekilde açıklanması için operasyonel kontroller yapılması.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82" name=""/>
          <p:cNvSpPr txBox="1"/>
          <p:nvPr/>
        </p:nvSpPr>
        <p:spPr>
          <a:xfrm>
            <a:off x="457200" y="1599840"/>
            <a:ext cx="8229600" cy="503388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Elektronik verilerin kime ait olduğu, sunucu/sağlayıcının fiziksel yeri ve sunucu/sağlayıcı sahiplerinin yasal ikamet yeri (sunucuların bir ülkede bulunması veya farklı bir ülkede kayıtlı olan ve burada faaliyet gösteren sahiplerin söz konusu olduğu bulut (dağıtık) bilgi işlem vakası) gibi tamamen teknolojik hususları dikkate alarak kanıt / suçlular / mağdurlar açısından yargı yetkisinin uygun şekilde belirlenmesinin sağlanması</a:t>
            </a:r>
            <a:endParaRPr b="0" lang="en-US" sz="2400" spc="-1" strike="noStrike">
              <a:solidFill>
                <a:srgbClr val="000000"/>
              </a:solidFill>
              <a:latin typeface="Calibri"/>
            </a:endParaRPr>
          </a:p>
          <a:p>
            <a:pPr marL="343080" indent="-343080">
              <a:spcBef>
                <a:spcPts val="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Farklı zaman dilimleri – modern iletişim araçlarının (yani telekonferanslar) kullanılması durumunda bile irtibat kurulmasındaki güçlükler – Bu, soruşturmayı/MLA taleplerini geciktirebilir ve masrafları artırabilir. Bazı emniyet müdürlükleri ve savcılıklar, hala uluslar arası telefon görüşme yapma imkanına sahip değild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elgelerin tercüme edilmesi – bir çok devlet, MLA’ların kendi resmi lisanlarına tercüme edilmesini talep etmektedir.</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Güvenlik görevlileri ve savcılar arasında doğrudan ve gayrı resmi temaslar sırasında lisan engeller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Farklı ülkelerde bilişim suçları soruşturmalarının farklı önem düzeyleri nedeniyle yaşanabilecek gecikmelere hazırlıklı olu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lepte bulunulan tarafın talebinizi karşılama kapasitesi olmaması halinde teknik ve uzman yardımı sağlamayı düşünebilirsiniz.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6840" y="1235160"/>
            <a:ext cx="8512200" cy="4890960"/>
          </a:xfrm>
          <a:prstGeom prst="rect">
            <a:avLst/>
          </a:prstGeom>
          <a:noFill/>
          <a:ln w="0">
            <a:noFill/>
          </a:ln>
        </p:spPr>
        <p:txBody>
          <a:bodyPr anchor="t">
            <a:normAutofit/>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Bu oturumda katılımcılar: </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İşlenmiş olabilecek suçların birçoğunun soruşturulması için uluslar arası işbirliği gereksinimini belirleyecekler; </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Uluslar arası işbirliği konusundaki kanalları ve mevcut araçları, bunların kullanılma şekillerini, zaman çizelgelerini ve mevcut olan işbirliği yöntemlerinin etkinliğini belirleyecekler; </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Bilişim Suçları Hakkındaki Budapeşte Sözleşmesi’nde tanımlanan işbirliği mekanizmalarının avantajlarını tartışacaklar ve bunun genel ilkelerini, geçici önlemleri ve 24/7 ağı belirleyeceklerdir.</a:t>
            </a:r>
            <a:endParaRPr b="0" lang="en-US" sz="2600" spc="-1" strike="noStrike">
              <a:solidFill>
                <a:srgbClr val="000000"/>
              </a:solidFill>
              <a:latin typeface="Calibri"/>
            </a:endParaRPr>
          </a:p>
        </p:txBody>
      </p:sp>
      <p:sp>
        <p:nvSpPr>
          <p:cNvPr id="5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Oturumun Amaçları</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Mümkün olduğunda konvansiyonel/geleneksel soruşturma araçları ve önlemleri talep etmeyi ve kullanmayı düşünün. Polis memurları/savcılar, buna daha alışıktır ve bazen, başarılı bir soruşturma ve cezai kovuşturma için aynı derecede amaca hizmet edebilirler ve yeterli kanıtlar sağlayabilirler.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0"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İkinci Bölüm</a:t>
            </a:r>
            <a:br>
              <a:rPr sz="3200"/>
            </a:br>
            <a:r>
              <a:rPr b="1" lang="tr-TR" sz="3200" spc="-1" strike="noStrike">
                <a:solidFill>
                  <a:srgbClr val="000000"/>
                </a:solidFill>
                <a:latin typeface="Calibri"/>
              </a:rPr>
              <a:t>Genel Uluslararası İşbirliği Mekanizmaları</a:t>
            </a:r>
            <a:endParaRPr b="0" lang="en-US" sz="32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1341360"/>
            <a:ext cx="8229600" cy="5168880"/>
          </a:xfrm>
          <a:prstGeom prst="rect">
            <a:avLst/>
          </a:prstGeom>
          <a:noFill/>
          <a:ln w="0">
            <a:noFill/>
          </a:ln>
        </p:spPr>
        <p:txBody>
          <a:bodyPr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tr-TR" sz="3200" spc="-1" strike="noStrike">
                <a:solidFill>
                  <a:srgbClr val="000000"/>
                </a:solidFill>
                <a:latin typeface="Calibri"/>
              </a:rPr>
              <a:t>Ceza İşlerinde Karşılıklı Yardım 1959 Avrupa Sözleşmes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udapeşte Sözleşmesi’nin temelini oluşturmaktadı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vrupa Konseyi’ne Üye Devletlerin tamamı (San Marino dışında) bunu onaylamıştı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udapeşte Sözleşmesi’nin bütün tarafları içinde Amerika Birleşik Devletleri, 1959 Sözleşmesi’nin üye olmayan yegane tarafıdır. </a:t>
            </a:r>
            <a:endParaRPr b="0" lang="en-US" sz="3200" spc="-1" strike="noStrike">
              <a:solidFill>
                <a:srgbClr val="000000"/>
              </a:solidFill>
              <a:latin typeface="Calibri"/>
            </a:endParaRPr>
          </a:p>
        </p:txBody>
      </p:sp>
      <p:sp>
        <p:nvSpPr>
          <p:cNvPr id="94" name="PlaceHolder 2"/>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Avrupa Konsey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593280" y="2017440"/>
            <a:ext cx="8093160" cy="4459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dli irtibat görevlileri ağı</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Atl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Uygulayıcıların, her Üye Devlette bir karşılıklı hukuki yardım talebini alacak ve yerine getirecek yetkili yerel yetkiliyi derhal belirlemelerine imkan verir</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İrtibat görevlileri</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Üye Devletler arasında adli işbirliğinin kolaylaştırılması ile görevli etkin aracılardır</a:t>
            </a:r>
            <a:endParaRPr b="0" lang="en-US" sz="2800" spc="-1" strike="noStrike">
              <a:solidFill>
                <a:srgbClr val="000000"/>
              </a:solidFill>
              <a:latin typeface="Calibri"/>
            </a:endParaRPr>
          </a:p>
        </p:txBody>
      </p:sp>
      <p:sp>
        <p:nvSpPr>
          <p:cNvPr id="96" name="PlaceHolder 2"/>
          <p:cNvSpPr>
            <a:spLocks noGrp="1"/>
          </p:cNvSpPr>
          <p:nvPr>
            <p:ph type="title"/>
          </p:nvPr>
        </p:nvSpPr>
        <p:spPr>
          <a:xfrm>
            <a:off x="457200" y="274320"/>
            <a:ext cx="8229600" cy="1230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Cezai Konularda Avrupa Adli Ağı</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6840" y="1620720"/>
            <a:ext cx="8459640" cy="4964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Üyelerine yardımcı olmak iç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Sürekli olarak (günde 24 saat, haftada 7 gü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ütün dünyada 120’den fazla referans görevlisi (Eylül 2011)</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Budapeşte Sözleşmesi’nin 24/7 irtibat görevlileri düzenlemesini benimsemiştir</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Sözleşme’nin bazı tarafları, Interpol – NCRP ve aynı zamanda G8 İrtibat Görevlileri Ağına aynı referans görevlilerini atamıştır</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G8 irtibat görevlileri, bu ağa dahil edilmiştir</a:t>
            </a:r>
            <a:endParaRPr b="0" lang="en-US" sz="22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maç</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Polisin diğer ülkelerdeki uzmanları en kısa süre içinde belirleyebilmesini sağlamak</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Bilgisayarla ilgili soruşturmalarda ve kanıtların toplanmasında en kısa süre içinde yardım alınması</a:t>
            </a:r>
            <a:endParaRPr b="0" lang="en-US" sz="2200" spc="-1" strike="noStrike">
              <a:solidFill>
                <a:srgbClr val="000000"/>
              </a:solidFill>
              <a:latin typeface="Calibri"/>
            </a:endParaRPr>
          </a:p>
        </p:txBody>
      </p:sp>
      <p:sp>
        <p:nvSpPr>
          <p:cNvPr id="98" name="PlaceHolder 2"/>
          <p:cNvSpPr>
            <a:spLocks noGrp="1"/>
          </p:cNvSpPr>
          <p:nvPr>
            <p:ph type="title"/>
          </p:nvPr>
        </p:nvSpPr>
        <p:spPr>
          <a:xfrm>
            <a:off x="457200" y="171360"/>
            <a:ext cx="8229600" cy="1262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Interpol Ulusal Merkez Referans Görevlileri – NCR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1433520"/>
            <a:ext cx="8229600" cy="504360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Polis bilgileri ile teknik ve operasyonel destek sağlanması ve değişim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Tipik polis bilgilerinin mümkün olan en kısa süre içinde değişiminin sağlanması</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Terör zanlıları, aranan kişiler, parmak izleri, DNA profiller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Kayıp veya çalınmış seyahat belgeleri, çalınmış motorlu araçlar, çalınmış sanat eserler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Diğer</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şağıdakilerin acil olarak talep edilmesi amacıyla kullanılamaz</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lgisayar verilerinin muhafaza edilmes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veya akış verilerinin muhafaza edilmes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veya kanıtların elde edilmesi veya korunmasına yönelik her türlü önlem</a:t>
            </a:r>
            <a:endParaRPr b="0" lang="en-US" sz="2000" spc="-1" strike="noStrike">
              <a:solidFill>
                <a:srgbClr val="000000"/>
              </a:solidFill>
              <a:latin typeface="Calibri"/>
            </a:endParaRPr>
          </a:p>
        </p:txBody>
      </p:sp>
      <p:sp>
        <p:nvSpPr>
          <p:cNvPr id="100" name="PlaceHolder 2"/>
          <p:cNvSpPr>
            <a:spLocks noGrp="1"/>
          </p:cNvSpPr>
          <p:nvPr>
            <p:ph type="title"/>
          </p:nvPr>
        </p:nvSpPr>
        <p:spPr>
          <a:xfrm>
            <a:off x="457200" y="171360"/>
            <a:ext cx="8229600" cy="1262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NCR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2"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16080" y="2374560"/>
            <a:ext cx="8432640" cy="15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Üçüncü Bölüm</a:t>
            </a:r>
            <a:br>
              <a:rPr sz="3200"/>
            </a:br>
            <a:r>
              <a:rPr b="1" lang="tr-TR" sz="3200" spc="-1" strike="noStrike">
                <a:solidFill>
                  <a:srgbClr val="000000"/>
                </a:solidFill>
                <a:latin typeface="Calibri"/>
              </a:rPr>
              <a:t>Bilişim Suçları Hakkındaki Budapeşte Sözleşmesi’nin Uluslararası İşbirliği Mekanizmaları</a:t>
            </a:r>
            <a:endParaRPr b="0" lang="en-US" sz="3200" spc="-1" strike="noStrike">
              <a:solidFill>
                <a:srgbClr val="000000"/>
              </a:solidFill>
              <a:latin typeface="Calibri"/>
            </a:endParaRPr>
          </a:p>
        </p:txBody>
      </p:sp>
      <p:pic>
        <p:nvPicPr>
          <p:cNvPr id="104"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558800"/>
            <a:ext cx="8229600" cy="4965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ir Tarafın yetkilileri, bir dahili soruşturma sırasında elde ettikleri bazı bilgilerin, diğer Tarafın yetkililerine iletilmesi gerektiğini fark ederler. </a:t>
            </a:r>
            <a:endParaRPr b="0" lang="en-US" sz="2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u bilginin Sözleşme çerçevesinde bir cezayı gerektiren suça ilişkin bir soruşturmanın başlatılması veya geliştirilmesi açısından yararlı veya gerekli görülmesi halinde bu yapılabilir.  </a:t>
            </a:r>
            <a:endParaRPr b="0" lang="en-US" sz="2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Madde 26 (2) uyarınca bu bilgi, esas olarak gizlilikle ilgili belirli koşullarla iletilebilir. </a:t>
            </a:r>
            <a:endParaRPr b="0" lang="en-US" sz="2800" spc="-1" strike="noStrike">
              <a:solidFill>
                <a:srgbClr val="000000"/>
              </a:solidFill>
              <a:latin typeface="Calibri"/>
            </a:endParaRPr>
          </a:p>
        </p:txBody>
      </p:sp>
      <p:sp>
        <p:nvSpPr>
          <p:cNvPr id="106"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000000"/>
                </a:solidFill>
                <a:latin typeface="Calibri"/>
              </a:rPr>
              <a:t>Madde 26</a:t>
            </a:r>
            <a:br>
              <a:rPr sz="4000"/>
            </a:br>
            <a:r>
              <a:rPr b="1" lang="tr-TR" sz="4000" spc="-1" strike="noStrike">
                <a:solidFill>
                  <a:srgbClr val="000000"/>
                </a:solidFill>
                <a:latin typeface="Calibri"/>
              </a:rPr>
              <a:t>Anında Bilgi</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54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Gündem</a:t>
            </a:r>
            <a:endParaRPr b="0" lang="en-US" sz="4400" spc="-1" strike="noStrike">
              <a:solidFill>
                <a:srgbClr val="000000"/>
              </a:solidFill>
              <a:latin typeface="Calibri"/>
            </a:endParaRPr>
          </a:p>
        </p:txBody>
      </p:sp>
      <p:sp>
        <p:nvSpPr>
          <p:cNvPr id="54" name=""/>
          <p:cNvSpPr txBox="1"/>
          <p:nvPr/>
        </p:nvSpPr>
        <p:spPr>
          <a:xfrm>
            <a:off x="456840" y="1028880"/>
            <a:ext cx="8513640" cy="5494320"/>
          </a:xfrm>
          <a:prstGeom prst="rect">
            <a:avLst/>
          </a:prstGeom>
          <a:noFill/>
          <a:ln w="0">
            <a:noFill/>
          </a:ln>
        </p:spPr>
        <p:txBody>
          <a:bodyPr anchor="t">
            <a:normAutofit fontScale="97000"/>
          </a:bodyPr>
          <a:p>
            <a:pPr>
              <a:lnSpc>
                <a:spcPct val="6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Birinci Bölü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	</a:t>
            </a:r>
            <a:r>
              <a:rPr b="0" lang="tr-TR" sz="2400" spc="-1" strike="noStrike">
                <a:solidFill>
                  <a:srgbClr val="000000"/>
                </a:solidFill>
                <a:latin typeface="Calibri"/>
              </a:rPr>
              <a:t>Somut olaylarda uluslar arası işbirliği gereksinimi</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İkinci Bölü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	</a:t>
            </a:r>
            <a:r>
              <a:rPr b="0" lang="tr-TR" sz="2400" spc="-1" strike="noStrike">
                <a:solidFill>
                  <a:srgbClr val="000000"/>
                </a:solidFill>
                <a:latin typeface="Calibri"/>
              </a:rPr>
              <a:t>Genel Uluslar arası İşbirliği Mekanizmaları</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Üçüncü Bölü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	</a:t>
            </a:r>
            <a:r>
              <a:rPr b="0" lang="tr-TR" sz="2400" spc="-1" strike="noStrike">
                <a:solidFill>
                  <a:srgbClr val="000000"/>
                </a:solidFill>
                <a:latin typeface="Calibri"/>
              </a:rPr>
              <a:t>“</a:t>
            </a:r>
            <a:r>
              <a:rPr b="0" lang="tr-TR" sz="2400" spc="-1" strike="noStrike">
                <a:solidFill>
                  <a:srgbClr val="000000"/>
                </a:solidFill>
                <a:latin typeface="Calibri"/>
              </a:rPr>
              <a:t>Bilişim Suçları Hakkındaki Budapeşte Sözleşmesi”nin Uluslar arası İşbirliği Mekanizmaları</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Dördüncü Bölü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	</a:t>
            </a:r>
            <a:r>
              <a:rPr b="0" lang="tr-TR" sz="2400" spc="-1" strike="noStrike">
                <a:solidFill>
                  <a:srgbClr val="000000"/>
                </a:solidFill>
                <a:latin typeface="Calibri"/>
              </a:rPr>
              <a:t>Somut olaylarda uluslar arası işbirliği gereksinimi – ele alınan olay</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Beşinci Bölü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	</a:t>
            </a:r>
            <a:r>
              <a:rPr b="0" lang="tr-TR" sz="2400" spc="-1" strike="noStrike">
                <a:solidFill>
                  <a:srgbClr val="000000"/>
                </a:solidFill>
                <a:latin typeface="Calibri"/>
              </a:rPr>
              <a:t>Öze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1225440"/>
            <a:ext cx="8229600" cy="544824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ir bilgisayar sistemine kaydedilmiş olan verilerin hızlandırılmış muhafazası</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Dahili hükme paralel çerçeve</a:t>
            </a:r>
            <a:endParaRPr b="0" lang="en-US" sz="28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Bir akit Tarafının, diğer akit Taraftan, verilerin hızlandırılmış muhafazasını talep etmesine imkan tanır</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ynı zamanda bir arama, el koyma veya benzeri bir önlem için resmi bir yardım talebi gönderme niyetini ifade etmesi halinde</a:t>
            </a:r>
            <a:endParaRPr b="0" lang="en-US" sz="24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lepte bulunulan taraf, gerekli dikkati göstererek kendi ulusal hukukuna göre talep edilen verilerin muhafaza edilmesi için gerekli işlemleri yapmalıdır. </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lepte bulunulan taraf, verilerin muhafaza edilmesinin bir koşulu olarak fiilin her iki ülkede de suç sayılmasını talep edemez.</a:t>
            </a:r>
            <a:endParaRPr b="0" lang="en-US" sz="2800" spc="-1" strike="noStrike">
              <a:solidFill>
                <a:srgbClr val="000000"/>
              </a:solidFill>
              <a:latin typeface="Calibri"/>
            </a:endParaRPr>
          </a:p>
        </p:txBody>
      </p:sp>
      <p:sp>
        <p:nvSpPr>
          <p:cNvPr id="108"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6840" y="1098360"/>
            <a:ext cx="8396280" cy="525132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Yeni bir uluslararası işbirliği aracı</a:t>
            </a:r>
            <a:endParaRPr b="0" lang="en-US" sz="2800" spc="-1" strike="noStrike">
              <a:solidFill>
                <a:srgbClr val="000000"/>
              </a:solidFill>
              <a:latin typeface="Calibri"/>
            </a:endParaRPr>
          </a:p>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Dijital ortamın özgünlüğü – çok kısa bir süre içinde tamamen silinmesi mümkün olan bir şeyin muhafaza edilmesinin gerekliliği</a:t>
            </a:r>
            <a:endParaRPr b="0" lang="en-US" sz="2800" spc="-1" strike="noStrike">
              <a:solidFill>
                <a:srgbClr val="000000"/>
              </a:solidFill>
              <a:latin typeface="Calibri"/>
            </a:endParaRPr>
          </a:p>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Sadece acil nedenlerle bir muhafaza etme önlemi. Muhafaza edilen verilerin kendiliğinden ifşa edilmesini gerektirmez.</a:t>
            </a:r>
            <a:endParaRPr b="0" lang="en-US" sz="2800" spc="-1" strike="noStrike">
              <a:solidFill>
                <a:srgbClr val="000000"/>
              </a:solidFill>
              <a:latin typeface="Calibri"/>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İfşa etmeye izin verilen durumlarda özellikle bu verilerin sadece akış verileri olmaması durumunda bunun yapılmasına ilişkin çok sıkı kurallar vardır. </a:t>
            </a:r>
            <a:endParaRPr b="0" lang="en-US" sz="2400" spc="-1" strike="noStrike">
              <a:solidFill>
                <a:srgbClr val="000000"/>
              </a:solidFill>
              <a:latin typeface="Calibri"/>
            </a:endParaRPr>
          </a:p>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Uygulamada veriler hızlandırılmış bir şekilde muhafaza edilebilir ve daha sonra bu verilerin talepte bulunan tarafa ifşa edilmesi için bir şart bulunmadığı varsayılabilir. </a:t>
            </a:r>
            <a:endParaRPr b="0" lang="en-US" sz="2800" spc="-1" strike="noStrike">
              <a:solidFill>
                <a:srgbClr val="000000"/>
              </a:solidFill>
              <a:latin typeface="Calibri"/>
            </a:endParaRPr>
          </a:p>
          <a:p>
            <a:pPr marL="32220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0"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405080"/>
            <a:ext cx="8229600" cy="472104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600" spc="-1" strike="noStrike">
                <a:solidFill>
                  <a:srgbClr val="000000"/>
                </a:solidFill>
                <a:latin typeface="Calibri"/>
              </a:rPr>
              <a:t>akış verilerinin ifşa edilmesi</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600" spc="-1" strike="noStrike">
                <a:solidFill>
                  <a:srgbClr val="000000"/>
                </a:solidFill>
                <a:latin typeface="Calibri"/>
              </a:rPr>
              <a:t>İfşa etmenin hızlandırılması için belirli bir kural yoktur</a:t>
            </a:r>
            <a:endParaRPr b="0" lang="en-US" sz="36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ea typeface="ＭＳ Ｐゴシック"/>
              </a:rPr>
              <a:t>Usule ilişkin kurallar bölümünde dahili düzeyde hızlandırılmış ifşaya ilişkin belirli kuralların bulunmaması nedeniyle</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ea typeface="ＭＳ Ｐゴシック"/>
              </a:rPr>
              <a:t>Ülke düzeyindeki usule ilişkin kurallar, uluslar arası işbirliği düzeyinde kullanılabilir</a:t>
            </a:r>
            <a:endParaRPr b="0" lang="en-US" sz="3200" spc="-1" strike="noStrike">
              <a:solidFill>
                <a:srgbClr val="000000"/>
              </a:solidFill>
              <a:latin typeface="Calibri"/>
            </a:endParaRPr>
          </a:p>
        </p:txBody>
      </p:sp>
      <p:sp>
        <p:nvSpPr>
          <p:cNvPr id="112"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000000"/>
                </a:solidFill>
                <a:latin typeface="Calibri"/>
              </a:rPr>
              <a:t>Madde 3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278000"/>
            <a:ext cx="8229600" cy="51768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Kaydedilmiş bilgisayar verilerine erişim konusunda yardımlaşma</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 </a:t>
            </a:r>
            <a:r>
              <a:rPr b="0" lang="tr-TR" sz="3200" spc="-1" strike="noStrike">
                <a:solidFill>
                  <a:srgbClr val="000000"/>
                </a:solidFill>
                <a:latin typeface="Calibri"/>
              </a:rPr>
              <a:t>Bir bilgisayar sistemi ile kaydedilmiş verilerin aranması veya el konulması (ve ifşa edilmesi) konusunda başka bir Devlete talepte bulunulması</a:t>
            </a:r>
            <a:endParaRPr b="0" lang="en-US" sz="3200" spc="-1" strike="noStrike">
              <a:solidFill>
                <a:srgbClr val="000000"/>
              </a:solidFill>
              <a:latin typeface="Calibri"/>
            </a:endParaRPr>
          </a:p>
          <a:p>
            <a:pPr lvl="1" marL="630360" indent="-2700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Talepte bulunulan Devlet’in ülkesinde bulunan</a:t>
            </a:r>
            <a:endParaRPr b="0" lang="en-US" sz="2800" spc="-1" strike="noStrike">
              <a:solidFill>
                <a:srgbClr val="000000"/>
              </a:solidFill>
              <a:latin typeface="Calibri"/>
            </a:endParaRPr>
          </a:p>
          <a:p>
            <a:pPr lvl="1" marL="630360" indent="-2700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Madde 29 uyarınca muhafaza edilmiş olan veriler dahil</a:t>
            </a:r>
            <a:endParaRPr b="0" lang="en-US" sz="28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1"/>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3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ir Tarafın güvenlik yetkililerine, başka bir Tarafın ülkesinde bulunan bir bilgisayara kaydedilmiş olan verileri elde etme fırsatının tanınması</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işbirliği konusunda bir talep olmadan</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Somut bir soruşturma sırasında sorumlu yetkililerin, yabancı bir ülkede bulunan bir bilgisayardan veya erişimine yasal olarak yetkili kişi tarafından izin verilen bir bilgisayardan açık kaynak bilgilerini almalarının gerekmesi halinde</a:t>
            </a:r>
            <a:endParaRPr b="0" lang="en-US" sz="28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16"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3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838080" y="1566720"/>
            <a:ext cx="7772400" cy="4942080"/>
          </a:xfrm>
          <a:prstGeom prst="rect">
            <a:avLst/>
          </a:prstGeom>
          <a:noFill/>
          <a:ln w="0">
            <a:noFill/>
          </a:ln>
        </p:spPr>
        <p:txBody>
          <a:bodyPr anchor="t">
            <a:normAutofit/>
          </a:bodyPr>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imes New Roman"/>
              </a:rPr>
              <a:t>Akış verilerinin gerçek zamanlı toplanması için yardımlaşma</a:t>
            </a:r>
            <a:endParaRPr b="0" lang="en-US" sz="3200" spc="-1" strike="noStrike">
              <a:solidFill>
                <a:srgbClr val="000000"/>
              </a:solidFill>
              <a:latin typeface="Calibri"/>
            </a:endParaRPr>
          </a:p>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imes New Roman"/>
              </a:rPr>
              <a:t>Bu yardım, ülke hukukunda öngörülen koşullara ve usullere tabidir</a:t>
            </a:r>
            <a:endParaRPr b="0" lang="en-US" sz="3200" spc="-1" strike="noStrike">
              <a:solidFill>
                <a:srgbClr val="000000"/>
              </a:solidFill>
              <a:latin typeface="Calibri"/>
            </a:endParaRPr>
          </a:p>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imes New Roman"/>
              </a:rPr>
              <a:t>Her Devlet, en azından ülkedeki benzeri bir olayda akış verilerinin gerçek zamanlı olarak toplanmasının mümkün olduğu ceza gerektiren suçlar konusunda yardım sağlamalıdır.  </a:t>
            </a:r>
            <a:endParaRPr b="0" lang="en-US" sz="3200" spc="-1" strike="noStrike">
              <a:solidFill>
                <a:srgbClr val="000000"/>
              </a:solidFill>
              <a:latin typeface="Calibri"/>
            </a:endParaRPr>
          </a:p>
          <a:p>
            <a:pPr marL="2700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3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459080"/>
            <a:ext cx="8229600" cy="5138640"/>
          </a:xfrm>
          <a:prstGeom prst="rect">
            <a:avLst/>
          </a:prstGeom>
          <a:noFill/>
          <a:ln w="0">
            <a:noFill/>
          </a:ln>
        </p:spPr>
        <p:txBody>
          <a:bodyPr anchor="t">
            <a:normAutofit/>
          </a:bodyPr>
          <a:p>
            <a:pPr marL="270000" indent="-270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İleri teknoloji kullanılarak işlenilen suçlar hakkında </a:t>
            </a:r>
            <a:r>
              <a:rPr b="1" lang="tr-TR" sz="2800" spc="-1" strike="noStrike" u="sng">
                <a:solidFill>
                  <a:srgbClr val="000000"/>
                </a:solidFill>
                <a:uFillTx/>
                <a:latin typeface="Calibri"/>
              </a:rPr>
              <a:t>operasyonal uzman ağı</a:t>
            </a:r>
            <a:endParaRPr b="0" lang="en-US" sz="2800" spc="-1" strike="noStrike">
              <a:solidFill>
                <a:srgbClr val="000000"/>
              </a:solidFill>
              <a:latin typeface="Calibri"/>
            </a:endParaRPr>
          </a:p>
          <a:p>
            <a:pPr marL="270000" indent="-270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u gayrı resmi talepten sonra bir resmi işbirliği talebinin iletilmesinin gerekmesi halinde bile </a:t>
            </a:r>
            <a:r>
              <a:rPr b="1" lang="tr-TR" sz="2800" spc="-1" strike="noStrike" u="sng">
                <a:solidFill>
                  <a:srgbClr val="000000"/>
                </a:solidFill>
                <a:uFillTx/>
                <a:latin typeface="Calibri"/>
              </a:rPr>
              <a:t>çok hızlı yardım sağlayın ve işbirliği yapın</a:t>
            </a:r>
            <a:endParaRPr b="0" lang="en-US" sz="2800" spc="-1" strike="noStrike">
              <a:solidFill>
                <a:srgbClr val="000000"/>
              </a:solidFill>
              <a:latin typeface="Calibri"/>
            </a:endParaRPr>
          </a:p>
          <a:p>
            <a:pPr marL="270000" indent="-270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Her ülke için </a:t>
            </a:r>
            <a:r>
              <a:rPr b="1" lang="tr-TR" sz="2800" spc="-1" strike="noStrike" u="sng">
                <a:solidFill>
                  <a:srgbClr val="000000"/>
                </a:solidFill>
                <a:uFillTx/>
                <a:latin typeface="Calibri"/>
              </a:rPr>
              <a:t>günde 24 saat ve haftada 7 gün ulaşılabilen</a:t>
            </a:r>
            <a:r>
              <a:rPr b="0" lang="tr-TR" sz="2800" spc="-1" strike="noStrike">
                <a:solidFill>
                  <a:srgbClr val="000000"/>
                </a:solidFill>
                <a:latin typeface="Calibri"/>
              </a:rPr>
              <a:t> tek bir irtibat görevlisi</a:t>
            </a:r>
            <a:endParaRPr b="0" lang="en-US" sz="2800" spc="-1" strike="noStrike">
              <a:solidFill>
                <a:srgbClr val="000000"/>
              </a:solidFill>
              <a:latin typeface="Calibri"/>
            </a:endParaRPr>
          </a:p>
          <a:p>
            <a:pPr marL="270000" indent="-270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u="sng">
                <a:solidFill>
                  <a:srgbClr val="000000"/>
                </a:solidFill>
                <a:uFillTx/>
                <a:latin typeface="Calibri"/>
              </a:rPr>
              <a:t>İrtibat görevlileri arasında doğrudan iletişim</a:t>
            </a:r>
            <a:endParaRPr b="0" lang="en-US" sz="2800" spc="-1" strike="noStrike">
              <a:solidFill>
                <a:srgbClr val="000000"/>
              </a:solidFill>
              <a:latin typeface="Calibri"/>
            </a:endParaRPr>
          </a:p>
          <a:p>
            <a:pPr marL="270000" indent="-270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Esas olarak dünya çapında akış verileri ve diğer kaydedilmiş verilerin derhal muhafaza edilmesi olasılığının sağlanması için planlanmıştır</a:t>
            </a:r>
            <a:endParaRPr b="0" lang="en-US" sz="2800" spc="-1" strike="noStrike">
              <a:solidFill>
                <a:srgbClr val="000000"/>
              </a:solidFill>
              <a:latin typeface="Calibri"/>
            </a:endParaRPr>
          </a:p>
        </p:txBody>
      </p:sp>
      <p:sp>
        <p:nvSpPr>
          <p:cNvPr id="120"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24/7 İrtibat Görevlileri</a:t>
            </a:r>
            <a:endParaRPr b="0" lang="en-US" sz="4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1377720"/>
            <a:ext cx="8229600" cy="4746600"/>
          </a:xfrm>
          <a:prstGeom prst="rect">
            <a:avLst/>
          </a:prstGeom>
          <a:noFill/>
          <a:ln w="0">
            <a:noFill/>
          </a:ln>
        </p:spPr>
        <p:txBody>
          <a:bodyPr anchor="t">
            <a:normAutofit/>
          </a:bodyPr>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İrtibat görevlilerinin çoğunluğu, emniyette görevli irtibat görevlileridir</a:t>
            </a:r>
            <a:endParaRPr b="0" lang="en-US" sz="3200" spc="-1" strike="noStrike">
              <a:solidFill>
                <a:srgbClr val="000000"/>
              </a:solidFill>
              <a:latin typeface="Calibri"/>
            </a:endParaRPr>
          </a:p>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unlardan bazıları, savcılıklardaki irtibat görevlileridir</a:t>
            </a:r>
            <a:endParaRPr b="0" lang="en-US" sz="3200" spc="-1" strike="noStrike">
              <a:solidFill>
                <a:srgbClr val="000000"/>
              </a:solidFill>
              <a:latin typeface="Calibri"/>
            </a:endParaRPr>
          </a:p>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udapeşte Sözleşmesi, 24/7 irtibat görevlileri ağı için hukuki bir temel sağlamıştır ve bu, uluslar arası işbirliği konusunda en yararlı araçlardan biri olarak kabul edilmektedir. </a:t>
            </a:r>
            <a:endParaRPr b="0" lang="en-US" sz="3200" spc="-1" strike="noStrike">
              <a:solidFill>
                <a:srgbClr val="000000"/>
              </a:solidFill>
              <a:latin typeface="Calibri"/>
            </a:endParaRPr>
          </a:p>
        </p:txBody>
      </p:sp>
      <p:sp>
        <p:nvSpPr>
          <p:cNvPr id="122"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24/7 İrtibat Görevlileri</a:t>
            </a:r>
            <a:endParaRPr b="0" lang="en-US" sz="4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4"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Dördüncü Bölüm</a:t>
            </a:r>
            <a:br>
              <a:rPr sz="3200"/>
            </a:br>
            <a:r>
              <a:rPr b="1" lang="tr-TR" sz="3200" spc="-1" strike="noStrike">
                <a:solidFill>
                  <a:srgbClr val="000000"/>
                </a:solidFill>
                <a:latin typeface="Calibri"/>
              </a:rPr>
              <a:t>Somut olaylarda uluslararası işbirliği gereksinimi – ele alınan olay</a:t>
            </a:r>
            <a:r>
              <a:rPr b="0" lang="tr-TR" sz="3200" spc="-1" strike="noStrike">
                <a:solidFill>
                  <a:srgbClr val="000000"/>
                </a:solidFill>
                <a:latin typeface="Calibri"/>
              </a:rPr>
              <a:t> </a:t>
            </a:r>
            <a:br>
              <a:rPr sz="3200"/>
            </a:br>
            <a:endParaRPr b="0" lang="en-US" sz="3200" spc="-1" strike="noStrike">
              <a:solidFill>
                <a:srgbClr val="000000"/>
              </a:solidFill>
              <a:latin typeface="Calibri"/>
            </a:endParaRPr>
          </a:p>
        </p:txBody>
      </p:sp>
      <p:pic>
        <p:nvPicPr>
          <p:cNvPr id="12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Birinci Bölüm</a:t>
            </a:r>
            <a:br>
              <a:rPr sz="3200"/>
            </a:br>
            <a:r>
              <a:rPr b="1" lang="tr-TR" sz="3200" spc="-1" strike="noStrike">
                <a:solidFill>
                  <a:srgbClr val="000000"/>
                </a:solidFill>
                <a:latin typeface="Calibri"/>
              </a:rPr>
              <a:t>Somut olaylarda uluslar arası işbirliği gereksinimi</a:t>
            </a:r>
            <a:br>
              <a:rPr sz="3200"/>
            </a:br>
            <a:endParaRPr b="0" lang="en-US" sz="3200" spc="-1" strike="noStrike">
              <a:solidFill>
                <a:srgbClr val="000000"/>
              </a:solidFill>
              <a:latin typeface="Calibri"/>
            </a:endParaRPr>
          </a:p>
        </p:txBody>
      </p:sp>
      <p:pic>
        <p:nvPicPr>
          <p:cNvPr id="5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LA adımları ve önlemleri</a:t>
            </a: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rPr>
              <a:t>“</a:t>
            </a:r>
            <a:r>
              <a:rPr b="0" lang="tr-TR" sz="3200" spc="-1" strike="noStrike">
                <a:solidFill>
                  <a:srgbClr val="000000"/>
                </a:solidFill>
                <a:latin typeface="Calibri"/>
              </a:rPr>
              <a:t>0007” hesabı için mevcut bilgilerin alınması amacıyla </a:t>
            </a:r>
            <a:r>
              <a:rPr b="0" lang="tr-TR" sz="3200" spc="-1" strike="noStrike" u="sng">
                <a:solidFill>
                  <a:srgbClr val="0000ff"/>
                </a:solidFill>
                <a:uFillTx/>
                <a:latin typeface="Calibri"/>
              </a:rPr>
              <a:t>www.hushmail.com’un</a:t>
            </a:r>
            <a:r>
              <a:rPr b="0" lang="tr-TR" sz="3200" spc="-1" strike="noStrike">
                <a:solidFill>
                  <a:srgbClr val="000000"/>
                </a:solidFill>
                <a:latin typeface="Calibri"/>
              </a:rPr>
              <a:t> kullanıldığı ülkeye yönelik MLA talebi.</a:t>
            </a:r>
            <a:endParaRPr b="0" lang="en-US" sz="3200" spc="-1" strike="noStrike">
              <a:solidFill>
                <a:srgbClr val="000000"/>
              </a:solidFill>
              <a:latin typeface="Calibri"/>
            </a:endParaRPr>
          </a:p>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LA adımları ve önlemleri</a:t>
            </a: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5666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566640" indent="-566640">
              <a:spcBef>
                <a:spcPts val="700"/>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a:t>
            </a:r>
            <a:r>
              <a:rPr b="0" lang="tr-TR" sz="2800" spc="-1" strike="noStrike">
                <a:solidFill>
                  <a:srgbClr val="000000"/>
                </a:solidFill>
                <a:latin typeface="Calibri"/>
              </a:rPr>
              <a:t>Humour ürünü”ne yönelik DDoS (dağıtık hizmet engellemeleri) ile ilgili adli bilim incelemesinin saldırganların IP’leri hakkında ilave bilgi sağlaması durumunda IP adresinin kaynaklandığı ülkelerdeki yerel ISP’den veri elde edilmesi amacıyla MLA düzenlenir. Anonim uygulamalar/araçlar (yani TOR) kullanılmadığından emin olun. Bunların kullanılmış olması halinde soruşturma, yanlış yöne gidebilir, gereksiz önlemler alınabilir ve soruşturmada gecikmeler olabili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LA adımları ve önlemleri</a:t>
            </a:r>
            <a:endParaRPr b="0" lang="en-US" sz="4400" spc="-1" strike="noStrike">
              <a:solidFill>
                <a:srgbClr val="000000"/>
              </a:solidFill>
              <a:latin typeface="Calibri"/>
            </a:endParaRPr>
          </a:p>
        </p:txBody>
      </p:sp>
      <p:sp>
        <p:nvSpPr>
          <p:cNvPr id="132" name="PlaceHolder 2"/>
          <p:cNvSpPr>
            <a:spLocks noGrp="1"/>
          </p:cNvSpPr>
          <p:nvPr>
            <p:ph/>
          </p:nvPr>
        </p:nvSpPr>
        <p:spPr>
          <a:xfrm>
            <a:off x="457200" y="1545840"/>
            <a:ext cx="8229600" cy="5257800"/>
          </a:xfrm>
          <a:prstGeom prst="rect">
            <a:avLst/>
          </a:prstGeom>
          <a:noFill/>
          <a:ln w="0">
            <a:noFill/>
          </a:ln>
        </p:spPr>
        <p:txBody>
          <a:bodyPr anchor="t">
            <a:normAutofit/>
          </a:bodyPr>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u="sng">
                <a:solidFill>
                  <a:srgbClr val="0000ff"/>
                </a:solidFill>
                <a:uFillTx/>
                <a:latin typeface="Calibri"/>
              </a:rPr>
              <a:t>http://hungary.carssale.eu’nun</a:t>
            </a:r>
            <a:r>
              <a:rPr b="0" lang="tr-TR" sz="3200" spc="-1" strike="noStrike">
                <a:solidFill>
                  <a:srgbClr val="000000"/>
                </a:solidFill>
                <a:latin typeface="Calibri"/>
              </a:rPr>
              <a:t> adli bilim incelemesinin yapılmasından ve bağlanarak zanlı tarafından talep edildiği şekilde Humour tarafından konulan fotoğrafları indirmiş olan kişilerin IP’lerinin belirlenmesinden sonra IP adresi kullanıcısı/sahibi hakkında veri ve kanıt elde edilmesi amacıyla bu IP’ler için kaynak ülkesine MLA gönderil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LA adımları ve önlemleri</a:t>
            </a: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597240" indent="0">
              <a:lnSpc>
                <a:spcPct val="9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597240" indent="-597240">
              <a:lnSpc>
                <a:spcPct val="90000"/>
              </a:lnSpc>
              <a:spcBef>
                <a:spcPts val="799"/>
              </a:spcBef>
              <a:buClr>
                <a:srgbClr val="000000"/>
              </a:buClr>
              <a:buFont typeface="Calibri"/>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rPr>
              <a:t>aracıların (“katırlar”) belirlenmesinden sonra bu kişilerin zanlılar/tanıklar olarak ifadelerinin alınması, RM ile haberleşmelerine ilişkin kanıtlar için bilgisayarlarında arama yapılması ve kredi kartları ile diğer mevcut kanıtlara (ATM fişleri, ATM izleme kamerası kayıtları, vs.) el konulması için bu kişilerin ikamet ettikleri ülkelere MLA gönderin. </a:t>
            </a:r>
            <a:endParaRPr b="0" lang="en-US" sz="3200" spc="-1" strike="noStrike">
              <a:solidFill>
                <a:srgbClr val="000000"/>
              </a:solidFill>
              <a:latin typeface="Calibri"/>
            </a:endParaRPr>
          </a:p>
          <a:p>
            <a:pPr marL="597240" indent="0">
              <a:lnSpc>
                <a:spcPct val="9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LA adımları ve önlemleri</a:t>
            </a: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3919680"/>
          </a:xfrm>
          <a:prstGeom prst="rect">
            <a:avLst/>
          </a:prstGeom>
          <a:noFill/>
          <a:ln w="0">
            <a:noFill/>
          </a:ln>
        </p:spPr>
        <p:txBody>
          <a:bodyPr anchor="t">
            <a:normAutofit fontScale="92000"/>
          </a:bodyPr>
          <a:p>
            <a:pPr marL="56052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560520" indent="-560520">
              <a:spcBef>
                <a:spcPts val="799"/>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rPr>
              <a:t>(bazı) aracıların suçunun belirlenmesinden sonra bunların iadesi (tutuklama emirleri) veya iadenin mümkün olmaması halinde dosyanın ve cezai takibatın, aracının vatandaşı olduğu/ikamet ettiği ülkeye gönderilmesi için MLA gönderilmesi olasılığını dikkate alın</a:t>
            </a:r>
            <a:endParaRPr b="0" lang="en-US" sz="3200" spc="-1" strike="noStrike">
              <a:solidFill>
                <a:srgbClr val="000000"/>
              </a:solidFill>
              <a:latin typeface="Calibri"/>
            </a:endParaRPr>
          </a:p>
          <a:p>
            <a:pPr marL="560520" indent="0">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8"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Beşinci Bölüm</a:t>
            </a:r>
            <a:br>
              <a:rPr sz="3200"/>
            </a:br>
            <a:r>
              <a:rPr b="1" lang="tr-TR" sz="3200" spc="-1" strike="noStrike">
                <a:solidFill>
                  <a:srgbClr val="000000"/>
                </a:solidFill>
                <a:latin typeface="Calibri"/>
              </a:rPr>
              <a:t>Özet</a:t>
            </a:r>
            <a:br>
              <a:rPr sz="3200"/>
            </a:br>
            <a:endParaRPr b="0" lang="en-US" sz="3200" spc="-1" strike="noStrike">
              <a:solidFill>
                <a:srgbClr val="000000"/>
              </a:solidFill>
              <a:latin typeface="Calibri"/>
            </a:endParaRPr>
          </a:p>
        </p:txBody>
      </p:sp>
      <p:pic>
        <p:nvPicPr>
          <p:cNvPr id="140"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86920" y="1047240"/>
            <a:ext cx="8682120" cy="5078520"/>
          </a:xfrm>
          <a:prstGeom prst="rect">
            <a:avLst/>
          </a:prstGeom>
          <a:noFill/>
          <a:ln w="0">
            <a:noFill/>
          </a:ln>
        </p:spPr>
        <p:txBody>
          <a:bodyPr anchor="t">
            <a:normAutofit/>
          </a:bodyPr>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Oturumun sonunda katılımcılar: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İnternetin küresel boyutunu ve bilişim suçları alanında uluslar arası işbirliğinin önemini anlamalı</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İşlenmiş olabilecek suçların bir çoğu için uluslar arası işbirliği gereksiniminin farkına varmalı;</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Uluslararası işbirliği kanallarını ve mevcut araçları, bunların nasıl kullanıldığını, mevcut olan işbirliği yöntemlerinin süreleri ve etkinliğini belirlemeli;</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ilişim Suçları Hakkındaki Budapeşte Sözleşmesi’nde tanımlanan işbirliği mekanizmalarının avantajının farkına varmalı ve bunun genel ilkeleri, geçici önlemler ve 24/7 ağ konusunda bilgi sahibi olmalıdır. </a:t>
            </a: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4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Öz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4"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838080" y="1341360"/>
            <a:ext cx="7988400" cy="5113440"/>
          </a:xfrm>
          <a:prstGeom prst="rect">
            <a:avLst/>
          </a:prstGeom>
          <a:noFill/>
          <a:ln w="0">
            <a:noFill/>
          </a:ln>
        </p:spPr>
        <p:txBody>
          <a:bodyPr anchor="t">
            <a:normAutofit/>
          </a:bodyPr>
          <a:p>
            <a:pPr marL="720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1   Bir suçun yeri – nerede işlendiği</a:t>
            </a:r>
            <a:endParaRPr b="0" lang="en-US" sz="28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Hangi maddi hukuk geçerlidir</a:t>
            </a:r>
            <a:endParaRPr b="0" lang="en-US" sz="24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Yetki kime aittir (polis, savcı, hakim)</a:t>
            </a:r>
            <a:endParaRPr b="0" lang="en-US" sz="2400" spc="-1" strike="noStrike">
              <a:solidFill>
                <a:srgbClr val="000000"/>
              </a:solidFill>
              <a:latin typeface="Calibri"/>
            </a:endParaRPr>
          </a:p>
          <a:p>
            <a:pPr marL="720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2   Soruşturmaya ilişkin bir sınırlama olarak yargı yetkisi</a:t>
            </a:r>
            <a:endParaRPr b="0" lang="en-US" sz="28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Sınır ötesi soruşturmalar</a:t>
            </a:r>
            <a:endParaRPr b="0" lang="en-US" sz="24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a:t>
            </a:r>
            <a:r>
              <a:rPr b="0" lang="tr-TR" sz="2400" spc="-1" strike="noStrike">
                <a:solidFill>
                  <a:srgbClr val="000000"/>
                </a:solidFill>
                <a:latin typeface="Calibri"/>
              </a:rPr>
              <a:t>bulut” içinde soruşturma – esas olarak “bulut” içinde saklanmış verilere erişim</a:t>
            </a:r>
            <a:endParaRPr b="0" lang="en-US" sz="2400" spc="-1" strike="noStrike">
              <a:solidFill>
                <a:srgbClr val="000000"/>
              </a:solidFill>
              <a:latin typeface="Calibri"/>
            </a:endParaRPr>
          </a:p>
        </p:txBody>
      </p:sp>
      <p:sp>
        <p:nvSpPr>
          <p:cNvPr id="58" name="PlaceHolder 2"/>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a:t>
            </a:r>
            <a:r>
              <a:rPr b="1" lang="tr-TR" sz="4400" spc="-1" strike="noStrike">
                <a:solidFill>
                  <a:srgbClr val="000000"/>
                </a:solidFill>
                <a:latin typeface="Calibri"/>
              </a:rPr>
              <a:t>Zor” Sorul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Polis memurlarına ve savcılara suç bildiriminde bulunulduğunda onların bilgi ve deneyim düzeyi, olayın doğru bir şekilde anlaşılması ve kanıtların muhafaza edilmesi ve elde edilmesi için zamanında ve yeterli önlem alınması açısından büyük önem taşıyabilir.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Polis memurları ve savcıların, olayın çözülmesi konusunda doğal olarak çıkarı olan mağdurun işbirliği ve katkısı dahil olmak üzere gerektiğinde kurum içinden ve dışından ilave yardım talep etmes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Yardım talep etmek amacıyla kullanılan hukuki belgenin belirtilmesi – antlaşma, sözleşme veya başka işbirliği aracı. </a:t>
            </a:r>
            <a:endParaRPr b="0" lang="en-US" sz="1800" spc="-1" strike="noStrike">
              <a:solidFill>
                <a:srgbClr val="000000"/>
              </a:solidFill>
              <a:latin typeface="Calibri"/>
            </a:endParaRPr>
          </a:p>
          <a:p>
            <a:pPr marL="332640" indent="-3326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Soruşturmanın/takibatın kimin tarafından yürütüldüğünün açıkça belirtilmesi. Bütün gerekli temas bilgilerinin ve tercih edilen haberleşme araçlarının iletilmesi. </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Olayın özetlenmesi – Soruşturmayı /takibatı destekleyen kanıtların bir özeti dahil olmak üzere soruşturma veya takibata konu olan olay hakkında ayrıntılı bir açıklama yapılması. Devam eden soruşturmaya ilişkin olarak talep edilen kanıt ve önlemlere ilişkin gerekçeyi açıklayın.    </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İlgili ulusal mevzuat hükümlerinin belirtilmesi – ilgili ceza verme hükümleri dahil olmak üzere soruşturmaya/takibata konu bütün ilgili yasa hükümlerinin tam metni. </a:t>
            </a:r>
            <a:endParaRPr b="0" lang="en-US" sz="1800" spc="-1" strike="noStrike">
              <a:solidFill>
                <a:srgbClr val="000000"/>
              </a:solidFill>
              <a:latin typeface="Calibri"/>
            </a:endParaRPr>
          </a:p>
          <a:p>
            <a:pPr marL="332640" indent="-3326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Talep edilen yardımın kesin olarak açıklanması – tam olarak ne istiyorsunuz. </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Tanık beyanı/ifadesi içi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 </a:t>
            </a:r>
            <a:r>
              <a:rPr b="0" lang="tr-TR" sz="2800" spc="-1" strike="noStrike">
                <a:solidFill>
                  <a:srgbClr val="000000"/>
                </a:solidFill>
                <a:latin typeface="Calibri"/>
              </a:rPr>
              <a:t>Kişinin bulunduğu y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Tanıkla ilgili ulusal usule ilişkin kurall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Tanıktan talep edilen belirli bilgi ve soruların listesi</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Yazılı kanıtlar içi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 </a:t>
            </a:r>
            <a:r>
              <a:rPr b="0" lang="tr-TR" sz="2800" spc="-1" strike="noStrike">
                <a:solidFill>
                  <a:srgbClr val="000000"/>
                </a:solidFill>
                <a:latin typeface="Calibri"/>
              </a:rPr>
              <a:t>Elde edilecek belgelerin açıkça belirtilmes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 </a:t>
            </a:r>
            <a:r>
              <a:rPr b="0" lang="tr-TR" sz="2800" spc="-1" strike="noStrike">
                <a:solidFill>
                  <a:srgbClr val="000000"/>
                </a:solidFill>
                <a:latin typeface="Calibri"/>
              </a:rPr>
              <a:t>Belgelerin /eşyaların / kanıtların bulunabileceği yer veya bunlara el koymuş olan kişi veya kuruluşun açıkça belirtilmes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OPERATOR</dc:creator>
  <dc:description>Uğur Mumucu Caddesi Kırçiçeği Sokağı No: 8/2
TR-06700 G.O.P Çankaya/ANKARA
Fax: +90-312- 441 91 05</dc:description>
  <cp:keywords>www.erenoglu.com.tr</cp:keywords>
  <dc:language>en-US</dc:language>
  <cp:lastModifiedBy>OPERATOR</cp:lastModifiedBy>
  <dcterms:modified xsi:type="dcterms:W3CDTF">2013-08-05T07:02:21Z</dcterms:modified>
  <cp:revision>72</cp:revision>
  <dc:subject>ERENOGLU CONSULTANCY, TRANSLATION AND FOREIGN TRADE LTD CO.</dc:subject>
  <dc:title>ERENOĞLU DANIŞMANLIK TERCÜMANLIK VE DIŞ TİCARET LTD. ŞTİ.</dc:title>
</cp:coreProperties>
</file>