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9DA9F2-D8C9-4875-A4B5-672D41DBCA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ro-RO" sz="1200" spc="-1" strike="noStrike">
              <a:solidFill>
                <a:srgbClr val="000000"/>
              </a:solidFill>
              <a:latin typeface="Calibri"/>
            </a:endParaRPr>
          </a:p>
        </p:txBody>
      </p:sp>
      <p:sp>
        <p:nvSpPr>
          <p:cNvPr id="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980706-8543-4E9F-B447-78CD125E46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Ulusal hukuk sistemine bağlı olarak soruşturma yetkisi, polise veya savcılara aittir ve polis ve savcılar arasındaki işbirliği, belirli bir çerçeve ile belirleni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nedenle, şikayetin yapıldığı kurum tarafından yapılacak başlangıçtaki faaliyetlere ilave olarak kanıtların bütünlüğünün ve korunmasının sağlanması, risklerin giderilmesi ve suç oluşturan faaliyetlerin durdurulması için dosyanın, o tarihe kadar alınmış olan önlemlerle birlikte savcı tarafından sunulması gereki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Emniyet güçlerinin teknik ve personel kapasitesinin, genellikle savcılıktan daha geniş olmasına karşın savcılar, kapsamlı hukuki bilgiye ve belirli yasal yetkiye sahiptir. Bu önlemin amacı, belirli soruşturma önlemlerinin savcının onayı olmadan alınamayacak olmasıdır. Diğer yandan belirli soruşturma faaliyetlerine savcı tarafından karar verilebilir. Bu nedenle savcının sürece katılması gereki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Polis ve savcılar arasında işbirliği, bütün soruşturma sırasında gereklidir ve büyük ölçüde şunlarla ilgilidi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a:r>
            <a:r>
              <a:rPr b="0" lang="tr-TR" sz="1200" spc="-1" strike="noStrike">
                <a:solidFill>
                  <a:srgbClr val="000000"/>
                </a:solidFill>
                <a:latin typeface="Calibri"/>
              </a:rPr>
              <a:t>işlenmiş olan suçların belirlenmesi</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a:r>
            <a:r>
              <a:rPr b="0" lang="tr-TR" sz="1200" spc="-1" strike="noStrike">
                <a:solidFill>
                  <a:srgbClr val="000000"/>
                </a:solidFill>
                <a:latin typeface="Calibri"/>
              </a:rPr>
              <a:t>soruşturma önlemlerinin belirlenmesi, v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a:r>
            <a:r>
              <a:rPr b="0" lang="tr-TR" sz="1200" spc="-1" strike="noStrike">
                <a:solidFill>
                  <a:srgbClr val="000000"/>
                </a:solidFill>
                <a:latin typeface="Calibri"/>
              </a:rPr>
              <a:t>sonuçların değerlendirilmesi ve aramalar ve zanlıların tutuklanması ve sorgulanması hakkında karar verilmesi</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FEAE95-CC1C-4CAA-A124-164119BF58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ir soruşturmanın önceliklerinden biri de zanlı veya zanlıların belirlenmesidir. Zanlılar, kimlikleri konusunda bazı doğrudan izler bırakabilirler veya klasik ya da sanal suç faaliyetlerinde bulunurken aracılar kullanabilirler. Zanlı hakkında internetteki yararlı bilgiler, onun suç oluşturan faaliyetleri dışındaki nedenlerle de bulunabili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Zanlıların bulundukları yerler, suç oluşturan faaliyetleri yürüttükleri yerin ve dosya için önemli kanıtların bulunduğu yerin belirlenmesi açısından önemlidi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Zanlının kimliğinin belirlenmesinden sonra aşağıda belirtilen olaya ilişkin yönlerin açıklığa kavuşturulması amacıyla soruşturma faaliyetlerinin yürütülmesi büyük önem taşı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a:r>
            <a:r>
              <a:rPr b="0" lang="tr-TR" sz="1200" spc="-1" strike="noStrike">
                <a:solidFill>
                  <a:srgbClr val="000000"/>
                </a:solidFill>
                <a:latin typeface="Calibri"/>
              </a:rPr>
              <a:t>suç işlenmesi için kullanılan bilgisayarın bulunduğu ye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a:r>
            <a:r>
              <a:rPr b="0" lang="tr-TR" sz="1200" spc="-1" strike="noStrike">
                <a:solidFill>
                  <a:srgbClr val="000000"/>
                </a:solidFill>
                <a:latin typeface="Calibri"/>
              </a:rPr>
              <a:t>zanlının bulunduğu yer veya kullanılan diğer adresler</a:t>
            </a:r>
            <a:r>
              <a:rPr b="0" lang="en-GB"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a:r>
            <a:r>
              <a:rPr b="0" lang="tr-TR" sz="1200" spc="-1" strike="noStrike">
                <a:solidFill>
                  <a:srgbClr val="000000"/>
                </a:solidFill>
                <a:latin typeface="Calibri"/>
              </a:rPr>
              <a:t>kullanılan </a:t>
            </a:r>
            <a:r>
              <a:rPr b="0" lang="en-GB" sz="1200" spc="-1" strike="noStrike">
                <a:solidFill>
                  <a:srgbClr val="000000"/>
                </a:solidFill>
                <a:latin typeface="Calibri"/>
              </a:rPr>
              <a:t>internet </a:t>
            </a:r>
            <a:r>
              <a:rPr b="0" lang="tr-TR" sz="1200" spc="-1" strike="noStrike">
                <a:solidFill>
                  <a:srgbClr val="000000"/>
                </a:solidFill>
                <a:latin typeface="Calibri"/>
              </a:rPr>
              <a:t>bağlantısı</a:t>
            </a:r>
            <a:r>
              <a:rPr b="0" lang="en-GB" sz="1200" spc="-1" strike="noStrike">
                <a:solidFill>
                  <a:srgbClr val="000000"/>
                </a:solidFill>
                <a:latin typeface="Calibri"/>
              </a:rPr>
              <a:t> (</a:t>
            </a:r>
            <a:r>
              <a:rPr b="0" lang="tr-TR" sz="1200" spc="-1" strike="noStrike">
                <a:solidFill>
                  <a:srgbClr val="000000"/>
                </a:solidFill>
                <a:latin typeface="Calibri"/>
              </a:rPr>
              <a:t>kablolu</a:t>
            </a:r>
            <a:r>
              <a:rPr b="0" lang="en-GB" sz="1200" spc="-1" strike="noStrike">
                <a:solidFill>
                  <a:srgbClr val="000000"/>
                </a:solidFill>
                <a:latin typeface="Calibri"/>
              </a:rPr>
              <a:t>, </a:t>
            </a:r>
            <a:r>
              <a:rPr b="0" lang="tr-TR" sz="1200" spc="-1" strike="noStrike">
                <a:solidFill>
                  <a:srgbClr val="000000"/>
                </a:solidFill>
                <a:latin typeface="Calibri"/>
              </a:rPr>
              <a:t>kablosuz</a:t>
            </a:r>
            <a:r>
              <a:rPr b="0" lang="en-GB" sz="1200" spc="-1" strike="noStrike">
                <a:solidFill>
                  <a:srgbClr val="000000"/>
                </a:solidFill>
                <a:latin typeface="Calibri"/>
              </a:rPr>
              <a:t>, ISP, </a:t>
            </a:r>
            <a:r>
              <a:rPr b="0" lang="tr-TR" sz="1200" spc="-1" strike="noStrike">
                <a:solidFill>
                  <a:srgbClr val="000000"/>
                </a:solidFill>
                <a:latin typeface="Calibri"/>
              </a:rPr>
              <a:t>vs.</a:t>
            </a:r>
            <a:r>
              <a:rPr b="0" lang="en-GB"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a:r>
            <a:r>
              <a:rPr b="0" lang="tr-TR" sz="1200" spc="-1" strike="noStrike">
                <a:solidFill>
                  <a:srgbClr val="000000"/>
                </a:solidFill>
                <a:latin typeface="Calibri"/>
              </a:rPr>
              <a:t>suç oluşturan faaliyetler hakkında bilgi ve katılım</a:t>
            </a:r>
            <a:r>
              <a:rPr b="0" lang="en-GB"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a:r>
            <a:r>
              <a:rPr b="0" lang="tr-TR" sz="1200" spc="-1" strike="noStrike">
                <a:solidFill>
                  <a:srgbClr val="000000"/>
                </a:solidFill>
                <a:latin typeface="Calibri"/>
              </a:rPr>
              <a:t>diğer zanlılarla işbirliği ve onların katılımı</a:t>
            </a:r>
            <a:r>
              <a:rPr b="0" lang="en-GB"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a:r>
            <a:r>
              <a:rPr b="0" lang="tr-TR" sz="1200" spc="-1" strike="noStrike">
                <a:solidFill>
                  <a:srgbClr val="000000"/>
                </a:solidFill>
                <a:latin typeface="Calibri"/>
              </a:rPr>
              <a:t>banka hesapları</a:t>
            </a:r>
            <a:r>
              <a:rPr b="0" lang="en-GB"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Mali hususların soruşturulması, zanlıların kimlikleri ve bulundukları yerlerin belirlenmesine ve ayrıca zararın karşılanması amacıyla işlenmiş olan suçların mali ürününün geri alınmasına yardımcı olabili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Zanlı ile ilgili bütün soruşturma işlemleri ayrıca zanlının suç oluşturan faaliyetlerden haberdar olan veya bunlara katılan başka kişilerle bağlantıları  ve ayrıca kendi lehine ve savunması için oluşturabileceği başka muhtemel senaryoları da kapsamalıdır. Bu kişiler, bize esas zanlının kimliğinin ve bulunduğu yerin belirlenmesi amacıyla bize önemli kanıtlar sağlayabilirle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azen altyapı (elektrik, su, gaz, telefon) abonelik bilgilerinin de suçlunun/suçluların kimliğinin belirlenmesine yardımcı olabileceğini unutmamalıyız.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Polis veri tabanları yanı sıra diğer emniyet müdürlükleri tarafından yürütülen eski veya güncel soruşturmalar, zanlının kimliğinin ve yerinin belirlenmesi için incelenebilir.</a:t>
            </a:r>
            <a:r>
              <a:rPr b="0" lang="en-GB" sz="1200" spc="-1" strike="noStrike">
                <a:solidFill>
                  <a:srgbClr val="000000"/>
                </a:solidFill>
                <a:latin typeface="Calibri"/>
              </a:rPr>
              <a:t> </a:t>
            </a:r>
            <a:r>
              <a:rPr b="0" lang="tr-TR" sz="1200" spc="-1" strike="noStrike">
                <a:solidFill>
                  <a:srgbClr val="000000"/>
                </a:solidFill>
                <a:latin typeface="Calibri"/>
              </a:rPr>
              <a:t>Suç ortamının internet üzerinden sağlanan bir hizmet olması halinde hizmet sunucusu da zanlının belirlenmesi konusunda ilave yardımcı bilgilere sahip olabilir. </a:t>
            </a: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14EE46-545F-4CC4-BA31-00F84112F8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Diğer polis birimleri veya makamlarla işbirliği, soruşturmanın yürütülme şekli ile yakından bağlantılıdır ve bu süreçte öngörülen bütün hususları kapsaması gereki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nedenle işbirliği, aşağıda belirtilen hususların açıklığa kavuşturulması açısından yararlıdır: </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olaylar, kişiler, faaliyet yöntemleri, soruşturmalardaki bağlantılar hakkında bilgi değişimi;  </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veri ve kanıt toplanması</a:t>
            </a:r>
            <a:r>
              <a:rPr b="0" lang="en-GB"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a:r>
            <a:r>
              <a:rPr b="0" lang="tr-TR" sz="1200" spc="-1" strike="noStrike">
                <a:solidFill>
                  <a:srgbClr val="000000"/>
                </a:solidFill>
                <a:latin typeface="Calibri"/>
              </a:rPr>
              <a:t>belirli faaliyetlerin gerçekleştirilmesi için lojistik destek sağlanması</a:t>
            </a:r>
            <a:r>
              <a:rPr b="0" lang="en-GB"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a:r>
            <a:r>
              <a:rPr b="0" lang="tr-TR" sz="1200" spc="-1" strike="noStrike">
                <a:solidFill>
                  <a:srgbClr val="000000"/>
                </a:solidFill>
                <a:latin typeface="Calibri"/>
              </a:rPr>
              <a:t>teknik, mali veya diğer konularda uzmanlaşmış yardım</a:t>
            </a:r>
            <a:r>
              <a:rPr b="0" lang="en-GB"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İşbirliğine dayalı faaliyetler, belirli bir düzene sahip olmalı ve işbirliği protokolleri ve usullerine dayalı olarak soruşturmaya ilişkin öncelikler belirlenmelidir</a:t>
            </a: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A4022C-FBC3-4605-ACFF-DA6388DC9C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Gerçekleştirilen faaliyetlerin, elde edilen sonuçların ve belirlenen kanıtların değerlendirilmesi, soruşturma sırasında devam eden bir süreçtir ve aşağıda belirtilen hususlar üzerinde odaklanması gerekir: </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r>
              <a:rPr b="0" lang="tr-TR" sz="1100" spc="-1" strike="noStrike">
                <a:solidFill>
                  <a:srgbClr val="000000"/>
                </a:solidFill>
                <a:latin typeface="Calibri"/>
              </a:rPr>
              <a:t>Bu faaliyetlerin nasıl gerçekleştirildiği</a:t>
            </a:r>
            <a:r>
              <a:rPr b="0" lang="en-US" sz="1100" spc="-1" strike="noStrike">
                <a:solidFill>
                  <a:srgbClr val="000000"/>
                </a:solidFill>
                <a:latin typeface="Calibri"/>
              </a:rPr>
              <a:t>;</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r>
              <a:rPr b="0" lang="tr-TR" sz="1100" spc="-1" strike="noStrike">
                <a:solidFill>
                  <a:srgbClr val="000000"/>
                </a:solidFill>
                <a:latin typeface="Calibri"/>
              </a:rPr>
              <a:t>Kararlara ve adımlara uyulup uyulmadığı</a:t>
            </a:r>
            <a:r>
              <a:rPr b="0" lang="en-US" sz="1100" spc="-1" strike="noStrike">
                <a:solidFill>
                  <a:srgbClr val="000000"/>
                </a:solidFill>
                <a:latin typeface="Calibri"/>
              </a:rPr>
              <a:t>;</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r>
              <a:rPr b="0" lang="tr-TR" sz="1100" spc="-1" strike="noStrike">
                <a:solidFill>
                  <a:srgbClr val="000000"/>
                </a:solidFill>
                <a:latin typeface="Calibri"/>
              </a:rPr>
              <a:t>Toplanan kanıtların karar verilmesi için yeterli olup olmadığı</a:t>
            </a:r>
            <a:r>
              <a:rPr b="0" lang="en-US" sz="1100" spc="-1" strike="noStrike">
                <a:solidFill>
                  <a:srgbClr val="000000"/>
                </a:solidFill>
                <a:latin typeface="Calibri"/>
              </a:rPr>
              <a:t>;</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r>
              <a:rPr b="0" lang="tr-TR" sz="1100" spc="-1" strike="noStrike">
                <a:solidFill>
                  <a:srgbClr val="000000"/>
                </a:solidFill>
                <a:latin typeface="Calibri"/>
              </a:rPr>
              <a:t>Hukuki usullere ve hükümlere uyulup uyulmadığı</a:t>
            </a:r>
            <a:r>
              <a:rPr b="0" lang="en-US" sz="1100" spc="-1" strike="noStrike">
                <a:solidFill>
                  <a:srgbClr val="000000"/>
                </a:solidFill>
                <a:latin typeface="Calibri"/>
              </a:rPr>
              <a:t>;</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4B41BF-DFFB-4C3E-A549-9DFABC07CA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 bütün hususların soruşturulup soruşturulmadığı</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 ilave soruşturma önlemleri için emir verilmesi</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 suç oluşturan faaliyetin sona erdirilip erdirilmediği ve devam etmesi halinde etkisinin ne olduğu</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değerlendirme, aynı zamanda aramalar, tutuklamalar ve sorgulamalara ilişkin süreyi belirlemelidi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faaliyetlerin gerçekleştirilme tarihleri ve yöntemi, toplanan kanıtlara, suç oluşturan faaliyetin özelliğine ve zanlıların bulunduğu sınıfa göre belirlenecekti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İlk olarak zanlıların suçüstü yakalanmasına ve daha sonra aramaların yapılmasına veya önce belirli zanlıların aranmasına ve tutuklanmasına ve daha sonraki bir aşamada da diğer zanlıların aranmasına ve tutuklanmasına karar verilmesi mümkündü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ütün kararlar, soruşturma ve mağdurlar lehine verilecek ve hukuki hükümler ve usullere uyulacaktı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Aramaların yapılması, zanlıların kimliklerinin belirlenmesi ve kanıtlara el konulması ve malvarlığı araması yapılması, bu faaliyetlerin yapılacağı yere, zanlıların kimlikleri ve bunlarla ilgili riskler ve belirlenecek kanıtların ve malvarlığının özelliğine göre bunu yapacak olan kişilerin özel ve ayrı olarak hazırlanmasını gerektiri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Yukarıda belirtilen faaliyetlere katılacak personelin görevlendirilmesi ve hazırlanması, daha önce belirtilmiş olan hususlara paralel olarak çok önemli bir faaliyetti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Dava dosyasındaki belgelerin hazırlanması ve zanlıların sorgulanması için personele talimat verilmesinde gerçekleştirilmiş olan bütün soruşturma faaliyetleri, işlenmiş olan suçlar ve sağlanan kanıtlar dikkate alınmalıdı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D6491B-D05C-464A-A7A0-A4ECAC1E4F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ir soruşturmanın sonunda davaya ilişkin bütün olumlu ve olumsuz hususların belirlenmesi için olayın bir değerlendirilmesinin yapılması tavsiye edilmektedi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Olumsuz hususlar, gelecekte gerçekleştirilen faaliyetlerle ilgili her türlü riskin giderilmesi için bu tür olaylardaki performans, yöntem ve usullerin iyileştirilmesine yardımcı olu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Olumlu hususlar, personelin eğitimi, mağdurlarla işbirliği yöntemleri veya diğer faaliyetler hakkında gelecekte kullanılacak belirli deneyimleri kapsa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Deneyimler, öğrenilen hususlar ve en iyi uygulamalar, bölümde veya yetkili kanallar üzerinden diğer bölümlere dağıtılabili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ir soruşturma sırasında karşılaşılan belirli durumlar, bunlara yönelik tepkilerin ve gelecekteki hareket seçeneklerinin değerlendirilmesi için sunulabilir ve tartışılabili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A6CE96-6696-409F-83A6-1B98684354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eğitimde hepiniz soruşturmacısınız ve verilen senaryoyu bugün ve yarın soruşturmanız beklenmektedir. Grup çalışması nedeniyle siz ve yuvarlak masada sizinle birlikte oturan ekip üyelerinizin, olayı soruşturması ve suçluyu/suçluları belirlemeleri öngörülmektedi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Öncelikle anlamamız gereken hususlardan biri de suç ve bunun işlenme biçimidir. Saldırının sizin açınızdan çok teknik olması veya açık olmaması durumunda suçun ve suç modelinin nasıl gerçekleştiğini anlamak için zaman harcanması her zaman için tavsiye edilmektedir. Verilen senaryoda DDOS (Dağıtık Sistem Reddi) saldırısı, bu tür saldırı hakkında bilgi sahibi olmayanlar için biraz teknik olabilir. DDOS, mağdurun sistemine çok fazla sayıda bilgisayar erişim talebi ile erişmek için gerçekleştirilen bir saldırı türüdür ve mağdurun sistem kaynaklarını bu taleplerle meşgul eder. Bu şekilde meşru ve doğal erişim taleplerine mağdurun sistemi tarafından yanıt verilemez ve erişilemediği düşünülür. DDOS saldırısının teknik yöntemi, bant genişliğine aşırı yükleme yapılmasıdır. .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İlk yapmanız gereken işlerden biri de bu saldırının kendi ceza hukukunuzda bir suç oluşturup oluşturmadığının belirlenmesidir. Yanıtınız evet ise bunun ne olduğunu yazı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senaryodaki başlıca göreviniz, Humor’un mağdur olmasına yol açan suçlunun kimliğinin belirlenmesidi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Yapılacak işlere ilişkin bir listenin hazırlanması her zaman çok yardımcı olur. Bir dosya oluşturmak için neyin mevcut olduğu, internetten ve açık kaynaklardan neleri toplayabileceğimiz, internet dışı veri sağlayıcılardan (ISP, banka, elektrik şirketi kayıtları, şirketler, uluslararası yardım) başka hangi verileri istememiz gerektiği) belirlenmelidir. Sınıftaki eğitmenlerin internet dışı veri sağlayıcısı olduğunu varsayın. Bir savcı veya hakim olarak taleplerinizi yazdığınız taktirde (küçük bir not kağıdına), size bazı değerli veriler sağlayabilirler. Taleplerinizden bazıları, olumlu sonuçlanırken diğerleri gerçek yaşamda olduğu gibi olumlu sonuç vermeyecekti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r>
              <a:rPr b="0" lang="tr-TR" sz="1200" spc="-1" strike="noStrike">
                <a:solidFill>
                  <a:srgbClr val="000000"/>
                </a:solidFill>
                <a:latin typeface="Calibri"/>
              </a:rPr>
              <a:t>Bazen ayrıntıların düşünülmesi ve her verinin anlamının kontrol edilmesi yardımcı olurken diğer durumlarda duruma ilişkin genel bir değerlendirme faydalı olabilir. Lütfen aynı zamanda birkaç girişimde bulunun. Bütün bilgileri topladığınızda bunların ne anlam taşıdığını analiz edebilirsiniz.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Kendinizi suçlunun yerine koyarak düşünmek her zaman yararlıdır. Bunu yapabildiğimiz taktirde doğru yerleri kontrol edebilir ve suçun arkasında kimin olduğunu anlayabiliriz.</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Lütfen bunun eğitim olduğunu ve eğitmenlerin bir kuşkunuz veya sorunuz olması halinde size yardımcı olmaya hazır olduklarını unutmayı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uçlunun kimliğinin belirlenmesi konusundaki etkin katılımınız ve katkınız takdirle karşılanmaktadır.</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1E3C5A-E2DA-40D3-9138-B5CAF4071D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800FC0-6ECA-4770-935D-492492C7D4B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Şikayet yoluyla yetkili makamlara bir bilişim suçu olayı bildirildiğinde yapılacak ilk işlerden biri, bir soruşturma başlatılması için </a:t>
            </a:r>
            <a:r>
              <a:rPr b="0" lang="tr-TR" sz="1200" spc="-1" strike="noStrike" u="sng">
                <a:solidFill>
                  <a:srgbClr val="000000"/>
                </a:solidFill>
                <a:uFillTx/>
                <a:latin typeface="Calibri"/>
              </a:rPr>
              <a:t>gerekli ve yeterli verileri içerip içermediğinin</a:t>
            </a:r>
            <a:r>
              <a:rPr b="0" lang="tr-TR" sz="1200" spc="-1" strike="noStrike">
                <a:solidFill>
                  <a:srgbClr val="000000"/>
                </a:solidFill>
                <a:latin typeface="Calibri"/>
              </a:rPr>
              <a:t> belirlenmesi amacıyla bu şikayetin incelenmesidi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oruşturmanın bir şikayet veya aleni bilgiye (kitle iletişim araçları veya internette mevcut) veya bir suç analizine/bilişim kontrolü sonucuna dayanılarak ya da bir yabancı makamın yardım talebine dayanılarak başlatılacak olması halinde bile soruşturma için en iyi yaklaşımın belirlenmesi amacıyla en başından itibaren bütün gerçekleri çok açık bir şekilde elde etmek büyük önem taşımaktadı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Mağdurdan şikayetin alınmasından sorumlu olan kişilerin, şikayette hangi bilgilerin bulunması gerektiğini ve soruşturmanın başlatılması için hangi bilgilere gerek duyulduğunu bilmeleri gereki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Şikayetin biçimi ve içeriğine bakmadan önce bildirilen faaliyetlerin suç olarak görülüp görülmediğinin kontrol edilmesi önem taşımaktadır. Çünkü bazı durumlarda gerçekleştirilen eylemler, ulusal mevzuatta suç olarak kabul edilmeyebilir (örneğin ifade özgürlüğü). </a:t>
            </a:r>
            <a:endParaRPr b="0" lang="en-US" sz="1200" spc="-1" strike="noStrike">
              <a:solidFill>
                <a:srgbClr val="000000"/>
              </a:solidFill>
              <a:latin typeface="Calibri"/>
            </a:endParaRPr>
          </a:p>
        </p:txBody>
      </p:sp>
      <p:sp>
        <p:nvSpPr>
          <p:cNvPr id="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2E2FA2-6974-494F-828D-FE6DF3874F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ilişim suçları olaylarında şikayetin, </a:t>
            </a:r>
            <a:r>
              <a:rPr b="0" lang="tr-TR" sz="1200" spc="-1" strike="noStrike" u="sng">
                <a:solidFill>
                  <a:srgbClr val="000000"/>
                </a:solidFill>
                <a:uFillTx/>
                <a:latin typeface="Calibri"/>
              </a:rPr>
              <a:t>yetkili makamlara</a:t>
            </a:r>
            <a:r>
              <a:rPr b="0" lang="tr-TR" sz="1200" spc="-1" strike="noStrike">
                <a:solidFill>
                  <a:srgbClr val="000000"/>
                </a:solidFill>
                <a:latin typeface="Calibri"/>
              </a:rPr>
              <a:t> hitaben yazılmış olması ve en azından aşağıdaki veri ve bilgileri içermesi gerekir: </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Mağdurun kimlik bilgileri (adres, isim, telefon numarası, yer, email, çevrim içi sistem kimlik numarası, tüzel kişilikler için faaliyet türü)</a:t>
            </a:r>
            <a:r>
              <a:rPr b="0" lang="en-US" sz="1200" spc="-1" strike="noStrike">
                <a:solidFill>
                  <a:srgbClr val="000000"/>
                </a:solidFill>
                <a:latin typeface="Calibri"/>
              </a:rPr>
              <a:t>;</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ildirilen olayların kısa tarifi, meydana geldikleri süre ve nasıl meydana geldikleri, yer, sonuçlar, vs.; </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 </a:t>
            </a:r>
            <a:r>
              <a:rPr b="0" lang="tr-TR" sz="1200" spc="-1" strike="noStrike">
                <a:solidFill>
                  <a:srgbClr val="000000"/>
                </a:solidFill>
                <a:latin typeface="Calibri"/>
              </a:rPr>
              <a:t>zarar, açıklama ve bunun gerekçesi</a:t>
            </a:r>
            <a:r>
              <a:rPr b="0" lang="en-US" sz="1200" spc="-1" strike="noStrike">
                <a:solidFill>
                  <a:srgbClr val="000000"/>
                </a:solidFill>
                <a:latin typeface="Calibri"/>
              </a:rPr>
              <a:t>;</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Mağdurun bilgisayar sistemlerinin bulunduğu yer, bunlar hakkında bilgi verebilecek bakımlarından sorumlu teknik kişiler</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tr-TR" sz="1200" spc="-1" strike="noStrike">
                <a:solidFill>
                  <a:srgbClr val="000000"/>
                </a:solidFill>
                <a:latin typeface="Calibri"/>
              </a:rPr>
              <a:t>Olaylarla ilgili olarak mağdur tarafından yapılmış olabilecek soruşturma ve kontrollerin sonuçları</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tr-TR" sz="1200" spc="-1" strike="noStrike">
                <a:solidFill>
                  <a:srgbClr val="000000"/>
                </a:solidFill>
                <a:latin typeface="Arial"/>
              </a:rPr>
              <a:t>Şüpheliler hakkında bilgi ve onlarla olası iletişim</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tr-TR" sz="1200" spc="-1" strike="noStrike">
                <a:solidFill>
                  <a:srgbClr val="000000"/>
                </a:solidFill>
                <a:latin typeface="Calibri"/>
              </a:rPr>
              <a:t>İletişim araçları ve kaynak</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tr-TR" sz="1200" spc="-1" strike="noStrike">
                <a:solidFill>
                  <a:srgbClr val="000000"/>
                </a:solidFill>
                <a:latin typeface="Calibri"/>
              </a:rPr>
              <a:t>Suç oluşturan faaliyetin kaynağı, yer, bilgisayar, sunucu, site, v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tr-TR" sz="1200" spc="-1" strike="noStrike">
                <a:solidFill>
                  <a:srgbClr val="000000"/>
                </a:solidFill>
                <a:latin typeface="Calibri"/>
              </a:rPr>
              <a:t>Para transferi için kullanılmış olan mali araçlar ve transfer yöntemleri</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tr-TR" sz="1200" spc="-1" strike="noStrike">
                <a:solidFill>
                  <a:srgbClr val="000000"/>
                </a:solidFill>
                <a:latin typeface="Calibri"/>
              </a:rPr>
              <a:t>Olayları destekleyebilecek veya bunlardan haberdar olan tanıklar</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tr-TR" sz="1200" spc="-1" strike="noStrike">
                <a:solidFill>
                  <a:srgbClr val="000000"/>
                </a:solidFill>
                <a:latin typeface="Calibri"/>
              </a:rPr>
              <a:t>Suç sayılan faaliyetlere ilişkin destekleyici kanıtlar</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82D842-4D79-422A-B4F8-AF348E6018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Şikayete ve içeriğine dayalı olarak ve ekteki belgelerin veya kanıtların incelenmesinden sonra işlenen suçların belirlenmesi önem kazanmaktadır. Suçların özelliğine bağlı olarak emniyette veya savcılıkta olayın soruşturulması için yetkili birim, kullanılacak soruşturma araçları yanı sıra duruma göre belirli uluslar arası işbirliği araçlarının kullanılması gereksinimi belirlenecekti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Zararın değerinin, bir suçun veya bir nitelikli dolandırıcılığın varlığını  varsaydığı durumlar olabilir ve bu nedenle, suç faaliyetleri ve zararın boyutu arasında bir karşılıklı bağlantı olması gereklidir. Bu gerçek ve gereksinim nedeniyle bilişim suçları birimlerinin, polis birimleri ve diğer ilgili kuruluşlar arasında bir karşılıklı ilişki oluşturmaları gerekmektedi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uçların belirlenmesi, olayla ilgili yeni suçların dikkate alınabileceği ve yeni gerçeklerin belirlendiği durumların söz konusu olması nedeniyle bütün soruşturma veya </a:t>
            </a:r>
            <a:r>
              <a:rPr b="0" lang="tr-TR" sz="1200" spc="-1" strike="noStrike">
                <a:solidFill>
                  <a:srgbClr val="000000"/>
                </a:solidFill>
                <a:latin typeface="Arial"/>
              </a:rPr>
              <a:t>kovuşturma</a:t>
            </a:r>
            <a:r>
              <a:rPr b="0" lang="tr-TR" sz="1200" spc="-1" strike="noStrike">
                <a:solidFill>
                  <a:srgbClr val="000000"/>
                </a:solidFill>
                <a:latin typeface="Calibri"/>
              </a:rPr>
              <a:t> sırasında devam eden bir süreç olmalıdı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uç oluşturan faaliyetlere katılan daha fazla zanlıyı belirlediğimizde bunların her birinin, gerçeklere ve toplanan kanıtlara dayalı olarak değerlendirilmesi gerekir. Her zanlıya ilişkin bütün bilinen belirleyici unsurların sıralanması ve suç grubunun diğer üyelerinden ayrılması, değerlendirme için yardımcı olacaktı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oruşturmanın başlangıcında, bazı kişilerin katılımı çok açık olmayabilir ve karar vermek için daha fazla bilgi ve kanıta gerek duyabilirsiniz.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ütün kanıtların toplanmasından ve bütün soruşturma araçlarının dosyada kullanılmasından sonra zanlı/zanlılar tarafından işlenmiş olan suçlar ve bunların durumu (tanık, esas suçlu, suç ortağı, vs.) hakkında karara varabilirsiniz.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E8B604-139B-4A5D-8FF4-B95B47BF66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elirlenmesi ve toplanması gereken bütün veriler, bilgiler ve kanıtlar, büyük ölçüde mağdurlardan, tanıklardan, polis veri tabanlarından, açık kaynaklardan veya üçüncü taraflardan elde edilebili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tür verilerin ve kanıtların toplanması ve değerlendirilmesi faaliyeti, bunların elde edilmesi için kullanılacak araçları ve bunların elde edileceği yerler üzerinde odaklanmalıdı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Veri ve kanıtların amacı, bildirilen gerçeklerin açıklığa kavuşturulmasını, zanlıların ve suç oluşturan faaliyetin gerçekleştiği yerlerin belirlenmesini ve ayrıca zararların özelliği ve değerinin anlaşılmasını amaçlamaktadı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Şikayetin alındığı anda soruşturma süreci için gerekli verilerin ve bilgilerin belirlenmesi ve bunların elde edilme kanalları ve araçlarının belirlenmesi önem taşımaktadı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Kanıt toplanma sürecinde önemli hususlardan biri de kanıtları, özellikle de bilgisayarlarından elde edilecek bilgiler gibi dijital kanıtları imha etmeleri olasılığı nedeniyle zanlıyı/zanlıları kuşkulandırmamaktadı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oruşturma sırasında atmaya çalıştığınız bütün adımlarda sonucun ne olacağını ve bunun nasıl kullanılacağını değerlendirmeniz gereki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Zanlı tarafından gerçekleştirilen bütün faaliyetler ve toplayabileceğiniz bütün kanıtlar ve bilgiler, zanlının amacının ve davranışının belirlenmesi amacıyla değerlendirilmelidi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oruşturma veya takibat sırasında gündeme getirilen sorulara en önemli yanıtları en kısa sürede elde etmek amacıyla kanıtların belirlenmesine yönelik faaliyetlerin öncelik sıralamasının yapılması gereki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0B4142-D22D-4482-87B3-65AA0EB4EC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Şikayetin kaydedildiği anda mağdurla birlikte oluşan durumun ve mağduru, bilgisayar sistemlerini veya diğer ticari malları ve çıkarları etkileyebilecek olası risklerin bir değerlendirilmesi yapılmalıdır.  </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Suç oluşturan faaliyet sırasında mağdurun ticari faaliyeti ve mali çıkarlarına ve ayrıca mağdurun veya başka bir kişinin bilgisayar sistemlerine yönelik belirli tehditlerin bulunması mümkündür. </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Ayrıca belirlenen risklere karşı koruma sağlamak için gerekli koruma önlemlerinin belirlenmesi gerekir. </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Bilgisayar sistemlerinden söz ederken koruma önlemleri, teknik hususlarla (sunucuların korunması veya yedek kopyalar alınması) ilgili olabilir. Ticari çıkarlar konusunda bir kişinin şahsi veya ticari itibarının korunması ve oluşan maddi zararın sınırlandırılması gerekir. Bu nedenle, belirli unsurların gizliliğin sürdürülmesi gerekir.  </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Gerçeklerin özelliğine bağlı olarak soruşturmanın başarılı bir şekilde yürütülmesi ve zanlıların ve kanıtların belirlenmesi için mağdurun zanlı ile temasını sürdürmesine ve belirli bir davranışı sergilemesine ihtiyaç duyabiliriz. Daha fazla kanıt toplanması için mağdurdan zanlı ile temasını sürdürmesi istenirken bütün adımları koordine etmeli ve kararlaştırmalı ve mağdurun yanlış anlamasına ve gayrimeşru faaliyetlerde bulunmasına izin vermemeliyiz.  </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Risk değerlendirmesi ve risklerin ortadan kaldırılmasına yönelik önlemlerin belirlenmesi sırasında üçüncü kişilerden veya şirketlerden ilave destek istenebilir. </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Bu nedenle bilişim alanındaki saldırıların değerlendirilmesi için burada kullanılan yazılım uygulamaları ve bilgisayar araçları ile ilgili olarak bilgisayar adli bilim uzmanlarının desteğini talep edebiliriz.  </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Belirli verilerin belirlenmesi veya belirli bilgisayar faaliyetlerinin durdurulması için ve bir sitenin kapatılması veya şirketin sunucusunda bulunan yazılımın kaldırılması amacıyla farklı ülkelerde bile olsalar şirketleri sürece dahil edebiliriz. </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Bütün soruşturma boyunca mağdur ve çıkarları konusunda sürekli bir risk değerlendirmesi yapılması ve ayrıca gerektiğinde uygun önlemlerin alınması için mağdurla sürekli temas içinde olunması önem taşımaktadır. </a:t>
            </a:r>
            <a:endParaRPr b="0" lang="en-US" sz="1100" spc="-1" strike="noStrike">
              <a:solidFill>
                <a:srgbClr val="000000"/>
              </a:solidFill>
              <a:latin typeface="Calibri"/>
            </a:endParaRPr>
          </a:p>
        </p:txBody>
      </p:sp>
      <p:sp>
        <p:nvSpPr>
          <p:cNvPr id="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B54CE6-0F38-446E-9F98-C2DCA20689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Bilişim suçları olaylarında kanıtlar, sadece dijital değil aynı zamanda belgeler, iletişim, tanık ifadeleri, vs. gibi fiziksel nitelikte olabilir. Kanıtların dijital olması halinde kanıtların nerede olduğunun belirlenmesi ve güvenliğinin sağlanması için olay yeri, sürecin en başında belirlenmelidir. Sanal ortam kanıtlarının sınırlı bir süre muhafaza edildiği ve hızlı bir şekilde belirlenmemesi halinde soruşturmayı olumsuz etkileyebileceği çok iyi bilinen bir husustur.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Dijital kanıtların toplanabileceği yerlerin belirlenmesinden sonra bunların korunması ve güvenliği için uygun önlemler alınmalıdır. Soruşturmacıların bilgisayarla arama ve elde etme yeri hakkında bilgi edinmeleri çok yardımcı olacaktır. Bu, bilgisayar adli bilim birimlerinin, hangi özel donanım, yazılım ve uzmanların kullanılacağı ve bunların sayısını kararlaştırmalarında çok yardımcı olacaktır.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Bir bilişim suçları soruşturmasında dijital kanıtlar, çeşitli yerlerden toplanabilir. Ancak en önemli kaynaklar şöyledir: </a:t>
            </a:r>
            <a:endParaRPr b="0" lang="en-US" sz="800" spc="-1" strike="noStrike">
              <a:solidFill>
                <a:srgbClr val="000000"/>
              </a:solidFill>
              <a:latin typeface="Calibri"/>
            </a:endParaRPr>
          </a:p>
          <a:p>
            <a:pPr>
              <a:lnSpc>
                <a:spcPct val="8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Fiillerin gerçekleştirilmiş olduğu bilgisayar. Ancak bu her zaman, suçlunun kimliğinin belirlendiği anlamını taşımaz;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Gizliliği ihlal edilmiş uygulamalar veya sunucular, suçlunun kimliğinin saklanması için kullanılabilir. Bu nedenle saldırının kaynağının belirlenmesi için gerekli olan verilerin ve bilgilerin ilk aşamadan itibaren toplanması önem taşımaktadır.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 </a:t>
            </a:r>
            <a:r>
              <a:rPr b="0" lang="tr-TR" sz="800" spc="-1" strike="noStrike">
                <a:solidFill>
                  <a:srgbClr val="000000"/>
                </a:solidFill>
                <a:latin typeface="Calibri"/>
              </a:rPr>
              <a:t>Suçun özelliğine bağlı olarak duruma göre saldırıya uğrayan veya gizliliği ihlal edilen bilgisayar sistemi</a:t>
            </a:r>
            <a:r>
              <a:rPr b="0" lang="en-GB" sz="800" spc="-1" strike="noStrike">
                <a:solidFill>
                  <a:srgbClr val="000000"/>
                </a:solidFill>
                <a:latin typeface="Calibri"/>
              </a:rPr>
              <a:t>.</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Bu sunucular/bilgisayarlar, derhal ayrılmalı ve başka şekilde daha fazla risk yaratmadıkları taktirde adli bilim uzmanları tarafından incelenmek üzere kapatılmalıdır. Gizliliği ihlal edilmiş sunucularda bulunabilecek bir uygulama, web sayfası, vs.’nin doğru şekilde çalışmasının sağlanması amacıyla bunların, kapatılmaları ve yerlerine güvenlik kopyalarının konulması gerekir. Suç oluşturan faaliyetin belirlenmesinden sonra gizliliği ihlal edilmiş bir sunucunun/bilgisayarın kullanılması tavsiye edilmemektedir. Bir genel virüs nedeniyle saldırının başarılı olması durumunda güvenli kopya da aynı şekilde saldırıya açık olabilir. Bu nedenle güvenli kopyalar, sistemlerin yeniden başlatılmasından önce taktirde incelenmeli ve mümkün olduğu taktirde yama yapılmalıdır.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Gizliliği ihlal edilmiş bilgisayar sistemleri ve uygulamaların değerlendirilmesinin yapılması yoluyla bunların içerdiği bilgilerin bütünlüğü muhafaza edilmelidir.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 </a:t>
            </a:r>
            <a:r>
              <a:rPr b="0" lang="tr-TR" sz="800" spc="-1" strike="noStrike">
                <a:solidFill>
                  <a:srgbClr val="000000"/>
                </a:solidFill>
                <a:latin typeface="Calibri"/>
              </a:rPr>
              <a:t>Her türlü biçimdeki bilgisayar saldırılarının gerçekleştirilmesi için kullanılan diğer bilgisayar sistemleri</a:t>
            </a:r>
            <a:r>
              <a:rPr b="0" lang="en-GB"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Hizmet sağlayıcıları veya üçüncü tarafların dijital kanıtlara sahip olmaları durumunda gerekli verilerin muhafaza edilmesi için derhal kendileri ile temasa geçilmesi gerekir. Hizmet sağlayıcılara muhafaza talebini gönderebilir ve onlardan özellikle bu sistem günlüklerinin ulusal yargı yetkisi dışında bulunması ve elde tutma süresinin sınırlı olması halinde sistem günlüklerini saklamalarını isteyebiliriz. Bazı ülkelerde muhafaza etme talebi, uluslar arası işbirliği bölümünde ayrıntılı olarak açıklanacak 24/7 irtibat görevlilerine gönderilmelidir.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u="sng">
                <a:solidFill>
                  <a:srgbClr val="000000"/>
                </a:solidFill>
                <a:uFillTx/>
                <a:latin typeface="Calibri"/>
              </a:rPr>
              <a:t>Konu</a:t>
            </a:r>
            <a:r>
              <a:rPr b="0" lang="tr-TR" sz="800" spc="-1" strike="noStrike">
                <a:solidFill>
                  <a:srgbClr val="000000"/>
                </a:solidFill>
                <a:latin typeface="Calibri"/>
              </a:rPr>
              <a:t> dijital kanıtlar </a:t>
            </a:r>
            <a:r>
              <a:rPr b="0" lang="tr-TR" sz="800" spc="-1" strike="noStrike" u="sng">
                <a:solidFill>
                  <a:srgbClr val="000000"/>
                </a:solidFill>
                <a:uFillTx/>
                <a:latin typeface="Calibri"/>
              </a:rPr>
              <a:t>olduğunda</a:t>
            </a:r>
            <a:r>
              <a:rPr b="0" lang="tr-TR" sz="800" spc="-1" strike="noStrike">
                <a:solidFill>
                  <a:srgbClr val="000000"/>
                </a:solidFill>
                <a:latin typeface="Calibri"/>
              </a:rPr>
              <a:t> soruşturmada izlenecek yöntemler hakkındaki karar verme sürecinde bunların gerektiği taktirde başka ülkelerden elde edilmesi için gerekli sürenin göz önünde tutulması büyük önem taşıyacaktır. Aynı zamanda diğer ülkelerden yardım talep etme araçları ve kanalları da belirlenmelidir.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Suç oluşturan faaliyetlerde kullanılan elektronik haberleşme sistemleri, bir soruşturma sırasında önem taşır ve bu nedenle mağdur ve zanlı arasındaki mesajların bunların kaynağının bulunması açısından uygun bir biçimde belirlenmesi ve sunulması gerekir.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Fiziksel kanıtlar için normalde bunların, silme veya imha etmeye karşı korunmalarına yönelik bir şart yoktur. Bazı kanıtlar için belirli işlemlere ilişkin bankacılık gizliliği, bunların elde edilmesi için kullanılan araçlar ve statü (polis raporu, savcı veya hakimin onayı) veya sadece uluslararası işbirliği araçları kullanılarak elde edilebilecek olmaları halinde ülke gibi elde etme sürecine ilişkin sınırlandırmalar söz konusu olabilir.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Dijital kanıtlara ilave olarak fiziksel kanıtların elde edilmesi bazen daha kolay olabilir ve bunların değerlendirilmesi, soruşturma için bazı önemli ipuçları sağlayabilir. </a:t>
            </a:r>
            <a:endParaRPr b="0" lang="en-US" sz="800" spc="-1" strike="noStrike">
              <a:solidFill>
                <a:srgbClr val="000000"/>
              </a:solidFill>
              <a:latin typeface="Calibri"/>
            </a:endParaRPr>
          </a:p>
        </p:txBody>
      </p:sp>
      <p:sp>
        <p:nvSpPr>
          <p:cNvPr id="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9D89AD-8FC1-4DA7-9016-752A4A5769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Bilişim suçları ile ilgili olaylarda genellikle kendi bilgisayar sistemlerinin saldırıya uğradığından/gizliliğinin ihlal edildiğinden veya ticari çıkarlarının etkilendiğinden haberdar olmayan mağdurlar vardır. Bilgisayar saldırıları, tek bir suç oluşturan faaliyet sonucunda aynı anda birkaç bilgisayarın/sunucunun gizliliğin ihlal edilmesine neden olabilir ve bu nedenle mağdurların belirlenmesi ve durum hakkında bilgilendirilmeleri ve kendilerine kendi bilgisayarları veya çıkarlarının korunması için bütün önlemleri alma fırsatının tanınması ve aynı zamanda onlardan soruşturma için destekleyici kanıtların elde edilmesi önem kazanır. </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Mağdurlarla temasa geçilerek soruşturma hakkında bilgilendirilmeli ve daha sonra onlardan sahip oldukları her türlü bilgi ve kanıtı temin etmeleri istenmelidir. Mağdurlara şikayette bulunma fırsatı da tanınmalıdır. Bütün haberleşmeler, mağdur ve soruşturma için gizliliği sağlamalıdır. </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Tanıklar, ayrı bir kategori oluşturmaktadır. Suç oluşturan faaliyetlerin kanıtlanması için soruşturma sırasında kullanılacak önemli veri ve kanıtlara sahip olabilecekleri için tanıkların belirlenmesi gerekir. </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Tanıklar, mümkün olan en kısa süre içinde belirlenmeli ve onlarla temasa geçilmesi bir öncelik olarak değerlendirilmelidir. </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Tanıklarla temasa geçilmesi için kullanılan yöntemlerle sahip oldukları veri ve kanıtların talep edilmesinin yolları için geçerli olan hukuki şartlara ve çalışma usullerine göre hareket edilmelidir. </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Soruşturma sırasında mağdurlarla işbirliği, mağdurun kaydedilen ilerleme hakkında bilgilendirilmesi, adli usullerin anlatılması ve gerektiğinde yardım yapılması gereksinimine dayalı devam eden bir süreç olmalıdır.  </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Mağdurların, soruşturmanın başında verilmemiş olan veya daha sonra ortaya çıkan soruşturmacıların bilemeyeceği ve kullanamayacağı ilave verileri belirlediği durumlar olabilir.  </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Mağdurlar ve tanıklarla temas, onların gereksinimleri ve çıkarlarına uygun olmalı ve onların ırkı, dini ve insan hakları göz önünde tutulmalıdır. </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2F8F1B-D65E-47F5-B142-07A27DEC16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Bilişim suçlarının soruşturulduğu olaylarda sadece bilgisayar ve internetle ilgili “yeni soruşturma yöntemleri” üzerinde değil aynı zamanda geleneksel yöntemler üzerinde odaklanılması önem taşır ve olaya ilişkin bütün bilgiler, aynı değer verilerek incelenmelidir.  </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Bütün ifa edilecek soruşturma faaliyetlerinde özellikle şunlar öngörülmelidir:  </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a:t>
            </a:r>
            <a:r>
              <a:rPr b="0" lang="tr-TR" sz="1100" spc="-1" strike="noStrike">
                <a:solidFill>
                  <a:srgbClr val="000000"/>
                </a:solidFill>
                <a:latin typeface="Calibri"/>
              </a:rPr>
              <a:t>suç oluşturan faaliyetin gözlemlenmesi ve durdurulması</a:t>
            </a:r>
            <a:r>
              <a:rPr b="0" lang="en-GB" sz="1100" spc="-1" strike="noStrike">
                <a:solidFill>
                  <a:srgbClr val="000000"/>
                </a:solidFill>
                <a:latin typeface="Calibri"/>
              </a:rPr>
              <a:t>,</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a:t>
            </a:r>
            <a:r>
              <a:rPr b="0" lang="tr-TR" sz="1100" spc="-1" strike="noStrike">
                <a:solidFill>
                  <a:srgbClr val="000000"/>
                </a:solidFill>
                <a:latin typeface="Calibri"/>
              </a:rPr>
              <a:t> zanlıların belirlenmesi ve mahkum edilmeleri, ve</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a:t>
            </a:r>
            <a:r>
              <a:rPr b="0" lang="tr-TR" sz="1100" spc="-1" strike="noStrike">
                <a:solidFill>
                  <a:srgbClr val="000000"/>
                </a:solidFill>
                <a:latin typeface="Calibri"/>
              </a:rPr>
              <a:t> zararın telafi edilmesi</a:t>
            </a:r>
            <a:r>
              <a:rPr b="0" lang="en-GB" sz="1100" spc="-1" strike="noStrike">
                <a:solidFill>
                  <a:srgbClr val="000000"/>
                </a:solidFill>
                <a:latin typeface="Calibri"/>
              </a:rPr>
              <a:t>.</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Her saldırıda ve suçta yapılması gereken ilk işlerden birinin suçun ve zararların durdurulması olduğu konusunda kuşku yoktur. Bazı durumlarda çok dikkatli bir şekilde inceleme yapmamız ve karar vermemiz gerekebilir ve bu faaliyet, aksinin yapılması daha fazla zarar vermeyecekse soruşturma amaçları için belirli bir süre ertelenebilir. </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Polis çalışma usulleri ve yasal hükümlere dayalı olarak gerçekleştirilecek faaliyetlerin öncelik sırası belirlenir. </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Faaliyetlerin ve bunların gerçekleştirilme biçiminin belirlenmesi için savcı, mağdur, tanıklar veya diğer destekleyici bölümler veya kurumların personeline danışılabilir ve kararlar birlikte alınabilir. Mağdurların, durumun özelliği nedeniyle çok duygusal olabileceklerini dikkate almamız gerekir. </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Soruşturmada sürekliliğin sağlanması gerekir. Bu nedenle faaliyetlerin yürütülmesi için karmaşık soruşturmalarda sürekli olarak üyeler arasında iyi ilişkiler sürdüren ve bilgi ve sonuçları paylaşan bir ekip gereklidir..  </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Soruşturma sırasında diğer olaylarla bağlantılar veya başka suç oluşturan faaliyetler ortaya çıkarılabilir ve bu tür durumlarda yetkili bölümlerin bilgilendirilmesi gerekir. </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Bütün belirlenen bilgi ve verilerin arasında bağlantı kurulabilmesi için dosyanın hazırlanması ve sonuçların açıklanması için gerekli belgelerin oluşturulması, soruşturmacıların sürekli bir görevi olmalıdır. </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Başka bir önemli husus da bu durumda verilerin ve kanıtların toplanılması yöntemi ve ayrıca bunların nasıl muhafaza edildiği ve kullanıldığı ile ilgilidir. Bu amaçla bütün yasal hükümlere ve usulleri uyulması ve kanıtların, doğru ve güvenli bir şekilde muhafaza edilmesi gerekir. </a:t>
            </a:r>
            <a:endParaRPr b="0" lang="en-US" sz="11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C722C7-91D0-4B6C-B75C-FD55C0B665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55D4B1-4AC3-4246-B476-C4847B3061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23B44A-D09D-46A9-A470-A69A01DF19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36A26F-20EB-4BED-BCAF-8291035E28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0B9D79-C898-4235-9F17-E69E429165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7C1284-89FE-4436-8D4C-A52BD8338E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8E2F04-DFDC-44BF-8C6D-AF0F2C7016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DF3846-6718-4C7E-BFEA-69CB7CA25C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AC0940-3ACC-4B2C-A740-2D0D672AD4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7DC633-3D8C-45BF-B018-DC767EB2EB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9A8136-5AC9-4BA5-9A1E-2A511961BF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52F0CB-D59B-46B0-8180-10FCF0339D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860BBA-EE7E-47ED-AE08-2A0D76660D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E61D09-E6DE-44D1-9B98-86CA4435D49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400" spc="-1" strike="noStrike">
                <a:solidFill>
                  <a:srgbClr val="000000"/>
                </a:solidFill>
                <a:latin typeface="Calibri"/>
              </a:rPr>
              <a:t>Hakimler ve Savcılar İçin İleri Düzey Bilişim Suçları Eğitimi</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4429080"/>
            <a:ext cx="6400800" cy="120960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a6a6a6"/>
                </a:solidFill>
                <a:latin typeface="Calibri"/>
              </a:rPr>
              <a:t>Soruşturma planı</a:t>
            </a:r>
            <a:endParaRPr b="0" lang="en-US" sz="3200" spc="-1" strike="noStrike">
              <a:solidFill>
                <a:srgbClr val="000000"/>
              </a:solidFill>
              <a:latin typeface="Calibri"/>
            </a:endParaRPr>
          </a:p>
        </p:txBody>
      </p:sp>
      <p:pic>
        <p:nvPicPr>
          <p:cNvPr id="50" name="Picture 3" descr="COE.png"/>
          <p:cNvPicPr/>
          <p:nvPr/>
        </p:nvPicPr>
        <p:blipFill>
          <a:blip r:embed="rId1"/>
          <a:stretch/>
        </p:blipFill>
        <p:spPr>
          <a:xfrm>
            <a:off x="1517760" y="552600"/>
            <a:ext cx="6108480" cy="1104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8. </a:t>
            </a:r>
            <a:r>
              <a:rPr b="1" lang="ro-RO" sz="4000" spc="-1" strike="noStrike">
                <a:solidFill>
                  <a:srgbClr val="000000"/>
                </a:solidFill>
                <a:latin typeface="Calibri"/>
              </a:rPr>
              <a:t>Poli</a:t>
            </a:r>
            <a:r>
              <a:rPr b="1" lang="tr-TR" sz="4000" spc="-1" strike="noStrike">
                <a:solidFill>
                  <a:srgbClr val="000000"/>
                </a:solidFill>
                <a:latin typeface="Calibri"/>
              </a:rPr>
              <a:t>s-savcı işbirliği </a:t>
            </a:r>
            <a:br>
              <a:rPr sz="4000"/>
            </a:br>
            <a:endParaRPr b="0" lang="en-US" sz="40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Dosyanın ve alınan önlemlerin savcıya sunulması</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Ortak soruşturma faaliyetleri</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İşbirliği, özellikle şunlarla ilgilidir</a:t>
            </a:r>
            <a:r>
              <a:rPr b="0" lang="en-US" sz="3000" spc="-1" strike="noStrike">
                <a:solidFill>
                  <a:srgbClr val="000000"/>
                </a:solidFill>
                <a:latin typeface="Calibri"/>
              </a:rPr>
              <a: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t>
            </a:r>
            <a:r>
              <a:rPr b="0" lang="tr-TR" sz="3000" spc="-1" strike="noStrike">
                <a:solidFill>
                  <a:srgbClr val="000000"/>
                </a:solidFill>
                <a:latin typeface="Calibri"/>
              </a:rPr>
              <a:t>işlenmiş olan suçların belirlenmesi</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t>
            </a:r>
            <a:r>
              <a:rPr b="0" lang="tr-TR" sz="3000" spc="-1" strike="noStrike">
                <a:solidFill>
                  <a:srgbClr val="000000"/>
                </a:solidFill>
                <a:latin typeface="Calibri"/>
              </a:rPr>
              <a:t>soruşturma önlemlerinin belirlenmesi</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t>
            </a:r>
            <a:r>
              <a:rPr b="0" lang="tr-TR" sz="3000" spc="-1" strike="noStrike">
                <a:solidFill>
                  <a:srgbClr val="000000"/>
                </a:solidFill>
                <a:latin typeface="Calibri"/>
              </a:rPr>
              <a:t>sonuçların değerlendirilmesi ve aramalar ve zanlıların tutuklanması ve sorgulanması hakkında karar verilmesi</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9.</a:t>
            </a:r>
            <a:r>
              <a:rPr b="0" lang="en-US" sz="4400" spc="-1" strike="noStrike">
                <a:solidFill>
                  <a:srgbClr val="000000"/>
                </a:solidFill>
                <a:latin typeface="Calibri"/>
              </a:rPr>
              <a:t> </a:t>
            </a:r>
            <a:r>
              <a:rPr b="1" lang="tr-TR" sz="4000" spc="-1" strike="noStrike">
                <a:solidFill>
                  <a:srgbClr val="000000"/>
                </a:solidFill>
                <a:latin typeface="Calibri"/>
              </a:rPr>
              <a:t>Zanlıların belirlenmesi</a:t>
            </a:r>
            <a:endParaRPr b="0" lang="en-US" sz="4000" spc="-1" strike="noStrike">
              <a:solidFill>
                <a:srgbClr val="000000"/>
              </a:solidFill>
              <a:latin typeface="Calibri"/>
            </a:endParaRPr>
          </a:p>
        </p:txBody>
      </p:sp>
      <p:sp>
        <p:nvSpPr>
          <p:cNvPr id="70" name=""/>
          <p:cNvSpPr txBox="1"/>
          <p:nvPr/>
        </p:nvSpPr>
        <p:spPr>
          <a:xfrm>
            <a:off x="457200" y="1887480"/>
            <a:ext cx="8229600" cy="4525920"/>
          </a:xfrm>
          <a:prstGeom prst="rect">
            <a:avLst/>
          </a:prstGeom>
          <a:noFill/>
          <a:ln w="0">
            <a:noFill/>
          </a:ln>
        </p:spPr>
        <p:txBody>
          <a:bodyPr anchor="t">
            <a:normAutofit fontScale="99000"/>
          </a:bodyPr>
          <a:p>
            <a:pPr marL="339480" indent="-3394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700" spc="-1" strike="noStrike">
                <a:solidFill>
                  <a:srgbClr val="000000"/>
                </a:solidFill>
                <a:latin typeface="Calibri"/>
              </a:rPr>
              <a:t>Zanlıların kimliğinin ve yerlerinin belirlenmesi</a:t>
            </a:r>
            <a:endParaRPr b="0" lang="en-US" sz="2700" spc="-1" strike="noStrike">
              <a:solidFill>
                <a:srgbClr val="000000"/>
              </a:solidFill>
              <a:latin typeface="Calibri"/>
            </a:endParaRPr>
          </a:p>
          <a:p>
            <a:pPr marL="339480" indent="-3394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700" spc="-1" strike="noStrike">
                <a:solidFill>
                  <a:srgbClr val="000000"/>
                </a:solidFill>
                <a:latin typeface="Calibri"/>
              </a:rPr>
              <a:t>Zanlının kullandığı diğer adresler</a:t>
            </a:r>
            <a:r>
              <a:rPr b="0" lang="en-GB" sz="2700" spc="-1" strike="noStrike">
                <a:solidFill>
                  <a:srgbClr val="000000"/>
                </a:solidFill>
                <a:latin typeface="Calibri"/>
              </a:rPr>
              <a:t>;</a:t>
            </a:r>
            <a:endParaRPr b="0" lang="en-US" sz="2700" spc="-1" strike="noStrike">
              <a:solidFill>
                <a:srgbClr val="000000"/>
              </a:solidFill>
              <a:latin typeface="Calibri"/>
            </a:endParaRPr>
          </a:p>
          <a:p>
            <a:pPr marL="339480" indent="-3394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700" spc="-1" strike="noStrike">
                <a:solidFill>
                  <a:srgbClr val="000000"/>
                </a:solidFill>
                <a:latin typeface="Calibri"/>
              </a:rPr>
              <a:t>Suç işlenmesi için kullanılan bilgisayarın yeri</a:t>
            </a:r>
            <a:r>
              <a:rPr b="0" lang="en-GB" sz="2700" spc="-1" strike="noStrike">
                <a:solidFill>
                  <a:srgbClr val="000000"/>
                </a:solidFill>
                <a:latin typeface="Calibri"/>
              </a:rPr>
              <a:t>;</a:t>
            </a:r>
            <a:endParaRPr b="0" lang="en-US" sz="2700" spc="-1" strike="noStrike">
              <a:solidFill>
                <a:srgbClr val="000000"/>
              </a:solidFill>
              <a:latin typeface="Calibri"/>
            </a:endParaRPr>
          </a:p>
          <a:p>
            <a:pPr marL="339480" indent="-3394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700" spc="-1" strike="noStrike">
                <a:solidFill>
                  <a:srgbClr val="000000"/>
                </a:solidFill>
                <a:latin typeface="Calibri"/>
              </a:rPr>
              <a:t>Kullanılan </a:t>
            </a:r>
            <a:r>
              <a:rPr b="0" lang="en-GB" sz="2700" spc="-1" strike="noStrike">
                <a:solidFill>
                  <a:srgbClr val="000000"/>
                </a:solidFill>
                <a:latin typeface="Calibri"/>
              </a:rPr>
              <a:t>internet </a:t>
            </a:r>
            <a:r>
              <a:rPr b="0" lang="tr-TR" sz="2700" spc="-1" strike="noStrike">
                <a:solidFill>
                  <a:srgbClr val="000000"/>
                </a:solidFill>
                <a:latin typeface="Calibri"/>
              </a:rPr>
              <a:t>bağlantısı</a:t>
            </a:r>
            <a:r>
              <a:rPr b="0" lang="en-GB" sz="2700" spc="-1" strike="noStrike">
                <a:solidFill>
                  <a:srgbClr val="000000"/>
                </a:solidFill>
                <a:latin typeface="Calibri"/>
              </a:rPr>
              <a:t> (</a:t>
            </a:r>
            <a:r>
              <a:rPr b="0" lang="tr-TR" sz="2700" spc="-1" strike="noStrike">
                <a:solidFill>
                  <a:srgbClr val="000000"/>
                </a:solidFill>
                <a:latin typeface="Calibri"/>
              </a:rPr>
              <a:t>kablolu</a:t>
            </a:r>
            <a:r>
              <a:rPr b="0" lang="en-GB" sz="2700" spc="-1" strike="noStrike">
                <a:solidFill>
                  <a:srgbClr val="000000"/>
                </a:solidFill>
                <a:latin typeface="Calibri"/>
              </a:rPr>
              <a:t>, </a:t>
            </a:r>
            <a:r>
              <a:rPr b="0" lang="tr-TR" sz="2700" spc="-1" strike="noStrike">
                <a:solidFill>
                  <a:srgbClr val="000000"/>
                </a:solidFill>
                <a:latin typeface="Calibri"/>
              </a:rPr>
              <a:t>kablosuz</a:t>
            </a:r>
            <a:r>
              <a:rPr b="0" lang="en-GB" sz="2700" spc="-1" strike="noStrike">
                <a:solidFill>
                  <a:srgbClr val="000000"/>
                </a:solidFill>
                <a:latin typeface="Calibri"/>
              </a:rPr>
              <a:t>, ISP, </a:t>
            </a:r>
            <a:r>
              <a:rPr b="0" lang="tr-TR" sz="2700" spc="-1" strike="noStrike">
                <a:solidFill>
                  <a:srgbClr val="000000"/>
                </a:solidFill>
                <a:latin typeface="Calibri"/>
              </a:rPr>
              <a:t>vs.</a:t>
            </a:r>
            <a:r>
              <a:rPr b="0" lang="en-GB" sz="2700" spc="-1" strike="noStrike">
                <a:solidFill>
                  <a:srgbClr val="000000"/>
                </a:solidFill>
                <a:latin typeface="Calibri"/>
              </a:rPr>
              <a:t>)</a:t>
            </a:r>
            <a:endParaRPr b="0" lang="en-US" sz="2700" spc="-1" strike="noStrike">
              <a:solidFill>
                <a:srgbClr val="000000"/>
              </a:solidFill>
              <a:latin typeface="Calibri"/>
            </a:endParaRPr>
          </a:p>
          <a:p>
            <a:pPr marL="339480" indent="-3394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700" spc="-1" strike="noStrike">
                <a:solidFill>
                  <a:srgbClr val="000000"/>
                </a:solidFill>
                <a:latin typeface="Calibri"/>
              </a:rPr>
              <a:t>Suç oluşturan faaliyetler hakkında bilgi ve katılım</a:t>
            </a:r>
            <a:r>
              <a:rPr b="0" lang="en-GB" sz="2700" spc="-1" strike="noStrike">
                <a:solidFill>
                  <a:srgbClr val="000000"/>
                </a:solidFill>
                <a:latin typeface="Calibri"/>
              </a:rPr>
              <a:t>;</a:t>
            </a:r>
            <a:endParaRPr b="0" lang="en-US" sz="2700" spc="-1" strike="noStrike">
              <a:solidFill>
                <a:srgbClr val="000000"/>
              </a:solidFill>
              <a:latin typeface="Calibri"/>
            </a:endParaRPr>
          </a:p>
          <a:p>
            <a:pPr marL="339480" indent="-3394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700" spc="-1" strike="noStrike">
                <a:solidFill>
                  <a:srgbClr val="000000"/>
                </a:solidFill>
                <a:latin typeface="Calibri"/>
              </a:rPr>
              <a:t>Diğer zanlılarla işbirliği ve onların katılımı</a:t>
            </a:r>
            <a:r>
              <a:rPr b="0" lang="en-GB" sz="2700" spc="-1" strike="noStrike">
                <a:solidFill>
                  <a:srgbClr val="000000"/>
                </a:solidFill>
                <a:latin typeface="Calibri"/>
              </a:rPr>
              <a:t>;</a:t>
            </a:r>
            <a:endParaRPr b="0" lang="en-US" sz="2700" spc="-1" strike="noStrike">
              <a:solidFill>
                <a:srgbClr val="000000"/>
              </a:solidFill>
              <a:latin typeface="Calibri"/>
            </a:endParaRPr>
          </a:p>
          <a:p>
            <a:pPr marL="339480" indent="-3394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700" spc="-1" strike="noStrike">
                <a:solidFill>
                  <a:srgbClr val="000000"/>
                </a:solidFill>
                <a:latin typeface="Calibri"/>
              </a:rPr>
              <a:t>Mali soruşturma</a:t>
            </a:r>
            <a:endParaRPr b="0" lang="en-US" sz="2700" spc="-1" strike="noStrike">
              <a:solidFill>
                <a:srgbClr val="000000"/>
              </a:solidFill>
              <a:latin typeface="Calibri"/>
            </a:endParaRPr>
          </a:p>
          <a:p>
            <a:pPr marL="339480" indent="-3394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700" spc="-1" strike="noStrike">
                <a:solidFill>
                  <a:srgbClr val="000000"/>
                </a:solidFill>
                <a:latin typeface="Calibri"/>
              </a:rPr>
              <a:t>Altyapı hizmetleri abone bilgileri</a:t>
            </a:r>
            <a:endParaRPr b="0" lang="en-US" sz="2700" spc="-1" strike="noStrike">
              <a:solidFill>
                <a:srgbClr val="000000"/>
              </a:solidFill>
              <a:latin typeface="Calibri"/>
            </a:endParaRPr>
          </a:p>
          <a:p>
            <a:pPr marL="339480" indent="-3394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700" spc="-1" strike="noStrike">
                <a:solidFill>
                  <a:srgbClr val="000000"/>
                </a:solidFill>
                <a:latin typeface="Calibri"/>
              </a:rPr>
              <a:t>Başka zanlı veya başka suç soruşturmaları ile bağlantılar</a:t>
            </a:r>
            <a:endParaRPr b="0" lang="en-US" sz="2700" spc="-1" strike="noStrike">
              <a:solidFill>
                <a:srgbClr val="000000"/>
              </a:solidFill>
              <a:latin typeface="Calibri"/>
            </a:endParaRPr>
          </a:p>
          <a:p>
            <a:pPr marL="339480" indent="-3394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700" spc="-1" strike="noStrike">
                <a:solidFill>
                  <a:srgbClr val="000000"/>
                </a:solidFill>
                <a:latin typeface="Calibri"/>
              </a:rPr>
              <a:t>Polis veri tabanları ve internet, bir bilgi kaynağı olarak kullanılabilir</a:t>
            </a:r>
            <a:endParaRPr b="0" lang="en-US" sz="2700" spc="-1" strike="noStrike">
              <a:solidFill>
                <a:srgbClr val="000000"/>
              </a:solidFill>
              <a:latin typeface="Calibri"/>
            </a:endParaRPr>
          </a:p>
          <a:p>
            <a:pPr marL="339480" indent="-3394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612720"/>
            <a:ext cx="8489880" cy="1006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10. </a:t>
            </a:r>
            <a:r>
              <a:rPr b="1" lang="tr-TR" sz="4000" spc="-1" strike="noStrike">
                <a:solidFill>
                  <a:srgbClr val="000000"/>
                </a:solidFill>
                <a:latin typeface="Calibri"/>
              </a:rPr>
              <a:t>Diğer makamlarla işbirliği</a:t>
            </a:r>
            <a:br>
              <a:rPr sz="4000"/>
            </a:br>
            <a:endParaRPr b="0" lang="en-US" sz="40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Bu işbirliği, aşağıda belirtilen konular üzerinde odaklanmalıdır</a:t>
            </a:r>
            <a:r>
              <a:rPr b="0" lang="en-US" sz="3000" spc="-1" strike="noStrike">
                <a:solidFill>
                  <a:srgbClr val="000000"/>
                </a:solidFill>
                <a:latin typeface="Calibri"/>
              </a:rPr>
              <a: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t>
            </a:r>
            <a:r>
              <a:rPr b="0" lang="tr-TR" sz="3000" spc="-1" strike="noStrike">
                <a:solidFill>
                  <a:srgbClr val="000000"/>
                </a:solidFill>
                <a:latin typeface="Calibri"/>
              </a:rPr>
              <a:t>olaylar, kişiler, faaliyet yöntemleri, soruşturmalardaki bağlantılar hakkında bilgi değişimi</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t>
            </a:r>
            <a:r>
              <a:rPr b="0" lang="tr-TR" sz="3000" spc="-1" strike="noStrike">
                <a:solidFill>
                  <a:srgbClr val="000000"/>
                </a:solidFill>
                <a:latin typeface="Calibri"/>
              </a:rPr>
              <a:t>veri ve kanıt toplanması</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t>
            </a:r>
            <a:r>
              <a:rPr b="0" lang="tr-TR" sz="3000" spc="-1" strike="noStrike">
                <a:solidFill>
                  <a:srgbClr val="000000"/>
                </a:solidFill>
                <a:latin typeface="Calibri"/>
              </a:rPr>
              <a:t>belirli faaliyetlerin gerçekleştirilmesi için lojistik destek sağlanması</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t>
            </a:r>
            <a:r>
              <a:rPr b="0" lang="tr-TR" sz="3000" spc="-1" strike="noStrike">
                <a:solidFill>
                  <a:srgbClr val="000000"/>
                </a:solidFill>
                <a:latin typeface="Calibri"/>
              </a:rPr>
              <a:t>teknik, mali veya diğer konularda uzmanlaşmış yardım</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600" cy="22716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11. </a:t>
            </a:r>
            <a:r>
              <a:rPr b="1" lang="tr-TR" sz="4000" spc="-1" strike="noStrike">
                <a:solidFill>
                  <a:srgbClr val="000000"/>
                </a:solidFill>
                <a:latin typeface="Calibri"/>
              </a:rPr>
              <a:t>Faaliyetlerin değerlendirilmesi ve arama, tutuklama ve sorgulamaların yapılması </a:t>
            </a:r>
            <a:br>
              <a:rPr sz="4000"/>
            </a:br>
            <a:endParaRPr b="0" lang="en-US" sz="4000" spc="-1" strike="noStrike">
              <a:solidFill>
                <a:srgbClr val="000000"/>
              </a:solidFill>
              <a:latin typeface="Calibri"/>
            </a:endParaRPr>
          </a:p>
        </p:txBody>
      </p:sp>
      <p:sp>
        <p:nvSpPr>
          <p:cNvPr id="74" name=""/>
          <p:cNvSpPr txBox="1"/>
          <p:nvPr/>
        </p:nvSpPr>
        <p:spPr>
          <a:xfrm>
            <a:off x="457200" y="2295360"/>
            <a:ext cx="8229600" cy="421344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Değerlendirme süreci, şunları kapsamalıdır</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tr-TR" sz="3200" spc="-1" strike="noStrike">
                <a:solidFill>
                  <a:srgbClr val="000000"/>
                </a:solidFill>
                <a:latin typeface="Calibri"/>
              </a:rPr>
              <a:t>faaliyetlerin nasıl yürütüldüğü</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tr-TR" sz="3200" spc="-1" strike="noStrike">
                <a:solidFill>
                  <a:srgbClr val="000000"/>
                </a:solidFill>
                <a:latin typeface="Calibri"/>
              </a:rPr>
              <a:t>kararlara ve adımlara uyulup uyulmadığı</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tr-TR" sz="3200" spc="-1" strike="noStrike">
                <a:solidFill>
                  <a:srgbClr val="000000"/>
                </a:solidFill>
                <a:latin typeface="Calibri"/>
              </a:rPr>
              <a:t>toplanan kanıtların karar verilmesi için yeterli olup olmadığı</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tr-TR" sz="3200" spc="-1" strike="noStrike">
                <a:solidFill>
                  <a:srgbClr val="000000"/>
                </a:solidFill>
                <a:latin typeface="Calibri"/>
              </a:rPr>
              <a:t>hukuki usuller ve hükümlere uyulup uyulmadığı</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457200" y="1111320"/>
            <a:ext cx="8229600" cy="501480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 </a:t>
            </a:r>
            <a:r>
              <a:rPr b="0" lang="tr-TR" sz="3000" spc="-1" strike="noStrike">
                <a:solidFill>
                  <a:srgbClr val="000000"/>
                </a:solidFill>
                <a:latin typeface="Calibri"/>
              </a:rPr>
              <a:t>bütün hususların soruşturulup soruşturulmadığı</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 </a:t>
            </a:r>
            <a:r>
              <a:rPr b="0" lang="tr-TR" sz="3000" spc="-1" strike="noStrike">
                <a:solidFill>
                  <a:srgbClr val="000000"/>
                </a:solidFill>
                <a:latin typeface="Calibri"/>
              </a:rPr>
              <a:t>ilave soruşturma önlemleri için emir verilmesi</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 </a:t>
            </a:r>
            <a:r>
              <a:rPr b="0" lang="tr-TR" sz="3000" spc="-1" strike="noStrike">
                <a:solidFill>
                  <a:srgbClr val="000000"/>
                </a:solidFill>
                <a:latin typeface="Calibri"/>
              </a:rPr>
              <a:t>suç oluşturan faaliyetin sona erdirilip erdirilmediği ve devam etmesi halinde etkisinin ne olduğu</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Hukuki hükümlere ve usullere uygun hareket edilmesi</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Faaliyetlerin yürütülmesi için kişilerin hazırlanması</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Dava dosyasından belgelerin hazırlanması</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30200"/>
            <a:ext cx="8229600" cy="21160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12. </a:t>
            </a:r>
            <a:r>
              <a:rPr b="1" lang="tr-TR" sz="4000" spc="-1" strike="noStrike">
                <a:solidFill>
                  <a:srgbClr val="000000"/>
                </a:solidFill>
                <a:latin typeface="Calibri"/>
              </a:rPr>
              <a:t>Çıkarılan dersler ve uygulamaların belirlenmesi ve bunların dağıtımı için soruşturmanın değerlendirilmesi </a:t>
            </a:r>
            <a:br>
              <a:rPr sz="4000"/>
            </a:br>
            <a:endParaRPr b="0" lang="en-US" sz="4000" spc="-1" strike="noStrike">
              <a:solidFill>
                <a:srgbClr val="000000"/>
              </a:solidFill>
              <a:latin typeface="Calibri"/>
            </a:endParaRPr>
          </a:p>
        </p:txBody>
      </p:sp>
      <p:sp>
        <p:nvSpPr>
          <p:cNvPr id="77" name=""/>
          <p:cNvSpPr txBox="1"/>
          <p:nvPr/>
        </p:nvSpPr>
        <p:spPr>
          <a:xfrm>
            <a:off x="457200" y="2742840"/>
            <a:ext cx="8229600" cy="34066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Davanın değerlendirilmes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Olumlu noktala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Olumsuz noktala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Öğrenilen uygulamaların ve en iyi uygulamaların dağıtımı</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92240"/>
            <a:ext cx="8229600" cy="9828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600" spc="-1" strike="noStrike">
                <a:solidFill>
                  <a:srgbClr val="000000"/>
                </a:solidFill>
                <a:latin typeface="Calibri"/>
              </a:rPr>
              <a:t>13. Kurs Senaryo İpuçları</a:t>
            </a:r>
            <a:endParaRPr b="0" lang="en-US" sz="3600" spc="-1" strike="noStrike">
              <a:solidFill>
                <a:srgbClr val="000000"/>
              </a:solidFill>
              <a:latin typeface="Calibri"/>
            </a:endParaRPr>
          </a:p>
        </p:txBody>
      </p:sp>
      <p:sp>
        <p:nvSpPr>
          <p:cNvPr id="79" name=""/>
          <p:cNvSpPr txBox="1"/>
          <p:nvPr/>
        </p:nvSpPr>
        <p:spPr>
          <a:xfrm>
            <a:off x="169560" y="694800"/>
            <a:ext cx="9078840" cy="5078520"/>
          </a:xfrm>
          <a:prstGeom prst="rect">
            <a:avLst/>
          </a:prstGeom>
          <a:noFill/>
          <a:ln w="0">
            <a:noFill/>
          </a:ln>
        </p:spPr>
        <p:txBody>
          <a:bodyPr anchor="t">
            <a:normAutofit fontScale="88000"/>
          </a:bodyPr>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100" spc="-1" strike="noStrike">
                <a:solidFill>
                  <a:srgbClr val="000000"/>
                </a:solidFill>
                <a:latin typeface="Calibri"/>
              </a:rPr>
              <a:t>DDOS saldırısı, temel unsurlar açısından açık mıdır</a:t>
            </a:r>
            <a:r>
              <a:rPr b="0" lang="en-US" sz="2100" spc="-1" strike="noStrike">
                <a:solidFill>
                  <a:srgbClr val="000000"/>
                </a:solidFill>
                <a:latin typeface="Calibri"/>
              </a:rPr>
              <a:t>?</a:t>
            </a: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100" spc="-1" strike="noStrike">
                <a:solidFill>
                  <a:srgbClr val="000000"/>
                </a:solidFill>
                <a:latin typeface="Calibri"/>
              </a:rPr>
              <a:t>Siz, bugün ve yarın soruşturma yapması öngörülen soruşturmacısınız</a:t>
            </a: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100" spc="-1" strike="noStrike">
                <a:solidFill>
                  <a:srgbClr val="000000"/>
                </a:solidFill>
                <a:latin typeface="Calibri"/>
              </a:rPr>
              <a:t>Bir veya iki kişi gruptaki soruşturmaya liderlik yapabilir</a:t>
            </a: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100" spc="-1" strike="noStrike">
                <a:solidFill>
                  <a:srgbClr val="000000"/>
                </a:solidFill>
                <a:latin typeface="Calibri"/>
              </a:rPr>
              <a:t>Yerel ceza hukukunuzdaki suç türünü tanımlayın</a:t>
            </a: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100" spc="-1" strike="noStrike">
                <a:solidFill>
                  <a:srgbClr val="000000"/>
                </a:solidFill>
                <a:latin typeface="Calibri"/>
              </a:rPr>
              <a:t>Bu tür bir suç için hangi yasa yetkilerinin kullanılabileceğini belirtin</a:t>
            </a:r>
            <a:r>
              <a:rPr b="0" lang="en-US" sz="2100" spc="-1" strike="noStrike">
                <a:solidFill>
                  <a:srgbClr val="000000"/>
                </a:solidFill>
                <a:latin typeface="Calibri"/>
              </a:rPr>
              <a:t>?</a:t>
            </a: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100" spc="-1" strike="noStrike">
                <a:solidFill>
                  <a:srgbClr val="000000"/>
                </a:solidFill>
                <a:latin typeface="Calibri"/>
              </a:rPr>
              <a:t>Neyi bildiğinizi ve neyin eksik olduğunu belirtin</a:t>
            </a: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100" spc="-1" strike="noStrike">
                <a:solidFill>
                  <a:srgbClr val="000000"/>
                </a:solidFill>
                <a:latin typeface="Calibri"/>
              </a:rPr>
              <a:t>İnternetten ve internet dışında hangi tür verileri elde edebileceğinizi belirtin</a:t>
            </a: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100" spc="-1" strike="noStrike">
                <a:solidFill>
                  <a:srgbClr val="000000"/>
                </a:solidFill>
                <a:latin typeface="Calibri"/>
              </a:rPr>
              <a:t>Buradaki eğitimciler, veri sağlayıcısı ve mağdurdur. İstendiği taktirde veri sağlayabilirler (küçük not kağıdını kullanın)</a:t>
            </a: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100" spc="-1" strike="noStrike">
                <a:solidFill>
                  <a:srgbClr val="000000"/>
                </a:solidFill>
                <a:latin typeface="Calibri"/>
              </a:rPr>
              <a:t>Bütün çabalar, olumlu yanıt veya veri alınmasını sağlamayabilir</a:t>
            </a: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100" spc="-1" strike="noStrike">
                <a:solidFill>
                  <a:srgbClr val="000000"/>
                </a:solidFill>
                <a:latin typeface="Calibri"/>
              </a:rPr>
              <a:t>Ayrıntılı olarak düşünün ve bütün süreç hakkında düşünün</a:t>
            </a: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100" spc="-1" strike="noStrike">
                <a:solidFill>
                  <a:srgbClr val="000000"/>
                </a:solidFill>
                <a:latin typeface="Calibri"/>
              </a:rPr>
              <a:t>Aynı anda bir çok çaba gösterin</a:t>
            </a: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100" spc="-1" strike="noStrike">
                <a:solidFill>
                  <a:srgbClr val="000000"/>
                </a:solidFill>
                <a:latin typeface="Calibri"/>
              </a:rPr>
              <a:t>Kendinizi suçlunun yerine koyarak düşünün</a:t>
            </a: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100" spc="-1" strike="noStrike">
                <a:solidFill>
                  <a:srgbClr val="000000"/>
                </a:solidFill>
                <a:latin typeface="Calibri"/>
              </a:rPr>
              <a:t>Suçlunun / suçluların kimliğini belirleyin</a:t>
            </a: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100" spc="-1" strike="noStrike">
                <a:solidFill>
                  <a:srgbClr val="000000"/>
                </a:solidFill>
                <a:latin typeface="Calibri"/>
              </a:rPr>
              <a:t>Grubunuzda kimlik belirleme konusundaki etkin katılımınız takdir edilmektedir</a:t>
            </a: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81" name="TextBox 3"/>
          <p:cNvSpPr/>
          <p:nvPr/>
        </p:nvSpPr>
        <p:spPr>
          <a:xfrm>
            <a:off x="3083760" y="4500720"/>
            <a:ext cx="2236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5400" spc="-1" strike="noStrike">
                <a:solidFill>
                  <a:srgbClr val="000000"/>
                </a:solidFill>
                <a:latin typeface="Calibri"/>
              </a:rPr>
              <a:t>Sorular</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456840" y="3009600"/>
            <a:ext cx="8512200" cy="2709720"/>
          </a:xfrm>
          <a:prstGeom prst="rect">
            <a:avLst/>
          </a:prstGeom>
          <a:noFill/>
          <a:ln w="0">
            <a:noFill/>
          </a:ln>
        </p:spPr>
        <p:txBody>
          <a:bodyPr anchor="t">
            <a:normAutofit/>
          </a:bodyPr>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Bir soruşturma başlatılması için yeterli veri bulunması</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Bildirilen gerçeklerin, suç olarak görülmesi</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Yetkili makama hitaben yazılmalıdır</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Şikayetin içeriği</a:t>
            </a:r>
            <a:endParaRPr b="0" lang="en-US" sz="3000" spc="-1" strike="noStrike">
              <a:solidFill>
                <a:srgbClr val="000000"/>
              </a:solidFill>
              <a:latin typeface="Calibr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spcBef>
                <a:spcPts val="64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sp>
        <p:nvSpPr>
          <p:cNvPr id="52" name="PlaceHolder 1"/>
          <p:cNvSpPr>
            <a:spLocks noGrp="1"/>
          </p:cNvSpPr>
          <p:nvPr>
            <p:ph type="title"/>
          </p:nvPr>
        </p:nvSpPr>
        <p:spPr>
          <a:xfrm>
            <a:off x="314280" y="717120"/>
            <a:ext cx="8229600" cy="1327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1. </a:t>
            </a:r>
            <a:r>
              <a:rPr b="1" lang="tr-TR" sz="4000" spc="-1" strike="noStrike">
                <a:solidFill>
                  <a:srgbClr val="000000"/>
                </a:solidFill>
                <a:latin typeface="Calibri"/>
              </a:rPr>
              <a:t>Şikayetin alınması ve değerlendirilmesi</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Şikayetin içeriği</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200" spc="-1" strike="noStrike">
                <a:solidFill>
                  <a:srgbClr val="000000"/>
                </a:solidFill>
                <a:latin typeface="Calibri"/>
              </a:rPr>
              <a:t>Mağdurun kimlik bilgileri</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200" spc="-1" strike="noStrike">
                <a:solidFill>
                  <a:srgbClr val="000000"/>
                </a:solidFill>
                <a:latin typeface="Calibri"/>
              </a:rPr>
              <a:t>Bildirilen olayların kısa tarifi</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200" spc="-1" strike="noStrike">
                <a:solidFill>
                  <a:srgbClr val="000000"/>
                </a:solidFill>
                <a:latin typeface="Calibri"/>
              </a:rPr>
              <a:t>Zarar, açıklama ve bunun gerekçesi</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200" spc="-1" strike="noStrike">
                <a:solidFill>
                  <a:srgbClr val="000000"/>
                </a:solidFill>
                <a:latin typeface="Calibri"/>
              </a:rPr>
              <a:t>Mağdurun bilgisayar sistemlerinin bulunduğu yer, bunlar hakkında bilgi verebilecek bakımlarından sorumlu teknik kişiler</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200" spc="-1" strike="noStrike">
                <a:solidFill>
                  <a:srgbClr val="000000"/>
                </a:solidFill>
                <a:latin typeface="Calibri"/>
              </a:rPr>
              <a:t>Mağdur tarafından yapılmış olan doğrulamalar ve kontroller</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200" spc="-1" strike="noStrike">
                <a:solidFill>
                  <a:srgbClr val="000000"/>
                </a:solidFill>
                <a:latin typeface="Calibri"/>
              </a:rPr>
              <a:t>Zanlılar hakkında bilgiler ve bunlarla olası iletişim</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200" spc="-1" strike="noStrike">
                <a:solidFill>
                  <a:srgbClr val="000000"/>
                </a:solidFill>
                <a:latin typeface="Calibri"/>
              </a:rPr>
              <a:t>İletişim araçları ve kaynak</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200" spc="-1" strike="noStrike">
                <a:solidFill>
                  <a:srgbClr val="000000"/>
                </a:solidFill>
                <a:latin typeface="Calibri"/>
              </a:rPr>
              <a:t>Suç oluşturan faaliyetin kaynağı</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200" spc="-1" strike="noStrike">
                <a:solidFill>
                  <a:srgbClr val="000000"/>
                </a:solidFill>
                <a:latin typeface="Calibri"/>
              </a:rPr>
              <a:t>İlgili mali araçlar</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200" spc="-1" strike="noStrike">
                <a:solidFill>
                  <a:srgbClr val="000000"/>
                </a:solidFill>
                <a:latin typeface="Calibri"/>
              </a:rPr>
              <a:t>tanıklar</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200" spc="-1" strike="noStrike">
                <a:solidFill>
                  <a:srgbClr val="000000"/>
                </a:solidFill>
                <a:latin typeface="Calibri"/>
              </a:rPr>
              <a:t>Destekleyici kanıtlar</a:t>
            </a:r>
            <a:endParaRPr b="0" lang="en-US" sz="2200" spc="-1" strike="noStrike">
              <a:solidFill>
                <a:srgbClr val="000000"/>
              </a:solidFill>
              <a:latin typeface="Calibri"/>
            </a:endParaRPr>
          </a:p>
          <a:p>
            <a:pPr marL="343080" indent="-343080">
              <a:lnSpc>
                <a:spcPct val="13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490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2. </a:t>
            </a:r>
            <a:r>
              <a:rPr b="1" lang="tr-TR" sz="4000" spc="-1" strike="noStrike">
                <a:solidFill>
                  <a:srgbClr val="000000"/>
                </a:solidFill>
                <a:latin typeface="Calibri"/>
              </a:rPr>
              <a:t>Suçların belirlenmesi</a:t>
            </a:r>
            <a:endParaRPr b="0" lang="en-US" sz="4000" spc="-1" strike="noStrike">
              <a:solidFill>
                <a:srgbClr val="000000"/>
              </a:solidFill>
              <a:latin typeface="Calibri"/>
            </a:endParaRPr>
          </a:p>
        </p:txBody>
      </p:sp>
      <p:sp>
        <p:nvSpPr>
          <p:cNvPr id="56" name=""/>
          <p:cNvSpPr txBox="1"/>
          <p:nvPr/>
        </p:nvSpPr>
        <p:spPr>
          <a:xfrm>
            <a:off x="457200" y="19224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Soruşturma yapacak yetkili organla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Kanıt toplama yöntemler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Soruşturma araçları</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Uluslar arası işbirliği araçları</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Bildirilen faaliyetler ve zararın boyutu arasındaki karşılıklı ilişk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223920" y="490680"/>
            <a:ext cx="8686800" cy="1481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3</a:t>
            </a:r>
            <a:r>
              <a:rPr b="1" lang="en-US" sz="4000" spc="-1" strike="noStrike">
                <a:solidFill>
                  <a:srgbClr val="000000"/>
                </a:solidFill>
                <a:latin typeface="Calibri"/>
              </a:rPr>
              <a:t>. </a:t>
            </a:r>
            <a:r>
              <a:rPr b="1" lang="tr-TR" sz="4000" spc="-1" strike="noStrike">
                <a:solidFill>
                  <a:srgbClr val="000000"/>
                </a:solidFill>
                <a:latin typeface="Calibri"/>
              </a:rPr>
              <a:t>Kanıtların, bilgilerin ve istihbaratın toplanması ve değerlendirilmesi </a:t>
            </a:r>
            <a:br>
              <a:rPr sz="4000"/>
            </a:br>
            <a:endParaRPr b="0" lang="en-US" sz="4000" spc="-1" strike="noStrike">
              <a:solidFill>
                <a:srgbClr val="000000"/>
              </a:solidFill>
              <a:latin typeface="Calibri"/>
            </a:endParaRPr>
          </a:p>
        </p:txBody>
      </p:sp>
      <p:sp>
        <p:nvSpPr>
          <p:cNvPr id="58" name=""/>
          <p:cNvSpPr txBox="1"/>
          <p:nvPr/>
        </p:nvSpPr>
        <p:spPr>
          <a:xfrm>
            <a:off x="457200" y="2384280"/>
            <a:ext cx="8229600" cy="34005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Kaynaklar</a:t>
            </a:r>
            <a:r>
              <a:rPr b="0" lang="en-US" sz="3000" spc="-1" strike="noStrike">
                <a:solidFill>
                  <a:srgbClr val="000000"/>
                </a:solidFill>
                <a:latin typeface="Calibri"/>
              </a:rPr>
              <a:t>: </a:t>
            </a:r>
            <a:r>
              <a:rPr b="0" lang="tr-TR" sz="3000" spc="-1" strike="noStrike">
                <a:solidFill>
                  <a:srgbClr val="000000"/>
                </a:solidFill>
                <a:latin typeface="Calibri"/>
              </a:rPr>
              <a:t>mağdurlar, tanıklar, polis veri tabanları, açık kaynaklar veya üçüncü taraflar</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Araçlar ve yer</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Hedef</a:t>
            </a:r>
            <a:r>
              <a:rPr b="0" lang="en-US" sz="3000" spc="-1" strike="noStrike">
                <a:solidFill>
                  <a:srgbClr val="000000"/>
                </a:solidFill>
                <a:latin typeface="Calibri"/>
              </a:rPr>
              <a:t>: </a:t>
            </a:r>
            <a:r>
              <a:rPr b="0" lang="tr-TR" sz="3000" spc="-1" strike="noStrike">
                <a:solidFill>
                  <a:srgbClr val="000000"/>
                </a:solidFill>
                <a:latin typeface="Calibri"/>
              </a:rPr>
              <a:t>bildirilen gerçeklerin açıklığa kavuşturulması, zanlıların ve suç oluşturan faaliyetin gerçekleştiği yerlerin, zararların özelliği ve değerinin belirlenmesi</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599760" y="233280"/>
            <a:ext cx="8543880" cy="20620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4. </a:t>
            </a:r>
            <a:r>
              <a:rPr b="1" lang="tr-TR" sz="4000" spc="-1" strike="noStrike">
                <a:solidFill>
                  <a:srgbClr val="000000"/>
                </a:solidFill>
                <a:latin typeface="Calibri"/>
              </a:rPr>
              <a:t>Bir risk değerlendirmesi yapılması ve ilave destek gereksiniminin belirlenmesi</a:t>
            </a:r>
            <a:endParaRPr b="0" lang="en-US" sz="4000" spc="-1" strike="noStrike">
              <a:solidFill>
                <a:srgbClr val="000000"/>
              </a:solidFill>
              <a:latin typeface="Calibri"/>
            </a:endParaRPr>
          </a:p>
        </p:txBody>
      </p:sp>
      <p:sp>
        <p:nvSpPr>
          <p:cNvPr id="60" name=""/>
          <p:cNvSpPr txBox="1"/>
          <p:nvPr/>
        </p:nvSpPr>
        <p:spPr>
          <a:xfrm>
            <a:off x="457200" y="2295000"/>
            <a:ext cx="8229600" cy="38307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700" spc="-1" strike="noStrike">
                <a:solidFill>
                  <a:srgbClr val="000000"/>
                </a:solidFill>
                <a:latin typeface="Calibri"/>
              </a:rPr>
              <a:t>Mağdurla birlikte yapılır</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700" spc="-1" strike="noStrike">
                <a:solidFill>
                  <a:srgbClr val="000000"/>
                </a:solidFill>
                <a:latin typeface="Calibri"/>
              </a:rPr>
              <a:t>Olası riskler</a:t>
            </a:r>
            <a:r>
              <a:rPr b="0" lang="en-US" sz="2700" spc="-1" strike="noStrike">
                <a:solidFill>
                  <a:srgbClr val="000000"/>
                </a:solidFill>
                <a:latin typeface="Calibri"/>
              </a:rPr>
              <a:t>: </a:t>
            </a:r>
            <a:r>
              <a:rPr b="0" lang="tr-TR" sz="2700" spc="-1" strike="noStrike">
                <a:solidFill>
                  <a:srgbClr val="000000"/>
                </a:solidFill>
                <a:latin typeface="Calibri"/>
              </a:rPr>
              <a:t>mağduru, bilgisayar sistemlerini veya diğer ticari malları ve çıkarları etkileyebilir</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700" spc="-1" strike="noStrike">
                <a:solidFill>
                  <a:srgbClr val="000000"/>
                </a:solidFill>
                <a:latin typeface="Calibri"/>
              </a:rPr>
              <a:t>Koruma önlemlerinin belirlenmesi</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700" spc="-1" strike="noStrike">
                <a:solidFill>
                  <a:srgbClr val="000000"/>
                </a:solidFill>
                <a:latin typeface="Calibri"/>
              </a:rPr>
              <a:t>Mağdurun zanlı ile temasını sürdürmesi</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700" spc="-1" strike="noStrike">
                <a:solidFill>
                  <a:srgbClr val="000000"/>
                </a:solidFill>
                <a:latin typeface="Calibri"/>
              </a:rPr>
              <a:t>Bir bilgisayar adli bilim uzmanı veya bir üçüncü tarafın desteği</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700" spc="-1" strike="noStrike">
                <a:solidFill>
                  <a:srgbClr val="000000"/>
                </a:solidFill>
                <a:latin typeface="Calibri"/>
              </a:rPr>
              <a:t>Sürekli risk değerlendirmesi ve mağdurla temasın sürdürülmesi</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196560" y="542520"/>
            <a:ext cx="8947080" cy="14828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5. </a:t>
            </a:r>
            <a:r>
              <a:rPr b="1" lang="tr-TR" sz="4000" spc="-1" strike="noStrike">
                <a:solidFill>
                  <a:srgbClr val="000000"/>
                </a:solidFill>
                <a:latin typeface="Calibri"/>
              </a:rPr>
              <a:t>Olay yerinin korunması ve kanıtların muhafaza edilmesi</a:t>
            </a:r>
            <a:br>
              <a:rPr sz="4000"/>
            </a:br>
            <a:endParaRPr b="0" lang="en-US" sz="4000" spc="-1" strike="noStrike">
              <a:solidFill>
                <a:srgbClr val="000000"/>
              </a:solidFill>
              <a:latin typeface="Calibri"/>
            </a:endParaRPr>
          </a:p>
        </p:txBody>
      </p:sp>
      <p:sp>
        <p:nvSpPr>
          <p:cNvPr id="62" name=""/>
          <p:cNvSpPr txBox="1"/>
          <p:nvPr/>
        </p:nvSpPr>
        <p:spPr>
          <a:xfrm>
            <a:off x="457200" y="2025720"/>
            <a:ext cx="8229600" cy="410040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Dijital ve maddi kanıtlar</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3000" spc="-1" strike="noStrike">
                <a:solidFill>
                  <a:srgbClr val="000000"/>
                </a:solidFill>
                <a:latin typeface="Calibri"/>
              </a:rPr>
              <a:t>Di</a:t>
            </a:r>
            <a:r>
              <a:rPr b="0" lang="tr-TR" sz="3000" spc="-1" strike="noStrike">
                <a:solidFill>
                  <a:srgbClr val="000000"/>
                </a:solidFill>
                <a:latin typeface="Calibri"/>
              </a:rPr>
              <a:t>jital kanıtlar, sınırlı bir süre muhafaza edilir</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Dijital kanıtların toplanma önlemleri ve yeri</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Kaynaklar</a:t>
            </a:r>
            <a:r>
              <a:rPr b="0" lang="en-US" sz="3000" spc="-1" strike="noStrike">
                <a:solidFill>
                  <a:srgbClr val="000000"/>
                </a:solidFill>
                <a:latin typeface="Calibri"/>
              </a:rPr>
              <a:t>: </a:t>
            </a:r>
            <a:r>
              <a:rPr b="0" lang="tr-TR" sz="3000" spc="-1" strike="noStrike">
                <a:solidFill>
                  <a:srgbClr val="000000"/>
                </a:solidFill>
                <a:latin typeface="Calibri"/>
              </a:rPr>
              <a:t>suç oluşturan faaliyetler için kullanılan bilgisayar/sunucu, mağdurun bilgisayarı, başka bilgisayar/sunucu</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Muhafaza etme talebi</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İletişim mesajları</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287280" y="274680"/>
            <a:ext cx="8686800" cy="1590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6. </a:t>
            </a:r>
            <a:r>
              <a:rPr b="1" lang="tr-TR" sz="4000" spc="-1" strike="noStrike">
                <a:solidFill>
                  <a:srgbClr val="000000"/>
                </a:solidFill>
                <a:latin typeface="Calibri"/>
              </a:rPr>
              <a:t>Mağdur(lar) ve tanıkların belirlenmesi ve onlarla işbirliği yapılması </a:t>
            </a:r>
            <a:br>
              <a:rPr sz="4000"/>
            </a:br>
            <a:endParaRPr b="0" lang="en-US" sz="4000" spc="-1" strike="noStrike">
              <a:solidFill>
                <a:srgbClr val="000000"/>
              </a:solidFill>
              <a:latin typeface="Calibri"/>
            </a:endParaRPr>
          </a:p>
        </p:txBody>
      </p:sp>
      <p:sp>
        <p:nvSpPr>
          <p:cNvPr id="64" name=""/>
          <p:cNvSpPr txBox="1"/>
          <p:nvPr/>
        </p:nvSpPr>
        <p:spPr>
          <a:xfrm>
            <a:off x="457200" y="1865160"/>
            <a:ext cx="8229600" cy="426096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İlave mağdurla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Sunulan başvurular ve bilgi ve kanıt temin edilmesi</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Tanıklar, önemli bir rol oynayabili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Mağdurlar ve tanıklarla ilgili yasal şartlar ve usul</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Mağdurlarla işbirliği, devam eden bir süreç olmalı, geri bildirim ve yardım sağlamalıdır.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216000" y="274680"/>
            <a:ext cx="8686800" cy="1571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7</a:t>
            </a:r>
            <a:r>
              <a:rPr b="1" lang="en-US" sz="4000" spc="-1" strike="noStrike">
                <a:solidFill>
                  <a:srgbClr val="000000"/>
                </a:solidFill>
                <a:latin typeface="Calibri"/>
              </a:rPr>
              <a:t>. </a:t>
            </a:r>
            <a:r>
              <a:rPr b="1" lang="tr-TR" sz="4000" spc="-1" strike="noStrike">
                <a:solidFill>
                  <a:srgbClr val="000000"/>
                </a:solidFill>
                <a:latin typeface="Calibri"/>
              </a:rPr>
              <a:t>Atılacak adımlar ve gerçekleştirilecek faaliyetlerin belirlenmesi </a:t>
            </a:r>
            <a:br>
              <a:rPr sz="4000"/>
            </a:br>
            <a:endParaRPr b="0" lang="en-US" sz="4000" spc="-1" strike="noStrike">
              <a:solidFill>
                <a:srgbClr val="000000"/>
              </a:solidFill>
              <a:latin typeface="Calibri"/>
            </a:endParaRPr>
          </a:p>
        </p:txBody>
      </p:sp>
      <p:sp>
        <p:nvSpPr>
          <p:cNvPr id="66" name=""/>
          <p:cNvSpPr txBox="1"/>
          <p:nvPr/>
        </p:nvSpPr>
        <p:spPr>
          <a:xfrm>
            <a:off x="457200" y="1703160"/>
            <a:ext cx="8229600" cy="44226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200" spc="-1" strike="noStrike">
                <a:solidFill>
                  <a:srgbClr val="000000"/>
                </a:solidFill>
                <a:latin typeface="Calibri"/>
              </a:rPr>
              <a:t>Şu hususlar üzerinde odaklanmamız gerekir</a:t>
            </a:r>
            <a:r>
              <a:rPr b="0" lang="en-US" sz="2200" spc="-1" strike="noStrike">
                <a:solidFill>
                  <a:srgbClr val="000000"/>
                </a:solidFill>
                <a:latin typeface="Calibri"/>
              </a:rPr>
              <a: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a:t>
            </a:r>
            <a:r>
              <a:rPr b="0" lang="tr-TR" sz="2200" spc="-1" strike="noStrike">
                <a:solidFill>
                  <a:srgbClr val="000000"/>
                </a:solidFill>
                <a:latin typeface="Calibri"/>
              </a:rPr>
              <a:t>sadece yeni yöntemler değil aynı zamanda geleneksel yöntemler</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a:t>
            </a:r>
            <a:r>
              <a:rPr b="0" lang="tr-TR" sz="2200" spc="-1" strike="noStrike">
                <a:solidFill>
                  <a:srgbClr val="000000"/>
                </a:solidFill>
                <a:latin typeface="Calibri"/>
              </a:rPr>
              <a:t>suç oluşturan faaliyetin gözlemlenmesi ve durdurulması</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a:t>
            </a:r>
            <a:r>
              <a:rPr b="0" lang="tr-TR" sz="2200" spc="-1" strike="noStrike">
                <a:solidFill>
                  <a:srgbClr val="000000"/>
                </a:solidFill>
                <a:latin typeface="Calibri"/>
              </a:rPr>
              <a:t>zanlıların belirlenmesi ve mahkum edilmeleri</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a:t>
            </a:r>
            <a:r>
              <a:rPr b="0" lang="tr-TR" sz="2200" spc="-1" strike="noStrike">
                <a:solidFill>
                  <a:srgbClr val="000000"/>
                </a:solidFill>
                <a:latin typeface="Calibri"/>
              </a:rPr>
              <a:t>zararın telafi edilmesi</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200" spc="-1" strike="noStrike">
                <a:solidFill>
                  <a:srgbClr val="000000"/>
                </a:solidFill>
                <a:latin typeface="Calibri"/>
              </a:rPr>
              <a:t>Suç oluşturan faaliyetlerin ve zararların durdurulması</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200" spc="-1" strike="noStrike">
                <a:solidFill>
                  <a:srgbClr val="000000"/>
                </a:solidFill>
                <a:latin typeface="Calibri"/>
              </a:rPr>
              <a:t>Faaliyetlerin öncelik sırasına konulması</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200" spc="-1" strike="noStrike">
                <a:solidFill>
                  <a:srgbClr val="000000"/>
                </a:solidFill>
                <a:latin typeface="Calibri"/>
              </a:rPr>
              <a:t>Soruşturma ekibi</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200" spc="-1" strike="noStrike">
                <a:solidFill>
                  <a:srgbClr val="000000"/>
                </a:solidFill>
                <a:latin typeface="Calibri"/>
              </a:rPr>
              <a:t>Diğer olaylarla bağlantısı</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200" spc="-1" strike="noStrike">
                <a:solidFill>
                  <a:srgbClr val="000000"/>
                </a:solidFill>
                <a:latin typeface="Calibri"/>
              </a:rPr>
              <a:t>Diğer bölümlerle işbirliği</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200" spc="-1" strike="noStrike">
                <a:solidFill>
                  <a:srgbClr val="000000"/>
                </a:solidFill>
                <a:latin typeface="Calibri"/>
              </a:rPr>
              <a:t>Dava dosyasının hazırlanması</a:t>
            </a:r>
            <a:endParaRPr b="0" lang="en-US" sz="2200" spc="-1" strike="noStrike">
              <a:solidFill>
                <a:srgbClr val="000000"/>
              </a:solidFill>
              <a:latin typeface="Calibri"/>
            </a:endParaRPr>
          </a:p>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7T12:20:24Z</dcterms:created>
  <dc:creator>OPERATOR</dc:creator>
  <dc:description>Uğur Mumucu Caddesi Kırçiçeği Sokağı No: 8/2
TR-06700 G.O.P Çankaya/ANKARA
Fax: +90-312- 441 91 05</dc:description>
  <cp:keywords>www.erenoglu.com.tr</cp:keywords>
  <dc:language>en-US</dc:language>
  <cp:lastModifiedBy>OPERATOR</cp:lastModifiedBy>
  <dcterms:modified xsi:type="dcterms:W3CDTF">2013-08-05T06:59:52Z</dcterms:modified>
  <cp:revision>96</cp:revision>
  <dc:subject>ERENOGLU CONSULTANCY, TRANSLATION AND FOREIGN TRADE LTD CO.</dc:subject>
  <dc:title>ERENOĞLU DANIŞMANLIK TERCÜMANLIK VE DIŞ TİCARET LTD. ŞTİ.</dc:title>
</cp:coreProperties>
</file>