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8.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B3097-1A34-4034-87D0-29ADD437E41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1F0E07-4219-4960-91BB-3BE3D1D8DF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000" spc="-1" strike="noStrike">
                <a:solidFill>
                  <a:srgbClr val="ff0000"/>
                </a:solidFill>
                <a:latin typeface="Calibri"/>
              </a:rPr>
              <a:t>Örneğin bazı olaylarda ekonomik nitelikli bilişim suçları, şiddet suçlarının yaygın olduğu ve bilgi teknolojisi altyapısı ve bilincinin düşük olduğu ülkelerin öncelikler listesinde çok alt sıralarda yer alabilir. Diğer yandan organize suçlara ve terörizmle ilgili bilişim suçlarına yaklaşım, tamamen farklı bir öneme sahip olabilir. Sonuç olarak bilişim suçları olaylarına düşük öncelik verilebilir. Geçmişte benzer durumlarda hiç işbirliği yapmamış veya çok az işbirliği yapmış olan “kötü şöhretli” ülkeler söz konusu olduğunda ilave bir sorun ortaya çıkabilir. </a:t>
            </a:r>
            <a:endParaRPr b="0" lang="en-US" sz="1000" spc="-1" strike="noStrike">
              <a:solidFill>
                <a:srgbClr val="000000"/>
              </a:solidFill>
              <a:latin typeface="Calibri"/>
            </a:endParaRPr>
          </a:p>
          <a:p>
            <a:pPr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C503F-41C6-47B3-BF3C-C96D24A93E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3DC84B-D963-45F7-8E28-654D284A0D2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401DF-FEBD-4889-BB94-5C84EF1F0A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7E704-1967-4645-8E82-75A410D4AF1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19AB5B-AA99-433A-9743-959A3AB9076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7"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BDF83F-ADC0-4B18-857E-54F3001C7A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DF2D7-C410-4EFF-8885-D825A0757BA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D8E92-D2FC-4A9C-AE76-AFD432075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3CA92-510D-4A90-B712-34B733B9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56A5B-94F0-4F81-86CC-A5B1AD79EA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D53FB-9A0C-4CE2-97CE-DBB4D39B2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6648-399D-4EBB-ADAF-982B5F386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D4668-8227-4630-8021-FFEEE0FA7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B71BC-5E2D-4797-8B51-08C18DC0D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807C7-4FF6-4689-8FF9-8C8F27DFD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E0969-2D4A-435E-9206-DC6E744F2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638C2-6F6E-4810-8EE6-82B2582D0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3E381-E981-4BDF-8649-283FD94A4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793EF-4CDB-4308-96AE-783649F38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48AF6-FC9C-4389-A5F9-5512ACC3C17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Uluslararası İşbirliği</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u</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kanıtlar için: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Elde edilecek elektronik kanıtları mümkün olduğu kadar ayrıntılı belirtin, mevcut olduğu taktirde talep edilen kanıtlara ilişkin gerekli teknik bilgileri verin (sunucu/sistem tarihi, zaman çerçevesi IP ve MAC adresleri, e-mail adresleri, kullanıcı hesap bilgileri, vs. gibi kimlik belirleme bilgileri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arlıkların bulunabileceği yeri ve ayrıntıları ya da bunlara el koymuş olan kişi veya kuruluşu belirti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arama emrinin uygulanması için: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yerli adli makam tarafından düzenlenmiş geçerli arama emrini ekley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yerleri ve eşyaları kesin olarak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manın yapılması sırasında uyulması gereken ayrıntılı kuralları belirt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ranacak kanıtlar hakkında kesin bilgiler veri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El koyma/müsadere için: </a:t>
            </a:r>
            <a:endParaRPr b="0" lang="en-US" sz="32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lkedeki adli makam tarafından düzenlenmiş olan geçerli el koyma veya müsadere emrinin bir suretini verin</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El konulacak / müsadere edilecek eşyaların kesin tanımı</a:t>
            </a:r>
            <a:endParaRPr b="0" lang="en-US" sz="2800" spc="-1" strike="noStrike">
              <a:solidFill>
                <a:srgbClr val="000000"/>
              </a:solidFill>
              <a:latin typeface="Calibri"/>
            </a:endParaRPr>
          </a:p>
          <a:p>
            <a:pPr lvl="1" marL="683280" indent="-2628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ramanın yapılması sırasında uyulması gereken özel kuralları belirti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 soruşturma önlemleri iç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 </a:t>
            </a:r>
            <a:r>
              <a:rPr b="0" lang="tr-TR" sz="2400" spc="-1" strike="noStrike">
                <a:solidFill>
                  <a:srgbClr val="000000"/>
                </a:solidFill>
                <a:latin typeface="Calibri"/>
              </a:rPr>
              <a:t>ülkedeki yetkili adli makam tarafından düzenlenmiş olan SIMs ile ilgili geçerli emrin bir suretini verin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lınacak önlemlerin kapsamını ve özelliğini belirtin</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Yerine getirilmesi gereken özel şartları belirtin – gizli görevdeki ajanların kimliği/kimliklerinin gizli tutulması, teknik ve lojistik  gereksinimler, masrafların ve giderlerin karşılanması, belirtilen haberleşme kanalları, vs. </a:t>
            </a:r>
            <a:endParaRPr b="0" lang="en-US" sz="2400" spc="-1" strike="noStrike">
              <a:solidFill>
                <a:srgbClr val="000000"/>
              </a:solidFill>
              <a:latin typeface="Calibri"/>
            </a:endParaRPr>
          </a:p>
          <a:p>
            <a:pPr lvl="1" marL="713160" indent="-27432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Gerektiği taktirde bir JIT anlaşması imzalanmasını sağlayı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ütün gizlilik şartlarını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bin karşılanmasına ilişkin aciliyet seviyesini ve ayrıca süre sınırlamalarını belirleyin ve açıklayı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Zanlının veya zanlıların kimliklerinin mümkün olduğu ölçüde doğru ve kesin şekilde belirtilmesi – bunun sanal bir dünya olduğunu unutmayın – kimlik, kolaylıkla saklanabilir, değiştirilebilir veya çalınabili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LA tarafından talep edilecek kanıtların doğru bir şekilde belirlenmesi ve önceliklendirilmesi – önceliklerin belirlenmesi – sadece çok önemli olanların soruşturma için seçilmesi – kaynakların rasyonelleştirilmesi ve verimliliğin artırılmas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Özellikle dijital verilerin güvence altına alınması ve muhafaza edilmesi için acil önlem alınacak “sıcak takip” vakaları için diğer ülkede uygun irtibat görevlilerinin belirlenmesi (Budapeşte Sözleşmesi ışığında 24/7 irtibat görevlileri, İnterpol kanalları, vs.).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İlgili meslektaşların gelecek MLC konusunda bilgilendirilmesi amacıyla resmi MLA sunulmasından önce onlarla gayrı resmi temaslar kurulması, talebin mümkün olduğu kadar ayrıntılı bir şekilde açıklanması için operasyonel kontroller yapılması.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2" name=""/>
          <p:cNvSpPr txBox="1"/>
          <p:nvPr/>
        </p:nvSpPr>
        <p:spPr>
          <a:xfrm>
            <a:off x="457200" y="1599840"/>
            <a:ext cx="8229600" cy="503388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Elektronik verilerin kime ait olduğu, sunucu/sağlayıcının fiziksel yeri ve sunucu/sağlayıcı sahiplerinin yasal ikamet yeri (sunucuların bir ülkede bulunması veya farklı bir ülkede kayıtlı olan ve burada faaliyet gösteren sahiplerin söz konusu olduğu bulut (dağıtık) bilgi işlem vakası) gibi tamamen teknolojik hususları dikkate alarak kanıt / suçlular / mağdurlar açısından yargı yetkisinin uygun şekilde belirlenmesinin sağlanması</a:t>
            </a:r>
            <a:endParaRPr b="0" lang="en-US" sz="2400" spc="-1" strike="noStrike">
              <a:solidFill>
                <a:srgbClr val="000000"/>
              </a:solidFill>
              <a:latin typeface="Calibri"/>
            </a:endParaRPr>
          </a:p>
          <a:p>
            <a:pPr marL="343080" indent="-343080">
              <a:spcBef>
                <a:spcPts val="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Farklı zaman dilimleri – modern iletişim araçlarının (yani telekonferanslar) kullanılması durumunda bile irtibat kurulmasındaki güçlükler – Bu, soruşturmayı/MLA taleplerini geciktirebilir ve masrafları artırabilir. Bazı emniyet müdürlükleri ve savcılıklar, hala uluslar arası telefon görüşme yapma imkanına sahip değildi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elgelerin tercüme edilmesi – bir çok devlet, MLA’ların kendi resmi lisanlarına tercüme edilmesini talep etmektedi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Güvenlik görevlileri ve savcılar arasında doğrudan ve gayrı resmi temaslar sırasında lisan engeller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Farklı ülkelerde bilişim suçları soruşturmalarının farklı önem düzeyleri nedeniyle yaşanabilecek gecikmelere hazırlıklı olun.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ın talebinizi karşılama kapasitesi olmaması halinde teknik ve uzman yardımı sağlamayı düşünebilirsiniz.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1235160"/>
            <a:ext cx="8512200" cy="4890960"/>
          </a:xfrm>
          <a:prstGeom prst="rect">
            <a:avLst/>
          </a:prstGeom>
          <a:noFill/>
          <a:ln w="0">
            <a:noFill/>
          </a:ln>
        </p:spPr>
        <p:txBody>
          <a:bodyPr anchor="t">
            <a:normAutofit/>
          </a:bodyPr>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u oturumda katılımcıla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İşlenmiş olabilecek suçların birçoğunun soruşturulması için uluslar arası işbirliği gereksinim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Uluslar arası işbirliği konusundaki kanalları ve mevcut araçları, bunların kullanılma şekillerini, zaman çizelgelerini ve mevcut olan işbirliği yöntemlerinin etkinliğini belirleyecekler; </a:t>
            </a:r>
            <a:endParaRPr b="0" lang="en-US" sz="2600" spc="-1" strike="noStrike">
              <a:solidFill>
                <a:srgbClr val="000000"/>
              </a:solidFill>
              <a:latin typeface="Calibri"/>
            </a:endParaRPr>
          </a:p>
          <a:p>
            <a:pPr>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600" spc="-1" strike="noStrike">
                <a:solidFill>
                  <a:srgbClr val="000000"/>
                </a:solidFill>
                <a:latin typeface="Calibri"/>
              </a:rPr>
              <a:t>Bilişim Suçları Hakkındaki Budapeşte Sözleşmesi’nde tanımlanan işbirliği mekanizmalarının avantajlarını tartışacaklar ve bunun genel ilkelerini, geçici önlemleri ve 24/7 ağı belirleyeceklerdir.</a:t>
            </a:r>
            <a:endParaRPr b="0" lang="en-US" sz="2600" spc="-1" strike="noStrike">
              <a:solidFill>
                <a:srgbClr val="000000"/>
              </a:solidFill>
              <a:latin typeface="Calibri"/>
            </a:endParaRPr>
          </a:p>
        </p:txBody>
      </p:sp>
      <p:sp>
        <p:nvSpPr>
          <p:cNvPr id="5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un Amaçlar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ümkün olduğunda konvansiyonel/geleneksel soruşturma araçları ve önlemleri talep etmeyi ve kullanmayı düşünün. Polis memurları/savcılar, buna daha alışıktır ve bazen, başarılı bir soruşturma ve cezai kovuşturma için aynı derecede amaca hizmet edebilirler ve yeterli kanıtlar sağlayabilirler.     </a:t>
            </a:r>
            <a:endParaRPr b="0" lang="en-US" sz="2800" spc="-1" strike="noStrike">
              <a:solidFill>
                <a:srgbClr val="000000"/>
              </a:solidFill>
              <a:latin typeface="Calibri"/>
            </a:endParaRPr>
          </a:p>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90"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İkinci Bölüm</a:t>
            </a:r>
            <a:br>
              <a:rPr sz="3200"/>
            </a:br>
            <a:r>
              <a:rPr b="1" lang="tr-TR" sz="3200" spc="-1" strike="noStrike">
                <a:solidFill>
                  <a:srgbClr val="000000"/>
                </a:solidFill>
                <a:latin typeface="Calibri"/>
              </a:rPr>
              <a:t>Genel Uluslararası İşbirliği Mekanizmaları</a:t>
            </a:r>
            <a:endParaRPr b="0" lang="en-US" sz="3200" spc="-1" strike="noStrike">
              <a:solidFill>
                <a:srgbClr val="000000"/>
              </a:solidFill>
              <a:latin typeface="Calibri"/>
            </a:endParaRPr>
          </a:p>
        </p:txBody>
      </p:sp>
      <p:pic>
        <p:nvPicPr>
          <p:cNvPr id="92"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457200" y="1341360"/>
            <a:ext cx="8229600" cy="5168880"/>
          </a:xfrm>
          <a:prstGeom prst="rect">
            <a:avLst/>
          </a:prstGeom>
          <a:noFill/>
          <a:ln w="0">
            <a:noFill/>
          </a:ln>
        </p:spPr>
        <p:txBody>
          <a:bodyPr anchor="t">
            <a:normAutofit/>
          </a:bodyPr>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tr-TR" sz="3200" spc="-1" strike="noStrike">
                <a:solidFill>
                  <a:srgbClr val="000000"/>
                </a:solidFill>
                <a:latin typeface="Calibri"/>
              </a:rPr>
              <a:t>Ceza İşlerinde Karşılıklı Yardım 1959 Avrupa Sözleş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temelini oluşturmaktad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vrupa Konseyi’ne Üye Devletlerin tamamı (San Marino dışında) bunu onaylamıştır.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nin bütün tarafları içinde Amerika Birleşik Devletleri, 1959 Sözleşmesi’nin üye olmayan yegane tarafıdır. </a:t>
            </a:r>
            <a:endParaRPr b="0" lang="en-US" sz="3200" spc="-1" strike="noStrike">
              <a:solidFill>
                <a:srgbClr val="000000"/>
              </a:solidFill>
              <a:latin typeface="Calibri"/>
            </a:endParaRPr>
          </a:p>
        </p:txBody>
      </p:sp>
      <p:sp>
        <p:nvSpPr>
          <p:cNvPr id="94"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vrupa Konsey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593280" y="2017440"/>
            <a:ext cx="8093160" cy="44593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dli irtibat görevlileri ağı</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l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Uygulayıcıların, her Üye Devlette bir karşılıklı hukuki yardım talebini alacak ve yerine getirecek yetkili yerel yetkiliyi derhal belirlemelerine imkan verir</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Üye Devletler arasında adli işbirliğinin kolaylaştırılması ile görevli etkin aracılardır</a:t>
            </a:r>
            <a:endParaRPr b="0" lang="en-US" sz="2800" spc="-1" strike="noStrike">
              <a:solidFill>
                <a:srgbClr val="000000"/>
              </a:solidFill>
              <a:latin typeface="Calibri"/>
            </a:endParaRPr>
          </a:p>
        </p:txBody>
      </p:sp>
      <p:sp>
        <p:nvSpPr>
          <p:cNvPr id="96" name="PlaceHolder 2"/>
          <p:cNvSpPr>
            <a:spLocks noGrp="1"/>
          </p:cNvSpPr>
          <p:nvPr>
            <p:ph type="title"/>
          </p:nvPr>
        </p:nvSpPr>
        <p:spPr>
          <a:xfrm>
            <a:off x="457200" y="274320"/>
            <a:ext cx="8229600" cy="12301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Cezai Konularda Avrupa Adli Ağ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6840" y="1620720"/>
            <a:ext cx="8459640" cy="49644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Üyelerine yardımcı olmak iç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ürekli olarak (günde 24 saat, haftada 7 gü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ütün dünyada 120’den fazla referans görevlisi (Eylül 2011)</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udapeşte Sözleşmesi’nin 24/7 irtibat görevlileri düzenlemesini benimsemişti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Sözleşme’nin bazı tarafları, Interpol – NCRP ve aynı zamanda G8 İrtibat Görevlileri Ağına aynı referans görevlilerini atamıştır</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G8 irtibat görevlileri, bu ağa dahil edilmiştir</a:t>
            </a:r>
            <a:endParaRPr b="0" lang="en-US" sz="22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maç</a:t>
            </a:r>
            <a:endParaRPr b="0" lang="en-US" sz="24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Polisin diğer ülkelerdeki uzmanları en kısa süre içinde belirleyebilmesini sağlamak</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200" spc="-1" strike="noStrike">
                <a:solidFill>
                  <a:srgbClr val="000000"/>
                </a:solidFill>
                <a:latin typeface="Calibri"/>
              </a:rPr>
              <a:t>Bilgisayarla ilgili soruşturmalarda ve kanıtların toplanmasında en kısa süre içinde yardım alınması</a:t>
            </a:r>
            <a:endParaRPr b="0" lang="en-US" sz="2200" spc="-1" strike="noStrike">
              <a:solidFill>
                <a:srgbClr val="000000"/>
              </a:solidFill>
              <a:latin typeface="Calibri"/>
            </a:endParaRPr>
          </a:p>
        </p:txBody>
      </p:sp>
      <p:sp>
        <p:nvSpPr>
          <p:cNvPr id="98"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Interpol Ulusal Merkez Referans Görevlileri –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433520"/>
            <a:ext cx="8229600" cy="504360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bilgileri ile teknik ve operasyonel destek sağlanması ve değişim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Tipik polis bilgilerinin mümkün olan en kısa süre içinde değişiminin sağlanması</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Terör zanlıları, aranan kişiler, parmak izleri, DNA profil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Kayıp veya çalınmış seyahat belgeleri, çalınmış motorlu araçlar, çalınmış sanat eserler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Diğer</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ğıdakilerin acil olarak talep edilmesi amacıyla kullanılamaz</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Bilgisayar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akış verilerinin muhafaza edilmes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000" spc="-1" strike="noStrike">
                <a:solidFill>
                  <a:srgbClr val="000000"/>
                </a:solidFill>
                <a:latin typeface="Calibri"/>
              </a:rPr>
              <a:t>veya kanıtların elde edilmesi veya korunmasına yönelik her türlü önlem</a:t>
            </a:r>
            <a:endParaRPr b="0" lang="en-US" sz="2000" spc="-1" strike="noStrike">
              <a:solidFill>
                <a:srgbClr val="000000"/>
              </a:solidFill>
              <a:latin typeface="Calibri"/>
            </a:endParaRPr>
          </a:p>
        </p:txBody>
      </p:sp>
      <p:sp>
        <p:nvSpPr>
          <p:cNvPr id="100" name="PlaceHolder 2"/>
          <p:cNvSpPr>
            <a:spLocks noGrp="1"/>
          </p:cNvSpPr>
          <p:nvPr>
            <p:ph type="title"/>
          </p:nvPr>
        </p:nvSpPr>
        <p:spPr>
          <a:xfrm>
            <a:off x="457200" y="171360"/>
            <a:ext cx="8229600" cy="1262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02"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16080" y="2374560"/>
            <a:ext cx="8432640" cy="1530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Üçüncü Bölüm</a:t>
            </a:r>
            <a:br>
              <a:rPr sz="3200"/>
            </a:br>
            <a:r>
              <a:rPr b="1" lang="tr-TR" sz="3200" spc="-1" strike="noStrike">
                <a:solidFill>
                  <a:srgbClr val="000000"/>
                </a:solidFill>
                <a:latin typeface="Calibri"/>
              </a:rPr>
              <a:t>Bilişim Suçları Hakkındaki Budapeşte Sözleşmesi’nin Uluslararası İşbirliği Mekanizmaları</a:t>
            </a:r>
            <a:endParaRPr b="0" lang="en-US" sz="3200" spc="-1" strike="noStrike">
              <a:solidFill>
                <a:srgbClr val="000000"/>
              </a:solidFill>
              <a:latin typeface="Calibri"/>
            </a:endParaRPr>
          </a:p>
        </p:txBody>
      </p:sp>
      <p:pic>
        <p:nvPicPr>
          <p:cNvPr id="104"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558800"/>
            <a:ext cx="8229600" cy="496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Tarafın yetkilileri, bir dahili soruşturma sırasında elde ettikleri bazı bilgilerin, diğer Tarafın yetkililerine iletilmesi gerektiğini fark ederle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bilginin Sözleşme çerçevesinde bir cezayı gerektiren suça ilişkin bir soruşturmanın başlatılması veya geliştirilmesi açısından yararlı veya gerekli görülmesi halinde bu yapılabilir.  </a:t>
            </a:r>
            <a:endParaRPr b="0" lang="en-US" sz="28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Madde 26 (2) uyarınca bu bilgi, esas olarak gizlilikle ilgili belirli koşullarla iletilebilir. </a:t>
            </a:r>
            <a:endParaRPr b="0" lang="en-US" sz="2800" spc="-1" strike="noStrike">
              <a:solidFill>
                <a:srgbClr val="000000"/>
              </a:solidFill>
              <a:latin typeface="Calibri"/>
            </a:endParaRPr>
          </a:p>
        </p:txBody>
      </p:sp>
      <p:sp>
        <p:nvSpPr>
          <p:cNvPr id="10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26</a:t>
            </a:r>
            <a:br>
              <a:rPr sz="4000"/>
            </a:br>
            <a:r>
              <a:rPr b="1" lang="tr-TR" sz="4000" spc="-1" strike="noStrike">
                <a:solidFill>
                  <a:srgbClr val="000000"/>
                </a:solidFill>
                <a:latin typeface="Calibri"/>
              </a:rPr>
              <a:t>Anında Bilg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Gündem</a:t>
            </a:r>
            <a:endParaRPr b="0" lang="en-US" sz="4400" spc="-1" strike="noStrike">
              <a:solidFill>
                <a:srgbClr val="000000"/>
              </a:solidFill>
              <a:latin typeface="Calibri"/>
            </a:endParaRPr>
          </a:p>
        </p:txBody>
      </p:sp>
      <p:sp>
        <p:nvSpPr>
          <p:cNvPr id="54" name=""/>
          <p:cNvSpPr txBox="1"/>
          <p:nvPr/>
        </p:nvSpPr>
        <p:spPr>
          <a:xfrm>
            <a:off x="456840" y="1028880"/>
            <a:ext cx="8513640" cy="5494320"/>
          </a:xfrm>
          <a:prstGeom prst="rect">
            <a:avLst/>
          </a:prstGeom>
          <a:noFill/>
          <a:ln w="0">
            <a:noFill/>
          </a:ln>
        </p:spPr>
        <p:txBody>
          <a:bodyPr anchor="t">
            <a:normAutofit fontScale="97000"/>
          </a:bodyPr>
          <a:p>
            <a:pPr>
              <a:lnSpc>
                <a:spcPct val="6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ir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İk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Genel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Üç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a:t>
            </a:r>
            <a:r>
              <a:rPr b="0" lang="tr-TR" sz="2400" spc="-1" strike="noStrike">
                <a:solidFill>
                  <a:srgbClr val="000000"/>
                </a:solidFill>
                <a:latin typeface="Calibri"/>
              </a:rPr>
              <a:t>Bilişim Suçları Hakkındaki Budapeşte Sözleşmesi”nin Uluslar arası İşbirliği Mekanizmaları</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Dördüncü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Somut olaylarda uluslar arası işbirliği gereksinimi – ele alınan olay</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400" spc="-1" strike="noStrike">
                <a:solidFill>
                  <a:srgbClr val="000000"/>
                </a:solidFill>
                <a:latin typeface="Calibri"/>
              </a:rPr>
              <a:t>Beşinci Bölüm</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	</a:t>
            </a:r>
            <a:r>
              <a:rPr b="0" lang="tr-TR" sz="2400" spc="-1" strike="noStrike">
                <a:solidFill>
                  <a:srgbClr val="000000"/>
                </a:solidFill>
                <a:latin typeface="Calibri"/>
              </a:rPr>
              <a:t>Öze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1225440"/>
            <a:ext cx="8229600" cy="54482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ir bilgisayar sistemine kaydedilmiş olan verilerin hızlandırılmış muhafazası</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ahili hükme paralel çerçeve</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Bir akit Tarafının, diğer akit Taraftan, verilerin hızlandırılmış muhafazasını talep etmesine imkan tanı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Aynı zamanda bir arama, el koyma veya benzeri bir önlem için resmi bir yardım talebi gönderme niyetini ifade etmesi halinde</a:t>
            </a:r>
            <a:endParaRPr b="0" lang="en-US" sz="24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gerekli dikkati göstererek kendi ulusal hukukuna göre talep edilen verilerin muhafaza edilmesi için gerekli işlemleri yapmalıdır. </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alepte bulunulan taraf, verilerin muhafaza edilmesinin bir koşulu olarak fiilin her iki ülkede de suç sayılmasını talep edemez.</a:t>
            </a:r>
            <a:endParaRPr b="0" lang="en-US" sz="2800" spc="-1" strike="noStrike">
              <a:solidFill>
                <a:srgbClr val="000000"/>
              </a:solidFill>
              <a:latin typeface="Calibri"/>
            </a:endParaRPr>
          </a:p>
        </p:txBody>
      </p:sp>
      <p:sp>
        <p:nvSpPr>
          <p:cNvPr id="10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6840" y="1098360"/>
            <a:ext cx="8396280" cy="5251320"/>
          </a:xfrm>
          <a:prstGeom prst="rect">
            <a:avLst/>
          </a:prstGeom>
          <a:noFill/>
          <a:ln w="0">
            <a:noFill/>
          </a:ln>
        </p:spPr>
        <p:txBody>
          <a:bodyPr anchor="t">
            <a:normAutofit fontScale="94000"/>
          </a:bodyPr>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Yeni bir uluslararası işbirliği aracı</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Dijital ortamın özgünlüğü – çok kısa bir süre içinde tamamen silinmesi mümkün olan bir şeyin muhafaza edilmesinin gerekliliği</a:t>
            </a:r>
            <a:endParaRPr b="0" lang="en-US" sz="28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Sadece acil nedenlerle bir muhafaza etme önlemi. Muhafaza edilen verilerin kendiliğinden ifşa edilmesini gerektirmez.</a:t>
            </a:r>
            <a:endParaRPr b="0" lang="en-US" sz="2800" spc="-1" strike="noStrike">
              <a:solidFill>
                <a:srgbClr val="000000"/>
              </a:solidFill>
              <a:latin typeface="Calibri"/>
            </a:endParaRPr>
          </a:p>
          <a:p>
            <a:pPr lvl="1" marL="698400" indent="-268560">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400" spc="-1" strike="noStrike">
                <a:solidFill>
                  <a:srgbClr val="000000"/>
                </a:solidFill>
                <a:latin typeface="Calibri"/>
              </a:rPr>
              <a:t>İfşa etmeye izin verilen durumlarda özellikle bu verilerin sadece akış verileri olmaması durumunda bunun yapılmasına ilişkin çok sıkı kurallar vardır. </a:t>
            </a:r>
            <a:endParaRPr b="0" lang="en-US" sz="2400" spc="-1" strike="noStrike">
              <a:solidFill>
                <a:srgbClr val="000000"/>
              </a:solidFill>
              <a:latin typeface="Calibri"/>
            </a:endParaRPr>
          </a:p>
          <a:p>
            <a:pPr marL="322200" indent="-32220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Uygulamada veriler hızlandırılmış bir şekilde muhafaza edilebilir ve daha sonra bu verilerin talepte bulunan tarafa ifşa edilmesi için bir şart bulunmadığı varsayılabilir. </a:t>
            </a:r>
            <a:endParaRPr b="0" lang="en-US" sz="2800" spc="-1" strike="noStrike">
              <a:solidFill>
                <a:srgbClr val="000000"/>
              </a:solidFill>
              <a:latin typeface="Calibri"/>
            </a:endParaRPr>
          </a:p>
          <a:p>
            <a:pPr marL="32220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11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29</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57200" y="1405080"/>
            <a:ext cx="8229600" cy="472104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akış verilerinin ifşa edilmesi</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İfşa etmenin hızlandırılması için belirli bir kural yoktur</a:t>
            </a:r>
            <a:endParaRPr b="0" lang="en-US" sz="36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Usule ilişkin kurallar bölümünde dahili düzeyde hızlandırılmış ifşaya ilişkin belirli kuralların bulunmaması nedeniyle</a:t>
            </a:r>
            <a:endParaRPr b="0" lang="en-US" sz="3200" spc="-1" strike="noStrike">
              <a:solidFill>
                <a:srgbClr val="000000"/>
              </a:solidFill>
              <a:latin typeface="Calibri"/>
            </a:endParaRPr>
          </a:p>
          <a:p>
            <a:pPr lvl="1" marL="743040" indent="-285840">
              <a:lnSpc>
                <a:spcPct val="90000"/>
              </a:lnSpc>
              <a:spcBef>
                <a:spcPts val="7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ea typeface="ＭＳ Ｐゴシック"/>
              </a:rPr>
              <a:t>Ülke düzeyindeki usule ilişkin kurallar, uluslar arası işbirliği düzeyinde kullanılabilir</a:t>
            </a:r>
            <a:endParaRPr b="0" lang="en-US" sz="3200" spc="-1" strike="noStrike">
              <a:solidFill>
                <a:srgbClr val="000000"/>
              </a:solidFill>
              <a:latin typeface="Calibri"/>
            </a:endParaRPr>
          </a:p>
        </p:txBody>
      </p:sp>
      <p:sp>
        <p:nvSpPr>
          <p:cNvPr id="11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000" spc="-1" strike="noStrike">
                <a:solidFill>
                  <a:srgbClr val="000000"/>
                </a:solidFill>
                <a:latin typeface="Calibri"/>
              </a:rPr>
              <a:t>Madde 3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278000"/>
            <a:ext cx="8229600" cy="517680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Kaydedilmiş bilgisayar verilerine erişim konusunda yardımlaşma</a:t>
            </a: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 </a:t>
            </a:r>
            <a:r>
              <a:rPr b="0" lang="tr-TR" sz="3200" spc="-1" strike="noStrike">
                <a:solidFill>
                  <a:srgbClr val="000000"/>
                </a:solidFill>
                <a:latin typeface="Calibri"/>
              </a:rPr>
              <a:t>Bir bilgisayar sistemi ile kaydedilmiş verilerin aranması veya el konulması (ve ifşa edilmesi) konusunda başka bir Devlete talepte bulunulması</a:t>
            </a:r>
            <a:endParaRPr b="0" lang="en-US" sz="32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lepte bulunulan Devlet’in ülkesinde bulunan</a:t>
            </a:r>
            <a:endParaRPr b="0" lang="en-US" sz="2800" spc="-1" strike="noStrike">
              <a:solidFill>
                <a:srgbClr val="000000"/>
              </a:solidFill>
              <a:latin typeface="Calibri"/>
            </a:endParaRPr>
          </a:p>
          <a:p>
            <a:pPr lvl="1" marL="630360" indent="-27000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Madde 29 uyarınca muhafaza edilmiş olan veriler dahil</a:t>
            </a:r>
            <a:endParaRPr b="0" lang="en-US" sz="28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1"/>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1</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r Tarafın güvenlik yetkililerine, başka bir Tarafın ülkesinde bulunan bir bilgisayara kaydedilmiş olan verileri elde etme fırsatının tanınması</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konusunda bir talep olmadan</a:t>
            </a:r>
            <a:endParaRPr b="0" lang="en-US" sz="32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Somut bir soruşturma sırasında sorumlu yetkililerin, yabancı bir ülkede bulunan bir bilgisayardan veya erişimine yasal olarak yetkili kişi tarafından izin verilen bir bilgisayardan açık kaynak bilgilerini almalarının gerekmesi halinde</a:t>
            </a:r>
            <a:endParaRPr b="0" lang="en-US" sz="2800" spc="-1" strike="noStrike">
              <a:solidFill>
                <a:srgbClr val="000000"/>
              </a:solidFill>
              <a:latin typeface="Calibri"/>
            </a:endParaRPr>
          </a:p>
          <a:p>
            <a:pPr lvl="1" marL="743040" indent="0">
              <a:lnSpc>
                <a:spcPct val="8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
        <p:nvSpPr>
          <p:cNvPr id="116"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838080" y="1566720"/>
            <a:ext cx="7772400" cy="4942080"/>
          </a:xfrm>
          <a:prstGeom prst="rect">
            <a:avLst/>
          </a:prstGeom>
          <a:noFill/>
          <a:ln w="0">
            <a:noFill/>
          </a:ln>
        </p:spPr>
        <p:txBody>
          <a:bodyPr anchor="t">
            <a:normAutofit/>
          </a:bodyPr>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Akış verilerinin gerçek zamanlı toplanması için yardımlaşma</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Bu yardım, ülke hukukunda öngörülen koşullara ve usullere tabidir</a:t>
            </a:r>
            <a:endParaRPr b="0" lang="en-US" sz="3200" spc="-1" strike="noStrike">
              <a:solidFill>
                <a:srgbClr val="000000"/>
              </a:solidFill>
              <a:latin typeface="Calibri"/>
            </a:endParaRPr>
          </a:p>
          <a:p>
            <a:pPr marL="270000" indent="-270000">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ea typeface="Times New Roman"/>
              </a:rPr>
              <a:t>Her Devlet, en azından ülkedeki benzeri bir olayda akış verilerinin gerçek zamanlı olarak toplanmasının mümkün olduğu ceza gerektiren suçlar konusunda yardım sağlamalıdır.  </a:t>
            </a:r>
            <a:endParaRPr b="0" lang="en-US" sz="3200" spc="-1" strike="noStrike">
              <a:solidFill>
                <a:srgbClr val="000000"/>
              </a:solidFill>
              <a:latin typeface="Calibri"/>
            </a:endParaRPr>
          </a:p>
          <a:p>
            <a:pPr marL="27000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adde 3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459080"/>
            <a:ext cx="8229600" cy="5138640"/>
          </a:xfrm>
          <a:prstGeom prst="rect">
            <a:avLst/>
          </a:prstGeom>
          <a:noFill/>
          <a:ln w="0">
            <a:noFill/>
          </a:ln>
        </p:spPr>
        <p:txBody>
          <a:bodyPr anchor="t">
            <a:normAutofit/>
          </a:bodyPr>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İleri teknoloji kullanılarak işlenilen suçlar hakkında </a:t>
            </a:r>
            <a:r>
              <a:rPr b="1" lang="tr-TR" sz="2800" spc="-1" strike="noStrike" u="sng">
                <a:solidFill>
                  <a:srgbClr val="000000"/>
                </a:solidFill>
                <a:uFillTx/>
                <a:latin typeface="Calibri"/>
              </a:rPr>
              <a:t>operasyonal uzman ağı</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gayrı resmi talepten sonra bir resmi işbirliği talebinin iletilmesinin gerekmesi halinde bile </a:t>
            </a:r>
            <a:r>
              <a:rPr b="1" lang="tr-TR" sz="2800" spc="-1" strike="noStrike" u="sng">
                <a:solidFill>
                  <a:srgbClr val="000000"/>
                </a:solidFill>
                <a:uFillTx/>
                <a:latin typeface="Calibri"/>
              </a:rPr>
              <a:t>çok hızlı yardım sağlayın ve işbirliği yapın</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Her ülke için </a:t>
            </a:r>
            <a:r>
              <a:rPr b="1" lang="tr-TR" sz="2800" spc="-1" strike="noStrike" u="sng">
                <a:solidFill>
                  <a:srgbClr val="000000"/>
                </a:solidFill>
                <a:uFillTx/>
                <a:latin typeface="Calibri"/>
              </a:rPr>
              <a:t>günde 24 saat ve haftada 7 gün ulaşılabilen</a:t>
            </a:r>
            <a:r>
              <a:rPr b="0" lang="tr-TR" sz="2800" spc="-1" strike="noStrike">
                <a:solidFill>
                  <a:srgbClr val="000000"/>
                </a:solidFill>
                <a:latin typeface="Calibri"/>
              </a:rPr>
              <a:t> tek bir irtibat görevlisi</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2800" spc="-1" strike="noStrike" u="sng">
                <a:solidFill>
                  <a:srgbClr val="000000"/>
                </a:solidFill>
                <a:uFillTx/>
                <a:latin typeface="Calibri"/>
              </a:rPr>
              <a:t>İrtibat görevlileri arasında doğrudan iletişim</a:t>
            </a:r>
            <a:endParaRPr b="0" lang="en-US" sz="2800" spc="-1" strike="noStrike">
              <a:solidFill>
                <a:srgbClr val="000000"/>
              </a:solidFill>
              <a:latin typeface="Calibri"/>
            </a:endParaRPr>
          </a:p>
          <a:p>
            <a:pPr marL="270000" indent="-2700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sas olarak dünya çapında akış verileri ve diğer kaydedilmiş verilerin derhal muhafaza edilmesi olasılığının sağlanması için planlanmıştır</a:t>
            </a:r>
            <a:endParaRPr b="0" lang="en-US" sz="2800" spc="-1" strike="noStrike">
              <a:solidFill>
                <a:srgbClr val="000000"/>
              </a:solidFill>
              <a:latin typeface="Calibri"/>
            </a:endParaRPr>
          </a:p>
        </p:txBody>
      </p:sp>
      <p:sp>
        <p:nvSpPr>
          <p:cNvPr id="120"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377720"/>
            <a:ext cx="8229600" cy="4746600"/>
          </a:xfrm>
          <a:prstGeom prst="rect">
            <a:avLst/>
          </a:prstGeom>
          <a:noFill/>
          <a:ln w="0">
            <a:noFill/>
          </a:ln>
        </p:spPr>
        <p:txBody>
          <a:bodyPr anchor="t">
            <a:normAutofit/>
          </a:bodyPr>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rtibat görevlilerinin çoğunluğu, emniyette görevl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nlardan bazıları, savcılıklardaki irtibat görevlileridir</a:t>
            </a:r>
            <a:endParaRPr b="0" lang="en-US" sz="3200" spc="-1" strike="noStrike">
              <a:solidFill>
                <a:srgbClr val="000000"/>
              </a:solidFill>
              <a:latin typeface="Calibri"/>
            </a:endParaRPr>
          </a:p>
          <a:p>
            <a:pPr marL="270000" indent="-2700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dapeşte Sözleşmesi, 24/7 irtibat görevlileri ağı için hukuki bir temel sağlamıştır ve bu, uluslar arası işbirliği konusunda en yararlı araçlardan biri olarak kabul edilmektedir. </a:t>
            </a:r>
            <a:endParaRPr b="0" lang="en-US" sz="3200" spc="-1" strike="noStrike">
              <a:solidFill>
                <a:srgbClr val="000000"/>
              </a:solidFill>
              <a:latin typeface="Calibri"/>
            </a:endParaRPr>
          </a:p>
        </p:txBody>
      </p:sp>
      <p:sp>
        <p:nvSpPr>
          <p:cNvPr id="122" name="PlaceHolder 2"/>
          <p:cNvSpPr>
            <a:spLocks noGrp="1"/>
          </p:cNvSpPr>
          <p:nvPr>
            <p:ph type="title"/>
          </p:nvPr>
        </p:nvSpPr>
        <p:spPr>
          <a:xfrm>
            <a:off x="457200" y="274680"/>
            <a:ext cx="8229600" cy="977760"/>
          </a:xfrm>
          <a:prstGeom prst="rect">
            <a:avLst/>
          </a:prstGeom>
          <a:noFill/>
          <a:ln w="0">
            <a:noFill/>
          </a:ln>
        </p:spPr>
        <p:txBody>
          <a:bodyPr anchor="ctr">
            <a:noAutofit/>
          </a:bodyPr>
          <a:p>
            <a:pPr indent="0" algn="ctr">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24/7 İrtibat Görevlileri</a:t>
            </a:r>
            <a:endParaRPr b="0" lang="en-US" sz="4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2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Dördüncü Bölüm</a:t>
            </a:r>
            <a:br>
              <a:rPr sz="3200"/>
            </a:br>
            <a:r>
              <a:rPr b="1" lang="tr-TR" sz="3200" spc="-1" strike="noStrike">
                <a:solidFill>
                  <a:srgbClr val="000000"/>
                </a:solidFill>
                <a:latin typeface="Calibri"/>
              </a:rPr>
              <a:t>Somut olaylarda uluslararası işbirliği gereksinimi – ele alınan olay</a:t>
            </a:r>
            <a:r>
              <a:rPr b="0" lang="tr-TR" sz="3200" spc="-1" strike="noStrike">
                <a:solidFill>
                  <a:srgbClr val="000000"/>
                </a:solidFill>
                <a:latin typeface="Calibri"/>
              </a:rPr>
              <a:t> </a:t>
            </a:r>
            <a:br>
              <a:rPr sz="3200"/>
            </a:br>
            <a:endParaRPr b="0" lang="en-US" sz="3200" spc="-1" strike="noStrike">
              <a:solidFill>
                <a:srgbClr val="000000"/>
              </a:solidFill>
              <a:latin typeface="Calibri"/>
            </a:endParaRPr>
          </a:p>
        </p:txBody>
      </p:sp>
      <p:pic>
        <p:nvPicPr>
          <p:cNvPr id="12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irinci Bölüm</a:t>
            </a:r>
            <a:br>
              <a:rPr sz="3200"/>
            </a:br>
            <a:r>
              <a:rPr b="1" lang="tr-TR" sz="3200" spc="-1" strike="noStrike">
                <a:solidFill>
                  <a:srgbClr val="000000"/>
                </a:solidFill>
                <a:latin typeface="Calibri"/>
              </a:rPr>
              <a:t>Somut olaylarda uluslar arası işbirliği gereksinimi</a:t>
            </a:r>
            <a:br>
              <a:rPr sz="3200"/>
            </a:br>
            <a:endParaRPr b="0" lang="en-US" sz="3200" spc="-1" strike="noStrike">
              <a:solidFill>
                <a:srgbClr val="000000"/>
              </a:solidFill>
              <a:latin typeface="Calibri"/>
            </a:endParaRPr>
          </a:p>
        </p:txBody>
      </p:sp>
      <p:pic>
        <p:nvPicPr>
          <p:cNvPr id="56"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t>
            </a:r>
            <a:r>
              <a:rPr b="0" lang="tr-TR" sz="3200" spc="-1" strike="noStrike">
                <a:solidFill>
                  <a:srgbClr val="000000"/>
                </a:solidFill>
                <a:latin typeface="Calibri"/>
              </a:rPr>
              <a:t>0007” hesabı için mevcut bilgilerin alınması amacıyla </a:t>
            </a:r>
            <a:r>
              <a:rPr b="0" lang="tr-TR" sz="3200" spc="-1" strike="noStrike" u="sng">
                <a:solidFill>
                  <a:srgbClr val="0000ff"/>
                </a:solidFill>
                <a:uFillTx/>
                <a:latin typeface="Calibri"/>
              </a:rPr>
              <a:t>www.hushmail.com’un</a:t>
            </a:r>
            <a:r>
              <a:rPr b="0" lang="tr-TR" sz="3200" spc="-1" strike="noStrike">
                <a:solidFill>
                  <a:srgbClr val="000000"/>
                </a:solidFill>
                <a:latin typeface="Calibri"/>
              </a:rPr>
              <a:t> kullanıldığı ülkeye yönelik MLA talebi.</a:t>
            </a:r>
            <a:endParaRPr b="0" lang="en-US" sz="3200" spc="-1" strike="noStrike">
              <a:solidFill>
                <a:srgbClr val="000000"/>
              </a:solidFill>
              <a:latin typeface="Calibri"/>
            </a:endParaRPr>
          </a:p>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566640" indent="0">
              <a:spcBef>
                <a:spcPts val="7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566640" indent="-566640">
              <a:spcBef>
                <a:spcPts val="700"/>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a:t>
            </a:r>
            <a:r>
              <a:rPr b="0" lang="tr-TR" sz="2800" spc="-1" strike="noStrike">
                <a:solidFill>
                  <a:srgbClr val="000000"/>
                </a:solidFill>
                <a:latin typeface="Calibri"/>
              </a:rPr>
              <a:t>Humour ürünü”ne yönelik DDoS (dağıtık hizmet engellemeleri) ile ilgili adli bilim incelemesinin saldırganların IP’leri hakkında ilave bilgi sağlaması durumunda IP adresinin kaynaklandığı ülkelerdeki yerel ISP’den veri elde edilmesi amacıyla MLA düzenlenir. Anonim uygulamalar/araçlar (yani TOR) kullanılmadığından emin olun. Bunların kullanılmış olması halinde soruşturma, yanlış yöne gidebilir, gereksiz önlemler alınabilir ve soruşturmada gecikmeler olabili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2" name="PlaceHolder 2"/>
          <p:cNvSpPr>
            <a:spLocks noGrp="1"/>
          </p:cNvSpPr>
          <p:nvPr>
            <p:ph/>
          </p:nvPr>
        </p:nvSpPr>
        <p:spPr>
          <a:xfrm>
            <a:off x="457200" y="1545840"/>
            <a:ext cx="8229600" cy="5257800"/>
          </a:xfrm>
          <a:prstGeom prst="rect">
            <a:avLst/>
          </a:prstGeom>
          <a:noFill/>
          <a:ln w="0">
            <a:noFill/>
          </a:ln>
        </p:spPr>
        <p:txBody>
          <a:bodyPr anchor="t">
            <a:normAutofit/>
          </a:bodyPr>
          <a:p>
            <a:pPr marL="60948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609480" indent="-609480">
              <a:spcBef>
                <a:spcPts val="7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u="sng">
                <a:solidFill>
                  <a:srgbClr val="0000ff"/>
                </a:solidFill>
                <a:uFillTx/>
                <a:latin typeface="Calibri"/>
              </a:rPr>
              <a:t>http://hungary.carssale.eu’nun</a:t>
            </a:r>
            <a:r>
              <a:rPr b="0" lang="tr-TR" sz="3200" spc="-1" strike="noStrike">
                <a:solidFill>
                  <a:srgbClr val="000000"/>
                </a:solidFill>
                <a:latin typeface="Calibri"/>
              </a:rPr>
              <a:t> adli bilim incelemesinin yapılmasından ve bağlanarak zanlı tarafından talep edildiği şekilde Humour tarafından konulan fotoğrafları indirmiş olan kişilerin IP’lerinin belirlenmesinden sonra IP adresi kullanıcısı/sahibi hakkında veri ve kanıt elde edilmesi amacıyla bu IP’ler için kaynak ülkesine MLA gönderili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597240" indent="0">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97240" indent="-597240">
              <a:lnSpc>
                <a:spcPct val="90000"/>
              </a:lnSpc>
              <a:spcBef>
                <a:spcPts val="799"/>
              </a:spcBef>
              <a:buClr>
                <a:srgbClr val="000000"/>
              </a:buClr>
              <a:buFont typeface="Calibri"/>
              <a:buAutoNum type="arabicPeriod" startAt="4"/>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aracıların (“katırlar”) belirlenmesinden sonra bu kişilerin zanlılar/tanıklar olarak ifadelerinin alınması, RM ile haberleşmelerine ilişkin kanıtlar için bilgisayarlarında arama yapılması ve kredi kartları ile diğer mevcut kanıtlara (ATM fişleri, ATM izleme kamerası kayıtları, vs.) el konulması için bu kişilerin ikamet ettikleri ülkelere MLA gönderin. </a:t>
            </a:r>
            <a:endParaRPr b="0" lang="en-US" sz="3200" spc="-1" strike="noStrike">
              <a:solidFill>
                <a:srgbClr val="000000"/>
              </a:solidFill>
              <a:latin typeface="Calibri"/>
            </a:endParaRPr>
          </a:p>
          <a:p>
            <a:pPr marL="597240" indent="0">
              <a:lnSpc>
                <a:spcPct val="90000"/>
              </a:lnSpc>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MLA adımları ve önlemleri</a:t>
            </a: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8229600" cy="3919680"/>
          </a:xfrm>
          <a:prstGeom prst="rect">
            <a:avLst/>
          </a:prstGeom>
          <a:noFill/>
          <a:ln w="0">
            <a:noFill/>
          </a:ln>
        </p:spPr>
        <p:txBody>
          <a:bodyPr anchor="t">
            <a:normAutofit fontScale="92000"/>
          </a:bodyPr>
          <a:p>
            <a:pPr marL="560520" indent="0">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marL="560520" indent="-560520">
              <a:spcBef>
                <a:spcPts val="799"/>
              </a:spcBef>
              <a:buClr>
                <a:srgbClr val="000000"/>
              </a:buClr>
              <a:buFont typeface="Calibri"/>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bazı) aracıların suçunun belirlenmesinden sonra bunların iadesi (tutuklama emirleri) veya iadenin mümkün olmaması halinde dosyanın ve cezai takibatın, aracının vatandaşı olduğu/ikamet ettiği ülkeye gönderilmesi için MLA gönderilmesi olasılığını dikkate alın</a:t>
            </a:r>
            <a:endParaRPr b="0" lang="en-US" sz="3200" spc="-1" strike="noStrike">
              <a:solidFill>
                <a:srgbClr val="000000"/>
              </a:solidFill>
              <a:latin typeface="Calibri"/>
            </a:endParaRPr>
          </a:p>
          <a:p>
            <a:pPr marL="560520" indent="0">
              <a:spcBef>
                <a:spcPts val="7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38"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eşinci Bölüm</a:t>
            </a:r>
            <a:br>
              <a:rPr sz="3200"/>
            </a:br>
            <a:r>
              <a:rPr b="1" lang="tr-TR" sz="3200" spc="-1" strike="noStrike">
                <a:solidFill>
                  <a:srgbClr val="000000"/>
                </a:solidFill>
                <a:latin typeface="Calibri"/>
              </a:rPr>
              <a:t>Özet</a:t>
            </a:r>
            <a:br>
              <a:rPr sz="3200"/>
            </a:br>
            <a:endParaRPr b="0" lang="en-US" sz="3200" spc="-1" strike="noStrike">
              <a:solidFill>
                <a:srgbClr val="000000"/>
              </a:solidFill>
              <a:latin typeface="Calibri"/>
            </a:endParaRPr>
          </a:p>
        </p:txBody>
      </p:sp>
      <p:pic>
        <p:nvPicPr>
          <p:cNvPr id="140" name="Picture 3" descr=""/>
          <p:cNvPicPr/>
          <p:nvPr/>
        </p:nvPicPr>
        <p:blipFill>
          <a:blip r:embed="rId1"/>
          <a:stretch/>
        </p:blipFill>
        <p:spPr>
          <a:xfrm>
            <a:off x="6786720" y="4643280"/>
            <a:ext cx="1962000" cy="17668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86920" y="1047240"/>
            <a:ext cx="8682120" cy="50785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turumun sonunda katılımcılar: </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nternetin küresel boyutunu ve bilişim suçları alanında uluslar arası işbirliğinin önemini anla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lenmiş olabilecek suçların bir çoğu için uluslar arası işbirliği gereksiniminin farkına varmalı;</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Uluslararası işbirliği kanallarını ve mevcut araçları, bunların nasıl kullanıldığını, mevcut olan işbirliği yöntemlerinin süreleri ve etkinliğini belirlemeli;</a:t>
            </a:r>
            <a:endParaRPr b="0" lang="en-US" sz="3000" spc="-1" strike="noStrike">
              <a:solidFill>
                <a:srgbClr val="000000"/>
              </a:solidFill>
              <a:latin typeface="Calibri"/>
            </a:endParaRPr>
          </a:p>
          <a:p>
            <a:pPr>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işim Suçları Hakkındaki Budapeşte Sözleşmesi’nde tanımlanan işbirliği mekanizmalarının avantajının farkına varmalı ve bunun genel ilkeleri, geçici önlemler ve 24/7 ağ konusunda bilgi sahibi olmalı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4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Öz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144"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838080" y="1341360"/>
            <a:ext cx="7988400" cy="5113440"/>
          </a:xfrm>
          <a:prstGeom prst="rect">
            <a:avLst/>
          </a:prstGeom>
          <a:noFill/>
          <a:ln w="0">
            <a:noFill/>
          </a:ln>
        </p:spPr>
        <p:txBody>
          <a:bodyPr anchor="t">
            <a:normAutofit/>
          </a:bodyPr>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1   Bir suçun yeri – nerede işlendiğ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Hangi maddi hukuk geçerlidi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Yetki kime aittir (polis, savcı, hakim)</a:t>
            </a:r>
            <a:endParaRPr b="0" lang="en-US" sz="2400" spc="-1" strike="noStrike">
              <a:solidFill>
                <a:srgbClr val="000000"/>
              </a:solidFill>
              <a:latin typeface="Calibri"/>
            </a:endParaRPr>
          </a:p>
          <a:p>
            <a:pPr marL="7207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2   Soruşturmaya ilişkin bir sınırlama olarak yargı yetkisi</a:t>
            </a:r>
            <a:endParaRPr b="0" lang="en-US" sz="28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Sınır ötesi soruşturmalar</a:t>
            </a:r>
            <a:endParaRPr b="0" lang="en-US" sz="2400" spc="-1" strike="noStrike">
              <a:solidFill>
                <a:srgbClr val="000000"/>
              </a:solidFill>
              <a:latin typeface="Calibri"/>
            </a:endParaRPr>
          </a:p>
          <a:p>
            <a:pPr lvl="2" marL="1120680" indent="-72072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tr-TR" sz="2400" spc="-1" strike="noStrike">
                <a:solidFill>
                  <a:srgbClr val="000000"/>
                </a:solidFill>
                <a:latin typeface="Calibri"/>
              </a:rPr>
              <a:t>“</a:t>
            </a:r>
            <a:r>
              <a:rPr b="0" lang="tr-TR" sz="2400" spc="-1" strike="noStrike">
                <a:solidFill>
                  <a:srgbClr val="000000"/>
                </a:solidFill>
                <a:latin typeface="Calibri"/>
              </a:rPr>
              <a:t>bulut” içinde soruşturma – esas olarak “bulut” içinde saklanmış verilere erişim</a:t>
            </a:r>
            <a:endParaRPr b="0" lang="en-US" sz="2400" spc="-1" strike="noStrike">
              <a:solidFill>
                <a:srgbClr val="000000"/>
              </a:solidFill>
              <a:latin typeface="Calibri"/>
            </a:endParaRPr>
          </a:p>
        </p:txBody>
      </p:sp>
      <p:sp>
        <p:nvSpPr>
          <p:cNvPr id="58" name="PlaceHolder 2"/>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a:t>
            </a:r>
            <a:r>
              <a:rPr b="1" lang="tr-TR" sz="4400" spc="-1" strike="noStrike">
                <a:solidFill>
                  <a:srgbClr val="000000"/>
                </a:solidFill>
                <a:latin typeface="Calibri"/>
              </a:rPr>
              <a:t>Zor” Sorula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na ve savcılara suç bildiriminde bulunulduğunda onların bilgi ve deneyim düzeyi, olayın doğru bir şekilde anlaşılması ve kanıtların muhafaza edilmesi ve elde edilmesi için zamanında ve yeterli önlem alınması açısından büyük önem taşıyabilir.  </a:t>
            </a:r>
            <a:endParaRPr b="0" lang="en-US" sz="2400" spc="-1" strike="noStrike">
              <a:solidFill>
                <a:srgbClr val="000000"/>
              </a:solidFill>
              <a:latin typeface="Calibri"/>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Polis memurları ve savcıların, olayın çözülmesi konusunda doğal olarak çıkarı olan mağdurun işbirliği ve katkısı dahil olmak üzere gerektiğinde kurum içinden ve dışından ilave yardım talep etmesi.</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arası bilişim suçları soruşturmalarına ilişkin bazı pratik hususlar</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Yardım talep etmek amacıyla kullanılan hukuki belgenin belirtilmesi – antlaşma, sözleşme veya başka işbirliği aracı.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Soruşturmanın/takibatın kimin tarafından yürütüldüğünün açıkça belirtilmesi. Bütün gerekli temas bilgilerinin ve tercih edilen haberleşme araçlarının iletilmesi.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Olayın özetlenmesi – Soruşturmayı /takibatı destekleyen kanıtların bir özeti dahil olmak üzere soruşturma veya takibata konu olan olay hakkında ayrıntılı bir açıklama yapılması. Devam eden soruşturmaya ilişkin olarak talep edilen kanıt ve önlemlere ilişkin gerekçeyi açıklayın.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İlgili ulusal mevzuat hükümlerinin belirtilmesi – ilgili ceza verme hükümleri dahil olmak üzere soruşturmaya/takibata konu bütün ilgili yasa hükümlerinin tam metni. </a:t>
            </a:r>
            <a:endParaRPr b="0" lang="en-US" sz="1800" spc="-1" strike="noStrike">
              <a:solidFill>
                <a:srgbClr val="000000"/>
              </a:solidFill>
              <a:latin typeface="Calibri"/>
            </a:endParaRPr>
          </a:p>
          <a:p>
            <a:pPr marL="332640" indent="-33264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800" spc="-1" strike="noStrike">
                <a:solidFill>
                  <a:srgbClr val="000000"/>
                </a:solidFill>
                <a:latin typeface="Calibri"/>
              </a:rPr>
              <a:t>Talep edilen yardımın kesin olarak açıklanması – tam olarak ne istiyorsunuz. </a:t>
            </a:r>
            <a:endParaRPr b="0" lang="en-US" sz="1800" spc="-1" strike="noStrike">
              <a:solidFill>
                <a:srgbClr val="000000"/>
              </a:solidFill>
              <a:latin typeface="Calibri"/>
            </a:endParaRPr>
          </a:p>
          <a:p>
            <a:pPr marL="332640" indent="-33264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 beyanı/ifadesi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Kişinin bulunduğu y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la ilgili ulusal usule ilişkin kural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Tanıktan talep edilen belirli bilgi ve soruların listesi</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bilişim suçları soruşturmalarına ilişkin bazı pratik hususlar</a:t>
            </a:r>
            <a:endParaRPr b="0" lang="en-US" sz="32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şağıda belirtilen bilgileri veri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zılı kanıtlar içi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Elde edilecek belgeleri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tr-TR" sz="2800" spc="-1" strike="noStrike">
                <a:solidFill>
                  <a:srgbClr val="000000"/>
                </a:solidFill>
                <a:latin typeface="Calibri"/>
              </a:rPr>
              <a:t> </a:t>
            </a:r>
            <a:r>
              <a:rPr b="0" lang="tr-TR" sz="2800" spc="-1" strike="noStrike">
                <a:solidFill>
                  <a:srgbClr val="000000"/>
                </a:solidFill>
                <a:latin typeface="Calibri"/>
              </a:rPr>
              <a:t>Belgelerin /eşyaların / kanıtların bulunabileceği yer veya bunlara el koymuş olan kişi veya kuruluşun açıkça belirtilmesi</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7:02:21Z</dcterms:modified>
  <cp:revision>72</cp:revision>
  <dc:subject>ERENOGLU CONSULTANCY, TRANSLATION AND FOREIGN TRADE LTD CO.</dc:subject>
  <dc:title>ERENOĞLU DANIŞMANLIK TERCÜMANLIK VE DIŞ TİCARET LTD. ŞTİ.</dc:title>
</cp:coreProperties>
</file>