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2272-FFAF-4F74-A943-86BCAA34E9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9D7023-86F9-4F2D-8534-7D84C1C367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211-E0B8-45C6-A3DC-DF3E135D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353C-CF29-48F2-8137-CDF4E9F5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4E11-C65E-45B8-ADE2-1563BFE73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5890-4295-4B7C-9362-A4A21955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52D-6646-46E3-9D35-6A6420A3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AC4F-DF7A-466A-9747-C371E912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7939-5404-4131-A35D-9FF6064D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55D2-E7C5-4EA6-8739-81132C58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FD20-0ED3-474C-A67F-B0549BF5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07B-9081-4EF7-B409-396F6A2B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785A-4485-4FAA-BE22-5DDD9F6D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EBA2-B79B-47E1-AE80-0A5075A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8B446F-4A12-433E-B24B-97479EE597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 1.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(</a:t>
            </a:r>
            <a:r>
              <a:rPr b="0" lang="tr-TR" sz="3200" spc="-1" strike="noStrike">
                <a:solidFill>
                  <a:srgbClr val="a6a6a6"/>
                </a:solidFill>
                <a:latin typeface="Calibri"/>
              </a:rPr>
              <a:t>Kursun Kapanışı ve Geri Bildirim</a:t>
            </a:r>
            <a:r>
              <a:rPr b="0" lang="en-US" sz="3200" spc="-1" strike="noStrike">
                <a:solidFill>
                  <a:srgbClr val="a6a6a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c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04640"/>
            <a:ext cx="82296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Bu oturum, katılımcıların kurs hakkında geri bildirimde bulunmalarına imkan vermeyi ve yapılabilecek her türlü iyileştirmeyi belirlemesi için eğitmene yardımcı olmayı amaçlamaktadır. Eğitmen, ayrıca hedef ve amaçlara göre kursun içeriğini yeniden özetleyecekti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Kurs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03200" y="1189080"/>
            <a:ext cx="8686800" cy="563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u kursun sonunda katılımcılar, aşağıdakiler dahil olmak üzere bilişim suçları soruşturmaları ile ilgili konuları değerlendirebileceklerdi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r soruşturmanın yürütül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İşlenen suçların türlerinin belirlenmesi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Kanıtların, tanıkların ve zanlıların bulunduğu yerlerin belirlenmesi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Nerede bulunduklarına bakılmaksızın kanıtların kabul edilebilir bir şeklide muhafaza altına alın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Elektronik kanıtlarla ilgili arama ve el koyma çalışmalar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nın bir parçası olan dijital cihazlarla ilgili çalışmalar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Soruşturma aşamasının desteklenmesi için gerekli olan adli bilim uzmanları ve diğer kişilere yönelik talimatlar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Zanlıların sorgulanması için hazırlık yapılması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Bilişim suçları kanıtlarının sunulması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300" spc="-1" strike="noStrike">
                <a:solidFill>
                  <a:srgbClr val="000000"/>
                </a:solidFill>
                <a:latin typeface="Calibri"/>
              </a:rPr>
              <a:t>Adli süreç sırasında ilgili hususların değerlendirilmesi</a:t>
            </a: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1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8080" y="1417320"/>
            <a:ext cx="88200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Kurs, Eğitmen ve Senaryo Hakkında Bilg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arın belirlenmesi, bir soruşturma planı ve senaryonun hazırlanması konusu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num – Uluslararası İşbirliğ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Uluslararası işbirliği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7</a:t>
            </a: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Suçlunun belirlenmesi ve bir tutuklama stratejisinin oluşturulması hakkında grup çalışmas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Program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2. Gü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0840" y="1417680"/>
            <a:ext cx="88664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1. günün değerlendirilmesi – Tutuklama(lar) hakkında bilgi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9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Di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jital Adli Bil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4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 -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ijital kanıtlar, kanıt gereksinimleri, zanlılar, yargı yetkisi ve uluslararası konular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3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Öğle yemeğ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mahkeme için dosyanın hazırl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4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ya son şeklinin verilmesi hakkında grup çalış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A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17</a:t>
            </a:r>
            <a:r>
              <a:rPr b="0" lang="tr-TR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00 – </a:t>
            </a:r>
            <a:r>
              <a:rPr b="0" lang="tr-TR" sz="2200" spc="-1" strike="noStrike">
                <a:solidFill>
                  <a:srgbClr val="000000"/>
                </a:solidFill>
                <a:latin typeface="Calibri"/>
              </a:rPr>
              <a:t>Dosyanın gözden geçirilmesi, eğitim ekibi ve katılımcıların açıklamaları, değerlendirme, geri bildirim ve kursun kapanmas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u oturumun sonunda katılımcıla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urs ve etkinliği hakkında uygun geri bildirimde bulun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AK (Avrupa Konseyi) kurs değerlendirme formlarını doldura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Konuya ilişkin bilgi ve becerilerini artırmak için gerek duydukları bundan sonraki öğrenme seviyesini belirleyebilecekler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 Amaçlarının Öze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12:20:24Z</dcterms:created>
  <dc:creator>OPERATOR</dc:creator>
  <dc:description>Uğur Mumucu Caddesi Kırçiçeği Sokağı No: 8/2
TR-06700 G.O.P Çankaya/ANKARA
Fax: +90-312- 441 91 0</dc:description>
  <cp:keywords>www.erenoglu.com.tr</cp:keywords>
  <dc:language>en-US</dc:language>
  <cp:lastModifiedBy>OPERATOR</cp:lastModifiedBy>
  <dcterms:modified xsi:type="dcterms:W3CDTF">2013-08-05T08:39:23Z</dcterms:modified>
  <cp:revision>41</cp:revision>
  <dc:subject>ERENOGLU CONSULTANCY, TRANSLATION AND FOREIGN TRADE LTD CO.</dc:subject>
  <dc:title>ERENOĞLU DANIŞMANLIK TERCÜMANLIK VE DIŞ TİCARET LTD. ŞTİ.</dc:title>
</cp:coreProperties>
</file>