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EF182-BC79-4227-9089-7244EC524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F8D4C-3666-44F6-A699-1A2D8770A9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122-059E-4E16-87CB-B9320A6C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B2E-5BAE-4092-90C4-01EE6EEE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3A8-8269-40BC-B2FA-31247CCF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F96-2ED0-46B1-915B-466AB358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987-4C1A-4737-9FFD-27D4942E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1B8-5AF0-4FFE-9A8C-6B8D8E03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71D-0963-4F25-AFAE-A6933F9B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B2D-750C-434A-BDB4-432ADDD3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95F-8850-4904-9A53-B160C001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A87-DD10-4110-ABCA-D13D4EC0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5DD-4FA6-4AF5-8D41-94E68923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D43-5CA7-4126-AA11-40BA79D2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A76DB-5BC8-497B-92F8-8FBD827FA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Kursun Kapanışı ve Geri Bildiri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c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Bu oturum, katılımcıların kurs hakkında geri bildirimde bulunmalarına imkan vermeyi ve yapılabilecek her türlü iyileştirmeyi belirlemesi için eğitmene yardımcı olmayı amaçlamaktadır. Eğitmen, ayrıca hedef ve amaçlara göre kursun içeriğini yeniden özetleyecekti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Kurs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3200" y="1189080"/>
            <a:ext cx="86868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u kursun sonunda katılımcılar, aşağıdakiler dahil olmak üzere bilişim suçları soruşturmaları ile ilgili konuları değerlendirebileceklerdi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r soruşturmanın yürütül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İşlenen suçların türlerinin belirlen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Kanıtların, tanıkların ve zanlıların bulunduğu yerlerin belirlenmesi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Nerede bulunduklarına bakılmaksızın kanıtların kabul edilebilir bir şeklide muhafaza altına alın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Elektronik kanıtlarla ilgili arama ve el koyma çalışmalar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nın bir parçası olan dijital cihazlarla ilgili çalışmalar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 aşamasının desteklenmesi için gerekli olan adli bilim uzmanları ve diğer kişilere yönelik talimatla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Zanlıların sorgulanmas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lişim suçları kanıtlarının sunulmas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Adli süreç sırasında ilgili hususların değerlendirilmesi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1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s, Eğitmen ve Senaryo Hakkında Bilgi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arın belirlenmesi, bir soruşturma planı ve senaryonun hazırlanması konusu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 – Uluslararası İşbirli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lararası işbirliği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unun belirlenmesi ve bir tutuklama stratejisinin oluşturulması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2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0840" y="1417680"/>
            <a:ext cx="88664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 günün değerlendirilmesi – Tutuklama(lar) hakkında bilgi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D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jital Adli Bil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 -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ijital kanıtlar, kanıt gereksinimleri, zanlılar, yargı yetkisi ve uluslararası konular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hkeme için dosyanın hazırl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ya son şeklinin verilmesi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nın gözden geçirilmesi, eğitim ekibi ve katılımcıların açıklamaları, değerlendirme, geri bildirim ve kursun kap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 Amaçlarının Öze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OPERATOR</dc:creator>
  <dc:description>Uğur Mumucu Caddesi Kırçiçeği Sokağı No: 8/2
TR-06700 G.O.P Çankaya/ANKARA
Fax: +90-312- 441 91 0</dc:description>
  <cp:keywords>www.erenoglu.com.tr</cp:keywords>
  <dc:language>en-US</dc:language>
  <cp:lastModifiedBy>OPERATOR</cp:lastModifiedBy>
  <dcterms:modified xsi:type="dcterms:W3CDTF">2013-08-05T08:39:23Z</dcterms:modified>
  <cp:revision>41</cp:revision>
  <dc:subject>ERENOGLU CONSULTANCY, TRANSLATION AND FOREIGN TRADE LTD CO.</dc:subject>
  <dc:title>ERENOĞLU DANIŞMANLIK TERCÜMANLIK VE DIŞ TİCARET LTD. ŞTİ.</dc:title>
</cp:coreProperties>
</file>