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322CF-F505-47A1-8A30-FF661B04B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FC9DF-EE4F-447B-A3D9-2BE964E537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6E5A-2803-4945-8A86-E79A2ED7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EAE-0616-49FF-85DF-7B1F601B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E69-3D26-4B3D-8499-66A0AF14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0F3-24EA-4BCE-8765-B51F2D1F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4B6-0B04-414D-8C8A-AFA14601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824-6C98-4819-B063-D231CC7D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5B2-A414-4D67-8791-6B6619A6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1B6-DDA2-4D61-AAE5-C3583173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5515-BBF5-44FC-A358-CB47840E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543-C15C-4D17-B1A2-7E1486EC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EB7-7689-4031-8561-71FA88FE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6733-EAEB-48FD-8599-096580DA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0CE93-85B6-4C98-950E-B2873D490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kimler ve Savcılar İçin İleri Düzey Bilişim Suçları Eğiti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a6a6a6"/>
                </a:solidFill>
                <a:latin typeface="Calibri"/>
              </a:rPr>
              <a:t>Oturum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 1.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(</a:t>
            </a:r>
            <a:r>
              <a:rPr b="0" lang="tr-TR" sz="3200" spc="-1" strike="noStrike">
                <a:solidFill>
                  <a:srgbClr val="a6a6a6"/>
                </a:solidFill>
                <a:latin typeface="Calibri"/>
              </a:rPr>
              <a:t>Kursun Kapanışı ve Geri Bildirim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un Amac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046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Bu oturum, katılımcıların kurs hakkında geri bildirimde bulunmalarına imkan vermeyi ve yapılabilecek her türlü iyileştirmeyi belirlemesi için eğitmene yardımcı olmayı amaçlamaktadır. Eğitmen, ayrıca hedef ve amaçlara göre kursun içeriğini yeniden özetleyecekti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un Amaç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u oturumun sonunda katılımcıla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Kurs ve etkinliği hakkında uygun geri bildirimde bulunabilecek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K (Avrupa Konseyi) kurs değerlendirme formlarını doldurabilecek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Konuya ilişkin bilgi ve becerilerini artırmak için gerek duydukları bundan sonraki öğrenme seviyesini belirleyebileceklerdi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Kursun Amaç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3200" y="1189080"/>
            <a:ext cx="868680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Bu kursun sonunda katılımcılar, aşağıdakiler dahil olmak üzere bilişim suçları soruşturmaları ile ilgili konuları değerlendirebileceklerdir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Bir soruşturmanın yürütülmesi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İşlenen suçların türlerinin belirlenmesi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Kanıtların, tanıkların ve zanlıların bulunduğu yerlerin belirlenmesi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Nerede bulunduklarına bakılmaksızın kanıtların kabul edilebilir bir şeklide muhafaza altına alın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Elektronik kanıtlarla ilgili arama ve el koyma çalışmaları için hazırlık yapıl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Soruşturmanın bir parçası olan dijital cihazlarla ilgili çalışmalar yapıl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Soruşturma aşamasının desteklenmesi için gerekli olan adli bilim uzmanları ve diğer kişilere yönelik talimatlar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Zanlıların sorgulanması için hazırlık yapıl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Bilişim suçları kanıtlarının sunulmas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Adli süreç sırasında ilgili hususların değerlendirilmesi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1. Gü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8080" y="1417320"/>
            <a:ext cx="8820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urs, Eğitmen ve Senaryo Hakkında Bilgi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ir soruşturmanın geliştirilme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çların belirlenmesi, bir soruşturma planı ve senaryonun hazırlanması konusunda grup çalış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ğle yemeğ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num – Uluslararası İşbirliğ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luslararası işbirliği hakkında grup çalış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çlunun belirlenmesi ve bir tutuklama stratejisinin oluşturulması hakkında grup çalış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2. Gü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0840" y="1417680"/>
            <a:ext cx="88664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1. günün değerlendirilmesi – Tutuklama(lar) hakkında bilgi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Di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jital Adli Bili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3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 -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ijital kanıtlar, kanıt gereksinimleri, zanlılar, yargı yetkisi ve uluslararası konular hakkında grup çalış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Öğle yemeğ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mahkeme için dosyanın hazırlan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osyaya son şeklinin verilmesi hakkında grup çalış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7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osyanın gözden geçirilmesi, eğitim ekibi ve katılımcıların açıklamaları, değerlendirme, geri bildirim ve kursun kapan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Bu oturumun sonunda katılımcıla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Kurs ve etkinliği hakkında uygun geri bildirimde bulunabilecek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AK (Avrupa Konseyi) kurs değerlendirme formlarını doldurabilecek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Konuya ilişkin bilgi ve becerilerini artırmak için gerek duydukları bundan sonraki öğrenme seviyesini belirleyebilecekler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 Amaçlarının Öze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083760" y="450072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OPERATOR</dc:creator>
  <dc:description>Uğur Mumucu Caddesi Kırçiçeği Sokağı No: 8/2
TR-06700 G.O.P Çankaya/ANKARA
Fax: +90-312- 441 91 0</dc:description>
  <cp:keywords>www.erenoglu.com.tr</cp:keywords>
  <dc:language>en-US</dc:language>
  <cp:lastModifiedBy>OPERATOR</cp:lastModifiedBy>
  <dcterms:modified xsi:type="dcterms:W3CDTF">2013-08-05T08:39:23Z</dcterms:modified>
  <cp:revision>41</cp:revision>
  <dc:subject>ERENOGLU CONSULTANCY, TRANSLATION AND FOREIGN TRADE LTD CO.</dc:subject>
  <dc:title>ERENOĞLU DANIŞMANLIK TERCÜMANLIK VE DIŞ TİCARET LTD. ŞTİ.</dc:title>
</cp:coreProperties>
</file>