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099E21-E403-445A-9644-45DFE35135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2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u="sng">
                <a:solidFill>
                  <a:srgbClr val="000000"/>
                </a:solidFill>
                <a:uFillTx/>
                <a:latin typeface="Calibri"/>
              </a:rPr>
              <a:t>Hakimler, buna alışık değildir</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Dijital kanıttan ve bir mahkemeye bir bilişim suçu davasının sunulmasından söz edildiğinde bugün bile bunun bir çok savcı ve hakim için hala yeni bir şey olarak görüldüğünün anlaşılması gerekir. Bu nedenle dikkatli olmalıyız. Polislerin, savcıların, avukatların ve hakimlerin, bilişim suçları ve elektronik kanıtlarla ilgili olarak eğitilmeleri için büyük çaba harcanmaktadır. Bu, sadece ulusal düzeyde değil aynı zamanda uluslar arası düzeyde ve Avrupa düzeyinde yapılmaktadır (burada bulunma nedenimiz de budu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Maalesef bugün bir bilişim suçu olayının eğitilmiş ve uzmanlaşmış polis tarafından soruşturulmuş olmasının dosyanın mahkemeye bir uzmanlaşmış savcı tarafından getirileceği ya da uzmanlaşmış bir hakim tarafından inceleneceği anlamına gelmediğini biliyoruz.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Bir çok hakim, dijital olmayan çağda eğitim görmüşlerdir ve çok iyi hukukçu olmalarına karşın dijital kanıtların nereden geldiği, nasıl toplanabileceği ve özet olarak bir bilgisayarın veya internetin nasıl çalıştığı konusunda bir fikre sahip olmayabilirle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Kuşkusuz savunma avukatları, bu durumdan yararlanmaya çalışacaktı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Ancak bu bilişim suçları olaylarına bakan kişilerle ilgili olarak meydana gelebilecek sorunlar ve dosyanın mahkemeye sunulma şekli ile çözülebilecek sorunların (daha sonraki bölümlere bakınız) dışında dijital kanıtlar, mahkemede özel bir şekilde ele alınmalıdı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Bu dijital kanıtların özellikleri ile çok yakından ilgilidir</a:t>
            </a:r>
            <a:r>
              <a:rPr b="0" lang="en-GB" sz="400" spc="-1" strike="noStrike">
                <a:solidFill>
                  <a:srgbClr val="1f497d"/>
                </a:solidFill>
                <a:latin typeface="Calibri"/>
              </a:rPr>
              <a:t>.</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228600">
              <a:lnSpc>
                <a:spcPct val="6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u="sng">
                <a:solidFill>
                  <a:srgbClr val="000000"/>
                </a:solidFill>
                <a:uFillTx/>
                <a:latin typeface="Calibri"/>
              </a:rPr>
              <a:t>Mahkeme muamelelerinde dijital kanıtların kullanılması</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AK Elektronik Kanıt Kılavuzu’nun 7. bölümüne bakınız</a:t>
            </a:r>
            <a:r>
              <a:rPr b="0" lang="en-US" sz="400" spc="-1" strike="noStrike">
                <a:solidFill>
                  <a:srgbClr val="000000"/>
                </a:solidFill>
                <a:latin typeface="Calibri"/>
              </a:rPr>
              <a:t>.</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Mahkemelerin, tamamı dijital verileri oluşturan email, dijital fotoğraf, ATM işlem günlükleri, kelime işlem belgeleri, anında mesajlar, elektronik çizelgeler, internet tarayıcı geçmişleri, veri tabanları, bilgisayar belleğinin içeriği, bilgisayar yedeklemeleri, bilgisayar yazılı çıktıları ve dijital video ve ses dosyaları şeklindeki elektronik kanıtları kabul etmeleri nedeniyle elektronik kanıtların kullanımı son birkaç yıl içinde artış göstermiş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Suç için kullanılan bir dijital cihazın, bütün bu cihazların fiziksel kanıt olarak kalacak olması nedeniyle bir suç mahallinde bulunabilecek başka biçimdeki fiziksel kanıtlarla aynı şekilde muhafaza altına alınması gerekir. Parmak izi ve DNA kanıtlarında olduğu gibi </a:t>
            </a:r>
            <a:r>
              <a:rPr b="1" lang="tr-TR" sz="400" spc="-1" strike="noStrike">
                <a:solidFill>
                  <a:srgbClr val="000000"/>
                </a:solidFill>
                <a:latin typeface="Calibri"/>
              </a:rPr>
              <a:t>dijital kanıtlar, hassastır ve gerekli önlemler alınmadığı taktirde kolaylıkla kaybedilebilir veya değişiklik yapılabilir. </a:t>
            </a:r>
            <a:r>
              <a:rPr b="0" lang="tr-TR" sz="400" spc="-1" strike="noStrike">
                <a:solidFill>
                  <a:srgbClr val="000000"/>
                </a:solidFill>
                <a:latin typeface="Calibri"/>
              </a:rPr>
              <a:t>Dijital kanıtların kullanıldığı ilk dönemde güvenlik kuruluşlarının eğitilmemiş üyeleri, bunları adli bilim incelemesi için sunmadan önce kanıt bulmak amacıyla bilgisayarları açarlardı.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Dijital cihazın nerede bulunduğunun ve el konulduğunun kaydedilmesi önemlidir. Çünkü zanlının niyeti hakkında çok şeye işaret edebilir. </a:t>
            </a:r>
            <a:r>
              <a:rPr b="1" lang="tr-TR" sz="400" spc="-1" strike="noStrike">
                <a:solidFill>
                  <a:srgbClr val="000000"/>
                </a:solidFill>
                <a:latin typeface="Calibri"/>
              </a:rPr>
              <a:t>Arama ve el koyma sürecinin video ile kaydedilmesi </a:t>
            </a:r>
            <a:r>
              <a:rPr b="0" lang="tr-TR" sz="400" spc="-1" strike="noStrike">
                <a:solidFill>
                  <a:srgbClr val="000000"/>
                </a:solidFill>
                <a:latin typeface="Calibri"/>
              </a:rPr>
              <a:t>iyi bir uygulamadır. Bu, dijital cihazların konumunu gösterecek ve örneğin kablosuz cihazın oturma odasındaki erişilebilen bir alan yerine tavan arasında bulunup bulunmadığı konusunda artık bir tartışma yaşanmayacakt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228600">
              <a:lnSpc>
                <a:spcPct val="13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u="sng">
                <a:solidFill>
                  <a:srgbClr val="1f497d"/>
                </a:solidFill>
                <a:uFillTx/>
                <a:latin typeface="Calibri"/>
              </a:rPr>
              <a:t>Üçlü </a:t>
            </a:r>
            <a:r>
              <a:rPr b="1" lang="en-US" sz="400" spc="-1" strike="noStrike" u="sng">
                <a:solidFill>
                  <a:srgbClr val="1f497d"/>
                </a:solidFill>
                <a:uFillTx/>
                <a:latin typeface="Calibri"/>
              </a:rPr>
              <a:t>A</a:t>
            </a:r>
            <a:r>
              <a:rPr b="1" lang="en-US" sz="400" spc="-1" strike="noStrike" u="sng">
                <a:solidFill>
                  <a:srgbClr val="000000"/>
                </a:solidFill>
                <a:uFillTx/>
                <a:latin typeface="Calibri"/>
              </a:rPr>
              <a:t> </a:t>
            </a:r>
            <a:r>
              <a:rPr b="1" lang="tr-TR" sz="400" spc="-1" strike="noStrike" u="sng">
                <a:solidFill>
                  <a:srgbClr val="000000"/>
                </a:solidFill>
                <a:uFillTx/>
                <a:latin typeface="Calibri"/>
              </a:rPr>
              <a:t>kalite zorunludur</a:t>
            </a:r>
            <a:endParaRPr b="0" lang="en-US" sz="4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lvl="2" marL="1143000" indent="-228600">
              <a:lnSpc>
                <a:spcPct val="13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400" spc="-1" strike="noStrike">
                <a:solidFill>
                  <a:srgbClr val="000000"/>
                </a:solidFill>
                <a:latin typeface="Calibri"/>
              </a:rPr>
              <a:t>Admissibility</a:t>
            </a:r>
            <a:r>
              <a:rPr b="1" lang="tr-TR" sz="400" spc="-1" strike="noStrike">
                <a:solidFill>
                  <a:srgbClr val="000000"/>
                </a:solidFill>
                <a:latin typeface="Calibri"/>
              </a:rPr>
              <a:t> (kabul edilebilirlik)</a:t>
            </a:r>
            <a:endParaRPr b="0" lang="en-US" sz="400" spc="-1" strike="noStrike">
              <a:solidFill>
                <a:srgbClr val="000000"/>
              </a:solidFill>
              <a:latin typeface="Calibri"/>
            </a:endParaRPr>
          </a:p>
          <a:p>
            <a:pPr marL="22860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Bilgisayar Kanıtları, </a:t>
            </a:r>
            <a:r>
              <a:rPr b="1" lang="tr-TR" sz="400" spc="-1" strike="noStrike">
                <a:solidFill>
                  <a:srgbClr val="000000"/>
                </a:solidFill>
                <a:latin typeface="Calibri"/>
              </a:rPr>
              <a:t>mahkemede kabul edilebilir olmalarını sağlayan çeşitli yasalara ve kurallara uygun oldukları </a:t>
            </a:r>
            <a:r>
              <a:rPr b="0" lang="tr-TR" sz="400" spc="-1" strike="noStrike">
                <a:solidFill>
                  <a:srgbClr val="000000"/>
                </a:solidFill>
                <a:latin typeface="Calibri"/>
              </a:rPr>
              <a:t>taktirde kabul edilebilirler. Kanıtların toplanması sırasında gerekli usuller izlenmelidir. Bunlar, AK Elektronik Kanıt Kılavuzu’nun 4, 5 ve 6. bölümlerinde açıklanmaktad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Ceza davalarında dijital kanıtların, kabul edilebilir, gerçek, doğru ve tam olması gerekir. Bu kanıtlar, çeşitli yasalara ve kurallara uygun olmalı ve mahkeme tarafından kabul edilebilir olmalıd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Savcı, dosyayı incelerken </a:t>
            </a:r>
            <a:r>
              <a:rPr b="1" lang="tr-TR" sz="400" spc="-1" strike="noStrike">
                <a:solidFill>
                  <a:srgbClr val="000000"/>
                </a:solidFill>
                <a:latin typeface="Calibri"/>
              </a:rPr>
              <a:t>dosyalar ve verilerle belirli kişiler ve olaylar arasında açık bir </a:t>
            </a:r>
            <a:r>
              <a:rPr b="1" lang="tr-TR" sz="400" spc="-1" strike="noStrike" u="sng">
                <a:solidFill>
                  <a:srgbClr val="000000"/>
                </a:solidFill>
                <a:uFillTx/>
                <a:latin typeface="Calibri"/>
              </a:rPr>
              <a:t>bağlantı kurulmasının </a:t>
            </a:r>
            <a:r>
              <a:rPr b="1" lang="tr-TR" sz="400" spc="-1" strike="noStrike">
                <a:solidFill>
                  <a:srgbClr val="000000"/>
                </a:solidFill>
                <a:latin typeface="Calibri"/>
              </a:rPr>
              <a:t>ve </a:t>
            </a:r>
            <a:r>
              <a:rPr b="1" lang="tr-TR" sz="400" spc="-1" strike="noStrike" u="sng">
                <a:solidFill>
                  <a:srgbClr val="000000"/>
                </a:solidFill>
                <a:uFillTx/>
                <a:latin typeface="Calibri"/>
              </a:rPr>
              <a:t>kanıtların kesintisiz sürekliliğini</a:t>
            </a:r>
            <a:r>
              <a:rPr b="1" lang="tr-TR" sz="400" spc="-1" strike="noStrike">
                <a:solidFill>
                  <a:srgbClr val="000000"/>
                </a:solidFill>
                <a:latin typeface="Calibri"/>
              </a:rPr>
              <a:t> ortaya koyarak ve bu şekilde </a:t>
            </a:r>
            <a:r>
              <a:rPr b="1" lang="tr-TR" sz="400" spc="-1" strike="noStrike" u="sng">
                <a:solidFill>
                  <a:srgbClr val="000000"/>
                </a:solidFill>
                <a:uFillTx/>
                <a:latin typeface="Calibri"/>
              </a:rPr>
              <a:t>kanıt zincirini </a:t>
            </a:r>
            <a:r>
              <a:rPr b="1" lang="tr-TR" sz="400" spc="-1" strike="noStrike">
                <a:solidFill>
                  <a:srgbClr val="000000"/>
                </a:solidFill>
                <a:latin typeface="Calibri"/>
              </a:rPr>
              <a:t>göstererek bir kanıtın nasıl sunulduğunun </a:t>
            </a:r>
            <a:r>
              <a:rPr b="1" lang="tr-TR" sz="400" spc="-1" strike="noStrike" u="sng">
                <a:solidFill>
                  <a:srgbClr val="000000"/>
                </a:solidFill>
                <a:uFillTx/>
                <a:latin typeface="Calibri"/>
              </a:rPr>
              <a:t>açıklanmasının</a:t>
            </a:r>
            <a:r>
              <a:rPr b="0" lang="tr-TR" sz="400" spc="-1" strike="noStrike">
                <a:solidFill>
                  <a:srgbClr val="000000"/>
                </a:solidFill>
                <a:latin typeface="Calibri"/>
              </a:rPr>
              <a:t> mümkün olup olmadığını dikkate alacakt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Ceza davaları sırasında savcı, suçun “</a:t>
            </a:r>
            <a:r>
              <a:rPr b="1" lang="tr-TR" sz="400" spc="-1" strike="noStrike">
                <a:solidFill>
                  <a:srgbClr val="000000"/>
                </a:solidFill>
                <a:latin typeface="Calibri"/>
              </a:rPr>
              <a:t>makul kuşkunun ötesinde”</a:t>
            </a:r>
            <a:r>
              <a:rPr b="0" lang="tr-TR" sz="400" spc="-1" strike="noStrike">
                <a:solidFill>
                  <a:srgbClr val="000000"/>
                </a:solidFill>
                <a:latin typeface="Calibri"/>
              </a:rPr>
              <a:t> kanıtlanması amacıyla kanıtları kullanmalıdır. Kanıt kuralları çerçevesinde mahkeme, her zaman en iyi kanıtları alma hakkına sahiptir. Geleneksel olarak en iyi belge, belgenin </a:t>
            </a:r>
            <a:r>
              <a:rPr b="1" lang="tr-TR" sz="400" spc="-1" strike="noStrike">
                <a:solidFill>
                  <a:srgbClr val="000000"/>
                </a:solidFill>
                <a:latin typeface="Calibri"/>
              </a:rPr>
              <a:t>aslıydı</a:t>
            </a:r>
            <a:r>
              <a:rPr b="0" lang="tr-TR" sz="400" spc="-1" strike="noStrike">
                <a:solidFill>
                  <a:srgbClr val="000000"/>
                </a:solidFill>
                <a:latin typeface="Calibri"/>
              </a:rPr>
              <a:t>. Ancak belirli koşullarda, ikinci derecede kanıtlar kabul edilebilir. Genel olarak ikinci derecede kanıtlar, en iyi kanıtın kopyaları veya bunlardan yapılan alıntıları kapsa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ların savcı tarafından erken incelenmesi, hızlı yanıt verilmesine imkan tanır. Bu da bu kanıtları başka ülkelerden elde etme imkanı hala varken başka elektronik kanıtların gerekli olup olmadığının belirlenmesine yardımcı olacakt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lvl="2" marL="1143000" indent="-228600">
              <a:lnSpc>
                <a:spcPct val="60000"/>
              </a:lnSpc>
              <a:spcBef>
                <a:spcPts val="15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400" spc="-1" strike="noStrike">
                <a:solidFill>
                  <a:srgbClr val="000000"/>
                </a:solidFill>
                <a:latin typeface="Calibri"/>
              </a:rPr>
              <a:t>Gerçeklik, doğruluk ve tamlık</a:t>
            </a:r>
            <a:endParaRPr b="0" lang="en-US" sz="400" spc="-1" strike="noStrike">
              <a:solidFill>
                <a:srgbClr val="000000"/>
              </a:solidFill>
              <a:latin typeface="Calibri"/>
            </a:endParaRPr>
          </a:p>
          <a:p>
            <a:pPr lvl="2" marL="1143000" indent="0">
              <a:lnSpc>
                <a:spcPct val="60000"/>
              </a:lnSpc>
              <a:spcBef>
                <a:spcPts val="15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a:solidFill>
                  <a:srgbClr val="000000"/>
                </a:solidFill>
                <a:latin typeface="Calibri"/>
              </a:rPr>
              <a:t>Verilerin gerçekliği konusundaki kanıtların hazırlanması ve sunulması sorumluluğu, kanıtların kabul edilmesini isteyen tarafa ait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 bir kağıda kaydedilmiş olan bir belge gibi fiziksel kanıttan farklı değildir. Kanıtın gerçek olmasının sağlanması gereklidir. Elektronik kanıt ve fiziksel kanıt arasındaki fark, genellikle </a:t>
            </a:r>
            <a:r>
              <a:rPr b="1" lang="tr-TR" sz="400" spc="-1" strike="noStrike">
                <a:solidFill>
                  <a:srgbClr val="000000"/>
                </a:solidFill>
                <a:latin typeface="Calibri"/>
              </a:rPr>
              <a:t>elektronik kanıtta  bilerek veya bilmeden değişiklik yapılması veya değiştirilmesinin </a:t>
            </a:r>
            <a:r>
              <a:rPr b="0" lang="tr-TR" sz="400" spc="-1" strike="noStrike">
                <a:solidFill>
                  <a:srgbClr val="000000"/>
                </a:solidFill>
                <a:latin typeface="Calibri"/>
              </a:rPr>
              <a:t>kolaylıkla yapılabilmesidir. </a:t>
            </a:r>
            <a:r>
              <a:rPr b="1" lang="tr-TR" sz="400" spc="-1" strike="noStrike">
                <a:solidFill>
                  <a:srgbClr val="000000"/>
                </a:solidFill>
                <a:latin typeface="Calibri"/>
              </a:rPr>
              <a:t>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lar, belge şeklindeki kanıtlar için geçerli olan aynı kurallara ve yasalara tabidir. Belge niteliğindeki kanıt doktrini şu şekilde açıklanabilir: mahkemeye sunulan kanıtların, polisin bunlara ilk el koyduğu ana göre daha fazla veya daha az olmadığının gösterilmesi sorumluluğu iddia makamına aittir. İşletim sistemleri ve diğer programlar, sık sık elektronik kayıtların içeriğinde değişiklik ve eklemeler yaparlar. Bu, kullanıcı verilerin değiştirildiğinin farkına varmadan otomatik olarak meydana gelebil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 ilkelerine uymak için mümkün olan her durumda </a:t>
            </a:r>
            <a:r>
              <a:rPr b="1" lang="tr-TR" sz="400" spc="-1" strike="noStrike">
                <a:solidFill>
                  <a:srgbClr val="000000"/>
                </a:solidFill>
                <a:latin typeface="Calibri"/>
              </a:rPr>
              <a:t>bütün hedef cihazın bir görüntüsü alınmalıdır. </a:t>
            </a:r>
            <a:r>
              <a:rPr b="0" lang="tr-TR" sz="400" spc="-1" strike="noStrike">
                <a:solidFill>
                  <a:srgbClr val="000000"/>
                </a:solidFill>
                <a:latin typeface="Calibri"/>
              </a:rPr>
              <a:t>Kısmi veya seçmeli dosya kopyalama, örneğin görüntülenecek verilerin hacmini bunu imkansız hale getirdiği belirli durumlarda bir alternatif olarak dikkate alınabilir. Ancak soruşturmacılar, bu yaklaşımın benimsenmesi durumunda bütün ilgili kanıtların elde edilmesini sağlamaya özen göstermelid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Vakaların az bir bölümünde kabul edilmiş bir görüntüleme cihazı kullanılarak bir görüntü alınması mümkün olmayabilir. Bu tür durumlarda kanıtların elde edilmesi için orijinal makineye erişim imkanı sağlanması gerekli olabilir. Bu husus dikkate alınarak kanıt sunma yetkisine sahip gerekli nitelikleri taşıyan bir dijital kanıt uzmanının kanıtları toplaması önemlid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a:solidFill>
                  <a:srgbClr val="000000"/>
                </a:solidFill>
                <a:latin typeface="Calibri"/>
              </a:rPr>
              <a:t>Bir mahkemede tarafsızlık yanı sıra kanıtların sürekliliği ve bütünlüğünün ortaya konulması önem taşır. </a:t>
            </a:r>
            <a:r>
              <a:rPr b="0" lang="tr-TR" sz="400" spc="-1" strike="noStrike">
                <a:solidFill>
                  <a:srgbClr val="000000"/>
                </a:solidFill>
                <a:latin typeface="Calibri"/>
              </a:rPr>
              <a:t>Ayrıca kanıtların elde edildiği her süreç gösterilerek kanıtların nasıl toplandığının ortaya konulması gerekir. Kanıtlar, </a:t>
            </a:r>
            <a:r>
              <a:rPr b="1" lang="tr-TR" sz="400" spc="-1" strike="noStrike">
                <a:solidFill>
                  <a:srgbClr val="000000"/>
                </a:solidFill>
                <a:latin typeface="Calibri"/>
              </a:rPr>
              <a:t>bir üçüncü tarafın aynı süreci tekrarlayarak </a:t>
            </a:r>
            <a:r>
              <a:rPr b="0" lang="tr-TR" sz="400" spc="-1" strike="noStrike">
                <a:solidFill>
                  <a:srgbClr val="000000"/>
                </a:solidFill>
                <a:latin typeface="Calibri"/>
              </a:rPr>
              <a:t>mahkemeye sunulmuş olanla </a:t>
            </a:r>
            <a:r>
              <a:rPr b="1" lang="tr-TR" sz="400" spc="-1" strike="noStrike">
                <a:solidFill>
                  <a:srgbClr val="000000"/>
                </a:solidFill>
                <a:latin typeface="Calibri"/>
              </a:rPr>
              <a:t>aynı sonuca varabilmesini</a:t>
            </a:r>
            <a:r>
              <a:rPr b="0" lang="tr-TR" sz="400" spc="-1" strike="noStrike">
                <a:solidFill>
                  <a:srgbClr val="000000"/>
                </a:solidFill>
                <a:latin typeface="Calibri"/>
              </a:rPr>
              <a:t> sağlayacak şeklide muhafaza edilmelidir. </a:t>
            </a:r>
            <a:endParaRPr b="0" lang="en-US" sz="400" spc="-1" strike="noStrike">
              <a:solidFill>
                <a:srgbClr val="000000"/>
              </a:solidFill>
              <a:latin typeface="Calibri"/>
            </a:endParaRPr>
          </a:p>
          <a:p>
            <a:pPr lvl="2" marL="1143000" indent="0">
              <a:lnSpc>
                <a:spcPct val="60000"/>
              </a:lnSpc>
              <a:spcBef>
                <a:spcPts val="15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lvl="2" marL="1143000" indent="-228600">
              <a:lnSpc>
                <a:spcPct val="60000"/>
              </a:lnSpc>
              <a:spcBef>
                <a:spcPts val="15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400" spc="-1" strike="noStrike">
                <a:solidFill>
                  <a:srgbClr val="000000"/>
                </a:solidFill>
                <a:latin typeface="Calibri"/>
              </a:rPr>
              <a:t>İkna edici</a:t>
            </a:r>
            <a:endParaRPr b="0" lang="en-US" sz="400" spc="-1" strike="noStrike">
              <a:solidFill>
                <a:srgbClr val="000000"/>
              </a:solidFill>
              <a:latin typeface="Calibri"/>
            </a:endParaRPr>
          </a:p>
          <a:p>
            <a:pPr lvl="2" marL="1143000" indent="0">
              <a:lnSpc>
                <a:spcPct val="60000"/>
              </a:lnSpc>
              <a:spcBef>
                <a:spcPts val="15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Kanıt olarak gösterilen elektronik veriler hakkında bir kuşku olması halinde savunma, bunun kabul edilebilirliğine itiraz edecektir. Bu konu gündeme getirildiğinde iddia makamının, genellikle “</a:t>
            </a:r>
            <a:r>
              <a:rPr b="1" lang="tr-TR" sz="400" spc="-1" strike="noStrike">
                <a:solidFill>
                  <a:srgbClr val="000000"/>
                </a:solidFill>
                <a:latin typeface="Calibri"/>
              </a:rPr>
              <a:t>verilerin bütünlüğünün güvenilir olduğu </a:t>
            </a:r>
            <a:r>
              <a:rPr b="0" lang="tr-TR" sz="400" spc="-1" strike="noStrike">
                <a:solidFill>
                  <a:srgbClr val="000000"/>
                </a:solidFill>
                <a:latin typeface="Calibri"/>
              </a:rPr>
              <a:t>ve bu nedenle </a:t>
            </a:r>
            <a:r>
              <a:rPr b="1" lang="tr-TR" sz="400" spc="-1" strike="noStrike">
                <a:solidFill>
                  <a:srgbClr val="000000"/>
                </a:solidFill>
                <a:latin typeface="Calibri"/>
              </a:rPr>
              <a:t>güvenilir </a:t>
            </a:r>
            <a:r>
              <a:rPr b="0" lang="tr-TR" sz="400" spc="-1" strike="noStrike">
                <a:solidFill>
                  <a:srgbClr val="000000"/>
                </a:solidFill>
                <a:latin typeface="Calibri"/>
              </a:rPr>
              <a:t>bulunduğu” konusunda yeterli kanıt sunarak bunu yanıtlaması gerekir. Kanıtlar, </a:t>
            </a:r>
            <a:r>
              <a:rPr b="1" lang="tr-TR" sz="400" spc="-1" strike="noStrike">
                <a:solidFill>
                  <a:srgbClr val="000000"/>
                </a:solidFill>
                <a:latin typeface="Calibri"/>
              </a:rPr>
              <a:t>ikna edici </a:t>
            </a:r>
            <a:r>
              <a:rPr b="0" lang="tr-TR" sz="400" spc="-1" strike="noStrike">
                <a:solidFill>
                  <a:srgbClr val="000000"/>
                </a:solidFill>
                <a:latin typeface="Calibri"/>
              </a:rPr>
              <a:t>olmalıdır.</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Kanıtlarla ilgili başka bir husus da </a:t>
            </a:r>
            <a:r>
              <a:rPr b="1" lang="tr-TR" sz="400" spc="-1" strike="noStrike">
                <a:solidFill>
                  <a:srgbClr val="000000"/>
                </a:solidFill>
                <a:latin typeface="Calibri"/>
              </a:rPr>
              <a:t>bunların nasıl elde edildiği </a:t>
            </a:r>
            <a:r>
              <a:rPr b="0" lang="tr-TR" sz="400" spc="-1" strike="noStrike">
                <a:solidFill>
                  <a:srgbClr val="000000"/>
                </a:solidFill>
                <a:latin typeface="Calibri"/>
              </a:rPr>
              <a:t>ve bunun için kullanılan yöntemin, örneğin bilimsel inceleme yoluyla kanıtlanmasının mümkün olup olmadığıdır. Örneğin iddia makamının, sanığın günün belirli bir saatinde kendi ISP’sine bağlandığını gösteren bir telefon faturasını sunması halinde bu, genellikle kabul edilecektir. Bunun aksine iddia makamının “sanığın, kendi sabit diskindeki bütün dosyaları sildiğini, yeniden formatladığını ve daha sonra bunu 10 katlı bir binanın penceresinden attığını ancak bir veri kurtarma firmasına giderek dosyaları yeniden oluşturmayı başardığını” ileri sürmesi halinde savunma, kanıtların kurtarılması için kullanılan bu yöntemin geçerliliğini sorgulayabilir. Kanıtların kurtarılması için kullanılan yöntemlerin, geçerli olduğunun ortaya konulması ve mahkemeyi kanıtları kabul etme konusunda ikna etme yükümlülüğü iddia makamına ait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Doğru dengenin kurulması gerekir. Bir tarafta karar makamının (bir jürinin üyeleri veya tek bir hakem) teknik ayrıntıları anlamasını beklemek makul değildir. Diğer yanda veri kurtarma tekniklerini “sihir” olarak kabul etmelerini beklemek de uygun değildir. Bazı ülkelerde meslektaş incelemesi yapılmaktadır. Sahadaki diğer uzmanların bu tekniği incelemesi, test etmesi ve sonuçları onaylaması halinde mahkeme, kanıtları kabul edecek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sas olarak elektronik kanıtlar, diğer biçimlerdeki kanıtlarla aynı şekilde muamele görür. İddia makamının belgenin gerçek ve içeriğinin kabul edilebilir olduğunu kanıtlaması gerekecektir. Elektronik kanıtlarla ilgili olarak yapılan bütün işlemlerin, bu kılavuzun girişinde belirtilen elektronik kanıt ilkelerine uygun olması gerek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Bu ilkeler, elektronik kanıtların kullanılması için temel oluştururlar ve bu tür kanıtların olası kaynakları ile ilgili işlem yapılırken her zaman dikkate alınmaları gerekir. </a:t>
            </a:r>
            <a:endParaRPr b="0" lang="en-US" sz="400" spc="-1" strike="noStrike">
              <a:solidFill>
                <a:srgbClr val="000000"/>
              </a:solidFill>
              <a:latin typeface="Calibri"/>
            </a:endParaRPr>
          </a:p>
        </p:txBody>
      </p:sp>
      <p:sp>
        <p:nvSpPr>
          <p:cNvPr id="4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FF098-C98D-481F-8183-B63140F62F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2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u="sng">
                <a:solidFill>
                  <a:srgbClr val="000000"/>
                </a:solidFill>
                <a:uFillTx/>
                <a:latin typeface="Calibri"/>
              </a:rPr>
              <a:t>Dijital kanıtları üç gruba ayırın</a:t>
            </a:r>
            <a:endParaRPr b="0" lang="en-US" sz="7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akınız </a:t>
            </a:r>
            <a:r>
              <a:rPr b="0" i="1" lang="tr-TR" sz="600" spc="-1" strike="noStrike">
                <a:solidFill>
                  <a:srgbClr val="000000"/>
                </a:solidFill>
                <a:latin typeface="Calibri"/>
              </a:rPr>
              <a:t>Stephen Mason</a:t>
            </a:r>
            <a:r>
              <a:rPr b="0" lang="tr-TR" sz="600" spc="-1" strike="noStrike">
                <a:solidFill>
                  <a:srgbClr val="000000"/>
                </a:solidFill>
                <a:latin typeface="Calibri"/>
              </a:rPr>
              <a:t>, « Electronic Evidence », İkinci Basım, LexisNexis, 2010, s.83 a.f.</a:t>
            </a:r>
            <a:endParaRPr b="0" lang="en-US" sz="600" spc="-1" strike="noStrike">
              <a:solidFill>
                <a:srgbClr val="000000"/>
              </a:solidFill>
              <a:latin typeface="Calibri"/>
            </a:endParaRPr>
          </a:p>
          <a:p>
            <a:pPr marL="22860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lvl="1" marL="743040" indent="-285840">
              <a:lnSpc>
                <a:spcPct val="130000"/>
              </a:lnSpc>
              <a:buClr>
                <a:srgbClr val="1f497d"/>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600" spc="-1" strike="noStrike">
                <a:solidFill>
                  <a:srgbClr val="1f497d"/>
                </a:solidFill>
                <a:latin typeface="Calibri"/>
              </a:rPr>
              <a:t>Dijital kanıtları üç gruba ayırın:</a:t>
            </a:r>
            <a:endParaRPr b="0" lang="en-US" sz="600" spc="-1" strike="noStrike">
              <a:solidFill>
                <a:srgbClr val="000000"/>
              </a:solidFill>
              <a:latin typeface="Calibri"/>
            </a:endParaRPr>
          </a:p>
          <a:p>
            <a:pPr lvl="2" marL="1143000" indent="-228600">
              <a:lnSpc>
                <a:spcPct val="12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Bir veya daha fazla kişi tarafından yazılmış içeriği kapsayan faaliyetlerin kayıtları (örneğin e-mailler, word dosyaları, anında mesajlar)</a:t>
            </a:r>
            <a:endParaRPr b="0" lang="en-US" sz="600" spc="-1" strike="noStrike">
              <a:solidFill>
                <a:srgbClr val="000000"/>
              </a:solidFill>
              <a:latin typeface="Calibri"/>
            </a:endParaRPr>
          </a:p>
          <a:p>
            <a:pPr lvl="2" marL="1143000" indent="0">
              <a:lnSpc>
                <a:spcPct val="12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700" spc="-1" strike="noStrike">
                <a:solidFill>
                  <a:srgbClr val="1f497d"/>
                </a:solidFill>
                <a:latin typeface="Calibri"/>
              </a:rPr>
              <a:t>	</a:t>
            </a:r>
            <a:r>
              <a:rPr b="0" lang="tr-TR" sz="700" spc="-1" strike="noStrike">
                <a:solidFill>
                  <a:srgbClr val="1f497d"/>
                </a:solidFill>
                <a:latin typeface="Calibri"/>
              </a:rPr>
              <a:t>Belgenin içeriğinin, güvenilebilecek bir insan beyanının güvenilebilir bir kaydı olduğunun kanıtlanması gerekli olabilir. </a:t>
            </a:r>
            <a:endParaRPr b="0" lang="en-US" sz="700" spc="-1" strike="noStrike">
              <a:solidFill>
                <a:srgbClr val="000000"/>
              </a:solidFill>
              <a:latin typeface="Calibri"/>
            </a:endParaRPr>
          </a:p>
          <a:p>
            <a:pPr lvl="2" marL="1143000" indent="-228600">
              <a:lnSpc>
                <a:spcPct val="13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Bir kişinin herhangi bir katkı sağlamadığı bilgisayar tarafından oluşturulmuş kayıtlar (örneğin veri günlükleri, ATM işlemleri, telefon bağlantıları)</a:t>
            </a:r>
            <a:endParaRPr b="0" lang="en-US" sz="6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	</a:t>
            </a:r>
            <a:r>
              <a:rPr b="0" lang="tr-TR" sz="600" spc="-1" strike="noStrike">
                <a:solidFill>
                  <a:srgbClr val="000000"/>
                </a:solidFill>
                <a:latin typeface="Calibri"/>
              </a:rPr>
              <a:t>Bu tür kanıtlarla ilgili başlıca mesele, kayıtları oluşturan bilgisayar programının, olay anında sürekli olarak çalıştığının kanıtlanması olabilir. </a:t>
            </a:r>
            <a:endParaRPr b="0" lang="en-US" sz="600" spc="-1" strike="noStrike">
              <a:solidFill>
                <a:srgbClr val="000000"/>
              </a:solidFill>
              <a:latin typeface="Calibri"/>
            </a:endParaRPr>
          </a:p>
          <a:p>
            <a:pPr lvl="2" marL="1143000" indent="-228600">
              <a:lnSpc>
                <a:spcPct val="13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İnsan katkıları ve bir bilgisayar tarafından yapılan ve kaydedilen hesaplamaların bir karışımını içeren kayıtlar (örneğin bir mali elektronik çizelge)</a:t>
            </a:r>
            <a:endParaRPr b="0" lang="en-US" sz="6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	</a:t>
            </a:r>
            <a:r>
              <a:rPr b="0" lang="tr-TR" sz="600" spc="-1" strike="noStrike">
                <a:solidFill>
                  <a:srgbClr val="000000"/>
                </a:solidFill>
                <a:latin typeface="Calibri"/>
              </a:rPr>
              <a:t>Kanıt açısından sorun, kaydın içeriğinin bir kişi ya da bilgisayar tarafından oluşturulup oluşturulmadığı ve içeriğin ne kadarının bilgisayar, ne kadarının da insan tarafından oluşturulduğudur. Katkının kulaktan dolma bilgiye dayanması mümkündür ve mesele, bilgisayar işleminin gerçekliği olabilir. </a:t>
            </a:r>
            <a:endParaRPr b="0" lang="en-US" sz="6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000000"/>
              </a:solidFill>
              <a:latin typeface="Calibri"/>
            </a:endParaRPr>
          </a:p>
          <a:p>
            <a:pPr marL="228600" indent="-22860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a:solidFill>
                  <a:srgbClr val="000000"/>
                </a:solidFill>
                <a:latin typeface="Calibri"/>
              </a:rPr>
              <a:t>Dijital kanıt uzmanlarının/bilirkişilerinin önemli rolü</a:t>
            </a:r>
            <a:endParaRPr b="0" lang="en-US" sz="6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dli bilim bilirkişisinin görevinin merkezinde, elde edilen elektronik kayıtlarla ilgili raporların  ve duruma göre karşı tarafın beyanlarının ve raporlarının çürütülmesi bulunmaktadır. Gerçekler ve görüşler şeklinde açıkça ayrılmış kısa beyanları teşvik edin. Bu, düşünülen süreçlerin ve yapılan argümanların kesin olarak anlaşılmasına imkan verecektir. Gereksiz şekilde hacimli belgeler yerine gerektiği taktirde ekler şeklinde destekleyici belgeler isteyin.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ısa bir rapor, iyi bir rapor olabilir. Uzun bir rapor, hiç kimsenin başından sonuna kadar okuyamayacak olması halinde gerekli değildi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lindikleri taktirde spesifik bilgiler ve açıklamalar veya bilinmiyorsa beyandan önce bilirkişiden yönlendirme yapmasını isteyin. Bilinmeleri durumunda çürütülmeleri veya açıklama yapılması gereken karşı taraf beyanlarından kaynaklanan belirli sorular yöneltin. En önemlisi, bilirkişilerden davada kullanılacak bir terimler sözlüğü hazırlamalarını ve kabul etmelerini isteyin.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dli bilim uzmanlarının bir araya gelmeleri ve herhangi bir dijital kanıtın yorumlanması ile ilgili olarak iddia makamı ve savunmanın tutumları arasındaki ortak noktaları ve üzerinde mutabakata varılmış farklılıkları belirlemeleri teşvik edilmektedir ve bir terimler sözlüğü üzerinde mutabakata varılması da yararlıdı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 iki tarafın temsilcilerinin adli bilim uzmanları arasındaki her türlü toplantıya katılmaları çok önemlidir. Bu tür adli bilirkişi toplantılarının bir tutanağı hazırlanmalı ve her iki tarafça imzalanmalıdı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dli bilim uzmanının sunduğu kanıtlar, mahkemede doğru bir değerlendirme yapılmasını garanti etmek için aşağıdaki özelliklere sahip olması gereki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 Güvenili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 Tarafsız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c. Açık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4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3977A0-7CDC-41C1-A8F9-F25CD8515F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7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uhafaza zinciri</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K Elektronik Kanıt Kılavuzu’nun </a:t>
            </a:r>
            <a:r>
              <a:rPr b="0" lang="fr-BE" sz="1100" spc="-1" strike="noStrike">
                <a:solidFill>
                  <a:srgbClr val="000000"/>
                </a:solidFill>
                <a:latin typeface="Calibri"/>
              </a:rPr>
              <a:t>9.4.3</a:t>
            </a:r>
            <a:r>
              <a:rPr b="0" lang="tr-TR" sz="1100" spc="-1" strike="noStrike">
                <a:solidFill>
                  <a:srgbClr val="000000"/>
                </a:solidFill>
                <a:latin typeface="Calibri"/>
              </a:rPr>
              <a:t>. bölümüne bakınız.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uhafaza zinciri, hukuk yetkilisi tarafından yapılan </a:t>
            </a:r>
            <a:r>
              <a:rPr b="1" lang="tr-TR" sz="1100" spc="-1" strike="noStrike">
                <a:solidFill>
                  <a:srgbClr val="000000"/>
                </a:solidFill>
                <a:latin typeface="Calibri"/>
              </a:rPr>
              <a:t>el koymanın tanımlanması</a:t>
            </a:r>
            <a:r>
              <a:rPr b="0" lang="tr-TR" sz="1100" spc="-1" strike="noStrike">
                <a:solidFill>
                  <a:srgbClr val="000000"/>
                </a:solidFill>
                <a:latin typeface="Calibri"/>
              </a:rPr>
              <a:t> ile başlatılır ve incelenecek elektronik cihazla ilgili olarak </a:t>
            </a:r>
            <a:r>
              <a:rPr b="1" lang="tr-TR" sz="1100" spc="-1" strike="noStrike">
                <a:solidFill>
                  <a:srgbClr val="000000"/>
                </a:solidFill>
                <a:latin typeface="Calibri"/>
              </a:rPr>
              <a:t>meydana gelen bütün olayların kaydedilmesini </a:t>
            </a:r>
            <a:r>
              <a:rPr b="0" lang="tr-TR" sz="1100" spc="-1" strike="noStrike">
                <a:solidFill>
                  <a:srgbClr val="000000"/>
                </a:solidFill>
                <a:latin typeface="Calibri"/>
              </a:rPr>
              <a:t>amaçlar.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r veri kayıt cihazı kopyalandığında (klonlandığında) mümkün olduğu taktirde </a:t>
            </a:r>
            <a:r>
              <a:rPr b="1" lang="tr-TR" sz="1100" spc="-1" strike="noStrike">
                <a:solidFill>
                  <a:srgbClr val="000000"/>
                </a:solidFill>
                <a:latin typeface="Calibri"/>
              </a:rPr>
              <a:t>esas </a:t>
            </a:r>
            <a:r>
              <a:rPr b="0" lang="tr-TR" sz="1100" spc="-1" strike="noStrike">
                <a:solidFill>
                  <a:srgbClr val="000000"/>
                </a:solidFill>
                <a:latin typeface="Calibri"/>
              </a:rPr>
              <a:t>kayıt cihazının, hukuk yetkilisinin emanetinde bulunması şiddetle tavsiye edilmektedir. Bunun mümkün olmaması halinde bunun yerine hukuk yetkilisine götürülmek üzere el koyma süreci sırasında asıl elektronik cihazın ikinci bir kopyasının alınması ve ilk kopyalanan kayıt cihazının adli bilim analizi için kullanılması mümkündür. İlave analiz veya bir karşı taraf uzmanı için daha fazla klonlanmış kopyaya ihtiyaç duyulması halinde bunlar, hukuk yetkilisinin elinde bulunan kopyadan alınabilir.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sıl cihazın veya bir cihazın emanette bırakılması yoluyla ikinci bir bilgisayar adli incelemesi yapmak üzere asıl cihaza erişip benzer bir kopya alarak sunulmuş olan sonuçlar üzerinde oynanıp oynanmadığını kanıtlamak isteyebilecek diğer tarafların sabit disk içeriğin erişmelerine imkan tanırız.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Hukuk yetkilisinin asıl kayıt cihazına el koyması, sadece bunun el konulma yerinden alınmasının örneğin bir işletmeyi ihtiyaç duyduğu verilerden mahkum bırakarak bir ekonomik zarara neden olmaması halinde ve sadece bunun en pragmatik ve vakanın koşulları ile orantılı olması halinde mümkündür. Bütün diğer durumlarda asıl depolama cihazına el konulmamalı ve bunun yerine tam bir kopyası alınmalıdır. Bu, elektronik kayıt cihazlarının içeriğinin muhafaza edilmesini garanti etmek için yeterlidir.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Hukuk yetkilisi, daha sonra el konulan verileri, asıl kayıt cihazında veya bunun benzer kopyasında muhafaza edecek ve muhafaza zincirini doğru bir şekilde tanımlamak amacıyla </a:t>
            </a:r>
            <a:r>
              <a:rPr b="1" lang="tr-TR" sz="1100" spc="-1" strike="noStrike">
                <a:solidFill>
                  <a:srgbClr val="000000"/>
                </a:solidFill>
                <a:latin typeface="Calibri"/>
              </a:rPr>
              <a:t>verilerin her kullanımında bunların kim tarafından ve hangi amaçla kullanıldığını açıklayan bir belge oluşturacaktır</a:t>
            </a:r>
            <a:r>
              <a:rPr b="0" lang="tr-TR" sz="1100" spc="-1" strike="noStrike">
                <a:solidFill>
                  <a:srgbClr val="000000"/>
                </a:solidFill>
                <a:latin typeface="Calibri"/>
              </a:rPr>
              <a:t>. </a:t>
            </a:r>
            <a:endParaRPr b="0" lang="en-US" sz="1100" spc="-1" strike="noStrike">
              <a:solidFill>
                <a:srgbClr val="000000"/>
              </a:solidFill>
              <a:latin typeface="Calibri"/>
            </a:endParaRPr>
          </a:p>
        </p:txBody>
      </p:sp>
      <p:sp>
        <p:nvSpPr>
          <p:cNvPr id="4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1757A1-CC52-4ACD-9E51-1C6496D7B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Ülke dışından gelen kanıtların bütünlüğünü sağlayın</a:t>
            </a:r>
            <a:r>
              <a:rPr b="1" lang="en-US"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LA talebinizde bütün işlemlerin ve soruşturma yönteminin tam olarak belgelendirilmesini talep etmeniz vazgeçilmez bir husustu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BD ve İngiltere (önde gelen internet oyuncuları bu ülkelerde bulunmaktadır) gibi bir çok ülke, kanıtların sizin ulusal hukukunuza uygun olarak toplanmasını sağlamak için özel işlemleri ve şartları dikkate almaya isteklidi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Örneğin MLA talebinizde el konulan dijital kanıtların yedeklenmesini ve belirli bir şekilde mühürlenmesini istediğinizi belirtebilirsiniz.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ütün dijital kanıtların “endekslenmesini” bile isteyebilirsiniz.</a:t>
            </a:r>
            <a:r>
              <a:rPr b="0" lang="en-US" sz="200" spc="-1" strike="noStrike">
                <a:solidFill>
                  <a:srgbClr val="000000"/>
                </a:solidFill>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152280">
              <a:lnSpc>
                <a:spcPct val="13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1f497d"/>
                </a:solidFill>
                <a:uFillTx/>
                <a:latin typeface="Calibri"/>
              </a:rPr>
              <a:t>Ülke dışından gelen kanıtların kabul edilebilirliğini ve meşruluğunu sağlayın</a:t>
            </a:r>
            <a:r>
              <a:rPr b="1" lang="en-US" sz="200" spc="-1" strike="noStrike" u="sng">
                <a:solidFill>
                  <a:srgbClr val="1f497d"/>
                </a:solidFill>
                <a:uFillTx/>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Ülke dışından gelen bütün kanıtların kabul edilebilir bulunamayacağını dikkate almanız gereki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Dijital kanıt talep etmek isteyebileceğiniz ülkelerin bazıları AİHS’yi onaylamamıştı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şağıdaki konuları dikkate almanız gerekir</a:t>
            </a:r>
            <a:r>
              <a:rPr b="0" lang="en-US" sz="200" spc="-1" strike="noStrike">
                <a:solidFill>
                  <a:srgbClr val="000000"/>
                </a:solidFill>
                <a:latin typeface="Calibri"/>
              </a:rPr>
              <a:t>:</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endi aleyhinde tanıklık etmeme maddesi</a:t>
            </a:r>
            <a:r>
              <a:rPr b="0" lang="en-US" sz="200" spc="-1" strike="noStrike">
                <a:solidFill>
                  <a:srgbClr val="000000"/>
                </a:solidFill>
                <a:latin typeface="Calibri"/>
              </a:rPr>
              <a:t>:</a:t>
            </a:r>
            <a:br>
              <a:rPr sz="200"/>
            </a:br>
            <a:r>
              <a:rPr b="0" lang="tr-TR" sz="200" spc="-1" strike="noStrike">
                <a:solidFill>
                  <a:srgbClr val="000000"/>
                </a:solidFill>
                <a:latin typeface="Calibri"/>
              </a:rPr>
              <a:t>Bazı ülkelerde bir zanlının, adli makamlarla işbirliği yapmaya zorlanmasına imkan veren bir yasa vardır</a:t>
            </a:r>
            <a:r>
              <a:rPr b="0" lang="en-US" sz="200" spc="-1" strike="noStrike">
                <a:solidFill>
                  <a:srgbClr val="000000"/>
                </a:solidFill>
                <a:latin typeface="Calibri"/>
              </a:rPr>
              <a:t> (</a:t>
            </a:r>
            <a:r>
              <a:rPr b="0" lang="tr-TR" sz="200" spc="-1" strike="noStrike">
                <a:solidFill>
                  <a:srgbClr val="000000"/>
                </a:solidFill>
                <a:latin typeface="Calibri"/>
              </a:rPr>
              <a:t>örneğin bir şifreleme anahtarının, bir şifrenin verilmesi</a:t>
            </a:r>
            <a:r>
              <a:rPr b="0" lang="en-US" sz="200" spc="-1" strike="noStrike">
                <a:solidFill>
                  <a:srgbClr val="000000"/>
                </a:solidFill>
                <a:latin typeface="Calibri"/>
              </a:rPr>
              <a:t>, …). </a:t>
            </a:r>
            <a:r>
              <a:rPr b="0" lang="tr-TR" sz="200" spc="-1" strike="noStrike">
                <a:solidFill>
                  <a:srgbClr val="000000"/>
                </a:solidFill>
                <a:latin typeface="Calibri"/>
              </a:rPr>
              <a:t>Bu, ülkenizde kabul edilmeyebilir. </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Provokasyonun kullanılması</a:t>
            </a:r>
            <a:r>
              <a:rPr b="0" lang="en-US" sz="200" spc="-1" strike="noStrike">
                <a:solidFill>
                  <a:srgbClr val="000000"/>
                </a:solidFill>
                <a:latin typeface="Calibri"/>
              </a:rPr>
              <a:t> (</a:t>
            </a:r>
            <a:r>
              <a:rPr b="0" lang="tr-TR" sz="200" spc="-1" strike="noStrike">
                <a:solidFill>
                  <a:srgbClr val="000000"/>
                </a:solidFill>
                <a:latin typeface="Calibri"/>
              </a:rPr>
              <a:t>ABD’de kabul edilebilir, Avrupa’da kabul edilmez)</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avukatın yardımı</a:t>
            </a:r>
            <a:r>
              <a:rPr b="0" lang="en-US" sz="200" spc="-1" strike="noStrike">
                <a:solidFill>
                  <a:srgbClr val="000000"/>
                </a:solidFill>
                <a:latin typeface="Calibri"/>
              </a:rPr>
              <a:t> (</a:t>
            </a:r>
            <a:r>
              <a:rPr b="0" lang="tr-TR" sz="200" spc="-1" strike="noStrike">
                <a:solidFill>
                  <a:srgbClr val="000000"/>
                </a:solidFill>
                <a:latin typeface="Calibri"/>
              </a:rPr>
              <a:t>AİHM’nin </a:t>
            </a:r>
            <a:r>
              <a:rPr b="0" lang="en-US" sz="200" spc="-1" strike="noStrike">
                <a:solidFill>
                  <a:srgbClr val="000000"/>
                </a:solidFill>
                <a:latin typeface="Calibri"/>
              </a:rPr>
              <a:t>Salduz</a:t>
            </a:r>
            <a:r>
              <a:rPr b="0" lang="tr-TR" sz="200" spc="-1" strike="noStrike">
                <a:solidFill>
                  <a:srgbClr val="000000"/>
                </a:solidFill>
                <a:latin typeface="Calibri"/>
              </a:rPr>
              <a:t> kararı</a:t>
            </a:r>
            <a:r>
              <a:rPr b="0" lang="en-US" sz="200" spc="-1" strike="noStrike">
                <a:solidFill>
                  <a:srgbClr val="000000"/>
                </a:solidFill>
                <a:latin typeface="Calibri"/>
              </a:rPr>
              <a:t>)</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LA talebinizde talepte bulunulan ülkenin, belirli usule ilişkin yükümlülükleri dikkate almasını istediğinizi belirtebilirsiniz. </a:t>
            </a:r>
            <a:endParaRPr b="0" lang="en-US" sz="200" spc="-1" strike="noStrike">
              <a:solidFill>
                <a:srgbClr val="000000"/>
              </a:solidFill>
              <a:latin typeface="Calibri"/>
            </a:endParaRPr>
          </a:p>
          <a:p>
            <a:pPr marL="152280" indent="0">
              <a:lnSpc>
                <a:spcPct val="13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152280">
              <a:lnSpc>
                <a:spcPct val="13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1f497d"/>
                </a:solidFill>
                <a:uFillTx/>
                <a:latin typeface="Calibri"/>
              </a:rPr>
              <a:t>Yargı yetkisi ve yargının hangi ülkeye ait olduğu</a:t>
            </a:r>
            <a:r>
              <a:rPr b="1" lang="en-GB" sz="200" spc="-1" strike="noStrike" u="sng">
                <a:solidFill>
                  <a:srgbClr val="1f497d"/>
                </a:solidFill>
                <a:uFillTx/>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K Elektronik Kanıt Kılavuzu’nun </a:t>
            </a:r>
            <a:r>
              <a:rPr b="1" lang="tr-TR" sz="200" spc="-1" strike="noStrike">
                <a:solidFill>
                  <a:srgbClr val="000000"/>
                </a:solidFill>
                <a:latin typeface="Calibri"/>
              </a:rPr>
              <a:t>YARGI YETKİSİ </a:t>
            </a:r>
            <a:r>
              <a:rPr b="0" lang="tr-TR" sz="200" spc="-1" strike="noStrike">
                <a:solidFill>
                  <a:srgbClr val="000000"/>
                </a:solidFill>
                <a:latin typeface="Calibri"/>
              </a:rPr>
              <a:t>hakkındaki 8. maddesine bakınız. </a:t>
            </a:r>
            <a:endParaRPr b="0" lang="en-US" sz="2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Bilişim suçlarının uluslar arası boyutu</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ğlarla birbirine bağlanmış dünya, suçlular için büyük bir oyun alanıdır. Bütün dünyada binlerce çocuk ve yetişkin, internetin kötü amaçlarla kullanımı nedeniyle zarar görmekte, masum insanların paraları çalınmakta ve hırsızlar, uluslar arası sınırlar ötesinde büyük suçlar işlemektedir. Bu nedenle soruşturma makamlarının sınır ötesi irtibatı kolaylaştırması önem taşımaktadır. Hukuki yardımlaşma yoluyla kanıt elde edilmesi ve suçluların iadesi, polis ve savcıların çalışmalarında önemli bir rol oynamaktadır. Savcılar, soruşturmaların ve adli takibatların yürütülmesi için diğer ülkelerdeki soruşturmacılar ve savcılarla birlikte çalışmaktadır. Bilişim suçlarının soruşturulmasına yönelik uluslar arası işbirliği, çok fazla vurgulanamaz.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Sınır ötesi soruşturmaların, en önemli konuya yönelik olması gerekir: bir yasa uygulayıcısının, özellikle hızlı hareket etmesinin gerekmesi halinde kendi ülkesi dışında yasalara uygun bir şekilde soruşturma yürütebileceği koşullar (herhangi bir yerde bulunabilecek “</a:t>
            </a:r>
            <a:r>
              <a:rPr b="0" lang="tr-TR" sz="300" spc="-1" strike="noStrike">
                <a:solidFill>
                  <a:srgbClr val="000000"/>
                </a:solidFill>
                <a:latin typeface="Arial"/>
              </a:rPr>
              <a:t>bulut</a:t>
            </a:r>
            <a:r>
              <a:rPr b="0" lang="tr-TR" sz="300" spc="-1" strike="noStrike">
                <a:solidFill>
                  <a:srgbClr val="000000"/>
                </a:solidFill>
                <a:latin typeface="Calibri"/>
              </a:rPr>
              <a:t>”</a:t>
            </a:r>
            <a:r>
              <a:rPr b="0" lang="tr-TR" sz="300" spc="-1" strike="noStrike">
                <a:solidFill>
                  <a:srgbClr val="000000"/>
                </a:solidFill>
                <a:latin typeface="Arial"/>
              </a:rPr>
              <a:t>ta</a:t>
            </a:r>
            <a:r>
              <a:rPr b="0" lang="tr-TR" sz="300" spc="-1" strike="noStrike">
                <a:solidFill>
                  <a:srgbClr val="000000"/>
                </a:solidFill>
                <a:latin typeface="Calibri"/>
              </a:rPr>
              <a:t> kaydedilmiş kanıtlar dahil). Özellikle bu kanıtın ortadan kaybolması ihtimalinin bulunması halinde bir ülkenin sınırları dışındaki bir yerde kaydedilmiş olan elektronik kayıtların elde edilmesi ve toplanmasının mümkün olup olmadığının bilinmesi önemli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Fiziksel olarak ülkede bulunmayan elektronik kanıtlarla ilgili işlem yapılırken ayırt edilmesi gereken iki koşul vardır: </a:t>
            </a:r>
            <a:endParaRPr b="0" lang="en-US" sz="300" spc="-1" strike="noStrike">
              <a:solidFill>
                <a:srgbClr val="000000"/>
              </a:solidFill>
              <a:latin typeface="Calibri"/>
            </a:endParaRPr>
          </a:p>
          <a:p>
            <a:pPr marL="152280" indent="-152280">
              <a:lnSpc>
                <a:spcPct val="80000"/>
              </a:lnSpc>
              <a:spcBef>
                <a:spcPts val="113"/>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soruşturmacının, internete bağlı olan bir bilgisayara  el koyması. Bu tür koşullarda soruşturmacı, başka ülkelerdeki bilgisayarlara girme veya web sitelerine tıklama yetkisine sahip olabilir. Soruşturmacıya bunu yapma yetkisi iç hukuk uyarınca veya iç hukuk ve Budapeşte Bilişim Suçları Sözleşmesi’nin 32. maddesi hükümlerinin bir bileşimi uyarınca verilebil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300" spc="-1" strike="noStrike">
                <a:solidFill>
                  <a:srgbClr val="000000"/>
                </a:solidFill>
                <a:latin typeface="Calibri"/>
              </a:rPr>
              <a:t>2. </a:t>
            </a:r>
            <a:r>
              <a:rPr b="0" lang="tr-TR" sz="300" spc="-1" strike="noStrike">
                <a:solidFill>
                  <a:srgbClr val="000000"/>
                </a:solidFill>
                <a:latin typeface="Calibri"/>
              </a:rPr>
              <a:t>Elektronik kanıtın “</a:t>
            </a:r>
            <a:r>
              <a:rPr b="0" lang="tr-TR" sz="300" spc="-1" strike="noStrike">
                <a:solidFill>
                  <a:srgbClr val="000000"/>
                </a:solidFill>
                <a:latin typeface="Arial"/>
              </a:rPr>
              <a:t>bulut</a:t>
            </a:r>
            <a:r>
              <a:rPr b="0" lang="tr-TR" sz="300" spc="-1" strike="noStrike">
                <a:solidFill>
                  <a:srgbClr val="000000"/>
                </a:solidFill>
                <a:latin typeface="Calibri"/>
              </a:rPr>
              <a:t>”</a:t>
            </a:r>
            <a:r>
              <a:rPr b="0" lang="tr-TR" sz="300" spc="-1" strike="noStrike">
                <a:solidFill>
                  <a:srgbClr val="000000"/>
                </a:solidFill>
                <a:latin typeface="Arial"/>
              </a:rPr>
              <a:t>ta</a:t>
            </a:r>
            <a:r>
              <a:rPr b="0" lang="tr-TR" sz="300" spc="-1" strike="noStrike">
                <a:solidFill>
                  <a:srgbClr val="000000"/>
                </a:solidFill>
                <a:latin typeface="Calibri"/>
              </a:rPr>
              <a:t> bulunması yani örneğin bir zanlının emaillerinin el konulmuş olan evindeki bilgisayarı yerine başka bir yerde örneğin Amerika Birleşik Devletleri’ndeki ayrı bir sabit sürücüde bulunması halinde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iki koşul arasındaki farkın anlaşılması önemlidir. Çünkü soruşturma makamlarının geçerli yasalara bağlı olarak her koşulda farklı işlemler yapmaları gerekecektir. </a:t>
            </a:r>
            <a:endParaRPr b="0" lang="en-US" sz="3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Bilişim suçlarına karşı alınan önlemler</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vrupa’da bilişim suçlarına karşı alınan çeşitli önlemler bulunmaktadır. En önemlileri arasında Interpol, Avrupa Konseyi ve Avrupa Birliği’nin önlemleri bulunmaktadır (İrtibat Görevlileri Ağı, Europol, Eurojust ve Cezai Konularda Avrupa Yargı Ağı). Bu kurumların kaynakları, soruşturmalarda veya adli takibatlarda onlara yardımcı olmak için ceza yargısı sistemindeki farklı aktörlere aktarılabilmektedir. </a:t>
            </a:r>
            <a:endParaRPr b="0" lang="en-US" sz="3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Hukuki Yardımlaşma</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Devletler, her zaman diğer devletlerden bir uluslararası unsuru içeren suçlarla ilgili kanıtların toplanması konusunda taleplerde bulunma ihtiyacını hissetmişlerdir. Bu tür durumlarda Hukuki Yardımlaşma (MLA) konusunda bir yardım başvurusunda bulunulabilir veya başka biçimde işbirliği talep edilebilir. Sınır ötesi yardım talepleri, özellikle elektronik kanıtların söz konusu olduğu vakalar açısından önemlidir. Çünkü bu kanıtların değiştirilmesi veya silinmesi olasılığı vardır. Bu tür davalardaki esas güçlük, yeterince hızlı hareket edebilmekte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MLA talebinde bulunurken savcılık makamları veya bazen yargı makamları tarafından resmi bir talep yapılması gereklidir. Ancak bu tür bir başvurunun başarısı genellikle talepte bulunan makamlar ve talepte bulunan makamlar dahil olmak üzere ilgili tarafların iyi niyeti ve uzmanlığına dayanır.  Ayrıca talebin tamamlanması biraz zaman alabil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nedenle soruşturma ve savcılık makamları, daha iyi bir sonuç elde etmek amacıyla elektronik kanıtların söz konusu olduğu vakalarda farklı bir yoldan kanıt elde etmek için girişimde bulunabilirle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Sınır ötesi vakalar</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vakanın birden fazla ülkeyi ilgilendirmesi halinde maddi hukuk yanı sıra her ülkede suçların soruşturulmasından sorumlu çeşitli kuruluşlar arasındaki görüşmeler dikkate alınacaktır. Bu, karmaşık bir alan olabilir ve bazen bir ülkedeki soruşturmacı ekibinin, suçların soruşturulması ve takibinde öncülük yapması konusunda karar alınır. Diğer ülkelerdeki ilgili kuruluşlar, kendi ülkelerinde kanıtların muhafaza altına alınması için öncülük yapan soruşturma kuruluşu ile işbirliği yapmayı kabul edecekler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dapeşte Sözleşmesi’nin 35. maddesi, her akit tarafın “günde yirmi dört saat ve haftada yedi gün esasına göre ulaşılması mümkün olan bir irtibat görevlisi belirlemesini” şart koşması nedeniyle soruşturmacılara bir ölçüde pratik yardım sağlamaktadır. Bunun amacı, “bilgisayar sistemleri ve verilerle ilgili ceza gerektiren suçlarla ilgili soruşturmalar veya takibatlar veya bir ceza gerektiren suçla ilgili elektronik biçimdeki kanıtların toplanması amacıyla acil yardım” sağlanmasıdı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Sözleşme’nin taraflarından kendi iç hukuku ve uygulamalarının buna izin vermesi koşulu ile aşağıda belirtilen çeşitli önlemleri almaları istenmekte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 spc="-1" strike="noStrike">
                <a:solidFill>
                  <a:srgbClr val="000000"/>
                </a:solidFill>
                <a:latin typeface="Calibri"/>
              </a:rPr>
              <a:t>1. T</a:t>
            </a:r>
            <a:r>
              <a:rPr b="0" lang="tr-TR" sz="300" spc="-1" strike="noStrike">
                <a:solidFill>
                  <a:srgbClr val="000000"/>
                </a:solidFill>
                <a:latin typeface="Calibri"/>
              </a:rPr>
              <a:t>eknik tavsiyelerde bulunulması</a:t>
            </a:r>
            <a:r>
              <a:rPr b="0" lang="en-GB" sz="300" spc="-1" strike="noStrike">
                <a:solidFill>
                  <a:srgbClr val="000000"/>
                </a:solidFill>
                <a:latin typeface="Calibri"/>
              </a:rPr>
              <a:t>;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 spc="-1" strike="noStrike">
                <a:solidFill>
                  <a:srgbClr val="000000"/>
                </a:solidFill>
                <a:latin typeface="Calibri"/>
              </a:rPr>
              <a:t>2. </a:t>
            </a:r>
            <a:r>
              <a:rPr b="0" lang="tr-TR" sz="300" spc="-1" strike="noStrike">
                <a:solidFill>
                  <a:srgbClr val="000000"/>
                </a:solidFill>
                <a:latin typeface="Calibri"/>
              </a:rPr>
              <a:t>Madde 29 ve 30 uyarınca verilerin muhafaza edilmesi</a:t>
            </a:r>
            <a:r>
              <a:rPr b="0" lang="en-GB" sz="300" spc="-1" strike="noStrike">
                <a:solidFill>
                  <a:srgbClr val="000000"/>
                </a:solidFill>
                <a:latin typeface="Calibri"/>
              </a:rPr>
              <a:t>;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 spc="-1" strike="noStrike">
                <a:solidFill>
                  <a:srgbClr val="000000"/>
                </a:solidFill>
                <a:latin typeface="Calibri"/>
              </a:rPr>
              <a:t>3. </a:t>
            </a:r>
            <a:r>
              <a:rPr b="0" lang="tr-TR" sz="300" spc="-1" strike="noStrike">
                <a:solidFill>
                  <a:srgbClr val="000000"/>
                </a:solidFill>
                <a:latin typeface="Calibri"/>
              </a:rPr>
              <a:t>Kanıt toplanması, hukuki bilgi sağlanması ve zanlıların yerinin belirlenmesi</a:t>
            </a:r>
            <a:r>
              <a:rPr b="0" lang="en-GB" sz="300" spc="-1" strike="noStrike">
                <a:solidFill>
                  <a:srgbClr val="000000"/>
                </a:solidFill>
                <a:latin typeface="Calibri"/>
              </a:rPr>
              <a:t>.’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ülkeler arasında bir elektronik kanıt unsurunu içeren suçlarla ilgili soruşturmaların etkin ve verimli bir şekilde yürütülmesinin kolaylaştırılması açısından önemli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Siber uzay</a:t>
            </a:r>
            <a:r>
              <a:rPr b="1" lang="tr-TR" sz="200" spc="-1" strike="noStrike" u="sng">
                <a:solidFill>
                  <a:srgbClr val="000000"/>
                </a:solidFill>
                <a:uFillTx/>
                <a:latin typeface="Arial"/>
              </a:rPr>
              <a:t>d</a:t>
            </a:r>
            <a:r>
              <a:rPr b="1" lang="tr-TR" sz="200" spc="-1" strike="noStrike" u="sng">
                <a:solidFill>
                  <a:srgbClr val="000000"/>
                </a:solidFill>
                <a:uFillTx/>
                <a:latin typeface="Calibri"/>
              </a:rPr>
              <a:t>a (kanıt toplanma) konusunda ülkeye özgü yetkinlik: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elçika’nın bir çözüm bulma girişimi ve herkese düşünme çağrısı</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00" spc="-1" strike="noStrike">
                <a:solidFill>
                  <a:srgbClr val="000000"/>
                </a:solidFill>
                <a:latin typeface="Calibri"/>
              </a:rPr>
              <a:t>Bilişim suçları ile mücadele etmekten korkuyor musunuz</a:t>
            </a:r>
            <a:r>
              <a:rPr b="0" i="1"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00" spc="-1" strike="noStrike">
                <a:solidFill>
                  <a:srgbClr val="000000"/>
                </a:solidFill>
                <a:latin typeface="Calibri"/>
              </a:rPr>
              <a:t>İlk olarak bazı sorunları ortaya koymak için gerçek yaşamdan alınmış bir hikaye</a:t>
            </a:r>
            <a:r>
              <a:rPr b="0" i="1"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rüksel’de Avrupa Parlamentosu binasının bitişiğinde oturan Christian B., bütün bu Avrupa kuruluşlarından memnun değildir ve Brüksel’in sadece Belçikalıların yaşadığı günlere geri dönmesini istemektedir. Bir terör kampanyası başlatmaya karar verir ve başka Avrupa ülkelerinden gelenleri korkutarak ülkeden ayrılmaya zorlamak ister. İşe, daha küçük bir Avrupa Birliği için mücadele eden ve merkezi Almanya’da bulunan bir örgütün üyesi olduğu, yalnız olmadığı ve nihai hedefe ulaşmak için bomba yerleştirmeye bile hazır olduğu izlenimini yaratmayı amaçlayan birkaç email göndererek başla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Christian, bilgisayar konusunda uzman değildir ancak internette serbestçe ulaşılabilen araçları kullanarak kimliğini tamamen gizleyebileceğini öğren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Emailleri, </a:t>
            </a:r>
            <a:r>
              <a:rPr b="0" lang="en-GB" sz="200" spc="-1" strike="noStrike">
                <a:solidFill>
                  <a:srgbClr val="000000"/>
                </a:solidFill>
                <a:latin typeface="Calibri"/>
              </a:rPr>
              <a:t>bessermit8@hotmail.com</a:t>
            </a:r>
            <a:r>
              <a:rPr b="0" lang="tr-TR" sz="200" spc="-1" strike="noStrike">
                <a:solidFill>
                  <a:srgbClr val="000000"/>
                </a:solidFill>
                <a:latin typeface="Calibri"/>
              </a:rPr>
              <a:t> şeklindeki hotmail hesabından gönderilmiştir. Bu, email hesabının muhtemelen ABD’deki hotmail sunucularında kayıtlı olduğu anlamını taşımaktadır (Christian, özel “</a:t>
            </a:r>
            <a:r>
              <a:rPr b="0" i="1" lang="tr-TR" sz="200" spc="-1" strike="noStrike">
                <a:solidFill>
                  <a:srgbClr val="000000"/>
                </a:solidFill>
                <a:latin typeface="Calibri"/>
              </a:rPr>
              <a:t>olası neden</a:t>
            </a:r>
            <a:r>
              <a:rPr b="0" lang="tr-TR" sz="200" spc="-1" strike="noStrike">
                <a:solidFill>
                  <a:srgbClr val="000000"/>
                </a:solidFill>
                <a:latin typeface="Calibri"/>
              </a:rPr>
              <a:t>” kuralları nedeniyle ABD ile işbirliğinin yavaş işlediğini ve polis, içeriği elde etmek istediğinde etkin olmadığını duymuştur.) Bu hotmail hesabı, TOR (Onion Ring Router) ağı kullanılarak oluşturulmuş ve daha sonraki her bağlantı da TOR şebekesi kullanılarak oluşturulmuştur. Olay üzerine çağrılan polis, emailin başındaki teknik verilerden ve Microsoft’taki kayıt verilerinden postaların gerçekte Almanya’dan gönderildiği ancak hesabın Kazakistan’da oluşturulduğu sonucuna ulaşmış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polisi, bunun Alman polisini ilgilendiren bir olay olması nedeniyle (zanlı, bir Alman örgütünün üyesi olduğunu söylemektedir ve emaillerin Almanya’dan gönderildiği anlaşılmaktadır) soruşturmalarına devam etmelerinin gerekli olup olmadığından emin değildir. Ayrıca bu ülkelerde muhtemelen olumsuz bir yanıt alacaklarını veya internet erişimi sağlayıcılardan alınan dijital kanıtların, ortalama 12 aylık bir sürenin sonunda atılmasını öngören Avrupa’daki veri alıkoyma kuralları açısından çok geç bir yanıt alacaklarını bilmeleri nedeniyle ABD ve Kazakistan’a soruşturma ekipleri göndermek istememektedirle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hükümeti, Belçika güvenlik makamlarını ve yargıyı işlem yapmaya zorlamış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ncak işe nereden başlamaları gerekmekted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polisi, ülkeler açısından yetkili mid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polisi, Almanya, ABD, Kazakistan veya başka bir ülkede kanıt toplama yetkisine sahip mid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ir bilişim suçu olayı konusunda ülkesel açıdan ne zaman yetkili oluruz</a:t>
            </a:r>
            <a:r>
              <a:rPr b="1" lang="en-GB"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Ceza Kanunu’nun 3. maddesi, mahkemelerin Belçika’daki bütün suçlar için bunların Belçikalılar veya yabancılar tarafından işlenip işlenmediğine bakılmaksızın yetkili olduğunu belirtmektedir (ülkesel yetkinlik).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4. Maddede mahkemelerin sadece Belçika Ceza Muhakemeleri Usulü Kanunu’nda bunun öngörülmesi halinde ülke dışındaki suçlar konusunda yetkili olacağı belirtilmektedir7 (örneğin Belçika Ceza Kanunu’nun Ön Başlığı’nın 10. maddesi: cinsel istismar, tecavüz, edebe aykırı saldırı, terörizm) (ülke dışı yetkinlik).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çok ülkede benzeri ülkesel yetkinlik hükümleri bulun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endimizi ülkesel açıdan yetkin gördüğümüzde bu ülkesel yetkinliğin çeşitli avantajları vardır: bu, ulusal egemenliğe dayalıdır, yetkili olmak için yerine getirilmesi gereken bir şart yoktur, suçlunun veya mağdurun uyruğu önemsizdir (her ikisinin de yabancı olması veya fiilin, başka bir ülkede cezalandırılmasının öngörülmemesi (örneğin çok eşlilik) halinde bile), başka bir ülkede aynı gerçeklere dayalı bir mahkeme kararı, mutlaka bir engel oluşturmaz ve yabancı yasama organlarının dikkate alınması gerekmez (çifte suçlama yöneltilmesi gerekli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ncak bilişim suçunun yerinin belirlenmesi, bilişim suçlarının değerlendirilmesindeki en önemli sorundur. Bugüne kadar hiç kimse (henüz) siber uzaya bir bayrak dikmemiştir. Hiç kimse gerçekte siber uzayın nerede olduğunu bilmemektedir ve yine hiç kimse, yargıda “</a:t>
            </a:r>
            <a:r>
              <a:rPr b="0" i="1" lang="tr-TR" sz="200" spc="-1" strike="noStrike">
                <a:solidFill>
                  <a:srgbClr val="000000"/>
                </a:solidFill>
                <a:latin typeface="Calibri"/>
              </a:rPr>
              <a:t>sanal gerçeklik</a:t>
            </a:r>
            <a:r>
              <a:rPr b="1" i="1" lang="tr-TR" sz="200" spc="-1" strike="noStrike">
                <a:solidFill>
                  <a:srgbClr val="000000"/>
                </a:solidFill>
                <a:latin typeface="Calibri"/>
              </a:rPr>
              <a:t>” </a:t>
            </a:r>
            <a:r>
              <a:rPr b="0" lang="tr-TR" sz="200" spc="-1" strike="noStrike">
                <a:solidFill>
                  <a:srgbClr val="000000"/>
                </a:solidFill>
                <a:latin typeface="Calibri"/>
              </a:rPr>
              <a:t>konusunda ne yapılacağını bilmemektedir. Hukukçuların genellikle sanal siber ortamda kendi geleneksel olarak oluşmuş düşünce şeklini uygulamaya hazır olmadıkları görülmektedir. Siber uzayın bir sınırı yoktur ve bilişim suçları da sınır tanımamaktadır. Bu gerçeği kendi dar adli ve ulusal yetkinlik kurallarımızla nasıl bağdaştırabiliriz? Bir siber (uzay) suçu ile bir ülkenin ulusal toprakları arasında nasıl bir bağ kurula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başka bir çok ülkede olduğu gibi bir suçun yerinin belirlenmesi, yasa ile değil hukuk doktrinine göre düzenlenir. Bir suçun yerinin belirlenmesi için farklı kuramlar ortaya atılmıştır. Suçun veya </a:t>
            </a:r>
            <a:r>
              <a:rPr b="0" i="1" lang="tr-TR" sz="200" spc="-1" strike="noStrike">
                <a:solidFill>
                  <a:srgbClr val="000000"/>
                </a:solidFill>
                <a:latin typeface="Calibri"/>
              </a:rPr>
              <a:t>iter criminis</a:t>
            </a:r>
            <a:r>
              <a:rPr b="1" i="1" lang="tr-TR" sz="200" spc="-1" strike="noStrike">
                <a:solidFill>
                  <a:srgbClr val="000000"/>
                </a:solidFill>
                <a:latin typeface="Calibri"/>
              </a:rPr>
              <a:t>’</a:t>
            </a:r>
            <a:r>
              <a:rPr b="0" lang="tr-TR" sz="200" spc="-1" strike="noStrike">
                <a:solidFill>
                  <a:srgbClr val="000000"/>
                </a:solidFill>
                <a:latin typeface="Calibri"/>
              </a:rPr>
              <a:t>in (suçun planlaması) başladığı yerin belirleyici unsur olduğu anlaşılan suç olayı kuramı vardır. Araç kuramına göre suç fiilinin gerçekte nerede meydana geldiğinin ve gerçekleştiğinin önemli olduğu anlaşılmaktadır. Doğrudan sonuç kuramı ise suçun sonucuna (sonuna) vurgu yapa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Siber uzayda bilişim suçlarına uygulandığında bu, araç kuramına göre bilgisayar korsanının evi (ve bilgisayarı), yetkili savcı ve mahkemeyi belirler. Araç kuramına göre bilgisayar korsanlığının gerçekleştiği sunucunun bulunduğu yer, belirleyici olacaktır. Son olarak doğrudan sonuç kuramına göre mağdurun bilgisayar korsanlığı ile karşılaştığı ülke yetkili ol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çok ülke, bu kuramların bir karışımını uygulamaktadır. Örneğin ABD’de mahkemeler, kendilerini yetkili ilan etmek için aynı zamanda dolaylı etkileri içeren etkiler kuramını çok kapsamlı bir şekilde uygula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nesnel aynı anda her yerde gerçekleşme kuramı” </a:t>
            </a:r>
            <a:r>
              <a:rPr b="0" lang="en-US" sz="200" spc="-1" strike="noStrike">
                <a:solidFill>
                  <a:srgbClr val="000000"/>
                </a:solidFill>
                <a:latin typeface="Calibri"/>
              </a:rPr>
              <a:t>(</a:t>
            </a:r>
            <a:r>
              <a:rPr b="0" i="1" lang="en-US" sz="200" spc="-1" strike="noStrike">
                <a:solidFill>
                  <a:srgbClr val="000000"/>
                </a:solidFill>
                <a:latin typeface="Calibri"/>
              </a:rPr>
              <a:t>“théorie de l’ubiquité objective”</a:t>
            </a:r>
            <a:r>
              <a:rPr b="0" lang="en-US" sz="200" spc="-1" strike="noStrike">
                <a:solidFill>
                  <a:srgbClr val="000000"/>
                </a:solidFill>
                <a:latin typeface="Calibri"/>
              </a:rPr>
              <a:t>)</a:t>
            </a:r>
            <a:r>
              <a:rPr b="0" lang="tr-TR" sz="200" spc="-1" strike="noStrike">
                <a:solidFill>
                  <a:srgbClr val="000000"/>
                </a:solidFill>
                <a:latin typeface="Calibri"/>
              </a:rPr>
              <a:t> olarak adlandırılan bütün bu kuramların bir bileşimi uygulanmaktadır. Buna göre suç, bunu oluşturan bir unsurun bulunduğu her yerde gerçekleşmiş sayılır. Bu kuram, mahkemelerin kendilerinin yetkili olduğunu ilan edebilmeleri için Belçika’daki bir suçla ayrılmaz şekilde bağlantılı olan bütün unsurların mahkemeler tarafından dikkate alınmasını mümkün kılan “ayrılmazlık kuramı” ile tamamlanmaktadır. Bu, etkiler kuramı ile büyük benzerlik göstermektedir. Belçika kuramı, Belçika Yargıtayı (Yüksek Mahkeme) tarafından 23 Ocak 1979’da (Ghavami-Lahidji davasında) köklü biçimde tesis edilmiştir. Tahran’da karşılıksız bir çek yazılmış ve verilmiş ancak (Tahran’da) çekin tahsil edilmeye çalışıldığı hesap, bir Belçika banka hesabıydı. Belçika Yargıtayı, Belçika mahkemelerinin yetkili olduğu yönünde karar ver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siber uzayın keşfedilmesinden ve bilişim suçlarının doğmasından çok önce 1979’da meydana gelmiştir. Şimdi bu kuralların ve kuramların bilişim suçları ile ilgili konulara nasıl uygulanması gerek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2008</a:t>
            </a:r>
            <a:r>
              <a:rPr b="0" lang="tr-TR" sz="200" spc="-1" strike="noStrike">
                <a:solidFill>
                  <a:srgbClr val="000000"/>
                </a:solidFill>
                <a:latin typeface="Calibri"/>
              </a:rPr>
              <a:t>’de Belçika’da Dendermonde yargı bölgesindeki asliye mahkemesine bir dava dosyası sunuldu. Bir kadın, kendisini aldatan eski sevgilisinin hotmail hesabı ve başka birkaç hesabının şifrelerini kırdığı gerekçesiyle adli takibata uğramıştır. Bunun çok önemli olmadığı düşünülebilir. Ancak sorun, kadının başka bir yargı bölgesinde oturması ve şifre kırma işlemini söz konusu diğer bölgedeki bilgisayarı üzerinden diğerleri yanı sıra ABD ve Hollanda’da bulunan sunucular üzerinden gerçekleştirmiş olmasıdır. Hakim, 29 Eylül 2008’de mağdurun Dendermonde bölgesinde şifre kırma işlemine ilk kez hotmail hesabını ve diğer internet hesaplarını kontrol ederken maruz kalmış olması nedeniyle yetkili olduğu yönünde karar vermiştir. Açıkça göründüğü gibi bu karara göre bilgisayarınızı çalıştırmanız ve bilişim suçuna maruz kalmanız, yargı yetkisinin kullanılması açısından yeterlidir. Hakim, anlaşıldığı kadarı ile kendi yargı bölgesinde gerçek ve sanal dünya arasında bir kesişme noktası bulmuştu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yetkili olmak için belirli bir yerde bir bilgisayarın açılması ve internete bağlanılmasının yeterli olduğu görülmektedir. Bu, Belçika’nın bilişim suçlarında bir tür küresel yetkinliğe sahip olduğunu düşündüğü anlamını taşımaktadır. Aynı zamanda başka herhangi bir ülkenin de aynı derecede yetkili olabileceği anlamına gelmektedir. İlk bakışta ne kadar saçma görünse de gerçekten de siber uzayın, bir tür küresel yetkinliği gerektirdiği olasılığını dikkate almamız gerek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Yukarıda belirtilen davaya bakan aynı hakim, 2 Mart 2009’da YAHOO Inc.’nin sanal ve ekonomik olarak Belçika’da bulunduğu (internet üzerinden) ve bu nedenle YAHOO Inc.’nin yargı ile işbirliği yapması konusunda savcılığın doğrudan emrine itaat etmesini gerektirecek şekilde adli olarak da mevcut olduğunun değerlendirilmesi gerektiği yönünde karar vermiştir. Savcının bu işbirliği talebini YAHOO Inc.’ye internet üzerinden iletmiş olduğunu dikkate alın. YAHOO Inc., daha sonra Ghent temyiz mahkemesi tarafından suçsuz bulunmuş ve bu karar, Belçika Yargıtayı tarafından iptal edilmiştir. Bunun ardından YAHOO Inc, Brüksel temyiz mahkemesi tarafından tekrar suçsuz bulunmuştur. Dosya, ikinci kez Yargıtay’a sunulmuştur. Bu arada YAHOO Inc.’nin sadece bilgisayarınızı açtığınızda ve internette onlarla temas kurduğunuzda Belçika’da sanal olarak mevcut olduğunun düşünülebilecek olmasına karşın, YAHOO Inc.’yi suçsuz bulmuş olan mahkemeler bile YAHOO Inc.’nin yargılanması konusunda yetkili olduklarını ilan etmişlerdir. Göründüğü kadarı ile mahkemeler, savcının YAHOO Inc. ile ofisinde görüştüğü konusunda görüş birliği içindedir. Yargıtay, 4 Eylül 2012’de şu kararı vermiştir: “</a:t>
            </a:r>
            <a:r>
              <a:rPr b="0" i="1" lang="tr-TR" sz="200" spc="-1" strike="noStrike">
                <a:solidFill>
                  <a:srgbClr val="000000"/>
                </a:solidFill>
                <a:latin typeface="Calibri"/>
              </a:rPr>
              <a:t>Savcı’nın Belçika’dan (Belçika) Ceza Muhakemeleri Usulü Kanunu’nun 46bis maddesinde öngörüldüğü şekilde bir elektronik haberleşme ağının işleticisinin veya Belçika toprakları dışında kurulu olan bir elektronik haberleşme hizmetinin sağlayıcısının işbirliğini talep ettiği yazılı talebini ülke dışındaki bir adrese gönderdiği koşullar, talebi geçersiz kılmaz.” </a:t>
            </a:r>
            <a:r>
              <a:rPr b="0" lang="tr-TR" sz="200" spc="-1" strike="noStrike">
                <a:solidFill>
                  <a:srgbClr val="000000"/>
                </a:solidFill>
                <a:latin typeface="Calibri"/>
              </a:rPr>
              <a:t>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Geniş yetki kurallarından ve klasik ülkesel yetki ilkelerini geçersiz kılan mahkeme kararlarından yanayız. Bu düşünce şekli, adli konularda sanal gerçeklik ve sanal uzayla ilgili işlemler yapılması açısından vazgeçilmez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Verilen örnekte Belçika polisinin ülkesel açıdan yetkili olduğu düşüncesindeyiz.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aşka bir ülkede kendimiz kanıt toplamak için yetkiye sahip miyiz</a:t>
            </a:r>
            <a:r>
              <a:rPr b="1" lang="en-GB"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vakayı soruşturmak ve mahkemeye dosyayı sunmak için kendimizi yetkili ilan ettiğimizde bu dosyayı oluşturmak için dijital kanıtların toplanabilmesi önem taş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çok bilişim suçu işleyen kişinin, sınır ötesinde veya bir çok olayda suçu işlemek istedikleri ülke dışında bulunan bilgisayarlar üzerinden faaliyette bulunmaları nedeniyle bir çok kanıtın, suçluları yargılamak isteyen ülkede değil de başka ülkelerde bulunacağı açı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Uluslararası işbirliğinin kolaylaştırılması için gösterilen bütün çabalara karşın genellikle sınır ötesi suçlarla karşılaşılan gerçek yaşamda hukuki yardımlaşma, gerçekleşse bile çok yavaş işle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güne kadar soruşturma komisyonları, çok fazla kırtasiye anlamını taşımış ve genellikle belgelerin çevirisinin yapılmasını gerektirmiştir. Dijital kanıtların çok uçucu olduğu siber uzayda (sil tuşuna bir kez dokunulduğunda her şey kaybolur) her saniyenin önemi var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yrıca soruşturma komisyonları, sadece bir yabancı makamla temasın sürdürülmesini değil (tercihan 24/7) aynı zamanda hızlı ve kapsamlı bir yanıt verilmesini istemektedir. Maalesef, günümüzde bir çok vakada durum böyle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vrupa’daki güvenlik güçleri, çoğunlukla özgürlükler ülkesi ABD’de bulunan şirketler ve sunucularla karşılaşmaktadır. ABD’de çok sayıda hizmet sunucusunun (Yahoo, Google, Microsoft…) bulunmasının yanı sıra ifade hürriyetini içeren birinci anayasa değişikliği, kendi (yasal ve yasal olmayan) içeriklerini ABD’deki sunuculara koymaları için çok sayıda kişiyi cezbet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Sadece abonelik bilgilerine veya sadece haberleşme verilerine (içerik olmadan) gerek duyulduğunda yerel yasa uygulayıcı kuruluşlar ve ABD’deki şirketler arasındaki tek taraflı anlaşmalar, kestirmeden gitme amacıyla kullanılmaktadır. Ancak içerik verilerine gerek duyulduğunda normal diplomatik kanalların kullanılması ve “</a:t>
            </a:r>
            <a:r>
              <a:rPr b="0" i="1" lang="tr-TR" sz="200" spc="-1" strike="noStrike">
                <a:solidFill>
                  <a:srgbClr val="000000"/>
                </a:solidFill>
                <a:latin typeface="Calibri"/>
              </a:rPr>
              <a:t>olası nedenin</a:t>
            </a:r>
            <a:r>
              <a:rPr b="0" lang="tr-TR" sz="200" spc="-1" strike="noStrike">
                <a:solidFill>
                  <a:srgbClr val="000000"/>
                </a:solidFill>
                <a:latin typeface="Calibri"/>
              </a:rPr>
              <a:t>” (bir çok Avrupa ülkesinde bilinmeyen bir adli kavram) kanıtlanması gerekir. Birçok soruşturma komisyonunun gönderildiği ancak bir çoğunun başarılı olamadan geri döndüğü anlaşıl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Çoğunluğuna erişilmesi güç olan başka bir çok ülke ile işbirliğinde de aynı güçlüklerin söz konusu olduğu görül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nedenle bütün bu farklı türdeki yardımlaşma ile uğraşmadan kişinin kendi ülkesinde siber uzayda internetten verileri elde etmesi çok daha kolay ol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şim Suçları Hakkındaki Budapeşte Sözleşmesi, henüz bu kadar ileri gitmemiş ancak diğer üye devletlerin konuya bu şekilde yaklaşmasını engellememiştir. Belçika yasama organı, yenilikçi olan ve ülke dışında kanıt elde edilmesine yardımcı olan bir yasayı kabul etmiştir. Belçika’daki hukuki çözüm, tartışmayı başlatmakta ve dijital kanıtların ne kadar hızlı bir şekilde elde edilebileceğini ve bilişim suçlularının ne kadar hızlı mahkemeye çıkarılabileceğini göstermektedir. Belçika’daki çözüm, genellikle kullanılmaktadır ve bugüne kadar mahkemede bir itiraz sorunu ile karşılaşılmamış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ilişim Suçları Hakkındaki Budapeşte Sözleşmesi</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şim Suçları Hakkındaki Budapeşte Sözleşmesi’nin 19.2 maddesi şöyl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t>
            </a:r>
            <a:r>
              <a:rPr b="0" i="1" lang="tr-TR" sz="200" spc="-1" strike="noStrike">
                <a:solidFill>
                  <a:srgbClr val="000000"/>
                </a:solidFill>
                <a:latin typeface="Calibri"/>
              </a:rPr>
              <a:t>Taraflardan her biri, kendi makamlarının bent 1.a uyarınca belirli bir bilgisayar sisteminde arama yapmaları veya benzeri şekilde buna erişmeleri ve aranan verilerin kendi ülkesindeki başka bir bilgisayar sisteminde veya bunun bir bölümünde kaydedilmiş olduğuna inanmak için gerekçelerinin bulunması ve bu verilere ilk sistemden yasalara uygun bir şekilde erişilebilmesi veya bulunabilmesi halinde bu makamların, diğer sistemi kapsayacak şekilde aramayı veya benzeri erişimi hızlı bir şekilde genişletmelerini sağlamak için gerekli mevzuat ve diğer önlemleri al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vrupa Konseyi, bu madde ile genellikle verilerin zanlı tarafından kullanılan bilgisayara kaydedilmiş olmadığını ve zanlının bilgisayarının, başka bir bilgisayarda (sistemde) kayıtlı olan gerçek veriye sadece bir erişim noktası olduğunu teyit etmiştir. Avrupa Konseyi, bu tür olaylarda ve başka bir bildirimde bulunulmasına kadar sadece verilerin olayı inceleyen üye devletin kendi topraklarında kayıtlı olması halinde ilk bilgisayardaki aramanın, hızlı bir şekilde diğer – bağlantılı – bilgisayarı (sistemi) kapsayacak şekilde genişletilmesinin mümkün olması gerektiğine işaret et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uygulama, yardımcı olmakla birlikte verilerin başka bir ülkede kayıtlı olması halinde yeterli olma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nedenle Bilişim Suçları Hakkındaki Budapeşte Sözleşmesi’nin 19.2 maddesinde sadece ülkenin kendi topraklarından söz edilirken Bilişim Suçları Hakkındaki Budapeşte Sözleşmesi’nin 32. maddesi, bir adım ileri git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t>
            </a:r>
            <a:r>
              <a:rPr b="0" i="1" lang="tr-TR" sz="200" spc="-1" strike="noStrike">
                <a:solidFill>
                  <a:srgbClr val="000000"/>
                </a:solidFill>
                <a:latin typeface="Calibri"/>
              </a:rPr>
              <a:t>Bir Taraf, diğer Tarafın izni olmadan</a:t>
            </a:r>
            <a:r>
              <a:rPr b="0" i="1" lang="en-US" sz="200" spc="-1" strike="noStrike">
                <a:solidFill>
                  <a:srgbClr val="000000"/>
                </a:solidFill>
                <a:latin typeface="Calibri"/>
              </a:rPr>
              <a:t>: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    </a:t>
            </a:r>
            <a:r>
              <a:rPr b="0" i="1" lang="tr-TR" sz="200" spc="-1" strike="noStrike">
                <a:solidFill>
                  <a:srgbClr val="000000"/>
                </a:solidFill>
                <a:latin typeface="Calibri"/>
              </a:rPr>
              <a:t>bu verilerin coğrafi olarak nerede bulunduğuna bakılmaksızın kamuya açık (açık kaynak) kaydedilmiş bilgisayar verilerine erişebilir</a:t>
            </a:r>
            <a:r>
              <a:rPr b="0" i="1" lang="en-US" sz="200" spc="-1" strike="noStrike">
                <a:solidFill>
                  <a:srgbClr val="000000"/>
                </a:solidFill>
                <a:latin typeface="Calibri"/>
              </a:rPr>
              <a:t>; </a:t>
            </a:r>
            <a:r>
              <a:rPr b="0" i="1" lang="tr-TR" sz="200" spc="-1" strike="noStrike">
                <a:solidFill>
                  <a:srgbClr val="000000"/>
                </a:solidFill>
                <a:latin typeface="Calibri"/>
              </a:rPr>
              <a:t>veya</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b    </a:t>
            </a:r>
            <a:r>
              <a:rPr b="0" i="1" lang="tr-TR" sz="200" spc="-1" strike="noStrike">
                <a:solidFill>
                  <a:srgbClr val="000000"/>
                </a:solidFill>
                <a:latin typeface="Calibri"/>
              </a:rPr>
              <a:t>bu Taraf’ın, ilgili bilgisayar sistemi üzerinden verileri bu Taraf’a açıklamak için yasal yetkiye sahip olan kişinin yasal ve gönüllü muvafakatini alması halinde kendi topraklarında  bulunan bir bilgisayar sistemi üzerinden başka bir Taraf’ta bulunan kaydedilmiş bilgisayar verilerine erişebilir veya alabilir.”</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aşka bir (üye) devlette erişilen bilgi veya verilerin, sadece bunların (1) kamuya açık olması veya (2) (i) verileri açıklamak için yasal yetkiye sahip olan bir kişi tarafından (ii) yasal ve (iii) gönüllü muvafakat verilmesi halinde diğer Tarafın izni olmadan kullanılabileceği açıkça belirtil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aalesef, bu durumlar genellikle suç soruşturmalarında meydana gelmez. Suçlular, hapse girmelerine neden olabilecek kanıtları gönüllü olarak açıklama eğiliminde değildir. Ayrıca emniyet makamlarının ilgilendiği bilgilerin hemen hiçbir zaman kamuya açık olmadığı da açı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vrupa Konseyi’nin bilişim suçlarına karşı mücadelede yararlı bir araç oluşturmak için ülke dışında veri toplama olasılıklarını artırması gerektiği açıktır. Anlaşıldığı kadarı ile bu konu tartışılmış ancak henüz sonuç alınamamıştır.</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çıklayıcı raporda sınır ötesi yetki verilmesi konusundaki tartışmaya değinil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t>
            </a:r>
            <a:r>
              <a:rPr b="0" i="1" lang="en-US" sz="200" spc="-1" strike="noStrike">
                <a:solidFill>
                  <a:srgbClr val="000000"/>
                </a:solidFill>
                <a:latin typeface="Calibri"/>
              </a:rPr>
              <a:t>293. </a:t>
            </a:r>
            <a:r>
              <a:rPr b="0" i="1" lang="tr-TR" sz="200" spc="-1" strike="noStrike">
                <a:solidFill>
                  <a:srgbClr val="000000"/>
                </a:solidFill>
                <a:latin typeface="Calibri"/>
              </a:rPr>
              <a:t>Bir Taraf’a yardımlaşma talebinde bulunmadan başka bir Taraf’ta bulunan bilgisayar verilerine tek taraflı erişme hakkının ne zaman verileceği konusu, Sözleşme’yi hazırlayanların derinliğine tartıştıkları bir sorundu. Devletlerin tek taraflı olarak hareket etmelerinin kabul edilebilir olduğu durumlar ve kabul edilebilir olmadığı durumlar, ayrıntılı bir şekilde değerlendirilmiştir. Sözleşme’yi hazırlayanlar, sonunda bu alanı düzenleyen kapsamlı ve hukuken bağlayıcı bir rejim oluşturulmasının henüz mümkün olmadığını belirlemişlerdir. Bu, kısmen bugüne kadar bu tür durumlarda somut deneyim bulunmamasından ve kısmen de uygun çözümün, her durumda kesin koşullara bağlı olduğu ve bu nedenle genel kurallar oluşturulmasını güçleştirdiği yolundaki anlayıştan kaynaklanmıştır. Sözleşme’yi hazırlayanlar nihayetinde sadece Sözleşme’nin 32. Maddesinde tek taraflı işlem yapılmasına izin verilebileceği konusunda tamamının mutabakat içinde olduğu durumları belirtmeye karar vermişlerdir. Bu konuda 39. Maddenin 3. bendinde </a:t>
            </a:r>
            <a:r>
              <a:rPr b="0" i="1" lang="tr-TR" sz="200" spc="-1" strike="noStrike" u="sng">
                <a:solidFill>
                  <a:srgbClr val="000000"/>
                </a:solidFill>
                <a:uFillTx/>
                <a:latin typeface="Calibri"/>
              </a:rPr>
              <a:t>diğer durumlar için ne izin verildiği ne de yasaklandığı </a:t>
            </a:r>
            <a:r>
              <a:rPr b="0" i="1" lang="tr-TR" sz="200" spc="-1" strike="noStrike">
                <a:solidFill>
                  <a:srgbClr val="000000"/>
                </a:solidFill>
                <a:latin typeface="Calibri"/>
              </a:rPr>
              <a:t>kaydedil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Sınır ötesi yetki gereksiniminin teyit edildiği açıkça belirtilmektedir. Ancak, deneyim ve tartışacak için zaman olmaması nedeniyle üye devletler arasında bir mutabakata varılması henüz mümkün değildi ve bunun için çok erkendi.</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Üye devletler tarafından bu sorun için aranabilecek ve bulunabilecek olası çözümler konusunda diğer çözümler için o tarihte ne izin verildiği ne de yasaklandığı kaydedil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elçika çözümü</a:t>
            </a:r>
            <a:r>
              <a:rPr b="1" lang="en-GB" sz="200" spc="-1" strike="noStrike" u="sng">
                <a:solidFill>
                  <a:srgbClr val="000000"/>
                </a:solidFill>
                <a:uFillTx/>
                <a:latin typeface="Calibri"/>
              </a:rPr>
              <a:t>: </a:t>
            </a:r>
            <a:r>
              <a:rPr b="1" lang="tr-TR" sz="200" spc="-1" strike="noStrike" u="sng">
                <a:solidFill>
                  <a:srgbClr val="000000"/>
                </a:solidFill>
                <a:uFillTx/>
                <a:latin typeface="Calibri"/>
              </a:rPr>
              <a:t>Belçika Ceza Muhakemeleri Usulü Kanunu’nun 88ter maddesi</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23 Kasım 2001’de imzalanan Bilişim Suçları Hakkındaki Budapeşte Sözleşmesi’nden bir yıl önce Belçika yasama organı, 28 Kasım 2000’de Belçika Bilişim Suçları Kanunu ile birlikte Belçika Ceza Muhakemeleri Usulü Kanunu’nun (BCCP) 88ter maddesini kabul etti.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2000 tarihli Belçika kanunu, Belçika mevzuatını henüz imzalanmamış olan Bilişim Suçları Hakkındaki Budapeşte Sözleşmesi ile uyumlu hale getirirken BCCP’nin 88ter maddesi, Bilişim Suçları Hakkındaki Budapeşte Sözleşmesi’nin yukarıda belirtilen 19.2 ve 32. maddelerine yanıt niteliğindeydi.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CCP’nin 88ter maddesi, Tetkik Hakiminin (bu, soruşturmayı yürütme konusunda özel bir görevi ve özel soruşturma yetkilerine sahip bir hakimdir) bir bilgisayar sisteminde arama yapılması için emir verdiğinde aramayı, başka bir yerde bulunan başka bir bilgisayar sistemini veya başka bir bilgisayar sisteminin bir kısmını kapsayacak şekilde genişletmesine imkan ver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yetki, şartlara bağlıdır. Tetkik Hakimi, kapsamın bu şekilde genişletilmesine sadece (1) bir soruşturmada bir gerçeğin bulunması için gerekli olması ve (2) (i) diğer soruşturma yöntemlerinin orantılı olmaması (örneğin farklı binalar için farklı arama emirlerinin verilmesi gerekir) veya (ii) kanıtların ortadan kaybolması konusunda açık bir risk bulunması (dijital kanıtların çok uçucu (sil tuşu) olması nedeniyle bilişim suçları olaylarında hemen her zaman yerine getirilen bir şart) karar vere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yasama organının polisin kolaylıkla çok ileri gidebileceğinden kaygı duyması nedeniyle (örneğin bir zanlının banka hesabından aynı bankadaki bütün banka hesaplarına) Tetkik Hakiminin genişletilmiş aramayı ilk sistemin kullanıcılarının eriştiği başka bir bilgisayar sisteminin kısımları ile sınırlandırması anlamında ilave bir şart eklenmiştir (bu koşul, genellikle Tetkik Hakiminin zanlının kullanıcı adı ve şifresi ile başka bir bilgisayara girmesi için polise izin verdiğinde yerine getirilir; bu kullanıcı adı ve şifre, erişimin kısıtlanmasını tanımla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Genişletilmiş aramadan sonra bilgisayar sisteminden sorumlu kişiye, makul şekilde kimliğinin belirlenip belirlenemeyeceği konusunda Tetkik Hakimi tarafından bilgi verilmesi gerekir (bir çok durumda bu, söz konusu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ncak BCCP’nin 88ter maddesinin en yenilikçi kısmı, ortaya çıkarılan verilerin Belçika topraklarında kayıtlı olmadığının anlaşılması halinde verilerin sadece kopyalanacağını belirten maddenin 3. bendinin son fıkrasında bulunmaktadır. Bu gerçekleştiğinde Tetkik Hakimi’nin sadece Savcılık aracılığı ile Adalet Bakanlığı’na bilgi vermesi gerekir. Adalet Bakanlığı, makul bir şekilde belirlenebilmesi halinde ilgili Devlete bilgi verecektir (durum genellikle böyle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CCP’nin 39bis maddesi uyarınca bu kopyalanan veriler, asıl veriler kadar mahkemede kanıt olarak değer taşır (verilere fiziksel olarak el konulmamıştır ancak el konulduğu varsayıl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Örnek olayda bu, Belçika polisinin Belçika’daki bilgisayarlardan başlayarak (mutlaka zanlının bilgisayarı olması gerekmez) Almanya, ABD, Kazakistan, diğer ülkelerde bulunan sunucularda kanıt toplayabileceği anlamını taşımaktadır. Belçika polisi, kullanıcı adı ve şifresini bulduğu anda </a:t>
            </a:r>
            <a:r>
              <a:rPr b="0" lang="en-GB" sz="200" spc="-1" strike="noStrike">
                <a:solidFill>
                  <a:srgbClr val="000000"/>
                </a:solidFill>
                <a:latin typeface="Calibri"/>
              </a:rPr>
              <a:t>bessermit8@hotmail.com </a:t>
            </a:r>
            <a:r>
              <a:rPr b="0" lang="tr-TR" sz="200" spc="-1" strike="noStrike">
                <a:solidFill>
                  <a:srgbClr val="000000"/>
                </a:solidFill>
                <a:latin typeface="Calibri"/>
              </a:rPr>
              <a:t>hesabını incelemeye başlaya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değerli zamandan tasarruf etmek ve belgeleri hazırlarken dijital kanıtları kaybetmemek için açık bir avantaj sağla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CCP 88ter maddesi araçları, ilk bakışta ne kadar güçlü görünürlerse görünsünler klasik polis çalışmalarının da aynı derecede önemli olduğunun belirtilmesi gerekmektedir. Örneğin klasik telefon dinlemesi ile elde edilen kullanıcı adı ve şifre izleri olmadan yasaların hesabın şifresinin kırılması konusunda yasal imkan tanıması dışında </a:t>
            </a:r>
            <a:r>
              <a:rPr b="0" lang="en-GB" sz="200" spc="-1" strike="noStrike">
                <a:solidFill>
                  <a:srgbClr val="000000"/>
                </a:solidFill>
                <a:latin typeface="Calibri"/>
              </a:rPr>
              <a:t>bessermit8@hotmail.com </a:t>
            </a:r>
            <a:r>
              <a:rPr b="0" lang="tr-TR" sz="200" spc="-1" strike="noStrike">
                <a:solidFill>
                  <a:srgbClr val="000000"/>
                </a:solidFill>
                <a:latin typeface="Calibri"/>
              </a:rPr>
              <a:t>hesabına erişilemeyecek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Her halükarda Belçika çözümü, “</a:t>
            </a:r>
            <a:r>
              <a:rPr b="0" lang="tr-TR" sz="200" spc="-1" strike="noStrike">
                <a:solidFill>
                  <a:srgbClr val="000000"/>
                </a:solidFill>
                <a:latin typeface="Arial"/>
              </a:rPr>
              <a:t>bulut</a:t>
            </a:r>
            <a:r>
              <a:rPr b="0" lang="tr-TR" sz="200" spc="-1" strike="noStrike">
                <a:solidFill>
                  <a:srgbClr val="000000"/>
                </a:solidFill>
                <a:latin typeface="Calibri"/>
              </a:rPr>
              <a:t>”</a:t>
            </a:r>
            <a:r>
              <a:rPr b="0" lang="tr-TR" sz="200" spc="-1" strike="noStrike">
                <a:solidFill>
                  <a:srgbClr val="000000"/>
                </a:solidFill>
                <a:latin typeface="Arial"/>
              </a:rPr>
              <a:t>ta</a:t>
            </a:r>
            <a:r>
              <a:rPr b="0" lang="tr-TR" sz="200" spc="-1" strike="noStrike">
                <a:solidFill>
                  <a:srgbClr val="000000"/>
                </a:solidFill>
                <a:latin typeface="Calibri"/>
              </a:rPr>
              <a:t> kaydedilmiş verilerle ilgili işlem yapılması konusunda büyük fırsatlar sunmaktadır. Şirketlerin ve kişilerin dağıtık sistemde sadece verileri değil aynı zamanda işlem sistemlerini de kaydetmeleri ve bu nedenle kendilerinin de verilerin kesin olarak nerede kayıtlı olduğunu veya verilerin hangi ülkede bulunduğunu bilmemeleri nedeniyle Belçika çözümü, verilerin nerede kayıtlı olduğunun bilinmesinin değil </a:t>
            </a:r>
            <a:r>
              <a:rPr b="0" i="1" lang="tr-TR" sz="200" spc="-1" strike="noStrike">
                <a:solidFill>
                  <a:srgbClr val="000000"/>
                </a:solidFill>
                <a:latin typeface="Calibri"/>
              </a:rPr>
              <a:t>bunlara nereden </a:t>
            </a:r>
            <a:r>
              <a:rPr b="0" lang="tr-TR" sz="200" spc="-1" strike="noStrike">
                <a:solidFill>
                  <a:srgbClr val="000000"/>
                </a:solidFill>
                <a:latin typeface="Calibri"/>
              </a:rPr>
              <a:t>erişilebileceğinin önemli olduğunu açıkça ortaya koy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anıtların elde edilmesi konusunda ülkesel yetkinliğe yönelik klasik bir yaklaşım, sadece bir zanlının, kendisinin de verilerin hangi ülkede kaydedilmiş olduğunu bilmediği yolundaki bir beyanının bütün süreci durdurabilecek olması halinde herhangi bir soruşturmayı tamamen çıkmaza sok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Sonuçlar</a:t>
            </a:r>
            <a:r>
              <a:rPr b="1" lang="en-GB"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İnternetle birlikte bilişim suçlarının küreselleştiği çok açıktır. Yetkili makamlar, bilişim suçları ile mücadele etmek istiyorlarsa ve varsayılan her sınırda durmak zorunda kalmak istemiyorlarsa geniş yetki kuralları gereklidir. Bu, birden fazla ülkenin mahkemeye gitme konusunda kendisini yetkili görmesi halinde neler yapılacağı konusunda açık uluslar arası anlaşmalar imzalanmasını gerektir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yrıca ülke dışında kayıtlı bulunan kanıtların hızlı bir şekilde elde edilebilmesi için açık hukuki kurallara ihtiyaç duyulmaktadır. Günümüzdeki günlük kişisel deneyimler, ümit vaat etmemektedir. Bu nedenle Bilişim Suçları Hakkındaki Budapeşte Sözleşmesi’nin 19.2 ve 32. maddelerinin daha ayrıntılı olarak açıklanması gerekmektedir. Bu arada üye devletlerin çözümleri yardımcı olabilir. BBCP’nin 88ter maddesindeki Belçika çözümü, dijital kanıtların hızlı bir şekilde nasıl elde edilebileceği konusunda bir örnek olarak kullanıla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şim suçları ortamında başka bir yaklaşımın uygulanması gerektiği açıktır. Siber uzayın bir sınırı yoktur. </a:t>
            </a:r>
            <a:r>
              <a:rPr b="0" lang="tr-TR" sz="200" spc="-1" strike="noStrike">
                <a:solidFill>
                  <a:srgbClr val="000000"/>
                </a:solidFill>
                <a:latin typeface="Arial"/>
              </a:rPr>
              <a:t>Bulut</a:t>
            </a:r>
            <a:r>
              <a:rPr b="0" lang="tr-TR" sz="200" spc="-1" strike="noStrike">
                <a:solidFill>
                  <a:srgbClr val="000000"/>
                </a:solidFill>
                <a:latin typeface="Calibri"/>
              </a:rPr>
              <a:t> bilgisayar işlemleri ve </a:t>
            </a:r>
            <a:r>
              <a:rPr b="0" lang="tr-TR" sz="200" spc="-1" strike="noStrike">
                <a:solidFill>
                  <a:srgbClr val="000000"/>
                </a:solidFill>
                <a:latin typeface="Arial"/>
              </a:rPr>
              <a:t>bulutta</a:t>
            </a:r>
            <a:r>
              <a:rPr b="0" lang="tr-TR" sz="200" spc="-1" strike="noStrike">
                <a:solidFill>
                  <a:srgbClr val="000000"/>
                </a:solidFill>
                <a:latin typeface="Calibri"/>
              </a:rPr>
              <a:t> kayıt, verilerin (kısımlarının) nerede kayıtlı olduğunun anlaşılmasını bile güçleştirmektedir. Katı beton duvarlar olarak görülmesi gereken klasik egemenlik ve sınır yaklaşımı, bilişim suçları ile mücadeleyi imkansız hale getirmektedir. Siyasi seçimlerin yapılması gerek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 spc="-1" strike="noStrike">
                <a:solidFill>
                  <a:srgbClr val="000000"/>
                </a:solidFill>
                <a:latin typeface="Calibri"/>
              </a:rPr>
              <a:t>RUFR8?</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 spc="-1" strike="noStrike">
                <a:solidFill>
                  <a:srgbClr val="000000"/>
                </a:solidFill>
                <a:latin typeface="Calibri"/>
              </a:rPr>
              <a:t>Bel</a:t>
            </a:r>
            <a:r>
              <a:rPr b="0" lang="tr-TR" sz="200" spc="-1" strike="noStrike">
                <a:solidFill>
                  <a:srgbClr val="000000"/>
                </a:solidFill>
                <a:latin typeface="Calibri"/>
              </a:rPr>
              <a:t>çika</a:t>
            </a:r>
            <a:r>
              <a:rPr b="0" lang="en-GB" sz="200" spc="-1" strike="noStrike">
                <a:solidFill>
                  <a:srgbClr val="000000"/>
                </a:solidFill>
                <a:latin typeface="Calibri"/>
              </a:rPr>
              <a:t>, </a:t>
            </a:r>
            <a:r>
              <a:rPr b="0" lang="tr-TR" sz="200" spc="-1" strike="noStrike">
                <a:solidFill>
                  <a:srgbClr val="000000"/>
                </a:solidFill>
                <a:latin typeface="Calibri"/>
              </a:rPr>
              <a:t>Nisan</a:t>
            </a:r>
            <a:r>
              <a:rPr b="0" lang="en-GB" sz="200" spc="-1" strike="noStrike">
                <a:solidFill>
                  <a:srgbClr val="000000"/>
                </a:solidFill>
                <a:latin typeface="Calibri"/>
              </a:rPr>
              <a:t> 2012 (</a:t>
            </a:r>
            <a:r>
              <a:rPr b="0" lang="tr-TR" sz="200" spc="-1" strike="noStrike">
                <a:solidFill>
                  <a:srgbClr val="000000"/>
                </a:solidFill>
                <a:latin typeface="Calibri"/>
              </a:rPr>
              <a:t>Eylül </a:t>
            </a:r>
            <a:r>
              <a:rPr b="0" lang="en-GB" sz="200" spc="-1" strike="noStrike">
                <a:solidFill>
                  <a:srgbClr val="000000"/>
                </a:solidFill>
                <a:latin typeface="Calibri"/>
              </a:rPr>
              <a:t>2012</a:t>
            </a:r>
            <a:r>
              <a:rPr b="0" lang="tr-TR" sz="200" spc="-1" strike="noStrike">
                <a:solidFill>
                  <a:srgbClr val="000000"/>
                </a:solidFill>
                <a:latin typeface="Calibri"/>
              </a:rPr>
              <a:t>’de güncellenmişt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vukatların, hakimlerin ve daha da önemlisi bir savcının görüşüne göre jürinin, uzman tarafından sunulan kanıtlara hak ettiği değeri verecek olması halinde muhafaza etme, önem taşımaktadır. Savcıların, Mahkeme’de temsil ettikleri tarafların çıkarlarını savunmak için kanıt olarak kullanacakları materyalin özelliğini, yerini ve hacmini dikkate almaları, bu materyalleri nasıl sunacaklarını planlamaları ve son olarak yargılamanın idare edilebilir olması için başlamadan önce bütün hususları sunmaları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Hakime ve jüriye elektronik kanıtların sunulması (karşıt tarafların sunumlarına dayalı hukuk sistemlerinde), bilgisayar gösterimleri, video gösterimleri, bilgisayar grafikleri, çizelgeler ve şemalar kullanılarak görsel olarak gerçekleştirilmelidir. Savcıların, bu tür teknolojinin kullanılmasının neden olabileceği önyargıların farkında olmaları ve savunmanın bu teknolojinin kullanılmasına itiraz etmesi halinde bu konuları gerekli bilgilere sahip olarak tartışmaya hazır olmaları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raştırmalar, insanların gördüklerine duyduklarından daha fazla dikkat gösterdiğini belirlemiştir. Bir savcının, iddia makamının argümanlarını mümkün olan en iyi şekilde sunmakla görevli olması nedeniyle özellikle karmaşık davalarda kanıtları görsel olarak örneğin bilgisayar gösterimlerini kullanarak sunmamız gerekmektedir.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1f497d"/>
                </a:solidFill>
                <a:uFillTx/>
                <a:latin typeface="Calibri"/>
              </a:rPr>
              <a:t>Kanıtlara itiraz edilecektir: buna hazırlıklı olun</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Bilinmesi gereken en önemli hususlardan biri de bütün kanıtlara itiraz edilecek olmasıdır. Sadece savunma avukatları değil aynı zamanda hakim de bunlara itiraz edebilir. Hakimin, kanıtların doğru bir şekilde toplanmış olduğundan, güvenilir olduklarından ve vereceği kararda kanıtları hariç tutmak için hiçbir hukuki gerekçe bulunmadığından emin olması gerek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Her kanıtın mahkemede kullanılmasına izin verilmemektedir. Bu büyük ölçüde kendi hukuk sisteminize, kanıtların toplanmasına ilişkin yasalara ve ülkenizin bu konudaki içtihadına bağlıdır. Bazı ülkelerdeki ceza muhakemeleri usulü kanununda kanıtların geçersiz olmasına neden olabilecek açık kurallar vardır. Bazı ülkelerde cezai konulardaki kanıtlar, tamamen serbesttir ve bir davanın bütün tarafları, kanıtlar ve hakimin bunlarla ne yapması gerektiği hakkında hakim huzurunda tartışma yapabilirler. Bazı ülkeler, kanıtlara ilişkin bu iki yöntemi birleştirmekted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vunma avukatlarının hakime kanıtların güvenilir olmadığını veya hukuka aykırı bir şekilde elde edilmiş olduklarını açıklamak için her türlü çabayı gösterecekleri açıktır. Savunma tarafından gündeme getirilen konuların, mahkemeye adım attığımız anda kolaylıkla çözülebileceğini düşünmek doğru olmaz. Kuşkusuz mahkemeye gitmek için hazırlıklı olmak ve </a:t>
            </a:r>
            <a:r>
              <a:rPr b="1" lang="tr-TR" sz="1200" spc="-1" strike="noStrike">
                <a:solidFill>
                  <a:srgbClr val="000000"/>
                </a:solidFill>
                <a:latin typeface="Calibri"/>
              </a:rPr>
              <a:t>olayların mantığı ve hukuka uygunluğunu </a:t>
            </a:r>
            <a:r>
              <a:rPr b="0" lang="tr-TR" sz="1200" spc="-1" strike="noStrike">
                <a:solidFill>
                  <a:srgbClr val="000000"/>
                </a:solidFill>
                <a:latin typeface="Calibri"/>
              </a:rPr>
              <a:t>ve kanıtların hukuka uygun olarak nasıl elde edildiğinin ortaya koymak önemlidir. Dosyanın mahkemeye götürülmesinden önce bile savunma avukatlarının yapabilecekleri bütün itirazları çürütmeye hazır olmak daha da önemlidir. Tanık olarak çağrılan polislerin ve uzmanların da savunmanın bütün sorularını yanıtlamaya hazır olmalarını sağlayın. Mahkemede şans, sadece hazırlıklı olan taraflardan yanadı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vcının, </a:t>
            </a:r>
            <a:r>
              <a:rPr b="1" lang="tr-TR" sz="1200" spc="-1" strike="noStrike">
                <a:solidFill>
                  <a:srgbClr val="000000"/>
                </a:solidFill>
                <a:latin typeface="Calibri"/>
              </a:rPr>
              <a:t>sağlanmış olan kanıtlardaki herhangi bir zayıflık veya sınırlandırmanın farkında </a:t>
            </a:r>
            <a:r>
              <a:rPr b="0" lang="tr-TR" sz="1200" spc="-1" strike="noStrike">
                <a:solidFill>
                  <a:srgbClr val="000000"/>
                </a:solidFill>
                <a:latin typeface="Calibri"/>
              </a:rPr>
              <a:t>olması çok önemlidir. Savcı, sadece en iyi olanlar veya duymayı ümit ettikleri hakkında değil aynı zamanda </a:t>
            </a:r>
            <a:r>
              <a:rPr b="1" lang="tr-TR" sz="1200" spc="-1" strike="noStrike">
                <a:solidFill>
                  <a:srgbClr val="000000"/>
                </a:solidFill>
                <a:latin typeface="Calibri"/>
              </a:rPr>
              <a:t>her türlü alternatif açıklama </a:t>
            </a:r>
            <a:r>
              <a:rPr b="0" lang="tr-TR" sz="1200" spc="-1" strike="noStrike">
                <a:solidFill>
                  <a:srgbClr val="000000"/>
                </a:solidFill>
                <a:latin typeface="Calibri"/>
              </a:rPr>
              <a:t>hakkında da bilgi sahibi olmalıdı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Ayrıca savcıların ve hakimlerin, teknik konularda adli bilimin temel yönleri hakkında gerekli bilgilere </a:t>
            </a:r>
            <a:r>
              <a:rPr b="0" lang="tr-TR" sz="1200" spc="-1" strike="noStrike">
                <a:solidFill>
                  <a:srgbClr val="000000"/>
                </a:solidFill>
                <a:latin typeface="Calibri"/>
              </a:rPr>
              <a:t>sahip olmaları teşvik edilmelidir. Bu şekilde en azından savunma avukatları tarafından gündeme getirilen konularda ne yapmaları gerektiğini bilecekler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cılar, savcılar, savunma temsilcileri, hakimler ve jürilerin, bilgiyi ve teknolojiyi anlamaları gerekir. Özellikle teknik hususların söz konusu olduğu durumlarda savcının dosyada karar verilmesi gereken konuları belirleyememesi ve bu dosyayı mahkemeye basit ve özlü bir şekilde sunamaması halinde davalar başarısızlıkla sonuçlanabilir. Savcılar ve soruşturmacıların, özellikle yeni teknolojiler söz konusu olduğunda soruşturma ve adli takibat yapmak için eğitilmeleri ve uzman becerileri ve bilgilerine sahip olmaları gerek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vcılar, bilgisayarların ve internet hizmetlerinin nasıl işlediğini öğrenmeleri, bilirkişilerin raporlarını anlamaları ve soruşturma konusunda polise tavsiyelerde bulunabilmeleri (ve bazı ülkelerde yönlendirmeleri) ve ülkede ve ülke dışında dijital kanıtlara el konulmasına ilişkin ilkelere uygun olarak dijital kanıtların toplanması ve bütünlüğünün korunmasını denetlemeleri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yi hazırlanmış bir dava dosyasının, çeşitli yararları vardır. Savcı ve soruşturmacının, argümanlarının gerçekte ne olduğunu anlamaları çok önemlidir. Sadece bu durumda savcı, mahkemede itiraz edildiğinde kanıtları savunabilecektir.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Kanıtlara itiraz edilmesinin mümkün olmaması halinde bunları toplamış olan kişiye ve toplanma şekline itiraz edilecektir</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Mahkemede tanıklık yapacak polis yetkililerinin, kanıtların güçlü olduğu ve zanlının suçlu olduğunu gösterdiği durumlarda savunmanın son başvurabileceği çarenin, kanıtları toplamış olan kişiye ve kanıtları toplama şekline doğrudan saldırmak olacağını bilmeleri gerekmekted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Kesinlikle daha fazla </a:t>
            </a:r>
            <a:r>
              <a:rPr b="1" lang="tr-TR" sz="1200" spc="-1" strike="noStrike">
                <a:solidFill>
                  <a:srgbClr val="1f497d"/>
                </a:solidFill>
                <a:latin typeface="Calibri"/>
              </a:rPr>
              <a:t>Anglosakson hukuk sisteminde </a:t>
            </a:r>
            <a:r>
              <a:rPr b="0" lang="tr-TR" sz="1200" spc="-1" strike="noStrike">
                <a:solidFill>
                  <a:srgbClr val="1f497d"/>
                </a:solidFill>
                <a:latin typeface="Calibri"/>
              </a:rPr>
              <a:t>polis memurlarının </a:t>
            </a:r>
            <a:r>
              <a:rPr b="1" lang="tr-TR" sz="1200" spc="-1" strike="noStrike">
                <a:solidFill>
                  <a:srgbClr val="1f497d"/>
                </a:solidFill>
                <a:latin typeface="Calibri"/>
              </a:rPr>
              <a:t>savunma tarafından sorgulanması, </a:t>
            </a:r>
            <a:r>
              <a:rPr b="0" lang="tr-TR" sz="1200" spc="-1" strike="noStrike">
                <a:solidFill>
                  <a:srgbClr val="1f497d"/>
                </a:solidFill>
                <a:latin typeface="Calibri"/>
              </a:rPr>
              <a:t>mahkemede kanıtlamanın önemli bir parçasıdır. Kıtasal hukuk sistemlerinde bu daha az yaygındır. Kanıtlara ne kadar fazla itiraz edilebilirse incelemeyi yapan kişilerin bu şekilde sorgulanması olasılığının da o kadar yüksek olduğunu kesinlikle anlamamız gerekmekted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Bu sunumda ayrıca dijital kanıtların belirli özelliklerini inceleyeceğiz. Bu noktada itiraz edilebilecek çok fazla şey olduğu daha açık bir şekilde görülecekt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AİHS Madde </a:t>
            </a:r>
            <a:r>
              <a:rPr b="1" lang="en-GB" sz="1200" spc="-1" strike="noStrike" u="sng">
                <a:solidFill>
                  <a:srgbClr val="000000"/>
                </a:solidFill>
                <a:uFillTx/>
                <a:latin typeface="Calibri"/>
              </a:rPr>
              <a:t>6 – </a:t>
            </a:r>
            <a:r>
              <a:rPr b="1" lang="tr-TR" sz="1200" spc="-1" strike="noStrike" u="sng">
                <a:solidFill>
                  <a:srgbClr val="000000"/>
                </a:solidFill>
                <a:uFillTx/>
                <a:latin typeface="Calibri"/>
              </a:rPr>
              <a:t>Adil yargılanma hakkı</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Avrupa İnsan Hakları Sözleşmesi’nin 6. Maddesi, herkesin adil yargılanma hakkına sahip olduğunu belirtmekte ve bunun ne anlama geldiğini açıkl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AİHS MADDE </a:t>
            </a:r>
            <a:r>
              <a:rPr b="0" lang="en-GB" sz="1200" spc="-1" strike="noStrike">
                <a:solidFill>
                  <a:srgbClr val="1f497d"/>
                </a:solidFill>
                <a:latin typeface="Calibri"/>
              </a:rPr>
              <a:t>6: </a:t>
            </a:r>
            <a:r>
              <a:rPr b="0" lang="tr-TR" sz="1200" spc="-1" strike="noStrike">
                <a:solidFill>
                  <a:srgbClr val="1f497d"/>
                </a:solidFill>
                <a:latin typeface="Calibri"/>
              </a:rPr>
              <a:t>Adil yargılanma hakkı</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1. </a:t>
            </a:r>
            <a:r>
              <a:rPr b="0" lang="tr-TR" sz="1200" spc="-1" strike="noStrike">
                <a:solidFill>
                  <a:srgbClr val="1f497d"/>
                </a:solidFill>
                <a:latin typeface="Calibri"/>
              </a:rPr>
              <a:t>Herkes davasının, medeni hak ve yükümlülükleriyle ilgili uyuşmazlıklar ya da cezai alanda kendisine yöneltilen suçlamaların esası konusunda karar verecek olan, yasayla kurulmuş, bağımsız ve tarafsız bir mahkeme tarafından, </a:t>
            </a:r>
            <a:r>
              <a:rPr b="1" lang="tr-TR" sz="1200" spc="-1" strike="noStrike">
                <a:solidFill>
                  <a:srgbClr val="1f497d"/>
                </a:solidFill>
                <a:latin typeface="Calibri"/>
              </a:rPr>
              <a:t>kamuya açık olarak adil bir şekilde </a:t>
            </a:r>
            <a:r>
              <a:rPr b="0" lang="tr-TR" sz="1200" spc="-1" strike="noStrike">
                <a:solidFill>
                  <a:srgbClr val="1f497d"/>
                </a:solidFill>
                <a:latin typeface="Calibri"/>
              </a:rPr>
              <a:t>ve makul bir süre içinde görülmesini isteme hakkına sahiptir. Karar alenî olarak verilir. Ancak, demokratik bir toplum içinde ahlak, kamu düzeni veya ulusal güvenlik yararına, küçüklerin çıkarları veya bir davaya taraf olanların özel hayatlarının gizliliği gerektirdiğinde veyahut, aleniyetin adil yargılamaya zarar verebileceği kimi özel durumlarda ve mahkemece bunun kaçınılmaz olarak değerlendirildiği ölçüde, duruşma salonu tüm dava süresince veya kısmen basına ve dinleyicilere kapatılabil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a:t>
            </a:r>
            <a:r>
              <a:rPr b="0" lang="tr-TR" sz="1200" spc="-1" strike="noStrike">
                <a:solidFill>
                  <a:srgbClr val="1f497d"/>
                </a:solidFill>
                <a:latin typeface="Calibri"/>
              </a:rPr>
              <a:t>Bir suç ile itham edilen herkes, suçluluğu yasal olarak sabit oluncaya kadar masum sayıl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3. </a:t>
            </a:r>
            <a:r>
              <a:rPr b="0" lang="tr-TR" sz="1200" spc="-1" strike="noStrike">
                <a:solidFill>
                  <a:srgbClr val="1f497d"/>
                </a:solidFill>
                <a:latin typeface="Calibri"/>
              </a:rPr>
              <a:t>Bir suç ile itham edilen herkes aşağıdaki asgari haklara sahipt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 </a:t>
            </a:r>
            <a:r>
              <a:rPr b="0" lang="tr-TR" sz="1200" spc="-1" strike="noStrike">
                <a:solidFill>
                  <a:srgbClr val="1f497d"/>
                </a:solidFill>
                <a:latin typeface="Calibri"/>
              </a:rPr>
              <a:t>Kendisine karşı yöneltilen suçlamanın niteliği ve sebebinden </a:t>
            </a:r>
            <a:r>
              <a:rPr b="1" lang="tr-TR" sz="1200" spc="-1" strike="noStrike">
                <a:solidFill>
                  <a:srgbClr val="1f497d"/>
                </a:solidFill>
                <a:latin typeface="Calibri"/>
              </a:rPr>
              <a:t>en kısa sürede</a:t>
            </a:r>
            <a:r>
              <a:rPr b="0" lang="tr-TR" sz="1200" spc="-1" strike="noStrike">
                <a:solidFill>
                  <a:srgbClr val="1f497d"/>
                </a:solidFill>
                <a:latin typeface="Calibri"/>
              </a:rPr>
              <a:t>, anladığı bir dilde ve ayrıntılı olarak haberdar edilmek;</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b) </a:t>
            </a:r>
            <a:r>
              <a:rPr b="0" lang="tr-TR" sz="1200" spc="-1" strike="noStrike">
                <a:solidFill>
                  <a:srgbClr val="1f497d"/>
                </a:solidFill>
                <a:latin typeface="Calibri"/>
              </a:rPr>
              <a:t>Savunmasını hazırlamak için </a:t>
            </a:r>
            <a:r>
              <a:rPr b="1" lang="tr-TR" sz="1200" spc="-1" strike="noStrike">
                <a:solidFill>
                  <a:srgbClr val="1f497d"/>
                </a:solidFill>
                <a:latin typeface="Calibri"/>
              </a:rPr>
              <a:t>yeterli zaman ve imkanlara </a:t>
            </a:r>
            <a:r>
              <a:rPr b="0" lang="tr-TR" sz="1200" spc="-1" strike="noStrike">
                <a:solidFill>
                  <a:srgbClr val="1f497d"/>
                </a:solidFill>
                <a:latin typeface="Calibri"/>
              </a:rPr>
              <a:t>sahip olma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c) </a:t>
            </a:r>
            <a:r>
              <a:rPr b="0" lang="tr-TR" sz="1200" spc="-1" strike="noStrike">
                <a:solidFill>
                  <a:srgbClr val="1f497d"/>
                </a:solidFill>
                <a:latin typeface="Calibri"/>
              </a:rPr>
              <a:t>Kendisini bizzat savunmak veya seçeceği bir avukatın yardımından yararlanmak; eğer avukat tutmak için gerekli maddî olanaklardan yoksun ise ve adaletin yerine gelmesi için gerekli görüldüğünde, resen atanacak bir avukatın yardımından ücretsiz olarak yararlanabilmek</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d) </a:t>
            </a:r>
            <a:r>
              <a:rPr b="1" lang="tr-TR" sz="1200" spc="-1" strike="noStrike">
                <a:solidFill>
                  <a:srgbClr val="1f497d"/>
                </a:solidFill>
                <a:latin typeface="Calibri"/>
              </a:rPr>
              <a:t>Kendisine karşı ifade veren tanıkları sorguya çekmek veya çektirmek</a:t>
            </a:r>
            <a:r>
              <a:rPr b="0" lang="tr-TR" sz="1200" spc="-1" strike="noStrike">
                <a:solidFill>
                  <a:srgbClr val="1f497d"/>
                </a:solidFill>
                <a:latin typeface="Calibri"/>
              </a:rPr>
              <a:t>, savunma tanıklarının da iddia tanıklarıyla aynı koşullar altında davet edilmelerinin ve dinlenmelerinin sağlanmasını isteme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e) </a:t>
            </a:r>
            <a:r>
              <a:rPr b="0" lang="tr-TR" sz="1200" spc="-1" strike="noStrike">
                <a:solidFill>
                  <a:srgbClr val="1f497d"/>
                </a:solidFill>
                <a:latin typeface="Calibri"/>
              </a:rPr>
              <a:t>Mahkemede kullanılan dili anlamadığı veya konuşamadığı takdirde bir tercümanın yardımından ücretsiz olarak yararlanmak</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Kısacası bu, bir kişi hakkında adli takibat yapıldığında ve bu kişi hakkında mahkemede bir karar verilecek olması halinde adli takibatın konusunun neyle ilgili olduğunu anlama fırsatına ve sunulan kanıtları tartışma imkanına sahip olması gerektiği anlamını taşımaktadır. Bu kişinin bilgilendirilmesi, savunmasını hazırlamak için zamana ve imkanlara sahip olması ve sadece aleyhindeki tanıklara değil bütün kanıtlara itiraz edebilmesi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Bunun nasıl düzenleneceği ve kanıtların savunmaya (avukatına) ne zaman sunulacağı her ülkede değişiklik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400" spc="-1" strike="noStrike" u="sng">
                <a:solidFill>
                  <a:srgbClr val="122031"/>
                </a:solidFill>
                <a:uFillTx/>
                <a:latin typeface="Calibri"/>
              </a:rPr>
              <a:t>Kanıtlar bir mahkemeye nasıl sunulmalıdır</a:t>
            </a:r>
            <a:r>
              <a:rPr b="1" lang="en-GB" sz="1400" spc="-1" strike="noStrike" u="sng">
                <a:solidFill>
                  <a:srgbClr val="122031"/>
                </a:solidFill>
                <a:uFillTx/>
                <a:latin typeface="Calibri"/>
              </a:rPr>
              <a:t>?</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1f497d"/>
                </a:solidFill>
                <a:latin typeface="Calibri"/>
              </a:rPr>
              <a:t>Yargılama stratejisinin temel kurallarına göre hareket etseniz bile daha önce söylemiş olduğumuz gibi </a:t>
            </a:r>
            <a:r>
              <a:rPr b="1" lang="tr-TR" sz="1400" spc="-1" strike="noStrike">
                <a:solidFill>
                  <a:srgbClr val="1f497d"/>
                </a:solidFill>
                <a:latin typeface="Calibri"/>
              </a:rPr>
              <a:t>duruşma salonunda bulunan herkesin aynı uzmanlığa sahip olmadığını </a:t>
            </a:r>
            <a:r>
              <a:rPr b="0" lang="tr-TR" sz="1400" spc="-1" strike="noStrike">
                <a:solidFill>
                  <a:srgbClr val="1f497d"/>
                </a:solidFill>
                <a:latin typeface="Calibri"/>
              </a:rPr>
              <a:t>dikkate almanız gerekir.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1f497d"/>
                </a:solidFill>
                <a:latin typeface="Calibri"/>
              </a:rPr>
              <a:t>Dosyanızı sunmaya başladığınızda kanıtlarınızı sağlam bir temel üzerine oturtmanız gerekir. Her aşamayı belgelendirdiğinizden ve kanıtları hakime göstermeden önce olayların mantığını ortaya koyduğunuzdan emin olun. Adli bilimi herkesin anlayabileceği bir şekilde anlatabilecek bilirkişileri çağırabilirsiniz. Hatırlatma açısından bu, AİHS’nin 6. maddesinin bütün şartlarına uygundur.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Calibri"/>
              </a:rPr>
              <a:t>Koşmaya başlamadan önce yürümeyi öğrenmeniz gerektiğini hiç unutmayın. İlk olarak temel hususları açıklayın (bir PowerPoint sunumu veya bir veri sözlüğünü kullanabilirsiniz) ve daha sonra adli bilimle ilgili karmaşık konulara girin (bir hakimin, bir IP adresinin ne olduğunu bilmemesi halinde onu yüksek teknolojiye ilişkin kanıtlar hakkında ikna etmeye çalışmanın hiçbir faydası yoktur).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Calibri"/>
              </a:rPr>
              <a:t>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400" spc="-1" strike="noStrike">
                <a:solidFill>
                  <a:srgbClr val="000000"/>
                </a:solidFill>
                <a:latin typeface="Calibri"/>
              </a:rPr>
              <a:t>Dosyayı, kendi hakiminizin seviyesine göre oluşturun.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Tartışma başlatmayın</a:t>
            </a:r>
            <a:r>
              <a:rPr b="1" lang="en-US" sz="800" spc="-1" strike="noStrike" u="sng">
                <a:solidFill>
                  <a:srgbClr val="000000"/>
                </a:solidFill>
                <a:uFillTx/>
                <a:latin typeface="Calibri"/>
              </a:rPr>
              <a:t>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dli takibatın hukuka uygun olduğu bir çok kıta Avrupası ülkesinde varsayılmaktadır. Bu, Anglosakson ülkelerde farklı olabilir. Kuşkusuz hakimin, adli takibatın kabul edilebilirliğine ilişkin bütün hususları resmi olarak incelemesi gereki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t>
            </a:r>
            <a:r>
              <a:rPr b="0" lang="tr-TR" sz="800" spc="-1" strike="noStrike">
                <a:solidFill>
                  <a:srgbClr val="000000"/>
                </a:solidFill>
                <a:latin typeface="Calibri"/>
              </a:rPr>
              <a:t>Kanıt” ve “delil” hakkındaki ulusal yasalara bağlı olarak kanıtların kabul edilebilirliği ve hukuka uygunluğu, iddianamede her zaman öngörülmeyebili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Ulusal yasalarınızda kanıtların veya kanıtların toplanmasının hukuka uygunluğu ve/veya kabul edilebilirliğini kanıtlamanız öngörülmüyorsa bunu kendiniz gündeme getirmeyin. Bu, savunma avukatlarının bu konuyu tartışmaya açmalarına neden olabili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1f497d"/>
                </a:solidFill>
                <a:uFillTx/>
                <a:latin typeface="Calibri"/>
              </a:rPr>
              <a:t>Hızı ayarlayı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Bir adli takibat planı oluşturun. Takibatınızın temel fikrini ve köşe taşlarını düşünün. Sürekli olarak bu köşe taşlarına odaklanı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Planınıza bağlı kalın ve savunma avukatlarının dengenizi bozmalarına izin vermeyi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Savunma, büyük olasılıkla bir savunma planına sahiptir. Savunma avukatlarının sizi kendi savunma planlarının ardına takılmaya yönlendirmeyi başarması halinde işlerinin yarısını başarmış sayılırla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Ana yoldan ayrılmayın. Sizi, kaybolmanıza ve hakimin kafasını karıştıracak önemsiz ayrıntılarla uğraşmanıza neden olacak şekilde başka istikametlere yönlendirmelerine izin vermeyi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Sizi provoke etmelerine izin vermeyin. Soğukkanlılığınızı koruyun ve her zaman planınıza geri dönün. Planınızda sadece kesinlikle gerekli olması halinde değişiklik yapı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Hızı ayarlayın. İzlenen usulün ritmini ayarlamaya çalışın. Hızı ayarlamaya ve usule ilişkin gündemi yönetmeye çalışı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Örneğin: savunmanın, son anda bir yazılı beyan/görüş sunarak ertelemeye çalışması halinde beyanlarını incelemek için bir erteleme talep etmeyi düşünmeyin. Bugünün işini yarına bırakmayı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4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77CFBB-8963-4214-9558-C1855DDBB0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Dijital adli bilim uzmanları</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cı veya savcı, bir soruşturma sırasında bir adli bilim uzmanını görevlendirmeye ihtiyaç duyabilir. Bu, belirli bir işletim sistemi veya İnternet uygulaması hakkında bilgi gibi belirli bir türde uzmanlığa ihtiyaç duyulduğu için gereke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tanığın seçilmesinde yanıtlanması gereken en önemli sorun, sorunların çözüme kavuşturulması açısından kendi önem taşıyan görüşlerini bildirmek için eğitim veya deneyim yoluyla elde edilmiş olan gerekli bilgilere sahip olup olmadıkları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ddia makamı ve savunma tarafından çağrılan adli tıp bilirkişilerinin güvenilirliğini güçlendirmesi ve mahkemenin itibar edeceği uzmanların yeterliliklerinin nesnel ve bağımsız bir değerlendirmesini sağlaması nedeniyle bir tür akreditasyon yararlı ola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yı yürüten yetkililer, adli bilim uzmanı ve savcı arasında erken bir aşamada danışmalarda bulunulması, soruşturma ve adli takibatın başarılı olması açısından önemlidir. Polis ve savcılar, adli bilim uzmanına açık talimatlar verilmesini sağlamalıdır. Soruşturmacılar, ayrıntılı ve uygun planlar sunmalıdır.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zellikle daha fazla sıra dışı ve çok teknik alanlarda harici danışman bilirkişilerin seçilmesi, soruşturmacı açısından bir sorun olabilir.  Seçim süreci, gelişi güzel olmamalı ve başlangıçtan itibaren planlanmalı ve etkin bir şekilde gerçekleştirilmelidir. Bilgisayar suçları birimleri, seçim kriterleri konusunda daha fazla tavsiyede bulunabilmelidir.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eçim yapılırken aşağıda belirtilen talimatlar dahil edilmelidir ve aşağıdaki hususların, bağımsız danışman bilirkişi becerilerinin temelini oluşturduğu kabul edil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Uzman bilgis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aşağıdaki gibi konuları içeren belirli bir işin yapılması için gerekli beceri veya yetkinlikti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Kişinin konuya ilişkin nitelik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Kişinin bu belirli çalışmadaki beceri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Sahip olduğu belirli becerile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t>
            </a:r>
            <a:r>
              <a:rPr b="0" lang="tr-TR" sz="1200" spc="-1" strike="noStrike">
                <a:solidFill>
                  <a:srgbClr val="000000"/>
                </a:solidFill>
                <a:latin typeface="Calibri"/>
              </a:rPr>
              <a:t>Bu becerilerin teknik niteliklere, deneyimin süresine veya her ikisine dayalı olup olmadığ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Uzman deneyimi</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işinin bu tür bir çalışmadaki deneyiminin özelliği</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örev yaptığı davaların türü </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işinin bu alanda çalıştığı süre </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eneyimini kanıtlayan deliller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Soruşturmaya ilişkin bilg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izlilik, konuyla bağlantısı ve aşağıdakiler arasındaki fark açısından soruşturmaların özelliğinin anlaşılmas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Bilg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İstihbar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Kanı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Bağlamsal bilg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Farklı yaklaşımların, lisanın, felsefelerin, polisin uygulamaları ve görevlerinin bilinmesi ve Bilgi Teknolojisi hakkında teknik bilgi, mahkemede elektronik kanıtların geçerliliğinin sağlanması açısından önemlidir. Bunun temelinde de bilimsel kanıt ve hukuki kanıt arasındaki farklılıklar ve en geniş anlamı ile olasılığın anlaşılması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Hukuki bilg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şağıdakilerle ilgili olarak hukuki kavramlar ve usullerin ilgili yönlerinin anlaşılması: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İfadele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Devamlılı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Mahkeme usul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t>
            </a:r>
            <a:r>
              <a:rPr b="0" lang="tr-TR" sz="1200" spc="-1" strike="noStrike">
                <a:solidFill>
                  <a:srgbClr val="000000"/>
                </a:solidFill>
                <a:latin typeface="Calibri"/>
              </a:rPr>
              <a:t>Bilirkişinin görevleri ve sorumluluklarının açık bir şekilde anlaşılması öneml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İletişim beceriler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şağıdaki hususların sözlü ve yazılı olarak anlaşılır bir dille açıklanması ve ifade edilmesi kabiliyet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Uzmanlığın özelliğ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Kullanılan teknikler ve donanım</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Yorumlama yöntem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t>
            </a:r>
            <a:r>
              <a:rPr b="0" lang="tr-TR" sz="1200" spc="-1" strike="noStrike">
                <a:solidFill>
                  <a:srgbClr val="000000"/>
                </a:solidFill>
                <a:latin typeface="Calibri"/>
              </a:rPr>
              <a:t>Kanıtların güçlü ve zayıf yön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Alternati</a:t>
            </a:r>
            <a:r>
              <a:rPr b="0" lang="tr-TR" sz="1200" spc="-1" strike="noStrike">
                <a:solidFill>
                  <a:srgbClr val="000000"/>
                </a:solidFill>
                <a:latin typeface="Calibri"/>
              </a:rPr>
              <a:t>f açıklamala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ene</a:t>
            </a:r>
            <a:r>
              <a:rPr b="1" lang="tr-TR" sz="1200" spc="-1" strike="noStrike">
                <a:solidFill>
                  <a:srgbClr val="000000"/>
                </a:solidFill>
                <a:latin typeface="Calibri"/>
              </a:rPr>
              <a:t>l</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Kanıt niteliğindeki materyallerin kullanılması konusunda uygun güvenlik seviyesinin onaylanmas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Konuya ilişkin her türlü pedofilik materyale ilişkin ilkeler hakkında bilgi edinilmes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Bu materyaller ve risklerin personel üzerindeki etkilerinin gerekli şekilde değerlendirilmesi konusunda bilgi edinilmesi</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B57226-84B8-4DB6-9D74-3F87F9840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Uzmanın rolü</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K Elektronik Kanıt Kılavuzu’nun 9.3.2 bölümüne bakınız</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Ceza davalarında mahkemenin belirlemesi gereken konuların hakimin deneyimi ve bilgisinin çok daha ötesinde olması halinde bir uzmanın görüş belirtmesine imkan tanınması mümkündür. Ele alınan konunun böyle bir kanıtı gerektirmesi halinde bunu sadece gerekli niteliklere sahip bir uzman vere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irkişilerin bazı niteliklere sahip olması konusunda belirli bir şart yoktur. Gerekli olan şey, bilirkişinin deneyimi, eğitimi veya ikisinin bileşimi sayesinde mahkemenin kendi başına çözüme kavuşturamadığı bir konu hakkında değerli görüş sunmasıdır.  (Durum, bazı Avrupa ülkelerinde farklı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bilirkişinin aynı zamanda bağımsız ve tarafsız olması gerekir. Bilirkişi, kendisini görevlendiren tarafa değil mahkemeye karşı sorumludur. Sunulan kanıtlara ilişkin her türlü zayıflığı veya sınırlandırmayı belirlemeli ve buna dikkat çekmelidir. Savcının sadece en iyi olanı veya savcının duymayı ümit ettiği açıklamayı değil her türlü alternatif açıklama hakkında bilgi sahibi olması gerekir. Bilirkişilerin beyanları, resimlerle birlikte sunulmalı ve mümkün olduğu kadar basit olmalı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dli bilim uzmanı, hakimin tanıkların nitelikleri veya deneyimi konusundaki kanıtları dinledikten sonra bu kanıya varması halinde bir bilirkişi olarak görev yapar. Davanın hangi tarafının kendisine talimat verdiğine bakılmaksızın adli bilim uzmanı, </a:t>
            </a:r>
            <a:r>
              <a:rPr b="1" lang="tr-TR" sz="1200" spc="-1" strike="noStrike">
                <a:solidFill>
                  <a:srgbClr val="000000"/>
                </a:solidFill>
                <a:latin typeface="Calibri"/>
              </a:rPr>
              <a:t>mahkemeye hizmet eder </a:t>
            </a:r>
            <a:r>
              <a:rPr b="0" lang="tr-TR" sz="1200" spc="-1" strike="noStrike">
                <a:solidFill>
                  <a:srgbClr val="000000"/>
                </a:solidFill>
                <a:latin typeface="Calibri"/>
              </a:rPr>
              <a:t>ve mahkemenin normal deneyiminin ötesinde olan karmaşık kanıtları anlaması için mahkemeye yardımcı ol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Hem iddia makamının hem de savunmanın bir adli bilim bilirkişisi olması halinde normalde bu bilirkişilerin, davaya ilişkin gerçekler hakkında kanıt niteliğinde görüşler belirtmelerine izin verilir. Bu, genellikle sadece kişisel olarak yaptıkları gözlemler hakkında kanıt sunan diğer bütün tanıklara göre farklı bir durumdur. Bilirkişilerin ücretleri, normalde onları çağıran tarafça ödenir ve kendi aralarında raporları paylaşmaları, anlaşmazlık konusu olmayan her türlü konu üzerinde anlaşmaya varmaları ve bir terimler sözlüğü üzerinde mutabakata varmaları beklen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Bilgisayar sistemleri veya diğer cihazlara kaydedilmiş olan elektronik kanıtların söz konusu olduğu davaların sayısı artmaktadır. Hakimler (savcılar ve soruşturmacılar gibi), bilişim suçları ve elektronik kanıtları incelemeye hazır olmalıdır. Bir çok davada hakimler (savcılar ve soruşturmacılar gibi), sanal dünyanın yeni gerçekleri ile başa çıkmakta güçlüklerle karşılaşmaktadırlar ve bilişim suçları ve elektronik kanıtlar hakkında bilgi edinmeleri ve anlamaları için eğitim görmeleri gerekmektedir.  Hakimlerin, kendi mesleki gelişimlerini bağımsız olarak devam  ettirmeleri beklenmektedir. Bu nedenle hakimler ve savcılar, diğer hakimler ve savcılarla ülke içinde ve dışında ağlar oluşturarak kendi bilgi ve deneyimlerinin güçlendirilmesine katkıda bulunmaya teşvik edilmel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7BADD-CF90-4270-9CF5-358435205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u="sng">
                <a:solidFill>
                  <a:srgbClr val="1f497d"/>
                </a:solidFill>
                <a:uFillTx/>
                <a:latin typeface="Calibri"/>
              </a:rPr>
              <a:t>Sunum yöntemleri hakkında düşünün</a:t>
            </a:r>
            <a:endParaRPr b="0" lang="en-US" sz="20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700" spc="-1" strike="noStrike">
                <a:solidFill>
                  <a:srgbClr val="000000"/>
                </a:solidFill>
                <a:latin typeface="Calibri"/>
              </a:rPr>
              <a:t>Bir bilişim suçları savcısı veya soruşturmacısı olarak ICT’nin bize sağlamış olduğu yararlı araçları kullanmayı unutmayın. </a:t>
            </a: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700" spc="-1" strike="noStrike">
                <a:solidFill>
                  <a:srgbClr val="000000"/>
                </a:solidFill>
                <a:latin typeface="Calibri"/>
              </a:rPr>
              <a:t>Dosyayı kolay anlaşılır hale getirmek için bir PowerPoint sunum yapmayı düşünün, bütün teknik ve özel terimlerin tanımlandığı bir veri sözlüğünü sunun, kolay okunabilir hale getirmek için dosyanın bir özetini sunun düşünün ve son olarak kanıtları gösterin. Ayrıca mahkemede bulunan herkesin en azından dosyayı anlama şansına sahip olabilmesi için bir temel standart oluşturmak amacıyla dava ile ilgili elektronik kanıtlar / teknoloji hakkında kısa bir açıklama yapmayı düşünün. </a:t>
            </a: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8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4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12ED02-6DE8-4E0C-93C3-CB7C66C72D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1f497d"/>
                </a:solidFill>
                <a:uFillTx/>
                <a:latin typeface="Calibri"/>
              </a:rPr>
              <a:t>Hukuk sisteminizin ve araçlarının izin vermesi halinde dikkate alınması gereken hususlar</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Daha önce belirtildiği gibi soruşturmaya dayalı hukuk sistemi ve karşıt tarafların sunumlarına dayalı hukuk sistemi arasında büyük bir fark vardır. Karşıt tarafların sunumlarına dayalı hukuk sisteminde her şey mahkemede muhtemelen önceden dosya hakkında hiçbir bilgileri olmayan hakimin ve jürinin huzurunda gerçekleşir. Sunum yöntemlerinizi duruma göre belirlemeniz gerekir.   </a:t>
            </a: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u="sng">
                <a:solidFill>
                  <a:srgbClr val="000000"/>
                </a:solidFill>
                <a:uFillTx/>
                <a:latin typeface="Calibri"/>
              </a:rPr>
              <a:t>Suçun</a:t>
            </a:r>
            <a:r>
              <a:rPr b="1" lang="tr-TR" sz="900" spc="-1" strike="noStrike" u="sng">
                <a:solidFill>
                  <a:srgbClr val="000000"/>
                </a:solidFill>
                <a:uFillTx/>
                <a:latin typeface="Arial"/>
              </a:rPr>
              <a:t> </a:t>
            </a:r>
            <a:r>
              <a:rPr b="1" lang="en-GB" sz="900" spc="-1" strike="noStrike" u="sng">
                <a:solidFill>
                  <a:srgbClr val="000000"/>
                </a:solidFill>
                <a:uFillTx/>
                <a:latin typeface="Calibri"/>
              </a:rPr>
              <a:t>nasıl işlendiğini veya kanıtların sistemde bulunduğunu gösterebilmek için mahkemede suçun işlenmesinde kullanıldığı düşünülen makineyi çalıştırın veya resmi gösterin</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Önerilen bazı sunum yöntemleri, soruşturmaya dayalı olarak dosyayı inceleyen bir mahkemede kullanılmaz veya nadiren kullanılır. Bir soruşturmaya dayalı yargılama usulünde bütün kanıt toplama süreci ve kanıt örnekleri, polis raporlarında gösterilir ve tanımlanır. Bir avukat, bu raporlara itiraz etmek istemesi halinde sicil memuruna gider ve toplanmış olan kanıtları görmek istediğini söyler ve bu kanıtlar kendisine verilir. Avukat, bir argüman oluşturup oluşturamayacağını görmek için bunları kontrol eder. Bir argüman oluşturamaması halinde kanıtların mahkemede gösterilmesini hiçbir zaman talep etmez. Soruşturmaya dayalı bir yargılama usulünde normalde içinde ne bulunduğunu veya suçun nasıl işlendiğini göstermek için zanlının makinesini çalıştırmayı düşünmeyiz. Bu, dosyadaki polis raporlarında yer almaktadır ve ikna etmeniz gereken ve önceden bilgiye sahip olmayan bir jüri yoktur.  </a:t>
            </a:r>
            <a:r>
              <a:rPr b="0" lang="en-GB" sz="1000" spc="-1" strike="noStrike">
                <a:solidFill>
                  <a:srgbClr val="000000"/>
                </a:solidFill>
                <a:latin typeface="Calibri"/>
              </a:rPr>
              <a:t> </a:t>
            </a:r>
            <a:br>
              <a:rPr sz="1000"/>
            </a:b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u="sng">
                <a:solidFill>
                  <a:srgbClr val="1f497d"/>
                </a:solidFill>
                <a:uFillTx/>
                <a:latin typeface="Calibri"/>
              </a:rPr>
              <a:t>Kanıtları taraflara bilgisayar ekranları üzerinde sunun</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Mahkemede herkes için bilgisayarlar veya bilgisayar ekranları olması çok güzel olurdu. Ancak bu, şu anda soruşturmaya dayalı olarak davalara bakan mahkemelerde gerçekleşebilecek bir durum değildir. Dosyanın/kanıtların sunumu, daha önceki slaytlarda açıklanan geleneksel araçlarla yapılmaktadır (dosyanın bir genel görünümünün verilmesi veya sunumunun yapılması için gerekli olması halinde bir PowerPoint sunumu ve/veya bir projektör (göstereceğiniz bir video varsa)). Bir çok durumda savcı, dosyayı sözlü olarak sunacaktır. Soruşturmaya dayalı olarak yargılama yapan bir mahkemede bazen öğlene kadar 20 dosyaya bakılması gereki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endParaRPr b="0" lang="en-US" sz="1000" spc="-1" strike="noStrike">
              <a:solidFill>
                <a:srgbClr val="000000"/>
              </a:solidFill>
              <a:latin typeface="Calibri"/>
            </a:endParaRPr>
          </a:p>
        </p:txBody>
      </p:sp>
      <p:sp>
        <p:nvSpPr>
          <p:cNvPr id="4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AF0A1-F9EA-4E4F-8A67-D5D351C11D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CA127-10E4-45F6-A0FB-185C9C69A85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C442-7520-4DD7-94D2-0DFAB6B68283}" type="slidenum">
              <a:rPr b="0" lang="nl-NL"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00" spc="-1" strike="noStrike" u="sng">
                <a:solidFill>
                  <a:srgbClr val="1f497d"/>
                </a:solidFill>
                <a:uFillTx/>
                <a:latin typeface="Calibri"/>
              </a:rPr>
              <a:t>Karşıt tarafların sunumlarına ve soruşturmaya dayalı yaklaşım</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ir çok kıta Avrupası ülkesinde </a:t>
            </a:r>
            <a:r>
              <a:rPr b="1" lang="tr-TR" sz="300" spc="-1" strike="noStrike">
                <a:solidFill>
                  <a:srgbClr val="1f497d"/>
                </a:solidFill>
                <a:latin typeface="Calibri"/>
              </a:rPr>
              <a:t>soruşturmaya dayalı ceza usulü </a:t>
            </a:r>
            <a:r>
              <a:rPr b="0" lang="tr-TR" sz="300" spc="-1" strike="noStrike">
                <a:solidFill>
                  <a:srgbClr val="1f497d"/>
                </a:solidFill>
                <a:latin typeface="Calibri"/>
              </a:rPr>
              <a:t>bulunmaktadır. Bu, soruşturma </a:t>
            </a:r>
            <a:r>
              <a:rPr b="1" lang="tr-TR" sz="300" spc="-1" strike="noStrike">
                <a:solidFill>
                  <a:srgbClr val="1f497d"/>
                </a:solidFill>
                <a:latin typeface="Calibri"/>
              </a:rPr>
              <a:t>aşamasının gerçeğin aranmasının merkezinde yer aldığı</a:t>
            </a:r>
            <a:r>
              <a:rPr b="0" lang="tr-TR" sz="300" spc="-1" strike="noStrike">
                <a:solidFill>
                  <a:srgbClr val="1f497d"/>
                </a:solidFill>
                <a:latin typeface="Calibri"/>
              </a:rPr>
              <a:t> anlamını taşımaktadı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Dijital kanıtlar yanı sıra diğer kanıtların, mahkemeye gitmeden önce toplanması, el konulması ve incelenmesi gerekir. Bütün ilgili tanıkların ifadesi soruşturma sırasında alınmalıdı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Uzmanlar, mahkemeye gidilmeden önce raporlarını sunmalıdır. Soruşturmaya dayalı hukuk sisteminde soruşturma normalde bir tahkikat hakimi ve/veya savcı öncülüğünde polis tarafından yürütülür. Tahkikat hakimi ve/veya savcı, soruşturmanın kalitesi, doğruluğu ve meşruluğu konusunda tam sorumluluk üstlenir ve iddia makamı ve savunma için kanıtların aranması ile yükümlüdü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Savcının bir celp, mahkeme çağrısı ve/veya iddianame ile dava dosyasını mahkemeye sunmaya karar verdiği itibaren bütün kanıtlar, avukatları ile birlikte savunmasını hazırlaması için hukuken sanığın kullanımına açılacaktır. Normalde bu noktada soruşturmanın, kuşkusuz savunmanın hakimi aksine ikna etme hakkını etkilemeden tamamlanmış olduğu kabul edilir. Mahkemeye gidildiğinde hakim, gerçeğin bulunması ve mahkeme nezdinde sanığın masumiyetini veya suçunu kanıtlayan (soruşturma sırasında toplanmış olan) bütün kanıtların incelenmesinde merkezi rol oynar. Belirli tanık ifadelerinin sorgulanması halinde tanıklar, mahkemede ifade vermek üzere çağrılabilir. Hakim, tanıkları ayrıntılı olarak sorgular ve hatta savcıdan tanık çağırmasını isteyebilir. İddia makamı ve savunma tarafları, takip soruları yöneltebili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ununla birlikte bir çok kıta Avrupası ülkesinde her mahkemede tanık ve bilirkişi çağrılması standart usul değildir. Soruşturmaya dayalı hukuk sisteminde kanıtların kabul edilebilirliğine ilişkin kurallar, aynı zamanda hakimin bir hakem yerine bir sorgulayıcı olarak hareket etmesine imkan tanı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Örf ve adet hukukunun uygulandığı ülkelerdeki yargı sistemi, </a:t>
            </a:r>
            <a:r>
              <a:rPr b="1" lang="tr-TR" sz="500" spc="-1" strike="noStrike">
                <a:solidFill>
                  <a:srgbClr val="000000"/>
                </a:solidFill>
                <a:latin typeface="Calibri"/>
              </a:rPr>
              <a:t>karşıt tarafların sunumu modeline </a:t>
            </a:r>
            <a:r>
              <a:rPr b="0" lang="tr-TR" sz="500" spc="-1" strike="noStrike">
                <a:solidFill>
                  <a:srgbClr val="000000"/>
                </a:solidFill>
                <a:latin typeface="Calibri"/>
              </a:rPr>
              <a:t>dayanır. Karşıt tarafların sunumu sistemi, iki tarafın bir kişinin suçluluğu veya masumiyetinin tartışılmasında karşıt tutumlar üstlenmesi anlamını taşır. Bu senaryoda, </a:t>
            </a:r>
            <a:r>
              <a:rPr b="1" lang="tr-TR" sz="500" spc="-1" strike="noStrike">
                <a:solidFill>
                  <a:srgbClr val="000000"/>
                </a:solidFill>
                <a:latin typeface="Calibri"/>
              </a:rPr>
              <a:t>hakimin </a:t>
            </a:r>
            <a:r>
              <a:rPr b="0" lang="tr-TR" sz="500" spc="-1" strike="noStrike">
                <a:solidFill>
                  <a:srgbClr val="000000"/>
                </a:solidFill>
                <a:latin typeface="Calibri"/>
              </a:rPr>
              <a:t>huzurunda yapılan tartışmalarda </a:t>
            </a:r>
            <a:r>
              <a:rPr b="1" lang="tr-TR" sz="500" spc="-1" strike="noStrike">
                <a:solidFill>
                  <a:srgbClr val="000000"/>
                </a:solidFill>
                <a:latin typeface="Calibri"/>
              </a:rPr>
              <a:t>tarafsız olması gerekir. </a:t>
            </a:r>
            <a:r>
              <a:rPr b="0" lang="tr-TR" sz="500" spc="-1" strike="noStrike">
                <a:solidFill>
                  <a:srgbClr val="000000"/>
                </a:solidFill>
                <a:latin typeface="Calibri"/>
              </a:rPr>
              <a:t>Bu düzenlemede hakimin görevi, yargılamanın usule ilişkin yargılama kurallarına veya kanuni prosedüre uygun olarak devam etmesinin ve kanıtların yerleşik kurallar ve ilkelere göre sunulmasını sağlamaktı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Cezai konularda bu yaklaşımın temeli, iki tarafın sanığın suçluluğu veya masumiyeti konusunda tartışmaya girmesidir. Her iki tara da kazanmak istediği için tartışma, konulara eleştirel bir bakış sağlayacak ve her iki tarafça incelenecek kanıtların istenmesine neden olacaktır. Bu tartışma sonucunda hakim izlerken gerçek ortaya çıkacaktır. Bu, çeşitli mahkeme görevlilerinin çok belirgin bir rol oynadığı anlamını taşımaktadır. Savunma avukatı, karşıt taraflardan biri olarak müşterisini savunmak için argümanlar hazırlar ve savcı tarafından sunulmuş olan kanıtların güvenilir olmadığını ve değer taşımadığını ileri sürer. Savcı, devlet adına argümanlarını hazırlar ve sanığın bir suç işlemiş olduğunu gösteren kanıtları toplar ve sunar. Hakim, hukukun yorumlanmasına açıklık getirilmesi ile ilgili konularda hakem rolü oynar. Hakim, taraflardan birinin usule aykırı hareket etmesi dışında herhangi bir tarafa müdahalede bulunma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nıtların ve tanıkların talep edilmesi, iki karşıt taraf olan savunma avukatı ve savcıya bırakılmıştır. Hakim, mahkemeye yapılan sunumlarda rol oynamaz. Savcının, davaya ışık tutacak olmalarına karşın belirli kanıtları veya tanıkları talep etmemesi halinde </a:t>
            </a:r>
            <a:r>
              <a:rPr b="1" lang="tr-TR" sz="500" spc="-1" strike="noStrike">
                <a:solidFill>
                  <a:srgbClr val="000000"/>
                </a:solidFill>
                <a:latin typeface="Calibri"/>
              </a:rPr>
              <a:t>hakim müdahalede bulunamaz. </a:t>
            </a:r>
            <a:r>
              <a:rPr b="0" lang="tr-TR" sz="500" spc="-1" strike="noStrike">
                <a:solidFill>
                  <a:srgbClr val="000000"/>
                </a:solidFill>
                <a:latin typeface="Calibri"/>
              </a:rPr>
              <a:t>Bu, davanın ve gideceği yönün iki tarafça belirlenmesini sağla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rşıt tarafların sunumu sisteminin avantajları şöyledir:</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Hakim, her iki tarafın bütün kanıtları sunmalarına kadar </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durum, kararın bütün kanıtların sunulmasından sonra verilecek olması nedeniyle hakimin daha tarafsız görünmesini sağla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rşıt tarafların sunumu sisteminin dezavantajları şöyledir:</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nıtların sunulması, her iki tarafın imkanlarına bağlıdır ve bunlar eşit olmayabilir; </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Taraflar, sadece kendi argümanlarını destekleyen kanıtları sunarlar</a:t>
            </a:r>
            <a:r>
              <a:rPr b="0" lang="en-GB" sz="500" spc="-1" strike="noStrike">
                <a:solidFill>
                  <a:srgbClr val="000000"/>
                </a:solidFill>
                <a:latin typeface="Calibri"/>
              </a:rPr>
              <a:t>.</a:t>
            </a:r>
            <a:endParaRPr b="0" lang="en-US" sz="5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u nedenle örf ve adet hukukunun uygulandığı ülkelerde mahkemeye gidildiğinde belirli hususları dikkate almanız gerekecektir: </a:t>
            </a:r>
            <a:endParaRPr b="0" lang="en-US" sz="3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ahkeme sırasında diğer ülkelerdeki tanıklarla ilgili sürecin yürütülmesi</a:t>
            </a:r>
            <a:r>
              <a:rPr b="0" lang="en-GB"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rkişilerle ilgili sürecin yürütülmesi</a:t>
            </a:r>
            <a:r>
              <a:rPr b="0" lang="fr-BE"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ütün ilgili belgelerin ve usullerin doğru bir şekilde tamamlanması veya güncellenmesi</a:t>
            </a:r>
            <a:r>
              <a:rPr b="0" lang="en-GB"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Gerekli dosyaların ve destekleyici belgelerin hazırlanmasının ve bunların ilgili süreler içinde gerekli biçimde sunulmasının sağlanması; </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anıtların savunmaya açıklanması</a:t>
            </a:r>
            <a:r>
              <a:rPr b="0" lang="en-GB"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a:solidFill>
                  <a:srgbClr val="000000"/>
                </a:solidFill>
                <a:latin typeface="Calibri"/>
              </a:rPr>
              <a:t>Bir jürili yargılama </a:t>
            </a:r>
            <a:r>
              <a:rPr b="0" lang="tr-TR" sz="200" spc="-1" strike="noStrike">
                <a:solidFill>
                  <a:srgbClr val="000000"/>
                </a:solidFill>
                <a:latin typeface="Calibri"/>
              </a:rPr>
              <a:t>olacağının dikkate alınması</a:t>
            </a:r>
            <a:r>
              <a:rPr b="0" lang="fr-BE"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200" spc="-1" strike="noStrike">
                <a:solidFill>
                  <a:srgbClr val="000000"/>
                </a:solidFill>
                <a:latin typeface="Calibri"/>
              </a:rPr>
              <a:t>…</a:t>
            </a:r>
            <a:endParaRPr b="0" lang="en-US" sz="2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elirtildiği gibi bir çok kıta ülkesi hukuk sisteminde bu hususların bir çoğu, soruşturma aşamasında yer almaktadı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00" spc="-1" strike="noStrike" u="sng">
                <a:solidFill>
                  <a:srgbClr val="000000"/>
                </a:solidFill>
                <a:uFillTx/>
                <a:latin typeface="Calibri"/>
              </a:rPr>
              <a:t>Adli takibatın idare edilmesi</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K Elektronik Kanıt Kılavuzu’nun 9.2.2 bölümüne bakınız.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dil yargılanma hakkı kutsaldır ve savcılık ekibinin, elektronik kanıtların toplanması, muhafaza edilmesi ve bir mahkemeye sunulması konusundaki sorumluluğu çok önemlidir. Savcılık ekibinin her üyesinin, üstleneceği açıkça tanımlanmış bir görev olacaktır. Davanın seyri sırasında savcılık, polis ve diğer ilgili personelli düzenli aralıklarla dosyaya ilişkin toplantılar yapmalıdır. Adli takibattan sonra çıkarılması gereken her türlü dersin belirlenmesi ve iletilmesine yardımcı olmak için bütün katılımcıların yer alacağı formel bilgilendirme toplantıları düzenlenmeli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lişim suçları, herhangi bir coğrafi bölge ile sınırlı değildir. Savcıların bu nedenle sınır ötesi irtibatın kolaylaştırılması konusundaki görevi daha fazla önem arz etmektedir. Suçluların suç işlemek için ağlardan oluşan bir ortamı kullanmaları nedeniyle hukuki yardımlaşma yoluyla elektronik kanıtların elde edilmesi ve suçluların iadesi, daha fazla rol oynayacaktır. Savcıların, bağlantılı soruşturmaları ve takibatları etkin bir şekilde yürütmek için kendi ülkelerindeki ve diğer ülkelerdeki soruşturmacılarla birlikte çalışmaları ve fiilen bir müşterek ekip oluşturmaları gerekecekt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avcılar, soruşturma ve takibat süreci boyunca soruşturmacılar için yönlendirme sağlamalı ve tavsiyelerde bulunmalıdır. Bu, soruşturma yöntemlerini, kanıtlara ilişkin şartları ve suçlama yapılması öncesi işlemler hakkındaki yardımı içerebil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avcılar, elektronik kanıt eksikliklerinin belirlenmesi ve mümkün olduğunda giderilmesi ve daha fazla soruşturma ile güçlendirilmesi mümkün olmayan dava dosyalarının erken sonlandırılması konusunda proaktif rol üstlenecekler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Her davanın benzersiz olduğunu ve soruşturma sonucunun gerçekleştirilmesi için hangi önlemlerin gerekli olduğunun doğru bir şekilde belirlenebilmesi için buna ilişkin gerçeklere ve gerekçelere göre ele alınması gerektiği unutulmamalıdır. </a:t>
            </a:r>
            <a:endParaRPr b="0" lang="en-US" sz="600" spc="-1" strike="noStrike">
              <a:solidFill>
                <a:srgbClr val="000000"/>
              </a:solidFill>
              <a:latin typeface="Calibri"/>
            </a:endParaRPr>
          </a:p>
          <a:p>
            <a:pPr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Soruşturma sırasında ortaya çıkarılmış olan suçların </a:t>
            </a:r>
            <a:r>
              <a:rPr b="1" lang="tr-TR" sz="300" spc="-1" strike="noStrike">
                <a:solidFill>
                  <a:srgbClr val="000000"/>
                </a:solidFill>
                <a:latin typeface="Calibri"/>
              </a:rPr>
              <a:t>miktarı</a:t>
            </a:r>
            <a:r>
              <a:rPr b="0" lang="tr-TR" sz="300" spc="-1" strike="noStrike">
                <a:solidFill>
                  <a:srgbClr val="000000"/>
                </a:solidFill>
                <a:latin typeface="Calibri"/>
              </a:rPr>
              <a:t> ve kanıtları, etkin ve verimli bir iddia makamı açısından değerlendirmeniz büyük önem taşımaktadı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savcının yapabileceği en büyük hatalardan biri de iddia makamını çok fazla ayrıntı ve önemsiz gerçeklerle meşgul etmektir. </a:t>
            </a:r>
            <a:r>
              <a:rPr b="0" lang="fr-BE" sz="300" spc="-1" strike="noStrike">
                <a:solidFill>
                  <a:srgbClr val="000000"/>
                </a:solidFill>
                <a:latin typeface="Calibri"/>
              </a:rPr>
              <a:t>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İyi bilinen </a:t>
            </a:r>
            <a:r>
              <a:rPr b="0" lang="fr-BE" sz="300" spc="-1" strike="noStrike">
                <a:solidFill>
                  <a:srgbClr val="000000"/>
                </a:solidFill>
                <a:latin typeface="Calibri"/>
              </a:rPr>
              <a:t>« </a:t>
            </a:r>
            <a:r>
              <a:rPr b="0" i="1" lang="fr-BE" sz="300" spc="-1" strike="noStrike">
                <a:solidFill>
                  <a:srgbClr val="000000"/>
                </a:solidFill>
                <a:latin typeface="Calibri"/>
              </a:rPr>
              <a:t>De minimis non curat praetor</a:t>
            </a:r>
            <a:r>
              <a:rPr b="0" lang="fr-BE" sz="300" spc="-1" strike="noStrike">
                <a:solidFill>
                  <a:srgbClr val="000000"/>
                </a:solidFill>
                <a:latin typeface="Calibri"/>
              </a:rPr>
              <a:t> »</a:t>
            </a:r>
            <a:r>
              <a:rPr b="0" lang="tr-TR" sz="300" spc="-1" strike="noStrike">
                <a:solidFill>
                  <a:srgbClr val="000000"/>
                </a:solidFill>
                <a:latin typeface="Calibri"/>
              </a:rPr>
              <a:t> (Yasa önemsiz hususlarla ilgilenmez) deyimini dikkate almaya çalışın</a:t>
            </a:r>
            <a:r>
              <a:rPr b="0" lang="fr-BE" sz="300" spc="-1" strike="noStrike">
                <a:solidFill>
                  <a:srgbClr val="000000"/>
                </a:solidFill>
                <a:latin typeface="Calibri"/>
              </a:rPr>
              <a:t>.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Mahkemede 5 suçu kusursuz şekilde kanıtlayabiliyorsanız, bu 5 suç üzerinde odaklanmaya çalışın. Kanıtların büyük ölçüde ikinci derecede veya belirsiz olduğu suçlar için kapsamlı bir takibat yapma eğiliminde olmayın. Bu, diğer suçlarla ilgili kanıtların güvenilirliğini ve otoriteyi olumsuz etkileyecektir.  Özellikle bilişim suçlarında basitlik ve açıklık önemlidi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dli takibatın idare edilmesi, aynı zamanda sadece bulguların ve kanıtların miktarını değil aynı zamanda </a:t>
            </a:r>
            <a:r>
              <a:rPr b="1" lang="tr-TR" sz="300" spc="-1" strike="noStrike">
                <a:solidFill>
                  <a:srgbClr val="000000"/>
                </a:solidFill>
                <a:latin typeface="Calibri"/>
              </a:rPr>
              <a:t>kalitesini </a:t>
            </a:r>
            <a:r>
              <a:rPr b="0" lang="tr-TR" sz="300" spc="-1" strike="noStrike">
                <a:solidFill>
                  <a:srgbClr val="000000"/>
                </a:solidFill>
                <a:latin typeface="Calibri"/>
              </a:rPr>
              <a:t>değerlendireceğiniz anlamını taşımaktadı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00" spc="-1" strike="noStrike">
                <a:solidFill>
                  <a:srgbClr val="000000"/>
                </a:solidFill>
                <a:latin typeface="Calibri"/>
              </a:rPr>
              <a:t>İlk olarak kendi kendinizi yargılayın. </a:t>
            </a:r>
            <a:r>
              <a:rPr b="0" lang="fr-BE" sz="300" spc="-1" strike="noStrike">
                <a:solidFill>
                  <a:srgbClr val="000000"/>
                </a:solidFill>
                <a:latin typeface="Calibri"/>
              </a:rPr>
              <a:t> </a:t>
            </a:r>
            <a:r>
              <a:rPr b="1" lang="tr-TR" sz="300" spc="-1" strike="noStrike">
                <a:solidFill>
                  <a:srgbClr val="000000"/>
                </a:solidFill>
                <a:latin typeface="Calibri"/>
              </a:rPr>
              <a:t>Belirsiz unsurlarla adli takibatın zayıflatılmaması </a:t>
            </a:r>
            <a:r>
              <a:rPr b="0" lang="tr-TR" sz="300" spc="-1" strike="noStrike">
                <a:solidFill>
                  <a:srgbClr val="000000"/>
                </a:solidFill>
                <a:latin typeface="Calibri"/>
              </a:rPr>
              <a:t>çok önemlidir</a:t>
            </a:r>
            <a:r>
              <a:rPr b="0" lang="fr-BE" sz="300" spc="-1" strike="noStrike">
                <a:solidFill>
                  <a:srgbClr val="000000"/>
                </a:solidFill>
                <a:latin typeface="Calibri"/>
              </a:rPr>
              <a:t>:</a:t>
            </a:r>
            <a:endParaRPr b="0" lang="en-US" sz="3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Kendiniz ikna olmadıysanız bir hakimi ikna etmeye çalışmayın</a:t>
            </a:r>
            <a:endParaRPr b="0" lang="en-US" sz="3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azı kanıtların meşruluğu konusunda herhangi bir kuşku varsa buna rağmen bu kanıtları kullanmaya teşebbüs etmeyin;</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44FEA-BE41-4F24-B467-3C179A877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Bir adli takibat planı hazırlayı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 adli takibat planı hazırlayın. Takibatınızın ana fikri ve temel taşları üzerinde düşünün. Bu temel taşlarına odaklanı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lanınıza uygun şekilde hareket edin ve savunma avukatlarının dengenizi bozmalarına izin vermeyin. Savunmanın büyük olasılıkla bir savunma planı vardır. Savunmanın, sizi kendi savunma planlarını izlemeye yönlendirmeyi başarması halinde işlerinin yarısı tamamlanmış sayılır. Ana yoldan ayrılmayın ve savunmanın sizi yolunuzdan saptırarak hakimin kafasını karıştıracak konuyla ilgisiz ayrıntılarla boğuşmanıza neden olmalarına izin vermeyi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izi provoke etmelerine izin vermeyin. Soğukkanlı olun ve her zaman planınıza geri dönün. Sadece çok gerekli olması halinde bunda değişiklik yapı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Kanıtları iki kere kontrol edi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nıtların tam ve gerçek olmaları büyük önem taş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Dijital kanıtlar (adli bilim yedekleri, el konulan donanım ve yazılım, …) savunma avukatları tarafından tartışmaya açılmadıkları sürece her zaman mahkemede kullanılmaz ve gösterilmezler. Buna rağmen kanıtların tam olup olmadığını iki kere kontrol edin. Kanıtlar hala tam olarak muhafaza edilmekte midir? Savunma avukatlarının bunlara tartışmaya açmaları halinde adli bilim yedekleri hala aynı şekilde korunmakta mıdır? Bu sorular, gereksiz olmakla birlikte genellikle hatalar yapılmaktadır. Dijital kanıtlar, kolay bozulabil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Açıklama (ifş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K Elektronik Kanıt Kılavuzu'nun 7.4 ve 9.2.3 bölümlerine bakınız.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 ülkede kanıtların savunmaya açıklanması konusunda farklı kurallar ve usuller vardır. Genellikle soruşturmacı, savcı ve tahkikat hakimi, bunların zanlı lehinde olup olmadığı konusunda bütün makul araştırma yöntemlerinin izlenmesi ile yükümlüdür. Polis tarafından oluşturulmuş herhangi bir materyalin veya polisin elinde bulunan üçüncü taraf materyalinin, bunlarla ilgili muhafaza etme sürelerinin dolmasından önce silinmesi, açıklamak için hazır olmadıkları taktirde bir ihlal oluşturabilir. Uygulamada bu, polis tarafından oluşturulmuş olan kanıtlarla birlikte kanıtların ele geçirildiği noktadan bunların savcılığı iletilmesine kadar ve bütün idare süreci boyunca tam bir denetim sürecini gösteren bir belgenin sunulmasının gerektiği anlamını taşımakta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hangi bir soruşturmada elektronik kanıt olarak kullanılamayacak materyaller elde edilecektir. Bir sanık, Avrupa İnsan Hakları Sözleşmesi'nin (AİHM) 6. Maddesi uyarınca adil biçimde yargılanmalıdır. </a:t>
            </a:r>
            <a:r>
              <a:rPr b="1" lang="tr-TR" sz="700" spc="-1" strike="noStrike">
                <a:solidFill>
                  <a:srgbClr val="000000"/>
                </a:solidFill>
                <a:latin typeface="Calibri"/>
              </a:rPr>
              <a:t>Soruşturmacı, savcılığın argümanlarına zarar verebilecek veya savunmanın argümanlarına yardımcı olabilecek materyalleri belirlemel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oruşturmacı, bunu arama terimleri veya vaka numune alma yöntemlerini kullanarak yapar ve bu materyalleri, açıklama cetvellerinde tanımlar ve el konulmuş olan dijital materyallerin hacminin çok büyük olması nedeniyle bütün kanıtların belirlenmesi mümkün olmayabilir. Bu tür durumlarda bütün ilgili kararlarla birlikte benimsenen yaklaşıma ilişkin gerekçenin kayıt altına alınması öneml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azı ülkelerde açıklama, cezai yargı sisteminde en önemli konulardan biridir ve uygun ve adil açıklamanın gerçekleştirilmesi, adil bir cezai yargı sisteminin yaşamsal öneme sahip bir parçasıdır. </a:t>
            </a:r>
            <a:r>
              <a:rPr b="1" lang="tr-TR" sz="700" spc="-1" strike="noStrike">
                <a:solidFill>
                  <a:srgbClr val="000000"/>
                </a:solidFill>
                <a:latin typeface="Calibri"/>
              </a:rPr>
              <a:t>'Altın kural', hakkaniyete uygun davranmak için savcılığın argümanlarını zayıflatan veya savunmanın argümanlarını güçlendiren kanıtlar dahil olmak üzere savcılığın elinden bulunan bütün materyallerin tam olarak açıklanması gerektiğ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oruşturmacılar, adil ve tarafsız olmalı ve açıklama yükümlülüklerinin yerine getirilmesini sağlamak için savcılarla birlikte çalışmalıdır. Soruşturmacılar, soruşturma ile ilgili olabilecek materyalleri muhafaza etmel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avcılar, adalet adına ve yasalara uygun olarak adil ve tarafsız davranma konusundaki genel ve kişisel mesleki sorumlulukları çerçevesinde gerekli açıklamanın kolaylaştırılması amacıyla her türlü çabayı göstermelidir. Savcılar, ayrıca açıklama yükümlülüklerinin yerine getirilmesini sağlamak için soruşturmacılara tavsiyelerde bulunma gereksinimini ve gerektiğinde soruşturmacılar tarafından yapılan işlemleri inceleme gereksinimini dikkate almal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4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1f497d"/>
                </a:solidFill>
                <a:uFillTx/>
                <a:latin typeface="Calibri"/>
              </a:rPr>
              <a:t> </a:t>
            </a:r>
            <a:r>
              <a:rPr b="1" lang="tr-TR" sz="1200" spc="-1" strike="noStrike" u="sng">
                <a:solidFill>
                  <a:srgbClr val="1f497d"/>
                </a:solidFill>
                <a:uFillTx/>
                <a:latin typeface="Calibri"/>
              </a:rPr>
              <a:t>Dijital kanıtlarla ilgili sorunlar</a:t>
            </a:r>
            <a:r>
              <a:rPr b="1" lang="en-GB" sz="1200" spc="-1" strike="noStrike" u="sng">
                <a:solidFill>
                  <a:srgbClr val="1f497d"/>
                </a:solidFill>
                <a:uFillTx/>
                <a:latin typeface="Calibri"/>
              </a:rPr>
              <a:t> </a:t>
            </a:r>
            <a:r>
              <a:rPr b="0" lang="en-GB" sz="1200" spc="-1" strike="noStrike" u="sng">
                <a:solidFill>
                  <a:srgbClr val="1f497d"/>
                </a:solidFill>
                <a:uFillTx/>
                <a:latin typeface="Calibri"/>
              </a:rPr>
              <a:t>(a</a:t>
            </a:r>
            <a:r>
              <a:rPr b="0" lang="tr-TR" sz="1200" spc="-1" strike="noStrike" u="sng">
                <a:solidFill>
                  <a:srgbClr val="1f497d"/>
                </a:solidFill>
                <a:uFillTx/>
                <a:latin typeface="Calibri"/>
              </a:rPr>
              <a:t>yrıca bir sonraki slayta bakınız</a:t>
            </a:r>
            <a:r>
              <a:rPr b="0" lang="en-GB" sz="1200" spc="-1" strike="noStrike" u="sng">
                <a:solidFill>
                  <a:srgbClr val="1f497d"/>
                </a:solidFill>
                <a:uFillTx/>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Dijital kanıtlara, aşağıdaki nedenlerle başka herhangi bir kanıtla aynı muamele yapılamaz</a:t>
            </a:r>
            <a:r>
              <a:rPr b="0" lang="en-GB" sz="1200" spc="-1" strike="noStrike">
                <a:solidFill>
                  <a:srgbClr val="1f497d"/>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 </a:t>
            </a:r>
            <a:r>
              <a:rPr b="0" lang="tr-TR" sz="1200" spc="-1" strike="noStrike">
                <a:solidFill>
                  <a:srgbClr val="000000"/>
                </a:solidFill>
                <a:latin typeface="Calibri"/>
              </a:rPr>
              <a:t>Uçucudur yani kolaylıkla ortadan kaybolabilir</a:t>
            </a:r>
            <a:r>
              <a:rPr b="0" lang="en-GB" sz="1200" spc="-1" strike="noStrike">
                <a:solidFill>
                  <a:srgbClr val="000000"/>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a:t>
            </a:r>
            <a:r>
              <a:rPr b="0" lang="tr-TR" sz="1200" spc="-1" strike="noStrike">
                <a:solidFill>
                  <a:srgbClr val="1f497d"/>
                </a:solidFill>
                <a:latin typeface="Calibri"/>
              </a:rPr>
              <a:t>Kolaylıkla değiştirilebilir yani her zaman kanıtlarda değişiklik yapılmadığından emin olmalı ve bunu kanıtlayabilmeliyiz; </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a:t>
            </a:r>
            <a:r>
              <a:rPr b="0" lang="tr-TR" sz="1200" spc="-1" strike="noStrike">
                <a:solidFill>
                  <a:srgbClr val="000000"/>
                </a:solidFill>
                <a:latin typeface="Calibri"/>
              </a:rPr>
              <a:t>Şifreleme, hacim, yer, dağıtık saklama… nedeniyle elde edilmesi güçtür</a:t>
            </a:r>
            <a:r>
              <a:rPr b="0" lang="en-GB" sz="1200" spc="-1" strike="noStrike">
                <a:solidFill>
                  <a:srgbClr val="000000"/>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4) </a:t>
            </a:r>
            <a:r>
              <a:rPr b="0" lang="tr-TR" sz="1200" spc="-1" strike="noStrike">
                <a:solidFill>
                  <a:srgbClr val="1f497d"/>
                </a:solidFill>
                <a:latin typeface="Calibri"/>
              </a:rPr>
              <a:t>Genellikle sanal yöntemle topladığımız için kaynağının ve gerçekliğinin kanıtlanması güçtür</a:t>
            </a:r>
            <a:r>
              <a:rPr b="0" lang="en-US" sz="1200" spc="-1" strike="noStrike">
                <a:solidFill>
                  <a:srgbClr val="1f497d"/>
                </a:solidFill>
                <a:latin typeface="Calibri"/>
              </a:rPr>
              <a:t> (</a:t>
            </a:r>
            <a:r>
              <a:rPr b="0" lang="tr-TR" sz="1200" spc="-1" strike="noStrike">
                <a:solidFill>
                  <a:srgbClr val="1f497d"/>
                </a:solidFill>
                <a:latin typeface="Calibri"/>
              </a:rPr>
              <a:t>bu kanıtlara her zaman örneğin bir tabancaya el koyduğumuz gibi klasik bir yöntemle el koymayız</a:t>
            </a:r>
            <a:r>
              <a:rPr b="0" lang="en-US" sz="1200" spc="-1" strike="noStrike">
                <a:solidFill>
                  <a:srgbClr val="1f497d"/>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a:t>
            </a:r>
            <a:r>
              <a:rPr b="0" lang="tr-TR" sz="1200" spc="-1" strike="noStrike">
                <a:solidFill>
                  <a:srgbClr val="000000"/>
                </a:solidFill>
                <a:latin typeface="Calibri"/>
              </a:rPr>
              <a:t>Coğrafi sınır ötesidir yani hangi yasaların geçerli olduğunu ve bu yabancı kanıtların yasalara uygun bir şekilde toplanıp toplanmadığını her zaman bilemeyiz.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77958-6B77-45D0-9021-1D25508ED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122031"/>
                </a:solidFill>
                <a:uFillTx/>
                <a:latin typeface="Calibri"/>
              </a:rPr>
              <a:t>Dijital kanıtlar konusundaki en iyi uygulamalar</a:t>
            </a:r>
            <a:endParaRPr b="0" lang="en-US" sz="2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22031"/>
                </a:solidFill>
                <a:latin typeface="Calibri"/>
              </a:rPr>
              <a:t>Dijital kanıtları kullandığımızda mahkemede ne yapmamız gerekir? Daha önce söylediğimiz gibi bu kanıtlar, özeldir ve özel muamele yapılmasını gerektirir. Bir çok güçlük ve sorun söz konusudur. Ancak, birçok sorunun çözülebileceğini düşünmeseydik burada olmazdık.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1"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u="sng">
                <a:solidFill>
                  <a:srgbClr val="000000"/>
                </a:solidFill>
                <a:uFillTx/>
                <a:latin typeface="Calibri"/>
              </a:rPr>
              <a:t>Uçucu</a:t>
            </a:r>
            <a:r>
              <a:rPr b="1" lang="en-GB" sz="500" spc="-1" strike="noStrike" u="sng">
                <a:solidFill>
                  <a:srgbClr val="000000"/>
                </a:solidFill>
                <a:uFillTx/>
                <a:latin typeface="Calibri"/>
              </a:rPr>
              <a:t> </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tr-TR" sz="1000" spc="-1" strike="noStrike" u="sng">
                <a:solidFill>
                  <a:srgbClr val="000000"/>
                </a:solidFill>
                <a:uFillTx/>
                <a:latin typeface="Calibri"/>
              </a:rPr>
              <a:t>Hızlı davranın ve dünya çapındaki veri  alıkoyma kuralları hakkında bilgi edinin</a:t>
            </a:r>
            <a:endParaRPr b="0" lang="en-US" sz="10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Balta ile işlenmiş olan bir cinayeti soruştururken belirli bir noktada baltaya el koyarsınız ve bu baltanın ortadan kaybolmayacağından emin olursunuz. Dijital kanıtlarda böyle bir durum söz konusu değildir. Bunun elektromanyetik veya optik kanıt olması nedeniyle bu kanıtın toplanma ve saklanma şekli çok önemlid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Ancak dijital kanıtlarda daha fazla güçlük söz konusudur. Verilerin her zaman kaydedilmemesi veya bazen sadece çok kısa bir süre kaydedilmesi nedeniyle hızlı davranmamız ve gereksinim duyduğumuz ve mahkemedeki bir tartışmada gereksinim duyabileceğimiz her şeyi toplamamız gerekir. İkinci bir şansımız veya zamanda geri gitme imkanımız yoktur. Bir kişi, sil tuşuna bastığında bütün kanıtlar gitmiş olu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Her zaman ülkemizin ve birlikte çalışmamız gereken ülkelerin veri alıkoyma kurallarını dikkate almamız gerekir. Avrupa ülkeleri için bunun, altı ay ve yirmi dört ay arasında olduğunu bilmeliyiz (Avrupa Parlamentosu ve Konsey’in 15 Mart 2006 tarihli ve </a:t>
            </a:r>
            <a:r>
              <a:rPr b="0" lang="en-US" sz="500" spc="-1" strike="noStrike">
                <a:solidFill>
                  <a:srgbClr val="000000"/>
                </a:solidFill>
                <a:latin typeface="Calibri"/>
              </a:rPr>
              <a:t>2006/24/EC</a:t>
            </a:r>
            <a:r>
              <a:rPr b="0" lang="tr-TR" sz="500" spc="-1" strike="noStrike">
                <a:solidFill>
                  <a:srgbClr val="000000"/>
                </a:solidFill>
                <a:latin typeface="Calibri"/>
              </a:rPr>
              <a:t> sayılı Yönergesi: “</a:t>
            </a:r>
            <a:r>
              <a:rPr b="0" i="1" lang="tr-TR" sz="500" spc="-1" strike="noStrike">
                <a:solidFill>
                  <a:srgbClr val="000000"/>
                </a:solidFill>
                <a:latin typeface="Calibri"/>
              </a:rPr>
              <a:t>Üye Devletler, Madde 5’</a:t>
            </a:r>
            <a:r>
              <a:rPr b="0" i="1" lang="tr-TR" sz="500" spc="-1" strike="noStrike">
                <a:solidFill>
                  <a:srgbClr val="1f497d"/>
                </a:solidFill>
                <a:latin typeface="Calibri"/>
              </a:rPr>
              <a:t> de belirtilen veri kategorilerinin, iletişim tarihinden itibaren en az altı ay ve en fazla iki yıl süre ile alıkonulmasını sağlamalıdır. “) </a:t>
            </a:r>
            <a:r>
              <a:rPr b="0" lang="tr-TR" sz="500" spc="-1" strike="noStrike">
                <a:solidFill>
                  <a:srgbClr val="1f497d"/>
                </a:solidFill>
                <a:latin typeface="Calibri"/>
              </a:rPr>
              <a:t>Ancak örneğin merkezi ABD’de bulunan bir şirket olan  Microsoft için bu süre sadece doksan gündür (azami).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Bu, mahkeme salonuna girdiğiniz andan itibaren suçun işlendiği tarihten kalan dijital kanıtlar ve verilerin büyük olasılıkla artık toplanamayacağını bilmeniz gerektiği anlamını taşımaktadır. Bu, aynı zamanda soruşturma sırasında gerekli her şeyi zamanında topladığınızdan emin olmanız gerektiği anlamına gelmektedir. Mahkeme salonuna girdiğinizde  ikinci bir şansa sahip olmayacaksını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u="sng">
                <a:solidFill>
                  <a:srgbClr val="1f497d"/>
                </a:solidFill>
                <a:uFillTx/>
                <a:latin typeface="Calibri"/>
              </a:rPr>
              <a:t>Kolaylıkla değiştirilebilir</a:t>
            </a:r>
            <a:r>
              <a:rPr b="1" lang="en-GB" sz="500" spc="-1" strike="noStrike" u="sng">
                <a:solidFill>
                  <a:srgbClr val="1f497d"/>
                </a:solidFill>
                <a:uFillTx/>
                <a:latin typeface="Calibri"/>
              </a:rPr>
              <a:t> </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tr-TR" sz="500" spc="-1" strike="noStrike" u="sng">
                <a:solidFill>
                  <a:srgbClr val="000000"/>
                </a:solidFill>
                <a:uFillTx/>
                <a:latin typeface="Calibri"/>
              </a:rPr>
              <a:t>Bütünlüğü sağlayın</a:t>
            </a:r>
            <a:endParaRPr b="0" lang="en-US" sz="5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İnternet, suçlular için bir oyun yeridir</a:t>
            </a:r>
            <a:r>
              <a:rPr b="0" lang="en-US" sz="300" spc="-1" strike="noStrike">
                <a:solidFill>
                  <a:srgbClr val="000000"/>
                </a:solidFill>
                <a:latin typeface="Calibri"/>
              </a:rPr>
              <a:t>:</a:t>
            </a:r>
            <a:endParaRPr b="0" lang="en-US" sz="3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IP numarasını gizleyen yazılımlar</a:t>
            </a:r>
            <a:r>
              <a:rPr b="0" lang="en-US" sz="500" spc="-1" strike="noStrike">
                <a:solidFill>
                  <a:srgbClr val="000000"/>
                </a:solidFill>
                <a:latin typeface="Calibri"/>
              </a:rPr>
              <a:t>:</a:t>
            </a:r>
            <a:endParaRPr b="0" lang="en-US" sz="500" spc="-1" strike="noStrike">
              <a:solidFill>
                <a:srgbClr val="000000"/>
              </a:solidFill>
              <a:latin typeface="Calibri"/>
            </a:endParaRPr>
          </a:p>
          <a:p>
            <a:pPr lvl="1">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TOR </a:t>
            </a:r>
            <a:r>
              <a:rPr b="0" lang="en-US" sz="300" spc="-1" strike="noStrike">
                <a:solidFill>
                  <a:srgbClr val="000000"/>
                </a:solidFill>
                <a:latin typeface="Calibri"/>
              </a:rPr>
              <a:t>(www.torproject.org)</a:t>
            </a:r>
            <a:endParaRPr b="0" lang="en-US" sz="300" spc="-1" strike="noStrike">
              <a:solidFill>
                <a:srgbClr val="000000"/>
              </a:solidFill>
              <a:latin typeface="Calibri"/>
            </a:endParaRPr>
          </a:p>
          <a:p>
            <a:pPr lvl="1">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Vekil sunucular (proxy) </a:t>
            </a:r>
            <a:r>
              <a:rPr b="0" lang="en-US" sz="300" spc="-1" strike="noStrike">
                <a:solidFill>
                  <a:srgbClr val="000000"/>
                </a:solidFill>
                <a:latin typeface="Calibri"/>
              </a:rPr>
              <a:t>(ex. www.proxy4free.com - www.stopkinderporno.com)</a:t>
            </a:r>
            <a:endParaRPr b="0" lang="en-US" sz="300" spc="-1" strike="noStrike">
              <a:solidFill>
                <a:srgbClr val="000000"/>
              </a:solidFill>
              <a:latin typeface="Calibri"/>
            </a:endParaRPr>
          </a:p>
          <a:p>
            <a:pPr lvl="2" marL="1143000" indent="0">
              <a:lnSpc>
                <a:spcPct val="60000"/>
              </a:lnSpc>
              <a:spcBef>
                <a:spcPts val="22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 spc="-1" strike="noStrike">
                <a:solidFill>
                  <a:srgbClr val="000000"/>
                </a:solidFill>
                <a:latin typeface="Calibri"/>
              </a:rPr>
              <a:t>= </a:t>
            </a:r>
            <a:r>
              <a:rPr b="1" lang="tr-TR" sz="600" spc="-1" strike="noStrike">
                <a:solidFill>
                  <a:srgbClr val="1f497d"/>
                </a:solidFill>
                <a:latin typeface="Calibri"/>
              </a:rPr>
              <a:t>Yerelleştirme</a:t>
            </a:r>
            <a:r>
              <a:rPr b="0" lang="en-US" sz="600" spc="-1" strike="noStrike">
                <a:solidFill>
                  <a:srgbClr val="000000"/>
                </a:solidFill>
                <a:latin typeface="Calibri"/>
              </a:rPr>
              <a:t> </a:t>
            </a:r>
            <a:r>
              <a:rPr b="0" lang="tr-TR" sz="600" spc="-1" strike="noStrike">
                <a:solidFill>
                  <a:srgbClr val="000000"/>
                </a:solidFill>
                <a:latin typeface="Calibri"/>
              </a:rPr>
              <a:t>güçlüğü</a:t>
            </a:r>
            <a:endParaRPr b="0" lang="en-US" sz="6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teganogra</a:t>
            </a:r>
            <a:r>
              <a:rPr b="0" lang="tr-TR" sz="500" spc="-1" strike="noStrike">
                <a:solidFill>
                  <a:srgbClr val="000000"/>
                </a:solidFill>
                <a:latin typeface="Calibri"/>
              </a:rPr>
              <a:t>fi</a:t>
            </a:r>
            <a:r>
              <a:rPr b="0" lang="en-US" sz="500" spc="-1" strike="noStrike">
                <a:solidFill>
                  <a:srgbClr val="000000"/>
                </a:solidFill>
                <a:latin typeface="Calibri"/>
              </a:rPr>
              <a:t>:</a:t>
            </a:r>
            <a:br>
              <a:rPr sz="500"/>
            </a:br>
            <a:r>
              <a:rPr b="0" lang="tr-TR" sz="500" spc="-1" strike="noStrike">
                <a:solidFill>
                  <a:srgbClr val="000000"/>
                </a:solidFill>
                <a:latin typeface="Calibri"/>
              </a:rPr>
              <a:t>Gizlenmiş mesajları yazma sanatı ve bilimi</a:t>
            </a:r>
            <a:endParaRPr b="0" lang="en-US" sz="500" spc="-1" strike="noStrike">
              <a:solidFill>
                <a:srgbClr val="000000"/>
              </a:solidFill>
              <a:latin typeface="Calibri"/>
            </a:endParaRPr>
          </a:p>
          <a:p>
            <a:pPr>
              <a:lnSpc>
                <a:spcPct val="6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Şifreleme</a:t>
            </a:r>
            <a:r>
              <a:rPr b="0" lang="en-US" sz="500" spc="-1" strike="noStrike">
                <a:solidFill>
                  <a:srgbClr val="000000"/>
                </a:solidFill>
                <a:latin typeface="Calibri"/>
              </a:rPr>
              <a:t>:</a:t>
            </a:r>
            <a:br>
              <a:rPr sz="500"/>
            </a:br>
            <a:r>
              <a:rPr b="0" lang="tr-TR" sz="500" spc="-1" strike="noStrike">
                <a:solidFill>
                  <a:srgbClr val="000000"/>
                </a:solidFill>
                <a:latin typeface="Calibri"/>
              </a:rPr>
              <a:t>Bir kasada bulunan dijital kanıtlar</a:t>
            </a:r>
            <a:r>
              <a:rPr b="0" lang="en-US" sz="400" spc="-1" strike="noStrike">
                <a:solidFill>
                  <a:srgbClr val="000000"/>
                </a:solidFill>
                <a:latin typeface="Calibri"/>
              </a:rPr>
              <a:t>!</a:t>
            </a:r>
            <a:endParaRPr b="0" lang="en-US" sz="4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En büyük güçlüklerden biri de mahkemede toplanmış olan verilerin başına hiçbir şey gelmediğini ve (balta için söz konusu olduğu gibi) el konulduğu andaki durumda bulunduğunun kanıtlanabilmesidir. Herkes, bir bilgisayar korsanının bilgisayarınızda neler yapabileceğini ve “Photoshop”un bir dijital görüntüye neler yapabileceğini bilir. Savunma, suçlayıcı kanıtlarda değişiklik yapıldığına ikna etmeye çalışacaktı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Örneğin “</a:t>
            </a:r>
            <a:r>
              <a:rPr b="1" lang="tr-TR" sz="500" spc="-1" strike="noStrike">
                <a:solidFill>
                  <a:srgbClr val="1f497d"/>
                </a:solidFill>
                <a:latin typeface="Calibri"/>
              </a:rPr>
              <a:t>endeksleme araçlarının</a:t>
            </a:r>
            <a:r>
              <a:rPr b="0" lang="tr-TR" sz="500" spc="-1" strike="noStrike">
                <a:solidFill>
                  <a:srgbClr val="1f497d"/>
                </a:solidFill>
                <a:latin typeface="Calibri"/>
              </a:rPr>
              <a:t>” kullanımını dikkate alın. Endeksleme, bir dizi karakterin, genellikle daha kısa sabit uzunlukta değere veya asıl diziyi temsil eden bir anahtara dönüştürülmesidir. Endeksleme, bir veri tabanındaki unsurların endekslenmesi ve bulunması için kullanılır çünkü bunlar, daha kısa endekslenmiş anahtarla asıl değeri kullanarak bulunmalarından daha hızlı bir şekilde bulunabilirler. Bu, ayrıca bir çok şifreleme algoritmasında ve dijital kanıtların doğruluğu ve bütünlüğünün sağlanması için kullanılmaktadır. Dijital kanıtlarınızın, el konuldukları anda uygun şekilde endekslenmesini sağladığınız taktirde bir mahkemede matematiksel kesinlikle mahkemeye sunulan ve uzmanlar tarafından incelenen dijital kanıtların, el konulmuş kanıtlarla aynı veriler olduğunu kanıtlayabilirsiniz . Veriler, aynı endeks değerine sahip olacaktır.     </a:t>
            </a:r>
            <a:endParaRPr b="0" lang="en-US" sz="5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lvl="1"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000000"/>
                </a:solidFill>
                <a:uFillTx/>
                <a:latin typeface="Calibri"/>
              </a:rPr>
              <a:t>Elde edilmesi güçtür</a:t>
            </a:r>
            <a:r>
              <a:rPr b="1" lang="en-GB" sz="500" spc="-1" strike="noStrike" u="sng">
                <a:solidFill>
                  <a:srgbClr val="000000"/>
                </a:solidFill>
                <a:uFillTx/>
                <a:latin typeface="Calibri"/>
              </a:rPr>
              <a:t> </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tr-TR" sz="500" spc="-1" strike="noStrike" u="sng">
                <a:solidFill>
                  <a:srgbClr val="000000"/>
                </a:solidFill>
                <a:uFillTx/>
                <a:latin typeface="Calibri"/>
              </a:rPr>
              <a:t>Ulusal yasalar, </a:t>
            </a:r>
            <a:r>
              <a:rPr b="1" lang="en-GB" sz="500" spc="-1" strike="noStrike" u="sng">
                <a:solidFill>
                  <a:srgbClr val="000000"/>
                </a:solidFill>
                <a:uFillTx/>
                <a:latin typeface="Calibri"/>
              </a:rPr>
              <a:t>MLA, LO, EJN, </a:t>
            </a:r>
            <a:r>
              <a:rPr b="1" lang="tr-TR" sz="500" spc="-1" strike="noStrike" u="sng">
                <a:solidFill>
                  <a:srgbClr val="000000"/>
                </a:solidFill>
                <a:uFillTx/>
                <a:latin typeface="Calibri"/>
              </a:rPr>
              <a:t>AK irtibat görevlileri</a:t>
            </a:r>
            <a:r>
              <a:rPr b="1" lang="en-GB" sz="500" spc="-1" strike="noStrike" u="sng">
                <a:solidFill>
                  <a:srgbClr val="000000"/>
                </a:solidFill>
                <a:uFillTx/>
                <a:latin typeface="Calibri"/>
              </a:rPr>
              <a:t>, </a:t>
            </a:r>
            <a:r>
              <a:rPr b="1" lang="tr-TR" sz="500" spc="-1" strike="noStrike" u="sng">
                <a:solidFill>
                  <a:srgbClr val="000000"/>
                </a:solidFill>
                <a:uFillTx/>
                <a:latin typeface="Calibri"/>
              </a:rPr>
              <a:t>Küresel Savcılar </a:t>
            </a:r>
            <a:r>
              <a:rPr b="1" lang="en-GB" sz="500" spc="-1" strike="noStrike" u="sng">
                <a:solidFill>
                  <a:srgbClr val="000000"/>
                </a:solidFill>
                <a:uFillTx/>
                <a:latin typeface="Calibri"/>
              </a:rPr>
              <a:t>E-</a:t>
            </a:r>
            <a:r>
              <a:rPr b="1" lang="tr-TR" sz="500" spc="-1" strike="noStrike" u="sng">
                <a:solidFill>
                  <a:srgbClr val="000000"/>
                </a:solidFill>
                <a:uFillTx/>
                <a:latin typeface="Calibri"/>
              </a:rPr>
              <a:t>suç</a:t>
            </a:r>
            <a:r>
              <a:rPr b="1" lang="en-GB" sz="500" spc="-1" strike="noStrike" u="sng">
                <a:solidFill>
                  <a:srgbClr val="000000"/>
                </a:solidFill>
                <a:uFillTx/>
                <a:latin typeface="Calibri"/>
              </a:rPr>
              <a:t> </a:t>
            </a:r>
            <a:r>
              <a:rPr b="1" lang="tr-TR" sz="500" spc="-1" strike="noStrike" u="sng">
                <a:solidFill>
                  <a:srgbClr val="000000"/>
                </a:solidFill>
                <a:uFillTx/>
                <a:latin typeface="Calibri"/>
              </a:rPr>
              <a:t>Ağı’nı </a:t>
            </a:r>
            <a:r>
              <a:rPr b="1" lang="en-GB" sz="500" spc="-1" strike="noStrike" u="sng">
                <a:solidFill>
                  <a:srgbClr val="000000"/>
                </a:solidFill>
                <a:uFillTx/>
                <a:latin typeface="Calibri"/>
              </a:rPr>
              <a:t>(GPEN)</a:t>
            </a:r>
            <a:r>
              <a:rPr b="1" lang="tr-TR" sz="500" spc="-1" strike="noStrike" u="sng">
                <a:solidFill>
                  <a:srgbClr val="000000"/>
                </a:solidFill>
                <a:uFillTx/>
                <a:latin typeface="Calibri"/>
              </a:rPr>
              <a:t> kullanı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Her türlü bilişim suçu vakalarında dijital kanıtların ülkeniz dışında bir yerde kaydedilmiş olması ihtimalinin, kendi bölgenizde el konulabilecek şekilde mevcut olmaları ihtimalinden daha yüksek olduğunu biliyoruz. Veriler, bütün dünyada bulunabilecek sunucular üzerinde dağıtık bir şekilde kaydedil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Bilişim suçları ile etkin şekilde mücadele eden bir kişi, buna rağmen bu kanıtları toplamaya çalışacaktır. Karşılıklı Hukuki Yardımlaşma sözleşmelerinden yararlanabilir, kendi İrtibat Sorumlusunu, Avrupa Adli Ağını, 24/7 irtibat görevlilerini (Avrupa Konseyi Budapeşte Bilişim Suçları Sözleşmesi), vs. kullanabil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Hakime kanıtların nereden geldiğini ve ülke dışında toplanmış olmaları halinde bunun doğru ve hukuka uygun bir şekilde yapılmış olduğunun açıklanabilmesi önem taşıyacaktır. </a:t>
            </a:r>
            <a:r>
              <a:rPr b="1" lang="tr-TR" sz="500" spc="-1" strike="noStrike">
                <a:solidFill>
                  <a:srgbClr val="1f497d"/>
                </a:solidFill>
                <a:latin typeface="Calibri"/>
              </a:rPr>
              <a:t>Kanıtların bütünlüğü ülke dışında da korunmuş mudur</a:t>
            </a:r>
            <a:r>
              <a:rPr b="1" lang="en-US" sz="500" spc="-1" strike="noStrike">
                <a:solidFill>
                  <a:srgbClr val="1f497d"/>
                </a:solidFill>
                <a:latin typeface="Calibri"/>
              </a:rPr>
              <a:t>…?</a:t>
            </a:r>
            <a:r>
              <a:rPr b="0" lang="en-US" sz="500" spc="-1" strike="noStrike">
                <a:solidFill>
                  <a:srgbClr val="1f497d"/>
                </a:solidFill>
                <a:latin typeface="Calibri"/>
              </a:rPr>
              <a: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Savunma, bütün bunlara itiraz edecekt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1f497d"/>
                </a:solidFill>
                <a:uFillTx/>
                <a:latin typeface="Calibri"/>
              </a:rPr>
              <a:t>Kaynağının ve gerçekliğinin kanıtlanması güçtür</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en-GB" sz="500" spc="-1" strike="noStrike" u="sng">
                <a:solidFill>
                  <a:srgbClr val="1f497d"/>
                </a:solidFill>
                <a:uFillTx/>
                <a:latin typeface="Calibri"/>
              </a:rPr>
              <a:t>Bütün işlemleri, talepleri ve adli bilimi tam olarak belgelendiri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ir dosyanın başarılı bir şekilde kapatılmasının bir sırrı varsa bu, soruşturma sırasında meydana gelmiş olan her şeyin tam olarak belgelendirilmesidir (saklayacak bir şey yoktu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ütün raporlarda her aşamanın belirtilmesini ve </a:t>
            </a:r>
            <a:r>
              <a:rPr b="1" lang="tr-TR" sz="500" spc="-1" strike="noStrike">
                <a:solidFill>
                  <a:srgbClr val="000000"/>
                </a:solidFill>
                <a:latin typeface="Calibri"/>
              </a:rPr>
              <a:t>soruşturma faaliyetlerinin mantığının kanıtlamasını </a:t>
            </a:r>
            <a:r>
              <a:rPr b="0" lang="tr-TR" sz="500" spc="-1" strike="noStrike">
                <a:solidFill>
                  <a:srgbClr val="000000"/>
                </a:solidFill>
                <a:latin typeface="Calibri"/>
              </a:rPr>
              <a:t>sağlayın.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nun yapılması halinde AİHS’nin 6. maddesine tam olarak uymuş oluru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Coğrafi sınırı yoktur</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en-US" sz="500" spc="-1" strike="noStrike" u="sng">
                <a:solidFill>
                  <a:srgbClr val="000000"/>
                </a:solidFill>
                <a:uFillTx/>
                <a:latin typeface="Calibri"/>
              </a:rPr>
              <a:t>Sınır ötesi işbirliği kurallarına göre hareket edi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endi başınıza yapabileceklerinizi yapmak için çaba gösterin. Ancak sınır ötesi işbirliğinin imkanlarını kullanın. Yapılan her işlemin tam olarak belgelendirilmesinin gerektiğini tekrar belirtmeye gerek yoktu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Ülke dışında toplanmış olan kanıtların kabul edilebilirliği, çetin bir adli meseled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azı ülkeler, başka bir ülke tarafından kanıt toplandığında diğer ülkenin kendi soruşturmalarını nasıl yürüttüğü konusunda hiçbir soru yöneltilemeyecek olması nedeniyle bu kanıtlara dayanarak hareket edebilecekleri görüşündedir (güvene dayalı olarak). Diğer ülkeler ise yabancı kanıtlara itiraz edilmesine ve kanıtların toplanma şeklinin kendi kuralları ile karşılaştırılmasına izin vermektedir. Bunun farkında olmanız ve hazır olmanız gerekir. Ülke dışında toplanmış olan dijital kanıtların bütünlüğünün ve hukuka uygunluğunun sağlanmasına daha sonra değineceği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p:txBody>
      </p:sp>
      <p:sp>
        <p:nvSpPr>
          <p:cNvPr id="4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1E895-CB62-491A-B662-AB67E6A04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B9BD3-7267-44CA-8A31-CFADBFB6F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71763-F638-49DD-AB01-FF26338B2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C6EE2-48CD-43C7-9B2E-DE9190CAB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D77AE-74ED-4033-B6D5-7ECD37A34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07ED5-699C-4757-B020-1E1E0EC2E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175B2-1DAA-40FD-9FD5-A3869BA3F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B15AD-2254-48CB-B59C-5DEC5F4C8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85D2C-8907-45A3-B00A-A19AE3EB4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BB732-A09A-448C-BD0E-CC65DF460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28E61-A302-4915-A513-B7F23219F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D107A-43A0-4623-B1C7-741447EA5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10E29-4E86-413F-B32E-B7153B41F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F7654-585F-44B7-AD95-480696FB6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8682C-0A61-4485-B777-2E4BB5C78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E64F7-4E0C-4EBD-B0DC-AE469FA75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630A4B-6426-4D90-8E1E-6E0C807F6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EA1B6-D8D7-4CFA-AE5A-A38D48521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09998-D392-4D0E-AD40-F1FCB9CAE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EB13B-9B02-407D-A144-3CBB4CCD7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E52D2-52CE-4C6A-889F-1B260D971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E2A57-F256-4C2B-A4DD-E5675C0CD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9A37A-694E-405D-A00E-403BAF4F0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667F5-A6AB-42D7-AE2D-A2E4AD8F9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DFF46-FD8B-44E1-8202-522D99D9F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75430B-0CE7-4F80-BE71-E0D7F033864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 Philippe Van Linthout &amp; Jan Kerkhof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585D8C-2D32-4F75-AB76-8C060C563B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5F81A-6FC2-4623-90CC-9A21D14EB1A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 Philippe Van Linthout &amp; Jan Kerkhofs</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47D21-E13D-4C58-8B8C-CA02E54538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898989"/>
                </a:solidFill>
                <a:latin typeface="Calibri"/>
              </a:rPr>
              <a:t>Kanıt sunma yöntemleri dahil olmak üzere mahkeme için bir dava dosyası hazırlanması konusunda sunum</a:t>
            </a:r>
            <a:endParaRPr b="0" lang="en-US" sz="3200" spc="-1" strike="noStrike">
              <a:solidFill>
                <a:srgbClr val="000000"/>
              </a:solidFill>
              <a:latin typeface="Calibri"/>
            </a:endParaRPr>
          </a:p>
        </p:txBody>
      </p:sp>
      <p:pic>
        <p:nvPicPr>
          <p:cNvPr id="91" name="Picture 3" descr="COE.png"/>
          <p:cNvPicPr/>
          <p:nvPr/>
        </p:nvPicPr>
        <p:blipFill>
          <a:blip r:embed="rId1"/>
          <a:stretch/>
        </p:blipFill>
        <p:spPr>
          <a:xfrm>
            <a:off x="1517760" y="552600"/>
            <a:ext cx="6108480" cy="11048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2828880" y="457200"/>
            <a:ext cx="3673440" cy="5977080"/>
            <a:chOff x="2828880" y="457200"/>
            <a:chExt cx="3673440" cy="5977080"/>
          </a:xfrm>
        </p:grpSpPr>
        <p:sp>
          <p:nvSpPr>
            <p:cNvPr id="243"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7" name="TextBox 48"/>
          <p:cNvSpPr/>
          <p:nvPr/>
        </p:nvSpPr>
        <p:spPr>
          <a:xfrm>
            <a:off x="3144960" y="2654280"/>
            <a:ext cx="3068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Mahkemede dijital kanıtların özellikleri</a:t>
            </a:r>
            <a:endParaRPr b="0" lang="en-US" sz="36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Mahkemede dijital kanıtların özellikleri</a:t>
            </a:r>
            <a:endParaRPr b="0" lang="en-US" sz="4000" spc="-1" strike="noStrike">
              <a:solidFill>
                <a:srgbClr val="000000"/>
              </a:solidFill>
              <a:latin typeface="Calibri"/>
            </a:endParaRPr>
          </a:p>
        </p:txBody>
      </p:sp>
      <p:sp>
        <p:nvSpPr>
          <p:cNvPr id="289" name=""/>
          <p:cNvSpPr txBox="1"/>
          <p:nvPr/>
        </p:nvSpPr>
        <p:spPr>
          <a:xfrm>
            <a:off x="457200" y="1292040"/>
            <a:ext cx="8229600" cy="4833720"/>
          </a:xfrm>
          <a:prstGeom prst="rect">
            <a:avLst/>
          </a:prstGeom>
          <a:noFill/>
          <a:ln w="0">
            <a:noFill/>
          </a:ln>
        </p:spPr>
        <p:txBody>
          <a:bodyPr anchor="t">
            <a:normAutofit fontScale="92000"/>
          </a:bodyPr>
          <a:p>
            <a:pPr marL="315360" indent="-31536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Hakimler, (henüz) buna alışık değildir</a:t>
            </a:r>
            <a:endParaRPr b="0" lang="en-US" sz="2800" spc="-1" strike="noStrike">
              <a:solidFill>
                <a:srgbClr val="000000"/>
              </a:solidFill>
              <a:latin typeface="Calibri"/>
            </a:endParaRPr>
          </a:p>
          <a:p>
            <a:pPr marL="315360" indent="-31536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Dijital kanıtların istikrarsız özelliğinin, </a:t>
            </a:r>
            <a:r>
              <a:rPr b="1" lang="tr-TR" sz="2800" spc="-1" strike="noStrike">
                <a:solidFill>
                  <a:srgbClr val="1f497d"/>
                </a:solidFill>
                <a:latin typeface="Calibri"/>
              </a:rPr>
              <a:t>yeni özelliklere </a:t>
            </a:r>
            <a:r>
              <a:rPr b="1" lang="tr-TR" sz="2800" spc="-1" strike="noStrike">
                <a:solidFill>
                  <a:srgbClr val="000000"/>
                </a:solidFill>
                <a:latin typeface="Calibri"/>
              </a:rPr>
              <a:t>adönüştürülmesi gerekir </a:t>
            </a:r>
            <a:endParaRPr b="0" lang="en-US" sz="2800" spc="-1" strike="noStrike">
              <a:solidFill>
                <a:srgbClr val="000000"/>
              </a:solidFill>
              <a:latin typeface="Calibri"/>
            </a:endParaRPr>
          </a:p>
          <a:p>
            <a:pPr marL="315360" indent="-31536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Üçlü A</a:t>
            </a:r>
            <a:r>
              <a:rPr b="1" lang="tr-TR" sz="2800" spc="-1" strike="noStrike">
                <a:solidFill>
                  <a:srgbClr val="000000"/>
                </a:solidFill>
                <a:latin typeface="Calibri"/>
              </a:rPr>
              <a:t> kalitesi zorunludur:</a:t>
            </a:r>
            <a:endParaRPr b="0" lang="en-US" sz="2800" spc="-1" strike="noStrike">
              <a:solidFill>
                <a:srgbClr val="000000"/>
              </a:solidFill>
              <a:latin typeface="Calibri"/>
            </a:endParaRPr>
          </a:p>
          <a:p>
            <a:pPr lvl="1" marL="683280" indent="-2628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A</a:t>
            </a:r>
            <a:r>
              <a:rPr b="1" lang="tr-TR" sz="2400" spc="-1" strike="noStrike">
                <a:solidFill>
                  <a:srgbClr val="000000"/>
                </a:solidFill>
                <a:latin typeface="Calibri"/>
              </a:rPr>
              <a:t>dmissible (kabul edilebilir)</a:t>
            </a:r>
            <a:endParaRPr b="0" lang="en-US" sz="2400" spc="-1" strike="noStrike">
              <a:solidFill>
                <a:srgbClr val="000000"/>
              </a:solidFill>
              <a:latin typeface="Calibri"/>
            </a:endParaRPr>
          </a:p>
          <a:p>
            <a:pPr lvl="1" marL="683280" indent="-2628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A</a:t>
            </a:r>
            <a:r>
              <a:rPr b="1" lang="tr-TR" sz="2400" spc="-1" strike="noStrike">
                <a:solidFill>
                  <a:srgbClr val="000000"/>
                </a:solidFill>
                <a:latin typeface="Calibri"/>
              </a:rPr>
              <a:t>uthentic (gerçek)</a:t>
            </a:r>
            <a:endParaRPr b="0" lang="en-US" sz="2400" spc="-1" strike="noStrike">
              <a:solidFill>
                <a:srgbClr val="000000"/>
              </a:solidFill>
              <a:latin typeface="Calibri"/>
            </a:endParaRPr>
          </a:p>
          <a:p>
            <a:pPr lvl="1" marL="683280" indent="-2628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A</a:t>
            </a:r>
            <a:r>
              <a:rPr b="1" lang="tr-TR" sz="2400" spc="-1" strike="noStrike">
                <a:solidFill>
                  <a:srgbClr val="000000"/>
                </a:solidFill>
                <a:latin typeface="Calibri"/>
              </a:rPr>
              <a:t>ccurate  (Doğru) (ve tam)</a:t>
            </a:r>
            <a:endParaRPr b="0" lang="en-US" sz="2400" spc="-1" strike="noStrike">
              <a:solidFill>
                <a:srgbClr val="000000"/>
              </a:solidFill>
              <a:latin typeface="Calibri"/>
            </a:endParaRPr>
          </a:p>
          <a:p>
            <a:pPr marL="315360" indent="-31536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Dijital kanıtların </a:t>
            </a:r>
            <a:r>
              <a:rPr b="1" lang="tr-TR" sz="2800" spc="-1" strike="noStrike">
                <a:solidFill>
                  <a:srgbClr val="1f497d"/>
                </a:solidFill>
                <a:latin typeface="Calibri"/>
              </a:rPr>
              <a:t>ikna edici </a:t>
            </a:r>
            <a:r>
              <a:rPr b="1" lang="tr-TR" sz="2800" spc="-1" strike="noStrike">
                <a:solidFill>
                  <a:srgbClr val="000000"/>
                </a:solidFill>
                <a:latin typeface="Calibri"/>
              </a:rPr>
              <a:t>olması gerekir</a:t>
            </a:r>
            <a:endParaRPr b="0" lang="en-US" sz="2800" spc="-1" strike="noStrike">
              <a:solidFill>
                <a:srgbClr val="000000"/>
              </a:solidFill>
              <a:latin typeface="Calibri"/>
            </a:endParaRPr>
          </a:p>
        </p:txBody>
      </p:sp>
      <p:sp>
        <p:nvSpPr>
          <p:cNvPr id="290" name="AutoShape 5"/>
          <p:cNvSpPr/>
          <p:nvPr/>
        </p:nvSpPr>
        <p:spPr>
          <a:xfrm>
            <a:off x="268200" y="4200480"/>
            <a:ext cx="660600" cy="1001880"/>
          </a:xfrm>
          <a:custGeom>
            <a:avLst/>
            <a:gdLst>
              <a:gd name="textAreaLeft" fmla="*/ 88200 w 660600"/>
              <a:gd name="textAreaRight" fmla="*/ 572400 w 660600"/>
              <a:gd name="textAreaTop" fmla="*/ 175320 h 1001880"/>
              <a:gd name="textAreaBottom" fmla="*/ 726480 h 1001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AutoShape 6"/>
          <p:cNvSpPr/>
          <p:nvPr/>
        </p:nvSpPr>
        <p:spPr>
          <a:xfrm rot="16006200">
            <a:off x="4957200" y="4208400"/>
            <a:ext cx="812880" cy="720720"/>
          </a:xfrm>
          <a:custGeom>
            <a:avLst/>
            <a:gdLst>
              <a:gd name="textAreaLeft" fmla="*/ 142200 w 812880"/>
              <a:gd name="textAreaRight" fmla="*/ 589320 w 812880"/>
              <a:gd name="textAreaTop" fmla="*/ 96480 h 720720"/>
              <a:gd name="textAreaBottom" fmla="*/ 624240 h 720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Dijital verilerin doğrulanması</a:t>
            </a:r>
            <a:endParaRPr b="0" lang="en-US" sz="4000" spc="-1" strike="noStrike">
              <a:solidFill>
                <a:srgbClr val="000000"/>
              </a:solidFill>
              <a:latin typeface="Calibri"/>
            </a:endParaRPr>
          </a:p>
        </p:txBody>
      </p:sp>
      <p:sp>
        <p:nvSpPr>
          <p:cNvPr id="293" name=""/>
          <p:cNvSpPr txBox="1"/>
          <p:nvPr/>
        </p:nvSpPr>
        <p:spPr>
          <a:xfrm>
            <a:off x="457200" y="1003320"/>
            <a:ext cx="8229600" cy="5818320"/>
          </a:xfrm>
          <a:prstGeom prst="rect">
            <a:avLst/>
          </a:prstGeom>
          <a:noFill/>
          <a:ln w="0">
            <a:noFill/>
          </a:ln>
        </p:spPr>
        <p:txBody>
          <a:bodyPr anchor="t">
            <a:normAutofit fontScale="99000"/>
          </a:bodyPr>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Dijital verileri sınıflandırın ve yapılandırın (üç grup halinde) :</a:t>
            </a:r>
            <a:endParaRPr b="0" lang="en-US" sz="24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Bir veya daha fazla kişi tarafından yazılmış içeriği kapsayan faaliyetlerin kayıtları (örneğin </a:t>
            </a:r>
            <a:r>
              <a:rPr b="0" lang="tr-TR" sz="1800" spc="-1" strike="noStrike">
                <a:solidFill>
                  <a:srgbClr val="fc2610"/>
                </a:solidFill>
                <a:latin typeface="Calibri"/>
              </a:rPr>
              <a:t>e-mailler</a:t>
            </a:r>
            <a:r>
              <a:rPr b="0" lang="tr-TR" sz="1800" spc="-1" strike="noStrike">
                <a:solidFill>
                  <a:srgbClr val="000000"/>
                </a:solidFill>
                <a:latin typeface="Calibri"/>
              </a:rPr>
              <a:t>, word dosyaları, anında mesajlar)</a:t>
            </a:r>
            <a:endParaRPr b="0" lang="en-US" sz="1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Bir kişinin herhangi bir katkı sağlamadığı bilgisayar tarafından oluşturulmuş kayıtlar (örneğin veri günlükleri, </a:t>
            </a:r>
            <a:r>
              <a:rPr b="0" lang="tr-TR" sz="1800" spc="-1" strike="noStrike">
                <a:solidFill>
                  <a:srgbClr val="fc2610"/>
                </a:solidFill>
                <a:latin typeface="Calibri"/>
              </a:rPr>
              <a:t>ATM işlemleri</a:t>
            </a:r>
            <a:r>
              <a:rPr b="0" lang="tr-TR" sz="1800" spc="-1" strike="noStrike">
                <a:solidFill>
                  <a:srgbClr val="000000"/>
                </a:solidFill>
                <a:latin typeface="Calibri"/>
              </a:rPr>
              <a:t>, telefon bağlantıları)</a:t>
            </a:r>
            <a:endParaRPr b="0" lang="en-US" sz="1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İnsan katkıları ve bir bilgisayar tarafından yapılan ve kaydedilen hesaplamaların bir karışımını içeren kayıtlar</a:t>
            </a:r>
            <a:r>
              <a:rPr b="0" lang="tr-TR" sz="2000" spc="-1" strike="noStrike">
                <a:solidFill>
                  <a:srgbClr val="000000"/>
                </a:solidFill>
                <a:latin typeface="Calibri"/>
              </a:rPr>
              <a:t> </a:t>
            </a:r>
            <a:r>
              <a:rPr b="0" lang="tr-TR" sz="1800" spc="-1" strike="noStrike">
                <a:solidFill>
                  <a:srgbClr val="000000"/>
                </a:solidFill>
                <a:latin typeface="Calibri"/>
              </a:rPr>
              <a:t>(örneğin bir mali elektronik çizelge)</a:t>
            </a:r>
            <a:endParaRPr b="0" lang="en-US" sz="1800" spc="-1" strike="noStrike">
              <a:solidFill>
                <a:srgbClr val="000000"/>
              </a:solidFill>
              <a:latin typeface="Calibri"/>
            </a:endParaRPr>
          </a:p>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Dijital verilerin gerçekliğini belirlemek için bir mahkemenin yararlanabileceği kanıtların özelliği, her olayda farklılık gösterecektir </a:t>
            </a:r>
            <a:r>
              <a:rPr b="0" lang="tr-TR" sz="2400" spc="-1" strike="noStrike">
                <a:solidFill>
                  <a:srgbClr val="000000"/>
                </a:solidFill>
                <a:latin typeface="Calibri"/>
              </a:rPr>
              <a:t>(</a:t>
            </a:r>
            <a:r>
              <a:rPr b="0" lang="tr-TR" sz="2400" spc="-1" strike="noStrike">
                <a:solidFill>
                  <a:srgbClr val="000000"/>
                </a:solidFill>
                <a:latin typeface="Wingdings"/>
                <a:ea typeface="Wingdings"/>
              </a:rPr>
              <a:t></a:t>
            </a:r>
            <a:r>
              <a:rPr b="0" lang="tr-TR" sz="2400" spc="-1" strike="noStrike">
                <a:solidFill>
                  <a:srgbClr val="000000"/>
                </a:solidFill>
                <a:latin typeface="Calibri"/>
              </a:rPr>
              <a:t> </a:t>
            </a:r>
            <a:r>
              <a:rPr b="0" lang="tr-TR" sz="2400" spc="-1" strike="noStrike">
                <a:solidFill>
                  <a:srgbClr val="fc2610"/>
                </a:solidFill>
                <a:latin typeface="Calibri"/>
              </a:rPr>
              <a:t>dijital kanıt bilirkişilerinin </a:t>
            </a:r>
            <a:r>
              <a:rPr b="0" lang="tr-TR" sz="2400" spc="-1" strike="noStrike">
                <a:solidFill>
                  <a:srgbClr val="000000"/>
                </a:solidFill>
                <a:latin typeface="Calibri"/>
              </a:rPr>
              <a:t>önemli rolü )</a:t>
            </a:r>
            <a:endParaRPr b="0" lang="en-US" sz="24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Gerçekliğin kanıtlanması</a:t>
            </a:r>
            <a:endParaRPr b="0" lang="en-US" sz="4000" spc="-1" strike="noStrike">
              <a:solidFill>
                <a:srgbClr val="000000"/>
              </a:solidFill>
              <a:latin typeface="Calibri"/>
            </a:endParaRPr>
          </a:p>
        </p:txBody>
      </p:sp>
      <p:sp>
        <p:nvSpPr>
          <p:cNvPr id="295" name=""/>
          <p:cNvSpPr txBox="1"/>
          <p:nvPr/>
        </p:nvSpPr>
        <p:spPr>
          <a:xfrm>
            <a:off x="457200" y="1292400"/>
            <a:ext cx="8686800" cy="5162400"/>
          </a:xfrm>
          <a:prstGeom prst="rect">
            <a:avLst/>
          </a:prstGeom>
          <a:noFill/>
          <a:ln w="0">
            <a:noFill/>
          </a:ln>
        </p:spPr>
        <p:txBody>
          <a:bodyPr anchor="t">
            <a:normAutofit/>
          </a:bodyPr>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Verilerin </a:t>
            </a:r>
            <a:r>
              <a:rPr b="1" lang="tr-TR" sz="2800" spc="-1" strike="noStrike">
                <a:solidFill>
                  <a:srgbClr val="1f497d"/>
                </a:solidFill>
                <a:latin typeface="Calibri"/>
              </a:rPr>
              <a:t>gerçekliği</a:t>
            </a:r>
            <a:r>
              <a:rPr b="1" lang="tr-TR" sz="2800" spc="-1" strike="noStrike">
                <a:solidFill>
                  <a:srgbClr val="000000"/>
                </a:solidFill>
                <a:latin typeface="Calibri"/>
              </a:rPr>
              <a:t> konusundaki kanıtların hazırlanması ve sunulması sorumluluğu, kanıtların </a:t>
            </a:r>
            <a:r>
              <a:rPr b="1" lang="tr-TR" sz="2800" spc="-1" strike="noStrike">
                <a:solidFill>
                  <a:srgbClr val="1f497d"/>
                </a:solidFill>
                <a:latin typeface="Calibri"/>
              </a:rPr>
              <a:t>kabul edilmesini </a:t>
            </a:r>
            <a:r>
              <a:rPr b="1" lang="tr-TR" sz="2800" spc="-1" strike="noStrike">
                <a:solidFill>
                  <a:srgbClr val="000000"/>
                </a:solidFill>
                <a:latin typeface="Calibri"/>
              </a:rPr>
              <a:t>isteyen tarafa aittir.  </a:t>
            </a:r>
            <a:endParaRPr b="0" lang="en-US" sz="2800" spc="-1" strike="noStrike">
              <a:solidFill>
                <a:srgbClr val="000000"/>
              </a:solidFill>
              <a:latin typeface="Calibri"/>
            </a:endParaRPr>
          </a:p>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Verilerin nasıl yönetilmiş olduğunun geçmişini ortaya koyun. Buna, aşağıdakiler dahildir: </a:t>
            </a:r>
            <a:endParaRPr b="0" lang="en-US" sz="28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Verilerin bir </a:t>
            </a:r>
            <a:r>
              <a:rPr b="1" lang="tr-TR" sz="2400" spc="-1" strike="noStrike">
                <a:solidFill>
                  <a:srgbClr val="1f497d"/>
                </a:solidFill>
                <a:latin typeface="Calibri"/>
              </a:rPr>
              <a:t>muhafaza zincirine </a:t>
            </a:r>
            <a:r>
              <a:rPr b="0" lang="tr-TR" sz="2400" spc="-1" strike="noStrike">
                <a:solidFill>
                  <a:srgbClr val="000000"/>
                </a:solidFill>
                <a:latin typeface="Calibri"/>
              </a:rPr>
              <a:t>tabi tutulduğu </a:t>
            </a:r>
            <a:endParaRPr b="0" lang="en-US" sz="24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Verilerde oluşturuldukları veya depoya eklendikleri andan talep edildikleri ana kadar </a:t>
            </a:r>
            <a:r>
              <a:rPr b="1" lang="tr-TR" sz="2400" spc="-1" strike="noStrike">
                <a:solidFill>
                  <a:srgbClr val="1f497d"/>
                </a:solidFill>
                <a:latin typeface="Calibri"/>
              </a:rPr>
              <a:t>izinsiz değişiklik yapılmadığı. </a:t>
            </a:r>
            <a:r>
              <a:rPr b="0" lang="tr-TR" sz="2400" spc="-1" strike="noStrike">
                <a:solidFill>
                  <a:srgbClr val="000000"/>
                </a:solidFill>
                <a:latin typeface="Calibri"/>
              </a:rPr>
              <a:t>Bu, aşağıda belirtilen anlamı taşımaktadır: </a:t>
            </a:r>
            <a:endParaRPr b="0" lang="en-US" sz="2400" spc="-1" strike="noStrike">
              <a:solidFill>
                <a:srgbClr val="000000"/>
              </a:solidFill>
              <a:latin typeface="Calibri"/>
            </a:endParaRPr>
          </a:p>
          <a:p>
            <a:pPr lvl="2" marL="1143000" indent="-228600">
              <a:spcBef>
                <a:spcPts val="300"/>
              </a:spcBef>
              <a:spcAft>
                <a:spcPts val="300"/>
              </a:spcAft>
              <a:buClr>
                <a:srgbClr val="1f497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2400" spc="-1" strike="noStrike">
                <a:solidFill>
                  <a:srgbClr val="1f497d"/>
                </a:solidFill>
                <a:latin typeface="Calibri"/>
              </a:rPr>
              <a:t>Bütünlüğü</a:t>
            </a:r>
            <a:r>
              <a:rPr b="0" lang="tr-TR" sz="2400" spc="-1" strike="noStrike">
                <a:solidFill>
                  <a:srgbClr val="000000"/>
                </a:solidFill>
                <a:latin typeface="Calibri"/>
              </a:rPr>
              <a:t> kanıtlayın</a:t>
            </a:r>
            <a:endParaRPr b="0" lang="en-US" sz="2400" spc="-1" strike="noStrike">
              <a:solidFill>
                <a:srgbClr val="000000"/>
              </a:solidFill>
              <a:latin typeface="Calibri"/>
            </a:endParaRPr>
          </a:p>
          <a:p>
            <a:pPr lvl="2" marL="1143000" indent="-228600">
              <a:spcBef>
                <a:spcPts val="300"/>
              </a:spcBef>
              <a:spcAft>
                <a:spcPts val="300"/>
              </a:spcAft>
              <a:buClr>
                <a:srgbClr val="1f497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2400" spc="-1" strike="noStrike">
                <a:solidFill>
                  <a:srgbClr val="1f497d"/>
                </a:solidFill>
                <a:latin typeface="Calibri"/>
              </a:rPr>
              <a:t>Güvenilirliği </a:t>
            </a:r>
            <a:r>
              <a:rPr b="0" lang="tr-TR" sz="2400" spc="-1" strike="noStrike">
                <a:solidFill>
                  <a:srgbClr val="000000"/>
                </a:solidFill>
                <a:latin typeface="Calibri"/>
              </a:rPr>
              <a:t>kanıtlayın</a:t>
            </a:r>
            <a:endParaRPr b="0" lang="en-US" sz="24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8520" y="274320"/>
            <a:ext cx="88790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800" spc="-1" strike="noStrike">
                <a:solidFill>
                  <a:srgbClr val="122031"/>
                </a:solidFill>
                <a:latin typeface="Calibri"/>
              </a:rPr>
              <a:t>Ülke dışından gelen kanıtlar ve yargı yetkisi ile ilgili meseleleri halledin</a:t>
            </a:r>
            <a:endParaRPr b="0" lang="en-US" sz="3800" spc="-1" strike="noStrike">
              <a:solidFill>
                <a:srgbClr val="000000"/>
              </a:solidFill>
              <a:latin typeface="Calibri"/>
            </a:endParaRPr>
          </a:p>
        </p:txBody>
      </p:sp>
      <p:sp>
        <p:nvSpPr>
          <p:cNvPr id="297" name=""/>
          <p:cNvSpPr txBox="1"/>
          <p:nvPr/>
        </p:nvSpPr>
        <p:spPr>
          <a:xfrm>
            <a:off x="456840" y="1379160"/>
            <a:ext cx="8550360" cy="5451480"/>
          </a:xfrm>
          <a:prstGeom prst="rect">
            <a:avLst/>
          </a:prstGeom>
          <a:noFill/>
          <a:ln w="0">
            <a:noFill/>
          </a:ln>
        </p:spPr>
        <p:txBody>
          <a:bodyPr anchor="t">
            <a:normAutofit fontScale="99000"/>
          </a:bodyPr>
          <a:p>
            <a:pPr marL="339480" indent="-3394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Ülke dışından gelen kanıtların bütünlüğü, kabul edilebilirliği ve meşruluğunu sağlayın (hangi kurallar geçerlidir?)</a:t>
            </a:r>
            <a:endParaRPr b="0" lang="en-US" sz="2800" spc="-1" strike="noStrike">
              <a:solidFill>
                <a:srgbClr val="000000"/>
              </a:solidFill>
              <a:latin typeface="Calibri"/>
            </a:endParaRPr>
          </a:p>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Hakime yargı yetkisi konusunu açıklayın</a:t>
            </a:r>
            <a:endParaRPr b="0" lang="en-US" sz="2800" spc="-1" strike="noStrike">
              <a:solidFill>
                <a:srgbClr val="000000"/>
              </a:solidFill>
              <a:latin typeface="Calibri"/>
            </a:endParaRPr>
          </a:p>
          <a:p>
            <a:pPr marL="339480" indent="-3394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Kanıtların hangi ülkeye ait olduğunu bilin:</a:t>
            </a:r>
            <a:endParaRPr b="0" lang="en-US" sz="2800" spc="-1" strike="noStrike">
              <a:solidFill>
                <a:srgbClr val="000000"/>
              </a:solidFill>
              <a:latin typeface="Calibri"/>
            </a:endParaRPr>
          </a:p>
          <a:p>
            <a:pPr lvl="1" marL="735480" indent="-28296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1f497d"/>
                </a:solidFill>
                <a:latin typeface="Calibri"/>
              </a:rPr>
              <a:t>Siber uzayda ülkeye ilişkin ve ülke dışı olmak ne anlam taşımaktadır?</a:t>
            </a:r>
            <a:endParaRPr b="0" lang="en-US" sz="24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Kanıtlar nerede toplanmıştır ve biliyor muyuz?</a:t>
            </a:r>
            <a:endParaRPr b="0" lang="en-US" sz="2400" spc="-1" strike="noStrike">
              <a:solidFill>
                <a:srgbClr val="000000"/>
              </a:solidFill>
              <a:latin typeface="Calibri"/>
            </a:endParaRPr>
          </a:p>
          <a:p>
            <a:pPr lvl="1" marL="735480" indent="-28296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1f497d"/>
                </a:solidFill>
                <a:latin typeface="Calibri"/>
              </a:rPr>
              <a:t>Gerektiğinde MLA ile ülke dışından kanıt toplayın</a:t>
            </a:r>
            <a:endParaRPr b="0" lang="en-US" sz="24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2828880" y="457200"/>
            <a:ext cx="3673440" cy="5977080"/>
            <a:chOff x="2828880" y="457200"/>
            <a:chExt cx="3673440" cy="5977080"/>
          </a:xfrm>
        </p:grpSpPr>
        <p:sp>
          <p:nvSpPr>
            <p:cNvPr id="299"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2"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0"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3" name="TextBox 48"/>
          <p:cNvSpPr/>
          <p:nvPr/>
        </p:nvSpPr>
        <p:spPr>
          <a:xfrm>
            <a:off x="3144960" y="23004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Dijital kanıtların sunulması</a:t>
            </a:r>
            <a:endParaRPr b="0" lang="en-US" sz="36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Genel hususlar</a:t>
            </a:r>
            <a:endParaRPr b="0" lang="en-US" sz="4400" spc="-1" strike="noStrike">
              <a:solidFill>
                <a:srgbClr val="000000"/>
              </a:solidFill>
              <a:latin typeface="Calibri"/>
            </a:endParaRPr>
          </a:p>
        </p:txBody>
      </p:sp>
      <p:sp>
        <p:nvSpPr>
          <p:cNvPr id="345" name=""/>
          <p:cNvSpPr txBox="1"/>
          <p:nvPr/>
        </p:nvSpPr>
        <p:spPr>
          <a:xfrm>
            <a:off x="457200" y="1145880"/>
            <a:ext cx="8686800" cy="545148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Savunma, kanıtlara itiraz edecektir:</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anıtların </a:t>
            </a:r>
            <a:r>
              <a:rPr b="1" lang="tr-TR" sz="2000" spc="-1" strike="noStrike">
                <a:solidFill>
                  <a:srgbClr val="1f497d"/>
                </a:solidFill>
                <a:latin typeface="Calibri"/>
              </a:rPr>
              <a:t>alternatif açıklamaları</a:t>
            </a:r>
            <a:r>
              <a:rPr b="0" lang="tr-TR" sz="2000" spc="-1" strike="noStrike">
                <a:solidFill>
                  <a:srgbClr val="000000"/>
                </a:solidFill>
                <a:latin typeface="Calibri"/>
              </a:rPr>
              <a:t> hakkında bilgi sahibi olun</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Savunmanın gündeme getirebileceği </a:t>
            </a:r>
            <a:r>
              <a:rPr b="1" lang="tr-TR" sz="2000" spc="-1" strike="noStrike">
                <a:solidFill>
                  <a:srgbClr val="1f497d"/>
                </a:solidFill>
                <a:latin typeface="Calibri"/>
              </a:rPr>
              <a:t>teknik konular</a:t>
            </a:r>
            <a:r>
              <a:rPr b="0" lang="tr-TR" sz="2000" spc="-1" strike="noStrike">
                <a:solidFill>
                  <a:srgbClr val="000000"/>
                </a:solidFill>
                <a:latin typeface="Calibri"/>
              </a:rPr>
              <a:t> hakkında bilgi sahibi olun.</a:t>
            </a:r>
            <a:endParaRPr b="0" lang="en-US" sz="20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1800" spc="-1" strike="noStrike">
                <a:solidFill>
                  <a:srgbClr val="000000"/>
                </a:solidFill>
                <a:latin typeface="Calibri"/>
              </a:rPr>
              <a:t>IP belirlemenin güvenilirliği (IPv4-IPv6, Carrier Grade NAT, …)</a:t>
            </a:r>
            <a:endParaRPr b="0" lang="en-US" sz="18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1800" spc="-1" strike="noStrike">
                <a:solidFill>
                  <a:srgbClr val="000000"/>
                </a:solidFill>
                <a:latin typeface="Calibri"/>
              </a:rPr>
              <a:t>Komplo teorisi, korunmamış kablosuz ağlar, … </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Kanıtlara itiraz edilmesinin mümkün olmaması halinde bunları toplamış olan kişiye ve toplanma şekline itiraz edilecektir:</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Uzman-polis</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Dijital adli bilim uzmanı</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AİHS Madde 6</a:t>
            </a:r>
            <a:r>
              <a:rPr b="1" lang="tr-TR" sz="2400" spc="-1" strike="noStrike">
                <a:solidFill>
                  <a:srgbClr val="000000"/>
                </a:solidFill>
                <a:latin typeface="Calibri"/>
              </a:rPr>
              <a:t> – Adil yargılanma hakkı</a:t>
            </a:r>
            <a:endParaRPr b="0" lang="en-US" sz="2400" spc="-1" strike="noStrike">
              <a:solidFill>
                <a:srgbClr val="000000"/>
              </a:solidFill>
              <a:latin typeface="Calibri"/>
            </a:endParaRPr>
          </a:p>
        </p:txBody>
      </p:sp>
      <p:sp>
        <p:nvSpPr>
          <p:cNvPr id="346" name="AutoShape 11">
            <a:hlinkClick r:id="rId1" action="ppaction://hlinksldjump"/>
          </p:cNvPr>
          <p:cNvSpPr/>
          <p:nvPr/>
        </p:nvSpPr>
        <p:spPr>
          <a:xfrm>
            <a:off x="6254640" y="3484440"/>
            <a:ext cx="576360" cy="648000"/>
          </a:xfrm>
          <a:custGeom>
            <a:avLst/>
            <a:gdLst>
              <a:gd name="textAreaLeft" fmla="*/ 37080 w 576360"/>
              <a:gd name="textAreaRight" fmla="*/ 539280 w 576360"/>
              <a:gd name="textAreaTop" fmla="*/ 37080 h 648000"/>
              <a:gd name="textAreaBottom" fmla="*/ 610920 h 648000"/>
            </a:gdLst>
            <a:ahLst/>
            <a:rect l="textAreaLeft" t="textAreaTop" r="textAreaRight" b="textAreaBottom"/>
            <a:pathLst>
              <a:path w="21600" h="24283">
                <a:moveTo>
                  <a:pt x="0" y="0"/>
                </a:moveTo>
                <a:lnTo>
                  <a:pt x="21600" y="0"/>
                </a:lnTo>
                <a:lnTo>
                  <a:pt x="21600" y="24283"/>
                </a:lnTo>
                <a:lnTo>
                  <a:pt x="0" y="24283"/>
                </a:lnTo>
                <a:close/>
              </a:path>
              <a:path fill="lightenLess" w="21600" h="24283">
                <a:moveTo>
                  <a:pt x="0" y="0"/>
                </a:moveTo>
                <a:lnTo>
                  <a:pt x="21600" y="0"/>
                </a:lnTo>
                <a:lnTo>
                  <a:pt x="20200" y="1400"/>
                </a:lnTo>
                <a:lnTo>
                  <a:pt x="1400" y="1400"/>
                </a:lnTo>
                <a:close/>
              </a:path>
              <a:path fill="darken" w="21600" h="24283">
                <a:moveTo>
                  <a:pt x="21600" y="0"/>
                </a:moveTo>
                <a:lnTo>
                  <a:pt x="21600" y="24283"/>
                </a:lnTo>
                <a:lnTo>
                  <a:pt x="20200" y="22883"/>
                </a:lnTo>
                <a:lnTo>
                  <a:pt x="20200" y="1400"/>
                </a:lnTo>
                <a:close/>
              </a:path>
              <a:path fill="darkenLess" w="21600" h="24283">
                <a:moveTo>
                  <a:pt x="21600" y="24283"/>
                </a:moveTo>
                <a:lnTo>
                  <a:pt x="0" y="24283"/>
                </a:lnTo>
                <a:lnTo>
                  <a:pt x="1400" y="22883"/>
                </a:lnTo>
                <a:lnTo>
                  <a:pt x="20200" y="22883"/>
                </a:lnTo>
                <a:close/>
              </a:path>
              <a:path fill="lighten" w="21600" h="24283">
                <a:moveTo>
                  <a:pt x="0" y="24283"/>
                </a:moveTo>
                <a:lnTo>
                  <a:pt x="0" y="0"/>
                </a:lnTo>
                <a:lnTo>
                  <a:pt x="1400" y="1400"/>
                </a:lnTo>
                <a:lnTo>
                  <a:pt x="1400" y="22883"/>
                </a:lnTo>
                <a:close/>
              </a:path>
              <a:path fill="darken" w="21600" h="24283">
                <a:moveTo>
                  <a:pt x="10800" y="5135"/>
                </a:moveTo>
                <a:arcTo wR="7006" hR="7006" stAng="16200000" swAng="-5400000"/>
                <a:arcTo wR="7006" hR="7006" stAng="10800000" swAng="-5400000"/>
                <a:arcTo wR="7006" hR="7006" stAng="5400000" swAng="-5400000"/>
                <a:arcTo wR="7006" hR="7006" stAng="0" swAng="-5400000"/>
                <a:close/>
              </a:path>
              <a:path fill="lighten" w="21600" h="24283">
                <a:moveTo>
                  <a:pt x="10800" y="5509"/>
                </a:moveTo>
                <a:arcTo wR="1793" hR="1793" stAng="16200000" swAng="-5400000"/>
                <a:arcTo wR="1793" hR="1793" stAng="10800000" swAng="-5400000"/>
                <a:arcTo wR="1793" hR="1793" stAng="5400000" swAng="-5400000"/>
                <a:arcTo wR="1793" hR="1793" stAng="0" swAng="-5400000"/>
                <a:close/>
              </a:path>
              <a:path fill="lighten" w="21600" h="24283">
                <a:moveTo>
                  <a:pt x="8224" y="9565"/>
                </a:moveTo>
                <a:lnTo>
                  <a:pt x="12088" y="9565"/>
                </a:lnTo>
                <a:lnTo>
                  <a:pt x="12088" y="16563"/>
                </a:lnTo>
                <a:lnTo>
                  <a:pt x="13376" y="16563"/>
                </a:lnTo>
                <a:lnTo>
                  <a:pt x="13376" y="17486"/>
                </a:lnTo>
                <a:lnTo>
                  <a:pt x="8224" y="17486"/>
                </a:lnTo>
                <a:lnTo>
                  <a:pt x="8224" y="16563"/>
                </a:lnTo>
                <a:lnTo>
                  <a:pt x="9512" y="16563"/>
                </a:lnTo>
                <a:lnTo>
                  <a:pt x="9512" y="10470"/>
                </a:lnTo>
                <a:lnTo>
                  <a:pt x="8224" y="1047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Yaklaşım</a:t>
            </a:r>
            <a:endParaRPr b="0" lang="en-US" sz="4400" spc="-1" strike="noStrike">
              <a:solidFill>
                <a:srgbClr val="000000"/>
              </a:solidFill>
              <a:latin typeface="Calibri"/>
            </a:endParaRPr>
          </a:p>
        </p:txBody>
      </p:sp>
      <p:sp>
        <p:nvSpPr>
          <p:cNvPr id="348" name=""/>
          <p:cNvSpPr txBox="1"/>
          <p:nvPr/>
        </p:nvSpPr>
        <p:spPr>
          <a:xfrm>
            <a:off x="457200" y="1146240"/>
            <a:ext cx="8229600" cy="52387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Uzmanlaşma düzeyini dikkate alın:</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Polisler (onları bilirkişi olarak adlandırabilirsiniz)</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1f497d"/>
                </a:solidFill>
                <a:latin typeface="Calibri"/>
              </a:rPr>
              <a:t>Savcılar</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Hakimler (ve diğerleri)</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Seviye oluşturun: ilk olarak bilgi sahibi olmayan kişiler için internet ve daha sonra uzmanlar için internet</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Her aşamayı belgelendirin ve olayların mantığını gösterin</a:t>
            </a:r>
            <a:endParaRPr b="0" lang="en-US" sz="24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Tartışma başlatmayın – hakimin kafasını karıştırmayın</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Hızı ayarlayın</a:t>
            </a:r>
            <a:endParaRPr b="0" lang="en-US" sz="2400" spc="-1" strike="noStrike">
              <a:solidFill>
                <a:srgbClr val="000000"/>
              </a:solidFill>
              <a:latin typeface="Calibri"/>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Bilirkişi</a:t>
            </a:r>
            <a:endParaRPr b="0" lang="en-US" sz="4400" spc="-1" strike="noStrike">
              <a:solidFill>
                <a:srgbClr val="000000"/>
              </a:solidFill>
              <a:latin typeface="Calibri"/>
            </a:endParaRPr>
          </a:p>
        </p:txBody>
      </p:sp>
      <p:sp>
        <p:nvSpPr>
          <p:cNvPr id="350" name=""/>
          <p:cNvSpPr txBox="1"/>
          <p:nvPr/>
        </p:nvSpPr>
        <p:spPr>
          <a:xfrm>
            <a:off x="457200" y="1146240"/>
            <a:ext cx="8494560" cy="5238720"/>
          </a:xfrm>
          <a:prstGeom prst="rect">
            <a:avLst/>
          </a:prstGeom>
          <a:noFill/>
          <a:ln w="0">
            <a:noFill/>
          </a:ln>
        </p:spPr>
        <p:txBody>
          <a:bodyPr anchor="t">
            <a:normAutofit fontScale="98000"/>
          </a:bodyPr>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Uzmanlaşmış polis memurları  </a:t>
            </a:r>
            <a:r>
              <a:rPr b="0" lang="tr-TR" sz="2400" spc="-1" strike="noStrike">
                <a:solidFill>
                  <a:srgbClr val="000000"/>
                </a:solidFill>
                <a:latin typeface="Calibri"/>
              </a:rPr>
              <a:t>(Bilgisayar Suçları Birimi)</a:t>
            </a:r>
            <a:endParaRPr b="0" lang="en-US" sz="2400" spc="-1" strike="noStrike">
              <a:solidFill>
                <a:srgbClr val="000000"/>
              </a:solidFill>
              <a:latin typeface="Calibri"/>
            </a:endParaRPr>
          </a:p>
          <a:p>
            <a:pPr marL="335880" indent="-3358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Dijital adli bilim uzmanları. </a:t>
            </a:r>
            <a:r>
              <a:rPr b="1" lang="tr-TR" sz="2800" spc="-1" strike="noStrike">
                <a:solidFill>
                  <a:srgbClr val="000000"/>
                </a:solidFill>
                <a:latin typeface="Calibri"/>
              </a:rPr>
              <a:t>Bunlar, savcı veya hakim tarafından atanırlar ve aşağıdakileri sunarlar</a:t>
            </a:r>
            <a:r>
              <a:rPr b="0" lang="tr-TR" sz="2800" spc="-1" strike="noStrike">
                <a:solidFill>
                  <a:srgbClr val="000000"/>
                </a:solidFill>
                <a:latin typeface="Calibri"/>
              </a:rPr>
              <a:t>:</a:t>
            </a:r>
            <a:endParaRPr b="0" lang="en-US" sz="28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Uzman bilgiler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Uzman deneyimler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Soruşturma bilgiler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Bağlamsal bilg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Hukuki bilg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İletişim becerileri</a:t>
            </a:r>
            <a:endParaRPr b="0" lang="en-US" sz="2400" spc="-1" strike="noStrike">
              <a:solidFill>
                <a:srgbClr val="000000"/>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Bilirkişi</a:t>
            </a:r>
            <a:endParaRPr b="0" lang="en-US" sz="4400" spc="-1" strike="noStrike">
              <a:solidFill>
                <a:srgbClr val="000000"/>
              </a:solidFill>
              <a:latin typeface="Calibri"/>
            </a:endParaRPr>
          </a:p>
        </p:txBody>
      </p:sp>
      <p:sp>
        <p:nvSpPr>
          <p:cNvPr id="352" name=""/>
          <p:cNvSpPr txBox="1"/>
          <p:nvPr/>
        </p:nvSpPr>
        <p:spPr>
          <a:xfrm>
            <a:off x="457200" y="1419120"/>
            <a:ext cx="8494560" cy="4965840"/>
          </a:xfrm>
          <a:prstGeom prst="rect">
            <a:avLst/>
          </a:prstGeom>
          <a:noFill/>
          <a:ln w="0">
            <a:noFill/>
          </a:ln>
        </p:spPr>
        <p:txBody>
          <a:bodyPr anchor="t">
            <a:normAutofit fontScale="95000"/>
          </a:bodyPr>
          <a:p>
            <a:pPr marL="325800" indent="-325800">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100" spc="-1" strike="noStrike">
                <a:solidFill>
                  <a:srgbClr val="000000"/>
                </a:solidFill>
                <a:latin typeface="Calibri"/>
              </a:rPr>
              <a:t>Adli tıp bilirkişisinin verdiği </a:t>
            </a:r>
            <a:r>
              <a:rPr b="1" lang="tr-TR" sz="3100" spc="-1" strike="noStrike">
                <a:solidFill>
                  <a:srgbClr val="1f497d"/>
                </a:solidFill>
                <a:latin typeface="Calibri"/>
              </a:rPr>
              <a:t>kanıtların</a:t>
            </a:r>
            <a:r>
              <a:rPr b="1" lang="tr-TR" sz="3100" spc="-1" strike="noStrike">
                <a:solidFill>
                  <a:srgbClr val="000000"/>
                </a:solidFill>
                <a:latin typeface="Calibri"/>
              </a:rPr>
              <a:t> Mahkeme’de doğru bir şekilde değerlendirilmesini garanti etmek için aşağıdaki </a:t>
            </a:r>
            <a:r>
              <a:rPr b="1" lang="tr-TR" sz="3100" spc="-1" strike="noStrike">
                <a:solidFill>
                  <a:srgbClr val="1f497d"/>
                </a:solidFill>
                <a:latin typeface="Calibri"/>
              </a:rPr>
              <a:t>özelliklere </a:t>
            </a:r>
            <a:r>
              <a:rPr b="1" lang="tr-TR" sz="3100" spc="-1" strike="noStrike">
                <a:solidFill>
                  <a:srgbClr val="000000"/>
                </a:solidFill>
                <a:latin typeface="Calibri"/>
              </a:rPr>
              <a:t>sahip olmaları: </a:t>
            </a:r>
            <a:endParaRPr b="0" lang="en-US" sz="3100" spc="-1" strike="noStrike">
              <a:solidFill>
                <a:srgbClr val="000000"/>
              </a:solidFill>
              <a:latin typeface="Calibri"/>
            </a:endParaRPr>
          </a:p>
          <a:p>
            <a:pPr lvl="1" marL="705600" indent="-271440">
              <a:spcBef>
                <a:spcPts val="77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100" spc="-1" strike="noStrike">
                <a:solidFill>
                  <a:srgbClr val="1f497d"/>
                </a:solidFill>
                <a:latin typeface="Calibri"/>
              </a:rPr>
              <a:t> </a:t>
            </a:r>
            <a:r>
              <a:rPr b="1" lang="tr-TR" sz="3100" spc="-1" strike="noStrike">
                <a:solidFill>
                  <a:srgbClr val="1f497d"/>
                </a:solidFill>
                <a:latin typeface="Calibri"/>
              </a:rPr>
              <a:t>Güvenilir  </a:t>
            </a:r>
            <a:endParaRPr b="0" lang="en-US" sz="3100" spc="-1" strike="noStrike">
              <a:solidFill>
                <a:srgbClr val="000000"/>
              </a:solidFill>
              <a:latin typeface="Calibri"/>
            </a:endParaRPr>
          </a:p>
          <a:p>
            <a:pPr lvl="1" marL="705600" indent="-271440">
              <a:spcBef>
                <a:spcPts val="77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100" spc="-1" strike="noStrike">
                <a:solidFill>
                  <a:srgbClr val="1f497d"/>
                </a:solidFill>
                <a:latin typeface="Calibri"/>
              </a:rPr>
              <a:t> </a:t>
            </a:r>
            <a:r>
              <a:rPr b="1" lang="tr-TR" sz="3100" spc="-1" strike="noStrike">
                <a:solidFill>
                  <a:srgbClr val="1f497d"/>
                </a:solidFill>
                <a:latin typeface="Calibri"/>
              </a:rPr>
              <a:t>Tarafsız </a:t>
            </a:r>
            <a:endParaRPr b="0" lang="en-US" sz="3100" spc="-1" strike="noStrike">
              <a:solidFill>
                <a:srgbClr val="000000"/>
              </a:solidFill>
              <a:latin typeface="Calibri"/>
            </a:endParaRPr>
          </a:p>
          <a:p>
            <a:pPr lvl="1" marL="705600" indent="-271440">
              <a:spcBef>
                <a:spcPts val="77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100" spc="-1" strike="noStrike">
                <a:solidFill>
                  <a:srgbClr val="1f497d"/>
                </a:solidFill>
                <a:latin typeface="Calibri"/>
              </a:rPr>
              <a:t> </a:t>
            </a:r>
            <a:r>
              <a:rPr b="1" lang="tr-TR" sz="3100" spc="-1" strike="noStrike">
                <a:solidFill>
                  <a:srgbClr val="1f497d"/>
                </a:solidFill>
                <a:latin typeface="Calibri"/>
              </a:rPr>
              <a:t>Açık</a:t>
            </a:r>
            <a:r>
              <a:rPr b="0" lang="tr-TR" sz="3100" spc="-1" strike="noStrike">
                <a:solidFill>
                  <a:srgbClr val="000000"/>
                </a:solidFill>
                <a:latin typeface="Calibri"/>
              </a:rPr>
              <a:t> </a:t>
            </a:r>
            <a:endParaRPr b="0" lang="en-US" sz="3100" spc="-1" strike="noStrike">
              <a:solidFill>
                <a:srgbClr val="000000"/>
              </a:solidFill>
              <a:latin typeface="Calibri"/>
            </a:endParaRPr>
          </a:p>
          <a:p>
            <a:pPr marL="325800" indent="-325800">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100" spc="-1" strike="noStrike">
                <a:solidFill>
                  <a:srgbClr val="000000"/>
                </a:solidFill>
                <a:latin typeface="Calibri"/>
              </a:rPr>
              <a:t>Tarafların üzerinde anlaşmaya varabileceği </a:t>
            </a:r>
            <a:r>
              <a:rPr b="1" lang="tr-TR" sz="3100" spc="-1" strike="noStrike">
                <a:solidFill>
                  <a:srgbClr val="1f497d"/>
                </a:solidFill>
                <a:latin typeface="Calibri"/>
              </a:rPr>
              <a:t> gerekli niteliklere sahip uzmanların belirtilmesine </a:t>
            </a:r>
            <a:r>
              <a:rPr b="1" lang="tr-TR" sz="3100" spc="-1" strike="noStrike">
                <a:solidFill>
                  <a:srgbClr val="000000"/>
                </a:solidFill>
                <a:latin typeface="Calibri"/>
              </a:rPr>
              <a:t>yönelik bir sistem oluşturun</a:t>
            </a:r>
            <a:endParaRPr b="0" lang="en-US" sz="31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6840" y="1235160"/>
            <a:ext cx="8512200" cy="4890960"/>
          </a:xfrm>
          <a:prstGeom prst="rect">
            <a:avLst/>
          </a:prstGeom>
          <a:noFill/>
          <a:ln w="0">
            <a:noFill/>
          </a:ln>
        </p:spPr>
        <p:txBody>
          <a:bodyPr anchor="t">
            <a:normAutofit fontScale="93000"/>
          </a:bodyPr>
          <a:p>
            <a:pPr marL="318960" indent="-31896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u oturumun sonunda katılımcılar: :</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Adli takibatları idare ede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LA‘lar (karşılıklı hukuk yardım talepleri) yoluyla </a:t>
            </a:r>
            <a:r>
              <a:rPr b="1" lang="tr-TR" sz="2000" spc="-1" strike="noStrike">
                <a:solidFill>
                  <a:srgbClr val="1f497d"/>
                </a:solidFill>
                <a:latin typeface="Calibri"/>
              </a:rPr>
              <a:t>ülke dışından kanıt toplay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 talepleri konusunda </a:t>
            </a:r>
            <a:r>
              <a:rPr b="1" lang="tr-TR" sz="2000" spc="-1" strike="noStrike">
                <a:solidFill>
                  <a:srgbClr val="000000"/>
                </a:solidFill>
                <a:latin typeface="Calibri"/>
              </a:rPr>
              <a:t>hiçbir yasal veya usule ilişkin engel</a:t>
            </a:r>
            <a:r>
              <a:rPr b="0" lang="tr-TR" sz="2000" spc="-1" strike="noStrike">
                <a:solidFill>
                  <a:srgbClr val="000000"/>
                </a:solidFill>
                <a:latin typeface="Calibri"/>
              </a:rPr>
              <a:t> bulunmamasını sağlay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Dava işlemleri sırasında </a:t>
            </a:r>
            <a:r>
              <a:rPr b="1" lang="tr-TR" sz="2000" spc="-1" strike="noStrike">
                <a:solidFill>
                  <a:srgbClr val="1f497d"/>
                </a:solidFill>
                <a:latin typeface="Calibri"/>
              </a:rPr>
              <a:t>diğer ülkelerdeki tanıkların </a:t>
            </a:r>
            <a:r>
              <a:rPr b="0" lang="tr-TR" sz="2000" spc="-1" strike="noStrike">
                <a:solidFill>
                  <a:srgbClr val="000000"/>
                </a:solidFill>
                <a:latin typeface="Calibri"/>
              </a:rPr>
              <a:t>ifadelerini al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ütün ilgili belgeleri veya usulleri doğru bir şekilde </a:t>
            </a:r>
            <a:r>
              <a:rPr b="1" lang="tr-TR" sz="2000" spc="-1" strike="noStrike">
                <a:solidFill>
                  <a:srgbClr val="000000"/>
                </a:solidFill>
                <a:latin typeface="Calibri"/>
              </a:rPr>
              <a:t>tamamlayabilecekler veya güncelleye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Gerekli dosyaların ve destekleyici belgelerin hazırlanmasını sağlayabilecekler ve </a:t>
            </a:r>
            <a:r>
              <a:rPr b="1" lang="tr-TR" sz="2000" spc="-1" strike="noStrike">
                <a:solidFill>
                  <a:srgbClr val="1f497d"/>
                </a:solidFill>
                <a:latin typeface="Calibri"/>
              </a:rPr>
              <a:t>bunları ilgili süreler içinde gerekli biçimde sun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ları </a:t>
            </a:r>
            <a:r>
              <a:rPr b="1" lang="tr-TR" sz="2000" spc="-1" strike="noStrike">
                <a:solidFill>
                  <a:srgbClr val="000000"/>
                </a:solidFill>
                <a:latin typeface="Calibri"/>
              </a:rPr>
              <a:t>savunmaya</a:t>
            </a:r>
            <a:r>
              <a:rPr b="0" lang="tr-TR" sz="2000" spc="-1" strike="noStrike">
                <a:solidFill>
                  <a:srgbClr val="000000"/>
                </a:solidFill>
                <a:latin typeface="Calibri"/>
              </a:rPr>
              <a:t> açıklayabilecekler (gerektiği taktirde)</a:t>
            </a:r>
            <a:endParaRPr b="0" lang="en-US" sz="2000" spc="-1" strike="noStrike">
              <a:solidFill>
                <a:srgbClr val="000000"/>
              </a:solidFill>
              <a:latin typeface="Calibri"/>
            </a:endParaRPr>
          </a:p>
          <a:p>
            <a:pPr marL="318960" indent="-318960">
              <a:lnSpc>
                <a:spcPct val="80000"/>
              </a:lnSpc>
              <a:spcBef>
                <a:spcPts val="499"/>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1f497d"/>
                </a:solidFill>
                <a:latin typeface="Calibri"/>
              </a:rPr>
              <a:t>elektronik ve diğer kanıtların kabul edilebilir </a:t>
            </a:r>
            <a:r>
              <a:rPr b="0" lang="tr-TR" sz="2000" spc="-1" strike="noStrike">
                <a:solidFill>
                  <a:srgbClr val="000000"/>
                </a:solidFill>
                <a:latin typeface="Calibri"/>
              </a:rPr>
              <a:t>olmalarını sağlay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AİHS </a:t>
            </a:r>
            <a:r>
              <a:rPr b="0" lang="tr-TR" sz="2000" spc="-1" strike="noStrike">
                <a:solidFill>
                  <a:srgbClr val="000000"/>
                </a:solidFill>
                <a:latin typeface="Calibri"/>
              </a:rPr>
              <a:t>ve diğer hükümlere </a:t>
            </a:r>
            <a:r>
              <a:rPr b="1" lang="tr-TR" sz="2000" spc="-1" strike="noStrike">
                <a:solidFill>
                  <a:srgbClr val="000000"/>
                </a:solidFill>
                <a:latin typeface="Calibri"/>
              </a:rPr>
              <a:t>uyulmasını </a:t>
            </a:r>
            <a:r>
              <a:rPr b="0" lang="tr-TR" sz="2000" spc="-1" strike="noStrike">
                <a:solidFill>
                  <a:srgbClr val="000000"/>
                </a:solidFill>
                <a:latin typeface="Calibri"/>
              </a:rPr>
              <a:t>sağlayabilecekler</a:t>
            </a:r>
            <a:endParaRPr b="0" lang="en-US" sz="2000" spc="-1" strike="noStrike">
              <a:solidFill>
                <a:srgbClr val="000000"/>
              </a:solidFill>
              <a:latin typeface="Calibri"/>
            </a:endParaRPr>
          </a:p>
          <a:p>
            <a:pPr marL="318960" indent="-318960">
              <a:lnSpc>
                <a:spcPct val="80000"/>
              </a:lnSpc>
              <a:spcBef>
                <a:spcPts val="499"/>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1f497d"/>
                </a:solidFill>
                <a:latin typeface="Calibri"/>
              </a:rPr>
              <a:t>bilirkişilerin </a:t>
            </a:r>
            <a:r>
              <a:rPr b="0" lang="tr-TR" sz="2000" spc="-1" strike="noStrike">
                <a:solidFill>
                  <a:srgbClr val="000000"/>
                </a:solidFill>
                <a:latin typeface="Calibri"/>
              </a:rPr>
              <a:t>görevleri ve beklentileri konusunda bilgi sahibi olacakla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Yürürlükteki politika ve mevzuata uygun olarak bütün kararları, işlemleri, seçenekleri ve gerekçeleri </a:t>
            </a:r>
            <a:r>
              <a:rPr b="1" lang="tr-TR" sz="2000" spc="-1" strike="noStrike">
                <a:solidFill>
                  <a:srgbClr val="000000"/>
                </a:solidFill>
                <a:latin typeface="Calibri"/>
              </a:rPr>
              <a:t>tam olarak belgelendire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ahkemelerde elektronik kanıt </a:t>
            </a:r>
            <a:r>
              <a:rPr b="1" lang="tr-TR" sz="2000" spc="-1" strike="noStrike">
                <a:solidFill>
                  <a:srgbClr val="1f497d"/>
                </a:solidFill>
                <a:latin typeface="Calibri"/>
              </a:rPr>
              <a:t>sunma yöntemlerini </a:t>
            </a:r>
            <a:r>
              <a:rPr b="0" lang="tr-TR" sz="2000" spc="-1" strike="noStrike">
                <a:solidFill>
                  <a:srgbClr val="000000"/>
                </a:solidFill>
                <a:latin typeface="Calibri"/>
              </a:rPr>
              <a:t>belirleyebileceklerdi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un Amaçları</a:t>
            </a:r>
            <a:endParaRPr b="0" lang="en-US" sz="4400" spc="-1" strike="noStrike">
              <a:solidFill>
                <a:srgbClr val="000000"/>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Sunum</a:t>
            </a:r>
            <a:endParaRPr b="0" lang="en-US" sz="4400" spc="-1" strike="noStrike">
              <a:solidFill>
                <a:srgbClr val="000000"/>
              </a:solidFill>
              <a:latin typeface="Calibri"/>
            </a:endParaRPr>
          </a:p>
        </p:txBody>
      </p:sp>
      <p:sp>
        <p:nvSpPr>
          <p:cNvPr id="354" name=""/>
          <p:cNvSpPr txBox="1"/>
          <p:nvPr/>
        </p:nvSpPr>
        <p:spPr>
          <a:xfrm>
            <a:off x="457200" y="1146240"/>
            <a:ext cx="8229600" cy="52387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Sunum yöntemleri hakkında düşünün:</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Bir PowerPoint sunum yapmayı düşünün</a:t>
            </a:r>
            <a:endParaRPr b="0" lang="en-US" sz="24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Mahkemede bulunan herkes için bir temel standart oluşturmak amacıyla dava ile ilgili elektronik kanıtlar/teknoloji hakkında kısa bir açıklama yapmayı düşünün </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Bir veri sözlüğü sunun (kabul edilmiş bir standart)</a:t>
            </a:r>
            <a:endParaRPr b="0" lang="en-US" sz="24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Dosyanın ve kanıtların bir özetini sunun</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Kanıtları gösterin</a:t>
            </a:r>
            <a:endParaRPr b="0" lang="en-US" sz="24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Sunum</a:t>
            </a:r>
            <a:endParaRPr b="0" lang="en-US" sz="4400" spc="-1" strike="noStrike">
              <a:solidFill>
                <a:srgbClr val="000000"/>
              </a:solidFill>
              <a:latin typeface="Calibri"/>
            </a:endParaRPr>
          </a:p>
        </p:txBody>
      </p:sp>
      <p:sp>
        <p:nvSpPr>
          <p:cNvPr id="356" name=""/>
          <p:cNvSpPr txBox="1"/>
          <p:nvPr/>
        </p:nvSpPr>
        <p:spPr>
          <a:xfrm>
            <a:off x="403200" y="1146240"/>
            <a:ext cx="8686800" cy="5470560"/>
          </a:xfrm>
          <a:prstGeom prst="rect">
            <a:avLst/>
          </a:prstGeom>
          <a:noFill/>
          <a:ln w="0">
            <a:noFill/>
          </a:ln>
        </p:spPr>
        <p:txBody>
          <a:bodyPr anchor="t">
            <a:normAutofit fontScale="97000"/>
          </a:bodyPr>
          <a:p>
            <a:pPr marL="332640" indent="-33264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Hukuk sistemi ve araçları izin verdiğinde: </a:t>
            </a:r>
            <a:endParaRPr b="0" lang="en-US" sz="32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Dosyanın bir dijital kopyasını sunun</a:t>
            </a:r>
            <a:endParaRPr b="0" lang="en-US" sz="2400" spc="-1" strike="noStrike">
              <a:solidFill>
                <a:srgbClr val="000000"/>
              </a:solidFill>
              <a:latin typeface="Calibri"/>
            </a:endParaRPr>
          </a:p>
          <a:p>
            <a:pPr lvl="1" marL="720720" indent="-2772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Mahkemede sunum teknolojisini kullanın</a:t>
            </a:r>
            <a:endParaRPr b="0" lang="en-US" sz="24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Dosyanın çok büyük olması halinde milyonlarca sayfa çıktı almak yerine kanıtları taraflara bilgisayar ekranları üzerinde sunun</a:t>
            </a:r>
            <a:endParaRPr b="0" lang="en-US" sz="2400" spc="-1" strike="noStrike">
              <a:solidFill>
                <a:srgbClr val="000000"/>
              </a:solidFill>
              <a:latin typeface="Calibri"/>
            </a:endParaRPr>
          </a:p>
          <a:p>
            <a:pPr lvl="1" marL="720720" indent="-2772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Suçun nasıl işlendiğini veya kanıtların sistemde bulunduğunu gösterebilmek için mahkemede suçun işlenmesinde kullanıldığı düşünülen makineyi çalıştırın veya resmi gösterin. </a:t>
            </a:r>
            <a:endParaRPr b="0" lang="en-US" sz="2400" spc="-1" strike="noStrike">
              <a:solidFill>
                <a:srgbClr val="000000"/>
              </a:solidFill>
              <a:latin typeface="Calibri"/>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1235160"/>
            <a:ext cx="8512200" cy="4890960"/>
          </a:xfrm>
          <a:prstGeom prst="rect">
            <a:avLst/>
          </a:prstGeom>
          <a:noFill/>
          <a:ln w="0">
            <a:noFill/>
          </a:ln>
        </p:spPr>
        <p:txBody>
          <a:bodyPr anchor="t">
            <a:normAutofit fontScale="92000"/>
          </a:bodyPr>
          <a:p>
            <a:pPr marL="315360" indent="-31536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u oturumun sonunda katılımcılar::</a:t>
            </a:r>
            <a:endParaRPr b="0" lang="en-US" sz="24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Adli takibatları idare ede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LA‘lar (karşılıklı hukuk yardım talepleri) yoluyla ülke dışından kanıt top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 talepleri konusunda hiçbir yasal veya usule ilişkin engel bulunmamasını sağ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Dava işlemleri sırasında diğer ülkelerdeki tanıkların ifadelerini al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ütün ilgili belgeleri veya usulleri doğru bir şekilde tamamlayabilecekler veya güncelleye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Gerekli dosyaların ve destekleyici belgelerin hazırlanmasını sağlayabilecekler ve bunları ilgili süreler içinde gerekli biçimde sun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ları savunmaya açıklayabilecekler (gerektiği taktirde)</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elektronik ve diğer kanıtların kabul edilebilir olmalarını sağ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AİHS ve diğer hükümlere uyulmasını sağ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ilirkişilerin görevleri ve beklentileri konusunda bilgi sahibi olacakla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Yürürlükteki politika ve mevzuata uygun olarak bütün kararları, işlemleri, seçenekleri ve gerekçeleri tam olarak belgelendire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ahkemelerde elektronik kanıt sunma yöntemlerini belirleyebileceklerdi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 Amaçlarının Özeti</a:t>
            </a:r>
            <a:endParaRPr b="0" lang="en-US" sz="44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Question Mark Clip Art">
            <a:hlinkClick r:id="rId1"/>
          </p:cNvPr>
          <p:cNvPicPr/>
          <p:nvPr/>
        </p:nvPicPr>
        <p:blipFill>
          <a:blip r:embed="rId2"/>
          <a:stretch/>
        </p:blipFill>
        <p:spPr>
          <a:xfrm>
            <a:off x="3073320" y="2106720"/>
            <a:ext cx="2857680" cy="2857320"/>
          </a:xfrm>
          <a:prstGeom prst="rect">
            <a:avLst/>
          </a:prstGeom>
          <a:ln w="0">
            <a:noFill/>
          </a:ln>
        </p:spPr>
      </p:pic>
      <p:sp>
        <p:nvSpPr>
          <p:cNvPr id="360" name="TextBox 3"/>
          <p:cNvSpPr/>
          <p:nvPr/>
        </p:nvSpPr>
        <p:spPr>
          <a:xfrm>
            <a:off x="3037680" y="96984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vrupa’da verilerin muhafaza edilmesi: </a:t>
            </a:r>
            <a:endParaRPr b="0" lang="en-US" sz="32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Avrupa Parlamentosu ve Konsey’in 2006/24/EC sayılı ve 15 Mart 2006 tarihli yönergesi: </a:t>
            </a:r>
            <a:endParaRPr b="0" lang="en-US" sz="2400" spc="-1" strike="noStrike">
              <a:solidFill>
                <a:srgbClr val="000000"/>
              </a:solidFill>
              <a:latin typeface="Calibri"/>
            </a:endParaRPr>
          </a:p>
          <a:p>
            <a:pPr lvl="2" marL="1143000" indent="0">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tr-TR" sz="2000" spc="-1" strike="noStrike">
                <a:solidFill>
                  <a:srgbClr val="000000"/>
                </a:solidFill>
                <a:latin typeface="Calibri"/>
              </a:rPr>
              <a:t>	</a:t>
            </a:r>
            <a:r>
              <a:rPr b="0" i="1" lang="tr-TR" sz="2000" spc="-1" strike="noStrike">
                <a:solidFill>
                  <a:srgbClr val="000000"/>
                </a:solidFill>
                <a:latin typeface="Calibri"/>
              </a:rPr>
              <a:t>“</a:t>
            </a:r>
            <a:r>
              <a:rPr b="0" i="1" lang="tr-TR" sz="2000" spc="-1" strike="noStrike">
                <a:solidFill>
                  <a:srgbClr val="000000"/>
                </a:solidFill>
                <a:latin typeface="Calibri"/>
              </a:rPr>
              <a:t>Üye Devletler, 5. Madde’de belirtilen kategorilerdeki verilerin, iletişim tarihinden itibaren </a:t>
            </a:r>
            <a:r>
              <a:rPr b="1" i="1" lang="tr-TR" sz="2000" spc="-1" strike="noStrike">
                <a:solidFill>
                  <a:srgbClr val="376092"/>
                </a:solidFill>
                <a:latin typeface="Calibri"/>
              </a:rPr>
              <a:t>en az altı ay ve en fazla iki yıl</a:t>
            </a:r>
            <a:r>
              <a:rPr b="1" i="1" lang="tr-TR" sz="2000" spc="-1" strike="noStrike">
                <a:solidFill>
                  <a:srgbClr val="558ed5"/>
                </a:solidFill>
                <a:latin typeface="Calibri"/>
              </a:rPr>
              <a:t> </a:t>
            </a:r>
            <a:r>
              <a:rPr b="0" i="1" lang="tr-TR" sz="2000" spc="-1" strike="noStrike">
                <a:solidFill>
                  <a:srgbClr val="000000"/>
                </a:solidFill>
                <a:latin typeface="Calibri"/>
              </a:rPr>
              <a:t>muhafaza edilmesini sağlayacaklardır.” </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Zaman aşımı </a:t>
            </a:r>
            <a:r>
              <a:rPr b="0" lang="tr-TR" sz="2400" spc="-1" strike="noStrike">
                <a:solidFill>
                  <a:srgbClr val="000000"/>
                </a:solidFill>
                <a:latin typeface="Calibri"/>
                <a:ea typeface="Tahoma"/>
              </a:rPr>
              <a:t>&gt; veri muhafaza etme dönemi</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ahoma"/>
              </a:rPr>
              <a:t>Bir kez mahkemeye adım attığınızda ikinci bir şansınız olmayacaktır</a:t>
            </a:r>
            <a:endParaRPr b="0" lang="en-US" sz="3200" spc="-1" strike="noStrike">
              <a:solidFill>
                <a:srgbClr val="000000"/>
              </a:solidFill>
              <a:latin typeface="Calibri"/>
            </a:endParaRPr>
          </a:p>
        </p:txBody>
      </p:sp>
      <p:sp>
        <p:nvSpPr>
          <p:cNvPr id="362" name="PlaceHolder 2"/>
          <p:cNvSpPr>
            <a:spLocks noGrp="1"/>
          </p:cNvSpPr>
          <p:nvPr>
            <p:ph type="title"/>
          </p:nvPr>
        </p:nvSpPr>
        <p:spPr>
          <a:xfrm>
            <a:off x="0" y="285840"/>
            <a:ext cx="914400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000000"/>
                </a:solidFill>
                <a:latin typeface="Calibri"/>
              </a:rPr>
              <a:t>Dijital kanıtların uçucu olduğunu unutmayın</a:t>
            </a:r>
            <a:endParaRPr b="0" lang="en-US" sz="3600" spc="-1" strike="noStrike">
              <a:solidFill>
                <a:srgbClr val="000000"/>
              </a:solidFill>
              <a:latin typeface="Calibri"/>
            </a:endParaRPr>
          </a:p>
        </p:txBody>
      </p:sp>
      <p:sp>
        <p:nvSpPr>
          <p:cNvPr id="363" name="AutoShape 29">
            <a:hlinkClick r:id="rId1" action="ppaction://hlinksldjump"/>
          </p:cNvPr>
          <p:cNvSpPr/>
          <p:nvPr/>
        </p:nvSpPr>
        <p:spPr>
          <a:xfrm>
            <a:off x="8101080" y="537516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ijdelijke aanduiding voor datum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4400" spc="-1" strike="noStrike">
                <a:solidFill>
                  <a:srgbClr val="000000"/>
                </a:solidFill>
                <a:latin typeface="Times New Roman"/>
                <a:ea typeface="ＭＳ Ｐゴシック"/>
              </a:rPr>
              <a:t>9 2009</a:t>
            </a:r>
            <a:endParaRPr b="0" lang="en-US" sz="4400" spc="-1" strike="noStrike">
              <a:solidFill>
                <a:srgbClr val="000000"/>
              </a:solidFill>
              <a:latin typeface="Arial"/>
            </a:endParaRPr>
          </a:p>
        </p:txBody>
      </p:sp>
      <p:sp>
        <p:nvSpPr>
          <p:cNvPr id="365"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79EBA-8CF8-4A38-B86F-A6B54EFBE94A}" type="slidenum">
              <a:rPr b="0" lang="en-US" sz="4400" spc="-1" strike="noStrike">
                <a:solidFill>
                  <a:srgbClr val="000000"/>
                </a:solidFill>
                <a:latin typeface="Times New Roman"/>
                <a:ea typeface="ＭＳ Ｐゴシック"/>
              </a:rPr>
              <a:t>&lt;number&gt;</a:t>
            </a:fld>
            <a:endParaRPr b="0" lang="en-US" sz="4400" spc="-1" strike="noStrike">
              <a:solidFill>
                <a:srgbClr val="000000"/>
              </a:solidFill>
              <a:latin typeface="Arial"/>
            </a:endParaRPr>
          </a:p>
        </p:txBody>
      </p:sp>
      <p:sp>
        <p:nvSpPr>
          <p:cNvPr id="367" name="Rectangle 2"/>
          <p:cNvSpPr/>
          <p:nvPr/>
        </p:nvSpPr>
        <p:spPr>
          <a:xfrm>
            <a:off x="0" y="0"/>
            <a:ext cx="9144000" cy="6858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Rectangle 3"/>
          <p:cNvSpPr/>
          <p:nvPr/>
        </p:nvSpPr>
        <p:spPr>
          <a:xfrm>
            <a:off x="2590920" y="0"/>
            <a:ext cx="190476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Rectangle 4"/>
          <p:cNvSpPr/>
          <p:nvPr/>
        </p:nvSpPr>
        <p:spPr>
          <a:xfrm>
            <a:off x="3492360" y="0"/>
            <a:ext cx="763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Rectangle 5"/>
          <p:cNvSpPr/>
          <p:nvPr/>
        </p:nvSpPr>
        <p:spPr>
          <a:xfrm>
            <a:off x="3505320" y="1066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Rectangle 6"/>
          <p:cNvSpPr/>
          <p:nvPr/>
        </p:nvSpPr>
        <p:spPr>
          <a:xfrm>
            <a:off x="3505320" y="2133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Rectangle 7"/>
          <p:cNvSpPr/>
          <p:nvPr/>
        </p:nvSpPr>
        <p:spPr>
          <a:xfrm>
            <a:off x="3505320" y="3276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Rectangle 8"/>
          <p:cNvSpPr/>
          <p:nvPr/>
        </p:nvSpPr>
        <p:spPr>
          <a:xfrm>
            <a:off x="3505320" y="4419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Rectangle 9"/>
          <p:cNvSpPr/>
          <p:nvPr/>
        </p:nvSpPr>
        <p:spPr>
          <a:xfrm>
            <a:off x="3505320" y="5638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5" name="Oval 10"/>
          <p:cNvSpPr/>
          <p:nvPr/>
        </p:nvSpPr>
        <p:spPr>
          <a:xfrm>
            <a:off x="1905120" y="304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Oval 11"/>
          <p:cNvSpPr/>
          <p:nvPr/>
        </p:nvSpPr>
        <p:spPr>
          <a:xfrm>
            <a:off x="1905120" y="5943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Oval 12"/>
          <p:cNvSpPr/>
          <p:nvPr/>
        </p:nvSpPr>
        <p:spPr>
          <a:xfrm>
            <a:off x="1905120" y="4800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Oval 13"/>
          <p:cNvSpPr/>
          <p:nvPr/>
        </p:nvSpPr>
        <p:spPr>
          <a:xfrm>
            <a:off x="1905120" y="38098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Oval 14"/>
          <p:cNvSpPr/>
          <p:nvPr/>
        </p:nvSpPr>
        <p:spPr>
          <a:xfrm>
            <a:off x="1905120" y="28954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Oval 15"/>
          <p:cNvSpPr/>
          <p:nvPr/>
        </p:nvSpPr>
        <p:spPr>
          <a:xfrm>
            <a:off x="1905120" y="19810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Oval 16"/>
          <p:cNvSpPr/>
          <p:nvPr/>
        </p:nvSpPr>
        <p:spPr>
          <a:xfrm>
            <a:off x="1905120" y="12193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Oval 17"/>
          <p:cNvSpPr/>
          <p:nvPr/>
        </p:nvSpPr>
        <p:spPr>
          <a:xfrm>
            <a:off x="4724280" y="6019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Oval 18"/>
          <p:cNvSpPr/>
          <p:nvPr/>
        </p:nvSpPr>
        <p:spPr>
          <a:xfrm>
            <a:off x="4724280" y="5029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Oval 19"/>
          <p:cNvSpPr/>
          <p:nvPr/>
        </p:nvSpPr>
        <p:spPr>
          <a:xfrm>
            <a:off x="4724280" y="1371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Oval 20"/>
          <p:cNvSpPr/>
          <p:nvPr/>
        </p:nvSpPr>
        <p:spPr>
          <a:xfrm>
            <a:off x="4724280" y="457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Rectangle 21"/>
          <p:cNvSpPr/>
          <p:nvPr/>
        </p:nvSpPr>
        <p:spPr>
          <a:xfrm>
            <a:off x="4876920" y="2133720"/>
            <a:ext cx="3429000" cy="2361960"/>
          </a:xfrm>
          <a:prstGeom prst="rect">
            <a:avLst/>
          </a:prstGeom>
          <a:solidFill>
            <a:srgbClr val="4f81bd"/>
          </a:solidFill>
          <a:ln w="114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Rectangle 22"/>
          <p:cNvSpPr/>
          <p:nvPr/>
        </p:nvSpPr>
        <p:spPr>
          <a:xfrm>
            <a:off x="4800600" y="2971800"/>
            <a:ext cx="152280" cy="6858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Rectangle 23"/>
          <p:cNvSpPr/>
          <p:nvPr/>
        </p:nvSpPr>
        <p:spPr>
          <a:xfrm>
            <a:off x="6019920" y="2133720"/>
            <a:ext cx="1522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Rectangle 24"/>
          <p:cNvSpPr/>
          <p:nvPr/>
        </p:nvSpPr>
        <p:spPr>
          <a:xfrm>
            <a:off x="7238880" y="2193840"/>
            <a:ext cx="15264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0" name="Rectangle 25"/>
          <p:cNvSpPr/>
          <p:nvPr/>
        </p:nvSpPr>
        <p:spPr>
          <a:xfrm>
            <a:off x="5943600" y="3429000"/>
            <a:ext cx="15238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1" name="Picture 26" descr="IN00561_"/>
          <p:cNvPicPr/>
          <p:nvPr/>
        </p:nvPicPr>
        <p:blipFill>
          <a:blip r:embed="rId1"/>
          <a:stretch/>
        </p:blipFill>
        <p:spPr>
          <a:xfrm>
            <a:off x="3639960" y="2743200"/>
            <a:ext cx="1008360" cy="1257480"/>
          </a:xfrm>
          <a:prstGeom prst="rect">
            <a:avLst/>
          </a:prstGeom>
          <a:ln w="0">
            <a:noFill/>
          </a:ln>
        </p:spPr>
      </p:pic>
      <p:sp>
        <p:nvSpPr>
          <p:cNvPr id="392" name="Oval 27"/>
          <p:cNvSpPr/>
          <p:nvPr/>
        </p:nvSpPr>
        <p:spPr>
          <a:xfrm>
            <a:off x="6934320" y="233352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Rectangle 28"/>
          <p:cNvSpPr/>
          <p:nvPr/>
        </p:nvSpPr>
        <p:spPr>
          <a:xfrm>
            <a:off x="8213760" y="3581280"/>
            <a:ext cx="168120" cy="6098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AutoShape 29"/>
          <p:cNvSpPr/>
          <p:nvPr/>
        </p:nvSpPr>
        <p:spPr>
          <a:xfrm>
            <a:off x="5181480" y="2438280"/>
            <a:ext cx="38124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AutoShape 30"/>
          <p:cNvSpPr/>
          <p:nvPr/>
        </p:nvSpPr>
        <p:spPr>
          <a:xfrm>
            <a:off x="7543800" y="3962520"/>
            <a:ext cx="380880" cy="30456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AutoShape 31"/>
          <p:cNvSpPr/>
          <p:nvPr/>
        </p:nvSpPr>
        <p:spPr>
          <a:xfrm>
            <a:off x="8077320" y="1295280"/>
            <a:ext cx="38088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Oval 32"/>
          <p:cNvSpPr/>
          <p:nvPr/>
        </p:nvSpPr>
        <p:spPr>
          <a:xfrm>
            <a:off x="6629400" y="2057400"/>
            <a:ext cx="762120" cy="685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Oval 33"/>
          <p:cNvSpPr/>
          <p:nvPr/>
        </p:nvSpPr>
        <p:spPr>
          <a:xfrm>
            <a:off x="6445080" y="1873080"/>
            <a:ext cx="1143000" cy="1067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Oval 34"/>
          <p:cNvSpPr/>
          <p:nvPr/>
        </p:nvSpPr>
        <p:spPr>
          <a:xfrm>
            <a:off x="6172200" y="1600200"/>
            <a:ext cx="167652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Oval 35"/>
          <p:cNvSpPr/>
          <p:nvPr/>
        </p:nvSpPr>
        <p:spPr>
          <a:xfrm>
            <a:off x="5759280" y="1295280"/>
            <a:ext cx="2514600" cy="2286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Oval 36"/>
          <p:cNvSpPr/>
          <p:nvPr/>
        </p:nvSpPr>
        <p:spPr>
          <a:xfrm>
            <a:off x="5378400" y="914400"/>
            <a:ext cx="3232080" cy="30481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Oval 37"/>
          <p:cNvSpPr/>
          <p:nvPr/>
        </p:nvSpPr>
        <p:spPr>
          <a:xfrm>
            <a:off x="4908600" y="533520"/>
            <a:ext cx="4146480" cy="38098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Oval 38"/>
          <p:cNvSpPr/>
          <p:nvPr/>
        </p:nvSpPr>
        <p:spPr>
          <a:xfrm>
            <a:off x="4387680" y="152280"/>
            <a:ext cx="5213520" cy="46483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Oval 39"/>
          <p:cNvSpPr/>
          <p:nvPr/>
        </p:nvSpPr>
        <p:spPr>
          <a:xfrm>
            <a:off x="3854520" y="-244440"/>
            <a:ext cx="6280200" cy="54864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Oval 41"/>
          <p:cNvSpPr/>
          <p:nvPr/>
        </p:nvSpPr>
        <p:spPr>
          <a:xfrm>
            <a:off x="2057400" y="457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Oval 42"/>
          <p:cNvSpPr/>
          <p:nvPr/>
        </p:nvSpPr>
        <p:spPr>
          <a:xfrm>
            <a:off x="2057400" y="4952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Oval 43"/>
          <p:cNvSpPr/>
          <p:nvPr/>
        </p:nvSpPr>
        <p:spPr>
          <a:xfrm>
            <a:off x="2057400" y="3962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Oval 44"/>
          <p:cNvSpPr/>
          <p:nvPr/>
        </p:nvSpPr>
        <p:spPr>
          <a:xfrm>
            <a:off x="2057400" y="30481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Oval 45"/>
          <p:cNvSpPr/>
          <p:nvPr/>
        </p:nvSpPr>
        <p:spPr>
          <a:xfrm>
            <a:off x="2057400" y="21337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Oval 46"/>
          <p:cNvSpPr/>
          <p:nvPr/>
        </p:nvSpPr>
        <p:spPr>
          <a:xfrm>
            <a:off x="2057400" y="1371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Oval 47"/>
          <p:cNvSpPr/>
          <p:nvPr/>
        </p:nvSpPr>
        <p:spPr>
          <a:xfrm>
            <a:off x="2057400" y="6095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Oval 48"/>
          <p:cNvSpPr/>
          <p:nvPr/>
        </p:nvSpPr>
        <p:spPr>
          <a:xfrm>
            <a:off x="4876920" y="6172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Oval 49"/>
          <p:cNvSpPr/>
          <p:nvPr/>
        </p:nvSpPr>
        <p:spPr>
          <a:xfrm>
            <a:off x="4876920" y="5181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Oval 50"/>
          <p:cNvSpPr/>
          <p:nvPr/>
        </p:nvSpPr>
        <p:spPr>
          <a:xfrm>
            <a:off x="4876920" y="1523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Oval 51"/>
          <p:cNvSpPr/>
          <p:nvPr/>
        </p:nvSpPr>
        <p:spPr>
          <a:xfrm>
            <a:off x="4876920" y="609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6" name="Text Box 54"/>
          <p:cNvSpPr/>
          <p:nvPr/>
        </p:nvSpPr>
        <p:spPr>
          <a:xfrm>
            <a:off x="142920" y="5638680"/>
            <a:ext cx="8861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fc2610"/>
                </a:solidFill>
                <a:latin typeface="Calibri"/>
              </a:rPr>
              <a:t>BİRİNİN MASUM OLABİLECEĞİNİ HİÇ BİR ZAMAN UNUTMAYIN</a:t>
            </a:r>
            <a:r>
              <a:rPr b="1" lang="fr-BE" sz="2800" spc="-1" strike="noStrike">
                <a:solidFill>
                  <a:srgbClr val="fc2610"/>
                </a:solidFill>
                <a:latin typeface="Calibri"/>
              </a:rPr>
              <a:t>!!</a:t>
            </a:r>
            <a:endParaRPr b="0" lang="en-US" sz="2800" spc="-1" strike="noStrike">
              <a:solidFill>
                <a:srgbClr val="000000"/>
              </a:solidFill>
              <a:latin typeface="Arial"/>
            </a:endParaRPr>
          </a:p>
        </p:txBody>
      </p:sp>
      <p:sp>
        <p:nvSpPr>
          <p:cNvPr id="417" name="AutoShape 29">
            <a:hlinkClick r:id="rId2" action="ppaction://hlinksldjump"/>
          </p:cNvPr>
          <p:cNvSpPr/>
          <p:nvPr/>
        </p:nvSpPr>
        <p:spPr>
          <a:xfrm>
            <a:off x="8213760" y="495288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94"/>
                                        </p:tgtEl>
                                        <p:attrNameLst>
                                          <p:attrName>style.visibility</p:attrName>
                                        </p:attrNameLst>
                                      </p:cBhvr>
                                      <p:to>
                                        <p:strVal val="visible"/>
                                      </p:to>
                                    </p:set>
                                    <p:animEffect filter="dissolve" transition="in">
                                      <p:cBhvr additive="repl">
                                        <p:cTn id="7" dur="500"/>
                                        <p:tgtEl>
                                          <p:spTgt spid="394"/>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95"/>
                                        </p:tgtEl>
                                        <p:attrNameLst>
                                          <p:attrName>style.visibility</p:attrName>
                                        </p:attrNameLst>
                                      </p:cBhvr>
                                      <p:to>
                                        <p:strVal val="visible"/>
                                      </p:to>
                                    </p:set>
                                    <p:animEffect filter="dissolve" transition="in">
                                      <p:cBhvr additive="repl">
                                        <p:cTn id="11" dur="500"/>
                                        <p:tgtEl>
                                          <p:spTgt spid="395"/>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96"/>
                                        </p:tgtEl>
                                        <p:attrNameLst>
                                          <p:attrName>style.visibility</p:attrName>
                                        </p:attrNameLst>
                                      </p:cBhvr>
                                      <p:to>
                                        <p:strVal val="visible"/>
                                      </p:to>
                                    </p:set>
                                    <p:animEffect filter="dissolve" transition="in">
                                      <p:cBhvr additive="repl">
                                        <p:cTn id="15" dur="500"/>
                                        <p:tgtEl>
                                          <p:spTgt spid="39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92"/>
                                        </p:tgtEl>
                                        <p:attrNameLst>
                                          <p:attrName>style.visibility</p:attrName>
                                        </p:attrNameLst>
                                      </p:cBhvr>
                                      <p:to>
                                        <p:strVal val="visible"/>
                                      </p:to>
                                    </p:set>
                                    <p:animEffect filter="dissolve" transition="in">
                                      <p:cBhvr additive="repl">
                                        <p:cTn id="20" dur="500"/>
                                        <p:tgtEl>
                                          <p:spTgt spid="39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97"/>
                                        </p:tgtEl>
                                        <p:attrNameLst>
                                          <p:attrName>style.visibility</p:attrName>
                                        </p:attrNameLst>
                                      </p:cBhvr>
                                      <p:to>
                                        <p:strVal val="visible"/>
                                      </p:to>
                                    </p:set>
                                    <p:animEffect filter="dissolve" transition="in">
                                      <p:cBhvr additive="repl">
                                        <p:cTn id="25" dur="500"/>
                                        <p:tgtEl>
                                          <p:spTgt spid="397"/>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398"/>
                                        </p:tgtEl>
                                        <p:attrNameLst>
                                          <p:attrName>style.visibility</p:attrName>
                                        </p:attrNameLst>
                                      </p:cBhvr>
                                      <p:to>
                                        <p:strVal val="visible"/>
                                      </p:to>
                                    </p:set>
                                    <p:animEffect filter="dissolve" transition="in">
                                      <p:cBhvr additive="repl">
                                        <p:cTn id="29" dur="500"/>
                                        <p:tgtEl>
                                          <p:spTgt spid="398"/>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399"/>
                                        </p:tgtEl>
                                        <p:attrNameLst>
                                          <p:attrName>style.visibility</p:attrName>
                                        </p:attrNameLst>
                                      </p:cBhvr>
                                      <p:to>
                                        <p:strVal val="visible"/>
                                      </p:to>
                                    </p:set>
                                    <p:animEffect filter="dissolve" transition="in">
                                      <p:cBhvr additive="repl">
                                        <p:cTn id="33" dur="500"/>
                                        <p:tgtEl>
                                          <p:spTgt spid="399"/>
                                        </p:tgtEl>
                                      </p:cBhvr>
                                    </p:animEffect>
                                  </p:childTnLst>
                                </p:cTn>
                              </p:par>
                            </p:childTnLst>
                          </p:cTn>
                        </p:par>
                        <p:par>
                          <p:cTn id="34" fill="hold">
                            <p:stCondLst>
                              <p:cond delay="1500"/>
                            </p:stCondLst>
                            <p:childTnLst>
                              <p:par>
                                <p:cTn id="35" nodeType="afterEffect" fill="hold" presetClass="entr" presetID="9">
                                  <p:stCondLst>
                                    <p:cond delay="0"/>
                                  </p:stCondLst>
                                  <p:childTnLst>
                                    <p:set>
                                      <p:cBhvr>
                                        <p:cTn id="36" dur="1" fill="hold">
                                          <p:stCondLst>
                                            <p:cond delay="0"/>
                                          </p:stCondLst>
                                        </p:cTn>
                                        <p:tgtEl>
                                          <p:spTgt spid="400"/>
                                        </p:tgtEl>
                                        <p:attrNameLst>
                                          <p:attrName>style.visibility</p:attrName>
                                        </p:attrNameLst>
                                      </p:cBhvr>
                                      <p:to>
                                        <p:strVal val="visible"/>
                                      </p:to>
                                    </p:set>
                                    <p:animEffect filter="dissolve" transition="in">
                                      <p:cBhvr additive="repl">
                                        <p:cTn id="37" dur="500"/>
                                        <p:tgtEl>
                                          <p:spTgt spid="400"/>
                                        </p:tgtEl>
                                      </p:cBhvr>
                                    </p:animEffect>
                                  </p:childTnLst>
                                </p:cTn>
                              </p:par>
                            </p:childTnLst>
                          </p:cTn>
                        </p:par>
                        <p:par>
                          <p:cTn id="38" fill="hold">
                            <p:stCondLst>
                              <p:cond delay="2000"/>
                            </p:stCondLst>
                            <p:childTnLst>
                              <p:par>
                                <p:cTn id="39" nodeType="afterEffect" fill="hold" presetClass="entr" presetID="9">
                                  <p:stCondLst>
                                    <p:cond delay="0"/>
                                  </p:stCondLst>
                                  <p:childTnLst>
                                    <p:set>
                                      <p:cBhvr>
                                        <p:cTn id="40" dur="1" fill="hold">
                                          <p:stCondLst>
                                            <p:cond delay="0"/>
                                          </p:stCondLst>
                                        </p:cTn>
                                        <p:tgtEl>
                                          <p:spTgt spid="401"/>
                                        </p:tgtEl>
                                        <p:attrNameLst>
                                          <p:attrName>style.visibility</p:attrName>
                                        </p:attrNameLst>
                                      </p:cBhvr>
                                      <p:to>
                                        <p:strVal val="visible"/>
                                      </p:to>
                                    </p:set>
                                    <p:animEffect filter="dissolve" transition="in">
                                      <p:cBhvr additive="repl">
                                        <p:cTn id="41" dur="500"/>
                                        <p:tgtEl>
                                          <p:spTgt spid="401"/>
                                        </p:tgtEl>
                                      </p:cBhvr>
                                    </p:animEffect>
                                  </p:childTnLst>
                                </p:cTn>
                              </p:par>
                            </p:childTnLst>
                          </p:cTn>
                        </p:par>
                        <p:par>
                          <p:cTn id="42" fill="hold">
                            <p:stCondLst>
                              <p:cond delay="2500"/>
                            </p:stCondLst>
                            <p:childTnLst>
                              <p:par>
                                <p:cTn id="43" nodeType="afterEffect" fill="hold" presetClass="entr" presetID="9">
                                  <p:stCondLst>
                                    <p:cond delay="0"/>
                                  </p:stCondLst>
                                  <p:childTnLst>
                                    <p:set>
                                      <p:cBhvr>
                                        <p:cTn id="44" dur="1" fill="hold">
                                          <p:stCondLst>
                                            <p:cond delay="0"/>
                                          </p:stCondLst>
                                        </p:cTn>
                                        <p:tgtEl>
                                          <p:spTgt spid="402"/>
                                        </p:tgtEl>
                                        <p:attrNameLst>
                                          <p:attrName>style.visibility</p:attrName>
                                        </p:attrNameLst>
                                      </p:cBhvr>
                                      <p:to>
                                        <p:strVal val="visible"/>
                                      </p:to>
                                    </p:set>
                                    <p:animEffect filter="dissolve" transition="in">
                                      <p:cBhvr additive="repl">
                                        <p:cTn id="45" dur="500"/>
                                        <p:tgtEl>
                                          <p:spTgt spid="402"/>
                                        </p:tgtEl>
                                      </p:cBhvr>
                                    </p:animEffect>
                                  </p:childTnLst>
                                </p:cTn>
                              </p:par>
                            </p:childTnLst>
                          </p:cTn>
                        </p:par>
                        <p:par>
                          <p:cTn id="46" fill="hold">
                            <p:stCondLst>
                              <p:cond delay="3000"/>
                            </p:stCondLst>
                            <p:childTnLst>
                              <p:par>
                                <p:cTn id="47" nodeType="afterEffect" fill="hold" presetClass="entr" presetID="9">
                                  <p:stCondLst>
                                    <p:cond delay="0"/>
                                  </p:stCondLst>
                                  <p:childTnLst>
                                    <p:set>
                                      <p:cBhvr>
                                        <p:cTn id="48" dur="1" fill="hold">
                                          <p:stCondLst>
                                            <p:cond delay="0"/>
                                          </p:stCondLst>
                                        </p:cTn>
                                        <p:tgtEl>
                                          <p:spTgt spid="403"/>
                                        </p:tgtEl>
                                        <p:attrNameLst>
                                          <p:attrName>style.visibility</p:attrName>
                                        </p:attrNameLst>
                                      </p:cBhvr>
                                      <p:to>
                                        <p:strVal val="visible"/>
                                      </p:to>
                                    </p:set>
                                    <p:animEffect filter="dissolve" transition="in">
                                      <p:cBhvr additive="repl">
                                        <p:cTn id="49" dur="500"/>
                                        <p:tgtEl>
                                          <p:spTgt spid="403"/>
                                        </p:tgtEl>
                                      </p:cBhvr>
                                    </p:animEffect>
                                  </p:childTnLst>
                                </p:cTn>
                              </p:par>
                            </p:childTnLst>
                          </p:cTn>
                        </p:par>
                        <p:par>
                          <p:cTn id="50" fill="hold">
                            <p:stCondLst>
                              <p:cond delay="3500"/>
                            </p:stCondLst>
                            <p:childTnLst>
                              <p:par>
                                <p:cTn id="51" nodeType="afterEffect" fill="hold" presetClass="entr" presetID="9">
                                  <p:stCondLst>
                                    <p:cond delay="0"/>
                                  </p:stCondLst>
                                  <p:childTnLst>
                                    <p:set>
                                      <p:cBhvr>
                                        <p:cTn id="52" dur="1" fill="hold">
                                          <p:stCondLst>
                                            <p:cond delay="0"/>
                                          </p:stCondLst>
                                        </p:cTn>
                                        <p:tgtEl>
                                          <p:spTgt spid="404"/>
                                        </p:tgtEl>
                                        <p:attrNameLst>
                                          <p:attrName>style.visibility</p:attrName>
                                        </p:attrNameLst>
                                      </p:cBhvr>
                                      <p:to>
                                        <p:strVal val="visible"/>
                                      </p:to>
                                    </p:set>
                                    <p:animEffect filter="dissolv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391"/>
                                        </p:tgtEl>
                                        <p:attrNameLst>
                                          <p:attrName>style.visibility</p:attrName>
                                        </p:attrNameLst>
                                      </p:cBhvr>
                                      <p:to>
                                        <p:strVal val="visible"/>
                                      </p:to>
                                    </p:set>
                                    <p:anim calcmode="lin" valueType="num">
                                      <p:cBhvr additive="base">
                                        <p:cTn id="58" dur="500" fill="hold"/>
                                        <p:tgtEl>
                                          <p:spTgt spid="391"/>
                                        </p:tgtEl>
                                        <p:attrNameLst>
                                          <p:attrName>ppt_x</p:attrName>
                                        </p:attrNameLst>
                                      </p:cBhvr>
                                      <p:tavLst>
                                        <p:tav tm="0">
                                          <p:val>
                                            <p:strVal val="#ppt_x"/>
                                          </p:val>
                                        </p:tav>
                                        <p:tav tm="100000">
                                          <p:val>
                                            <p:strVal val="#ppt_x"/>
                                          </p:val>
                                        </p:tav>
                                      </p:tavLst>
                                    </p:anim>
                                    <p:anim calcmode="lin" valueType="num">
                                      <p:cBhvr additive="base">
                                        <p:cTn id="59" dur="500" fill="hold"/>
                                        <p:tgtEl>
                                          <p:spTgt spid="3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2"/>
          <p:cNvGrpSpPr/>
          <p:nvPr/>
        </p:nvGrpSpPr>
        <p:grpSpPr>
          <a:xfrm>
            <a:off x="2828880" y="457200"/>
            <a:ext cx="3673440" cy="5977080"/>
            <a:chOff x="2828880" y="457200"/>
            <a:chExt cx="3673440" cy="5977080"/>
          </a:xfrm>
        </p:grpSpPr>
        <p:sp>
          <p:nvSpPr>
            <p:cNvPr id="95"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9" name="TextBox 48"/>
          <p:cNvSpPr/>
          <p:nvPr/>
        </p:nvSpPr>
        <p:spPr>
          <a:xfrm>
            <a:off x="3144960" y="30258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Mahkemeye gitme</a:t>
            </a:r>
            <a:r>
              <a:rPr b="1" lang="en-GB" sz="3600" spc="-1" strike="noStrike">
                <a:solidFill>
                  <a:srgbClr val="122031"/>
                </a:solidFill>
                <a:latin typeface="Calibri"/>
              </a:rPr>
              <a:t>:</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Giriş</a:t>
            </a:r>
            <a:endParaRPr b="0" lang="en-US" sz="36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Giriş</a:t>
            </a:r>
            <a:endParaRPr b="0" lang="en-US" sz="4400" spc="-1" strike="noStrike">
              <a:solidFill>
                <a:srgbClr val="000000"/>
              </a:solidFill>
              <a:latin typeface="Calibri"/>
            </a:endParaRPr>
          </a:p>
        </p:txBody>
      </p:sp>
      <p:sp>
        <p:nvSpPr>
          <p:cNvPr id="141" name=""/>
          <p:cNvSpPr txBox="1"/>
          <p:nvPr/>
        </p:nvSpPr>
        <p:spPr>
          <a:xfrm>
            <a:off x="457200" y="1074240"/>
            <a:ext cx="8229600" cy="5712120"/>
          </a:xfrm>
          <a:prstGeom prst="rect">
            <a:avLst/>
          </a:prstGeom>
          <a:noFill/>
          <a:ln w="0">
            <a:noFill/>
          </a:ln>
        </p:spPr>
        <p:txBody>
          <a:bodyPr anchor="t">
            <a:normAutofit fontScale="99000"/>
          </a:bodyPr>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Her iki dünyanın en iyi yönlerini birleştirin</a:t>
            </a:r>
            <a:endParaRPr b="0" lang="en-US" sz="32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Karşıt tarafların sunumlarına dayalı yaklaşım</a:t>
            </a:r>
            <a:endParaRPr b="0" lang="en-US" sz="2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Soruşturmaya dayalı yaklaşım</a:t>
            </a:r>
            <a:endParaRPr b="0" lang="en-US" sz="2800" spc="-1" strike="noStrike">
              <a:solidFill>
                <a:srgbClr val="000000"/>
              </a:solidFill>
              <a:latin typeface="Calibri"/>
            </a:endParaRPr>
          </a:p>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Takibatın idare edilmesi</a:t>
            </a:r>
            <a:endParaRPr b="0" lang="en-US" sz="32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Kalite</a:t>
            </a:r>
            <a:endParaRPr b="0" lang="en-US" sz="2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Miktar</a:t>
            </a:r>
            <a:endParaRPr b="0" lang="en-US" sz="2800" spc="-1" strike="noStrike">
              <a:solidFill>
                <a:srgbClr val="000000"/>
              </a:solidFill>
              <a:latin typeface="Calibri"/>
            </a:endParaRPr>
          </a:p>
          <a:p>
            <a:pPr lvl="2" marL="1131480" indent="-22608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tr-TR" sz="2400" spc="-1" strike="noStrike">
                <a:solidFill>
                  <a:srgbClr val="000000"/>
                </a:solidFill>
                <a:latin typeface="Calibri"/>
              </a:rPr>
              <a:t>de minimis non curat praetor (</a:t>
            </a:r>
            <a:r>
              <a:rPr b="1" lang="tr-TR" sz="2400" spc="-1" strike="noStrike">
                <a:solidFill>
                  <a:srgbClr val="000000"/>
                </a:solidFill>
                <a:latin typeface="Calibri"/>
              </a:rPr>
              <a:t>yasa önemsiz hususlarla ilgilenmez</a:t>
            </a:r>
            <a:r>
              <a:rPr b="1" i="1" lang="tr-TR" sz="2400" spc="-1" strike="noStrike">
                <a:solidFill>
                  <a:srgbClr val="000000"/>
                </a:solidFill>
                <a:latin typeface="Calibri"/>
              </a:rPr>
              <a:t>)</a:t>
            </a:r>
            <a:endParaRPr b="0" lang="en-US" sz="2400" spc="-1" strike="noStrike">
              <a:solidFill>
                <a:srgbClr val="000000"/>
              </a:solidFill>
              <a:latin typeface="Calibri"/>
            </a:endParaRPr>
          </a:p>
          <a:p>
            <a:pPr lvl="2" marL="1131480" indent="-22608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2400" spc="-1" strike="noStrike">
                <a:solidFill>
                  <a:srgbClr val="000000"/>
                </a:solidFill>
                <a:latin typeface="Calibri"/>
              </a:rPr>
              <a:t>Ne kadar basit ve açık olursa o kadar iyi </a:t>
            </a:r>
            <a:endParaRPr b="0" lang="en-US" sz="24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2"/>
          <p:cNvGrpSpPr/>
          <p:nvPr/>
        </p:nvGrpSpPr>
        <p:grpSpPr>
          <a:xfrm>
            <a:off x="2828880" y="457200"/>
            <a:ext cx="3673440" cy="5977080"/>
            <a:chOff x="2828880" y="457200"/>
            <a:chExt cx="3673440" cy="5977080"/>
          </a:xfrm>
        </p:grpSpPr>
        <p:sp>
          <p:nvSpPr>
            <p:cNvPr id="143"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87" name="TextBox 48"/>
          <p:cNvSpPr/>
          <p:nvPr/>
        </p:nvSpPr>
        <p:spPr>
          <a:xfrm>
            <a:off x="3144960" y="2759040"/>
            <a:ext cx="3068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Mahkeme için dava dosyasının hazırlanması</a:t>
            </a:r>
            <a:endParaRPr b="0" lang="en-US" sz="3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Mahkeme için dava dosyasının hazırlanması</a:t>
            </a:r>
            <a:endParaRPr b="0" lang="en-US" sz="4400" spc="-1" strike="noStrike">
              <a:solidFill>
                <a:srgbClr val="000000"/>
              </a:solidFill>
              <a:latin typeface="Calibri"/>
            </a:endParaRPr>
          </a:p>
        </p:txBody>
      </p:sp>
      <p:sp>
        <p:nvSpPr>
          <p:cNvPr id="189" name=""/>
          <p:cNvSpPr txBox="1"/>
          <p:nvPr/>
        </p:nvSpPr>
        <p:spPr>
          <a:xfrm>
            <a:off x="457200" y="1468080"/>
            <a:ext cx="8229600" cy="49798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a:t>
            </a:r>
            <a:r>
              <a:rPr b="1" lang="tr-TR" sz="2800" spc="-1" strike="noStrike">
                <a:solidFill>
                  <a:srgbClr val="1f497d"/>
                </a:solidFill>
                <a:latin typeface="Calibri"/>
              </a:rPr>
              <a:t>adli takibat planı </a:t>
            </a:r>
            <a:r>
              <a:rPr b="0" lang="tr-TR" sz="2800" spc="-1" strike="noStrike">
                <a:solidFill>
                  <a:srgbClr val="000000"/>
                </a:solidFill>
                <a:latin typeface="Calibri"/>
              </a:rPr>
              <a:t>hazırlayı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ütün ilgili belgeleri ve usulleri doğru bir şekilde </a:t>
            </a:r>
            <a:r>
              <a:rPr b="1" lang="tr-TR" sz="2800" spc="-1" strike="noStrike">
                <a:solidFill>
                  <a:srgbClr val="1f497d"/>
                </a:solidFill>
                <a:latin typeface="Calibri"/>
              </a:rPr>
              <a:t>tamamlayın veya güncelleyi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Gerekli </a:t>
            </a:r>
            <a:r>
              <a:rPr b="1" lang="tr-TR" sz="2800" spc="-1" strike="noStrike">
                <a:solidFill>
                  <a:srgbClr val="1f497d"/>
                </a:solidFill>
                <a:latin typeface="Calibri"/>
              </a:rPr>
              <a:t>dosyaların ve destekleyici belgelerin </a:t>
            </a:r>
            <a:r>
              <a:rPr b="0" lang="tr-TR" sz="2800" spc="-1" strike="noStrike">
                <a:solidFill>
                  <a:srgbClr val="000000"/>
                </a:solidFill>
                <a:latin typeface="Calibri"/>
              </a:rPr>
              <a:t>hazırlanmasını sağlayın ve bunları, ilgili süreler içinde gerekli biçimde sunu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Savunmaya </a:t>
            </a:r>
            <a:r>
              <a:rPr b="1" lang="tr-TR" sz="2800" spc="-1" strike="noStrike">
                <a:solidFill>
                  <a:srgbClr val="1f497d"/>
                </a:solidFill>
                <a:latin typeface="Calibri"/>
              </a:rPr>
              <a:t>kanıtları açıklayı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anıt talepleri konusunda </a:t>
            </a:r>
            <a:r>
              <a:rPr b="1" lang="tr-TR" sz="2800" spc="-1" strike="noStrike">
                <a:solidFill>
                  <a:srgbClr val="1f497d"/>
                </a:solidFill>
                <a:latin typeface="Calibri"/>
              </a:rPr>
              <a:t>hiç bir hukuki veya usule ilişkin engelin </a:t>
            </a:r>
            <a:r>
              <a:rPr b="0" lang="tr-TR" sz="2800" spc="-1" strike="noStrike">
                <a:solidFill>
                  <a:srgbClr val="000000"/>
                </a:solidFill>
                <a:latin typeface="Calibri"/>
              </a:rPr>
              <a:t>bulunmamasını sağlayı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Mevcut politika ve mevzuata uygun olarak bütün kararları, işlemleri, seçenekleri ve gerekçeleri </a:t>
            </a:r>
            <a:r>
              <a:rPr b="1" lang="tr-TR" sz="2800" spc="-1" strike="noStrike">
                <a:solidFill>
                  <a:srgbClr val="1f497d"/>
                </a:solidFill>
                <a:latin typeface="Calibri"/>
              </a:rPr>
              <a:t>tam olarak belgelendiri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Dijital kanıtları kontrol edin ve </a:t>
            </a:r>
            <a:r>
              <a:rPr b="1" lang="tr-TR" sz="2800" spc="-1" strike="noStrike">
                <a:solidFill>
                  <a:srgbClr val="1f497d"/>
                </a:solidFill>
                <a:latin typeface="Calibri"/>
              </a:rPr>
              <a:t>tekrar kontrol edin</a:t>
            </a:r>
            <a:endParaRPr b="0" lang="en-US" sz="2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2"/>
          <p:cNvGrpSpPr/>
          <p:nvPr/>
        </p:nvGrpSpPr>
        <p:grpSpPr>
          <a:xfrm>
            <a:off x="2828880" y="457200"/>
            <a:ext cx="3673440" cy="5977080"/>
            <a:chOff x="2828880" y="457200"/>
            <a:chExt cx="3673440" cy="5977080"/>
          </a:xfrm>
        </p:grpSpPr>
        <p:sp>
          <p:nvSpPr>
            <p:cNvPr id="19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5" name="TextBox 48"/>
          <p:cNvSpPr/>
          <p:nvPr/>
        </p:nvSpPr>
        <p:spPr>
          <a:xfrm>
            <a:off x="3144960" y="2654280"/>
            <a:ext cx="3068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 </a:t>
            </a:r>
            <a:r>
              <a:rPr b="1" lang="tr-TR" sz="3600" spc="-1" strike="noStrike">
                <a:solidFill>
                  <a:srgbClr val="122031"/>
                </a:solidFill>
                <a:latin typeface="Calibri"/>
              </a:rPr>
              <a:t>Siber uzayda dijital kanıtların özellikleri </a:t>
            </a:r>
            <a:endParaRPr b="0" lang="en-US" sz="36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Siber uzayda dijital </a:t>
            </a:r>
            <a:br>
              <a:rPr sz="4000"/>
            </a:br>
            <a:r>
              <a:rPr b="1" lang="tr-TR" sz="4000" spc="-1" strike="noStrike">
                <a:solidFill>
                  <a:srgbClr val="122031"/>
                </a:solidFill>
                <a:latin typeface="Calibri"/>
              </a:rPr>
              <a:t>kanıtların özellikleri</a:t>
            </a:r>
            <a:endParaRPr b="0" lang="en-US" sz="40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Dijital kanıtlarla ilgili sorunlar:</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Uçucu</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Kolaylıkla değiştirilebilir</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Elde edilmesi güç</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Kaynağının ve gerçekliğinin kanıtlanması güç</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Coğrafi sınır ötesidir</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Dijital kanıtların özelliği ile başa çıkılması</a:t>
            </a:r>
            <a:endParaRPr b="0" lang="en-US" sz="4000" spc="-1" strike="noStrike">
              <a:solidFill>
                <a:srgbClr val="000000"/>
              </a:solidFill>
              <a:latin typeface="Calibri"/>
            </a:endParaRPr>
          </a:p>
        </p:txBody>
      </p:sp>
      <p:sp>
        <p:nvSpPr>
          <p:cNvPr id="239" name="PlaceHolder 2"/>
          <p:cNvSpPr>
            <a:spLocks noGrp="1"/>
          </p:cNvSpPr>
          <p:nvPr>
            <p:ph/>
          </p:nvPr>
        </p:nvSpPr>
        <p:spPr>
          <a:xfrm>
            <a:off x="457200" y="1158480"/>
            <a:ext cx="403848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SORUNLAR</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Uçucu</a:t>
            </a: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Kolaylıkla değiştirilebilir</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Elde edilmesi güçtür</a:t>
            </a:r>
            <a:endParaRPr b="0" lang="en-US" sz="2200" spc="-1" strike="noStrike">
              <a:solidFill>
                <a:srgbClr val="000000"/>
              </a:solidFill>
              <a:latin typeface="Calibri"/>
            </a:endParaRPr>
          </a:p>
          <a:p>
            <a:pPr lvl="1" marL="743040" indent="0">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spcBef>
                <a:spcPts val="55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Kaynağının ve gerçekliğinin kanıtlanması güçtür</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Coğrafi sınırı yoktur</a:t>
            </a: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240" name="PlaceHolder 3"/>
          <p:cNvSpPr>
            <a:spLocks noGrp="1"/>
          </p:cNvSpPr>
          <p:nvPr>
            <p:ph/>
          </p:nvPr>
        </p:nvSpPr>
        <p:spPr>
          <a:xfrm>
            <a:off x="4059360" y="1158480"/>
            <a:ext cx="508464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YAKLAŞIM</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Hızlı davranın ve dünya çapındaki veri  alıkoyma kuralları hakkında bilgi edinin</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Bütünlüğü sağlayın</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Ulusal yasalar, MLA, LO, EJN, AK irtibat görevlileri, GPEN’i kullanın</a:t>
            </a:r>
            <a:endParaRPr b="0" lang="en-US" sz="2200" spc="-1" strike="noStrike">
              <a:solidFill>
                <a:srgbClr val="000000"/>
              </a:solidFill>
              <a:latin typeface="Calibri"/>
            </a:endParaRPr>
          </a:p>
          <a:p>
            <a:pPr lvl="1" marL="743040" indent="-285840">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Bütün işlemleri, talepleri ve adli bilimi tam olarak belgelendirin</a:t>
            </a:r>
            <a:endParaRPr b="0" lang="en-US" sz="2200" spc="-1" strike="noStrike">
              <a:solidFill>
                <a:srgbClr val="000000"/>
              </a:solidFill>
              <a:latin typeface="Calibri"/>
            </a:endParaRPr>
          </a:p>
          <a:p>
            <a:pPr lvl="1" marL="743040" indent="0">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Sınır ötesi işbirliği kurallarına göre hareket edin</a:t>
            </a:r>
            <a:endParaRPr b="0" lang="en-US" sz="2200" spc="-1" strike="noStrike">
              <a:solidFill>
                <a:srgbClr val="000000"/>
              </a:solidFill>
              <a:latin typeface="Calibri"/>
            </a:endParaRPr>
          </a:p>
          <a:p>
            <a:pPr lvl="1" marL="743040" indent="0">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241" name="AutoShape 11">
            <a:hlinkClick r:id="rId1" action="ppaction://hlinksldjump"/>
          </p:cNvPr>
          <p:cNvSpPr/>
          <p:nvPr/>
        </p:nvSpPr>
        <p:spPr>
          <a:xfrm>
            <a:off x="6307200" y="2674800"/>
            <a:ext cx="576360" cy="648000"/>
          </a:xfrm>
          <a:custGeom>
            <a:avLst/>
            <a:gdLst>
              <a:gd name="textAreaLeft" fmla="*/ 37080 w 576360"/>
              <a:gd name="textAreaRight" fmla="*/ 539280 w 576360"/>
              <a:gd name="textAreaTop" fmla="*/ 37080 h 648000"/>
              <a:gd name="textAreaBottom" fmla="*/ 610920 h 648000"/>
            </a:gdLst>
            <a:ahLst/>
            <a:rect l="textAreaLeft" t="textAreaTop" r="textAreaRight" b="textAreaBottom"/>
            <a:pathLst>
              <a:path w="21600" h="24283">
                <a:moveTo>
                  <a:pt x="0" y="0"/>
                </a:moveTo>
                <a:lnTo>
                  <a:pt x="21600" y="0"/>
                </a:lnTo>
                <a:lnTo>
                  <a:pt x="21600" y="24283"/>
                </a:lnTo>
                <a:lnTo>
                  <a:pt x="0" y="24283"/>
                </a:lnTo>
                <a:close/>
              </a:path>
              <a:path fill="lightenLess" w="21600" h="24283">
                <a:moveTo>
                  <a:pt x="0" y="0"/>
                </a:moveTo>
                <a:lnTo>
                  <a:pt x="21600" y="0"/>
                </a:lnTo>
                <a:lnTo>
                  <a:pt x="20200" y="1400"/>
                </a:lnTo>
                <a:lnTo>
                  <a:pt x="1400" y="1400"/>
                </a:lnTo>
                <a:close/>
              </a:path>
              <a:path fill="darken" w="21600" h="24283">
                <a:moveTo>
                  <a:pt x="21600" y="0"/>
                </a:moveTo>
                <a:lnTo>
                  <a:pt x="21600" y="24283"/>
                </a:lnTo>
                <a:lnTo>
                  <a:pt x="20200" y="22883"/>
                </a:lnTo>
                <a:lnTo>
                  <a:pt x="20200" y="1400"/>
                </a:lnTo>
                <a:close/>
              </a:path>
              <a:path fill="darkenLess" w="21600" h="24283">
                <a:moveTo>
                  <a:pt x="21600" y="24283"/>
                </a:moveTo>
                <a:lnTo>
                  <a:pt x="0" y="24283"/>
                </a:lnTo>
                <a:lnTo>
                  <a:pt x="1400" y="22883"/>
                </a:lnTo>
                <a:lnTo>
                  <a:pt x="20200" y="22883"/>
                </a:lnTo>
                <a:close/>
              </a:path>
              <a:path fill="lighten" w="21600" h="24283">
                <a:moveTo>
                  <a:pt x="0" y="24283"/>
                </a:moveTo>
                <a:lnTo>
                  <a:pt x="0" y="0"/>
                </a:lnTo>
                <a:lnTo>
                  <a:pt x="1400" y="1400"/>
                </a:lnTo>
                <a:lnTo>
                  <a:pt x="1400" y="22883"/>
                </a:lnTo>
                <a:close/>
              </a:path>
              <a:path fill="darken" w="21600" h="24283">
                <a:moveTo>
                  <a:pt x="10800" y="5135"/>
                </a:moveTo>
                <a:arcTo wR="7006" hR="7006" stAng="16200000" swAng="-5400000"/>
                <a:arcTo wR="7006" hR="7006" stAng="10800000" swAng="-5400000"/>
                <a:arcTo wR="7006" hR="7006" stAng="5400000" swAng="-5400000"/>
                <a:arcTo wR="7006" hR="7006" stAng="0" swAng="-5400000"/>
                <a:close/>
              </a:path>
              <a:path fill="lighten" w="21600" h="24283">
                <a:moveTo>
                  <a:pt x="10800" y="5509"/>
                </a:moveTo>
                <a:arcTo wR="1793" hR="1793" stAng="16200000" swAng="-5400000"/>
                <a:arcTo wR="1793" hR="1793" stAng="10800000" swAng="-5400000"/>
                <a:arcTo wR="1793" hR="1793" stAng="5400000" swAng="-5400000"/>
                <a:arcTo wR="1793" hR="1793" stAng="0" swAng="-5400000"/>
                <a:close/>
              </a:path>
              <a:path fill="lighten" w="21600" h="24283">
                <a:moveTo>
                  <a:pt x="8224" y="9565"/>
                </a:moveTo>
                <a:lnTo>
                  <a:pt x="12088" y="9565"/>
                </a:lnTo>
                <a:lnTo>
                  <a:pt x="12088" y="16563"/>
                </a:lnTo>
                <a:lnTo>
                  <a:pt x="13376" y="16563"/>
                </a:lnTo>
                <a:lnTo>
                  <a:pt x="13376" y="17486"/>
                </a:lnTo>
                <a:lnTo>
                  <a:pt x="8224" y="17486"/>
                </a:lnTo>
                <a:lnTo>
                  <a:pt x="8224" y="16563"/>
                </a:lnTo>
                <a:lnTo>
                  <a:pt x="9512" y="16563"/>
                </a:lnTo>
                <a:lnTo>
                  <a:pt x="9512" y="10470"/>
                </a:lnTo>
                <a:lnTo>
                  <a:pt x="8224" y="1047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7:59:59Z</dcterms:modified>
  <cp:revision>346</cp:revision>
  <dc:subject>ERENOGLU CONSULTANCY, TRANSLATION AND FOREIGN TRADE LTD CO.</dc:subject>
  <dc:title>ERENOĞLU DANIŞMANLIK TERCÜMANLIK VE DIŞ TİCARET LTD. ŞTİ.</dc:title>
</cp:coreProperties>
</file>