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6C8B9-5F1B-431B-B86E-8E2063491A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o-RO"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D677FA-F417-42B5-8FAC-6A2B6DB7F3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Ulusal hukuk sistemine bağlı olarak soruşturma yetkisi, polise veya savcılara aittir ve polis ve savcılar arasındaki işbirliği, belirli bir çerçeve ile belirlen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nedenle, şikayetin yapıldığı kurum tarafından yapılacak başlangıçtaki faaliyetlere ilave olarak kanıtların bütünlüğünün ve korunmasının sağlanması, risklerin giderilmesi ve suç oluşturan faaliyetlerin durdurulması için dosyanın, o tarihe kadar alınmış olan önlemlerle birlikte savcı tarafından sunul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Emniyet güçlerinin teknik ve personel kapasitesinin, genellikle savcılıktan daha geniş olmasına karşın savcılar, kapsamlı hukuki bilgiye ve belirli yasal yetkiye sahiptir. Bu önlemin amacı, belirli soruşturma önlemlerinin savcının onayı olmadan alınamayacak olmasıdır. Diğer yandan belirli soruşturma faaliyetlerine savcı tarafından karar verilebilir. Bu nedenle savcının sürece katıl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olis ve savcılar arasında işbirliği, bütün soruşturma sırasında gereklidir ve büyük ölçüde şunlarla ilgi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işlenmiş olan suçların belirlenmes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oruşturma önlemlerinin belirlenmesi, v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onuçların değerlendirilmesi ve aramalar ve zanlıların tutuklanması ve sorgulanması hakkında karar verilmesi</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FF653B-64D7-4DCE-A3AB-4EDD04AEA5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oruşturmanın önceliklerinden biri de zanlı veya zanlıların belirlenmesidir. Zanlılar, kimlikleri konusunda bazı doğrudan izler bırakabilirler veya klasik ya da sanal suç faaliyetlerinde bulunurken aracılar kullanabilirler. Zanlı hakkında internetteki yararlı bilgiler, onun suç oluşturan faaliyetleri dışındaki nedenlerle de bulun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ların bulundukları yerler, suç oluşturan faaliyetleri yürüttükleri yerin ve dosya için önemli kanıtların bulunduğu yerin belirlenmesi açısından önem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nın kimliğinin belirlenmesinden sonra aşağıda belirtilen olaya ilişkin yönlerin açıklığa kavuşturulması amacıyla soruşturma faaliyetlerinin yürütülmesi büyük önem taş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uç işlenmesi için kullanılan bilgisayarın bulunduğu y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zanlının bulunduğu yer veya kullanılan diğer adresler</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kullanılan </a:t>
            </a:r>
            <a:r>
              <a:rPr b="0" lang="en-GB" sz="1200" spc="-1" strike="noStrike">
                <a:solidFill>
                  <a:srgbClr val="000000"/>
                </a:solidFill>
                <a:latin typeface="Calibri"/>
              </a:rPr>
              <a:t>internet </a:t>
            </a:r>
            <a:r>
              <a:rPr b="0" lang="tr-TR" sz="1200" spc="-1" strike="noStrike">
                <a:solidFill>
                  <a:srgbClr val="000000"/>
                </a:solidFill>
                <a:latin typeface="Calibri"/>
              </a:rPr>
              <a:t>bağlantısı</a:t>
            </a:r>
            <a:r>
              <a:rPr b="0" lang="en-GB" sz="1200" spc="-1" strike="noStrike">
                <a:solidFill>
                  <a:srgbClr val="000000"/>
                </a:solidFill>
                <a:latin typeface="Calibri"/>
              </a:rPr>
              <a:t> (</a:t>
            </a:r>
            <a:r>
              <a:rPr b="0" lang="tr-TR" sz="1200" spc="-1" strike="noStrike">
                <a:solidFill>
                  <a:srgbClr val="000000"/>
                </a:solidFill>
                <a:latin typeface="Calibri"/>
              </a:rPr>
              <a:t>kablolu</a:t>
            </a:r>
            <a:r>
              <a:rPr b="0" lang="en-GB" sz="1200" spc="-1" strike="noStrike">
                <a:solidFill>
                  <a:srgbClr val="000000"/>
                </a:solidFill>
                <a:latin typeface="Calibri"/>
              </a:rPr>
              <a:t>, </a:t>
            </a:r>
            <a:r>
              <a:rPr b="0" lang="tr-TR" sz="1200" spc="-1" strike="noStrike">
                <a:solidFill>
                  <a:srgbClr val="000000"/>
                </a:solidFill>
                <a:latin typeface="Calibri"/>
              </a:rPr>
              <a:t>kablosuz</a:t>
            </a:r>
            <a:r>
              <a:rPr b="0" lang="en-GB" sz="1200" spc="-1" strike="noStrike">
                <a:solidFill>
                  <a:srgbClr val="000000"/>
                </a:solidFill>
                <a:latin typeface="Calibri"/>
              </a:rPr>
              <a:t>, ISP, </a:t>
            </a:r>
            <a:r>
              <a:rPr b="0" lang="tr-TR" sz="1200" spc="-1" strike="noStrike">
                <a:solidFill>
                  <a:srgbClr val="000000"/>
                </a:solidFill>
                <a:latin typeface="Calibri"/>
              </a:rPr>
              <a:t>vs.</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suç oluşturan faaliyetler hakkında bilgi ve katılım</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diğer zanlılarla işbirliği ve onların katılım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banka hesaplar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li hususların soruşturulması, zanlıların kimlikleri ve bulundukları yerlerin belirlenmesine ve ayrıca zararın karşılanması amacıyla işlenmiş olan suçların mali ürününün geri alınmasına yardımcı ol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 ile ilgili bütün soruşturma işlemleri ayrıca zanlının suç oluşturan faaliyetlerden haberdar olan veya bunlara katılan başka kişilerle bağlantıları  ve ayrıca kendi lehine ve savunması için oluşturabileceği başka muhtemel senaryoları da kapsamalıdır. Bu kişiler, bize esas zanlının kimliğinin ve bulunduğu yerin belirlenmesi amacıyla bize önemli kanıtlar sağlayabilirl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azen altyapı (elektrik, su, gaz, telefon) abonelik bilgilerinin de suçlunun/suçluların kimliğinin belirlenmesine yardımcı olabileceğini unutmamalıyı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Polis veri tabanları yanı sıra diğer emniyet müdürlükleri tarafından yürütülen eski veya güncel soruşturmalar, zanlının kimliğinin ve yerinin belirlenmesi için incelenebilir.</a:t>
            </a:r>
            <a:r>
              <a:rPr b="0" lang="en-GB" sz="1200" spc="-1" strike="noStrike">
                <a:solidFill>
                  <a:srgbClr val="000000"/>
                </a:solidFill>
                <a:latin typeface="Calibri"/>
              </a:rPr>
              <a:t> </a:t>
            </a:r>
            <a:r>
              <a:rPr b="0" lang="tr-TR" sz="1200" spc="-1" strike="noStrike">
                <a:solidFill>
                  <a:srgbClr val="000000"/>
                </a:solidFill>
                <a:latin typeface="Calibri"/>
              </a:rPr>
              <a:t>Suç ortamının internet üzerinden sağlanan bir hizmet olması halinde hizmet sunucusu da zanlının belirlenmesi konusunda ilave yardımcı bilgilere sahip olabilir. </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90C250-D415-4EBB-AB5D-1AF764F271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iğer polis birimleri veya makamlarla işbirliği, soruşturmanın yürütülme şekli ile yakından bağlantılıdır ve bu süreçte öngörülen bütün hususları kapsa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nedenle işbirliği, aşağıda belirtilen hususların açıklığa kavuşturulması açısından yararlıdı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laylar, kişiler, faaliyet yöntemleri, soruşturmalardaki bağlantılar hakkında bilgi değişimi;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 ve kanıt toplanmas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belirli faaliyetlerin gerçekleştirilmesi için lojistik destek sağlanması</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a:t>
            </a:r>
            <a:r>
              <a:rPr b="0" lang="tr-TR" sz="1200" spc="-1" strike="noStrike">
                <a:solidFill>
                  <a:srgbClr val="000000"/>
                </a:solidFill>
                <a:latin typeface="Calibri"/>
              </a:rPr>
              <a:t>teknik, mali veya diğer konularda uzmanlaşmış yardım</a:t>
            </a: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şbirliğine dayalı faaliyetler, belirli bir düzene sahip olmalı ve işbirliği protokolleri ve usullerine dayalı olarak soruşturmaya ilişkin öncelikler belirlenmelidir</a:t>
            </a: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B854C-285C-405F-8D77-C625E0D5C1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Gerçekleştirilen faaliyetlerin, elde edilen sonuçların ve belirlenen kanıtların değerlendirilmesi, soruşturma sırasında devam eden bir süreçtir ve aşağıda belirtilen hususlar üzerinde odaklanması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Bu faaliyetlerin nasıl gerçekleştirildiği</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Kararlara ve adımlara uyulup uyulmadığı</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Toplanan kanıtların karar verilmesi için yeterli olup olmadığı</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tr-TR" sz="1100" spc="-1" strike="noStrike">
                <a:solidFill>
                  <a:srgbClr val="000000"/>
                </a:solidFill>
                <a:latin typeface="Calibri"/>
              </a:rPr>
              <a:t>Hukuki usullere ve hükümlere uyulup uyulmadığı</a:t>
            </a:r>
            <a:r>
              <a:rPr b="0" lang="en-US" sz="1100" spc="-1" strike="noStrike">
                <a:solidFill>
                  <a:srgbClr val="000000"/>
                </a:solidFill>
                <a:latin typeface="Calibri"/>
              </a:rPr>
              <a:t>;</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CE9604-AF66-48A5-B205-FBC2DECB31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bütün hususların soruşturulup soruşturulmadığı</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ilave soruşturma önlemleri için emir verilmes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suç oluşturan faaliyetin sona erdirilip erdirilmediği ve devam etmesi halinde etkisinin ne olduğu</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değerlendirme, aynı zamanda aramalar, tutuklamalar ve sorgulamalara ilişkin süreyi belirleme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faaliyetlerin gerçekleştirilme tarihleri ve yöntemi, toplanan kanıtlara, suç oluşturan faaliyetin özelliğine ve zanlıların bulunduğu sınıfa göre belirlenecek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lk olarak zanlıların suçüstü yakalanmasına ve daha sonra aramaların yapılmasına veya önce belirli zanlıların aranmasına ve tutuklanmasına ve daha sonraki bir aşamada da diğer zanlıların aranmasına ve tutuklanmasına karar verilmesi mümkündü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ütün kararlar, soruşturma ve mağdurlar lehine verilecek ve hukuki hükümler ve usullere uyulacakt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Aramaların yapılması, zanlıların kimliklerinin belirlenmesi ve kanıtlara el konulması ve malvarlığı araması yapılması, bu faaliyetlerin yapılacağı yere, zanlıların kimlikleri ve bunlarla ilgili riskler ve belirlenecek kanıtların ve malvarlığının özelliğine göre bunu yapacak olan kişilerin özel ve ayrı olarak hazırlanmasını gerektir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ukarıda belirtilen faaliyetlere katılacak personelin görevlendirilmesi ve hazırlanması, daha önce belirtilmiş olan hususlara paralel olarak çok önemli bir faaliyet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ava dosyasındaki belgelerin hazırlanması ve zanlıların sorgulanması için personele talimat verilmesinde gerçekleştirilmiş olan bütün soruşturma faaliyetleri, işlenmiş olan suçlar ve sağlanan kanıtlar dikkate alınmalı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4E0A5C-26F8-4878-82B7-181642EB57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oruşturmanın sonunda davaya ilişkin bütün olumlu ve olumsuz hususların belirlenmesi için olayın bir değerlendirilmesinin yapılması tavsiye edilmekte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lumsuz hususlar, gelecekte gerçekleştirilen faaliyetlerle ilgili her türlü riskin giderilmesi için bu tür olaylardaki performans, yöntem ve usullerin iyileştirilmesine yardımcı olu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Olumlu hususlar, personelin eğitimi, mağdurlarla işbirliği yöntemleri veya diğer faaliyetler hakkında gelecekte kullanılacak belirli deneyimleri kapsa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Deneyimler, öğrenilen hususlar ve en iyi uygulamalar, bölümde veya yetkili kanallar üzerinden diğer bölümlere dağıtıl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r soruşturma sırasında karşılaşılan belirli durumlar, bunlara yönelik tepkilerin ve gelecekteki hareket seçeneklerinin değerlendirilmesi için sunulabilir ve tartışıla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77EF9E-455A-49AF-9C88-CDCED942D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eğitimde hepiniz soruşturmacısınız ve verilen senaryoyu bugün ve yarın soruşturmanız beklenmektedir. Grup çalışması nedeniyle siz ve yuvarlak masada sizinle birlikte oturan ekip üyelerinizin, olayı soruşturması ve suçluyu/suçluları belirlemeleri öngörülmekte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Öncelikle anlamamız gereken hususlardan biri de suç ve bunun işlenme biçimidir. Saldırının sizin açınızdan çok teknik olması veya açık olmaması durumunda suçun ve suç modelinin nasıl gerçekleştiğini anlamak için zaman harcanması her zaman için tavsiye edilmektedir. Verilen senaryoda DDOS (Dağıtık Sistem Reddi) saldırısı, bu tür saldırı hakkında bilgi sahibi olmayanlar için biraz teknik olabilir. DDOS, mağdurun sistemine çok fazla sayıda bilgisayar erişim talebi ile erişmek için gerçekleştirilen bir saldırı türüdür ve mağdurun sistem kaynaklarını bu taleplerle meşgul eder. Bu şekilde meşru ve doğal erişim taleplerine mağdurun sistemi tarafından yanıt verilemez ve erişilemediği düşünülür. DDOS saldırısının teknik yöntemi, bant genişliğine aşırı yükleme yapılmasıdır. .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İlk yapmanız gereken işlerden biri de bu saldırının kendi ceza hukukunuzda bir suç oluşturup oluşturmadığının belirlenmesidir. Yanıtınız evet ise bunun ne olduğunu yazı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senaryodaki başlıca göreviniz, Humor’un mağdur olmasına yol açan suçlunun kimliğinin belirlenmes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Yapılacak işlere ilişkin bir listenin hazırlanması her zaman çok yardımcı olur. Bir dosya oluşturmak için neyin mevcut olduğu, internetten ve açık kaynaklardan neleri toplayabileceğimiz, internet dışı veri sağlayıcılardan (ISP, banka, elektrik şirketi kayıtları, şirketler, uluslararası yardım) başka hangi verileri istememiz gerektiği) belirlenmelidir. Sınıftaki eğitmenlerin internet dışı veri sağlayıcısı olduğunu varsayın. Bir savcı veya hakim olarak taleplerinizi yazdığınız taktirde (küçük bir not kağıdına), size bazı değerli veriler sağlayabilirler. Taleplerinizden bazıları, olumlu sonuçlanırken diğerleri gerçek yaşamda olduğu gibi olumlu sonuç vermeyecek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r>
              <a:rPr b="0" lang="tr-TR" sz="1200" spc="-1" strike="noStrike">
                <a:solidFill>
                  <a:srgbClr val="000000"/>
                </a:solidFill>
                <a:latin typeface="Calibri"/>
              </a:rPr>
              <a:t>Bazen ayrıntıların düşünülmesi ve her verinin anlamının kontrol edilmesi yardımcı olurken diğer durumlarda duruma ilişkin genel bir değerlendirme faydalı olabilir. Lütfen aynı zamanda birkaç girişimde bulunun. Bütün bilgileri topladığınızda bunların ne anlam taşıdığını analiz edebilirsini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endinizi suçlunun yerine koyarak düşünmek her zaman yararlıdır. Bunu yapabildiğimiz taktirde doğru yerleri kontrol edebilir ve suçun arkasında kimin olduğunu anlayabiliriz.</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Lütfen bunun eğitim olduğunu ve eğitmenlerin bir kuşkunuz veya sorunuz olması halinde size yardımcı olmaya hazır olduklarını unutmayı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lunun kimliğinin belirlenmesi konusundaki etkin katılımınız ve katkınız takdirle karşılanmaktadır.</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0E50E-009C-455F-8329-E92AA64F77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88394F-048B-46DD-92CA-E39E1E8786F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 yoluyla yetkili makamlara bir bilişim suçu olayı bildirildiğinde yapılacak ilk işlerden biri, bir soruşturma başlatılması için </a:t>
            </a:r>
            <a:r>
              <a:rPr b="0" lang="tr-TR" sz="1200" spc="-1" strike="noStrike" u="sng">
                <a:solidFill>
                  <a:srgbClr val="000000"/>
                </a:solidFill>
                <a:uFillTx/>
                <a:latin typeface="Calibri"/>
              </a:rPr>
              <a:t>gerekli ve yeterli verileri içerip içermediğinin</a:t>
            </a:r>
            <a:r>
              <a:rPr b="0" lang="tr-TR" sz="1200" spc="-1" strike="noStrike">
                <a:solidFill>
                  <a:srgbClr val="000000"/>
                </a:solidFill>
                <a:latin typeface="Calibri"/>
              </a:rPr>
              <a:t> belirlenmesi amacıyla bu şikayetin incelenmes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nın bir şikayet veya aleni bilgiye (kitle iletişim araçları veya internette mevcut) veya bir suç analizine/bilişim kontrolü sonucuna dayanılarak ya da bir yabancı makamın yardım talebine dayanılarak başlatılacak olması halinde bile soruşturma için en iyi yaklaşımın belirlenmesi amacıyla en başından itibaren bütün gerçekleri çok açık bir şekilde elde etmek büyük önem taşı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ğdurdan şikayetin alınmasından sorumlu olan kişilerin, şikayette hangi bilgilerin bulunması gerektiğini ve soruşturmanın başlatılması için hangi bilgilere gerek duyulduğunu bilmeleri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in biçimi ve içeriğine bakmadan önce bildirilen faaliyetlerin suç olarak görülüp görülmediğinin kontrol edilmesi önem taşımaktadır. Çünkü bazı durumlarda gerçekleştirilen eylemler, ulusal mevzuatta suç olarak kabul edilmeyebilir (örneğin ifade özgürlüğü). </a:t>
            </a: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CD5C84-EBE9-478D-9C24-69FB621003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işim suçları olaylarında şikayetin, </a:t>
            </a:r>
            <a:r>
              <a:rPr b="0" lang="tr-TR" sz="1200" spc="-1" strike="noStrike" u="sng">
                <a:solidFill>
                  <a:srgbClr val="000000"/>
                </a:solidFill>
                <a:uFillTx/>
                <a:latin typeface="Calibri"/>
              </a:rPr>
              <a:t>yetkili makamlara</a:t>
            </a:r>
            <a:r>
              <a:rPr b="0" lang="tr-TR" sz="1200" spc="-1" strike="noStrike">
                <a:solidFill>
                  <a:srgbClr val="000000"/>
                </a:solidFill>
                <a:latin typeface="Calibri"/>
              </a:rPr>
              <a:t> hitaben yazılmış olması ve en azından aşağıdaki veri ve bilgileri içermesi gerekir: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ğdurun kimlik bilgileri (adres, isim, telefon numarası, yer, email, çevrim içi sistem kimlik numarası, tüzel kişilikler için faaliyet türü)</a:t>
            </a:r>
            <a:r>
              <a:rPr b="0" lang="en-US"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ildirilen olayların kısa tarifi, meydana geldikleri süre ve nasıl meydana geldikleri, yer, sonuçlar, vs.;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 </a:t>
            </a:r>
            <a:r>
              <a:rPr b="0" lang="tr-TR" sz="1200" spc="-1" strike="noStrike">
                <a:solidFill>
                  <a:srgbClr val="000000"/>
                </a:solidFill>
                <a:latin typeface="Calibri"/>
              </a:rPr>
              <a:t>zarar, açıklama ve bunun gerekçesi</a:t>
            </a:r>
            <a:r>
              <a:rPr b="0" lang="en-US" sz="1200" spc="-1" strike="noStrike">
                <a:solidFill>
                  <a:srgbClr val="000000"/>
                </a:solidFill>
                <a:latin typeface="Calibri"/>
              </a:rPr>
              <a:t>;</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Mağdurun bilgisayar sistemlerinin bulunduğu yer, bunlar hakkında bilgi verebilecek bakımlarından sorumlu teknik kişiler</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Olaylarla ilgili olarak mağdur tarafından yapılmış olabilecek soruşturma ve kontrollerin sonuçları</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Arial"/>
              </a:rPr>
              <a:t>Şüpheliler hakkında bilgi ve onlarla olası iletişim</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İletişim araçları ve kaynak</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Suç oluşturan faaliyetin kaynağı, yer, bilgisayar, sunucu, site, v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Para transferi için kullanılmış olan mali araçlar ve transfer yöntemleri</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Olayları destekleyebilecek veya bunlardan haberdar olan tanıklar</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tr-TR" sz="1200" spc="-1" strike="noStrike">
                <a:solidFill>
                  <a:srgbClr val="000000"/>
                </a:solidFill>
                <a:latin typeface="Calibri"/>
              </a:rPr>
              <a:t>Suç sayılan faaliyetlere ilişkin destekleyici kanıtlar</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B9D191-98A8-48FF-8A25-5FE937C57A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e ve içeriğine dayalı olarak ve ekteki belgelerin veya kanıtların incelenmesinden sonra işlenen suçların belirlenmesi önem kazanmaktadır. Suçların özelliğine bağlı olarak emniyette veya savcılıkta olayın soruşturulması için yetkili birim, kullanılacak soruşturma araçları yanı sıra duruma göre belirli uluslar arası işbirliği araçlarının kullanılması gereksinimi belirlenecekt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rarın değerinin, bir suçun veya bir nitelikli dolandırıcılığın varlığını  varsaydığı durumlar olabilir ve bu nedenle, suç faaliyetleri ve zararın boyutu arasında bir karşılıklı bağlantı olması gereklidir. Bu gerçek ve gereksinim nedeniyle bilişim suçları birimlerinin, polis birimleri ve diğer ilgili kuruluşlar arasında bir karşılıklı ilişki oluşturmaları gerekmekte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ların belirlenmesi, olayla ilgili yeni suçların dikkate alınabileceği ve yeni gerçeklerin belirlendiği durumların söz konusu olması nedeniyle bütün soruşturma veya </a:t>
            </a:r>
            <a:r>
              <a:rPr b="0" lang="tr-TR" sz="1200" spc="-1" strike="noStrike">
                <a:solidFill>
                  <a:srgbClr val="000000"/>
                </a:solidFill>
                <a:latin typeface="Arial"/>
              </a:rPr>
              <a:t>kovuşturma</a:t>
            </a:r>
            <a:r>
              <a:rPr b="0" lang="tr-TR" sz="1200" spc="-1" strike="noStrike">
                <a:solidFill>
                  <a:srgbClr val="000000"/>
                </a:solidFill>
                <a:latin typeface="Calibri"/>
              </a:rPr>
              <a:t> sırasında devam eden bir süreç olmalı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uç oluşturan faaliyetlere katılan daha fazla zanlıyı belirlediğimizde bunların her birinin, gerçeklere ve toplanan kanıtlara dayalı olarak değerlendirilmesi gerekir. Her zanlıya ilişkin bütün bilinen belirleyici unsurların sıralanması ve suç grubunun diğer üyelerinden ayrılması, değerlendirme için yardımcı olacakt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nın başlangıcında, bazı kişilerin katılımı çok açık olmayabilir ve karar vermek için daha fazla bilgi ve kanıta gerek duyabilirsini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ütün kanıtların toplanmasından ve bütün soruşturma araçlarının dosyada kullanılmasından sonra zanlı/zanlılar tarafından işlenmiş olan suçlar ve bunların durumu (tanık, esas suçlu, suç ortağı, vs.) hakkında karara varabilirsiniz.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952151-A839-444E-BF16-C0F952C44F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elirlenmesi ve toplanması gereken bütün veriler, bilgiler ve kanıtlar, büyük ölçüde mağdurlardan, tanıklardan, polis veri tabanlarından, açık kaynaklardan veya üçüncü taraflardan elde edilebil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tür verilerin ve kanıtların toplanması ve değerlendirilmesi faaliyeti, bunların elde edilmesi için kullanılacak araçları ve bunların elde edileceği yerler üzerinde odaklanmalı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Veri ve kanıtların amacı, bildirilen gerçeklerin açıklığa kavuşturulmasını, zanlıların ve suç oluşturan faaliyetin gerçekleştiği yerlerin belirlenmesini ve ayrıca zararların özelliği ve değerinin anlaşılmasını amaçla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Şikayetin alındığı anda soruşturma süreci için gerekli verilerin ve bilgilerin belirlenmesi ve bunların elde edilme kanalları ve araçlarının belirlenmesi önem taşı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Kanıt toplanma sürecinde önemli hususlardan biri de kanıtları, özellikle de bilgisayarlarından elde edilecek bilgiler gibi dijital kanıtları imha etmeleri olasılığı nedeniyle zanlıyı/zanlıları kuşkulandırmamaktadı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 sırasında atmaya çalıştığınız bütün adımlarda sonucun ne olacağını ve bunun nasıl kullanılacağını değerlendirmeniz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Zanlı tarafından gerçekleştirilen bütün faaliyetler ve toplayabileceğiniz bütün kanıtlar ve bilgiler, zanlının amacının ve davranışının belirlenmesi amacıyla değerlendirilmelid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Soruşturma veya takibat sırasında gündeme getirilen sorulara en önemli yanıtları en kısa sürede elde etmek amacıyla kanıtların belirlenmesine yönelik faaliyetlerin öncelik sıralamasının yapılması gereki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4B01AB-F32F-4279-A860-B43A7E03ED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Şikayetin kaydedildiği anda mağdurla birlikte oluşan durumun ve mağduru, bilgisayar sistemlerini veya diğer ticari malları ve çıkarları etkileyebilecek olası risklerin bir değerlendirilmesi yapıl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uç oluşturan faaliyet sırasında mağdurun ticari faaliyeti ve mali çıkarlarına ve ayrıca mağdurun veya başka bir kişinin bilgisayar sistemlerine yönelik belirli tehditlerin bulunması mümkündü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Ayrıca belirlenen risklere karşı koruma sağlamak için gerekli koruma önlemlerinin belirlenmesi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gisayar sistemlerinden söz ederken koruma önlemleri, teknik hususlarla (sunucuların korunması veya yedek kopyalar alınması) ilgili olabilir. Ticari çıkarlar konusunda bir kişinin şahsi veya ticari itibarının korunması ve oluşan maddi zararın sınırlandırılması gerekir. Bu nedenle, belirli unsurların gizliliğin sürdürülmesi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Gerçeklerin özelliğine bağlı olarak soruşturmanın başarılı bir şekilde yürütülmesi ve zanlıların ve kanıtların belirlenmesi için mağdurun zanlı ile temasını sürdürmesine ve belirli bir davranışı sergilemesine ihtiyaç duyabiliriz. Daha fazla kanıt toplanması için mağdurdan zanlı ile temasını sürdürmesi istenirken bütün adımları koordine etmeli ve kararlaştırmalı ve mağdurun yanlış anlamasına ve gayrimeşru faaliyetlerde bulunmasına izin vermemeliyiz.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Risk değerlendirmesi ve risklerin ortadan kaldırılmasına yönelik önlemlerin belirlenmesi sırasında üçüncü kişilerden veya şirketlerden ilave destek istenebil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u nedenle bilişim alanındaki saldırıların değerlendirilmesi için burada kullanılan yazılım uygulamaları ve bilgisayar araçları ile ilgili olarak bilgisayar adli bilim uzmanlarının desteğini talep edebiliriz.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elirli verilerin belirlenmesi veya belirli bilgisayar faaliyetlerinin durdurulması için ve bir sitenin kapatılması veya şirketin sunucusunda bulunan yazılımın kaldırılması amacıyla farklı ülkelerde bile olsalar şirketleri sürece dahil edebiliriz.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ütün soruşturma boyunca mağdur ve çıkarları konusunda sürekli bir risk değerlendirmesi yapılması ve ayrıca gerektiğinde uygun önlemlerin alınması için mağdurla sürekli temas içinde olunması önem taşımaktadır. </a:t>
            </a:r>
            <a:endParaRPr b="0" lang="en-US" sz="11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EE509A-CB62-4AAC-876C-97A48A443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ilişim suçları olaylarında kanıtlar, sadece dijital değil aynı zamanda belgeler, iletişim, tanık ifadeleri, vs. gibi fiziksel nitelikte olabilir. Kanıtların dijital olması halinde kanıtların nerede olduğunun belirlenmesi ve güvenliğinin sağlanması için olay yeri, sürecin en başında belirlenmelidir. Sanal ortam kanıtlarının sınırlı bir süre muhafaza edildiği ve hızlı bir şekilde belirlenmemesi halinde soruşturmayı olumsuz etkileyebileceği çok iyi bilinen bir husustu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Dijital kanıtların toplanabileceği yerlerin belirlenmesinden sonra bunların korunması ve güvenliği için uygun önlemler alınmalıdır. Soruşturmacıların bilgisayarla arama ve elde etme yeri hakkında bilgi edinmeleri çok yardımcı olacaktır. Bu, bilgisayar adli bilim birimlerinin, hangi özel donanım, yazılım ve uzmanların kullanılacağı ve bunların sayısını kararlaştırmalarında çok yardımcı olacaktı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ir bilişim suçları soruşturmasında dijital kanıtlar, çeşitli yerlerden toplanabilir. Ancak en önemli kaynaklar şöyledir: </a:t>
            </a:r>
            <a:endParaRPr b="0" lang="en-US" sz="800" spc="-1" strike="noStrike">
              <a:solidFill>
                <a:srgbClr val="000000"/>
              </a:solidFill>
              <a:latin typeface="Calibri"/>
            </a:endParaRPr>
          </a:p>
          <a:p>
            <a:pPr>
              <a:lnSpc>
                <a:spcPct val="80000"/>
              </a:lnSpc>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Fiillerin gerçekleştirilmiş olduğu bilgisayar. Ancak bu her zaman, suçlunun kimliğinin belirlendiği anlamını taşımaz;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izliliği ihlal edilmiş uygulamalar veya sunucular, suçlunun kimliğinin saklanması için kullanılabilir. Bu nedenle saldırının kaynağının belirlenmesi için gerekli olan verilerin ve bilgilerin ilk aşamadan itibaren toplanması önem taşımaktadı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tr-TR" sz="800" spc="-1" strike="noStrike">
                <a:solidFill>
                  <a:srgbClr val="000000"/>
                </a:solidFill>
                <a:latin typeface="Calibri"/>
              </a:rPr>
              <a:t>Suçun özelliğine bağlı olarak duruma göre saldırıya uğrayan veya gizliliği ihlal edilen bilgisayar sistemi</a:t>
            </a:r>
            <a:r>
              <a:rPr b="0" lang="en-GB"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Bu sunucular/bilgisayarlar, derhal ayrılmalı ve başka şekilde daha fazla risk yaratmadıkları taktirde adli bilim uzmanları tarafından incelenmek üzere kapatılmalıdır. Gizliliği ihlal edilmiş sunucularda bulunabilecek bir uygulama, web sayfası, vs.’nin doğru şekilde çalışmasının sağlanması amacıyla bunların, kapatılmaları ve yerlerine güvenlik kopyalarının konulması gerekir. Suç oluşturan faaliyetin belirlenmesinden sonra gizliliği ihlal edilmiş bir sunucunun/bilgisayarın kullanılması tavsiye edilmemektedir. Bir genel virüs nedeniyle saldırının başarılı olması durumunda güvenli kopya da aynı şekilde saldırıya açık olabilir. Bu nedenle güvenli kopyalar, sistemlerin yeniden başlatılmasından önce taktirde incelenmeli ve mümkün olduğu taktirde yama yapılmalıdı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Gizliliği ihlal edilmiş bilgisayar sistemleri ve uygulamaların değerlendirilmesinin yapılması yoluyla bunların içerdiği bilgilerin bütünlüğü muhafaza edilmelid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000000"/>
                </a:solidFill>
                <a:latin typeface="Calibri"/>
              </a:rPr>
              <a:t>- </a:t>
            </a:r>
            <a:r>
              <a:rPr b="0" lang="tr-TR" sz="800" spc="-1" strike="noStrike">
                <a:solidFill>
                  <a:srgbClr val="000000"/>
                </a:solidFill>
                <a:latin typeface="Calibri"/>
              </a:rPr>
              <a:t>Her türlü biçimdeki bilgisayar saldırılarının gerçekleştirilmesi için kullanılan diğer bilgisayar sistemleri</a:t>
            </a:r>
            <a:r>
              <a:rPr b="0" lang="en-GB"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Hizmet sağlayıcıları veya üçüncü tarafların dijital kanıtlara sahip olmaları durumunda gerekli verilerin muhafaza edilmesi için derhal kendileri ile temasa geçilmesi gerekir. Hizmet sağlayıcılara muhafaza talebini gönderebilir ve onlardan özellikle bu sistem günlüklerinin ulusal yargı yetkisi dışında bulunması ve elde tutma süresinin sınırlı olması halinde sistem günlüklerini saklamalarını isteyebiliriz. Bazı ülkelerde muhafaza etme talebi, uluslar arası işbirliği bölümünde ayrıntılı olarak açıklanacak 24/7 irtibat görevlilerine gönderilmelid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u="sng">
                <a:solidFill>
                  <a:srgbClr val="000000"/>
                </a:solidFill>
                <a:uFillTx/>
                <a:latin typeface="Calibri"/>
              </a:rPr>
              <a:t>Konu</a:t>
            </a:r>
            <a:r>
              <a:rPr b="0" lang="tr-TR" sz="800" spc="-1" strike="noStrike">
                <a:solidFill>
                  <a:srgbClr val="000000"/>
                </a:solidFill>
                <a:latin typeface="Calibri"/>
              </a:rPr>
              <a:t> dijital kanıtlar </a:t>
            </a:r>
            <a:r>
              <a:rPr b="0" lang="tr-TR" sz="800" spc="-1" strike="noStrike" u="sng">
                <a:solidFill>
                  <a:srgbClr val="000000"/>
                </a:solidFill>
                <a:uFillTx/>
                <a:latin typeface="Calibri"/>
              </a:rPr>
              <a:t>olduğunda</a:t>
            </a:r>
            <a:r>
              <a:rPr b="0" lang="tr-TR" sz="800" spc="-1" strike="noStrike">
                <a:solidFill>
                  <a:srgbClr val="000000"/>
                </a:solidFill>
                <a:latin typeface="Calibri"/>
              </a:rPr>
              <a:t> soruşturmada izlenecek yöntemler hakkındaki karar verme sürecinde bunların gerektiği taktirde başka ülkelerden elde edilmesi için gerekli sürenin göz önünde tutulması büyük önem taşıyacaktır. Aynı zamanda diğer ülkelerden yardım talep etme araçları ve kanalları da belirlenmelid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Suç oluşturan faaliyetlerde kullanılan elektronik haberleşme sistemleri, bir soruşturma sırasında önem taşır ve bu nedenle mağdur ve zanlı arasındaki mesajların bunların kaynağının bulunması açısından uygun bir biçimde belirlenmesi ve sunulması gerek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Fiziksel kanıtlar için normalde bunların, silme veya imha etmeye karşı korunmalarına yönelik bir şart yoktur. Bazı kanıtlar için belirli işlemlere ilişkin bankacılık gizliliği, bunların elde edilmesi için kullanılan araçlar ve statü (polis raporu, savcı veya hakimin onayı) veya sadece uluslararası işbirliği araçları kullanılarak elde edilebilecek olmaları halinde ülke gibi elde etme sürecine ilişkin sınırlandırmalar söz konusu olabilir.  </a:t>
            </a:r>
            <a:endParaRPr b="0" lang="en-US" sz="8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800" spc="-1" strike="noStrike">
                <a:solidFill>
                  <a:srgbClr val="000000"/>
                </a:solidFill>
                <a:latin typeface="Calibri"/>
              </a:rPr>
              <a:t>Dijital kanıtlara ilave olarak fiziksel kanıtların elde edilmesi bazen daha kolay olabilir ve bunların değerlendirilmesi, soruşturma için bazı önemli ipuçları sağlayabilir. </a:t>
            </a:r>
            <a:endParaRPr b="0" lang="en-US" sz="8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30316E-1797-44CC-94BD-6A51EED926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işim suçları ile ilgili olaylarda genellikle kendi bilgisayar sistemlerinin saldırıya uğradığından/gizliliğinin ihlal edildiğinden veya ticari çıkarlarının etkilendiğinden haberdar olmayan mağdurlar vardır. Bilgisayar saldırıları, tek bir suç oluşturan faaliyet sonucunda aynı anda birkaç bilgisayarın/sunucunun gizliliğin ihlal edilmesine neden olabilir ve bu nedenle mağdurların belirlenmesi ve durum hakkında bilgilendirilmeleri ve kendilerine kendi bilgisayarları veya çıkarlarının korunması için bütün önlemleri alma fırsatının tanınması ve aynı zamanda onlardan soruşturma için destekleyici kanıtların elde edilmesi önem kazan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ağdurlarla temasa geçilerek soruşturma hakkında bilgilendirilmeli ve daha sonra onlardan sahip oldukları her türlü bilgi ve kanıtı temin etmeleri istenmelidir. Mağdurlara şikayette bulunma fırsatı da tanınmalıdır. Bütün haberleşmeler, mağdur ve soruşturma için gizliliği sağla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anıklar, ayrı bir kategori oluşturmaktadır. Suç oluşturan faaliyetlerin kanıtlanması için soruşturma sırasında kullanılacak önemli veri ve kanıtlara sahip olabilecekleri için tanıkların belirlenmesi gerek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anıklar, mümkün olan en kısa süre içinde belirlenmeli ve onlarla temasa geçilmesi bir öncelik olarak değerlendirilmelid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Tanıklarla temasa geçilmesi için kullanılan yöntemlerle sahip oldukları veri ve kanıtların talep edilmesinin yolları için geçerli olan hukuki şartlara ve çalışma usullerine göre hareket edilmelid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oruşturma sırasında mağdurlarla işbirliği, mağdurun kaydedilen ilerleme hakkında bilgilendirilmesi, adli usullerin anlatılması ve gerektiğinde yardım yapılması gereksinimine dayalı devam eden bir süreç ol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ağdurların, soruşturmanın başında verilmemiş olan veya daha sonra ortaya çıkan soruşturmacıların bilemeyeceği ve kullanamayacağı ilave verileri belirlediği durumlar olabili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Mağdurlar ve tanıklarla temas, onların gereksinimleri ve çıkarlarına uygun olmalı ve onların ırkı, dini ve insan hakları göz önünde tutulmalıdır. </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 </a:t>
            </a:r>
            <a:endParaRPr b="0" lang="en-US" sz="11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D82992-ECFD-482E-B078-F141F01DF8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ilişim suçlarının soruşturulduğu olaylarda sadece bilgisayar ve internetle ilgili “yeni soruşturma yöntemleri” üzerinde değil aynı zamanda geleneksel yöntemler üzerinde odaklanılması önem taşır ve olaya ilişkin bütün bilgiler, aynı değer verilerek incelenmelid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ütün ifa edilecek soruşturma faaliyetlerinde özellikle şunlar öngörülmelid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a:r>
            <a:r>
              <a:rPr b="0" lang="tr-TR" sz="1100" spc="-1" strike="noStrike">
                <a:solidFill>
                  <a:srgbClr val="000000"/>
                </a:solidFill>
                <a:latin typeface="Calibri"/>
              </a:rPr>
              <a:t>suç oluşturan faaliyetin gözlemlenmesi ve durdurulması</a:t>
            </a:r>
            <a:r>
              <a:rPr b="0" lang="en-GB" sz="1100" spc="-1" strike="noStrike">
                <a:solidFill>
                  <a:srgbClr val="000000"/>
                </a:solidFill>
                <a:latin typeface="Calibri"/>
              </a:rPr>
              <a: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a:r>
            <a:r>
              <a:rPr b="0" lang="tr-TR" sz="1100" spc="-1" strike="noStrike">
                <a:solidFill>
                  <a:srgbClr val="000000"/>
                </a:solidFill>
                <a:latin typeface="Calibri"/>
              </a:rPr>
              <a:t> zanlıların belirlenmesi ve mahkum edilmeleri, ve</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100" spc="-1" strike="noStrike">
                <a:solidFill>
                  <a:srgbClr val="000000"/>
                </a:solidFill>
                <a:latin typeface="Calibri"/>
              </a:rPr>
              <a:t>-</a:t>
            </a:r>
            <a:r>
              <a:rPr b="0" lang="tr-TR" sz="1100" spc="-1" strike="noStrike">
                <a:solidFill>
                  <a:srgbClr val="000000"/>
                </a:solidFill>
                <a:latin typeface="Calibri"/>
              </a:rPr>
              <a:t> zararın telafi edilmesi</a:t>
            </a:r>
            <a:r>
              <a:rPr b="0" lang="en-GB" sz="1100" spc="-1" strike="noStrike">
                <a:solidFill>
                  <a:srgbClr val="000000"/>
                </a:solidFill>
                <a:latin typeface="Calibri"/>
              </a:rPr>
              <a:t>.</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Her saldırıda ve suçta yapılması gereken ilk işlerden birinin suçun ve zararların durdurulması olduğu konusunda kuşku yoktur. Bazı durumlarda çok dikkatli bir şekilde inceleme yapmamız ve karar vermemiz gerekebilir ve bu faaliyet, aksinin yapılması daha fazla zarar vermeyecekse soruşturma amaçları için belirli bir süre ertelenebil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Polis çalışma usulleri ve yasal hükümlere dayalı olarak gerçekleştirilecek faaliyetlerin öncelik sırası belirlen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Faaliyetlerin ve bunların gerçekleştirilme biçiminin belirlenmesi için savcı, mağdur, tanıklar veya diğer destekleyici bölümler veya kurumların personeline danışılabilir ve kararlar birlikte alınabilir. Mağdurların, durumun özelliği nedeniyle çok duygusal olabileceklerini dikkate almamız gerek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oruşturmada sürekliliğin sağlanması gerekir. Bu nedenle faaliyetlerin yürütülmesi için karmaşık soruşturmalarda sürekli olarak üyeler arasında iyi ilişkiler sürdüren ve bilgi ve sonuçları paylaşan bir ekip gereklid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Soruşturma sırasında diğer olaylarla bağlantılar veya başka suç oluşturan faaliyetler ortaya çıkarılabilir ve bu tür durumlarda yetkili bölümlerin bilgilendirilmesi gereki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ütün belirlenen bilgi ve verilerin arasında bağlantı kurulabilmesi için dosyanın hazırlanması ve sonuçların açıklanması için gerekli belgelerin oluşturulması, soruşturmacıların sürekli bir görevi olmalıdır. </a:t>
            </a:r>
            <a:endParaRPr b="0" lang="en-US" sz="11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100" spc="-1" strike="noStrike">
                <a:solidFill>
                  <a:srgbClr val="000000"/>
                </a:solidFill>
                <a:latin typeface="Calibri"/>
              </a:rPr>
              <a:t>Başka bir önemli husus da bu durumda verilerin ve kanıtların toplanılması yöntemi ve ayrıca bunların nasıl muhafaza edildiği ve kullanıldığı ile ilgilidir. Bu amaçla bütün yasal hükümlere ve usulleri uyulması ve kanıtların, doğru ve güvenli bir şekilde muhafaza edilmesi gerekir. </a:t>
            </a:r>
            <a:endParaRPr b="0" lang="en-US" sz="11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800CB5-7429-4484-8267-0605D19A7F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55D2B-1E95-465D-9261-8874C2172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3CFD0-98E6-471E-8E9F-E78F3FDB2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CD80A-4876-47EB-99FF-7C4BD37A6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A018F-74DF-4977-B1FF-E0E42DD7A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8FE84-55D9-48AF-9BD8-D9C08F920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0C8A9-DCE1-43DF-8EBF-27D1E015B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60CF4-0C5B-4B4A-B835-935B511E2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A6FF2-A20E-47E0-A07B-8EF366556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182E6-FA1B-49BD-AC7C-4880F467B7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8F3A0-65F0-49A4-BA15-8E06919CA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F87B8-16F6-4CDD-8FE9-6D755BDF9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E1879-58F2-4BB9-8A1A-67C9A6A62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FDCF9C-B408-45FA-BFAD-3A9B32D6191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4429080"/>
            <a:ext cx="6400800" cy="120960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Soruşturma planı</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8. </a:t>
            </a:r>
            <a:r>
              <a:rPr b="1" lang="ro-RO" sz="4000" spc="-1" strike="noStrike">
                <a:solidFill>
                  <a:srgbClr val="000000"/>
                </a:solidFill>
                <a:latin typeface="Calibri"/>
              </a:rPr>
              <a:t>Poli</a:t>
            </a:r>
            <a:r>
              <a:rPr b="1" lang="tr-TR" sz="4000" spc="-1" strike="noStrike">
                <a:solidFill>
                  <a:srgbClr val="000000"/>
                </a:solidFill>
                <a:latin typeface="Calibri"/>
              </a:rPr>
              <a:t>s-savcı işbirliği </a:t>
            </a:r>
            <a:br>
              <a:rPr sz="4000"/>
            </a:b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osyanın ve alınan önlemlerin savcıya sunulması</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Ortak soruşturma faaliyetler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şbirliği, özellikle şunlarla ilgilidir</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işlenmiş olan suçların belirlen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soruşturma önlemlerinin belirlen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sonuçların değerlendirilmesi ve aramalar ve zanlıların tutuklanması ve sorgulanması hakkında karar veril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9.</a:t>
            </a:r>
            <a:r>
              <a:rPr b="0" lang="en-US" sz="4400" spc="-1" strike="noStrike">
                <a:solidFill>
                  <a:srgbClr val="000000"/>
                </a:solidFill>
                <a:latin typeface="Calibri"/>
              </a:rPr>
              <a:t> </a:t>
            </a:r>
            <a:r>
              <a:rPr b="1" lang="tr-TR" sz="4000" spc="-1" strike="noStrike">
                <a:solidFill>
                  <a:srgbClr val="000000"/>
                </a:solidFill>
                <a:latin typeface="Calibri"/>
              </a:rPr>
              <a:t>Zanlıların belirlenmesi</a:t>
            </a:r>
            <a:endParaRPr b="0" lang="en-US" sz="4000" spc="-1" strike="noStrike">
              <a:solidFill>
                <a:srgbClr val="000000"/>
              </a:solidFill>
              <a:latin typeface="Calibri"/>
            </a:endParaRPr>
          </a:p>
        </p:txBody>
      </p:sp>
      <p:sp>
        <p:nvSpPr>
          <p:cNvPr id="70" name=""/>
          <p:cNvSpPr txBox="1"/>
          <p:nvPr/>
        </p:nvSpPr>
        <p:spPr>
          <a:xfrm>
            <a:off x="457200" y="188748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Zanlıların kimliğinin ve yerlerinin belirlenmesi</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Zanlının kullandığı diğer adresler</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Suç işlenmesi için kullanılan bilgisayarın yeri</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Kullanılan </a:t>
            </a:r>
            <a:r>
              <a:rPr b="0" lang="en-GB" sz="2700" spc="-1" strike="noStrike">
                <a:solidFill>
                  <a:srgbClr val="000000"/>
                </a:solidFill>
                <a:latin typeface="Calibri"/>
              </a:rPr>
              <a:t>internet </a:t>
            </a:r>
            <a:r>
              <a:rPr b="0" lang="tr-TR" sz="2700" spc="-1" strike="noStrike">
                <a:solidFill>
                  <a:srgbClr val="000000"/>
                </a:solidFill>
                <a:latin typeface="Calibri"/>
              </a:rPr>
              <a:t>bağlantısı</a:t>
            </a:r>
            <a:r>
              <a:rPr b="0" lang="en-GB" sz="2700" spc="-1" strike="noStrike">
                <a:solidFill>
                  <a:srgbClr val="000000"/>
                </a:solidFill>
                <a:latin typeface="Calibri"/>
              </a:rPr>
              <a:t> (</a:t>
            </a:r>
            <a:r>
              <a:rPr b="0" lang="tr-TR" sz="2700" spc="-1" strike="noStrike">
                <a:solidFill>
                  <a:srgbClr val="000000"/>
                </a:solidFill>
                <a:latin typeface="Calibri"/>
              </a:rPr>
              <a:t>kablolu</a:t>
            </a:r>
            <a:r>
              <a:rPr b="0" lang="en-GB" sz="2700" spc="-1" strike="noStrike">
                <a:solidFill>
                  <a:srgbClr val="000000"/>
                </a:solidFill>
                <a:latin typeface="Calibri"/>
              </a:rPr>
              <a:t>, </a:t>
            </a:r>
            <a:r>
              <a:rPr b="0" lang="tr-TR" sz="2700" spc="-1" strike="noStrike">
                <a:solidFill>
                  <a:srgbClr val="000000"/>
                </a:solidFill>
                <a:latin typeface="Calibri"/>
              </a:rPr>
              <a:t>kablosuz</a:t>
            </a:r>
            <a:r>
              <a:rPr b="0" lang="en-GB" sz="2700" spc="-1" strike="noStrike">
                <a:solidFill>
                  <a:srgbClr val="000000"/>
                </a:solidFill>
                <a:latin typeface="Calibri"/>
              </a:rPr>
              <a:t>, ISP, </a:t>
            </a:r>
            <a:r>
              <a:rPr b="0" lang="tr-TR" sz="2700" spc="-1" strike="noStrike">
                <a:solidFill>
                  <a:srgbClr val="000000"/>
                </a:solidFill>
                <a:latin typeface="Calibri"/>
              </a:rPr>
              <a:t>vs.</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Suç oluşturan faaliyetler hakkında bilgi ve katılım</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Diğer zanlılarla işbirliği ve onların katılımı</a:t>
            </a:r>
            <a:r>
              <a:rPr b="0" lang="en-GB" sz="2700" spc="-1" strike="noStrike">
                <a:solidFill>
                  <a:srgbClr val="000000"/>
                </a:solidFill>
                <a:latin typeface="Calibri"/>
              </a:rPr>
              <a:t>;</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Mali soruşturma</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Altyapı hizmetleri abone bilgileri</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Başka zanlı veya başka suç soruşturmaları ile bağlantılar</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Polis veri tabanları ve internet, bir bilgi kaynağı olarak kullanılabilir</a:t>
            </a:r>
            <a:endParaRPr b="0" lang="en-US" sz="27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612720"/>
            <a:ext cx="8489880" cy="1006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0. </a:t>
            </a:r>
            <a:r>
              <a:rPr b="1" lang="tr-TR" sz="4000" spc="-1" strike="noStrike">
                <a:solidFill>
                  <a:srgbClr val="000000"/>
                </a:solidFill>
                <a:latin typeface="Calibri"/>
              </a:rPr>
              <a:t>Diğer makamlarla işbirliği</a:t>
            </a:r>
            <a:br>
              <a:rPr sz="4000"/>
            </a:b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u işbirliği, aşağıda belirtilen konular üzerinde odaklanmalıdır</a:t>
            </a:r>
            <a:r>
              <a:rPr b="0" lang="en-US"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olaylar, kişiler, faaliyet yöntemleri, soruşturmalardaki bağlantılar hakkında bilgi değişimi</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veri ve kanıt toplanmas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belirli faaliyetlerin gerçekleştirilmesi için lojistik destek sağlanması</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tr-TR" sz="3000" spc="-1" strike="noStrike">
                <a:solidFill>
                  <a:srgbClr val="000000"/>
                </a:solidFill>
                <a:latin typeface="Calibri"/>
              </a:rPr>
              <a:t>teknik, mali veya diğer konularda uzmanlaşmış yardı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2271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1. </a:t>
            </a:r>
            <a:r>
              <a:rPr b="1" lang="tr-TR" sz="4000" spc="-1" strike="noStrike">
                <a:solidFill>
                  <a:srgbClr val="000000"/>
                </a:solidFill>
                <a:latin typeface="Calibri"/>
              </a:rPr>
              <a:t>Faaliyetlerin değerlendirilmesi ve arama, tutuklama ve sorgulamaların yapılması </a:t>
            </a:r>
            <a:br>
              <a:rPr sz="4000"/>
            </a:br>
            <a:endParaRPr b="0" lang="en-US" sz="4000" spc="-1" strike="noStrike">
              <a:solidFill>
                <a:srgbClr val="000000"/>
              </a:solidFill>
              <a:latin typeface="Calibri"/>
            </a:endParaRPr>
          </a:p>
        </p:txBody>
      </p:sp>
      <p:sp>
        <p:nvSpPr>
          <p:cNvPr id="74" name=""/>
          <p:cNvSpPr txBox="1"/>
          <p:nvPr/>
        </p:nvSpPr>
        <p:spPr>
          <a:xfrm>
            <a:off x="457200" y="2295360"/>
            <a:ext cx="8229600" cy="4213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Değerlendirme süreci, şunları kapsamalıdır</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faaliyetlerin nasıl yürütüldüğü</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kararlara ve adımlara uyulup uyulmadığ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toplanan kanıtların karar verilmesi için yeterli olup olmadığ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a:t>
            </a:r>
            <a:r>
              <a:rPr b="0" lang="tr-TR" sz="3200" spc="-1" strike="noStrike">
                <a:solidFill>
                  <a:srgbClr val="000000"/>
                </a:solidFill>
                <a:latin typeface="Calibri"/>
              </a:rPr>
              <a:t>hukuki usuller ve hükümlere uyulup uyulmadığ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111320"/>
            <a:ext cx="8229600" cy="50148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tr-TR" sz="3000" spc="-1" strike="noStrike">
                <a:solidFill>
                  <a:srgbClr val="000000"/>
                </a:solidFill>
                <a:latin typeface="Calibri"/>
              </a:rPr>
              <a:t>bütün hususların soruşturulup soruşturulmadığ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tr-TR" sz="3000" spc="-1" strike="noStrike">
                <a:solidFill>
                  <a:srgbClr val="000000"/>
                </a:solidFill>
                <a:latin typeface="Calibri"/>
              </a:rPr>
              <a:t>ilave soruşturma önlemleri için emir verilmes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tr-TR" sz="3000" spc="-1" strike="noStrike">
                <a:solidFill>
                  <a:srgbClr val="000000"/>
                </a:solidFill>
                <a:latin typeface="Calibri"/>
              </a:rPr>
              <a:t>suç oluşturan faaliyetin sona erdirilip erdirilmediği ve devam etmesi halinde etkisinin ne olduğ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Hukuki hükümlere ve usullere uygun hareket edilmes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Faaliyetlerin yürütülmesi için kişilerin hazırlanmas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ava dosyasından belgelerin hazırlanmas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30200"/>
            <a:ext cx="8229600" cy="2116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12. </a:t>
            </a:r>
            <a:r>
              <a:rPr b="1" lang="tr-TR" sz="4000" spc="-1" strike="noStrike">
                <a:solidFill>
                  <a:srgbClr val="000000"/>
                </a:solidFill>
                <a:latin typeface="Calibri"/>
              </a:rPr>
              <a:t>Çıkarılan dersler ve uygulamaların belirlenmesi ve bunların dağıtımı için soruşturmanın değerlendirilmesi </a:t>
            </a:r>
            <a:br>
              <a:rPr sz="4000"/>
            </a:br>
            <a:endParaRPr b="0" lang="en-US" sz="4000" spc="-1" strike="noStrike">
              <a:solidFill>
                <a:srgbClr val="000000"/>
              </a:solidFill>
              <a:latin typeface="Calibri"/>
            </a:endParaRPr>
          </a:p>
        </p:txBody>
      </p:sp>
      <p:sp>
        <p:nvSpPr>
          <p:cNvPr id="77" name=""/>
          <p:cNvSpPr txBox="1"/>
          <p:nvPr/>
        </p:nvSpPr>
        <p:spPr>
          <a:xfrm>
            <a:off x="457200" y="2742840"/>
            <a:ext cx="8229600" cy="34066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Davanın değerlendirilme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Olumlu nokta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Olumsuz nokta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Öğrenilen uygulamaların ve en iyi uygulamaların dağıtım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92240"/>
            <a:ext cx="8229600" cy="9828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600" spc="-1" strike="noStrike">
                <a:solidFill>
                  <a:srgbClr val="000000"/>
                </a:solidFill>
                <a:latin typeface="Calibri"/>
              </a:rPr>
              <a:t>13. Kurs Senaryo İpuçları</a:t>
            </a:r>
            <a:endParaRPr b="0" lang="en-US" sz="3600" spc="-1" strike="noStrike">
              <a:solidFill>
                <a:srgbClr val="000000"/>
              </a:solidFill>
              <a:latin typeface="Calibri"/>
            </a:endParaRPr>
          </a:p>
        </p:txBody>
      </p:sp>
      <p:sp>
        <p:nvSpPr>
          <p:cNvPr id="79" name=""/>
          <p:cNvSpPr txBox="1"/>
          <p:nvPr/>
        </p:nvSpPr>
        <p:spPr>
          <a:xfrm>
            <a:off x="169560" y="694800"/>
            <a:ext cx="9078840" cy="5078520"/>
          </a:xfrm>
          <a:prstGeom prst="rect">
            <a:avLst/>
          </a:prstGeom>
          <a:noFill/>
          <a:ln w="0">
            <a:noFill/>
          </a:ln>
        </p:spPr>
        <p:txBody>
          <a:bodyPr anchor="t">
            <a:normAutofit fontScale="88000"/>
          </a:bodyPr>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DDOS saldırısı, temel unsurlar açısından açık mıdır</a:t>
            </a:r>
            <a:r>
              <a:rPr b="0" lang="en-US" sz="2100" spc="-1" strike="noStrike">
                <a:solidFill>
                  <a:srgbClr val="000000"/>
                </a:solidFill>
                <a:latin typeface="Calibri"/>
              </a:rPr>
              <a:t>?</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Siz, bugün ve yarın soruşturma yapması öngörülen soruşturmacısınız</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ir veya iki kişi gruptaki soruşturmaya liderlik yapabilir</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Yerel ceza hukukunuzdaki suç türünü tanımlayı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u tür bir suç için hangi yasa yetkilerinin kullanılabileceğini belirtin</a:t>
            </a:r>
            <a:r>
              <a:rPr b="0" lang="en-US" sz="2100" spc="-1" strike="noStrike">
                <a:solidFill>
                  <a:srgbClr val="000000"/>
                </a:solidFill>
                <a:latin typeface="Calibri"/>
              </a:rPr>
              <a:t>?</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Neyi bildiğinizi ve neyin eksik olduğunu belirt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İnternetten ve internet dışında hangi tür verileri elde edebileceğinizi belirt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uradaki eğitimciler, veri sağlayıcısı ve mağdurdur. İstendiği taktirde veri sağlayabilirler (küçük not kağıdını kullanı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Bütün çabalar, olumlu yanıt veya veri alınmasını sağlamayabilir</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Ayrıntılı olarak düşünün ve bütün süreç hakkında düşünü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Aynı anda bir çok çaba göster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Kendinizi suçlunun yerine koyarak düşünü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Suçlunun / suçluların kimliğini belirleyin</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100" spc="-1" strike="noStrike">
                <a:solidFill>
                  <a:srgbClr val="000000"/>
                </a:solidFill>
                <a:latin typeface="Calibri"/>
              </a:rPr>
              <a:t>Grubunuzda kimlik belirleme konusundaki etkin katılımınız takdir edilmektedir</a:t>
            </a: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a:p>
            <a:pPr marL="301680" indent="-301680">
              <a:spcBef>
                <a:spcPts val="5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81"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6840" y="3009600"/>
            <a:ext cx="8512200" cy="27097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r soruşturma başlatılması için yeterli veri bulunması</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ldirilen gerçeklerin, suç olarak görülmesi</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Yetkili makama hitaben yazılmalıdır</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Şikayetin içeriği</a:t>
            </a:r>
            <a:endParaRPr b="0" lang="en-US" sz="3000" spc="-1" strike="noStrike">
              <a:solidFill>
                <a:srgbClr val="000000"/>
              </a:solidFill>
              <a:latin typeface="Calibri"/>
            </a:endParaRPr>
          </a:p>
          <a:p>
            <a:pPr marL="343080" indent="-343080">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52" name="PlaceHolder 1"/>
          <p:cNvSpPr>
            <a:spLocks noGrp="1"/>
          </p:cNvSpPr>
          <p:nvPr>
            <p:ph type="title"/>
          </p:nvPr>
        </p:nvSpPr>
        <p:spPr>
          <a:xfrm>
            <a:off x="314280" y="717120"/>
            <a:ext cx="8229600" cy="13273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1. </a:t>
            </a:r>
            <a:r>
              <a:rPr b="1" lang="tr-TR" sz="4000" spc="-1" strike="noStrike">
                <a:solidFill>
                  <a:srgbClr val="000000"/>
                </a:solidFill>
                <a:latin typeface="Calibri"/>
              </a:rPr>
              <a:t>Şikayetin alınması ve değerlendirilmes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Şikayetin içeriği</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Mağdurun kimlik bilgiler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Bildirilen olayların kısa tarif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Zarar, açıklama ve bunun gerekçe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Mağdurun bilgisayar sistemlerinin bulunduğu yer, bunlar hakkında bilgi verebilecek bakımlarından sorumlu teknik kişi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Mağdur tarafından yapılmış olan doğrulamalar ve kontrol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Zanlılar hakkında bilgiler ve bunlarla olası iletişi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İletişim araçları ve kayna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Suç oluşturan faaliyetin kaynağ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İlgili mali araçla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tanıkla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estekleyici kanıtlar</a:t>
            </a:r>
            <a:endParaRPr b="0" lang="en-US" sz="2200" spc="-1" strike="noStrike">
              <a:solidFill>
                <a:srgbClr val="000000"/>
              </a:solidFill>
              <a:latin typeface="Calibri"/>
            </a:endParaRPr>
          </a:p>
          <a:p>
            <a:pPr marL="343080" indent="-343080">
              <a:lnSpc>
                <a:spcPct val="13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90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2. </a:t>
            </a:r>
            <a:r>
              <a:rPr b="1" lang="tr-TR" sz="4000" spc="-1" strike="noStrike">
                <a:solidFill>
                  <a:srgbClr val="000000"/>
                </a:solidFill>
                <a:latin typeface="Calibri"/>
              </a:rPr>
              <a:t>Suçların belirlenmesi</a:t>
            </a:r>
            <a:endParaRPr b="0" lang="en-US" sz="4000" spc="-1" strike="noStrike">
              <a:solidFill>
                <a:srgbClr val="000000"/>
              </a:solidFill>
              <a:latin typeface="Calibri"/>
            </a:endParaRPr>
          </a:p>
        </p:txBody>
      </p:sp>
      <p:sp>
        <p:nvSpPr>
          <p:cNvPr id="56" name=""/>
          <p:cNvSpPr txBox="1"/>
          <p:nvPr/>
        </p:nvSpPr>
        <p:spPr>
          <a:xfrm>
            <a:off x="457200" y="1922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oruşturma yapacak yetkili organl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Kanıt toplama yöntemler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oruşturma araçlar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Uluslar arası işbirliği araçlar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ildirilen faaliyetler ve zararın boyutu arasındaki karşılıklı ilişk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23920" y="490680"/>
            <a:ext cx="8686800" cy="14810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3</a:t>
            </a:r>
            <a:r>
              <a:rPr b="1" lang="en-US" sz="4000" spc="-1" strike="noStrike">
                <a:solidFill>
                  <a:srgbClr val="000000"/>
                </a:solidFill>
                <a:latin typeface="Calibri"/>
              </a:rPr>
              <a:t>. </a:t>
            </a:r>
            <a:r>
              <a:rPr b="1" lang="tr-TR" sz="4000" spc="-1" strike="noStrike">
                <a:solidFill>
                  <a:srgbClr val="000000"/>
                </a:solidFill>
                <a:latin typeface="Calibri"/>
              </a:rPr>
              <a:t>Kanıtların, bilgilerin ve istihbaratın toplanması ve değerlendirilmesi </a:t>
            </a:r>
            <a:br>
              <a:rPr sz="4000"/>
            </a:br>
            <a:endParaRPr b="0" lang="en-US" sz="4000" spc="-1" strike="noStrike">
              <a:solidFill>
                <a:srgbClr val="000000"/>
              </a:solidFill>
              <a:latin typeface="Calibri"/>
            </a:endParaRPr>
          </a:p>
        </p:txBody>
      </p:sp>
      <p:sp>
        <p:nvSpPr>
          <p:cNvPr id="58" name=""/>
          <p:cNvSpPr txBox="1"/>
          <p:nvPr/>
        </p:nvSpPr>
        <p:spPr>
          <a:xfrm>
            <a:off x="457200" y="2384280"/>
            <a:ext cx="8229600" cy="3400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Kaynaklar</a:t>
            </a:r>
            <a:r>
              <a:rPr b="0" lang="en-US" sz="3000" spc="-1" strike="noStrike">
                <a:solidFill>
                  <a:srgbClr val="000000"/>
                </a:solidFill>
                <a:latin typeface="Calibri"/>
              </a:rPr>
              <a:t>: </a:t>
            </a:r>
            <a:r>
              <a:rPr b="0" lang="tr-TR" sz="3000" spc="-1" strike="noStrike">
                <a:solidFill>
                  <a:srgbClr val="000000"/>
                </a:solidFill>
                <a:latin typeface="Calibri"/>
              </a:rPr>
              <a:t>mağdurlar, tanıklar, polis veri tabanları, açık kaynaklar veya üçüncü tarafl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Araçlar ve ye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Hedef</a:t>
            </a:r>
            <a:r>
              <a:rPr b="0" lang="en-US" sz="3000" spc="-1" strike="noStrike">
                <a:solidFill>
                  <a:srgbClr val="000000"/>
                </a:solidFill>
                <a:latin typeface="Calibri"/>
              </a:rPr>
              <a:t>: </a:t>
            </a:r>
            <a:r>
              <a:rPr b="0" lang="tr-TR" sz="3000" spc="-1" strike="noStrike">
                <a:solidFill>
                  <a:srgbClr val="000000"/>
                </a:solidFill>
                <a:latin typeface="Calibri"/>
              </a:rPr>
              <a:t>bildirilen gerçeklerin açıklığa kavuşturulması, zanlıların ve suç oluşturan faaliyetin gerçekleştiği yerlerin, zararların özelliği ve değerinin belirlenmesi</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99760" y="233280"/>
            <a:ext cx="8543880" cy="2062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4. </a:t>
            </a:r>
            <a:r>
              <a:rPr b="1" lang="tr-TR" sz="4000" spc="-1" strike="noStrike">
                <a:solidFill>
                  <a:srgbClr val="000000"/>
                </a:solidFill>
                <a:latin typeface="Calibri"/>
              </a:rPr>
              <a:t>Bir risk değerlendirmesi yapılması ve ilave destek gereksiniminin belirlenmesi</a:t>
            </a:r>
            <a:endParaRPr b="0" lang="en-US" sz="4000" spc="-1" strike="noStrike">
              <a:solidFill>
                <a:srgbClr val="000000"/>
              </a:solidFill>
              <a:latin typeface="Calibri"/>
            </a:endParaRPr>
          </a:p>
        </p:txBody>
      </p:sp>
      <p:sp>
        <p:nvSpPr>
          <p:cNvPr id="60" name=""/>
          <p:cNvSpPr txBox="1"/>
          <p:nvPr/>
        </p:nvSpPr>
        <p:spPr>
          <a:xfrm>
            <a:off x="457200" y="2295000"/>
            <a:ext cx="8229600" cy="38307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Mağdurla birlikte yapılı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Olası riskler</a:t>
            </a:r>
            <a:r>
              <a:rPr b="0" lang="en-US" sz="2700" spc="-1" strike="noStrike">
                <a:solidFill>
                  <a:srgbClr val="000000"/>
                </a:solidFill>
                <a:latin typeface="Calibri"/>
              </a:rPr>
              <a:t>: </a:t>
            </a:r>
            <a:r>
              <a:rPr b="0" lang="tr-TR" sz="2700" spc="-1" strike="noStrike">
                <a:solidFill>
                  <a:srgbClr val="000000"/>
                </a:solidFill>
                <a:latin typeface="Calibri"/>
              </a:rPr>
              <a:t>mağduru, bilgisayar sistemlerini veya diğer ticari malları ve çıkarları etkileyebili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Koruma önlemlerinin belirlenme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Mağdurun zanlı ile temasını sürdürme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Bir bilgisayar adli bilim uzmanı veya bir üçüncü tarafın desteğ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700" spc="-1" strike="noStrike">
                <a:solidFill>
                  <a:srgbClr val="000000"/>
                </a:solidFill>
                <a:latin typeface="Calibri"/>
              </a:rPr>
              <a:t>Sürekli risk değerlendirmesi ve mağdurla temasın sürdürülmesi</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96560" y="542520"/>
            <a:ext cx="8947080" cy="14828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5. </a:t>
            </a:r>
            <a:r>
              <a:rPr b="1" lang="tr-TR" sz="4000" spc="-1" strike="noStrike">
                <a:solidFill>
                  <a:srgbClr val="000000"/>
                </a:solidFill>
                <a:latin typeface="Calibri"/>
              </a:rPr>
              <a:t>Olay yerinin korunması ve kanıtların muhafaza edilmesi</a:t>
            </a:r>
            <a:br>
              <a:rPr sz="4000"/>
            </a:br>
            <a:endParaRPr b="0" lang="en-US" sz="4000" spc="-1" strike="noStrike">
              <a:solidFill>
                <a:srgbClr val="000000"/>
              </a:solidFill>
              <a:latin typeface="Calibri"/>
            </a:endParaRPr>
          </a:p>
        </p:txBody>
      </p:sp>
      <p:sp>
        <p:nvSpPr>
          <p:cNvPr id="62" name=""/>
          <p:cNvSpPr txBox="1"/>
          <p:nvPr/>
        </p:nvSpPr>
        <p:spPr>
          <a:xfrm>
            <a:off x="457200" y="2025720"/>
            <a:ext cx="8229600" cy="410040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ijital ve maddi kanıtla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3000" spc="-1" strike="noStrike">
                <a:solidFill>
                  <a:srgbClr val="000000"/>
                </a:solidFill>
                <a:latin typeface="Calibri"/>
              </a:rPr>
              <a:t>Di</a:t>
            </a:r>
            <a:r>
              <a:rPr b="0" lang="tr-TR" sz="3000" spc="-1" strike="noStrike">
                <a:solidFill>
                  <a:srgbClr val="000000"/>
                </a:solidFill>
                <a:latin typeface="Calibri"/>
              </a:rPr>
              <a:t>jital kanıtlar, sınırlı bir süre muhafaza edili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Dijital kanıtların toplanma önlemleri ve yer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Kaynaklar</a:t>
            </a:r>
            <a:r>
              <a:rPr b="0" lang="en-US" sz="3000" spc="-1" strike="noStrike">
                <a:solidFill>
                  <a:srgbClr val="000000"/>
                </a:solidFill>
                <a:latin typeface="Calibri"/>
              </a:rPr>
              <a:t>: </a:t>
            </a:r>
            <a:r>
              <a:rPr b="0" lang="tr-TR" sz="3000" spc="-1" strike="noStrike">
                <a:solidFill>
                  <a:srgbClr val="000000"/>
                </a:solidFill>
                <a:latin typeface="Calibri"/>
              </a:rPr>
              <a:t>suç oluşturan faaliyetler için kullanılan bilgisayar/sunucu, mağdurun bilgisayarı, başka bilgisayar/sunucu</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Muhafaza etme taleb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letişim mesajları</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87280" y="274680"/>
            <a:ext cx="8686800" cy="1590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6. </a:t>
            </a:r>
            <a:r>
              <a:rPr b="1" lang="tr-TR" sz="4000" spc="-1" strike="noStrike">
                <a:solidFill>
                  <a:srgbClr val="000000"/>
                </a:solidFill>
                <a:latin typeface="Calibri"/>
              </a:rPr>
              <a:t>Mağdur(lar) ve tanıkların belirlenmesi ve onlarla işbirliği yapılması </a:t>
            </a:r>
            <a:br>
              <a:rPr sz="4000"/>
            </a:br>
            <a:endParaRPr b="0" lang="en-US" sz="4000" spc="-1" strike="noStrike">
              <a:solidFill>
                <a:srgbClr val="000000"/>
              </a:solidFill>
              <a:latin typeface="Calibri"/>
            </a:endParaRPr>
          </a:p>
        </p:txBody>
      </p:sp>
      <p:sp>
        <p:nvSpPr>
          <p:cNvPr id="64" name=""/>
          <p:cNvSpPr txBox="1"/>
          <p:nvPr/>
        </p:nvSpPr>
        <p:spPr>
          <a:xfrm>
            <a:off x="457200" y="1865160"/>
            <a:ext cx="8229600" cy="426096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İlave mağdurla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unulan başvurular ve bilgi ve kanıt temin edilmes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Tanıklar, önemli bir rol oynayabili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Mağdurlar ve tanıklarla ilgili yasal şartlar ve usu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Mağdurlarla işbirliği, devam eden bir süreç olmalı, geri bildirim ve yardım sağlamalıdı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16000" y="274680"/>
            <a:ext cx="8686800" cy="1571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7</a:t>
            </a:r>
            <a:r>
              <a:rPr b="1" lang="en-US" sz="4000" spc="-1" strike="noStrike">
                <a:solidFill>
                  <a:srgbClr val="000000"/>
                </a:solidFill>
                <a:latin typeface="Calibri"/>
              </a:rPr>
              <a:t>. </a:t>
            </a:r>
            <a:r>
              <a:rPr b="1" lang="tr-TR" sz="4000" spc="-1" strike="noStrike">
                <a:solidFill>
                  <a:srgbClr val="000000"/>
                </a:solidFill>
                <a:latin typeface="Calibri"/>
              </a:rPr>
              <a:t>Atılacak adımlar ve gerçekleştirilecek faaliyetlerin belirlenmesi </a:t>
            </a:r>
            <a:br>
              <a:rPr sz="4000"/>
            </a:br>
            <a:endParaRPr b="0" lang="en-US" sz="4000" spc="-1" strike="noStrike">
              <a:solidFill>
                <a:srgbClr val="000000"/>
              </a:solidFill>
              <a:latin typeface="Calibri"/>
            </a:endParaRPr>
          </a:p>
        </p:txBody>
      </p:sp>
      <p:sp>
        <p:nvSpPr>
          <p:cNvPr id="66" name=""/>
          <p:cNvSpPr txBox="1"/>
          <p:nvPr/>
        </p:nvSpPr>
        <p:spPr>
          <a:xfrm>
            <a:off x="457200" y="1703160"/>
            <a:ext cx="8229600" cy="44226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Şu hususlar üzerinde odaklanmamız gerekir</a:t>
            </a:r>
            <a:r>
              <a:rPr b="0" lang="en-US" sz="2200" spc="-1" strike="noStrike">
                <a:solidFill>
                  <a:srgbClr val="00000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sadece yeni yöntemler değil aynı zamanda geleneksel yöntemler</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suç oluşturan faaliyetin gözlemlenmesi ve durdurulma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zanlıların belirlenmesi ve mahkum edilmeler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t>
            </a:r>
            <a:r>
              <a:rPr b="0" lang="tr-TR" sz="2200" spc="-1" strike="noStrike">
                <a:solidFill>
                  <a:srgbClr val="000000"/>
                </a:solidFill>
                <a:latin typeface="Calibri"/>
              </a:rPr>
              <a:t>zararın telafi edilme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Suç oluşturan faaliyetlerin ve zararların durdurulma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Faaliyetlerin öncelik sırasına konulma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Soruşturma ekib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iğer olaylarla bağlantısı</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iğer bölümlerle işbirliğ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200" spc="-1" strike="noStrike">
                <a:solidFill>
                  <a:srgbClr val="000000"/>
                </a:solidFill>
                <a:latin typeface="Calibri"/>
              </a:rPr>
              <a:t>Dava dosyasının hazırlanması</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6:59:52Z</dcterms:modified>
  <cp:revision>96</cp:revision>
  <dc:subject>ERENOGLU CONSULTANCY, TRANSLATION AND FOREIGN TRADE LTD CO.</dc:subject>
  <dc:title>ERENOĞLU DANIŞMANLIK TERCÜMANLIK VE DIŞ TİCARET LTD. ŞTİ.</dc:title>
</cp:coreProperties>
</file>