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5A2FD-2986-4176-AE96-E2D2D362A7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2CD5AE-F87A-4B0C-BCDC-4C2CBC0C7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Daha önceki bütün derslerde olduğu gibi bu ders de başlangıcında belirtilen gündem ve oturum amaçlarına benzer bir şekilde düzenlenmelidi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A6D65E-BECB-4B76-9701-D894C24FAF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DEB7A7-CC06-463A-A9F3-C8073EC89AC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0BDE-86CD-4D4C-B868-764BD41E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E280-4FEC-4468-847E-F6D89028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370E-33DD-4B3D-94F1-9D7B37D8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49E2-F1EE-48B9-9403-95144FCE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D220-D302-4E21-B670-9AFEBA96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1008-F8DD-4223-8419-8551DD78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7563-8BB2-4BE0-BA56-D180F124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FAA6-D009-4834-89B5-1E3CE9AF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9426-9E01-40B2-99D3-0E4906A4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8214-A232-4B53-B6BD-2D597478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5AD2-A286-42D4-AEE9-EDBC0513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7020-BB81-4BCD-91DF-A4542A6B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61E5FD-A837-4098-9AF8-5F56B65FF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898989"/>
                </a:solidFill>
                <a:latin typeface="Calibri"/>
              </a:rPr>
              <a:t>Oturum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1.2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898989"/>
                </a:solidFill>
                <a:latin typeface="Calibri"/>
              </a:rPr>
              <a:t>Günlük Gözden Geçir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  <p:sp>
        <p:nvSpPr>
          <p:cNvPr id="50" name="Title 1"/>
          <p:cNvSpPr/>
          <p:nvPr/>
        </p:nvSpPr>
        <p:spPr>
          <a:xfrm>
            <a:off x="838080" y="22827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Hakimler ve Savcılar İçin İleri Düzey Bilişim Suçları Eğiti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Dersin sonunda öğrencile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bir önceki günün faaliyetlerin anlaşım oldukları kısımlarını belirleyebilecek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bilgilerinin gerekli düzeye getirilmesi için belgeleri gözden geçirmeleri gereken alanları belirleyebileceklerdi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Oturumun Amaçlar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Günd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420920"/>
            <a:ext cx="8513640" cy="46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100" spc="-1" strike="noStrike">
                <a:solidFill>
                  <a:srgbClr val="000000"/>
                </a:solidFill>
                <a:latin typeface="Calibri"/>
              </a:rPr>
              <a:t>Birinci Günün Konuları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Kursun Açılışı ve Tanış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Sunu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Bir Soruşturmanın Geliştirilme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Soruşturmalar Hakkında Grup Çalışmas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Sunu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Uluslar arası İşbirliğ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Uluslar arası İşbirliği Hakkında Grup Çalışmas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Zanlının Belirlenmesi Konusunda Grup Çalışmas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3083760" y="4500720"/>
            <a:ext cx="22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5400" spc="-1" strike="noStrike">
                <a:solidFill>
                  <a:srgbClr val="000000"/>
                </a:solidFill>
                <a:latin typeface="Calibri"/>
              </a:rPr>
              <a:t>Sorul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1:04:42Z</dcterms:created>
  <dc:creator>OPERATOR</dc:creator>
  <dc:description>Uğur Mumucu Caddesi Kırçiçeği Sokağı No: 8/2
TR-06700 G.O.P Çankaya/ANKARA
Fax: +90-312- 441 91 05</dc:description>
  <cp:keywords>www.erenoglu.com.tr</cp:keywords>
  <dc:language>en-US</dc:language>
  <cp:lastModifiedBy>OPERATOR</cp:lastModifiedBy>
  <dcterms:modified xsi:type="dcterms:W3CDTF">2013-08-05T07:04:16Z</dcterms:modified>
  <cp:revision>15</cp:revision>
  <dc:subject>ERENOGLU CONSULTANCY, TRANSLATION AND FOREIGN TRADE LTD CO.</dc:subject>
  <dc:title>ERENOĞLU DANIŞMANLIK TERCÜMANLIK VE DIŞ TİCARET LTD. ŞTİ.</dc:title>
</cp:coreProperties>
</file>