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73251-0F73-4652-BEC2-CA163E44C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urs, bir senaryoya dayalı sunumlar ve alıştırmaların bir karışımını içermektedir. Temel kurs sırasında davalar ve dijital adli bilim hakkında daha fazla bilgi sağlanması konusunda yapılan talepler sonucunda bu şekilde yapılandırılmıştır. Bu kurs </a:t>
            </a:r>
            <a:r>
              <a:rPr b="0" lang="tr-TR" sz="1200" spc="-1" strike="noStrike">
                <a:solidFill>
                  <a:srgbClr val="000000"/>
                </a:solidFill>
                <a:latin typeface="Arial"/>
              </a:rPr>
              <a:t>katılımcıların</a:t>
            </a:r>
            <a:r>
              <a:rPr b="0" lang="tr-TR" sz="1200" spc="-1" strike="noStrike">
                <a:solidFill>
                  <a:srgbClr val="000000"/>
                </a:solidFill>
                <a:latin typeface="Calibri"/>
              </a:rPr>
              <a:t>, sadece bilgi veren uzmanları dinlemelerini değil aynı zamanda kurs sırasında verilecek bilgiler üzerinde çalışarak bir soruşturma ile ilgili çalışmalar yapmalarını sağlayacaktır.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31F83-8B0D-47ED-9587-BEBC8E6A2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6EDC3-208C-463E-8970-0B8CC33532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8ECE1-89DF-4205-A1AC-D99DA2F847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3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A0EE1-27D6-408C-847C-5CE46E59A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D6AEB-703F-44AB-89D7-E5E9D5566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EBF8-96DD-43F0-9446-8C598EE0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32CD4-D435-4E2C-B898-C590E520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6263D-74E4-450A-BF96-2A5B8E6A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0EE0E-0A58-4AC9-84F9-F9F78DDB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49901-F2C4-4BBC-B345-4AA052A2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35E3-7096-44DD-AA17-F54923A2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60EE9-222A-40D1-B4FF-1DD41F6EE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6F66F-E188-460C-ADEE-8AB83586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3158-DA10-49D6-A915-334CE686C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4374-AFF6-46CA-B001-9D43B227E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C08B-84DA-4957-806E-1908B7D11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6D66E-81BD-4A3B-A7B5-69A814961D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tr-TR" sz="3200" spc="-1" strike="noStrike">
                <a:solidFill>
                  <a:srgbClr val="a6a6a6"/>
                </a:solidFill>
                <a:latin typeface="Arial"/>
              </a:rPr>
              <a:t>Derse Giriş</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Hedefi</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un hedefi, hakimlerin ve savcıların, bilişim suçlarının soruşturulmasına ilişkin görevlerini ifa edebilmeleri için gerek duydukları bilgi ve becerilerin sağlanmasıdır.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 hakimler ve savcılar için temel bilişim suçları kursunun öğrenme sonuçlarından yararlanılacak şekilde tasarlanmıştır ve sadece söz konusu başarıyla tamamlamış olanlar bu kursa katılmalıdır. </a:t>
            </a:r>
            <a:endParaRPr b="0" lang="en-US" sz="3300" spc="-1" strike="noStrike">
              <a:solidFill>
                <a:srgbClr val="000000"/>
              </a:solidFill>
              <a:latin typeface="Calibri"/>
            </a:endParaRPr>
          </a:p>
          <a:p>
            <a:pPr marL="343080" indent="-343080">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Amaçları</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u kurs sonunda temsilciler, aşağıdakiler dahil olmak üzere bilişim suçları soruşturmalarına ilişkin konuları inceleyebileceklerdir: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r soruşturmanın yürütü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İşlenen suçların tü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tanıkların ve zanlıların ye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nerede muhafaza edildiğine bakılmaksızın kanıtların kabul edilebilir bir şekilde elde ed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Elektronik kanıtlara ilişkin arama ve el koyma faaliyetleri için hazırlık yapı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nın bir parçası olan dijital cihazların ince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 aşamasının desteklenmesi için gerekli olan adli bilim uzmanları ve diğerlerine bilgi ver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Zanlılarla görüşmeler için hazırlık yapılması</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lişim suçları kanıtlarının sunu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Adli süreç sırasında ilgili hususların incelenmesi</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8"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Yöntem</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amp;</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Zaman Çizelg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Yöntem</a:t>
            </a:r>
            <a:endParaRPr b="0" lang="en-US" sz="4400" spc="-1" strike="noStrike">
              <a:solidFill>
                <a:srgbClr val="000000"/>
              </a:solidFill>
              <a:latin typeface="Calibri"/>
            </a:endParaRPr>
          </a:p>
        </p:txBody>
      </p:sp>
      <p:sp>
        <p:nvSpPr>
          <p:cNvPr id="251" name="Rectangle 1"/>
          <p:cNvSpPr/>
          <p:nvPr/>
        </p:nvSpPr>
        <p:spPr>
          <a:xfrm>
            <a:off x="684360" y="1235160"/>
            <a:ext cx="80024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unumlar ve uygulamalı alıştırmalar</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enaryoya dayal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malı belge verilmes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elirli konular hakkında grup çalışmas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geri bildirim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Ulusal eğitmenlerin gruba yönelik desteğ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oturumlarında eğitmenlerden ilave destek</a:t>
            </a:r>
            <a:endParaRPr b="0" lang="en-US" sz="24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1. Gün</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09</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0</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Kurs, Eğitmen ve Senaryo Hakkında Bilgi Verilmes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num – Bir soruşturmanın hazırlan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00</a:t>
            </a:r>
            <a:r>
              <a:rPr b="0" lang="tr-TR" sz="2400" spc="-1" strike="noStrike">
                <a:solidFill>
                  <a:srgbClr val="000000"/>
                </a:solidFill>
                <a:latin typeface="Calibri"/>
              </a:rPr>
              <a:t> –</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3</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arın belirlenmesi, bir soruşturma planı ve senaryonun hazırlanması konusu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3</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Öğle yeme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Sunum</a:t>
            </a:r>
            <a:r>
              <a:rPr b="0" lang="en-US" sz="2400" spc="-1" strike="noStrike">
                <a:solidFill>
                  <a:srgbClr val="000000"/>
                </a:solidFill>
                <a:latin typeface="Calibri"/>
              </a:rPr>
              <a:t> – </a:t>
            </a:r>
            <a:r>
              <a:rPr b="0" lang="tr-TR" sz="2400" spc="-1" strike="noStrike">
                <a:solidFill>
                  <a:srgbClr val="000000"/>
                </a:solidFill>
                <a:latin typeface="Calibri"/>
              </a:rPr>
              <a:t>Uluslararası İşbirli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5</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Uluslararası işbirliği hakkı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6</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6</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7</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unun belirlenmesi ve bir tutuklama stratejisinin planlanması hakkında grup çalışmas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2. Gün</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3000"/>
          </a:bodyPr>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09</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1. günün gözden geçirilmesi</a:t>
            </a:r>
            <a:r>
              <a:rPr b="0" lang="en-US" sz="2300" spc="-1" strike="noStrike">
                <a:solidFill>
                  <a:srgbClr val="000000"/>
                </a:solidFill>
                <a:latin typeface="Calibri"/>
              </a:rPr>
              <a:t> – </a:t>
            </a:r>
            <a:r>
              <a:rPr b="0" lang="tr-TR" sz="2300" spc="-1" strike="noStrike">
                <a:solidFill>
                  <a:srgbClr val="000000"/>
                </a:solidFill>
                <a:latin typeface="Calibri"/>
              </a:rPr>
              <a:t>Tutuklama(lar) hakkında bilg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0</a:t>
            </a:r>
            <a:r>
              <a:rPr b="0" lang="tr-TR" sz="2300" spc="-1" strike="noStrike">
                <a:solidFill>
                  <a:srgbClr val="000000"/>
                </a:solidFill>
                <a:latin typeface="Arial"/>
              </a:rPr>
              <a:t>:</a:t>
            </a:r>
            <a:r>
              <a:rPr b="0" lang="en-US" sz="2300" spc="-1" strike="noStrike">
                <a:solidFill>
                  <a:srgbClr val="000000"/>
                </a:solidFill>
                <a:latin typeface="Calibri"/>
              </a:rPr>
              <a:t>45 – </a:t>
            </a:r>
            <a:r>
              <a:rPr b="0" lang="tr-TR" sz="2300" spc="-1" strike="noStrike">
                <a:solidFill>
                  <a:srgbClr val="000000"/>
                </a:solidFill>
                <a:latin typeface="Calibri"/>
              </a:rPr>
              <a:t>Sunum</a:t>
            </a:r>
            <a:r>
              <a:rPr b="0" lang="en-US" sz="2300" spc="-1" strike="noStrike">
                <a:solidFill>
                  <a:srgbClr val="000000"/>
                </a:solidFill>
                <a:latin typeface="Calibri"/>
              </a:rPr>
              <a:t> – Di</a:t>
            </a:r>
            <a:r>
              <a:rPr b="0" lang="tr-TR" sz="2300" spc="-1" strike="noStrike">
                <a:solidFill>
                  <a:srgbClr val="000000"/>
                </a:solidFill>
                <a:latin typeface="Calibri"/>
              </a:rPr>
              <a:t>jital Adli Bilim</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tr-TR" sz="2300" spc="-1" strike="noStrike">
                <a:solidFill>
                  <a:srgbClr val="000000"/>
                </a:solidFill>
                <a:latin typeface="Arial"/>
              </a:rPr>
              <a:t>:</a:t>
            </a:r>
            <a:r>
              <a:rPr b="0" lang="en-US" sz="2300" spc="-1" strike="noStrike">
                <a:solidFill>
                  <a:srgbClr val="000000"/>
                </a:solidFill>
                <a:latin typeface="Calibri"/>
              </a:rPr>
              <a:t>45 </a:t>
            </a:r>
            <a:r>
              <a:rPr b="0" lang="tr-TR" sz="2300" spc="-1" strike="noStrike">
                <a:solidFill>
                  <a:srgbClr val="000000"/>
                </a:solidFill>
                <a:latin typeface="Calibri"/>
              </a:rPr>
              <a:t>–</a:t>
            </a:r>
            <a:r>
              <a:rPr b="0" lang="en-US" sz="2300" spc="-1" strike="noStrike">
                <a:solidFill>
                  <a:srgbClr val="000000"/>
                </a:solidFill>
                <a:latin typeface="Calibri"/>
              </a:rPr>
              <a:t> 11</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3</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Dijital kanılar, kanıt gereksinimleri, zanlılar, yargı yetkisi ve uluslararası meselelere ilişkin grup çalışması </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ğle yemeğ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Sunum</a:t>
            </a:r>
            <a:r>
              <a:rPr b="0" lang="en-US" sz="2300" spc="-1" strike="noStrike">
                <a:solidFill>
                  <a:srgbClr val="000000"/>
                </a:solidFill>
                <a:latin typeface="Calibri"/>
              </a:rPr>
              <a:t> – </a:t>
            </a:r>
            <a:r>
              <a:rPr b="0" lang="tr-TR" sz="2300" spc="-1" strike="noStrike">
                <a:solidFill>
                  <a:srgbClr val="000000"/>
                </a:solidFill>
                <a:latin typeface="Calibri"/>
              </a:rPr>
              <a:t>mahkeme için dosyanın hazırlan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5</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Dosyaya son şeklinin verilmesi konusunda grup çalış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6</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7</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rnek olay incelemesi, eğitim ekibi ve temsilcilerin yorumları, değerlendirme, geri bildirim ve kursun kapanışı</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TANIŞTIRMA</a:t>
            </a:r>
            <a:endParaRPr b="0" lang="en-US" sz="3200" spc="-1" strike="noStrike">
              <a:solidFill>
                <a:srgbClr val="000000"/>
              </a:solidFill>
              <a:latin typeface="Arial"/>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 Oturumu</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Tanımadığınız bir kişi ile bir çift oluşturu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10 dakika içinde bu kişiler hakkında bilgi edinin ve bize, şunları söyley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simleri ve Ülke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rede çalış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 yap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eğitmen olarak deneyim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nlar hakkında ilginç bir ş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gi sorularına yanıtl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99A77-BD84-443B-A04B-4E2C3C32DF6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gisayar Kullanıcısı</a:t>
            </a:r>
            <a:endParaRPr b="0" lang="en-US" sz="1900" spc="-1" strike="noStrike">
              <a:solidFill>
                <a:srgbClr val="000000"/>
              </a:solidFill>
              <a:latin typeface="Calibri"/>
            </a:endParaRPr>
          </a:p>
          <a:p>
            <a:pPr marL="343080" indent="0" algn="ctr">
              <a:lnSpc>
                <a:spcPct val="9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Bilgisayarı aç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Her iki eliyle yaz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Bir masa üstü bilgisayarın içini görmüştü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masa üstü bilgisayarın düzeyini yüksel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Yazılım paketlerini etkin biçimde kullanmaktad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r masa üstü bilgisayarı monte e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Makrolar oluşturmuş ve kullan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2 masa üstü bilgisayarı bir ağda birbirlerine bağla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Microsoft ürünlerinin </a:t>
            </a:r>
            <a:r>
              <a:rPr b="0" lang="en-GB" sz="1900" spc="-1" strike="noStrike">
                <a:solidFill>
                  <a:srgbClr val="000000"/>
                </a:solidFill>
                <a:latin typeface="Calibri"/>
              </a:rPr>
              <a:t>S</a:t>
            </a:r>
            <a:r>
              <a:rPr b="0" lang="tr-TR" sz="1900" spc="-1" strike="noStrike">
                <a:solidFill>
                  <a:srgbClr val="000000"/>
                </a:solidFill>
                <a:latin typeface="Calibri"/>
              </a:rPr>
              <a:t>istem İdarecisi</a:t>
            </a:r>
            <a:r>
              <a:rPr b="0" lang="en-GB" sz="1900" spc="-1" strike="noStrike">
                <a:solidFill>
                  <a:srgbClr val="000000"/>
                </a:solidFill>
                <a:latin typeface="Calibri"/>
              </a:rPr>
              <a:t>, Program</a:t>
            </a:r>
            <a:r>
              <a:rPr b="0" lang="tr-TR" sz="1900" spc="-1" strike="noStrike">
                <a:solidFill>
                  <a:srgbClr val="000000"/>
                </a:solidFill>
                <a:latin typeface="Calibri"/>
              </a:rPr>
              <a:t>cısı ve tasarımcısı</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9" name="PlaceHolder 2"/>
          <p:cNvSpPr>
            <a:spLocks noGrp="1"/>
          </p:cNvSpPr>
          <p:nvPr>
            <p:ph/>
          </p:nvPr>
        </p:nvSpPr>
        <p:spPr>
          <a:xfrm>
            <a:off x="4648320" y="404280"/>
            <a:ext cx="4038480" cy="5721480"/>
          </a:xfrm>
          <a:prstGeom prst="rect">
            <a:avLst/>
          </a:prstGeom>
          <a:noFill/>
          <a:ln w="0">
            <a:noFill/>
          </a:ln>
        </p:spPr>
        <p:txBody>
          <a:bodyPr anchor="t">
            <a:normAutofit/>
          </a:bodyPr>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işim Suçları Hakkında Bilgi</a:t>
            </a:r>
            <a:endParaRPr b="0" lang="en-US" sz="1900" spc="-1" strike="noStrike">
              <a:solidFill>
                <a:srgbClr val="000000"/>
              </a:solidFill>
              <a:latin typeface="Calibri"/>
            </a:endParaRPr>
          </a:p>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Adli bilim yazılımını gör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Adli bilim biriminde çalış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Adli bilim yazılımını kullan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bilişim suçu soruşturmasını yürüt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Bilişim suçu hakkında bir açıklama yap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lgisayar Kanıtları / Bilişi Suçları hakkında Mahkemeye kanıt sunmuştu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Bir incelemeye yardımcı olmak için program veya kod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Adli bilim için kendi yazılım paketini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Bir satıcı için adli bilim yazılımını programlamıştır, bilişim suçları ile ilgili diploması vardır ve bilişim suçları hakkında kapsamlı bilgi sahibidi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Oturumun Amacı</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a, eğitim kursuna duyulan gereksinim ve hedefi ve amaçları konusu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Faaliyet programı ve zaman çizelgesi hakkında yeterli bilgiye sahip olmalarının sağlanması</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ursa ilişkin sağlık, güvenlik ve idari ayrıntılar hakkı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ın, eğitimcilere ve diğer katılımcılarla tanıştırılması</a:t>
            </a:r>
            <a:r>
              <a:rPr b="0" lang="en-GB" sz="3300" spc="-1" strike="noStrike">
                <a:solidFill>
                  <a:srgbClr val="000000"/>
                </a:solidFill>
                <a:latin typeface="Calibri"/>
              </a:rPr>
              <a:t>.</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oturumun sonunda katılımcılar, şunları yapabileceklerdir</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ğitim kursuna duyulan gereksinim ve kursun hedefi ve amaçları hakkında temsilcilere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tılımcıların, faaliyet programı ve zaman çizelgesi hakkında yeterli bilgiye sahip olmalarının sağlanması</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ursla ilgili sağlık, güvenlik ve idari ayrıntılar hakkında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emsilcilerin eğitmenler ve diğer temsilcilere tanıtılması</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8"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Giri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Sağlık ve Güvenlik</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cil Durum Çıkış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ngın Alarm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uvaletler</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igara İçilmesi</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Cep Telefonları ve Çağrı Cihaz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hve ve Öğle Yemeği Ara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Kurs Hakkında Genel Bilgiler</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 kursun başlığı, “Hakimler ve Savcılar İçin İleri Düzey Bilişim Suçları ve Elektronik Kanıt Eğitimi”dir. Kurs, Avrupa Birliği/Avrupa Konseyi IPA bölgesinde Bilişim Suçlarına İlişkin Bölgesel İşbirliği Ortak Projesi’nin bir çıktısı olarak hazırlanmışt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Bu Eğitim Neden Gereklidi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akimler ve savcılar, suç işlemiş olan bireyler veya grupların soruşturulması ve yargılanmasında önemli bir rol oyna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suçlarda bir bilişim suçu unsurunun bulunduğu durumların sayısındaki artışa paralel olarak hakimlerin ve savcıların, bu suçların özelliklerini anlamaları ve aynı zamanda bilişim suçlarına ilişkin adli işlemlerin yapılması amacıyla mevcut uluslar arası işbirliği belgeleri ve mevzuattan haberdar olmaları için uygun şekilde eğitilmeleri gereksinimi de art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Eğitmen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Eğitmenler</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u kurs</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ff0000"/>
                </a:solidFill>
                <a:latin typeface="Calibri"/>
              </a:rPr>
              <a:t>Eğitmenlerin isimlerini burada belirti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Hedefler ve Amaç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3:08Z</dcterms:modified>
  <cp:revision>55</cp:revision>
  <dc:subject>ERENOGLU CONSULTANCY, TRANSLATION AND FOREIGN TRADE LTD CO.</dc:subject>
  <dc:title>ERENOĞLU DANIŞMANLIK TERCÜMANLIK VE DIŞ TİCARET LTD. ŞTİ.</dc:title>
</cp:coreProperties>
</file>