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4FF47-3976-4E29-8E17-A8574F7DC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1FEE4-AC60-4DC5-A21A-9F94D2EC0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Daha önceki bütün derslerde olduğu gibi bu ders de başlangıcında belirtilen gündem ve oturum amaçlarına benzer bir şekilde düzenlenmelid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67674-2C85-4414-AF51-1EE3AA79C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DDEA3-9299-4D5E-849F-83A090978B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143-ACBB-49C2-B4A7-A1E12774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ADB-E59E-4905-BBFD-C47256BC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D4C-FDD2-493D-8DAB-91072BE3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69D-8312-4869-B189-A7CCBA4D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4AD-4BCB-4527-B731-348F2C1A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21F-5CA0-4753-95F7-3B095F3B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211-8F79-46EB-A492-131C5750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88F-F4C8-4230-A202-81AD7F58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023-C85B-4BA7-8ABE-EDA8C3C1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846-31D2-45D7-94A5-C53E1D1D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04E-3FB5-4D14-982A-3740CD96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201-7C00-47DC-927C-4558B61E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E77A9-DF9F-45A5-9838-42158F922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Oturum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Günlük Gözden Geçir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kimler ve Savcılar İçin İleri Düzey Bilişim Suçları Eğiti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Dersin sonunda öğrencile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ir önceki günün faaliyetlerin anlaşım oldukları kısımlarını belirleye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ilgilerinin gerekli düzeye getirilmesi için belgeleri gözden geçirmeleri gereken alanları belirleyebileceklerd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Günd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20920"/>
            <a:ext cx="851364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100" spc="-1" strike="noStrike">
                <a:solidFill>
                  <a:srgbClr val="000000"/>
                </a:solidFill>
                <a:latin typeface="Calibri"/>
              </a:rPr>
              <a:t>Birinci Günün Konuları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Kursun Açılışı ve Tanış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Bir Soruşturmanın Geliştirilme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oruşturmalar Hakkı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Uluslar arası İşbirliğ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Uluslar arası İşbirliği Hakkı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Zanlının Belirlenmesi Konusu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83760" y="450072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OPERATOR</dc:creator>
  <dc:description>Uğur Mumucu Caddesi Kırçiçeği Sokağı No: 8/2
TR-06700 G.O.P Çankaya/ANKARA
Fax: +90-312- 441 91 05</dc:description>
  <cp:keywords>www.erenoglu.com.tr</cp:keywords>
  <dc:language>en-US</dc:language>
  <cp:lastModifiedBy>OPERATOR</cp:lastModifiedBy>
  <dcterms:modified xsi:type="dcterms:W3CDTF">2013-08-05T07:04:16Z</dcterms:modified>
  <cp:revision>15</cp:revision>
  <dc:subject>ERENOGLU CONSULTANCY, TRANSLATION AND FOREIGN TRADE LTD CO.</dc:subject>
  <dc:title>ERENOĞLU DANIŞMANLIK TERCÜMANLIK VE DIŞ TİCARET LTD. ŞTİ.</dc:title>
</cp:coreProperties>
</file>