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3013C-6E18-408F-8E81-D6587B034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56883-7371-4F3B-BD4A-26E0FEF2E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Örneğin bazı olaylarda ekonomik nitelikli bilişim suçları, şiddet suçlarının yaygın olduğu ve bilgi teknolojisi altyapısı ve bilincinin düşük olduğu ülkelerin öncelikler listesinde çok alt sıralarda yer alabilir. Diğer yandan organize suçlara ve terörizmle ilgili bilişim suçlarına yaklaşım, tamamen farklı bir öneme sahip olabilir. Sonuç olarak bilişim suçları olaylarına düşük öncelik verilebilir. Geçmişte benzer durumlarda hiç işbirliği yapmamış veya çok az işbirliği yapmış olan “kötü şöhretli” ülkeler söz konusu olduğunda ilave bir sorun ortaya çıka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E4DB2-3EDB-4034-A968-388C2D6E52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F5C63-6CE4-4D83-83B1-26BA1FF8A1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84EF7-313B-4E7B-99FE-147AADF7B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81758-D5C5-482B-B16B-4C315A3D75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B9B57-DB2C-4D35-9445-1D44BEDBF96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09E82-673B-4230-B252-7FE9CC6ABE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C7D3D-7077-4DC5-88DE-04982A9091D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8E97E-2D86-40DA-B40B-2B9BC0D0F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1C6EC-7C44-48D0-87AA-CD3EDA354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8A112-535B-4EC9-A4FA-68A71C4D1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187E5-BB77-46D9-AE25-D4270DE39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324EA-3C26-456A-91EA-02F54F44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2CE7E-260F-45D9-8B1F-11E0501A6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453C-27BA-4FC5-B5FA-327E21126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A1000-FA5B-4DB4-B18C-0448D6DC4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000F-8C30-4A7B-A3CB-6897E128D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A1EB7-1694-4ECF-BAB8-71C220AE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A5297-DAB0-462C-90DC-3B2E71B5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D6530-BE1C-408E-B013-1DFBC2711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F0561-8269-4510-AAD8-58B5F094A9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Uluslararası İşbirliği</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u</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kanıtlar içi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Elde edilecek elektronik kanıtları mümkün olduğu kadar ayrıntılı belirtin, mevcut olduğu taktirde talep edilen kanıtlara ilişkin gerekli teknik bilgileri verin (sunucu/sistem tarihi, zaman çerçevesi IP ve MAC adresleri, e-mail adresleri, kullanıcı hesap bilgileri, vs. gibi kimlik belirleme bilgileri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arlıkların bulunabileceği yeri ve ayrıntıları ya da bunlara el koymuş olan kişi veya kuruluşu belirt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rama emrinin uygulanması 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yerli adli makam tarafından düzenlenmiş geçerli arama emrini ekley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yerleri ve eşyaları kesin olarak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manın yapılması sırasında uyulması gereken ayrıntılı kuralları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kanıtlar hakkında kesin bilgiler v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El koyma/müsadere için: </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lkedeki adli makam tarafından düzenlenmiş olan geçerli el koyma veya müsadere emrinin bir suretini verin</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El konulacak / müsadere edilecek eşyaların kesin tanımı</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ramanın yapılması sırasında uyulması gereken özel kuralları belirt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 soruşturma önlemleri iç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ülkedeki yetkili adli makam tarafından düzenlenmiş olan SIMs ile ilgili geçerli emrin bir suretini ver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lınacak önlemlerin kapsamını ve özelliğini belirt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erine getirilmesi gereken özel şartları belirtin – gizli görevdeki ajanların kimliği/kimliklerinin gizli tutulması, teknik ve lojistik  gereksinimler, masrafların ve giderlerin karşılanması, belirtilen haberleşme kanalları, 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Gerektiği taktirde bir JIT anlaşması imzalanmasını sağlay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gizlilik şartlarını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bin karşılanmasına ilişkin aciliyet seviyesini ve ayrıca süre sınırlamalarını belirleyin ve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Zanlının veya zanlıların kimliklerinin mümkün olduğu ölçüde doğru ve kesin şekilde belirtilmesi – bunun sanal bir dünya olduğunu unutmayın – kimlik, kolaylıkla saklanabilir, değiştirilebilir veya çalınabili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LA tarafından talep edilecek kanıtların doğru bir şekilde belirlenmesi ve önceliklendirilmesi – önceliklerin belirlenmesi – sadece çok önemli olanların soruşturma için seçilmesi – kaynakların rasyonelleştirilmesi ve verimliliğin artırılmas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likle dijital verilerin güvence altına alınması ve muhafaza edilmesi için acil önlem alınacak “sıcak takip” vakaları için diğer ülkede uygun irtibat görevlilerinin belirlenmesi (Budapeşte Sözleşmesi ışığında 24/7 irtibat görevlileri, İnterpol kanalları, v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İlgili meslektaşların gelecek MLC konusunda bilgilendirilmesi amacıyla resmi MLA sunulmasından önce onlarla gayrı resmi temaslar kurulması, talebin mümkün olduğu kadar ayrıntılı bir şekilde açıklanması için operasyonel kontroller yapılması.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2" name=""/>
          <p:cNvSpPr txBox="1"/>
          <p:nvPr/>
        </p:nvSpPr>
        <p:spPr>
          <a:xfrm>
            <a:off x="457200" y="1599840"/>
            <a:ext cx="8229600" cy="50338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verilerin kime ait olduğu, sunucu/sağlayıcının fiziksel yeri ve sunucu/sağlayıcı sahiplerinin yasal ikamet yeri (sunucuların bir ülkede bulunması veya farklı bir ülkede kayıtlı olan ve burada faaliyet gösteren sahiplerin söz konusu olduğu bulut (dağıtık) bilgi işlem vakası) gibi tamamen teknolojik hususları dikkate alarak kanıt / suçlular / mağdurlar açısından yargı yetkisinin uygun şekilde belirlenmesinin sağlanması</a:t>
            </a:r>
            <a:endParaRPr b="0" lang="en-US" sz="2400" spc="-1" strike="noStrike">
              <a:solidFill>
                <a:srgbClr val="000000"/>
              </a:solidFill>
              <a:latin typeface="Calibri"/>
            </a:endParaRPr>
          </a:p>
          <a:p>
            <a:pPr marL="343080" indent="-343080">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Farklı zaman dilimleri – modern iletişim araçlarının (yani telekonferanslar) kullanılması durumunda bile irtibat kurulmasındaki güçlükler – Bu, soruşturmayı/MLA taleplerini geciktirebilir ve masrafları artırabilir. Bazı emniyet müdürlükleri ve savcılıklar, hala uluslar arası telefon görüşme yapma imkanına sahip değil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elgelerin tercüme edilmesi – bir çok devlet, MLA’ların kendi resmi lisanlarına tercüme edilmesini talep etmektedi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Güvenlik görevlileri ve savcılar arasında doğrudan ve gayrı resmi temaslar sırasında lisan engel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arklı ülkelerde bilişim suçları soruşturmalarının farklı önem düzeyleri nedeniyle yaşanabilecek gecikmelere hazırlıklı olu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ın talebinizi karşılama kapasitesi olmaması halinde teknik ve uzman yardımı sağlamayı düşünebilirsiniz.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u oturumda katılımcıla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İşlenmiş olabilecek suçların birçoğunun soruşturulması için uluslar arası işbirliği gereksinim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Uluslar arası işbirliği konusundaki kanalları ve mevcut araçları, bunların kullanılma şekillerini, zaman çizelgelerini ve mevcut olan işbirliği yöntemlerinin etkinliğ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ilişim Suçları Hakkındaki Budapeşte Sözleşmesi’nde tanımlanan işbirliği mekanizmalarının avantajlarını tartışacaklar ve bunun genel ilkelerini, geçici önlemleri ve 24/7 ağı belirleyeceklerdir.</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ümkün olduğunda konvansiyonel/geleneksel soruşturma araçları ve önlemleri talep etmeyi ve kullanmayı düşünün. Polis memurları/savcılar, buna daha alışıktır ve bazen, başarılı bir soruşturma ve cezai kovuşturma için aynı derecede amaca hizmet edebilirler ve yeterli kanıtlar sağlayabilirler.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İkinci Bölüm</a:t>
            </a:r>
            <a:br>
              <a:rPr sz="3200"/>
            </a:br>
            <a:r>
              <a:rPr b="1" lang="tr-TR" sz="3200" spc="-1" strike="noStrike">
                <a:solidFill>
                  <a:srgbClr val="000000"/>
                </a:solidFill>
                <a:latin typeface="Calibri"/>
              </a:rPr>
              <a:t>Genel Uluslararası İşbirliği Mekanizmaları</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rPr>
              <a:t>Ceza İşlerinde Karşılıklı Yardım 1959 Avrupa Sözleş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temelini oluşturmaktad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 Konseyi’ne Üye Devletlerin tamamı (San Marino dışında) bunu onaylamışt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bütün tarafları içinde Amerika Birleşik Devletleri, 1959 Sözleşmesi’nin üye olmayan yegane tarafıdır. </a:t>
            </a:r>
            <a:endParaRPr b="0" lang="en-US" sz="32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vrupa Konsey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dli irtibat görevlileri ağı</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Uygulayıcıların, her Üye Devlette bir karşılıklı hukuki yardım talebini alacak ve yerine getirecek yetkili yerel yetkiliyi derhal belirlemelerine imkan verir</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ye Devletler arasında adli işbirliğinin kolaylaştırılması ile görevli etkin aracılardır</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Cezai Konularda Avrupa Adli Ağ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Üyelerine yardımcı olmak iç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ürekli olarak (günde 24 saat, haftada 7 gü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ütün dünyada 120’den fazla referans görevlisi (Eylül 2011)</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udapeşte Sözleşmesi’nin 24/7 irtibat görevlileri düzenlemesini benimsemişti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Sözleşme’nin bazı tarafları, Interpol – NCRP ve aynı zamanda G8 İrtibat Görevlileri Ağına aynı referans görevlilerini atamıştı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G8 irtibat görevlileri, bu ağa dahil edilmiştir</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maç</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Polisin diğer ülkelerdeki uzmanları en kısa süre içinde belirleyebilmesini sağlamak</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ilgisayarla ilgili soruşturmalarda ve kanıtların toplanmasında en kısa süre içinde yardım alınması</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Interpol Ulusal Merkez Referans Görevlileri –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bilgileri ile teknik ve operasyonel destek sağlanması ve değişim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Tipik polis bilgilerinin mümkün olan en kısa süre içinde değişiminin sağlanması</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Terör zanlıları, aranan kişiler, parmak izleri, DNA profil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yıp veya çalınmış seyahat belgeleri, çalınmış motorlu araçlar, çalınmış sanat eser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ğer</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ğıdakilerin acil olarak talep edilmesi amacıyla kullanılamaz</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lgisayar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akış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kanıtların elde edilmesi veya korunmasına yönelik her türlü önlem</a:t>
            </a:r>
            <a:endParaRPr b="0" lang="en-US" sz="20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Üçüncü Bölüm</a:t>
            </a:r>
            <a:br>
              <a:rPr sz="3200"/>
            </a:br>
            <a:r>
              <a:rPr b="1" lang="tr-TR" sz="3200" spc="-1" strike="noStrike">
                <a:solidFill>
                  <a:srgbClr val="000000"/>
                </a:solidFill>
                <a:latin typeface="Calibri"/>
              </a:rPr>
              <a:t>Bilişim Suçları Hakkındaki Budapeşte Sözleşmesi’nin Uluslararası İşbirliği Mekanizmaları</a:t>
            </a:r>
            <a:endParaRPr b="0" lang="en-US" sz="32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Tarafın yetkilileri, bir dahili soruşturma sırasında elde ettikleri bazı bilgilerin, diğer Tarafın yetkililerine iletilmesi gerektiğini fark ederle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bilginin Sözleşme çerçevesinde bir cezayı gerektiren suça ilişkin bir soruşturmanın başlatılması veya geliştirilmesi açısından yararlı veya gerekli görülmesi halinde bu yapılabili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adde 26 (2) uyarınca bu bilgi, esas olarak gizlilikle ilgili belirli koşullarla iletilebilir. </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26</a:t>
            </a:r>
            <a:br>
              <a:rPr sz="4000"/>
            </a:br>
            <a:r>
              <a:rPr b="1" lang="tr-TR" sz="4000" spc="-1" strike="noStrike">
                <a:solidFill>
                  <a:srgbClr val="000000"/>
                </a:solidFill>
                <a:latin typeface="Calibri"/>
              </a:rPr>
              <a:t>Anında Bilg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Gündem</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ir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İk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Genel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Üç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Bilişim Suçları Hakkındaki Budapeşte Sözleşmesi”nin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Dörd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 – ele alınan olay</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eş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Öz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bilgisayar sistemine kaydedilmiş olan verilerin hızlandırılmış muhafazası</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ahili hükme paralel çerçeve</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Bir akit Tarafının, diğer akit Taraftan, verilerin hızlandırılmış muhafazasını talep etmesine imkan tanır</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zamanda bir arama, el koyma veya benzeri bir önlem için resmi bir yardım talebi gönderme niyetini ifade etmesi halinde</a:t>
            </a:r>
            <a:endParaRPr b="0" lang="en-US" sz="24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gerekli dikkati göstererek kendi ulusal hukukuna göre talep edilen verilerin muhafaza edilmesi için gerekli işlemleri yapmalıdır.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verilerin muhafaza edilmesinin bir koşulu olarak fiilin her iki ülkede de suç sayılmasını talep edemez.</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Yeni bir uluslararası işbirliği aracı</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ortamın özgünlüğü – çok kısa bir süre içinde tamamen silinmesi mümkün olan bir şeyin muhafaza edilmesinin gerekliliği</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dece acil nedenlerle bir muhafaza etme önlemi. Muhafaza edilen verilerin kendiliğinden ifşa edilmesini gerektirmez.</a:t>
            </a:r>
            <a:endParaRPr b="0" lang="en-US" sz="28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İfşa etmeye izin verilen durumlarda özellikle bu verilerin sadece akış verileri olmaması durumunda bunun yapılmasına ilişkin çok sıkı kurallar vardır. </a:t>
            </a:r>
            <a:endParaRPr b="0" lang="en-US" sz="24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Uygulamada veriler hızlandırılmış bir şekilde muhafaza edilebilir ve daha sonra bu verilerin talepte bulunan tarafa ifşa edilmesi için bir şart bulunmadığı varsayılabilir. </a:t>
            </a:r>
            <a:endParaRPr b="0" lang="en-US" sz="2800" spc="-1" strike="noStrike">
              <a:solidFill>
                <a:srgbClr val="000000"/>
              </a:solidFill>
              <a:latin typeface="Calibri"/>
            </a:endParaRPr>
          </a:p>
          <a:p>
            <a:pPr marL="32220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akış verilerinin ifşa edilmesi</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İfşa etmenin hızlandırılması için belirli bir kural yoktur</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Usule ilişkin kurallar bölümünde dahili düzeyde hızlandırılmış ifşaya ilişkin belirli kuralların bulunmaması nedeniyle</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Ülke düzeyindeki usule ilişkin kurallar, uluslar arası işbirliği düzeyinde kullanılabilir</a:t>
            </a:r>
            <a:endParaRPr b="0" lang="en-US" sz="32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278000"/>
            <a:ext cx="8229600" cy="51768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Kaydedilmiş bilgisayar verilerine erişim konusunda yardımlaşma</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r>
              <a:rPr b="0" lang="tr-TR" sz="3200" spc="-1" strike="noStrike">
                <a:solidFill>
                  <a:srgbClr val="000000"/>
                </a:solidFill>
                <a:latin typeface="Calibri"/>
              </a:rPr>
              <a:t>Bir bilgisayar sistemi ile kaydedilmiş verilerin aranması veya el konulması (ve ifşa edilmesi) konusunda başka bir Devlete talepte bulunulması</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lepte bulunulan Devlet’in ülkesinde bulunan</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Madde 29 uyarınca muhafaza edilmiş olan veriler dahil</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r Tarafın güvenlik yetkililerine, başka bir Tarafın ülkesinde bulunan bir bilgisayara kaydedilmiş olan verileri elde etme fırsatının tanınması</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konusunda bir talep olmadan</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Somut bir soruşturma sırasında sorumlu yetkililerin, yabancı bir ülkede bulunan bir bilgisayardan veya erişimine yasal olarak yetkili kişi tarafından izin verilen bir bilgisayardan açık kaynak bilgilerini almalarının gerekmesi halinde</a:t>
            </a:r>
            <a:endParaRPr b="0" lang="en-US" sz="2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Akış verilerinin gerçek zamanlı toplanması için yardımlaşma</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Bu yardım, ülke hukukunda öngörülen koşullara ve usullere tabidir</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Her Devlet, en azından ülkedeki benzeri bir olayda akış verilerinin gerçek zamanlı olarak toplanmasının mümkün olduğu ceza gerektiren suçlar konusunda yardım sağlamalıdır.  </a:t>
            </a:r>
            <a:endParaRPr b="0" lang="en-US" sz="3200" spc="-1" strike="noStrike">
              <a:solidFill>
                <a:srgbClr val="000000"/>
              </a:solidFill>
              <a:latin typeface="Calibri"/>
            </a:endParaRPr>
          </a:p>
          <a:p>
            <a:pPr marL="2700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İleri teknoloji kullanılarak işlenilen suçlar hakkında </a:t>
            </a:r>
            <a:r>
              <a:rPr b="1" lang="tr-TR" sz="2800" spc="-1" strike="noStrike" u="sng">
                <a:solidFill>
                  <a:srgbClr val="000000"/>
                </a:solidFill>
                <a:uFillTx/>
                <a:latin typeface="Calibri"/>
              </a:rPr>
              <a:t>operasyonal uzman ağı</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gayrı resmi talepten sonra bir resmi işbirliği talebinin iletilmesinin gerekmesi halinde bile </a:t>
            </a:r>
            <a:r>
              <a:rPr b="1" lang="tr-TR" sz="2800" spc="-1" strike="noStrike" u="sng">
                <a:solidFill>
                  <a:srgbClr val="000000"/>
                </a:solidFill>
                <a:uFillTx/>
                <a:latin typeface="Calibri"/>
              </a:rPr>
              <a:t>çok hızlı yardım sağlayın ve işbirliği yapın</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Her ülke için </a:t>
            </a:r>
            <a:r>
              <a:rPr b="1" lang="tr-TR" sz="2800" spc="-1" strike="noStrike" u="sng">
                <a:solidFill>
                  <a:srgbClr val="000000"/>
                </a:solidFill>
                <a:uFillTx/>
                <a:latin typeface="Calibri"/>
              </a:rPr>
              <a:t>günde 24 saat ve haftada 7 gün ulaşılabilen</a:t>
            </a:r>
            <a:r>
              <a:rPr b="0" lang="tr-TR" sz="2800" spc="-1" strike="noStrike">
                <a:solidFill>
                  <a:srgbClr val="000000"/>
                </a:solidFill>
                <a:latin typeface="Calibri"/>
              </a:rPr>
              <a:t> tek bir irtibat görevlisi</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u="sng">
                <a:solidFill>
                  <a:srgbClr val="000000"/>
                </a:solidFill>
                <a:uFillTx/>
                <a:latin typeface="Calibri"/>
              </a:rPr>
              <a:t>İrtibat görevlileri arasında doğrudan iletişim</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sas olarak dünya çapında akış verileri ve diğer kaydedilmiş verilerin derhal muhafaza edilmesi olasılığının sağlanması için planlanmıştır</a:t>
            </a:r>
            <a:endParaRPr b="0" lang="en-US" sz="28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nin çoğunluğu, emniyette görevl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nlardan bazıları, savcılıklardak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 24/7 irtibat görevlileri ağı için hukuki bir temel sağlamıştır ve bu, uluslar arası işbirliği konusunda en yararlı araçlardan biri olarak kabul edilmektedir. </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Dördüncü Bölüm</a:t>
            </a:r>
            <a:br>
              <a:rPr sz="3200"/>
            </a:br>
            <a:r>
              <a:rPr b="1" lang="tr-TR" sz="3200" spc="-1" strike="noStrike">
                <a:solidFill>
                  <a:srgbClr val="000000"/>
                </a:solidFill>
                <a:latin typeface="Calibri"/>
              </a:rPr>
              <a:t>Somut olaylarda uluslararası işbirliği gereksinimi – ele alınan olay</a:t>
            </a:r>
            <a:r>
              <a:rPr b="0" lang="tr-TR" sz="3200" spc="-1" strike="noStrike">
                <a:solidFill>
                  <a:srgbClr val="000000"/>
                </a:solidFill>
                <a:latin typeface="Calibri"/>
              </a:rPr>
              <a:t> </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irinci Bölüm</a:t>
            </a:r>
            <a:br>
              <a:rPr sz="3200"/>
            </a:br>
            <a:r>
              <a:rPr b="1" lang="tr-TR" sz="3200" spc="-1" strike="noStrike">
                <a:solidFill>
                  <a:srgbClr val="000000"/>
                </a:solidFill>
                <a:latin typeface="Calibri"/>
              </a:rPr>
              <a:t>Somut olaylarda uluslar arası işbirliği gereksinimi</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t>
            </a:r>
            <a:r>
              <a:rPr b="0" lang="tr-TR" sz="3200" spc="-1" strike="noStrike">
                <a:solidFill>
                  <a:srgbClr val="000000"/>
                </a:solidFill>
                <a:latin typeface="Calibri"/>
              </a:rPr>
              <a:t>0007” hesabı için mevcut bilgilerin alınması amacıyla </a:t>
            </a:r>
            <a:r>
              <a:rPr b="0" lang="tr-TR" sz="3200" spc="-1" strike="noStrike" u="sng">
                <a:solidFill>
                  <a:srgbClr val="0000ff"/>
                </a:solidFill>
                <a:uFillTx/>
                <a:latin typeface="Calibri"/>
              </a:rPr>
              <a:t>www.hushmail.com’un</a:t>
            </a:r>
            <a:r>
              <a:rPr b="0" lang="tr-TR" sz="3200" spc="-1" strike="noStrike">
                <a:solidFill>
                  <a:srgbClr val="000000"/>
                </a:solidFill>
                <a:latin typeface="Calibri"/>
              </a:rPr>
              <a:t> kullanıldığı ülkeye yönelik MLA talebi.</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5666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566640" indent="-566640">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
            </a:r>
            <a:r>
              <a:rPr b="0" lang="tr-TR" sz="2800" spc="-1" strike="noStrike">
                <a:solidFill>
                  <a:srgbClr val="000000"/>
                </a:solidFill>
                <a:latin typeface="Calibri"/>
              </a:rPr>
              <a:t>Humour ürünü”ne yönelik DDoS (dağıtık hizmet engellemeleri) ile ilgili adli bilim incelemesinin saldırganların IP’leri hakkında ilave bilgi sağlaması durumunda IP adresinin kaynaklandığı ülkelerdeki yerel ISP’den veri elde edilmesi amacıyla MLA düzenlenir. Anonim uygulamalar/araçlar (yani TOR) kullanılmadığından emin olun. Bunların kullanılmış olması halinde soruşturma, yanlış yöne gidebilir, gereksiz önlemler alınabilir ve soruşturmada gecikmeler olabil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2" name="PlaceHolder 2"/>
          <p:cNvSpPr>
            <a:spLocks noGrp="1"/>
          </p:cNvSpPr>
          <p:nvPr>
            <p:ph/>
          </p:nvPr>
        </p:nvSpPr>
        <p:spPr>
          <a:xfrm>
            <a:off x="457200" y="1545840"/>
            <a:ext cx="8229600" cy="525780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u="sng">
                <a:solidFill>
                  <a:srgbClr val="0000ff"/>
                </a:solidFill>
                <a:uFillTx/>
                <a:latin typeface="Calibri"/>
              </a:rPr>
              <a:t>http://hungary.carssale.eu’nun</a:t>
            </a:r>
            <a:r>
              <a:rPr b="0" lang="tr-TR" sz="3200" spc="-1" strike="noStrike">
                <a:solidFill>
                  <a:srgbClr val="000000"/>
                </a:solidFill>
                <a:latin typeface="Calibri"/>
              </a:rPr>
              <a:t> adli bilim incelemesinin yapılmasından ve bağlanarak zanlı tarafından talep edildiği şekilde Humour tarafından konulan fotoğrafları indirmiş olan kişilerin IP’lerinin belirlenmesinden sonra IP adresi kullanıcısı/sahibi hakkında veri ve kanıt elde edilmesi amacıyla bu IP’ler için kaynak ülkesine MLA gönder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97240" indent="-597240">
              <a:lnSpc>
                <a:spcPct val="9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racıların (“katırlar”) belirlenmesinden sonra bu kişilerin zanlılar/tanıklar olarak ifadelerinin alınması, RM ile haberleşmelerine ilişkin kanıtlar için bilgisayarlarında arama yapılması ve kredi kartları ile diğer mevcut kanıtlara (ATM fişleri, ATM izleme kamerası kayıtları, vs.) el konulması için bu kişilerin ikamet ettikleri ülkelere MLA gönderin. </a:t>
            </a:r>
            <a:endParaRPr b="0" lang="en-US" sz="3200" spc="-1" strike="noStrike">
              <a:solidFill>
                <a:srgbClr val="000000"/>
              </a:solidFill>
              <a:latin typeface="Calibri"/>
            </a:endParaRPr>
          </a:p>
          <a:p>
            <a:pPr marL="597240" indent="0">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fontScale="92000"/>
          </a:bodyPr>
          <a:p>
            <a:pPr marL="56052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60520" indent="-560520">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bazı) aracıların suçunun belirlenmesinden sonra bunların iadesi (tutuklama emirleri) veya iadenin mümkün olmaması halinde dosyanın ve cezai takibatın, aracının vatandaşı olduğu/ikamet ettiği ülkeye gönderilmesi için MLA gönderilmesi olasılığını dikkate alın</a:t>
            </a:r>
            <a:endParaRPr b="0" lang="en-US" sz="3200" spc="-1" strike="noStrike">
              <a:solidFill>
                <a:srgbClr val="000000"/>
              </a:solidFill>
              <a:latin typeface="Calibri"/>
            </a:endParaRPr>
          </a:p>
          <a:p>
            <a:pPr marL="560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eşinci Bölüm</a:t>
            </a:r>
            <a:br>
              <a:rPr sz="3200"/>
            </a:br>
            <a:r>
              <a:rPr b="1" lang="tr-TR" sz="3200" spc="-1" strike="noStrike">
                <a:solidFill>
                  <a:srgbClr val="000000"/>
                </a:solidFill>
                <a:latin typeface="Calibri"/>
              </a:rPr>
              <a:t>Özet</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turumun sonunda katılımcılar: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nternetin küresel boyutunu ve bilişim suçları alanında uluslar arası işbirliğinin önemini anla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lenmiş olabilecek suçların bir çoğu için uluslar arası işbirliği gereksiniminin farkına var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Uluslararası işbirliği kanallarını ve mevcut araçları, bunların nasıl kullanıldığını, mevcut olan işbirliği yöntemlerinin süreleri ve etkinliğini belirlemeli;</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işim Suçları Hakkındaki Budapeşte Sözleşmesi’nde tanımlanan işbirliği mekanizmalarının avantajının farkına varmalı ve bunun genel ilkeleri, geçici önlemler ve 24/7 ağ konusunda bilgi sahibi olmalı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1   Bir suçun yeri – nerede işlendiğ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Hangi maddi hukuk geçerlidi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Yetki kime aittir (polis, savcı, hakim)</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2   Soruşturmaya ilişkin bir sınırlama olarak yargı yetkis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Sınır ötesi soruşturmala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t>
            </a:r>
            <a:r>
              <a:rPr b="0" lang="tr-TR" sz="2400" spc="-1" strike="noStrike">
                <a:solidFill>
                  <a:srgbClr val="000000"/>
                </a:solidFill>
                <a:latin typeface="Calibri"/>
              </a:rPr>
              <a:t>bulut” içinde soruşturma – esas olarak “bulut” içinde saklanmış verilere erişim</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t>
            </a:r>
            <a:r>
              <a:rPr b="1" lang="tr-TR" sz="4400" spc="-1" strike="noStrike">
                <a:solidFill>
                  <a:srgbClr val="000000"/>
                </a:solidFill>
                <a:latin typeface="Calibri"/>
              </a:rPr>
              <a:t>Zor” Soru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na ve savcılara suç bildiriminde bulunulduğunda onların bilgi ve deneyim düzeyi, olayın doğru bir şekilde anlaşılması ve kanıtların muhafaza edilmesi ve elde edilmesi için zamanında ve yeterli önlem alınması açısından büyük önem taşıyabili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 ve savcıların, olayın çözülmesi konusunda doğal olarak çıkarı olan mağdurun işbirliği ve katkısı dahil olmak üzere gerektiğinde kurum içinden ve dışından ilave yardım talep etmes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Yardım talep etmek amacıyla kullanılan hukuki belgenin belirtilmesi – antlaşma, sözleşme veya başka işbirliği aracı.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Soruşturmanın/takibatın kimin tarafından yürütüldüğünün açıkça belirtilmesi. Bütün gerekli temas bilgilerinin ve tercih edilen haberleşme araçlarının iletilmesi.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Olayın özetlenmesi – Soruşturmayı /takibatı destekleyen kanıtların bir özeti dahil olmak üzere soruşturma veya takibata konu olan olay hakkında ayrıntılı bir açıklama yapılması. Devam eden soruşturmaya ilişkin olarak talep edilen kanıt ve önlemlere ilişkin gerekçeyi açıklayın.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İlgili ulusal mevzuat hükümlerinin belirtilmesi – ilgili ceza verme hükümleri dahil olmak üzere soruşturmaya/takibata konu bütün ilgili yasa hükümlerinin tam metni.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Talep edilen yardımın kesin olarak açıklanması – tam olarak ne istiyorsunuz.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 beyanı/ifadesi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Kişinin bulunduğu y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la ilgili ulusal usule ilişkin kural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tan talep edilen belirli bilgi ve soruların listesi</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zılı kanıtlar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Elde edilecek belgeleri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Belgelerin /eşyaların / kanıtların bulunabileceği yer veya bunlara el koymuş olan kişi veya kuruluşu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02:21Z</dcterms:modified>
  <cp:revision>72</cp:revision>
  <dc:subject>ERENOGLU CONSULTANCY, TRANSLATION AND FOREIGN TRADE LTD CO.</dc:subject>
  <dc:title>ERENOĞLU DANIŞMANLIK TERCÜMANLIK VE DIŞ TİCARET LTD. ŞTİ.</dc:title>
</cp:coreProperties>
</file>