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4E6-E1F4-40F0-BDF0-E89A6964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896-400C-466E-B2DA-3A6C5D1B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2F1-D0FE-4031-AA4B-6A036521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38A-9869-4C01-B07E-C9E740C3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7BD-F447-4CAF-B745-AA92CC0B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3A8-FAC7-42BB-B8F1-3F8990F3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B5B1-D7AF-4169-A170-9A0AB283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4D9-142A-4AF8-9718-EF718252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2DD-15C5-4FE4-A19F-F6766B8A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9C6-6021-4B09-B9C7-2814C928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398-72D8-495E-B82F-CE7276F9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D2A-1FBE-48E0-B866-7CE4061D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726E-8CDA-4A92-AA4D-2C0167018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predni kurs o  visokotehnološkom kriminalu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 sudije i tužio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sija o međunarodnoj saradn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631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517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e sledeće inform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517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je reč o elektronskim dokazi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ljno precizirajte, koliko god je to moguće, elektronske dokaze koji se traže, dostavljajući sve potrebne tehničke informacije o njima (server/vreme rada sistema, vremenski okvir, detalje koji mogu poslužiti za identifikaciju kao što su adrese IP i MAC, imejl adrese, podatke o korisničkom nalogu i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kažite na mesto gde se ta dobra mogu naći i detalje u vezi sa njima, kao i lice ili entitet koji ih drži kod se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e sledeće inform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je reč o izvršenju naloga za pret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i validan nalog za pretres koji je izdao domaći sudski or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i precizne naznake o mestima koje treba pretre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zirati pravila postupka koja treba da budu primenjena prilikom pret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i tačne podatke o dokazima koji se traže prilikom  pretre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e sledeće inform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je reč o oduzimanju/konfiskacij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i kopiju valjanog rešenja o oduzimanju ili konfiskaciji koju je izdao domaći sudski or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zno ukazati na predmete koji treba da budu oduzeti/konfiskov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aza na konkretna pravila, ako ima posebnih pravila koja treba slediti prilikom izvršenja pretre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e sledeće inform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je reč o specijalnim istražnim mer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i primerak validnog naloga za primenu takvih mera koji je potpisao domaći sudski or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zirati obim i prirodu radnji koje će biti preduz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zirati specijalne uslove koji se moraju poštovati - identitet/anonimnost prikrivenih islednika, tehnički i logistički zahtevi, pokrivanje troškova, preciziranje kanala za komunikaciju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o je potrebno, potpisati sporazum o formiranju ZIT (Zajedničkog istražiteljskog t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ebno naglasiti sve zahteve u pogledu čuvanja taj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vrditi i precizirati nivo hitnosti u izvršenju zahteva, navodeći pored toga i tačne rok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isno i što je moguće tačnije identifikovati osumnjičene (jednog ili više njih) - imajući na umu da je reč o virtuelnom svetu - gde se identitet može lako sakriti, izmeniti ili ukra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vilna identifikacija dokaza koji se traže i utvrđivanje prioriteta u sklopu uzajamne pravne pomoći - birajući samo ono što je od presudnog značaja za istragu - radi racionalizacije resursa i povećane efikas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kovati odgovarajuću tačku za kontakt u drugoj zemlji - na mreži 24/7 u svetlosti Budimpeštanske konvencije, Interpolovih kanala itd. - posebno kada je reč o slučajevima „hitne potrage“, gde se mere moraju preduzeti bez odlaganja da bi se obezbedili i zaštitili digitalni podaci (elektronski dokaz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postaviti neformalne kontakte s kolegama koji obavljaju iste poslove pre podnošenje formalnog zahteva za uzajamnu pravnu pomoć da bi se te kolege obavestile o predstojećoj zamolnici; sprovesti operativne provere da bi zamolnica sadržala što je mogućno više deta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ati se da nadležnost bude valjano identifikovana u tom smislu da se tačno navedu mesta na kojima se nalaze dokazi/počinioci/žrtve, imajući na umu da čisto tehnološka pitanja kao što je pitanje vlasništva nad elektronskim podacima, fizička lociranost servera/provajdera i zvanično mesto boravka vlasnika servera/provajdera - na primer, postoji mogućnost da su serveri locirani u jednoj zemlji ili da se radi o slučaju skladištenja kompjuterskih podataka u oblaku, dok su vlasnici registrovani u nekoj drugoj zemlji (jurisdikciji) i odande poslu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ličite vremenske zone - teškoće u uspostavljanju kontakata, čak i kada se koriste savremena sredstva za komunikaciju (npr., tele-konferencije) - što bi moglo da prolongira istragu/zahtev za UPP i da poveća troškove - još uvek ima policijskih ispostava i tužilaštava iz kojih nije mogućno uputiti međunarodni telefonski poziv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od dokumenata - mnoge države zahtevaju da zamolnice budu prevedene na njihov službeni jezik (jedan ili više nji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zičke prepreke se mogu ispoljiti tokom neposrednih i neformalnih kontakata policijskih zvaničnika i tužila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ite spremni da dođe do kašnjenja zbog toga što u različitim nivo važnosti istragama dela u oblasti visokotehnološkog krimin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motrite mogućnost pružanja tehničke i stručne podrške ako zamoljena strana ne raspolaže sopstvenim kapacitetima za postupanje po vašem zahtev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ljevi s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ovoj sesiji učesnici ć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kovati potrebu za međunarodnom saradnjom u istrazi mnogih krivičnih dela koja su mogla biti učinje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kovati kanale za ostvarivanje međunarodne saradnje i instrumente koji su im na raspolaganju, načine na koje se ti instrumenti koriste, rokove i delotvornost raspoloživih metoda saradn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bno razmotriti prednosti mehanizama saradnje opisanih u Budimpeštanskoj konvenciji o visokotehnološkom kriminalu i identifikovaće njena opšta načela, privremene mere i mrežu 24/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zmotrite mogućnost traženja i primene konvencionalnih/tradicionalnih istražnih sredstava i mera gde god je to mogućno - policajci/tužioci su na njih više navikli, a ta sredstva i mere podjednako dobro mogu poslužiti svrsi i obezbediti dovoljno dokaza za uspešnu  istragu i krivični postup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504960"/>
            <a:ext cx="822960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ugi 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šti mehanizmi međunarodne sara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781680" y="4419720"/>
            <a:ext cx="1930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t Ev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ropska konvencija o uzajamnoj pomoći u krivičnim stvarima iz 195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lužila je kao prethodnica i osnov Budimpeštanske konv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e zemlje-članice Saveta Evrope (sa izuzetkom San Marina) ratifikovale su Konvenciju iz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đu svim visokim stranama ugovornicama Budimpeštanske konvencije jedina koja nije potpisn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vencije iz 1959. jesu Sjedinjene Američke Drž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44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ropska pravosudna mreža u krivičnim stva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4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476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eža pravosudnih tačaka za kontak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4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4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ogućuje nosiocima pravosudnih funkcija d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ma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kuju nadležni lokalni organ u svako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mlji-članici da bi mogli da dobiju i izvrše zahtev z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ajamnu pravnu pomoć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476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 tačke ili mesta za kontakt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4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tivni posrednici na rešavanju zadataka uspostavljanja i omogućavanja što lakšeg odvijanja pravosudne saradnje zemalja-čla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olova mreža centralnih nacionalnih referentnih tačaka – NC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žanje pomoći svim članic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eža funkcioniše na stalnoj osnovi (24 sata dnevno, sedam dana u nedelj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še od 120 referentnih tačaka širom sveta (prema stanju iz septembra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hvaćeni su prihvaćen je obrazac mreže mesta za kontakt 24/7 Budimpeštanske konv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ke strane ugovornice Konvencije odredile su istu referentnu tačku za Interpol – NCRP kao i za mrežu tačaka za kontakt u okviru G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ta ili tačke za kontakt G8 uključene su u ovu mrež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ogućiti policiji da bez odlaganja identifikuje stručnjake u drugim zemlj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 odlaganja dobiti pomoć u istragama koje su vezane za kompjutere i u prikupljanju doka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C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ezbediti i razmenjivati policijske informacije i tehničku i operativnu podrš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ezbediti da tipične policijske informacije mogu biti razmenjene što je pre moguć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je koje se odnose na osumnjičene za terorizam, lica s poternica, otiske prstiju, DNK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dene putne isprave, ukradena motorna vozila, ukradena umetnička 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ta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eža se ne može koristiti za to da se hitno zaht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štita kompjutersk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štita podataka o saobraća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o kakva mera u svrhu prikupljanja ili očuvanja doka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9621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147840" y="770040"/>
            <a:ext cx="2848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ći 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hanizmi međunarodne saradnje prema Budimpeštanskoj konvenciji o visokotehnološkom krimin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781680" y="4648320"/>
            <a:ext cx="1930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Član 2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ntane inform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sti jedne strane ugovornice, tokom vođenja domaće krivične istrage, otkriju da bi neke od informacija do kojih su u toj istrazi došle takve da moraju biti dostavljene vlastima druge strane ugovor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 može uraditi ako se čini da bi te informacije mogle biti od koristi i da su potrebne za pokretanje istrage o nekom krivičnom delu koje spada u domen Konv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a članu 26. stav 2, to dostavljanje informacija može biti na izvestan način uslovljeno, prvenstveno u pogledu poštovanja poverljivosti podat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vi 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reba za međunarodnom saradnjom u konkretnim slučajev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ugi 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šti instrumenti i mehanizmi međunarodne sara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ći 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hanizmi međunarodne saradnje prema Budimpeštanskoj konvenciji o visokotehnološkom krimina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etvrti 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reba za međunarodnom saradnjom u konkretnim slučajevima - slučaj koji je upravo u razmatra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i 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z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Član  2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na zaštita podataka uskladištenih u računarskom sist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elni okvir uz unutrašnjepravnu odred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ogućuje jednoj visokoj strani ugovornici da od druge zatraži hitnu zaštitu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o u isto vreme izrazi nameru da podnese formalni zahtev za pomoć u pogledu pretresa, odnosno pretrage, zaplene ili neke druge slične m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oljena strana ugovornica dužna je da preduzme sve potrebne mere, posvetivši im dužnu pažnju, kako bi zaštitila tražene podatke, u skladu s unutrašnjim prav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oljena strana ne može kao uslov za zaštitu podataka postaviti postojanje obostrane inkrim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Član 2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i instrument međunarodne sarad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čnost digitalnog okruženja - potrebno je sačuvati nešto što, u veoma kratkom roku, za samo nekoliko trenutaka, može biti potpuno izbris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o je samo mera zaštite koja se preduzima iz razloga hitnosti, i ne znači automatski da se obelodanjuju svi tako zaštićeni pod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slučajevima u kojima je otkrivanje podataka dopušteno, postoje vrlo striktna i usko koncipirana pravila za to, posebno onda kada nije reč o pukim podacima o saobraća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praktičnim slučajevima, može biti sprovedena hitna zaštita podataka da bi se tek kasnije ispostavilo kako nema uslova koji bi omogućili da se ti podaci otkriju strani molil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Član 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krivanje podataka o saobrać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 postoje posebna pravila za hitno otkrivanje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o onako kao što nema posebnih pravila za hitno otkrivanje podataka na unutrašnjem nivou, u poglavlju o procesnim pravil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na pravila koja se koriste na domaćem nivou mogu se koristiti i na nivou međunarodne sara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lan 3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zajamna pomoć u vezi s pristupom uskladištenim računarskim podac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htev drugoj strani ugovornici da izvrši pretres ili zapleni (i obelodani) podatke uskladištene u računarskom sist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ji je lociran na teritoriji zamoljene st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ljučujući podatke koji su sačuvani saglasno članu 2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lan 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gućnost koja se pruža policiji zemlje potpisnice Konvencije da pribavi dokaze uskladištene u računaru koji je fizički lociran na teritoriji druge strane potpis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 podnošenja zahteva za međunarodnu sarad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o je , tokom konkretne istrage, policajcima potrebno da dobiju informacije iz otvorenog izvora sa kompjutera lociranog u stranoj zemlji ili sa kompjutera za koji im je odobrenje dalo lice koje je za to zakonski ovlašć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lan 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ajamna pomoć u vezi sa prikupljanjem podataka o saobraćaju u realnom vre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 pomoć se upravlja prema uslovima i procedurama utvrđenim u unutrašnjem pr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aka strana ugovornica dužna je da pruži pomoć barem kada je reč o krivičnim delima za koja bi u sličnom domaćem predmetu bilo mogućno prikupljanje podataka o saobraćaju u realnom vreme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eža mesta za kontakt 24/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perativna mrež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čnjaka za visokotehnološki kri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žanj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moći i saradnje veoma brz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ak i ako formalni zahtev za saradnju mora da usledi pošto se uspostavi taj neformalni konta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no jedinstveno mesto za kontakt u svakoj zemlji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je je na raspolaganju 24 sata dnevno, sedam dana u nedel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posredna komunikacija između tačaka, odnosno mesta za konta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ashodno planirano kako bi se pružila mogućnost da se bez odlaganja sačuvaju podaci o saobraćaju i drugi podaci uskladišteni širom sve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eža mesta za kontakt 24/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ćinu mesta za kontakt čine ona koja se nalaze u poli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ka od tih mesta su mesta za kontakt ili kontaktne tačke tužila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impeštanska konvencija pružila je pravni osnov za mrežu 24/7, koja se, po opštem priznanju, smatra jednim od najkorisnijih instrumenata međunarodne sara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0381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47840" y="808200"/>
            <a:ext cx="2848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etvrti 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reba za međunarodnom saradnjom u konkretnim slučajevima - slučaj o kome se upravo vodi diskus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81680" y="4572000"/>
            <a:ext cx="193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vi 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reba za međunarodnom saradnj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konkretnim slučaje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93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raci i mere u sklopu uzajamne pravne pomoći (U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htev za UPP upućen zemlji u čijoj je jurisdikcij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www.hushmail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ako bi se dobili raspoloživ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ci za nalog „0007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raci i mere u sklopu uzajamne pravne pomoći (U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o forenzička analiza DDoS na kompaniju „Humour product“ obezbedi dodatne informacije o IP napadača, biće dostavljen zahtev za UPP kako bi se pribavili podaci sa lokalnog ISP u zemljama iz kojih potiču IP adrese - postarajte se da se ne koriste aplikacije/alati koji počivaju na načelu anonimnosti (npr., TOR). Ako bi se to dopustilo, istraga bi krenula u pogrešnom smeru i bile bi preduzete nepotrebne radnje, što bi dovelo do kašnjenja u istraz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aci i mere u sklopu uzajamne pravne pomoći (UP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o obavljanju forenzičke analize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http://hungary.carssale.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utvrđivanja IP za one koji su pristupili i preuzeli fotografije koje je postavila kompanija Humor onako kako je to zahtevao osumnjičeni, treba dostaviti zahtev za uzajamnu pravnu pomoć zemlji porekla za podatke o tim IP adresama, kako bi se pribavili dokazi o korisnicima/vlasnicima tih IP adres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aci i mere u sklopu uzajamne pravne pomoći (UP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Kada „mule“ budu identifikovane, dostavlja se zamolnica zemljama u kojima im je boravište kako bi one bile saslušane u svojstvu osumnjičenih/svedoka, kako bi se izvršila pretraga njihovih kompjutera radi prikupljanja dokaza o prepisci sa RM i kako bi se zaplenile njihove kreditne kartice i drugi raspoloživi dokazi (izvod s bankomata, snimci nadzornih kamera na bankomatima itd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aci i mere u sklopu uzajamne pravne pomoći (UP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što bude utvrđena krivica (nekih) „mula“, treba razmotriti mogućnost slanja zahteva za njihovo izručenje (naloga za hapšenje) ili, ukoliko izručenje nije mogućno, razmotriti pitanje transfera celog slučaja i krivičnog postupka u zemlju porekla/boravka „mul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147840" y="617400"/>
            <a:ext cx="2848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ti 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z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781680" y="4648320"/>
            <a:ext cx="1930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z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kraju sesije, polaznici bi trebalo 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ju globalnu dimenziju interneta i važnost međunarodne saradnje u oblasti visokotehnološkog krimina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kuju potrebu za međunarodnom saradnjom u istrazi mnogih krivičnih dela koja su mogla biti počinje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kuju kanale za ostvarivanje međunarodne saradnje i raspoložive instrumente, načine na koje se oni koriste, rokove i delotvornost metoda saradnje koji nam stoje na raspolagan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ju prednosti mehanizama saradnje utvrđenih Budimpeštanskom konvencijom o visokotehnološkom kriminalu i identifikuju njena opšta načela, privremene mere i mrežu 24/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88584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47840" y="655560"/>
            <a:ext cx="2848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ška“ pi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Lokacija krivičnog dela - gde je učinj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je je primenjivo materijalno pr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 ima nadležnost (policija, tužilac, sudi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adležnost, kao ograničenje za istra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kogranične is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raga u „oblaku“ - mahom pristup podacima uskladištenim u „oblaku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vo znanja i iskustva policajaca i tužilaca kada im se prijavljuje krivično delo mogu biti od ključnog značaja za valjano poimanje prijavljenog slučaja i za blagovremeno preduzimanje odgovarajućih akcija kako bi se pribavili i zaštitili dokaz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ajci i tužioci treba da zatraže dodatnu pomoć onda kada je ta pomoć potrebna, i „iz kuće“ i spolja, uključujući zahtev za saradnju i doprinos same žrtve, kojoj je svakako u interesu da se predmet reš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zirati pravne instrumente koji se koriste u traženju pomoći - da li je reč o ugovoru, konvenciji ili nekom drugom instrumentu sara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ba jasno identifikovati ko vodi istragu/gonjenje. Treba dostaviti sve neophodne podatke za kontakt i navesti koja bi se sredstva koristila za komunikac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d rezimiranja predmeta - dostaviti detaljni pregled svega onoga što se zna o slučaju, uključujući tu sažetak dokaza koji potkrepljuju osnovne teze na kojima počiva istraga/gonjenje. Treba objasniti pravno uporište dokaza i radnji koje se žele preduzeti u sklopu tekuće ist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ba se pozvati na primenjive odredbe unutrašnjeg prava - navesti integralni tekst relevantnih zakonskih odredaba primenjenih u istrazi/gonjenju, uključujući primenjive odredbe o zaprećenim kazn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zno identifikovati pomoć koja se traži - mora se tačno navesti šta je to što se traž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e sledeće inform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je reč o izjavi svedoka/svedočenj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e se lice nal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utrašnja procesna pravila koja se odnose na sved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kretne informacije koje se od svedoka traže i spisak pitanja na koja se očekuje njegov odgov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124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e sledeće inform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124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je reč o ispravama koje se traže kao dok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Jasno navedite koje su to isprave koje se tra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Jasno ukažite na to na kom se mestu mogu naći ti dokumenti/stavke/dokazi i ko je lice ili entitet koji ih drži kod se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8:30:22Z</dcterms:created>
  <dc:creator>Master</dc:creator>
  <dc:description/>
  <dc:language>en-US</dc:language>
  <cp:lastModifiedBy>Master</cp:lastModifiedBy>
  <dcterms:modified xsi:type="dcterms:W3CDTF">2013-09-12T09:52:26Z</dcterms:modified>
  <cp:revision>5</cp:revision>
  <dc:subject/>
  <dc:title>Slide 1</dc:title>
</cp:coreProperties>
</file>