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4F4-C0F4-4280-9C7E-0CEFB7B4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8A4-2F70-45FB-96BE-DD876BE5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7A8-A4CE-4DD9-BA29-F9D52594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2FA-EA08-4216-937A-7ED5DCAE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A60-405B-4A57-968D-C9C1488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A9C-4D88-485C-B4DC-026A6045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6F5-CD01-485F-A1AF-86A4CA03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64F-B6AA-4BCC-AB77-07AD89C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6B6-D840-4D47-B474-E9E5DE62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AF7-D723-4F51-910F-E938499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05E-2E94-4744-8377-EAF1103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31E-9BF0-46D4-B87F-AF63E4B7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5968-817E-4427-965F-A69EC0A02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predni kurs o visokotehnološkom kriminal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ija 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evni pre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7724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dac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kraja ove lekcije polaznici će biti u stanju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uju sve one oblasti i aktivnosti prethodnih dana koje su u potpunosti percipi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uju one oblasti u kojima treba još jednom razmotriti nastavni materijal da bi njihovo znanje doseglo željeni n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e obrađene prvog d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aranje kursa i predstavl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acija - Razvoj ist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ni rad na istra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acija - Međunarodna sarad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ni rad na međunarodnoj sara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ni rad na identifikaciji osumnjiče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7840" y="61740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58:09Z</dcterms:created>
  <dc:creator>Master</dc:creator>
  <dc:description/>
  <dc:language>en-US</dc:language>
  <cp:lastModifiedBy>Master</cp:lastModifiedBy>
  <dcterms:modified xsi:type="dcterms:W3CDTF">2013-09-12T10:01:06Z</dcterms:modified>
  <cp:revision>2</cp:revision>
  <dc:subject/>
  <dc:title>Slide 1</dc:title>
</cp:coreProperties>
</file>