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AD3A-81C6-4AF0-94F7-3806DE501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F3CB-4B11-471E-825B-1648D1C7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1CE2-3730-459F-8498-50AA53AC7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1A4C-E32E-47C3-8BE5-CCCD02796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70AF-D811-48F4-AEBF-AE37202E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DD86-0AAB-498A-BB49-5B2552EF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426B-6A1B-4889-8AD2-1E4EBFBD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F2F1-7288-47E0-A45D-3B2705EA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EDB0-3A44-45EA-A4AA-450125E8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2884-36BB-47E8-8D82-052CD93E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0026-CC06-4821-A4EE-2375F058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687D-9514-405B-9F48-6123EF0D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60B4-AA70-4D89-BEC1-0C1B72F59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45720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96080" cy="1074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62120" y="2346480"/>
            <a:ext cx="784836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predna obuka o visokotehnološkom kriminalu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a sudije i tužio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sija 1.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Otvaranje kur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1295280"/>
            <a:ext cx="662940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lj ku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lj kursa je da se sudijama i tužiocima prenesu znanje i veštine koji će im omogućiti da ispunjavaju svoje uloge u istragama koje se odnose na visokotehnološki krimi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urs je koncipiran tako da predstavlja nadogradnju osnovnom poznavanju visokotehnološkog kriminala stečenom tokom uvodnog kursa, pa treba da ga pohađaju samo oni koji su prethodno uspešno završili taj kur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371600" y="1066680"/>
            <a:ext cx="647712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 završetku ovog kursa, polaznici će biti u stanju da razmotre pitanja koja su od značaja za istrage dela iz oblasti visokotehnološkog kriminala, uključujući sledeć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đenje istrag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kacija vrste krivičnih dela koja su učinjen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vrđivanje lokacije dokaza, svedoka i osumnjičeni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štita dokaza na prihvatljiv način, bez obzira na to gde se nalaz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prema aktivnosti u oblasti pretresa i zaplene, uključujući elektronske dokaz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upanje sa digitalnim uređajima koji su deo istrag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fing forenzičkih stručnjaka i ostalih koji treba da pruže podršku u fazi istrag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prema za saslušanja osumnjičeni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zentacija dokaza iz oblasti visokotehnološkog kriminal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zmatranje relevantnih aspekata u sudskom postup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08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adaci ku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19320" y="9907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todologija i raspored r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47920" y="1295280"/>
            <a:ext cx="693396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zentacija i praktične vež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snovano na scenari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epeno dodavanje dokumen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upni rad na konkretnim tem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upne povratne inform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rška grupama od nacionalnih instruk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cku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rška od instruktora na grupnim sesija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4572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odolog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219320" y="914400"/>
            <a:ext cx="7238880" cy="40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52760" indent="-1652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spored rada - prvi 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760" indent="-1652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760" indent="-1652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9.00-10.00 – Predstavljanje kursa, instruktora i scenar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760" indent="-1652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00-11.00 – Prezentacija - Razvoj ist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760" indent="-1652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00-11.30 – Pau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760" indent="-1652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30-13.00 – Grupni rad na identifikaciji krivičnih dela, razradi plana istrage i scenari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760" indent="-1652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.00-14.00 – Ruč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760" indent="-1652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.00-14.30 – Prezentacija - međunarodna sarad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760" indent="-1652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.30-15.30 – Grupni rad na međunarodnoj saradn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760" indent="-1652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30-16.00 – Pau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760" indent="-1652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.00-17.00 – Grupni rad na identifikacij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činioca i planiranju strategije hapšen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38080" y="609480"/>
            <a:ext cx="7391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96960" indent="-1596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spored rada - drugi 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6960" indent="-1596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6960" indent="-1596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9.00-09.15 – Rekapitulacija prvog dana - Informacije o hapšenju (hapšenji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6960" indent="-1596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9.15-10.45 – Prezentacija - Digitalna forenz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6960" indent="-1596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45-11.15 – Pau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6960" indent="-1596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15-13.00 - Grupni rad na digitalnim dokazima, potrebama u pogledu dokaza, osumnjičenima, nadležnosti i međunarodnim pitanj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6960" indent="-1596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.00-14.00 – Ruč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6960" indent="-1596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.00-14.30 – Prezentacija - Priprema predmeta za s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6960" indent="-1596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.30-15.30 – Grupni rad: privođenje kraju rada na predm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6960" indent="-1596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30-16.00 – Pau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6960" indent="-1596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.00-17.00 – Preispitivanje predmeta, intervencije radnog tima i polaznika, ocena, povratne informacije i zatvaranje ku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14400" y="1568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DSTAVLJ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66680" y="380880"/>
            <a:ext cx="6629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ijanje le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352260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1523880"/>
            <a:ext cx="822960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zaberite partnera, nekoga koga ranije niste poznav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 roku od 10 minuta saznajte osnovne podatke o partneru i kažite na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ko zove i iz koje je zeml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e ra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Čime se tačno ba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 li iskustva u ulozi instruk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Šta je posebno zanimljivo u vezi s nj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ko glase njegovi odgovori na „pitanja o znanju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4572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dstavlj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57200" y="274680"/>
          <a:ext cx="8229600" cy="5494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Korisnik kompjut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Znanje o visokotehnološkom krimina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 = Potpuni početni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 = Potpuni početni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 = Ume da uključi P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 = Video je forenzički soft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 = Slepo ku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 = Zaposlen u forenzičkoj jedinic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 = Video je unutrašnjost računa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 = Koristio forenzički soft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 = Unapredio je račun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 = Vodio istragu o visokotehnološkom krimina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 = Spremno koristi softverske pak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 = Dao izjavu u vezi s visokotehnološkim kriminal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 = Sam je sastavio račun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 = Svedočio na sudu o kompjuterskim dokazima/visokotehnološkom krimina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 = Sastavio je i koristio makro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 = Napisao program ili šifru kao pomoć ispitivanj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 = Povezao je dva računara u mrež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 = Napisao vlastiti softverski paket za forenzičke potre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1880" indent="-461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 = Sistem administrator, programer i dizajner Microsoft proizvo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1880" indent="-461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 = Programirao forenzički softver namenjen prodaji, ima diplomu koja se odnosi na visokotehnološki kriminal i genije je za tu obla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lj sesij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užiti polaznicima informacije o potrebi za održavanjem kursa, njegovom cilju i zadac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ezbediti da svi imaju dovoljno informacija o programu i rasporedu aktiv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užiti informacije o zdravstvenim, bezbednosnim i administrativnim aspektima kur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oznati polaznike sa instruktorima i drugim polaznic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1371600"/>
            <a:ext cx="7391520" cy="32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 kraju ove sesije učesnici će biti u stanju 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uže informacije o potrebi za održavanjem kursa, njegovom cilju i zadac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ezbediti da svi imaju dovoljno informacija o programu aktivnosti i rasporedu r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uže informacije o zdravstvenim, bezbednosnim i administrativnim aspektima kur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oznaju polaznike sa instruktorima i drugim polaznici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380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zime zadataka koje treba ostvariti na sesi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62120" y="762120"/>
            <a:ext cx="8001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t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171960" y="2133720"/>
            <a:ext cx="28479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v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dravstveni i bezbednosni aspek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zlaz za slučaj opas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ivpožarni al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ale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še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ni telefoni i pejdž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uze za kafu i za ruč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9051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j kurs nosi naziv „Napredni kurs o visokotehnološkom kriminalu i elektronskim dokazima za sudije i tužioce“. Nastao je kao plod Zajedničkog projekta Evropske unije i Saveta Evrope u oblasti visokotehnološkog kriminala u IPA region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12200" y="914400"/>
            <a:ext cx="497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snov i istorijat kur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748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dije i tužioci imaju važnu ulogu u istrazi i suđenju u slučajevima krivičnih dela čiji su počinioci pojedinci ili grupe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ko se povećava učestalost krivičnih dela s nekim elementom visokotehnološkog kriminala, tako se uvećava i potreba da sudije i tužioci budu valjano obučeni da bi mogli da shvate prirodu tih krivičnih dela i da bi bili upoznati sa zakonodavstvom i instrumentima međunarodne saradnje koji im stoje na raspolaganju za rešavanje predmeta iz oblasti visokotehnološkog krimina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0350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ašto je potreban ovaj k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struktor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aj k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de pobrojati imena instruk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457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ruk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821680" y="2361600"/>
            <a:ext cx="33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ljevi i zadac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1T14:40:37Z</dcterms:created>
  <dc:creator>Master</dc:creator>
  <dc:description/>
  <dc:language>en-US</dc:language>
  <cp:lastModifiedBy>Master</cp:lastModifiedBy>
  <dcterms:modified xsi:type="dcterms:W3CDTF">2013-09-12T07:30:49Z</dcterms:modified>
  <cp:revision>5</cp:revision>
  <dc:subject/>
  <dc:title>Slide 1</dc:title>
</cp:coreProperties>
</file>