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D8C-3A1A-4F30-9D9A-61BB43AE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986-D383-46CE-825F-B9CE0BE3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B45-DAE1-4239-9679-C98310A8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39B-2F24-4219-B566-89207D76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70D-022A-4C58-8CA7-CE9F0A9E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883-A0AF-40F6-8DFB-754AF6E6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F59-6A2B-4207-A355-8E073DEE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D1C-9B30-4108-8533-3A6BBC7C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398-FA7E-49B1-8D78-AABD10A8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170-E931-410C-A2A2-2CBD6AA9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0EE-8B16-424E-B505-EFB65DDF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7EE-93A5-414D-8D58-DB2E4DC3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8520-8A49-434B-9076-5FA0F93B1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predni kur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visokotehnološkom kriminalu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 sudije i tužio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ist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7960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dnja policije i tužilaš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zentacija predmeta i preduzetih mera tužio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jedničke istražne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dnja se uglavnom odnosi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tvrđivanje krivičnih dela koja su počinj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straživanje istražnih 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cena rezultata i odlučivanje o daljoj pretrazi, hapšenju, i saslušanju osumnjičen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osumnjičen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acija i lokacija osumnjičeni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tvrđivanje) Drugih adresa koje koristi osumnjiče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acija kompjutera sa koga su izvršena krivična de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išćena internet veza (kablovska, bežična, ISP, itd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nje i umešanost u kriminalne aktiv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dnja s drugim osumnjičenima i njihova umešano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jska ist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išćenje detaljnih podataka o pretplat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za sa drugim osumnjičenima ili drugim kriminalnim istrag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ci iz policijske baze podataka i sa interneta mogu se koristiti kao izvor inform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dnja sa ostalim organima vl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dnja treba da bude usredsređena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mena informacija o činjenicama, licima, operativn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odima i vezama u istraz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kupljanje podataka i dokaz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anje logističke podrške za obavljanje određenih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jalizovana pomoć za tehnička, finansijska i druga pi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na aktivnosti i sprovođenje pretrage, izvršenje hapšenja i obavljanje sasluš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 procene treba da se odnosi na sledeć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ako su sve te aktivnosti obavlj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a li su poštovane donete odluke i utvrđeni kor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a li su pribavljeni dokazi dovoljni za donošenje odlu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a li su poštovane zakonske procedure i odred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li su istraženi svi aspek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li su izdavani nalozi za preduzimanje dodatnih istražnih 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li je kriminalna aktivnost prekinuta, a ako nije, kakve su njene posle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ba slediti zakonske odredbe i utvrđene postup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premiti ljudstvo za obavljanje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premiti dokumente iz spisa pred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na istrage da bi se identifikovale izvuče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uke i dobra praksa i da bi se to dalje šir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na pred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tivne st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ne st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irenje dobijenih pouka i najbolj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i saveti i dosetke u vezi sa scenarijem ku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li su jasni osnovni elementi  DDOS nap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 ste istražitelj koji treba da istražuje danas i su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ragu u grupi mogu voditi jedno ili dva 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šite tip krivičnog dela prema važećim domaćim zako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brojte koja vrsta zakonskih ovlašćenja može biti od koristi za ovakav vid krivičnog d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brojte sve što znate i šta nedos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edite vrstu podataka koju možete da dobijete onlajn, kao i one podatke koje možete da dobijete ofla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ktori su ovde i oni koji daju podatke i žrtve (oštećena lica); oni mogu da daju podatke ako se to od njih zatraži (zatražiti na cedulji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može se udovoljiti svakom zahtevu niti će svaki trud uroditi plo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zmišljajte o detaljima i razmišljajte o celokupnom postup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ba uložiti mnogo napora u isto v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risno je razmišljati kao krimina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ba identifikovati kriminalca/krimina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i se vaše aktivno učešće u grupi na zadatku identifika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09960" y="800280"/>
            <a:ext cx="2933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jem i procena prij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voljno podataka za pokretanje is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javljene činjenice smatraju se krivičnim de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java (pritužba) upućena nadležnom org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držaj prij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ržaj prij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ci na osnovu kojih se može identifikovati žr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tak opis prijavljenih činje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eta, objašnjenje i os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acija kompjuterskih sistema žrtve, tehnička lica odgovorna za održavanje tih sistema koja mogu da pruže informacije o 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ra i kontrola koju je obavila žr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je o osumnjičenima i moguća komunikacija s 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edstva i izvor komunik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vor kriminalne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jski instrumenti koji su korišće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ed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teći dok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krivičnog d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 nadležni za istra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čini prikupljanja dok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edstva za istra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i međunarodne sara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elacija između prijavljenih aktivnosti i veličine š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kupljanje i procena dokaza, informacija i obaveštajnih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Žrtve, svedoci, policijske baze podataka, otvoreni izvori trećih 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i i lok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j: razjasniti prijavljene činjenice, identifikovati osumnjičene i mesta na kojima se odvijala kriminalna aktivnost, utvrditi prirodu i vrednost gubit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aviti procenu rizika i identifikovati potrebu za dodatnom podrš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avljeno zajedno sa žrtvom (oštećenim lic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cijalni rizici: moguće posledice po žrtvu, računarske sisteme ili drugu komercijalnu robu i inte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ovati mere zašt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Žrtva ostaje u kontaktu sa osumnjičen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rška od stručnjaka za računarsku forenziku ili trećeg 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zik treba stalno procenjivati i održavati kontakt sa žrtv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štita mesta  na kome se delo dogodil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očuvanje dok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ni i fizički dok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ni dokazi se čuvaju u ograničenom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acija i mere za prikupljanje digitalnih dok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vori: kompjuter/server korišćen za kriminalne aktivnosti, kompjuter oštećenog lica, drugi kompjuter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htev za zašt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unikacione poru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kacija žrtve (jedne ili više njih) i svedoka i saradnja sa n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tne žr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ete prijave i dostavljene informacije i dok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edoci mogu imati važnu ulo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onski zahtevi i postupak sa žrtvama i svedo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dnja sa žrtvama treba da bude kontinuirani proces kroz koji se dobijaju povratne informacije i pruža pomo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vrđivanje koraka i aktivnosti koje treba preduz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amo se usredsrediti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 samo na nove, već i na tradicionalne met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tvrđivanje činjenica o kriminalnoj aktivnosti i njeno obustav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dentifikacija osumnjičenih i proglašenje njihove kri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aknada š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čavanje daljih kriminalnih aktivnosti i gubi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vrđivanje prioriteta među aktivno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ražiteljski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za s drugim slučajev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dnja s drugim odelje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prema spisa pred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7:46:22Z</dcterms:created>
  <dc:creator>Master</dc:creator>
  <dc:description/>
  <dc:language>en-US</dc:language>
  <cp:lastModifiedBy>Master</cp:lastModifiedBy>
  <dcterms:modified xsi:type="dcterms:W3CDTF">2013-09-12T08:07:24Z</dcterms:modified>
  <cp:revision>4</cp:revision>
  <dc:subject/>
  <dc:title>Slide 1</dc:title>
</cp:coreProperties>
</file>