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423-DD94-4101-BC45-0DD1CAFF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2CA-429D-4B78-A0ED-7C88CB03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327-A2AF-4E22-8632-B0748183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85F-4DFA-4008-A889-87A32EF2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EB5-A182-4705-AC60-18D0E102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80C-D6CD-4489-80AF-2333346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633-D2D3-41C7-9ADC-EE4E9246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D52-3DED-47C2-9F06-CDB3DEC3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908-E5CC-48B0-BF1E-27796756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5A8-FC54-4393-A113-1B18E7E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599-C7F6-4029-AC73-071A3AFC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137-2229-4443-A1AE-19597E14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FDDC-D635-4169-964E-ED986277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predni kurs o visokotehnološkom kriminalu za sudije i tuži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sija 1.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Zatvaranje kursa i povratne informa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j ove sesije je da omogući delegatima da ponude povratne informacije o kursu i pomognu instruktoru u prepoznavanju neophodnih poboljšanja. Cilj je takođe da instruktor ukratko ponovi sadržaj kursa pozivajući se na njegove ciljeve i svrh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ude odgovarajuće povratne informacije o kursu i njegovoj delotvor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une formulare Saveta Evrope o proceni k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oznaju sledeći nivo učenja koji im je potreban da bi unapredili svoja znanja i veštine u oblasti koja se ovde izuč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 ku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kraju ovog kursa, delegati će biti u stanju da razmatraju pitanja koja su relevantna za istrage sajber-kriminala, uključujuć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šenje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vrste krivičnog dela koje je izvrš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alaženje dokaza, svedoka i osumnjičen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đivanje dokaza na prihvatljiv način, bez obzira na to gde se nal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a za aktivnosti pretrage i oduzimanja elektronskih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vljenje elektronskim uređajima koji su deo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aveštavanje forenzičkih specijalista i drugih koji su potrebni da podrže fazu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a za razgovore s osumnjičen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zentacija dokaza o sajber-krimin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matranje relevantnih aspekata tokom sudskog postup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spored aktivnosti – prv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00-10:00 – Uvod kursa, instruktora i scenar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-11:00 – Prezentacija – Razvijanje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00-11:30 -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30-13:00 – Grupni rad na prepoznavanju krivičnih dela, razvijanju plana istrage i scena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:00-14:00 -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00-14:30 – Prezentacija – Međunarodna sarad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30-15:30 – Grupni rad o međunarodnoj sarad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30-16:00 -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:00-17:00 – Grupni rad na identifikaciji počinioca i planiranju strategije hapš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pored aktivnosti – drugi 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00-09:15 – Pregled prvog dana – Informacije o hapšenju/hapše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15-10:45 – Prezentacija – Digitalna forenz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-11:15 -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-13:00 – Grupni rad na digitalnim dokazima, potrebama za dokazima, osumnjičenima, jurisdikcijama i međunarodnim pita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:00-14:00 -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00-14:30 – Prezentacija – pripremanje predmeta za s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30-15:30 – Grupni rad o finalizaciji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30-16:00 -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:00-17:00 – Pregled predmeta, intervencije instruktorskog tima i delegata, procene, povratne informacije i zatvaranje k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gled ciljeva ses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e odgovarajuće povratne informacije o kursu i njegovoj delotvor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une formulare Saveta Evrope o proceni k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ju sledeći stepen obrazovanja koji im je neophodan kako bi unapredili svoje znanje i veštine u predmetu izuča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47840" y="31284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2:22:28Z</dcterms:created>
  <dc:creator>Master</dc:creator>
  <dc:description/>
  <dc:language>en-US</dc:language>
  <cp:lastModifiedBy>Master</cp:lastModifiedBy>
  <dcterms:modified xsi:type="dcterms:W3CDTF">2013-09-12T13:13:42Z</dcterms:modified>
  <cp:revision>4</cp:revision>
  <dc:subject/>
  <dc:title>      v          v   jhhjjh  hhhhhhhhhhhhhhhhhhhhhhhbb vb vvvvvvvvvvvvvvvvvvvvvvvvvvvv</dc:title>
</cp:coreProperties>
</file>