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B1DF84-2603-498A-9B90-D7F4328675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23C8DE-FD00-4AFB-8122-5B4DD9A5B7F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A0A1AE-C96E-441C-B73B-9F00166A59C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6978AA-9107-4153-BC07-6518FD5CE38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E3FB20-74E0-4C05-AE88-0F981146794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B24A0F-B58A-458A-B593-31BA1AFC28B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3D7B-74B4-406A-BD43-22AF4AB6C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2B3B-B265-4487-B480-A92C2559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7ED6-5CDD-4479-B0DA-6185BC032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294C-DFB6-4734-BE15-2C32601B7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CC0C-601A-4E88-BE45-9AA69774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F521-612B-4E99-8EA8-A095C562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56A0-2164-40A7-B8D6-690DAFD1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9E48-D642-49E6-8300-42244748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F748-3196-41DE-80C0-DE7F92BD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F1EF-FF5A-483E-97F8-521B87C7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EEBC-737C-4BA5-A6EE-AD8AC1A8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6090-D2B8-41F8-B4D9-1212E85F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D582F8-AAF9-4C4A-851F-125038634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4676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a6a6a6"/>
                </a:solidFill>
                <a:latin typeface="Calibri"/>
              </a:rPr>
              <a:t>Наставна единица</a:t>
            </a: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 1.1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a6a6a6"/>
                </a:solidFill>
                <a:latin typeface="Calibri"/>
              </a:rPr>
              <a:t>Отворање и вовед во курс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755640" y="1773000"/>
            <a:ext cx="77724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4000" spc="-1" strike="noStrike">
                <a:solidFill>
                  <a:srgbClr val="000000"/>
                </a:solidFill>
                <a:latin typeface="Calibri"/>
              </a:rPr>
              <a:t>Обука за органите за спроведување на законот како дел од првата екипа на местото на настано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3"/>
          <p:cNvSpPr/>
          <p:nvPr/>
        </p:nvSpPr>
        <p:spPr>
          <a:xfrm>
            <a:off x="2828880" y="457200"/>
            <a:ext cx="367344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2828880" y="873000"/>
            <a:ext cx="3668760" cy="5551560"/>
          </a:xfrm>
          <a:custGeom>
            <a:avLst/>
            <a:gdLst>
              <a:gd name="textAreaLeft" fmla="*/ 26280 w 3668760"/>
              <a:gd name="textAreaRight" fmla="*/ 3642480 w 3668760"/>
              <a:gd name="textAreaTop" fmla="*/ 26280 h 5551560"/>
              <a:gd name="textAreaBottom" fmla="*/ 5525280 h 5551560"/>
            </a:gdLst>
            <a:ahLst/>
            <a:rect l="textAreaLeft" t="textAreaTop" r="textAreaRight" b="textAreaBottom"/>
            <a:pathLst>
              <a:path w="21600" h="32684">
                <a:moveTo>
                  <a:pt x="532" y="0"/>
                </a:moveTo>
                <a:arcTo wR="532" hR="532" stAng="16200000" swAng="-5400000"/>
                <a:lnTo>
                  <a:pt x="0" y="32152"/>
                </a:lnTo>
                <a:arcTo wR="532" hR="532" stAng="10800000" swAng="-5400000"/>
                <a:lnTo>
                  <a:pt x="21068" y="32684"/>
                </a:lnTo>
                <a:arcTo wR="532" hR="532" stAng="5400000" swAng="-5400000"/>
                <a:lnTo>
                  <a:pt x="21600" y="532"/>
                </a:lnTo>
                <a:arcTo wR="532" hR="532" stAng="0" swAng="-5400000"/>
                <a:close/>
              </a:path>
            </a:pathLst>
          </a:custGeom>
          <a:solidFill>
            <a:srgbClr val="632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2922480" y="873000"/>
            <a:ext cx="3513240" cy="5494320"/>
          </a:xfrm>
          <a:custGeom>
            <a:avLst/>
            <a:gdLst>
              <a:gd name="textAreaLeft" fmla="*/ 25560 w 3513240"/>
              <a:gd name="textAreaRight" fmla="*/ 3487680 w 3513240"/>
              <a:gd name="textAreaTop" fmla="*/ 25560 h 5494320"/>
              <a:gd name="textAreaBottom" fmla="*/ 5468760 h 5494320"/>
            </a:gdLst>
            <a:ahLst/>
            <a:rect l="textAreaLeft" t="textAreaTop" r="textAreaRight" b="textAreaBottom"/>
            <a:pathLst>
              <a:path w="21600" h="33779">
                <a:moveTo>
                  <a:pt x="540" y="0"/>
                </a:moveTo>
                <a:arcTo wR="540" hR="540" stAng="16200000" swAng="-5400000"/>
                <a:lnTo>
                  <a:pt x="0" y="33239"/>
                </a:lnTo>
                <a:arcTo wR="540" hR="540" stAng="10800000" swAng="-5400000"/>
                <a:lnTo>
                  <a:pt x="21060" y="33779"/>
                </a:lnTo>
                <a:arcTo wR="540" hR="540" stAng="5400000" swAng="-5400000"/>
                <a:lnTo>
                  <a:pt x="21600" y="540"/>
                </a:lnTo>
                <a:arcTo wR="540" hR="54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reeform 6"/>
          <p:cNvSpPr/>
          <p:nvPr/>
        </p:nvSpPr>
        <p:spPr>
          <a:xfrm>
            <a:off x="2922480" y="873000"/>
            <a:ext cx="3506760" cy="185760"/>
          </a:xfrm>
          <a:prstGeom prst="pie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3144960" y="1378080"/>
            <a:ext cx="3068640" cy="46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reeform 8"/>
          <p:cNvSpPr/>
          <p:nvPr/>
        </p:nvSpPr>
        <p:spPr>
          <a:xfrm>
            <a:off x="4052880" y="649440"/>
            <a:ext cx="1235160" cy="64440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reeform 9"/>
          <p:cNvSpPr/>
          <p:nvPr/>
        </p:nvSpPr>
        <p:spPr>
          <a:xfrm>
            <a:off x="4064040" y="649440"/>
            <a:ext cx="1209600" cy="644400"/>
          </a:xfrm>
          <a:prstGeom prst="pi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10"/>
          <p:cNvSpPr/>
          <p:nvPr/>
        </p:nvSpPr>
        <p:spPr>
          <a:xfrm>
            <a:off x="4073400" y="649440"/>
            <a:ext cx="1189080" cy="644400"/>
          </a:xfrm>
          <a:prstGeom prst="pie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11"/>
          <p:cNvSpPr/>
          <p:nvPr/>
        </p:nvSpPr>
        <p:spPr>
          <a:xfrm>
            <a:off x="4078440" y="649440"/>
            <a:ext cx="1174680" cy="644400"/>
          </a:xfrm>
          <a:prstGeom prst="pie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reeform 12"/>
          <p:cNvSpPr/>
          <p:nvPr/>
        </p:nvSpPr>
        <p:spPr>
          <a:xfrm>
            <a:off x="4089240" y="649440"/>
            <a:ext cx="1148040" cy="64440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13"/>
          <p:cNvSpPr/>
          <p:nvPr/>
        </p:nvSpPr>
        <p:spPr>
          <a:xfrm>
            <a:off x="4098960" y="649440"/>
            <a:ext cx="1127160" cy="644400"/>
          </a:xfrm>
          <a:prstGeom prst="pie">
            <a:avLst/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14"/>
          <p:cNvSpPr/>
          <p:nvPr/>
        </p:nvSpPr>
        <p:spPr>
          <a:xfrm>
            <a:off x="4110120" y="649440"/>
            <a:ext cx="1106280" cy="644400"/>
          </a:xfrm>
          <a:prstGeom prst="pie">
            <a:avLst/>
          </a:prstGeom>
          <a:solidFill>
            <a:srgbClr val="b7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15"/>
          <p:cNvSpPr/>
          <p:nvPr/>
        </p:nvSpPr>
        <p:spPr>
          <a:xfrm>
            <a:off x="4119480" y="649440"/>
            <a:ext cx="1081080" cy="644400"/>
          </a:xfrm>
          <a:prstGeom prst="pi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Oval 16"/>
          <p:cNvSpPr/>
          <p:nvPr/>
        </p:nvSpPr>
        <p:spPr>
          <a:xfrm>
            <a:off x="4119480" y="1030320"/>
            <a:ext cx="155520" cy="17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val 17"/>
          <p:cNvSpPr/>
          <p:nvPr/>
        </p:nvSpPr>
        <p:spPr>
          <a:xfrm>
            <a:off x="4119480" y="1035000"/>
            <a:ext cx="155520" cy="162000"/>
          </a:xfrm>
          <a:prstGeom prst="ellipse">
            <a:avLst/>
          </a:prstGeom>
          <a:solidFill>
            <a:srgbClr val="1b1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val 18"/>
          <p:cNvSpPr/>
          <p:nvPr/>
        </p:nvSpPr>
        <p:spPr>
          <a:xfrm>
            <a:off x="4119480" y="1035000"/>
            <a:ext cx="146160" cy="157320"/>
          </a:xfrm>
          <a:prstGeom prst="ellipse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19"/>
          <p:cNvSpPr/>
          <p:nvPr/>
        </p:nvSpPr>
        <p:spPr>
          <a:xfrm>
            <a:off x="4125960" y="1035000"/>
            <a:ext cx="139680" cy="152280"/>
          </a:xfrm>
          <a:prstGeom prst="ellipse">
            <a:avLst/>
          </a:prstGeom>
          <a:solidFill>
            <a:srgbClr val="52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20"/>
          <p:cNvSpPr/>
          <p:nvPr/>
        </p:nvSpPr>
        <p:spPr>
          <a:xfrm>
            <a:off x="4125960" y="1035000"/>
            <a:ext cx="135000" cy="146160"/>
          </a:xfrm>
          <a:prstGeom prst="ellipse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21"/>
          <p:cNvSpPr/>
          <p:nvPr/>
        </p:nvSpPr>
        <p:spPr>
          <a:xfrm>
            <a:off x="4125960" y="1035000"/>
            <a:ext cx="128520" cy="14148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val 22"/>
          <p:cNvSpPr/>
          <p:nvPr/>
        </p:nvSpPr>
        <p:spPr>
          <a:xfrm>
            <a:off x="4125960" y="1035000"/>
            <a:ext cx="123840" cy="13500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val 23"/>
          <p:cNvSpPr/>
          <p:nvPr/>
        </p:nvSpPr>
        <p:spPr>
          <a:xfrm>
            <a:off x="4130640" y="1041480"/>
            <a:ext cx="109440" cy="117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Oval 24"/>
          <p:cNvSpPr/>
          <p:nvPr/>
        </p:nvSpPr>
        <p:spPr>
          <a:xfrm>
            <a:off x="5091120" y="1030320"/>
            <a:ext cx="162000" cy="17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Oval 25"/>
          <p:cNvSpPr/>
          <p:nvPr/>
        </p:nvSpPr>
        <p:spPr>
          <a:xfrm>
            <a:off x="5091120" y="1035000"/>
            <a:ext cx="150840" cy="162000"/>
          </a:xfrm>
          <a:prstGeom prst="ellipse">
            <a:avLst/>
          </a:prstGeom>
          <a:solidFill>
            <a:srgbClr val="1b1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val 26"/>
          <p:cNvSpPr/>
          <p:nvPr/>
        </p:nvSpPr>
        <p:spPr>
          <a:xfrm>
            <a:off x="5097600" y="1035000"/>
            <a:ext cx="144360" cy="157320"/>
          </a:xfrm>
          <a:prstGeom prst="ellipse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Oval 27"/>
          <p:cNvSpPr/>
          <p:nvPr/>
        </p:nvSpPr>
        <p:spPr>
          <a:xfrm>
            <a:off x="5097600" y="1035000"/>
            <a:ext cx="139680" cy="152280"/>
          </a:xfrm>
          <a:prstGeom prst="ellipse">
            <a:avLst/>
          </a:prstGeom>
          <a:solidFill>
            <a:srgbClr val="52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Oval 28"/>
          <p:cNvSpPr/>
          <p:nvPr/>
        </p:nvSpPr>
        <p:spPr>
          <a:xfrm>
            <a:off x="5097600" y="1035000"/>
            <a:ext cx="134640" cy="146160"/>
          </a:xfrm>
          <a:prstGeom prst="ellipse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Oval 29"/>
          <p:cNvSpPr/>
          <p:nvPr/>
        </p:nvSpPr>
        <p:spPr>
          <a:xfrm>
            <a:off x="5102280" y="1035000"/>
            <a:ext cx="119160" cy="14148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val 30"/>
          <p:cNvSpPr/>
          <p:nvPr/>
        </p:nvSpPr>
        <p:spPr>
          <a:xfrm>
            <a:off x="5102280" y="1035000"/>
            <a:ext cx="119160" cy="13500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val 31"/>
          <p:cNvSpPr/>
          <p:nvPr/>
        </p:nvSpPr>
        <p:spPr>
          <a:xfrm>
            <a:off x="5102280" y="1041480"/>
            <a:ext cx="114120" cy="117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32"/>
          <p:cNvSpPr/>
          <p:nvPr/>
        </p:nvSpPr>
        <p:spPr>
          <a:xfrm>
            <a:off x="3763800" y="457200"/>
            <a:ext cx="1798920" cy="1020600"/>
          </a:xfrm>
          <a:prstGeom prst="pie">
            <a:avLst/>
          </a:prstGeom>
          <a:solidFill>
            <a:srgbClr val="c0c0c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33"/>
          <p:cNvSpPr/>
          <p:nvPr/>
        </p:nvSpPr>
        <p:spPr>
          <a:xfrm>
            <a:off x="3754440" y="1467000"/>
            <a:ext cx="1822320" cy="68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34"/>
          <p:cNvSpPr/>
          <p:nvPr/>
        </p:nvSpPr>
        <p:spPr>
          <a:xfrm>
            <a:off x="4383000" y="490680"/>
            <a:ext cx="595440" cy="438120"/>
          </a:xfrm>
          <a:prstGeom prst="pi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utoShape 35"/>
          <p:cNvSpPr/>
          <p:nvPr/>
        </p:nvSpPr>
        <p:spPr>
          <a:xfrm>
            <a:off x="4508640" y="631800"/>
            <a:ext cx="355320" cy="44640"/>
          </a:xfrm>
          <a:prstGeom prst="roundRect">
            <a:avLst>
              <a:gd name="adj" fmla="val 31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AutoShape 36"/>
          <p:cNvSpPr/>
          <p:nvPr/>
        </p:nvSpPr>
        <p:spPr>
          <a:xfrm>
            <a:off x="4508640" y="642960"/>
            <a:ext cx="355320" cy="27000"/>
          </a:xfrm>
          <a:prstGeom prst="roundRect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AutoShape 37"/>
          <p:cNvSpPr/>
          <p:nvPr/>
        </p:nvSpPr>
        <p:spPr>
          <a:xfrm>
            <a:off x="4508640" y="703440"/>
            <a:ext cx="355320" cy="44280"/>
          </a:xfrm>
          <a:prstGeom prst="roundRect">
            <a:avLst>
              <a:gd name="adj" fmla="val 31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AutoShape 38"/>
          <p:cNvSpPr/>
          <p:nvPr/>
        </p:nvSpPr>
        <p:spPr>
          <a:xfrm>
            <a:off x="4508640" y="714240"/>
            <a:ext cx="355320" cy="30240"/>
          </a:xfrm>
          <a:prstGeom prst="roundRect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utoShape 39"/>
          <p:cNvSpPr/>
          <p:nvPr/>
        </p:nvSpPr>
        <p:spPr>
          <a:xfrm>
            <a:off x="4508640" y="782640"/>
            <a:ext cx="355320" cy="46080"/>
          </a:xfrm>
          <a:prstGeom prst="roundRect">
            <a:avLst>
              <a:gd name="adj" fmla="val 31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AutoShape 40"/>
          <p:cNvSpPr/>
          <p:nvPr/>
        </p:nvSpPr>
        <p:spPr>
          <a:xfrm>
            <a:off x="4508640" y="793800"/>
            <a:ext cx="355320" cy="39600"/>
          </a:xfrm>
          <a:prstGeom prst="roundRect">
            <a:avLst>
              <a:gd name="adj" fmla="val 35713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AutoShape 41"/>
          <p:cNvSpPr/>
          <p:nvPr/>
        </p:nvSpPr>
        <p:spPr>
          <a:xfrm>
            <a:off x="4435560" y="861840"/>
            <a:ext cx="495360" cy="44640"/>
          </a:xfrm>
          <a:prstGeom prst="roundRect">
            <a:avLst>
              <a:gd name="adj" fmla="val 37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AutoShape 42"/>
          <p:cNvSpPr/>
          <p:nvPr/>
        </p:nvSpPr>
        <p:spPr>
          <a:xfrm>
            <a:off x="4435560" y="873000"/>
            <a:ext cx="495360" cy="39960"/>
          </a:xfrm>
          <a:prstGeom prst="roundRect">
            <a:avLst>
              <a:gd name="adj" fmla="val 35713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AutoShape 43"/>
          <p:cNvSpPr/>
          <p:nvPr/>
        </p:nvSpPr>
        <p:spPr>
          <a:xfrm>
            <a:off x="4435560" y="950760"/>
            <a:ext cx="495360" cy="39960"/>
          </a:xfrm>
          <a:prstGeom prst="roundRect">
            <a:avLst>
              <a:gd name="adj" fmla="val 4285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44"/>
          <p:cNvSpPr/>
          <p:nvPr/>
        </p:nvSpPr>
        <p:spPr>
          <a:xfrm>
            <a:off x="4435560" y="963720"/>
            <a:ext cx="495360" cy="27000"/>
          </a:xfrm>
          <a:prstGeom prst="roundRect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AutoShape 45"/>
          <p:cNvSpPr/>
          <p:nvPr/>
        </p:nvSpPr>
        <p:spPr>
          <a:xfrm>
            <a:off x="4435560" y="1023840"/>
            <a:ext cx="495360" cy="44640"/>
          </a:xfrm>
          <a:prstGeom prst="roundRect">
            <a:avLst>
              <a:gd name="adj" fmla="val 37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AutoShape 46"/>
          <p:cNvSpPr/>
          <p:nvPr/>
        </p:nvSpPr>
        <p:spPr>
          <a:xfrm>
            <a:off x="4435560" y="1035000"/>
            <a:ext cx="495360" cy="33480"/>
          </a:xfrm>
          <a:prstGeom prst="roundRect">
            <a:avLst>
              <a:gd name="adj" fmla="val 41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48"/>
          <p:cNvSpPr/>
          <p:nvPr/>
        </p:nvSpPr>
        <p:spPr>
          <a:xfrm>
            <a:off x="3144960" y="30258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3200" spc="-1" strike="noStrike">
                <a:solidFill>
                  <a:srgbClr val="122031"/>
                </a:solidFill>
                <a:latin typeface="Calibri"/>
              </a:rPr>
              <a:t>ВОВЕ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4822920"/>
            <a:ext cx="271620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Кршење на мразот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1906560" y="1577880"/>
            <a:ext cx="516564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Вове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4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Направете пар со лице кое не го познават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Во рок од 10 минути дознајте ги следниве информации, кои потоа ќе ни ги кажете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Како се вика и од која земја 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Каде рабо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Што рабо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Неговото искуство како обучува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Нешто интересно за нег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Одговори на „тестот за познавање“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C0B12F-6AE4-4415-9316-E835CEA0D07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2000" spc="-1" strike="noStrike" u="sng">
                <a:solidFill>
                  <a:srgbClr val="000000"/>
                </a:solidFill>
                <a:uFillTx/>
                <a:latin typeface="Calibri"/>
              </a:rPr>
              <a:t>Корисник на комјут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1 = Целосен почетни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2 = Може да го вклучи компјутеро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3 = Пишува на тастатура со две ра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4 = Видел внатрешност на компјут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5 = Надградил компјут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6 = Солиден корисник на софтверски паке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7 = Склопил компјут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8 = Направил и користел макро коман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9 = Поврзал 2 компјутера во мреж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10 = Систем администратор, програмер  и дизајнер на Microsoft произво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2000" spc="-1" strike="noStrike" u="sng">
                <a:solidFill>
                  <a:srgbClr val="000000"/>
                </a:solidFill>
                <a:uFillTx/>
                <a:latin typeface="Calibri"/>
              </a:rPr>
              <a:t>Познавање за компјутерски кримина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1 = Целосен почетн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2 = Видел форензички софтв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3 = Работи во форензичко оддел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4 = Користел форензички софтв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5 = Спровел истрага за компјутерски кримина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6 = Дал исказ во врска со компјутерски кримина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7 = Сведочел во суд за електронски докази/компјутерски кримина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8 = Напишал програма или код како помош за истрагат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9 = Напишал сопствен софтверски пакет за форензичка анализ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10 = Програмирал форензички софтвер за одреден снабдувач, има факултетска диплома во област поврзана со истрага на компјутерски криминал и е гуру за компјутерски кримина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3"/>
          <p:cNvSpPr/>
          <p:nvPr/>
        </p:nvSpPr>
        <p:spPr>
          <a:xfrm>
            <a:off x="3074760" y="45007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5400" spc="-1" strike="noStrike">
                <a:solidFill>
                  <a:srgbClr val="000000"/>
                </a:solidFill>
                <a:latin typeface="Calibri"/>
              </a:rPr>
              <a:t>Прашањ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0" y="4592520"/>
            <a:ext cx="3279600" cy="218304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3"/>
          <p:cNvSpPr/>
          <p:nvPr/>
        </p:nvSpPr>
        <p:spPr>
          <a:xfrm>
            <a:off x="2828880" y="457200"/>
            <a:ext cx="367344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2828880" y="873000"/>
            <a:ext cx="3668760" cy="5551560"/>
          </a:xfrm>
          <a:custGeom>
            <a:avLst/>
            <a:gdLst>
              <a:gd name="textAreaLeft" fmla="*/ 26280 w 3668760"/>
              <a:gd name="textAreaRight" fmla="*/ 3642480 w 3668760"/>
              <a:gd name="textAreaTop" fmla="*/ 26280 h 5551560"/>
              <a:gd name="textAreaBottom" fmla="*/ 5525280 h 5551560"/>
            </a:gdLst>
            <a:ahLst/>
            <a:rect l="textAreaLeft" t="textAreaTop" r="textAreaRight" b="textAreaBottom"/>
            <a:pathLst>
              <a:path w="21600" h="32684">
                <a:moveTo>
                  <a:pt x="532" y="0"/>
                </a:moveTo>
                <a:arcTo wR="532" hR="532" stAng="16200000" swAng="-5400000"/>
                <a:lnTo>
                  <a:pt x="0" y="32152"/>
                </a:lnTo>
                <a:arcTo wR="532" hR="532" stAng="10800000" swAng="-5400000"/>
                <a:lnTo>
                  <a:pt x="21068" y="32684"/>
                </a:lnTo>
                <a:arcTo wR="532" hR="532" stAng="5400000" swAng="-5400000"/>
                <a:lnTo>
                  <a:pt x="21600" y="532"/>
                </a:lnTo>
                <a:arcTo wR="532" hR="532" stAng="0" swAng="-5400000"/>
                <a:close/>
              </a:path>
            </a:pathLst>
          </a:custGeom>
          <a:solidFill>
            <a:srgbClr val="632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2922480" y="873000"/>
            <a:ext cx="3513240" cy="5494320"/>
          </a:xfrm>
          <a:custGeom>
            <a:avLst/>
            <a:gdLst>
              <a:gd name="textAreaLeft" fmla="*/ 25560 w 3513240"/>
              <a:gd name="textAreaRight" fmla="*/ 3487680 w 3513240"/>
              <a:gd name="textAreaTop" fmla="*/ 25560 h 5494320"/>
              <a:gd name="textAreaBottom" fmla="*/ 5468760 h 5494320"/>
            </a:gdLst>
            <a:ahLst/>
            <a:rect l="textAreaLeft" t="textAreaTop" r="textAreaRight" b="textAreaBottom"/>
            <a:pathLst>
              <a:path w="21600" h="33779">
                <a:moveTo>
                  <a:pt x="540" y="0"/>
                </a:moveTo>
                <a:arcTo wR="540" hR="540" stAng="16200000" swAng="-5400000"/>
                <a:lnTo>
                  <a:pt x="0" y="33239"/>
                </a:lnTo>
                <a:arcTo wR="540" hR="540" stAng="10800000" swAng="-5400000"/>
                <a:lnTo>
                  <a:pt x="21060" y="33779"/>
                </a:lnTo>
                <a:arcTo wR="540" hR="540" stAng="5400000" swAng="-5400000"/>
                <a:lnTo>
                  <a:pt x="21600" y="540"/>
                </a:lnTo>
                <a:arcTo wR="540" hR="54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6"/>
          <p:cNvSpPr/>
          <p:nvPr/>
        </p:nvSpPr>
        <p:spPr>
          <a:xfrm>
            <a:off x="2922480" y="873000"/>
            <a:ext cx="3506760" cy="185760"/>
          </a:xfrm>
          <a:prstGeom prst="pie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144960" y="1378080"/>
            <a:ext cx="3068640" cy="46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8"/>
          <p:cNvSpPr/>
          <p:nvPr/>
        </p:nvSpPr>
        <p:spPr>
          <a:xfrm>
            <a:off x="4052880" y="649440"/>
            <a:ext cx="1235160" cy="64440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9"/>
          <p:cNvSpPr/>
          <p:nvPr/>
        </p:nvSpPr>
        <p:spPr>
          <a:xfrm>
            <a:off x="4064040" y="649440"/>
            <a:ext cx="1209600" cy="644400"/>
          </a:xfrm>
          <a:prstGeom prst="pi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reeform 10"/>
          <p:cNvSpPr/>
          <p:nvPr/>
        </p:nvSpPr>
        <p:spPr>
          <a:xfrm>
            <a:off x="4073400" y="649440"/>
            <a:ext cx="1189080" cy="644400"/>
          </a:xfrm>
          <a:prstGeom prst="pie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11"/>
          <p:cNvSpPr/>
          <p:nvPr/>
        </p:nvSpPr>
        <p:spPr>
          <a:xfrm>
            <a:off x="4078440" y="649440"/>
            <a:ext cx="1174680" cy="644400"/>
          </a:xfrm>
          <a:prstGeom prst="pie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12"/>
          <p:cNvSpPr/>
          <p:nvPr/>
        </p:nvSpPr>
        <p:spPr>
          <a:xfrm>
            <a:off x="4089240" y="649440"/>
            <a:ext cx="1148040" cy="64440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13"/>
          <p:cNvSpPr/>
          <p:nvPr/>
        </p:nvSpPr>
        <p:spPr>
          <a:xfrm>
            <a:off x="4098960" y="649440"/>
            <a:ext cx="1127160" cy="644400"/>
          </a:xfrm>
          <a:prstGeom prst="pie">
            <a:avLst/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14"/>
          <p:cNvSpPr/>
          <p:nvPr/>
        </p:nvSpPr>
        <p:spPr>
          <a:xfrm>
            <a:off x="4110120" y="649440"/>
            <a:ext cx="1106280" cy="644400"/>
          </a:xfrm>
          <a:prstGeom prst="pie">
            <a:avLst/>
          </a:prstGeom>
          <a:solidFill>
            <a:srgbClr val="b7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15"/>
          <p:cNvSpPr/>
          <p:nvPr/>
        </p:nvSpPr>
        <p:spPr>
          <a:xfrm>
            <a:off x="4119480" y="649440"/>
            <a:ext cx="1081080" cy="644400"/>
          </a:xfrm>
          <a:prstGeom prst="pi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Oval 16"/>
          <p:cNvSpPr/>
          <p:nvPr/>
        </p:nvSpPr>
        <p:spPr>
          <a:xfrm>
            <a:off x="4119480" y="1030320"/>
            <a:ext cx="155520" cy="17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val 17"/>
          <p:cNvSpPr/>
          <p:nvPr/>
        </p:nvSpPr>
        <p:spPr>
          <a:xfrm>
            <a:off x="4119480" y="1035000"/>
            <a:ext cx="155520" cy="162000"/>
          </a:xfrm>
          <a:prstGeom prst="ellipse">
            <a:avLst/>
          </a:prstGeom>
          <a:solidFill>
            <a:srgbClr val="1b1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val 18"/>
          <p:cNvSpPr/>
          <p:nvPr/>
        </p:nvSpPr>
        <p:spPr>
          <a:xfrm>
            <a:off x="4119480" y="1035000"/>
            <a:ext cx="146160" cy="157320"/>
          </a:xfrm>
          <a:prstGeom prst="ellipse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19"/>
          <p:cNvSpPr/>
          <p:nvPr/>
        </p:nvSpPr>
        <p:spPr>
          <a:xfrm>
            <a:off x="4125960" y="1035000"/>
            <a:ext cx="139680" cy="152280"/>
          </a:xfrm>
          <a:prstGeom prst="ellipse">
            <a:avLst/>
          </a:prstGeom>
          <a:solidFill>
            <a:srgbClr val="52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Oval 20"/>
          <p:cNvSpPr/>
          <p:nvPr/>
        </p:nvSpPr>
        <p:spPr>
          <a:xfrm>
            <a:off x="4125960" y="1035000"/>
            <a:ext cx="135000" cy="146160"/>
          </a:xfrm>
          <a:prstGeom prst="ellipse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Oval 21"/>
          <p:cNvSpPr/>
          <p:nvPr/>
        </p:nvSpPr>
        <p:spPr>
          <a:xfrm>
            <a:off x="4125960" y="1035000"/>
            <a:ext cx="128520" cy="14148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Oval 22"/>
          <p:cNvSpPr/>
          <p:nvPr/>
        </p:nvSpPr>
        <p:spPr>
          <a:xfrm>
            <a:off x="4125960" y="1035000"/>
            <a:ext cx="123840" cy="13500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Oval 23"/>
          <p:cNvSpPr/>
          <p:nvPr/>
        </p:nvSpPr>
        <p:spPr>
          <a:xfrm>
            <a:off x="4130640" y="1041480"/>
            <a:ext cx="109440" cy="117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Oval 24"/>
          <p:cNvSpPr/>
          <p:nvPr/>
        </p:nvSpPr>
        <p:spPr>
          <a:xfrm>
            <a:off x="5091120" y="1030320"/>
            <a:ext cx="162000" cy="17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Oval 25"/>
          <p:cNvSpPr/>
          <p:nvPr/>
        </p:nvSpPr>
        <p:spPr>
          <a:xfrm>
            <a:off x="5091120" y="1035000"/>
            <a:ext cx="150840" cy="162000"/>
          </a:xfrm>
          <a:prstGeom prst="ellipse">
            <a:avLst/>
          </a:prstGeom>
          <a:solidFill>
            <a:srgbClr val="1b1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Oval 26"/>
          <p:cNvSpPr/>
          <p:nvPr/>
        </p:nvSpPr>
        <p:spPr>
          <a:xfrm>
            <a:off x="5097600" y="1035000"/>
            <a:ext cx="144360" cy="157320"/>
          </a:xfrm>
          <a:prstGeom prst="ellipse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Oval 27"/>
          <p:cNvSpPr/>
          <p:nvPr/>
        </p:nvSpPr>
        <p:spPr>
          <a:xfrm>
            <a:off x="5097600" y="1035000"/>
            <a:ext cx="139680" cy="152280"/>
          </a:xfrm>
          <a:prstGeom prst="ellipse">
            <a:avLst/>
          </a:prstGeom>
          <a:solidFill>
            <a:srgbClr val="52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Oval 28"/>
          <p:cNvSpPr/>
          <p:nvPr/>
        </p:nvSpPr>
        <p:spPr>
          <a:xfrm>
            <a:off x="5097600" y="1035000"/>
            <a:ext cx="134640" cy="146160"/>
          </a:xfrm>
          <a:prstGeom prst="ellipse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Oval 29"/>
          <p:cNvSpPr/>
          <p:nvPr/>
        </p:nvSpPr>
        <p:spPr>
          <a:xfrm>
            <a:off x="5102280" y="1035000"/>
            <a:ext cx="119160" cy="14148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Oval 30"/>
          <p:cNvSpPr/>
          <p:nvPr/>
        </p:nvSpPr>
        <p:spPr>
          <a:xfrm>
            <a:off x="5102280" y="1035000"/>
            <a:ext cx="119160" cy="13500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Oval 31"/>
          <p:cNvSpPr/>
          <p:nvPr/>
        </p:nvSpPr>
        <p:spPr>
          <a:xfrm>
            <a:off x="5102280" y="1041480"/>
            <a:ext cx="114120" cy="117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32"/>
          <p:cNvSpPr/>
          <p:nvPr/>
        </p:nvSpPr>
        <p:spPr>
          <a:xfrm>
            <a:off x="3763800" y="457200"/>
            <a:ext cx="1798920" cy="1020600"/>
          </a:xfrm>
          <a:prstGeom prst="pie">
            <a:avLst/>
          </a:prstGeom>
          <a:solidFill>
            <a:srgbClr val="c0c0c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33"/>
          <p:cNvSpPr/>
          <p:nvPr/>
        </p:nvSpPr>
        <p:spPr>
          <a:xfrm>
            <a:off x="3754440" y="1467000"/>
            <a:ext cx="1822320" cy="68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reeform 34"/>
          <p:cNvSpPr/>
          <p:nvPr/>
        </p:nvSpPr>
        <p:spPr>
          <a:xfrm>
            <a:off x="4383000" y="490680"/>
            <a:ext cx="595440" cy="438120"/>
          </a:xfrm>
          <a:prstGeom prst="pi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AutoShape 35"/>
          <p:cNvSpPr/>
          <p:nvPr/>
        </p:nvSpPr>
        <p:spPr>
          <a:xfrm>
            <a:off x="4508640" y="631800"/>
            <a:ext cx="355320" cy="44640"/>
          </a:xfrm>
          <a:prstGeom prst="roundRect">
            <a:avLst>
              <a:gd name="adj" fmla="val 31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AutoShape 36"/>
          <p:cNvSpPr/>
          <p:nvPr/>
        </p:nvSpPr>
        <p:spPr>
          <a:xfrm>
            <a:off x="4508640" y="642960"/>
            <a:ext cx="355320" cy="27000"/>
          </a:xfrm>
          <a:prstGeom prst="roundRect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AutoShape 37"/>
          <p:cNvSpPr/>
          <p:nvPr/>
        </p:nvSpPr>
        <p:spPr>
          <a:xfrm>
            <a:off x="4508640" y="703440"/>
            <a:ext cx="355320" cy="44280"/>
          </a:xfrm>
          <a:prstGeom prst="roundRect">
            <a:avLst>
              <a:gd name="adj" fmla="val 31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AutoShape 38"/>
          <p:cNvSpPr/>
          <p:nvPr/>
        </p:nvSpPr>
        <p:spPr>
          <a:xfrm>
            <a:off x="4508640" y="714240"/>
            <a:ext cx="355320" cy="30240"/>
          </a:xfrm>
          <a:prstGeom prst="roundRect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AutoShape 39"/>
          <p:cNvSpPr/>
          <p:nvPr/>
        </p:nvSpPr>
        <p:spPr>
          <a:xfrm>
            <a:off x="4508640" y="782640"/>
            <a:ext cx="355320" cy="46080"/>
          </a:xfrm>
          <a:prstGeom prst="roundRect">
            <a:avLst>
              <a:gd name="adj" fmla="val 31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AutoShape 40"/>
          <p:cNvSpPr/>
          <p:nvPr/>
        </p:nvSpPr>
        <p:spPr>
          <a:xfrm>
            <a:off x="4508640" y="793800"/>
            <a:ext cx="355320" cy="39600"/>
          </a:xfrm>
          <a:prstGeom prst="roundRect">
            <a:avLst>
              <a:gd name="adj" fmla="val 35713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AutoShape 41"/>
          <p:cNvSpPr/>
          <p:nvPr/>
        </p:nvSpPr>
        <p:spPr>
          <a:xfrm>
            <a:off x="4435560" y="861840"/>
            <a:ext cx="495360" cy="44640"/>
          </a:xfrm>
          <a:prstGeom prst="roundRect">
            <a:avLst>
              <a:gd name="adj" fmla="val 37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AutoShape 42"/>
          <p:cNvSpPr/>
          <p:nvPr/>
        </p:nvSpPr>
        <p:spPr>
          <a:xfrm>
            <a:off x="4435560" y="873000"/>
            <a:ext cx="495360" cy="39960"/>
          </a:xfrm>
          <a:prstGeom prst="roundRect">
            <a:avLst>
              <a:gd name="adj" fmla="val 35713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AutoShape 43"/>
          <p:cNvSpPr/>
          <p:nvPr/>
        </p:nvSpPr>
        <p:spPr>
          <a:xfrm>
            <a:off x="4435560" y="950760"/>
            <a:ext cx="495360" cy="39960"/>
          </a:xfrm>
          <a:prstGeom prst="roundRect">
            <a:avLst>
              <a:gd name="adj" fmla="val 4285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AutoShape 44"/>
          <p:cNvSpPr/>
          <p:nvPr/>
        </p:nvSpPr>
        <p:spPr>
          <a:xfrm>
            <a:off x="4435560" y="963720"/>
            <a:ext cx="495360" cy="27000"/>
          </a:xfrm>
          <a:prstGeom prst="roundRect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AutoShape 45"/>
          <p:cNvSpPr/>
          <p:nvPr/>
        </p:nvSpPr>
        <p:spPr>
          <a:xfrm>
            <a:off x="4435560" y="1023840"/>
            <a:ext cx="495360" cy="44640"/>
          </a:xfrm>
          <a:prstGeom prst="roundRect">
            <a:avLst>
              <a:gd name="adj" fmla="val 37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AutoShape 46"/>
          <p:cNvSpPr/>
          <p:nvPr/>
        </p:nvSpPr>
        <p:spPr>
          <a:xfrm>
            <a:off x="4435560" y="1035000"/>
            <a:ext cx="495360" cy="33480"/>
          </a:xfrm>
          <a:prstGeom prst="roundRect">
            <a:avLst>
              <a:gd name="adj" fmla="val 41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48"/>
          <p:cNvSpPr/>
          <p:nvPr/>
        </p:nvSpPr>
        <p:spPr>
          <a:xfrm>
            <a:off x="3144960" y="3025800"/>
            <a:ext cx="306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3200" spc="-1" strike="noStrike">
                <a:solidFill>
                  <a:srgbClr val="122031"/>
                </a:solidFill>
                <a:latin typeface="Calibri"/>
              </a:rPr>
              <a:t>Цели на курсот за обу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1.1.2 Вовед во начелата и постапките за електронски доказ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По предавањето на оваа наставна единица слушателите ќе можат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Да разговараат за содржината на Прирачникот за електронски докази на Советот на Европ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Да ги идентификуваат начелата за постапување со електронски доказ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Да ги објаснат посебните карактеристики на електронските докази</a:t>
            </a: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1.1.3 и 1.1.4 Извори на доказ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По предавањето на оваа наставна единица слушателите ќе можат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утврдат кои извори на докази имаат доказна вреднос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направат разлика меѓу компјутерските мреж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ги идентификуваат мрежните уред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разговараат за потенцијалните докази и извори на докази на интерн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елотворно да ги завршат подготовката и планирањето на претресот и заплената на електронски дока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разговараат за овластувањата и одобрувањата во постапката за претрес и заплена на електронски доказ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разговараат за улогата на надворешните специјализирани вешти лица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1.2.1 и 1.3.1</a:t>
            </a:r>
            <a:br>
              <a:rPr sz="4000"/>
            </a:b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Дневни прегледи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По предавањето на наставните единици, слушателите ќе можа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Да ги идентификуваат областите опфатени со активностите од претходниот ден кои слушателите ги разбра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Да ги идентификуваат областите за кои слушателите треба уште еднаш да го поминат материјалот за да го постигнат потребното ниво на зна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1.2.2 Претрес и заплен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По предавањето на оваа наставна единица слушателите ќе можат:</a:t>
            </a:r>
            <a:r>
              <a:rPr b="0" lang="mk-MK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600" spc="-1" strike="noStrike">
                <a:solidFill>
                  <a:srgbClr val="000000"/>
                </a:solidFill>
                <a:latin typeface="Calibri"/>
              </a:rPr>
              <a:t>Да го објаснат соодветното планирање и подготовка на упад заради претрес на место каде може да се најдат електронски доказ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600" spc="-1" strike="noStrike">
                <a:solidFill>
                  <a:srgbClr val="000000"/>
                </a:solidFill>
                <a:latin typeface="Calibri"/>
              </a:rPr>
              <a:t>Да ги наведат алатките и алатките кои може да се потребни за претрес на место каде може да се најдат електронски доказ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600" spc="-1" strike="noStrike">
                <a:solidFill>
                  <a:srgbClr val="000000"/>
                </a:solidFill>
                <a:latin typeface="Calibri"/>
              </a:rPr>
              <a:t>Да објаснат како да се обезбеди и документира местото на кривичниот настан каде се појавуваат електронски докази</a:t>
            </a: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Здравје и безбедно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39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Излези во итни состојб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Аларм за пожа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Тоале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Пушењ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Мобилни телефони и пејџер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Паузи за кафе и руче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176880" y="1339920"/>
            <a:ext cx="226080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br>
              <a:rPr sz="4000"/>
            </a:b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1.2.3</a:t>
            </a:r>
            <a:br>
              <a:rPr sz="4000"/>
            </a:b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Претрес и заплена - Дел 1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По предавањето на оваа наставна единица слушателите ќе можат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500" spc="-1" strike="noStrike">
                <a:solidFill>
                  <a:srgbClr val="000000"/>
                </a:solidFill>
                <a:latin typeface="Calibri"/>
              </a:rPr>
              <a:t>Да ги идентификуваат изворите на електронски докази врз основа на покажаните ситуаци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500" spc="-1" strike="noStrike">
                <a:solidFill>
                  <a:srgbClr val="000000"/>
                </a:solidFill>
                <a:latin typeface="Calibri"/>
              </a:rPr>
              <a:t>Да ги опишат стандардните оперативни постапки (СОП) за пакување, пренос и складирање на електронските доказ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500" spc="-1" strike="noStrike">
                <a:solidFill>
                  <a:srgbClr val="000000"/>
                </a:solidFill>
                <a:latin typeface="Calibri"/>
              </a:rPr>
              <a:t>Да направат разлика меѓу СОП врз основа на видот на уред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500" spc="-1" strike="noStrike">
                <a:solidFill>
                  <a:srgbClr val="000000"/>
                </a:solidFill>
                <a:latin typeface="Calibri"/>
              </a:rPr>
              <a:t>Да разговараат за техниките за проверка дали компјутерскиот систем е вклучен или исклучен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500" spc="-1" strike="noStrike">
                <a:solidFill>
                  <a:srgbClr val="000000"/>
                </a:solidFill>
                <a:latin typeface="Calibri"/>
              </a:rPr>
              <a:t>Да ги применат општите упатства за заплена на електронски уред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br>
              <a:rPr sz="4000"/>
            </a:b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1.2.3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Претрес и заплена - Дел 2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238040"/>
            <a:ext cx="8229600" cy="50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По предавањето на оваа наставна единица слушателите ќе можат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Да направат разлика меѓу ситуација со уреди на местото на настанот и ситуација на проток на живи подато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Да ги дефинираат ги термините „нестабилни податоци“, „преодни податоци“ и „форензичка анализа на живи податоци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Да ја објаснат вредноста на нестабилните податоци за истрагит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Да наведат барем четири вида на податоци кои би се изгубиле без форензичка анализа на живи подато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Да спроведат мерки за првична реакција кога се соочуваат со компјутерски систем кој е во функ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Да ги опишат предизвиците на шифрирањето и можностите на форензичката анализа на живи податоци во ситуација во која има шифрир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Да разговараат за предизвиците на различните правни рамки во ситуацијата во која податоците се чуваат на далечински локации, на пример компјутерско работење во обла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Да го дефинираат терминот „компјутерско работење во облак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Да споредат барем три вида на услуги на компјутерско работење во облак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mk-MK" sz="3800" spc="-1" strike="noStrike">
                <a:solidFill>
                  <a:srgbClr val="000000"/>
                </a:solidFill>
                <a:latin typeface="Calibri"/>
              </a:rPr>
              <a:t>1.3.2 и 1.3.3 Кратки упатства за претрес и заплена и практични вежби </a:t>
            </a:r>
            <a:br>
              <a:rPr sz="3800"/>
            </a:br>
            <a:br>
              <a:rPr sz="4000"/>
            </a:br>
            <a:br>
              <a:rPr sz="4000"/>
            </a:b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По предавањето на оваа наставна единица слушателите ќе можат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состават оперативен план за претрес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о спроведат претрес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постапуваат со електронски доказ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о документираат и обезбедат местото на претрес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и идентификуваат изворите на електронски доказ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состават список на запленетите предме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состават извештај во зависност од претресо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По предавањето на оваа наставна единица, слушателите ќе можат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претстават како групата ја завршила фазата на подготовка и планирање за претрес и запл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претстават како групата постапувала со осомниченото лице доколку тоа било присутно на местото на настан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ја претстават и објаснат постапката за претрес и запл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и претстават запленетите предмети релевантни за случај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објаснат како било постапувано со предметите</a:t>
            </a: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1.3.4 Претрес и заплена - Повратни информации по практичната вежб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1.3.5 Завршување на курс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106640"/>
            <a:ext cx="82296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По предавањето на оваа наставна единица слушателите ќе можат: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дадат соодветни повратни информации за курсот и неговата делотворнос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ги пополнат формуларите за оценка на курсо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ги идентификуваат прашањата кои треба да се доработат со цел курсот да се предава на национално ни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Да ги опишат активностите кои треба да се преземат после курсот со цел материјалите од курсот да се подготват за настава на национално ниво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го идентификуваат следното ниво на знаење кое слушателите треба да го совладаат за да ги подобрат нивните познавања и вештини за предметната тем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92" name="TextBox 3"/>
          <p:cNvSpPr/>
          <p:nvPr/>
        </p:nvSpPr>
        <p:spPr>
          <a:xfrm>
            <a:off x="3074760" y="45007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5400" spc="-1" strike="noStrike">
                <a:solidFill>
                  <a:srgbClr val="000000"/>
                </a:solidFill>
                <a:latin typeface="Calibri"/>
              </a:rPr>
              <a:t>Прашањ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3"/>
          <p:cNvSpPr/>
          <p:nvPr/>
        </p:nvSpPr>
        <p:spPr>
          <a:xfrm>
            <a:off x="2828880" y="457200"/>
            <a:ext cx="367344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2828880" y="873000"/>
            <a:ext cx="3668760" cy="5551560"/>
          </a:xfrm>
          <a:custGeom>
            <a:avLst/>
            <a:gdLst>
              <a:gd name="textAreaLeft" fmla="*/ 26280 w 3668760"/>
              <a:gd name="textAreaRight" fmla="*/ 3642480 w 3668760"/>
              <a:gd name="textAreaTop" fmla="*/ 26280 h 5551560"/>
              <a:gd name="textAreaBottom" fmla="*/ 5525280 h 5551560"/>
            </a:gdLst>
            <a:ahLst/>
            <a:rect l="textAreaLeft" t="textAreaTop" r="textAreaRight" b="textAreaBottom"/>
            <a:pathLst>
              <a:path w="21600" h="32684">
                <a:moveTo>
                  <a:pt x="532" y="0"/>
                </a:moveTo>
                <a:arcTo wR="532" hR="532" stAng="16200000" swAng="-5400000"/>
                <a:lnTo>
                  <a:pt x="0" y="32152"/>
                </a:lnTo>
                <a:arcTo wR="532" hR="532" stAng="10800000" swAng="-5400000"/>
                <a:lnTo>
                  <a:pt x="21068" y="32684"/>
                </a:lnTo>
                <a:arcTo wR="532" hR="532" stAng="5400000" swAng="-5400000"/>
                <a:lnTo>
                  <a:pt x="21600" y="532"/>
                </a:lnTo>
                <a:arcTo wR="532" hR="532" stAng="0" swAng="-5400000"/>
                <a:close/>
              </a:path>
            </a:pathLst>
          </a:custGeom>
          <a:solidFill>
            <a:srgbClr val="632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2922480" y="873000"/>
            <a:ext cx="3513240" cy="5494320"/>
          </a:xfrm>
          <a:custGeom>
            <a:avLst/>
            <a:gdLst>
              <a:gd name="textAreaLeft" fmla="*/ 25560 w 3513240"/>
              <a:gd name="textAreaRight" fmla="*/ 3487680 w 3513240"/>
              <a:gd name="textAreaTop" fmla="*/ 25560 h 5494320"/>
              <a:gd name="textAreaBottom" fmla="*/ 5468760 h 5494320"/>
            </a:gdLst>
            <a:ahLst/>
            <a:rect l="textAreaLeft" t="textAreaTop" r="textAreaRight" b="textAreaBottom"/>
            <a:pathLst>
              <a:path w="21600" h="33779">
                <a:moveTo>
                  <a:pt x="540" y="0"/>
                </a:moveTo>
                <a:arcTo wR="540" hR="540" stAng="16200000" swAng="-5400000"/>
                <a:lnTo>
                  <a:pt x="0" y="33239"/>
                </a:lnTo>
                <a:arcTo wR="540" hR="540" stAng="10800000" swAng="-5400000"/>
                <a:lnTo>
                  <a:pt x="21060" y="33779"/>
                </a:lnTo>
                <a:arcTo wR="540" hR="540" stAng="5400000" swAng="-5400000"/>
                <a:lnTo>
                  <a:pt x="21600" y="540"/>
                </a:lnTo>
                <a:arcTo wR="540" hR="54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6"/>
          <p:cNvSpPr/>
          <p:nvPr/>
        </p:nvSpPr>
        <p:spPr>
          <a:xfrm>
            <a:off x="2922480" y="873000"/>
            <a:ext cx="3506760" cy="185760"/>
          </a:xfrm>
          <a:prstGeom prst="pie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3144960" y="1378080"/>
            <a:ext cx="3068640" cy="46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8"/>
          <p:cNvSpPr/>
          <p:nvPr/>
        </p:nvSpPr>
        <p:spPr>
          <a:xfrm>
            <a:off x="4052880" y="649440"/>
            <a:ext cx="1235160" cy="64440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9"/>
          <p:cNvSpPr/>
          <p:nvPr/>
        </p:nvSpPr>
        <p:spPr>
          <a:xfrm>
            <a:off x="4064040" y="649440"/>
            <a:ext cx="1209600" cy="644400"/>
          </a:xfrm>
          <a:prstGeom prst="pi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reeform 10"/>
          <p:cNvSpPr/>
          <p:nvPr/>
        </p:nvSpPr>
        <p:spPr>
          <a:xfrm>
            <a:off x="4073400" y="649440"/>
            <a:ext cx="1189080" cy="644400"/>
          </a:xfrm>
          <a:prstGeom prst="pie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11"/>
          <p:cNvSpPr/>
          <p:nvPr/>
        </p:nvSpPr>
        <p:spPr>
          <a:xfrm>
            <a:off x="4078440" y="649440"/>
            <a:ext cx="1174680" cy="644400"/>
          </a:xfrm>
          <a:prstGeom prst="pie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reeform 12"/>
          <p:cNvSpPr/>
          <p:nvPr/>
        </p:nvSpPr>
        <p:spPr>
          <a:xfrm>
            <a:off x="4089240" y="649440"/>
            <a:ext cx="1148040" cy="64440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13"/>
          <p:cNvSpPr/>
          <p:nvPr/>
        </p:nvSpPr>
        <p:spPr>
          <a:xfrm>
            <a:off x="4098960" y="649440"/>
            <a:ext cx="1127160" cy="644400"/>
          </a:xfrm>
          <a:prstGeom prst="pie">
            <a:avLst/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14"/>
          <p:cNvSpPr/>
          <p:nvPr/>
        </p:nvSpPr>
        <p:spPr>
          <a:xfrm>
            <a:off x="4110120" y="649440"/>
            <a:ext cx="1106280" cy="644400"/>
          </a:xfrm>
          <a:prstGeom prst="pie">
            <a:avLst/>
          </a:prstGeom>
          <a:solidFill>
            <a:srgbClr val="b7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reeform 15"/>
          <p:cNvSpPr/>
          <p:nvPr/>
        </p:nvSpPr>
        <p:spPr>
          <a:xfrm>
            <a:off x="4119480" y="649440"/>
            <a:ext cx="1081080" cy="644400"/>
          </a:xfrm>
          <a:prstGeom prst="pi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Oval 16"/>
          <p:cNvSpPr/>
          <p:nvPr/>
        </p:nvSpPr>
        <p:spPr>
          <a:xfrm>
            <a:off x="4119480" y="1030320"/>
            <a:ext cx="155520" cy="17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Oval 17"/>
          <p:cNvSpPr/>
          <p:nvPr/>
        </p:nvSpPr>
        <p:spPr>
          <a:xfrm>
            <a:off x="4119480" y="1035000"/>
            <a:ext cx="155520" cy="162000"/>
          </a:xfrm>
          <a:prstGeom prst="ellipse">
            <a:avLst/>
          </a:prstGeom>
          <a:solidFill>
            <a:srgbClr val="1b1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Oval 18"/>
          <p:cNvSpPr/>
          <p:nvPr/>
        </p:nvSpPr>
        <p:spPr>
          <a:xfrm>
            <a:off x="4119480" y="1035000"/>
            <a:ext cx="146160" cy="157320"/>
          </a:xfrm>
          <a:prstGeom prst="ellipse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Oval 19"/>
          <p:cNvSpPr/>
          <p:nvPr/>
        </p:nvSpPr>
        <p:spPr>
          <a:xfrm>
            <a:off x="4125960" y="1035000"/>
            <a:ext cx="139680" cy="152280"/>
          </a:xfrm>
          <a:prstGeom prst="ellipse">
            <a:avLst/>
          </a:prstGeom>
          <a:solidFill>
            <a:srgbClr val="52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Oval 20"/>
          <p:cNvSpPr/>
          <p:nvPr/>
        </p:nvSpPr>
        <p:spPr>
          <a:xfrm>
            <a:off x="4125960" y="1035000"/>
            <a:ext cx="135000" cy="146160"/>
          </a:xfrm>
          <a:prstGeom prst="ellipse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Oval 21"/>
          <p:cNvSpPr/>
          <p:nvPr/>
        </p:nvSpPr>
        <p:spPr>
          <a:xfrm>
            <a:off x="4125960" y="1035000"/>
            <a:ext cx="128520" cy="14148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Oval 22"/>
          <p:cNvSpPr/>
          <p:nvPr/>
        </p:nvSpPr>
        <p:spPr>
          <a:xfrm>
            <a:off x="4125960" y="1035000"/>
            <a:ext cx="123840" cy="13500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Oval 23"/>
          <p:cNvSpPr/>
          <p:nvPr/>
        </p:nvSpPr>
        <p:spPr>
          <a:xfrm>
            <a:off x="4130640" y="1041480"/>
            <a:ext cx="109440" cy="117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Oval 24"/>
          <p:cNvSpPr/>
          <p:nvPr/>
        </p:nvSpPr>
        <p:spPr>
          <a:xfrm>
            <a:off x="5091120" y="1030320"/>
            <a:ext cx="162000" cy="17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Oval 25"/>
          <p:cNvSpPr/>
          <p:nvPr/>
        </p:nvSpPr>
        <p:spPr>
          <a:xfrm>
            <a:off x="5091120" y="1035000"/>
            <a:ext cx="150840" cy="162000"/>
          </a:xfrm>
          <a:prstGeom prst="ellipse">
            <a:avLst/>
          </a:prstGeom>
          <a:solidFill>
            <a:srgbClr val="1b1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Oval 26"/>
          <p:cNvSpPr/>
          <p:nvPr/>
        </p:nvSpPr>
        <p:spPr>
          <a:xfrm>
            <a:off x="5097600" y="1035000"/>
            <a:ext cx="144360" cy="157320"/>
          </a:xfrm>
          <a:prstGeom prst="ellipse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Oval 27"/>
          <p:cNvSpPr/>
          <p:nvPr/>
        </p:nvSpPr>
        <p:spPr>
          <a:xfrm>
            <a:off x="5097600" y="1035000"/>
            <a:ext cx="139680" cy="152280"/>
          </a:xfrm>
          <a:prstGeom prst="ellipse">
            <a:avLst/>
          </a:prstGeom>
          <a:solidFill>
            <a:srgbClr val="52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Oval 28"/>
          <p:cNvSpPr/>
          <p:nvPr/>
        </p:nvSpPr>
        <p:spPr>
          <a:xfrm>
            <a:off x="5097600" y="1035000"/>
            <a:ext cx="134640" cy="146160"/>
          </a:xfrm>
          <a:prstGeom prst="ellipse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Oval 29"/>
          <p:cNvSpPr/>
          <p:nvPr/>
        </p:nvSpPr>
        <p:spPr>
          <a:xfrm>
            <a:off x="5102280" y="1035000"/>
            <a:ext cx="119160" cy="14148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Oval 30"/>
          <p:cNvSpPr/>
          <p:nvPr/>
        </p:nvSpPr>
        <p:spPr>
          <a:xfrm>
            <a:off x="5102280" y="1035000"/>
            <a:ext cx="119160" cy="13500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Oval 31"/>
          <p:cNvSpPr/>
          <p:nvPr/>
        </p:nvSpPr>
        <p:spPr>
          <a:xfrm>
            <a:off x="5102280" y="1041480"/>
            <a:ext cx="114120" cy="117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32"/>
          <p:cNvSpPr/>
          <p:nvPr/>
        </p:nvSpPr>
        <p:spPr>
          <a:xfrm>
            <a:off x="3763800" y="457200"/>
            <a:ext cx="1798920" cy="1020600"/>
          </a:xfrm>
          <a:prstGeom prst="pie">
            <a:avLst/>
          </a:prstGeom>
          <a:solidFill>
            <a:srgbClr val="c0c0c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33"/>
          <p:cNvSpPr/>
          <p:nvPr/>
        </p:nvSpPr>
        <p:spPr>
          <a:xfrm>
            <a:off x="3754440" y="1467000"/>
            <a:ext cx="1822320" cy="68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34"/>
          <p:cNvSpPr/>
          <p:nvPr/>
        </p:nvSpPr>
        <p:spPr>
          <a:xfrm>
            <a:off x="4383000" y="490680"/>
            <a:ext cx="595440" cy="438120"/>
          </a:xfrm>
          <a:prstGeom prst="pi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AutoShape 35"/>
          <p:cNvSpPr/>
          <p:nvPr/>
        </p:nvSpPr>
        <p:spPr>
          <a:xfrm>
            <a:off x="4508640" y="631800"/>
            <a:ext cx="355320" cy="44640"/>
          </a:xfrm>
          <a:prstGeom prst="roundRect">
            <a:avLst>
              <a:gd name="adj" fmla="val 31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AutoShape 36"/>
          <p:cNvSpPr/>
          <p:nvPr/>
        </p:nvSpPr>
        <p:spPr>
          <a:xfrm>
            <a:off x="4508640" y="642960"/>
            <a:ext cx="355320" cy="27000"/>
          </a:xfrm>
          <a:prstGeom prst="roundRect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AutoShape 37"/>
          <p:cNvSpPr/>
          <p:nvPr/>
        </p:nvSpPr>
        <p:spPr>
          <a:xfrm>
            <a:off x="4508640" y="703440"/>
            <a:ext cx="355320" cy="44280"/>
          </a:xfrm>
          <a:prstGeom prst="roundRect">
            <a:avLst>
              <a:gd name="adj" fmla="val 31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AutoShape 38"/>
          <p:cNvSpPr/>
          <p:nvPr/>
        </p:nvSpPr>
        <p:spPr>
          <a:xfrm>
            <a:off x="4508640" y="714240"/>
            <a:ext cx="355320" cy="30240"/>
          </a:xfrm>
          <a:prstGeom prst="roundRect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AutoShape 39"/>
          <p:cNvSpPr/>
          <p:nvPr/>
        </p:nvSpPr>
        <p:spPr>
          <a:xfrm>
            <a:off x="4508640" y="782640"/>
            <a:ext cx="355320" cy="46080"/>
          </a:xfrm>
          <a:prstGeom prst="roundRect">
            <a:avLst>
              <a:gd name="adj" fmla="val 31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AutoShape 40"/>
          <p:cNvSpPr/>
          <p:nvPr/>
        </p:nvSpPr>
        <p:spPr>
          <a:xfrm>
            <a:off x="4508640" y="793800"/>
            <a:ext cx="355320" cy="39600"/>
          </a:xfrm>
          <a:prstGeom prst="roundRect">
            <a:avLst>
              <a:gd name="adj" fmla="val 35713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AutoShape 41"/>
          <p:cNvSpPr/>
          <p:nvPr/>
        </p:nvSpPr>
        <p:spPr>
          <a:xfrm>
            <a:off x="4435560" y="861840"/>
            <a:ext cx="495360" cy="44640"/>
          </a:xfrm>
          <a:prstGeom prst="roundRect">
            <a:avLst>
              <a:gd name="adj" fmla="val 37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AutoShape 42"/>
          <p:cNvSpPr/>
          <p:nvPr/>
        </p:nvSpPr>
        <p:spPr>
          <a:xfrm>
            <a:off x="4435560" y="873000"/>
            <a:ext cx="495360" cy="39960"/>
          </a:xfrm>
          <a:prstGeom prst="roundRect">
            <a:avLst>
              <a:gd name="adj" fmla="val 35713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AutoShape 43"/>
          <p:cNvSpPr/>
          <p:nvPr/>
        </p:nvSpPr>
        <p:spPr>
          <a:xfrm>
            <a:off x="4435560" y="950760"/>
            <a:ext cx="495360" cy="39960"/>
          </a:xfrm>
          <a:prstGeom prst="roundRect">
            <a:avLst>
              <a:gd name="adj" fmla="val 4285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AutoShape 44"/>
          <p:cNvSpPr/>
          <p:nvPr/>
        </p:nvSpPr>
        <p:spPr>
          <a:xfrm>
            <a:off x="4435560" y="963720"/>
            <a:ext cx="495360" cy="27000"/>
          </a:xfrm>
          <a:prstGeom prst="roundRect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AutoShape 45"/>
          <p:cNvSpPr/>
          <p:nvPr/>
        </p:nvSpPr>
        <p:spPr>
          <a:xfrm>
            <a:off x="4435560" y="1023840"/>
            <a:ext cx="495360" cy="44640"/>
          </a:xfrm>
          <a:prstGeom prst="roundRect">
            <a:avLst>
              <a:gd name="adj" fmla="val 37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AutoShape 46"/>
          <p:cNvSpPr/>
          <p:nvPr/>
        </p:nvSpPr>
        <p:spPr>
          <a:xfrm>
            <a:off x="4435560" y="1035000"/>
            <a:ext cx="495360" cy="33480"/>
          </a:xfrm>
          <a:prstGeom prst="roundRect">
            <a:avLst>
              <a:gd name="adj" fmla="val 41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48"/>
          <p:cNvSpPr/>
          <p:nvPr/>
        </p:nvSpPr>
        <p:spPr>
          <a:xfrm>
            <a:off x="3144960" y="3025800"/>
            <a:ext cx="306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3200" spc="-1" strike="noStrike">
                <a:solidFill>
                  <a:srgbClr val="122031"/>
                </a:solidFill>
                <a:latin typeface="Calibri"/>
              </a:rPr>
              <a:t>КРАТОК ПРЕГЛЕ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6840" y="1235160"/>
            <a:ext cx="85122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По предавањето на оваа наставна единица слушателите ќе можат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600" spc="-1" strike="noStrike">
                <a:solidFill>
                  <a:srgbClr val="000000"/>
                </a:solidFill>
                <a:latin typeface="Calibri"/>
              </a:rPr>
              <a:t>Да ги идентификуваат обучувачите и слушателит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mk-MK" sz="2600" spc="-1" strike="noStrike">
                <a:solidFill>
                  <a:srgbClr val="000000"/>
                </a:solidFill>
                <a:latin typeface="Calibri"/>
              </a:rPr>
              <a:t>Да разговараат за вкупната цел на курсот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600" spc="-1" strike="noStrike">
                <a:solidFill>
                  <a:srgbClr val="000000"/>
                </a:solidFill>
                <a:latin typeface="Calibri"/>
              </a:rPr>
              <a:t>Да објаснат каква е потребата за ваков курс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600" spc="-1" strike="noStrike">
                <a:solidFill>
                  <a:srgbClr val="000000"/>
                </a:solidFill>
                <a:latin typeface="Calibri"/>
              </a:rPr>
              <a:t>Да ги наведат главните елементи на распоредот и активностите во текот на курсот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600" spc="-1" strike="noStrike">
                <a:solidFill>
                  <a:srgbClr val="000000"/>
                </a:solidFill>
                <a:latin typeface="Calibri"/>
              </a:rPr>
              <a:t>Да ги наведат постапките за заштита на здравјето и безбедноста во просториите каде се одржува курсот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Преглед на целите на наставните едини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0" y="5181480"/>
            <a:ext cx="239400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242" name="TextBox 3"/>
          <p:cNvSpPr/>
          <p:nvPr/>
        </p:nvSpPr>
        <p:spPr>
          <a:xfrm>
            <a:off x="3074760" y="45007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5400" spc="-1" strike="noStrike">
                <a:solidFill>
                  <a:srgbClr val="000000"/>
                </a:solidFill>
                <a:latin typeface="Calibri"/>
              </a:rPr>
              <a:t>Прашањ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Историјат на курс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3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Насловот на овој курс е „Обука за органите за спроведување на законот како дел од првата екипа на местото на настанот“. Тој е подготвен како резултат на заедничкиот проект на Советот на Европа и Европската унија за регионална соработка против компјутерски криминал во регионот опфатен со ИП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Цел на наставната един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0464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Да се информираат слушателите за потребата од курсот за обука, како и за неговата цел и резулта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Да се обезбеди дека ќе добијат доволно информации за програмата на активности и распоредо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Да се запознаат слушателите за здравствените, безбедносните и административните податоци за курсо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Меѓусебно запознавање на слушателите и запознавање со обучувачите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556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235160"/>
            <a:ext cx="794232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По предавањето на наставната единица слушателите ќе можа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1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ги идентификуваат обучувачите и слушателит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разговараат за вкупната цел на курсо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објаснат каква е потребата за ваков кур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ги наведат главните елементи на распоредот и активностите во текот на курсо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ги наведат постапките за заштита на здравјето и безбедноста во просториите каде се одржува курсо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2600">
              <a:spcBef>
                <a:spcPts val="601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2600">
              <a:spcBef>
                <a:spcPts val="601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Очекувани резулта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5546880"/>
            <a:ext cx="184464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Зошто е потребен ваквиот курс за обу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4092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Електронските докази се дел од скоро секој вид на кривична истрага. Улогата на првите тимови е од суштинска важност за препознавање и постапување со ваков вид на докази, на начин со кој доказите остануваат допуштени во постапките во рамките на кривично-правниот систем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Советот на Европа издаде Прирачник за добри практики во однос на електронски докази, давајќи им така поддршка на земјите во дефинирањето на нивните практики и постапки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Овој курс за обука има за цел на земјите да им помогне да дефинираат обука релевантна за првите тимови на местото на настанот во контекстот на електронски доказ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Цел на курс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25080"/>
            <a:ext cx="822960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Целта на овој курс е да им понуди познавања и вештини на првите тимови од органите за спроведување на законот кои ќе им овозможат да ги препознаат и да постапуваат со електронските докази на начин со кој електронските докази се зачувуваат за идно испитување, истовремено зачувувајќи го интегритетот односно целовитоста на истите.  Курсот за обука нуди практични, но и информации за процедуралните аспекти во однос на предметните прашања и главно се однесуваат на тоа како овие прашања влијаат на секојдневната работа на органите.</a:t>
            </a: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3600" spc="-1" strike="noStrike">
                <a:solidFill>
                  <a:srgbClr val="000000"/>
                </a:solidFill>
                <a:latin typeface="Calibri"/>
              </a:rPr>
              <a:t>Распоред за курсот на првите тимо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193680" y="3081240"/>
            <a:ext cx="432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-1062000" y="173160"/>
            <a:ext cx="432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 1" descr="COE.png"/>
          <p:cNvPicPr/>
          <p:nvPr/>
        </p:nvPicPr>
        <p:blipFill>
          <a:blip r:embed="rId1"/>
          <a:stretch/>
        </p:blipFill>
        <p:spPr>
          <a:xfrm>
            <a:off x="193680" y="1144440"/>
            <a:ext cx="320976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66600" y="898560"/>
          <a:ext cx="8894880" cy="7002360"/>
        </p:xfrm>
        <a:graphic>
          <a:graphicData uri="http://schemas.openxmlformats.org/drawingml/2006/table">
            <a:tbl>
              <a:tblPr/>
              <a:tblGrid>
                <a:gridCol w="1134360"/>
                <a:gridCol w="1296360"/>
                <a:gridCol w="181800"/>
                <a:gridCol w="181440"/>
                <a:gridCol w="181440"/>
                <a:gridCol w="181440"/>
                <a:gridCol w="1795680"/>
                <a:gridCol w="216000"/>
                <a:gridCol w="181440"/>
                <a:gridCol w="871200"/>
                <a:gridCol w="1208160"/>
                <a:gridCol w="181440"/>
                <a:gridCol w="181440"/>
                <a:gridCol w="181440"/>
                <a:gridCol w="181800"/>
                <a:gridCol w="527760"/>
                <a:gridCol w="216000"/>
              </a:tblGrid>
              <a:tr h="81000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т на Европ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ка за органите за спроведување на законот како дел од првата екипа на местото на настанот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1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ред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:00 - 10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:00 -11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:00 - 12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:00 - 13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:00 - 14: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:00 - 15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:00 - 16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:00 - 17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орање на курсот и запознавањ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вед во начелата и постапките за електронски доказ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УЗ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вори на доказ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јутерски систе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јутерски мреж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вори на доказ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ази од интернет, овластувања и дозволи, подготовка и планирање, надворешни специјализирани вешти ли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ен прегле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трес и заплен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ј учествува и што треба да се земе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збедување на местото на настанот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ирање на местото на настан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УЗ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трес и заплен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 ситуација на анализа на уреди од самото место на настан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 ситуација на проток на живи информац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 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ен преглед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трес и заплена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ки упатства за тимовит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трес и заплена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на вежб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УЗ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трес и заплен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на вежб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трес и заплена </a:t>
                      </a: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ратни информации за вежбат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ратни информации од слушателите и од обучувачите затворање на курсот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3074760" y="45007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5400" spc="-1" strike="noStrike">
                <a:solidFill>
                  <a:srgbClr val="000000"/>
                </a:solidFill>
                <a:latin typeface="Calibri"/>
              </a:rPr>
              <a:t>Прашањ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2:20:24Z</dcterms:created>
  <dc:creator>Nigel Jones</dc:creator>
  <dc:description/>
  <dc:language>en-US</dc:language>
  <cp:lastModifiedBy>Daniela</cp:lastModifiedBy>
  <cp:lastPrinted>2012-02-06T12:03:55Z</cp:lastPrinted>
  <dcterms:modified xsi:type="dcterms:W3CDTF">2013-07-24T23:24:16Z</dcterms:modified>
  <cp:revision>50</cp:revision>
  <dc:subject/>
  <dc:title>Introductory Cybercrime Training for Judges and Prosecutors</dc:title>
</cp:coreProperties>
</file>