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A2693-F15A-4212-A8E2-8191F28D28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rPr>
              <a:t>Електронските докази имаат заеднички карактеристики со традиционалната форма на докази, но истовремено поседуваат и специфични карактеристики кои ги издвојуваат:</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невидливи за нестручното око:</a:t>
            </a:r>
            <a:r>
              <a:rPr b="0" lang="mk-MK" sz="900" spc="-1" strike="noStrike">
                <a:solidFill>
                  <a:srgbClr val="000000"/>
                </a:solidFill>
                <a:latin typeface="Calibri"/>
              </a:rPr>
              <a:t> Тие се невидливи за нестручното око: Често електронските докази се наоѓаат на места каде би барал само специјализиран експерт или се на локации до кои може да се стигне само со специфични алатки. Исто како и гледање под електронски микроскоп на специјалистот за инсекти му овозможува да ги идентификува клучните морфолошки карактеристики на ларвите од мувите, во компјутерската форензичка анализа постојат специфични алатки за испитување и обработка на податоци кои се наоѓаат на компјутерите</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Може да има потреба податоците да ги толкува специјализиран експерт:</a:t>
            </a:r>
            <a:r>
              <a:rPr b="0" lang="mk-MK" sz="900" spc="-1" strike="noStrike">
                <a:solidFill>
                  <a:srgbClr val="000000"/>
                </a:solidFill>
                <a:latin typeface="Calibri"/>
              </a:rPr>
              <a:t> Информациите кои се наоѓаат на компјутерите за лице кое не е експерт во дадената област не се од голема корист, затоа што тој нема да може да ги издвои нивните карактеристики или сродните докази со кои се обезбедува дека релевантната информација е веродостојна и дека истата не е подоцна изменета. Во одредени случаи, како и при анализа на правецот на распрскување на крвта, потребно е да се применат специјализирани познавања</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особено нестабилни:</a:t>
            </a:r>
            <a:r>
              <a:rPr b="0" lang="mk-MK" sz="900" spc="-1" strike="noStrike">
                <a:solidFill>
                  <a:srgbClr val="000000"/>
                </a:solidFill>
                <a:latin typeface="Calibri"/>
              </a:rPr>
              <a:t> Тие се особено нестабилни: Понекогаш, електронските докази се наоѓаат на уреди на кои состојбата на нивната (0 или 1 по бит) меморија се менува со меморирање на нови податоци врз старите секогаш кога ќе настапи некое дејствие. Во одредени случаи тоа може да се случи кога ќе снема електрична енергија, во друг случај тоа може да се случи кога автоматизиран систем врз старите запишува нови податоци со цел да се направи место за чување на нови информации. Уредите на кои може да се наоѓаат електронските докази мора да се зачуваат што е можно побрзо.</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Електронските докази може да се изменат или да се уништат со нивно нормално користење:</a:t>
            </a:r>
            <a:r>
              <a:rPr b="0" lang="mk-MK" sz="900" spc="-1" strike="noStrike">
                <a:solidFill>
                  <a:srgbClr val="000000"/>
                </a:solidFill>
                <a:latin typeface="Calibri"/>
              </a:rPr>
              <a:t> Електронските докази може да се изменат или да се уништат со нивно нормално користење: На уредите постојано се менува состојбата на нивната меморија, без оглед дали тоа се случува на барање на нивниот корисник („меморирај го документот“, „копирај ја датотеката“) или автоматски преку компјутерскиот оперативен систем („додели место за оваа програма“, „времено зачувај ја информацијата за замена меѓу два уреда“). Овие карактеристики ја нагласува важноста со електронските уреди да се ракува на соодветен начин од моментот кога истите ќе се идентификуваат како релевантни за одредена истрага. </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можат безгранично да се копираат:</a:t>
            </a:r>
            <a:r>
              <a:rPr b="0" lang="mk-MK" sz="900" spc="-1" strike="noStrike">
                <a:solidFill>
                  <a:srgbClr val="000000"/>
                </a:solidFill>
                <a:latin typeface="Calibri"/>
              </a:rPr>
              <a:t> дигиталните информации може безгранично да се копираат и секоја копија ќе биде иста како и оригиналот. Ваквата единствена карактеристика овозможува повеќе исти копии од оригиналот да бидат дистрибуирани и анализирани од различни специјализирани експерти истовремено. Тоа исто така овозможува електронските податоци да бидат изведени пред судот во формата во која биле прибрани, заедно со извештајот на специјализираниот вештак.</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15B78-B431-4A5A-B291-9AAF95728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остапување од страна на специјализиран експерт:</a:t>
            </a:r>
            <a:r>
              <a:rPr b="0" lang="mk-MK" sz="1100" spc="-1" strike="noStrike">
                <a:solidFill>
                  <a:srgbClr val="000000"/>
                </a:solidFill>
                <a:latin typeface="Calibri"/>
              </a:rPr>
              <a:t> Постапување од страна на специјализиран експерт: Секој електронски уред има специфични карактеристики, па затоа мора строго да се следат и специфични постапки за пристап кон нивната меморија каде може да се чуваат електронските докази. Во случајот на електронските докази, еден од најголемите ризици се состои од ненамерно менување на дел од доказите. Ова може да покрене сомневања во однос на конкретните измени и дали доказите со кои обвинетиот се инкриминира или се ослободува од сомнение се менувани, што од своја страна може да создаде проблеми со допуштеноста на доказите пред судот</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Брза еволуција на изворите на електронски докази: </a:t>
            </a:r>
            <a:r>
              <a:rPr b="0" lang="mk-MK" sz="1100" spc="-1" strike="noStrike">
                <a:solidFill>
                  <a:srgbClr val="000000"/>
                </a:solidFill>
                <a:latin typeface="Calibri"/>
              </a:rPr>
              <a:t>Брза еволуција на изворите на електронски докази: Новите технологии се развиваат многу брзо и потребно е да се надградуваат знаењата не само за самите нови технологии, туку и за постапките и техниките кои мора да се применат со цел да се заплени нивната содржина и истата да се анализира.</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Користење на соодветни постапки, техники и алатки:</a:t>
            </a:r>
            <a:r>
              <a:rPr b="0" lang="mk-MK" sz="1100" spc="-1" strike="noStrike">
                <a:solidFill>
                  <a:srgbClr val="000000"/>
                </a:solidFill>
                <a:latin typeface="Calibri"/>
              </a:rPr>
              <a:t> Користење на соодветни постапки, техники и алатки: Како и во традиционалните форензички дисциплини, покрај специјализирани познавања, на специјалистите за дигитална форензичка анализа им се потребни специфични алатки за соодветно да ја извршат својата задача, како на пример да ги фатат сите оригинални информации од одреден уред. Од суштинска важност е да се користат соодветни техники и алатки и за постапките кои се спроведуваат да се води евиденција и истите да можат да ги повторат други специјализирани експерти, со цел фатените податоци да имаат доказна вреднос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Допуштеност:</a:t>
            </a:r>
            <a:r>
              <a:rPr b="0" lang="mk-MK" sz="1100" spc="-1" strike="noStrike">
                <a:solidFill>
                  <a:srgbClr val="000000"/>
                </a:solidFill>
                <a:latin typeface="Calibri"/>
              </a:rPr>
              <a:t> Со оглед на тоа што крајната цел е да се изведат прибраните и анализирани докази како поддршка за одреден случај пред судот, електронските докази мора да се прибираат во склад со важечкото законодавство и најдобрите практики со цел истите да бидат допуштени на судењето. Иако деталите се разликуваат во зависност од националното законодавство, воопштено мора да се земат предвид следниве основни критериум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Веродостојност:</a:t>
            </a:r>
            <a:r>
              <a:rPr b="0" lang="mk-MK" sz="1100" spc="-1" strike="noStrike">
                <a:solidFill>
                  <a:srgbClr val="000000"/>
                </a:solidFill>
                <a:latin typeface="Calibri"/>
              </a:rPr>
              <a:t> Доказниот материјал мора со сигурност да може да се поврзе со настанот кој е предмет на истрага</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Целовитост:</a:t>
            </a:r>
            <a:r>
              <a:rPr b="0" lang="mk-MK" sz="1100" spc="-1" strike="noStrike">
                <a:solidFill>
                  <a:srgbClr val="000000"/>
                </a:solidFill>
                <a:latin typeface="Calibri"/>
              </a:rPr>
              <a:t> Доказите мора да го објаснат целиот настан, а не само одредени негови аспект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Сигурност:</a:t>
            </a:r>
            <a:r>
              <a:rPr b="0" lang="mk-MK" sz="1100" spc="-1" strike="noStrike">
                <a:solidFill>
                  <a:srgbClr val="000000"/>
                </a:solidFill>
                <a:latin typeface="Calibri"/>
              </a:rPr>
              <a:t> Не смее да има било каков елемент во однос на прибирањето и начинот на постапување со доказите кој ќе покрене сомневања за сигурноста и точноста на доказите</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Уверливост:</a:t>
            </a:r>
            <a:r>
              <a:rPr b="0" lang="mk-MK" sz="1100" spc="-1" strike="noStrike">
                <a:solidFill>
                  <a:srgbClr val="000000"/>
                </a:solidFill>
                <a:latin typeface="Calibri"/>
              </a:rPr>
              <a:t> Доказите мора да се уверливи и разбирливи за судиите и/или поротниците.</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ропорционалност:</a:t>
            </a:r>
            <a:r>
              <a:rPr b="0" lang="mk-MK" sz="1100" spc="-1" strike="noStrike">
                <a:solidFill>
                  <a:srgbClr val="000000"/>
                </a:solidFill>
                <a:latin typeface="Calibri"/>
              </a:rPr>
              <a:t> Од примената на овој критериум врз дигиталната форензичка анализа произлегува дека целата истражна постапка мора да биде соодветна и адекватна: ползата која произлегува од примена на одредена мерка мора да биде многу поголема од штетата на која би ја изложила одредената мерка странката или странките во споро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F486A-819E-4594-B088-46AB48AEE1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40C14-2CDF-41CA-9F97-870157873B2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D5C0-7A22-4221-9418-25CC3D0B9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9B2E-E6CF-4EF4-B93B-ADD70FB2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74077-25DD-4191-900A-68D7BE9B5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6C442-8DB6-4344-AB3D-0F3C31084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6A8E-3512-4EEE-BDD9-9710021DF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517B-E16A-47A3-9912-36E291B38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D2B86-F401-4E40-8082-9AA4D489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46BAF-19E2-4A8A-A759-5EE3CC8A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1738-6BBB-49DE-84F8-2CB799A8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D446-3866-46B7-847F-3D9035B8F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65726-D5CB-4C39-B421-F4A43D89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5C8E-569D-40DA-B2C1-1674C189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F6EAB-B87A-499F-A4D7-4DAA5887B2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Вовед во начелата и постапките за електронски докази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8" name=""/>
          <p:cNvSpPr txBox="1"/>
          <p:nvPr/>
        </p:nvSpPr>
        <p:spPr>
          <a:xfrm>
            <a:off x="457200" y="1599840"/>
            <a:ext cx="8229600" cy="4871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поделен на хронолошки делови кои имаат за цел да му обезбедат помош на секое лице кое постапува со електронски докази.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ие делови ги опфаќаат сите фази од првичното идентификување на потенцијалните извори на докази, па сè до претресот и заплената на податоците, вклучително и фаќање на податоци од Интернет, потоа анализа, подготовка и изработка на извештаи за доказите.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тоа следат специјализирани делови за органите за спроведување на законот, обвинителите, судиите и приватните истражители, адвокати, нотари и стручните служби</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имболи во Прирачнико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4" descr=""/>
          <p:cNvPicPr/>
          <p:nvPr/>
        </p:nvPicPr>
        <p:blipFill>
          <a:blip r:embed="rId1"/>
          <a:stretch/>
        </p:blipFill>
        <p:spPr>
          <a:xfrm>
            <a:off x="833400" y="1930320"/>
            <a:ext cx="977760" cy="908280"/>
          </a:xfrm>
          <a:prstGeom prst="rect">
            <a:avLst/>
          </a:prstGeom>
          <a:ln w="0">
            <a:noFill/>
          </a:ln>
        </p:spPr>
      </p:pic>
      <p:pic>
        <p:nvPicPr>
          <p:cNvPr id="72" name="Bild 1" descr=""/>
          <p:cNvPicPr/>
          <p:nvPr/>
        </p:nvPicPr>
        <p:blipFill>
          <a:blip r:embed="rId2"/>
          <a:stretch/>
        </p:blipFill>
        <p:spPr>
          <a:xfrm>
            <a:off x="3408480" y="1839960"/>
            <a:ext cx="890640" cy="868320"/>
          </a:xfrm>
          <a:prstGeom prst="rect">
            <a:avLst/>
          </a:prstGeom>
          <a:ln w="0">
            <a:noFill/>
          </a:ln>
        </p:spPr>
      </p:pic>
      <p:pic>
        <p:nvPicPr>
          <p:cNvPr id="73" name="Picture 6" descr="C:\Users\URASMUSSEN\AppData\Local\Microsoft\Windows\Temporary Internet Files\Content.Word\gnome_terminal-1.png"/>
          <p:cNvPicPr/>
          <p:nvPr/>
        </p:nvPicPr>
        <p:blipFill>
          <a:blip r:embed="rId3"/>
          <a:stretch/>
        </p:blipFill>
        <p:spPr>
          <a:xfrm>
            <a:off x="6275520" y="1930320"/>
            <a:ext cx="839520" cy="777960"/>
          </a:xfrm>
          <a:prstGeom prst="rect">
            <a:avLst/>
          </a:prstGeom>
          <a:ln w="0">
            <a:noFill/>
          </a:ln>
        </p:spPr>
      </p:pic>
      <p:pic>
        <p:nvPicPr>
          <p:cNvPr id="74" name="Grafik 87" descr=""/>
          <p:cNvPicPr/>
          <p:nvPr/>
        </p:nvPicPr>
        <p:blipFill>
          <a:blip r:embed="rId4"/>
          <a:stretch/>
        </p:blipFill>
        <p:spPr>
          <a:xfrm>
            <a:off x="833400" y="4030560"/>
            <a:ext cx="949320" cy="1060560"/>
          </a:xfrm>
          <a:prstGeom prst="rect">
            <a:avLst/>
          </a:prstGeom>
          <a:ln w="0">
            <a:noFill/>
          </a:ln>
        </p:spPr>
      </p:pic>
      <p:pic>
        <p:nvPicPr>
          <p:cNvPr id="75" name="Grafik 397" descr=""/>
          <p:cNvPicPr/>
          <p:nvPr/>
        </p:nvPicPr>
        <p:blipFill>
          <a:blip r:embed="rId5"/>
          <a:stretch/>
        </p:blipFill>
        <p:spPr>
          <a:xfrm>
            <a:off x="3502080" y="4033800"/>
            <a:ext cx="1006560" cy="1049400"/>
          </a:xfrm>
          <a:prstGeom prst="rect">
            <a:avLst/>
          </a:prstGeom>
          <a:ln w="0">
            <a:noFill/>
          </a:ln>
        </p:spPr>
      </p:pic>
      <p:pic>
        <p:nvPicPr>
          <p:cNvPr id="76" name="Grafik 398" descr=""/>
          <p:cNvPicPr/>
          <p:nvPr/>
        </p:nvPicPr>
        <p:blipFill>
          <a:blip r:embed="rId6"/>
          <a:stretch/>
        </p:blipFill>
        <p:spPr>
          <a:xfrm>
            <a:off x="6259680" y="4033800"/>
            <a:ext cx="1035000" cy="1049400"/>
          </a:xfrm>
          <a:prstGeom prst="rect">
            <a:avLst/>
          </a:prstGeom>
          <a:ln w="0">
            <a:noFill/>
          </a:ln>
        </p:spPr>
      </p:pic>
      <p:sp>
        <p:nvSpPr>
          <p:cNvPr id="77" name="TextBox 10"/>
          <p:cNvSpPr/>
          <p:nvPr/>
        </p:nvSpPr>
        <p:spPr>
          <a:xfrm>
            <a:off x="637200" y="2933640"/>
            <a:ext cx="146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8" name="TextBox 11"/>
          <p:cNvSpPr/>
          <p:nvPr/>
        </p:nvSpPr>
        <p:spPr>
          <a:xfrm>
            <a:off x="3134520" y="283860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аж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9" name="TextBox 12"/>
          <p:cNvSpPr/>
          <p:nvPr/>
        </p:nvSpPr>
        <p:spPr>
          <a:xfrm>
            <a:off x="5082480" y="283860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исоко технички информации</a:t>
            </a:r>
            <a:endParaRPr b="0" lang="en-US" sz="1800" spc="-1" strike="noStrike">
              <a:solidFill>
                <a:srgbClr val="000000"/>
              </a:solidFill>
              <a:latin typeface="Calibri"/>
            </a:endParaRPr>
          </a:p>
        </p:txBody>
      </p:sp>
      <p:sp>
        <p:nvSpPr>
          <p:cNvPr id="80" name="TextBox 13"/>
          <p:cNvSpPr/>
          <p:nvPr/>
        </p:nvSpPr>
        <p:spPr>
          <a:xfrm>
            <a:off x="718920" y="52624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Основни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1" name="TextBox 14"/>
          <p:cNvSpPr/>
          <p:nvPr/>
        </p:nvSpPr>
        <p:spPr>
          <a:xfrm>
            <a:off x="3368520" y="526896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пред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2" name="TextBox 15"/>
          <p:cNvSpPr/>
          <p:nvPr/>
        </p:nvSpPr>
        <p:spPr>
          <a:xfrm>
            <a:off x="5828400" y="526896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Специјализира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нвенцијата од Будимпешт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нуди многу одредби за јакнење на истрагите во кои се инволвирани електронски докази. Некои од тие одредби се споменати во овој Прирачник; сепак ова не е Прирачник за Конвенцијата и корисниците кога сакаат да ги применат одредбите од Конвенцијата секогаш треба да ги користат авторитативните документи достапни во Советот на Европа.</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дност</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Во околности во кои корисникот не е сигурен како да постапи, тој треба да се наврати на начелата за да ги одбере најделотворните дејствија.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рисникот треба да ги употреби советите кои се релевантни за видот на доказите со кои постапува и да побара помош од специјализирани експерти кога прашањата со кои се соочува го надминуваат опфатот на Прирачникот.  </a:t>
            </a:r>
            <a:endParaRPr b="0" lang="en-US" sz="3200" spc="-1" strike="noStrike">
              <a:solidFill>
                <a:srgbClr val="000000"/>
              </a:solidFill>
              <a:latin typeface="Calibri"/>
            </a:endParaRPr>
          </a:p>
          <a:p>
            <a:pPr marL="335880" indent="-3358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ериод на важност на Прирачникот</a:t>
            </a:r>
            <a:endParaRPr b="0" lang="en-US" sz="4400" spc="-1" strike="noStrike">
              <a:solidFill>
                <a:srgbClr val="000000"/>
              </a:solidFill>
              <a:latin typeface="Calibri"/>
            </a:endParaRPr>
          </a:p>
        </p:txBody>
      </p:sp>
      <p:sp>
        <p:nvSpPr>
          <p:cNvPr id="88" name=""/>
          <p:cNvSpPr txBox="1"/>
          <p:nvPr/>
        </p:nvSpPr>
        <p:spPr>
          <a:xfrm>
            <a:off x="457200" y="1599840"/>
            <a:ext cx="8229600" cy="4815000"/>
          </a:xfrm>
          <a:prstGeom prst="rect">
            <a:avLst/>
          </a:prstGeom>
          <a:noFill/>
          <a:ln w="0">
            <a:noFill/>
          </a:ln>
        </p:spPr>
        <p:txBody>
          <a:bodyPr anchor="t">
            <a:normAutofit fontScale="92000"/>
          </a:bodyPr>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и информациите содржани во истиот се сметаат за валидни до 31 декември 2013 година.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Целта е Прирачникот да се новелира пред тој датум за да се земат предвид евентуалните измени во технологијата, постапките и практиките кои се релевантни за прашањата опфатени со Прирачникот.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е лице или организација која сака да го користи прирачникот по погоренаведениот датум треба да се обрати до Советот на Европа за да ја добијат најновата верзија.</a:t>
            </a:r>
            <a:endParaRPr b="0" lang="en-US" sz="3000" spc="-1" strike="noStrike">
              <a:solidFill>
                <a:srgbClr val="000000"/>
              </a:solidFill>
              <a:latin typeface="Calibri"/>
            </a:endParaRPr>
          </a:p>
          <a:p>
            <a:pPr marL="315360" indent="-31536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одатоц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А – Дијаграм за претрес и заплена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Б– Дијаграм за форензичка обработка на живи податоц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В –Дијаграм за подготовка за приватниот сектор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Дијаграм за претрес и заплена во приватниот сектор</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 Дијаграм за прибирање на дигитални доказ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Ѓ – Евиденција за процесот на постапување со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Е - Прашалник за органот надлежен за чување на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Ж - Образец за етикети на доказните предмет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З -Образец за прибирање на слик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1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2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2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5"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7" name="Rectangle 5"/>
          <p:cNvSpPr/>
          <p:nvPr/>
        </p:nvSpPr>
        <p:spPr>
          <a:xfrm>
            <a:off x="550800" y="1428840"/>
            <a:ext cx="8136000" cy="521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да се спроведат, сите правни постапки се потпираат на прибраните докази.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Традиционално и историски, доказите биле во форма на документи, фотографии и слично.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казите кои се користат во судските постапки кои произлегуваат од електронски уреди како што се компјутерите и нивните периферни уреди, компјутерски мрежи, мобилни телефони дигитални камери, други мобилни уреди, вклучително и уреди за чување податоци, како и од интернет сите преставуваат форма на електронски доказ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не се различни од традиционалните докази во смисла на тоа дека странката која ги изведува во правната постапка треба да може да покаже дека доказите не се ништо повеќе или помалку од она што биле кога биле прибрани.   Со други зборови, дека доказите не се менувани, дека од нив не е ништо отстрането, или дека на нив ништо не е додадено, односно дека тие не претрпеле никакви измени.</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амата природа на податоците и информациите кои се во електронска форма ги прави поподложни на манипулации отколку традиционалните форми на докази.  Со ова се покренуваат специфични прашања за правосудниот систем и истото бара постапувањето со таквите податоци да се изведува на начин со кој се обезбедува дека може да се одржи и докаже дека таквите докази непрекинато го задржале својот интегритет.</a:t>
            </a:r>
            <a:r>
              <a:rPr b="0" lang="mk-MK"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ако националното законодавство често не вклучува директни или експлицитни упати на електронски докази,а уште помалку и конкретна и посебна дефиниција на електронски докази, дефиниција, која е општо прифатена, преставува добра почетна основа за дискусија за посебниот карактер на електронските докази: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Електронските докази се информации создадени, зачувани или пренесени со електронски уреди кои можат да се изведат пред суд.</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осебни карактеристики</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невидливи за нестручното ок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оже да има потреба податоците да ги толкува специјализиран експер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особено нестабил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може да се изменат или да се уништат со нивно нормално корист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можат безгранично да се копираат</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Прашања поврзани со електронските докази</a:t>
            </a:r>
            <a:endParaRPr b="0" lang="en-US" sz="3800" spc="-1" strike="noStrike">
              <a:solidFill>
                <a:srgbClr val="000000"/>
              </a:solidFill>
              <a:latin typeface="Calibri"/>
            </a:endParaRPr>
          </a:p>
        </p:txBody>
      </p:sp>
      <p:sp>
        <p:nvSpPr>
          <p:cNvPr id="147" name=""/>
          <p:cNvSpPr txBox="1"/>
          <p:nvPr/>
        </p:nvSpPr>
        <p:spPr>
          <a:xfrm>
            <a:off x="457200" y="1600200"/>
            <a:ext cx="8229600" cy="4857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остапување од страна на специјализиран експер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Брза еволуција на изворите на електронски доказ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тење на соодветни постапки, техники и алат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опуште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Веродостој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Целовит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Сигурнос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Уверлив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опорционалнос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игитална форензика</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Гранката на форензичката наука која е посветена на идентификување, прибирање, обработка и анализа на електронски докази со цел нивна допуштеност во судската постапка се нарекува дигитална форензик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1"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9"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1"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83"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4"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5"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86"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7"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88"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89"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90"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1"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2"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93"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94"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Начелата за 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196" name=""/>
          <p:cNvSpPr txBox="1"/>
          <p:nvPr/>
        </p:nvSpPr>
        <p:spPr>
          <a:xfrm>
            <a:off x="457200" y="1599840"/>
            <a:ext cx="8229600" cy="5064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Надлежното лице е одговорно за интегритетот на материјалот кој е собран од местото на настанот и од него почнува ланецот на процесот на постапување со доказите</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Ова мора да се изведе на начин кој најмалку влијае врз податоците и од страна на квалификувано лице. Начелата од 2 до 5 треба да се земат предвид доколку се смета дека е неопходно да се преземе таков вид на дејствие.</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200" name=""/>
          <p:cNvSpPr txBox="1"/>
          <p:nvPr/>
        </p:nvSpPr>
        <p:spPr>
          <a:xfrm>
            <a:off x="457200" y="1600200"/>
            <a:ext cx="8229600" cy="5035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ата специјалистичка експертиза и искуство на ова поле,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истраги,</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предметот на истрагата,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од областа на правото,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Соодветни комуникациски вештини (и за писмени и за усни образложенија),</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јазични вештин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202" name=""/>
          <p:cNvSpPr txBox="1"/>
          <p:nvPr/>
        </p:nvSpPr>
        <p:spPr>
          <a:xfrm>
            <a:off x="457200" y="1600200"/>
            <a:ext cx="8229600" cy="489744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204" name=""/>
          <p:cNvSpPr txBox="1"/>
          <p:nvPr/>
        </p:nvSpPr>
        <p:spPr>
          <a:xfrm>
            <a:off x="457200" y="1600200"/>
            <a:ext cx="8229600" cy="50752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ја земја треба да ги земе предвид сопственото законодавство и регулатива при толкување на мерките предложени во овој документ.</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Прирачник на Советот на Европа за електронски докази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вед</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звори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ретрес и заплена на местото на настанот/ осомничениот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Фаќање докази од интернет</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атоци во посед на трети стран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Анализа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готовка и презентација на доказите</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Јурисдикција</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Разгледување на специфичните улог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Случа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Глосар</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тамошни информаци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одатоц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наставнат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0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ите единиц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та на Прирачникот</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амената на Прирачникот е да даде поддршка и насоки во идентификувањето и постапувањето со електронските докази преку користење на методи со кои се обезбедува дека во целиот процес ќе биде зачувана веродостојноста на доказите во текот на постапката.   </a:t>
            </a:r>
            <a:endParaRPr b="0" lang="en-US" sz="3200" spc="-1" strike="noStrike">
              <a:solidFill>
                <a:srgbClr val="000000"/>
              </a:solidFill>
              <a:latin typeface="Calibri"/>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Намената на Прирачникот</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нема за цел да послужи како детално „чекор по чекор“ упатство за тоа како да се постапува со електронските докази во сите фази на истрагат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исто така содржи преглед на прашањата кои се однесуваат електронските докази и обезбедува сеопфатни совети за ваквите прашањ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ниците на Прирачникот треба да истражат дали на национално ниво веќе постојат насоки за дадената област.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ва е сепак основен Прирачник; има и прирачници кои се подетални и нудат практични совети за специјализирани експерти.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За кого е наменет Прирачникот?</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наменет за користење во земјите кои подготвуваат одговор на компјутерскиот криминал и кои ги воспоставуваат правилата и протоколите за постапување со електронски докази.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јголем дел од постоечките прирачници се наменети за органите за спроведување на законот.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ој Прирачник е наменет за поширок круг на корисници, како што се судии, обвинители и останатите кои работата во правосудниот систем, како што се приватни истражители, адвокати, нотари и стручните правосудни служби.</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Како да се користи Прирачникот?</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Прирачник е наменет за оние кои наидуваат на извори на електронски докази во текот на нивното работење и кои ќе ги користат информациите добиени од таквите извори во правосудниот систем на нивната земја или во правосудниот систем на друга земја.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треба да се користи како пример кој може да се адаптира и да се прилагоди на потребите на земјите во склад со нивното законодавство, политика и постапки.</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рачникот дава основни начела кои го водат корисникот. Овие начела се во склад со начелата кои се општо прифатени на меѓународно ниво како добри практики за постапување со електронски докази.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рисниците на Прирачникот треба да осигураат дека целосно ги познаваат законите во нивната земја кои се однесуваат на електронските докази и нивната допуштеност. </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ционалното право е примарната норма во сите околности. Не се очекува советите кои се дадени во Прирачникот да бидат во колизија со било кое национално законодавство во однос на практичните аспекти на постапувањето со електронски доказ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29:43Z</dcterms:modified>
  <cp:revision>35</cp:revision>
  <dc:subject/>
  <dc:title>Introductory Cybercrime Training for Judges and Prosecutors</dc:title>
</cp:coreProperties>
</file>