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5FE148-68D3-49E1-B7BC-053925AC54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7DD6E6-B1A9-43B1-8F6B-6B234CD575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Како и во претходните наставни единици, треба да се следи дневниот ред и очекуваните резултати дадени на почетокот на наставната един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083D9D-FCC4-4FAF-A83B-643F025B07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F8C33B-20D3-43F4-980D-DD75583B43D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6F2F-0F8F-4D6D-921E-9873C72E2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3FDE-4545-4A79-B385-48BF9718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26CD-49F4-47CB-AFC1-9FC8DDF9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6646-836E-4F54-BD5F-AA9A0AF4A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97A8-9942-4793-8932-306A4F86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D1C0-18B3-473E-B74F-2D73A5CE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6094-11C9-4708-ABFB-24C190F3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76FA-2EFE-4E72-A21D-CAD52ED6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1D4B-2939-4E7B-AE34-EDC939C7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1399-8706-4C9C-9792-EA3971B6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5012-D480-46A3-A4EF-46A1EE1E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67E1-2B68-4B90-BE5D-815264D8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96847D-33F0-4961-B85E-EF1119A6E3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4430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898989"/>
                </a:solidFill>
                <a:latin typeface="Calibri"/>
              </a:rPr>
              <a:t>Наставна единица 1.3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898989"/>
                </a:solidFill>
                <a:latin typeface="Calibri"/>
              </a:rPr>
              <a:t>Дневен прегле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  <p:sp>
        <p:nvSpPr>
          <p:cNvPr id="50" name="Title 1"/>
          <p:cNvSpPr/>
          <p:nvPr/>
        </p:nvSpPr>
        <p:spPr>
          <a:xfrm>
            <a:off x="755640" y="1773360"/>
            <a:ext cx="777240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4300" spc="-1" strike="noStrike">
                <a:solidFill>
                  <a:srgbClr val="000000"/>
                </a:solidFill>
                <a:latin typeface="Calibri"/>
              </a:rPr>
              <a:t>Обука за органите за спроведување на законот како дел од првата екипа на местото на настанот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6840" y="1235160"/>
            <a:ext cx="85122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По предавањето на наставната единица слушателите ќе можа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ги идентификуваат областите опфатени со активностите од претходниот ден кои слушателите ги разбрал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ги идентификуваат областите за кои слушателите треба уште еднаш да го поминат материјалот за да го постигнат потребното ниво на знае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Очекувани резулта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Дневен ре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530000"/>
            <a:ext cx="851364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3200" spc="-1" strike="noStrike">
                <a:solidFill>
                  <a:srgbClr val="000000"/>
                </a:solidFill>
                <a:latin typeface="Calibri"/>
              </a:rPr>
              <a:t>Теми опфатени со предавањата од вториот д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Претрес и запле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Кој учествува и што треба да се зем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Обезбедување и документирање на местото на настан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Претрес и запле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Во ситуација на анализа на уреди од самото место на настан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Во ситуација на проток на живи инфор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3074760" y="45007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5400" spc="-1" strike="noStrike">
                <a:solidFill>
                  <a:srgbClr val="000000"/>
                </a:solidFill>
                <a:latin typeface="Calibri"/>
              </a:rPr>
              <a:t>Прашањ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1:04:42Z</dcterms:created>
  <dc:creator>Nigel Jones</dc:creator>
  <dc:description/>
  <dc:language>en-US</dc:language>
  <cp:lastModifiedBy>Daniela</cp:lastModifiedBy>
  <dcterms:modified xsi:type="dcterms:W3CDTF">2013-07-25T00:49:13Z</dcterms:modified>
  <cp:revision>17</cp:revision>
  <dc:subject/>
  <dc:title>Introductory Cybercrime Training for Judges and Prosecutors</dc:title>
</cp:coreProperties>
</file>