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88543-8940-46B1-98DB-87D9412D4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A5C51-C861-4F6C-9325-C69AA1591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6D712-862C-410F-9466-10B8D62C5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B98F9-4F88-4A71-BF5A-928CDA55DD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A5E-4C69-4CD1-8FF8-2908EB8C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51D-7B56-4EC0-97E9-5A1418F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CF4-176A-4A8B-B679-270AE66B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369-EA12-4B96-AFD3-2EA6A3A3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097-318E-4405-A116-30A12147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936-BD3F-4D8E-A348-AEDED9DA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2B6-30E6-4B2B-99C2-3B046251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C5F-9789-4C72-9C00-9D020777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496-B2DC-4A36-AB1D-0CF14BAC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691-C708-48D9-9C9A-BD1B606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AC8-DF96-4A42-B4E1-6987109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F09-5BDF-4D14-B820-FD4605F6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5FDBF-F320-41E5-9DE5-35A9FBFF2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43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755640" y="1773360"/>
            <a:ext cx="77724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3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30000"/>
            <a:ext cx="85136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втор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Кој учествува и што треба да се зе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безбедување и документирање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анализа на уреди од самото мес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проток на живи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dcterms:modified xsi:type="dcterms:W3CDTF">2013-07-25T00:49:13Z</dcterms:modified>
  <cp:revision>17</cp:revision>
  <dc:subject/>
  <dc:title>Introductory Cybercrime Training for Judges and Prosecutors</dc:title>
</cp:coreProperties>
</file>