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54.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63.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2.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3F778-B7B5-4F31-872F-AB918211E9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50E88A-7662-4A3C-8E87-049CFE576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Целта на оваа групна активност е да се развие дискусија меѓу слушателите во групата за информациите за осомниченото лице кои може да се бараат. Исто така е важно да се идентификуваат можните извори на информаци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о дискусијата меѓу слушателите во групата, тие треба да презентираат список на информации кои може да се добијат од различни извори на информаци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д групите се очекува да ги наведат сите извори на информации за осомниченото лице, со фокус врз интернетот како извор на информаци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крајот од оваа практична вежба, групите треба да се согласат за списокот на извори на информации и информациите кои треба да се земат предвид пред да почне фазата на планирање и подготовка за претресот и заплената.  </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CE660-F72E-4985-9B47-DCAE2A2605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EC7EA4-EB9F-4CC7-9A67-4813FD8AFB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Замислете интернет услуга што чува необработени податоци на Амазон Ѕ3, користи автентикација од Фејсбук, плаќања преку ПејПал и обезбедува туркање на информации во реално време за релевантната активност на своите претплатени корисници преку Твитер.</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аќање докази од интернет</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2E475-096F-4CB3-9CE1-7F82CF3C6B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CABE2-2B51-4367-B29C-3FE46EF9EF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DABB25-E69A-426D-A04F-E52C63733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лку е вешт осомничениот?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9AFCBB-C7DD-46F6-B677-BDC29C8AE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41086-DC3F-4541-A4C4-E8ADAC4FE2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властување кое ќе биде потребно за изведување на активноста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197CD-D710-454D-8064-5A011DCB6B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о предавањето на оваа наставна единица слушателите ќе можат: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рашања</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62931-C6AD-48B0-A1E6-E4132027A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42A9CA-7768-4D7B-B4DA-1EC182841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6A405-F815-4FAE-AC2F-09D14FC58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2C7B6-EEAE-4881-9404-13FEFE6A9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B1AEC-590B-44F4-BAB3-CD5354B30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3CD8A-F1FA-4CE4-A900-E85F59D1E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5940A-9C93-4DC8-9266-E0A284262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070EE-DC46-4721-944B-2ADC6E3B6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82924-9D9C-41F0-8717-E72139B15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ADC4C-EBBB-4FEE-8F20-3DB24A1A9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635EF-D38A-4E42-8152-ED78FDDC6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059F8-3331-4B10-979F-BF9636E85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FF2EB-40B7-46AA-9CB6-CB32C958E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26FA3-B508-40A7-A510-C55730C14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7905A-CC07-4B58-9AEA-A1B540B4E28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D49FE-F9AB-4EB4-BFCB-7C434EF6F3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nsstuff.com/" TargetMode="External"/><Relationship Id="rId2" Type="http://schemas.openxmlformats.org/officeDocument/2006/relationships/hyperlink" Target="http://www.domaintools.com/" TargetMode="External"/><Relationship Id="rId3" Type="http://schemas.openxmlformats.org/officeDocument/2006/relationships/hyperlink" Target="http://www.centralops.net/"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117A7-F089-4BD9-84C2-62631B9830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50" name="PlaceHolder 2"/>
          <p:cNvSpPr>
            <a:spLocks noGrp="1"/>
          </p:cNvSpPr>
          <p:nvPr>
            <p:ph type="subTitle"/>
          </p:nvPr>
        </p:nvSpPr>
        <p:spPr>
          <a:xfrm>
            <a:off x="685440" y="3886200"/>
            <a:ext cx="8001000" cy="2470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1.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898989"/>
                </a:solidFill>
                <a:latin typeface="Calibri"/>
              </a:rPr>
              <a:t>Електронски докази</a:t>
            </a:r>
            <a:endParaRPr b="0" lang="en-US" sz="3200" spc="-1" strike="noStrike">
              <a:solidFill>
                <a:srgbClr val="000000"/>
              </a:solidFill>
              <a:latin typeface="Calibri"/>
            </a:endParaRPr>
          </a:p>
        </p:txBody>
      </p:sp>
      <p:pic>
        <p:nvPicPr>
          <p:cNvPr id="51"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Истрага</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6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Пред да се започне со планирање и подготовка на претресот, прво треба да се изработи профилот на осомничениот и да се анализа ситуацијата, со одговор на следниве прашања:</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ој? Кого барате?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Што? За какво дело се работи и што точно е предметот на истрагат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аде? Каде се одвива претресот и на која локацијат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ога? За кога е планиран претресот и кога истиот треба да се испланира?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ако? Како ќе дојдете на местото на настанот и како ќе го спроведете претресот?</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говорите на овие прашања ќе ни дадат подобра слика за ситуацијата, а нашите активности ќе ги планираме според одговорите на овие прашањ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966501-6925-4D4B-931B-08AE57FD1B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Работа во групи </a:t>
            </a:r>
            <a:endParaRPr b="0" lang="en-US" sz="4400" spc="-1" strike="noStrike">
              <a:solidFill>
                <a:srgbClr val="000000"/>
              </a:solidFill>
              <a:latin typeface="Calibri"/>
            </a:endParaRPr>
          </a:p>
        </p:txBody>
      </p:sp>
      <p:sp>
        <p:nvSpPr>
          <p:cNvPr id="79"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поред вашето искуство, каде може да се побараат информации за осомниченото лице?</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184F4-C4E4-48DA-BC42-02995CD79E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31840" y="274320"/>
            <a:ext cx="874872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Прибирање на информации за осомничениот од отворени извори</a:t>
            </a:r>
            <a:endParaRPr b="0" lang="en-US" sz="36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формации за осомничениот од интернет провајдерот или од компаниите за хостирање ; треба да разбереме дека овие информации сами по себе не се доволни за да се идентификува осомниченото лице. Треба да се обидеме да најдеме и прибереме повеќе информации.  </a:t>
            </a:r>
            <a:endParaRPr b="0" lang="en-US" sz="24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ма различни налини да се приберат информации. Корисно е да се провери дали за осомничениот има податоци во постоечката полициска база на податоци, затоа што можеби е познат за слични дела, а друга можност е да се поверат отворените бази на податоци:  </a:t>
            </a:r>
            <a:r>
              <a:rPr b="1" i="1" lang="mk-MK" sz="2400" spc="-1" strike="noStrike">
                <a:solidFill>
                  <a:srgbClr val="000000"/>
                </a:solidFill>
                <a:latin typeface="Calibri"/>
              </a:rPr>
              <a:t>Интерне</a:t>
            </a:r>
            <a:r>
              <a:rPr b="0" lang="mk-MK" sz="2400" spc="-1" strike="noStrike">
                <a:solidFill>
                  <a:srgbClr val="000000"/>
                </a:solidFill>
                <a:latin typeface="Calibri"/>
              </a:rPr>
              <a:t>т</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9F1881-9DE8-4741-82FA-4BC3B8BD52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еземање на докази од јавно достапни информации на интерне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окази од тајни истраги на интерне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Ова бара поинакви познавања и вештини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Бара посебно законодавство и постапк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4E140-10F1-4714-885F-0AEE00D88D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Фаќање докази од интерне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окази од „интернет комбинирано програмирање“ </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омбинација </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Визуелизација </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 </a:t>
            </a:r>
            <a:r>
              <a:rPr b="0" lang="mk-MK" sz="2800" spc="-1" strike="noStrike">
                <a:solidFill>
                  <a:srgbClr val="000000"/>
                </a:solidFill>
                <a:latin typeface="Calibri"/>
              </a:rPr>
              <a:t>собирање</a:t>
            </a:r>
            <a:endParaRPr b="0" lang="en-US" sz="2800" spc="-1" strike="noStrike">
              <a:solidFill>
                <a:srgbClr val="000000"/>
              </a:solidFill>
              <a:latin typeface="Calibri"/>
            </a:endParaRPr>
          </a:p>
          <a:p>
            <a:pPr lvl="1" marL="646200" indent="-248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46200" indent="-248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Сите овие „онлајн докази“ бараат посебни постапки за прибирање за да се гранатира допуштеноста на доказите кои ќе произлезат. </a:t>
            </a:r>
            <a:endParaRPr b="0" lang="en-US" sz="2400" spc="-1" strike="noStrike">
              <a:solidFill>
                <a:srgbClr val="000000"/>
              </a:solidFill>
              <a:latin typeface="Calibri"/>
            </a:endParaRPr>
          </a:p>
          <a:p>
            <a:pPr lvl="1" marL="646200" indent="-248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646200" indent="-248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Не сите онлајн информации можат да бидат докази!</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D5014-6F4E-434B-8BCB-22F8A6C930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Фаќање докази од интерне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ИП за Интернет протокол</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Интернет протоколот е одговорен за упатување на податочни пакети од изворот до дестинацијата, каде и изворот и дестинацијата се хостирани на локации идентификувани со адреса со точно определена должина. </a:t>
            </a:r>
            <a:endParaRPr b="0" lang="en-US" sz="2200" spc="-1" strike="noStrike">
              <a:solidFill>
                <a:srgbClr val="000000"/>
              </a:solidFill>
              <a:latin typeface="Calibri"/>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Форматот на IPv4 адресата е 32-битна нумеричка адреса напишана како четири бројки одвоен со точки. Секој број може да биде од 0 до 255. Пример за ИП адреса: 68.160.10.240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IPv6 адреса се состои од осум групи од по четири хексадецимални бројки. Секоја група е одвоена со две точки(на пример 2001:0db8:85a3:0042:0000:8a2e:0370:7334).</a:t>
            </a:r>
            <a:endParaRPr b="0" lang="en-US" sz="2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D8AB4-69D4-42D5-B2EF-BAF87BAA36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ИП за Интернет протокол</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Агенцијата за доделување на броеви на интернет (ИАНА) ги регулира овие ИП адреси. Меѓу другите работи, нејзината задача е да го координира ИП адресирањето преку регионално тела лоцирани низ светот познати како Регионални интернет регистри (РИР):</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RIPE (Европа и некои делови на Азиј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APNIC (Азија и Пацифичкиот регион)</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ARIN (Северна Америк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LACNIC (Латинска Америка и Карибите)</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AfriNIC (Африк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ED8DD-B32B-45EF-AFC6-B0F1223FF6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ИП за Интернет протокол</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Улога на Провајдерот на интернет услуги</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Опсег на ИП адрес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DHCP- Протокол за динамична конфигурација на домаќинот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Разликата меѓу динамични и статични ИП адрес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 10.0.0.0 до 10.255.255.255 – класа 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 172.16.0.0 до 172.31.255.255 – класа B</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 192.168.0.0 до 192.168.255.255 – класа 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28BDAE-0D8C-45AA-B9DF-26B9F06BD8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ДНС за Доменски именски систем</a:t>
            </a: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о имињата на домените управуваат регистратори кои мора да се акредитирани од </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 </a:t>
            </a:r>
            <a:r>
              <a:rPr b="0" lang="mk-MK" sz="2000" spc="-1" strike="noStrike">
                <a:solidFill>
                  <a:srgbClr val="000000"/>
                </a:solidFill>
                <a:latin typeface="Calibri"/>
              </a:rPr>
              <a:t>Интернет корпорацијата за доделени имиња и броеви (ICANN; </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Регистри наведени од ИАНА (Агенција за доделување на броеви на интернет)</a:t>
            </a:r>
            <a:endParaRPr b="0" lang="en-US" sz="2000" spc="-1" strike="noStrike">
              <a:solidFill>
                <a:srgbClr val="000000"/>
              </a:solidFill>
              <a:latin typeface="Calibri"/>
            </a:endParaRPr>
          </a:p>
          <a:p>
            <a:pPr lvl="1" marL="720720" indent="-27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20720" indent="-27720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За генерички домени од врвно ниво (gTLDs), како што се .com, .net, .org, .biz, и други, ICANN ги акредитира самите Регистри.</a:t>
            </a:r>
            <a:endParaRPr b="0" lang="en-US" sz="1800" spc="-1" strike="noStrike">
              <a:solidFill>
                <a:srgbClr val="000000"/>
              </a:solidFill>
              <a:latin typeface="Calibri"/>
            </a:endParaRPr>
          </a:p>
          <a:p>
            <a:pPr lvl="1" marL="720720" indent="-27720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За домените од врвно ниво со кодот на земјата (ccTLFDs) како што се .us, .uk, .de, .ie, и други ИАНА го делегира регистрирањето.</a:t>
            </a:r>
            <a:endParaRPr b="0" lang="en-US" sz="18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околку името на доменот не е регистрирано од компанија за заштита на приватноста, овие регистри можат да чуваат вредни информации за сопственикот на името на доменот. </a:t>
            </a:r>
            <a:endParaRPr b="0" lang="en-US" sz="24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38FB4-6D38-47E6-A8CB-FCC40FA565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УРИ за Униформен идентификатор на ресурси</a:t>
            </a:r>
            <a:endParaRPr b="0" lang="en-US" sz="4000" spc="-1" strike="noStrike">
              <a:solidFill>
                <a:srgbClr val="000000"/>
              </a:solidFill>
              <a:latin typeface="Calibri"/>
            </a:endParaRPr>
          </a:p>
        </p:txBody>
      </p:sp>
      <p:sp>
        <p:nvSpPr>
          <p:cNvPr id="103" name=""/>
          <p:cNvSpPr txBox="1"/>
          <p:nvPr/>
        </p:nvSpPr>
        <p:spPr>
          <a:xfrm>
            <a:off x="163440" y="1600200"/>
            <a:ext cx="870768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Светската мрежа (World Wide Web (WWW)) е систем на поврзани документи на кои може да им се пристапи преку интернет.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Овие документи не се вообичаени текст документи, туку хипертекст документи, познати како веб страници.</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Хипертекстот овозможува да се поврзат документите кои може да бидат чувани на различни компјутери низ светот.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Веб страниците вообичаено се пишуваат со она што вообичаено се нарекува HTML код и можат да содржат различни видови на информации.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Веб страниците вообичаено се групирани на она што е познато како веб локации. </a:t>
            </a:r>
            <a:endParaRPr b="0" lang="en-US" sz="1900" spc="-1" strike="noStrike">
              <a:solidFill>
                <a:srgbClr val="000000"/>
              </a:solidFill>
              <a:latin typeface="Calibri"/>
            </a:endParaRPr>
          </a:p>
          <a:p>
            <a:pPr marL="343080" indent="-3430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000000"/>
                </a:solidFill>
                <a:latin typeface="Calibri"/>
              </a:rPr>
              <a:t>Структура на URL: </a:t>
            </a:r>
            <a:r>
              <a:rPr b="1" lang="mk-MK" sz="1900" spc="-1" strike="noStrike" u="sng">
                <a:solidFill>
                  <a:srgbClr val="7f9698"/>
                </a:solidFill>
                <a:uFillTx/>
                <a:latin typeface="Calibri"/>
              </a:rPr>
              <a:t>h</a:t>
            </a:r>
            <a:r>
              <a:rPr b="1" lang="mk-MK" sz="1900" spc="-1" strike="noStrike" u="sng">
                <a:solidFill>
                  <a:srgbClr val="0000ff"/>
                </a:solidFill>
                <a:uFillTx/>
                <a:latin typeface="Calibri"/>
              </a:rPr>
              <a:t>ttp://www.name-of-the-website.com/name-of-the-webpage.ht</a:t>
            </a:r>
            <a:r>
              <a:rPr b="1" lang="mk-MK" sz="1900" spc="-1" strike="noStrike">
                <a:solidFill>
                  <a:srgbClr val="000000"/>
                </a:solidFill>
                <a:latin typeface="Calibri"/>
              </a:rPr>
              <a:t>m</a:t>
            </a:r>
            <a:endParaRPr b="0" lang="en-US" sz="19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973CD-AB6D-4FDE-8C8B-62D69803FF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C8054-D45E-4C1E-8C5E-E2C267CF17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54"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потенцијалните докази и извори на докази на интернет</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елотворно да ги завршат подготовката и планирањето на претресот и заплената на електронски докази</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овластувањата и одобрувањата во постапката за претрес и заплена на електронски докази. </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улогата на надворешните специјализирани вешти лица.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ИП и ДНС записи во онлајн истраги</a:t>
            </a:r>
            <a:endParaRPr b="0" lang="en-US" sz="3600" spc="-1" strike="noStrike">
              <a:solidFill>
                <a:srgbClr val="000000"/>
              </a:solidFill>
              <a:latin typeface="Calibri"/>
            </a:endParaRPr>
          </a:p>
        </p:txBody>
      </p:sp>
      <p:sp>
        <p:nvSpPr>
          <p:cNvPr id="106" name=""/>
          <p:cNvSpPr txBox="1"/>
          <p:nvPr/>
        </p:nvSpPr>
        <p:spPr>
          <a:xfrm>
            <a:off x="457200" y="1600200"/>
            <a:ext cx="8229600" cy="47563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www.dnsstuff.co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2"/>
              </a:rPr>
              <a:t>www.domaintools.co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3"/>
              </a:rPr>
              <a:t>www.centralops.net</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Кој е пребарување (Whois)</a:t>
            </a:r>
            <a:r>
              <a:rPr b="0" lang="mk-MK" sz="2000" spc="-1" strike="noStrike" u="sng">
                <a:solidFill>
                  <a:srgbClr val="000000"/>
                </a:solidFill>
                <a:uFillTx/>
                <a:latin typeface="Calibri"/>
              </a:rPr>
              <a:t> </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Обратно Кој е пребарување (Reverse Whois)</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ИП Пребарување</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IP Lookup</a:t>
            </a:r>
            <a:endParaRPr b="0" lang="en-US" sz="2000" spc="-1" strike="noStrike">
              <a:solidFill>
                <a:srgbClr val="000000"/>
              </a:solidFill>
              <a:latin typeface="Calibri"/>
            </a:endParaRPr>
          </a:p>
          <a:p>
            <a:pPr marL="318960" indent="-31896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ДНС записите се менуваат од време на време</a:t>
            </a:r>
            <a:r>
              <a:rPr b="0" lang="en-US" sz="2000" spc="-1" strike="noStrike">
                <a:solidFill>
                  <a:srgbClr val="000000"/>
                </a:solidFill>
                <a:latin typeface="Calibri"/>
              </a:rPr>
              <a:t>.</a:t>
            </a:r>
            <a:endParaRPr b="0" lang="en-US" sz="2000" spc="-1" strike="noStrike">
              <a:solidFill>
                <a:srgbClr val="000000"/>
              </a:solidFill>
              <a:latin typeface="Calibri"/>
            </a:endParaRPr>
          </a:p>
          <a:p>
            <a:pPr marL="318960" indent="-31896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mk-MK" sz="2000" spc="-1" strike="noStrike">
                <a:solidFill>
                  <a:srgbClr val="000000"/>
                </a:solidFill>
                <a:latin typeface="Calibri"/>
              </a:rPr>
              <a:t>Достапни информации поврзани со одредена ИП адреса: </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ој е регистраторот</a:t>
            </a:r>
            <a:endParaRPr b="0" lang="en-US" sz="20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земјата, обратен ДНС и блок опсегот на ИП на кој му припаѓа</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 </a:t>
            </a:r>
            <a:r>
              <a:rPr b="0" lang="mk-MK" sz="1600" spc="-1" strike="noStrike">
                <a:solidFill>
                  <a:srgbClr val="000000"/>
                </a:solidFill>
                <a:latin typeface="Calibri"/>
              </a:rPr>
              <a:t>физичка локација во одредена земја </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 </a:t>
            </a:r>
            <a:r>
              <a:rPr b="0" lang="mk-MK" sz="1600" spc="-1" strike="noStrike">
                <a:solidFill>
                  <a:srgbClr val="000000"/>
                </a:solidFill>
                <a:latin typeface="Calibri"/>
              </a:rPr>
              <a:t>гео-лоцирање (не секогаш точно) со определување на градот </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 </a:t>
            </a:r>
            <a:r>
              <a:rPr b="0" lang="mk-MK" sz="1600" spc="-1" strike="noStrike">
                <a:solidFill>
                  <a:srgbClr val="000000"/>
                </a:solidFill>
                <a:latin typeface="Calibri"/>
              </a:rPr>
              <a:t>географска ширина и должина</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4A1B3-EDA4-4407-94E8-D05407EBDD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Национални провајдери на интернет услуги</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ибирање информации од националниот Провајдер на интернет услуги</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формации за претплатникот (регистрираниот сопственик на врската, адреса на конекцијата, информации за плаќање сметки, телефонски број, итн.)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формации за трансакциите (време на конектирање, датум на конектирање, користени ИП адреси, итн.)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одржина (ова не е секогаш достапно), најголем дел од провајдерите обезбедуваат бесплатни сметки за електронска пошта, различни услуги. Од провајдерите може да се добијат пораките од електронската пошта или други услуги. </a:t>
            </a:r>
            <a:endParaRPr b="0" lang="en-US" sz="2400" spc="-1" strike="noStrike">
              <a:solidFill>
                <a:srgbClr val="000000"/>
              </a:solidFill>
              <a:latin typeface="Calibri"/>
            </a:endParaRPr>
          </a:p>
          <a:p>
            <a:pPr lvl="1" marL="698400" indent="-268560" algn="ctr">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ако да ги добиеме таквите информации?</a:t>
            </a:r>
            <a:endParaRPr b="0" lang="en-US" sz="20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A6E09-B072-480C-AF75-BE37E9D771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Меѓународни провајдери на интернет услуги</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Информации од Провајдерите на интернет услуги</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ИП адреси</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Локација на прво користење</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Локација на последно користење</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Записи од активности</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Друго</a:t>
            </a:r>
            <a:endParaRPr b="0" lang="en-US" sz="2600" spc="-1" strike="noStrike">
              <a:solidFill>
                <a:srgbClr val="000000"/>
              </a:solidFill>
              <a:latin typeface="Calibri"/>
            </a:endParaRPr>
          </a:p>
          <a:p>
            <a:pPr lvl="1" marL="690840" indent="-2656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ако да ги добиеме таквите информации?</a:t>
            </a:r>
            <a:endParaRPr b="0" lang="en-US" sz="2400" spc="-1" strike="noStrike">
              <a:solidFill>
                <a:srgbClr val="000000"/>
              </a:solidFill>
              <a:latin typeface="Calibri"/>
            </a:endParaRPr>
          </a:p>
          <a:p>
            <a:pPr lvl="1" marL="690840" indent="-2656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онвенцијата од Будимпешта против компјутерски криминал </a:t>
            </a:r>
            <a:endParaRPr b="0" lang="en-US" sz="2400" spc="-1" strike="noStrike">
              <a:solidFill>
                <a:srgbClr val="000000"/>
              </a:solidFill>
              <a:latin typeface="Calibri"/>
            </a:endParaRPr>
          </a:p>
          <a:p>
            <a:pPr lvl="1" marL="690840" indent="-2656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ористење на судска наредба или барање за заемна правна помош</a:t>
            </a:r>
            <a:endParaRPr b="0" lang="en-US" sz="2400" spc="-1" strike="noStrike">
              <a:solidFill>
                <a:srgbClr val="000000"/>
              </a:solidFill>
              <a:latin typeface="Calibri"/>
            </a:endParaRPr>
          </a:p>
          <a:p>
            <a:pPr lvl="1" marL="690840" indent="-265680">
              <a:spcBef>
                <a:spcPts val="7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46262-312D-4081-B732-14206421E0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457200" y="18298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езависни носителите на податоци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егување на соработка меѓу независните носители на податоци и органите за спроведување на законо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чувување на податоц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обивање на информативни извештаи за компјутерски криминал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402C3C-5F18-4F13-A141-752842AFEB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6"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атоци во посед на трети стран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Обична веб локација</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зворен код</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оментари на кодот</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криени полиња</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Упатувања на надворешен сајт</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Онлајн реклам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одови за автентикација на домен</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WebSense / AdSense / SearchSense кодов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Метаподатоци (на пр. креирање/последна измена)</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Претходни верзии на archive.or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6B6C8-384C-4780-A114-9A44E901D2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ајтови на социјални мрежи</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Изворен код</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Интерни идентификаци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одсистем за разговор</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WebSense / AdSense / SearchSense кодов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Метаподатоци (на пр. креирање/последна измен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E30F8-1C03-4EC9-AAF4-CC52FC2B8A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ајтови на социјални мрежи</a:t>
            </a:r>
            <a:endParaRPr b="0" lang="en-US" sz="32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600" spc="-1" strike="noStrike">
                <a:solidFill>
                  <a:srgbClr val="000000"/>
                </a:solidFill>
                <a:latin typeface="Calibri"/>
              </a:rPr>
              <a:t>Интерни идентификации: </a:t>
            </a:r>
            <a:r>
              <a:rPr b="0" lang="mk-MK" sz="1600" spc="-1" strike="noStrike">
                <a:solidFill>
                  <a:srgbClr val="000000"/>
                </a:solidFill>
                <a:latin typeface="Calibri"/>
              </a:rPr>
              <a:t>Овие веб локации во голема мерка користат внатрешна идентификација за да следат сè (корисници, слики, онлајн разговори, сесии, групи, кликање на „ми се допаѓа/не ми се допаѓа“, итн.) и овие интерни идентификации најчесто се однесуваат на интерни идентификации кои му се достапни на провајдерот. </a:t>
            </a:r>
            <a:br>
              <a:rPr sz="1600"/>
            </a:br>
            <a:r>
              <a:rPr b="1" lang="mk-MK" sz="1600" spc="-1" strike="noStrike">
                <a:solidFill>
                  <a:srgbClr val="000000"/>
                </a:solidFill>
                <a:latin typeface="Calibri"/>
              </a:rPr>
              <a:t> </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600" spc="-1" strike="noStrike">
                <a:solidFill>
                  <a:srgbClr val="000000"/>
                </a:solidFill>
                <a:latin typeface="Calibri"/>
              </a:rPr>
              <a:t>Разговор. </a:t>
            </a:r>
            <a:r>
              <a:rPr b="0" lang="mk-MK" sz="1600" spc="-1" strike="noStrike">
                <a:solidFill>
                  <a:srgbClr val="000000"/>
                </a:solidFill>
                <a:latin typeface="Calibri"/>
              </a:rPr>
              <a:t>Овие сајтови обично нудат услуги за разговор и тие обично нудат информации со голем квалитет ако се обработат адекватно. Клучниот елемент во сите веб-интерактивни елементи што истражителот ќе сака да ги обезбеди е да се соберат колку што е можно повеќе податоци, а не само резултатите кои на крај се изведени од интернет пребарувачот.</a:t>
            </a:r>
            <a:r>
              <a:rPr b="1" lang="mk-MK" sz="1600" spc="-1" strike="noStrike">
                <a:solidFill>
                  <a:srgbClr val="000000"/>
                </a:solidFill>
                <a:latin typeface="Calibri"/>
              </a:rPr>
              <a:t> </a:t>
            </a:r>
            <a:endParaRPr b="0" lang="en-US" sz="1600" spc="-1" strike="noStrike">
              <a:solidFill>
                <a:srgbClr val="000000"/>
              </a:solidFill>
              <a:latin typeface="Calibri"/>
            </a:endParaRPr>
          </a:p>
          <a:p>
            <a:pPr lvl="1" marL="683280" indent="-2628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600" spc="-1" strike="noStrike">
                <a:solidFill>
                  <a:srgbClr val="000000"/>
                </a:solidFill>
                <a:latin typeface="Calibri"/>
              </a:rPr>
              <a:t>Слики. </a:t>
            </a:r>
            <a:r>
              <a:rPr b="0" lang="mk-MK" sz="1600" spc="-1" strike="noStrike">
                <a:solidFill>
                  <a:srgbClr val="000000"/>
                </a:solidFill>
                <a:latin typeface="Calibri"/>
              </a:rPr>
              <a:t>Иако сајтовите од висок профил воведуваат филтри за „прочистување“ за сликите што се ставаат, истражителот и понатаму може да наиде на некои социјални сајтови и други сајтови кои директно објавуваат поставени слики и да ги извлечат сите релевантни EXIF метаподатоци. </a:t>
            </a:r>
            <a:br>
              <a:rPr sz="1600"/>
            </a:br>
            <a:br>
              <a:rPr sz="1600"/>
            </a:br>
            <a:r>
              <a:rPr b="1" lang="mk-MK" sz="1600" spc="-1" strike="noStrike">
                <a:solidFill>
                  <a:srgbClr val="000000"/>
                </a:solidFill>
                <a:latin typeface="Calibri"/>
              </a:rPr>
              <a:t> </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46FB8-F449-45B3-B812-56310CCD92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ајтови за блогирање </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и идентификации (blogID, userI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одови за автентикација на домен</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Твитер</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Фејсбук</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Твитер</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Пикаса / Фликр</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УРЛ-скратувач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Метаподатоци (на пр. креирање/последна измен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FE0AEE-4358-43AA-9EA6-DE13377516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P2P мрежи кои споделуваат датотек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ИП</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Порти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тум на </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реирање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a:t>
            </a:r>
            <a:r>
              <a:rPr b="0" lang="mk-MK" sz="2800" spc="-1" strike="noStrike">
                <a:solidFill>
                  <a:srgbClr val="000000"/>
                </a:solidFill>
                <a:latin typeface="Calibri"/>
              </a:rPr>
              <a:t>ктивности</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E7BE1D-7C80-42F8-93BF-8AF049BF16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4" descr=""/>
          <p:cNvPicPr/>
          <p:nvPr/>
        </p:nvPicPr>
        <p:blipFill>
          <a:blip r:embed="rId1"/>
          <a:stretch/>
        </p:blipFill>
        <p:spPr>
          <a:xfrm>
            <a:off x="3376440" y="2120760"/>
            <a:ext cx="5767560" cy="4235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одатоци наспроти докази</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За што ви требаат податоците?</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Од каде доаѓаат податоците?</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али сте сигурни во интегритетот на овие податоц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али сте сигурни во целовитоста на овие податоц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али сте сигурни дека нема други податоци за кои не сте свесн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826905-1CD6-4ED9-BCF7-40B9ACF5B2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Целта на собирање на докази</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По заплената на доказите, обвинителот на судот треба да му докаже дека изведените докази не се ништо повеќе или помалку од она што биле кога биле прибрани.  </a:t>
            </a:r>
            <a:endParaRPr b="0" lang="en-US" sz="28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7ED7C-F867-4564-B345-1466482E46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одатоци наспроти докази</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 </a:t>
            </a:r>
            <a:r>
              <a:rPr b="0" lang="mk-MK" sz="3200" spc="-1" strike="noStrike">
                <a:solidFill>
                  <a:srgbClr val="000000"/>
                </a:solidFill>
                <a:latin typeface="Calibri"/>
              </a:rPr>
              <a:t>Дали слика на состојбата на сајтот може да биде доказ?</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опирајте го изворниот код</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Софтвер за снимање на екранот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реирање на дупликат на веб локацијата кој може да се гледа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ограма HTTrack Website Copier</a:t>
            </a:r>
            <a:endParaRPr b="0" lang="en-US" sz="24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45AC9-4D9C-4380-A896-FF5BCCE9FC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рикриени онлајн истраги</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ајниот агент од органите за спроведување на законот мора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 биде соодветно обучен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 е компетентен и овластен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за онлајн истрага</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работејќи на прикриен начин преку интернет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Настојувајќи да прибере </a:t>
            </a:r>
            <a:endParaRPr b="0" lang="en-US" sz="2800" spc="-1" strike="noStrike">
              <a:solidFill>
                <a:srgbClr val="000000"/>
              </a:solidFill>
              <a:latin typeface="Calibri"/>
            </a:endParaRPr>
          </a:p>
          <a:p>
            <a:pPr lvl="2" marL="1062720" indent="-212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 </a:t>
            </a:r>
            <a:r>
              <a:rPr b="0" lang="mk-MK" sz="2400" spc="-1" strike="noStrike">
                <a:solidFill>
                  <a:srgbClr val="000000"/>
                </a:solidFill>
                <a:latin typeface="Calibri"/>
              </a:rPr>
              <a:t>Информации</a:t>
            </a:r>
            <a:endParaRPr b="0" lang="en-US" sz="2400" spc="-1" strike="noStrike">
              <a:solidFill>
                <a:srgbClr val="000000"/>
              </a:solidFill>
              <a:latin typeface="Calibri"/>
            </a:endParaRPr>
          </a:p>
          <a:p>
            <a:pPr lvl="2" marL="1062720" indent="-212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Разузнавачки информации, или </a:t>
            </a:r>
            <a:endParaRPr b="0" lang="en-US" sz="2400" spc="-1" strike="noStrike">
              <a:solidFill>
                <a:srgbClr val="000000"/>
              </a:solidFill>
              <a:latin typeface="Calibri"/>
            </a:endParaRPr>
          </a:p>
          <a:p>
            <a:pPr lvl="2" marL="1062720" indent="-212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докази против некое лице, група или организација</a:t>
            </a:r>
            <a:endParaRPr b="0" lang="en-US" sz="24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2A2C2-D346-4816-AD06-6C72EAADB9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Фејсбук</a:t>
            </a:r>
            <a:endParaRPr b="0" lang="en-US" sz="4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0F42AC-AC07-4058-B729-D36FEF2D9B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9" descr="C:\Users\Marjan\Desktop\Oslo TOT\Fb1.jpg"/>
          <p:cNvPicPr/>
          <p:nvPr/>
        </p:nvPicPr>
        <p:blipFill>
          <a:blip r:embed="rId1"/>
          <a:stretch/>
        </p:blipFill>
        <p:spPr>
          <a:xfrm>
            <a:off x="392040" y="1924200"/>
            <a:ext cx="8294760" cy="413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Фејсбук</a:t>
            </a:r>
            <a:endParaRPr b="0" lang="en-US" sz="44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71A4B9-152B-4E25-8649-A8C1B75A38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7" name="Picture 2" descr="C:\Users\Marjan\Desktop\Oslo TOT\Fb2.jpg"/>
          <p:cNvPicPr/>
          <p:nvPr/>
        </p:nvPicPr>
        <p:blipFill>
          <a:blip r:embed="rId1"/>
          <a:stretch/>
        </p:blipFill>
        <p:spPr>
          <a:xfrm>
            <a:off x="380880" y="1992240"/>
            <a:ext cx="8305920" cy="4137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Фејсбук</a:t>
            </a:r>
            <a:endParaRPr b="0" lang="en-US" sz="4400" spc="-1" strike="noStrike">
              <a:solidFill>
                <a:srgbClr val="000000"/>
              </a:solidFill>
              <a:latin typeface="Calibri"/>
            </a:endParaRPr>
          </a:p>
        </p:txBody>
      </p:sp>
      <p:pic>
        <p:nvPicPr>
          <p:cNvPr id="149" name="" descr=""/>
          <p:cNvPicPr/>
          <p:nvPr/>
        </p:nvPicPr>
        <p:blipFill>
          <a:blip r:embed="rId1"/>
          <a:stretch/>
        </p:blipFill>
        <p:spPr>
          <a:xfrm>
            <a:off x="457200" y="1600200"/>
            <a:ext cx="8229600" cy="4525920"/>
          </a:xfrm>
          <a:prstGeom prst="rect">
            <a:avLst/>
          </a:prstGeom>
          <a:ln w="0">
            <a:noFill/>
          </a:ln>
        </p:spPr>
      </p:pic>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4F5C1-42C4-4EDD-ABE5-BDB31A4710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1" name="Picture 10" descr="C:\Users\Marjan\Desktop\Oslo TOT\Fb3.jpg"/>
          <p:cNvPicPr/>
          <p:nvPr/>
        </p:nvPicPr>
        <p:blipFill>
          <a:blip r:embed="rId2"/>
          <a:stretch/>
        </p:blipFill>
        <p:spPr>
          <a:xfrm>
            <a:off x="457200" y="1600200"/>
            <a:ext cx="8327880" cy="4179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Бинг карти</a:t>
            </a:r>
            <a:endParaRPr b="0" lang="en-US" sz="4400" spc="-1" strike="noStrike">
              <a:solidFill>
                <a:srgbClr val="000000"/>
              </a:solidFill>
              <a:latin typeface="Calibri"/>
            </a:endParaRPr>
          </a:p>
        </p:txBody>
      </p:sp>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174BC9-0237-4E1D-A035-0D1F2A98DA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4" name="Picture 4" descr="C:\Users\Marjan\Desktop\Oslo TOT\map1.jpg"/>
          <p:cNvPicPr/>
          <p:nvPr/>
        </p:nvPicPr>
        <p:blipFill>
          <a:blip r:embed="rId1"/>
          <a:stretch/>
        </p:blipFill>
        <p:spPr>
          <a:xfrm>
            <a:off x="457200" y="1860480"/>
            <a:ext cx="8261280" cy="3903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Бинг карти</a:t>
            </a:r>
            <a:endParaRPr b="0" lang="en-US" sz="4400" spc="-1" strike="noStrike">
              <a:solidFill>
                <a:srgbClr val="000000"/>
              </a:solidFill>
              <a:latin typeface="Calibri"/>
            </a:endParaRPr>
          </a:p>
        </p:txBody>
      </p:sp>
      <p:pic>
        <p:nvPicPr>
          <p:cNvPr id="156" name="" descr=""/>
          <p:cNvPicPr/>
          <p:nvPr/>
        </p:nvPicPr>
        <p:blipFill>
          <a:blip r:embed="rId1"/>
          <a:stretch/>
        </p:blipFill>
        <p:spPr>
          <a:xfrm>
            <a:off x="457200" y="1600200"/>
            <a:ext cx="8229600" cy="4525920"/>
          </a:xfrm>
          <a:prstGeom prst="rect">
            <a:avLst/>
          </a:prstGeom>
          <a:ln w="0">
            <a:noFill/>
          </a:ln>
        </p:spPr>
      </p:pic>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43B44-994A-455E-866A-A319FCE29B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8" name="Picture 6" descr="C:\Users\Marjan\Desktop\Oslo TOT\map2.jpg"/>
          <p:cNvPicPr/>
          <p:nvPr/>
        </p:nvPicPr>
        <p:blipFill>
          <a:blip r:embed="rId2"/>
          <a:stretch/>
        </p:blipFill>
        <p:spPr>
          <a:xfrm>
            <a:off x="457200" y="1417680"/>
            <a:ext cx="8229600" cy="43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Бинг карти</a:t>
            </a:r>
            <a:endParaRPr b="0" lang="en-US" sz="4400" spc="-1" strike="noStrike">
              <a:solidFill>
                <a:srgbClr val="000000"/>
              </a:solidFill>
              <a:latin typeface="Calibri"/>
            </a:endParaRPr>
          </a:p>
        </p:txBody>
      </p:sp>
      <p:pic>
        <p:nvPicPr>
          <p:cNvPr id="160" name="" descr=""/>
          <p:cNvPicPr/>
          <p:nvPr/>
        </p:nvPicPr>
        <p:blipFill>
          <a:blip r:embed="rId1"/>
          <a:stretch/>
        </p:blipFill>
        <p:spPr>
          <a:xfrm>
            <a:off x="457200" y="1600200"/>
            <a:ext cx="8229600" cy="4525920"/>
          </a:xfrm>
          <a:prstGeom prst="rect">
            <a:avLst/>
          </a:prstGeom>
          <a:ln w="0">
            <a:noFill/>
          </a:ln>
        </p:spPr>
      </p:pic>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43303-B729-4DDC-B528-B4DAEA4ACA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2" name="Picture 7" descr="C:\Users\Marjan\Desktop\Oslo TOT\map3.jpg"/>
          <p:cNvPicPr/>
          <p:nvPr/>
        </p:nvPicPr>
        <p:blipFill>
          <a:blip r:embed="rId2"/>
          <a:stretch/>
        </p:blipFill>
        <p:spPr>
          <a:xfrm>
            <a:off x="457200" y="1455840"/>
            <a:ext cx="8229600" cy="437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Гугл карти</a:t>
            </a:r>
            <a:endParaRPr b="0" lang="en-US" sz="4400" spc="-1" strike="noStrike">
              <a:solidFill>
                <a:srgbClr val="000000"/>
              </a:solidFill>
              <a:latin typeface="Calibri"/>
            </a:endParaRPr>
          </a:p>
        </p:txBody>
      </p:sp>
      <p:pic>
        <p:nvPicPr>
          <p:cNvPr id="164" name="" descr=""/>
          <p:cNvPicPr/>
          <p:nvPr/>
        </p:nvPicPr>
        <p:blipFill>
          <a:blip r:embed="rId1"/>
          <a:stretch/>
        </p:blipFill>
        <p:spPr>
          <a:xfrm>
            <a:off x="457200" y="1600200"/>
            <a:ext cx="8229600" cy="4525920"/>
          </a:xfrm>
          <a:prstGeom prst="rect">
            <a:avLst/>
          </a:prstGeom>
          <a:ln w="0">
            <a:noFill/>
          </a:ln>
        </p:spPr>
      </p:pic>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C586C-EA0C-4969-B260-F70ED01492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6" name="Picture 4" descr="C:\Users\Marjan\Desktop\Oslo TOT\gmap.jpg"/>
          <p:cNvPicPr/>
          <p:nvPr/>
        </p:nvPicPr>
        <p:blipFill>
          <a:blip r:embed="rId2"/>
          <a:stretch/>
        </p:blipFill>
        <p:spPr>
          <a:xfrm>
            <a:off x="457200" y="1600200"/>
            <a:ext cx="83566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оглед од улица</a:t>
            </a:r>
            <a:endParaRPr b="0" lang="en-US" sz="44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C0484-22FE-482A-B777-98BE24EB5A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9" name="Picture 8" descr="C:\Users\Marjan\Desktop\Oslo TOT\strview.jpg"/>
          <p:cNvPicPr/>
          <p:nvPr/>
        </p:nvPicPr>
        <p:blipFill>
          <a:blip r:embed="rId1"/>
          <a:stretch/>
        </p:blipFill>
        <p:spPr>
          <a:xfrm>
            <a:off x="457200" y="1893960"/>
            <a:ext cx="8273880" cy="38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1- Интегритет на податоците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о ниту едно преземено дејствие не смее да се менува електронскиот уред или медиум, кој подоцна ќе се користи во суд.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и постапување со електронските уреди и податоци, истите не смеат да се менуваат, ниту нивниот софтвер, ниту нивниот хардвер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ма околности во кои ќе треба да се донесе одлука да се пристапи кон податоци на „жив“ компјутерски систем за да се одбегне губењето на потенцијални доказ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4FB8BF-C5C2-4129-92C5-DE7CD10F43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Работа во групи </a:t>
            </a:r>
            <a:endParaRPr b="0" lang="en-US" sz="4400" spc="-1" strike="noStrike">
              <a:solidFill>
                <a:srgbClr val="000000"/>
              </a:solidFill>
              <a:latin typeface="Calibri"/>
            </a:endParaRPr>
          </a:p>
        </p:txBody>
      </p:sp>
      <p:sp>
        <p:nvSpPr>
          <p:cNvPr id="171" name=""/>
          <p:cNvSpPr txBox="1"/>
          <p:nvPr/>
        </p:nvSpPr>
        <p:spPr>
          <a:xfrm>
            <a:off x="456840" y="1600200"/>
            <a:ext cx="8458200" cy="4525920"/>
          </a:xfrm>
          <a:prstGeom prst="rect">
            <a:avLst/>
          </a:prstGeom>
          <a:noFill/>
          <a:ln w="0">
            <a:noFill/>
          </a:ln>
        </p:spPr>
        <p:txBody>
          <a:bodyPr anchor="t">
            <a:normAutofit fontScale="89000"/>
          </a:bodyPr>
          <a:p>
            <a:pPr marL="305280" indent="-3052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Од искуство, кои чекори би ги презеле со цел да се зачуваат доказите собрани од компјутер:</a:t>
            </a:r>
            <a:endParaRPr b="0" lang="en-US" sz="2700" spc="-1" strike="noStrike">
              <a:solidFill>
                <a:srgbClr val="000000"/>
              </a:solidFill>
              <a:latin typeface="Calibri"/>
            </a:endParaRPr>
          </a:p>
          <a:p>
            <a:pPr marL="305280" indent="-305280">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 </a:t>
            </a:r>
            <a:r>
              <a:rPr b="0" lang="mk-MK" sz="2700" spc="-1" strike="noStrike">
                <a:solidFill>
                  <a:srgbClr val="000000"/>
                </a:solidFill>
                <a:latin typeface="Calibri"/>
              </a:rPr>
              <a:t>	</a:t>
            </a:r>
            <a:r>
              <a:rPr b="0" lang="mk-MK" sz="2700" spc="-1" strike="noStrike">
                <a:solidFill>
                  <a:srgbClr val="000000"/>
                </a:solidFill>
                <a:latin typeface="Calibri"/>
              </a:rPr>
              <a:t>Евидентирајте ги сите активности кои се преземаат во однос на електронските докази </a:t>
            </a:r>
            <a:endParaRPr b="0" lang="en-US" sz="27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барајте од осомничениот тој да ја бара информацијата која ви е потребна на неговиот компјутер</a:t>
            </a:r>
            <a:endParaRPr b="0" lang="en-US" sz="24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барајте од осомничениот да го исклучи компјутерскиот систем за вас</a:t>
            </a:r>
            <a:endParaRPr b="0" lang="en-US" sz="24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безбедете дека сите активности се преземени од квалификуван персонал </a:t>
            </a:r>
            <a:endParaRPr b="0" lang="en-US" sz="24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бидете се да избегнете преземање на какви било непотребни дејствија на компјутерот</a:t>
            </a:r>
            <a:endParaRPr b="0" lang="en-US" sz="24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9700F-A3AA-4F29-9368-EABACFA81C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рашања кои треба да се земат предвид </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истем со потенцијални докази на него, мора да се заштити од менување, а потенцијалните докази не може да се менуваа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има исклучителни околности кои бараат преземање на други дејствија освен стандардната постапка за заплен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постапката е временски ограничен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има одредени пречки или можни ограничувања за постапката  </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EF5FE-26B3-44E9-B714-0981ED70EC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рашања кои треба да се земат предвид </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Заклучен скринсејвер</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 </a:t>
            </a:r>
            <a:r>
              <a:rPr b="0" lang="mk-MK" sz="3000" spc="-1" strike="noStrike">
                <a:solidFill>
                  <a:srgbClr val="000000"/>
                </a:solidFill>
                <a:latin typeface="Calibri"/>
              </a:rPr>
              <a:t>Шифрирање </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Злонамерен софтвер </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омпјутерско работење во облак (sky drive, drop box, итн.)</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кладирање на далечински локации</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Тековен компјутерски процес </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Тековна комуникација преку разговор на интернет</a:t>
            </a:r>
            <a:endParaRPr b="0" lang="en-US" sz="3000" spc="-1" strike="noStrike">
              <a:solidFill>
                <a:srgbClr val="000000"/>
              </a:solidFill>
              <a:latin typeface="Calibri"/>
            </a:endParaRPr>
          </a:p>
          <a:p>
            <a:pPr marL="315360" indent="-31536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000" spc="-1" strike="noStrike">
                <a:solidFill>
                  <a:srgbClr val="000000"/>
                </a:solidFill>
                <a:latin typeface="Calibri"/>
              </a:rPr>
              <a:t>Како да се постапи во вакви ситуации?</a:t>
            </a:r>
            <a:endParaRPr b="0" lang="en-US" sz="30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22E268-B66C-4D65-9E9E-D13E079D09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пшта методологија</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ланирање пред претресот</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барајте информации на националните бази на податоци</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узнавачки информации од отворени извори</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белешки од самото место и анализа</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проведување на постапки за преземање на податоци</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безбедување на преземањето на податоците во целите на автентикација </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оставување на ревизорска трага за активностите и одлуките </a:t>
            </a:r>
            <a:endParaRPr b="0" lang="en-US" sz="28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3C325-A403-4668-BB47-637DA5233D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перативен план</a:t>
            </a:r>
            <a:endParaRPr b="0" lang="en-US" sz="4400" spc="-1" strike="noStrike">
              <a:solidFill>
                <a:srgbClr val="000000"/>
              </a:solidFill>
              <a:latin typeface="Calibri"/>
            </a:endParaRPr>
          </a:p>
        </p:txBody>
      </p:sp>
      <p:sp>
        <p:nvSpPr>
          <p:cNvPr id="183" name=""/>
          <p:cNvSpPr txBox="1"/>
          <p:nvPr/>
        </p:nvSpPr>
        <p:spPr>
          <a:xfrm>
            <a:off x="457200" y="1600200"/>
            <a:ext cx="841392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дготовка на Оперативниот план во фазата на подготовки во матичната канцеларија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карактерот на кривичното дело</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улогата на електронските докази во кривичното дело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должностите на секој член на тимот (список со задачи)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постапувањето со електронските докази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ограничувањата на претресот и заплената </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дготовка за неочекувани ситуации - </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C817E1-9740-4218-A480-479F911BC4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ланирање</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рз основа на информациите кои ги имаме за осомниченото лице, планираме и одлучуваме кога ќе започне претресот.</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 Давање кратки упатства и доделување задачи:</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Тимови за претрес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Форензички тим</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19CF8-3D44-44D6-B865-3DF2127941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ланирање</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000000"/>
                </a:solidFill>
                <a:latin typeface="Calibri"/>
              </a:rPr>
              <a:t>Тимот за претрес</a:t>
            </a:r>
            <a:r>
              <a:rPr b="0" lang="mk-MK" sz="2000" spc="-1" strike="noStrike">
                <a:solidFill>
                  <a:srgbClr val="000000"/>
                </a:solidFill>
                <a:latin typeface="Calibri"/>
              </a:rPr>
              <a:t> има задача:</a:t>
            </a:r>
            <a:r>
              <a:rPr b="1" lang="mk-MK"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добие релевантната судска одлука (налог за претрес) за влез, претрес и испитување на опремата која ќе се најде во станот.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влезе и да претресе компјутер и уреди за чување на податоци и да ги обезбеди од менување и оштетувањ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идентификува уредите за чување на податоци</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ограничи и да ја обезбеди средината со електронска опрем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претресе присутните лица и да ги заплени најдените предмети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состави потребната документација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известува за секој чекор и за секоја ситуација во текот на влегувањето и претресот на станот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о уапси лицето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4477A-B5D5-470D-BE15-1A7666ED50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ланирање</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600" spc="-1" strike="noStrike">
                <a:solidFill>
                  <a:srgbClr val="000000"/>
                </a:solidFill>
                <a:latin typeface="Calibri"/>
              </a:rPr>
              <a:t>Форензичкиот тим </a:t>
            </a:r>
            <a:r>
              <a:rPr b="0" lang="mk-MK" sz="1600" spc="-1" strike="noStrike">
                <a:solidFill>
                  <a:srgbClr val="000000"/>
                </a:solidFill>
                <a:latin typeface="Calibri"/>
              </a:rPr>
              <a:t>е одговорен да ја подготви целата потребна опрема и алатки потребни за известување за состојбата на компјутерот и да спроведе форензичка анализа на живи податоци, која опфаќа: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Алатки за уредите- ЦД, УСБ, лаптоп компјутери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Претходно конфигурирани ЦД-а за форензичка анализа на живи податоци и празно УСБ за информациите од форензичката анализа на живите податоци</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УСБ за собирање на RAM меморијата од компјутерот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Постојано напојување со енергија (за постојано напојување во случај на шифриран компјутер)</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Уреди за чување податоци (тие мора да се чисти „стерилизирани“ уреди)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	</a:t>
            </a:r>
            <a:r>
              <a:rPr b="0" lang="mk-MK" sz="1600" spc="-1" strike="noStrike">
                <a:solidFill>
                  <a:srgbClr val="000000"/>
                </a:solidFill>
                <a:latin typeface="Calibri"/>
              </a:rPr>
              <a:t>	</a:t>
            </a:r>
            <a:r>
              <a:rPr b="0" lang="mk-MK" sz="1600" spc="-1" strike="noStrike">
                <a:solidFill>
                  <a:srgbClr val="000000"/>
                </a:solidFill>
                <a:latin typeface="Calibri"/>
              </a:rPr>
              <a:t>Форензичкиот тим е одговорен за дефинирање на постапката за испитување и за тестирање на сите алатки кои се планира да се искористат, кои мора да се подготват на чисти и безбедни уреди за чување податоци.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E10CA-D205-4D50-895F-E031551AB5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420D52-6315-450D-86BF-F2009F819D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196" name=""/>
          <p:cNvSpPr txBox="1"/>
          <p:nvPr/>
        </p:nvSpPr>
        <p:spPr>
          <a:xfrm>
            <a:off x="457200" y="1275840"/>
            <a:ext cx="8229600" cy="5210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Од суштинска важност е внимателната подготовка и планирање на одредена активност, при што треба да се земат предвид најразлични прашења како што се: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Каде се хостирани податоците?</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Колку е вешт осомничениот?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ли има алтернативни извори за да се добијат истите докази или дополнителни извори за да се зајакнат доказите?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Тактичка одлука да се повратат податоци од осомничениот или од алтернативниот носител на податоци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BC4FA-C3E9-4ED9-8B53-DE37675757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199" name=""/>
          <p:cNvSpPr txBox="1"/>
          <p:nvPr/>
        </p:nvSpPr>
        <p:spPr>
          <a:xfrm>
            <a:off x="457200" y="1275840"/>
            <a:ext cx="8229600" cy="5210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Каде се хостирани податоците?</a:t>
            </a:r>
            <a:endParaRPr b="0" lang="en-US" sz="2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Не е невообичаено податоците да бидат хостирани на друга локација, а не на локацијата каде се наоѓа опремата  Неопходно е да се разгледа прашањето каде би можеле да бидат складирани податоците кои се од интерес.  Причините за ова се следниве:</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истапот кон податоците може да бара дополнително законско овластување, особено како се чуваат во друга земја.</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Може да е потребно да се исполнат дополнителни технички барањата за да се обезбеди зачувување на интегритетот на доказите и истото да се докаже.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2- Ревизорска трага</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Треба да се направи и зачува ревизорска трага или друг вид на евиденција за сите дејствија преземени при постапувањето со електронските докази. Следејќи ја ревизорската трага независна трета страна би требало да го постигне истиот резултат. </a:t>
            </a: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Од суштинска важност е точно да се евидентираат сите дејствија за да ѝ се овозможи на трета страна да направи реконструкција на дејствијата на лицето кое прво интервенирало на местото на настанот за да се обезбеди доказната вредност пред судот. Сите дејствија во однос на запленувањето, пристапот, чувањето или преносот на електронските докази мора да бидат целосно документирани, зачувани и достапни за контрола.</a:t>
            </a: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E2DE8-585D-44BB-9469-D09BF76BCF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A1012-D07F-461A-B636-CEA11FAC77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202"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Arial"/>
              </a:rPr>
              <a:t>Колку е вешт осомничениот?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Соберете што е можно повеќе разузнавачки податоци за лицето, за неговите способности и вештини</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ea typeface="Arial"/>
              </a:rPr>
              <a:t> </a:t>
            </a:r>
            <a:r>
              <a:rPr b="0" lang="mk-MK" sz="2400" spc="-1" strike="noStrike">
                <a:solidFill>
                  <a:srgbClr val="000000"/>
                </a:solidFill>
                <a:latin typeface="Calibri"/>
                <a:ea typeface="Arial"/>
              </a:rPr>
              <a:t>Користење на софтвер за шифрирање </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ea typeface="Arial"/>
              </a:rPr>
              <a:t> </a:t>
            </a:r>
            <a:r>
              <a:rPr b="0" lang="mk-MK" sz="2400" spc="-1" strike="noStrike">
                <a:solidFill>
                  <a:srgbClr val="000000"/>
                </a:solidFill>
                <a:latin typeface="Calibri"/>
                <a:ea typeface="Arial"/>
              </a:rPr>
              <a:t>Користење на услугата на чување податоци на далечински локации </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Приберете разузнавачки информации за неговите вообичаени активности на интернет</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али има алтернативни извори за да се добијат истите докази или дополнителни извори за да се зајакнат доказите?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Разгледајте го прашањето дали има други извори на докази </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другата страна од онлајн трансакцијата, како што е испраќање на електронска пошта</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трета страна која ги поседува податоците, како што е интернет провајдер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провајдер на онлајн услуги</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о сè поголемата употреба на компјутерско работење во облак, истите податоци може да се преземат од извори на трети страни</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58EF0-3C3D-45A3-B5E8-8E82C9D42E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актичка одлука да се повратат податоци од осомничениот или од алтернативниот носител на податоци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  </a:t>
            </a:r>
            <a:r>
              <a:rPr b="0" lang="mk-MK" sz="2800" spc="-1" strike="noStrike">
                <a:solidFill>
                  <a:srgbClr val="000000"/>
                </a:solidFill>
                <a:latin typeface="Calibri"/>
              </a:rPr>
              <a:t>  </a:t>
            </a:r>
            <a:r>
              <a:rPr b="0" lang="mk-MK" sz="2800" spc="-1" strike="noStrike">
                <a:solidFill>
                  <a:srgbClr val="000000"/>
                </a:solidFill>
                <a:latin typeface="Calibri"/>
              </a:rPr>
              <a:t>- Разгледајте ја можноста податоците/доказите да ги добиете од трети страни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 </a:t>
            </a:r>
            <a:r>
              <a:rPr b="0" lang="mk-MK" sz="2800" spc="-1" strike="noStrike">
                <a:solidFill>
                  <a:srgbClr val="000000"/>
                </a:solidFill>
                <a:latin typeface="Calibri"/>
              </a:rPr>
              <a:t>Законски постапки за враќање на податоци</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 Разгледување на прашањето кои извори на докази се важни за истрагата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DB314-02A1-41A3-91BB-CC594755B8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Работа во групи </a:t>
            </a:r>
            <a:endParaRPr b="0" lang="en-US" sz="4400" spc="-1" strike="noStrike">
              <a:solidFill>
                <a:srgbClr val="000000"/>
              </a:solidFill>
              <a:latin typeface="Calibri"/>
            </a:endParaRPr>
          </a:p>
        </p:txBody>
      </p:sp>
      <p:sp>
        <p:nvSpPr>
          <p:cNvPr id="210"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кви овластувања ви се потребни за претрес и заплен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ко може да изберете стручно лице да биде присутно во текот на заплена на докази, кои прашања треба да ги замете предвид?</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C6C22-9E51-4C00-858B-2158F39827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CBC46-9862-4385-AB7B-3C7398D44B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Какво овластување е потребно?</a:t>
            </a:r>
            <a:endParaRPr b="0" lang="en-US" sz="4000" spc="-1" strike="noStrike">
              <a:solidFill>
                <a:srgbClr val="000000"/>
              </a:solidFill>
              <a:latin typeface="Calibri"/>
            </a:endParaRPr>
          </a:p>
        </p:txBody>
      </p:sp>
      <p:sp>
        <p:nvSpPr>
          <p:cNvPr id="214" name=""/>
          <p:cNvSpPr txBox="1"/>
          <p:nvPr/>
        </p:nvSpPr>
        <p:spPr>
          <a:xfrm>
            <a:off x="457200" y="1600200"/>
            <a:ext cx="8229600" cy="4756320"/>
          </a:xfrm>
          <a:prstGeom prst="rect">
            <a:avLst/>
          </a:prstGeom>
          <a:noFill/>
          <a:ln w="0">
            <a:noFill/>
          </a:ln>
        </p:spPr>
        <p:txBody>
          <a:bodyPr anchor="t">
            <a:normAutofit fontScale="93000"/>
          </a:bodyPr>
          <a:p>
            <a:pPr marL="478080" indent="-478080">
              <a:lnSpc>
                <a:spcPct val="80000"/>
              </a:lnSpc>
              <a:spcBef>
                <a:spcPts val="575"/>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300" spc="-1" strike="noStrike">
                <a:solidFill>
                  <a:srgbClr val="000000"/>
                </a:solidFill>
                <a:latin typeface="Calibri"/>
              </a:rPr>
              <a:t>Овластување кое ќе биде потребно за изведување на активноста </a:t>
            </a:r>
            <a:endParaRPr b="0" lang="en-US" sz="2300" spc="-1" strike="noStrike">
              <a:solidFill>
                <a:srgbClr val="000000"/>
              </a:solidFill>
              <a:latin typeface="Calibri"/>
            </a:endParaRPr>
          </a:p>
          <a:p>
            <a:pPr lvl="1" marL="850320" indent="-45720">
              <a:lnSpc>
                <a:spcPct val="80000"/>
              </a:lnSpc>
              <a:spcBef>
                <a:spcPts val="5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 Лицето целосно ги разбира импликациите на давањето на одобрение</a:t>
            </a:r>
            <a:r>
              <a:rPr b="0" lang="mk-MK" sz="2300" spc="-1" strike="noStrike">
                <a:solidFill>
                  <a:srgbClr val="000000"/>
                </a:solidFill>
                <a:latin typeface="Calibri"/>
              </a:rPr>
              <a:t>	</a:t>
            </a:r>
            <a:r>
              <a:rPr b="0" lang="mk-MK" sz="2300" spc="-1" strike="noStrike">
                <a:solidFill>
                  <a:srgbClr val="000000"/>
                </a:solidFill>
                <a:latin typeface="Calibri"/>
              </a:rPr>
              <a:t>	</a:t>
            </a:r>
            <a:endParaRPr b="0" lang="en-US" sz="2300" spc="-1" strike="noStrike">
              <a:solidFill>
                <a:srgbClr val="000000"/>
              </a:solidFill>
              <a:latin typeface="Calibri"/>
            </a:endParaRPr>
          </a:p>
          <a:p>
            <a:pPr lvl="1" marL="850320" indent="-45720">
              <a:lnSpc>
                <a:spcPct val="80000"/>
              </a:lnSpc>
              <a:spcBef>
                <a:spcPts val="5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	</a:t>
            </a:r>
            <a:r>
              <a:rPr b="0" lang="mk-MK" sz="2300" spc="-1" strike="noStrike">
                <a:solidFill>
                  <a:srgbClr val="000000"/>
                </a:solidFill>
                <a:latin typeface="Calibri"/>
              </a:rPr>
              <a:t>	</a:t>
            </a:r>
            <a:r>
              <a:rPr b="0" lang="mk-MK" sz="2300" spc="-1" strike="noStrike">
                <a:solidFill>
                  <a:srgbClr val="000000"/>
                </a:solidFill>
                <a:latin typeface="Calibri"/>
              </a:rPr>
              <a:t>- национално законодавство – судски наредби и налози </a:t>
            </a:r>
            <a:endParaRPr b="0" lang="en-US" sz="2300" spc="-1" strike="noStrike">
              <a:solidFill>
                <a:srgbClr val="000000"/>
              </a:solidFill>
              <a:latin typeface="Calibri"/>
            </a:endParaRPr>
          </a:p>
          <a:p>
            <a:pPr lvl="1" marL="850320" indent="-45720">
              <a:lnSpc>
                <a:spcPct val="80000"/>
              </a:lnSpc>
              <a:spcBef>
                <a:spcPts val="5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2.  Другите нивоа на овластување ќе зависат од тоа дали предметот на истрагата е граѓанско правен или кривично правен и дали оние кои барат овластување се органи за спроведување на законот или, обвинителството, или приватни истражители или адвокати кои работат во име на и за нивни клиенти или други категории на лица во двата вида на постапки (граѓанско или кривично правни постапки). </a:t>
            </a:r>
            <a:endParaRPr b="0" lang="en-US" sz="2300" spc="-1" strike="noStrike">
              <a:solidFill>
                <a:srgbClr val="000000"/>
              </a:solidFill>
              <a:latin typeface="Calibri"/>
            </a:endParaRPr>
          </a:p>
          <a:p>
            <a:pPr lvl="1" marL="850320" indent="-45720">
              <a:lnSpc>
                <a:spcPct val="80000"/>
              </a:lnSpc>
              <a:spcBef>
                <a:spcPts val="55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	</a:t>
            </a:r>
            <a:r>
              <a:rPr b="0" lang="mk-MK" sz="2300" spc="-1" strike="noStrike">
                <a:solidFill>
                  <a:srgbClr val="ff0000"/>
                </a:solidFill>
                <a:latin typeface="Calibri"/>
              </a:rPr>
              <a:t>	</a:t>
            </a:r>
            <a:r>
              <a:rPr b="0" lang="mk-MK" sz="2200" spc="-1" strike="noStrike">
                <a:solidFill>
                  <a:srgbClr val="ff0000"/>
                </a:solidFill>
                <a:latin typeface="Calibri"/>
              </a:rPr>
              <a:t>Не треба да се презема никаква активност за заплена на опрема или фаќање на податоци без соодветно ниво на овластување кое треба да се добие пред планираните активности.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Специјализирана експертиза</a:t>
            </a:r>
            <a:endParaRPr b="0" lang="en-US" sz="28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требните вештини или компетентност за извршување на одредена активност, меѓу другото, го вклучуваат и следново: </a:t>
            </a:r>
            <a:endParaRPr b="0" lang="en-US" sz="24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елевантните квалификации на лицето.</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иво на компетентност на лицето за дадената задача.</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онкретните вештини кое лицето ги поседува.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неговата компетентност се заснова на технички квалификации или искуствено стекнато познавање, или двете.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CEB6F-C34E-4191-9557-2F7EF6AC72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Искуство во одредена специјализирана облас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рактерот на искуството кое лицето го стекнало преку ваков вид на работа.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Бројот на случаите на кои работело лицето.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Видот на случаите во кои било вклучено лицето.</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олку долго работи лицето во дадената област.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оказ за неговото искуство.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DA8C6-7349-4843-ACC2-C8816A57DC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знавања за истражни дејствиј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бирање на карактерот истрагите во смисла на нивна доверливост, релевантност и разлики меѓу: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Информаци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Разузнавачки информаци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оказ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14393-835E-4414-822D-230E24FBE8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Контекстуално знаење </a:t>
            </a:r>
            <a:endParaRPr b="0" lang="en-US" sz="32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знавање на различните приоди, јазик, филозофија, практика и улоги на полицијата, правото и технички познавања за информациите </a:t>
            </a:r>
            <a:endParaRPr b="0" lang="en-US" sz="2800" spc="-1" strike="noStrike">
              <a:solidFill>
                <a:srgbClr val="000000"/>
              </a:solidFill>
              <a:latin typeface="Calibri"/>
            </a:endParaRPr>
          </a:p>
          <a:p>
            <a:pPr marL="322200" indent="-3222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endParaRPr b="0" lang="en-US" sz="28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400" spc="-1" strike="noStrike">
                <a:solidFill>
                  <a:srgbClr val="000000"/>
                </a:solidFill>
                <a:latin typeface="Calibri"/>
              </a:rPr>
              <a:t>     </a:t>
            </a:r>
            <a:r>
              <a:rPr b="0" lang="mk-MK" sz="2400" spc="-1" strike="noStrike">
                <a:solidFill>
                  <a:srgbClr val="000000"/>
                </a:solidFill>
                <a:latin typeface="Calibri"/>
              </a:rPr>
              <a:t>Технологијата е од суштинска важност за да се гарантира издржаноста на електронските докази во судот. Исто така од суштествено значење е разбирањето на концептот на веројатност во неговото најшироко значење, како и разбирањето на разликите </a:t>
            </a:r>
            <a:r>
              <a:rPr b="1" lang="mk-MK" sz="2400" spc="-1" strike="noStrike">
                <a:solidFill>
                  <a:srgbClr val="000000"/>
                </a:solidFill>
                <a:latin typeface="Calibri"/>
              </a:rPr>
              <a:t>меѓу научните и законските до</a:t>
            </a:r>
            <a:r>
              <a:rPr b="0" lang="mk-MK" sz="2400" spc="-1" strike="noStrike">
                <a:solidFill>
                  <a:srgbClr val="000000"/>
                </a:solidFill>
                <a:latin typeface="Calibri"/>
              </a:rPr>
              <a:t>кази.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AA57E-5BE0-4821-A6AA-88A2939A53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Познавања од областа на правото </a:t>
            </a: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Познавањата на релевантните аспекти на правото, како што се правните концепти и постапки во врска с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Исказит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онтинуитето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удските постап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д суштинско значење се солидните познавања за улогите и одговорностите на вештото лиц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39AF5-3D62-464F-9F63-89702404B6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3- Поддршка од специјализиран експерт</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Доколку се претпоставува дека во текот на одредена операција ќе се најдат електронски докази, надлежното лице треба навреме да ги извести специјализираните експерти/надворешни соработниц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Во целите на истраги во кои има претрес и заплена на електронски докази може да биде неопходно да се консултираат надворешни специјализирани експерти. Сите надворешни експерти треба да бидат запознаени со начелата дадени во овој Прирачник или во други релевантни документи. Специјализираниот експерт треба да го поседува следново:</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ата специјалистичка експертиза и искуство на ова поле,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познавања за истраги,</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познавања за предметот на истрагата,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познавања од областа на правото,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Соодветни комуникациски вештини (и за писмени и за усни образложенија),</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јазични вештини.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B4DA8-2EE8-40BB-98C2-CCF76D356E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Комуникациски вештини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Способност за изразување и објаснување со обичен јазик и усмено и писмен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рактерот на специјалистичките познавањ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ехниките и опремата кои се користа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Методи на толкувањ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илни и слаби страни на доказит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Алтернативни објаснувањ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89232-16ED-4B1C-9AE3-FC1CCD4141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Општо </a:t>
            </a:r>
            <a:endParaRPr b="0" lang="en-US" sz="28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За лицето се извршени проверки и дадена е дозвола за пристап до одредено ниво на доверливост за да постапува со доказниот материјал,</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На лицето му се дадени релевантни насоки за евентуални материјали поврзани со злоупотреба на деца,</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Лицето е известено и му е укажано за влијанието на таквите материјали врз персоналот и соодветно е оценет ризикот во овој контекст, </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Се утврдува дека специјализираното вешто лице нема конфликт на интереси. </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1F1DD-8BCF-4657-824F-68A1BF250E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9448FE-8F22-4B7A-ADF0-65037F4546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238"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потенцијалните докази и извори на докази на интернет</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елотворно да ги завршат подготовката и планирањето на претресот и заплената на електронски докази</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овластувањата и одобрувањата во постапката за претрес и заплена на електронски докази. </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улогата на надворешните специјализирани вешти лица.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CE52C-BAA7-4D83-8F60-1274E80A63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41"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4 – Соодветна обука </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Лицата кои први интервенираат на местото на настанот мораат да бидат соодветно обучени за да можат да го извршат претресот и да ги запленат електронските докази, доколку на местото на настанот не може да биде присутен специјализиран експерт. </a:t>
            </a:r>
            <a:endParaRPr b="0" lang="en-US" sz="2400" spc="-1" strike="noStrike">
              <a:solidFill>
                <a:srgbClr val="000000"/>
              </a:solidFill>
              <a:latin typeface="Calibri"/>
            </a:endParaRPr>
          </a:p>
          <a:p>
            <a:pPr marL="315360" indent="-3153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о исклучителни околности кога е неопходно лицето кое прво интервенира на местото на настанот да собере електронски докази и/или да пристапи кон оригинални податоци кои се на електронски уред или дигитален уред за чување податоци, тоа лице мора да биде обучено тоа да го стори соодветно и да ја објасни релевантноста и импликациите на неговите дејствија.</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2084C-24F4-4D9E-B91B-C2C64DD776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5- Законитост</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Лицето и органот надлежен за случајот се одговорни да обезбедат дека се почитуваат законот, општите форензички и процедурални правила и погоре наведените начела. Ова се однесува на поседувањето и пристапот кон електронските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Еден од меѓународно важните правни документи, Конвенцијата за компјутерски криминал на Советот на Европа сега е отворена за потпишување од државите-членки и други држави, кои учествувале во нејзината подготовка, како и за пристапување од други држав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вие начела ги поставуваат основите за информациите дадени во следните Глави и треба да се имаат предвид во сите фази на постапувањето со потенцијалните извори на електронски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8BD501-9655-4279-985F-6EEE658C2C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Тим кој прв интервенира на местото на настанот</a:t>
            </a:r>
            <a:endParaRPr b="0" lang="en-US" sz="4000" spc="-1" strike="noStrike">
              <a:solidFill>
                <a:srgbClr val="000000"/>
              </a:solidFill>
              <a:latin typeface="Calibri"/>
            </a:endParaRPr>
          </a:p>
        </p:txBody>
      </p:sp>
      <p:sp>
        <p:nvSpPr>
          <p:cNvPr id="73" name=""/>
          <p:cNvSpPr txBox="1"/>
          <p:nvPr/>
        </p:nvSpPr>
        <p:spPr>
          <a:xfrm>
            <a:off x="457200" y="1176120"/>
            <a:ext cx="8229600" cy="49496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одговорен за постапката на претрес и заплена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должен да добие соодветен налог за претрес и сите други потребни овластувања пред да почне постапката на претрес и заплена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има должност да го обезбеди местото на настанот, да го документира местото на настанот и да ги складира доказит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должен да ги идентификува сите можни уреди за чување на електронски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донесува одлуки за методите на прибирање и заплена на електронските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одговорен за дејствијата со кои може да се изменат доказите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ој е одговорен за состојбата на електронските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одговорен за преземање на активности со кои се спречува менување или губење на електронските доказ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6E148-07D7-4CC5-BDC6-A2A21F4C4B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4T23:49:52Z</dcterms:modified>
  <cp:revision>254</cp:revision>
  <dc:subject/>
  <dc:title>Introductory Cybercrime Training for Judges and Prosecutors</dc:title>
</cp:coreProperties>
</file>