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9F646-E3F3-4F6F-9202-AB7154497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971F-5A57-4967-A94B-B9B415370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B3D0-DE3C-4EDE-9746-39F6ADC4D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9B576-5DE5-4CD2-A74D-E21754B8F1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6B7-B16D-4163-86CD-C25A042B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07F-D4C0-4BFF-9224-2EF7C6F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C30-B8A2-47A4-BDCA-0047C712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B0E-9972-4A5A-A329-E4A5357A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874-67D0-42B4-8291-DE8B69C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D12-B315-43E6-9C33-AAF164B1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556-93A7-4BA6-9A97-7C2F518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FFE-60C7-411F-8324-5E8935CE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54E-898D-4D76-A292-CD014169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091-4860-41D6-8E1A-F2036E5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23E-0AC7-4CFC-9FD6-1ED34C3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3BB-86CC-4A12-83AB-DB97ACB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DCE80-DB9C-4FFF-8EF5-7406F8EB9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6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34960"/>
            <a:ext cx="851364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прв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творање на курсот и запозн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Вовед во начелата и постапките за електронски доказ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вори на дока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cp:lastPrinted>2012-02-11T12:03:47Z</cp:lastPrinted>
  <dcterms:modified xsi:type="dcterms:W3CDTF">2013-07-24T23:51:41Z</dcterms:modified>
  <cp:revision>18</cp:revision>
  <dc:subject/>
  <dc:title>Introductory Cybercrime Training for Judges and Prosecutors</dc:title>
</cp:coreProperties>
</file>