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FE75D1-CB44-442A-B70C-724B102A23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Calibri"/>
              </a:rPr>
              <a:t>Електронските докази имаат заеднички карактеристики со традиционалната форма на докази, но истовремено поседуваат и специфични карактеристики кои ги издвојуваат:</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Тие се невидливи за нестручното око:</a:t>
            </a:r>
            <a:r>
              <a:rPr b="0" lang="mk-MK" sz="900" spc="-1" strike="noStrike">
                <a:solidFill>
                  <a:srgbClr val="000000"/>
                </a:solidFill>
                <a:latin typeface="Calibri"/>
              </a:rPr>
              <a:t> Тие се невидливи за нестручното око: Често електронските докази се наоѓаат на места каде би барал само специјализиран експерт или се на локации до кои може да се стигне само со специфични алатки. Исто како и гледање под електронски микроскоп на специјалистот за инсекти му овозможува да ги идентификува клучните морфолошки карактеристики на ларвите од мувите, во компјутерската форензичка анализа постојат специфични алатки за испитување и обработка на податоци кои се наоѓаат на компјутерите</a:t>
            </a:r>
            <a:r>
              <a:rPr b="1" lang="mk-MK"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Може да има потреба податоците да ги толкува специјализиран експерт:</a:t>
            </a:r>
            <a:r>
              <a:rPr b="0" lang="mk-MK" sz="900" spc="-1" strike="noStrike">
                <a:solidFill>
                  <a:srgbClr val="000000"/>
                </a:solidFill>
                <a:latin typeface="Calibri"/>
              </a:rPr>
              <a:t> Информациите кои се наоѓаат на компјутерите за лице кое не е експерт во дадената област не се од голема корист, затоа што тој нема да може да ги издвои нивните карактеристики или сродните докази со кои се обезбедува дека релевантната информација е веродостојна и дека истата не е подоцна изменета. Во одредени случаи, како и при анализа на правецот на распрскување на крвта, потребно е да се применат специјализирани познавања</a:t>
            </a:r>
            <a:r>
              <a:rPr b="1" lang="mk-MK"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Тие се особено нестабилни:</a:t>
            </a:r>
            <a:r>
              <a:rPr b="0" lang="mk-MK" sz="900" spc="-1" strike="noStrike">
                <a:solidFill>
                  <a:srgbClr val="000000"/>
                </a:solidFill>
                <a:latin typeface="Calibri"/>
              </a:rPr>
              <a:t> Тие се особено нестабилни: Понекогаш, електронските докази се наоѓаат на уреди на кои состојбата на нивната (0 или 1 по бит) меморија се менува со меморирање на нови податоци врз старите секогаш кога ќе настапи некое дејствие. Во одредени случаи тоа може да се случи кога ќе снема електрична енергија, во друг случај тоа може да се случи кога автоматизиран систем врз старите запишува нови податоци со цел да се направи место за чување на нови информации. Уредите на кои може да се наоѓаат електронските докази мора да се зачуваат што е можно побрзо.</a:t>
            </a:r>
            <a:r>
              <a:rPr b="1" lang="mk-MK"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Електронските докази може да се изменат или да се уништат со нивно нормално користење:</a:t>
            </a:r>
            <a:r>
              <a:rPr b="0" lang="mk-MK" sz="900" spc="-1" strike="noStrike">
                <a:solidFill>
                  <a:srgbClr val="000000"/>
                </a:solidFill>
                <a:latin typeface="Calibri"/>
              </a:rPr>
              <a:t> Електронските докази може да се изменат или да се уништат со нивно нормално користење: На уредите постојано се менува состојбата на нивната меморија, без оглед дали тоа се случува на барање на нивниот корисник („меморирај го документот“, „копирај ја датотеката“) или автоматски преку компјутерскиот оперативен систем („додели место за оваа програма“, „времено зачувај ја информацијата за замена меѓу два уреда“). Овие карактеристики ја нагласува важноста со електронските уреди да се ракува на соодветен начин од моментот кога истите ќе се идентификуваат како релевантни за одредена истрага. </a:t>
            </a:r>
            <a:r>
              <a:rPr b="1" lang="mk-MK"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Тие можат безгранично да се копираат:</a:t>
            </a:r>
            <a:r>
              <a:rPr b="0" lang="mk-MK" sz="900" spc="-1" strike="noStrike">
                <a:solidFill>
                  <a:srgbClr val="000000"/>
                </a:solidFill>
                <a:latin typeface="Calibri"/>
              </a:rPr>
              <a:t> дигиталните информации може безгранично да се копираат и секоја копија ќе биде иста како и оригиналот. Ваквата единствена карактеристика овозможува повеќе исти копии од оригиналот да бидат дистрибуирани и анализирани од различни специјализирани експерти истовремено. Тоа исто така овозможува електронските податоци да бидат изведени пред судот во формата во која биле прибрани, заедно со извештајот на специјализираниот вештак.</a:t>
            </a:r>
            <a:r>
              <a:rPr b="1" lang="mk-MK"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14A4B-10E3-4782-82F8-1F7FEAC62F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Постапување од страна на специјализиран експерт:</a:t>
            </a:r>
            <a:r>
              <a:rPr b="0" lang="mk-MK" sz="1100" spc="-1" strike="noStrike">
                <a:solidFill>
                  <a:srgbClr val="000000"/>
                </a:solidFill>
                <a:latin typeface="Calibri"/>
              </a:rPr>
              <a:t> Постапување од страна на специјализиран експерт: Секој електронски уред има специфични карактеристики, па затоа мора строго да се следат и специфични постапки за пристап кон нивната меморија каде може да се чуваат електронските докази. Во случајот на електронските докази, еден од најголемите ризици се состои од ненамерно менување на дел од доказите. Ова може да покрене сомневања во однос на конкретните измени и дали доказите со кои обвинетиот се инкриминира или се ослободува од сомнение се менувани, што од своја страна може да создаде проблеми со допуштеноста на доказите пред судот</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Брза еволуција на изворите на електронски докази: </a:t>
            </a:r>
            <a:r>
              <a:rPr b="0" lang="mk-MK" sz="1100" spc="-1" strike="noStrike">
                <a:solidFill>
                  <a:srgbClr val="000000"/>
                </a:solidFill>
                <a:latin typeface="Calibri"/>
              </a:rPr>
              <a:t>Брза еволуција на изворите на електронски докази: Новите технологии се развиваат многу брзо и потребно е да се надградуваат знаењата не само за самите нови технологии, туку и за постапките и техниките кои мора да се применат со цел да се заплени нивната содржина и истата да се анализира.</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Користење на соодветни постапки, техники и алатки:</a:t>
            </a:r>
            <a:r>
              <a:rPr b="0" lang="mk-MK" sz="1100" spc="-1" strike="noStrike">
                <a:solidFill>
                  <a:srgbClr val="000000"/>
                </a:solidFill>
                <a:latin typeface="Calibri"/>
              </a:rPr>
              <a:t> Користење на соодветни постапки, техники и алатки: Како и во традиционалните форензички дисциплини, покрај специјализирани познавања, на специјалистите за дигитална форензичка анализа им се потребни специфични алатки за соодветно да ја извршат својата задача, како на пример да ги фатат сите оригинални информации од одреден уред. Од суштинска важност е да се користат соодветни техники и алатки и за постапките кои се спроведуваат да се води евиденција и истите да можат да ги повторат други специјализирани експерти, со цел фатените податоци да имаат доказна вредност.</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Допуштеност:</a:t>
            </a:r>
            <a:r>
              <a:rPr b="0" lang="mk-MK" sz="1100" spc="-1" strike="noStrike">
                <a:solidFill>
                  <a:srgbClr val="000000"/>
                </a:solidFill>
                <a:latin typeface="Calibri"/>
              </a:rPr>
              <a:t> Со оглед на тоа што крајната цел е да се изведат прибраните и анализирани докази како поддршка за одреден случај пред судот, електронските докази мора да се прибираат во склад со важечкото законодавство и најдобрите практики со цел истите да бидат допуштени на судењето. Иако деталите се разликуваат во зависност од националното законодавство, воопштено мора да се земат предвид следниве основни критериуми</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Веродостојност:</a:t>
            </a:r>
            <a:r>
              <a:rPr b="0" lang="mk-MK" sz="1100" spc="-1" strike="noStrike">
                <a:solidFill>
                  <a:srgbClr val="000000"/>
                </a:solidFill>
                <a:latin typeface="Calibri"/>
              </a:rPr>
              <a:t> Доказниот материјал мора со сигурност да може да се поврзе со настанот кој е предмет на истрага</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Целовитост:</a:t>
            </a:r>
            <a:r>
              <a:rPr b="0" lang="mk-MK" sz="1100" spc="-1" strike="noStrike">
                <a:solidFill>
                  <a:srgbClr val="000000"/>
                </a:solidFill>
                <a:latin typeface="Calibri"/>
              </a:rPr>
              <a:t> Доказите мора да го објаснат целиот настан, а не само одредени негови аспекти</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Сигурност:</a:t>
            </a:r>
            <a:r>
              <a:rPr b="0" lang="mk-MK" sz="1100" spc="-1" strike="noStrike">
                <a:solidFill>
                  <a:srgbClr val="000000"/>
                </a:solidFill>
                <a:latin typeface="Calibri"/>
              </a:rPr>
              <a:t> Не смее да има било каков елемент во однос на прибирањето и начинот на постапување со доказите кој ќе покрене сомневања за сигурноста и точноста на доказите</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Уверливост:</a:t>
            </a:r>
            <a:r>
              <a:rPr b="0" lang="mk-MK" sz="1100" spc="-1" strike="noStrike">
                <a:solidFill>
                  <a:srgbClr val="000000"/>
                </a:solidFill>
                <a:latin typeface="Calibri"/>
              </a:rPr>
              <a:t> Доказите мора да се уверливи и разбирливи за судиите и/или поротниците.</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Пропорционалност:</a:t>
            </a:r>
            <a:r>
              <a:rPr b="0" lang="mk-MK" sz="1100" spc="-1" strike="noStrike">
                <a:solidFill>
                  <a:srgbClr val="000000"/>
                </a:solidFill>
                <a:latin typeface="Calibri"/>
              </a:rPr>
              <a:t> Од примената на овој критериум врз дигиталната форензичка анализа произлегува дека целата истражна постапка мора да биде соодветна и адекватна: ползата која произлегува од примена на одредена мерка мора да биде многу поголема од штетата на која би ја изложила одредената мерка странката или странките во спорот.</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425168-33C6-427F-8AD9-94B4D0E784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0574B-7F32-49C7-B24A-E18B91CAA67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CC1D8-2A95-4528-ADE6-92AD05B02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3B876-D589-4F2C-8178-79F199225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4D472-1BCE-4107-90FC-349AF4276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7CA4B-292B-4E2A-8586-76CFBEDB7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0B2A0-5407-455C-A562-498111B6E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756FF-6492-4547-BB9C-6992766A7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2321A-1008-4EC4-8E07-04903BAAE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1D409-8012-4CEA-8BEE-2C4BB3B2D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6D406-B5AC-4020-AD7B-C1635F11A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B6A97-D7BC-4387-904F-D4915A98A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6643D-5022-401B-B420-F9DFA820C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BC17C-86D7-4E78-AD83-29028AA02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7980D5-81D8-462C-9F10-E4AB79DD76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1.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Вовед во начелата и постапките за електронски докази </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ако да се користи Прирачникот?</a:t>
            </a:r>
            <a:endParaRPr b="0" lang="en-US" sz="4400" spc="-1" strike="noStrike">
              <a:solidFill>
                <a:srgbClr val="000000"/>
              </a:solidFill>
              <a:latin typeface="Calibri"/>
            </a:endParaRPr>
          </a:p>
        </p:txBody>
      </p:sp>
      <p:sp>
        <p:nvSpPr>
          <p:cNvPr id="68" name=""/>
          <p:cNvSpPr txBox="1"/>
          <p:nvPr/>
        </p:nvSpPr>
        <p:spPr>
          <a:xfrm>
            <a:off x="457200" y="1599840"/>
            <a:ext cx="8229600" cy="48718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ирачникот е поделен на хронолошки делови кои имаат за цел да му обезбедат помош на секое лице кое постапува со електронски докази.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вие делови ги опфаќаат сите фази од првичното идентификување на потенцијалните извори на докази, па сè до претресот и заплената на податоците, вклучително и фаќање на податоци од Интернет, потоа анализа, подготовка и изработка на извештаи за доказите.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тоа следат специјализирани делови за органите за спроведување на законот, обвинителите, судиите и приватните истражители, адвокати, нотари и стручните служби</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имболи во Прирачникот</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1" name="Picture 4" descr=""/>
          <p:cNvPicPr/>
          <p:nvPr/>
        </p:nvPicPr>
        <p:blipFill>
          <a:blip r:embed="rId1"/>
          <a:stretch/>
        </p:blipFill>
        <p:spPr>
          <a:xfrm>
            <a:off x="833400" y="1930320"/>
            <a:ext cx="977760" cy="908280"/>
          </a:xfrm>
          <a:prstGeom prst="rect">
            <a:avLst/>
          </a:prstGeom>
          <a:ln w="0">
            <a:noFill/>
          </a:ln>
        </p:spPr>
      </p:pic>
      <p:pic>
        <p:nvPicPr>
          <p:cNvPr id="72" name="Bild 1" descr=""/>
          <p:cNvPicPr/>
          <p:nvPr/>
        </p:nvPicPr>
        <p:blipFill>
          <a:blip r:embed="rId2"/>
          <a:stretch/>
        </p:blipFill>
        <p:spPr>
          <a:xfrm>
            <a:off x="3408480" y="1839960"/>
            <a:ext cx="890640" cy="868320"/>
          </a:xfrm>
          <a:prstGeom prst="rect">
            <a:avLst/>
          </a:prstGeom>
          <a:ln w="0">
            <a:noFill/>
          </a:ln>
        </p:spPr>
      </p:pic>
      <p:pic>
        <p:nvPicPr>
          <p:cNvPr id="73" name="Picture 6" descr="C:\Users\URASMUSSEN\AppData\Local\Microsoft\Windows\Temporary Internet Files\Content.Word\gnome_terminal-1.png"/>
          <p:cNvPicPr/>
          <p:nvPr/>
        </p:nvPicPr>
        <p:blipFill>
          <a:blip r:embed="rId3"/>
          <a:stretch/>
        </p:blipFill>
        <p:spPr>
          <a:xfrm>
            <a:off x="6275520" y="1930320"/>
            <a:ext cx="839520" cy="777960"/>
          </a:xfrm>
          <a:prstGeom prst="rect">
            <a:avLst/>
          </a:prstGeom>
          <a:ln w="0">
            <a:noFill/>
          </a:ln>
        </p:spPr>
      </p:pic>
      <p:pic>
        <p:nvPicPr>
          <p:cNvPr id="74" name="Grafik 87" descr=""/>
          <p:cNvPicPr/>
          <p:nvPr/>
        </p:nvPicPr>
        <p:blipFill>
          <a:blip r:embed="rId4"/>
          <a:stretch/>
        </p:blipFill>
        <p:spPr>
          <a:xfrm>
            <a:off x="833400" y="4030560"/>
            <a:ext cx="949320" cy="1060560"/>
          </a:xfrm>
          <a:prstGeom prst="rect">
            <a:avLst/>
          </a:prstGeom>
          <a:ln w="0">
            <a:noFill/>
          </a:ln>
        </p:spPr>
      </p:pic>
      <p:pic>
        <p:nvPicPr>
          <p:cNvPr id="75" name="Grafik 397" descr=""/>
          <p:cNvPicPr/>
          <p:nvPr/>
        </p:nvPicPr>
        <p:blipFill>
          <a:blip r:embed="rId5"/>
          <a:stretch/>
        </p:blipFill>
        <p:spPr>
          <a:xfrm>
            <a:off x="3502080" y="4033800"/>
            <a:ext cx="1006560" cy="1049400"/>
          </a:xfrm>
          <a:prstGeom prst="rect">
            <a:avLst/>
          </a:prstGeom>
          <a:ln w="0">
            <a:noFill/>
          </a:ln>
        </p:spPr>
      </p:pic>
      <p:pic>
        <p:nvPicPr>
          <p:cNvPr id="76" name="Grafik 398" descr=""/>
          <p:cNvPicPr/>
          <p:nvPr/>
        </p:nvPicPr>
        <p:blipFill>
          <a:blip r:embed="rId6"/>
          <a:stretch/>
        </p:blipFill>
        <p:spPr>
          <a:xfrm>
            <a:off x="6259680" y="4033800"/>
            <a:ext cx="1035000" cy="1049400"/>
          </a:xfrm>
          <a:prstGeom prst="rect">
            <a:avLst/>
          </a:prstGeom>
          <a:ln w="0">
            <a:noFill/>
          </a:ln>
        </p:spPr>
      </p:pic>
      <p:sp>
        <p:nvSpPr>
          <p:cNvPr id="77" name="TextBox 10"/>
          <p:cNvSpPr/>
          <p:nvPr/>
        </p:nvSpPr>
        <p:spPr>
          <a:xfrm>
            <a:off x="637200" y="2933640"/>
            <a:ext cx="146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Информации</a:t>
            </a:r>
            <a:endParaRPr b="0" lang="en-US" sz="1800" spc="-1" strike="noStrike">
              <a:solidFill>
                <a:srgbClr val="000000"/>
              </a:solidFill>
              <a:latin typeface="Calibri"/>
            </a:endParaRPr>
          </a:p>
        </p:txBody>
      </p:sp>
      <p:sp>
        <p:nvSpPr>
          <p:cNvPr id="78" name="TextBox 11"/>
          <p:cNvSpPr/>
          <p:nvPr/>
        </p:nvSpPr>
        <p:spPr>
          <a:xfrm>
            <a:off x="3134520" y="2838600"/>
            <a:ext cx="144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Важни</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информации</a:t>
            </a:r>
            <a:endParaRPr b="0" lang="en-US" sz="1800" spc="-1" strike="noStrike">
              <a:solidFill>
                <a:srgbClr val="000000"/>
              </a:solidFill>
              <a:latin typeface="Calibri"/>
            </a:endParaRPr>
          </a:p>
        </p:txBody>
      </p:sp>
      <p:sp>
        <p:nvSpPr>
          <p:cNvPr id="79" name="TextBox 12"/>
          <p:cNvSpPr/>
          <p:nvPr/>
        </p:nvSpPr>
        <p:spPr>
          <a:xfrm>
            <a:off x="5082480" y="2838600"/>
            <a:ext cx="3123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Високо технички информации</a:t>
            </a:r>
            <a:endParaRPr b="0" lang="en-US" sz="1800" spc="-1" strike="noStrike">
              <a:solidFill>
                <a:srgbClr val="000000"/>
              </a:solidFill>
              <a:latin typeface="Calibri"/>
            </a:endParaRPr>
          </a:p>
        </p:txBody>
      </p:sp>
      <p:sp>
        <p:nvSpPr>
          <p:cNvPr id="80" name="TextBox 13"/>
          <p:cNvSpPr/>
          <p:nvPr/>
        </p:nvSpPr>
        <p:spPr>
          <a:xfrm>
            <a:off x="718920" y="5262480"/>
            <a:ext cx="1303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Основни </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ознавања </a:t>
            </a:r>
            <a:endParaRPr b="0" lang="en-US" sz="1800" spc="-1" strike="noStrike">
              <a:solidFill>
                <a:srgbClr val="000000"/>
              </a:solidFill>
              <a:latin typeface="Calibri"/>
            </a:endParaRPr>
          </a:p>
        </p:txBody>
      </p:sp>
      <p:sp>
        <p:nvSpPr>
          <p:cNvPr id="81" name="TextBox 14"/>
          <p:cNvSpPr/>
          <p:nvPr/>
        </p:nvSpPr>
        <p:spPr>
          <a:xfrm>
            <a:off x="3368520" y="5268960"/>
            <a:ext cx="1303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Напредни</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ознавања </a:t>
            </a:r>
            <a:endParaRPr b="0" lang="en-US" sz="1800" spc="-1" strike="noStrike">
              <a:solidFill>
                <a:srgbClr val="000000"/>
              </a:solidFill>
              <a:latin typeface="Calibri"/>
            </a:endParaRPr>
          </a:p>
        </p:txBody>
      </p:sp>
      <p:sp>
        <p:nvSpPr>
          <p:cNvPr id="82" name="TextBox 15"/>
          <p:cNvSpPr/>
          <p:nvPr/>
        </p:nvSpPr>
        <p:spPr>
          <a:xfrm>
            <a:off x="5828400" y="5268960"/>
            <a:ext cx="1883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Специјализирани</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ознавањ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онвенцијата од Будимпешта</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нвенцијата од Будимпешта нуди многу одредби за јакнење на истрагите во кои се инволвирани електронски докази. Некои од тие одредби се споменати во овој Прирачник; сепак ова не е Прирачник за Конвенцијата и корисниците кога сакаат да ги применат одредбите од Конвенцијата секогаш треба да ги користат авторитативните документи достапни во Советот на Европа.</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едност</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Во околности во кои корисникот не е сигурен како да постапи, тој треба да се наврати на начелата за да ги одбере најделотворните дејствија.  </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рисникот треба да ги употреби советите кои се релевантни за видот на доказите со кои постапува и да побара помош од специјализирани експерти кога прашањата со кои се соочува го надминуваат опфатот на Прирачникот.  </a:t>
            </a:r>
            <a:endParaRPr b="0" lang="en-US" sz="3200" spc="-1" strike="noStrike">
              <a:solidFill>
                <a:srgbClr val="000000"/>
              </a:solidFill>
              <a:latin typeface="Calibri"/>
            </a:endParaRPr>
          </a:p>
          <a:p>
            <a:pPr marL="335880" indent="-3358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ериод на важност на Прирачникот</a:t>
            </a:r>
            <a:endParaRPr b="0" lang="en-US" sz="4400" spc="-1" strike="noStrike">
              <a:solidFill>
                <a:srgbClr val="000000"/>
              </a:solidFill>
              <a:latin typeface="Calibri"/>
            </a:endParaRPr>
          </a:p>
        </p:txBody>
      </p:sp>
      <p:sp>
        <p:nvSpPr>
          <p:cNvPr id="88" name=""/>
          <p:cNvSpPr txBox="1"/>
          <p:nvPr/>
        </p:nvSpPr>
        <p:spPr>
          <a:xfrm>
            <a:off x="457200" y="1599840"/>
            <a:ext cx="8229600" cy="4815000"/>
          </a:xfrm>
          <a:prstGeom prst="rect">
            <a:avLst/>
          </a:prstGeom>
          <a:noFill/>
          <a:ln w="0">
            <a:noFill/>
          </a:ln>
        </p:spPr>
        <p:txBody>
          <a:bodyPr anchor="t">
            <a:normAutofit fontScale="92000"/>
          </a:bodyPr>
          <a:p>
            <a:pPr marL="315360" indent="-3153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Прирачникот и информациите содржани во истиот се сметаат за валидни до 31 декември 2013 година.  </a:t>
            </a:r>
            <a:endParaRPr b="0" lang="en-US" sz="3000" spc="-1" strike="noStrike">
              <a:solidFill>
                <a:srgbClr val="000000"/>
              </a:solidFill>
              <a:latin typeface="Calibri"/>
            </a:endParaRPr>
          </a:p>
          <a:p>
            <a:pPr marL="315360" indent="-3153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Целта е Прирачникот да се новелира пред тој датум за да се земат предвид евентуалните измени во технологијата, постапките и практиките кои се релевантни за прашањата опфатени со Прирачникот.   </a:t>
            </a:r>
            <a:endParaRPr b="0" lang="en-US" sz="3000" spc="-1" strike="noStrike">
              <a:solidFill>
                <a:srgbClr val="000000"/>
              </a:solidFill>
              <a:latin typeface="Calibri"/>
            </a:endParaRPr>
          </a:p>
          <a:p>
            <a:pPr marL="315360" indent="-3153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екое лице или организација која сака да го користи прирачникот по погоренаведениот датум треба да се обрати до Советот на Европа за да ја добијат најновата верзија.</a:t>
            </a:r>
            <a:endParaRPr b="0" lang="en-US" sz="3000" spc="-1" strike="noStrike">
              <a:solidFill>
                <a:srgbClr val="000000"/>
              </a:solidFill>
              <a:latin typeface="Calibri"/>
            </a:endParaRPr>
          </a:p>
          <a:p>
            <a:pPr marL="315360" indent="-31536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одатоци</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А – Дијаграм за претрес и заплена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Б– Дијаграм за форензичка обработка на живи податоци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В –Дијаграм за подготовка за приватниот сектор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Г– Дијаграм за претрес и заплена во приватниот сектор</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Г – Дијаграм за прибирање на дигитални докази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Ѓ – Евиденција за процесот на постапување со доказите</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Е - Прашалник за органот надлежен за чување на доказите</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Ж - Образец за етикети на доказните предмети</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З -Образец за прибирање на слики</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AutoShape 4"/>
          <p:cNvSpPr/>
          <p:nvPr/>
        </p:nvSpPr>
        <p:spPr>
          <a:xfrm>
            <a:off x="2828880" y="873000"/>
            <a:ext cx="3668760" cy="5551560"/>
          </a:xfrm>
          <a:custGeom>
            <a:avLst/>
            <a:gdLst>
              <a:gd name="textAreaLeft" fmla="*/ 26280 w 3668760"/>
              <a:gd name="textAreaRight" fmla="*/ 3642480 w 3668760"/>
              <a:gd name="textAreaTop" fmla="*/ 26280 h 5551560"/>
              <a:gd name="textAreaBottom" fmla="*/ 5525280 h 5551560"/>
            </a:gdLst>
            <a:ahLst/>
            <a:rect l="textAreaLeft" t="textAreaTop" r="textAreaRight" b="textAreaBottom"/>
            <a:pathLst>
              <a:path w="21600" h="32684">
                <a:moveTo>
                  <a:pt x="532" y="0"/>
                </a:moveTo>
                <a:arcTo wR="532" hR="532" stAng="16200000" swAng="-5400000"/>
                <a:lnTo>
                  <a:pt x="0" y="32152"/>
                </a:lnTo>
                <a:arcTo wR="532" hR="532" stAng="10800000" swAng="-5400000"/>
                <a:lnTo>
                  <a:pt x="21068" y="32684"/>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Freeform 6"/>
          <p:cNvSpPr/>
          <p:nvPr/>
        </p:nvSpPr>
        <p:spPr>
          <a:xfrm>
            <a:off x="2922480" y="873000"/>
            <a:ext cx="3506760" cy="185760"/>
          </a:xfrm>
          <a:prstGeom prst="pie">
            <a:avLst/>
          </a:pr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12"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20"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2"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4"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25"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26"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27"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28"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29"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30"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131"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32"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33"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34"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35"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Електронски доказ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37" name="Rectangle 5"/>
          <p:cNvSpPr/>
          <p:nvPr/>
        </p:nvSpPr>
        <p:spPr>
          <a:xfrm>
            <a:off x="550800" y="1428840"/>
            <a:ext cx="8136000" cy="521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За да се спроведат, сите правни постапки се потпираат на прибраните докази.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Традиционално и историски, доказите биле во форма на документи, фотографии и слично.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оказите кои се користат во судските постапки кои произлегуваат од електронски уреди како што се компјутерите и нивните периферни уреди, компјутерски мрежи, мобилни телефони дигитални камери, други мобилни уреди, вклучително и уреди за чување податоци, како и од интернет сите преставуваат форма на електронски доказ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Електронските докази не се различни од традиционалните докази во смисла на тоа дека странката која ги изведува во правната постапка треба да може да покаже дека доказите не се ништо повеќе или помалку од она што биле кога биле прибрани.   Со други зборови, дека доказите не се менувани, дека од нив не е ништо отстрането, или дека на нив ништо не е додадено, односно дека тие не претрпеле никакви измени.</a:t>
            </a:r>
            <a:endParaRPr b="0" lang="en-US" sz="3200" spc="-1" strike="noStrike">
              <a:solidFill>
                <a:srgbClr val="000000"/>
              </a:solidFill>
              <a:latin typeface="Calibri"/>
            </a:endParaRPr>
          </a:p>
          <a:p>
            <a:pPr marL="308520" indent="-3085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амата природа на податоците и информациите кои се во електронска форма ги прави поподложни на манипулации отколку традиционалните форми на докази.  Со ова се покренуваат специфични прашања за правосудниот систем и истото бара постапувањето со таквите податоци да се изведува на начин со кој се обезбедува дека може да се одржи и докаже дека таквите докази непрекинато го задржале својот интегритет.</a:t>
            </a:r>
            <a:r>
              <a:rPr b="0" lang="mk-MK"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разговараат за содржината на Прирачникот за електронски докази на Советот на Европа</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идентификуваат начелата за постапување со електронски докази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објаснат посебните карактеристики на електронските докази  </a:t>
            </a:r>
            <a:endParaRPr b="0" lang="en-US" sz="26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Иако националното законодавство често не вклучува директни или експлицитни упати на електронски докази,а уште помалку и конкретна и посебна дефиниција на електронски докази, дефиниција, која е општо прифатена, преставува добра почетна основа за дискусија за посебниот карактер на електронските докази: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Електронските докази се информации создадени, зачувани или пренесени со електронски уреди кои можат да се изведат пред суд.</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осебни карактеристики</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ие се невидливи за нестручното ок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оже да има потреба податоците да ги толкува специјализиран експер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ие се особено нестабил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Електронските докази може да се изменат или да се уништат со нивно нормално користењ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ие можат безгранично да се копираат</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800" spc="-1" strike="noStrike">
                <a:solidFill>
                  <a:srgbClr val="000000"/>
                </a:solidFill>
                <a:latin typeface="Calibri"/>
              </a:rPr>
              <a:t>Прашања поврзани со електронските докази</a:t>
            </a:r>
            <a:endParaRPr b="0" lang="en-US" sz="3800" spc="-1" strike="noStrike">
              <a:solidFill>
                <a:srgbClr val="000000"/>
              </a:solidFill>
              <a:latin typeface="Calibri"/>
            </a:endParaRPr>
          </a:p>
        </p:txBody>
      </p:sp>
      <p:sp>
        <p:nvSpPr>
          <p:cNvPr id="147" name=""/>
          <p:cNvSpPr txBox="1"/>
          <p:nvPr/>
        </p:nvSpPr>
        <p:spPr>
          <a:xfrm>
            <a:off x="457200" y="1600200"/>
            <a:ext cx="8229600" cy="48578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остапување од страна на специјализиран експер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Брза еволуција на изворите на електронски докази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Користење на соодветни постапки, техники и алатк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опуштен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Веродостојн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Целовит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Сигурност</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Уверлив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ропорционалност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игитална форензика</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Гранката на форензичката наука која е посветена на идентификување, прибирање, обработка и анализа на електронски докази со цел нивна допуштеност во судската постапка се нарекува дигитална форензика.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AutoShape 4"/>
          <p:cNvSpPr/>
          <p:nvPr/>
        </p:nvSpPr>
        <p:spPr>
          <a:xfrm>
            <a:off x="2828880" y="873000"/>
            <a:ext cx="3668760" cy="5551560"/>
          </a:xfrm>
          <a:custGeom>
            <a:avLst/>
            <a:gdLst>
              <a:gd name="textAreaLeft" fmla="*/ 26280 w 3668760"/>
              <a:gd name="textAreaRight" fmla="*/ 3642480 w 3668760"/>
              <a:gd name="textAreaTop" fmla="*/ 26280 h 5551560"/>
              <a:gd name="textAreaBottom" fmla="*/ 5525280 h 5551560"/>
            </a:gdLst>
            <a:ahLst/>
            <a:rect l="textAreaLeft" t="textAreaTop" r="textAreaRight" b="textAreaBottom"/>
            <a:pathLst>
              <a:path w="21600" h="32684">
                <a:moveTo>
                  <a:pt x="532" y="0"/>
                </a:moveTo>
                <a:arcTo wR="532" hR="532" stAng="16200000" swAng="-5400000"/>
                <a:lnTo>
                  <a:pt x="0" y="32152"/>
                </a:lnTo>
                <a:arcTo wR="532" hR="532" stAng="10800000" swAng="-5400000"/>
                <a:lnTo>
                  <a:pt x="21068" y="32684"/>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6"/>
          <p:cNvSpPr/>
          <p:nvPr/>
        </p:nvSpPr>
        <p:spPr>
          <a:xfrm>
            <a:off x="2922480" y="873000"/>
            <a:ext cx="3506760" cy="185760"/>
          </a:xfrm>
          <a:prstGeom prst="pie">
            <a:avLst/>
          </a:pr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71"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79"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81"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83"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84"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85"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86"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87"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88"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89"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190"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91"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92"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93"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94" name="TextBox 48"/>
          <p:cNvSpPr/>
          <p:nvPr/>
        </p:nvSpPr>
        <p:spPr>
          <a:xfrm>
            <a:off x="3144960" y="3025800"/>
            <a:ext cx="30686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Начелата за електронски доказ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1- Интегритет на податоците </a:t>
            </a:r>
            <a:endParaRPr b="0" lang="en-US" sz="4400" spc="-1" strike="noStrike">
              <a:solidFill>
                <a:srgbClr val="000000"/>
              </a:solidFill>
              <a:latin typeface="Calibri"/>
            </a:endParaRPr>
          </a:p>
        </p:txBody>
      </p:sp>
      <p:sp>
        <p:nvSpPr>
          <p:cNvPr id="196" name=""/>
          <p:cNvSpPr txBox="1"/>
          <p:nvPr/>
        </p:nvSpPr>
        <p:spPr>
          <a:xfrm>
            <a:off x="457200" y="1599840"/>
            <a:ext cx="8229600" cy="506412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Со ниту едно преземено дејствие не смее да се менува електронскиот уред или медиум, кој подоцна ќе се користи во суд. </a:t>
            </a:r>
            <a:endParaRPr b="0" lang="en-US" sz="2200" spc="-1" strike="noStrike">
              <a:solidFill>
                <a:srgbClr val="000000"/>
              </a:solidFill>
              <a:latin typeface="Calibri"/>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При постапување со електронските уреди и податоци, истите не смеат да се менуваат, ниту нивниот софтвер, ниту нивниот хардвер. Надлежното лице е одговорно за интегритетот на материјалот кој е собран од местото на настанот и од него почнува ланецот на процесот на постапување со доказите</a:t>
            </a:r>
            <a:endParaRPr b="0" lang="en-US" sz="2200" spc="-1" strike="noStrike">
              <a:solidFill>
                <a:srgbClr val="000000"/>
              </a:solidFill>
              <a:latin typeface="Calibri"/>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Има околности во кои ќе треба да се донесе одлука да се пристапи кон податоци на „жив“ компјутерски систем за да се одбегне губењето на потенцијални докази Ова мора да се изведе на начин кој најмалку влијае врз податоците и од страна на квалификувано лице. Начелата од 2 до 5 треба да се земат предвид доколку се смета дека е неопходно да се преземе таков вид на дејствие.</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2- Ревизорска трага</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Треба да се направи и зачува ревизорска трага или друг вид на евиденција за сите дејствија преземени при постапувањето со електронските докази. Следејќи ја ревизорската трага независна трета страна би требало да го постигне истиот резултат.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д суштинска важност е точно да се евидентираат сите дејствија за да ѝ се овозможи на трета страна да направи реконструкција на дејствијата на лицето кое прво интервенирало на местото на настанот за да се обезбеди доказната вредност пред судот. Сите дејствија во однос на запленувањето, пристапот, чувањето или преносот на електронските докази мора да бидат целосно документирани, зачувани и достапни за контрола.</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3- Поддршка од специјализиран експерт</a:t>
            </a:r>
            <a:endParaRPr b="0" lang="en-US" sz="4400" spc="-1" strike="noStrike">
              <a:solidFill>
                <a:srgbClr val="000000"/>
              </a:solidFill>
              <a:latin typeface="Calibri"/>
            </a:endParaRPr>
          </a:p>
        </p:txBody>
      </p:sp>
      <p:sp>
        <p:nvSpPr>
          <p:cNvPr id="200" name=""/>
          <p:cNvSpPr txBox="1"/>
          <p:nvPr/>
        </p:nvSpPr>
        <p:spPr>
          <a:xfrm>
            <a:off x="457200" y="1600200"/>
            <a:ext cx="8229600" cy="50356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околку се претпоставува дека во текот на одредена операција ќе се најдат електронски докази, надлежното лице треба навреме да ги извести специјализираните експерти/надворешни соработници.</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Во целите на истраги во кои има претрес и заплена на електронски докази може да биде неопходно да се консултираат надворешни специјализирани експерти. Сите надворешни експерти треба да бидат запознаени со начелата дадени во овој Прирачник или во други релевантни документи. Специјализираниот експерт треба да го поседува следново:</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ата специјалистичка експертиза и искуство на ова поле,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познавања за истраги,</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познавања за предметот на истрагата,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познавања од областа на правото,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Соодветни комуникациски вештини (и за писмени и за усни образложенија),</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јазични вештини.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4 – Соодветна обука </a:t>
            </a:r>
            <a:endParaRPr b="0" lang="en-US" sz="4400" spc="-1" strike="noStrike">
              <a:solidFill>
                <a:srgbClr val="000000"/>
              </a:solidFill>
              <a:latin typeface="Calibri"/>
            </a:endParaRPr>
          </a:p>
        </p:txBody>
      </p:sp>
      <p:sp>
        <p:nvSpPr>
          <p:cNvPr id="202" name=""/>
          <p:cNvSpPr txBox="1"/>
          <p:nvPr/>
        </p:nvSpPr>
        <p:spPr>
          <a:xfrm>
            <a:off x="457200" y="1600200"/>
            <a:ext cx="8229600" cy="4897440"/>
          </a:xfrm>
          <a:prstGeom prst="rect">
            <a:avLst/>
          </a:prstGeom>
          <a:noFill/>
          <a:ln w="0">
            <a:noFill/>
          </a:ln>
        </p:spPr>
        <p:txBody>
          <a:bodyPr anchor="t">
            <a:normAutofit/>
          </a:bodyPr>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Лицата кои први интервенираат на местото на настанот мораат да бидат соодветно обучени за да можат да го извршат претресот и да ги запленат електронските докази, доколку на местото на настанот не може да биде присутен специјализиран експерт.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Во исклучителни околности кога е неопходно лицето кое прво интервенира на местото на настанот да собере електронски докази и/или да пристапи кон оригинални податоци кои се на електронски уред или дигитален уред за чување податоци, тоа лице мора да биде обучено тоа да го стори соодветно и да ја објасни релевантноста и импликациите на неговите дејствија.</a:t>
            </a: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5- Законитост</a:t>
            </a:r>
            <a:endParaRPr b="0" lang="en-US" sz="4400" spc="-1" strike="noStrike">
              <a:solidFill>
                <a:srgbClr val="000000"/>
              </a:solidFill>
              <a:latin typeface="Calibri"/>
            </a:endParaRPr>
          </a:p>
        </p:txBody>
      </p:sp>
      <p:sp>
        <p:nvSpPr>
          <p:cNvPr id="204" name=""/>
          <p:cNvSpPr txBox="1"/>
          <p:nvPr/>
        </p:nvSpPr>
        <p:spPr>
          <a:xfrm>
            <a:off x="457200" y="1600200"/>
            <a:ext cx="8229600" cy="507528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Лицето и органот надлежен за случајот се одговорни да обезбедат дека се почитуваат законот, општите форензички и процедурални правила и погоре наведените начела. Ова се однесува на поседувањето и пристапот кон електронските докази.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екоја земја треба да ги земе предвид сопственото законодавство и регулатива при толкување на мерките предложени во овој документ.</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Прирачник на Советот на Европа за електронски докази </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Вовед</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Извори на доказ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ретрес и заплена на местото на настанот/ осомничениот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Фаќање докази од интернет</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одатоци во посед на трети стран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Анализа на доказ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одготовка и презентација на доказите</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Јурисдикција</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Разгледување на специфичните улог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Случа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Глосар</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атамошни информаци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одатоц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наставната единица слушателите ќе можат: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разговараат за содржината на Прирачникот за електронски докази на Советот на Европа</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идентификуваат начелата за постапување со електронски докази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објаснат посебните карактеристики на електронските докази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06"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еглед на целите на наставните единиц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мената на Прирачникот</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Намената на Прирачникот е да даде поддршка и насоки во идентификувањето и постапувањето со електронските докази преку користење на методи со кои се обезбедува дека во целиот процес ќе биде зачувана веродостојноста на доказите во текот на постапката.   </a:t>
            </a:r>
            <a:endParaRPr b="0" lang="en-US" sz="3200" spc="-1" strike="noStrike">
              <a:solidFill>
                <a:srgbClr val="000000"/>
              </a:solidFill>
              <a:latin typeface="Calibri"/>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Намената на Прирачникот</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рирачникот нема за цел да послужи како детално „чекор по чекор“ упатство за тоа како да се постапува со електронските докази во сите фази на истрагата.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рирачникот исто така содржи преглед на прашањата кои се однесуваат електронските докази и обезбедува сеопфатни совети за ваквите прашања.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Корисниците на Прирачникот треба да истражат дали на национално ниво веќе постојат насоки за дадената област.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Ова е сепак основен Прирачник; има и прирачници кои се подетални и нудат практични совети за специјализирани експерти.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За кого е наменет Прирачникот?</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ирачникот е наменет за користење во земјите кои подготвуваат одговор на компјутерскиот криминал и кои ги воспоставуваат правилата и протоколите за постапување со електронски докази. </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ајголем дел од постоечките прирачници се наменети за органите за спроведување на законот. </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вој Прирачник е наменет за поширок круг на корисници, како што се судии, обвинители и останатите кои работата во правосудниот систем, како што се приватни истражители, адвокати, нотари и стручните правосудни служби.</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Како да се користи Прирачникот?</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вој Прирачник е наменет за оние кои наидуваат на извори на електронски докази во текот на нивното работење и кои ќе ги користат информациите добиени од таквите извори во правосудниот систем на нивната земја или во правосудниот систем на друга земја.   </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Прирачникот треба да се користи како пример кој може да се адаптира и да се прилагоди на потребите на земјите во склад со нивното законодавство, политика и постапки.</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ако да се користи Прирачникот?</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ирачникот дава основни начела кои го водат корисникот. Овие начела се во склад со начелата кои се општо прифатени на меѓународно ниво како добри практики за постапување со електронски докази.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ако да се користи Прирачникот?</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орисниците на Прирачникот треба да осигураат дека целосно ги познаваат законите во нивната земја кои се однесуваат на електронските докази и нивната допуштеност. </a:t>
            </a:r>
            <a:endParaRPr b="0" lang="en-US" sz="3000" spc="-1" strike="noStrike">
              <a:solidFill>
                <a:srgbClr val="000000"/>
              </a:solidFill>
              <a:latin typeface="Calibri"/>
            </a:endParaRPr>
          </a:p>
          <a:p>
            <a:pPr marL="325800" indent="-32580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ационалното право е примарната норма во сите околности. Не се очекува советите кои се дадени во Прирачникот да бидат во колизија со било кое национално законодавство во однос на практичните аспекти на постапувањето со електронски докази.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4T23:29:43Z</dcterms:modified>
  <cp:revision>35</cp:revision>
  <dc:subject/>
  <dc:title>Introductory Cybercrime Training for Judges and Prosecutors</dc:title>
</cp:coreProperties>
</file>