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B3EF8-994F-4BD3-954D-BBDAA34C61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дготвена е PowerPoint презентација за да му се помогне на обучувачот да поттикне дискусија за сите наставни единици од курсот. Обучувачот треба да ги подели формуларите за оценка на курсот пред почетокот на ова предавање. Во одредени околности, може да е соодветно формуларите за оценка на курсот да се поделат уште на самиот почеток на курсот со цел слушателите истиот да го пополнуваат ако што минува курсот и кога им се свежи сеќавањата за предавањата. Исто така има тенденција доколку им се дадат на крајот од курсот слушателите да не ги пополнат формулираните целосно.  </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CD23B-F3B5-4562-BD11-0BFD40DABA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82A11-BB73-4C75-84F3-72DC8398E9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ако и во претходните наставни единици, треба да се следи дневниот ред и очекуваните резултати дадени на почетокот на наставната единица.</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7DB44-A98A-4413-86BA-04F5BB9324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учувачот треба да направи краток преглед на дневниот ред и очекуваните резултати на секоја наставна единица. За идно изведување на курсот треба да се запишат повратните информации и предлози на слушателите.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3CD3A-2812-43AA-A38C-94CAA3B302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B8163-D35C-415A-8C1A-8F6A3C464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69B50-390D-4FE2-9490-5BE8938B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B98B3-C3D2-43BA-9C29-B2E52C356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DC7B7-F7EB-4F35-B1D6-8D7A06A60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C3AD-1CA7-4EC1-A509-69EB8513D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D723-EFD5-4137-B2A2-D79D33B9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E321-AFD8-4300-9E56-66001F328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564EA-DE3A-4EAF-B70B-D1AC030B2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14546-42E4-4801-A667-54D440F87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93A8-CC8A-4AAD-92C5-5EF9DAB9D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149F-7346-4BA2-BABF-96380908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BC3B7-0542-4068-B28D-086B24C15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26689-B8F9-4871-88C9-2B4A32FA4A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Наставна единица 1.3.5</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Повратни информации од слушателите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Завршување на курсот</a:t>
            </a:r>
            <a:endParaRPr b="0" lang="en-US" sz="28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2 Претрес и заплена </a:t>
            </a:r>
            <a:br>
              <a:rPr sz="4000"/>
            </a:br>
            <a:endParaRPr b="0" lang="en-US" sz="4000" spc="-1" strike="noStrike">
              <a:solidFill>
                <a:srgbClr val="000000"/>
              </a:solidFill>
              <a:latin typeface="Calibri"/>
            </a:endParaRPr>
          </a:p>
        </p:txBody>
      </p:sp>
      <p:sp>
        <p:nvSpPr>
          <p:cNvPr id="70" name=""/>
          <p:cNvSpPr txBox="1"/>
          <p:nvPr/>
        </p:nvSpPr>
        <p:spPr>
          <a:xfrm>
            <a:off x="457200" y="1417680"/>
            <a:ext cx="8229600" cy="4960800"/>
          </a:xfrm>
          <a:prstGeom prst="rect">
            <a:avLst/>
          </a:prstGeom>
          <a:noFill/>
          <a:ln w="0">
            <a:noFill/>
          </a:ln>
        </p:spPr>
        <p:txBody>
          <a:bodyPr anchor="t">
            <a:normAutofit/>
          </a:bodyPr>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ea typeface="ＭＳ Ｐゴシック"/>
              </a:rPr>
              <a:t>По предавањето на оваа наставна единица слушателите ќе можат: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о објаснат соодветното планирање и подготовка на упад заради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алатките и алатките кои може да се потребни за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о би го обезбедиле и документирале местото на кривичниот настан каде се појавуваат електронски докази. </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1</a:t>
            </a:r>
            <a:br>
              <a:rPr sz="4000"/>
            </a:br>
            <a:endParaRPr b="0" lang="en-US" sz="4000" spc="-1" strike="noStrike">
              <a:solidFill>
                <a:srgbClr val="000000"/>
              </a:solidFill>
              <a:latin typeface="Calibri"/>
            </a:endParaRPr>
          </a:p>
        </p:txBody>
      </p:sp>
      <p:sp>
        <p:nvSpPr>
          <p:cNvPr id="72" name=""/>
          <p:cNvSpPr txBox="1"/>
          <p:nvPr/>
        </p:nvSpPr>
        <p:spPr>
          <a:xfrm>
            <a:off x="457200" y="1600200"/>
            <a:ext cx="8229600" cy="5035680"/>
          </a:xfrm>
          <a:prstGeom prst="rect">
            <a:avLst/>
          </a:prstGeom>
          <a:noFill/>
          <a:ln w="0">
            <a:noFill/>
          </a:ln>
        </p:spPr>
        <p:txBody>
          <a:bodyPr anchor="t">
            <a:normAutofit/>
          </a:bodyPr>
          <a:p>
            <a:pPr>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ea typeface="ＭＳ Ｐゴシック"/>
              </a:rPr>
              <a:t>По предавањето на оваа наставна единица слушателите ќе можат: </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идентификуваат изворите на електронски докази врз основа на покажаните ситуаци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опишат стандардните оперативни постапки (СОП) за пакување, пренос и складирање на електронските доказ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направат разлика меѓу СОП врз основа на видот на уред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разговараат за техниките за проверка дали компјутерскиот систем е вклучен или исклучен</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применат општите упатства за заплена на електронски уреди</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2</a:t>
            </a:r>
            <a:br>
              <a:rPr sz="4000"/>
            </a:br>
            <a:endParaRPr b="0" lang="en-US" sz="4000" spc="-1" strike="noStrike">
              <a:solidFill>
                <a:srgbClr val="000000"/>
              </a:solidFill>
              <a:latin typeface="Calibri"/>
            </a:endParaRPr>
          </a:p>
        </p:txBody>
      </p:sp>
      <p:sp>
        <p:nvSpPr>
          <p:cNvPr id="74" name=""/>
          <p:cNvSpPr txBox="1"/>
          <p:nvPr/>
        </p:nvSpPr>
        <p:spPr>
          <a:xfrm>
            <a:off x="457200" y="1600200"/>
            <a:ext cx="8229600" cy="503568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Arial"/>
                <a:ea typeface="ＭＳ Ｐゴシック"/>
              </a:rPr>
              <a:t>По предавањето на оваа наставна единица слушателите ќе можат: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прават разлика меѓу ситуација со уреди на местото на настанот и ситуација на проток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дефинираат ги термините „нестабилни податоци“, „преодни податоци“ и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бјаснат вредноста на нестабилните податоци за истрагите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ведат барем четири вида на податоци кои би се изгубиле без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роведат мерки за првична реакција кога се соочуваат со компјутерски систем кој е во функција</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опишат предизвиците на шифрирањето и можностите на форензичката анализа на живи податоци во ситуација во која има шифрирање</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зговараат за предизвиците на различните правни рамки во ситуација во која податоците се чуваат на далечински локации, на пример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дефинираат терминот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оредат барем три услуги од компјутерското работење во облак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700" spc="-1" strike="noStrike">
                <a:solidFill>
                  <a:srgbClr val="000000"/>
                </a:solidFill>
                <a:latin typeface="Calibri"/>
              </a:rPr>
              <a:t>1.3.2 и 1.3.3 Кратки упатства за претрес и заплена и практични вежби </a:t>
            </a:r>
            <a:br>
              <a:rPr sz="3700"/>
            </a:br>
            <a:endParaRPr b="0" lang="en-US" sz="37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ea typeface="ＭＳ Ｐゴシック"/>
              </a:rPr>
              <a:t>По предавањето на оваа наставна единица слушателите ќе можат: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оперативен план з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спроведат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постапуваат со електронски доказ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документираат и обезбедат местото н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и идентификуваат изворите на електронски докази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список на запленетите предмет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извештај во зависност од претресо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7000"/>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ја завршила фазата на подготовка и планирање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постапувала со осомниченото лице доколку тоа било присутно на местото на настан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ја претстават и објаснат постапката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ги претстават запленетите предмети релевантни за случај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објаснат како било постапувано со предметите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3.4 Претрес и заплена - Повратни информации по практичната вежба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3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1.3.5 Завршување на курсот</a:t>
            </a:r>
            <a:endParaRPr b="0" lang="en-US" sz="4400" spc="-1" strike="noStrike">
              <a:solidFill>
                <a:srgbClr val="000000"/>
              </a:solidFill>
              <a:latin typeface="Calibri"/>
            </a:endParaRPr>
          </a:p>
        </p:txBody>
      </p:sp>
      <p:sp>
        <p:nvSpPr>
          <p:cNvPr id="80" name=""/>
          <p:cNvSpPr txBox="1"/>
          <p:nvPr/>
        </p:nvSpPr>
        <p:spPr>
          <a:xfrm>
            <a:off x="457200" y="1106640"/>
            <a:ext cx="8229600" cy="5751360"/>
          </a:xfrm>
          <a:prstGeom prst="rect">
            <a:avLst/>
          </a:prstGeom>
          <a:noFill/>
          <a:ln w="0">
            <a:noFill/>
          </a:ln>
        </p:spPr>
        <p:txBody>
          <a:bodyPr anchor="t">
            <a:normAutofit/>
          </a:bodyPr>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о предавањето на оваа наставна единица слушателите ќе можа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дадат соодветни повратни информации за курсот и неговата делотворнос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пополнат формуларите за оценка на курсот на Советот на Европ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идентификуваат прашањата кои треба да се доработат со цел курсот да се предава на национално нив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опишат активностите кои треба да се преземат после курсот со цел материјалите од курсот да се подготват за настава на национално ниво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2"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прв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Отворање на курсот и запознавање</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Вовед за прашањето на електронски доказ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Извори на докази</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втор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Кого и што да земете, обезбедување и документирање на местото на настанот</a:t>
            </a:r>
            <a:endParaRPr b="0" lang="en-US" sz="1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на уреди на местото на настанот и во ситуација на проток на живи податоци</a:t>
            </a:r>
            <a:endParaRPr b="0" lang="en-US" sz="1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трет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Кратки упатства и Практична вежб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Повратни информаци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овратни информации и завршување на курсот</a:t>
            </a:r>
            <a:endParaRPr b="0" lang="en-US" sz="2000" spc="-1" strike="noStrike">
              <a:solidFill>
                <a:srgbClr val="000000"/>
              </a:solidFill>
              <a:latin typeface="Calibri"/>
            </a:endParaRPr>
          </a:p>
          <a:p>
            <a:pPr lvl="2" marL="1143000" indent="-22860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 за курсот на првите тимови</a:t>
            </a:r>
            <a:endParaRPr b="0" lang="en-US" sz="4400" spc="-1" strike="noStrike">
              <a:solidFill>
                <a:srgbClr val="000000"/>
              </a:solidFill>
              <a:latin typeface="Calibri"/>
            </a:endParaRPr>
          </a:p>
        </p:txBody>
      </p:sp>
      <p:sp>
        <p:nvSpPr>
          <p:cNvPr id="54" name=""/>
          <p:cNvSpPr/>
          <p:nvPr/>
        </p:nvSpPr>
        <p:spPr>
          <a:xfrm>
            <a:off x="-1062000" y="173160"/>
            <a:ext cx="4321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Calibri"/>
            </a:endParaRPr>
          </a:p>
        </p:txBody>
      </p:sp>
      <p:pic>
        <p:nvPicPr>
          <p:cNvPr id="55" name="P 1" descr="COE.png"/>
          <p:cNvPicPr/>
          <p:nvPr/>
        </p:nvPicPr>
        <p:blipFill>
          <a:blip r:embed="rId1"/>
          <a:stretch/>
        </p:blipFill>
        <p:spPr>
          <a:xfrm>
            <a:off x="117360" y="1119240"/>
            <a:ext cx="3210120" cy="695160"/>
          </a:xfrm>
          <a:prstGeom prst="rect">
            <a:avLst/>
          </a:prstGeom>
          <a:ln w="0">
            <a:noFill/>
          </a:ln>
        </p:spPr>
      </p:pic>
      <p:graphicFrame>
        <p:nvGraphicFramePr>
          <p:cNvPr id="56" name=""/>
          <p:cNvGraphicFramePr/>
          <p:nvPr/>
        </p:nvGraphicFramePr>
        <p:xfrm>
          <a:off x="-334800" y="723960"/>
          <a:ext cx="11269440" cy="5613480"/>
        </p:xfrm>
        <a:graphic>
          <a:graphicData uri="http://schemas.openxmlformats.org/drawingml/2006/table">
            <a:tbl>
              <a:tblPr/>
              <a:tblGrid>
                <a:gridCol w="1446840"/>
                <a:gridCol w="1111320"/>
                <a:gridCol w="722520"/>
                <a:gridCol w="181440"/>
                <a:gridCol w="363240"/>
                <a:gridCol w="2486520"/>
                <a:gridCol w="216000"/>
                <a:gridCol w="181440"/>
                <a:gridCol w="1208880"/>
                <a:gridCol w="1539720"/>
                <a:gridCol w="181800"/>
                <a:gridCol w="181440"/>
                <a:gridCol w="181440"/>
                <a:gridCol w="181440"/>
                <a:gridCol w="871200"/>
                <a:gridCol w="216000"/>
              </a:tblGrid>
              <a:tr h="861840">
                <a:tc gridSpan="7">
                  <a: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9">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Совет на Европа</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бука за органите за спроведување на законот како дел од првата екипа на местото на настан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28600">
                <a:tc gridSpan="1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Распор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r>
              <a:tr h="636840">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b" marL="90000" marR="90000">
                    <a:lnL w="576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09:00 - 10: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0:00 -11: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00 - 12: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00 - 13: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00 - 14:00 </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4:00 - 15: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3">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5:00 - 16: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6:00 - 17:00</a:t>
                      </a:r>
                      <a:endParaRPr b="0" lang="en-US" sz="900" spc="-1" strike="noStrike">
                        <a:solidFill>
                          <a:srgbClr val="000000"/>
                        </a:solidFill>
                        <a:latin typeface="Calibri"/>
                      </a:endParaRPr>
                    </a:p>
                  </a:txBody>
                  <a:tcPr anchor="b" marL="90000" marR="90000">
                    <a:lnL w="4320">
                      <a:solidFill>
                        <a:srgbClr val="000000"/>
                      </a:solidFill>
                    </a:lnL>
                    <a:lnR w="576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1826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1</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творање на курсот и запознавање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Вовед во начелата и постапките за електронски докази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систем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мреж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ази од интернет, овластувања и дозволи, подготовка и планирање, надворешни специјализирани вешти лиц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974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2</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ј учествува и што треба да се земе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Обезбедување на местото на настанот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ументирање на местото на настанот</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анализа на уреди од самото место на настанот</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проток на живи информаци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7290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3</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ратки упатства за тимовите</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r>
                        <a:rPr b="0" lang="mk-MK" sz="900" spc="-1" strike="noStrike">
                          <a:solidFill>
                            <a:srgbClr val="000000"/>
                          </a:solidFill>
                          <a:latin typeface="Times New Roman"/>
                          <a:ea typeface="Times New Roman"/>
                        </a:rPr>
                        <a:t>повратни информации за вежбата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5</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овратни информации од слушателите и од обучувачите затворање на курс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6840" y="1235160"/>
            <a:ext cx="8512200" cy="4890960"/>
          </a:xfrm>
          <a:prstGeom prst="rect">
            <a:avLst/>
          </a:prstGeom>
          <a:noFill/>
          <a:ln w="0">
            <a:noFill/>
          </a:ln>
        </p:spPr>
        <p:txBody>
          <a:bodyPr anchor="t">
            <a:normAutofit/>
          </a:bodyPr>
          <a:p>
            <a:pPr marL="343080" indent="-3430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 предавањето на оваа наставна единица слушателите ќе можат: </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дадат соодветни повратни информации за курсот и неговата делотворнос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пополнат формуларите за оценка на курс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Дневен ред на курсот и очекувани резултати</a:t>
            </a:r>
            <a:br>
              <a:rPr sz="4000"/>
            </a:br>
            <a:br>
              <a:rPr sz="4000"/>
            </a:b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обучувачите и слушателите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вкупната цел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ва е потребата за ваков курс</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главните елементи на распоредот и активностите во текот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постапките за заштита на здравјето и безбедноста во просториите каде се одржува курсот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Наставна единица 1.1.1 – Вовед во курсот - Очекувани резултати</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2 Вовед во начелата и постапките за електронски докази </a:t>
            </a:r>
            <a:endParaRPr b="0" lang="en-US" sz="4000" spc="-1" strike="noStrike">
              <a:solidFill>
                <a:srgbClr val="000000"/>
              </a:solidFill>
              <a:latin typeface="Calibri"/>
            </a:endParaRPr>
          </a:p>
        </p:txBody>
      </p:sp>
      <p:sp>
        <p:nvSpPr>
          <p:cNvPr id="64" name=""/>
          <p:cNvSpPr txBox="1"/>
          <p:nvPr/>
        </p:nvSpPr>
        <p:spPr>
          <a:xfrm>
            <a:off x="457200" y="1600200"/>
            <a:ext cx="8229600" cy="47498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ea typeface="ＭＳ Ｐゴシック"/>
              </a:rPr>
              <a:t>По предавањето на оваа наставна единица слушателите ќе можат: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начелата за постапување со електронски докази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објаснат посебните карактеристики на електронските докази  </a:t>
            </a:r>
            <a:endParaRPr b="0" lang="en-US" sz="2800" spc="-1" strike="noStrike">
              <a:solidFill>
                <a:srgbClr val="000000"/>
              </a:solidFill>
              <a:latin typeface="Calibri"/>
            </a:endParaRPr>
          </a:p>
          <a:p>
            <a:pPr>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3 и 1.1.4 Извори на докази</a:t>
            </a:r>
            <a:br>
              <a:rPr sz="4000"/>
            </a:br>
            <a:endParaRPr b="0" lang="en-US" sz="4000" spc="-1" strike="noStrike">
              <a:solidFill>
                <a:srgbClr val="000000"/>
              </a:solidFill>
              <a:latin typeface="Calibri"/>
            </a:endParaRPr>
          </a:p>
        </p:txBody>
      </p:sp>
      <p:sp>
        <p:nvSpPr>
          <p:cNvPr id="66" name=""/>
          <p:cNvSpPr txBox="1"/>
          <p:nvPr/>
        </p:nvSpPr>
        <p:spPr>
          <a:xfrm>
            <a:off x="457200" y="1133280"/>
            <a:ext cx="8229600" cy="4863960"/>
          </a:xfrm>
          <a:prstGeom prst="rect">
            <a:avLst/>
          </a:prstGeom>
          <a:noFill/>
          <a:ln w="0">
            <a:noFill/>
          </a:ln>
        </p:spPr>
        <p:txBody>
          <a:bodyPr anchor="t">
            <a:norm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ea typeface="ＭＳ Ｐゴシック"/>
              </a:rPr>
              <a:t>По предавањето на оваа наставна единица слушателите ќе можа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утврдат кои извори на докази имаат доказна вреднос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направат разлика меѓу компјутерските мреж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идентификуваат мрежните уред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потенцијалните докази и извори на докази на интернет</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елотворно да ги завршат подготовката и планирањето на претресот и заплената на електронски докази</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овластувањата и одобрувањата во постапката за претрес и заплена на електронски докази </a:t>
            </a:r>
            <a:endParaRPr b="0" lang="en-US" sz="24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улогата на надворешните специјализирани вешти лица. </a:t>
            </a:r>
            <a:r>
              <a:rPr b="0" lang="mk-MK" sz="2600" spc="-1" strike="noStrike">
                <a:solidFill>
                  <a:srgbClr val="000000"/>
                </a:solidFill>
                <a:latin typeface="Calibri"/>
              </a:rPr>
              <a:t>  </a:t>
            </a:r>
            <a:endParaRPr b="0" lang="en-US" sz="2600" spc="-1" strike="noStrike">
              <a:solidFill>
                <a:srgbClr val="000000"/>
              </a:solidFill>
              <a:latin typeface="Calibri"/>
            </a:endParaRPr>
          </a:p>
          <a:p>
            <a:pPr lvl="1" marL="285840" indent="-28584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1 и 1.3.1</a:t>
            </a:r>
            <a:br>
              <a:rPr sz="4000"/>
            </a:br>
            <a:r>
              <a:rPr b="1" lang="mk-MK" sz="4000" spc="-1" strike="noStrike">
                <a:solidFill>
                  <a:srgbClr val="000000"/>
                </a:solidFill>
                <a:latin typeface="Calibri"/>
              </a:rPr>
              <a:t>Дневни прегледи</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 предавањето на наставните единици, слушателите ќе можат:</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опфатени со активностите од претходниот ден кои слушателите ги разбрале</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за кои слушателите треба уште еднаш да го поминат материјалот за да го постигнат потребното ниво на знаењ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1:04:42Z</dcterms:created>
  <dc:creator>Nigel Jones</dc:creator>
  <dc:description/>
  <dc:language>en-US</dc:language>
  <cp:lastModifiedBy>Daniela</cp:lastModifiedBy>
  <dcterms:modified xsi:type="dcterms:W3CDTF">2013-07-25T00:54:34Z</dcterms:modified>
  <cp:revision>19</cp:revision>
  <dc:subject/>
  <dc:title>Introductory Cybercrime Training for Judges and Prosecutors</dc:title>
</cp:coreProperties>
</file>