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AD54C-1CDE-4368-96AA-B6A2D3DC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19EA7-E4D5-44F9-9ED4-D0FEE73E3D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82C6C-4519-4114-9AA2-8BAFE936B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548F5-4183-4AEA-9199-94A7CA8A0E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42A5A-4FB1-4DAB-81D0-0E03002D99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A7560-C3D9-4EDC-BD5C-1F85CC15BC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063-9689-4B27-BCC1-501FD663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30F-4FF0-4985-BEDA-35EFBE5E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32B-FC3B-4070-8D96-13858A3A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BCA-86D2-42B7-9A3B-7B667F9F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DDC-BAF8-4761-912A-6E8B098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EE1-9A96-47DB-85E8-A798F96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935-7A9C-4FF7-9B24-764FACB2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231-B2E3-45A4-8B13-37E2A84B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C6F-939D-4073-A08C-4E21704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F35-D197-4391-805B-00011CF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59E-510B-4A06-9EBF-B887F6A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F9F-E28B-45E2-AC18-FCA4B37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D798D-C497-4D85-BB83-7AD18A632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7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Наставна единиц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Отворање и вовед во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144960" y="3025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ВОВ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4822920"/>
            <a:ext cx="27162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Кршење на мразот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06560" y="1577880"/>
            <a:ext cx="5165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Вов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правете пар со лице кое не го познав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Во рок од 10 минути дознајте ги следниве информации, кои потоа ќе ни ги кажет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ко се вика и од која земја 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де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Што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говото искуство како обучув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што интересно за не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Одговори на „тестот за познавање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49653-344B-4D0A-A955-F8428D8ADD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Корисник на ком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2 = Може да го вклучи компјуте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3 = Пишува на тастатура со две ра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4 = Видел внатрешност на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5 = Надград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6 = Солиден корисник на софтверски пак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7 = Склоп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8 = Направил и користел макро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9 = Поврзал 2 компјутера во мре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0 = Систем администратор, програмер  и дизајнер на Microsoft произ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ње за компјутерски крими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2 = Вид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3 = Работи во форензичко од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4 = Корист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5 = Спровел истрага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6 = Дал исказ во врска со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7 = Сведочел во суд за електронски докази/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8 = Напишал програма или код како помош за истраг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9 = Напишал сопствен софтверски пакет за форензичка анали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0 = Програмирал форензички софтвер за одреден снабдувач, има факултетска диплома во област поврзана со истрага на компјутерски криминал и е гуру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592520"/>
            <a:ext cx="3279600" cy="218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Цели на курсот за об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2 Вовед во начелата и постапките за електронски доказ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разговараат за содржината на Прирачникот за електронски докази на Советот 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идентификуваат начелата за постапување со електронски доказ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објаснат посебните карактеристики на електронските докази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3 и 1.1.4 Извори на доказ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утврдат кои извори на докази имаат доказна вреднос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направат разлика меѓу компјутерските мре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мрежните у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потенцијалните докази и извори на докази на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елотворно да ги завршат подготовката и планирањето на претресот и заплената на електронски док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овластувањата и одобрувањата во постапката за претрес и заплена на електронски дока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улогата на надворешните специјализирани вешти л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1 и 1.3.1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Дневни преглед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ите единици,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2 Претрес и зап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</a:t>
            </a: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о објаснат соодветното планирање и подготовка на упад заради претрес на место каде може да се најдат електронски доказ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алатките и алатките кои може да се потребни за претрес на место каде може да се најдат електронски дока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о да се обезбеди и документира местото на кривичниот настан каде се појавуваат електронски докази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дравје и безбед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лези во итни состој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Аларм за пож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Тоал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уш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Мобилни телефони и пејџ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аузи за кафе и ру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76880" y="1339920"/>
            <a:ext cx="226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врз основа на покажаните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опишат стандардните оперативни постапки (СОП) за пакување, пренос и складирање на електронските дока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направат разлика меѓу СОП врз основа на видот на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разговараат за техниките за проверка дали компјутерскиот систем е вклучен или исклуч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применат општите упатства за заплена на електронски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38040"/>
            <a:ext cx="82296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прават разлика меѓу ситуација со уреди на местото на настанот и ситуација на проток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дефинираат ги термините „нестабилни податоци“, „преодни податоци“ и „форензичка анализа на живи податоци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ја објаснат вредноста на нестабилните податоци за истраг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ведат барем четири вида на податоци кои би се изгубиле без форензичка анализа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роведат мерки за првична реакција кога се соочуваат со компјутерски систем кој е во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опишат предизвиците на шифрирањето и можностите на форензичката анализа на живи податоци во ситуација во која има шифр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разговараат за предизвиците на различните правни рамки во ситуацијата во која податоците се чуваат на далечински локации, на пример компјутерско работење во об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о дефинираат терминот „компјутерско работење во облак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оредат барем три вида на услуги на компјутерско работење во облак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3800" spc="-1" strike="noStrike">
                <a:solidFill>
                  <a:srgbClr val="000000"/>
                </a:solidFill>
                <a:latin typeface="Calibri"/>
              </a:rPr>
              <a:t>1.3.2 и 1.3.3 Кратки упатства за претрес и заплена и практични вежби </a:t>
            </a:r>
            <a:br>
              <a:rPr sz="38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оперативен план з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спроведат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остапуваат со електронски дока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документираат и обезбедат местото н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список на запленетите предм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извештај во зависност од претрес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, слушател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ја завршила фазата на подготовка и планирање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постапувала со осомниченото лице доколку тоа било присутно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ја претстават и објаснат постапката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ретстават запленетите предмети релевантни за случај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објаснат како било постапувано со предметите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3.4 Претрес и заплена - Повратни информации по практичната вежб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1.3.5 Завршување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0664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делотвор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пополнат формуларите за оценка на курс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прашањата кои треба да се доработат со цел курсот да се предава на националн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Да ги опишат активностите кои треба да се преземат после курсот со цел материјалите од курсот да се подготват за настава на национално нив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о идентификуваат следното ниво на знаење кое слушателите треба да го совладаат за да ги подобрат нивните познавања и вештини за предметната 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КРАТОК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Преглед на целите на наставните еди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5181480"/>
            <a:ext cx="23940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Историјат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Насловот на овој курс е „Обука за органите за спроведување на законот како дел од првата екипа на местото на настанот“. Тој е подготвен како резултат на заедничкиот проект на Советот на Европа и Европската унија за регионална соработка против компјутерски криминал во регионот опфатен со ИП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наставната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информираат слушателите за потребата од курсот за обука, како и за неговата цел и резулт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обезбеди дека ќе добијат доволно информации за програмата на активности и распоред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запознаат слушателите за здравствените, безбедносните и административните податоци за курс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Меѓусебно запознавање на слушателите и запознавање со обучувачите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35160"/>
            <a:ext cx="79423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546880"/>
            <a:ext cx="1844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ошто е потребен ваквиот курс за обу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409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Електронските докази се дел од скоро секој вид на кривична истрага. Улогата на првите тимови е од суштинска важност за препознавање и постапување со ваков вид на докази, на начин со кој доказите остануваат допуштени во постапките во рамките на кривично-правниот систем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Советот на Европа издаде Прирачник за добри практики во однос на електронски докази, давајќи им така поддршка на земјите во дефинирањето на нивните практики и постапк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вој курс за обука има за цел на земјите да им помогне да дефинираат обука релевантна за првите тимови на местото на настанот во контекстот на електронски дока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Целта на овој курс е да им понуди познавања и вештини на првите тимови од органите за спроведување на законот кои ќе им овозможат да ги препознаат и да постапуваат со електронските докази на начин со кој електронските докази се зачувуваат за идно испитување, истовремено зачувувајќи го интегритетот односно целовитоста на истите.  Курсот за обука нуди практични, но и информации за процедуралните аспекти во однос на предметните прашања и главно се однесуваат на тоа како овие прашања влијаат на секојдневната работа на органите.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600" spc="-1" strike="noStrike">
                <a:solidFill>
                  <a:srgbClr val="000000"/>
                </a:solidFill>
                <a:latin typeface="Calibri"/>
              </a:rPr>
              <a:t>Распоред за курсот на првите ти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308124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-1062000" y="17316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 1" descr="COE.png"/>
          <p:cNvPicPr/>
          <p:nvPr/>
        </p:nvPicPr>
        <p:blipFill>
          <a:blip r:embed="rId1"/>
          <a:stretch/>
        </p:blipFill>
        <p:spPr>
          <a:xfrm>
            <a:off x="193680" y="1144440"/>
            <a:ext cx="320976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6600" y="898560"/>
          <a:ext cx="8894880" cy="7002360"/>
        </p:xfrm>
        <a:graphic>
          <a:graphicData uri="http://schemas.openxmlformats.org/drawingml/2006/table">
            <a:tbl>
              <a:tblPr/>
              <a:tblGrid>
                <a:gridCol w="1134360"/>
                <a:gridCol w="1296360"/>
                <a:gridCol w="181800"/>
                <a:gridCol w="181440"/>
                <a:gridCol w="181440"/>
                <a:gridCol w="181440"/>
                <a:gridCol w="1795680"/>
                <a:gridCol w="216000"/>
                <a:gridCol w="181440"/>
                <a:gridCol w="871200"/>
                <a:gridCol w="1208160"/>
                <a:gridCol w="181440"/>
                <a:gridCol w="181440"/>
                <a:gridCol w="181440"/>
                <a:gridCol w="181800"/>
                <a:gridCol w="527760"/>
                <a:gridCol w="216000"/>
              </a:tblGrid>
              <a:tr h="810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на Евро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за органите за спроведување на законот како дел од првата екипа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-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-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00 -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:00 - 14: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00 -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рање на курсот и запознавањ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ед во начелата и постапките за електронски доказ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систе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мреж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и од интернет, овластувања и дозволи, подготовка и планирање, надворешни специјализирани вешти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 учествува и што треба да се зем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дување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ирање на место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анализа на уреди од самото мес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проток на живи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 упатства за тимов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за вежб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од слушателите и од обучувачите затворање на курс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Daniela</cp:lastModifiedBy>
  <cp:lastPrinted>2012-02-06T12:03:55Z</cp:lastPrinted>
  <dcterms:modified xsi:type="dcterms:W3CDTF">2013-07-24T23:24:16Z</dcterms:modified>
  <cp:revision>50</cp:revision>
  <dc:subject/>
  <dc:title>Introductory Cybercrime Training for Judges and Prosecutors</dc:title>
</cp:coreProperties>
</file>