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7079B-0C96-4384-ADCA-BD762E6CB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20967-8440-49F8-BC64-6F6AD278C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D834C-9C6B-4DD1-A574-EB55B7F79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77716-5230-421A-A6E1-60E4DE5367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AF0-A0C9-476F-992B-73E3BED1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140-F702-4D02-8BB2-44B6F745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69C-6BA4-4FBF-9381-0A03E360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DC6-CB27-442D-AAE3-5A20D0B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75F-98ED-4328-A37E-57783D1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7A9-41CB-46E1-A913-F70DBAF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812-166A-4E8D-8B94-83C0F00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53D-6100-46DB-B253-33A7F50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6F0-B30F-4349-8F94-A05D311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65E-CE12-4B4C-9D7C-92313F1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589-C9A3-4E9C-83DE-14AFD9F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C82-3A84-4FDB-A896-4BBB2C7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83C4F-6DE0-4D6B-8CAF-5928D3200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6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34960"/>
            <a:ext cx="851364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прв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творање на курсот и запозн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Вовед во начелата и постапките за електронски доказ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вори на дока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cp:lastPrinted>2012-02-11T12:03:47Z</cp:lastPrinted>
  <dcterms:modified xsi:type="dcterms:W3CDTF">2013-07-24T23:51:41Z</dcterms:modified>
  <cp:revision>18</cp:revision>
  <dc:subject/>
  <dc:title>Introductory Cybercrime Training for Judges and Prosecutors</dc:title>
</cp:coreProperties>
</file>