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BDF6B-AD23-4B2E-BD5C-EDFC1CCBA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9892C-7A9F-48CF-B701-DC2D672E0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734F7-442C-4628-AF8D-C8748324B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99E5E-E6FC-4230-A0E1-9B7BF3C42D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93B-6CD3-4DAC-BD41-9135EF92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72A-8775-4224-9862-616D37F5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D99-3A8D-49D2-B430-92FCF440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C20-2B1B-49CE-A082-062906F5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038-AFAB-4214-B5D7-EA96D793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DF7-4729-4035-BDE8-1F79C84E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E93-8176-4492-82FF-377F7A88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006-DE2C-414E-966B-005BF3E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9AA-5005-498A-927D-C7029B4C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127-D6D5-436D-A799-BBD1214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A59-C81F-47DF-8F9E-E19690C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692-FF9C-4ECA-835B-EC015CD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CD0A8-6E0B-4F96-9CB7-C97AA7FEE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6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34960"/>
            <a:ext cx="851364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прв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творање на курсот и запозна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Вовед во начелата и постапките за електронски доказ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вори на дока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cp:lastPrinted>2012-02-11T12:03:47Z</cp:lastPrinted>
  <dcterms:modified xsi:type="dcterms:W3CDTF">2013-07-24T23:51:41Z</dcterms:modified>
  <cp:revision>18</cp:revision>
  <dc:subject/>
  <dc:title>Introductory Cybercrime Training for Judges and Prosecutors</dc:title>
</cp:coreProperties>
</file>