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02E99-A9C2-41A3-9093-109D905DD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EE468-BB50-48A1-AF04-94B380C58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60FDD-8395-4DE0-B8A7-61AEC4503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2B6E0-6836-4217-B4B9-E812746556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300-C790-47B9-BDCB-56BA3A3B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8F7-5F85-4A3D-9828-66D526C3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617-6DC9-41A1-B6BB-DA63EA1A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435-3EBF-4B3E-84C6-80DCB756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07E-D776-437E-8367-7433025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706-75F2-4A7B-9359-C6A6185A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EB6-AB06-417D-B823-97356A2F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26A-14C9-46CC-B951-6419F52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79D-73CA-4906-9CFB-12EC1B5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299-F9C1-4DC8-BB4A-F3DBFA8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D01-674A-4D91-B7AB-EA05295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96E-C8CA-4B73-B1D8-0A62DD3E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9D281-825D-45A4-BB02-3EFA75AB3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3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755640" y="177336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3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30000"/>
            <a:ext cx="85136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втор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Кој учествува и што треба да се з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безбедување и документирање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анализа на уреди од самото мес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проток на жив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dcterms:modified xsi:type="dcterms:W3CDTF">2013-07-25T00:49:13Z</dcterms:modified>
  <cp:revision>17</cp:revision>
  <dc:subject/>
  <dc:title>Introductory Cybercrime Training for Judges and Prosecutors</dc:title>
</cp:coreProperties>
</file>