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104AD-893C-4456-B64F-951012A75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54981-D145-48B3-86CE-6319339F3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Целта на оваа групна активност е да се развие дискусија меѓу слушателите во групата за информациите за осомниченото лице кои може да се бараат. Исто така е важно да се идентификуваат можните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дискусијата меѓу слушателите во групата, тие треба да презентираат список на информации кои може да се добијат од различни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рупите се очекува да ги наведат сите извори на информации за осомниченото лице, со фокус врз интернетот како извор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крајот од оваа практична вежба, групите треба да се согласат за списокот на извори на информации и информациите кои треба да се земат предвид пред да почне фазата на планирање и подготовка за претресот и заплената.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30771-ED94-4BE9-828F-32D9103A6D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6349F-0015-4CDB-A7C0-C48725402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мислете интернет услуга што чува необработени податоци на Амазон Ѕ3, користи автентикација од Фејсбук, плаќања преку ПејПал и обезбедува туркање на информации во реално време за релевантната активност на своите претплатени корисници преку Твитер.</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аќање докази од интерне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1B969-04C8-4ADE-AA76-07DB1B012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A8519-D5AC-492F-BC88-B6AA578F6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E4459-9D90-467B-8DBD-39A5E0B7A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е вешт осомничениот?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6F5A7-AD44-40D5-93AF-9F5C5AB7F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2615E-54CB-4BD4-BC6A-5109C15B5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властување кое ќе биде потребно за изведување на активноста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13A87-3241-4A6D-8DF2-507DEA217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предавањето на оваа наставна единица слушателите ќе можат: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ашањ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0ED82-B371-488E-9C15-D5CBCB84F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8F6F3-8F0C-477A-A1B0-AA1BC54CC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59901-CA24-4830-8516-F6B5E52EE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BFD1D-E03C-43C0-96E7-BE5628832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A1CD7-07C5-4186-983A-9DA98ED04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A07F8-5DAD-40B0-89D5-835394FB2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6629-C1D0-48C9-A733-8A3291FB6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2BBF-CE24-4E26-8A18-6E613242E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DAF1C-B7F2-489C-9530-EA9416CF6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9812F-8CBB-44FE-9085-E07B04F3E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B6717-CFEE-4F76-9ADB-8AB2E3556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4D0EF-F669-4037-922D-F34816690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73B8-3FFE-49F7-A3E1-48C5E19A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24444-9372-4894-A0D8-B8CE40F7B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89849-A099-4CD6-8B11-AED9A9BF92F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BE2C3-0A58-4A68-BAC2-A4EBBFE1C1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650BB-2CBD-4AA5-9F28-A73D76340A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898989"/>
                </a:solidFill>
                <a:latin typeface="Calibri"/>
              </a:rPr>
              <a:t>Електронски докази</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Истрага</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Пред да се започне со планирање и подготовка на претресот, прво треба да се изработи профилот на осомничениот и да се анализа ситуацијата, со одговор на следниве прашања:</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Кого барате?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Што? За какво дело се работи и што точно е предметот на истраг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де? Каде се одвива претресот и на која локациј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га? За кога е планиран претресот и кога истиот треба да се испланира?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ко? Како ќе дојдете на местото на настанот и како ќе го спроведете претресот?</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говорите на овие прашања ќе ни дадат подобра слика за ситуацијата, а нашите активности ќе ги планираме според одговорите на овие прашањ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9B6F8-D1B5-4A23-B247-05DB79C80E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вашето искуство, каде може да се побараат информации за осомниченото лице?</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BC728-C5D0-4981-B3B7-38A808E1C9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Прибирање на информации за осомничениот од отворени извори</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осомничениот од интернет провајдерот или од компаниите за хостирање ; треба да разбереме дека овие информации сами по себе не се доволни за да се идентификува осомниченото лице. Треба да се обидеме да најдеме и прибереме повеќе информации.  </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различни налини да се приберат информации. Корисно е да се провери дали за осомничениот има податоци во постоечката полициска база на податоци, затоа што можеби е познат за слични дела, а друга можност е да се поверат отворените бази на податоци:  </a:t>
            </a:r>
            <a:r>
              <a:rPr b="1" i="1" lang="mk-MK" sz="2400" spc="-1" strike="noStrike">
                <a:solidFill>
                  <a:srgbClr val="000000"/>
                </a:solidFill>
                <a:latin typeface="Calibri"/>
              </a:rPr>
              <a:t>Интерне</a:t>
            </a:r>
            <a:r>
              <a:rPr b="0" lang="mk-MK" sz="2400" spc="-1" strike="noStrike">
                <a:solidFill>
                  <a:srgbClr val="000000"/>
                </a:solidFill>
                <a:latin typeface="Calibri"/>
              </a:rPr>
              <a:t>т</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B6695-BFA0-48E0-9AD0-95D97724AF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земање на докази од јавно достапни информации на интерне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окази од тајни истраги на интерне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Ова бара поинакви познавања и вештин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Бара посебно законодавство и постапк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0A73F-87F3-4D51-AF7C-374C2F0ABB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окази од „интернет комбинирано програмирање“ </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мбин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изуелиз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 </a:t>
            </a:r>
            <a:r>
              <a:rPr b="0" lang="mk-MK" sz="2800" spc="-1" strike="noStrike">
                <a:solidFill>
                  <a:srgbClr val="000000"/>
                </a:solidFill>
                <a:latin typeface="Calibri"/>
              </a:rPr>
              <a:t>собирање</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Сите овие „онлајн докази“ бараат посебни постапки за прибирање за да се гранатира допуштеноста на доказите кои ќе произлезат. </a:t>
            </a: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Не сите онлајн информации можат да бидат докази!</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69622-4999-4D4C-88A6-2E03FF587F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нтернет протоколот е одговорен за упатување на податочни пакети од изворот до дестинацијата, каде и изворот и дестинацијата се хостирани на локации идентификувани со адреса со точно определена должина. </a:t>
            </a: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Форматот на IPv4 адресата е 32-битна нумеричка адреса напишана како четири бројки одвоен со точки. Секој број може да биде од 0 до 255. Пример за ИП адреса: 68.160.10.240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IPv6 адреса се состои од осум групи од по четири хексадецимални бројки. Секоја група е одвоена со две точки(на пример 2001:0db8:85a3:0042:0000:8a2e:0370:7334).</a:t>
            </a:r>
            <a:endParaRPr b="0" lang="en-US" sz="2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410EC-C592-489D-8C72-761924E621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Агенцијата за доделување на броеви на интернет (ИАНА) ги регулира овие ИП адреси. Меѓу другите работи, нејзината задача е да го координира ИП адресирањето преку регионално тела лоцирани низ светот познати како Регионални интернет регистри (РИ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RIPE (Европа и некои делови на Азиј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PNIC (Азија и Пацифичкиот регион)</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RIN (Северна Аме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LACNIC (Латинска Америка и Карибите)</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friNIC (Аф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7748E-D1FC-42B7-B5CB-3BF9606EDF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лога на Провајдерот на интернет услуги</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псег на ИП адрес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DHCP- Протокол за динамична конфигурација на домаќинот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ликата меѓу динамични и статични ИП адрес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0.0.0.0 до 10.255.255.255 – класа 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72.16.0.0 до 172.31.255.255 – класа 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92.168.0.0 до 192.168.255.255 – класа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1D48D-070E-4996-A5E4-60DA503C40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ДНС за Доменски именски систем</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имињата на домените управуваат регистратори кои мора да се акредитирани од </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 </a:t>
            </a:r>
            <a:r>
              <a:rPr b="0" lang="mk-MK" sz="2000" spc="-1" strike="noStrike">
                <a:solidFill>
                  <a:srgbClr val="000000"/>
                </a:solidFill>
                <a:latin typeface="Calibri"/>
              </a:rPr>
              <a:t>Интернет корпорацијата за доделени имиња и броеви (ICANN;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Регистри наведени од ИАНА (Агенција за доделување на броеви на интернет)</a:t>
            </a:r>
            <a:endParaRPr b="0" lang="en-US" sz="2000" spc="-1" strike="noStrike">
              <a:solidFill>
                <a:srgbClr val="000000"/>
              </a:solidFill>
              <a:latin typeface="Calibri"/>
            </a:endParaRPr>
          </a:p>
          <a:p>
            <a:pPr lvl="1" marL="720720" indent="-27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генерички домени од врвно ниво (gTLDs), како што се .com, .net, .org, .biz, и други, ICANN ги акредитира самите Регистри.</a:t>
            </a:r>
            <a:endParaRPr b="0" lang="en-US" sz="18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домените од врвно ниво со кодот на земјата (ccTLFDs) како што се .us, .uk, .de, .ie, и други ИАНА го делегира регистрирањето.</a:t>
            </a:r>
            <a:endParaRPr b="0" lang="en-US" sz="1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околку името на доменот не е регистрирано од компанија за заштита на приватноста, овие регистри можат да чуваат вредни информации за сопственикот на името на доменот. </a:t>
            </a: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5B1EA-D5C0-43A9-B88B-A3A46C1359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УРИ за Униформен идентификатор на ресурси</a:t>
            </a:r>
            <a:endParaRPr b="0" lang="en-US" sz="4000" spc="-1" strike="noStrike">
              <a:solidFill>
                <a:srgbClr val="000000"/>
              </a:solidFill>
              <a:latin typeface="Calibri"/>
            </a:endParaRPr>
          </a:p>
        </p:txBody>
      </p:sp>
      <p:sp>
        <p:nvSpPr>
          <p:cNvPr id="103" name=""/>
          <p:cNvSpPr txBox="1"/>
          <p:nvPr/>
        </p:nvSpPr>
        <p:spPr>
          <a:xfrm>
            <a:off x="163440" y="1600200"/>
            <a:ext cx="870768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Светската мрежа (World Wide Web (WWW)) е систем на поврзани документи на кои може да им се пристапи преку интерне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Овие документи не се вообичаени текст документи, туку хипертекст документи, познати како веб страници.</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Хипертекстот овозможува да се поврзат документите кои може да бидат чувани на различни компјутери низ свето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пишуваат со она што вообичаено се нарекува HTML код и можат да содржат различни видови на информации.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групирани на она што е познато како веб локации. </a:t>
            </a: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Структура на URL: </a:t>
            </a:r>
            <a:r>
              <a:rPr b="1" lang="mk-MK" sz="1900" spc="-1" strike="noStrike" u="sng">
                <a:solidFill>
                  <a:srgbClr val="7f9698"/>
                </a:solidFill>
                <a:uFillTx/>
                <a:latin typeface="Calibri"/>
              </a:rPr>
              <a:t>h</a:t>
            </a:r>
            <a:r>
              <a:rPr b="1" lang="mk-MK" sz="1900" spc="-1" strike="noStrike" u="sng">
                <a:solidFill>
                  <a:srgbClr val="0000ff"/>
                </a:solidFill>
                <a:uFillTx/>
                <a:latin typeface="Calibri"/>
              </a:rPr>
              <a:t>ttp://www.name-of-the-website.com/name-of-the-webpage.ht</a:t>
            </a:r>
            <a:r>
              <a:rPr b="1" lang="mk-MK" sz="1900" spc="-1" strike="noStrike">
                <a:solidFill>
                  <a:srgbClr val="000000"/>
                </a:solidFill>
                <a:latin typeface="Calibri"/>
              </a:rPr>
              <a:t>m</a:t>
            </a:r>
            <a:endParaRPr b="0" lang="en-US" sz="19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4E952-DDD5-43C6-A009-752ECB7CC8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E4C35-6C7C-45A0-B0F7-C41E288286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ИП и ДНС записи во онлајн истраги</a:t>
            </a:r>
            <a:endParaRPr b="0" lang="en-US" sz="3600" spc="-1" strike="noStrike">
              <a:solidFill>
                <a:srgbClr val="000000"/>
              </a:solidFill>
              <a:latin typeface="Calibri"/>
            </a:endParaRPr>
          </a:p>
        </p:txBody>
      </p:sp>
      <p:sp>
        <p:nvSpPr>
          <p:cNvPr id="106" name=""/>
          <p:cNvSpPr txBox="1"/>
          <p:nvPr/>
        </p:nvSpPr>
        <p:spPr>
          <a:xfrm>
            <a:off x="457200" y="1600200"/>
            <a:ext cx="8229600" cy="47563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Кој е пребарување (Whois)</a:t>
            </a:r>
            <a:r>
              <a:rPr b="0" lang="mk-MK" sz="2000" spc="-1" strike="noStrike" u="sng">
                <a:solidFill>
                  <a:srgbClr val="000000"/>
                </a:solidFill>
                <a:uFillTx/>
                <a:latin typeface="Calibri"/>
              </a:rPr>
              <a:t>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Обратно Кој е пребарување (Reverse Whois)</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ИП Пребарување</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IP Lookup</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ДНС записите се менуваат од време на време</a:t>
            </a:r>
            <a:r>
              <a:rPr b="0" lang="en-US" sz="2000" spc="-1" strike="noStrike">
                <a:solidFill>
                  <a:srgbClr val="000000"/>
                </a:solidFill>
                <a:latin typeface="Calibri"/>
              </a:rPr>
              <a:t>.</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mk-MK" sz="2000" spc="-1" strike="noStrike">
                <a:solidFill>
                  <a:srgbClr val="000000"/>
                </a:solidFill>
                <a:latin typeface="Calibri"/>
              </a:rPr>
              <a:t>Достапни информации поврзани со одредена ИП адреса: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е регистраторот</a:t>
            </a:r>
            <a:endParaRPr b="0" lang="en-US" sz="20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земјата, обратен ДНС и блок опсегот на ИП на кој му припаѓ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физичка локација во одредена земја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лоцирање (не секогаш точно) со определување на градот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графска ширина и должин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2FAEF-C8FB-4DA2-8BE6-C2E5D8154E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Национални провајдери на интернет услуги</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бирање информации од националниот Провајдер на интернет услуги</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претплатникот (регистрираниот сопственик на врската, адреса на конекцијата, информации за плаќање сметки, телефонски број,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трансакциите (време на конектирање, датум на конектирање, користени ИП адреси,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држина (ова не е секогаш достапно), најголем дел од провајдерите обезбедуваат бесплатни сметки за електронска пошта, различни услуги. Од провајдерите може да се добијат пораките од електронската пошта или други услуги. </a:t>
            </a:r>
            <a:endParaRPr b="0" lang="en-US" sz="2400" spc="-1" strike="noStrike">
              <a:solidFill>
                <a:srgbClr val="000000"/>
              </a:solidFill>
              <a:latin typeface="Calibri"/>
            </a:endParaRPr>
          </a:p>
          <a:p>
            <a:pPr lvl="1" marL="698400" indent="-268560" algn="ctr">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ко да ги добиеме таквите информации?</a:t>
            </a:r>
            <a:endParaRPr b="0" lang="en-US" sz="20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39C13-6878-46E0-8ED4-5021615C59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Меѓународни провајдери на интернет услуги</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Информации од Провајдерите на интернет услуг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ИП адрес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рв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оследн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Записи од активност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Друго</a:t>
            </a:r>
            <a:endParaRPr b="0" lang="en-US" sz="26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ако да ги добиеме таквите информации?</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нвенцијата од Будимпешта против компјутерски криминал </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ристење на судска наредба или барање за заемна правна помош</a:t>
            </a:r>
            <a:endParaRPr b="0" lang="en-US" sz="2400" spc="-1" strike="noStrike">
              <a:solidFill>
                <a:srgbClr val="000000"/>
              </a:solidFill>
              <a:latin typeface="Calibri"/>
            </a:endParaRPr>
          </a:p>
          <a:p>
            <a:pPr lvl="1" marL="690840" indent="-26568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652D5-336A-4FA6-9753-113330FF89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зависни носителите на податоц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гување на соработка меѓу независните носители на податоци и органите за спроведување на закон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чувување на податоц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обивање на информативни извештаи за компјутерски криминал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3D920-44FC-4A54-86DA-52CAB7006F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атоци во посед на трети стран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бична веб локација</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зворен код</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ментари на кодо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криени полињ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Упатувања на надворешен сај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нлајн реклам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WebSense / AdSense / SearchSense кодов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етходни верзии на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02B32-0A7D-4D2C-8C10-3F3ECF4205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зворен код</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терни идентифик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одсистем за разговор</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WebSense / AdSense / SearchSense кодов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Метаподатоци (на пр. креирање/последна изме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D8F98-BD6F-4C92-8B80-2ECC464FAB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Интерни идентификации: </a:t>
            </a:r>
            <a:r>
              <a:rPr b="0" lang="mk-MK" sz="1600" spc="-1" strike="noStrike">
                <a:solidFill>
                  <a:srgbClr val="000000"/>
                </a:solidFill>
                <a:latin typeface="Calibri"/>
              </a:rPr>
              <a:t>Овие веб локации во голема мерка користат внатрешна идентификација за да следат сè (корисници, слики, онлајн разговори, сесии, групи, кликање на „ми се допаѓа/не ми се допаѓа“, итн.) и овие интерни идентификации најчесто се однесуваат на интерни идентификации кои му се достапни на провајдерот. </a:t>
            </a: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Разговор. </a:t>
            </a:r>
            <a:r>
              <a:rPr b="0" lang="mk-MK" sz="1600" spc="-1" strike="noStrike">
                <a:solidFill>
                  <a:srgbClr val="000000"/>
                </a:solidFill>
                <a:latin typeface="Calibri"/>
              </a:rPr>
              <a:t>Овие сајтови обично нудат услуги за разговор и тие обично нудат информации со голем квалитет ако се обработат адекватно. Клучниот елемент во сите веб-интерактивни елементи што истражителот ќе сака да ги обезбеди е да се соберат колку што е можно повеќе податоци, а не само резултатите кои на крај се изведени од интернет пребарувачот.</a:t>
            </a: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Слики. </a:t>
            </a:r>
            <a:r>
              <a:rPr b="0" lang="mk-MK" sz="1600" spc="-1" strike="noStrike">
                <a:solidFill>
                  <a:srgbClr val="000000"/>
                </a:solidFill>
                <a:latin typeface="Calibri"/>
              </a:rPr>
              <a:t>Иако сајтовите од висок профил воведуваат филтри за „прочистување“ за сликите што се ставаат, истражителот и понатаму може да наиде на некои социјални сајтови и други сајтови кои директно објавуваат поставени слики и да ги извлечат сите релевантни EXIF метаподатоци. </a:t>
            </a:r>
            <a:br>
              <a:rPr sz="1600"/>
            </a:b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64645-73D5-4711-A5BE-6C5C3E0500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за блогирање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и идентификации (blogID, userI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Фејсбук</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Пикаса / Флик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УРЛ-скратувач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77A18-8486-4B7B-BDCD-6E67E2E809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P2P мрежи кои споделуваат датоте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ИП</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орт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тум на </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a:t>
            </a:r>
            <a:r>
              <a:rPr b="0" lang="mk-MK" sz="2800" spc="-1" strike="noStrike">
                <a:solidFill>
                  <a:srgbClr val="000000"/>
                </a:solidFill>
                <a:latin typeface="Calibri"/>
              </a:rPr>
              <a:t>ктивности</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AC002-47F4-4528-9A67-FBDC5112C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376440" y="2120760"/>
            <a:ext cx="5767560" cy="423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За што ви требаат податоците?</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д каде доаѓаат податоците?</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интегритетот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целовитоста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дека нема други податоци за кои не сте свесн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DE11E-2EBE-41A0-B08E-D42E6041DB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Целта на собирање на доказ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По заплената на доказите, обвинителот на судот треба да му докаже дека изведените докази не се ништо повеќе или помалку од она што биле кога биле прибрани.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F27DD-9453-4C71-A9F6-092D0489CA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Дали слика на состојбата на сајтот може да биде дока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пирајте го изворниот код</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Софтвер за снимање на екранот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на дупликат на веб локацијата кој може да се гледа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грама HTTrack Website Copier</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A8694-584B-44EF-B61D-B37A56621C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икриени онлајн истраги</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јниот агент од органите за спроведување на законот мора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биде соодветно обуч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е компетентен и овласт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онлајн истрага</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работејќи на прикриен начин преку интернет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стојувајќи да прибере </a:t>
            </a:r>
            <a:endParaRPr b="0" lang="en-US" sz="28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 </a:t>
            </a: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Разузнавачки информации, или </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окази против некое лице, група или организација</a:t>
            </a:r>
            <a:endParaRPr b="0" lang="en-US" sz="24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14398-8094-4655-9E05-68166260F6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0502F-C914-4AA8-BB71-B7991294D8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7638A-3827-4DCA-AC21-1493D3D9DD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17FA4-474F-4163-9DCC-63DCD6622A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39C36-13C1-49DF-A3A2-3BD04A50FF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2C8D6-D1E5-431E-8926-B2CDD42705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6823F-A4B0-405D-978C-A5DEEBF145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Гугл карти</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F0F27-9327-4F0D-ADFB-2924FDDC1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глед од улица</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64A83-4BCB-42F7-99E6-C269F37A5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FA33D-E2F4-40A6-A138-1F78F7DC2C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fontScale="89000"/>
          </a:bodyPr>
          <a:p>
            <a:pPr marL="305280" indent="-3052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д искуство, кои чекори би ги презеле со цел да се зачуваат доказите собрани од компјутер:</a:t>
            </a:r>
            <a:endParaRPr b="0" lang="en-US" sz="2700" spc="-1" strike="noStrike">
              <a:solidFill>
                <a:srgbClr val="000000"/>
              </a:solidFill>
              <a:latin typeface="Calibri"/>
            </a:endParaRPr>
          </a:p>
          <a:p>
            <a:pPr marL="305280" indent="-305280">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 </a:t>
            </a:r>
            <a:r>
              <a:rPr b="0" lang="mk-MK" sz="2700" spc="-1" strike="noStrike">
                <a:solidFill>
                  <a:srgbClr val="000000"/>
                </a:solidFill>
                <a:latin typeface="Calibri"/>
              </a:rPr>
              <a:t>	</a:t>
            </a:r>
            <a:r>
              <a:rPr b="0" lang="mk-MK" sz="2700" spc="-1" strike="noStrike">
                <a:solidFill>
                  <a:srgbClr val="000000"/>
                </a:solidFill>
                <a:latin typeface="Calibri"/>
              </a:rPr>
              <a:t>Евидентирајте ги сите активности кои се преземаат во однос на електронските докази </a:t>
            </a:r>
            <a:endParaRPr b="0" lang="en-US" sz="27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тој да ја бара информацијата која ви е потребна на неговиот компјутер</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да го исклучи компјутерскиот систем за вас</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езбедете дека сите активности се преземени од квалификуван персонал </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идете се да избегнете преземање на какви било непотребни дејствија на компјутерот</a:t>
            </a:r>
            <a:endParaRPr b="0" lang="en-US" sz="2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B2745-8D7A-40EF-AB37-C54B502EB2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стем со потенцијални докази на него, мора да се заштити од менување, а потенцијалните докази не може да се менува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исклучителни околности кои бараат преземање на други дејствија освен стандардната постапка за запл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постапката е временски огранич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одредени пречки или можни ограничувања за постапката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88797-F66E-4E3E-B3D8-36005F44F6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клучен скринсејвер</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 </a:t>
            </a:r>
            <a:r>
              <a:rPr b="0" lang="mk-MK" sz="3000" spc="-1" strike="noStrike">
                <a:solidFill>
                  <a:srgbClr val="000000"/>
                </a:solidFill>
                <a:latin typeface="Calibri"/>
              </a:rPr>
              <a:t>Шифрирање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лонамерен софтвер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мпјутерско работење во облак (sky drive, drop box, итн.)</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кладирање на далечински локации</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ен компјутерски процес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на комуникација преку разговор на интернет</a:t>
            </a:r>
            <a:endParaRPr b="0" lang="en-US" sz="3000" spc="-1" strike="noStrike">
              <a:solidFill>
                <a:srgbClr val="000000"/>
              </a:solidFill>
              <a:latin typeface="Calibri"/>
            </a:endParaRPr>
          </a:p>
          <a:p>
            <a:pPr marL="315360" indent="-31536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000" spc="-1" strike="noStrike">
                <a:solidFill>
                  <a:srgbClr val="000000"/>
                </a:solidFill>
                <a:latin typeface="Calibri"/>
              </a:rPr>
              <a:t>Како да се постапи во вакви ситуации?</a:t>
            </a:r>
            <a:endParaRPr b="0" lang="en-US" sz="30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20A7C-C9C2-4422-AAD8-17CE4A5F5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шта методологија</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ланирање пред претресот</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барајте информации на националните бази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узнавачки информации од отворени извор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елешки од самото место и анализа</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роведување на постапки за преземање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безбедување на преземањето на податоците во целите на автентикација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оставување на ревизорска трага за активностите и одлуките </a:t>
            </a:r>
            <a:endParaRPr b="0" lang="en-US" sz="28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9887A-BCCD-4C70-8539-9755CBC151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еративен план</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на Оперативниот план во фазата на подготовки во матичната канцеларија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карактерот на кривичното дело</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улогата на електронските докази во кривичното дело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должностите на секој член на тимот (список со задач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постапувањето со електронските доказ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ограничувањата на претресот и заплената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за неочекувани ситуации -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82A3E-2A1D-4EC3-B56B-10E149D1FB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рз основа на информациите кои ги имаме за осомниченото лице, планираме и одлучуваме кога ќе започне претресот.</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Давање кратки упатства и доделување задачи:</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Тимови за претрес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Форензички ти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72049-87D0-4DA2-99EF-CA349A88A6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Тимот за претрес</a:t>
            </a:r>
            <a:r>
              <a:rPr b="0" lang="mk-MK" sz="2000" spc="-1" strike="noStrike">
                <a:solidFill>
                  <a:srgbClr val="000000"/>
                </a:solidFill>
                <a:latin typeface="Calibri"/>
              </a:rPr>
              <a:t> има задача:</a:t>
            </a:r>
            <a:r>
              <a:rPr b="1" lang="mk-MK"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добие релевантната судска одлука (налог за претрес) за влез, претрес и испитување на опремата која ќе се најде во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влезе и да претресе компјутер и уреди за чување на податоци и да ги обезбеди од менување и оштетувањ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идентификува уредите за чување на подато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граничи и да ја обезбеди средината со електронска опрем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претресе присутните лица и да ги заплени најдените предмет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состави потребната документација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известува за секој чекор и за секоја ситуација во текот на влегувањето и претресот на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уапси лицето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E2F34-EC30-4D16-A5E2-5FE44B7C79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600" spc="-1" strike="noStrike">
                <a:solidFill>
                  <a:srgbClr val="000000"/>
                </a:solidFill>
                <a:latin typeface="Calibri"/>
              </a:rPr>
              <a:t>Форензичкиот тим </a:t>
            </a:r>
            <a:r>
              <a:rPr b="0" lang="mk-MK" sz="1600" spc="-1" strike="noStrike">
                <a:solidFill>
                  <a:srgbClr val="000000"/>
                </a:solidFill>
                <a:latin typeface="Calibri"/>
              </a:rPr>
              <a:t>е одговорен да ја подготви целата потребна опрема и алатки потребни за известување за состојбата на компјутерот и да спроведе форензичка анализа на живи податоци, која опфаќа: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Алатки за уредите- ЦД, УСБ, лаптоп компјутер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ретходно конфигурирани ЦД-а за форензичка анализа на живи податоци и празно УСБ за информациите од форензичката анализа на живите податоци</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СБ за собирање на RAM меморијата од компјутерот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остојано напојување со енергија (за постојано напојување во случај на шифриран компјутер)</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реди за чување податоци (тие мора да се чисти „стерилизирани“ уреди)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r>
              <a:rPr b="0" lang="mk-MK" sz="1600" spc="-1" strike="noStrike">
                <a:solidFill>
                  <a:srgbClr val="000000"/>
                </a:solidFill>
                <a:latin typeface="Calibri"/>
              </a:rPr>
              <a:t>	</a:t>
            </a:r>
            <a:r>
              <a:rPr b="0" lang="mk-MK" sz="1600" spc="-1" strike="noStrike">
                <a:solidFill>
                  <a:srgbClr val="000000"/>
                </a:solidFill>
                <a:latin typeface="Calibri"/>
              </a:rPr>
              <a:t>Форензичкиот тим е одговорен за дефинирање на постапката за испитување и за тестирање на сите алатки кои се планира да се искористат, кои мора да се подготват на чисти и безбедни уреди за чување податоц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C7F10-D40D-41A1-A62F-A82851EBE9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455B9-7183-4FCB-88AA-934E9BD532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 суштинска важност е внимателната подготовка и планирање на одредена активност, при што треба да се земат предвид најразлични прашења како што с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аде се хостирани податоците?</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олку е вешт осомничениот?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25FC1-EF2A-4698-8F0B-1AC0411446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аде се хостирани податоците?</a:t>
            </a:r>
            <a:endParaRPr b="0" lang="en-US" sz="2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е е невообичаено податоците да бидат хостирани на друга локација, а не на локацијата каде се наоѓа опремата  Неопходно е да се разгледа прашањето каде би можеле да бидат складирани податоците кои се од интерес.  Причините за ова се следниве:</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стапот кон податоците може да бара дополнително законско овластување, особено како се чуваат во друга земја.</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оже да е потребно да се исполнат дополнителни технички барањата за да се обезбеди зачувување на интегритетот на доказите и истото да се докаже.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D0984-BE71-490F-BED7-ECF7EB24C0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69F12-4605-40F4-A7F0-332CF06B3E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Arial"/>
              </a:rPr>
              <a:t>Колку е вешт осомничениот?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Соберете што е можно повеќе разузнавачки податоци за лицето, за неговите способности и вештини</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софтвер за шифрирање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услугата на чување податоци на далечински локации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Приберете разузнавачки информации за неговите вообичаени активности на интернет</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гледајте го прашањето дали има други извори на докази </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другата страна од онлајн трансакцијата, како што е испраќање на електронска пошта</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трета страна која ги поседува податоците, како што е интернет провајдер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овајдер на онлајн услуг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о сè поголемата употреба на компјутерско работење во облак, истите податоци може да се преземат од извори на трети стран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B733F-4841-4C8F-B6D6-14295247DB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  </a:t>
            </a:r>
            <a:r>
              <a:rPr b="0" lang="mk-MK" sz="2800" spc="-1" strike="noStrike">
                <a:solidFill>
                  <a:srgbClr val="000000"/>
                </a:solidFill>
                <a:latin typeface="Calibri"/>
              </a:rPr>
              <a:t>  </a:t>
            </a:r>
            <a:r>
              <a:rPr b="0" lang="mk-MK" sz="2800" spc="-1" strike="noStrike">
                <a:solidFill>
                  <a:srgbClr val="000000"/>
                </a:solidFill>
                <a:latin typeface="Calibri"/>
              </a:rPr>
              <a:t>- Разгледајте ја можноста податоците/доказите да ги добиете од трети стра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a:t>
            </a:r>
            <a:r>
              <a:rPr b="0" lang="mk-MK" sz="2800" spc="-1" strike="noStrike">
                <a:solidFill>
                  <a:srgbClr val="000000"/>
                </a:solidFill>
                <a:latin typeface="Calibri"/>
              </a:rPr>
              <a:t>Законски постапки за враќање на податоц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 Разгледување на прашањето кои извори на докази се важни за истрагата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7B570-1792-45AA-8EDE-B6865A4CDC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ви овластувања ви се потребни за претрес и заплен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о може да изберете стручно лице да биде присутно во текот на заплена на докази, кои прашања треба да ги замете предвид?</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8D428-1927-4BF2-BB46-A6D3BDCC91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F1EC3-85F6-4106-82B8-5DEDEF934B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Какво овластување е потребно?</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fontScale="93000"/>
          </a:bodyPr>
          <a:p>
            <a:pPr marL="478080" indent="-478080">
              <a:lnSpc>
                <a:spcPct val="80000"/>
              </a:lnSpc>
              <a:spcBef>
                <a:spcPts val="575"/>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300" spc="-1" strike="noStrike">
                <a:solidFill>
                  <a:srgbClr val="000000"/>
                </a:solidFill>
                <a:latin typeface="Calibri"/>
              </a:rPr>
              <a:t>Овластување кое ќе биде потребно за изведување на активноста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Лицето целосно ги разбира импликациите на давањето на одобрение</a:t>
            </a:r>
            <a:r>
              <a:rPr b="0" lang="mk-MK" sz="2300" spc="-1" strike="noStrike">
                <a:solidFill>
                  <a:srgbClr val="000000"/>
                </a:solidFill>
                <a:latin typeface="Calibri"/>
              </a:rPr>
              <a:t>	</a:t>
            </a:r>
            <a:r>
              <a:rPr b="0" lang="mk-MK" sz="2300" spc="-1" strike="noStrike">
                <a:solidFill>
                  <a:srgbClr val="000000"/>
                </a:solidFill>
                <a:latin typeface="Calibri"/>
              </a:rPr>
              <a:t>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000000"/>
                </a:solidFill>
                <a:latin typeface="Calibri"/>
              </a:rPr>
              <a:t>	</a:t>
            </a:r>
            <a:r>
              <a:rPr b="0" lang="mk-MK" sz="2300" spc="-1" strike="noStrike">
                <a:solidFill>
                  <a:srgbClr val="000000"/>
                </a:solidFill>
                <a:latin typeface="Calibri"/>
              </a:rPr>
              <a:t>- национално законодавство – судски наредби и налози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2.  Другите нивоа на овластување ќе зависат од тоа дали предметот на истрагата е граѓанско правен или кривично правен и дали оние кои барат овластување се органи за спроведување на законот или, обвинителството, или приватни истражители или адвокати кои работат во име на и за нивни клиенти или други категории на лица во двата вида на постапки (граѓанско или кривично правни постапки). </a:t>
            </a:r>
            <a:endParaRPr b="0" lang="en-US" sz="2300" spc="-1" strike="noStrike">
              <a:solidFill>
                <a:srgbClr val="000000"/>
              </a:solidFill>
              <a:latin typeface="Calibri"/>
            </a:endParaRPr>
          </a:p>
          <a:p>
            <a:pPr lvl="1" marL="850320" indent="-4572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ff0000"/>
                </a:solidFill>
                <a:latin typeface="Calibri"/>
              </a:rPr>
              <a:t>	</a:t>
            </a:r>
            <a:r>
              <a:rPr b="0" lang="mk-MK" sz="2200" spc="-1" strike="noStrike">
                <a:solidFill>
                  <a:srgbClr val="ff0000"/>
                </a:solidFill>
                <a:latin typeface="Calibri"/>
              </a:rPr>
              <a:t>Не треба да се презема никаква активност за заплена на опрема или фаќање на податоци без соодветно ниво на овластување кое треба да се добие пред планираните активности.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Специјализирана експертиза</a:t>
            </a:r>
            <a:endParaRPr b="0" lang="en-US" sz="28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требните вештини или компетентност за извршување на одредена активност, меѓу другото, го вклучуваат и следново: </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елевантните квалификации на лицето.</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иво на компетентност на лицето за дадената задача.</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кретните вештини кое лицето ги поседува.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неговата компетентност се заснова на технички квалификации или искуствено стекнато познавање, или двете.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F76A0-B8D9-4683-94CC-146697199B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Искуство во одредена специјализирана облас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искуството кое лицето го стекнало преку ваков вид на работа.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Бројот на случаите на кои работело лицето.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Видот на случаите во кои било вклучено лицето.</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лку долго работи лицето во дадената област.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 за неговото искуство.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2577A-149B-4475-BE98-937F32C28D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знавања за истражни дејствиј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бирање на карактерот истрагите во смисла на нивна доверливост, релевантност и разлики меѓу: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Разузнавачки 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5ED3A-43EC-45DF-8569-F6064FF047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екстуално знаење </a:t>
            </a:r>
            <a:endParaRPr b="0" lang="en-US" sz="32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знавање на различните приоди, јазик, филозофија, практика и улоги на полицијата, правото и технички познавања за информациите </a:t>
            </a:r>
            <a:endParaRPr b="0" lang="en-US" sz="28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endParaRPr b="0" lang="en-US" sz="28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400" spc="-1" strike="noStrike">
                <a:solidFill>
                  <a:srgbClr val="000000"/>
                </a:solidFill>
                <a:latin typeface="Calibri"/>
              </a:rPr>
              <a:t>     </a:t>
            </a:r>
            <a:r>
              <a:rPr b="0" lang="mk-MK" sz="2400" spc="-1" strike="noStrike">
                <a:solidFill>
                  <a:srgbClr val="000000"/>
                </a:solidFill>
                <a:latin typeface="Calibri"/>
              </a:rPr>
              <a:t>Технологијата е од суштинска важност за да се гарантира издржаноста на електронските докази во судот. Исто така од суштествено значење е разбирањето на концептот на веројатност во неговото најшироко значење, како и разбирањето на разликите </a:t>
            </a:r>
            <a:r>
              <a:rPr b="1" lang="mk-MK" sz="2400" spc="-1" strike="noStrike">
                <a:solidFill>
                  <a:srgbClr val="000000"/>
                </a:solidFill>
                <a:latin typeface="Calibri"/>
              </a:rPr>
              <a:t>меѓу научните и законските до</a:t>
            </a:r>
            <a:r>
              <a:rPr b="0" lang="mk-MK" sz="2400" spc="-1" strike="noStrike">
                <a:solidFill>
                  <a:srgbClr val="000000"/>
                </a:solidFill>
                <a:latin typeface="Calibri"/>
              </a:rPr>
              <a:t>кази.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EB104-4A8B-4D35-AD53-F9829CD86A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ознавања од областа на правото </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Познавањата на релевантните аспекти на правото, како што се правните концепти и постапки во врска с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с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тинуитет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удските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д суштинско значење се солидните познавања за улогите и одговорностите на вештото лиц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685B1-D8DF-471D-9BD4-935D35AA71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ата специјалистичка експертиза и искуство на ова поле,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истраги,</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предметот на истрагата,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од областа на правото,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Соодветни комуникациски вештини (и за писмени и за усни образложенија),</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јазични вештини.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4C43E-6580-42F5-A69F-D71290618D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муникациски вешти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Способност за изразување и објаснување со обичен јазик и усмено и писмен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специјалистичките позна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ехниките и опремата кои се корист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Методи на толкувањ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лни и слаби страни на до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Алтернативни објасну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50CC4-EA65-4C86-998A-51DEB6F839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пшто </a:t>
            </a:r>
            <a:endParaRPr b="0" lang="en-US" sz="28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 лицето се извршени проверки и дадена е дозвола за пристап до одредено ниво на доверливост за да постапува со доказниот материјал,</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лицето му се дадени релевантни насоки за евентуални материјали поврзани со злоупотреба на деца,</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Лицето е известено и му е укажано за влијанието на таквите материјали врз персоналот и соодветно е оценет ризикот во овој контекст,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е утврдува дека специјализираното вешто лице нема конфликт на интереси.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6481D-DB25-42C9-82CE-420D36C156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AFFE9-577C-4BC5-9EB4-9165185E11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3F9DF-0C62-4B89-BD2C-7FC02AA4BC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400" spc="-1" strike="noStrike">
              <a:solidFill>
                <a:srgbClr val="000000"/>
              </a:solidFill>
              <a:latin typeface="Calibri"/>
            </a:endParaRPr>
          </a:p>
          <a:p>
            <a:pPr marL="315360" indent="-3153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A9B69-A13F-43C9-AE85-DD47795CCF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Еден од меѓународно важните правни документи, Конвенцијата за компјутерски криминал на Советот на Европа сега е отворена за потпишување од државите-членки и други држави, кои учествувале во нејзината подготовка, како и за пристапување од други држав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вие начела ги поставуваат основите за информациите дадени во следните Глави и треба да се имаат предвид во сите фази на постапувањето со потенцијалните извори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15F78-9731-4E97-8DF6-B02AA26605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Тим кој прв интервенира на местото на настанот</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добие соодветен налог за претрес и сите други потребни овластувања пред да почне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има должност да го обезбеди местото на настанот, да го документира местото на настанот и да ги складира доказит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ги идентификува сите можни уреди за чување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донесува одлуки за методите на прибирање и заплен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дејствијата со кои може да се изменат доказит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ој е одговорен за состојбат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реземање на активности со кои се спречува менување или губење на електронските доказ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C1AF2-0CAA-4CA2-909F-871D40CF8E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9:52Z</dcterms:modified>
  <cp:revision>254</cp:revision>
  <dc:subject/>
  <dc:title>Introductory Cybercrime Training for Judges and Prosecutors</dc:title>
</cp:coreProperties>
</file>