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3EFC2-2763-450D-ADCF-070931BE1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D830A-F6BB-465B-BB9A-EFDEE334A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with all previous lessons this should follow a similar form with the agenda and session objectives set out at the beginning of the les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33185-D170-4C2C-B77A-F24C7AE0A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11A29-0F66-45EE-B2BA-6594CA2316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1D5-B421-471B-AFC8-FF2FA7B1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165-FABB-4865-9636-4460D69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9E3-27BD-4A98-8264-BCBCF6B4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8F6-C165-4244-A1B7-E86E5E0F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750-C193-4E5E-AA94-8FEF5422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D73-CC27-4E61-8D74-12D204A5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272-2CE1-4C20-B046-039C7D36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6CF-DC95-475C-BF41-5990F946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C91-9D59-4B6D-9FCF-7283687D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6EB-751B-4CC6-8E4A-87309CE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B3F-B998-4D57-BA41-D34E90B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C10-0A9D-433E-8C6D-98C018D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6C792-D5AB-4ADB-9613-E4F9BC65C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Сесија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Преглед на ден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800" spc="-1" strike="noStrike">
                <a:solidFill>
                  <a:srgbClr val="000000"/>
                </a:solidFill>
                <a:latin typeface="Arial"/>
              </a:rPr>
              <a:t>Напредна обука за компјутерски криминал за судии и обвинител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</a:rPr>
              <a:t>На крајот од часот уче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од активностите од претходните денови што ги разбира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каде што им треба повторно да се помине материјалот за знаењето да им биде на потребнот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560"/>
            <a:ext cx="85136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100" spc="-1" strike="noStrike">
                <a:solidFill>
                  <a:srgbClr val="000000"/>
                </a:solidFill>
                <a:latin typeface="Arial"/>
              </a:rPr>
              <a:t>Теми на Ден 1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очеток на курсот и запознав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подготвување истраг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на истраг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откривање осомниче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400" y="4500720"/>
            <a:ext cx="34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Arial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Oliver</cp:lastModifiedBy>
  <dcterms:modified xsi:type="dcterms:W3CDTF">2013-07-04T12:06:01Z</dcterms:modified>
  <cp:revision>13</cp:revision>
  <dc:subject/>
  <dc:title>Introductory Cybercrime Training for Judges and Prosecutors</dc:title>
</cp:coreProperties>
</file>