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CB07F-5645-4E8B-BC2E-D2A75B3584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C4933-86FE-416B-93EA-8C169F94A3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 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001B0-B6ED-4C41-ACF9-779A34593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priorities of an investigation is to identify the suspect(s). They can leave some direct traces about their identity or may use intermediaries when committing classical or virtual criminal activities. Helpful data on internet about suspect could be found not only due to his/her criminal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The locations of suspects are important to identify the space where they carry on criminal activities and where important evidence for the case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the suspect is identified it is very important to conduct investigative activities in order to clarify relevant aspects for the case, as fol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computer used to commit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suspect or other addresses 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et connection used (cable, wire-less, ISP,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nowledge and involvement in the criminal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with other suspects and their invol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nk accou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on of financial aspects can help to identify and locate the suspect(s) and also recover the financial product of the committed crimes, for the purpose to cover the pre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investigation actions related to the suspect must also follow his connections with other persons who are aware or are involved in criminal activities, as well as other potential scenarios that he could create in his favour and defense. These people can provide us important evidence in order to identify and locate the main susp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houldn’t forget that sometimes the utilities (electricity, water, gas, phone) subscriber details may also help to identify criminal/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lice databases, as well as older or current investigations performed by other police departments can be explore to identify and locate the suspect. If the crime environment is an online service, the provider may have also additional helpful data to identify the suspec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C38AE-8F7B-4DAE-8B91-D5617F92C9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operation with other police units or authorities is closely linked to the way the investigation is performed and must refer to all aspects envisaged in this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the cooperation is useful for the clarification of the following a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change of information about facts, persons, operation methods, connections in the investig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thering of data an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sion of logistic support for performing certain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zed assistance for technical, financial or other mat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llaboration activities must have a specific order, with priorities set for the investigation and on the basis of cooperation protocols and procedures.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DF109-D2A9-4F3A-9DA3-E939BB4103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evaluation of the performed activities, achieved results and identified evidence is a continuous process during the investigation and must be focused 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how these activities were execut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decisions and step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collected evidence is sufficient to make the decis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legal procedures and provision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7D392-2029-422D-A6ED-88959951F1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all aspects were investig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rdering of additional investigation meas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the criminal activity was stopped or which is its impact in case it continu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valuation must also set the time for searches, arrests and intervie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te and method to perform these activities are to be decided on the basis of collected evidence, nature of criminal activity and category of the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o be decided initially the suspects to be caught in action and then to perform the searches or to have certain suspects searched and arrested first and then others to be searched and arrested in a later s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decisions are to be made in the interest of the investigation and victims, with the observance of legal provisions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s to perform searches, identifying suspects and seizing the evidence and conducting property search requires specific and separate preparation of the people who are going to do that, according to the nature of the location where the activities should be performed, the identities and risks related to suspects, and the nature of evidence and property to be ident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dowment and preparation of the personnel to be involved in the above mentioned activities is a very important activity, in line with what is presented earl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paration of the documents in the case file and instruction of the personnel for interviewing the suspects must take into account all investigative activities which were performed, committed crimes and administere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017F4-0D40-4BB1-906D-BB45659E7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commended that at the end of an investigation to have an assessment of the case, in order to identify all positive and negative aspects of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gative aspects help to improve performance, methods and procedures for such cases so to eliminate in the future any risk related to performe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sitive aspects refer to specific experience to be used in future training of personnel, methods of collaboration with victims or other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eriences, learning points and best practices may be disseminated in the department or through authorized channels to other depart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situations faced during an investigation can be presented and discussed for assessing the reaction to them and the options for future 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5FCE6-BCF5-4C92-B572-BCF872F650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ll investigators in this training and supposed to investigate given scenario today and tomorrow. Due to its group work, yourself and your team members who are sitting with you in your round table supposed to investigate the case and identify offender/offend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thing we should understand the crime and modus operandi.  If the attack is too much technical and not clear to you it’s always good to spend time to understand how crime and criminal model works. In the given scenario there is DDOS (Distributed Denial Of System) attack could be some technical who are not familiar with this attack type. DDOS is basically an attack type to reach victim system with massive amount of computer access request and makes victim system resources busy with these requests. So legit and natural access requests can’t be responded by victim system and looks unreachable. Technical means of DDOS attack is overloading bandwid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missions you have is to complete defining if this attack is crime in your criminal law. If yes please write it down what it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main mission in this scenario is to identify offender who victimised Hum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very helpful to prepare a to do list. What is available, what we can gather from online and open sources, what other data we should ask from offline data providers (like ISP, bank, power supplier records, companies, international assistance) to develop case. Please consider trainers in the class are offline data provider. If you write your requests (in small note paper) as prosecutor or judge they may provide you some valuable data. Some of your request will end with something positive but not all of them as it is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times thinking in details and checking every single data meaning may help on the other hand sometimes general evaluation of the situation may help. Please do several efforts in same time. When you collect all information you may analyse what they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good to think as criminal. If we may do it we can check the right locations and understand who is behind the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lease do not forget this is training and trainers are ready to assist you in any doubt or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active participation is to identify offender and contribution is appreci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BAE37-DCC3-4677-95C0-A9843A92D1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78ACA-6D76-4005-9BCB-C945A8C7EA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ever a cybercrime case is reported to the competent authorities by complaint one of the first activities is to analyze this complaint, in order to check whether it </a:t>
            </a:r>
            <a:r>
              <a:rPr b="0" lang="en-GB" sz="1200" spc="-1" strike="noStrike" u="sng">
                <a:solidFill>
                  <a:srgbClr val="000000"/>
                </a:solidFill>
                <a:uFillTx/>
                <a:latin typeface="Calibri"/>
              </a:rPr>
              <a:t>includes necessary and sufficient data</a:t>
            </a:r>
            <a:r>
              <a:rPr b="0" lang="en-GB" sz="1200" spc="-1" strike="noStrike">
                <a:solidFill>
                  <a:srgbClr val="000000"/>
                </a:solidFill>
                <a:latin typeface="Calibri"/>
              </a:rPr>
              <a:t> to initiate an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the investigation will start from a complaint or from public information  (available on the mass-media or internet), or a crime analyses/cyber patrol result, or from a request for assistance coming from a foreign authority, it is very important to have all the facts very clear from the beginning in order to have the best approach for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responsible to receive the complaint from the victim, should be aware of what information is needed in the complaint and what information are required to start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we start to lock for the form and content of the complaint it is important to check if the reported activities are considered crimes, because we may have some situations when the facts committed are not incriminated in the national legislation (Ex: freedom of speec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B3884-98F4-453D-ADF8-0E28B2C784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cybercrime cases, the complaint must be addressed to the </a:t>
            </a:r>
            <a:r>
              <a:rPr b="0" lang="en-US" sz="1200" spc="-1" strike="noStrike" u="sng">
                <a:solidFill>
                  <a:srgbClr val="000000"/>
                </a:solidFill>
                <a:uFillTx/>
                <a:latin typeface="Calibri"/>
              </a:rPr>
              <a:t>competent bodies</a:t>
            </a:r>
            <a:r>
              <a:rPr b="0" lang="en-US" sz="1200" spc="-1" strike="noStrike">
                <a:solidFill>
                  <a:srgbClr val="000000"/>
                </a:solidFill>
                <a:latin typeface="Calibri"/>
              </a:rPr>
              <a:t> and includes at least the following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dentification details of the victim (address, name, telephone number, site, email, onlıne system identification number, type of activity in case of legal ent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hort description of the reported facts, the time period when and how they occurred, place, result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ss, explanation and justification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cation of victim’s computer systems, technical persons responsible with their maintenance who can provide information about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sults of investigation and checks conducted by the victim, if any, in relation with the fa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ormation of the suspects and possible communication with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ans of communication and the sour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source of criminal activity, location, computer, server, sit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inancial instruments used to transfer money and methods of trans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nesses who may support the facts or are aware of the fa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upporting evidence for the incriminated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445CF-19B8-4978-A31F-8174FE4CAC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the complaint and its content and following analysis of the attached documents or evidence, it becomes important to identify the offences committed. Depending on the nature of the offences, there will be identified the unit competent for investigating the case, within the police or prosecutor’s office, the ways to collect evidence, investigation tools to be used, as well as the need to use certain international cooperation tools, as the case may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ight be situations when the value of the prejudice may suppose the existence of a crime or of an aggravated form, and this is why correlation is required between the criminal activities and the size of the prejudice. Due to this fact and need cyber crimes units should develop correlation methodology between police units and other related institu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ication of the offences should be a continuous process during the entire investigation or prosecution, because there are situations when new facts are identified and new offences could be considered for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we identify more suspects involved the criminal activities, each of them should be evaluated, based on the facts and collected evidence. Listing all known identifiers for each suspects and differentiate from other members of the criminal group will be helpful for evalu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beginning of investigation the involvement of some of the people might not be very clear and you need more information and evidence to make the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all the evidence is gathered and the entire investigative instruments were used in the case, you can decide about the offences committed by the suspect/suspects and their situation (witness, main offender, accomplic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7796D-FB6A-4F0B-AB78-233D77B97C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ata, information and evidence which must be identified and gathered can be obtained mainly from victims, witnesses, police databases, open sources or third par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ctivity of gathering and assessing of such data and evidence must be focused on the identification of the means and the locations from where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and evidence have the purpose to clarify the reported facts, identify the suspects and places where the criminal activity took place, as well as to see the nature and value of the los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same time with the receiving of the complaint it is important to identify the necessary data and information for the process of investigation and to establish the channels and means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process of collecting the evidence a key aspect will be not to alert the suspect/suspects, because they can destroy the evidence, especial the digital evidence, like information from his/their computers.</a:t>
            </a:r>
            <a:r>
              <a:rPr b="0" lang="en-GB"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ll the steps you are trying to take during the investigation you have to evaluate what will be the result and how this will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activities committed by the suspect and all the evidence or information you can collect, should be asses in order to identify the motivation and the behavior of the susp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ioritization of the activities for identification of the evidence is needed in order to obtain in the short time the most important answers to the questions raised during the investigation or prosecu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A5203-9DD1-4B75-AAD2-703F0145EE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the moment of complaint’s registration, an assessment has to be performed together with the victim, of the situation created and of the potential risks that could affect the victim, the computer systems or other commercial goods and interes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possible that during the criminal activity certain threats to remain for the victim’s business and financial interests, as well as for the computer systems of the victim or of another perso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also necessary to identify protection measures needed to protect against the identified risk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When speaking about computer systems, the protection measures may refer to technical aspects –protection of servers or making backup copies. As for the commercial interests, the personal or business reputation of a person needs to be protected, while limiting the generated material prejudice, which is the reason to maintain the confidentiality of certain elemen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pending on the nature of the facts, we might need the victim to keep contact with the suspect and have a certain behavior, in order to successfully perform the investigation and identification of suspects and evidence. While the victim is advised to keep contact with the suspect to gather more evidence, we should coordinate and decide all the steps and not let the victim misunderstand and commit illeg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uring the process of risk assessment and identification of measures to remove the risks, additional support may be needed from third persons or compani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fore, for the assessment of cyber attacks, with reference to the software applications and computer means used there, we can ask for the support of computer forensic exper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the identification of certain data or for stopping certain computer activities, we may involve companies, even from different jurisdictions, in order to shut down a site or to remove the software installed on the server of the compan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important to have a permanent risk assessment for the victim and his/her interests during the entire investigation and also keep permanent contact with the victim in order to take the appropriate actions when needed.</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10E7A-1141-40D4-B07A-D52C1E6F5B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ybercrime cases, the evidence have not only digital, but also physical nature, such as documents, communications, witnesses testimonies, etc.</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ase of digital evidence, from the very beginning the scene must be identified to know where the evidence is and to ensure its security. It is well known that the virtual environment evidence is kept for a limited period and if it is not quickly identified could affect the investigation negatively.</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ollowing the identification of the locations from where digital evidence can be collected, appropriate measures must be enacted for their protection and security. It would be very helpful if investigators can obtain information about the location of search and seizure by computer wise. This will help computer forensic units to decide which and amount of specific hardware, software, experts deploymen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 cybercrime investigation, the digital evidence can be collected from various places, but the most important sources are the follow:</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computer from which the facts have been committed, but this doesn’t always mean the identification of the criminal;</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Compromised applications or servers can be used for hiding the identity of the criminal, therefore it is important to collect from the very first stage the data and information necessary for the identification of the source of attack.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attacked or compromised computer system, as applicable, depending on the nature of the cr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servers/computers must be immediately isolated and shut down in order to be analyzed by the forensic experts, if otherwise does not involves more risk. For ensuring the proper functioning of an application, webpage, etc. that might be on the compromised servers, they need to be shut down and replaced with safety copies. It is not recommended to use any compromised server/computer after being aware of the criminal activity. If the attack was successful due to a common bug, safe copy may also have the same vulnerability. This is why safe copies should be analyzed and patched if possible before re-launching system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way of performing the assessment of compromised computer systems and the applications must be used to preserve the integrity of the contained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other computer systems used to carry out computer attacks, in any for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digital evidence is at the service providers or third parties, they have to be contacted immediately, to preserve the necessary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can send preservation request to the service providers, asking them to store the logs, especially when such logs are outside the national jurisdiction and the retention period is limited. In some jurisdictions the preservation request should be sent to the 24/7 contact points which will be detailed in international cooperation sectio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u="sng">
                <a:solidFill>
                  <a:srgbClr val="000000"/>
                </a:solidFill>
                <a:uFillTx/>
                <a:latin typeface="Calibri"/>
              </a:rPr>
              <a:t>When </a:t>
            </a:r>
            <a:r>
              <a:rPr b="0" lang="en-GB" sz="800" spc="-1" strike="noStrike">
                <a:solidFill>
                  <a:srgbClr val="000000"/>
                </a:solidFill>
                <a:latin typeface="Calibri"/>
              </a:rPr>
              <a:t>the </a:t>
            </a:r>
            <a:r>
              <a:rPr b="0" lang="en-GB" sz="800" spc="-1" strike="noStrike" u="sng">
                <a:solidFill>
                  <a:srgbClr val="000000"/>
                </a:solidFill>
                <a:uFillTx/>
                <a:latin typeface="Calibri"/>
              </a:rPr>
              <a:t>topic is </a:t>
            </a:r>
            <a:r>
              <a:rPr b="0" lang="en-GB" sz="800" spc="-1" strike="noStrike">
                <a:solidFill>
                  <a:srgbClr val="000000"/>
                </a:solidFill>
                <a:latin typeface="Calibri"/>
              </a:rPr>
              <a:t>digital evidence, in the process of the decision, about the ways to follow in the investigation, it will be very important to consider the time needed to obtain them from other jurisdictions, when is the case. The instruments and channels to request assistance from other countries should be identified, in the sa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lectronic communication systems used for criminal activities are important during an investigation and that is why it is needed to identify and present the messages between the victim and the suspect in a format which is appropriate to find their sourc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For physical evidence, normally there are no requirements for them to be preserved against removing or destruction. For some of the evidence could be limitations for the process of obtaining them, like the banking secrecy for specific transactions, status and tools used to obtain them (police report, approval of prosecutor or judge)  or the jurisdiction, when they can be obtain only through international cooperation instrument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hysical evidence some times, could be easier to obtain in addition to digital evidence and the evaluation of them can direct to some important leads for the investigation.</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39335-99E1-4E6F-8DCA-EAC713275C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cases of cybercrime, often there are victims who are not aware that their computer systems have been attacked/compromised or that their business interests have been affected. The computer attacks may result in compromising several computers/servers simultaneously in a single criminal activity, so it becomes important to identify the victims and inform them about their situation and give them the opportunity to take all measures for protecting their computers or interests, but also to gather from them the supporting evidence for the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victims must be contacted and informed about the investigation and then they are asked to provide any data and evidence they have and are offered the possibility to submit complaints. All communications should ensure confidentiality both for the victim and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separate category is formed by witnesses. They have to be identified as they might be in the possession of important data and evidence to be used during the investigation in order to prove the crimin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y need to be identified as quickly as possible and getting in contact with them should be considered as a prior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ust be followed the legal requirements and the working procedures applicable to the methods used to contact witnesses and the means to request the data and evidence they hol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operation with the victim(s) during the investigation must be a permanent process based on the need to inform the victim about the progress, explain the judicial procedures, and provide assistance whenever necess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ight be cases when the victims identify additional data which weren’t provided at the beginning of the investigation or which come out later couldn’t be known and used by investiga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ntact with the victims and witnesses must be in line with their needs and interests, observing the race, religion and human right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AA0CF-F8E1-4CB5-8BF0-494E3647FD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the cases in which the cyber offences are investigated it is relevant not to focus only on the “new methods” of investigation related to computer, internet but on the traditional methods also, and all the details of the facts should be analyzed with the same valu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ll investigative activities to be performed must envisage especiall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probation of criminal activity and stopping i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dentification of suspects and their conviction,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recovery of the prejudi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is no doubt that in every attack and crime one of the very first tasks is to stop the crime and also losses. There are some situations when we may analyze and decide very carefully and this activity can be delayed for a certain period of time for investigative purposes if otherwise is not more harmfu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ctivities to be performed shall be prioritized, based on the police working procedures and legal provision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establishing the activities and the way to perform them, the prosecutor, the victim, witnesses or people from other supporting departments or institutions can be consulted and take decision together. We should consider that the victims could be very emotional due to nature of situatio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ontinuity must be ensured for the investigation, therefore in case of a complex investigations a team is needed to carry on the activities, with a good relationship and dissemination of data and results between the members, on permanent basi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ther criminal activities or connections with other cases may be found during the investigation and in such cases the information has to be sent to the competent departm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preparation of the file and drafting of the necessary documents to outline the results should be a permanent preoccupation of investigators in order to allow the correlation of all identified data and eviden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other important aspect is related to the method of gathering data and evidence in that case, as well as to how they are kept and used. All the legal provisions and procedures must be observed for this purpose and the evidence has to be kept accurate and safe.</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8CADC-1BF9-47D2-AA58-2E8F246F9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08D2D-CB7D-460E-95DC-A25C6AF03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BCF0-98E4-40C9-9795-A100AB4A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2012D-7B07-4332-85E9-90D77B463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FB8C5-8310-4FB0-9AA9-B06C1AA83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C1A4-543C-49A3-8DCF-4B2AB3EF8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66C3-8275-480F-8579-384CF079D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93787-9B1F-4542-9035-D26DD3FA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1FBF-7253-4BD8-AB33-58787B2F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5222-0B49-45E3-8DBD-B223313D5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0CDB-A7EA-47FD-A3E4-975DCD72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F4B7-5285-4680-84C8-4346F502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6DAD-6FC6-44A4-B98E-B48E8A828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4F0C1-B576-4F72-8A4F-3E3FCC206C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План за истраг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a:t>
            </a:r>
            <a:r>
              <a:rPr b="1" lang="mk-MK" sz="3600" spc="-1" strike="noStrike">
                <a:solidFill>
                  <a:srgbClr val="000000"/>
                </a:solidFill>
                <a:latin typeface="Arial"/>
              </a:rPr>
              <a:t>Соработка полиција-обвинител</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ожување на случајот и преземените мерки пред обвинителот</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Заеднички истражни активности</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главно се однесува на</a:t>
            </a:r>
            <a:r>
              <a:rPr b="0" lang="en-US" sz="3000" spc="-1" strike="noStrike">
                <a:solidFill>
                  <a:srgbClr val="000000"/>
                </a:solidFill>
                <a:latin typeface="Calibri"/>
              </a:rPr>
              <a:t>:</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сторените кривични дела</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истражните мерки</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оценување на резултатите и одлучување за претрес, апсење и испитување на осомничените</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9. </a:t>
            </a:r>
            <a:r>
              <a:rPr b="1" lang="mk-MK" sz="3400" spc="-1" strike="noStrike">
                <a:solidFill>
                  <a:srgbClr val="000000"/>
                </a:solidFill>
                <a:latin typeface="Arial"/>
              </a:rPr>
              <a:t>Идентификување на осомничените</a:t>
            </a:r>
            <a:endParaRPr b="0" lang="en-US" sz="34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Идентификување и локација на осомничените</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руги адреси што ги кориси осомниченио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локација на компјутерот користен за делат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Користена интернет врска </a:t>
            </a:r>
            <a:r>
              <a:rPr b="0" lang="en-GB" sz="2300" spc="-1" strike="noStrike">
                <a:solidFill>
                  <a:srgbClr val="000000"/>
                </a:solidFill>
                <a:latin typeface="Calibri"/>
              </a:rPr>
              <a:t>(</a:t>
            </a:r>
            <a:r>
              <a:rPr b="0" lang="mk-MK" sz="2300" spc="-1" strike="noStrike">
                <a:solidFill>
                  <a:srgbClr val="000000"/>
                </a:solidFill>
                <a:latin typeface="Arial"/>
              </a:rPr>
              <a:t>кабел</a:t>
            </a:r>
            <a:r>
              <a:rPr b="0" lang="en-GB" sz="2300" spc="-1" strike="noStrike">
                <a:solidFill>
                  <a:srgbClr val="000000"/>
                </a:solidFill>
                <a:latin typeface="Calibri"/>
              </a:rPr>
              <a:t>, </a:t>
            </a:r>
            <a:r>
              <a:rPr b="0" lang="mk-MK" sz="2300" spc="-1" strike="noStrike">
                <a:solidFill>
                  <a:srgbClr val="000000"/>
                </a:solidFill>
                <a:latin typeface="Arial"/>
              </a:rPr>
              <a:t>безжично</a:t>
            </a:r>
            <a:r>
              <a:rPr b="0" lang="en-GB" sz="2300" spc="-1" strike="noStrike">
                <a:solidFill>
                  <a:srgbClr val="000000"/>
                </a:solidFill>
                <a:latin typeface="Calibri"/>
              </a:rPr>
              <a:t>, ISP, </a:t>
            </a:r>
            <a:r>
              <a:rPr b="0" lang="mk-MK" sz="2300" spc="-1" strike="noStrike">
                <a:solidFill>
                  <a:srgbClr val="000000"/>
                </a:solidFill>
                <a:latin typeface="Arial"/>
              </a:rPr>
              <a:t>итн.</a:t>
            </a:r>
            <a:r>
              <a:rPr b="0" lang="en-GB" sz="2300" spc="-1" strike="noStrike">
                <a:solidFill>
                  <a:srgbClr val="000000"/>
                </a:solidFill>
                <a:latin typeface="Calibri"/>
              </a:rPr>
              <a:t>)</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знаење и вмешаност во криминалните дејств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соработка со други осомничени и нивна вмешанос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Финансиска истраг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етали за корисникот од сметк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Врски со друг осомничен или други кривични истраг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Полициските бази на податоци и интернетот може да се користат како извор на информаци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mk-MK" sz="4000" spc="-1" strike="noStrike">
                <a:solidFill>
                  <a:srgbClr val="000000"/>
                </a:solidFill>
                <a:latin typeface="Arial"/>
              </a:rPr>
              <a:t>Соработка со други органи</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треба да е насочена кон</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размена на информации за факти, лица, начини на работа, врски во истраги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прибирање податоци и доказ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давање логистичка поддршка за вршење одредени активнос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специјализирана помош за технички, финансиски или други прашањ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1. </a:t>
            </a:r>
            <a:r>
              <a:rPr b="0" lang="mk-MK" sz="3800" spc="-1" strike="noStrike">
                <a:solidFill>
                  <a:srgbClr val="000000"/>
                </a:solidFill>
                <a:latin typeface="Arial"/>
              </a:rPr>
              <a:t>Оценка на активностите и вршење претрес, апсење и распит</a:t>
            </a:r>
            <a:br>
              <a:rPr sz="4000"/>
            </a:br>
            <a:endParaRPr b="0" lang="en-US" sz="38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Процесот на оценка треба да се однесува н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како биле извршени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одлуките и мер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прибраните докази се доволни за донесување на одлу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законските постапки и одредб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итани сите аспек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наредување дополнителни истражни мер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криминалната активност е сопрена или кое </a:t>
            </a:r>
            <a:r>
              <a:rPr b="0" lang="en-GB" sz="3200" spc="-1" strike="noStrike">
                <a:solidFill>
                  <a:srgbClr val="000000"/>
                </a:solidFill>
                <a:latin typeface="Calibri"/>
              </a:rPr>
              <a:t>ѝ </a:t>
            </a:r>
            <a:r>
              <a:rPr b="0" lang="mk-MK" sz="2800" spc="-1" strike="noStrike">
                <a:solidFill>
                  <a:srgbClr val="000000"/>
                </a:solidFill>
                <a:latin typeface="Arial"/>
              </a:rPr>
              <a:t>е влијанието во случај да продолж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ледење на законските одредби и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луѓето да ги извршат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документите од досиет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2. </a:t>
            </a:r>
            <a:r>
              <a:rPr b="0" lang="mk-MK" sz="3800" spc="-1" strike="noStrike">
                <a:solidFill>
                  <a:srgbClr val="000000"/>
                </a:solidFill>
                <a:latin typeface="Calibri"/>
              </a:rPr>
              <a:t>Проценка на истрагата да се утврди што е научено и кои се добрите практики и нивно ширење</a:t>
            </a:r>
            <a:br>
              <a:rPr sz="4000"/>
            </a:br>
            <a:endParaRPr b="0" lang="en-US" sz="38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оценка на истраг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зи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га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Ширење на наученото и најдобрите практи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a:t>
            </a:r>
            <a:r>
              <a:rPr b="0" lang="mk-MK" sz="3600" spc="-1" strike="noStrike">
                <a:solidFill>
                  <a:srgbClr val="000000"/>
                </a:solidFill>
                <a:latin typeface="Calibri"/>
              </a:rPr>
              <a:t>Совети за сценариото од курсот</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али</a:t>
            </a:r>
            <a:r>
              <a:rPr b="0" lang="en-US" sz="2100" spc="-1" strike="noStrike">
                <a:solidFill>
                  <a:srgbClr val="000000"/>
                </a:solidFill>
                <a:latin typeface="Calibri"/>
              </a:rPr>
              <a:t> DDOS </a:t>
            </a:r>
            <a:r>
              <a:rPr b="0" lang="mk-MK" sz="2100" spc="-1" strike="noStrike">
                <a:solidFill>
                  <a:srgbClr val="000000"/>
                </a:solidFill>
                <a:latin typeface="Calibri"/>
              </a:rPr>
              <a:t>нападот е јасен во суштина</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ие сте иследникот што истражува денес и утр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Едно или две лица може да водат истрага во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ефинирајте го делото според вашето кривично прав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аква правна сила може да се употреби за вакво дел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што знаете и што недостасув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ои типови податоци може да ги добиете </a:t>
            </a:r>
            <a:r>
              <a:rPr b="0" lang="en-US" sz="2100" spc="-1" strike="noStrike">
                <a:solidFill>
                  <a:srgbClr val="000000"/>
                </a:solidFill>
                <a:latin typeface="Calibri"/>
              </a:rPr>
              <a:t>online </a:t>
            </a:r>
            <a:r>
              <a:rPr b="0" lang="mk-MK" sz="2100" spc="-1" strike="noStrike">
                <a:solidFill>
                  <a:srgbClr val="000000"/>
                </a:solidFill>
                <a:latin typeface="Calibri"/>
              </a:rPr>
              <a:t>и</a:t>
            </a:r>
            <a:r>
              <a:rPr b="0" lang="en-US" sz="2100" spc="-1" strike="noStrike">
                <a:solidFill>
                  <a:srgbClr val="000000"/>
                </a:solidFill>
                <a:latin typeface="Calibri"/>
              </a:rPr>
              <a:t> offline</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нструкторите се давател на податоците и жртва, може да ги дадат податоците ако се побараат од нив (користете мали ливчињ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е сите барања ќе добијат позитивен одговор или податоц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детално и за сите процес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ршете повеќе дејства истовремен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како криминалец</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дентификувајте го криминалецот/т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Се цени вашето активно учество за идентификување во вашата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оволно податоци за почнување истраг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ијавените факти се кривични дел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реба да се упати до надлежнит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држина на пријавата</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mk-MK" sz="4000" spc="-1" strike="noStrike">
                <a:solidFill>
                  <a:srgbClr val="000000"/>
                </a:solidFill>
                <a:latin typeface="Arial"/>
              </a:rPr>
              <a:t>Прием и оценка на пријава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Содржина на пријавата</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етали за идентификување на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кус опис на пријавените фак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штета, објаснување и оправдување</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Локација на компјутерските системи на жртвата, технички лица одговорни за нивното одржување што можат да дадат информации за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ерификации и проверки извршени од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нформации од осомничените и евентуална комуникација со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редства за комуникација и извор</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зворот на криминалната активност</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клучени финансиски инструмен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ведоц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окази за поддршка</a:t>
            </a:r>
            <a:endParaRPr b="0" lang="en-US" sz="2200" spc="-1" strike="noStrike">
              <a:solidFill>
                <a:srgbClr val="000000"/>
              </a:solidFill>
              <a:latin typeface="Calibri"/>
            </a:endParaRPr>
          </a:p>
          <a:p>
            <a:pPr marL="339480" indent="-3394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mk-MK" sz="4000" spc="-1" strike="noStrike">
                <a:solidFill>
                  <a:srgbClr val="000000"/>
                </a:solidFill>
                <a:latin typeface="Arial"/>
              </a:rPr>
              <a:t>Утврдување на делата</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длежните органи да истражат</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чини за прибирање докази</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на истрагат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за меѓународна соработк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Врска меѓу пријавените активности и тежината на повред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3</a:t>
            </a:r>
            <a:r>
              <a:rPr b="1" lang="en-US" sz="3400" spc="-1" strike="noStrike">
                <a:solidFill>
                  <a:srgbClr val="000000"/>
                </a:solidFill>
                <a:latin typeface="Calibri"/>
              </a:rPr>
              <a:t>. </a:t>
            </a:r>
            <a:r>
              <a:rPr b="1" lang="mk-MK" sz="3400" spc="-1" strike="noStrike">
                <a:solidFill>
                  <a:srgbClr val="000000"/>
                </a:solidFill>
                <a:latin typeface="Arial"/>
              </a:rPr>
              <a:t>Прибирање и оценување докази, информации и разузнавачки податоци</a:t>
            </a:r>
            <a:endParaRPr b="0" lang="en-US" sz="34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звори: жртви, сведоци, полициски бази на податоци, отворени извори или трети лиц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нструменти и локациј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Цел: појаснување на пријавените факти, идентификување на осомничените и местата каде што се извршила криминалната активност, природата и вредноста на штет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0" lang="mk-MK" sz="4000" spc="-1" strike="noStrike">
                <a:solidFill>
                  <a:srgbClr val="000000"/>
                </a:solidFill>
                <a:latin typeface="Arial"/>
              </a:rPr>
              <a:t>Вршење проценка на ризикот и утврдување на потребата за дополнителна поддршка</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Се врши заедно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Можни ризици: може да влијае на жртвата, компјутерските системи или други комерцијални добра и интерес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Утврдување заштитни мер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Жртвата да одржи контакт со осомниченио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Поддршка од вешто лице за компјутери или трето лиц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Вршење континуирана проценка на ризикот и одржување контакт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mk-MK" sz="4000" spc="-1" strike="noStrike">
                <a:solidFill>
                  <a:srgbClr val="000000"/>
                </a:solidFill>
                <a:latin typeface="Arial"/>
              </a:rPr>
              <a:t>Заштита на местото</a:t>
            </a:r>
            <a:br>
              <a:rPr sz="4000"/>
            </a:br>
            <a:r>
              <a:rPr b="1" lang="mk-MK" sz="4000" spc="-1" strike="noStrike">
                <a:solidFill>
                  <a:srgbClr val="000000"/>
                </a:solidFill>
                <a:latin typeface="Arial"/>
              </a:rPr>
              <a:t>и чување докази</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 и физичк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те докази се чуваат ограничено врем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Локација и мерки за собирање дигиталн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Извори: компјутер/сервер користен за криминални активности, компјутерот на жртвата, друг компјутер/сервер</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Барање за зачувувањ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Пораки за комуникациј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lang="mk-MK" sz="4000" spc="-1" strike="noStrike">
                <a:solidFill>
                  <a:srgbClr val="000000"/>
                </a:solidFill>
                <a:latin typeface="Arial"/>
              </a:rPr>
              <a:t>Утврдување на жртвата/те и сведоците и соработка со нив</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fontScale="92000"/>
          </a:bodyPr>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руги жртв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однесени пријави и давање информации и доказ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ведоците може да имаат важна улога</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авни услови и постапка за постапување со жртвите и сведоците</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со жртвите треба да биде континуиран процес – давање повратни информации и помош</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a:t>
            </a:r>
            <a:r>
              <a:rPr b="1" lang="en-US" sz="3600" spc="-1" strike="noStrike">
                <a:solidFill>
                  <a:srgbClr val="000000"/>
                </a:solidFill>
                <a:latin typeface="Calibri"/>
              </a:rPr>
              <a:t>. </a:t>
            </a:r>
            <a:r>
              <a:rPr b="1" lang="mk-MK" sz="3600" spc="-1" strike="noStrike">
                <a:solidFill>
                  <a:srgbClr val="000000"/>
                </a:solidFill>
                <a:latin typeface="Arial"/>
              </a:rPr>
              <a:t>Утврдување мерки и активности што треба да се преземат</a:t>
            </a:r>
            <a:endParaRPr b="0" lang="en-US" sz="36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Треба да се концентрираме на</a:t>
            </a:r>
            <a:r>
              <a:rPr b="0" lang="en-US" sz="2500" spc="-1" strike="noStrike">
                <a:solidFill>
                  <a:srgbClr val="000000"/>
                </a:solidFill>
                <a:latin typeface="Calibri"/>
              </a:rPr>
              <a:t>:</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е само нови, туку и традиционални метод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оценување на криминалната активност и нејзино спреч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утврдување на осомничените и нивно осуд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адоместување на повредат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Да се спречат криминални активности и загуб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редување на активностите по приоритет</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Истражна екип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Врска со други случа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Соработка со други оддел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готвување досие</a:t>
            </a:r>
            <a:endParaRPr b="0" lang="en-US" sz="2500" spc="-1" strike="noStrike">
              <a:solidFill>
                <a:srgbClr val="000000"/>
              </a:solidFill>
              <a:latin typeface="Calibri"/>
            </a:endParaRPr>
          </a:p>
          <a:p>
            <a:pPr marL="332640" indent="-3326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3T13:58:11Z</dcterms:modified>
  <cp:revision>37</cp:revision>
  <dc:subject/>
  <dc:title>Introductory Cybercrime Training for Judges and Prosecutors</dc:title>
</cp:coreProperties>
</file>