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78A51-BBCE-459F-82DC-FF3634D036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ourse contains a mixture of presentations and exercises based around a scenario.  It is structured in that way as a result of requests received during the basic course for more information on cases and digital forensics.  This course will enable the delegates, not only to listen to experts providing information, but also to work on an investigation themselves, working on the information that will be provided during the course.</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AE165-F663-4757-BF56-52E040496E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3CC89-6265-4380-8A62-C51D4DA966C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67479-696D-4A26-9996-BE2ECCB559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02231-F57F-4305-A79D-5D6198C2A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CC48-C0C0-4753-90B6-3B8079C63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4D979-0B20-43CF-8D78-DAA57093C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113F0-CA07-429F-8D87-34581D916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1458-0589-4A8E-A177-35943E63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2DFCC-7041-412C-AA36-8B41ED4F6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E43C0-1E53-4758-91C1-DC5449AD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96CF-0D43-46C3-8D06-05E9F07B5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2BEAB-EF32-4065-B278-C283431D6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DE1E-822B-4353-942D-EE3BC1E46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ABC4-A2D0-4FDA-9886-280A0204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547F4-4D37-464E-9EE8-D226B22E7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F15D7-639B-4001-BA9A-5B090481EC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Сесија</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mk-MK" sz="3200" spc="-1" strike="noStrike">
                <a:solidFill>
                  <a:srgbClr val="a6a6a6"/>
                </a:solidFill>
                <a:latin typeface="Arial"/>
              </a:rPr>
              <a:t>Почеток на курсот</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 на курсот</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урсот е наменет да понуди знаење и вештини да им помогнат на судиите и обвинителите да ги извршуваат своите улоги во истрагите за компјутерски криминал.</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курс е надградба на наученото од курсот за основна обука за компјутерски криминал за судии и обвинители и треба да го посетуваат единствено оние што успешно го завршиле тој курс.</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курсот</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На крајот од овој курс учесниците ќе бидат запознаени со прашањата релевантни во истрага н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Водење истрага</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на типот сторено дело</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локација на докази, сведоци и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Обезбедување докази на прифатлив начин, без оглед на тоа каде се чуваат,</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претрес и заплена за електронски доказ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со дигитални уреди што се дел од истрагат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дача на вештите лица и други лица потребни за поддршка на фазата на истраг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распит на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Изведување докази з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згледување на релевантните аспекти во судскиот процес.</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24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етодологија</a:t>
            </a:r>
            <a:endParaRPr b="0" lang="en-US" sz="3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и распоре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Методологија</a:t>
            </a:r>
            <a:endParaRPr b="0" lang="en-US" sz="4400" spc="-1" strike="noStrike">
              <a:solidFill>
                <a:srgbClr val="000000"/>
              </a:solidFill>
              <a:latin typeface="Calibri"/>
            </a:endParaRPr>
          </a:p>
        </p:txBody>
      </p:sp>
      <p:sp>
        <p:nvSpPr>
          <p:cNvPr id="251" name="Rectangle 1"/>
          <p:cNvSpPr/>
          <p:nvPr/>
        </p:nvSpPr>
        <p:spPr>
          <a:xfrm>
            <a:off x="684360" y="1235160"/>
            <a:ext cx="8002440" cy="2545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резентации и практични вежб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снована на сценариј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стапно доставување документ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во групи на конкретни тем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порт од групат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дршка за групи од домашните инструктор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езервна поддршка од инструкторите во сесиите по групи</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1</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тставување на курсот, инструкторот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зентација – Подготвување истраг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утврдување дела, подготвување план за истрага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на 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откривање сторител и планирање стратегија за апсење</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2</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09</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реглед на Ден 1 – Информации за апсењето/т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45 – </a:t>
            </a:r>
            <a:r>
              <a:rPr b="0" lang="mk-MK" sz="2300" spc="-1" strike="noStrike">
                <a:solidFill>
                  <a:srgbClr val="000000"/>
                </a:solidFill>
                <a:latin typeface="Calibri"/>
              </a:rPr>
              <a:t>Презентација – Дигитално вештачење</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45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на дигитални докази, потреби од докази, осомничени, надлежност и меѓународни прашањ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подготвување предмет за на суд</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за завршување на случајот</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глед на случајот, интервенции од инструкторите и учесниците, евалуација, повратни информации и завршување на курсот</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ЗАПОЗНАВАЊЕ</a:t>
            </a:r>
            <a:endParaRPr b="0" lang="en-US" sz="3200" spc="-1" strike="noStrike">
              <a:solidFill>
                <a:srgbClr val="000000"/>
              </a:solidFill>
              <a:latin typeface="Calibri"/>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обивање на мразот</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апознавање</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јдете партнер што не го знаете</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познајте се 10 минути и кажете н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ко се вика и од која земја е</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де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Што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вното искуство како инструктор</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што интересно за ни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говори на прашања за знаењ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D8A99-D567-47CB-A790-A4C988C4252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u="sng">
                <a:solidFill>
                  <a:srgbClr val="000000"/>
                </a:solidFill>
                <a:uFillTx/>
                <a:latin typeface="Calibri"/>
              </a:rPr>
              <a:t>Корисник на компјутер</a:t>
            </a:r>
            <a:endParaRPr b="0" lang="en-US" sz="2000" spc="-1" strike="noStrike">
              <a:solidFill>
                <a:srgbClr val="000000"/>
              </a:solidFill>
              <a:latin typeface="Calibri"/>
            </a:endParaRPr>
          </a:p>
          <a:p>
            <a:pPr marL="343080" indent="0" algn="ctr">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 = </a:t>
            </a:r>
            <a:r>
              <a:rPr b="0" lang="mk-MK" sz="2000" spc="-1" strike="noStrike">
                <a:solidFill>
                  <a:srgbClr val="000000"/>
                </a:solidFill>
                <a:latin typeface="Calibri"/>
              </a:rPr>
              <a:t>Апсолутен почетник</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2 = </a:t>
            </a:r>
            <a:r>
              <a:rPr b="0" lang="mk-MK" sz="2000" spc="-1" strike="noStrike">
                <a:solidFill>
                  <a:srgbClr val="000000"/>
                </a:solidFill>
                <a:latin typeface="Calibri"/>
              </a:rPr>
              <a:t>Знае да вклучи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3 = </a:t>
            </a:r>
            <a:r>
              <a:rPr b="0" lang="mk-MK" sz="2000" spc="-1" strike="noStrike">
                <a:solidFill>
                  <a:srgbClr val="000000"/>
                </a:solidFill>
                <a:latin typeface="Calibri"/>
              </a:rPr>
              <a:t>Куца со двете раце</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4 = </a:t>
            </a:r>
            <a:r>
              <a:rPr b="0" lang="mk-MK" sz="2000" spc="-1" strike="noStrike">
                <a:solidFill>
                  <a:srgbClr val="000000"/>
                </a:solidFill>
                <a:latin typeface="Calibri"/>
              </a:rPr>
              <a:t>Има отвор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5 = </a:t>
            </a:r>
            <a:r>
              <a:rPr b="0" lang="mk-MK" sz="2000" spc="-1" strike="noStrike">
                <a:solidFill>
                  <a:srgbClr val="000000"/>
                </a:solidFill>
                <a:latin typeface="Calibri"/>
              </a:rPr>
              <a:t>Има надград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6 = </a:t>
            </a:r>
            <a:r>
              <a:rPr b="0" lang="mk-MK" sz="2000" spc="-1" strike="noStrike">
                <a:solidFill>
                  <a:srgbClr val="000000"/>
                </a:solidFill>
                <a:latin typeface="Calibri"/>
              </a:rPr>
              <a:t>Солиден корисник на софтв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7 = </a:t>
            </a:r>
            <a:r>
              <a:rPr b="0" lang="mk-MK" sz="2000" spc="-1" strike="noStrike">
                <a:solidFill>
                  <a:srgbClr val="000000"/>
                </a:solidFill>
                <a:latin typeface="Calibri"/>
              </a:rPr>
              <a:t>Има склоп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8 = </a:t>
            </a:r>
            <a:r>
              <a:rPr b="0" lang="mk-MK" sz="2000" spc="-1" strike="noStrike">
                <a:solidFill>
                  <a:srgbClr val="000000"/>
                </a:solidFill>
                <a:latin typeface="Calibri"/>
              </a:rPr>
              <a:t>Има направено и користено макро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9 = </a:t>
            </a:r>
            <a:r>
              <a:rPr b="0" lang="mk-MK" sz="2000" spc="-1" strike="noStrike">
                <a:solidFill>
                  <a:srgbClr val="000000"/>
                </a:solidFill>
                <a:latin typeface="Calibri"/>
              </a:rPr>
              <a:t>Има поврзано два компјутера во мреж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0 = </a:t>
            </a:r>
            <a:r>
              <a:rPr b="0" lang="mk-MK" sz="2000" spc="-1" strike="noStrike">
                <a:solidFill>
                  <a:srgbClr val="000000"/>
                </a:solidFill>
                <a:latin typeface="Calibri"/>
              </a:rPr>
              <a:t>Администратор на системи, програмер и дизајнер на производи од </a:t>
            </a:r>
            <a:r>
              <a:rPr b="0" lang="en-GB" sz="2000" spc="-1" strike="noStrike">
                <a:solidFill>
                  <a:srgbClr val="000000"/>
                </a:solidFill>
                <a:latin typeface="Calibri"/>
              </a:rPr>
              <a:t>Microsoft</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9" name="PlaceHolder 2"/>
          <p:cNvSpPr>
            <a:spLocks noGrp="1"/>
          </p:cNvSpPr>
          <p:nvPr>
            <p:ph/>
          </p:nvPr>
        </p:nvSpPr>
        <p:spPr>
          <a:xfrm>
            <a:off x="4495680" y="404280"/>
            <a:ext cx="4191120" cy="5721480"/>
          </a:xfrm>
          <a:prstGeom prst="rect">
            <a:avLst/>
          </a:prstGeom>
          <a:noFill/>
          <a:ln w="0">
            <a:noFill/>
          </a:ln>
        </p:spPr>
        <p:txBody>
          <a:bodyPr anchor="t">
            <a:normAutofit/>
          </a:bodyPr>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u="sng">
                <a:solidFill>
                  <a:srgbClr val="000000"/>
                </a:solidFill>
                <a:uFillTx/>
                <a:latin typeface="Calibri"/>
              </a:rPr>
              <a:t>Познавање компјутерски криминал</a:t>
            </a:r>
            <a:endParaRPr b="0" lang="en-US" sz="1800" spc="-1" strike="noStrike">
              <a:solidFill>
                <a:srgbClr val="000000"/>
              </a:solidFill>
              <a:latin typeface="Calibri"/>
            </a:endParaRPr>
          </a:p>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 = </a:t>
            </a:r>
            <a:r>
              <a:rPr b="0" lang="mk-MK" sz="1800" spc="-1" strike="noStrike">
                <a:solidFill>
                  <a:srgbClr val="000000"/>
                </a:solidFill>
                <a:latin typeface="Calibri"/>
              </a:rPr>
              <a:t>Апсолутен почетник</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2 = </a:t>
            </a:r>
            <a:r>
              <a:rPr b="0" lang="mk-MK" sz="1800" spc="-1" strike="noStrike">
                <a:solidFill>
                  <a:srgbClr val="000000"/>
                </a:solidFill>
                <a:latin typeface="Calibri"/>
              </a:rPr>
              <a:t>Има вид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3 = </a:t>
            </a:r>
            <a:r>
              <a:rPr b="0" lang="mk-MK" sz="1800" spc="-1" strike="noStrike">
                <a:solidFill>
                  <a:srgbClr val="000000"/>
                </a:solidFill>
                <a:latin typeface="Calibri"/>
              </a:rPr>
              <a:t>Вработен во оддел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4 = </a:t>
            </a:r>
            <a:r>
              <a:rPr b="0" lang="mk-MK" sz="1800" spc="-1" strike="noStrike">
                <a:solidFill>
                  <a:srgbClr val="000000"/>
                </a:solidFill>
                <a:latin typeface="Calibri"/>
              </a:rPr>
              <a:t>Има корист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5 = </a:t>
            </a:r>
            <a:r>
              <a:rPr b="0" lang="mk-MK" sz="1800" spc="-1" strike="noStrike">
                <a:solidFill>
                  <a:srgbClr val="000000"/>
                </a:solidFill>
                <a:latin typeface="Calibri"/>
              </a:rPr>
              <a:t>Има водено истрага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6 = </a:t>
            </a:r>
            <a:r>
              <a:rPr b="0" lang="mk-MK" sz="1800" spc="-1" strike="noStrike">
                <a:solidFill>
                  <a:srgbClr val="000000"/>
                </a:solidFill>
                <a:latin typeface="Calibri"/>
              </a:rPr>
              <a:t>Има дадено изјава во врска со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7 = </a:t>
            </a:r>
            <a:r>
              <a:rPr b="0" lang="mk-MK" sz="1800" spc="-1" strike="noStrike">
                <a:solidFill>
                  <a:srgbClr val="000000"/>
                </a:solidFill>
                <a:latin typeface="Calibri"/>
              </a:rPr>
              <a:t>Има изложувано докази на суд за компјутерски докази/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8 = </a:t>
            </a:r>
            <a:r>
              <a:rPr b="0" lang="mk-MK" sz="1800" spc="-1" strike="noStrike">
                <a:solidFill>
                  <a:srgbClr val="000000"/>
                </a:solidFill>
                <a:latin typeface="Calibri"/>
              </a:rPr>
              <a:t>Има напишано програма или код за помагање при испитува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9 = </a:t>
            </a:r>
            <a:r>
              <a:rPr b="0" lang="mk-MK" sz="1800" spc="-1" strike="noStrike">
                <a:solidFill>
                  <a:srgbClr val="000000"/>
                </a:solidFill>
                <a:latin typeface="Calibri"/>
              </a:rPr>
              <a:t>Има напишано свој софтверски пакет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0 = </a:t>
            </a:r>
            <a:r>
              <a:rPr b="0" lang="mk-MK" sz="1800" spc="-1" strike="noStrike">
                <a:solidFill>
                  <a:srgbClr val="000000"/>
                </a:solidFill>
                <a:latin typeface="Calibri"/>
              </a:rPr>
              <a:t>Има програмирано форензички софтвер за продавач, има диплома поврзана со компјутерски криминал и е гуру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Цел на сесијата</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добијат информации за потребата од обуката и нејзините цел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им даде доволно информации за програмата со активности и распоред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даде информации за здравствените, безбедносните и административните детали на курс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се запознаат со инструкторите и другите учесниц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 крајот од сесијата учесниците ќе можа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им дадат информации на другите учесници за потребата од обуката и нејзините намена и цел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роверат дали имаат доволно информации за програмата за активности и распоред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дадат информации за здравствените, безбедносните и административните детали на курс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запознаат учесниците со инструкторите и другите учесници.</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 на целите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98"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Arial"/>
              </a:rPr>
              <a:t>Вовед</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Здравје и безбедност</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ези при итни ситуаци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Аларми за пожар</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оалет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ушење</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Мобилни телефони и пејџер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аузи за кафе и ручек</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mk-MK" sz="4400" spc="-1" strike="noStrike">
                <a:solidFill>
                  <a:srgbClr val="000000"/>
                </a:solidFill>
                <a:latin typeface="Arial"/>
              </a:rPr>
              <a:t>Историјат на курсот</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словот на курсот е „Напредна обука за компјутерски криминал и електронски докази за судии и обвинители“. Изготвен е преку заедничкиот проект на Европската унија/Советот на Европа за регионална соработка за компјутерски криминал во </a:t>
            </a:r>
            <a:r>
              <a:rPr b="0" lang="en-US" sz="3000" spc="-1" strike="noStrike">
                <a:solidFill>
                  <a:srgbClr val="000000"/>
                </a:solidFill>
                <a:latin typeface="Calibri"/>
              </a:rPr>
              <a:t>IPA</a:t>
            </a:r>
            <a:r>
              <a:rPr b="0" lang="mk-MK" sz="3000" spc="-1" strike="noStrike">
                <a:solidFill>
                  <a:srgbClr val="000000"/>
                </a:solidFill>
                <a:latin typeface="Calibri"/>
              </a:rPr>
              <a:t> регионот.</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ошто е потребна оваа обука</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удиите и обвинителите имаат важна улога во истражувањето и гонењето поединци или групи што имаат извршено кривични дела.</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о зголемениот број случаи каде што тие дела имаат елемент на компјутерски криминал, има и зголемена потреба судиите и обвинителите да добијат соодветна обука да ја разберат природата на овие дела и да бидат свесни за законодавството и инструментите за меѓународна соработка достапни за работа со случаи на компјутерски криминал.</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50"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нструктор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Инструктори</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Курсот</a:t>
            </a:r>
            <a:endParaRPr b="0" lang="en-US" sz="3600" spc="-1" strike="noStrike">
              <a:solidFill>
                <a:srgbClr val="000000"/>
              </a:solidFill>
              <a:latin typeface="Calibri"/>
            </a:endParaRPr>
          </a:p>
          <a:p>
            <a:pPr>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ff0000"/>
                </a:solidFill>
                <a:latin typeface="Calibri"/>
              </a:rPr>
              <a:t>Имиња на инструкторите</a:t>
            </a:r>
            <a:endParaRPr b="0" lang="en-US" sz="3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98" name="TextBox 48"/>
          <p:cNvSpPr/>
          <p:nvPr/>
        </p:nvSpPr>
        <p:spPr>
          <a:xfrm>
            <a:off x="3144960" y="3025800"/>
            <a:ext cx="306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мена</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 цел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5T08:00:50Z</dcterms:modified>
  <cp:revision>32</cp:revision>
  <dc:subject/>
  <dc:title>Introductory Cybercrime Training for Judges and Prosecutors</dc:title>
</cp:coreProperties>
</file>