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1C369-E325-4565-81D4-B3CE96147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B4D9C-1656-4EE6-9141-865C692621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404-2F1B-4084-9587-A4BB4A4B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937-6067-42D2-94FA-A43EF818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8AE-8FD9-431E-BFD3-76408D63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C8F-154D-4C35-B5EA-94EFFAD1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5C9-384D-43FA-8534-FA9F102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6FB-FC73-4A94-A9E0-04B06B27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8EF-704C-404F-B735-409C9FA9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17F-A473-4345-B2A4-7330DF12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FA4-D36F-47B7-B74B-4D53827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838-A02C-48BB-AAA6-801A8C6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3C1-333C-4629-AF60-22BC95F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B25-3CE0-4C2E-8DFB-0C4F51B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0008E-2C66-429F-925F-DE75471AB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Напредна обука за компјутерски криминал за судии и обвин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Сесиј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Завршување на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и повратни информации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Намена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ваа сесија е изготвена да им овозможи на учесниците да дадат повратни информации за курсот и да му помогнат на инструкторот да увиди каде може да се направат евентуални подобрувања. Таа исто така служи инструкторот да направи рекапитулација на содржината на курсот со осврт на намената и целит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На крајот од овој курс учесниците ќе бидат запознаени со прашањата релевантни во истрага на компјутерски криминал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Водење истраг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на типот сторено дел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локација на докази, сведоци и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Обезбедување докази на прифатлив начин, без оглед на тоа каде се чуваат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претрес и заплена за електронски доказ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со дигитални уреди што се дел од истрагат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Задача на вештите лица и други лица потребни за поддршка на фазата на истраг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распит на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Изведување докази за компјутерски криминал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згледување на релевантните аспекти во судскиот проце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тставување на курсот, инструкторот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 – Подготвување истра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утврдување дела, подготвување план за истрага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на 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откривање сторител и планирање стратегија за апсењ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7560" y="1417680"/>
            <a:ext cx="8651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Ден 1 – Информации за апсењето/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 – Дигитално вештач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на дигитални докази, потреби од докази, осомничени, надлежност и меѓународни праш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одготвување предмет за на су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за завршување на случај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случајот, интервенции од инструкторите и учесниците, евалуација, повратни информации и завршување на курс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езиме на целите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Oliver</cp:lastModifiedBy>
  <dcterms:modified xsi:type="dcterms:W3CDTF">2013-08-15T21:19:32Z</dcterms:modified>
  <cp:revision>32</cp:revision>
  <dc:subject/>
  <dc:title>Introductory Cybercrime Training for Judges and Prosecutors</dc:title>
</cp:coreProperties>
</file>