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4C0FB-4258-4C87-8822-BB55E8C80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7A94F-955E-474D-8DF0-D3D13025E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with all previous lessons this should follow a similar form with the agenda and session objectives set out at the beginning of the les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E8518-5F36-4DE9-AA35-3FC8E004D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97680-7B80-4197-AEDC-D93D4865C3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430-FE84-4FFF-A23C-11E5C7CE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82C-3A7A-4118-AAB8-7C0C521F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91A-80C2-4FD3-8DF8-F6D24D1B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842-6572-45E9-887F-E6EDE469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6CD-0DD5-49F4-BCDA-4893C1DF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99D-65F7-4EB4-A352-939C856E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7A4-5C2A-4B91-86CB-DAC88B27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732-F5AB-48D3-AFC6-71970FE2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6823-D2DF-4208-95A6-B558E925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C515-E851-4819-BF00-63C4D651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D8C-2BF0-4DDA-BD77-5F53B0E7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CF31-7C93-4B17-82E3-1568E4DD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98991-A6DF-4B77-9862-CEB47E09C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Arial"/>
              </a:rPr>
              <a:t>Сесија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1.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Arial"/>
              </a:rPr>
              <a:t>Преглед на ден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800" spc="-1" strike="noStrike">
                <a:solidFill>
                  <a:srgbClr val="000000"/>
                </a:solidFill>
                <a:latin typeface="Arial"/>
              </a:rPr>
              <a:t>Напредна обука за компјутерски криминал за судии и обвинител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</a:rPr>
              <a:t>На крајот од часот учениц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Arial"/>
              </a:rPr>
              <a:t>Да посочат области од активностите од претходните денови што ги разбира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Arial"/>
              </a:rPr>
              <a:t>Да посочат области каде што им треба повторно да се помине материјалот за знаењето да им биде на потребното ни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Arial"/>
              </a:rPr>
              <a:t>Цели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Arial"/>
              </a:rPr>
              <a:t>Дневен р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420560"/>
            <a:ext cx="851364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100" spc="-1" strike="noStrike">
                <a:solidFill>
                  <a:srgbClr val="000000"/>
                </a:solidFill>
                <a:latin typeface="Arial"/>
              </a:rPr>
              <a:t>Теми на Ден 1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Почеток на курсот и запознавањ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Презентација – подготвување истраг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Работа во групи на истраг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Презентација – меѓународна соработ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Работа во групи за меѓународна соработ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Работа во групи за откривање осомниче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74400" y="4500720"/>
            <a:ext cx="342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Arial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Oliver</cp:lastModifiedBy>
  <dcterms:modified xsi:type="dcterms:W3CDTF">2013-07-04T12:06:01Z</dcterms:modified>
  <cp:revision>13</cp:revision>
  <dc:subject/>
  <dc:title>Introductory Cybercrime Training for Judges and Prosecutors</dc:title>
</cp:coreProperties>
</file>