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B202C-D9F0-4F91-B939-A5898F56A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For example, in some cases economic related cybercrimes could be very low on the</a:t>
            </a:r>
            <a:r>
              <a:rPr b="0" lang="bs-BA" sz="1000" spc="-1" strike="noStrike">
                <a:solidFill>
                  <a:srgbClr val="ff0000"/>
                </a:solidFill>
                <a:latin typeface="Calibri"/>
              </a:rPr>
              <a:t> </a:t>
            </a:r>
            <a:r>
              <a:rPr b="0" lang="en-GB" sz="1000" spc="-1" strike="noStrike">
                <a:solidFill>
                  <a:srgbClr val="ff0000"/>
                </a:solidFill>
                <a:latin typeface="Calibri"/>
              </a:rPr>
              <a:t>list of priorities in countries where violent crime is prevalent and where the level of IT infrastructure and IT awareness</a:t>
            </a:r>
            <a:r>
              <a:rPr b="0" lang="bs-BA" sz="1000" spc="-1" strike="noStrike">
                <a:solidFill>
                  <a:srgbClr val="ff0000"/>
                </a:solidFill>
                <a:latin typeface="Calibri"/>
              </a:rPr>
              <a:t> is apealing. In the other hand, approach to </a:t>
            </a:r>
            <a:r>
              <a:rPr b="0" lang="en-GB" sz="1000" spc="-1" strike="noStrike">
                <a:solidFill>
                  <a:srgbClr val="ff0000"/>
                </a:solidFill>
                <a:latin typeface="Calibri"/>
              </a:rPr>
              <a:t>organised crime and terrorism related cyber crimes could have a completely different importance tag, etc. As the </a:t>
            </a:r>
            <a:r>
              <a:rPr b="0" lang="bs-BA" sz="1000" spc="-1" strike="noStrike">
                <a:solidFill>
                  <a:srgbClr val="ff0000"/>
                </a:solidFill>
                <a:latin typeface="Calibri"/>
              </a:rPr>
              <a:t>consequence,</a:t>
            </a:r>
            <a:r>
              <a:rPr b="0" lang="en-GB" sz="1000" spc="-1" strike="noStrike">
                <a:solidFill>
                  <a:srgbClr val="ff0000"/>
                </a:solidFill>
                <a:latin typeface="Calibri"/>
              </a:rPr>
              <a:t> cybercrime cases </a:t>
            </a:r>
            <a:r>
              <a:rPr b="0" lang="bs-BA" sz="1000" spc="-1" strike="noStrike">
                <a:solidFill>
                  <a:srgbClr val="ff0000"/>
                </a:solidFill>
                <a:latin typeface="Calibri"/>
              </a:rPr>
              <a:t>could </a:t>
            </a:r>
            <a:r>
              <a:rPr b="0" lang="en-GB" sz="1000" spc="-1" strike="noStrike">
                <a:solidFill>
                  <a:srgbClr val="ff0000"/>
                </a:solidFill>
                <a:latin typeface="Calibri"/>
              </a:rPr>
              <a:t>simply </a:t>
            </a:r>
            <a:r>
              <a:rPr b="0" lang="bs-BA" sz="1000" spc="-1" strike="noStrike">
                <a:solidFill>
                  <a:srgbClr val="ff0000"/>
                </a:solidFill>
                <a:latin typeface="Calibri"/>
              </a:rPr>
              <a:t>be </a:t>
            </a:r>
            <a:r>
              <a:rPr b="0" lang="en-GB" sz="1000" spc="-1" strike="noStrike">
                <a:solidFill>
                  <a:srgbClr val="ff0000"/>
                </a:solidFill>
                <a:latin typeface="Calibri"/>
              </a:rPr>
              <a:t>given low priority</a:t>
            </a:r>
            <a:r>
              <a:rPr b="0" lang="bs-BA" sz="1000" spc="-1" strike="noStrike">
                <a:solidFill>
                  <a:srgbClr val="ff0000"/>
                </a:solidFill>
                <a:latin typeface="Calibri"/>
              </a:rPr>
              <a:t>. Additional problem may arise when dealing with </a:t>
            </a:r>
            <a:r>
              <a:rPr b="0" lang="en-GB" sz="1000" spc="-1" strike="noStrike">
                <a:solidFill>
                  <a:srgbClr val="ff0000"/>
                </a:solidFill>
                <a:latin typeface="Calibri"/>
              </a:rPr>
              <a:t>the countries with </a:t>
            </a:r>
            <a:r>
              <a:rPr b="0" lang="bs-BA" sz="1000" spc="-1" strike="noStrike">
                <a:solidFill>
                  <a:srgbClr val="ff0000"/>
                </a:solidFill>
                <a:latin typeface="Calibri"/>
              </a:rPr>
              <a:t>“bad reputation”, </a:t>
            </a:r>
            <a:r>
              <a:rPr b="0" lang="en-GB" sz="1000" spc="-1" strike="noStrike">
                <a:solidFill>
                  <a:srgbClr val="ff0000"/>
                </a:solidFill>
                <a:latin typeface="Calibri"/>
              </a:rPr>
              <a:t>no or little history of being cooperative in vice versa situations.</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78270-648D-455C-B677-0BF42BB134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ECFCA-D790-460D-BAAE-183F369E4E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6B67A-AB9C-42DC-9F8C-81FB47A60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ED378-A689-4967-A614-C3537D9449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62F67-B19F-4DA5-9707-A2C3CA32FB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6F446-9542-4313-A2B5-BF336E75FC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B3A49-CB87-4790-B056-780BD3E9B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EDA8B-9100-4FED-9735-B9801629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224AA-2CAA-4013-B748-020AA43DA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8715C-9C49-468A-9EFB-0F1DD5DC0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7274-EB31-46CB-B528-9DF28AF2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F7A11-F6D8-4A34-9112-E12D349C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83EA-FB23-4B82-B3BC-02B687E4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C6C1-B4B8-45D7-8A02-53867BC5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DC87D-3604-40FE-BEDA-EB64712E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C4D0-CB1C-483F-8A06-18C262B5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C37B-6454-4981-A593-6454B70C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7A93-B81B-42D0-8F25-A5C8AC8B5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E7EFB-556C-490B-A56B-5541B4C38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ushmail.co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ungary.carssale.eu/"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Сесија за</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меѓународна соработк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а електронски докази</a:t>
            </a:r>
            <a:r>
              <a:rPr b="0" lang="en-GB"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што поподробно електронските докази што треба да се добијат, дадете ги потребните технички информации за бараните докази ако се достапни (време на сервер/систем, временска рамка, детали за идентификување како </a:t>
            </a:r>
            <a:r>
              <a:rPr b="0" lang="en-US" sz="2000" spc="-1" strike="noStrike">
                <a:solidFill>
                  <a:srgbClr val="000000"/>
                </a:solidFill>
                <a:latin typeface="Calibri"/>
              </a:rPr>
              <a:t>IP</a:t>
            </a:r>
            <a:r>
              <a:rPr b="0" lang="mk-MK" sz="2000" spc="-1" strike="noStrike">
                <a:solidFill>
                  <a:srgbClr val="000000"/>
                </a:solidFill>
                <a:latin typeface="Calibri"/>
              </a:rPr>
              <a:t> и </a:t>
            </a:r>
            <a:r>
              <a:rPr b="0" lang="en-US" sz="2000" spc="-1" strike="noStrike">
                <a:solidFill>
                  <a:srgbClr val="000000"/>
                </a:solidFill>
                <a:latin typeface="Calibri"/>
              </a:rPr>
              <a:t>MAC</a:t>
            </a:r>
            <a:r>
              <a:rPr b="0" lang="de-DE" sz="2000" spc="-1" strike="noStrike">
                <a:solidFill>
                  <a:srgbClr val="000000"/>
                </a:solidFill>
                <a:latin typeface="Calibri"/>
              </a:rPr>
              <a:t> </a:t>
            </a:r>
            <a:r>
              <a:rPr b="0" lang="mk-MK" sz="2000" spc="-1" strike="noStrike">
                <a:solidFill>
                  <a:srgbClr val="000000"/>
                </a:solidFill>
                <a:latin typeface="Calibri"/>
              </a:rPr>
              <a:t>адреси, адреси за е-пошта, детали за кориснички профил ит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местото и деталите каде може да се најдат материјалите или лицето или ентитетот што ги држ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 извршување налог за претрес:</a:t>
            </a:r>
            <a:r>
              <a:rPr b="0" lang="en-GB"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иложете важечки налог за претрес издаден од домашен судски орган</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местата и објектите што треба да се претреса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наведете детални правила што треба да се следат при извршувањето на претрес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доказите што се бараа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запленување/конфискување:</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дете копија од важечкиот налог за запленување или конфискување издаден од домашен судски орган</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ецизно наведени предмети што треба да се запленат/конфискуваат</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ведете ги евентуалните конкретни правила за вршење на претресо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За посебни истражни мерки:</a:t>
            </a:r>
            <a:r>
              <a:rPr b="0" lang="en-GB" sz="2200" spc="-1" strike="noStrike">
                <a:solidFill>
                  <a:srgbClr val="000000"/>
                </a:solidFill>
                <a:latin typeface="Calibri"/>
              </a:rPr>
              <a:t>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дете копија од важечкиот налог за ПИМ издаден од надлежниот домашен судски орга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обемот и природата на дејствата што треба да се преземат</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посебните услови што треба да се испочитуваат – идентитет/анонимност на агентите со прикриен идентитет, технички и логистички услови, покривање трошоци, наведени канали за комуникација, ит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 потреба, да се потпише договор за заедничка истражна екип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гласете ги евентуалните конкретни услови за доверливост.</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дадете го и наведете го нивото на итност за извршување на барањето, како и роковите.</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оодветно и што попрецизно идентификување на осомничениот/те – имајте предвид дека се работи за виртуелен свет – идентитетот лесно се крие, менува, краде.</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Соодветно утврдување и задавање приоритет на доказите што се бараат со барање за заемна правна помош – поставување приоритети – одбирање само на оние што се клучни за истрагата – рационализација на ресурсите и зголемување на ефикаснос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тврдување соодветна контакт точка во друга земја – нон-стоп точки според Конвенцијата од Будимпешта, канали на Интерпол итн. – особено за случаи на потера каде што треба да се преземе непосредно дејство за да се обезбедат и сочуваат дигиталните податоци (електронски дока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споставување неформални контакти со соодветни пандани пред да се поднесе формално барање за заемна правна помош со цел да се информираат за идното барање за заемна правна помош, вршење оперативни  проверки за да се изнесе барањето што поподро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провери дали надлежноста е соодветно утврдена во однос на локацијата на доказите/сторителите/жртвите, имајќи предвид чисто технички прашања како соптвеност на електронски податоци, физичка локација на сопственикот на серверот/провајдерот – т.е. сервери лоцирани во една земја или случај на работа во облак со сопственици што се регистрирани и работат од друго мест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Различни временски зони – проблем при воспоставување контакти дури и со употреба на современи средства за комуникација (т.е. телеконференции) – тоа може да ја одложи истрагата/барањето за заемна помош и да ги зголеми трошоците – с</a:t>
            </a:r>
            <a:r>
              <a:rPr b="0" lang="en-GB" sz="2200" spc="-1" strike="noStrike">
                <a:solidFill>
                  <a:srgbClr val="000000"/>
                </a:solidFill>
                <a:latin typeface="Calibri"/>
              </a:rPr>
              <a:t>è</a:t>
            </a:r>
            <a:r>
              <a:rPr b="0" lang="mk-MK" sz="2200" spc="-1" strike="noStrike">
                <a:solidFill>
                  <a:srgbClr val="000000"/>
                </a:solidFill>
                <a:latin typeface="Calibri"/>
              </a:rPr>
              <a:t> уште има полициски и обвинителски служби без пристап до меѓународни повиц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вод на документи – многу земји бараат барањата за заемна правна помош да бидат преведени на нивниот службен јазик/ц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Јазични бариери при директни и неформални контакти меѓу полициски лица и обвинит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Бидете подготвени за доцнење поради различното ниво на важност на истрагите за компјутерски криминал во различни земј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дадете техничка и експертска поддршка ако замолената страна нема капацитети да го изврши вашето бара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Во оваа сесија учесниците:</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ги утврдат каналите за меѓународна соработка и достапните инструменти, начините на кои се користат, навременоста и ефективноста на достапните методи на соработка;</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разговараат за предноста на механизмите за соработка дадени во Конвенцијата од Будимпешта за компјутерски криминал и ќе ги утврдат нејзините општи принципи, привремените мерки и нон-стоп мрежата.</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побарате и употребите конвенционални/традиционални истражни инструменти и мерки кога тоа е можно – полицајците/обвинителите се понавикнати на тоа, некогаш може во иста мера да ја постигнат целта и да обезбедат доволно докази за успешна истрага и кривична постап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2</a:t>
            </a:r>
            <a:br>
              <a:rPr sz="3200"/>
            </a:br>
            <a:r>
              <a:rPr b="1" lang="mk-MK" sz="3200" spc="-1" strike="noStrike">
                <a:solidFill>
                  <a:srgbClr val="000000"/>
                </a:solidFill>
                <a:latin typeface="Calibri"/>
              </a:rPr>
              <a:t>Генерални механизми</a:t>
            </a:r>
            <a:br>
              <a:rPr sz="3200"/>
            </a:br>
            <a:r>
              <a:rPr b="1" lang="mk-MK" sz="3200" spc="-1" strike="noStrike">
                <a:solidFill>
                  <a:srgbClr val="000000"/>
                </a:solidFill>
                <a:latin typeface="Calibri"/>
              </a:rPr>
              <a:t>за меѓународна соработка</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вропска конвенција од 1959</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 заемна помош за кривични прашања</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аа е позадината за Конвенцијата од Будимпеш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ите земји-членки на Советот на Европа (со исклучок на Сан Марино) ја имаат ратификувано</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 сите страни на Конвенцијата од Будимпешта, единствената не-членка што е потписник на Конвенцијата од 1959 е САД</a:t>
            </a:r>
            <a:endParaRPr b="0" lang="en-US" sz="30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Совет на Европ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 на судски контакт то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м овозможува на практичарите непосредно утврдување на надлежниот локален орган во секоја земја-членка што треба да го добие и изврши барањето за заемна правна помош</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такт точките с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тивен посредник со задача да ја помага судската соработка меѓу земјите-членки</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Европска судска мрежа</a:t>
            </a:r>
            <a:br>
              <a:rPr sz="4400"/>
            </a:br>
            <a:r>
              <a:rPr b="1" lang="mk-MK" sz="4400" spc="-1" strike="noStrike">
                <a:solidFill>
                  <a:srgbClr val="000000"/>
                </a:solidFill>
                <a:latin typeface="Calibri"/>
              </a:rPr>
              <a:t>за кривичн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обезбедат помош на членките</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стојано (24 часа дневно, 7 дена во седмицата)</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ад 120 референтни точки низ светот (Септември 2011)</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Усвоена е поставеноста на нон-стоп контактните точки од Конвенцијата од Будимпешта</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екои потписнички на конвенцијата ги назначија истите референтни точки за Интерпол – НЦРТ и за </a:t>
            </a:r>
            <a:r>
              <a:rPr b="0" lang="en-US" sz="2200" spc="-1" strike="noStrike">
                <a:solidFill>
                  <a:srgbClr val="000000"/>
                </a:solidFill>
                <a:latin typeface="Calibri"/>
              </a:rPr>
              <a:t>G8</a:t>
            </a:r>
            <a:r>
              <a:rPr b="0" lang="mk-MK" sz="2200" spc="-1" strike="noStrike">
                <a:solidFill>
                  <a:srgbClr val="000000"/>
                </a:solidFill>
                <a:latin typeface="Calibri"/>
              </a:rPr>
              <a:t> мрежата на контактни точк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8 </a:t>
            </a:r>
            <a:r>
              <a:rPr b="0" lang="mk-MK" sz="2200" spc="-1" strike="noStrike">
                <a:solidFill>
                  <a:srgbClr val="000000"/>
                </a:solidFill>
                <a:latin typeface="Calibri"/>
              </a:rPr>
              <a:t>контактните точки беа вклучени во оваа мрежа</a:t>
            </a:r>
            <a:endParaRPr b="0" lang="en-US" sz="2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Цел</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a:t>
            </a:r>
            <a:r>
              <a:rPr b="0" lang="en-GB" sz="2200" spc="-1" strike="noStrike">
                <a:solidFill>
                  <a:srgbClr val="000000"/>
                </a:solidFill>
                <a:latin typeface="Calibri"/>
              </a:rPr>
              <a:t>ѝ </a:t>
            </a:r>
            <a:r>
              <a:rPr b="0" lang="mk-MK" sz="2200" spc="-1" strike="noStrike">
                <a:solidFill>
                  <a:srgbClr val="000000"/>
                </a:solidFill>
                <a:latin typeface="Calibri"/>
              </a:rPr>
              <a:t>се овозможи на полицијата веднаш да ги најде стручњаците во други земј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добие непосредна помош во истраги поврзани со компјутери и во собирање докази</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Национални централни референтни точки за Интерпол - НЦРТ</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даваат и разменуваат полициски информации и техничка и оперативна поддрш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обезбеди типичните полициски информации да се разменуваат што поскоро</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осомничени терористи, барани лица, отпечатоци од прсти, профили на ДНК</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загубени или украдени патни исправи, украдени моторни возила, украдени уметнички дела</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руг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Не може да се употреби за итно барање</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сочуваат компјутерски податоци</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да се сочуваат податоци за сообраќајот</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какви било мерки со цел да се добијат или сочуваат докази</a:t>
            </a:r>
            <a:endParaRPr b="0" lang="en-US" sz="22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ЦРТ</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Дел 3</a:t>
            </a:r>
            <a:br>
              <a:rPr sz="3600"/>
            </a:br>
            <a:r>
              <a:rPr b="1" lang="mk-MK" sz="3600" spc="-1" strike="noStrike">
                <a:solidFill>
                  <a:srgbClr val="000000"/>
                </a:solidFill>
                <a:latin typeface="Calibri"/>
              </a:rPr>
              <a:t>Механизми за меѓународна соработка од Конвенцијата</a:t>
            </a:r>
            <a:br>
              <a:rPr sz="3600"/>
            </a:br>
            <a:r>
              <a:rPr b="1" lang="mk-MK" sz="3600" spc="-1" strike="noStrike">
                <a:solidFill>
                  <a:srgbClr val="000000"/>
                </a:solidFill>
                <a:latin typeface="Calibri"/>
              </a:rPr>
              <a:t>од Будимпешта</a:t>
            </a:r>
            <a:br>
              <a:rPr sz="3600"/>
            </a:br>
            <a:r>
              <a:rPr b="1" lang="mk-MK" sz="3600" spc="-1" strike="noStrike">
                <a:solidFill>
                  <a:srgbClr val="000000"/>
                </a:solidFill>
                <a:latin typeface="Calibri"/>
              </a:rPr>
              <a:t>за компјутерски криминал</a:t>
            </a:r>
            <a:endParaRPr b="0" lang="en-US" sz="36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Властите на една потписничка, во рамки на интерна истрага, откриваат дека некои од добиените информации мора да се препратат до властите на друга потписнич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оа може да се направи ако се чини дека информациите се корисни или нужни за почнување или развој на истрага за кривично дело во рамките на Конвенцијат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Член 26, 2, таквото праќање информации може да подлежи на извесни услови, главно во однос на доверливост</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26</a:t>
            </a:r>
            <a:br>
              <a:rPr sz="4000"/>
            </a:br>
            <a:r>
              <a:rPr b="1" lang="mk-MK" sz="4000" spc="-1" strike="noStrike">
                <a:solidFill>
                  <a:srgbClr val="000000"/>
                </a:solidFill>
                <a:latin typeface="Calibri"/>
              </a:rPr>
              <a:t>Спонтани информ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2</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Генерални механизми за меѓународна соработка</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mk-MK" sz="2400" spc="-1" strike="noStrike">
                <a:solidFill>
                  <a:srgbClr val="000000"/>
                </a:solidFill>
                <a:latin typeface="Calibri"/>
              </a:rPr>
              <a:t>Механизми за меѓународна соработка од Конвенцијата од Будимпешта за компјутерски криминал</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 – случајот што е тема на разгово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5</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Рези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рзано сочувување податоци зачувани во компјутерски систе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аралелна рамка на интерната одредб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возможува една потписничка да побара од друга потписничка забрзано сочувување податоци</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ако истовремено изрази намера да прати и формално барање за помош за претрес, запленување или некоја слична мерка</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треба да делува како што е нужно, со должно внимание, да ги сочува бараните податоци, во согласност со домашните закон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не може да побара двојна криминалност како предуслов за сочувување на податоците</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ов инструмент за меѓународна соработ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пецифика на дигиталната средина – потреба да се сочува нешто што за многу кусо време може сосема да се избриш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ерка само за сочувување, поради причини на итност и не претпоставува автоматско откривање на сочуваните податоци</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 случаите кога се дозволува откривање, има мошне тесни правила за тоа, пред с</a:t>
            </a:r>
            <a:r>
              <a:rPr b="0" lang="en-GB" sz="2200" spc="-1" strike="noStrike">
                <a:solidFill>
                  <a:srgbClr val="000000"/>
                </a:solidFill>
                <a:latin typeface="Calibri"/>
              </a:rPr>
              <a:t>è </a:t>
            </a:r>
            <a:r>
              <a:rPr b="0" lang="mk-MK" sz="2200" spc="-1" strike="noStrike">
                <a:solidFill>
                  <a:srgbClr val="000000"/>
                </a:solidFill>
                <a:latin typeface="Calibri"/>
              </a:rPr>
              <a:t>ако податоците не се само податоци за сообраќајот</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практични случаи, податоците може забрзано да се сочуваат а потоа може да се претпостави дека нема услови да се оди на откривање на тие податоци на страната барател</a:t>
            </a:r>
            <a:endParaRPr b="0" lang="en-US" sz="24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Откривање податоци за сообраќај</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Нема конкретни правила за забрзано откривање</a:t>
            </a:r>
            <a:endParaRPr b="0" lang="en-US" sz="36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en-GB" sz="2400" spc="-1" strike="noStrike">
                <a:solidFill>
                  <a:srgbClr val="000000"/>
                </a:solidFill>
                <a:latin typeface="Calibri"/>
              </a:rPr>
              <a:t>- </a:t>
            </a:r>
            <a:r>
              <a:rPr b="0" lang="mk-MK" sz="2400" spc="-1" strike="noStrike">
                <a:solidFill>
                  <a:srgbClr val="000000"/>
                </a:solidFill>
                <a:latin typeface="Arial"/>
              </a:rPr>
              <a:t>Бидејќи нема конкретни правила за забрзано откривање на внатрешно ниво, во главата за процедурални правила</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mk-MK" sz="2400" spc="-1" strike="noStrike">
                <a:solidFill>
                  <a:srgbClr val="000000"/>
                </a:solidFill>
                <a:latin typeface="Arial"/>
              </a:rPr>
              <a:t>-</a:t>
            </a:r>
            <a:r>
              <a:rPr b="0" lang="mk-MK" sz="2400" spc="-1" strike="noStrike">
                <a:solidFill>
                  <a:srgbClr val="000000"/>
                </a:solidFill>
                <a:latin typeface="Arial"/>
              </a:rPr>
              <a:t>	</a:t>
            </a:r>
            <a:r>
              <a:rPr b="0" lang="mk-MK" sz="2400" spc="-1" strike="noStrike">
                <a:solidFill>
                  <a:srgbClr val="000000"/>
                </a:solidFill>
                <a:latin typeface="Arial"/>
              </a:rPr>
              <a:t> Процедурални правила, од домашното ниво, може да се користат на ниво на меѓународна соработка</a:t>
            </a:r>
            <a:endParaRPr b="0" lang="en-US" sz="24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7200" y="1278000"/>
            <a:ext cx="8229600" cy="5580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емна помош за пристап до зачувани компјутерски податоци</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арање до друга земја да претресе или заплени (и открие) податоци зачувани преку компјутерски систем</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Лоциран на територијата на замолената земја</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клучително и податоци сочувани по член 29</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тписничката им дава можност на органите да приберат докази зачувани на компјутер што физички е лоциран на територијата на друга земја-потписничк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ез барање за меѓународна соработка</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при конкретна истрага, одговорните лица треба да приберат отворени информации од компјутер лоциран во друга земја или компјутер каде што пристапот е овластен од страна на законски овластено лице</a:t>
            </a: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Заемна помош за собирање податоци за сообраќај во реално време</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Помошта се владее со условите и процедурите дадени во домашното право</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Секоја држава треба да даде помош барем во поглед на кривичните дела за кои собирањето податоци за сообраќај во реално време би било достапно во сличен домашен случај</a:t>
            </a: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Оперативна мрежа</a:t>
            </a:r>
            <a:r>
              <a:rPr b="0" lang="en-GB" sz="2400" spc="-1" strike="noStrike">
                <a:solidFill>
                  <a:srgbClr val="000000"/>
                </a:solidFill>
                <a:latin typeface="Calibri"/>
              </a:rPr>
              <a:t> </a:t>
            </a:r>
            <a:r>
              <a:rPr b="0" lang="mk-MK" sz="2400" spc="-1" strike="noStrike">
                <a:solidFill>
                  <a:srgbClr val="000000"/>
                </a:solidFill>
                <a:latin typeface="Calibri"/>
              </a:rPr>
              <a:t>на стручњаци за високотехнолошки кримналитет</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е дава</a:t>
            </a:r>
            <a:r>
              <a:rPr b="0" lang="en-GB" sz="2400" spc="-1" strike="noStrike">
                <a:solidFill>
                  <a:srgbClr val="000000"/>
                </a:solidFill>
                <a:latin typeface="Calibri"/>
              </a:rPr>
              <a:t> </a:t>
            </a:r>
            <a:r>
              <a:rPr b="1" lang="mk-MK" sz="2400" spc="-1" strike="noStrike" u="sng">
                <a:solidFill>
                  <a:srgbClr val="000000"/>
                </a:solidFill>
                <a:uFillTx/>
                <a:latin typeface="Calibri"/>
              </a:rPr>
              <a:t>помош и соработка мошне брзо</a:t>
            </a:r>
            <a:r>
              <a:rPr b="0" lang="mk-MK" sz="2400" spc="-1" strike="noStrike">
                <a:solidFill>
                  <a:srgbClr val="000000"/>
                </a:solidFill>
                <a:latin typeface="Calibri"/>
              </a:rPr>
              <a:t>,</a:t>
            </a:r>
            <a:r>
              <a:rPr b="0" lang="en-GB" sz="2400" spc="-1" strike="noStrike">
                <a:solidFill>
                  <a:srgbClr val="000000"/>
                </a:solidFill>
                <a:latin typeface="Calibri"/>
              </a:rPr>
              <a:t> </a:t>
            </a:r>
            <a:r>
              <a:rPr b="0" lang="mk-MK" sz="2400" spc="-1" strike="noStrike">
                <a:solidFill>
                  <a:srgbClr val="000000"/>
                </a:solidFill>
                <a:latin typeface="Calibri"/>
              </a:rPr>
              <a:t>дури и ако овој неформален начин треба да се проследи со формално барање за соработк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амо една контакт точка за секоја земја, </a:t>
            </a:r>
            <a:r>
              <a:rPr b="1" lang="mk-MK" sz="2400" spc="-1" strike="noStrike" u="sng">
                <a:solidFill>
                  <a:srgbClr val="000000"/>
                </a:solidFill>
                <a:uFillTx/>
                <a:latin typeface="Calibri"/>
              </a:rPr>
              <a:t>достапна</a:t>
            </a:r>
            <a:r>
              <a:rPr b="1" lang="en-GB" sz="2400" spc="-1" strike="noStrike" u="sng">
                <a:solidFill>
                  <a:srgbClr val="000000"/>
                </a:solidFill>
                <a:uFillTx/>
                <a:latin typeface="Calibri"/>
              </a:rPr>
              <a:t> 24 </a:t>
            </a:r>
            <a:r>
              <a:rPr b="1" lang="mk-MK" sz="2400" spc="-1" strike="noStrike" u="sng">
                <a:solidFill>
                  <a:srgbClr val="000000"/>
                </a:solidFill>
                <a:uFillTx/>
                <a:latin typeface="Calibri"/>
              </a:rPr>
              <a:t>часа на ден</a:t>
            </a:r>
            <a:r>
              <a:rPr b="1" lang="en-GB" sz="2400" spc="-1" strike="noStrike" u="sng">
                <a:solidFill>
                  <a:srgbClr val="000000"/>
                </a:solidFill>
                <a:uFillTx/>
                <a:latin typeface="Calibri"/>
              </a:rPr>
              <a:t>, 7 </a:t>
            </a:r>
            <a:r>
              <a:rPr b="1" lang="mk-MK" sz="2400" spc="-1" strike="noStrike" u="sng">
                <a:solidFill>
                  <a:srgbClr val="000000"/>
                </a:solidFill>
                <a:uFillTx/>
                <a:latin typeface="Calibri"/>
              </a:rPr>
              <a:t>дена во седмицат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Директна комуникација меѓу точките</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едвидено е главно да нуди можност за непосредно сочувување податоци за сообраќај и други зачувани податоци во целиот свет</a:t>
            </a:r>
            <a:endParaRPr b="0" lang="en-US" sz="24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веќето контакт точки се полициски контакт точк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кои од нив се контакт точки во обвинителски служб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даде правна основа за нон-стоп мрежата на контакт точки, кои се признати како еден од најкорисните инструменти во меѓународната соработка</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4</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r>
              <a:rPr b="1" lang="mk-MK" sz="3200" spc="-1" strike="noStrike">
                <a:solidFill>
                  <a:srgbClr val="000000"/>
                </a:solidFill>
                <a:latin typeface="Calibri"/>
              </a:rPr>
              <a:t>– случајот што е тема на разговор</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1</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Барање за заемна правна помош до земјата во чија надлежност е </a:t>
            </a:r>
            <a:r>
              <a:rPr b="0" lang="en-GB" sz="3200" spc="-1" strike="noStrike" u="sng">
                <a:solidFill>
                  <a:srgbClr val="0000ff"/>
                </a:solidFill>
                <a:uFillTx/>
                <a:latin typeface="Calibri"/>
                <a:hlinkClick r:id="rId1"/>
              </a:rPr>
              <a:t>www.hushmail.com</a:t>
            </a:r>
            <a:r>
              <a:rPr b="0" lang="en-GB" sz="3200" spc="-1" strike="noStrike">
                <a:solidFill>
                  <a:srgbClr val="000000"/>
                </a:solidFill>
                <a:latin typeface="Calibri"/>
              </a:rPr>
              <a:t> </a:t>
            </a:r>
            <a:r>
              <a:rPr b="0" lang="mk-MK" sz="3200" spc="-1" strike="noStrike">
                <a:solidFill>
                  <a:srgbClr val="000000"/>
                </a:solidFill>
                <a:latin typeface="Calibri"/>
              </a:rPr>
              <a:t>со цел да се добијат достапните податоци за корисникот „</a:t>
            </a:r>
            <a:r>
              <a:rPr b="0" lang="en-GB" sz="3200" spc="-1" strike="noStrike">
                <a:solidFill>
                  <a:srgbClr val="000000"/>
                </a:solidFill>
                <a:latin typeface="Calibri"/>
              </a:rPr>
              <a:t>0007</a:t>
            </a:r>
            <a:r>
              <a:rPr b="0" lang="mk-MK"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вештата анализа на </a:t>
            </a:r>
            <a:r>
              <a:rPr b="0" lang="en-US" sz="2800" spc="-1" strike="noStrike">
                <a:solidFill>
                  <a:srgbClr val="000000"/>
                </a:solidFill>
                <a:latin typeface="Calibri"/>
              </a:rPr>
              <a:t>DDoS</a:t>
            </a:r>
            <a:r>
              <a:rPr b="0" lang="mk-MK" sz="2800" spc="-1" strike="noStrike">
                <a:solidFill>
                  <a:srgbClr val="000000"/>
                </a:solidFill>
                <a:latin typeface="Calibri"/>
              </a:rPr>
              <a:t> нападот/те на </a:t>
            </a:r>
            <a:r>
              <a:rPr b="0" lang="en-US" sz="2800" spc="-1" strike="noStrike">
                <a:solidFill>
                  <a:srgbClr val="000000"/>
                </a:solidFill>
                <a:latin typeface="Calibri"/>
              </a:rPr>
              <a:t>Humour product</a:t>
            </a:r>
            <a:r>
              <a:rPr b="0" lang="mk-MK" sz="2800" spc="-1" strike="noStrike">
                <a:solidFill>
                  <a:srgbClr val="000000"/>
                </a:solidFill>
                <a:latin typeface="Calibri"/>
              </a:rPr>
              <a:t> даде дополнителни информации за </a:t>
            </a:r>
            <a:r>
              <a:rPr b="0" lang="en-US" sz="2800" spc="-1" strike="noStrike">
                <a:solidFill>
                  <a:srgbClr val="000000"/>
                </a:solidFill>
                <a:latin typeface="Calibri"/>
              </a:rPr>
              <a:t>IP</a:t>
            </a:r>
            <a:r>
              <a:rPr b="0" lang="mk-MK" sz="2800" spc="-1" strike="noStrike">
                <a:solidFill>
                  <a:srgbClr val="000000"/>
                </a:solidFill>
                <a:latin typeface="Calibri"/>
              </a:rPr>
              <a:t>-адресите на напаѓачите, се издава барање за заемна правна помош за прибирање податоци од локалниот интернет провајдер (</a:t>
            </a:r>
            <a:r>
              <a:rPr b="0" lang="en-US" sz="2800" spc="-1" strike="noStrike">
                <a:solidFill>
                  <a:srgbClr val="000000"/>
                </a:solidFill>
                <a:latin typeface="Calibri"/>
              </a:rPr>
              <a:t>ISP)</a:t>
            </a:r>
            <a:r>
              <a:rPr b="0" lang="mk-MK" sz="2800" spc="-1" strike="noStrike">
                <a:solidFill>
                  <a:srgbClr val="000000"/>
                </a:solidFill>
                <a:latin typeface="Calibri"/>
              </a:rPr>
              <a:t> во земјите од каде што потекнуваат </a:t>
            </a:r>
            <a:r>
              <a:rPr b="0" lang="de-DE" sz="2800" spc="-1" strike="noStrike">
                <a:solidFill>
                  <a:srgbClr val="000000"/>
                </a:solidFill>
                <a:latin typeface="Calibri"/>
              </a:rPr>
              <a:t>IP </a:t>
            </a:r>
            <a:r>
              <a:rPr b="0" lang="mk-MK" sz="2800" spc="-1" strike="noStrike">
                <a:solidFill>
                  <a:srgbClr val="000000"/>
                </a:solidFill>
                <a:latin typeface="Calibri"/>
              </a:rPr>
              <a:t>адресите – проверете да не се користеле апликации/алати за анонимност (т.е. </a:t>
            </a:r>
            <a:r>
              <a:rPr b="0" lang="en-US" sz="2800" spc="-1" strike="noStrike">
                <a:solidFill>
                  <a:srgbClr val="000000"/>
                </a:solidFill>
                <a:latin typeface="Calibri"/>
              </a:rPr>
              <a:t>TOR</a:t>
            </a:r>
            <a:r>
              <a:rPr b="0" lang="mk-MK" sz="2800" spc="-1" strike="noStrike">
                <a:solidFill>
                  <a:srgbClr val="000000"/>
                </a:solidFill>
                <a:latin typeface="Calibri"/>
              </a:rPr>
              <a:t>). Ако тоа е случај, тоа ќе ја наведе истрагата во погрешна насока и ќе предизвика преземање непотребни дејства и доцнење на истраг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и вршењето вешта анализа на </a:t>
            </a:r>
            <a:r>
              <a:rPr b="0" lang="en-GB" sz="2800" spc="-1" strike="noStrike" u="sng">
                <a:solidFill>
                  <a:srgbClr val="0000ff"/>
                </a:solidFill>
                <a:uFillTx/>
                <a:latin typeface="Calibri"/>
                <a:hlinkClick r:id="rId1"/>
              </a:rPr>
              <a:t>http://hungary.carssale.eu</a:t>
            </a:r>
            <a:r>
              <a:rPr b="0" lang="en-GB" sz="2800" spc="-1" strike="noStrike">
                <a:solidFill>
                  <a:srgbClr val="000000"/>
                </a:solidFill>
                <a:latin typeface="Calibri"/>
              </a:rPr>
              <a:t> </a:t>
            </a:r>
            <a:r>
              <a:rPr b="0" lang="mk-MK" sz="2800" spc="-1" strike="noStrike">
                <a:solidFill>
                  <a:srgbClr val="000000"/>
                </a:solidFill>
                <a:latin typeface="Calibri"/>
              </a:rPr>
              <a:t>и утврдување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те на оние што пристапиле и презеле фотографии објавени од </a:t>
            </a:r>
            <a:r>
              <a:rPr b="0" lang="en-GB" sz="2800" spc="-1" strike="noStrike">
                <a:solidFill>
                  <a:srgbClr val="000000"/>
                </a:solidFill>
                <a:latin typeface="Calibri"/>
              </a:rPr>
              <a:t>Humour </a:t>
            </a:r>
            <a:r>
              <a:rPr b="0" lang="mk-MK" sz="2800" spc="-1" strike="noStrike">
                <a:solidFill>
                  <a:srgbClr val="000000"/>
                </a:solidFill>
                <a:latin typeface="Calibri"/>
              </a:rPr>
              <a:t>како што побарал осомничениот, да се издаде барање за заемна правна помош до земјата на потекло на тие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 со цел да се добијат податоци и докази за корисникот/сопственикот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штом се утврдат носачите, се праќаат барања за заемна помош до нивните земји на престој со цел да се изврши разговор со нив како осомничени/очевидци, да се претресат нивните компјутери во потрага по докази за кореспонденција со Ралф Милер и да се запленат кредитни картички и други достапни докази (потврди од банкомати, надзорни снимки од банкомати ит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a:bodyPr>
          <a:p>
            <a:pPr marL="60948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Кога ќе се утврди одговорноста за (некои) носачи, размислете за барање за заемна правна помош за нивна испорачување (налози за апсење) или, кога испорачувањето не е можно, пренос на случајот и кривичната постапка во земјата на потекло/престој на носач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5</a:t>
            </a:r>
            <a:br>
              <a:rPr sz="3200"/>
            </a:br>
            <a:r>
              <a:rPr b="1" lang="mk-MK" sz="3200" spc="-1" strike="noStrike">
                <a:solidFill>
                  <a:srgbClr val="000000"/>
                </a:solidFill>
                <a:latin typeface="Calibri"/>
              </a:rPr>
              <a:t>Резиме</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fontScale="97000"/>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крајот од сесијата учесниците треб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глобалната димензија на интернетот и важноста на меѓународната соработка во полето на компјутерскиот криминал;</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посочат каналите за меѓународна соработка и достапните инструменти, начините на кои се користат, роковите и ефективноста на достапните методи за соработк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предноста на механизмите за соработка дадени во рамки на Конвенцијата од Будимпешта за компјутерски криминал и да ги посочат нејзините општи принципи, привремените мерки и нон-стоп мрежата.</a:t>
            </a:r>
            <a:endParaRPr b="0" lang="en-US" sz="2600" spc="-1" strike="noStrike">
              <a:solidFill>
                <a:srgbClr val="000000"/>
              </a:solidFill>
              <a:latin typeface="Calibri"/>
            </a:endParaRPr>
          </a:p>
          <a:p>
            <a:pPr>
              <a:lnSpc>
                <a:spcPct val="8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mk-MK" sz="2800" spc="-1" strike="noStrike">
                <a:solidFill>
                  <a:srgbClr val="000000"/>
                </a:solidFill>
                <a:latin typeface="Calibri"/>
              </a:rPr>
              <a:t>Локација на делото – каде е сторено</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е е применливото материјално право</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ј е надлежниот орган (полиција, обвинител, судија)</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2   </a:t>
            </a:r>
            <a:r>
              <a:rPr b="0" lang="mk-MK" sz="2800" spc="-1" strike="noStrike">
                <a:solidFill>
                  <a:srgbClr val="000000"/>
                </a:solidFill>
                <a:latin typeface="Calibri"/>
              </a:rPr>
              <a:t>Надлежноста како ограничување на истрагата</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екугранични истраги</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страга во „облакот“ – главно пристап до податоци зачувани во „облакот“</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a:t>
            </a:r>
            <a:r>
              <a:rPr b="1" lang="mk-MK" sz="4400" spc="-1" strike="noStrike">
                <a:solidFill>
                  <a:srgbClr val="000000"/>
                </a:solidFill>
                <a:latin typeface="Calibri"/>
              </a:rPr>
              <a:t>Тешк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наењето и искуството на полицајците и обвинителите при пријавувањето и поднесувањето обвиненија може да биде од клучна важност за случајот да се разбере соодветно и да се преземат навремени и соодветни мерки за да се сочуваат и добијат докази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лицијата и обвинителите да побараат дополнителна помош по потреба, и интерно и однадвор, вклучително и соработка и придонес од жртвата што секако ќе има интерес во решавањето на случај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ведување на правниот инструмент употребен за барање помош – спогодбата, конвенцијата или друг инструмент за соработк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Јасно утврдување кој ја води истрагата/обвинението. Да се дадат сите потребни детали за контакт и пожелниот начин за комуникациј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Резимирање на случајот – Да се даде детален преглед на случајот под истрага или обвинение, вклучително и резиме на доказите што ја поткрепуваат истрагата/обвинението. Да се објасни логиката за доказите и дејствата што се бараат во однос на тековната истраг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Упатување на применливите домашни законски одредби – целосен текст на сите релевантни законски одредби за истрагата/обвинанието, вклучително и сите применливи одредби за осудувањ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утврдување на помошта што се бара – што точно барат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изјава од очевидец/сведоче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аде се наоѓа лицето</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машни процедурални правила за сведоко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нкретните информации и список со прашањата што се бараат од сведоко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доказни документи</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документите што треба да се добија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местото каде може да се најдат документите/предметите/доказите или лицето или ентитетот што ги држи</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pedro verdelho</dc:creator>
  <dc:description/>
  <dc:language>en-US</dc:language>
  <cp:lastModifiedBy>Oliver</cp:lastModifiedBy>
  <dcterms:modified xsi:type="dcterms:W3CDTF">2013-08-15T18:07:18Z</dcterms:modified>
  <cp:revision>53</cp:revision>
  <dc:subject/>
  <dc:title>Advanced Cybercrime Training for Judges and Prosecutors</dc:title>
</cp:coreProperties>
</file>