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0C957-5B85-4CDF-ADAF-A16BA0E4C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88499-29C5-462C-B36A-BEB359F54D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56F-E3A8-4207-8953-DF61EC00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AA5-F2E6-4534-8F7F-77F1E1D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F9D-D94D-42A4-A5E5-35437380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6B0-186D-4940-852F-625E8F8B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8AD-09BA-41A6-B28C-E97E40B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32-6CC2-4D7E-9CFA-AA351043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EC0-0019-42F3-8426-F038084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CCC-6F1D-4E03-B1E5-8692334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225-339D-42B2-BA2C-AC1DC84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665-4CCF-4F6B-94C3-59D96B9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D64-5517-4B2A-8567-0B312B2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74B-FCB2-4010-86A9-91C93C3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0D27F-61DC-4A64-9BBE-A8EFE60B3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Напредна обука за компјутерски криминал за судии и обви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Сесиј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Завршување на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и повратни информации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Намена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ваа сесија е изготвена да им овозможи на учесниците да дадат повратни информации за курсот и да му помогнат на инструкторот да увиди каде може да се направат евентуални подобрувања. Таа исто така служи инструкторот да направи рекапитулација на содржината на курсот со осврт на намената и целит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На крајот од овој курс учесниците ќе бидат запознаени со прашањата релевантни во истрага на компјутерски криминал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Водење истраг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на типот сторено дел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локација на докази, сведоци и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Обезбедување докази на прифатлив начин, без оглед на тоа каде се чуваа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претрес и заплена за електронски доказ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со дигитални уреди што се дел од истрагат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Задача на вештите лица и други лица потребни за поддршка на фазата на истраг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распит на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Изведување докази за компјутерски криминал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згледување на релевантните аспекти во судскиот проце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тставување на курсот, инструкторот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 – Подготвување истра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утврдување дела, подготвување план за истрага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на 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откривање сторител и планирање стратегија за апсењ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560" y="1417680"/>
            <a:ext cx="8651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Ден 1 – Информации за апсењето/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 – Дигитално вешт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на дигитални докази, потреби од докази, осомничени, надлежност и меѓународни праш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одготвување предмет за на су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за завршување на случај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случајот, интервенции од инструкторите и учесниците, евалуација, повратни информации и завршување на курс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езиме на целите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Oliver</cp:lastModifiedBy>
  <dcterms:modified xsi:type="dcterms:W3CDTF">2013-08-15T21:19:32Z</dcterms:modified>
  <cp:revision>32</cp:revision>
  <dc:subject/>
  <dc:title>Introductory Cybercrime Training for Judges and Prosecutors</dc:title>
</cp:coreProperties>
</file>