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AD53A-2040-4FA0-9AD7-EA368E75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D7A16-E437-45FF-AFF7-8898DE66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with all previous lessons this should follow a similar form with the agenda and session objectives set out at the beginning of the les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CDCC1-1F57-434C-B59D-11BE7E179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FEBB6-0EEE-4195-B64E-5284BFF455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E37-D02F-4DFC-B04F-B0F97F17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681-C987-4490-AB5F-A6E347F5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9FE-B23E-4D05-831C-BC2FB828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AB0-16F3-41B8-A237-DB25A8F9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27E-2F32-4C3A-916B-9499C03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E02-9013-4469-923C-B87FFA80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133-981C-4996-80BD-F019F74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720-F454-43B3-836E-C039110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9B1-2940-4B48-B016-33C42DFA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673-E63B-4D3D-AA64-26B10C8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6BE-B0D2-41D7-8E6A-8B691ED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ECE-D11F-491A-A2D1-5373C3D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7C999-9016-478B-91FE-243D0C2D1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Сесија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Преглед на ден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800" spc="-1" strike="noStrike">
                <a:solidFill>
                  <a:srgbClr val="000000"/>
                </a:solidFill>
                <a:latin typeface="Arial"/>
              </a:rPr>
              <a:t>Напредна обука за компјутерски криминал за судии и обвинител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</a:rPr>
              <a:t>На крајот од часот уче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од активностите од претходните денови што ги разбира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каде што им треба повторно да се помине материјалот за знаењето да им биде на потребнот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560"/>
            <a:ext cx="85136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100" spc="-1" strike="noStrike">
                <a:solidFill>
                  <a:srgbClr val="000000"/>
                </a:solidFill>
                <a:latin typeface="Arial"/>
              </a:rPr>
              <a:t>Теми на Ден 1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очеток на курсот и запозн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подготвување истра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на истра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откривање осомнич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400" y="4500720"/>
            <a:ext cx="34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Arial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Oliver</cp:lastModifiedBy>
  <dcterms:modified xsi:type="dcterms:W3CDTF">2013-07-04T12:06:01Z</dcterms:modified>
  <cp:revision>13</cp:revision>
  <dc:subject/>
  <dc:title>Introductory Cybercrime Training for Judges and Prosecutors</dc:title>
</cp:coreProperties>
</file>