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EC668-6261-4674-9C49-227A2509E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0D413-4A24-41A4-BEAB-64FD1AB930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35B-29A7-4A93-A66A-E73DE5FA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38C-D777-44B0-8FEC-9F3694B1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420-E9AF-4E86-952D-95D4C452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0F0-BA08-4C62-BB4C-875AE1F5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FFB-4AE3-48F4-A106-5B296C43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8A6-CDC0-4F96-9599-C5E13678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AF6-881A-459D-84BF-00A1E7C1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C44-10D3-48C1-AE83-C164E53C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619-9FFE-4A15-921A-9388BCFE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0CE-67C9-4046-9326-BA8F8E39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F87-87C1-4398-B3F8-7E5B67A6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8EF-EF3D-44EF-9085-62617251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C361B-4ADC-4064-8B37-F6F3548B7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4000" spc="-1" strike="noStrike">
                <a:solidFill>
                  <a:srgbClr val="000000"/>
                </a:solidFill>
                <a:latin typeface="Calibri"/>
              </a:rPr>
              <a:t>Напредна обука за компјутерски криминал за судии и обвинит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Сесија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 1.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(</a:t>
            </a: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Завршување на курс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и повратни информации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Намена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0464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Оваа сесија е изготвена да им овозможи на учесниците да дадат повратни информации за курсот и да му помогнат на инструкторот да увиди каде може да се направат евентуални подобрувања. Таа исто така служи инструкторот да направи рекапитулација на содржината на курсот со осврт на намената и целите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и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а крајот од оваа сесија учесниците ќе можа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дадат соодветни повратни информации за курсот и неговата ефективно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и пополнат обрасците на Советот на Европа за евалуација на курсо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о утврдат следното ниво на учење што треба да го преземат за да си ги подобрат знаењето и вештините на дадената тем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и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2508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На крајот од овој курс учесниците ќе бидат запознаени со прашањата релевантни во истрага на компјутерски криминал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Водење истраг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Утврдување на типот сторено дело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Утврдување локација на докази, сведоци и осомничени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Обезбедување докази на прифатлив начин, без оглед на тоа каде се чуваат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одготовка за претрес и заплена за електронски докази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со дигитални уреди што се дел од истрагата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Задача на вештите лица и други лица потребни за поддршка на фазата на истрага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одготовка за распит на осомничени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Изведување докази за компјутерски криминал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згледување на релевантните аспекти во судскиот процес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Распоред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ен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8080" y="1417320"/>
            <a:ext cx="8820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ретставување на курсот, инструкторот и сценариот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резентација – Подготвување истраг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3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во групи за утврдување дела, подготвување план за истрага и сценариот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уче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резентациј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Меѓународна соработ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во групи на меѓународна соработ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7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во групи за откривање сторител и планирање стратегија за апсењ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Распоред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ен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77560" y="1417680"/>
            <a:ext cx="86518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09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глед на Ден 1 – Информации за апсењето/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зентација – Дигитално вештаче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3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Работа во групи на дигитални докази, потреби од докази, осомничени, надлежност и меѓународни праша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Руче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зентациј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одготвување предмет за на су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Работа во групи за завршување на случајо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7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глед на случајот, интервенции од инструкторите и учесниците, евалуација, повратни информации и завршување на курсо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На крајот од оваа сесија учесниц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дадат соодветни повратни информации за курсот и неговата ефектив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пополнат обрасците на Советот на Европа за евалуација на кур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о утврдат следното ниво на учење што треба да го преземат за да си ги подобрат знаењето и вештините на дадената те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Резиме на целите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Nigel Jones</dc:creator>
  <dc:description/>
  <dc:language>en-US</dc:language>
  <cp:lastModifiedBy>Oliver</cp:lastModifiedBy>
  <dcterms:modified xsi:type="dcterms:W3CDTF">2013-08-15T21:19:32Z</dcterms:modified>
  <cp:revision>32</cp:revision>
  <dc:subject/>
  <dc:title>Introductory Cybercrime Training for Judges and Prosecutors</dc:title>
</cp:coreProperties>
</file>