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48.xml.rels" ContentType="application/vnd.openxmlformats-package.relationships+xml"/>
  <Override PartName="/ppt/notesSlides/_rels/notesSlide15.xml.rels" ContentType="application/vnd.openxmlformats-package.relationships+xml"/>
  <Override PartName="/ppt/notesSlides/_rels/notesSlide59.xml.rels" ContentType="application/vnd.openxmlformats-package.relationships+xml"/>
  <Override PartName="/ppt/notesSlides/_rels/notesSlide50.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50.xml" ContentType="application/vnd.openxmlformats-officedocument.presentationml.notesSlide+xml"/>
  <Override PartName="/ppt/notesSlides/notesSlide47.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49.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6.jpeg" ContentType="image/jpeg"/>
  <Override PartName="/ppt/media/image11.jpeg" ContentType="image/jpeg"/>
  <Override PartName="/ppt/media/image7.jpeg" ContentType="image/jpeg"/>
  <Override PartName="/ppt/media/image8.jpeg" ContentType="image/jpeg"/>
  <Override PartName="/ppt/media/image10.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01E2D9-F7E9-49A4-A984-0E9CDEFDFDC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ar exemple, un service web qui stocke des données brutes sur Amazone S3, utilise l’authentification Facebook, les paiements via PayPal et fournit des informations « automatiques » en temps réel sur une activité pertinente par Twitter à ses abonnés utilisateu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0C919E-E2C4-4AB7-A9F1-EE4C6797262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Calibri"/>
              </a:rPr>
              <a:t>Dès lors que vous enquêtez sur des activités criminelles ou autres pouvant déboucher sur une procédure judiciaire, vous devez prendre en compte des preuves potentielles que constituent les appareils et équipements pouvant être liés à des informations électroniques, tels que des appareils, de l’équipement, des logiciels, du matériel ou toute autre technologie à même de fonctionner de manière indépendante, en lien ou en connexion avec des systèmes informatiques traditionnels. Ces éléments peuvent être utilisés pour améliorer l’accès de l’utilisateur et augmenter la fonctionnalité du système informatique, de l’appareil lui-même ou d’autres équipements qui peuvent ou non être visibles pour l’enquêteu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A5B93C-9180-4422-BC72-894807EF9F1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La personne en charge est responsable de l’intégrité du matériel récupéré sur la scène et c’est donc elle qui démarre la chaîne de conservation forensiqu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Cette opération doit être menée de la manière qui aura l’impact le moins important sur les données et par une personne qualifiée pour ce faire. Les principes 2 à 5 devraient être pris en compte si une telle action est jugée nécessaire.</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6E2B31-57D0-437B-B1E2-387585CEBC8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suspect est-il la cible de l’activité planifiée ? Si oui, il convient de rassembler le maximum d’information sur lui et ses capacités, car il est possible qu’il ait mis en place des procédures pouvant interférer avec la saisie de l’équipement ou l’acquisition des données, par exemple en cryptant ses dispositifs de stockage ou en disposant d’une commande à touche unique permettant d’effacer tout ce qui se trouve sur son ordinaire. En un tel cas, il faudra agir de manière à empêcher ces pièges de fonctionner. Le suspect peut également stocker des données pouvant constituer des preuves dans le cloud ou dans d’autres ressources en ligne, afin d’éviter de les stocker sur son propre équipe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08322E-92FE-4000-93C9-52B747A8303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vant de se lancer dans des activités pouvant entraîner un contact direct avec un suspect et la saisie de son équipement avec acquisition de ses données, au moment de la planification, il convient de se demander s’il n’y a pas d’autres sources qui pourraient servir à recueillir ces mêmes informations, par exemple le correspondant dans une transaction en ligne comme un échange de mail, ou une tierce partie qui détient des données telle qu’un FSI ou un fournisseur de services en ligne. Le cloud étant de plus en plus utilisé, les mêmes données peuvent être récupérées auprès de tier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321693-A26E-4CDC-95C2-105142B2BE3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Une fois établi qu’il peut y avoir d’autres sources que le suspect pour récupérer des données, il convient de décider par où prendre le problème, en approchant le suspect ou le tiers. Dans certaines juridictions, les tiers sont légalement tenus de notifier leur client de toute demande de consultation de données, ce qui peut alerter le suspect. Il faut également se poser la question de savoir si la procédure légale pour la récupération de données auprès d’un tiers, en particulier si ce dernier est à l’étranger, aurait des conséquences pour l’efficacité de l’enquête, et si le fait de prendre du retard avant d’approcher le suspect peut aussi nuire à l’enquête. Il est également important de se demander quelle source de preuves est la mieux adaptée aux fins de l’enquête et la plus à même d’étayer les éventuelles poursuites qui pourraient être déclenché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A9E8D9-2E7D-4B27-8029-91C1CEF698D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5000"/>
              </a:lnSpc>
              <a:spcBef>
                <a:spcPts val="451"/>
              </a:spcBef>
              <a:spcAft>
                <a:spcPts val="10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Calibri"/>
              </a:rPr>
              <a:t>Lorsqu’on planifie une activité, la première des choses à faire est d’établir l’autorité nécessaire pour mener cette activité. L’autorité peut prendre plusieurs formes. La plus simple consiste à obtenir le consentement de la personne responsable de l’équipement et/ou des données à acquérir. Ce consentement devra toujours être obtenu par écrit, mais en s’assurant que la personne comprend pleinement ce qu’implique le fait de donner son consentement ; cependant, le droit interne et les coutumes dans le pays doivent aussi être pris en compte. </a:t>
            </a:r>
            <a:endParaRPr b="0" lang="en-US" sz="1200" spc="-1" strike="noStrike">
              <a:solidFill>
                <a:srgbClr val="000000"/>
              </a:solidFill>
              <a:latin typeface="Calibri"/>
            </a:endParaRPr>
          </a:p>
          <a:p>
            <a:pPr indent="0">
              <a:lnSpc>
                <a:spcPct val="115000"/>
              </a:lnSpc>
              <a:spcBef>
                <a:spcPts val="451"/>
              </a:spcBef>
              <a:spcAft>
                <a:spcPts val="10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Calibri"/>
              </a:rPr>
              <a:t>Le niveau d’autorité dépendra aussi d’autres facteurs, selon que les faits ayant déclenché l’enquête relèvent du pénal ou du civil, que les personnes qui sollicitent l’autorité appartiennent aux services répressifs ou aux services de poursuite, que ce sont des enquêteurs civils ou des avocats agissant pour le compte de leurs clients ou d’autres catégories dans les deux types de procédure. Les niveaux d’autorité seront différents, depuis l’autorité pouvant être accordée par des individus en vertu de la législation jusqu’aux ordonnances et mandats judiciaires. </a:t>
            </a:r>
            <a:endParaRPr b="0" lang="en-US" sz="1200" spc="-1" strike="noStrike">
              <a:solidFill>
                <a:srgbClr val="000000"/>
              </a:solidFill>
              <a:latin typeface="Calibri"/>
            </a:endParaRPr>
          </a:p>
          <a:p>
            <a:pPr indent="0">
              <a:lnSpc>
                <a:spcPct val="115000"/>
              </a:lnSpc>
              <a:spcBef>
                <a:spcPts val="451"/>
              </a:spcBef>
              <a:spcAft>
                <a:spcPts val="10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ea typeface="Calibri"/>
              </a:rPr>
              <a:t>Aucun acte de saisie d’équipement ou d’acquisition de données ne devrait être entrepris sans avoir obtenu par avance le niveau d’autorité correct pour ce fai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4CA2FA-CE28-4C98-A036-F27E5187890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Il peut être utile d’avoir une accréditation, car cela renforce la crédibilité des témoins forensiques appelés à la barre par l’accusation comme par la défense, outre que cela permet une évaluation objective et indépendante des qualifications des experts sur lesquels la cour va s’appuyer.</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Pour la bonne marche de l’enquête et des poursuites, il est essentiel que les enquêteurs, le témoin forensique et le procureur se consultent au plus tôt. La police et le ministère public devront faire en sorte que l’examinateur forensique reçoive des instructions claires. Les enquêteurs doivent fournir des programmes détaillés et adéquats. </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La sélection des témoins consultants externes, en particulier dans des secteurs moins habituels ou très techniques, peut poser problème à l’enquêteur. Le processus de sélection ne devrait pas être laissé au hasard, mais au contraire être dès le départ actif et structuré. Les services spécialisés dans la criminalité informatique peuvent apporter des conseils sur les critères de sélection.</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Pour la sélection, il conviendra de suivre les conseils ci-dessous ; les domaines indiqués constituent le socle des compétences pour les témoins indépendants consultants.</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Il est possible que l’enquêteur ou le procureur aient besoin des services d’un spécialiste forensique durant une enquête à cause d’une spécialité, par exemple la connaissance d’un système d’exploitation ou d’une application d’Internet particuliers.</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Pour la sélection d’un témoin, il faut avant tout se demander s’il dispose des connaissances requises, soit par ses études soit par l’expérience, pour rendre un avis éclairé qui permettra de résoudre les problèmes.</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4D4D6F-4239-4088-AB8D-B1F71E7F4C9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944855-9DBE-400D-AB07-2BB6DC6E1494}"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Pour l’interprétation des mesures proposées dans ce document, chaque Etat membre devrait prendre en considération ses propres documents légaux et dispositions réglementair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354CC8-2F53-4D53-B85E-47CD3A58AFA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EF7DCC-82C3-4D76-A1EA-EC19527551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F7E4DD-5557-4822-953C-D3604D65D3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FA70D9-43A5-49E7-A5E6-AC9FD49588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C944B7-3B1A-49C7-ACB1-3AAB6F4231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623C5C-A285-4CEE-9C00-A145110C5A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03B833-9FFF-450F-BC88-E44A7C7321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FCDF9D-6BD9-4A2D-85A9-50EBD85FD6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425B5E-D904-4937-AA5E-51591ED3FB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9C7FCA-5E00-4C31-8F30-6E9524BB89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CFB4F-15FA-4F0F-8FB9-569140E58B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92E33-1D35-46E8-8212-032205DA5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10F8C-AE98-4FB4-A5EC-D4DF485CD4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5A1B5A-A609-434C-92B2-C7D03FCB2345}" type="datetime">
              <a:rPr b="0" lang="en-US" sz="1200" spc="-1" strike="noStrike">
                <a:solidFill>
                  <a:srgbClr val="898989"/>
                </a:solidFill>
                <a:latin typeface="Calibri"/>
                <a:ea typeface="Arial"/>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2F272A-F634-45DE-BCD5-6B4FC4BD090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name-of-the-website.com/name-of-the-webpage.htm" TargetMode="Externa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dnsstuff.com/" TargetMode="External"/><Relationship Id="rId2" Type="http://schemas.openxmlformats.org/officeDocument/2006/relationships/hyperlink" Target="http://www.domaintools.com/" TargetMode="External"/><Relationship Id="rId3" Type="http://schemas.openxmlformats.org/officeDocument/2006/relationships/hyperlink" Target="http://www.centralops.net/" TargetMode="External"/><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Bild 8" descr=""/>
          <p:cNvPicPr/>
          <p:nvPr/>
        </p:nvPicPr>
        <p:blipFill>
          <a:blip r:embed="rId1"/>
          <a:stretch/>
        </p:blipFill>
        <p:spPr>
          <a:xfrm>
            <a:off x="0" y="0"/>
            <a:ext cx="9144000" cy="6858000"/>
          </a:xfrm>
          <a:prstGeom prst="rect">
            <a:avLst/>
          </a:prstGeom>
          <a:ln w="0">
            <a:noFill/>
          </a:ln>
        </p:spPr>
      </p:pic>
      <p:sp>
        <p:nvSpPr>
          <p:cNvPr id="49" name="TextBox 2"/>
          <p:cNvSpPr/>
          <p:nvPr/>
        </p:nvSpPr>
        <p:spPr>
          <a:xfrm>
            <a:off x="6394320" y="-27000"/>
            <a:ext cx="2641680" cy="794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ffffff"/>
                </a:solidFill>
                <a:latin typeface="Arial Narrow"/>
              </a:rPr>
              <a:t>GLACY</a:t>
            </a:r>
            <a:endParaRPr b="0" lang="en-US" sz="2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ffffff"/>
                </a:solidFill>
                <a:latin typeface="Arial Narrow"/>
              </a:rPr>
              <a:t>Global Action on Cybercrime</a:t>
            </a:r>
            <a:endParaRPr b="0" lang="en-US" sz="11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ffffff"/>
                </a:solidFill>
                <a:latin typeface="Arial Narrow"/>
              </a:rPr>
              <a:t>Action globale sur la cybercriminalité</a:t>
            </a:r>
            <a:endParaRPr b="0" lang="en-US" sz="1100" spc="-1" strike="noStrike">
              <a:solidFill>
                <a:srgbClr val="000000"/>
              </a:solidFill>
              <a:latin typeface="Arial"/>
            </a:endParaRPr>
          </a:p>
        </p:txBody>
      </p:sp>
      <p:sp>
        <p:nvSpPr>
          <p:cNvPr id="50" name="Rectangle 1"/>
          <p:cNvSpPr/>
          <p:nvPr/>
        </p:nvSpPr>
        <p:spPr>
          <a:xfrm>
            <a:off x="468360" y="1549440"/>
            <a:ext cx="8567640" cy="28814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 name="Rectangle 3"/>
          <p:cNvSpPr/>
          <p:nvPr/>
        </p:nvSpPr>
        <p:spPr>
          <a:xfrm>
            <a:off x="324000" y="1568520"/>
            <a:ext cx="8461080" cy="38145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2c57ae"/>
                </a:solidFill>
                <a:latin typeface="Verdana"/>
              </a:rPr>
              <a:t>Premier répondant</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2c57ae"/>
                </a:solidFill>
                <a:latin typeface="Verdana"/>
              </a:rPr>
              <a:t>Cybercriminalité &amp; Preuves électroniques</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2c57ae"/>
                </a:solidFill>
                <a:latin typeface="Verdana"/>
              </a:rPr>
              <a:t>Formation de formateurs</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a6a6a6"/>
                </a:solidFill>
                <a:latin typeface="Calibri"/>
              </a:rPr>
              <a:t>Session 1.2.4.</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a6a6a6"/>
                </a:solidFill>
                <a:latin typeface="Calibri"/>
              </a:rPr>
              <a:t>Autorités et autorisations, Préparation et Planification, Témoins spécialistes externes</a:t>
            </a:r>
            <a:endParaRPr b="0" lang="en-US" sz="2400" spc="-1" strike="noStrike">
              <a:solidFill>
                <a:srgbClr val="000000"/>
              </a:solidFill>
              <a:latin typeface="Arial"/>
            </a:endParaRPr>
          </a:p>
        </p:txBody>
      </p:sp>
      <p:sp>
        <p:nvSpPr>
          <p:cNvPr id="52" name="Rectangle 52"/>
          <p:cNvSpPr/>
          <p:nvPr/>
        </p:nvSpPr>
        <p:spPr>
          <a:xfrm>
            <a:off x="1654200" y="3716280"/>
            <a:ext cx="5907240" cy="1009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 name="Rectangle 2"/>
          <p:cNvSpPr/>
          <p:nvPr/>
        </p:nvSpPr>
        <p:spPr>
          <a:xfrm>
            <a:off x="3065400" y="5195160"/>
            <a:ext cx="2988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f618f"/>
                </a:solidFill>
                <a:latin typeface="Verdana"/>
              </a:rPr>
              <a:t>www.coe.int/cybercrime</a:t>
            </a:r>
            <a:endParaRPr b="0" lang="en-US" sz="1800" spc="-1" strike="noStrike">
              <a:solidFill>
                <a:srgbClr val="000000"/>
              </a:solidFill>
              <a:latin typeface="Arial"/>
            </a:endParaRPr>
          </a:p>
        </p:txBody>
      </p:sp>
      <p:pic>
        <p:nvPicPr>
          <p:cNvPr id="54" name="Picture 2" descr="http://www.coe.int/documents/16695/995226/Funded+EU%2BCOE+-+Implemented+COE+quadri.png/9a8c2a58-638c-4e15-968c-48dff243cf07?t=1375371137000?t=1375371137000"/>
          <p:cNvPicPr/>
          <p:nvPr/>
        </p:nvPicPr>
        <p:blipFill>
          <a:blip r:embed="rId2"/>
          <a:stretch/>
        </p:blipFill>
        <p:spPr>
          <a:xfrm>
            <a:off x="2340000" y="5661000"/>
            <a:ext cx="4500360" cy="863640"/>
          </a:xfrm>
          <a:prstGeom prst="rect">
            <a:avLst/>
          </a:prstGeom>
          <a:ln w="0">
            <a:noFill/>
          </a:ln>
        </p:spPr>
      </p:pic>
      <p:sp>
        <p:nvSpPr>
          <p:cNvPr id="55" name="Rectangle 1"/>
          <p:cNvSpPr/>
          <p:nvPr/>
        </p:nvSpPr>
        <p:spPr>
          <a:xfrm>
            <a:off x="8675640" y="6481800"/>
            <a:ext cx="217440" cy="144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vestigation</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Avant de démarrer la planification et la planification d’une perquisition, il convient de dresser le profil du suspect et d’analyser la situation selon la grille de questions ci-dessous :</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Qui ? Qui cherchons-nous ?</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Quoi ? Quel est le délit et que cherchons-nous ?</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Où ? Où va se dérouler la perquisition et dans quel lieu ? </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Quand ? Quand la perquisition est-elle prévue et quand devrions-nous la planifier ? </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Comment ? Comment allons-nous nous rendre sur les lieux et comment allons-nous procéder pour la perquisition ?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Après avoir répondu à ces questions, nous avons une vision complète de la situation et pouvons alors planifier nos activités.</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7BFF41-6E54-433D-8E90-93880E1D3B0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Q&amp;R</a:t>
            </a:r>
            <a:endParaRPr b="0" lang="en-US" sz="4400" spc="-1" strike="noStrike">
              <a:solidFill>
                <a:srgbClr val="000000"/>
              </a:solidFill>
              <a:latin typeface="Calibri"/>
            </a:endParaRPr>
          </a:p>
        </p:txBody>
      </p:sp>
      <p:sp>
        <p:nvSpPr>
          <p:cNvPr id="83" name=""/>
          <p:cNvSpPr txBox="1"/>
          <p:nvPr/>
        </p:nvSpPr>
        <p:spPr>
          <a:xfrm>
            <a:off x="456840" y="1600200"/>
            <a:ext cx="84582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après votre expérience, où peut-on trouver des informations sur le suspect ?</a:t>
            </a:r>
            <a:endParaRPr b="0" lang="en-US" sz="28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F0B4AD-3A48-4098-943C-91D504DA2D5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Recueil d’informations sur le suspect à partir de sources ouvertes </a:t>
            </a:r>
            <a:endParaRPr b="0" lang="en-US" sz="32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32640" indent="-3326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près avoir recueilli des informations sur le suspect à partir des FSI ou hébergeurs, il arrive que l’on s’apercoive que ces informations à elles seules ne sont pas suffisantes pour l’identifier. On cherche alors à trouver et recueillir des informations supplémentaires.</a:t>
            </a:r>
            <a:endParaRPr b="0" lang="en-US" sz="2400" spc="-1" strike="noStrike">
              <a:solidFill>
                <a:srgbClr val="000000"/>
              </a:solidFill>
              <a:latin typeface="Calibri"/>
            </a:endParaRPr>
          </a:p>
          <a:p>
            <a:pPr marL="332640" indent="-3326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Il y a différentes manières de recueillir des informations. Il peut être très utile de consulter les bases de données de la police, car il pourrait être connu pour des délits simialires ; une autre option consiste à consulter des bases de données en source ouverte : </a:t>
            </a:r>
            <a:r>
              <a:rPr b="1" i="1" lang="en-GB" sz="2400" spc="-1" strike="noStrike">
                <a:solidFill>
                  <a:srgbClr val="000000"/>
                </a:solidFill>
                <a:latin typeface="Calibri"/>
              </a:rPr>
              <a:t>Internet</a:t>
            </a:r>
            <a:r>
              <a:rPr b="0" lang="en-GB" sz="2400" spc="-1" strike="noStrike">
                <a:solidFill>
                  <a:srgbClr val="000000"/>
                </a:solidFill>
                <a:latin typeface="Calibri"/>
              </a:rPr>
              <a:t>.</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FF3B61-3041-49BD-B1EB-A4A772B97BF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B7FE8B-C50B-4460-AD1F-AE8DD025D0A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grpSp>
        <p:nvGrpSpPr>
          <p:cNvPr id="89" name="Group 2"/>
          <p:cNvGrpSpPr/>
          <p:nvPr/>
        </p:nvGrpSpPr>
        <p:grpSpPr>
          <a:xfrm>
            <a:off x="2828880" y="457200"/>
            <a:ext cx="3673440" cy="5977080"/>
            <a:chOff x="2828880" y="457200"/>
            <a:chExt cx="3673440" cy="5977080"/>
          </a:xfrm>
        </p:grpSpPr>
        <p:sp>
          <p:nvSpPr>
            <p:cNvPr id="90"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AutoShape 4"/>
            <p:cNvSpPr/>
            <p:nvPr/>
          </p:nvSpPr>
          <p:spPr>
            <a:xfrm>
              <a:off x="2828880" y="872640"/>
              <a:ext cx="3668760" cy="5538240"/>
            </a:xfrm>
            <a:custGeom>
              <a:avLst/>
              <a:gdLst>
                <a:gd name="textAreaLeft" fmla="*/ 26280 w 3668760"/>
                <a:gd name="textAreaRight" fmla="*/ 3642480 w 3668760"/>
                <a:gd name="textAreaTop" fmla="*/ 26280 h 5538240"/>
                <a:gd name="textAreaBottom" fmla="*/ 5511960 h 5538240"/>
              </a:gdLst>
              <a:ahLst/>
              <a:rect l="textAreaLeft" t="textAreaTop" r="textAreaRight" b="textAreaBottom"/>
              <a:pathLst>
                <a:path w="21600" h="32606">
                  <a:moveTo>
                    <a:pt x="532" y="0"/>
                  </a:moveTo>
                  <a:arcTo wR="532" hR="532" stAng="16200000" swAng="-5400000"/>
                  <a:lnTo>
                    <a:pt x="0" y="32074"/>
                  </a:lnTo>
                  <a:arcTo wR="532" hR="532" stAng="10800000" swAng="-5400000"/>
                  <a:lnTo>
                    <a:pt x="21068" y="32606"/>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 name="Freeform 6"/>
            <p:cNvSpPr/>
            <p:nvPr/>
          </p:nvSpPr>
          <p:spPr>
            <a:xfrm>
              <a:off x="2921760" y="872640"/>
              <a:ext cx="3506760" cy="181800"/>
            </a:xfrm>
            <a:custGeom>
              <a:avLst/>
              <a:gdLst/>
              <a:ahLst/>
              <a:rect l="l" t="t" r="r" b="b"/>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6"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7"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5"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7"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9"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1"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2"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34" name="TextBox 48"/>
          <p:cNvSpPr/>
          <p:nvPr/>
        </p:nvSpPr>
        <p:spPr>
          <a:xfrm>
            <a:off x="3144960" y="2608200"/>
            <a:ext cx="30686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122031"/>
                </a:solidFill>
                <a:latin typeface="Calibri"/>
              </a:rPr>
              <a:t>Capturer des preuves SUR Intern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RECUEILLIR DES PREUVES SUR INTERNET</a:t>
            </a:r>
            <a:br>
              <a:rPr sz="2800"/>
            </a:br>
            <a:endParaRPr b="0" lang="en-US" sz="2800" spc="-1" strike="noStrike">
              <a:solidFill>
                <a:srgbClr val="000000"/>
              </a:solidFill>
              <a:latin typeface="Calibri"/>
            </a:endParaRPr>
          </a:p>
        </p:txBody>
      </p:sp>
      <p:sp>
        <p:nvSpPr>
          <p:cNvPr id="13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cquisition de preuves à partir d’informations librement accessibles sur Intern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euves obtenues par des investigations secrètes sur Intern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l faut des connaissances et un ensemble de compétences différent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l faut une législation et des procédures</a:t>
            </a:r>
            <a:endParaRPr b="0" lang="en-US" sz="2800" spc="-1" strike="noStrike">
              <a:solidFill>
                <a:srgbClr val="000000"/>
              </a:solidFill>
              <a:latin typeface="Calibri"/>
            </a:endParaRPr>
          </a:p>
        </p:txBody>
      </p:sp>
      <p:sp>
        <p:nvSpPr>
          <p:cNvPr id="1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F0964A-E9DC-4F0C-9DFF-546D58B6E3F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RECUEILLIR DES PREUVES SUR INTERNET</a:t>
            </a:r>
            <a:br>
              <a:rPr sz="2800"/>
            </a:br>
            <a:endParaRPr b="0" lang="en-US" sz="2800" spc="-1" strike="noStrike">
              <a:solidFill>
                <a:srgbClr val="000000"/>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a:t>
            </a:r>
            <a:r>
              <a:rPr b="1" lang="en-GB" sz="3200" spc="-1" strike="noStrike">
                <a:solidFill>
                  <a:srgbClr val="000000"/>
                </a:solidFill>
                <a:latin typeface="Calibri"/>
              </a:rPr>
              <a:t>Mashup” des preuves</a:t>
            </a:r>
            <a:endParaRPr b="0" lang="en-US" sz="32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mbinaison</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visualisation</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 </a:t>
            </a:r>
            <a:r>
              <a:rPr b="0" lang="en-US" sz="2800" spc="-1" strike="noStrike">
                <a:solidFill>
                  <a:srgbClr val="000000"/>
                </a:solidFill>
                <a:latin typeface="Calibri"/>
              </a:rPr>
              <a:t>aggrégation</a:t>
            </a:r>
            <a:endParaRPr b="0" lang="en-US" sz="2800" spc="-1" strike="noStrike">
              <a:solidFill>
                <a:srgbClr val="000000"/>
              </a:solidFill>
              <a:latin typeface="Calibri"/>
            </a:endParaRPr>
          </a:p>
          <a:p>
            <a:pPr lvl="1" marL="720720" indent="-27720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20720" indent="-2772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outes ces “preuves en ligne” doivent être recueillies selon des procédures spéciales pour garantir l’admissibilité des preuves obtenues</a:t>
            </a:r>
            <a:endParaRPr b="0" lang="en-US" sz="2400" spc="-1" strike="noStrike">
              <a:solidFill>
                <a:srgbClr val="000000"/>
              </a:solidFill>
              <a:latin typeface="Calibri"/>
            </a:endParaRPr>
          </a:p>
          <a:p>
            <a:pPr lvl="1" marL="720720" indent="-2772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Toutes les informations en ligne ne peuvent pas forcément être des preuves ! </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97E848-8072-4157-9E79-CE5D3AC7414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P = Protocole Internet</a:t>
            </a:r>
            <a:endParaRPr b="0" lang="en-US" sz="4400" spc="-1" strike="noStrike">
              <a:solidFill>
                <a:srgbClr val="000000"/>
              </a:solidFill>
              <a:latin typeface="Calibri"/>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Le Protocole Internet (Internet Protocol ou IP) permet d’acheminer des paquets de données de la source à la destination, si la source et la destination sont identifiées par des adresses de longueur fix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Le format d’une adresse IPv4 est une adresse numérique de  32 bits se présentant sous forme de quatre nombres séparés par des points. Chaque nombre peut aller de 0 à 255. Un exemple : 68.160.10.240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Une adresse IPv6 se compose de huit groupes de quatre nombres hexadécimaux. Chaque groupe est séparé par le “:” </a:t>
            </a:r>
            <a:r>
              <a:rPr b="0" lang="de-DE" sz="2400" spc="-1" strike="noStrike">
                <a:solidFill>
                  <a:srgbClr val="000000"/>
                </a:solidFill>
                <a:latin typeface="Calibri"/>
              </a:rPr>
              <a:t>(exemple 2001:0db8:85a3:0042:0000:8a2e:0370:7334).</a:t>
            </a:r>
            <a:endParaRPr b="0" lang="en-US" sz="2400" spc="-1" strike="noStrike">
              <a:solidFill>
                <a:srgbClr val="000000"/>
              </a:solidFill>
              <a:latin typeface="Calibri"/>
            </a:endParaRPr>
          </a:p>
        </p:txBody>
      </p:sp>
      <p:sp>
        <p:nvSpPr>
          <p:cNvPr id="14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F77E81-5BD0-47E3-B819-5BFC6DB2BF7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P = Protocole Internet</a:t>
            </a:r>
            <a:endParaRPr b="0" lang="en-US" sz="4400" spc="-1" strike="noStrike">
              <a:solidFill>
                <a:srgbClr val="000000"/>
              </a:solidFill>
              <a:latin typeface="Calibri"/>
            </a:endParaRPr>
          </a:p>
        </p:txBody>
      </p:sp>
      <p:sp>
        <p:nvSpPr>
          <p:cNvPr id="145"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IANA (Internet Assigned Numbers Authority) est l’autorité de régulation de ces adresses IP. Entre autres choses, elle a pour but de coordonner l’adressage IP grâce à des entités régionales, les RIR :</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RIPE (Europe et certaines parties de l’Asie)</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PNIC (Asie et région Pacifique)</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RIN (Amérique du Nord)</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ACNIC (Amérique latine et Caraïbes)</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friNIC (Afrique)</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A0B34C-3420-45A1-95AB-112A2E642FC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P = Protocole Internet</a:t>
            </a:r>
            <a:endParaRPr b="0" lang="en-US" sz="4400" spc="-1" strike="noStrike">
              <a:solidFill>
                <a:srgbClr val="000000"/>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ôle du fournisseur de services sur Internet</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Gestion des adresses IP</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DHCP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Différence entre des adresses IP dynamiques et statiqu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10.0.0.0 à 10.255.255.255 – Classe 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172.16.0.0 à 172.31.255.255 – Classe B</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192.168.0.0 à 192.168.255.255 – Classe C</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0CEF9D-DD90-451B-9CE1-08B9D40AF6B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DNS = Système de noms de domaine</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es noms de domaine sont gérés par des Registrars (Unités d’enregistrement) qui doivent être accrédités par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Internet Corporation for Assigned Names and Numbers (ICANN; http://www.icann.org/)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Les Registres figurant sur la liste de l’IANA (Internet Assigned Numbers Authority).</a:t>
            </a:r>
            <a:endParaRPr b="0" lang="en-US" sz="2000" spc="-1" strike="noStrike">
              <a:solidFill>
                <a:srgbClr val="000000"/>
              </a:solidFill>
              <a:latin typeface="Calibri"/>
            </a:endParaRPr>
          </a:p>
          <a:p>
            <a:pPr lvl="1" marL="743040" indent="-28584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Les Domaines génériques de premier niveau (gTLDs) tels que .com, .net, .org, .biz, et,c sont gérés par les Registrars accrédités par l’ICANN</a:t>
            </a:r>
            <a:endParaRPr b="0" lang="en-US" sz="1800" spc="-1" strike="noStrike">
              <a:solidFill>
                <a:srgbClr val="000000"/>
              </a:solidFill>
              <a:latin typeface="Calibri"/>
            </a:endParaRPr>
          </a:p>
          <a:p>
            <a:pPr lvl="1" marL="743040" indent="-28584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Les Domaines nationaux de premier niveau (ccTLFDs) tels que .us, .uk, .de, .ie, etc. sont gérés par les Registres à qui l’IANA a délégué l’enregistrement</a:t>
            </a:r>
            <a:endParaRPr b="0" lang="en-US" sz="18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i un nom de domaine n’est pas enregistré par une société de protection de la vie privée, ces Registres peuvent stocker des informations précieuses sur le propriétaire d’un nom de domaine.</a:t>
            </a:r>
            <a:endParaRPr b="0" lang="en-US" sz="2000" spc="-1" strike="noStrike">
              <a:solidFill>
                <a:srgbClr val="000000"/>
              </a:solidFill>
              <a:latin typeface="Calibri"/>
            </a:endParaRPr>
          </a:p>
        </p:txBody>
      </p:sp>
      <p:sp>
        <p:nvSpPr>
          <p:cNvPr id="1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EF840E-2580-4B6B-B5C0-11901A19277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058E8E-D3C3-4508-B3F9-C1436B323D8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7"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ctifs de la session </a:t>
            </a:r>
            <a:endParaRPr b="0" lang="en-US" sz="4400" spc="-1" strike="noStrike">
              <a:solidFill>
                <a:srgbClr val="000000"/>
              </a:solidFill>
              <a:latin typeface="Calibri"/>
            </a:endParaRPr>
          </a:p>
        </p:txBody>
      </p:sp>
      <p:sp>
        <p:nvSpPr>
          <p:cNvPr id="58" name="Content Placeholder 2"/>
          <p:cNvSpPr/>
          <p:nvPr/>
        </p:nvSpPr>
        <p:spPr>
          <a:xfrm>
            <a:off x="457200" y="1047600"/>
            <a:ext cx="8512200" cy="5308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A la fin de cette session, les participants pourront :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 </a:t>
            </a:r>
            <a:r>
              <a:rPr b="0" lang="en-US" sz="2800" spc="-1" strike="noStrike">
                <a:solidFill>
                  <a:srgbClr val="000000"/>
                </a:solidFill>
                <a:latin typeface="Arial"/>
              </a:rPr>
              <a:t>discuter des autorités et autorisations dans le processus de perquisition et de saisie de preuves électroniques,</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rPr>
              <a:t> </a:t>
            </a:r>
            <a:r>
              <a:rPr b="0" lang="en-GB" sz="2800" spc="-1" strike="noStrike">
                <a:solidFill>
                  <a:srgbClr val="000000"/>
                </a:solidFill>
                <a:latin typeface="Arial"/>
              </a:rPr>
              <a:t>mener efficacement la préparation et la planification de la perquisition et de la saisie de preuves électroniques, </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rPr>
              <a:t> </a:t>
            </a:r>
            <a:r>
              <a:rPr b="0" lang="en-GB" sz="2800" spc="-1" strike="noStrike">
                <a:solidFill>
                  <a:srgbClr val="000000"/>
                </a:solidFill>
                <a:latin typeface="Arial"/>
              </a:rPr>
              <a:t>discuter du rôle des témoins spécialistes extern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URI = Uniform Resource Identifier</a:t>
            </a:r>
            <a:endParaRPr b="0" lang="en-US" sz="4000" spc="-1" strike="noStrike">
              <a:solidFill>
                <a:srgbClr val="000000"/>
              </a:solidFill>
              <a:latin typeface="Calibri"/>
            </a:endParaRPr>
          </a:p>
        </p:txBody>
      </p:sp>
      <p:sp>
        <p:nvSpPr>
          <p:cNvPr id="154" name=""/>
          <p:cNvSpPr txBox="1"/>
          <p:nvPr/>
        </p:nvSpPr>
        <p:spPr>
          <a:xfrm>
            <a:off x="163440" y="1600200"/>
            <a:ext cx="87076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e World Wide Web (WWW) est un système de documents liés que l’on peut consulter par le biais de l’Interne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es documents ne sont pas des documents normaux sous format texte mais des documents en hypertexte connus sous le nom de pages web.</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ypertexte permet de lier des documents qui peuvent être stockés dans différents ordinateurs situés partout dans le mond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es pages Web sont en général écrite en code HTML, et peuvent contenir différents types d’information.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es pages Web sotn en général groupées sur des sites Web. </a:t>
            </a:r>
            <a:endParaRPr b="0" lang="en-US" sz="24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structure de l’URL : </a:t>
            </a:r>
            <a:r>
              <a:rPr b="0" lang="en-US" sz="1800" spc="-1" strike="noStrike" u="sng">
                <a:solidFill>
                  <a:srgbClr val="0000ff"/>
                </a:solidFill>
                <a:uFillTx/>
                <a:latin typeface="Calibri"/>
                <a:hlinkClick r:id="rId1"/>
              </a:rPr>
              <a:t>http://www.name-of-the-website.com/name-of-the-webpage.htm</a:t>
            </a:r>
            <a:endParaRPr b="0" lang="en-US" sz="1800" spc="-1" strike="noStrike">
              <a:solidFill>
                <a:srgbClr val="000000"/>
              </a:solidFill>
              <a:latin typeface="Calibri"/>
            </a:endParaRPr>
          </a:p>
        </p:txBody>
      </p:sp>
      <p:sp>
        <p:nvSpPr>
          <p:cNvPr id="1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79FAD0-5736-431E-A5F4-A3B74598CB0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Enregistrements IP &amp; DNS dans des investigations en ligne</a:t>
            </a:r>
            <a:endParaRPr b="0" lang="en-US" sz="3200" spc="-1" strike="noStrike">
              <a:solidFill>
                <a:srgbClr val="000000"/>
              </a:solidFill>
              <a:latin typeface="Calibri"/>
            </a:endParaRPr>
          </a:p>
        </p:txBody>
      </p:sp>
      <p:sp>
        <p:nvSpPr>
          <p:cNvPr id="157" name=""/>
          <p:cNvSpPr txBox="1"/>
          <p:nvPr/>
        </p:nvSpPr>
        <p:spPr>
          <a:xfrm>
            <a:off x="457200" y="1600200"/>
            <a:ext cx="8229600" cy="4756320"/>
          </a:xfrm>
          <a:prstGeom prst="rect">
            <a:avLst/>
          </a:prstGeom>
          <a:noFill/>
          <a:ln w="0">
            <a:noFill/>
          </a:ln>
        </p:spPr>
        <p:txBody>
          <a:bodyPr anchor="t">
            <a:normAutofit fontScale="98000"/>
          </a:bodyPr>
          <a:p>
            <a:pPr marL="335880" indent="-3358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Calibri"/>
                <a:hlinkClick r:id="rId1"/>
              </a:rPr>
              <a:t>www.dnsstuff.com</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Calibri"/>
                <a:hlinkClick r:id="rId2"/>
              </a:rPr>
              <a:t>www.domaintools.com</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Calibri"/>
                <a:hlinkClick r:id="rId3"/>
              </a:rPr>
              <a:t>www.centralops.net</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Calibri"/>
              </a:rPr>
              <a:t>Whois Lookup</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Calibri"/>
              </a:rPr>
              <a:t>Reverse Whois</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Calibri"/>
              </a:rPr>
              <a:t>IP Lookup</a:t>
            </a:r>
            <a:endParaRPr b="0" lang="en-US" sz="2000" spc="-1" strike="noStrike">
              <a:solidFill>
                <a:srgbClr val="000000"/>
              </a:solidFill>
              <a:latin typeface="Calibri"/>
            </a:endParaRPr>
          </a:p>
          <a:p>
            <a:pPr marL="335880" indent="-3358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35880" indent="-3358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es enregistrements DNS peuvent changer de temps en temps</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formations disponibles associées à une adresse IP donnée</a:t>
            </a:r>
            <a:endParaRPr b="0" lang="en-US" sz="2000" spc="-1" strike="noStrike">
              <a:solidFill>
                <a:srgbClr val="000000"/>
              </a:solidFill>
              <a:latin typeface="Calibri"/>
            </a:endParaRPr>
          </a:p>
          <a:p>
            <a:pPr lvl="1" marL="727920" indent="-28008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Qui est le Registrar </a:t>
            </a:r>
            <a:endParaRPr b="0" lang="en-US" sz="1600" spc="-1" strike="noStrike">
              <a:solidFill>
                <a:srgbClr val="000000"/>
              </a:solidFill>
              <a:latin typeface="Calibri"/>
            </a:endParaRPr>
          </a:p>
          <a:p>
            <a:pPr lvl="1" marL="727920" indent="-28008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Pays, Reverse DNS et fourchette de blocs IP auquel il appartient</a:t>
            </a:r>
            <a:endParaRPr b="0" lang="en-US" sz="1600" spc="-1" strike="noStrike">
              <a:solidFill>
                <a:srgbClr val="000000"/>
              </a:solidFill>
              <a:latin typeface="Calibri"/>
            </a:endParaRPr>
          </a:p>
          <a:p>
            <a:pPr lvl="1" marL="727920" indent="-28008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Pays sur le territoire duquel il se trouve physiquement</a:t>
            </a:r>
            <a:endParaRPr b="0" lang="en-US" sz="1600" spc="-1" strike="noStrike">
              <a:solidFill>
                <a:srgbClr val="000000"/>
              </a:solidFill>
              <a:latin typeface="Calibri"/>
            </a:endParaRPr>
          </a:p>
          <a:p>
            <a:pPr lvl="1" marL="727920" indent="-28008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éolocalisation (pas toujours la vraie) et fournisseur </a:t>
            </a:r>
            <a:endParaRPr b="0" lang="en-US" sz="1600" spc="-1" strike="noStrike">
              <a:solidFill>
                <a:srgbClr val="000000"/>
              </a:solidFill>
              <a:latin typeface="Calibri"/>
            </a:endParaRPr>
          </a:p>
          <a:p>
            <a:pPr lvl="1" marL="727920" indent="-28008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Ville, latitude et longitude</a:t>
            </a:r>
            <a:endParaRPr b="0" lang="en-US" sz="1600" spc="-1" strike="noStrike">
              <a:solidFill>
                <a:srgbClr val="000000"/>
              </a:solidFill>
              <a:latin typeface="Calibri"/>
            </a:endParaRPr>
          </a:p>
        </p:txBody>
      </p:sp>
      <p:sp>
        <p:nvSpPr>
          <p:cNvPr id="1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32AD6B-94E1-455F-A053-104E9E72544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SI nationaux</a:t>
            </a:r>
            <a:endParaRPr b="0" lang="en-US" sz="4400" spc="-1" strike="noStrike">
              <a:solidFill>
                <a:srgbClr val="000000"/>
              </a:solidFill>
              <a:latin typeface="Calibri"/>
            </a:endParaRPr>
          </a:p>
        </p:txBody>
      </p:sp>
      <p:sp>
        <p:nvSpPr>
          <p:cNvPr id="16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cueil d’informations auprès des FSI nationaux</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Informations sur l’abonné (le propriétaire enregistré et l’adresse de la connexion, les informations relatives à la facturation, le numéro de téléphone, etc.).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Informations sur les transactions (dates, heures et durées de la connexion, adresse IP utilisé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Contenu (pas toujours disponible), la plupart des FSI proposent des comptes de messagerie gratuits, différents services. Les messages électroniques ou autres services peuvent être obtenus auprès des FSI. </a:t>
            </a:r>
            <a:endParaRPr b="0" lang="en-US" sz="2400" spc="-1" strike="noStrike">
              <a:solidFill>
                <a:srgbClr val="000000"/>
              </a:solidFill>
              <a:latin typeface="Calibri"/>
            </a:endParaRPr>
          </a:p>
          <a:p>
            <a:pPr lvl="1" marL="743040" indent="-28584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E83B44-15CE-495E-888F-678E11E8495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SI internationaux</a:t>
            </a:r>
            <a:endParaRPr b="0" lang="en-US" sz="44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formations par les FSI</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dresses IP</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Localisation de la première utilis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Localisation de la dernière utilis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Journaux d’activité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utres</a:t>
            </a:r>
            <a:endParaRPr b="0" lang="en-US" sz="2800" spc="-1" strike="noStrike">
              <a:solidFill>
                <a:srgbClr val="000000"/>
              </a:solidFill>
              <a:latin typeface="Calibri"/>
            </a:endParaRPr>
          </a:p>
          <a:p>
            <a:pPr lvl="1" marL="743040" indent="-28584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mment obtient-on ces informations ?</a:t>
            </a:r>
            <a:endParaRPr b="0" lang="en-US" sz="2400" spc="-1" strike="noStrike">
              <a:solidFill>
                <a:srgbClr val="000000"/>
              </a:solidFill>
              <a:latin typeface="Calibri"/>
            </a:endParaRPr>
          </a:p>
          <a:p>
            <a:pPr lvl="1" marL="743040" indent="-28584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nvention de Budapest sur la Cybercriminalité</a:t>
            </a:r>
            <a:endParaRPr b="0" lang="en-US" sz="2400" spc="-1" strike="noStrike">
              <a:solidFill>
                <a:srgbClr val="000000"/>
              </a:solidFill>
              <a:latin typeface="Calibri"/>
            </a:endParaRPr>
          </a:p>
          <a:p>
            <a:pPr lvl="1" marL="743040" indent="-28584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tilisation d’un mandat judiciaire ou de l’entraide</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1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752D63-B44C-461B-AFA4-B7AD34D261B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DONNEES DETENUES PAR DES TIERS</a:t>
            </a:r>
            <a:endParaRPr b="0" lang="en-US" sz="40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Détenteurs de données indépendant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Promouvoir la coopération entre les détenteurs de données indépendants et les services répressif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Préservation des donné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Réception de rapports informels sur la cybercriminalité</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68D5A1-4304-49DD-95CF-8F3C2B48F7B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ources d’information en ligne</a:t>
            </a:r>
            <a:endParaRPr b="0" lang="en-US" sz="4400" spc="-1" strike="noStrike">
              <a:solidFill>
                <a:srgbClr val="000000"/>
              </a:solidFill>
              <a:latin typeface="Calibri"/>
            </a:endParaRPr>
          </a:p>
        </p:txBody>
      </p:sp>
      <p:sp>
        <p:nvSpPr>
          <p:cNvPr id="1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Site web simple</a:t>
            </a:r>
            <a:endParaRPr b="0" lang="en-US" sz="3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Code Sourc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Commentaires au code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Champs caché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Références de sites externe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Publicités en lign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Codes d’authentification de domaine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Codes WebSense / AdSense / SearchSense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Métadonnées (ex. création / dernière modificatio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Versions précédentes sur archive.org</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133398-84A9-4DC4-946B-53F7564A711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ources d’information en ligne</a:t>
            </a:r>
            <a:endParaRPr b="0" lang="en-US" sz="4400" spc="-1" strike="noStrike">
              <a:solidFill>
                <a:srgbClr val="000000"/>
              </a:solidFill>
              <a:latin typeface="Calibri"/>
            </a:endParaRPr>
          </a:p>
        </p:txBody>
      </p:sp>
      <p:sp>
        <p:nvSpPr>
          <p:cNvPr id="1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Sites de réseaux sociaux </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Code source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ID (identifiants) interne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Sous-système forum de discussio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Codes</a:t>
            </a:r>
            <a:r>
              <a:rPr b="0" lang="en-US" sz="2400" spc="-1" strike="noStrike">
                <a:solidFill>
                  <a:srgbClr val="000000"/>
                </a:solidFill>
                <a:latin typeface="Calibri"/>
              </a:rPr>
              <a:t> </a:t>
            </a:r>
            <a:r>
              <a:rPr b="0" lang="en-GB" sz="2400" spc="-1" strike="noStrike">
                <a:solidFill>
                  <a:srgbClr val="000000"/>
                </a:solidFill>
                <a:latin typeface="Calibri"/>
              </a:rPr>
              <a:t>WebSense / AdSense / SearchSense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Métadonnées (ex. création / dernière modific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3506EB-A559-4370-AA28-7DA2DB9F989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ources d’information en ligne</a:t>
            </a:r>
            <a:endParaRPr b="0" lang="en-US" sz="4400" spc="-1" strike="noStrike">
              <a:solidFill>
                <a:srgbClr val="000000"/>
              </a:solidFill>
              <a:latin typeface="Calibri"/>
            </a:endParaRPr>
          </a:p>
        </p:txBody>
      </p:sp>
      <p:sp>
        <p:nvSpPr>
          <p:cNvPr id="1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Sites de blog</a:t>
            </a:r>
            <a:endParaRPr b="0" lang="en-US" sz="3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ID internes (ID blog, ID utilisateurs,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Codes authentification domaine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Mashup : Twitter</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Mashup : FaceBook</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Mashup : Twitter</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Mashup : Picasa / Flickr</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Mashup : URL-Shortner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Métadonnées (ex. création / dernière modificat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9FC86C-DFBA-45A3-8CF5-3A3BD5CE636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ources d’information en ligne</a:t>
            </a:r>
            <a:endParaRPr b="0" lang="en-US" sz="4400" spc="-1" strike="noStrike">
              <a:solidFill>
                <a:srgbClr val="000000"/>
              </a:solidFill>
              <a:latin typeface="Calibri"/>
            </a:endParaRPr>
          </a:p>
        </p:txBody>
      </p:sp>
      <p:sp>
        <p:nvSpPr>
          <p:cNvPr id="178"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Sites de réseaux sociaux</a:t>
            </a:r>
            <a:endParaRPr b="0" lang="en-US" sz="3200" spc="-1" strike="noStrike">
              <a:solidFill>
                <a:srgbClr val="000000"/>
              </a:solidFill>
              <a:latin typeface="Calibri"/>
            </a:endParaRPr>
          </a:p>
          <a:p>
            <a:pPr lvl="1" marL="727920" indent="-28008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alibri"/>
              </a:rPr>
              <a:t>ID internes</a:t>
            </a:r>
            <a:r>
              <a:rPr b="0" lang="en-US" sz="1600" spc="-1" strike="noStrike">
                <a:solidFill>
                  <a:srgbClr val="000000"/>
                </a:solidFill>
                <a:latin typeface="Calibri"/>
              </a:rPr>
              <a:t>. Ces sites utilisent abondamment les ID pour suivre tout (les utilisateurs, les images, les discussions, les sessions, les groupes, les “j’aime”, “je n’aime pas” etc.) et ces ID sont la plupart du temps liés à des ID internes dont dispose le fournisseur de services. </a:t>
            </a:r>
            <a:br>
              <a:rPr sz="1600"/>
            </a:br>
            <a:r>
              <a:rPr b="0" lang="en-US" sz="1600" spc="-1" strike="noStrike">
                <a:solidFill>
                  <a:srgbClr val="000000"/>
                </a:solidFill>
                <a:latin typeface="Calibri"/>
              </a:rPr>
              <a:t> </a:t>
            </a:r>
            <a:endParaRPr b="0" lang="en-US" sz="1600" spc="-1" strike="noStrike">
              <a:solidFill>
                <a:srgbClr val="000000"/>
              </a:solidFill>
              <a:latin typeface="Calibri"/>
            </a:endParaRPr>
          </a:p>
          <a:p>
            <a:pPr lvl="1" marL="727920" indent="-28008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alibri"/>
              </a:rPr>
              <a:t>Discussions</a:t>
            </a:r>
            <a:r>
              <a:rPr b="0" lang="en-US" sz="1600" spc="-1" strike="noStrike">
                <a:solidFill>
                  <a:srgbClr val="000000"/>
                </a:solidFill>
                <a:latin typeface="Calibri"/>
              </a:rPr>
              <a:t>. Ces sites proposent en général des services de discussion qui, s’ils sont traités de manière adéquate, sont une mine d’informations de grande qualité. Pour l’enquêteur, l’essentiel en ce qui concerne tous les éléments interactifs sur le web est de rassembler le plus possible de données et de ne pas se contenter des résultats obtenus à l’aide de moteurs de recherche,</a:t>
            </a:r>
            <a:endParaRPr b="0" lang="en-US" sz="1600" spc="-1" strike="noStrike">
              <a:solidFill>
                <a:srgbClr val="000000"/>
              </a:solidFill>
              <a:latin typeface="Calibri"/>
            </a:endParaRPr>
          </a:p>
          <a:p>
            <a:pPr lvl="1" marL="727920" indent="-280080">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727920" indent="-28008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Calibri"/>
              </a:rPr>
              <a:t>Images/photos</a:t>
            </a:r>
            <a:r>
              <a:rPr b="0" lang="en-US" sz="1600" spc="-1" strike="noStrike">
                <a:solidFill>
                  <a:srgbClr val="000000"/>
                </a:solidFill>
                <a:latin typeface="Calibri"/>
              </a:rPr>
              <a:t>. Même si des sites pour des profils sensibles commencent à utiliser des filtres de “nettoyage” pour les images téléchargées, l’enquêteur peut encore tomber sur certains sites de réseaux sociaux et autres types de site web qui publient directement des photos téléchargées, et en extraire toutes les métadonnées EXIF pertinentes.</a:t>
            </a:r>
            <a:br>
              <a:rPr sz="1600"/>
            </a:br>
            <a:r>
              <a:rPr b="0" lang="en-US" sz="1600" spc="-1" strike="noStrike">
                <a:solidFill>
                  <a:srgbClr val="000000"/>
                </a:solidFill>
                <a:latin typeface="Calibri"/>
              </a:rPr>
              <a:t> </a:t>
            </a:r>
            <a:endParaRPr b="0" lang="en-US" sz="1600" spc="-1" strike="noStrike">
              <a:solidFill>
                <a:srgbClr val="000000"/>
              </a:solidFill>
              <a:latin typeface="Calibri"/>
            </a:endParaRPr>
          </a:p>
          <a:p>
            <a:pPr marL="335880" indent="-3358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1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2B5259-1C74-4C69-AB3A-498CD781EBA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acebook</a:t>
            </a:r>
            <a:endParaRPr b="0" lang="en-US" sz="4400" spc="-1" strike="noStrike">
              <a:solidFill>
                <a:srgbClr val="000000"/>
              </a:solidFill>
              <a:latin typeface="Calibri"/>
            </a:endParaRPr>
          </a:p>
        </p:txBody>
      </p:sp>
      <p:sp>
        <p:nvSpPr>
          <p:cNvPr id="1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A1B49F-490C-4068-A94B-7224FAF8754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82" name="Picture 9" descr="C:\Users\Marjan\Desktop\Oslo TOT\Fb1.jpg"/>
          <p:cNvPicPr/>
          <p:nvPr/>
        </p:nvPicPr>
        <p:blipFill>
          <a:blip r:embed="rId1"/>
          <a:stretch/>
        </p:blipFill>
        <p:spPr>
          <a:xfrm>
            <a:off x="392040" y="1924200"/>
            <a:ext cx="8294760" cy="4133880"/>
          </a:xfrm>
          <a:prstGeom prst="rect">
            <a:avLst/>
          </a:prstGeom>
          <a:ln w="0">
            <a:noFill/>
          </a:ln>
        </p:spPr>
      </p:pic>
      <p:sp>
        <p:nvSpPr>
          <p:cNvPr id="183" name="Rectangle 2"/>
          <p:cNvSpPr/>
          <p:nvPr/>
        </p:nvSpPr>
        <p:spPr>
          <a:xfrm>
            <a:off x="2938320" y="1141560"/>
            <a:ext cx="457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ff0000"/>
                </a:solidFill>
                <a:latin typeface="inherit"/>
              </a:rPr>
              <a:t>Merci d'adapter au contexte local si possibl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du recueil des preuves</a:t>
            </a:r>
            <a:endParaRPr b="0" lang="en-US" sz="32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rPr>
              <a:t>Après la saisie des preuves, le procureur devra montrer à la Cour que les preuves produites ne sont ni plus ni moins que ce qui avait été saisi à l’origine</a:t>
            </a:r>
            <a:endParaRPr b="0" lang="en-US" sz="2800" spc="-1" strike="noStrike">
              <a:solidFill>
                <a:srgbClr val="000000"/>
              </a:solidFill>
              <a:latin typeface="Calibri"/>
            </a:endParaRPr>
          </a:p>
        </p:txBody>
      </p:sp>
      <p:sp>
        <p:nvSpPr>
          <p:cNvPr id="6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87995A-42FE-43EF-94CF-FC81F1BF610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acebook</a:t>
            </a:r>
            <a:endParaRPr b="0" lang="en-US" sz="4400" spc="-1" strike="noStrike">
              <a:solidFill>
                <a:srgbClr val="000000"/>
              </a:solidFill>
              <a:latin typeface="Calibri"/>
            </a:endParaRPr>
          </a:p>
        </p:txBody>
      </p:sp>
      <p:sp>
        <p:nvSpPr>
          <p:cNvPr id="1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8AFE95-650B-4B50-9664-88783F42116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86" name="Picture 2" descr="C:\Users\Marjan\Desktop\Oslo TOT\Fb2.jpg"/>
          <p:cNvPicPr/>
          <p:nvPr/>
        </p:nvPicPr>
        <p:blipFill>
          <a:blip r:embed="rId1"/>
          <a:stretch/>
        </p:blipFill>
        <p:spPr>
          <a:xfrm>
            <a:off x="380880" y="1684440"/>
            <a:ext cx="8305920" cy="4136760"/>
          </a:xfrm>
          <a:prstGeom prst="rect">
            <a:avLst/>
          </a:prstGeom>
          <a:ln w="0">
            <a:noFill/>
          </a:ln>
        </p:spPr>
      </p:pic>
      <p:sp>
        <p:nvSpPr>
          <p:cNvPr id="187" name="Rectangle 2"/>
          <p:cNvSpPr/>
          <p:nvPr/>
        </p:nvSpPr>
        <p:spPr>
          <a:xfrm>
            <a:off x="2565360" y="1170000"/>
            <a:ext cx="457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ff0000"/>
                </a:solidFill>
                <a:latin typeface="inherit"/>
              </a:rPr>
              <a:t>Merci d'adapter au contexte local si possibl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7491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acebook</a:t>
            </a:r>
            <a:endParaRPr b="0" lang="en-US" sz="4400" spc="-1" strike="noStrike">
              <a:solidFill>
                <a:srgbClr val="000000"/>
              </a:solidFill>
              <a:latin typeface="Calibri"/>
            </a:endParaRPr>
          </a:p>
        </p:txBody>
      </p:sp>
      <p:pic>
        <p:nvPicPr>
          <p:cNvPr id="189" name="" descr=""/>
          <p:cNvPicPr/>
          <p:nvPr/>
        </p:nvPicPr>
        <p:blipFill>
          <a:blip r:embed="rId1"/>
          <a:stretch/>
        </p:blipFill>
        <p:spPr>
          <a:xfrm>
            <a:off x="457200" y="1600200"/>
            <a:ext cx="8229600" cy="4525920"/>
          </a:xfrm>
          <a:prstGeom prst="rect">
            <a:avLst/>
          </a:prstGeom>
          <a:ln w="0">
            <a:noFill/>
          </a:ln>
        </p:spPr>
      </p:pic>
      <p:sp>
        <p:nvSpPr>
          <p:cNvPr id="1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9F3635-A26B-4151-AEBD-5CDB12BE4E2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91" name="Picture 10" descr="C:\Users\Marjan\Desktop\Oslo TOT\Fb3.jpg"/>
          <p:cNvPicPr/>
          <p:nvPr/>
        </p:nvPicPr>
        <p:blipFill>
          <a:blip r:embed="rId2"/>
          <a:stretch/>
        </p:blipFill>
        <p:spPr>
          <a:xfrm>
            <a:off x="457200" y="1600200"/>
            <a:ext cx="8327880" cy="4179960"/>
          </a:xfrm>
          <a:prstGeom prst="rect">
            <a:avLst/>
          </a:prstGeom>
          <a:ln w="0">
            <a:noFill/>
          </a:ln>
        </p:spPr>
      </p:pic>
      <p:sp>
        <p:nvSpPr>
          <p:cNvPr id="192" name="Rectangle 1"/>
          <p:cNvSpPr/>
          <p:nvPr/>
        </p:nvSpPr>
        <p:spPr>
          <a:xfrm>
            <a:off x="2398680" y="930240"/>
            <a:ext cx="457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ff0000"/>
                </a:solidFill>
                <a:latin typeface="inherit"/>
              </a:rPr>
              <a:t>Merci d'adapter au contexte local si possibl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artes sur Bing</a:t>
            </a:r>
            <a:endParaRPr b="0" lang="en-US" sz="4400" spc="-1" strike="noStrike">
              <a:solidFill>
                <a:srgbClr val="000000"/>
              </a:solidFill>
              <a:latin typeface="Calibri"/>
            </a:endParaRPr>
          </a:p>
        </p:txBody>
      </p:sp>
      <p:sp>
        <p:nvSpPr>
          <p:cNvPr id="19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E9445F-EE22-4830-A138-18C20433E5E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95" name="Picture 4" descr="C:\Users\Marjan\Desktop\Oslo TOT\map1.jpg"/>
          <p:cNvPicPr/>
          <p:nvPr/>
        </p:nvPicPr>
        <p:blipFill>
          <a:blip r:embed="rId1"/>
          <a:stretch/>
        </p:blipFill>
        <p:spPr>
          <a:xfrm>
            <a:off x="457200" y="1860480"/>
            <a:ext cx="8261280" cy="3903840"/>
          </a:xfrm>
          <a:prstGeom prst="rect">
            <a:avLst/>
          </a:prstGeom>
          <a:ln w="0">
            <a:noFill/>
          </a:ln>
        </p:spPr>
      </p:pic>
      <p:sp>
        <p:nvSpPr>
          <p:cNvPr id="196" name="Rectangle 1"/>
          <p:cNvSpPr/>
          <p:nvPr/>
        </p:nvSpPr>
        <p:spPr>
          <a:xfrm>
            <a:off x="2503440" y="1193760"/>
            <a:ext cx="457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ff0000"/>
                </a:solidFill>
                <a:latin typeface="inherit"/>
              </a:rPr>
              <a:t>Merci d'adapter au contexte local si possibl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60"/>
            <a:ext cx="8229600" cy="9399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artes sur Bing</a:t>
            </a:r>
            <a:br>
              <a:rPr sz="4400"/>
            </a:br>
            <a:endParaRPr b="0" lang="en-US" sz="4400" spc="-1" strike="noStrike">
              <a:solidFill>
                <a:srgbClr val="000000"/>
              </a:solidFill>
              <a:latin typeface="Calibri"/>
            </a:endParaRPr>
          </a:p>
        </p:txBody>
      </p:sp>
      <p:pic>
        <p:nvPicPr>
          <p:cNvPr id="198" name="" descr=""/>
          <p:cNvPicPr/>
          <p:nvPr/>
        </p:nvPicPr>
        <p:blipFill>
          <a:blip r:embed="rId1"/>
          <a:stretch/>
        </p:blipFill>
        <p:spPr>
          <a:xfrm>
            <a:off x="457200" y="1600200"/>
            <a:ext cx="8229600" cy="4525920"/>
          </a:xfrm>
          <a:prstGeom prst="rect">
            <a:avLst/>
          </a:prstGeom>
          <a:ln w="0">
            <a:noFill/>
          </a:ln>
        </p:spPr>
      </p:pic>
      <p:sp>
        <p:nvSpPr>
          <p:cNvPr id="1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497FF1-5213-4348-8AE7-BB8D2DFA39D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200" name="Picture 6" descr="C:\Users\Marjan\Desktop\Oslo TOT\map2.jpg"/>
          <p:cNvPicPr/>
          <p:nvPr/>
        </p:nvPicPr>
        <p:blipFill>
          <a:blip r:embed="rId2"/>
          <a:stretch/>
        </p:blipFill>
        <p:spPr>
          <a:xfrm>
            <a:off x="457200" y="1417680"/>
            <a:ext cx="8229600" cy="4376520"/>
          </a:xfrm>
          <a:prstGeom prst="rect">
            <a:avLst/>
          </a:prstGeom>
          <a:ln w="0">
            <a:noFill/>
          </a:ln>
        </p:spPr>
      </p:pic>
      <p:sp>
        <p:nvSpPr>
          <p:cNvPr id="201" name="Rectangle 1"/>
          <p:cNvSpPr/>
          <p:nvPr/>
        </p:nvSpPr>
        <p:spPr>
          <a:xfrm>
            <a:off x="2468520" y="544680"/>
            <a:ext cx="457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ff0000"/>
                </a:solidFill>
                <a:latin typeface="inherit"/>
              </a:rPr>
              <a:t>Merci d'adapter au contexte local si possibl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351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artes sur Bing</a:t>
            </a:r>
            <a:endParaRPr b="0" lang="en-US" sz="4400" spc="-1" strike="noStrike">
              <a:solidFill>
                <a:srgbClr val="000000"/>
              </a:solidFill>
              <a:latin typeface="Calibri"/>
            </a:endParaRPr>
          </a:p>
        </p:txBody>
      </p:sp>
      <p:pic>
        <p:nvPicPr>
          <p:cNvPr id="203" name="" descr=""/>
          <p:cNvPicPr/>
          <p:nvPr/>
        </p:nvPicPr>
        <p:blipFill>
          <a:blip r:embed="rId1"/>
          <a:stretch/>
        </p:blipFill>
        <p:spPr>
          <a:xfrm>
            <a:off x="457200" y="1600200"/>
            <a:ext cx="8229600" cy="4525920"/>
          </a:xfrm>
          <a:prstGeom prst="rect">
            <a:avLst/>
          </a:prstGeom>
          <a:ln w="0">
            <a:noFill/>
          </a:ln>
        </p:spPr>
      </p:pic>
      <p:sp>
        <p:nvSpPr>
          <p:cNvPr id="2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8CF821-AAC2-4663-A8C4-862F221B178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205" name="Picture 7" descr="C:\Users\Marjan\Desktop\Oslo TOT\map3.jpg"/>
          <p:cNvPicPr/>
          <p:nvPr/>
        </p:nvPicPr>
        <p:blipFill>
          <a:blip r:embed="rId2"/>
          <a:stretch/>
        </p:blipFill>
        <p:spPr>
          <a:xfrm>
            <a:off x="457200" y="1455840"/>
            <a:ext cx="8229600" cy="4379760"/>
          </a:xfrm>
          <a:prstGeom prst="rect">
            <a:avLst/>
          </a:prstGeom>
          <a:ln w="0">
            <a:noFill/>
          </a:ln>
        </p:spPr>
      </p:pic>
      <p:sp>
        <p:nvSpPr>
          <p:cNvPr id="206" name="Rectangle 1"/>
          <p:cNvSpPr/>
          <p:nvPr/>
        </p:nvSpPr>
        <p:spPr>
          <a:xfrm>
            <a:off x="2355840" y="925560"/>
            <a:ext cx="457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ff0000"/>
                </a:solidFill>
                <a:latin typeface="inherit"/>
              </a:rPr>
              <a:t>Merci d'adapter au contexte local si possibl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680"/>
            <a:ext cx="8229600" cy="91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artes Google</a:t>
            </a:r>
            <a:endParaRPr b="0" lang="en-US" sz="4400" spc="-1" strike="noStrike">
              <a:solidFill>
                <a:srgbClr val="000000"/>
              </a:solidFill>
              <a:latin typeface="Calibri"/>
            </a:endParaRPr>
          </a:p>
        </p:txBody>
      </p:sp>
      <p:pic>
        <p:nvPicPr>
          <p:cNvPr id="208" name="" descr=""/>
          <p:cNvPicPr/>
          <p:nvPr/>
        </p:nvPicPr>
        <p:blipFill>
          <a:blip r:embed="rId1"/>
          <a:stretch/>
        </p:blipFill>
        <p:spPr>
          <a:xfrm>
            <a:off x="457200" y="1600200"/>
            <a:ext cx="8229600" cy="4525920"/>
          </a:xfrm>
          <a:prstGeom prst="rect">
            <a:avLst/>
          </a:prstGeom>
          <a:ln w="0">
            <a:noFill/>
          </a:ln>
        </p:spPr>
      </p:pic>
      <p:sp>
        <p:nvSpPr>
          <p:cNvPr id="2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017B9A-BD7B-4668-BC17-A0BC508B4D9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210" name="Picture 4" descr="C:\Users\Marjan\Desktop\Oslo TOT\gmap.jpg"/>
          <p:cNvPicPr/>
          <p:nvPr/>
        </p:nvPicPr>
        <p:blipFill>
          <a:blip r:embed="rId2"/>
          <a:stretch/>
        </p:blipFill>
        <p:spPr>
          <a:xfrm>
            <a:off x="457200" y="1600200"/>
            <a:ext cx="8356680" cy="4114800"/>
          </a:xfrm>
          <a:prstGeom prst="rect">
            <a:avLst/>
          </a:prstGeom>
          <a:ln w="0">
            <a:noFill/>
          </a:ln>
        </p:spPr>
      </p:pic>
      <p:sp>
        <p:nvSpPr>
          <p:cNvPr id="211" name="Rectangle 1"/>
          <p:cNvSpPr/>
          <p:nvPr/>
        </p:nvSpPr>
        <p:spPr>
          <a:xfrm>
            <a:off x="2286000" y="981000"/>
            <a:ext cx="457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ff0000"/>
                </a:solidFill>
                <a:latin typeface="inherit"/>
              </a:rPr>
              <a:t>Merci d'adapter au contexte local si possibl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treet view</a:t>
            </a:r>
            <a:endParaRPr b="0" lang="en-US" sz="4400" spc="-1" strike="noStrike">
              <a:solidFill>
                <a:srgbClr val="000000"/>
              </a:solidFill>
              <a:latin typeface="Calibri"/>
            </a:endParaRPr>
          </a:p>
        </p:txBody>
      </p:sp>
      <p:sp>
        <p:nvSpPr>
          <p:cNvPr id="2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0D7C1B-CC91-4F1C-AEFE-D2474AC87A7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214" name="Picture 8" descr="C:\Users\Marjan\Desktop\Oslo TOT\strview.jpg"/>
          <p:cNvPicPr/>
          <p:nvPr/>
        </p:nvPicPr>
        <p:blipFill>
          <a:blip r:embed="rId1"/>
          <a:stretch/>
        </p:blipFill>
        <p:spPr>
          <a:xfrm>
            <a:off x="457200" y="2111400"/>
            <a:ext cx="8273880" cy="3821040"/>
          </a:xfrm>
          <a:prstGeom prst="rect">
            <a:avLst/>
          </a:prstGeom>
          <a:ln w="0">
            <a:noFill/>
          </a:ln>
        </p:spPr>
      </p:pic>
      <p:sp>
        <p:nvSpPr>
          <p:cNvPr id="215" name="Rectangle 1"/>
          <p:cNvSpPr/>
          <p:nvPr/>
        </p:nvSpPr>
        <p:spPr>
          <a:xfrm>
            <a:off x="2308320" y="1252440"/>
            <a:ext cx="457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ff0000"/>
                </a:solidFill>
                <a:latin typeface="inherit"/>
              </a:rPr>
              <a:t>Merci d'adapter au contexte local si possibl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3A9B59-0C1D-46E0-8DF0-CF22A3C87E9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grpSp>
        <p:nvGrpSpPr>
          <p:cNvPr id="217" name="Group 2"/>
          <p:cNvGrpSpPr/>
          <p:nvPr/>
        </p:nvGrpSpPr>
        <p:grpSpPr>
          <a:xfrm>
            <a:off x="2828880" y="457200"/>
            <a:ext cx="3673440" cy="5977080"/>
            <a:chOff x="2828880" y="457200"/>
            <a:chExt cx="3673440" cy="5977080"/>
          </a:xfrm>
        </p:grpSpPr>
        <p:sp>
          <p:nvSpPr>
            <p:cNvPr id="218"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AutoShape 4"/>
            <p:cNvSpPr/>
            <p:nvPr/>
          </p:nvSpPr>
          <p:spPr>
            <a:xfrm>
              <a:off x="2828880" y="872640"/>
              <a:ext cx="3668760" cy="5538240"/>
            </a:xfrm>
            <a:custGeom>
              <a:avLst/>
              <a:gdLst>
                <a:gd name="textAreaLeft" fmla="*/ 26280 w 3668760"/>
                <a:gd name="textAreaRight" fmla="*/ 3642480 w 3668760"/>
                <a:gd name="textAreaTop" fmla="*/ 26280 h 5538240"/>
                <a:gd name="textAreaBottom" fmla="*/ 5511960 h 5538240"/>
              </a:gdLst>
              <a:ahLst/>
              <a:rect l="textAreaLeft" t="textAreaTop" r="textAreaRight" b="textAreaBottom"/>
              <a:pathLst>
                <a:path w="21600" h="32606">
                  <a:moveTo>
                    <a:pt x="532" y="0"/>
                  </a:moveTo>
                  <a:arcTo wR="532" hR="532" stAng="16200000" swAng="-5400000"/>
                  <a:lnTo>
                    <a:pt x="0" y="32074"/>
                  </a:lnTo>
                  <a:arcTo wR="532" hR="532" stAng="10800000" swAng="-5400000"/>
                  <a:lnTo>
                    <a:pt x="21068" y="32606"/>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0"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1" name="Freeform 6"/>
            <p:cNvSpPr/>
            <p:nvPr/>
          </p:nvSpPr>
          <p:spPr>
            <a:xfrm>
              <a:off x="2921760" y="872640"/>
              <a:ext cx="3506760" cy="181800"/>
            </a:xfrm>
            <a:custGeom>
              <a:avLst/>
              <a:gdLst/>
              <a:ahLst/>
              <a:rect l="l" t="t" r="r" b="b"/>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3"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2"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3"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4"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5"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6"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8"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9"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0"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1"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2"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3"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4"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5"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6"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7"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9"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1"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2"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3"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4"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5"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6"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7"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8"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9"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0"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1"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62" name="TextBox 48"/>
          <p:cNvSpPr/>
          <p:nvPr/>
        </p:nvSpPr>
        <p:spPr>
          <a:xfrm>
            <a:off x="3144960" y="2881440"/>
            <a:ext cx="30686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3200" spc="-1" strike="noStrike">
                <a:solidFill>
                  <a:srgbClr val="122031"/>
                </a:solidFill>
                <a:latin typeface="Calibri"/>
              </a:rPr>
              <a:t>Préparation</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3200" spc="-1" strike="noStrike">
                <a:solidFill>
                  <a:srgbClr val="122031"/>
                </a:solidFill>
                <a:latin typeface="Calibri"/>
              </a:rPr>
              <a:t>et</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planific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Q&amp;R</a:t>
            </a:r>
            <a:endParaRPr b="0" lang="en-US" sz="4400" spc="-1" strike="noStrike">
              <a:solidFill>
                <a:srgbClr val="000000"/>
              </a:solidFill>
              <a:latin typeface="Calibri"/>
            </a:endParaRPr>
          </a:p>
        </p:txBody>
      </p:sp>
      <p:sp>
        <p:nvSpPr>
          <p:cNvPr id="264" name=""/>
          <p:cNvSpPr txBox="1"/>
          <p:nvPr/>
        </p:nvSpPr>
        <p:spPr>
          <a:xfrm>
            <a:off x="456840" y="1600200"/>
            <a:ext cx="84582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après votre expérience, parmi les mesures ci-dessous, lesquelles prendriez-vous pour préserver des preuves issues d’un environnement informatique ? </a:t>
            </a:r>
            <a:endParaRPr b="0" lang="en-US" sz="28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a:t>
            </a:r>
            <a:r>
              <a:rPr b="0" lang="en-US" sz="2000" spc="-1" strike="noStrike">
                <a:solidFill>
                  <a:srgbClr val="000000"/>
                </a:solidFill>
                <a:latin typeface="Calibri"/>
              </a:rPr>
              <a:t>	</a:t>
            </a:r>
            <a:r>
              <a:rPr b="0" lang="en-US" sz="2000" spc="-1" strike="noStrike">
                <a:solidFill>
                  <a:srgbClr val="000000"/>
                </a:solidFill>
                <a:latin typeface="Calibri"/>
              </a:rPr>
              <a:t>Enregistrer toutes les actions menées concernant les </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preuves électroniques</a:t>
            </a: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emander au suspect de rechercher les informations que vous voulez sur son ordinateur</a:t>
            </a: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emander au suspect d’éteindre le système informatique pour vous</a:t>
            </a: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Vous assurer que tout le travail est effectué par du personnel qualifié </a:t>
            </a: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ans toute la mesure du possible, ne pas exécuter d’opérations inutile sur l’ordinateur</a:t>
            </a:r>
            <a:endParaRPr b="0" lang="en-US" sz="2000" spc="-1" strike="noStrike">
              <a:solidFill>
                <a:srgbClr val="000000"/>
              </a:solidFill>
              <a:latin typeface="Calibri"/>
            </a:endParaRPr>
          </a:p>
        </p:txBody>
      </p:sp>
      <p:sp>
        <p:nvSpPr>
          <p:cNvPr id="2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4144F8-CCDC-466B-BD2D-75541C72302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oints à envisager</a:t>
            </a:r>
            <a:endParaRPr b="0" lang="en-US" sz="4400" spc="-1" strike="noStrike">
              <a:solidFill>
                <a:srgbClr val="000000"/>
              </a:solidFill>
              <a:latin typeface="Calibri"/>
            </a:endParaRPr>
          </a:p>
        </p:txBody>
      </p:sp>
      <p:sp>
        <p:nvSpPr>
          <p:cNvPr id="26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Un système pouvant contenir des preuves potentielles doit être protégé contre toute altération, les preuves potentielles ne peuvent pas être changé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st-on en présence de circonstances exceptionnelles qui nécessitent des actes autres que ceux prévus par la procédure standard de saisie ?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e processus est-il soumis à des contraintes de temp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st-on en présence d’obstacles au processus ou de risques potentiels de limitations ?</a:t>
            </a:r>
            <a:endParaRPr b="0" lang="en-US" sz="2400" spc="-1" strike="noStrike">
              <a:solidFill>
                <a:srgbClr val="000000"/>
              </a:solidFill>
              <a:latin typeface="Calibri"/>
            </a:endParaRPr>
          </a:p>
        </p:txBody>
      </p:sp>
      <p:sp>
        <p:nvSpPr>
          <p:cNvPr id="2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CC22D2-ADE6-4283-A8F5-76DFCD91143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incipe 1 – Intégrité des données</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ucune des actions entreprises ne doit introduire de changements dans des dispositifs ou supports électroniques pouvant par la suite être présentés en justice comme pièces à convic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ors du traitement de dispositifs et de données électroniques, aucun changement ne doit être introduit, ni au niveau matériel, ni au niveau logiciel.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Dans certaines circonstances, il sera décidé d’accéder aux données sur un système informatique en fonctionnement pour éviter la perte de preuves potentielle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879EA1-A46B-45EC-B30C-545A9D36FE6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éthodologie globale</a:t>
            </a:r>
            <a:endParaRPr b="0" lang="en-US" sz="4400" spc="-1" strike="noStrike">
              <a:solidFill>
                <a:srgbClr val="000000"/>
              </a:solidFill>
              <a:latin typeface="Calibri"/>
            </a:endParaRPr>
          </a:p>
        </p:txBody>
      </p:sp>
      <p:sp>
        <p:nvSpPr>
          <p:cNvPr id="27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lanification préalable à la perquisi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cherche d’informations dans les bases de données national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cherche d’informations en source ouvert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Observation en parallèle et analys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Mise en oeuvre des procédures d’acquisition de donné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écurisation de l’acquisition de données à des fins d’authentification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ompilation d’une piste d’audit des décisions et actions</a:t>
            </a:r>
            <a:endParaRPr b="0" lang="en-US" sz="2400" spc="-1" strike="noStrike">
              <a:solidFill>
                <a:srgbClr val="000000"/>
              </a:solidFill>
              <a:latin typeface="Calibri"/>
            </a:endParaRPr>
          </a:p>
        </p:txBody>
      </p:sp>
      <p:sp>
        <p:nvSpPr>
          <p:cNvPr id="2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A3C7C8-C08C-463B-BCAE-7AB1F65E414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ogramme des opérations</a:t>
            </a:r>
            <a:endParaRPr b="0" lang="en-US" sz="4400" spc="-1" strike="noStrike">
              <a:solidFill>
                <a:srgbClr val="000000"/>
              </a:solidFill>
              <a:latin typeface="Calibri"/>
            </a:endParaRPr>
          </a:p>
        </p:txBody>
      </p:sp>
      <p:sp>
        <p:nvSpPr>
          <p:cNvPr id="273" name=""/>
          <p:cNvSpPr txBox="1"/>
          <p:nvPr/>
        </p:nvSpPr>
        <p:spPr>
          <a:xfrm>
            <a:off x="457200" y="1600200"/>
            <a:ext cx="84139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réparation d’un Programme des opérations durant le processus de préparation dans le servic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Description de la nature du déli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Description du rôle des preuves électroniques dans le déli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Description des responsabilités de chacun </a:t>
            </a:r>
            <a:r>
              <a:rPr b="0" lang="en-US" sz="2400" spc="-1" strike="noStrike">
                <a:solidFill>
                  <a:srgbClr val="000000"/>
                </a:solidFill>
                <a:latin typeface="Calibri"/>
              </a:rPr>
              <a:t>(liste des tâch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Description de la manière dont seront traitées les preuves électroniqu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Description des limites de la perquisition et de la saisie </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Se préparer à l’inattendu -</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388EDC-9DC5-41CB-B0AC-A2A86CC811D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lanification</a:t>
            </a:r>
            <a:endParaRPr b="0" lang="en-US" sz="4400" spc="-1" strike="noStrike">
              <a:solidFill>
                <a:srgbClr val="000000"/>
              </a:solidFill>
              <a:latin typeface="Calibri"/>
            </a:endParaRPr>
          </a:p>
        </p:txBody>
      </p:sp>
      <p:sp>
        <p:nvSpPr>
          <p:cNvPr id="27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En fonction des informations dont nous disposons sur le suspect, nous planifions la perquisition et décidons du moment auquel elle va démarrer. </a:t>
            </a:r>
            <a:endParaRPr b="0" lang="en-US" sz="24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      </a:t>
            </a:r>
            <a:r>
              <a:rPr b="0" lang="en-GB" sz="2800" spc="-1" strike="noStrike">
                <a:solidFill>
                  <a:srgbClr val="000000"/>
                </a:solidFill>
                <a:latin typeface="Calibri"/>
              </a:rPr>
              <a:t>- Briefing et affectation des responsabilités :</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Equipe de perquisition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Equipe scientifique forensiqu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2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D6F9F3-21B5-4950-A0AE-F2DF2CFAC58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lanification</a:t>
            </a:r>
            <a:endParaRPr b="0" lang="en-US" sz="4400" spc="-1" strike="noStrike">
              <a:solidFill>
                <a:srgbClr val="000000"/>
              </a:solidFill>
              <a:latin typeface="Calibri"/>
            </a:endParaRPr>
          </a:p>
        </p:txBody>
      </p:sp>
      <p:sp>
        <p:nvSpPr>
          <p:cNvPr id="279" name=""/>
          <p:cNvSpPr txBox="1"/>
          <p:nvPr/>
        </p:nvSpPr>
        <p:spPr>
          <a:xfrm>
            <a:off x="457200" y="1473120"/>
            <a:ext cx="8229600" cy="4525920"/>
          </a:xfrm>
          <a:prstGeom prst="rect">
            <a:avLst/>
          </a:prstGeom>
          <a:noFill/>
          <a:ln w="0">
            <a:noFill/>
          </a:ln>
        </p:spPr>
        <p:txBody>
          <a:bodyPr anchor="t">
            <a:normAutofit/>
          </a:bodyPr>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Calibri"/>
              </a:rPr>
              <a:t>L’équipe responsable de la perquisition  </a:t>
            </a:r>
            <a:r>
              <a:rPr b="0" lang="en-GB" sz="1800" spc="-1" strike="noStrike">
                <a:solidFill>
                  <a:srgbClr val="000000"/>
                </a:solidFill>
                <a:latin typeface="Calibri"/>
              </a:rPr>
              <a:t>est chargée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d’obtenir le mandat judiciaire pertinent (mandat de perquisition) pour pénétrer dans les lieux, perquisitionner et examiner l’équipement qui s’y trouve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d’accéder à l’ordinateur et aux support de stockage sur lesquels se trouvent des preuves, de les fouiller  et de sécuriser ces derniers et les preuves pour éviter toute altération ou endommagement ;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d’identifier les supports de stockage ;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d’emballer de manière sécurisée les appareils électroniques ;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de fouiller les personnes présentes et de saisir les équipements trouvés ;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de remplir la documentation nécessaire ;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de consigner chaque étape et chaque situation durant la pénétration dans les lieux et la perquisition</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d’arrêter la personn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42665B-5EE5-4825-8E89-B1D76CB25E1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lanification</a:t>
            </a:r>
            <a:endParaRPr b="0" lang="en-US" sz="4400" spc="-1" strike="noStrike">
              <a:solidFill>
                <a:srgbClr val="000000"/>
              </a:solidFill>
              <a:latin typeface="Calibri"/>
            </a:endParaRPr>
          </a:p>
        </p:txBody>
      </p:sp>
      <p:sp>
        <p:nvSpPr>
          <p:cNvPr id="282" name=""/>
          <p:cNvSpPr txBox="1"/>
          <p:nvPr/>
        </p:nvSpPr>
        <p:spPr>
          <a:xfrm>
            <a:off x="457200" y="1600200"/>
            <a:ext cx="8229600" cy="4525920"/>
          </a:xfrm>
          <a:prstGeom prst="rect">
            <a:avLst/>
          </a:prstGeom>
          <a:noFill/>
          <a:ln w="0">
            <a:noFill/>
          </a:ln>
        </p:spPr>
        <p:txBody>
          <a:bodyPr anchor="t">
            <a:normAutofit/>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00000"/>
                </a:solidFill>
                <a:latin typeface="Calibri"/>
              </a:rPr>
              <a:t>L’équipe scientifique forensique </a:t>
            </a:r>
            <a:r>
              <a:rPr b="0" lang="en-GB" sz="1600" spc="-1" strike="noStrike">
                <a:solidFill>
                  <a:srgbClr val="000000"/>
                </a:solidFill>
                <a:latin typeface="Calibri"/>
              </a:rPr>
              <a:t>est chargée de préparer tout l’équipement et les appareils nécessaires pour consigner l’état des appareils informatiques et procéder au recueil de données à chaud, et notamment :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Calibri"/>
              </a:rPr>
              <a:t> </a:t>
            </a:r>
            <a:r>
              <a:rPr b="0" lang="en-GB" sz="1600" spc="-1" strike="noStrike">
                <a:solidFill>
                  <a:srgbClr val="000000"/>
                </a:solidFill>
                <a:latin typeface="Calibri"/>
              </a:rPr>
              <a:t>les outils nécessaires – CD, USC, ordinateurs portables</a:t>
            </a:r>
            <a:endParaRPr b="0" lang="en-US" sz="1600" spc="-1" strike="noStrike">
              <a:solidFill>
                <a:srgbClr val="000000"/>
              </a:solidFill>
              <a:latin typeface="Calibri"/>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Calibri"/>
              </a:rPr>
              <a:t> </a:t>
            </a:r>
            <a:r>
              <a:rPr b="0" lang="en-GB" sz="1600" spc="-1" strike="noStrike">
                <a:solidFill>
                  <a:srgbClr val="000000"/>
                </a:solidFill>
                <a:latin typeface="Calibri"/>
              </a:rPr>
              <a:t>des CD spécifiques pour l’analyse forensique de données à chaud et des clés USB vierges pour y sauvegarder les informations ainsi recueillies </a:t>
            </a:r>
            <a:endParaRPr b="0" lang="en-US" sz="1600" spc="-1" strike="noStrike">
              <a:solidFill>
                <a:srgbClr val="000000"/>
              </a:solidFill>
              <a:latin typeface="Calibri"/>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Calibri"/>
              </a:rPr>
              <a:t> </a:t>
            </a:r>
            <a:r>
              <a:rPr b="0" lang="en-GB" sz="1600" spc="-1" strike="noStrike">
                <a:solidFill>
                  <a:srgbClr val="000000"/>
                </a:solidFill>
                <a:latin typeface="Calibri"/>
              </a:rPr>
              <a:t>des clés USB pour le déchargement de la mémoire RAM de l’ordinateur </a:t>
            </a:r>
            <a:endParaRPr b="0" lang="en-US" sz="1600" spc="-1" strike="noStrike">
              <a:solidFill>
                <a:srgbClr val="000000"/>
              </a:solidFill>
              <a:latin typeface="Calibri"/>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Calibri"/>
              </a:rPr>
              <a:t> </a:t>
            </a:r>
            <a:r>
              <a:rPr b="0" lang="en-GB" sz="1600" spc="-1" strike="noStrike">
                <a:solidFill>
                  <a:srgbClr val="000000"/>
                </a:solidFill>
                <a:latin typeface="Calibri"/>
              </a:rPr>
              <a:t>un bloc d’alimentation qui permet d’assurer qu’un ordinateurcrypté reste en permanence sous tension</a:t>
            </a:r>
            <a:endParaRPr b="0" lang="en-US" sz="1600" spc="-1" strike="noStrike">
              <a:solidFill>
                <a:srgbClr val="000000"/>
              </a:solidFill>
              <a:latin typeface="Calibri"/>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Calibri"/>
              </a:rPr>
              <a:t> </a:t>
            </a:r>
            <a:r>
              <a:rPr b="0" lang="en-GB" sz="1600" spc="-1" strike="noStrike">
                <a:solidFill>
                  <a:srgbClr val="000000"/>
                </a:solidFill>
                <a:latin typeface="Calibri"/>
              </a:rPr>
              <a:t>des supports de stockage (les dispositifs doivent être propres et “stérilisés”)</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Calibri"/>
              </a:rPr>
              <a:t>	</a:t>
            </a:r>
            <a:r>
              <a:rPr b="0" lang="en-GB" sz="1600" spc="-1" strike="noStrike">
                <a:solidFill>
                  <a:srgbClr val="000000"/>
                </a:solidFill>
                <a:latin typeface="Calibri"/>
              </a:rPr>
              <a:t>L’équipe scientifique forensique est chargée de définir une procédure pour l’examen mais aussi le test de tous les outils qu’il est envisagé d’utiliser, lesquels doivent être préparés pour permettre le stockage propre et sécurisé.</a:t>
            </a:r>
            <a:endParaRPr b="0" lang="en-US" sz="1600" spc="-1" strike="noStrike">
              <a:solidFill>
                <a:srgbClr val="000000"/>
              </a:solidFill>
              <a:latin typeface="Calibri"/>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2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93A919-AC24-4CA4-920E-3BB470B4B7D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F925AC-C2C9-4204-B42F-209C7649254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85"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réparation et planification</a:t>
            </a:r>
            <a:endParaRPr b="0" lang="en-US" sz="4000" spc="-1" strike="noStrike">
              <a:solidFill>
                <a:srgbClr val="000000"/>
              </a:solidFill>
              <a:latin typeface="Calibri"/>
            </a:endParaRPr>
          </a:p>
        </p:txBody>
      </p:sp>
      <p:sp>
        <p:nvSpPr>
          <p:cNvPr id="286" name=""/>
          <p:cNvSpPr txBox="1"/>
          <p:nvPr/>
        </p:nvSpPr>
        <p:spPr>
          <a:xfrm>
            <a:off x="457200" y="1275840"/>
            <a:ext cx="8229600" cy="521028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Il est essentiel de préparer et planifier soigneusement une activité, et de prendre en compre un certain nombre d’élements, notamment :</a:t>
            </a: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e lieu où les données sont stockées</a:t>
            </a: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e degré de sophistication du suspect </a:t>
            </a: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es éventuelles autres sources d’obtention des mêmes données, ou sources complémentaires pour renforcer les preuves </a:t>
            </a: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e choix tactique de récupérer les données auprès du suspect ou d’un autre détenteur</a:t>
            </a: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420C96-BB70-42CE-887A-384EDF0A4A8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88"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réparation et planification</a:t>
            </a:r>
            <a:endParaRPr b="0" lang="en-US" sz="4000" spc="-1" strike="noStrike">
              <a:solidFill>
                <a:srgbClr val="000000"/>
              </a:solidFill>
              <a:latin typeface="Calibri"/>
            </a:endParaRPr>
          </a:p>
        </p:txBody>
      </p:sp>
      <p:sp>
        <p:nvSpPr>
          <p:cNvPr id="289" name=""/>
          <p:cNvSpPr txBox="1"/>
          <p:nvPr/>
        </p:nvSpPr>
        <p:spPr>
          <a:xfrm>
            <a:off x="457200" y="1275840"/>
            <a:ext cx="8229600" cy="5210280"/>
          </a:xfrm>
          <a:prstGeom prst="rect">
            <a:avLst/>
          </a:prstGeom>
          <a:noFill/>
          <a:ln w="0">
            <a:noFill/>
          </a:ln>
        </p:spPr>
        <p:txBody>
          <a:bodyPr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Lieu de stockage des données</a:t>
            </a:r>
            <a:endParaRPr b="0" lang="en-US" sz="28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l n’est pas inhabituel que des données soient stockées en un lieu qui n’est pas celui où se trouve l’équipement. Il faut donc savoir où peuvent être stockée des données présentant un intérêt, puisque :</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accès aux données peut exiger une autorisation judiciaire supplémentaire, en particulier si celles-ci sont stockées dans une autre juridiction, </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l se peut que des techniques supplémentaires soient requises pour garantir la préservation de l’intégrité des données et pouvoir le prouver. </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AD7FE1-3DA0-40EC-B81D-EDF6B16F25B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91"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réparation et planification</a:t>
            </a:r>
            <a:endParaRPr b="0" lang="en-US" sz="4000" spc="-1" strike="noStrike">
              <a:solidFill>
                <a:srgbClr val="000000"/>
              </a:solidFill>
              <a:latin typeface="Calibri"/>
            </a:endParaRPr>
          </a:p>
        </p:txBody>
      </p:sp>
      <p:sp>
        <p:nvSpPr>
          <p:cNvPr id="292" name="Content Placeholder 2"/>
          <p:cNvSpPr/>
          <p:nvPr/>
        </p:nvSpPr>
        <p:spPr>
          <a:xfrm>
            <a:off x="457200" y="1235160"/>
            <a:ext cx="8512200" cy="4890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ea typeface="Arial"/>
              </a:rPr>
              <a:t>Degré de sophistication du suspect</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0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rassembler le plus possible d’informations sur le suspect, ses capacités et ses compétences</a:t>
            </a:r>
            <a:endParaRPr b="0" lang="en-US" sz="2400" spc="-1" strike="noStrike">
              <a:solidFill>
                <a:srgbClr val="000000"/>
              </a:solidFill>
              <a:latin typeface="Arial"/>
            </a:endParaRPr>
          </a:p>
          <a:p>
            <a:pPr lvl="1" marL="457200">
              <a:lnSpc>
                <a:spcPct val="10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utilisation d’un logiciel de cryptage </a:t>
            </a:r>
            <a:endParaRPr b="0" lang="en-US" sz="2400" spc="-1" strike="noStrike">
              <a:solidFill>
                <a:srgbClr val="000000"/>
              </a:solidFill>
              <a:latin typeface="Arial"/>
            </a:endParaRPr>
          </a:p>
          <a:p>
            <a:pPr lvl="1" marL="457200">
              <a:lnSpc>
                <a:spcPct val="10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utilisation de moyens de stockage à distance </a:t>
            </a:r>
            <a:endParaRPr b="0" lang="en-US" sz="24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a:lnSpc>
                <a:spcPct val="10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recueillir des informations sur ses activités habituelles sur Internet </a:t>
            </a:r>
            <a:endParaRPr b="0" lang="en-US" sz="2400" spc="-1" strike="noStrike">
              <a:solidFill>
                <a:srgbClr val="000000"/>
              </a:solidFill>
              <a:latin typeface="Arial"/>
            </a:endParaRPr>
          </a:p>
          <a:p>
            <a:pPr lvl="1" marL="457200">
              <a:lnSpc>
                <a:spcPct val="10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réparation et planification</a:t>
            </a:r>
            <a:endParaRPr b="0" lang="en-US" sz="4000" spc="-1" strike="noStrike">
              <a:solidFill>
                <a:srgbClr val="000000"/>
              </a:solidFill>
              <a:latin typeface="Calibri"/>
            </a:endParaRPr>
          </a:p>
        </p:txBody>
      </p:sp>
      <p:sp>
        <p:nvSpPr>
          <p:cNvPr id="294"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Existence d’autres sources permettant d’obtenir les mêmes preuves, ou de sources complémentaires permettant de les étayer </a:t>
            </a:r>
            <a:endParaRPr b="0" lang="en-US" sz="24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emandez-vous s’il existe d’autres sources de preuves : </a:t>
            </a:r>
            <a:endParaRPr b="0" lang="en-US" sz="20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un correspondant dans une transaction en ligne telle qu’un échange de mails </a:t>
            </a:r>
            <a:endParaRPr b="0" lang="en-US" sz="20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une tierce partie détentrice de données telle qu’un FSI (fournisseur de services sur internet) </a:t>
            </a:r>
            <a:endParaRPr b="0" lang="en-US" sz="20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un fournisseur de services en ligne </a:t>
            </a:r>
            <a:endParaRPr b="0" lang="en-US" sz="20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l’utilisation du cloud, car les mêmes données peuvent alors être récupérées auprès d’un tiers.</a:t>
            </a:r>
            <a:endParaRPr b="0" lang="en-US" sz="20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2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16E47A-5274-4A14-91C1-BD499B96D15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réparation et planification</a:t>
            </a:r>
            <a:endParaRPr b="0" lang="en-US" sz="4000" spc="-1" strike="noStrike">
              <a:solidFill>
                <a:srgbClr val="000000"/>
              </a:solidFill>
              <a:latin typeface="Calibri"/>
            </a:endParaRPr>
          </a:p>
        </p:txBody>
      </p:sp>
      <p:sp>
        <p:nvSpPr>
          <p:cNvPr id="29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hoix tactique de récupérer les données auprès du suspect ou du tiers détenteur de ces dernières</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 </a:t>
            </a:r>
            <a:r>
              <a:rPr b="1" lang="en-US" sz="3200" spc="-1" strike="noStrike">
                <a:solidFill>
                  <a:srgbClr val="000000"/>
                </a:solidFill>
                <a:latin typeface="Calibri"/>
              </a:rPr>
              <a:t> </a:t>
            </a:r>
            <a:r>
              <a:rPr b="0" lang="en-US" sz="3200" spc="-1" strike="noStrike">
                <a:solidFill>
                  <a:srgbClr val="000000"/>
                </a:solidFill>
                <a:latin typeface="Calibri"/>
              </a:rPr>
              <a:t>- </a:t>
            </a:r>
            <a:r>
              <a:rPr b="0" lang="en-US" sz="2800" spc="-1" strike="noStrike">
                <a:solidFill>
                  <a:srgbClr val="000000"/>
                </a:solidFill>
                <a:latin typeface="Calibri"/>
              </a:rPr>
              <a:t>Envisager la possibilité d’obtenir les données/preuves auprès de tiers</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Procédures légales pour la récupération de données</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Se demander quelles sources de preuves sont importantes pour l’enquête</a:t>
            </a:r>
            <a:endParaRPr b="0" lang="en-US" sz="28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351BD0-8219-4A69-9402-AA229E779CC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incipe 2 – Piste d’audit </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l convient de créer et de conserver une piste d’audit ou tout autre enregistrement de toutes les actions entreprises lors du traitement de preuves électroniques. Un tiers indépendant devrait pouvoir examiner ces actions et parvenir au même résultat. </a:t>
            </a:r>
            <a:endParaRPr b="0" lang="en-US" sz="2000" spc="-1" strike="noStrike">
              <a:solidFill>
                <a:srgbClr val="000000"/>
              </a:solidFill>
              <a:latin typeface="Calibri"/>
            </a:endParaRPr>
          </a:p>
          <a:p>
            <a:pPr marL="343080" indent="-343080">
              <a:lnSpc>
                <a:spcPct val="12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l faut impérativement enregistrer précisément toutes les activités entreprises pour permettre à un tiers de reconstituer les actions du premier répondant sur la scène afin de garantir que les preuves auront force probante devant un tribunal. Toute activité concernant la saisie, l’accès, le stockage ou le transfert de preuves électroniques doit être complètement documentée, préservée et accessible pour examen.</a:t>
            </a:r>
            <a:endParaRPr b="0" lang="en-US" sz="20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
        <p:nvSpPr>
          <p:cNvPr id="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E1355C-837A-4818-A6CA-D3ACD943C60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409B85-FDFB-456D-96E8-6311AC87CA3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De quelle autorité avez-vous besoin ?</a:t>
            </a:r>
            <a:endParaRPr b="0" lang="en-US" sz="4000" spc="-1" strike="noStrike">
              <a:solidFill>
                <a:srgbClr val="000000"/>
              </a:solidFill>
              <a:latin typeface="Calibri"/>
            </a:endParaRPr>
          </a:p>
        </p:txBody>
      </p:sp>
      <p:sp>
        <p:nvSpPr>
          <p:cNvPr id="301" name=""/>
          <p:cNvSpPr txBox="1"/>
          <p:nvPr/>
        </p:nvSpPr>
        <p:spPr>
          <a:xfrm>
            <a:off x="457200" y="1600200"/>
            <a:ext cx="8229600" cy="4756320"/>
          </a:xfrm>
          <a:prstGeom prst="rect">
            <a:avLst/>
          </a:prstGeom>
          <a:noFill/>
          <a:ln w="0">
            <a:noFill/>
          </a:ln>
        </p:spPr>
        <p:txBody>
          <a:bodyPr anchor="t">
            <a:normAutofit/>
          </a:bodyPr>
          <a:p>
            <a:pPr marL="514440" indent="-514440">
              <a:lnSpc>
                <a:spcPct val="80000"/>
              </a:lnSpc>
              <a:spcBef>
                <a:spcPts val="45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L’autorité nécessaire pour procéder à l’acte visé.</a:t>
            </a:r>
            <a:endParaRPr b="0" lang="en-US" sz="1800" spc="-1" strike="noStrike">
              <a:solidFill>
                <a:srgbClr val="000000"/>
              </a:solidFill>
              <a:latin typeface="Calibri"/>
            </a:endParaRPr>
          </a:p>
          <a:p>
            <a:pPr lvl="1" marL="914400" indent="-49320">
              <a:lnSpc>
                <a:spcPct val="80000"/>
              </a:lnSpc>
              <a:spcBef>
                <a:spcPts val="45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 la personne comprend pleinement ce qu’implique le fait de donner son consentement </a:t>
            </a:r>
            <a:r>
              <a:rPr b="0" lang="en-US" sz="1800" spc="-1" strike="noStrike">
                <a:solidFill>
                  <a:srgbClr val="000000"/>
                </a:solidFill>
                <a:latin typeface="Calibri"/>
              </a:rPr>
              <a:t>	</a:t>
            </a:r>
            <a:endParaRPr b="0" lang="en-US" sz="1800" spc="-1" strike="noStrike">
              <a:solidFill>
                <a:srgbClr val="000000"/>
              </a:solidFill>
              <a:latin typeface="Calibri"/>
            </a:endParaRPr>
          </a:p>
          <a:p>
            <a:pPr lvl="1" marL="914400" indent="-49320">
              <a:lnSpc>
                <a:spcPct val="80000"/>
              </a:lnSpc>
              <a:spcBef>
                <a:spcPts val="45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l’autorité est tirée du droit national par le biais de décisions et mandats judiciaires. </a:t>
            </a:r>
            <a:endParaRPr b="0" lang="en-US" sz="1800" spc="-1" strike="noStrike">
              <a:solidFill>
                <a:srgbClr val="000000"/>
              </a:solidFill>
              <a:latin typeface="Calibri"/>
            </a:endParaRPr>
          </a:p>
          <a:p>
            <a:pPr lvl="1" marL="914400" indent="-49320">
              <a:lnSpc>
                <a:spcPct val="80000"/>
              </a:lnSpc>
              <a:spcBef>
                <a:spcPts val="45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2. Selon que les faits objets de l’enquête relèvent du civil ou du pénal et que ceux qui demandent que l’autorité leur soit conférée appartiennent aux services répressifs ou de poursuite, sont des enquêteurs civils ou des avocats agissant pour le compte de clients ou d’autres catégories au civil ou au pénal, les niveaux d’autorité seront différents, </a:t>
            </a:r>
            <a:endParaRPr b="0" lang="en-US" sz="1800" spc="-1" strike="noStrike">
              <a:solidFill>
                <a:srgbClr val="000000"/>
              </a:solidFill>
              <a:latin typeface="Calibri"/>
            </a:endParaRPr>
          </a:p>
          <a:p>
            <a:pPr marL="514440" indent="-514440">
              <a:lnSpc>
                <a:spcPct val="115000"/>
              </a:lnSpc>
              <a:spcBef>
                <a:spcPts val="400"/>
              </a:spcBef>
              <a:spcAft>
                <a:spcPts val="10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	</a:t>
            </a:r>
            <a:r>
              <a:rPr b="0" lang="en-US" sz="1800" spc="-1" strike="noStrike">
                <a:solidFill>
                  <a:srgbClr val="ff0000"/>
                </a:solidFill>
                <a:latin typeface="Calibri"/>
              </a:rPr>
              <a:t>*</a:t>
            </a:r>
            <a:r>
              <a:rPr b="0" lang="fr-FR" sz="1600" spc="-1" strike="noStrike">
                <a:solidFill>
                  <a:srgbClr val="ff0000"/>
                </a:solidFill>
                <a:latin typeface="Calibri"/>
                <a:ea typeface="Calibri"/>
              </a:rPr>
              <a:t>Aucun acte de saisie d’équipement ou d’acquisition de données ne devrait être entrepris sans avoir obtenu par avance le niveau d’autorité correct pour ce faire.</a:t>
            </a:r>
            <a:endParaRPr b="0" lang="en-US" sz="1600" spc="-1" strike="noStrike">
              <a:solidFill>
                <a:srgbClr val="000000"/>
              </a:solidFill>
              <a:latin typeface="Calibri"/>
            </a:endParaRPr>
          </a:p>
          <a:p>
            <a:pPr marL="514440" indent="-514440">
              <a:spcBef>
                <a:spcPts val="4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Témoins spécialistes de l’analyse forensique numérique</a:t>
            </a:r>
            <a:endParaRPr b="0" lang="en-US" sz="4000" spc="-1" strike="noStrike">
              <a:solidFill>
                <a:srgbClr val="000000"/>
              </a:solidFill>
              <a:latin typeface="Calibri"/>
            </a:endParaRPr>
          </a:p>
        </p:txBody>
      </p:sp>
      <p:sp>
        <p:nvSpPr>
          <p:cNvPr id="303"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Expertise de spécialiste</a:t>
            </a:r>
            <a:endParaRPr b="0" lang="en-US" sz="2800" spc="-1" strike="noStrike">
              <a:solidFill>
                <a:srgbClr val="000000"/>
              </a:solidFill>
              <a:latin typeface="Calibri"/>
            </a:endParaRPr>
          </a:p>
          <a:p>
            <a:pPr marL="335880" indent="-3358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l s’agit de l’aptitude ou de la compétence pour faire un travail particulier ; pour l’apprécier, on s’appuiera sur des éléments tels que :</a:t>
            </a:r>
            <a:endParaRPr b="0" lang="en-US" sz="2400" spc="-1" strike="noStrike">
              <a:solidFill>
                <a:srgbClr val="000000"/>
              </a:solidFill>
              <a:latin typeface="Calibri"/>
            </a:endParaRPr>
          </a:p>
          <a:p>
            <a:pPr marL="335880" indent="-3358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es qualifications pertinentes de la personne ;</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 compétence de la personne pour la mission concernée ; </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es aptitudes spécifiques de la personne ; </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 source de l’aptitude : qualifications techniques, durée de l’expérience, les deux. </a:t>
            </a:r>
            <a:endParaRPr b="0" lang="en-US" sz="2800" spc="-1" strike="noStrike">
              <a:solidFill>
                <a:srgbClr val="000000"/>
              </a:solidFill>
              <a:latin typeface="Calibri"/>
            </a:endParaRPr>
          </a:p>
        </p:txBody>
      </p:sp>
      <p:sp>
        <p:nvSpPr>
          <p:cNvPr id="3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EA2FFB-3881-4B05-AF48-41360DC936A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Témoins spécialistes de l’analyse forensique numérique</a:t>
            </a:r>
            <a:endParaRPr b="0" lang="en-US" sz="4000" spc="-1" strike="noStrike">
              <a:solidFill>
                <a:srgbClr val="000000"/>
              </a:solidFill>
              <a:latin typeface="Calibri"/>
            </a:endParaRPr>
          </a:p>
        </p:txBody>
      </p:sp>
      <p:sp>
        <p:nvSpPr>
          <p:cNvPr id="30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Expérience de spécialist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 nature de l’expérience qu’a la personne de ce type de travail.</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Le nombre d’affaires dans lesquelles la personne a eu à travailler.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Leur typ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La durée de l’expérience de la personne dans ce domain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s preuves à l’appui de son expérienc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246DFF-D266-481B-9A61-5648C9B1492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Témoins spécialistes de l’analyse forensique numérique</a:t>
            </a:r>
            <a:endParaRPr b="0" lang="en-US" sz="4000" spc="-1" strike="noStrike">
              <a:solidFill>
                <a:srgbClr val="000000"/>
              </a:solidFill>
              <a:latin typeface="Calibri"/>
            </a:endParaRPr>
          </a:p>
        </p:txBody>
      </p:sp>
      <p:sp>
        <p:nvSpPr>
          <p:cNvPr id="30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Connaissances en matière d’enquêt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mprendre la nature des enquêtes pour ce qui est de la confidentialité, de la pertinence et de la distinction entre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nformation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enseignemen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reuv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1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29D161-397D-40BA-A46F-BB784A1CDFB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Témoins spécialistes de l’analyse forensique numérique</a:t>
            </a:r>
            <a:endParaRPr b="0" lang="en-US" sz="4000" spc="-1" strike="noStrike">
              <a:solidFill>
                <a:srgbClr val="000000"/>
              </a:solidFill>
              <a:latin typeface="Calibri"/>
            </a:endParaRPr>
          </a:p>
        </p:txBody>
      </p:sp>
      <p:sp>
        <p:nvSpPr>
          <p:cNvPr id="3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Connaissances contextuelles</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mprendre les différentes approches, le language, les notions, les pratiques et les rôles de la police, du droit et des connaissances techniques en matière d’informations</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a technologie est essentielle pour garantir la viabilité de la preuve électronique en justice. Il est fondamental de comprendre les probabilités dans leur sens le plus large et les différences entre </a:t>
            </a:r>
            <a:r>
              <a:rPr b="1" lang="en-US" sz="2400" spc="-1" strike="noStrike">
                <a:solidFill>
                  <a:srgbClr val="000000"/>
                </a:solidFill>
                <a:latin typeface="Calibri"/>
              </a:rPr>
              <a:t>la preuve scientifique et la preuve légal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A53A96-6D46-49D9-9018-334EF3E1FFA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Témoins spécialistes de l’analyse forensique numérique</a:t>
            </a:r>
            <a:endParaRPr b="0" lang="en-US" sz="4000" spc="-1" strike="noStrike">
              <a:solidFill>
                <a:srgbClr val="000000"/>
              </a:solidFill>
              <a:latin typeface="Calibri"/>
            </a:endParaRPr>
          </a:p>
        </p:txBody>
      </p:sp>
      <p:sp>
        <p:nvSpPr>
          <p:cNvPr id="3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Connaissance du droit</a:t>
            </a:r>
            <a:endParaRPr b="0" lang="en-US" sz="32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Compréhension des aspects pertinents du droit tels que les concepts juridiques et les procédures légales pour ce qui concern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es déclarat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 continuité</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es procédures devant les tribunaux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une compréhension claire des rôles et responsabilités du témoin expert est essentielle. </a:t>
            </a:r>
            <a:endParaRPr b="0" lang="en-US" sz="2800" spc="-1" strike="noStrike">
              <a:solidFill>
                <a:srgbClr val="000000"/>
              </a:solidFill>
              <a:latin typeface="Calibri"/>
            </a:endParaRPr>
          </a:p>
        </p:txBody>
      </p:sp>
      <p:sp>
        <p:nvSpPr>
          <p:cNvPr id="3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A24517-EA28-4637-9BD5-A6214CF01A1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Témoins spécialistes de l’analyse forensique numérique</a:t>
            </a:r>
            <a:endParaRPr b="0" lang="en-US" sz="4000" spc="-1" strike="noStrike">
              <a:solidFill>
                <a:srgbClr val="000000"/>
              </a:solidFill>
              <a:latin typeface="Calibri"/>
            </a:endParaRPr>
          </a:p>
        </p:txBody>
      </p:sp>
      <p:sp>
        <p:nvSpPr>
          <p:cNvPr id="31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ptitudes à la communication  </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La capacité d’exprimer et d’expliquer dans un langage ordinaire, à la fois par écrit et par oral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 nature de la spécialité</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es techniques et équipements utilisé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es méthodes d’interprétation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es forces et faiblesses de la preuv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es explications alternativ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83A30F-7C7F-42B3-98C2-5ACA1CF47DD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Témoins spécialistes de l’analyse forensique numérique</a:t>
            </a:r>
            <a:endParaRPr b="0" lang="en-US" sz="4000" spc="-1" strike="noStrike">
              <a:solidFill>
                <a:srgbClr val="000000"/>
              </a:solidFill>
              <a:latin typeface="Calibri"/>
            </a:endParaRPr>
          </a:p>
        </p:txBody>
      </p:sp>
      <p:sp>
        <p:nvSpPr>
          <p:cNvPr id="321"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Généralités </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ccréditation au niveau de sécurité approprié pour traiter les éléments de preuve </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nnaissance des lignes directrices applicables pour le traitement de tout matériel pédophile</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nsibilisation à l’effet de ce type de matériel sur les membres de l’équipe et évaluation appropriée des risques </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ssurance que le spécialiste n’est pas en situation de conflit d’intérêt. </a:t>
            </a:r>
            <a:endParaRPr b="0" lang="en-US" sz="2800" spc="-1" strike="noStrike">
              <a:solidFill>
                <a:srgbClr val="000000"/>
              </a:solidFill>
              <a:latin typeface="Calibri"/>
            </a:endParaRPr>
          </a:p>
        </p:txBody>
      </p:sp>
      <p:sp>
        <p:nvSpPr>
          <p:cNvPr id="3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A70364-B5E7-42B0-88E1-1EBF1893B53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4981C0-D137-4AEF-AA68-646B77F45E6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24"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ctifs de la session</a:t>
            </a:r>
            <a:endParaRPr b="0" lang="en-US" sz="4400" spc="-1" strike="noStrike">
              <a:solidFill>
                <a:srgbClr val="000000"/>
              </a:solidFill>
              <a:latin typeface="Calibri"/>
            </a:endParaRPr>
          </a:p>
        </p:txBody>
      </p:sp>
      <p:sp>
        <p:nvSpPr>
          <p:cNvPr id="325" name="Content Placeholder 2"/>
          <p:cNvSpPr/>
          <p:nvPr/>
        </p:nvSpPr>
        <p:spPr>
          <a:xfrm>
            <a:off x="457200" y="1047600"/>
            <a:ext cx="8512200" cy="5308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A la fin de cette session, les participants pourront :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 </a:t>
            </a:r>
            <a:r>
              <a:rPr b="0" lang="en-US" sz="2800" spc="-1" strike="noStrike">
                <a:solidFill>
                  <a:srgbClr val="000000"/>
                </a:solidFill>
                <a:latin typeface="Arial"/>
              </a:rPr>
              <a:t>discuter des autorités et autorisations dans le processus de perquisition et de saisie de preuves électroniques,</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rPr>
              <a:t> </a:t>
            </a:r>
            <a:r>
              <a:rPr b="0" lang="en-GB" sz="2800" spc="-1" strike="noStrike">
                <a:solidFill>
                  <a:srgbClr val="000000"/>
                </a:solidFill>
                <a:latin typeface="Arial"/>
              </a:rPr>
              <a:t>mener efficacement la préparation et la planification de la perquisition et de la saisie de preuves électroniques, </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rPr>
              <a:t> </a:t>
            </a:r>
            <a:r>
              <a:rPr b="0" lang="en-GB" sz="2800" spc="-1" strike="noStrike">
                <a:solidFill>
                  <a:srgbClr val="000000"/>
                </a:solidFill>
                <a:latin typeface="Arial"/>
              </a:rPr>
              <a:t>discuter du rôle des témoins spécialistes externes.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81C422-0692-4C8B-B6B8-D9603DA79DC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327"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328"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incipe 3 – Soutien de spécialiste </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nSpc>
                <a:spcPct val="12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i on pense trouver des preuves électroniques au cours d’une opération, la personne responsable devrait prévenir en temps utile des spécialistes/conseillers externes.</a:t>
            </a:r>
            <a:endParaRPr b="0" lang="en-US" sz="1600" spc="-1" strike="noStrike">
              <a:solidFill>
                <a:srgbClr val="000000"/>
              </a:solidFill>
              <a:latin typeface="Calibri"/>
            </a:endParaRPr>
          </a:p>
          <a:p>
            <a:pPr marL="343080" indent="-343080">
              <a:lnSpc>
                <a:spcPct val="12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our des investigations impliquant une perquisition et saisie de preuves électroniques, il peut être nécessaire de consulter des spécialistes externes. Tous les spécialistes externes devraient connaître les principes exposés dans ce document ou autres documents pertinents similaires. Un spécialiste devrait avoir :</a:t>
            </a:r>
            <a:endParaRPr b="0" lang="en-US" sz="1600" spc="-1" strike="noStrike">
              <a:solidFill>
                <a:srgbClr val="000000"/>
              </a:solidFill>
              <a:latin typeface="Calibri"/>
            </a:endParaRPr>
          </a:p>
          <a:p>
            <a:pPr lvl="1" marL="743040" indent="-285840">
              <a:lnSpc>
                <a:spcPct val="12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l’expertise spécialisée et l’expérience de terrain nécessaires,</a:t>
            </a:r>
            <a:endParaRPr b="0" lang="en-US" sz="1600" spc="-1" strike="noStrike">
              <a:solidFill>
                <a:srgbClr val="000000"/>
              </a:solidFill>
              <a:latin typeface="Calibri"/>
            </a:endParaRPr>
          </a:p>
          <a:p>
            <a:pPr lvl="1" marL="743040" indent="-285840">
              <a:lnSpc>
                <a:spcPct val="12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les connaissances nécessaires en matière d’investigation, </a:t>
            </a:r>
            <a:endParaRPr b="0" lang="en-US" sz="1600" spc="-1" strike="noStrike">
              <a:solidFill>
                <a:srgbClr val="000000"/>
              </a:solidFill>
              <a:latin typeface="Calibri"/>
            </a:endParaRPr>
          </a:p>
          <a:p>
            <a:pPr lvl="1" marL="743040" indent="-285840">
              <a:lnSpc>
                <a:spcPct val="12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les connaissances nécessaires concernant la situation,</a:t>
            </a:r>
            <a:endParaRPr b="0" lang="en-US" sz="1600" spc="-1" strike="noStrike">
              <a:solidFill>
                <a:srgbClr val="000000"/>
              </a:solidFill>
              <a:latin typeface="Calibri"/>
            </a:endParaRPr>
          </a:p>
          <a:p>
            <a:pPr lvl="1" marL="743040" indent="-285840">
              <a:lnSpc>
                <a:spcPct val="12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les connaissances juridiques nécessaires,</a:t>
            </a:r>
            <a:endParaRPr b="0" lang="en-US" sz="1600" spc="-1" strike="noStrike">
              <a:solidFill>
                <a:srgbClr val="000000"/>
              </a:solidFill>
              <a:latin typeface="Calibri"/>
            </a:endParaRPr>
          </a:p>
          <a:p>
            <a:pPr lvl="1" marL="743040" indent="-285840">
              <a:lnSpc>
                <a:spcPct val="12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les compétences appropriées sur le plan de la communication (pour les explications orales comme écrites),</a:t>
            </a:r>
            <a:endParaRPr b="0" lang="en-US" sz="1600" spc="-1" strike="noStrike">
              <a:solidFill>
                <a:srgbClr val="000000"/>
              </a:solidFill>
              <a:latin typeface="Calibri"/>
            </a:endParaRPr>
          </a:p>
          <a:p>
            <a:pPr lvl="1" marL="743040" indent="-285840">
              <a:lnSpc>
                <a:spcPct val="12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le niveau nécessaire de compétences linguistiques appropriées.</a:t>
            </a:r>
            <a:endParaRPr b="0" lang="en-US" sz="1600" spc="-1" strike="noStrike">
              <a:solidFill>
                <a:srgbClr val="000000"/>
              </a:solidFill>
              <a:latin typeface="Calibri"/>
            </a:endParaRPr>
          </a:p>
          <a:p>
            <a:pPr marL="343080" indent="-343080">
              <a:lnSpc>
                <a:spcPct val="12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CB33AC-9720-4D96-825F-77D3AC1328C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incipe 4 – Formation appropriée</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es premiers répondants doivent avoir reçu la formation appropriée pour pouvoir mener une perquisition et une saisie de preuves électroniques au cas où aucun spécialiste ne peut être présent sur la scèn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xceptionnellement, lorsqu’il est nécessaire qu’un premier répondant collecte des preuves électroniques et/ou accède à des données originales présentes sur un dispositif électronique ou dans un support de stockage numérique, le premier répondant doit être formé pour le faire convenablement et expliquer la pertinence et les conséquences de ses action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C2DC96-BCE6-4F38-A6B7-8AA7BDEB0B6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incipe 5 - Légalité</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a personne et le service en charge de l’affaire doivent faire en sorte que le droit, les principes généraux forensiques et procéduraux et les principes exposés plus haut soient respectés. Ceci vaut pour la possession et l’accès à des données électroniqu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un des documents juridiques d’importance internationale, la Convention du Conseil de l’Europe sur la cybercriminalité, est actuellement ouvert à la signature par les Etats membres et ceux qui ont participé à son élaboration, et à l’adhésion pour d’autres Eta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es principes sont le socle sur lequel s’appuient les informations fournies dans les chapitres suivants et il conviendra donc d’en tenir compte à toutes les étapes de traitement de sources potentielles de preuves électroniqu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2E2045-A0C7-4672-ADE1-3DD5DA4E4FA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25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mier Répondant</a:t>
            </a:r>
            <a:endParaRPr b="0" lang="en-US" sz="4400" spc="-1" strike="noStrike">
              <a:solidFill>
                <a:srgbClr val="000000"/>
              </a:solidFill>
              <a:latin typeface="Calibri"/>
            </a:endParaRPr>
          </a:p>
        </p:txBody>
      </p:sp>
      <p:sp>
        <p:nvSpPr>
          <p:cNvPr id="77" name=""/>
          <p:cNvSpPr txBox="1"/>
          <p:nvPr/>
        </p:nvSpPr>
        <p:spPr>
          <a:xfrm>
            <a:off x="457200" y="1176120"/>
            <a:ext cx="8229600" cy="494964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Responsable du processus de perquisition et de saisi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oit obtenir le mandat de perquisition approprié et toutes les autorisations nécessaires avant de démarrer le processus de perquisition et de saisie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écide des méthodes de collecte ou de saisie des preuves électroniqu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hargé de sécuriser la scène, de la documenter et de stocker les preuv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Responsable des actions qui pourraient changer les preuves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Responsable de l’état des preuves électroniques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Responsable de l’identification de tous les stockages possibles de preuves électroniques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Responsable des actions nécessaires pour prévenir toute altération ou perte de preuves électroniques</a:t>
            </a:r>
            <a:endParaRPr b="0" lang="en-US" sz="2000" spc="-1" strike="noStrike">
              <a:solidFill>
                <a:srgbClr val="000000"/>
              </a:solidFill>
              <a:latin typeface="Calibri"/>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6E97B6-4541-408C-B981-AECCCD70F53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7T12:20:24Z</dcterms:created>
  <dc:creator>Nigel Jones</dc:creator>
  <dc:description/>
  <dc:language>en-US</dc:language>
  <cp:lastModifiedBy>elvio salomon</cp:lastModifiedBy>
  <dcterms:modified xsi:type="dcterms:W3CDTF">2015-08-04T04:08:49Z</dcterms:modified>
  <cp:revision>262</cp:revision>
  <dc:subject/>
  <dc:title>Introductory Cybercrime Training for Judges and Prosecutors</dc:title>
</cp:coreProperties>
</file>