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AB3A3-3971-4E4D-8BB3-8FAC644F1AC9}" type="datetime">
              <a:rPr b="0" lang="en-US" sz="1200" spc="-1" strike="noStrike">
                <a:solidFill>
                  <a:srgbClr val="000000"/>
                </a:solidFill>
                <a:latin typeface="Calibri"/>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DDC770-1071-4761-8281-EF13BCCCDE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werPoint (u otro tipo de present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tenido de las diapositivas en esta sección es solo un ejemplo de lo que se puede describir en cada uno de los entrenamientos loc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almente, la sesión sobre legislación nacional sustantiva debería mencionar los instrumentos jurídicos internacionales firmados o ratificados y el resultado de su transposición a la legislación nacion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be proporcionarse una descripción de los tipos de delitos de acuerdo con la legislación nacional y, en su caso, una descripción de las eventuales especificidades de la ley sustantiva nacional.</a:t>
            </a:r>
            <a:endParaRPr b="0" lang="en-US" sz="1200" spc="-1" strike="noStrike">
              <a:solidFill>
                <a:srgbClr val="000000"/>
              </a:solidFill>
              <a:latin typeface="Calibri"/>
            </a:endParaRPr>
          </a:p>
        </p:txBody>
      </p:sp>
      <p:sp>
        <p:nvSpPr>
          <p:cNvPr id="4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04E74-EE28-4B46-96C0-FCEC31C279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el tema de la representación según el Art. 9. Representaciones de abuso sexual de niños reales, imágenes que muestran a una persona que parece ser menor de edad (sea o no menor de edad) participando en una conducta sexualmente explícita e imágenes que, aunque realistas, en realidad no involucran a un niño real involucrado en una conducta sexualmente explícita. </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26679-4BF1-4686-B783-3ADF13118D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define el término "Menor" como se usa en el Art. 9. El alcance de esta definición se limita a la representación de niños reales/ficticios como objetos sexuales y no se relaciona de ninguna manera con la determinación de la edad de consentimiento para las relaciones sexuales. </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55DE3-1376-4DB7-B115-BD72E5EE9A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infracciones relacionadas con la violación de los derechos de autor y los derechos relacionados protegen contra las infracciones de los derechos de autor y los derechos conexos en línea o se cometen a través de un sistema informático.</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no incluye ninguna disposición con un delito específico en materia de derechos de a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el Art. 10 del Convenio se refiere a ella, incluso si no crea nuevas reglamentaciones conceptuales sobre este tema. Por el contrario, el Convenio solo hace hincapié en que las normas anteriores sobre derechos de autor en el mundo real deberían aplicarse al entorno en línea: lo que está prohibido en la vida real también debe prohibirse en línea. Las infracciones de los derechos de autor en línea, o cometidas por medio de un sistema informático, deben castigarse como si se hubieran cometido en el mundo real. Por esta razón, el Convenio se refiere a los tratados y acuerdos internacionales ya existentes sobre esta materia (Acuerdo de París desde el 24 de julio de 1971, el Convenio de Berna y los tratados de la OMPI).</a:t>
            </a:r>
            <a:endParaRPr b="0" lang="en-US" sz="1200" spc="-1" strike="noStrike">
              <a:solidFill>
                <a:srgbClr val="000000"/>
              </a:solidFill>
              <a:latin typeface="Calibri"/>
            </a:endParaRPr>
          </a:p>
        </p:txBody>
      </p:sp>
      <p:sp>
        <p:nvSpPr>
          <p:cNvPr id="7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941F6-A0BC-42C8-943C-82BB50844A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10.</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elemento fundamental y la conducta requerida en virtud del Art. 2 es el término "acceso". El término se refiere al acto de ingresar en la totalidad o parte de un sistema informático. El Art. 2 es neutral desde el punto de vista tecnológico y no especifica los medios por los que se debe llevar a cabo el acceso.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9 se extiende a la infracción de derechos de autor (y derechos conexos), pero no a los derechos morales</a:t>
            </a: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D27A5-4D33-495E-A601-487F478AD9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10.</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9 se extiende a las infracciones de derechos de autor en una venta comercial. </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F1112-B508-43E4-B971-C1FA1DFE67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e punto, se deben considerar dos cuestiones finales, referidas al derecho penal sustantivo: la sanción por tentativa y complicidad, por un lado, y la responsabilidad penal de las personas jurídic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 11 del Convenio de Budapest describe los actos de complicidad e instigación que todas las Partes en el Convenio deben considerar en sus leyes nacionales. Sin embargo, reconoce que la delincuencia en Internet es a menudo una actividad "multipartidista" con grados de contribución a menudo confusos de diferentes partes, lo que hace que el enjuiciamiento sea potencialmente difíc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el Art. 12 del Convenio requiere de todas las Partes la penalización de los actos de las personas jurídicas. Este es un problema importante. De hecho, dentro de la Unión Europea, la criminalización de los actos de las personas jurídicas es un tema importante y muy controvertido, y por lo tanto se encuentra en el marco del Consejo de Europa. </a:t>
            </a:r>
            <a:endParaRPr b="0" lang="en-US" sz="1200" spc="-1" strike="noStrike">
              <a:solidFill>
                <a:srgbClr val="000000"/>
              </a:solidFill>
              <a:latin typeface="Calibri"/>
            </a:endParaRPr>
          </a:p>
        </p:txBody>
      </p:sp>
      <p:sp>
        <p:nvSpPr>
          <p:cNvPr id="7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FBC61-4BDE-4A01-BEC7-E69329EC83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as perspectivas de la Unión Europea y del Consejo de Europa incluyen, al menos, cualquier tipo (penal o no) de responsabilidad de las empresas y otras entidades jurídicas por actos delictivos de sus representantes, actuando en su representación e interés. Además, el Convenio establece que la responsabilidad de las personas jurídicas también se produce en caso de falta de supervisión o control de un representante legal de la empresa u otra entidad legal sobre alguien bajo su supervis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gunos países de Europa prefieren soluciones civiles, más bien soluciones criminales, para regular la responsabilidad de una persona jurídica. </a:t>
            </a: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8DC7B1-5078-40A8-92F8-0C0A49B0FD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relacionada con la Parte uno de la lección.</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FB5796-E316-420C-B4FF-4A1D9BB973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25 siguientes casos de estudio no pueden presentarse dentro del tiempo asignado. El formador debe seleccionar algunos de ellos y examinar los casos seleccionados, elaborando, cuando sea necesario, aspectos específicos que se consideraron destacados durante las dos primeras partes del curso. El formador debe explicar cómo se entregarán los materiales y que habrá tiempo para la interacción y las preguntas. El formador debe enfatizar que esta formación está diseñada para ser interactiva y que se espera que los delegados participen en todo. </a:t>
            </a:r>
            <a:endParaRPr b="0" lang="en-US" sz="1200" spc="-1" strike="noStrike">
              <a:solidFill>
                <a:srgbClr val="000000"/>
              </a:solidFill>
              <a:latin typeface="Calibri"/>
            </a:endParaRPr>
          </a:p>
        </p:txBody>
      </p:sp>
      <p:sp>
        <p:nvSpPr>
          <p:cNvPr id="7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10084-B54F-48DD-A4DE-544BF6176D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es estudiante en una Facultad Europea de Ingeniería Eléctrica y Ciencias de la Computación decidió escribir un documento sobre el tema de la seguridad de los sistemas informáticos y redes. Pirateó los sistemas informáticos de varios gobiernos en África. Cada vez que encontraba un agujero en el sistema de TI, dejaba un mensaje al administrador: “Soy Camille, estudiante en la Facultad y estoy escribiendo una tesis sobre la seguridad de sistemas y redes de computadoras y, para los propósitos de este documento, revelo las debilidades de los sistemas y redes de computadoras. Aquí tienes un agujero de seguridad. Atentamente.” El último sistema informático que hackeó fue el sistema de información del Ministerio del Interior de su paí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Recordatorio para el formado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ículo 2 - ACCESO ILÍCIT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Cuestion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i="1" lang="en-US" sz="500" spc="-1" strike="noStrike">
                <a:solidFill>
                  <a:srgbClr val="000000"/>
                </a:solidFill>
                <a:latin typeface="Calibri"/>
              </a:rPr>
              <a:t>¿Este es un delito penal en su país y, en caso afirmativo, cuál? ¿Cuáles son los elementos constitutivos de ese delit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Puntos para discusió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acceso ilícito cubre el delito básico de amenazas peligrosas y ataques contra la seguridad (es decir, la confidencialidad, integridad y disponibilidad) de los sistemas y datos informáticos. Dichas intrusiones pueden dar acceso a datos confidenciales (incluyendo contraseñas, información sobre el sistema de destino) y secretos, al uso del sistema sin pago o incluso alentar a los piratas informáticos a cometer formas más peligrosas de delitos informáticos, como fraude informático o falsificació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CHR en el caso de Copland vs. UK, 62617/00 decidió que el Derecho al respeto por la vida privada y familiar se aplica también a los datos electrónico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n este caso, el perpetrador ha sido condenado porque todos los elementos del delito de acceso ilícito se han cometido de acuerdo con la legislación nacional, a saber (Croacia - Tribunal municipal en Split - asentamiento):</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ceso no autorizado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ceso intencio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La motivación del conductor no constituye un elemento de delito criminal (incluso la simple curiosidad será punibl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n respecto a los hechos de este caso, en algunos Estados miembros no hablaremos sobre el acceso ilícito.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Estados partes en el Convenio de Budapest pueden adjuntar cualquiera o todos los elementos calificativos enumerados en la segunda oración en la disposición del Art. 2: medidas de seguridad infractoras, intención especial de obtener datos informáticos, otra intención deshonesta que justifique la culpabilidad penal o el requisito de que la delito se comete en relación con un sistema informático que está conectado de forma remota a o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mo en el sistema legal croata no se tiene en cuenta la intención (más allá de la intención de acceder a un sistema ilegalmente), el autor ha sido condenado a pesar de la falta de "intención deshonesta" (todos los sistemas IT atacados han sido sometidos a una prueba de penetración gratis). En algunos Estados miembros, la falta de intención deshonesta hubiera evitado la responsabilidad pe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EDF71-6304-4EE8-A00C-74E4236D6D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na persona usó el nombre de usuario y la contraseña de otra persona (sin autorización, por lo tanto de forma ilegítima) para acceder al sistema informático de una empresa e hizo una copia de mapas digitales en un disco extraíble, luego borró los mapas digitales en el disco dur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cordatorio para el formado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ículo 4 - ATAQUES A LA INTEGRIDAD DE LOS DATO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suprima datos informáticos sin derech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Las Partes podrán reservarse el derecho a exigir que los actos definidos en el párrafo 1 comporten daños grave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delitos deben ser considerados?</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primer lugar, hay un robo de identidad. En un "mundo real" correspondería al uso del perpetrador, de forma ilegítima, de la tarjeta de pase de otra persona para ingresar a un espacio de trabajo. Algunos Estados miembros han tipificado como delito el robo de identidad, pero si no lo han hecho, el acceso en general se considera ilegal en sí mismo.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hecho, en segundo lugar, hay un acceso ilícito. Algunos países incluyen los elementos constitutivos de este delito en los elementos constitutivos del delito de ataque a la integridad de los datos (como en Croacia), pero en algunos otros países la infracción es distinta (como en Francia, donde existe el delito de acceso ilícito, el delito de estadía ilegal en el sistema informático y el delito de ataque a la integridad. Por ejemplo, una persona ha sido condenada por robo de datos y permanencia ilegal en el sistema informático, a pesar de que el acceso al sistema no fue ilegal - Cour d’appel de Paris Pôle 4, chambre 10 Arrêt du 5 février 2014, O.L. c. Ministère public, https://www.legalis.net/jurisprudences/cour-dappel-de-paris-pole-4-chambre-10-arret-du-5-fevrier-2014/).</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tercer lugar, hay una ataque a la integridad de los datos debido a la eliminación de datos infomáticos ilegítima.</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debería invitar a los delegados a responder a la pregunta a la luz de su propia legislación nacional.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B04D2-1BA4-4339-A607-21A750C9FE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jefe de un centro de llamadas, que no está satisfecho con el impago de los salarios, ingresó la contraseña del BIOS en un programa informático del sistema y cambió el código de acceso en el sistema operativo, las contraseñas que solo él conoce y de esa manera inhabilitó el uso del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cordatorio para el form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ículo 5 - ATAQUES A LA INTEGRIDAD DEL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ptará las medidas legislativas y de otro tipo que resulten necesarias para tipificar como delito en su derecho interno la obstaculización grave, deliberada e ilegítima del funcionamiento de un sistema informático mediante la introducción, transmisión, daño, borrado, deterioro, alteración o supresión de datos informát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i="1" lang="en-US" sz="700" spc="-1" strike="noStrike">
                <a:solidFill>
                  <a:srgbClr val="000000"/>
                </a:solidFill>
                <a:latin typeface="Calibri"/>
              </a:rPr>
              <a:t>¿Qué delito penal es este caso en su paí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Tiene o no el autor el derecho a cambiar una contraseña? ¿Es este el hecho más importante para definir el delito de acuerdo con su legislación nacional?</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Qué se considera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este caso, el perpetrador fue autorizado o tenía el derecho de cambiar las contraseñas. Por lo tanto, no podemos hablar de ataque a la integridad de los datos o acceso ilíc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ero esta autorización no incluye el derecho a no revelar el código de acceso a la empresa, lo cual es una seria obstaculización sin el derecho del funcionamiento de un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esa forma, el perpetrador cometió el delito de ataque a la integridad del sistema. (Croacia - Tribunal penal municipal en Zagreb Ko-74/15 27 de enero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acuerdo con la ley nacional, los delegados deberían responder la siguiente pregunta: ¿sería una acusación por 2 delitos o solo por 1 delito? ¿Ataque a la integridad del sistema (consumo) si el perpetrador no tenía derecho a cambiar una contraseñ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la respuesta es 2 delitos, ¿cuál: ataque a la integridad de los datos o acceso ilíc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sualmente corresponde a un delito con uno o más elementos calificativos, pero hay un terreno para 2 delitos: Ataque a la integridad de los datos e ataque a la integridad del sistema. (Croacia no tiene una práctica no ajustad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C8779-E943-4AE6-830D-1F327705A3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cordatorio para el formado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ículo 8 - FRAUDE INFORMÁTIC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ada Parte adoptará las medidas legislativas y de otra índole que sean necesarias para establecer como delitos penales en virtud de su legislación nacional, cuando se cometan deliberada e ilegítima, la causa de la pérdida de bienes a otra persona po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introducción, alteración, borrado o supresión de datos informáticos;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alquier ataque a la integridad en el funcionamiento de un sistema informátic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n la intención fraudulenta o deshonesta de procurar, de forma ilegítima, un beneficio económico para uno mismo o para otra person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ículo 11 - TENTATIVA Y COMPLICIDA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Cada Parte adoptará las medidas legislativas y de otro tipo que sean necesarias para tipificar como delitos en su derecho interno, cuando se cometan deliberada, ayuden o instiguen a la comisión de cualquiera de los delitos establecidos de conformidad con los Artículos 2 a 10 del presente Convenio con la intención de que tal delito sea cometid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Cada Parte adoptará las medidas legislativas y de otra índole que sean necesarias para tipificar como delitos en su derecho interno, cuando se cometan intencionalmente, un intento de cometer cualquiera de los delitos establecidos de conformidad con los artículos 3 a 5, 7, 8 y 9.1. a y c de este Conveni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Cada Parte puede reservarse el derecho de no aplicar, en todo o en parte, el párrafo 2 de este artícul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i="1" lang="en-US" sz="800" spc="-1" strike="noStrike">
                <a:solidFill>
                  <a:srgbClr val="000000"/>
                </a:solidFill>
                <a:latin typeface="Calibri"/>
              </a:rPr>
              <a:t>En un papel de fiscal, ¿acusaría a X e Y por el mismo delito o n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Qué se considera delit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es uno de los ejemplos más comunes de falsificación informática. Cada elemento de este delito fue cometido por X. Usó la cuenta bancaria de Z solo para obtener dinero sin abrir su propia cuenta bancari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también cometió un delito: ayudar o instigar a la comisión de un delito informático relacionado con delitos penales. Punible por la misma oración. (Croacia - Tribunal Municipal de Velika Gorica K-545/15 desde el 18 de diciembre de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8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2400D-639C-4124-ABF9-696A470796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erpetrador ha visitado reiteradamente sitios web pornográficos, incluida la pornografía infantil. Nunca descargó materiales. Pero la computadora estaba guardando automáticamente estos materiales en una carpeta C:/..., (en el medio - imágenes que contienen pornografía infantil) sin ningún conocimiento o acción del perpetrad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Recordatorio para el formado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ículo 9 - DELITOS RELACIONADOS CON LA PORNOGRAFÍ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Cada Parte adoptará las medidas legislativas y de otro tipo que resulten necesarias para tipificar como delito en su derecho interno la comisión deliberada e ilegítima de la siguiente conduc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la producción de pornografía infantil con la intención de difundirla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la oferta o la puesta a disposición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la difusión o la transmisión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la adquisición, para uno mismo o para otros,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la posesión de pornografía infantil en un sistema informático o en un dispositivo de almacenamiento de datos informátic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A los efectos del párrafo 1 anterior, se entenderá por «pornografía infantil» todo material pornográfico que contenga la representación visual d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un menor adoptando un comportamiento sexualmente explícit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una persona que parezca un menor adoptando un comportamiento sexualmente explícit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imágenes realistas que representen a un menor adoptando un comportamiento sexualmente explícito.</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A los efectos del párrafo 2 anterior, se entenderá por «menor» toda persona menor de 18 años. Las Partes podrán, no obstante, exigir un límite de edad inferior, que deberá ser como mínimo de 16 añ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Cada Parte puede reservarse el derecho de no aplicar, en todo o en parte, los párrafos 1, subpárrafos d. y e, y 2, subpárrafos b. y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uestion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Es delito tener pornografí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or qué?</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untos para discusió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delincuente era libre de ir en este caso frente al Tribunal de Croacia porque el Tribunal concluyó que la intención de cometer un delito - Poseer pornografía infantil en el sistema informático - había desaparecido. La intención directa es un elemento constitutivo de este delito. (Tribunal del Condado de Osijek, Kž-339/08-4 de 23.5.2008).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esta razón, después de este caso, se ha creado una nueva delito en Croacia, que castiga el simple "acceso a la pornografía infantil en Interne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un caso similar en Alemania (Bundesgerichtshof Beschluss vom 10. Oktober 2006 (BGH NStZ 2007 95), el tribunal decidió que la "posesión" incluye datos que están almacenados por defecto en el sistema informático, incluidos archivos temporales de Internet, memoria caché, que muchas personas utilizan como atajo para acceder más rápido a diversos contenidos en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D082B-16CC-4C63-9DBD-56A396187A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ha accedido a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ra ese acceso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ary accedió a la computadora. Ella y no Bobby tiene autorización para acceder a los datos en la computadora, por lo que ella es inocente. Fue Bobby quien, actuando a través de un agente inocente, hizo que se accediera a los datos. Él mintió a Mary (una ilustración de ingeniería social) ¿esta cantidad tiene acceso a la ley?</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nto Bobby como Mary tienen derecho a acceder a la computadora de la policía, pero están sujetos a condiciones estrictas relacionadas con una consulta legítima relacionada con la actividad policial. Dónde el acceso excede esta autorización, ¿constituye un del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pasa si Bobby entra a la estación de policía y se las arregla para mirar por encima del hombro de Mary (hombro navegando) mientras ella está haciendo una investigación legítima en relación con la propiedad del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shoulder surfing' ha dado lugar a Bobby que gana el acceso a los datos infomáticos. Puede haber una pregunta sobre su 'intención' y, por supuesto, no ha manipulado el sistema informático para obtener acceso, pero todavía ha obtenido acceso ilegítima (aunque esto sería muy difícil de prob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tudio de caso está diseñado para que los delegados consideren la cuestión de la autorización (acceso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mbién se les podría pedir a los delegados que consideren la posición en la que Bobby había ingresado a la estación de policía y buscó la información sobre la propiedad del Mercedes en un sistema de índice de tarjetas: ¿la información es la misma que la de la computadora? El punto aquí es que no son los datos los que están protegidos (aunque pueden estar protegidos por otra legislación de protección de datos, mientras que la mala conducta de Bobby también puede constituir un delito), sino que es el medio en el que se almacenan los datos que están siendo protegid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sistemas informáticos de la policía contienen gran cantidad de información personal relacionada con las personas junto con una gran cantidad de información confidencial. El acceso a dichos datos solo debe otorgarse a quienes tengan un interés legítimo en él. En el Reino Unido, los agentes de policía y los operadores informáticos de la policía con frecuencia se encuentran ilegalmente accediendo a los sistemas policiales para fines propios, por ejemplo, para encontrar información que pueda ser de interés para la prensa o en el caso de funcionarios corruptos para descubrir qué información se guarda sobre una persona en particular o si una persona o grupo en particular está bajo investigación activa.</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habido un ataque ilegal a la integridad?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robl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habido un ataque a la integrida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Se ha logrado ese ataque a la integridad por medios técn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Se han transmitido datos hacia o desde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registrador de claves es un dispositivo técnico que está capturando datos transmitidos desde el terminal. Esto equivale a un ataque a la integridad y es claramente ilegítim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pasa con las llamadas de Skype? En este escenario, parece que los datos viajan en la misma línea que otros datos transmitidos desde la computadora, pero ¿qué ocurre si el usuario tiene un teléfono Skype independiente? ¿Tal teléfono constituiría un sistema informático? El Convenio define un "sistema informático" </a:t>
            </a:r>
            <a:r>
              <a:rPr b="0" i="1" lang="en-US" sz="700" spc="-1" strike="noStrike">
                <a:solidFill>
                  <a:srgbClr val="000000"/>
                </a:solidFill>
                <a:latin typeface="Calibri"/>
              </a:rPr>
              <a:t>como todo dispositivo aislado o conjunto de dispositivos interconectados o relacionados entre sí, cuya función, o la de alguno de sus elementos, sea el tratamiento automatizado de datos en ejecución de un programa</a:t>
            </a:r>
            <a:r>
              <a:rPr b="0" lang="en-US" sz="700" spc="-1" strike="noStrike">
                <a:solidFill>
                  <a:srgbClr val="000000"/>
                </a:solidFill>
                <a:latin typeface="Calibri"/>
              </a:rPr>
              <a:t>; y 'datos infomáticos' </a:t>
            </a:r>
            <a:r>
              <a:rPr b="0" i="1" lang="en-US" sz="700" spc="-1" strike="noStrike">
                <a:solidFill>
                  <a:srgbClr val="000000"/>
                </a:solidFill>
                <a:latin typeface="Calibri"/>
              </a:rPr>
              <a:t>como toda representación de hechos, información o conceptos expresados de cualquier forma que se preste a tratamiento informático, incluidos los programas diseñados para que un sistema informático ejecute una función</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uso del error de audio puede ser un poco más difícil. ¿Es una 'interceptación'? En el Reino Unido, los tribunales han sostenido que, para que se produzca una interceptación, debe haber algún tipo de ataque a la integridad o abstracción de la señal mientras se transmite en la red, aquí la grabación tiene lugar independientemente de la transmisión, a pesar de que el mismo se obtiene información si el dispositivo se colocó en la "líne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ocurre si la empresa coloca el registrador de claves en el sistema y está ansioso por garantizar que sus empleados no usen Internet con un propósito inadecuad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mayoría de los sistemas de telecomunicaciones viajan tanto en redes públicas como privadas. En el punto donde la comunicación deja su propiedad, pasa de un sistema privado a un sistema público. El controlador de un sistema privado tiene derecho a acceder a las comunicaciones que utilizan ese sistema; así, por ejemplo, podría monitorear las conversaciones en la línea telefónica de su hogar siempre que cualquier dispositivo técnico que utilice para hacerlo esté conectado al lado privado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cenario está diseñado para que los delegados consideren cada uno de los elementos de interceptación, que hay una interceptación de datos infomáticos en el curso de su transmisión por medios técnicos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delegados deben tener claro que esta disposición está diseñada para proteger el contenido de las comunicaciones en lugar de la información relacionada con el tratamiento del mensaje o el costo del servicio.</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Cuestion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El mensaje se está transmitiendo?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Puntos para discusió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 mayoría de los estados requieren que la policía establezca un alto umbral de sospecha antes de autorizar la interceptación del contenido de una comunicación. La obtención de pruebas sin la autoridad requerida puede dar lugar a la paralización del caso o la inadmisibilidad de las prueba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s computadoras e Internet facilitan una cantidad de formas diferentes de comunicación, por ejemplo, correo electrónico, mensajería instantánea, twitter, etc. Los mensajes se almacenarán con frecuencia antes de que el destinatario los recupere. ¿Hay un mensaje que todavía no se ha reintentado para que se lo considere en el curso de su transmisión? No hay forma de saber si el borrador del mensaje ha sido leído por el destinatario deseado. ¿Debería la ley otorgar la misma protección a aquellos que deliberadamente optan por subvertir los medios normales de envío de comunicaciones por correo electrónico a los que utilizan el correo electrónico, ya que fue diseñado para ser utilizado?</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ta es una forma bastante común para que los delincuentes se comuniquen entre sí. Si buscar o no acceder a dichos mensajes en una interceptación dependerá de la legislación nacional o de la actitud de los tribunales nacionales, pero puede valer la pena que los delegados se den cuenta de que si necesitan recurrir a la Asistencia Legal Mutua para obtener dichos datos, el estado requerido puede considerar es un interceptación, porque el acceso a los contenidos de una comunicación se busca tendrá un umbral legal más alto que necesita establecerse para obtener la autoridad judicial necesaria.</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Es esto una interceptació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mensaje de voz aún está en el curso de su transmisió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a habido una interceptación de datos infomático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asta que el mensaje haya llegado a su destino, es probable que aún se esté transmitiendo a pesar de estar almacenado dentro del sistema. El mensaje probablemente se está almacenando digitalmente en el servidor de las compañías telefónicas y, por lo tanto, Bobby ha accedido a los datos infomáticos. ¿Es un teléfono una computadora? Probablemente sí, ya que emprende el procesamiento automatizado de datos. Los agentes de policía que realizan búsquedas y encuentran teléfonos pueden necesitar considerar esto para asegurarse de que tienen la autoridad necesaria para acceder a dichos mensajes. Sería diferente si el destinatario hubiera escuchado el mensaje y hubiera optado por almacenarlo.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escenario planteó problemas similares al escenario anterior. Sirve para ilustrar lo que podría ser una situación bastante común que también se puede aplicar a los oficiales que ejecutan una orden de búsqueda para apoderarse de una computadora que contiene correo electrónico abierto y sin abrir. También sirve para ilustrar que la delito establecida en el Art. 3 se aplica a todas las formas de transferencia electrónica de datos, ya sea por teléfono, fax, correo electrónico o transferencia de archivos.</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cceso no autorizado de sí mismo puede constituir un delito de datos o ataque a la integridad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rrar la evidencia del acceso no autorizado es un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debe causar un daño grave al funcionamiento de la computadora antes de incurrir en responsabilidad pen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objetivo de estas disposiciones es proporcionar datos informáticos y programas informáticos con una protección similar a la que disfrutan los bienes corporales contra la imposición intencional de dañ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no estaba autorizado para acceder al sitio de la Fuerza Aérea, estaba protegido con contraseña. Por lo tanto, el acceso constituiría un delito de acceso ilíc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eliminado los datos, los archivos de registro y las insignias de la Fuerza Aérea. Aunque tal vez haya generado los archivos de registro, no son suyos, el sistema se configuró para registrar dicha actividad. Él no tiene derecho a eliminarlos. La Fuerza Aérea tal vez desee saber quién tiene acceso a su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 modificar la imagen en la página principal, ha eliminado y agregado datos al sistema, lo que, si bien es poco probable que haya resultado en la pérdida de información importante, sería una vergüenza para la Fuerza Aérea. Sin embargo, lo más importante es que Bobby puede afirmar que solo accedió al sistema para buscar información y que solo borró registros u otros datos sin importancia. ¿Algún administrador de sistemas puede confiar en la integridad de los datos después de dicha intrusión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se ha cometido un delito en estas circunstancias será una cuestión de interpretación local. Puede ser que el umbral de gravedad no se haya establecido. Sin embargo, el administrador del sistema probablemente se sienta obligado a desconectar el sitio para poder establecer el efecto de la intrusión, particularmente si el sitio al que se ha accedido contiene datos confidenciales o sensibles o si se usa en operaciones que, de ser ir mal pondría en peligro al público, como un sistema responsable de dirigir una central nucle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por razones de argumentación, el sistema al que accedió Bobby era el que solía operar una PowerStation nuclear, ¿los delitos establecidos en los artículos 4 y 5 serían adecuados para reflejar la gravedad de tal intrusión que equivale a un ataque a la infraestructura crítica nacional?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cometido un delito contrario a los artículos 4 o 5 la persona responsable de enviar el correo no desead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 habido algún acceso no autorizado a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han alterado los datos en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 habido algún daño en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unque no se ha causado ningún daño, el software provoca una alteración de los datos en la computadora de los usuarios. Esa alteración no fue autorizada ya que el usuario no recibió ninguna advertencia o se le pidió que consintiera de ninguna manera con la modificación de su computadora. ¿El envío de spam es ilegal o es simplemente una molestia? ¿Solo se vuelve ilegal cuando tiene un impacto advers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sucede si el correo electrónico no deseado contiene un archivo adjunto y una invitación al destinatario para abrir el archivo adjunto que dice "te gustará est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podría argumentar que el destinatario ha elegido y, por lo tanto, consintió en descargar datos a su computadora. Sin embargo, la realidad es que cualquier consentimiento que se haya otorgado no haya sido un consentimiento informado, aunque se puede argumentar que quienes elijan abrir archivos adjuntos de destinatarios desconocidos lo hacen bajo su propio riesg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ce alguna diferencia que al usuario no le importe si su computadora se convirtió en parte de 'bot net' o n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medida que viajamos por Internet visitamos sitios y descargamos datos sin prestar la debida consideración a la naturaleza del material que puede encontrarse en nuestra computadora, pero confiando en los nombres que los sitios web dan a sí mismos, los nombres de los archivos o los resultados devueltos por nuestro motor de búsqueda para tomar nuestras decisiones. Hacer clic en una imagen en miniatura de una imagen para adquirir una imagen de tamaño completo indica que conocemos los datos que estamos tratando de adquirir y un consentimiento completamente informado sobre la naturaleza de esos datos. Si hacemos clic en una imagen en miniatura de un automóvil solo para encontrar que la imagen de tamaño completo que hemos adquirido es la de un avión, no podemos decir que hemos dado nuestro consentimiento para la adquisición de esos dato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elige abrir un enlace a un sitio web, se descargarán muchos datos. Si el sitio es legítimo, la mayor parte de esos datos probablemente se relacionará con el contenido del sitio web, aunque una proporción puede consistir en anuncios publicitarios realizados por terceros. Una vez más, hemos tomado una decisión informada y hemos dado un consentimiento implícito para recibir el anuncio sabiendo que esta es una práctica común en Internet. Una práctica común en la industria de Internet es descargar datos al navegador de Internet de los usuarios, 'cookie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cookies realizan una variedad de funciones, incluida la grabación de un historial de navegación web de los usuarios. A un usuario se le dará la opción de desactivar la función de cookies en el navegador, ¿es tal opción suficiente para implicar que el usuario ha dado su consentimiento para la descarga de dichos datos?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s esto un delito de ataque a la integridad del sistema?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Cuestiones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nviar un correo electrónico implica acceder o intentar acceder a un sistema informático, el servidor de correo electrónico.</a:t>
            </a:r>
            <a:r>
              <a:rPr b="0" lang="en-US" sz="900" spc="-1" strike="noStrike">
                <a:solidFill>
                  <a:srgbClr val="000000"/>
                </a:solidFill>
                <a:latin typeface="Calibri"/>
              </a:rPr>
              <a:t> ¿En qué medida el propietario de dicho servidor autoriza tal acceso?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i tiene una dirección de correo electrónico, ¿no significa que está invitando a otros a enviarle mensajes de correo electrónico?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untos para discusión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a pregunta es una de derecho. Bobby ha accedido a un sistema y ha causado el colapso del sistema al introducir datos. Al establecer una dirección de correo electrónico que sea accesible al público, el propietario de la dirección da su consentimiento implícito para la recepción de mensajes. Bobby podría argumentar que la policía ha consentido recibir cada correo electrónico individual y que no es su culpa que su sistema carezca de la capacidad para manejar tantos mensajes. Pero, ¿han sido realmente su consentimiento? El propietario de una casa otorga un consentimiento implícito para que el cartero publique cartas a través de su buzón que están dirigidas al propietario. También hay un consentimiento implícito para recibir correos "basura" como publicidad de pizza. Sin embargo, el propietario no acepta recibir tanta publicidad de pizza que no puede abrir su puerta de entrada.</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o podría decirse también que al alterar los detalles del remitente del correo electrónico, el acceso al servidor de correo electrónico se ha obtenido mediante fraude? No se otorga consentimiento para la recepción de tales correos electrónicos 'falsificados'.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i bien este escenario se refiere a los correos electrónicos, el principio es bueno para aquellos que buscan hacer colapsar los sitios web a través de un ataque de denegación de servicio por el cual el sitio no puede manejar el volumen de tráfico dirigido hacia él. Conectarse a un sitio web implica el intercambio de datos entre la computadora de los usuarios y el sitio web. Problemas similares en cuanto al consentimiento implícito para conectarse al sitio surgen como se discutió en relación con los mensajes de correo electrónico.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 contrario al Art.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provocado una supresión de los datos almacenados en el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obstaculizado el funcionamiento de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guna de esas supresiones de datos u obstáculos para el funcionamiento del sistema ha sido incorrect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respuesta del administrador del sistema al correo electrónico de Bobby significa que el servicio ha sido denegado a los usuarios del sistema. Por lo tanto, se ha suprimido el acceso a los datos almacenados en el sistema, aunque es probable que la restricción de acceso sea temporal. El delito no requiere que los datos estén permanentemente no disponibl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emos discutido en qué medida el propietario de una dirección de correo electrónico otorga su consentimiento para la recepción de datos de tercero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rt. 5 se refiere a los sistemas informáticos, es decir, a una o más computadoras conectadas entre sí. ¿Hay una computadora solitaria conectada a Internet como parte de un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computadora de trabajo de la esposa de Bobby es más probable que no sea parte de un sistema, probablemente sea parte de una LAN (red de área local) o WAN (red de área extensa) o intranet. ¿Bobby ha obstaculizado el funcionamiento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odría argumentar que no es responsable de la denegación del servicio y que no tenía intención de provocar tal evento, de hecho, todo lo contrario, quería que el sistema siguiera funcionando para poder averiguar qué estaba tramando su esposa. Con frecuencia, los ataques de denegación de servicio son insuficientes para deshabilitar un sitio web; sin embargo, los proveedores de servicios desconectarán el sitio para minimizar el efecto del ataque en sus sistemas y minimizar los inconvenientes para otros client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este escenario, Bobby no parece tener la intención necesaria para un delito del Art. 5, aunque esto no significa, por supuesto, que escape a la responsabilidad pe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 un ejemplo de virus troyano que es una forma común para que los delincuentes cibernéticos accedan a las computadoras de otro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2 se extiende al acceso a la totalidad o parte de un sistema informático. Esta diapositiva explica a través de ejemplos qué significa el término "parte del sistema informático".</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Es un delito hacer que el Supergun esté disponible para descarga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Es un delito estar en posesión del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 hecho de que el Supergun se puede utilizar para un propósito legítimo significa que no se puede presentar un enjuiciamient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Hacer que Supergun esté disponible para ser descargado equivale a distribuc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os delitos a los que se refiere este artículo son: acceso no autorizado, interceptación ilegal y ataque a la integridad de los datos y del sistem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 bien el software fue originalmente de doble uso, eso tiene una función legítima, ahora que la interfaz de usuario ha sido modificada. ¿Significa esto que su posesión, etc. es un delit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irando hacia atrás a nuestros estudios de casos anteriores, el software 'acceder a todas las áreas' utilizado por Bobby para obtener acceso a la computadora de su esposa tiene un uso legítimo. Programas como este permiten a los usuarios acceder a sus propias computadoras de forma remot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é pasa con la posesión de software de descifrado de contraseñas de Bobby? ¿Sería esto un delito? Puede ser un problema de intención, ¿qué razón legítima tiene para poseer dicho software? ¿Hay alguna evidencia que demuestre que ha intentado implementar este software para cometer un delito?</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delito no está diseñado para ser utilizado para criminalizar a proveedores y usuarios de software legítimos. Donde, como aquí, la evidencia de una intención maliciosa, tal vez no surja el problema. Sin embargo, los involucrados en el delito cibernético también participan con frecuencia en actividades legítimas de Internet y bien pueden ser profesionales de la industria que usan y desarrollan dicho software, pero que, cuando la oportunidad se presenta, están preparados para desplegarlo en fomento de actividades ilegales. ¿Qué hay de los comerciantes? ¿Cómo se supone que deben saber qué intención podría tener un cliente en relación con una pieza de hardware o software en particular. ¿Es el ámbito del delito demasiado vago?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bricación, producción, distribución, uso o posesión de dicho software constituye un delit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os estamos siendo instados constantemente a mantener nuestros datos seguros. Si bien dicho programa es obviamente útil para quienes se dedican a la delincuencia y, en particular, aquellos que temen que los contenidos de sus computadoras puedan incriminarlos, el programa no está siendo utilizado por ellos para cometer un delito sino que se utiliza para ocultar evidenci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ncuentes cibernéticos pueden utilizar otros programas o sistemas para evitar la detección, incluidos los usuarios de redes anónimas que les permiten navegar por Internet sin revelar su verdadera dirección IP o programas de eliminación de pruebas que pueden borrar el contenido de un disco duro.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Nick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La compañía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Júpiter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dispositivo ha sido diseñado o adaptado principalmente con el propósito de cometer delitos penales designado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os ciberdelincuentes pueden acceder a una variedad de herramientas que les permiten cometer delitos o que les ayudarán a hacerlo. Es posible comprar el código que le permitirá construir su propio 'bot', comprar una 'red de bot' o comprar acceso a una red de bot que permitirá al usuario llevar a cabo diversos tipos de delitos como 'phishing'.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Júpiter utilizará este programa para obtener información financiera de los usuarios que pueda ser explotada por él mismo o por otros. La compañía presumiblemente pensó que Nick había producido esto durante el curso de su empleo. Nick es inocente e inadvertidamente ha ayudado a Júpiter a crear una poderosa herramienta criminal. Ni Nick ni la compañía tienen la intención criminal requerida. ¿Sería diferente si Júpiter vendiera el programa a otras compañías que desearan monitorear la actividad de Internet de sus empleados? ¿Podría Júpiter argumentar que el software tiene un propósito legítimo a pesar de su obvia atracción por los delincuente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é delito ha cometido Stefan?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producción de los giros bancarios es una falsificación informática?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delito solo se completa una vez que el empleado del banco acepta el borrador como genuino?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creación del giro bancario implica ingresar datos no auténticos en una computadora, es decir, que el giro se ha realizado a favor de Stefan. Sin embargo, ¿se ha hecho esto de forma ilegítima o Stefan tiene el derecho de producir dicho documento en su propia computadora? Stefan puede tener la intención de usar el borrador para defraudar al banco, pero, por el motivo que sea, puede que nunca llegue a imprimir el borrador. ¿Marca la diferencia en la responsabilidad de Stefan si el documento se produce alguna vez en papel?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delito no fue creado para enfrentar este tipo de situaciones, aunque puede servir si la legislación interna no criminalizara la producción de un borrador bancario falsificado. Estos delitos se pueden considerar mejor en términos de responsabilidad secundaria, como la tentativa.</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delito está realmente dirigido a aquellos que usan una computadora como el mecanismo para cometer la delito. Por lo tanto, cuando actúa de buena fe, el empleado del banco ingresa los datos suministrados por Stefan aceptando que los datos son auténticos.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Es esto un delito informátic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atos que han sido alterados no serán procesados ​​para ningún propósito legal.</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efan ha alterado los datos y ha introducido datos no auténticos. Está claro que este acceso y alteración no son acciones correctas. Dejando de lado las otros delitos que Stefan pudo haber cometido, es dudoso que haya cometido una falsificación informática, ya que no se tomarán medidas con estos fines legales.</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relacionado con la falsificación no se refiere a ganancias financieras o de otro tipo. Esos delitos entran dentro del ámbito del fraude relacionado con la informática. Este artículo busca garantizar la seguridad y fiabilidad de los datos electrónicos que pueden tener consecuencias para las relaciones jurídicas. El término "para fines legales" se refiere a transacciones y documentos que son legalmente relevantes.</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obby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mensaje de Bobbie es fals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i el mensaje no era cierto, ¿ha perdido otra persona como resultado?</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ie ha obtenido una ventaja económic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i el mensaje publicado por Bobby no es cierto, entonces puede haber cometido un delito. Él ingresó datos falsos en una computadora y obtuvo un beneficio económico para sí mismo al aumentar el precio de las acc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conexión causal entre el ingreso de los datos y el efecto es remot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y ha causado una pérdida a otro? Podría decirse que sí, ya que las acciones se valoran incorrectamente y, en algún momento, presumiblemente caerán. Sin embargo, debe reconocerse que el mercado de acciones es extremadamente volátil, ¿no es el valor de una acción el precio que cualquiera está dispuesto a pagar por él en un momento determinado? ¿Alguien ha sido defraudado? ¿Este tipo de rumores y mensajes no abundan en Internet? ¿Alguien realmente va a creer en esta publicación o no la verá como un torpe intento de manipular el precio de las acciones? ¿Esto significa que no podemos mentir en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tefan cometió un delit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la máquina de estacionamiento una computadora?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 que la máquina de estacionamiento produzca tickets automáticamente y ningún ser humano haya sido engañad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ál es el status del ticket de estacionamient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máquina de estacionamiento es una computadora, procesa datos que calculan la cantidad de dinero ofrecida contra la tarifa de estacionamiento y emiten un ticket por el período de tiempo apropiado. Stefan ha introducido datos no auténticos, la arandela en lugar de la moneda apropiada. El Art. 7 no exige que un ser humano haya actuado sobre la base de los datos suministrado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ticket de estacionamiento es una falsificación, los datos utilizados para crearlo eran falsos y se produjeron para que una persona, el encargado del aparcamiento, lo considerara genuino y no le diera a Stefan un ticket de estacionamiento.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 posesión de estos datos es un delit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é status tienen los archivos de computadora? ¿Son 'cosas' legales a pesar del hecho de que todo lo que contienen es una cadena de código binari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l Reino Unido, es un delito grave estar en posesión de un artículo para usar en fraudes. El artículo incluye un archivo informático. Por supuesto, es necesario demostrar la intención necesaria, pero es difícil argumentar una razón legítima para tener posesión de datos de este tip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ede ser que esto se pueda considerar un delito preparatorio.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Qué delitos ha cometido Adá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iniciones de producción, adquisición y distribu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am ha descargado archivos de imagen de Internet. ¿La descarga equivale a la producción de tal imagen? Descargar y, en particular, guardar una imagen en una computadora no es como ver la televisión. El acto de descargar crea algo nuevo, un archivo informático. Por lo tanto, ver imágenes en Internet implica la creación de nuevas imágenes. Los fiscales pueden encontrar este concepto út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redes de intercambio de archivos punto a punto permiten a los miembros acceder a los archivos puestos a su disposición por otros miembros de la red. Al colocar las imágenes en la carpeta compartida, Adam las pone a disposición para su distribución.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Puede Bill ser procesado con respecto a las imáge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cció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ción de delito sustantivo, estar en posesión de una imagen o hacerl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uede haber problemas jurisdiccionales en relación con la creación de las imágenes, ya que parecen haber sido producidas en el extranjer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posesión no debería ser un problem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ál sería la posición si todas las imágenes se encontraran en un espacio no asign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posesión requiere conocimiento y control. Bill puede saber ahora que las imágenes que se eliminan aún pueden estar disponibles en el disco duro, y a menos que tenga los medios técnicos y la experiencia, nunca podrá recuperarlos. Sin embargo, permanecen (sujeto a cuestiones jurisdiccionales) para que un fiscal le enjuicie por hacer la imagen o por poseer las imágenes en el pas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ál sería la situación si las imágenes fueran de niños desnudos de 3 a 7 años jugando en la playa y Bill explica que es naturista pero acepta que obtiene satisfacción sexual al mirar las imágene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 esas imágenes son ilegales es una cuestión de interpretación local. En el Reino Unido generalmente exigimos que las imágenes tengan un elemento sexual y consideramos que la motivación del fotógrafo es irreleva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Quién decide qué imagen es ilegal? ¿Es el ámbito del delito lo suficientemente claro?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ómo demostrar que John es responsable de las imáge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impacto en los sospechosos acusados ​​de delitos de pedofilia.</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método de ocultar imágenes no es infrecuente. Los grupos publicarán enlaces a las imágenes. Sin embargo, puede ser peligroso confiar solo en la dirección IP para obtener una orden de búsqueda sin entender cómo esa dirección IP se registró en el sitio, podrían haber sido referidos por otro sitio inocentemente y no haber pasado a acceder a cualquier imagen una vez que se dieron cuenta de lo que eran. Por supuesto, pueden haber visitado en más de una ocasión o haber accedido a varias imáge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uede usar esto para discutir la atención necesaria antes de acusar a un individuo de ser un pedófilo. Hay una alta tasa de suicidios entre las personas acusadas de estos delitos. Como en todos los casos de delitos cibernéticos, debe poder ubicar al sospechoso en el teclado en el momento pertinente, una dirección IP puede ser utilizada por un número de personas en la misma dirección o la red inalámbrica puede haber sido secuestrada por otra persona. Las acusaciones de este tipo pueden tener un efecto devastador en un individuo inocente.</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Oswald cometió un delit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Cuestion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 cometido Oswald un delito sustantivo o una de responsabilidad secundari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y problemas con la jurisdicció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mporta que el sitio web de EE. UU. esté completamente automatizad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é decimos sobre el uso del programa de eliminación de evidencia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untos para discusió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no posee ninguna imagen y no podemos probar que alguna vez haya accedido a un sitio web para ver esas imágenes, aunque podemos probar que pagó una suscripción para poder hacerlo. Sin embargo, Oswald ha pagado dinero para persuadir a otra persona, el propietario del sitio web en los EE. UU. para que distribuya o ponga a disposición imágenes de abuso infantil para su distribución. Por lo tanto, ¿esto constituye un delit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 el sitio web de EE. UU. esté totalmente automatizado, significa que ningún ser humano está realmente involucrado en el procesamiento de los detalles de la tarjeta de crédito. Aun así, el proceso fue creado y administrado y mantenido por una persona que se está beneficiando financieram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uso de un programa de eliminación de pruebas no es, en sí mismo, ilegal. A menos que Oswald haya podido activar el programa durante el curso del investigación policial, es poco probable que haya cometido un delito relacionado con la administración de justicia. Sin embargo, si se procesa a Oswald, el uso de tales programas puede ser considerado como una característica agravante por el tribunal.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realizar cualquier pregunta relacionada con la Parte tres de la lección.</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67E30-B626-43A8-88B2-734FE91C8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2D302-D917-47D0-B2FF-460C25A2E7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recapitular/poner a prueba el conocimiento sobre los siguientes pu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el Convenio de Budapes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siciones legales sustantivas pertinentes de las discusiones de estudios de casos</a:t>
            </a: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DA9E6-ACC8-4EC0-BF06-E8B6E73834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correspo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hay otros ejercicios prácticos preparad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valu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verificar el conocimiento haciendo preguntas relevantes de cada uno de los aspectos de la sesión.</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AE9FE-2279-46DC-9533-4DC8CFCDB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La autoridad puede ser legislativa, administrativa, judicial, contractual o consensual en cualquier caso dado. La conducta autorizada no está criminalizada; ni es el acceso de un sistema informático que permite el acceso libre y abierto por parte del público.</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Partes pueden reducir el alcance del Art. 2, que establece la penalización general del acceso ilícito, con ciertos elementos que lo califican. Por ejemplo, las Partes pueden exigir que la conducta de acceso ilícito se realice infringiendo medidas de seguridad (por ejemplo, contraseñas u otros códigos de acceso) o con un propósito deshonesto u obtener datos informáticos del sistema informático al que se accede o cualquier otro sistema informá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todos los elementos que las Partes pueden desear adoptar en su legislación nacional.</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ilegal, descrita en el Art. 3 del Convenio de Budapest, también es una infracción intencional. Es cometida por aquellos que, de forma ilegítima, interceptan, por medios técnicos, las transmisiones no públicas de datos informáticos, hacia, desde o dentro de un sistema informático, por medios técn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ción protege la integridad de las transmisiones no públicas de datos informáticos, penalizando su interceptación no autoriza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transmisiones de datos a un sistema informático, desde ese sistema o dentro del mismo sistema son realidades más relevantes en la vida actual en las red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écnicamente, puede ser muy fácil interceptar las comunicaciones si la red y la comunicación no están protegidas adecuadamente. Una interceptación de comunicaciones puede revelar, por ejemplo, qué sitios web visitó alguien, o los mensajes de correo electrónico que envió o recibió.</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interceptación ilegal tiene como objetivo, por lo tanto, hacer frente a la vulnerabilidad de la tecnología de las comunicaciones, protegiendo el secreto de las comunicaciones no pública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ción protege la integridad de las transmisiones no públicas de datos informáticos, penalizando su interceptación n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transmisiones de datos a un sistema informático, desde ese sistema o dentro del mismo sistema son realidades más relevantes en la vida actual en l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écnicamente, puede ser muy fácil interceptar las comunicaciones si la red y la comunicación no están protegidas adecuadamente. Una interceptación de comunicaciones puede revelar, por ejemplo, qué sitios web visitó alguien, o los mensajes de correo electrónico que envió o recibió.</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interceptación ilegal tiene como objetivo, por lo tanto, hacer frente a la vulnerabilidad de la tecnología de las comunicaciones, protegiendo el secreto de las comunicaciones no pública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tiene c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se centrará en el derecho penal sustantivo del Convenio de Budapest sobre el delito ciberné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penal sustantivo nacional, será el objeto de la Parte 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tres se enfocará en estudios de cas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se presentará un resumen de todas las partes en la Parte cuatro.</a:t>
            </a:r>
            <a:endParaRPr b="0" lang="en-US" sz="1200" spc="-1" strike="noStrike">
              <a:solidFill>
                <a:srgbClr val="000000"/>
              </a:solidFill>
              <a:latin typeface="Calibri"/>
            </a:endParaRPr>
          </a:p>
        </p:txBody>
      </p:sp>
      <p:sp>
        <p:nvSpPr>
          <p:cNvPr id="4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6E80A-2CFE-4FAC-B885-97A459DC2F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se refiere a escuchar, monitorear o vigilar las comunicaciones. La interceptación afecta la privacidad de las comunicaciones de datos. El Art. 3 del Convenio tiene como objetivo proteger contra la interceptación de transmisiones de datos no pública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caso de interceptación, es posible que la conducta se realice con autorización, posiblemente por oficiales de la ley o personas autorizadas para realizar actividades de prueba o protección. Por lo tanto, la interceptación legítima realizada "lícitamente" no está comprendida en el ámbito del Art.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3 no prevé la penalización de la interceptación no técnica de transmisiones, y se aplica cuando una persona accede y utiliza un sistema informático para interceptar una transmisión, utiliza un dispositivo electrónico de interceptación o escucha o cualquier otro medio técnico. Esta diapositiva enumera algunos ejemplos de formas de interceptación que entrarían dentro del alcance del Art.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de las transmisiones públicas no es un delito en virtud del Art. 3, que especifica que el alcance del artículo se refiere únicamente a las transmisiones que no son públicas. Es importante distinguir entre transmisiones no públicas y datos no públicos ya que el Art. 3 no toma en consideración la naturaleza de los datos, sino más bien la transmisión. Por lo tanto, la interceptación de información confidencial comunicada a través de una transmisión de datos a disposición del público no constituiría un delito, mientras que la interceptación de información públicamente disponible transmitida a través de una transmisión no pública de datos constituiría un delito en virtud del Art.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de transmisiones hacia, desde o dentro de un sistema informático está penalizada. Esta diapositiva proporciona ejemplos que explican el alcance del Art. 3 a este respecto, y la diferencia entre estos tres elemento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cubriría los siguientes pu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el Convenio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la legislación nacional vig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necesidades y las ventajas de la armonización entre la legislación nacional y los instrumentos internacionales, en particular el Convenio de Budapest.</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EB460-558A-476C-B7EF-CD94E08E81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la interceptación de datos informáticos, el Convenio de Budapest también penaliza la interceptación de transmisiones de emisiones electromagnéticas, que no entran en la definición del Convenio de Budapest de "datos informáticos" en virtud del Art. 1. Los sistemas informáticos a menudo realizan emisiones electromagnéticas que contienen datos. La interceptación de emisiones electromagnéticas ha sido criminalizada, ya que es posible reconstruir los datos informáticos de las emisiones electromagnéticas y, por lo tanto, dejar este elemento no criminalizado dejaría una laguna en la ley.</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3 prevé la penalización general de la interceptación intencionada ilegítima, realizada por medios técnicos, de transmisiones no públicas de datos informáticos. Las Partes pueden limitar el alcance del Art. 3 al exigir que se cumplan ciertos elementos de calificación. Los elementos calificativos que las partes pueden adoptar se enumeran en esta diapositiva.</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ducta deliberada e ilegítima, daño, eliminación, deterioro, alteración o supresión de los datos informáticos constituirá el delito de ataque a la integridad de los datos según lo dispuesto en el Art. 4 del Convenio de Budapes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taque a la integridad de los datos protege la integridad de los datos contra ataque a la integridads no autorizadas. El propietario de los datos tiene derecho a mantenerlos tal como están, ya que el propietario de un bien, en la vida real, tiene derecho a mantener su propiedad a salvo de la ataque a la integridad de los demás. En algunas jurisdicciones, el daño regular y clásico también cubre la ataque a la integridad de los datos; en otros, es necesario describir por separado el daño en los datos informáticos o la ataque a la integridad de los dat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n enfrenta el gran aumento de datos relevantes (datos informáticos) a la vida moderna. Los datos informáticos son muy vulnerables y pueden ser fácilmente destruidos o manipulados. Esta regla criminal protege su integridad y su disponibilid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casos más frecuentes de ataque a la integridad de los datos es el resultado de la acción de virus, que de forma ilegítima se instalan en la computadora de la víctima y, por ejemplo, eliminan datos.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ñar y deteriorar los datos informáticos de forma ilegítima se refiere a la alteración negativa de la integridad o el contenido de información de los datos y programas. Ambos términos son actos superpuesto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se refiere a la destrucción de datos y los resultados en los datos eliminados se vuelven irreconocibles.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legales sustantivas pertinentes basadas en los debates relacionados con los estudios de casos presentados.</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83E6F-AAE1-4989-A774-35D3E78FAF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lteración se refiere a la modificación de los datos existentes (pero no a la eliminación de los mismos). Los datos pueden ser alterados de varias maneras; incluida la entrada de códigos maliciosos como virus y caballos de Troya.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upresión de datos se refiere a cualquier acción que impida o finalice la disponibilidad de los datos a la persona que tiene acceso a los datos o al medio de almacenamiento en el que están almacenados. A diferencia de la eliminación de datos, la supresión de datos no implica la destrucción de datos, sino la falta de disponibilidad de dato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muchos casos, es posible que una persona que está interfiriendo con los datos lo esté haciendo "lícitamente". Esta diapositiva enumera ciertos ejemplos en los que una persona puede interferir legítimamente con los datos sin atraer responsabilidad penal en virtud del Art.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el delito de ataque a la integridad de los datos tiene un amplio alcance, las partes pueden optar por restringir este delito al exigir que la conducta resulte en un daño grave. No se proporciona una definición específica de daño grave según el Art. 4, y los criterios pueden determinarse según la legislación nacional.</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taque a la integridad del sistema es la obstaculización del funcionamiento de un sistema informático: la obstaculización grave: El Art. 5 del Convenio de Budapest no cubre la obstaculización no grave. Este efecto puede ser el resultado de ingresar, transmitir, dañar, borrar, deteriorar, alterar o suprimir datos informáticos, si esto se comete de forma deliberada e ilegítima.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specto particular excluye, en general, por ejemplo, las pruebas de seguridad, realizadas por el administrador de la red. Esta infracción abarca una amplia gama de actos que pueden interferir con el funcionamiento normal y adecuado de una red. De hecho, el Convenio de Budapest reconoce la importancia de los sistemas de comunicación y de la tecnología informática en la vida cotidiana. La disponibilidad de estos sistemas es crucial para el funcionamiento regular de las actividades públicas, económicas y sociales. Pero este tipo de delito no solo cubre las ataque a la integridads a gran escala, como los ataques de denegación de servicio.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luso pequeñas acciones, solo contemplar una computadora, pueden ser ataque a la integridad del sistema; será el caso de bombardeo de correo dirigido a una sola dirección de correo electrónico. De hecho, siempre habrá un delito de ataque a la integridad del sistema cuando un perpetrador se dirija a un sistema informático con más solicitudes de las que ese sistema puede gestionar.</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elito prevé proteger el acceso a las redes de comunicación, protegiendo tanto a los operadores del sistema como al usuario final.</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rimer tratado internacional sobre cibercrimen, el Convenio de Budapest tiene como objetivo facilitar y desarrollar la cooperación internacional en investigaciones pe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as dos sesiones, la atención se centrará en el derecho penal sustantivo, es decir, aquellos delitos que el Convenio de Budapest exige que cada país tipifique como delito en la legislación nacional.</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A06EE-5A8A-4C66-83E5-3196F8D049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5.</a:t>
            </a:r>
            <a:r>
              <a:rPr b="0" lang="en-US" sz="1200" spc="-1" strike="noStrike">
                <a:solidFill>
                  <a:srgbClr val="ff0000"/>
                </a:solidFill>
                <a:latin typeface="Calibri"/>
              </a:rPr>
              <a:t> La explicación de este elemento y el elemento mostrado en la diapositiva anterior se proporcionan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ataque a la integridad del sistema requiere una conducta que obstaculice el correcto funcionamiento de un sistema informático. El Art. 4 especifica que dicha obstaculización debe tener lugar mediante (i) introducción (ii) transmisión (iii) alteración perjudicial (iv) y (v) supresión de datos informáticos. Las explicaciones de cada uno de estos términos ya se han discutido bajo el delito de ataque a la integridad de los datos (Art. 4), y las mismas explicaciones se aplicarán a la ataque a la integridad del sistema.</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5.</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5 tipifica como delito la </a:t>
            </a:r>
            <a:r>
              <a:rPr b="1" lang="en-US" sz="1200" spc="-1" strike="noStrike">
                <a:solidFill>
                  <a:srgbClr val="000000"/>
                </a:solidFill>
                <a:latin typeface="Calibri"/>
              </a:rPr>
              <a:t>obstaculización grave</a:t>
            </a:r>
            <a:r>
              <a:rPr b="0" lang="en-US" sz="1200" spc="-1" strike="noStrike">
                <a:solidFill>
                  <a:srgbClr val="000000"/>
                </a:solidFill>
                <a:latin typeface="Calibri"/>
              </a:rPr>
              <a:t> del funcionamiento de un sistema informático y no el mero impedimento del sistema informático que no es de naturaleza grave. Este elemento se ha incluido para reducir el alcance del delito y evitar la sobrecriminalización de obstáculos que no son graves en su naturaleza. La gravedad de un obstáculo se determinará en virtud de la legislación nacional y puede incluir el envío de datos a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muchos casos, es posible que una persona que está interfiriendo con un sistema informático lo haga "lícitamente". Esta diapositiva enumera ciertos ejemplos en los que una persona puede interferir legítimamente con un sistema informático sin atraer responsabilidad penal en virtud del Art.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Una de las infracciones más complejas descrita en el Convenio de Budapest es el delito de abuso de dispositivos: Artículo 6.</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igual que con otros delitos, la acción del perpetrador debe ser deliberada e ilegítima. Cubre una amplia gama de actividades, todas relacionadas con dispositivos que pueden ser mal utilizados.</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es un delito muy "nuevo", no incluido en la Recomendación de 1989. También es muy innovador: los hechos descritos anteriormente no fueron reconocidos como delito en muchas de las legislaciones nacionales.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encialmente, prohíbe a.</a:t>
            </a:r>
            <a:r>
              <a:rPr b="0" lang="en-US" sz="1100" spc="-1" strike="noStrike">
                <a:solidFill>
                  <a:srgbClr val="000000"/>
                </a:solidFill>
                <a:latin typeface="Calibri"/>
              </a:rPr>
              <a:t>	</a:t>
            </a:r>
            <a:r>
              <a:rPr b="0" lang="en-US" sz="1100" spc="-1" strike="noStrike">
                <a:solidFill>
                  <a:srgbClr val="000000"/>
                </a:solidFill>
                <a:latin typeface="Calibri"/>
              </a:rPr>
              <a:t>la producción, venta, obtención para su utilización, importación, difusión u otra forma de puesta a disposición de cualquier dispositivo, incluido un programa informático, concebido o adaptado principalmente para la comisión de cualquiera de los delitos previstos en el Convenio.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el mismo modo, criminaliza la venta de contraseñas de computadora, código de acceso o datos similares mediante los cuales se puede acceder a la totalidad o a una parte de un sistema informático. Con esta disposición, el Convenio reconoce la necesidad de incriminar el floreciente y cada vez más importante "mercado secundario" de "equipamiento habilitante para delinquir": hackers vendiendo en línea sus herramientas comerciales, kits de virus de fabricación propia ampliamente disponibles en línea y venta al por mayor de contraseñas que fueron robados usando troyanos y otros dispositivos. Esto significa que el pirateo en un sistema informático ya no es exclusivo de programadores altamente calificados. Cada criminal "regular" puede comprar fácilmente las herramientas necesarias, o directamente las contraseñas robadas: muy a menudo el vendedor criminal ofrecerá también un "servicio al cliente" y ayudará a su cliente a configurar su computadora para la comisión de un delito.</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detalles más discutidos del Art. 6 se refiere a 1, b, que (aún de forma deliberada e ilegítima) incrimina la posesión de un dispositivo con la intención de que se use con el propósito de cometer cualquiera de los delitos establecidos en los Artículos 2 a 5 del Convenio (acceso ilícito, interceptación ilícita, ataques a la integridad de los datos y ataques a la integridad del sist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opción es similar a lo que algunas jurisdicciones llaman "actos preparatorios" que, en este caso, ya están penalizados de manera autónoma.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objetivo principal es armonizar la legislación sustantiva entre las Partes para permitir la cooperac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defi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contra la confidencialidad, integridad y disponibilidad de sistemas informáticos y datos: acceso ilícito, interceptación ilegal, ataque a la integridad de los datos, ataque a la integridad del sistema, abuso de disposi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informáticos: falsificación informática, fraude informá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relacionados con el contenido: Delitos relacionados con la pornografía infantil, delitos relacionados con infracciones de derechos de autor y derechos conex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2E3342-C858-439A-B614-1046F0BBE1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 6, </a:t>
            </a:r>
            <a:r>
              <a:rPr b="0" lang="en-US" sz="1200" spc="-1" strike="noStrike">
                <a:solidFill>
                  <a:srgbClr val="ff0000"/>
                </a:solidFill>
                <a:latin typeface="Calibri"/>
              </a:rPr>
              <a:t>§2 y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s posible que una persona tenga derecho a producir y poner en el mercado dispositivos que puedan estar comprendidos en el alcance del Art. 6, incluyendo dónde tales dispositivos deben ser utilizados para pruebas autorizadas o para la protección de sistemas informáticos.</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6 tipifica como delito producir, vender, adquirir para su uso, importar, distribuir o poner a disposición dispositivos diseñados o adaptados principalmente con el propósito de cometer delitos cibernético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6 se extiende no solo al uso indebido de dispositivos, sino también a programas informáticos. Esto significa que el Art. 6 incluye la producción, venta, etc. de programas diseñados para alterar o destruir datos o interferir con el funcionamiento de los sistemas informáticos. Esto significa que los programas de virus que no están contenidos en los dispositivos también entran dentro del alcance del Art.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redactores del Convenio tuvieron que decidir si incluir o excluir dispositivos de doble uso del ámbito del Art. 6. La inclusión de dispositivos de doble uso puede haber dado lugar a una criminalización excesiva de la producción y distribución de dispositivos, a pesar de que los mismos se produjeron y distribuyeron para fines no delictivos. La exclusión de los dispositivos de doble uso sería demasiado estrecha, ya que requeriría que se demostrara que los dispositivos se producen específicamente y con el objetivo de cometer delitos cibernéticos. El Convenio ha adoptado un enfoque equilibrado según el cual los dispositivos diseñados o adaptados </a:t>
            </a:r>
            <a:r>
              <a:rPr b="1" lang="en-US" sz="1200" spc="-1" strike="noStrike">
                <a:solidFill>
                  <a:srgbClr val="000000"/>
                </a:solidFill>
                <a:latin typeface="Calibri"/>
              </a:rPr>
              <a:t>principalmente</a:t>
            </a:r>
            <a:r>
              <a:rPr b="0" lang="en-US" sz="1200" spc="-1" strike="noStrike">
                <a:solidFill>
                  <a:srgbClr val="000000"/>
                </a:solidFill>
                <a:latin typeface="Calibri"/>
              </a:rPr>
              <a:t>, pero no exclusivamente, para la comisión de un delito cibernético están cubiertos por el artículo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cción se refiere a una de las categorías más importantes de delito cibernético: delitos contra la confidencialidad, integridad y disponibilidad de datos y sistemas informáticos. Esto se puede llamar cibercrimen en el sentido estricto.</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l uso indebido de dispositivos y programas informáticos, el Art. 6 también penaliza la producción, venta, etc. de códigos de acceso, contraseñas de computadora y otros datos similares que permiten el acceso a la totalidad o parte de un sistema informático.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producir o distribuir dispositivos, programas informáticos, contraseñas, códigos de acceso, etc., el Art. 6 también penaliza la posesión de los mismos si así se posee con la intención de cometer un cibercrimen.</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tos informáticos son delitos cometidos por medio de un sistema informático. Estas infracciones son nuevas modalidades de delitos tradicionales, pero solo pueden comprometerse dentro del entorno digital y no pueden suceder fuera de este mundo virtual.</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lsificación informática, descrita en el Art. 7 del Convenio de Budapest, es una modalidad particular de falsificación. En la mayoría de los países, la falsificación es una infracción penal tradicional. Pero, normalmente, se refiere a objetos tangibles y, en ocasiones, no se puede utilizar para criminalizar la falsificación informática o la falsificación de datos informáticos. Ese fue el motivo de la introducción en el Convenio del Art.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e punto, el Convenio tiene como objetivo introducir un delito paralelo a la falsificación tradicional de documentos (documentos tangibles). Pero en este caso, el objeto del crimen son los datos informáticos. Este delito es cometido por aquellos que acceden, alteran, eliminan o suprimen datos informáticos, lo que da como resultado datos no auténticos con la intención de que esos datos sean considerados o adoptados con propósitos legales como si fueran autén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n requiere, por supuesto, una acción deliberada e ilegítima.</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7.</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cuatro medios por los cuales puede ocurrir la falsificación de un documento genuino en virtud del Art. 6. Estos s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ada de datos correctos o incorrectos (en el momento de la creación o entrada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ificaciones posteriores (incluyendo modificaciones, variaciones o cambios parcial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ción (eliminación de datos del medio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retención u ocultación de datos)</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7.</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l requisito de que la falsificación relacionada con la computadora se cometa de forma deliberada, el Art. 7 también exige que una persona cometa la conducta necesaria con la intención de que el documento falsificado sea considerado o actuado con fines legales (es decir, transacciones legales y documentos que son legalmente relevantes). Además, las Partes pueden exigir que la conducta se cometa con la intención de estafar a otra person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acceso ilícito es cometido por quienes acceden a la totalidad o parte de un sistema informático de manera ilegítima. Esta acción debe ser intencional y está descrita en el Artículo 2 del Convenio de Budapest.</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raude informático, descrito en el Art. 8 del Convenio de Budapest es</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8.</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cuatro medios por los cuales se puede causar la pérdida de la propiedad de otra persona. Estos s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ada de datos correctos o incorrectos (en el momento de la creación o entrada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ificaciones posteriores (incluyendo modificaciones, variaciones o cambios parcial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ción (eliminación de datos del medio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retención u ocultación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aque a la integridad (con el funcionamiento de un sistema informático)</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68ED8-5182-4CD1-87F9-652518B294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8.</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 respecto a la delito de fraude informático, es necesario que la conducta resulte en la pérdida económica o posesoria directa de la propiedad de otra persona. Esto puede incluir la pérdida de dinero, bienes tangibles e intangibles con un valor económico.</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8D2AF-F15C-4448-8546-78D00314D3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tos relacionados con el contenido se refieren a aquellos delitos que se volvieron más fáciles mediante el uso de computadoras o redes. Este tipo de infracciones se puede cometer por otros medios, pero las computadoras y las redes las hicieron más fáciles.</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rt. 9 del Convenio de Budapest divulga una de las grandes innovaciones de este tratado: criminaliza los actos de pornografía infantil cometidos por medio de un sistema informátic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comercio con pornografía infantil aumentó enormemente con el advenimiento de Internet. Las redes de comunicación e información ofrecen una gran cantidad de ventajas y posibilidades para quienes buscan ese tipo de contenido. Además, en Internet, los usuarios pueden ser anónimos, mientras que obtienen acceso al material de abuso infantil en línea.</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n respecto a los delitos de pornografía infantil, un aspecto es particularmente polémico: la criminalización de las "pseudoimágenes". Los artículos del Convenio cubren no solo situaciones de imágenes donde se fotografía a un niño real durante la actividad sexual, sino también representaciones falsas de niños, por ejemplo, imágenes de niños completamente creados por computadora (morphing, por ejemplo, la cabeza de un niño sobre el cuerpo del adulto que comete el acto sexual) o imágenes de adultos (convincentemente) que simulan (actúan o se visten) ser niños.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n segundo aspecto importante debe ser discutido, ya que es ampliamente considerado en el texto del Convenio: la sanción por la mera posesión de materiales de pornografía infantil. El Art. 9, 1 define como una infracción la mera posesión de este tipo de material, dentro de un sistema informático y también la adquisición de tales imágenes para uso puramente personal. Este enfoque es comúnmente adoptado por otros foros internacionales que estudiaron el tema.</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riminalizar la mera posesión de material de pornografía infantil hace que sea mucho más fácil llevar a cabo una investigación criminal sobre este tema, ya que bajo esta disposición, cualquier persona que tenga este tipo de material puede ser procesado, y la intención específica de usar las imágenes en un de alguna manera (por ejemplo, venderlos) o participar en su producción no necesita ser probado. Esto también significa que los presuntos pedófilos pueden ser castigados sin ninguna evidencia de que actuaron en base a sus impulsos hacia un niño. Y, por supuesto, la policía y los tribunales pueden investigar y condenar de esta manera a los supuestos proveedores de pornografía infantil (incluso por la mera posesión), con o sin pruebas de que el comercio real tuvo luga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te respecto, es importante considerar también la opción legal de la Unión Europea. Durante muchos años, la Unión Europea decidió criminalizar la mera posesión de material de pornografía infantil, desde la Decisión del Consejo del 29 de mayo de 2000. Más recientemente, la Directiva 2011/92/UE del Parlamento Europeo y del Consejo, de 13 de diciembre de 2011, sobre la lucha contra los abusos sexuales y la explotación sexual de los niños y la pornografía infantil, y la sustitución de la Decisión marco 2004/68/JAI del Consejo, Los Estados de la Unión Europea deben penalizar, entre otros comportamientos ilegales, la adquisición o posesión de pornografía infantil (Art. 5, 2). Sin embargo, el mismo documento otorga discrecionalidad a cada uno de los Estados miembros para decidir si esta incriminación se aplica a los casos en que el material pornográfico poseído por el productor sea únicamente para uso privado (en la medida en que no se haya utilizado material pornográfico para este fin de su producción y siempre que el acto no implique riesgo de diseminación del material).</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ción de la Unión Europea está absolutamente en línea con el Art. 9 del Convenio de Budapest que incrimina producir, ofrecer o poner a disposición, distribuir o transmitir, adquirir o simplemente poseer pornografía infantil en un sistema informático o en un medio de almacenamiento de datos informáticos. Sin embargo, la inclusión de "proxenetismo" o "posesión" permite la reserva de las Partes en el Conveni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ción fue reforzada por el Convenio sobre la Protección de los Niños (CETS 201), emitido por el Consejo de Europa y abierto a la firma en 2007. El objetivo de este tratado es armonizar las disposiciones del derecho penal, dentro de las Partes, con el objetivo de proteger a los niños de la explotación sexual. De acuerdo con el Art. 20, entre otros, "</a:t>
            </a:r>
            <a:r>
              <a:rPr b="0" i="1" lang="en-US" sz="700" spc="-1" strike="noStrike">
                <a:solidFill>
                  <a:srgbClr val="000000"/>
                </a:solidFill>
                <a:latin typeface="Calibri"/>
              </a:rPr>
              <a:t>procurar pornografía infantil para uno mismo o para otra persona</a:t>
            </a:r>
            <a:r>
              <a:rPr b="0" lang="en-US" sz="700" spc="-1" strike="noStrike">
                <a:solidFill>
                  <a:srgbClr val="000000"/>
                </a:solidFill>
                <a:latin typeface="Calibri"/>
              </a:rPr>
              <a:t>" y "</a:t>
            </a:r>
            <a:r>
              <a:rPr b="0" i="1" lang="en-US" sz="700" spc="-1" strike="noStrike">
                <a:solidFill>
                  <a:srgbClr val="000000"/>
                </a:solidFill>
                <a:latin typeface="Calibri"/>
              </a:rPr>
              <a:t>poseer pornografía infantil</a:t>
            </a:r>
            <a:r>
              <a:rPr b="0" lang="en-US" sz="700" spc="-1" strike="noStrike">
                <a:solidFill>
                  <a:srgbClr val="000000"/>
                </a:solidFill>
                <a:latin typeface="Calibri"/>
              </a:rPr>
              <a:t>" deben ser criminalizados.</a:t>
            </a:r>
            <a:endParaRPr b="0" lang="en-US" sz="700" spc="-1" strike="noStrike">
              <a:solidFill>
                <a:srgbClr val="000000"/>
              </a:solidFill>
              <a:latin typeface="Calibri"/>
            </a:endParaRPr>
          </a:p>
        </p:txBody>
      </p:sp>
      <p:sp>
        <p:nvSpPr>
          <p:cNvPr id="6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6FC7D-3E04-4657-9B46-A41AE90B63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9.</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enudo se lo conoce como </a:t>
            </a:r>
            <a:r>
              <a:rPr b="0" i="1" lang="en-US" sz="1200" spc="-1" strike="noStrike">
                <a:solidFill>
                  <a:srgbClr val="000000"/>
                </a:solidFill>
                <a:latin typeface="Calibri"/>
              </a:rPr>
              <a:t>piratería</a:t>
            </a:r>
            <a:r>
              <a:rPr b="0" lang="en-US" sz="1200" spc="-1" strike="noStrike">
                <a:solidFill>
                  <a:srgbClr val="000000"/>
                </a:solidFill>
                <a:latin typeface="Calibri"/>
              </a:rPr>
              <a:t> de sistemas informáticos y es uno de los delitos informáticos más comunes. Sin embargo, hay otros fenómenos, además de la </a:t>
            </a:r>
            <a:r>
              <a:rPr b="0" i="1" lang="en-US" sz="1200" spc="-1" strike="noStrike">
                <a:solidFill>
                  <a:srgbClr val="000000"/>
                </a:solidFill>
                <a:latin typeface="Calibri"/>
              </a:rPr>
              <a:t>piratería</a:t>
            </a:r>
            <a:r>
              <a:rPr b="0" lang="en-US" sz="1200" spc="-1" strike="noStrike">
                <a:solidFill>
                  <a:srgbClr val="000000"/>
                </a:solidFill>
                <a:latin typeface="Calibri"/>
              </a:rPr>
              <a:t>, que pueden clasificarse como acceso ilícito; de hecho, la </a:t>
            </a:r>
            <a:r>
              <a:rPr b="0" i="1" lang="en-US" sz="1200" spc="-1" strike="noStrike">
                <a:solidFill>
                  <a:srgbClr val="000000"/>
                </a:solidFill>
                <a:latin typeface="Calibri"/>
              </a:rPr>
              <a:t>piratería </a:t>
            </a:r>
            <a:r>
              <a:rPr b="0" lang="en-US" sz="1200" spc="-1" strike="noStrike">
                <a:solidFill>
                  <a:srgbClr val="000000"/>
                </a:solidFill>
                <a:latin typeface="Calibri"/>
              </a:rPr>
              <a:t>se utiliza, normalmente, para describir el acto de acceder ilegalmente a un sistema informático, por medio de la tecnología. Pero el acceso ilícito también cubre cualquier entrada no autorizada en un sistema, independientemente de la tecnología utilizada o incluso el uso o no de tecnología. Tal caso, por ejemplo, sería la contraseña obtenida ilegalmente por el perpetrador. El interés protegido aquí es la confidencialidad de un sistema informático y de dato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s posible que la conducta descrita en el Art. 9 se haga "lícitamente". Existen ciertas otras defensas a la conducta descrita en el Art. 9; por ejemplo, que el material pornográfico tiene mérito artístico, médico, científico u otro similar.</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62283-98B4-44B7-9C7C-C87282B668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algunas de las conductas que constituyen un delito criminal bajo el Art. 9. Esto incluye la producción, la oferta y la puesta a disposición de pornografía infantil. </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B4B70-6C47-48E4-A7DA-353D5F08B2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algunas de las conductas que constituyen un delito criminal bajo el Art. 9. Esto incluye la distribución, transmisión, adquisición y posesión de pornografía infantil.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F6E17-4077-4759-8587-CF27DACC1D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los criterios por los que se debe determinar si cierto material es de naturaleza pornográfica. El contenido debe ser determinado por estándares nacionales relacionados con la obscenidad, la moral pública,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que el lenguaje del Art. 9 sugiere que el material pornográfico debe constituir una representación visual, también se pretende incluir datos almacenados en un sistema informático o un medio de almacenamiento de datos informáticos que sea capaz de conversar en una imagen visual. </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3BD97-AC7B-45C4-9A98-56C5515543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 criterio mínimo para determinar si cierto material está representando una "conducta sexualmente explícita". Las partes son libres de usar una definición más amplia. Es importante señalar que la conducta sexualmente explícita que se está representando no tiene que ser una conducta sexualmente explícita real y puede ser simulada. </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CC8BF-2CE4-456C-B4EC-9C879D5F8E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FEB58-A356-435E-B747-F3338580E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6C58-FA49-4A52-9D48-52B9BAC64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EBB9E-BDDA-4844-BDA4-DD8CFA200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9B0B8-6DA2-4085-BBA8-4BCA6C79F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54355-6F58-4C85-ADBB-A95D52E0E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7E281-4457-4145-82BD-3C43C64E5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306C3-D4B8-4258-871D-BED2DAAA4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C9A00-464E-4B28-A5C6-DD09622A0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54CB3-C0F0-4548-A435-FBDD1D602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79EE3-1867-4342-87F6-6C25FC46B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87F8F-83B2-48C9-9529-16B36BEA4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D1F0D-D704-45B3-B194-11F1F701F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6EA0D-2520-424A-A340-8BF004D5DDDA}"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D63C4-A3EE-4485-BDC7-AD63BBE78B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introductoria sobre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1.2.2 y 1.2.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sposiciones sustantivas sobre derecho penal en virtud del Convenio de Budapest</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B1F8FA-9867-4A8F-A42D-2E5ABCA65B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82"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t>
            </a:r>
            <a:r>
              <a:rPr b="1" lang="en-US" sz="2800" spc="-1" strike="noStrike">
                <a:solidFill>
                  <a:srgbClr val="ff0000"/>
                </a:solidFill>
                <a:latin typeface="Calibri"/>
                <a:ea typeface="Times New Roman"/>
              </a:rPr>
              <a:t>acceso</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BD75C4-99AE-4CBD-B435-8F4D2565C0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4EDD35-C20A-4F31-9489-555751D004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6" name=""/>
          <p:cNvSpPr txBox="1"/>
          <p:nvPr/>
        </p:nvSpPr>
        <p:spPr>
          <a:xfrm>
            <a:off x="254160" y="1600200"/>
            <a:ext cx="859464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a:t>
            </a:r>
            <a:r>
              <a:rPr b="1" lang="en-US" sz="2000" spc="-1" strike="noStrike">
                <a:solidFill>
                  <a:srgbClr val="ff0000"/>
                </a:solidFill>
                <a:latin typeface="Calibri"/>
              </a:rPr>
              <a:t>representación </a:t>
            </a:r>
            <a:r>
              <a:rPr b="0" lang="en-US" sz="2000" spc="-1" strike="noStrike">
                <a:solidFill>
                  <a:srgbClr val="000000"/>
                </a:solidFill>
                <a:latin typeface="Calibri"/>
              </a:rPr>
              <a:t>visual de:</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una persona que parezca 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imágenes realistas que representen a 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presentaciones</a:t>
            </a:r>
            <a:endParaRPr b="0" lang="en-US" sz="4400" spc="-1" strike="noStrike">
              <a:solidFill>
                <a:srgbClr val="000000"/>
              </a:solidFill>
              <a:latin typeface="Calibri"/>
            </a:endParaRPr>
          </a:p>
        </p:txBody>
      </p:sp>
      <p:sp>
        <p:nvSpPr>
          <p:cNvPr id="358" name=""/>
          <p:cNvSpPr txBox="1"/>
          <p:nvPr/>
        </p:nvSpPr>
        <p:spPr>
          <a:xfrm>
            <a:off x="279360" y="1671120"/>
            <a:ext cx="8547120" cy="4526280"/>
          </a:xfrm>
          <a:prstGeom prst="rect">
            <a:avLst/>
          </a:prstGeom>
          <a:noFill/>
          <a:ln w="0">
            <a:noFill/>
          </a:ln>
        </p:spPr>
        <p:txBody>
          <a:bodyPr anchor="t">
            <a:normAutofit fontScale="97000"/>
          </a:bodyPr>
          <a:p>
            <a:pPr marL="332640" indent="-3326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siguientes representaciones están cubiertas:</a:t>
            </a:r>
            <a:endParaRPr b="0" lang="en-US" sz="30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so sexual de un niño real</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ágenes que muestran a una persona que parece ser un menor involucrada en una conducta sexualmente explícita </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ágenes que, aunque "realistas", en realidad no involucran a un niño real involucrado en una conducta sexualmente explícita, incluyendo imágenes que están alteradas, como imágenes transformadas de personas naturales, o incluso generadas enteramente por la computadora</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489073-812D-4328-814E-6D754D9A96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939348-C7EB-4690-AEE7-8C209B29B1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2" name=""/>
          <p:cNvSpPr txBox="1"/>
          <p:nvPr/>
        </p:nvSpPr>
        <p:spPr>
          <a:xfrm>
            <a:off x="457200" y="16002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a:t>
            </a:r>
            <a:r>
              <a:rPr b="1" lang="en-US" sz="2000" spc="-1" strike="noStrike">
                <a:solidFill>
                  <a:srgbClr val="ff0000"/>
                </a:solidFill>
                <a:latin typeface="Calibri"/>
              </a:rPr>
              <a:t>menor</a:t>
            </a:r>
            <a:r>
              <a:rPr b="0" lang="en-US" sz="2000" spc="-1" strike="noStrike">
                <a:solidFill>
                  <a:srgbClr val="000000"/>
                </a:solidFill>
                <a:latin typeface="Calibri"/>
              </a:rPr>
              <a:t>»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nores</a:t>
            </a:r>
            <a:endParaRPr b="0" lang="en-US" sz="4400" spc="-1" strike="noStrike">
              <a:solidFill>
                <a:srgbClr val="000000"/>
              </a:solidFill>
              <a:latin typeface="Calibri"/>
            </a:endParaRPr>
          </a:p>
        </p:txBody>
      </p:sp>
      <p:sp>
        <p:nvSpPr>
          <p:cNvPr id="364" name=""/>
          <p:cNvSpPr txBox="1"/>
          <p:nvPr/>
        </p:nvSpPr>
        <p:spPr>
          <a:xfrm>
            <a:off x="279360" y="1593720"/>
            <a:ext cx="854712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 conformidad con la definición de niño en el Art. 1 del Convenio de las Naciones Unidas sobre los Derechos del Niñ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nor generalmente significa todas las personas menores de 18 añ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artes pueden requerir un límite de edad inferior siempre que no sea menor de 16 añ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edad se refiere al uso de niños (reales o ficticios) como objetos sexuales; y no la edad de consentimiento para las relaciones sexuales</a:t>
            </a:r>
            <a:endParaRPr b="0" lang="en-US" sz="24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FE59B6-D485-4743-852C-C9E2FDD6E0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infracciones de derechos de autor y derechos conexos</a:t>
            </a:r>
            <a:endParaRPr b="0" lang="en-US" sz="32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BADE1-0F52-4C43-BC7A-5FD511A001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8000"/>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erechos de propiedad intelectual</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rtículo 10 - Convenio de Budapest)</a:t>
            </a:r>
            <a:r>
              <a:rPr b="0" lang="en-US"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No crea una nueva regulación sobre este tema</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Propósito del Convenio de Budapest</a:t>
            </a:r>
            <a:endParaRPr b="0" lang="en-US" sz="2400" spc="-1" strike="noStrike">
              <a:solidFill>
                <a:srgbClr val="000000"/>
              </a:solidFill>
              <a:latin typeface="Calibri"/>
            </a:endParaRPr>
          </a:p>
          <a:p>
            <a:pPr lvl="1" marL="505080" indent="-1940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plicar reglas previas sobre el copyright: lo que se cumple con el mundo real también se debe observar dentro de la realidad en línea</a:t>
            </a:r>
            <a:endParaRPr b="0" lang="en-US" sz="2000" spc="-1" strike="noStrike">
              <a:solidFill>
                <a:srgbClr val="000000"/>
              </a:solidFill>
              <a:latin typeface="Calibri"/>
            </a:endParaRPr>
          </a:p>
          <a:p>
            <a:pPr lvl="1" marL="505080" indent="-1940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Las infracciones de derechos de autor en línea, o cometidas por medio de un sistema informático, deben castigarse como si se hubieran cometido en el mundo real</a:t>
            </a:r>
            <a:endParaRPr b="0" lang="en-US" sz="2000" spc="-1" strike="noStrike">
              <a:solidFill>
                <a:srgbClr val="000000"/>
              </a:solidFill>
              <a:latin typeface="Calibri"/>
            </a:endParaRPr>
          </a:p>
          <a:p>
            <a:pPr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Convenio de Budapest se refiere a los tratados internacionales existentes </a:t>
            </a:r>
            <a:endParaRPr b="0" lang="en-US" sz="24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cuerdo de París desde el 24 de julio de 1971</a:t>
            </a:r>
            <a:endParaRPr b="0" lang="en-US" sz="20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venio de Berna</a:t>
            </a:r>
            <a:endParaRPr b="0" lang="en-US" sz="20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atados de la OMPI</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49DC2-666F-413C-8B7D-0753D7602D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1" name="PlaceHolder 2"/>
          <p:cNvSpPr>
            <a:spLocks noGrp="1"/>
          </p:cNvSpPr>
          <p:nvPr>
            <p:ph/>
          </p:nvPr>
        </p:nvSpPr>
        <p:spPr>
          <a:xfrm>
            <a:off x="457200" y="1633680"/>
            <a:ext cx="8229600" cy="4525920"/>
          </a:xfrm>
          <a:prstGeom prst="rect">
            <a:avLst/>
          </a:prstGeom>
          <a:noFill/>
          <a:ln w="0">
            <a:noFill/>
          </a:ln>
        </p:spPr>
        <p:txBody>
          <a:bodyPr anchor="t">
            <a:normAutofit/>
          </a:bodyPr>
          <a:p>
            <a:pPr marL="514440" indent="-51444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a propiedad intelectual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 excepción de cualquier derecho moral otorgado por dichos Convenios, cuando tales actos se cometan deliberadamente, a escala comercial y por medio de un sistema informático.</a:t>
            </a:r>
            <a:endParaRPr b="0" lang="en-US" sz="24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8C35D-46C2-444F-8CDB-E1A32F3F2F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493560" indent="-493560" algn="just">
              <a:lnSpc>
                <a:spcPct val="90000"/>
              </a:lnSpc>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os derechos afines definidas en su legislación, de conformidad con las obligaciones que haya asumido en aplicación de la Convención Internacional sobre la Protección de los Artistas Intérpretes o Ejecutantes, los Productores de Fonogramas y los Organismos de Radiodifusión (Convención de Roma), del Acuerdo sobre los aspectos de los derechos de propiedad intelectual relacionados con el comercio y del Tratado de la OMPI sobre Interpretación o Ejecución y Fonogramas, a excepción de cualquier derecho moral conferido por dichos Convenios, cuando tales actos se cometan deliberadamente, a escala comercial y por medio de un sistema informático.</a:t>
            </a:r>
            <a:endParaRPr b="0" lang="en-US" sz="24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87DA7-CE38-42FD-98D3-974DEE3CDA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circunstancias bien delimitadas, toda Parte podrá reservarse el derecho de no imponer responsabilidad penal en virtud de los párrafos 1 y 2 del presente artículo, siempre que se disponga de otros recursos efectivos y que dicha reserva no vulnere las obligaciones internacionales que incumban a dicha Parte en aplicación de los instrumentos internacionales mencionados en los párrafos 1 y 2 del presente artículo.</a:t>
            </a:r>
            <a:endParaRPr b="0" lang="en-US" sz="24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2A113-77D5-4E7D-904A-644B09644E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42800" y="1628640"/>
            <a:ext cx="8229600" cy="4525920"/>
          </a:xfrm>
          <a:prstGeom prst="rect">
            <a:avLst/>
          </a:prstGeom>
          <a:noFill/>
          <a:ln w="0">
            <a:noFill/>
          </a:ln>
        </p:spPr>
        <p:txBody>
          <a:bodyPr anchor="t">
            <a:normAutofit fontScale="95000"/>
          </a:bodyPr>
          <a:p>
            <a:pPr marL="488520" indent="-4885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a:t>
            </a:r>
            <a:r>
              <a:rPr b="1" lang="en-US" sz="2400" spc="-1" strike="noStrike">
                <a:solidFill>
                  <a:srgbClr val="ff0000"/>
                </a:solidFill>
                <a:latin typeface="Calibri"/>
              </a:rPr>
              <a:t>infracciones de la propiedad intelectual</a:t>
            </a:r>
            <a:r>
              <a:rPr b="0" lang="en-US" sz="2400" spc="-1" strike="noStrike">
                <a:solidFill>
                  <a:srgbClr val="000000"/>
                </a:solidFill>
                <a:latin typeface="Calibri"/>
              </a:rPr>
              <a:t>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t>
            </a:r>
            <a:r>
              <a:rPr b="1" lang="en-US" sz="2400" spc="-1" strike="noStrike">
                <a:solidFill>
                  <a:srgbClr val="ff0000"/>
                </a:solidFill>
                <a:latin typeface="Calibri"/>
              </a:rPr>
              <a:t>a excepción de cualquier derecho moral</a:t>
            </a:r>
            <a:r>
              <a:rPr b="0" lang="en-US" sz="2400" spc="-1" strike="noStrike">
                <a:solidFill>
                  <a:srgbClr val="000000"/>
                </a:solidFill>
                <a:latin typeface="Calibri"/>
              </a:rPr>
              <a:t> otorgado por dichos Convenios, cuando tales actos se cometan </a:t>
            </a:r>
            <a:r>
              <a:rPr b="1" lang="en-US" sz="2400" spc="-1" strike="noStrike">
                <a:solidFill>
                  <a:srgbClr val="ff0000"/>
                </a:solidFill>
                <a:latin typeface="Calibri"/>
              </a:rPr>
              <a:t>deliberadamente</a:t>
            </a:r>
            <a:r>
              <a:rPr b="0" lang="en-US" sz="2400" spc="-1" strike="noStrike">
                <a:solidFill>
                  <a:srgbClr val="000000"/>
                </a:solidFill>
                <a:latin typeface="Calibri"/>
              </a:rPr>
              <a:t>, a escala comercial y </a:t>
            </a:r>
            <a:r>
              <a:rPr b="1" lang="en-US" sz="2400" spc="-1" strike="noStrike">
                <a:solidFill>
                  <a:srgbClr val="ff0000"/>
                </a:solidFill>
                <a:latin typeface="Calibri"/>
              </a:rPr>
              <a:t>por medio de un sistema informátic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803C26-32D6-4DAD-9264-22EDDFB3C7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cceso</a:t>
            </a:r>
            <a:endParaRPr b="0" lang="en-US" sz="4400" spc="-1" strike="noStrike">
              <a:solidFill>
                <a:srgbClr val="000000"/>
              </a:solidFill>
              <a:latin typeface="Calibri"/>
            </a:endParaRPr>
          </a:p>
        </p:txBody>
      </p:sp>
      <p:sp>
        <p:nvSpPr>
          <p:cNvPr id="85" name="PlaceHolder 2"/>
          <p:cNvSpPr>
            <a:spLocks noGrp="1"/>
          </p:cNvSpPr>
          <p:nvPr>
            <p:ph/>
          </p:nvPr>
        </p:nvSpPr>
        <p:spPr>
          <a:xfrm>
            <a:off x="457200" y="1349280"/>
            <a:ext cx="8229600" cy="50752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acceso es la entrada a todo o parte del sistema informátic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ye la entrada de otro sistema informático:</a:t>
            </a:r>
            <a:endParaRPr b="0" lang="en-US" sz="28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onectado a través de la red pública de telecomunicaciones;</a:t>
            </a:r>
            <a:endParaRPr b="0" lang="en-US" sz="24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ara un sistema de computadora en la misma red (LAN o Intranet dentro de una organización) </a:t>
            </a:r>
            <a:endParaRPr b="0" lang="en-US" sz="24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No incluye el mero envío de mensajes de correo electrónico o archivos al sistema informátic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método de comunicación con el sistema informático no importa (ya sea desde la distancia a través de enlaces inalámbricos, o en un rango cercano)</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B086A9F-C4D1-46EE-8EA4-0240BAF605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racción de los derechos de autor</a:t>
            </a:r>
            <a:endParaRPr b="0" lang="en-US" sz="4400" spc="-1" strike="noStrike">
              <a:solidFill>
                <a:srgbClr val="000000"/>
              </a:solidFill>
              <a:latin typeface="Calibri"/>
            </a:endParaRPr>
          </a:p>
        </p:txBody>
      </p:sp>
      <p:sp>
        <p:nvSpPr>
          <p:cNvPr id="383"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ción de criminalizar la infracción de los derechos de auto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obligación no se extiende a la criminalización de los derechos morales, como en:</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 6 bis del Convenio de Berna</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 5 del Tratado de la OMPI</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delitos de derechos de autor deben ser cometidos deliberadamente </a:t>
            </a:r>
            <a:endParaRPr b="0" lang="en-US" sz="30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05F688-7337-49B8-8BA7-7587288593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6"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a propiedad intelectual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 excepción de cualquier derecho moral otorgado por dichos Convenios, cuando tales actos se cometan deliberadamente, a </a:t>
            </a:r>
            <a:r>
              <a:rPr b="1" lang="en-US" sz="2400" spc="-1" strike="noStrike">
                <a:solidFill>
                  <a:srgbClr val="ff0000"/>
                </a:solidFill>
                <a:latin typeface="Calibri"/>
              </a:rPr>
              <a:t>escala comercial</a:t>
            </a:r>
            <a:r>
              <a:rPr b="0" lang="en-US" sz="2400" spc="-1" strike="noStrike">
                <a:solidFill>
                  <a:srgbClr val="000000"/>
                </a:solidFill>
                <a:latin typeface="Calibri"/>
              </a:rPr>
              <a:t> y por medio de un sistema informático.</a:t>
            </a:r>
            <a:endParaRPr b="0" lang="en-US" sz="24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05ABCD-AFA5-4D09-A0B2-EA1DEA3C91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la comercial</a:t>
            </a:r>
            <a:endParaRPr b="0" lang="en-US" sz="4400" spc="-1" strike="noStrike">
              <a:solidFill>
                <a:srgbClr val="000000"/>
              </a:solidFill>
              <a:latin typeface="Calibri"/>
            </a:endParaRPr>
          </a:p>
        </p:txBody>
      </p:sp>
      <p:sp>
        <p:nvSpPr>
          <p:cNvPr id="389"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 conformidad con el Art. 61 del Acuerdo sobre los ADPIC</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 ocupa de la piratería a escala comerci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partes pueden ir más allá del umbral de la piratería a escala comercial y penalizar otras instancias de infracción de derechos de autor. </a:t>
            </a:r>
            <a:endParaRPr b="0" lang="en-US" sz="3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816B88-CA4A-4013-A35A-09B5E08424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428760"/>
            <a:ext cx="8553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sponsabilidad y sanciones accesoria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nción por tentativa y complicida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ículo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ctos de ayuda e instigación que todas las Partes en el Convenio deben considerar en la legislación nacion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la mayoría de las legislaciones nacionales ya consideran este punto de vista</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sponsabilidad penal de personas jurídica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ículo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ige a todas las Partes la penalización de los actos de las personas jurídica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entro de la Unión Europea, la criminalización de actos de personas jurídicas también es un tema importante</a:t>
            </a:r>
            <a:endParaRPr b="0" lang="en-US" sz="2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B4EF6-A3A4-4642-8536-00041885D6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457200" y="126216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sponsabilidad penal de empresas y otras personas jurídicas</a:t>
            </a:r>
            <a:endParaRPr b="0" lang="en-US" sz="3200" spc="-1" strike="noStrike">
              <a:solidFill>
                <a:srgbClr val="000000"/>
              </a:solidFill>
              <a:latin typeface="Calibri"/>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r actos delictivos de sus órganos representativo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uando en su representación e interé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emás, la responsabilidad de las personas jurídicas también se produce en caso de</a:t>
            </a:r>
            <a:endParaRPr b="0" lang="en-US" sz="2800" spc="-1" strike="noStrike">
              <a:solidFill>
                <a:srgbClr val="000000"/>
              </a:solidFill>
              <a:latin typeface="Calibri"/>
            </a:endParaRPr>
          </a:p>
          <a:p>
            <a:pPr lvl="2" marL="1108440" indent="-2214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alta de supervisión o control de un representante legal de la compañía u otra entidad legal sobre alguien bajo su supervisión </a:t>
            </a:r>
            <a:endParaRPr b="0" lang="en-US" sz="24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6185E-AE53-4413-AEC5-5BEBE2457F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DBE51-A5BB-4F4B-B5BC-ED3F4889DB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dos</a:t>
            </a:r>
            <a:br>
              <a:rPr sz="3200"/>
            </a:br>
            <a:r>
              <a:rPr b="1" lang="en-US" sz="3200" spc="-1" strike="noStrike">
                <a:solidFill>
                  <a:srgbClr val="000000"/>
                </a:solidFill>
                <a:latin typeface="Calibri"/>
              </a:rPr>
              <a:t>Estudios de caso</a:t>
            </a:r>
            <a:endParaRPr b="0" lang="en-US" sz="3200" spc="-1" strike="noStrike">
              <a:solidFill>
                <a:srgbClr val="000000"/>
              </a:solidFill>
              <a:latin typeface="Calibri"/>
            </a:endParaRPr>
          </a:p>
        </p:txBody>
      </p:sp>
      <p:pic>
        <p:nvPicPr>
          <p:cNvPr id="399" name="Picture 3" descr=""/>
          <p:cNvPicPr/>
          <p:nvPr/>
        </p:nvPicPr>
        <p:blipFill>
          <a:blip r:embed="rId1"/>
          <a:stretch/>
        </p:blipFill>
        <p:spPr>
          <a:xfrm>
            <a:off x="6786720" y="4643280"/>
            <a:ext cx="1962000" cy="1766880"/>
          </a:xfrm>
          <a:prstGeom prst="rect">
            <a:avLst/>
          </a:prstGeom>
          <a:ln w="0">
            <a:noFill/>
          </a:ln>
        </p:spPr>
      </p:pic>
      <p:sp>
        <p:nvSpPr>
          <p:cNvPr id="4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279B6-1C9C-44D2-B40C-2B6B8B2F56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1 </a:t>
            </a:r>
            <a:endParaRPr b="0" lang="en-US" sz="4400" spc="-1" strike="noStrike">
              <a:solidFill>
                <a:srgbClr val="000000"/>
              </a:solidFill>
              <a:latin typeface="Calibri"/>
            </a:endParaRPr>
          </a:p>
        </p:txBody>
      </p:sp>
      <p:sp>
        <p:nvSpPr>
          <p:cNvPr id="402" name=""/>
          <p:cNvSpPr txBox="1"/>
          <p:nvPr/>
        </p:nvSpPr>
        <p:spPr>
          <a:xfrm>
            <a:off x="456840" y="1135080"/>
            <a:ext cx="8513640" cy="5494320"/>
          </a:xfrm>
          <a:prstGeom prst="rect">
            <a:avLst/>
          </a:prstGeom>
          <a:noFill/>
          <a:ln w="0">
            <a:noFill/>
          </a:ln>
        </p:spPr>
        <p:txBody>
          <a:bodyPr anchor="t">
            <a:normAutofit fontScale="99000"/>
          </a:bodyPr>
          <a:p>
            <a:pPr marL="2880" indent="-28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a:t>
            </a:r>
            <a:endParaRPr b="0" lang="en-US" sz="28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es estudiante en una Facultad Europea de Ingeniería Eléctrica y Ciencias de la Computación decidió escribir un documento sobre el tema de la seguridad de los sistemas informáticos y redes. Pirateó los sistemas informáticos de varios gobiernos en África. Cada vez que encontraba un agujero en el sistema de TI, dejaba un mensaje al administrador: “Soy Camille, estudiante en la Facultad y estoy escribiendo una tesis sobre la seguridad de sistemas y redes de computadoras y, para los propósitos de este documento, revelo las debilidades de los sistemas y redes de computadoras. Aquí tienes un agujero de seguridad. Atentamente.” El último sistema informático que hackeó fue el sistema de información del Ministerio del Interior de su país.</a:t>
            </a:r>
            <a:endParaRPr b="0" lang="en-US" sz="24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ste es un delito penal en su país y, en caso afirmativo, cuál? ¿Cuáles son los elementos constitutivos de ese delito?</a:t>
            </a:r>
            <a:endParaRPr b="0" lang="en-US" sz="24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5D1B5-3CE7-4B5B-B54E-E7D5A1809A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2</a:t>
            </a:r>
            <a:endParaRPr b="0" lang="en-US" sz="4400" spc="-1" strike="noStrike">
              <a:solidFill>
                <a:srgbClr val="000000"/>
              </a:solidFill>
              <a:latin typeface="Calibri"/>
            </a:endParaRPr>
          </a:p>
        </p:txBody>
      </p:sp>
      <p:sp>
        <p:nvSpPr>
          <p:cNvPr id="405"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a persona usó el nombre de usuario y la contraseña de otra persona (sin autorización, por lo tanto de forma ilegítima) para acceder al sistema informático de una empresa e hizo una copia de mapas digitales en un disco extraíble, luego borró los mapas digitales en el disco dur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De acuerdo con la legislación nacional de su país - ¿Qué delitos deben considerarse?</a:t>
            </a:r>
            <a:endParaRPr b="0" lang="en-US" sz="2400" spc="-1" strike="noStrike">
              <a:solidFill>
                <a:srgbClr val="000000"/>
              </a:solidFill>
              <a:latin typeface="Calibri"/>
            </a:endParaRPr>
          </a:p>
        </p:txBody>
      </p:sp>
      <p:sp>
        <p:nvSpPr>
          <p:cNvPr id="4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5DC68-5602-4B25-B231-09B89C5A4A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jefe de un centro de llamadas, que no está satisfecho con el impago de los salarios, ingresó la contraseña del BIOS en un programa informático del sistema y cambió el código de acceso en el sistema operativo, las contraseñas que solo él conoce y de esa manera inhabilitó el uso del sistema informático.</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é delito penal es este caso en su país?</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l perpetrador tiene o no tiene el derecho de cambiar una contraseña? ¿Es este el hecho más importante para definir el delito de acuerdo con su legislación nacional?</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é se considera delito?</a:t>
            </a:r>
            <a:endParaRPr b="0" lang="en-US" sz="2400" spc="-1" strike="noStrike">
              <a:solidFill>
                <a:srgbClr val="000000"/>
              </a:solidFill>
              <a:latin typeface="Calibri"/>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3</a:t>
            </a:r>
            <a:endParaRPr b="0" lang="en-US" sz="4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C2A4C-E28A-499F-9022-C7B1D26CC3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a:t>
            </a:r>
            <a:r>
              <a:rPr b="1" lang="en-US" sz="2800" spc="-1" strike="noStrike">
                <a:solidFill>
                  <a:srgbClr val="ff0000"/>
                </a:solidFill>
                <a:latin typeface="Calibri"/>
                <a:ea typeface="Times New Roman"/>
              </a:rPr>
              <a:t>totalidad o parte de un sistema informático</a:t>
            </a:r>
            <a:r>
              <a:rPr b="0" lang="en-US" sz="2800" spc="-1" strike="noStrike">
                <a:solidFill>
                  <a:srgbClr val="000000"/>
                </a:solidFill>
                <a:latin typeface="Calibri"/>
                <a:ea typeface="Times New Roman"/>
              </a:rPr>
              <a:t>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F0209E-2DB5-4FE8-A671-66870A11C8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envió a Y - jefe de la empresa "K" - un mensaje de correo electrónico con el logotipo "E. Bank", en el cual afirmó que el banco utiliza un nuevo enfoque para los sitios comerciales en línea y que es necesario cambiar el software para permitir un mayor acceso a la banca electrónica comercial. El mensaje contenía un archivo adjunto con el software "Controlador", con una clara indicación de que debe descargarse. Después de la descarga, el programa informático dado registró datos infomáticos del usuario (Y) sin su conocimiento y X ha obtenido así el número PIN y el número de autenticación de transacción (TAN). X usó el PIN adquirido y TAN para confirmar la transacción y transfirió 65.000,00 € a la cuenta bancaria de la Z, abierta dos días antes en el Banco "P". En la oficina del Banco "P", Z declaró falsamente que recibió dinero de la venta de bienes inmuebles. Después del pago, X tomó 63.000,00 € y Z tomó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En un papel de fiscal, ¿acusaría a X y Z por el mismo delito o n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Qué se considera delito?</a:t>
            </a:r>
            <a:endParaRPr b="0" lang="en-US" sz="20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4</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23D58-3C1C-47E4-9BDE-35BD4C2931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sospechoso ha visitado reiteradamente sitios web pornográficos, incluida la pornografía infantil. Nunca se ha descargado materiales. Pero la computadora estaba guardando automáticamente estos materiales en una carpeta C:/..., (en el medio - imágenes que contienen pornografía infantil) sin ningún conocimiento o acción del sospechoso.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Es delito tener pornografía infantil?</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or qué?</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5</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8377A-2E6E-4452-A90B-504F45EC12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6</a:t>
            </a:r>
            <a:endParaRPr b="0" lang="en-US" sz="4400" spc="-1" strike="noStrike">
              <a:solidFill>
                <a:srgbClr val="000000"/>
              </a:solidFill>
              <a:latin typeface="Calibri"/>
            </a:endParaRPr>
          </a:p>
        </p:txBody>
      </p:sp>
      <p:sp>
        <p:nvSpPr>
          <p:cNvPr id="417" name="PlaceHolder 2"/>
          <p:cNvSpPr>
            <a:spLocks noGrp="1"/>
          </p:cNvSpPr>
          <p:nvPr>
            <p:ph/>
          </p:nvPr>
        </p:nvSpPr>
        <p:spPr>
          <a:xfrm>
            <a:off x="457200" y="1417320"/>
            <a:ext cx="8229600" cy="4708440"/>
          </a:xfrm>
          <a:prstGeom prst="rect">
            <a:avLst/>
          </a:prstGeom>
          <a:noFill/>
          <a:ln w="0">
            <a:noFill/>
          </a:ln>
        </p:spPr>
        <p:txBody>
          <a:bodyPr anchor="t">
            <a:normAutofit fontScale="97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obby es un oficial de policía. Una noche está de servicio y ve un Mercedes estacionado afuera de su casa. Él no reconoce el auto, pero sospecha que pertenece al jefe de su esposa. Llama a la estación de policía y le pide a Mary, la operadora informática, que le diga a quién pertenece el Mercedes y le dice que el automóvil acaba de pasar por un semáforo en rojo. Mary confirma que el auto sí pertenece al jefe de su esposa.</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Bobby cometió un delito?</a:t>
            </a:r>
            <a:endParaRPr b="0" lang="en-US" sz="28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283D9-B0A3-4772-8BE8-E86F28DAAE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7</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Un grupo de delincuentes se acerca a un guardia de seguridad de un banco y le pide que coloque un dispositivo conocido como keylogger en la parte posterior de varias terminales del banco. El registrador de teclas registra las pulsaciones de teclas del usuario y captura contraseñas y otra información que permitiría que alguien que tenía acceso al terminal inicie sesión en las cuentas de usuario del personal del banco. </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Una característica adicional del dispositivo registrador de teclas le permitió grabar las llamadas telefónicas de Skype realizadas por el usuario de la terminal.</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Los delincuentes también colocaron un error en el escritorio que recogió el sonido, incluidas todas las llamadas telefónicas realizadas y recibidas por el usuario de la terminal. </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100" spc="-1" strike="noStrike">
                <a:solidFill>
                  <a:srgbClr val="000000"/>
                </a:solidFill>
                <a:latin typeface="Calibri"/>
              </a:rPr>
              <a:t>¿Ha habido un ataque ilegal a la integridad?</a:t>
            </a: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5BACE-7EBE-412F-B94E-3A0731465C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8</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92444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a banda delictiva se comunica usando un sistema de correo electrónico basado en la web al que se puede acceder a través de Internet en cualquier parte del mundo. En lugar de enviarse unos a otros mensajes que podrían ser interceptados por la policía o que pueden incriminarlos si se encuentran en su computadora, usan un sistema de 'letra muerta'. Lo que hacen es escribir su mensaje como un borrador que nunca se envía, otros miembros de la pandilla tienen la contraseña que les permite acceder a la cuenta de correo electrónico y leer y responder el mensaj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i la policía pudiera acceder al borrador del buzón de correo electrónico, ¿equivaldría esto a una interceptació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97F410-36F8-4314-97B9-90093A994F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9</a:t>
            </a: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agente de policía Bobby tomó el teléfono de su esposa, adivinó su contraseña y escuchó un mensaje de voz almacenado que aún no ha recuperad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Es esto una interceptación?</a:t>
            </a:r>
            <a:endParaRPr b="0" lang="en-US" sz="32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D9318-FEB8-40B9-BD36-3CCACF17FD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0</a:t>
            </a:r>
            <a:endParaRPr b="0" lang="en-US" sz="4400" spc="-1" strike="noStrike">
              <a:solidFill>
                <a:srgbClr val="000000"/>
              </a:solidFill>
              <a:latin typeface="Calibri"/>
            </a:endParaRPr>
          </a:p>
        </p:txBody>
      </p:sp>
      <p:sp>
        <p:nvSpPr>
          <p:cNvPr id="429" name="PlaceHolder 2"/>
          <p:cNvSpPr>
            <a:spLocks noGrp="1"/>
          </p:cNvSpPr>
          <p:nvPr>
            <p:ph/>
          </p:nvPr>
        </p:nvSpPr>
        <p:spPr>
          <a:xfrm>
            <a:off x="456840" y="1600200"/>
            <a:ext cx="8534520" cy="452592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tá interesado en los ovnis y cree que el gobierno ruso ha capturado una nave espacial alienígena que aterrizó en Siberia en la primera parte del siglo XX. Visita un sitio de reclutamiento militar ruso que tiene un enlace a un sitio operado por la Fuerza Aérea de Rusia. El sitio de la Fuerza Aérea requiere una contraseña, pero utilizando una herramienta de descifrado de contraseñas logra obtener acceso. Pasa un tiempo explorando el sistema y copia una cantidad de archivos. También intenta eliminar todos los archivos de registro de su actividad para evitar que los rusos lo identifiquen. A continuación, altera la página principal del sitio para que muestre una imagen de un OVNI en lugar de la insignia de la Fuerza Aére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BEDF1-9DF5-4C44-B8E0-C5715C4B20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1</a:t>
            </a:r>
            <a:endParaRPr b="0" lang="en-US" sz="4400" spc="-1" strike="noStrike">
              <a:solidFill>
                <a:srgbClr val="000000"/>
              </a:solidFill>
              <a:latin typeface="Calibri"/>
            </a:endParaRPr>
          </a:p>
        </p:txBody>
      </p:sp>
      <p:sp>
        <p:nvSpPr>
          <p:cNvPr id="432" name="PlaceHolder 2"/>
          <p:cNvSpPr>
            <a:spLocks noGrp="1"/>
          </p:cNvSpPr>
          <p:nvPr>
            <p:ph/>
          </p:nvPr>
        </p:nvSpPr>
        <p:spPr>
          <a:xfrm>
            <a:off x="457200" y="1417680"/>
            <a:ext cx="8515440" cy="49687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programa automatizado de correo electrónico no deseado envía correos electrónicos no solicitados a miles de usuarios en todo el mundo todos los días. Si el correo electrónico está abierto, descarga el software a la máquina del usuario. El software no hace nada que afecte el funcionamiento de la computadora de los usuarios, no adquiere datos infomáticos de los usuarios ni borra ningún dato o causa ningún otro tipo de daño, sin embargo, significa que la computadora de los usuarios ahora es un 'Zombie' formando parte de un 'Botnet' que el 'controlador bot' puede usar para llevar a cabo diversos tipos de actividad.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La persona responsable de enviar el correo no deseado ha cometido un delito contrario a los artículos 4 o 5 del Convenio de Budapest?</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7F320-FC52-4EA0-8C5C-743CD24B56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2</a:t>
            </a: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 un ex oficial de policía que fue despedido por el uso indebido del sistema informático de la policía. Él decide recuperarse en el departamento de policía. Utiliza un programa de correo electrónico que le permite enviar 70 000 correos electrónicos por hora a su antiguo departamento. Altera el encabezado del correo electrónico para que parezca que proviene del jefe de la policía engañando al servidor de correo electrónico de la policía y haciéndole creer que proviene de una fuente legítima. El servidor de la policía no pudo manejar el volumen del tráfico y colapsó.</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s esto un delito de ataque a la integridad del sistem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31745-EFBD-436B-813A-18F190B2E2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3</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nvía un correo electrónico a su esposa a su lugar de trabajo. Él altera el encabezado para hacer que parezca que proviene de uno de sus amigos. El correo electrónico contiene un programa llamado "acceder a todas las áreas" que le permite a Bobby asumir el control de la computadora de su esposa. Antes de que Bobby tenga la oportunidad de usar el programa, su presencia es detectada por el administrador del sistema que apaga el sistema para realizar una evaluación del alcance de la intrusión.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 contrario al Art. 5 del Convenio de Budapest?</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B7204-DBAC-4D2C-AF07-9CAF53601F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odo o parte del sistema informático</a:t>
            </a:r>
            <a:endParaRPr b="0" lang="en-US" sz="4400" spc="-1" strike="noStrike">
              <a:solidFill>
                <a:srgbClr val="000000"/>
              </a:solidFill>
              <a:latin typeface="Calibri"/>
            </a:endParaRPr>
          </a:p>
        </p:txBody>
      </p:sp>
      <p:sp>
        <p:nvSpPr>
          <p:cNvPr id="91" name="PlaceHolder 2"/>
          <p:cNvSpPr>
            <a:spLocks noGrp="1"/>
          </p:cNvSpPr>
          <p:nvPr>
            <p:ph/>
          </p:nvPr>
        </p:nvSpPr>
        <p:spPr>
          <a:xfrm>
            <a:off x="457200" y="1810800"/>
            <a:ext cx="8229600" cy="4519800"/>
          </a:xfrm>
          <a:prstGeom prst="rect">
            <a:avLst/>
          </a:prstGeom>
          <a:noFill/>
          <a:ln w="0">
            <a:noFill/>
          </a:ln>
        </p:spPr>
        <p:txBody>
          <a:bodyPr anchor="t">
            <a:normAutofit fontScale="99000"/>
          </a:bodyPr>
          <a:p>
            <a:pPr marL="339480" indent="-3394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t>
            </a:r>
            <a:r>
              <a:rPr b="1" lang="en-US" sz="2800" spc="-1" strike="noStrike">
                <a:solidFill>
                  <a:srgbClr val="000000"/>
                </a:solidFill>
                <a:latin typeface="Calibri"/>
                <a:ea typeface="Times New Roman"/>
              </a:rPr>
              <a:t>Parte del sistema informático</a:t>
            </a:r>
            <a:r>
              <a:rPr b="0" lang="en-US" sz="2800" spc="-1" strike="noStrike">
                <a:solidFill>
                  <a:srgbClr val="000000"/>
                </a:solidFill>
                <a:latin typeface="Calibri"/>
                <a:ea typeface="Times New Roman"/>
              </a:rPr>
              <a:t>" incluye:</a:t>
            </a:r>
            <a:endParaRPr b="0" lang="en-US" sz="2800" spc="-1" strike="noStrike">
              <a:solidFill>
                <a:srgbClr val="000000"/>
              </a:solidFill>
              <a:latin typeface="Calibri"/>
            </a:endParaRPr>
          </a:p>
          <a:p>
            <a:pPr lvl="1" marL="735480" indent="0" algn="just">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Hardware</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Componentes</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almacenados del sistema instalados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irectorios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de tráfico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relacionados con el contenido en el sistema informático</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11DE82-97E6-4B1D-9FA2-BB89871497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4</a:t>
            </a:r>
            <a:endParaRPr b="0" lang="en-US" sz="4400" spc="-1" strike="noStrike">
              <a:solidFill>
                <a:srgbClr val="000000"/>
              </a:solidFill>
              <a:latin typeface="Calibri"/>
            </a:endParaRPr>
          </a:p>
        </p:txBody>
      </p:sp>
      <p:sp>
        <p:nvSpPr>
          <p:cNvPr id="441" name="PlaceHolder 2"/>
          <p:cNvSpPr>
            <a:spLocks noGrp="1"/>
          </p:cNvSpPr>
          <p:nvPr>
            <p:ph/>
          </p:nvPr>
        </p:nvSpPr>
        <p:spPr>
          <a:xfrm>
            <a:off x="457200" y="953640"/>
            <a:ext cx="8362800" cy="4924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n grupo de 'hacktivistas' en línea que protesta contra el uso de animales para probar cosméticos lleva a cabo ataques de 'Denegación de Servicio Distribuida' (DDOS) contra los sitios web de compañías de cosméticos y revistas de glamour. A través de su sitio web, el grupo distribuye el software que denominan 'Supergun', que permite al grupo coordinar los ataques a los sitios web y, de ese modo, maximizar la cantidad de tráfico que busca acceder a un sitio web en un momento determinado. El software 'Supergun' fue desarrollado originalmente como una herramienta por los administradores de sistemas para probar la seguridad de sus sistemas. Sin embargo, aunque el software todavía funciona exactamente de la misma manera, la interfaz de usuario se ha vuelto mucho más fácil de usar y ahora lleva el logotipo del grup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Es un delito hacer que el Supergun esté disponible para descargar?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Es un delito estar en posesión del Supergun?</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DE07D-B961-4910-9153-0DD47EF4FE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5</a:t>
            </a:r>
            <a:endParaRPr b="0" lang="en-US" sz="4400" spc="-1" strike="noStrike">
              <a:solidFill>
                <a:srgbClr val="000000"/>
              </a:solidFill>
              <a:latin typeface="Calibri"/>
            </a:endParaRPr>
          </a:p>
        </p:txBody>
      </p:sp>
      <p:sp>
        <p:nvSpPr>
          <p:cNvPr id="444" name="PlaceHolder 2"/>
          <p:cNvSpPr>
            <a:spLocks noGrp="1"/>
          </p:cNvSpPr>
          <p:nvPr>
            <p:ph/>
          </p:nvPr>
        </p:nvSpPr>
        <p:spPr>
          <a:xfrm>
            <a:off x="457200" y="1298520"/>
            <a:ext cx="8229600" cy="4525920"/>
          </a:xfrm>
          <a:prstGeom prst="rect">
            <a:avLst/>
          </a:prstGeom>
          <a:noFill/>
          <a:ln w="0">
            <a:noFill/>
          </a:ln>
        </p:spPr>
        <p:txBody>
          <a:bodyPr anchor="t">
            <a:normAutofit fontScale="8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proveedor de software ha producido software de cifrado. El software divide los contenidos del disco duro en dos volúmenes, cada uno requiere una contraseña para acceder, sin embargo, solo un volumen es visible para el usuario ordinario y la existencia del volumen oculto no se puede detectar utilizando el software forense que está disponible actualment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fábrica afirma que este software podría ser útil para cualquier persona que se encuentre en una situación en la que esté bajo coacción para revelar su contraseña. Significaría que los datos en el volumen oculto se pueden mantener seguros incluso si revelan la contraseña a la carpeta visible.</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l proveedor de este software comete un delito criminal?</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C662B-EC44-46B4-949E-B5603BD69A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6</a:t>
            </a:r>
            <a:endParaRPr b="0" lang="en-US" sz="4400" spc="-1" strike="noStrike">
              <a:solidFill>
                <a:srgbClr val="000000"/>
              </a:solidFill>
              <a:latin typeface="Calibri"/>
            </a:endParaRPr>
          </a:p>
        </p:txBody>
      </p:sp>
      <p:sp>
        <p:nvSpPr>
          <p:cNvPr id="447" name="PlaceHolder 2"/>
          <p:cNvSpPr>
            <a:spLocks noGrp="1"/>
          </p:cNvSpPr>
          <p:nvPr>
            <p:ph/>
          </p:nvPr>
        </p:nvSpPr>
        <p:spPr>
          <a:xfrm>
            <a:off x="457200" y="1417320"/>
            <a:ext cx="8686800" cy="4708440"/>
          </a:xfrm>
          <a:prstGeom prst="rect">
            <a:avLst/>
          </a:prstGeom>
          <a:noFill/>
          <a:ln w="0">
            <a:noFill/>
          </a:ln>
        </p:spPr>
        <p:txBody>
          <a:bodyPr anchor="t">
            <a:normAutofit fontScale="93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Hechos/escena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ick trabaja en el departamento de TI de una gran empresa que tiene su propia Intranet. La política de la empresa prohíbe a sus empleados utilizar la computadora de su empresa y la conexión a Internet para realizar compras en línea. En su tiempo libre, Nick comienza a desarrollar software que le permitiría a la compañía identificar a los empleados que realizan pagos en línea y capturar esa información para que pueda ser utilizada como evidencia en procedimientos disciplinarios. Nick carece de las habilidades necesarias y contacta en línea con 'Jupiter'. Juntos desarrollan un software que una vez descargado a la computadora de un usuario se activará cuando ese usuario comience a completar un formulario en línea, como el que se usa para procesar pagos en línea, y capturará los datos ingresados ​​por el usuario. La compañía de Nick está muy satisfecha mientras Júpiter comienza a implementar el software usando un programa troyan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ick cometió un delito?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La compañía cometió un delito?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Júpiter cometió un delito?</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BF7A4-0751-48B2-8DA6-C826C8ABFA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7</a:t>
            </a: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usa un software fotográfico disponible comercialmente para producir un giro bancario realista en la computadora de su casa. Lleva el borrador a su banco, que lo acepta como genuino y transfiere fondos a la cuenta de Stef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Qué delito ha cometido Stefan?</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71611-04D0-490E-A3E9-B7363863E8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8</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efan siempre se jactó ante sus amigos de su destreza como atleta cuando era adolescente. Sus amigos son escépticos. Se las arregla para obtener acceso a la base de datos de su antigua escuela y altera los registros para mostrarlo como capitán del equipo de atletismo de la escuela y como si hubiera ganado una serie de medallas.</a:t>
            </a:r>
            <a:endParaRPr b="0" lang="en-US" sz="30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Es esto un delito informático?</a:t>
            </a: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06BBF-9242-4FC2-A4FC-86BF70F874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9</a:t>
            </a:r>
            <a:endParaRPr b="0" lang="en-US" sz="4400" spc="-1" strike="noStrike">
              <a:solidFill>
                <a:srgbClr val="000000"/>
              </a:solidFill>
              <a:latin typeface="Calibri"/>
            </a:endParaRPr>
          </a:p>
        </p:txBody>
      </p:sp>
      <p:sp>
        <p:nvSpPr>
          <p:cNvPr id="456" name="PlaceHolder 2"/>
          <p:cNvSpPr>
            <a:spLocks noGrp="1"/>
          </p:cNvSpPr>
          <p:nvPr>
            <p:ph/>
          </p:nvPr>
        </p:nvSpPr>
        <p:spPr>
          <a:xfrm>
            <a:off x="457200" y="1417320"/>
            <a:ext cx="8686800" cy="470844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hora que ha perdido su trabajo en la fuerza policial y tiene que pagar una pensión alimenticia a su esposa desde su divorcio, Bobby está buscando otra forma de ganar dinero. Siempre ha estado interesado en los valores y compra 1000 acciones en Flanders Mining Inc, una compañía con derecho exclusivo a extraer uranio en Bélgica por 1 euro cada una. Bobby es miembro de un foro de internet cuyos miembros están, como Bobby, interesados ​​en el mercado de acciones. Bobby publica un mensaje que dice que un amigo en el gobierno de Bélgica le ha dicho que se han detectado cantidades sustanciales de uranio en Bélgica. Tras este anuncio, el precio de la acción en Flanders Mining despega, al final de la semana cada acción vale 1000 euros. Bobby luego vende sus acciones.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6FFC4-FF7B-4AF2-B0DB-98610129E9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0</a:t>
            </a: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conduce al banco. En el estacionamiento, descubre que no tiene cambio. Pone una arandela en la máquina automática de estacionamiento y obtiene un ticke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tefan cometió un delito?</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87FA6-CCA4-48E0-88A2-6566433077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1</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pués de su arresto, la policía descubre que Stefan posee los datos de la tarjeta de crédito pertenecientes a un gran número de tercero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La posesión de estos datos es un delito criminal?</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C36AC-501D-4A97-BB9B-AAFE1B6FBA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2</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am es miembro de un grupo exclusivo en línea que intercambia fotografías de niños víctimas de abusos sexuales. Adam también es miembro de un grupo de intercambio de archivos 'peer to peer', coloca fotografías de niños abusados ​​que ha obtenido del grupo en línea en estas carpetas compartidas de igual a igual que hacen que otros puedan acceder a ellas en la red peer to peer .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Qué delitos ha cometido Adán?</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5B3B4-CF60-4FDB-9EE1-B808FB561D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3</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ll es arrestado en el aeropuerto a su regreso de Camboya. Se encontró que su computadora portátil contiene una gran cantidad de imágenes de él involucrado en actividad sexual con niños que parecen ser del sudeste asiátic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uede Bill ser procesado con respecto a las imágene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057B5-5AD4-4024-821A-1E8FEB69E2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a:t>
            </a:r>
            <a:r>
              <a:rPr b="1" lang="en-US" sz="2800" spc="-1" strike="noStrike">
                <a:solidFill>
                  <a:srgbClr val="ff0000"/>
                </a:solidFill>
                <a:latin typeface="Calibri"/>
                <a:ea typeface="Times New Roman"/>
              </a:rPr>
              <a:t>ilegítima</a:t>
            </a:r>
            <a:r>
              <a:rPr b="0" lang="en-US" sz="2800" spc="-1" strike="noStrike">
                <a:solidFill>
                  <a:srgbClr val="000000"/>
                </a:solidFill>
                <a:latin typeface="Calibri"/>
                <a:ea typeface="Times New Roman"/>
              </a:rPr>
              <a:t>.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798D5F-C58D-460D-9A13-4F58CCA562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4</a:t>
            </a:r>
            <a:endParaRPr b="0" lang="en-US" sz="4400" spc="-1" strike="noStrike">
              <a:solidFill>
                <a:srgbClr val="000000"/>
              </a:solidFill>
              <a:latin typeface="Calibri"/>
            </a:endParaRPr>
          </a:p>
        </p:txBody>
      </p:sp>
      <p:sp>
        <p:nvSpPr>
          <p:cNvPr id="471" name="PlaceHolder 2"/>
          <p:cNvSpPr>
            <a:spLocks noGrp="1"/>
          </p:cNvSpPr>
          <p:nvPr>
            <p:ph/>
          </p:nvPr>
        </p:nvSpPr>
        <p:spPr>
          <a:xfrm>
            <a:off x="457200" y="1328760"/>
            <a:ext cx="8229600" cy="452592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Calibri"/>
              </a:rPr>
              <a:t>www.Iuvfishin.com</a:t>
            </a:r>
            <a:r>
              <a:rPr b="0" lang="en-US" sz="2200" spc="-1" strike="noStrike">
                <a:solidFill>
                  <a:srgbClr val="000000"/>
                </a:solidFill>
                <a:latin typeface="Calibri"/>
              </a:rPr>
              <a:t> es un sitio web dedicado a la pesca. El sitio está alojado en servidores ubicados en los EE. UU. Los propietarios del sitio descubren que ha sido pirateado y que mil imágenes de abuso infantil han sido cargadas e integradas dentro del sitio. La forma en que se ha hecho significa que estas imágenes no serían visibles para los usuarios normales del sitio. El sitio registra las direcciones IP de quienes han accedido a las fotografías.</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na dirección IP atribuida a John ha sido entregada a la policía en su país. Buscaron la dirección de John y se apoderaron de su computadora que contiene miles de imágenes de abuso infantil. La historia de Internet y los datos contenidos en estos archivos muestran claramente que la mayoría de las imágenes se han descargado de Internet.</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Qué delitos ha cometido John?</a:t>
            </a:r>
            <a:endParaRPr b="0" lang="en-US" sz="2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48B1C-896B-4953-AC2C-38D3A58E0A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5</a:t>
            </a: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policía de EE. UU. ha eliminado un sitio web que aloja sitios que ofrecen imágenes de abuso infantil para quienes pagan una suscripción mensual. Las autoridades de EE. UU. han capturado datos de quienes han pagado por el acceso, incluida la dirección IP, los números de tarjeta de crédito, la dirección de correo electrónico, la dirección de facturación y la contraseña. Uno de los clientes es Oswald. Habiendo obtenido una orden de registro, su computadora es examinada. No se encuentra nada incriminatorio porque Oswald ha utilizado un programa llamado 'Eliminación de la evidenci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swald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8419C-3007-4F2C-BFDF-AAE43534A3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8D564-1B50-4673-9C06-A3E930E849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uatro</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480" name="Picture 3" descr=""/>
          <p:cNvPicPr/>
          <p:nvPr/>
        </p:nvPicPr>
        <p:blipFill>
          <a:blip r:embed="rId1"/>
          <a:stretch/>
        </p:blipFill>
        <p:spPr>
          <a:xfrm>
            <a:off x="6786720" y="4643280"/>
            <a:ext cx="1962000" cy="1766880"/>
          </a:xfrm>
          <a:prstGeom prst="rect">
            <a:avLst/>
          </a:prstGeom>
          <a:ln w="0">
            <a:noFill/>
          </a:ln>
        </p:spPr>
      </p:pic>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2BE47-F5B3-479D-97A0-F33948A311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483"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final de esta sesión, los delegados pod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ar las disposiciones sustantivas del derecho penal e identificar algunos de los factores clave utilizados para describir los delitos, con base en la Convenio de Budape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las disposiciones legales sustantivas relevantes de las discusiones de estudio de caso.</a:t>
            </a:r>
            <a:endParaRPr b="0" lang="en-US" sz="2400" spc="-1" strike="noStrike">
              <a:solidFill>
                <a:srgbClr val="000000"/>
              </a:solidFill>
              <a:latin typeface="Arial"/>
            </a:endParaRPr>
          </a:p>
        </p:txBody>
      </p:sp>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B346C-2284-42D9-8989-68396589FA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30D8F-8455-4FBF-8F79-85186603A9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97"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cceder sin autoridad legislativa, ejecutiva, administrativa, judicial, contractual o consensual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Sin penalización de:</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ceso autorizado por el propietario/titular de los derechos del sistema informático o parte de él</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ceso al sistema informático que permite el acceso libre y abierto por parte del público</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FB0124-9A56-4439-9050-E6CDA5620C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a:t>
            </a:r>
            <a:r>
              <a:rPr b="1" lang="en-US" sz="2800" spc="-1" strike="noStrike">
                <a:solidFill>
                  <a:srgbClr val="ff0000"/>
                </a:solidFill>
                <a:latin typeface="Calibri"/>
                <a:ea typeface="Times New Roman"/>
              </a:rPr>
              <a:t>infringiendo medidas de seguridad, con la intención de obtener datos informáticos</a:t>
            </a:r>
            <a:r>
              <a:rPr b="0" lang="en-US" sz="2800" spc="-1" strike="noStrike">
                <a:solidFill>
                  <a:srgbClr val="000000"/>
                </a:solidFill>
                <a:latin typeface="Calibri"/>
                <a:ea typeface="Times New Roman"/>
              </a:rPr>
              <a:t> u otra </a:t>
            </a:r>
            <a:r>
              <a:rPr b="1" lang="en-US" sz="2800" spc="-1" strike="noStrike">
                <a:solidFill>
                  <a:srgbClr val="ff0000"/>
                </a:solidFill>
                <a:latin typeface="Calibri"/>
                <a:ea typeface="Times New Roman"/>
              </a:rPr>
              <a:t>intención deshonesta, o en relación con un sistema informático que esté conectado a o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EE4F8D-0180-4F0D-BEDC-74D66F615A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calificativos</a:t>
            </a:r>
            <a:endParaRPr b="0" lang="en-US" sz="4400" spc="-1" strike="noStrike">
              <a:solidFill>
                <a:srgbClr val="000000"/>
              </a:solidFill>
              <a:latin typeface="Calibri"/>
            </a:endParaRPr>
          </a:p>
        </p:txBody>
      </p:sp>
      <p:sp>
        <p:nvSpPr>
          <p:cNvPr id="103"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pueden limitar la penalización del acceso intencionado a todo o parte del sistema informático de forma ilegítima con los siguientes elementos de calificación:</a:t>
            </a:r>
            <a:endParaRPr b="0" lang="en-US" sz="2800" spc="-1" strike="noStrike">
              <a:solidFill>
                <a:srgbClr val="000000"/>
              </a:solidFill>
              <a:latin typeface="Calibri"/>
            </a:endParaRPr>
          </a:p>
          <a:p>
            <a:pPr lvl="1"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fringir las medidas de seguridad;</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ción de obtener datos informáticos; o</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to deshonesto</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n relación con un sistema de computadora que está conectado a otro sistema</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EA8D96-9742-4AC9-A210-6B421BB2A2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85480" y="758520"/>
            <a:ext cx="85914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ceptación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3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e ilegítim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interceptar, por medios técnicos, transmisiones no públicas de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desde o dentro de un sistema informático</a:t>
            </a:r>
            <a:endParaRPr b="0" lang="en-US" sz="32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D1C37-DC33-4F45-929D-69AFBDFF7E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08"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7309E-3612-4B11-AC40-642B8D7AB3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na</a:t>
            </a:r>
            <a:br>
              <a:rPr sz="2600"/>
            </a:br>
            <a:r>
              <a:rPr b="0" lang="en-US" sz="2600" spc="-1" strike="noStrike">
                <a:solidFill>
                  <a:srgbClr val="000000"/>
                </a:solidFill>
                <a:latin typeface="Calibri"/>
              </a:rPr>
              <a:t>Convenio de Budapest sobre la ciberdelincuencia - Derecho penal sustantiv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s</a:t>
            </a:r>
            <a:br>
              <a:rPr sz="2600"/>
            </a:br>
            <a:r>
              <a:rPr b="0" lang="en-US" sz="2600" spc="-1" strike="noStrike">
                <a:solidFill>
                  <a:srgbClr val="000000"/>
                </a:solidFill>
                <a:latin typeface="Calibri"/>
              </a:rPr>
              <a:t>Estudios de cas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es</a:t>
            </a:r>
            <a:br>
              <a:rPr sz="2600"/>
            </a:br>
            <a:r>
              <a:rPr b="0" lang="en-US" sz="2600" spc="-1" strike="noStrike">
                <a:solidFill>
                  <a:srgbClr val="000000"/>
                </a:solidFill>
                <a:latin typeface="Calibri"/>
              </a:rPr>
              <a:t>Resumen</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A30FD2-9182-4CA6-94A9-C7DFDC8779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interceptación</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929B5B-7C12-47AF-B468-69EE00BAED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terceptación</a:t>
            </a:r>
            <a:endParaRPr b="0" lang="en-US" sz="4400" spc="-1" strike="noStrike">
              <a:solidFill>
                <a:srgbClr val="000000"/>
              </a:solidFill>
              <a:latin typeface="Calibri"/>
            </a:endParaRPr>
          </a:p>
        </p:txBody>
      </p:sp>
      <p:sp>
        <p:nvSpPr>
          <p:cNvPr id="114" name="PlaceHolder 2"/>
          <p:cNvSpPr>
            <a:spLocks noGrp="1"/>
          </p:cNvSpPr>
          <p:nvPr>
            <p:ph/>
          </p:nvPr>
        </p:nvSpPr>
        <p:spPr>
          <a:xfrm>
            <a:off x="457200" y="1698480"/>
            <a:ext cx="8229600" cy="4167360"/>
          </a:xfrm>
          <a:prstGeom prst="rect">
            <a:avLst/>
          </a:prstGeom>
          <a:noFill/>
          <a:ln w="0">
            <a:noFill/>
          </a:ln>
        </p:spPr>
        <p:txBody>
          <a:bodyPr anchor="t">
            <a:normAutofit fontScale="92000"/>
          </a:bodyPr>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interceptación significa escuchar, controlar o vigilar las comunicaciones</a:t>
            </a:r>
            <a:endParaRPr b="0" lang="en-US" sz="3000" spc="-1" strike="noStrike">
              <a:solidFill>
                <a:srgbClr val="000000"/>
              </a:solidFill>
              <a:latin typeface="Calibri"/>
            </a:endParaRPr>
          </a:p>
          <a:p>
            <a:pPr lvl="1" marL="68328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disposición tiene como objetivo proteger la privacidad de las comunicaciones de datos </a:t>
            </a:r>
            <a:endParaRPr b="0" lang="en-US" sz="3000" spc="-1" strike="noStrike">
              <a:solidFill>
                <a:srgbClr val="000000"/>
              </a:solidFill>
              <a:latin typeface="Calibri"/>
            </a:endParaRPr>
          </a:p>
          <a:p>
            <a:pPr marL="31536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taca los equivalentes de tapping tradicional y grabación de conversaciones telefónicas orales cuando se realiza la transmisión de datos informáticos</a:t>
            </a:r>
            <a:endParaRPr b="0" lang="en-US" sz="30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55CE1B-9A26-4A05-B237-D35142BBDB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17"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F1A717-1AF3-493F-89CC-2A29EB997D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120" name="PlaceHolder 2"/>
          <p:cNvSpPr>
            <a:spLocks noGrp="1"/>
          </p:cNvSpPr>
          <p:nvPr>
            <p:ph/>
          </p:nvPr>
        </p:nvSpPr>
        <p:spPr>
          <a:xfrm>
            <a:off x="457200" y="1544760"/>
            <a:ext cx="8229600" cy="5075280"/>
          </a:xfrm>
          <a:prstGeom prst="rect">
            <a:avLst/>
          </a:prstGeom>
          <a:noFill/>
          <a:ln w="0">
            <a:noFill/>
          </a:ln>
        </p:spPr>
        <p:txBody>
          <a:bodyPr anchor="t">
            <a:normAutofit fontScale="96000"/>
          </a:bodyPr>
          <a:p>
            <a:pPr marL="329040" indent="-3290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se aplica donde la persona que intercepta tiene derecho a hacerlo</a:t>
            </a:r>
            <a:endParaRPr b="0" lang="en-US" sz="3000" spc="-1" strike="noStrike">
              <a:solidFill>
                <a:srgbClr val="000000"/>
              </a:solidFill>
              <a:latin typeface="Calibri"/>
            </a:endParaRPr>
          </a:p>
          <a:p>
            <a:pPr marL="329040" indent="-3290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a:t>
            </a:r>
            <a:endParaRPr b="0" lang="en-US" sz="30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ersona interceptora formada o autorizada por los participantes de la transmisión, incluso para:</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Pruebas autorizadas acordadas por los participantes</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Actividades de protección acordadas por los participantes</a:t>
            </a:r>
            <a:endParaRPr b="0" lang="en-US" sz="24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Empleo de cookies en sitios web</a:t>
            </a:r>
            <a:endParaRPr b="0" lang="en-US" sz="24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igilancia por parte de las autoridades encargadas de hacer cumplir la ley legalmente autorizadas en interés de:</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guridad nacional</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Detección de delitos</a:t>
            </a:r>
            <a:endParaRPr b="0" lang="en-US" sz="24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3B91E8-8DD6-4962-8077-E208D23A2A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23"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a:t>
            </a:r>
            <a:r>
              <a:rPr b="1" lang="en-US" sz="2800" spc="-1" strike="noStrike">
                <a:solidFill>
                  <a:srgbClr val="ff0000"/>
                </a:solidFill>
                <a:latin typeface="Calibri"/>
                <a:ea typeface="Times New Roman"/>
              </a:rPr>
              <a:t>por medios técnicos</a:t>
            </a:r>
            <a:r>
              <a:rPr b="0" lang="en-US" sz="2800" spc="-1" strike="noStrike">
                <a:solidFill>
                  <a:srgbClr val="000000"/>
                </a:solidFill>
                <a:latin typeface="Calibri"/>
                <a:ea typeface="Times New Roman"/>
              </a:rPr>
              <a:t>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FCE98C-6C4B-4A22-B114-00858B66FB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edios técnicos</a:t>
            </a:r>
            <a:endParaRPr b="0" lang="en-US" sz="4400" spc="-1" strike="noStrike">
              <a:solidFill>
                <a:srgbClr val="000000"/>
              </a:solidFill>
              <a:latin typeface="Calibri"/>
            </a:endParaRPr>
          </a:p>
        </p:txBody>
      </p:sp>
      <p:sp>
        <p:nvSpPr>
          <p:cNvPr id="126"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Mediant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cceso y uso del sistema informátic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electrónicos de espionaje o escuchas</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uede inclu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Registr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técnicos fijados a líneas de transmisión</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para recopilar y registrar comunicaciones inalámbrica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software, contraseñas y códigos</a:t>
            </a:r>
            <a:endParaRPr b="0" lang="en-US" sz="24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6D0B4A-EF28-40A7-A2F7-25BBF58B7A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29" name="PlaceHolder 2"/>
          <p:cNvSpPr>
            <a:spLocks noGrp="1"/>
          </p:cNvSpPr>
          <p:nvPr>
            <p:ph/>
          </p:nvPr>
        </p:nvSpPr>
        <p:spPr>
          <a:xfrm>
            <a:off x="457200" y="153360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a:t>
            </a:r>
            <a:r>
              <a:rPr b="1" lang="en-US" sz="2800" spc="-1" strike="noStrike">
                <a:solidFill>
                  <a:srgbClr val="ff0000"/>
                </a:solidFill>
                <a:latin typeface="Calibri"/>
                <a:ea typeface="Times New Roman"/>
              </a:rPr>
              <a:t>transmisiones no públicas</a:t>
            </a:r>
            <a:r>
              <a:rPr b="0" lang="en-US" sz="2800" spc="-1" strike="noStrike">
                <a:solidFill>
                  <a:srgbClr val="000000"/>
                </a:solidFill>
                <a:latin typeface="Calibri"/>
                <a:ea typeface="Times New Roman"/>
              </a:rPr>
              <a:t>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2527E6-91EF-4A96-B4E2-B119AB4448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ransmisiones no públicas</a:t>
            </a:r>
            <a:endParaRPr b="0" lang="en-US" sz="4400" spc="-1" strike="noStrike">
              <a:solidFill>
                <a:srgbClr val="000000"/>
              </a:solidFill>
              <a:latin typeface="Calibri"/>
            </a:endParaRPr>
          </a:p>
        </p:txBody>
      </p:sp>
      <p:sp>
        <p:nvSpPr>
          <p:cNvPr id="132"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o penaliza la interceptación de datos no públicos, sino de transmisiones no pública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o excluye </a:t>
            </a:r>
            <a:r>
              <a:rPr b="0" i="1" lang="en-US" sz="3200" spc="-1" strike="noStrike">
                <a:solidFill>
                  <a:srgbClr val="000000"/>
                </a:solidFill>
                <a:latin typeface="Calibri"/>
                <a:ea typeface="Times New Roman"/>
              </a:rPr>
              <a:t>per se</a:t>
            </a:r>
            <a:r>
              <a:rPr b="0" lang="en-US" sz="3200" spc="-1" strike="noStrike">
                <a:solidFill>
                  <a:srgbClr val="000000"/>
                </a:solidFill>
                <a:latin typeface="Calibri"/>
                <a:ea typeface="Times New Roman"/>
              </a:rPr>
              <a:t> las comunicaciones a través de redes pública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Puede incluir información públicamente disponible transmitida a través de transmisiones no públicas</a:t>
            </a:r>
            <a:endParaRPr b="0" lang="en-US" sz="32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5373482-3A45-4344-9027-066F19F0F0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35" name="PlaceHolder 2"/>
          <p:cNvSpPr>
            <a:spLocks noGrp="1"/>
          </p:cNvSpPr>
          <p:nvPr>
            <p:ph/>
          </p:nvPr>
        </p:nvSpPr>
        <p:spPr>
          <a:xfrm>
            <a:off x="457200" y="156204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a:t>
            </a:r>
            <a:r>
              <a:rPr b="1" lang="en-US" sz="2800" spc="-1" strike="noStrike">
                <a:solidFill>
                  <a:srgbClr val="ff0000"/>
                </a:solidFill>
                <a:latin typeface="Calibri"/>
                <a:ea typeface="Times New Roman"/>
              </a:rPr>
              <a:t>dirigidas a un sistema informático, originadas en un sistema informático o efectuadas dentro del mismo</a:t>
            </a:r>
            <a:r>
              <a:rPr b="0" lang="en-US" sz="2800" spc="-1" strike="noStrike">
                <a:solidFill>
                  <a:srgbClr val="000000"/>
                </a:solidFill>
                <a:latin typeface="Calibri"/>
                <a:ea typeface="Times New Roman"/>
              </a:rPr>
              <a:t>,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27E068-D0C8-4C5E-9318-E2DE874B7B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ra, desde o dentro de un sistema informático</a:t>
            </a:r>
            <a:endParaRPr b="0" lang="en-US" sz="4400" spc="-1" strike="noStrike">
              <a:solidFill>
                <a:srgbClr val="000000"/>
              </a:solidFill>
              <a:latin typeface="Calibri"/>
            </a:endParaRPr>
          </a:p>
        </p:txBody>
      </p:sp>
      <p:sp>
        <p:nvSpPr>
          <p:cNvPr id="138" name="PlaceHolder 2"/>
          <p:cNvSpPr>
            <a:spLocks noGrp="1"/>
          </p:cNvSpPr>
          <p:nvPr>
            <p:ph/>
          </p:nvPr>
        </p:nvSpPr>
        <p:spPr>
          <a:xfrm>
            <a:off x="457200" y="1952640"/>
            <a:ext cx="8229600" cy="4208400"/>
          </a:xfrm>
          <a:prstGeom prst="rect">
            <a:avLst/>
          </a:prstGeom>
          <a:noFill/>
          <a:ln w="0">
            <a:noFill/>
          </a:ln>
        </p:spPr>
        <p:txBody>
          <a:bodyPr anchor="t">
            <a:normAutofit fontScale="98000"/>
          </a:bodyPr>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un sistema informático</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persona a teclado</a:t>
            </a:r>
            <a:endParaRPr b="0" lang="en-US" sz="2400" spc="-1" strike="noStrike">
              <a:solidFill>
                <a:srgbClr val="000000"/>
              </a:solidFill>
              <a:latin typeface="Calibri"/>
            </a:endParaRPr>
          </a:p>
          <a:p>
            <a:pPr lvl="1" marL="7279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un sistema informático</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un sistema informático a otro</a:t>
            </a:r>
            <a:endParaRPr b="0" lang="en-US" sz="2400" spc="-1" strike="noStrike">
              <a:solidFill>
                <a:srgbClr val="000000"/>
              </a:solidFill>
              <a:latin typeface="Calibri"/>
            </a:endParaRPr>
          </a:p>
          <a:p>
            <a:pPr lvl="1" marL="7279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ntro del sistema informático: </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la CPU a la impresora</a:t>
            </a:r>
            <a:endParaRPr b="0" lang="en-US" sz="2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34F400-0933-4A1C-BEA3-F54575C8DD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final de esta sesión, los delegados pod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ar las disposiciones sustantivas del derecho penal e identificar algunos de los factores clave utilizados para describir los delitos, con base en el Convenio de Budape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las disposiciones legales sustantivas relevantes de las discusiones de estudio de caso</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1EE6C1-DD21-4998-A9DF-C64019963A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41"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a:t>
            </a:r>
            <a:r>
              <a:rPr b="1" lang="en-US" sz="2800" spc="-1" strike="noStrike">
                <a:solidFill>
                  <a:srgbClr val="ff0000"/>
                </a:solidFill>
                <a:latin typeface="Calibri"/>
                <a:ea typeface="Times New Roman"/>
              </a:rPr>
              <a:t>emisiones electromagnéticas</a:t>
            </a:r>
            <a:r>
              <a:rPr b="0" lang="en-US" sz="2800" spc="-1" strike="noStrike">
                <a:solidFill>
                  <a:srgbClr val="000000"/>
                </a:solidFill>
                <a:latin typeface="Calibri"/>
                <a:ea typeface="Times New Roman"/>
              </a:rPr>
              <a:t>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2C9BDC-7045-4D51-926E-D55CBFCA13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misiones electromagnéticas</a:t>
            </a:r>
            <a:endParaRPr b="0" lang="en-US" sz="4400" spc="-1" strike="noStrike">
              <a:solidFill>
                <a:srgbClr val="000000"/>
              </a:solidFill>
              <a:latin typeface="Calibri"/>
            </a:endParaRPr>
          </a:p>
        </p:txBody>
      </p:sp>
      <p:sp>
        <p:nvSpPr>
          <p:cNvPr id="144" name="PlaceHolder 2"/>
          <p:cNvSpPr>
            <a:spLocks noGrp="1"/>
          </p:cNvSpPr>
          <p:nvPr>
            <p:ph/>
          </p:nvPr>
        </p:nvSpPr>
        <p:spPr>
          <a:xfrm>
            <a:off x="457200" y="1544760"/>
            <a:ext cx="8229600" cy="403992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asegurar un alcance más complet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sistemas informáticos pueden emitir emisiones electromagnéticas durante la operación</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emisiones no están comprendidas en la definición del Convenio de Budapest de datos informáticos</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datos pueden ser reconstruidos a partir de tales emisiones</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r lo tanto, la interceptación de emisiones electromagnéticas está incluida dentro del delito</a:t>
            </a: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C75E61-B74D-4E18-90B8-16B6CDF2A1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47"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a:t>
            </a:r>
            <a:r>
              <a:rPr b="1" lang="en-US" sz="2800" spc="-1" strike="noStrike">
                <a:solidFill>
                  <a:srgbClr val="ff0000"/>
                </a:solidFill>
                <a:latin typeface="Calibri"/>
                <a:ea typeface="Times New Roman"/>
              </a:rPr>
              <a:t>intención delictiva</a:t>
            </a:r>
            <a:r>
              <a:rPr b="0" lang="en-US" sz="2800" spc="-1" strike="noStrike">
                <a:solidFill>
                  <a:srgbClr val="000000"/>
                </a:solidFill>
                <a:latin typeface="Calibri"/>
                <a:ea typeface="Times New Roman"/>
              </a:rPr>
              <a:t> o </a:t>
            </a:r>
            <a:r>
              <a:rPr b="1" lang="en-US" sz="2800" spc="-1" strike="noStrike">
                <a:solidFill>
                  <a:srgbClr val="ff0000"/>
                </a:solidFill>
                <a:latin typeface="Calibri"/>
                <a:ea typeface="Times New Roman"/>
              </a:rPr>
              <a:t>en relación con un sistema informático conectado a o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F94A25-E3CB-461C-8C92-23ECB8E45B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calificativos</a:t>
            </a:r>
            <a:endParaRPr b="0" lang="en-US" sz="4400" spc="-1" strike="noStrike">
              <a:solidFill>
                <a:srgbClr val="000000"/>
              </a:solidFill>
              <a:latin typeface="Calibri"/>
            </a:endParaRPr>
          </a:p>
        </p:txBody>
      </p:sp>
      <p:sp>
        <p:nvSpPr>
          <p:cNvPr id="150"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Las Partes pueden limitar la penalización de la interceptación intencional no autorizada con los siguientes elementos de calificación:</a:t>
            </a:r>
            <a:endParaRPr b="0" lang="en-US" sz="3200" spc="-1" strike="noStrike">
              <a:solidFill>
                <a:srgbClr val="000000"/>
              </a:solidFill>
              <a:latin typeface="Calibri"/>
            </a:endParaRPr>
          </a:p>
          <a:p>
            <a:pPr lvl="1" marL="74304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Intento deshonesto</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En relación con un sistema de computadora que está conectado a otro sistema</a:t>
            </a:r>
            <a:endParaRPr b="0" lang="en-US" sz="30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E69010-7A6D-4023-8ABD-94E8934A87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encia de dato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4 -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año, eliminación, deterioro, alteración o supresión de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ilegíti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982D6-8477-4716-BDAF-89291BAC30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5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CC732-98EE-4AA0-9DA2-021A8B5413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58"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a:t>
            </a:r>
            <a:r>
              <a:rPr b="1" lang="en-US" sz="2800" spc="-1" strike="noStrike">
                <a:solidFill>
                  <a:srgbClr val="ff0000"/>
                </a:solidFill>
                <a:latin typeface="Calibri"/>
                <a:ea typeface="Times New Roman"/>
              </a:rPr>
              <a:t>dañe</a:t>
            </a:r>
            <a:r>
              <a:rPr b="0" lang="en-US" sz="2800" spc="-1" strike="noStrike">
                <a:solidFill>
                  <a:srgbClr val="000000"/>
                </a:solidFill>
                <a:latin typeface="Calibri"/>
              </a:rPr>
              <a:t>, borre, </a:t>
            </a:r>
            <a:r>
              <a:rPr b="1" lang="en-US" sz="2800" spc="-1" strike="noStrike">
                <a:solidFill>
                  <a:srgbClr val="ff0000"/>
                </a:solidFill>
                <a:latin typeface="Calibri"/>
                <a:ea typeface="Times New Roman"/>
              </a:rPr>
              <a:t>deteriore</a:t>
            </a:r>
            <a:r>
              <a:rPr b="0" lang="en-US" sz="2800" spc="-1" strike="noStrike">
                <a:solidFill>
                  <a:srgbClr val="000000"/>
                </a:solidFill>
                <a:latin typeface="Calibri"/>
              </a:rPr>
              <a:t>,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13B19DB-47E6-4394-A91A-35829B866B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ño, deterioro </a:t>
            </a:r>
            <a:endParaRPr b="0" lang="en-US" sz="4400" spc="-1" strike="noStrike">
              <a:solidFill>
                <a:srgbClr val="000000"/>
              </a:solidFill>
              <a:latin typeface="Calibri"/>
            </a:endParaRPr>
          </a:p>
        </p:txBody>
      </p:sp>
      <p:sp>
        <p:nvSpPr>
          <p:cNvPr id="161"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año y deterioro son actos superpues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lteración negativa de:</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Integridad; o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contenido de información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	</a:t>
            </a:r>
            <a:r>
              <a:rPr b="0" lang="en-US" sz="3000" spc="-1" strike="noStrike">
                <a:solidFill>
                  <a:srgbClr val="000000"/>
                </a:solidFill>
                <a:latin typeface="Calibri"/>
                <a:ea typeface="Times New Roman"/>
              </a:rPr>
              <a:t>de datos y programa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D61AA68-06CE-4A69-8B94-558F5C39E2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64"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a:t>
            </a:r>
            <a:r>
              <a:rPr b="1" lang="en-US" sz="2800" spc="-1" strike="noStrike">
                <a:solidFill>
                  <a:srgbClr val="ff0000"/>
                </a:solidFill>
                <a:latin typeface="Calibri"/>
                <a:ea typeface="Times New Roman"/>
              </a:rPr>
              <a:t>borre</a:t>
            </a:r>
            <a:r>
              <a:rPr b="0" lang="en-US" sz="2800" spc="-1" strike="noStrike">
                <a:solidFill>
                  <a:srgbClr val="000000"/>
                </a:solidFill>
                <a:latin typeface="Calibri"/>
              </a:rPr>
              <a:t>,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3C92872-FF2C-4E2B-B5E5-E5E848B204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ión</a:t>
            </a:r>
            <a:endParaRPr b="0" lang="en-US" sz="4400" spc="-1" strike="noStrike">
              <a:solidFill>
                <a:srgbClr val="000000"/>
              </a:solidFill>
              <a:latin typeface="Calibri"/>
            </a:endParaRPr>
          </a:p>
        </p:txBody>
      </p:sp>
      <p:sp>
        <p:nvSpPr>
          <p:cNvPr id="167"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eliminación de datos es equivalente a la destrucción de una cosa corpóre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struye da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Hace que los datos sean irreconocible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A1C7FF-350F-4D9F-B27E-C2CBEC8EA3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na</a:t>
            </a:r>
            <a:br>
              <a:rPr sz="4000"/>
            </a:br>
            <a:r>
              <a:rPr b="1" lang="en-US" sz="4000" spc="-1" strike="noStrike">
                <a:solidFill>
                  <a:srgbClr val="000000"/>
                </a:solidFill>
                <a:latin typeface="Calibri"/>
              </a:rPr>
              <a:t>Convenio de Budapest sobre la ciberdelincuencia -Derecho penal sustantivo</a:t>
            </a:r>
            <a:br>
              <a:rPr sz="4000"/>
            </a:b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203F0-B8AE-49B4-AE89-A8A7A22220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70"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t>
            </a:r>
            <a:r>
              <a:rPr b="1" lang="en-US" sz="2800" spc="-1" strike="noStrike">
                <a:solidFill>
                  <a:srgbClr val="ff0000"/>
                </a:solidFill>
                <a:latin typeface="Calibri"/>
                <a:ea typeface="Times New Roman"/>
              </a:rPr>
              <a:t>altere </a:t>
            </a:r>
            <a:r>
              <a:rPr b="0" lang="en-US" sz="2800" spc="-1" strike="noStrike">
                <a:solidFill>
                  <a:srgbClr val="000000"/>
                </a:solidFill>
                <a:latin typeface="Calibri"/>
              </a:rPr>
              <a:t>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505DFED-92BD-4AA1-9DB1-47012A5322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odificación</a:t>
            </a:r>
            <a:endParaRPr b="0" lang="en-US" sz="4400" spc="-1" strike="noStrike">
              <a:solidFill>
                <a:srgbClr val="000000"/>
              </a:solidFill>
              <a:latin typeface="Calibri"/>
            </a:endParaRPr>
          </a:p>
        </p:txBody>
      </p:sp>
      <p:sp>
        <p:nvSpPr>
          <p:cNvPr id="173"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Modificación de datos existente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Incluye la entrada de códigos maliciosos como virus y troyanos y la consiguiente modificación de da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1A7832-F0DC-459C-A4AF-108321B0FD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a:t>
            </a:r>
            <a:r>
              <a:rPr b="1" lang="en-US" sz="2800" spc="-1" strike="noStrike">
                <a:solidFill>
                  <a:srgbClr val="ff0000"/>
                </a:solidFill>
                <a:latin typeface="Calibri"/>
                <a:ea typeface="Times New Roman"/>
              </a:rPr>
              <a:t>suprima </a:t>
            </a:r>
            <a:r>
              <a:rPr b="0" lang="en-US" sz="2800" spc="-1" strike="noStrike">
                <a:solidFill>
                  <a:srgbClr val="000000"/>
                </a:solidFill>
                <a:latin typeface="Calibri"/>
              </a:rPr>
              <a:t>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F961EA-B80C-4FCC-9669-22939B9D83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ión</a:t>
            </a:r>
            <a:endParaRPr b="0" lang="en-US" sz="4400" spc="-1" strike="noStrike">
              <a:solidFill>
                <a:srgbClr val="000000"/>
              </a:solidFill>
              <a:latin typeface="Calibri"/>
            </a:endParaRPr>
          </a:p>
        </p:txBody>
      </p:sp>
      <p:sp>
        <p:nvSpPr>
          <p:cNvPr id="179"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Cualquier acción que impida o finalice la disponibilidad de datos a la persona que tiene acceso a la computadora o medio de almacenamiento en el que se almacenó</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afecta el contenido de los datos en sí, sino su disponibilidad </a:t>
            </a:r>
            <a:endParaRPr b="0" lang="en-US" sz="30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88F83F-7299-48E0-869E-74171F1A39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82"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ptará las medidas legislativas y de otro tipo que resulten necesarias para tipificar como delito en su derecho interno todo acto deliberado e ilegítimo que dañe, borre, deteriore, altere o suprima datos informáticos de forma </a:t>
            </a:r>
            <a:r>
              <a:rPr b="1" lang="en-US" sz="2800" spc="-1" strike="noStrike">
                <a:solidFill>
                  <a:srgbClr val="ff0000"/>
                </a:solidFill>
                <a:latin typeface="Calibri"/>
                <a:ea typeface="Times New Roman"/>
              </a:rPr>
              <a:t>ilegítima</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BC31AD-2730-4A92-AE35-F4B8F94DA2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185" name="PlaceHolder 2"/>
          <p:cNvSpPr>
            <a:spLocks noGrp="1"/>
          </p:cNvSpPr>
          <p:nvPr>
            <p:ph/>
          </p:nvPr>
        </p:nvSpPr>
        <p:spPr>
          <a:xfrm>
            <a:off x="457200" y="1730520"/>
            <a:ext cx="8229600" cy="3443040"/>
          </a:xfrm>
          <a:prstGeom prst="rect">
            <a:avLst/>
          </a:prstGeom>
          <a:noFill/>
          <a:ln w="0">
            <a:noFill/>
          </a:ln>
        </p:spPr>
        <p:txBody>
          <a:bodyPr anchor="t">
            <a:normAutofit fontScale="78000"/>
          </a:bodyPr>
          <a:p>
            <a:pPr marL="267480" indent="-2674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No se aplica donde la persona que interfiere tiene derecho a interferir con los datos</a:t>
            </a:r>
            <a:endParaRPr b="0" lang="en-US" sz="2600" spc="-1" strike="noStrike">
              <a:solidFill>
                <a:srgbClr val="000000"/>
              </a:solidFill>
              <a:latin typeface="Calibri"/>
            </a:endParaRPr>
          </a:p>
          <a:p>
            <a:pPr marL="267480" indent="-2674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Ejemplos incluyen:</a:t>
            </a:r>
            <a:endParaRPr b="0" lang="en-US" sz="26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Actividades inherentes al diseño de redes o prácticas operativas o comerciales comunes</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ueba o protección del sistema de seguridad de la computadora autorizada por el propietario u operador </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Reconfiguración del sistema operativo de la computadora en el momento de la instalación del nuevo software </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ción de los datos de tráfico con el propósito de facilitar las comunicaciones anónimas (por ejemplo, sistemas anónimos de reenvío)</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ción de datos para fines de comunicaciones seguras (por ejemplo, cifrado)</a:t>
            </a:r>
            <a:endParaRPr b="0" lang="en-US" sz="22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845C26-8874-4598-8402-379F6858D4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88"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ptará las medidas legislativas y de otro tipo que resulten necesarias para tipificar como delito en su derecho interno todo acto deliberado e ilegítimo que dañe, borre,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Las Partes podrán reservarse el derecho a exigir que los actos definidos en el párrafo 1 comporten </a:t>
            </a:r>
            <a:r>
              <a:rPr b="1" lang="en-US" sz="2800" spc="-1" strike="noStrike">
                <a:solidFill>
                  <a:srgbClr val="ff0000"/>
                </a:solidFill>
                <a:latin typeface="Calibri"/>
                <a:ea typeface="Times New Roman"/>
              </a:rPr>
              <a:t>daños graves</a:t>
            </a:r>
            <a:r>
              <a:rPr b="1" lang="en-US" sz="2800" spc="-1" strike="noStrike">
                <a:solidFill>
                  <a:srgbClr val="ff0000"/>
                </a:solidFill>
                <a:latin typeface="Calibri"/>
              </a:rPr>
              <a:t>.</a:t>
            </a:r>
            <a:endParaRPr b="0" lang="en-US" sz="28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32375E4-01D4-49C8-8CA3-060E680F09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ño grave</a:t>
            </a:r>
            <a:endParaRPr b="0" lang="en-US" sz="4400" spc="-1" strike="noStrike">
              <a:solidFill>
                <a:srgbClr val="000000"/>
              </a:solidFill>
              <a:latin typeface="Calibri"/>
            </a:endParaRPr>
          </a:p>
        </p:txBody>
      </p:sp>
      <p:sp>
        <p:nvSpPr>
          <p:cNvPr id="191"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s partes pueden limitar el alcance de este delito al exigir que la conducta resulte en daños graves.</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finición de daño grave que debe preverse en la legislación nacional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Puede ser calificado sobre la base del quantum de daño monetario que surge de la conducta</a:t>
            </a:r>
            <a:endParaRPr b="0" lang="en-US" sz="30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50A8B0-C18C-4303-9644-3FF025B7F8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encia del siste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5 - Convenio de Budapest)</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La grave obstaculización del funcionamiento de un sistema informátic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l ingresar, transmitir, dañar, eliminar, deteriorar, alterar o suprimir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ilegítima </a:t>
            </a:r>
            <a:endParaRPr b="0" lang="en-US" sz="32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C357B-23F2-4EAE-9A83-51B2FB69D1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obstaculización grave,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E5E7A-D44E-44E4-B7C1-7754D25363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344700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riminalizar la conducta</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cceso ilícit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ptación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 los dat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l sistem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buso de dispositiv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raude y falsific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rnografía infanti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Delitos de DPI</a:t>
            </a:r>
            <a:endParaRPr b="0" lang="en-US" sz="1800" spc="-1" strike="noStrike">
              <a:solidFill>
                <a:srgbClr val="000000"/>
              </a:solidFill>
              <a:latin typeface="Arial"/>
            </a:endParaRPr>
          </a:p>
        </p:txBody>
      </p:sp>
      <p:sp>
        <p:nvSpPr>
          <p:cNvPr id="62" name="Textfeld 3"/>
          <p:cNvSpPr/>
          <p:nvPr/>
        </p:nvSpPr>
        <p:spPr>
          <a:xfrm>
            <a:off x="3465360" y="1041480"/>
            <a:ext cx="2428920" cy="31726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Herramientas de procedimiento</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nservación rápi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Órdenes de present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gistro y confisc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 datos informáticos</a:t>
            </a:r>
            <a:endParaRPr b="0" lang="en-US" sz="1800" spc="-1" strike="noStrike">
              <a:solidFill>
                <a:srgbClr val="000000"/>
              </a:solidFill>
              <a:latin typeface="Arial"/>
            </a:endParaRPr>
          </a:p>
        </p:txBody>
      </p:sp>
      <p:sp>
        <p:nvSpPr>
          <p:cNvPr id="63" name="Textfeld 4"/>
          <p:cNvSpPr/>
          <p:nvPr/>
        </p:nvSpPr>
        <p:spPr>
          <a:xfrm>
            <a:off x="6394320" y="1004760"/>
            <a:ext cx="2571840" cy="4849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operación internacional</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xtradi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formación espontáne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nservación rápi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el acceso a datos informátic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el ataque a la integridad</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untos de contacto 24/7</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Arial"/>
              </a:rPr>
              <a:t>Armonización </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436560" y="2666520"/>
            <a:ext cx="1094760" cy="4821840"/>
          </a:xfrm>
          <a:prstGeom prst="bentConnector2">
            <a:avLst/>
          </a:prstGeom>
          <a:ln w="9360">
            <a:solidFill>
              <a:srgbClr val="002060"/>
            </a:solidFill>
            <a:miter/>
            <a:tailEnd len="med" type="arrow" w="med"/>
          </a:ln>
        </p:spPr>
      </p:cxnSp>
      <p:sp>
        <p:nvSpPr>
          <p:cNvPr id="68" name="Gerade Verbindung 27"/>
          <p:cNvSpPr/>
          <p:nvPr/>
        </p:nvSpPr>
        <p:spPr>
          <a:xfrm>
            <a:off x="4680000" y="4241880"/>
            <a:ext cx="0" cy="1382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cance del Convenio de Budapest</a:t>
            </a:r>
            <a:endParaRPr b="0" lang="en-US" sz="44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B8DE8-CD26-454A-BDAE-964D0CEF24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obstaculización</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grave,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C442CF-D1A7-4801-BBDC-22AFE5D42B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Obstaculizar el funcionamiento de un sistema informático</a:t>
            </a:r>
            <a:endParaRPr b="0" lang="en-US" sz="4400" spc="-1" strike="noStrike">
              <a:solidFill>
                <a:srgbClr val="000000"/>
              </a:solidFill>
              <a:latin typeface="Calibri"/>
            </a:endParaRPr>
          </a:p>
        </p:txBody>
      </p:sp>
      <p:sp>
        <p:nvSpPr>
          <p:cNvPr id="202"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bstaculizar es una acción que interfiere con el funcionamiento adecuado del sistema informático</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obstaculización se lleva a cabo:</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ntr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transmitie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perjudic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limin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alter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suprimiendo; </a:t>
            </a:r>
            <a:endParaRPr b="0" lang="en-US" sz="24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DE3D73-7D2D-4E19-AA88-3AA0A4D2AA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1"/>
          <p:cNvSpPr/>
          <p:nvPr/>
        </p:nvSpPr>
        <p:spPr>
          <a:xfrm>
            <a:off x="5299200" y="4567320"/>
            <a:ext cx="28782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atos informáticos</a:t>
            </a:r>
            <a:endParaRPr b="0" lang="en-US" sz="2800" spc="-1" strike="noStrike">
              <a:solidFill>
                <a:srgbClr val="000000"/>
              </a:solidFill>
              <a:latin typeface="Arial"/>
            </a:endParaRPr>
          </a:p>
        </p:txBody>
      </p:sp>
      <p:sp>
        <p:nvSpPr>
          <p:cNvPr id="205" name="Rectangle 2"/>
          <p:cNvSpPr/>
          <p:nvPr/>
        </p:nvSpPr>
        <p:spPr>
          <a:xfrm>
            <a:off x="914400" y="370044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6"/>
          <p:cNvSpPr/>
          <p:nvPr/>
        </p:nvSpPr>
        <p:spPr>
          <a:xfrm>
            <a:off x="912960" y="410544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912960" y="451332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8"/>
          <p:cNvSpPr/>
          <p:nvPr/>
        </p:nvSpPr>
        <p:spPr>
          <a:xfrm>
            <a:off x="909720" y="491976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9"/>
          <p:cNvSpPr/>
          <p:nvPr/>
        </p:nvSpPr>
        <p:spPr>
          <a:xfrm>
            <a:off x="912960" y="532908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0"/>
          <p:cNvSpPr/>
          <p:nvPr/>
        </p:nvSpPr>
        <p:spPr>
          <a:xfrm>
            <a:off x="909720" y="573552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1" name="Straight Arrow Connector 4"/>
          <p:cNvCxnSpPr>
            <a:stCxn id="205" idx="3"/>
            <a:endCxn id="204"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2" name="Straight Arrow Connector 16"/>
          <p:cNvCxnSpPr>
            <a:stCxn id="206" idx="3"/>
            <a:endCxn id="204" idx="1"/>
          </p:cNvCxnSpPr>
          <p:nvPr/>
        </p:nvCxnSpPr>
        <p:spPr>
          <a:xfrm>
            <a:off x="3036960" y="4301640"/>
            <a:ext cx="2534400" cy="505800"/>
          </a:xfrm>
          <a:prstGeom prst="straightConnector1">
            <a:avLst/>
          </a:prstGeom>
          <a:ln w="25560">
            <a:solidFill>
              <a:srgbClr val="4f81bd"/>
            </a:solidFill>
            <a:miter/>
            <a:tailEnd len="med" type="triangle" w="med"/>
          </a:ln>
        </p:spPr>
      </p:cxnSp>
      <p:cxnSp>
        <p:nvCxnSpPr>
          <p:cNvPr id="213" name="Straight Arrow Connector 19"/>
          <p:cNvCxnSpPr>
            <a:stCxn id="207" idx="3"/>
            <a:endCxn id="204" idx="1"/>
          </p:cNvCxnSpPr>
          <p:nvPr/>
        </p:nvCxnSpPr>
        <p:spPr>
          <a:xfrm>
            <a:off x="3036960" y="4709880"/>
            <a:ext cx="2534400" cy="97560"/>
          </a:xfrm>
          <a:prstGeom prst="straightConnector1">
            <a:avLst/>
          </a:prstGeom>
          <a:ln w="25560">
            <a:solidFill>
              <a:srgbClr val="4f81bd"/>
            </a:solidFill>
            <a:miter/>
            <a:tailEnd len="med" type="triangle" w="med"/>
          </a:ln>
        </p:spPr>
      </p:cxnSp>
      <p:cxnSp>
        <p:nvCxnSpPr>
          <p:cNvPr id="214" name="Straight Arrow Connector 22"/>
          <p:cNvCxnSpPr>
            <a:stCxn id="208" idx="3"/>
            <a:endCxn id="204" idx="1"/>
          </p:cNvCxnSpPr>
          <p:nvPr/>
        </p:nvCxnSpPr>
        <p:spPr>
          <a:xfrm flipV="1">
            <a:off x="3033360" y="4806720"/>
            <a:ext cx="2537640" cy="310320"/>
          </a:xfrm>
          <a:prstGeom prst="straightConnector1">
            <a:avLst/>
          </a:prstGeom>
          <a:ln w="25560">
            <a:solidFill>
              <a:srgbClr val="4f81bd"/>
            </a:solidFill>
            <a:miter/>
            <a:tailEnd len="med" type="triangle" w="med"/>
          </a:ln>
        </p:spPr>
      </p:cxnSp>
      <p:cxnSp>
        <p:nvCxnSpPr>
          <p:cNvPr id="215" name="Straight Arrow Connector 30"/>
          <p:cNvCxnSpPr>
            <a:stCxn id="209" idx="3"/>
            <a:endCxn id="204" idx="1"/>
          </p:cNvCxnSpPr>
          <p:nvPr/>
        </p:nvCxnSpPr>
        <p:spPr>
          <a:xfrm flipV="1">
            <a:off x="3036960" y="4806360"/>
            <a:ext cx="2534400" cy="719640"/>
          </a:xfrm>
          <a:prstGeom prst="straightConnector1">
            <a:avLst/>
          </a:prstGeom>
          <a:ln w="25560">
            <a:solidFill>
              <a:srgbClr val="4f81bd"/>
            </a:solidFill>
            <a:miter/>
            <a:tailEnd len="med" type="triangle" w="med"/>
          </a:ln>
        </p:spPr>
      </p:cxnSp>
      <p:cxnSp>
        <p:nvCxnSpPr>
          <p:cNvPr id="216" name="Straight Arrow Connector 33"/>
          <p:cNvCxnSpPr>
            <a:stCxn id="210" idx="3"/>
            <a:endCxn id="204" idx="1"/>
          </p:cNvCxnSpPr>
          <p:nvPr/>
        </p:nvCxnSpPr>
        <p:spPr>
          <a:xfrm flipV="1">
            <a:off x="3033360" y="4806720"/>
            <a:ext cx="253764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obstaculización grave</a:t>
            </a:r>
            <a:r>
              <a:rPr b="0" lang="en-US" sz="2800" spc="-1" strike="noStrike">
                <a:solidFill>
                  <a:srgbClr val="000000"/>
                </a:solidFill>
                <a:latin typeface="Calibri"/>
                <a:ea typeface="Times New Roman"/>
              </a:rPr>
              <a:t>,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8AAEBE-4A12-4B30-88DB-0AEFBDDA14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Obstaculización grave</a:t>
            </a:r>
            <a:endParaRPr b="0" lang="en-US" sz="4400" spc="-1" strike="noStrike">
              <a:solidFill>
                <a:srgbClr val="000000"/>
              </a:solidFill>
              <a:latin typeface="Calibri"/>
            </a:endParaRPr>
          </a:p>
        </p:txBody>
      </p:sp>
      <p:sp>
        <p:nvSpPr>
          <p:cNvPr id="221" name="PlaceHolder 2"/>
          <p:cNvSpPr>
            <a:spLocks noGrp="1"/>
          </p:cNvSpPr>
          <p:nvPr>
            <p:ph/>
          </p:nvPr>
        </p:nvSpPr>
        <p:spPr>
          <a:xfrm>
            <a:off x="247680" y="1265400"/>
            <a:ext cx="8724960" cy="3443040"/>
          </a:xfrm>
          <a:prstGeom prst="rect">
            <a:avLst/>
          </a:prstGeom>
          <a:noFill/>
          <a:ln w="0">
            <a:noFill/>
          </a:ln>
        </p:spPr>
        <p:txBody>
          <a:bodyPr anchor="t">
            <a:normAutofit fontScale="71000"/>
          </a:bodyPr>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criterios para determinar qué constituye una conducta seria serán determinados por las Partes </a:t>
            </a:r>
            <a:endParaRPr b="0" lang="en-US" sz="2800" spc="-1" strike="noStrike">
              <a:solidFill>
                <a:srgbClr val="000000"/>
              </a:solidFill>
              <a:latin typeface="Calibri"/>
            </a:endParaRPr>
          </a:p>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envío de datos a un sistema particular en una forma, tamaño o frecuencia que tiene un efecto perjudicial significativo sobre la capacidad del propietario u operador para:</a:t>
            </a:r>
            <a:endParaRPr b="0" lang="en-US" sz="2800" spc="-1" strike="noStrike">
              <a:solidFill>
                <a:srgbClr val="000000"/>
              </a:solidFill>
              <a:latin typeface="Calibri"/>
            </a:endParaRPr>
          </a:p>
          <a:p>
            <a:pPr lvl="1" marL="527400" indent="-2026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ar el sistema; o</a:t>
            </a:r>
            <a:endParaRPr b="0" lang="en-US" sz="2400" spc="-1" strike="noStrike">
              <a:solidFill>
                <a:srgbClr val="000000"/>
              </a:solidFill>
              <a:latin typeface="Calibri"/>
            </a:endParaRPr>
          </a:p>
          <a:p>
            <a:pPr lvl="1" marL="527400" indent="-2026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omunicarse con otros sistemas</a:t>
            </a:r>
            <a:endParaRPr b="0" lang="en-US" sz="2400" spc="-1" strike="noStrike">
              <a:solidFill>
                <a:srgbClr val="000000"/>
              </a:solidFill>
              <a:latin typeface="Calibri"/>
            </a:endParaRPr>
          </a:p>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jemplos:</a:t>
            </a:r>
            <a:endParaRPr b="0" lang="en-US" sz="28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as que generan ataques de denegación de servicio</a:t>
            </a:r>
            <a:endParaRPr b="0" lang="en-US" sz="22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Códigos maliciosos que evitan o ralentizan la operación del sistema</a:t>
            </a:r>
            <a:endParaRPr b="0" lang="en-US" sz="22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as que envían grandes cantidades de correo electrónico a un destinatario para bloquear las funciones de comunicación del sistema</a:t>
            </a:r>
            <a:endParaRPr b="0" lang="en-US" sz="22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AC58FA-E683-44A6-A8AC-31E4536920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224"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obstaculización grave,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9BEE85-4021-4314-A662-01FC4CBB3C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227" name="PlaceHolder 2"/>
          <p:cNvSpPr>
            <a:spLocks noGrp="1"/>
          </p:cNvSpPr>
          <p:nvPr>
            <p:ph/>
          </p:nvPr>
        </p:nvSpPr>
        <p:spPr>
          <a:xfrm>
            <a:off x="457200" y="1161720"/>
            <a:ext cx="8229600" cy="3443400"/>
          </a:xfrm>
          <a:prstGeom prst="rect">
            <a:avLst/>
          </a:prstGeom>
          <a:noFill/>
          <a:ln w="0">
            <a:noFill/>
          </a:ln>
        </p:spPr>
        <p:txBody>
          <a:bodyPr anchor="t">
            <a:normAutofit fontScale="70000"/>
          </a:bodyPr>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se aplica donde la persona que interfiere tiene derecho a interferir con los datos</a:t>
            </a:r>
            <a:endParaRPr b="0" lang="en-US" sz="3000" spc="-1" strike="noStrike">
              <a:solidFill>
                <a:srgbClr val="000000"/>
              </a:solidFill>
              <a:latin typeface="Calibri"/>
            </a:endParaRPr>
          </a:p>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 incluyen:</a:t>
            </a:r>
            <a:endParaRPr b="0" lang="en-US" sz="30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Actividades inherentes al diseño de redes, o propósitos operativos o comerciales comunes</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ueba de seguridad del sistema informático autorizado por el propietario 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otección del sistema informático por parte del propietario 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Reconfiguración del sistema operativo de la computadora donde el operador del sistema instala un nuevo software que desactiva los programas previamente instalados;</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2B152B-90A2-42BB-8810-9DD5A0B0A8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85840" y="274320"/>
            <a:ext cx="8400960" cy="5791320"/>
          </a:xfrm>
          <a:prstGeom prst="rect">
            <a:avLst/>
          </a:prstGeom>
          <a:noFill/>
          <a:ln w="0">
            <a:noFill/>
          </a:ln>
        </p:spPr>
        <p:txBody>
          <a:bodyPr anchor="t">
            <a:normAutofit fontScale="94000"/>
          </a:bodyPr>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buso de dispositivos</a:t>
            </a:r>
            <a:endParaRPr b="0" lang="en-US" sz="2800" spc="-1" strike="noStrike">
              <a:solidFill>
                <a:srgbClr val="000000"/>
              </a:solidFill>
              <a:latin typeface="Calibri"/>
            </a:endParaRPr>
          </a:p>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rtículo 6 -Convenio de Budapest)</a:t>
            </a:r>
            <a:endParaRPr b="0" lang="en-US" sz="2800" spc="-1" strike="noStrike">
              <a:solidFill>
                <a:srgbClr val="000000"/>
              </a:solidFill>
              <a:latin typeface="Calibri"/>
            </a:endParaRPr>
          </a:p>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forma deliberada e ilegítima</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producir, vender, comprar para su uso, importar, distribuir o poner a disposición de alguna otra forma:</a:t>
            </a:r>
            <a:endParaRPr b="0" lang="en-US" sz="2800" spc="-1" strike="noStrike">
              <a:solidFill>
                <a:srgbClr val="000000"/>
              </a:solidFill>
              <a:latin typeface="Calibri"/>
            </a:endParaRPr>
          </a:p>
          <a:p>
            <a:pPr lvl="2" marL="859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 un dispositivo, incluido un programa informático, diseñado o adaptado principalmente para cometer cualquiera de los delitos establecidos de conformidad con los Artículos 2 a 5;</a:t>
            </a:r>
            <a:endParaRPr b="0" lang="en-US" sz="2400" spc="-1" strike="noStrike">
              <a:solidFill>
                <a:srgbClr val="000000"/>
              </a:solidFill>
              <a:latin typeface="Calibri"/>
            </a:endParaRPr>
          </a:p>
          <a:p>
            <a:pPr lvl="2" marL="859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 una contraseña de la computadora, código de acceso o datos similares mediante los cuales se puede acceder a la totalidad o a una parte de un sistema informático con la intención de que se utilice, con el fin de cometer cualquiera de los delitos establecidos en los Artículos 2 - 5</a:t>
            </a:r>
            <a:endParaRPr b="0" lang="en-US" sz="24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C0B7FF-9465-484A-907E-928DE2C336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buso de dispositivo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6 - Convenio de Budapest)</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De forma deliberada e ilegítima</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Poseer un artículo referido en los párrafos (a) (1) o (2) arriba, con la intención de que sea utilizado con el propósito de cometer cualquiera de los delitos establecidos en los Artículos 2 - 5.</a:t>
            </a:r>
            <a:endParaRPr b="0" lang="en-US" sz="28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8CC6239-B5D5-484F-881D-DEDAB53169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34"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os siguientes actos:</a:t>
            </a:r>
            <a:endParaRPr b="0" lang="en-US" sz="32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8AEB3-3DFF-40CB-A9F2-4685809D91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37" name="PlaceHolder 2"/>
          <p:cNvSpPr>
            <a:spLocks noGrp="1"/>
          </p:cNvSpPr>
          <p:nvPr>
            <p:ph/>
          </p:nvPr>
        </p:nvSpPr>
        <p:spPr>
          <a:xfrm>
            <a:off x="133200" y="1417680"/>
            <a:ext cx="8877600" cy="4983120"/>
          </a:xfrm>
          <a:prstGeom prst="rect">
            <a:avLst/>
          </a:prstGeom>
          <a:noFill/>
          <a:ln w="0">
            <a:noFill/>
          </a:ln>
        </p:spPr>
        <p:txBody>
          <a:bodyPr anchor="t">
            <a:normAutofit fontScale="98000"/>
          </a:bodyPr>
          <a:p>
            <a:pPr lvl="1" marL="28764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la producción, venta, obtención para su utilización, importación, difusión u otra forma de puesta a disposición de:</a:t>
            </a:r>
            <a:endParaRPr b="0" lang="en-US" sz="2400" spc="-1" strike="noStrike">
              <a:solidFill>
                <a:srgbClr val="000000"/>
              </a:solidFill>
              <a:latin typeface="Calibri"/>
            </a:endParaRPr>
          </a:p>
          <a:p>
            <a:pPr lvl="2" marL="56448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1.</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200" spc="-1" strike="noStrike">
              <a:solidFill>
                <a:srgbClr val="000000"/>
              </a:solidFill>
              <a:latin typeface="Calibri"/>
            </a:endParaRPr>
          </a:p>
          <a:p>
            <a:pPr lvl="2" marL="56448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2. una contraseña, código de acceso o datos informáticos similares que permitan acceder a todo o parte de un sistema informático, con intención de que sean utilizados para cometer cualquiera de los delitos contemplados en los artículos 2 a 5; </a:t>
            </a:r>
            <a:endParaRPr b="0" lang="en-US" sz="2200" spc="-1" strike="noStrike">
              <a:solidFill>
                <a:srgbClr val="000000"/>
              </a:solidFill>
              <a:latin typeface="Calibri"/>
            </a:endParaRPr>
          </a:p>
          <a:p>
            <a:pPr lvl="1" marL="28764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b) la posesión de alguno de los elementos contemplados en los incisos i) o ii) del apartado a) del presente artículo con intención de que sean utilizados para cometer cualquiera de los delitos previstos en los artículos 2 a 5.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Las Partes podrán exigir en su derecho interno la posesión de un número determinado de dichos elementos para que se considere que existe responsabilidad penal.</a:t>
            </a:r>
            <a:endParaRPr b="0" lang="en-US" sz="24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12BE9-3AF6-4D15-9A50-52C2AF5A55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igido a facilitar y desarrollar la cooperación internacional en investigaciones crimin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igido a armonizar la ley sustantiv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iendo:</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800" spc="-1" strike="noStrike">
                <a:solidFill>
                  <a:srgbClr val="000000"/>
                </a:solidFill>
                <a:latin typeface="Calibri"/>
              </a:rPr>
              <a:t>Delitos contra la confidencialidad, integridad y disponibilidad de sistemas informáticos y dat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litos informátic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litos relacionados con el contenido</a:t>
            </a:r>
            <a:endParaRPr b="0" lang="en-US" sz="28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posiciones sustantivas sobre derecho penal</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DA5CF-D377-4788-B79B-1AF6F135A5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0"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Este artículo no se interpretará en el sentido de imponer responsabilidad penal cuando la producción, venta, adquisición para su uso, importación, distribución u otro tipo de puesta a disposición o posesión a que se refiere el párrafo 1 de este artículo no sea con el fin de cometer un delito establecido de conformidad con Artículos 2 a 5 del presente Convenio, como para las pruebas autorizadas o la protección de un sistema informático.</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3. Cada Parte puede reservarse el derecho de no aplicar el párrafo 1 de este artículo, siempre que la reserva no se refiera a la venta, distribución o puesta a disposición de los artículos mencionados en el párrafo 1 a.ii de este artículo.</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93473-BEA6-45CB-B7FF-48C91C6385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3"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3200" spc="-1" strike="noStrike">
                <a:solidFill>
                  <a:srgbClr val="000000"/>
                </a:solidFill>
                <a:latin typeface="Calibri"/>
                <a:ea typeface="Times New Roman"/>
              </a:rPr>
              <a:t>de los siguientes actos:</a:t>
            </a:r>
            <a:endParaRPr b="0" lang="en-US" sz="32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76EB7E9-8FAE-48D1-8880-14E86D3945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246"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Mal uso ilegítimo</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Evita la sobre-criminalización cuando los dispositivos se producen y comercializan con fines legítimos</a:t>
            </a:r>
            <a:endParaRPr b="0" lang="en-US" sz="32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F431C2-4A2B-4CF9-AEDD-9FA5BAF715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9"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produc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venta</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obtención para su utiliza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importa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difusión </a:t>
            </a:r>
            <a:r>
              <a:rPr b="0" lang="en-US" sz="2000" spc="-1" strike="noStrike">
                <a:solidFill>
                  <a:srgbClr val="000000"/>
                </a:solidFill>
                <a:latin typeface="Calibri"/>
                <a:ea typeface="Times New Roman"/>
              </a:rPr>
              <a:t>u otra forma de </a:t>
            </a:r>
            <a:r>
              <a:rPr b="1" lang="en-US" sz="2000" spc="-1" strike="noStrike">
                <a:solidFill>
                  <a:srgbClr val="ff0000"/>
                </a:solidFill>
                <a:latin typeface="Calibri"/>
                <a:ea typeface="Times New Roman"/>
              </a:rPr>
              <a:t>puesta a disposición de</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4833AE-D33B-40EB-81A8-5EC9E81314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ducción, venta, etc.</a:t>
            </a:r>
            <a:endParaRPr b="0" lang="en-US" sz="4400" spc="-1" strike="noStrike">
              <a:solidFill>
                <a:srgbClr val="000000"/>
              </a:solidFill>
              <a:latin typeface="Calibri"/>
            </a:endParaRPr>
          </a:p>
        </p:txBody>
      </p:sp>
      <p:sp>
        <p:nvSpPr>
          <p:cNvPr id="252"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riminalización de:</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roducción;</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enta;</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dquisiciones para us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mportar;</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tribución; 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Haciendo disponible dispositivo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tribución: acto activo de reenviar datos a otro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ner a disposición: colocar dispositivos en línea para el uso de otros, e incluye la creación o compilación de hipervínculos en línea para facilitar el acceso a dichos dispositivos</a:t>
            </a:r>
            <a:endParaRPr b="0" lang="en-US" sz="28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90882EB-1C30-4F88-AA2A-8E321091F4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55"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a:t>
            </a:r>
            <a:r>
              <a:rPr b="1" lang="en-US" sz="2000" spc="-1" strike="noStrike">
                <a:solidFill>
                  <a:srgbClr val="ff0000"/>
                </a:solidFill>
                <a:latin typeface="Calibri"/>
                <a:ea typeface="Times New Roman"/>
              </a:rPr>
              <a:t>incluido un programa informático</a:t>
            </a:r>
            <a:r>
              <a:rPr b="0" lang="en-US" sz="2000" spc="-1" strike="noStrike">
                <a:solidFill>
                  <a:srgbClr val="000000"/>
                </a:solidFill>
                <a:latin typeface="Calibri"/>
                <a:ea typeface="Times New Roman"/>
              </a:rPr>
              <a:t>,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5AA4AC-4D30-444D-A714-82618900ED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grama informático</a:t>
            </a:r>
            <a:endParaRPr b="0" lang="en-US" sz="4400" spc="-1" strike="noStrike">
              <a:solidFill>
                <a:srgbClr val="000000"/>
              </a:solidFill>
              <a:latin typeface="Calibri"/>
            </a:endParaRPr>
          </a:p>
        </p:txBody>
      </p:sp>
      <p:sp>
        <p:nvSpPr>
          <p:cNvPr id="258" name="PlaceHolder 2"/>
          <p:cNvSpPr>
            <a:spLocks noGrp="1"/>
          </p:cNvSpPr>
          <p:nvPr>
            <p:ph/>
          </p:nvPr>
        </p:nvSpPr>
        <p:spPr>
          <a:xfrm>
            <a:off x="457200" y="1781280"/>
            <a:ext cx="8229600" cy="3443040"/>
          </a:xfrm>
          <a:prstGeom prst="rect">
            <a:avLst/>
          </a:prstGeom>
          <a:noFill/>
          <a:ln w="0">
            <a:noFill/>
          </a:ln>
        </p:spPr>
        <p:txBody>
          <a:bodyPr anchor="t">
            <a:normAutofit fontScale="95000"/>
          </a:bodyPr>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Se refiere a los programas que están diseñados para alterar o destruir datos o interferir con el funcionamiento de los sistemas</a:t>
            </a:r>
            <a:endParaRPr b="0" lang="en-US" sz="3000" spc="-1" strike="noStrike">
              <a:solidFill>
                <a:srgbClr val="000000"/>
              </a:solidFill>
              <a:latin typeface="Calibri"/>
            </a:endParaRPr>
          </a:p>
          <a:p>
            <a:pPr marL="32580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a:t>
            </a:r>
            <a:endParaRPr b="0" lang="en-US" sz="30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e virus</a:t>
            </a:r>
            <a:endParaRPr b="0" lang="en-US" sz="26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iseñados o adaptados para obtener acceso a sistemas informáticos</a:t>
            </a:r>
            <a:endParaRPr b="0" lang="en-US" sz="26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FF89979-56C6-4B25-9223-669CF79A51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61"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a:t>
            </a:r>
            <a:r>
              <a:rPr b="1" lang="en-US" sz="2000" spc="-1" strike="noStrike">
                <a:solidFill>
                  <a:srgbClr val="ff0000"/>
                </a:solidFill>
                <a:latin typeface="Calibri"/>
                <a:ea typeface="Times New Roman"/>
              </a:rPr>
              <a:t>concebido o adaptado principalmente para la comisión de cualquiera de los delitos previstos en los artículos 2 a 5 del presente Convenio</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62"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ABAED8-4E6F-48A1-B41C-3754351007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iseñado o adaptado principalmente con el propósito de cometer un delito</a:t>
            </a:r>
            <a:endParaRPr b="0" lang="en-US" sz="4400" spc="-1" strike="noStrike">
              <a:solidFill>
                <a:srgbClr val="000000"/>
              </a:solidFill>
              <a:latin typeface="Calibri"/>
            </a:endParaRPr>
          </a:p>
        </p:txBody>
      </p:sp>
      <p:sp>
        <p:nvSpPr>
          <p:cNvPr id="264" name="PlaceHolder 2"/>
          <p:cNvSpPr>
            <a:spLocks noGrp="1"/>
          </p:cNvSpPr>
          <p:nvPr>
            <p:ph/>
          </p:nvPr>
        </p:nvSpPr>
        <p:spPr>
          <a:xfrm>
            <a:off x="457200" y="1994040"/>
            <a:ext cx="8229600" cy="3443040"/>
          </a:xfrm>
          <a:prstGeom prst="rect">
            <a:avLst/>
          </a:prstGeom>
          <a:noFill/>
          <a:ln w="0">
            <a:noFill/>
          </a:ln>
        </p:spPr>
        <p:txBody>
          <a:bodyPr anchor="t">
            <a:normAutofit fontScale="90000"/>
          </a:bodyPr>
          <a:p>
            <a:pPr marL="308520" indent="-3085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Convenio de Budapest logra un equilibrio entre:</a:t>
            </a:r>
            <a:endParaRPr b="0" lang="en-US" sz="2800" spc="-1" strike="noStrike">
              <a:solidFill>
                <a:srgbClr val="000000"/>
              </a:solidFill>
              <a:latin typeface="Calibri"/>
            </a:endParaRPr>
          </a:p>
          <a:p>
            <a:pPr lvl="1" marL="668520" indent="-2570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Excluidos los dispositivos de doble uso (que habrían sido demasiado estrechos y difíciles de probar); y</a:t>
            </a:r>
            <a:endParaRPr b="0" lang="en-US" sz="2400" spc="-1" strike="noStrike">
              <a:solidFill>
                <a:srgbClr val="000000"/>
              </a:solidFill>
              <a:latin typeface="Calibri"/>
            </a:endParaRPr>
          </a:p>
          <a:p>
            <a:pPr lvl="1" marL="668520" indent="-2570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ncluyendo dispositivos de doble uso (lo que hubiera resultado en una criminalización excesiva al incluir todos los dispositivos, incluso si se produjera y distribuyera legalmente)</a:t>
            </a:r>
            <a:endParaRPr b="0" lang="en-US" sz="2400" spc="-1" strike="noStrike">
              <a:solidFill>
                <a:srgbClr val="000000"/>
              </a:solidFill>
              <a:latin typeface="Calibri"/>
            </a:endParaRPr>
          </a:p>
          <a:p>
            <a:pPr lvl="1" marL="6685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El Convenio de Budapest exige que el dispositivo se diseñe o adapte </a:t>
            </a:r>
            <a:r>
              <a:rPr b="1" lang="en-US" sz="2400" spc="-1" strike="noStrike">
                <a:solidFill>
                  <a:srgbClr val="000000"/>
                </a:solidFill>
                <a:latin typeface="Calibri"/>
                <a:ea typeface="Times New Roman"/>
              </a:rPr>
              <a:t>principalmente </a:t>
            </a:r>
            <a:r>
              <a:rPr b="0" lang="en-US" sz="2400" spc="-1" strike="noStrike">
                <a:solidFill>
                  <a:srgbClr val="000000"/>
                </a:solidFill>
                <a:latin typeface="Calibri"/>
                <a:ea typeface="Times New Roman"/>
              </a:rPr>
              <a:t>(pero no únicamente) para la comisión de un delito en virtud de los artículos 2 a 5 del Convenio.</a:t>
            </a:r>
            <a:endParaRPr b="0" lang="en-US" sz="2400" spc="-1" strike="noStrike">
              <a:solidFill>
                <a:srgbClr val="000000"/>
              </a:solidFill>
              <a:latin typeface="Calibri"/>
            </a:endParaRPr>
          </a:p>
        </p:txBody>
      </p:sp>
      <p:sp>
        <p:nvSpPr>
          <p:cNvPr id="2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4E58F7-032B-4380-BE1A-66070F2EAE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67"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A7BA59-68DE-4ED4-9A5B-1F09135DEE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elitos contra la confidencialidad, integridad y disponibilidad de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atos y sistemas informáticos</a:t>
            </a:r>
            <a:endParaRPr b="0" lang="en-US" sz="32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B06B2-090E-4834-8E7C-39495E56FA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ontraseñas de la computadora, códigos de acceso, etc.</a:t>
            </a:r>
            <a:endParaRPr b="0" lang="en-US" sz="4400" spc="-1" strike="noStrike">
              <a:solidFill>
                <a:srgbClr val="000000"/>
              </a:solidFill>
              <a:latin typeface="Calibri"/>
            </a:endParaRPr>
          </a:p>
        </p:txBody>
      </p:sp>
      <p:sp>
        <p:nvSpPr>
          <p:cNvPr id="270"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El párrafo 1 (a) 2 tipifica como delito:</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roducción;</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enta;</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dquisición para su uso;</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portar;</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istribución; o </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 lo contrario, poner a disposición de:</a:t>
            </a:r>
            <a:endParaRPr b="0" lang="en-US" sz="2600" spc="-1" strike="noStrike">
              <a:solidFill>
                <a:srgbClr val="000000"/>
              </a:solidFill>
              <a:latin typeface="Calibri"/>
            </a:endParaRPr>
          </a:p>
          <a:p>
            <a:pPr marL="250200"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una contraseña de la computadora, un código de acceso o datos similares mediante los cuales se puede acceder a la totalidad o a una parte de un sistema informático.</a:t>
            </a:r>
            <a:endParaRPr b="0" lang="en-US" sz="26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91931F-DD08-4380-9FEE-5E07141CAF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73" name="PlaceHolder 2"/>
          <p:cNvSpPr>
            <a:spLocks noGrp="1"/>
          </p:cNvSpPr>
          <p:nvPr>
            <p:ph/>
          </p:nvPr>
        </p:nvSpPr>
        <p:spPr>
          <a:xfrm>
            <a:off x="457200" y="157176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la posesión de alguno de los elementos</a:t>
            </a:r>
            <a:r>
              <a:rPr b="0" lang="en-US" sz="2000" spc="-1" strike="noStrike">
                <a:solidFill>
                  <a:srgbClr val="000000"/>
                </a:solidFill>
                <a:latin typeface="Calibri"/>
                <a:ea typeface="Times New Roman"/>
              </a:rPr>
              <a:t> contemplados en los incisos i) o ii) del apartado a) del presente artículo </a:t>
            </a:r>
            <a:r>
              <a:rPr b="1" lang="en-US" sz="2000" spc="-1" strike="noStrike">
                <a:solidFill>
                  <a:srgbClr val="ff0000"/>
                </a:solidFill>
                <a:latin typeface="Calibri"/>
                <a:ea typeface="Times New Roman"/>
              </a:rPr>
              <a:t>con intención de que sean utilizados para cometer cualquiera de los delitos previstos en los artículos 2 a 5</a:t>
            </a:r>
            <a:r>
              <a:rPr b="0" lang="en-US" sz="2000" spc="-1" strike="noStrike">
                <a:solidFill>
                  <a:srgbClr val="000000"/>
                </a:solidFill>
                <a:latin typeface="Calibri"/>
                <a:ea typeface="Times New Roman"/>
              </a:rPr>
              <a:t>. Las Partes podrán exigir en su derecho interno la posesión de un </a:t>
            </a:r>
            <a:r>
              <a:rPr b="1" lang="en-US" sz="2000" spc="-1" strike="noStrike">
                <a:solidFill>
                  <a:srgbClr val="ff0000"/>
                </a:solidFill>
                <a:latin typeface="Calibri"/>
                <a:ea typeface="Times New Roman"/>
              </a:rPr>
              <a:t>número determinado de dichos elementos</a:t>
            </a:r>
            <a:r>
              <a:rPr b="0" lang="en-US" sz="2000" spc="-1" strike="noStrike">
                <a:solidFill>
                  <a:srgbClr val="000000"/>
                </a:solidFill>
                <a:latin typeface="Calibri"/>
                <a:ea typeface="Times New Roman"/>
              </a:rPr>
              <a:t> para que se considere que existe responsabilidad penal.</a:t>
            </a:r>
            <a:endParaRPr b="0" lang="en-US" sz="2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96A10D-ED5B-49A2-B052-9E40A318D7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osesión de dispositivo, contraseña, etc.</a:t>
            </a:r>
            <a:endParaRPr b="0" lang="en-US" sz="4400" spc="-1" strike="noStrike">
              <a:solidFill>
                <a:srgbClr val="000000"/>
              </a:solidFill>
              <a:latin typeface="Calibri"/>
            </a:endParaRPr>
          </a:p>
        </p:txBody>
      </p:sp>
      <p:sp>
        <p:nvSpPr>
          <p:cNvPr id="276" name="PlaceHolder 2"/>
          <p:cNvSpPr>
            <a:spLocks noGrp="1"/>
          </p:cNvSpPr>
          <p:nvPr>
            <p:ph/>
          </p:nvPr>
        </p:nvSpPr>
        <p:spPr>
          <a:xfrm>
            <a:off x="457200" y="1854360"/>
            <a:ext cx="8229600" cy="3443040"/>
          </a:xfrm>
          <a:prstGeom prst="rect">
            <a:avLst/>
          </a:prstGeom>
          <a:noFill/>
          <a:ln w="0">
            <a:noFill/>
          </a:ln>
        </p:spPr>
        <p:txBody>
          <a:bodyPr anchor="t">
            <a:normAutofit fontScale="80000"/>
          </a:bodyPr>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sesión de los artículos establecidos en el Párrafo 1 (a) 1 o 1 (a) 2</a:t>
            </a:r>
            <a:endParaRPr b="0" lang="en-US" sz="2800" spc="-1" strike="noStrike">
              <a:solidFill>
                <a:srgbClr val="000000"/>
              </a:solidFill>
              <a:latin typeface="Calibri"/>
            </a:endParaRPr>
          </a:p>
          <a:p>
            <a:pPr marL="2743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posesión debe ser con la intención de cometer un delito en virtud de los artículos 2 a 5 del Convenio</a:t>
            </a:r>
            <a:endParaRPr b="0" lang="en-US" sz="2800" spc="-1" strike="noStrike">
              <a:solidFill>
                <a:srgbClr val="000000"/>
              </a:solidFill>
              <a:latin typeface="Calibri"/>
            </a:endParaRPr>
          </a:p>
          <a:p>
            <a:pPr marL="2743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pueden, a través de la legislación interna, exigir que una persona posea una determinada cantidad de artículos para atraer responsabilidad penal.</a:t>
            </a:r>
            <a:endParaRPr b="0" lang="en-US" sz="28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2660B2-D277-44BF-AAF7-0F358DF810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la informática</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21BBF-A03B-4387-AB6E-66099697AE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132840" y="558720"/>
            <a:ext cx="8820360" cy="5757840"/>
          </a:xfrm>
          <a:prstGeom prst="rect">
            <a:avLst/>
          </a:prstGeom>
          <a:noFill/>
          <a:ln w="38160">
            <a:solidFill>
              <a:srgbClr val="ff0000"/>
            </a:solidFill>
            <a:miter/>
          </a:ln>
        </p:spPr>
        <p:txBody>
          <a:bodyPr anchor="t">
            <a:normAutofit fontScale="98000"/>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alsificación informática</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7 - Convenio de Budapes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ea un delito paralelo a la falsificación de delitos tangibles</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La brecha en el derecho penal como la falsificación tradicional generalmente requiere la legibilidad visual de declaraciones o declaraciones incorporadas en el documento</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La falsificación tradicional puede no aplicarse a los datos electrónicos </a:t>
            </a:r>
            <a:endParaRPr b="0" lang="en-US" sz="28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0AD02-E0BB-49E9-BF52-31CD6BD1DC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3"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entrada, alteración, eliminación o supresión de datos informáticos, lo que da como resultado datos no auténticos con la intención de que ser considerados o actuado con fines legales como si fueran auténticos, independientemente de si los datos son directamente legibles e inteligibles. Una Parte puede requerir un intento de defraudar, o una intención deshonesta similar, antes de que se asocie la responsabilidad penal.</a:t>
            </a:r>
            <a:endParaRPr b="0" lang="en-US" sz="26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DDCA3-2C23-4026-849D-CAF0B932FD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a:t>
            </a:r>
            <a:r>
              <a:rPr b="1" lang="en-US" sz="2600" spc="-1" strike="noStrike">
                <a:solidFill>
                  <a:srgbClr val="ff0000"/>
                </a:solidFill>
                <a:latin typeface="Calibri"/>
                <a:ea typeface="Times New Roman"/>
              </a:rPr>
              <a:t>entrada</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alteración</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eliminación </a:t>
            </a:r>
            <a:r>
              <a:rPr b="0" lang="en-US" sz="2600" spc="-1" strike="noStrike">
                <a:solidFill>
                  <a:srgbClr val="000000"/>
                </a:solidFill>
                <a:latin typeface="Calibri"/>
                <a:ea typeface="Times New Roman"/>
              </a:rPr>
              <a:t>o </a:t>
            </a:r>
            <a:r>
              <a:rPr b="1" lang="en-US" sz="2600" spc="-1" strike="noStrike">
                <a:solidFill>
                  <a:srgbClr val="ff0000"/>
                </a:solidFill>
                <a:latin typeface="Calibri"/>
                <a:ea typeface="Times New Roman"/>
              </a:rPr>
              <a:t>supresión de datos informáticos</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lo que da como resultado datos no auténticos </a:t>
            </a:r>
            <a:r>
              <a:rPr b="0" lang="en-US" sz="2600" spc="-1" strike="noStrike">
                <a:solidFill>
                  <a:srgbClr val="000000"/>
                </a:solidFill>
                <a:latin typeface="Calibri"/>
                <a:ea typeface="Times New Roman"/>
              </a:rPr>
              <a:t>con la intención de que ser considerados o actuado con fines legales como si fueran auténticos, independientemente de si los datos son directamente legibles e inteligibles. Una Parte puede requerir un intento de defraudar, o una intención deshonesta similar, antes de que se asocie la responsabilidad penal.</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7A9607-D926-4CA4-9601-32F0A4AD78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ntrada, alteración, eliminación o supresión</a:t>
            </a:r>
            <a:endParaRPr b="0" lang="en-US" sz="4400" spc="-1" strike="noStrike">
              <a:solidFill>
                <a:srgbClr val="000000"/>
              </a:solidFill>
              <a:latin typeface="Calibri"/>
            </a:endParaRPr>
          </a:p>
        </p:txBody>
      </p:sp>
      <p:sp>
        <p:nvSpPr>
          <p:cNvPr id="289"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Falsificación de documento genuino por:</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ntrada</a:t>
            </a:r>
            <a:r>
              <a:rPr b="0" lang="en-US" sz="2800" spc="-1" strike="noStrike">
                <a:solidFill>
                  <a:srgbClr val="000000"/>
                </a:solidFill>
                <a:latin typeface="Calibri"/>
                <a:ea typeface="Times New Roman"/>
              </a:rPr>
              <a:t> de datos correctos o incorrec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Modificación</a:t>
            </a:r>
            <a:r>
              <a:rPr b="0" lang="en-US" sz="2800" spc="-1" strike="noStrike">
                <a:solidFill>
                  <a:srgbClr val="000000"/>
                </a:solidFill>
                <a:latin typeface="Calibri"/>
                <a:ea typeface="Times New Roman"/>
              </a:rPr>
              <a:t> posterior (modificaciones, variaciones, cambios parcial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ción</a:t>
            </a:r>
            <a:r>
              <a:rPr b="0" lang="en-US" sz="2800" spc="-1" strike="noStrike">
                <a:solidFill>
                  <a:srgbClr val="000000"/>
                </a:solidFill>
                <a:latin typeface="Calibri"/>
                <a:ea typeface="Times New Roman"/>
              </a:rPr>
              <a:t> (eliminación de datos de un medio de da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ión</a:t>
            </a:r>
            <a:r>
              <a:rPr b="0" lang="en-US" sz="2800" spc="-1" strike="noStrike">
                <a:solidFill>
                  <a:srgbClr val="000000"/>
                </a:solidFill>
                <a:latin typeface="Calibri"/>
                <a:ea typeface="Times New Roman"/>
              </a:rPr>
              <a:t> (retención, ocultación de datos)</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C9218E-D10D-4153-8A9C-39A81AA825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 </a:t>
            </a:r>
            <a:endParaRPr b="0" lang="en-US" sz="4000" spc="-1" strike="noStrike">
              <a:solidFill>
                <a:srgbClr val="000000"/>
              </a:solidFill>
              <a:latin typeface="Calibri"/>
            </a:endParaRPr>
          </a:p>
        </p:txBody>
      </p:sp>
      <p:sp>
        <p:nvSpPr>
          <p:cNvPr id="292"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entrada, alteración, eliminación o supresión de datos informáticos, lo que da como resultado datos no auténticos con la </a:t>
            </a:r>
            <a:r>
              <a:rPr b="1" lang="en-US" sz="2600" spc="-1" strike="noStrike">
                <a:solidFill>
                  <a:srgbClr val="ff0000"/>
                </a:solidFill>
                <a:latin typeface="Calibri"/>
                <a:ea typeface="Times New Roman"/>
              </a:rPr>
              <a:t>intención de que ser considerados o actuado con fines legales como si fueran auténticos</a:t>
            </a:r>
            <a:r>
              <a:rPr b="0" lang="en-US" sz="2600" spc="-1" strike="noStrike">
                <a:solidFill>
                  <a:srgbClr val="000000"/>
                </a:solidFill>
                <a:latin typeface="Calibri"/>
                <a:ea typeface="Times New Roman"/>
              </a:rPr>
              <a:t>, independientemente de si los datos son directamente legibles e inteligibles. Una Parte puede requerir un </a:t>
            </a:r>
            <a:r>
              <a:rPr b="1" lang="en-US" sz="2600" spc="-1" strike="noStrike">
                <a:solidFill>
                  <a:srgbClr val="ff0000"/>
                </a:solidFill>
                <a:latin typeface="Calibri"/>
                <a:ea typeface="Times New Roman"/>
              </a:rPr>
              <a:t>intento de defraudar</a:t>
            </a:r>
            <a:r>
              <a:rPr b="0" lang="en-US" sz="2600" spc="-1" strike="noStrike">
                <a:solidFill>
                  <a:srgbClr val="000000"/>
                </a:solidFill>
                <a:latin typeface="Calibri"/>
                <a:ea typeface="Times New Roman"/>
              </a:rPr>
              <a:t>, o una </a:t>
            </a:r>
            <a:r>
              <a:rPr b="1" lang="en-US" sz="2600" spc="-1" strike="noStrike">
                <a:solidFill>
                  <a:srgbClr val="ff0000"/>
                </a:solidFill>
                <a:latin typeface="Calibri"/>
                <a:ea typeface="Times New Roman"/>
              </a:rPr>
              <a:t>intención deshonesta similar</a:t>
            </a:r>
            <a:r>
              <a:rPr b="0" lang="en-US" sz="2600" spc="-1" strike="noStrike">
                <a:solidFill>
                  <a:srgbClr val="000000"/>
                </a:solidFill>
                <a:latin typeface="Calibri"/>
                <a:ea typeface="Times New Roman"/>
              </a:rPr>
              <a:t>, antes de que se asocie la responsabilidad penal.</a:t>
            </a:r>
            <a:endParaRPr b="0" lang="en-US" sz="26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138DE2-46EC-4551-B3F5-00837ABBC4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La intención de que se considere o se actúe con fines legales</a:t>
            </a:r>
            <a:endParaRPr b="0" lang="en-US" sz="4400" spc="-1" strike="noStrike">
              <a:solidFill>
                <a:srgbClr val="000000"/>
              </a:solidFill>
              <a:latin typeface="Calibri"/>
            </a:endParaRPr>
          </a:p>
        </p:txBody>
      </p:sp>
      <p:sp>
        <p:nvSpPr>
          <p:cNvPr id="295" name="PlaceHolder 2"/>
          <p:cNvSpPr>
            <a:spLocks noGrp="1"/>
          </p:cNvSpPr>
          <p:nvPr>
            <p:ph/>
          </p:nvPr>
        </p:nvSpPr>
        <p:spPr>
          <a:xfrm>
            <a:off x="457200" y="2499840"/>
            <a:ext cx="8229600" cy="344340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Requisito de intención adicional</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fines legales" incluye transacciones legales y documentos que son legalmente relevantes</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parte puede restringir aún más este delito al exigir que la conducta se realice con la intención de defraudar </a:t>
            </a:r>
            <a:endParaRPr b="0" lang="en-US" sz="2800" spc="-1" strike="noStrike">
              <a:solidFill>
                <a:srgbClr val="000000"/>
              </a:solidFill>
              <a:latin typeface="Calibri"/>
            </a:endParaRPr>
          </a:p>
        </p:txBody>
      </p:sp>
      <p:sp>
        <p:nvSpPr>
          <p:cNvPr id="296"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48033B-F5B6-4D88-BF3B-9FE559E99C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cces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2 -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cceder a la totalidad o parte de un sistema informático de manera ilegítim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a:t>
            </a: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B7DD3-BB7C-4D87-A8CA-C5DA659127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raude informático</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8 - Convenio de Budapes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ea un delito paralelo al fraude relacionado con delitos tangibles</a:t>
            </a:r>
            <a:endParaRPr b="0" lang="en-US" sz="2800" spc="-1" strike="noStrike">
              <a:solidFill>
                <a:srgbClr val="000000"/>
              </a:solidFill>
              <a:latin typeface="Calibri"/>
            </a:endParaRPr>
          </a:p>
        </p:txBody>
      </p:sp>
      <p:sp>
        <p:nvSpPr>
          <p:cNvPr id="2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3BB8F-BF61-4119-B07A-01F22EF6F6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perjuicio patrimonial a otra persona mediant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ualquier entrada, alteración, eliminación o supresión de datos informáticos,</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ualquier ataque a la integridad en el funcionamiento de un sistema informático,</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on la intención de procurar, de forma ilegítima, un beneficio económico para uno mismo o para o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523972-7802-42F6-A7B0-A8BD7B5F16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perjuicio patrimonial a otra persona mediante:</a:t>
            </a:r>
            <a:endParaRPr b="0" lang="en-US" sz="2800" spc="-1" strike="noStrike">
              <a:solidFill>
                <a:srgbClr val="000000"/>
              </a:solidFill>
              <a:latin typeface="Calibri"/>
            </a:endParaRPr>
          </a:p>
          <a:p>
            <a:pPr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 la </a:t>
            </a:r>
            <a:r>
              <a:rPr b="1" lang="en-US" sz="3200" spc="-1" strike="noStrike">
                <a:solidFill>
                  <a:srgbClr val="ff0000"/>
                </a:solidFill>
                <a:latin typeface="Calibri"/>
                <a:ea typeface="Times New Roman"/>
              </a:rPr>
              <a:t>introducción</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ción</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borrado </a:t>
            </a:r>
            <a:r>
              <a:rPr b="0" lang="en-US" sz="3200" spc="-1" strike="noStrike">
                <a:solidFill>
                  <a:srgbClr val="000000"/>
                </a:solidFill>
                <a:latin typeface="Calibri"/>
                <a:ea typeface="Times New Roman"/>
              </a:rPr>
              <a:t>o </a:t>
            </a:r>
            <a:r>
              <a:rPr b="1" lang="en-US" sz="3200" spc="-1" strike="noStrike">
                <a:solidFill>
                  <a:srgbClr val="ff0000"/>
                </a:solidFill>
                <a:latin typeface="Calibri"/>
                <a:ea typeface="Times New Roman"/>
              </a:rPr>
              <a:t>supresión </a:t>
            </a:r>
            <a:r>
              <a:rPr b="0" lang="en-US" sz="3200" spc="-1" strike="noStrike">
                <a:solidFill>
                  <a:srgbClr val="000000"/>
                </a:solidFill>
                <a:latin typeface="Calibri"/>
                <a:ea typeface="Times New Roman"/>
              </a:rPr>
              <a:t>de datos informáticos;</a:t>
            </a:r>
            <a:endParaRPr b="0" lang="en-US" sz="3200" spc="-1" strike="noStrike">
              <a:solidFill>
                <a:srgbClr val="000000"/>
              </a:solidFill>
              <a:latin typeface="Calibri"/>
            </a:endParaRPr>
          </a:p>
          <a:p>
            <a:pPr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b) cualquier </a:t>
            </a:r>
            <a:r>
              <a:rPr b="1" lang="en-US" sz="3200" spc="-1" strike="noStrike">
                <a:solidFill>
                  <a:srgbClr val="ff0000"/>
                </a:solidFill>
                <a:latin typeface="Calibri"/>
                <a:ea typeface="Times New Roman"/>
              </a:rPr>
              <a:t>ataque a la integridad en el funcionamiento</a:t>
            </a:r>
            <a:r>
              <a:rPr b="0" lang="en-US" sz="3200" spc="-1" strike="noStrike">
                <a:solidFill>
                  <a:srgbClr val="000000"/>
                </a:solidFill>
                <a:latin typeface="Calibri"/>
                <a:ea typeface="Times New Roman"/>
              </a:rPr>
              <a:t> de un sistema informático,</a:t>
            </a:r>
            <a:endParaRPr b="0" lang="en-US" sz="32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on la intención de procurar, de forma ilegítima, un beneficio económico para uno mismo o para o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55B150-CB0B-4E31-9129-9BF6131D26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trada, alteración, eliminación, supresión e ataque a la integridad</a:t>
            </a:r>
            <a:endParaRPr b="0" lang="en-US" sz="4400" spc="-1" strike="noStrike">
              <a:solidFill>
                <a:srgbClr val="000000"/>
              </a:solidFill>
              <a:latin typeface="Calibri"/>
            </a:endParaRPr>
          </a:p>
        </p:txBody>
      </p:sp>
      <p:sp>
        <p:nvSpPr>
          <p:cNvPr id="306" name=""/>
          <p:cNvSpPr txBox="1"/>
          <p:nvPr/>
        </p:nvSpPr>
        <p:spPr>
          <a:xfrm>
            <a:off x="457200" y="1829880"/>
            <a:ext cx="8229600" cy="4526280"/>
          </a:xfrm>
          <a:prstGeom prst="rect">
            <a:avLst/>
          </a:prstGeom>
          <a:noFill/>
          <a:ln w="0">
            <a:noFill/>
          </a:ln>
        </p:spPr>
        <p:txBody>
          <a:bodyPr anchor="t">
            <a:normAutofit fontScale="91000"/>
          </a:bodyPr>
          <a:p>
            <a:pPr marL="312120" indent="-3121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Causar pérdida a la propiedad de otra persona por:</a:t>
            </a:r>
            <a:endParaRPr b="0" lang="en-US" sz="32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ntrada</a:t>
            </a:r>
            <a:r>
              <a:rPr b="0" lang="en-US" sz="2800" spc="-1" strike="noStrike">
                <a:solidFill>
                  <a:srgbClr val="000000"/>
                </a:solidFill>
                <a:latin typeface="Calibri"/>
                <a:ea typeface="Times New Roman"/>
              </a:rPr>
              <a:t> de datos correctos o incorrec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Modificación</a:t>
            </a:r>
            <a:r>
              <a:rPr b="0" lang="en-US" sz="2800" spc="-1" strike="noStrike">
                <a:solidFill>
                  <a:srgbClr val="000000"/>
                </a:solidFill>
                <a:latin typeface="Calibri"/>
                <a:ea typeface="Times New Roman"/>
              </a:rPr>
              <a:t> posterior (modificaciones, variaciones, cambios parciale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ción</a:t>
            </a:r>
            <a:r>
              <a:rPr b="0" lang="en-US" sz="2800" spc="-1" strike="noStrike">
                <a:solidFill>
                  <a:srgbClr val="000000"/>
                </a:solidFill>
                <a:latin typeface="Calibri"/>
                <a:ea typeface="Times New Roman"/>
              </a:rPr>
              <a:t> (eliminación de datos de un medio de da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ión</a:t>
            </a:r>
            <a:r>
              <a:rPr b="0" lang="en-US" sz="2800" spc="-1" strike="noStrike">
                <a:solidFill>
                  <a:srgbClr val="000000"/>
                </a:solidFill>
                <a:latin typeface="Calibri"/>
                <a:ea typeface="Times New Roman"/>
              </a:rPr>
              <a:t> (retención, ocultación de da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Ataque a la integridad</a:t>
            </a:r>
            <a:r>
              <a:rPr b="0" lang="en-US" sz="2800" spc="-1" strike="noStrike">
                <a:solidFill>
                  <a:srgbClr val="000000"/>
                </a:solidFill>
                <a:latin typeface="Calibri"/>
                <a:ea typeface="Times New Roman"/>
              </a:rPr>
              <a:t> (con el funcionamiento del sistema informático)</a:t>
            </a:r>
            <a:endParaRPr b="0" lang="en-US" sz="28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96F9D1D-CBE2-4728-8C9B-CFE44000AF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a:t>
            </a:r>
            <a:r>
              <a:rPr b="1" lang="en-US" sz="2800" spc="-1" strike="noStrike">
                <a:solidFill>
                  <a:srgbClr val="ff0000"/>
                </a:solidFill>
                <a:latin typeface="Calibri"/>
                <a:ea typeface="Times New Roman"/>
              </a:rPr>
              <a:t>perjuicio patrimonial</a:t>
            </a:r>
            <a:r>
              <a:rPr b="0" lang="en-US" sz="2800" spc="-1" strike="noStrike">
                <a:solidFill>
                  <a:srgbClr val="000000"/>
                </a:solidFill>
                <a:latin typeface="Calibri"/>
                <a:ea typeface="Times New Roman"/>
              </a:rPr>
              <a:t> a otra persona mediante:</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la introducción, alteración, borrado o supresión de dat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 cualquier ataque a la integridad en el funcionamiento de un sistema informático, </a:t>
            </a:r>
            <a:r>
              <a:rPr b="1" lang="en-US" sz="2800" spc="-1" strike="noStrike">
                <a:solidFill>
                  <a:srgbClr val="ff0000"/>
                </a:solidFill>
                <a:latin typeface="Calibri"/>
                <a:ea typeface="Times New Roman"/>
              </a:rPr>
              <a:t>con la intención de procurar, de forma ilegítima, un beneficio económico para uno mismo o para otro</a:t>
            </a:r>
            <a:r>
              <a:rPr b="1" lang="en-US" sz="2800" spc="-1" strike="noStrike">
                <a:solidFill>
                  <a:srgbClr val="ff0000"/>
                </a:solidFill>
                <a:latin typeface="Calibri"/>
              </a:rPr>
              <a:t> </a:t>
            </a:r>
            <a:endParaRPr b="0" lang="en-US" sz="28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F5FD67-83B8-45F5-9D89-D3F100E98C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érdida de la propiedad</a:t>
            </a:r>
            <a:endParaRPr b="0" lang="en-US" sz="4400" spc="-1" strike="noStrike">
              <a:solidFill>
                <a:srgbClr val="000000"/>
              </a:solidFill>
              <a:latin typeface="Calibri"/>
            </a:endParaRPr>
          </a:p>
        </p:txBody>
      </p:sp>
      <p:sp>
        <p:nvSpPr>
          <p:cNvPr id="312" name=""/>
          <p:cNvSpPr txBox="1"/>
          <p:nvPr/>
        </p:nvSpPr>
        <p:spPr>
          <a:xfrm>
            <a:off x="457200" y="1671120"/>
            <a:ext cx="8229600" cy="4526280"/>
          </a:xfrm>
          <a:prstGeom prst="rect">
            <a:avLst/>
          </a:prstGeom>
          <a:noFill/>
          <a:ln w="0">
            <a:noFill/>
          </a:ln>
        </p:spPr>
        <p:txBody>
          <a:bodyPr anchor="t">
            <a:normAutofit fontScale="98000"/>
          </a:bodyPr>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ley debe producir pérdida económica o posesoria directa de la propiedad de otra persona</a:t>
            </a:r>
            <a:endParaRPr b="0" lang="en-US" sz="30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ye pérdida de:</a:t>
            </a:r>
            <a:endParaRPr b="0" lang="en-US" sz="30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ner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ibl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ibles con un valor económico</a:t>
            </a:r>
            <a:endParaRPr b="0" lang="en-US" sz="28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acto también debe ser cometido por el perpetrador con la intención de obtener ganancias ilegales para sí mismo o para otra persona</a:t>
            </a:r>
            <a:endParaRPr b="0" lang="en-US" sz="30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7F6F8E-3A23-40BF-AD9B-99CB38943E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el contenido</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1B17C-7235-40BD-B920-2E8E051867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0000"/>
          </a:bodyPr>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Pornografía infantil</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Artículo 9 - Convenio de Budapest)</a:t>
            </a:r>
            <a:endParaRPr b="0" lang="en-US" sz="3200" spc="-1" strike="noStrike">
              <a:solidFill>
                <a:srgbClr val="000000"/>
              </a:solidFill>
              <a:latin typeface="Calibri"/>
            </a:endParaRPr>
          </a:p>
          <a:p>
            <a:pPr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Gran innovación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Criminalización de actos de pornografía infantil, cometidos por medio de un sistema informático</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spectos importantes: </a:t>
            </a:r>
            <a:endParaRPr b="0" lang="en-US" sz="2800" spc="-1" strike="noStrike">
              <a:solidFill>
                <a:srgbClr val="000000"/>
              </a:solidFill>
              <a:latin typeface="Calibri"/>
            </a:endParaRPr>
          </a:p>
          <a:p>
            <a:pPr lvl="1" marL="371520" indent="-1429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Criminalización de "pseudo imágenes";</a:t>
            </a:r>
            <a:endParaRPr b="0" lang="en-US" sz="20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Sanción por la mera posesión de materiales de pornografía infantil</a:t>
            </a:r>
            <a:r>
              <a:rPr b="0" i="1" lang="en-US" sz="2400" spc="-1" strike="noStrike">
                <a:solidFill>
                  <a:srgbClr val="000000"/>
                </a:solidFill>
                <a:latin typeface="Calibri"/>
              </a:rPr>
              <a:t> </a:t>
            </a:r>
            <a:endParaRPr b="0" lang="en-US" sz="24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No cubierto por muchas de las legislaciones</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Enfoque muy común de todos los foros internacionales (por ejemplo, ONU)</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nión Europea </a:t>
            </a:r>
            <a:endParaRPr b="0" lang="en-US" sz="20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Enfrenta la mera posesión de materiales de pornografía infantil</a:t>
            </a:r>
            <a:endParaRPr b="0" lang="en-US" sz="16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irectiva 2011/92 / UE, del Parlamento Europeo y del Consejo</a:t>
            </a:r>
            <a:endParaRPr b="0" lang="en-US" sz="16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E84E8-F6F3-4999-9C17-7817786D55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19" name="PlaceHolder 2"/>
          <p:cNvSpPr>
            <a:spLocks noGrp="1"/>
          </p:cNvSpPr>
          <p:nvPr>
            <p:ph/>
          </p:nvPr>
        </p:nvSpPr>
        <p:spPr>
          <a:xfrm>
            <a:off x="457200" y="1643040"/>
            <a:ext cx="8229600" cy="4378320"/>
          </a:xfrm>
          <a:prstGeom prst="rect">
            <a:avLst/>
          </a:prstGeom>
          <a:noFill/>
          <a:ln w="0">
            <a:noFill/>
          </a:ln>
        </p:spPr>
        <p:txBody>
          <a:bodyPr anchor="t">
            <a:normAutofit fontScale="91000"/>
          </a:bodyPr>
          <a:p>
            <a:pPr marL="415800" indent="-415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4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roducción de pornografía infantil con la intención de difundirla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oferta o la puesta a disposic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779760" indent="-415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7C5E1-35BC-471F-96B4-C63EA7297E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22" name="PlaceHolder 2"/>
          <p:cNvSpPr>
            <a:spLocks noGrp="1"/>
          </p:cNvSpPr>
          <p:nvPr>
            <p:ph/>
          </p:nvPr>
        </p:nvSpPr>
        <p:spPr>
          <a:xfrm>
            <a:off x="457200" y="167004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1A2E9-55BB-47FD-97B7-66A9D7DD7C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79"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5EDD3-1AA4-40FD-94CD-E098908959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9ED6AEC-74CB-4645-947D-4E7232B133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a:t>
            </a:r>
            <a:r>
              <a:rPr b="1" lang="en-US" sz="2000" spc="-1" strike="noStrike">
                <a:solidFill>
                  <a:srgbClr val="ff0000"/>
                </a:solidFill>
                <a:latin typeface="Calibri"/>
                <a:ea typeface="Times New Roman"/>
              </a:rPr>
              <a:t>ilegítima</a:t>
            </a:r>
            <a:r>
              <a:rPr b="1" lang="en-US" sz="2800" spc="-1" strike="noStrike">
                <a:solidFill>
                  <a:srgbClr val="ff0000"/>
                </a:solidFill>
                <a:latin typeface="Calibri"/>
                <a:ea typeface="Times New Roman"/>
              </a:rPr>
              <a:t> </a:t>
            </a:r>
            <a:r>
              <a:rPr b="0" lang="en-US" sz="2000" spc="-1" strike="noStrike">
                <a:solidFill>
                  <a:srgbClr val="000000"/>
                </a:solidFill>
                <a:latin typeface="Calibri"/>
                <a:ea typeface="Times New Roman"/>
              </a:rPr>
              <a:t>de la siguiente conducta:</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roducción de pornografía infantil con la intención de difundirla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oferta o la puesta a disposición 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legítima</a:t>
            </a:r>
            <a:endParaRPr b="0" lang="en-US" sz="4400" spc="-1" strike="noStrike">
              <a:solidFill>
                <a:srgbClr val="000000"/>
              </a:solidFill>
              <a:latin typeface="Calibri"/>
            </a:endParaRPr>
          </a:p>
        </p:txBody>
      </p:sp>
      <p:sp>
        <p:nvSpPr>
          <p:cNvPr id="328" name=""/>
          <p:cNvSpPr txBox="1"/>
          <p:nvPr/>
        </p:nvSpPr>
        <p:spPr>
          <a:xfrm>
            <a:off x="457200" y="1657440"/>
            <a:ext cx="8229600" cy="452592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mite a la parte tener en cuenta los derechos fundamentales, incluidos:</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tad de expresión</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tad de pensamiento</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recho a la privacida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parte puede permitir la defensa con respecto a la conducta relacionada con el "material pornográfico" que tenga mérito artístico, médico, científico o similar</a:t>
            </a:r>
            <a:endParaRPr b="0" lang="en-US" sz="30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EA016F-3D5D-41A3-9FAD-9AFB6B5C40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FA4BF9-103F-4DFE-8349-2287949FC9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anchor="t">
            <a:normAutofit fontScale="91000"/>
          </a:bodyPr>
          <a:p>
            <a:pPr marL="415800" indent="-415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1.</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400" spc="-1" strike="noStrike">
              <a:solidFill>
                <a:srgbClr val="000000"/>
              </a:solidFill>
              <a:latin typeface="Calibri"/>
            </a:endParaRPr>
          </a:p>
          <a:p>
            <a:pPr lvl="1" marL="779760" indent="-415800" algn="just">
              <a:spcBef>
                <a:spcPts val="60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la </a:t>
            </a:r>
            <a:r>
              <a:rPr b="1" lang="en-US" sz="2400" spc="-1" strike="noStrike">
                <a:solidFill>
                  <a:srgbClr val="ff0000"/>
                </a:solidFill>
                <a:latin typeface="Calibri"/>
                <a:ea typeface="Times New Roman"/>
              </a:rPr>
              <a:t>producción </a:t>
            </a:r>
            <a:r>
              <a:rPr b="0" lang="en-US" sz="2400" spc="-1" strike="noStrike">
                <a:solidFill>
                  <a:srgbClr val="000000"/>
                </a:solidFill>
                <a:latin typeface="Calibri"/>
                <a:ea typeface="Times New Roman"/>
              </a:rPr>
              <a:t>de pornografía infantil con la intención de difundirla a través de un sistema informático;</a:t>
            </a:r>
            <a:endParaRPr b="0" lang="en-US" sz="2400" spc="-1" strike="noStrike">
              <a:solidFill>
                <a:srgbClr val="000000"/>
              </a:solidFill>
              <a:latin typeface="Calibri"/>
            </a:endParaRPr>
          </a:p>
          <a:p>
            <a:pPr lvl="1" marL="779760" indent="-415800" algn="just">
              <a:spcBef>
                <a:spcPts val="60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la </a:t>
            </a:r>
            <a:r>
              <a:rPr b="1" lang="en-US" sz="2400" spc="-1" strike="noStrike">
                <a:solidFill>
                  <a:srgbClr val="ff0000"/>
                </a:solidFill>
                <a:latin typeface="Calibri"/>
                <a:ea typeface="Times New Roman"/>
              </a:rPr>
              <a:t>oferta </a:t>
            </a:r>
            <a:r>
              <a:rPr b="0" lang="en-US" sz="2400" spc="-1" strike="noStrike">
                <a:solidFill>
                  <a:srgbClr val="000000"/>
                </a:solidFill>
                <a:latin typeface="Calibri"/>
                <a:ea typeface="Times New Roman"/>
              </a:rPr>
              <a:t>o la </a:t>
            </a:r>
            <a:r>
              <a:rPr b="1" lang="en-US" sz="2400" spc="-1" strike="noStrike">
                <a:solidFill>
                  <a:srgbClr val="ff0000"/>
                </a:solidFill>
                <a:latin typeface="Calibri"/>
                <a:ea typeface="Times New Roman"/>
              </a:rPr>
              <a:t>puesta a disposición </a:t>
            </a:r>
            <a:r>
              <a:rPr b="0" lang="en-US" sz="2400" spc="-1" strike="noStrike">
                <a:solidFill>
                  <a:srgbClr val="000000"/>
                </a:solidFill>
                <a:latin typeface="Calibri"/>
                <a:ea typeface="Times New Roman"/>
              </a:rPr>
              <a:t>de pornografía infantil a través de un sistema informático;</a:t>
            </a:r>
            <a:endParaRPr b="0" lang="en-US" sz="24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779760" indent="-415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cir, ofrecer y poner a disposición</a:t>
            </a:r>
            <a:endParaRPr b="0" lang="en-US" sz="4400" spc="-1" strike="noStrike">
              <a:solidFill>
                <a:srgbClr val="000000"/>
              </a:solidFill>
              <a:latin typeface="Calibri"/>
            </a:endParaRPr>
          </a:p>
        </p:txBody>
      </p:sp>
      <p:sp>
        <p:nvSpPr>
          <p:cNvPr id="334"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ecuencias penales asociadas a cada participante en la cadena desde la producción hasta la posesión de pornografía infantil</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producción de pornografía infantil (a efectos de distribución por medio de un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recer pornografía infantil (solicitar a otros para obtener pornografía infantil)</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ner a disposición la pornografía infantil (colocar pornografía infantil en línea para el uso de otros, incluso haciendo sitios web de pornografía infantil)</a:t>
            </a:r>
            <a:endParaRPr b="0" lang="en-US" sz="24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B31B63-0C95-4410-AC1F-91161A8DD7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5E2108-28E4-40E9-9C40-497AC729F2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8" name=""/>
          <p:cNvSpPr txBox="1"/>
          <p:nvPr/>
        </p:nvSpPr>
        <p:spPr>
          <a:xfrm>
            <a:off x="457200" y="151596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Times New Roman"/>
              </a:rPr>
              <a:t>la producción de pornografía infantil con la intención de difundirla a través de un sistema informátic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Times New Roman"/>
              </a:rPr>
              <a:t>la oferta o la puesta a disposición de pornografía infantil a través de un sistema informático;</a:t>
            </a:r>
            <a:endParaRPr b="0" lang="en-US" sz="18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difusión </a:t>
            </a:r>
            <a:r>
              <a:rPr b="0" lang="en-US" sz="2000" spc="-1" strike="noStrike">
                <a:solidFill>
                  <a:srgbClr val="000000"/>
                </a:solidFill>
                <a:latin typeface="Calibri"/>
                <a:ea typeface="Times New Roman"/>
              </a:rPr>
              <a:t>o la </a:t>
            </a:r>
            <a:r>
              <a:rPr b="1" lang="en-US" sz="2000" spc="-1" strike="noStrike">
                <a:solidFill>
                  <a:srgbClr val="ff0000"/>
                </a:solidFill>
                <a:latin typeface="Calibri"/>
                <a:ea typeface="Times New Roman"/>
              </a:rPr>
              <a:t>transmisión </a:t>
            </a:r>
            <a:r>
              <a:rPr b="0" lang="en-US" sz="2000" spc="-1" strike="noStrike">
                <a:solidFill>
                  <a:srgbClr val="000000"/>
                </a:solidFill>
                <a:latin typeface="Calibri"/>
                <a:ea typeface="Times New Roman"/>
              </a:rPr>
              <a:t>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adquisición</a:t>
            </a:r>
            <a:r>
              <a:rPr b="0" lang="en-US" sz="2000" spc="-1" strike="noStrike">
                <a:solidFill>
                  <a:srgbClr val="000000"/>
                </a:solidFill>
                <a:latin typeface="Calibri"/>
                <a:ea typeface="Times New Roman"/>
              </a:rPr>
              <a:t>, para uno mismo o para otros, de pornografía infantil a través de un sistema informático;</a:t>
            </a:r>
            <a:endParaRPr b="0" lang="en-US" sz="2000" spc="-1" strike="noStrike">
              <a:solidFill>
                <a:srgbClr val="000000"/>
              </a:solidFill>
              <a:latin typeface="Calibri"/>
            </a:endParaRPr>
          </a:p>
          <a:p>
            <a:pPr lvl="1" marL="857160" indent="-457200" algn="just">
              <a:spcBef>
                <a:spcPts val="4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posesión </a:t>
            </a:r>
            <a:r>
              <a:rPr b="0" lang="en-US" sz="2000" spc="-1" strike="noStrike">
                <a:solidFill>
                  <a:srgbClr val="000000"/>
                </a:solidFill>
                <a:latin typeface="Calibri"/>
                <a:ea typeface="Times New Roman"/>
              </a:rPr>
              <a:t>de pornografía infantil en un sistema informático o en un dispositivo de almacenamiento de datos informáticos.</a:t>
            </a:r>
            <a:r>
              <a:rPr b="0"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ir, transmitir, procurar y poseer</a:t>
            </a:r>
            <a:endParaRPr b="0" lang="en-US" sz="4400" spc="-1" strike="noStrike">
              <a:solidFill>
                <a:srgbClr val="000000"/>
              </a:solidFill>
              <a:latin typeface="Calibri"/>
            </a:endParaRPr>
          </a:p>
        </p:txBody>
      </p:sp>
      <p:sp>
        <p:nvSpPr>
          <p:cNvPr id="340"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ción de pornografía infantil (diseminación activa de pornografía infantil)</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ión de pornografía infantil (envío de pornografía infantil a través del sistema informátic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quirir pornografía infantil para uno mismo u otro (obtener activamente pornografía infantil, incluso mediante su descarg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sión de pornografía infantil (posesión en un sistema informático o soporte de datos)</a:t>
            </a:r>
            <a:endParaRPr b="0" lang="en-US" sz="24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5BACB5-9628-4B6A-8BA5-11AAC366BA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75FEFF-4178-4683-94E7-7C9187CB74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4" name=""/>
          <p:cNvSpPr txBox="1"/>
          <p:nvPr/>
        </p:nvSpPr>
        <p:spPr>
          <a:xfrm>
            <a:off x="288720" y="1754280"/>
            <a:ext cx="860076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a:t>
            </a:r>
            <a:r>
              <a:rPr b="1" lang="en-US" sz="2000" spc="-1" strike="noStrike">
                <a:solidFill>
                  <a:srgbClr val="ff0000"/>
                </a:solidFill>
                <a:latin typeface="Calibri"/>
              </a:rPr>
              <a:t>material pornográfico que contenga la representación visual de</a:t>
            </a:r>
            <a:r>
              <a:rPr b="0" lang="en-US" sz="2000" spc="-1" strike="noStrike">
                <a:solidFill>
                  <a:srgbClr val="000000"/>
                </a:solidFill>
                <a:latin typeface="Calibri"/>
              </a:rPr>
              <a:t>:</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áfico </a:t>
            </a:r>
            <a:endParaRPr b="0" lang="en-US" sz="4400" spc="-1" strike="noStrike">
              <a:solidFill>
                <a:srgbClr val="000000"/>
              </a:solidFill>
              <a:latin typeface="Calibri"/>
            </a:endParaRPr>
          </a:p>
        </p:txBody>
      </p:sp>
      <p:sp>
        <p:nvSpPr>
          <p:cNvPr id="346" name=""/>
          <p:cNvSpPr txBox="1"/>
          <p:nvPr/>
        </p:nvSpPr>
        <p:spPr>
          <a:xfrm>
            <a:off x="279360" y="1739880"/>
            <a:ext cx="8547120" cy="4525920"/>
          </a:xfrm>
          <a:prstGeom prst="rect">
            <a:avLst/>
          </a:prstGeom>
          <a:noFill/>
          <a:ln w="0">
            <a:noFill/>
          </a:ln>
        </p:spPr>
        <p:txBody>
          <a:bodyPr anchor="t">
            <a:normAutofit fontScale="90000"/>
          </a:bodyPr>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bernado por normas nacionales relativas a la clasificación de materiales como:</a:t>
            </a:r>
            <a:endParaRPr b="0" lang="en-US" sz="28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o;</a:t>
            </a:r>
            <a:endParaRPr b="0" lang="en-US" sz="24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e con la moral pública; o</a:t>
            </a:r>
            <a:endParaRPr b="0" lang="en-US" sz="24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l mismo modo corrupto</a:t>
            </a:r>
            <a:endParaRPr b="0" lang="en-US" sz="2400" spc="-1" strike="noStrike">
              <a:solidFill>
                <a:srgbClr val="000000"/>
              </a:solidFill>
              <a:latin typeface="Calibri"/>
            </a:endParaRPr>
          </a:p>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materiales que tengan méritos artísticos, médicos, científicos o similares no pueden clasificarse como pornográficos</a:t>
            </a:r>
            <a:endParaRPr b="0" lang="en-US" sz="2800" spc="-1" strike="noStrike">
              <a:solidFill>
                <a:srgbClr val="000000"/>
              </a:solidFill>
              <a:latin typeface="Calibri"/>
            </a:endParaRPr>
          </a:p>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representación visual incluye datos almacenados en un sistema informático o medio de almacenamiento que es capaz de convertirse en imagen visual</a:t>
            </a:r>
            <a:endParaRPr b="0" lang="en-US" sz="28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2745512-A824-40F5-A240-7974DEBDBE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2E842E-2057-40FE-A95C-18FC393A59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0" name=""/>
          <p:cNvSpPr txBox="1"/>
          <p:nvPr/>
        </p:nvSpPr>
        <p:spPr>
          <a:xfrm>
            <a:off x="457200" y="16146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a:t>
            </a:r>
            <a:r>
              <a:rPr b="1" lang="en-US" sz="1800" spc="-1" strike="noStrike">
                <a:solidFill>
                  <a:srgbClr val="ff0000"/>
                </a:solidFill>
                <a:latin typeface="Calibri"/>
              </a:rPr>
              <a:t>comportamiento sexualmente explícito</a:t>
            </a:r>
            <a:r>
              <a:rPr b="0" lang="en-US" sz="1800" spc="-1" strike="noStrike">
                <a:solidFill>
                  <a:srgbClr val="000000"/>
                </a:solidFill>
                <a:latin typeface="Calibri"/>
              </a:rPr>
              <a:t>;</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ucta sexual explícita</a:t>
            </a:r>
            <a:endParaRPr b="0" lang="en-US" sz="4400" spc="-1" strike="noStrike">
              <a:solidFill>
                <a:srgbClr val="000000"/>
              </a:solidFill>
              <a:latin typeface="Calibri"/>
            </a:endParaRPr>
          </a:p>
        </p:txBody>
      </p:sp>
      <p:sp>
        <p:nvSpPr>
          <p:cNvPr id="352"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bre al menos:</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laciones sexuales incluyendo genital-genital, oral-genital, anal-genital u oral-anal entre menores, o entre un adulto y un menor, del mismo sexo o del sexo opuest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dad;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ción;</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so sádico o masoquista en la conducta sexual; 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posición lasciva de genitales o área púbica de me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Parte puede usar una definición más amplia de conducta sexualmente explícit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relevante si la conducta es real o simulada</a:t>
            </a:r>
            <a:endParaRPr b="0" lang="en-US" sz="28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E32BC43-C197-4F0E-B2DC-5B19A30ACC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Uwe Rasmussen (Attorney at law)</cp:lastModifiedBy>
  <dcterms:modified xsi:type="dcterms:W3CDTF">2019-01-25T19:33:38Z</dcterms:modified>
  <cp:revision>258</cp:revision>
  <dc:subject/>
  <dc:title>Introductory Cybercrime Training for Judges and Prosecuto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f42aa342-8706-4288-bd11-ebb85995028c_ActionId">
    <vt:lpwstr>87243372-e8a7-4bf3-a941-8b099c93e609</vt:lpwstr>
  </property>
  <property fmtid="{D5CDD505-2E9C-101B-9397-08002B2CF9AE}" pid="3" name="MSIP_Label_f42aa342-8706-4288-bd11-ebb85995028c_Application">
    <vt:lpwstr>Microsoft Azure Information Protection</vt:lpwstr>
  </property>
  <property fmtid="{D5CDD505-2E9C-101B-9397-08002B2CF9AE}" pid="4" name="MSIP_Label_f42aa342-8706-4288-bd11-ebb85995028c_Enabled">
    <vt:lpwstr>True</vt:lpwstr>
  </property>
  <property fmtid="{D5CDD505-2E9C-101B-9397-08002B2CF9AE}" pid="5" name="MSIP_Label_f42aa342-8706-4288-bd11-ebb85995028c_Extended_MSFT_Method">
    <vt:lpwstr>Automatic</vt:lpwstr>
  </property>
  <property fmtid="{D5CDD505-2E9C-101B-9397-08002B2CF9AE}" pid="6" name="MSIP_Label_f42aa342-8706-4288-bd11-ebb85995028c_Name">
    <vt:lpwstr>General</vt:lpwstr>
  </property>
  <property fmtid="{D5CDD505-2E9C-101B-9397-08002B2CF9AE}" pid="7" name="MSIP_Label_f42aa342-8706-4288-bd11-ebb85995028c_Owner">
    <vt:lpwstr>v-uwrasm@microsoft.com</vt:lpwstr>
  </property>
  <property fmtid="{D5CDD505-2E9C-101B-9397-08002B2CF9AE}" pid="8" name="MSIP_Label_f42aa342-8706-4288-bd11-ebb85995028c_SetDate">
    <vt:lpwstr>2019-01-25T19:33:36.4156053Z</vt:lpwstr>
  </property>
  <property fmtid="{D5CDD505-2E9C-101B-9397-08002B2CF9AE}" pid="9" name="MSIP_Label_f42aa342-8706-4288-bd11-ebb85995028c_SiteId">
    <vt:lpwstr>72f988bf-86f1-41af-91ab-2d7cd011db47</vt:lpwstr>
  </property>
  <property fmtid="{D5CDD505-2E9C-101B-9397-08002B2CF9AE}" pid="10" name="Sensitivity">
    <vt:lpwstr>General</vt:lpwstr>
  </property>
</Properties>
</file>