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79ED-0715-4917-88F9-BA636C366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Offences against the computer data and systems: 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Illegal access, Illegal interception, Data &amp; System interference, Misuse of devices (virus, skimming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Computer-related offences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-related 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forgery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-related 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fraud (alteration of computer data, sys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Content-related offences: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hild pornography, infringements of copyright and related ri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značba mesta številke diapozitiva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874D-0C5C-4F24-BAEC-C2EA4C47E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810-6274-407E-9A15-7AF1E988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D91D-9CEF-47C3-95A7-714DAF91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7177-C453-44E5-9F80-D6659517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3D1B-4A15-45C1-BB4B-E36E21E2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A7B-D7AB-43B3-B874-67B2730E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DA5-356B-4C8C-A7F4-CDADC7D6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DC59-D279-4A4A-B4E1-2BC60F79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6164-12FB-4871-961D-1A03775D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9F6-E855-4929-A7BE-0F7DD00E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894-3AD2-4F67-AF1B-0ECBB22D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22B-D460-4105-ACF4-92BAA1B5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523-A8C4-4161-972C-4E4038C9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7FD4-F503-45E9-BACD-656FC485B7A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ic Course on the Search, Seizure and Confiscation of Online Crime Procee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.1.1 - Course Op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Time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tabl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ir with someone you do not k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10 minutes to find out and tell 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na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they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hey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hing interesting about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level of knowledge of cybercrime, financial investigations, FIUs and money launde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 and Saf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rgency Ex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e Ala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i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o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bile Phones &amp; Pa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ffee and Lunch Brea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itle of this course is “Basic Course on the Search, Seizure and Confiscation of Online Crime Proceeds”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been developed under the European Union and Council of Europe Joint Project iPROC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A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de delegates with information about the need for the training course and its aim and objectiv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sure that delegates have sufficient information about the programme of activities and the timet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de information about the health, safety and administrative details of the cours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roduce the delegates to the trainers and other delegate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me Proceeds on the Internet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2"/>
          <p:cNvSpPr/>
          <p:nvPr/>
        </p:nvSpPr>
        <p:spPr>
          <a:xfrm>
            <a:off x="395280" y="3213000"/>
            <a:ext cx="2305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iminal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3203640" y="3213000"/>
            <a:ext cx="2305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ime Proc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6300720" y="2276640"/>
            <a:ext cx="2303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ney Laund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6300720" y="4292640"/>
            <a:ext cx="2303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arch, Seizure, Confis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Straight Arrow Connector 4"/>
          <p:cNvCxnSpPr>
            <a:stCxn id="68" idx="3"/>
            <a:endCxn id="69" idx="1"/>
          </p:cNvCxnSpPr>
          <p:nvPr/>
        </p:nvCxnSpPr>
        <p:spPr>
          <a:xfrm>
            <a:off x="2700360" y="3681000"/>
            <a:ext cx="5040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3" name="Straight Arrow Connector 12"/>
          <p:cNvCxnSpPr>
            <a:stCxn id="69" idx="3"/>
            <a:endCxn id="70" idx="1"/>
          </p:cNvCxnSpPr>
          <p:nvPr/>
        </p:nvCxnSpPr>
        <p:spPr>
          <a:xfrm flipV="1">
            <a:off x="5508720" y="2744280"/>
            <a:ext cx="792720" cy="937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4" name="Straight Arrow Connector 15"/>
          <p:cNvCxnSpPr>
            <a:stCxn id="69" idx="3"/>
            <a:endCxn id="71" idx="1"/>
          </p:cNvCxnSpPr>
          <p:nvPr/>
        </p:nvCxnSpPr>
        <p:spPr>
          <a:xfrm>
            <a:off x="5508720" y="3681000"/>
            <a:ext cx="792720" cy="1080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pects of investigation involving proceeds of crime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916280"/>
          <a:ext cx="8064360" cy="4449600"/>
        </p:xfrm>
        <a:graphic>
          <a:graphicData uri="http://schemas.openxmlformats.org/drawingml/2006/table">
            <a:tbl>
              <a:tblPr/>
              <a:tblGrid>
                <a:gridCol w="3959280"/>
                <a:gridCol w="4105080"/>
              </a:tblGrid>
              <a:tr h="3168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ybercr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Substantive offenc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Offences against computer data and 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mputer-related off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ntent-related off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rocedural power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llecting electronic evidence (IP addresses and other Internet ev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1add5"/>
                    </a:solidFill>
                  </a:tcPr>
                </a:tc>
              </a:tr>
              <a:tr h="128124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Money launde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Online money laundering (typologi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7" name="TextBox 1"/>
          <p:cNvSpPr/>
          <p:nvPr/>
        </p:nvSpPr>
        <p:spPr>
          <a:xfrm>
            <a:off x="4500720" y="1916280"/>
            <a:ext cx="39589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ancial investig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rgeting instrumentalities and proceeds of crim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yment for criminal goods (drugs, weapons, false ID) 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ceeds from crime (fraud, corruption etc.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net related: e-banking, bitcoins, Darkn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Overlapping responsibilities of </a:t>
            </a:r>
            <a:r>
              <a:rPr b="1" lang="ga-IE" sz="2800" spc="-1" strike="noStrike">
                <a:solidFill>
                  <a:srgbClr val="000000"/>
                </a:solidFill>
                <a:latin typeface="Calibri"/>
              </a:rPr>
              <a:t>multipl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agencices/un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9640" y="1773360"/>
          <a:ext cx="8064720" cy="4724280"/>
        </p:xfrm>
        <a:graphic>
          <a:graphicData uri="http://schemas.openxmlformats.org/drawingml/2006/table">
            <a:tbl>
              <a:tblPr/>
              <a:tblGrid>
                <a:gridCol w="2737080"/>
                <a:gridCol w="2376360"/>
                <a:gridCol w="2951280"/>
              </a:tblGrid>
              <a:tr h="79200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secu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leads the investig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5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bercrime Un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 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 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d porn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ine 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ber attac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 inter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Un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sed 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l 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c 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l Investigation Un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ence/crim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procee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ezing 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06668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launde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U – Financial Intelligence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nlin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crim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eds –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 competencies, powers,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9640" y="1773360"/>
          <a:ext cx="8064720" cy="4714920"/>
        </p:xfrm>
        <a:graphic>
          <a:graphicData uri="http://schemas.openxmlformats.org/drawingml/2006/table">
            <a:tbl>
              <a:tblPr/>
              <a:tblGrid>
                <a:gridCol w="3024360"/>
                <a:gridCol w="2160360"/>
                <a:gridCol w="2880000"/>
              </a:tblGrid>
              <a:tr h="76176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secu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lead investigation, order measures, make proposals to the cour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3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bercrime 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gation of cyber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 forensics (sometimes separ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ident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criber identification (e.g. email, Faceboo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P engagement (subscriber, traffic, content da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Uni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cover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retap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se sear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l investigati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ss bank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 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iz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ezing 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is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27008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laundering - F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s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ss to bank data/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ponement of suspicious financial 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s This Training Necessar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creasing use of technology means that in many cases where a financial or cybercrime investigations is being performed, the criminal activity, predicate offence, proceeds of crime and money laundering typologies used will overlap with the world of cybercrime and electronic evidenc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t is therefore important for those responsible for the investigation, prosecution and adjudication of these matters to have an appreciation of the particularities of cases with both cyber and financial element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CHICU Mariana</cp:lastModifiedBy>
  <cp:lastPrinted>2016-05-18T07:38:13Z</cp:lastPrinted>
  <dcterms:modified xsi:type="dcterms:W3CDTF">2017-05-16T08:49:50Z</dcterms:modified>
  <cp:revision>341</cp:revision>
  <dc:subject/>
  <dc:title>PowerPoint Presentation</dc:title>
</cp:coreProperties>
</file>