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FAC9-ADDE-42C4-A55F-2C0B99B77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AA2D-FA6D-4BCF-8BE2-C6ABEEC09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9372-3310-481B-8FA4-5B1E5B2AE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5C54-6BE9-4A4F-AEB0-30222AF3B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A3CF-FECE-4643-9FA8-D291AC6B9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AD07-96B4-4CD6-8C64-9A2B0CEC8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5FD1-FAD0-4B92-BA37-81766B36B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4909-1A4B-4C6B-B1C2-B922E7BC3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6D6F-CD0A-46AD-8C3F-697B610B0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F4D9-758B-4A0C-9F7B-AF72C67D5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D849-F055-464E-9A58-1E8D78939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C57C-E948-4FD2-806B-8D45041E5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EB94-53E6-40EA-A25E-DEBDC08D3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A997-693F-4B31-8801-7B04027B4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3221-6790-48FE-B06F-89FB82317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1072-5DEA-41C9-8919-6C0135598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CF26-8539-4641-BB07-51AE3CE5D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BA14-048F-430A-B6AC-C4AB2862A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2B8D-DBA1-402B-B87E-84E4BA961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6677-6323-45E1-AFB9-D64D5B66A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533D-C841-4FDF-8123-E3829D4B1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6486-813F-4D4C-BB8A-AA14B5E6C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487-BF72-4958-A10A-19A8538C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026-BE14-43BC-8163-62460F0E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B22-CB56-4032-9691-A692B476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D3E-B6ED-44CA-A755-F82BC4EB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62CA-0A13-4F23-9D06-0196282C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7A9-5820-401A-8EE5-05369D01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46B-BF6A-490A-AB8D-6133978E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CA6-D8AD-4055-BF58-A0F3A996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2E2-415F-463A-8DDA-00D9FC26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76E-88B9-4B25-8E8E-A18ECC56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832-AFAB-4122-BE28-44240778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FBA-FC69-4D47-9C10-6E362EE5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6542-1798-4D42-8E8C-C77CD9303A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3/Hou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re transfer, Takeover/opening of bank accou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bercriminals continue to rely on traditional banking 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obviously particularly relevant in cases that involve extracting money from victim’s bank acc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ithin the traditional banking sector, what techniques can be used to obfuscate the sources of funds extracted from a victim’s bank accou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ictim bank accounts are compromised through various cybercrime techniques (e.g. phishing, malwar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beneficiaries are added to the victim’s bank account and funds are transferred to mule accoun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ds are withdrawn in cash or transferred to other destin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s are made in small amounts to avoid reporting threshol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ex structures of meaningless transfers to mule accounts are used to obfuscate the source of fun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ontrols do financial institutions use to prevent the misuse of customer’s compromised online banking credenti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llenges does cash present for cybercrimin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h Withdraw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some instances of cybercrime, such as payment card-related crime, crime proceeds are immediately withdrawn in c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other instances, crime proceeds from other types of crime are transferred to mule accounts, from which they are withdra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it typically re-introduced to the financial system through a variety of techniques such a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 of pre-paid cards of various types (e.g. store credit, mobile phone credi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money mules or compromised bank accou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nternet Payment Serv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ayment Servic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minally obtained funds are transferred to an Internet Payment Service accou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op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ternet Payment Service offers services similar to an online bank account, in which case typologies similar to “wire transfer/bank account creation or takover” are us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ds held with the Internet Payment Service are used to purchase products and services on the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ttance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(both knowingly and without knowledge) are recruited as mules to the laundering scheme, often via “work at home” job off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e proceeds are transferred to the bank accounts of the mu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withdraws the cash and transfers the cash by wire transfer to a specific benefici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retains a payment as commission for performing this servi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s are usually of an amount lower than the reporting threshold, to avoid det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ittance providers are used again to move the cash to its final destin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it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s have been identified where extensive use of particular remittance providers has raised concerns about possible collusion or infiltration of such busin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18:32:41Z</dcterms:modified>
  <cp:revision>311</cp:revision>
  <dc:subject/>
  <dc:title>PowerPoint Presentation</dc:title>
</cp:coreProperties>
</file>