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F0C-375C-4D3F-BEEA-1C1C1BC13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5EB-85D2-4855-918F-9B8EAB52B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760-5A95-4042-B116-690E8383E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A46-1FA8-4589-A15E-E5DE66612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0BA-629D-496B-B2F4-ECE88C443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E46-26CD-42CF-BA42-8FDB77170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CFD2-75FC-4B7F-B0A4-57F866796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4FFA-8B3F-4140-8E92-A89A944FD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20C-4FA3-4974-867E-CCC3E5A0D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FF2-20C1-4F68-B38F-FD25894A5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2108-9B1A-4276-8632-D5A28BD70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904-9985-431D-8C0E-BDC6A239D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B8B-FDC7-4EC5-8FA4-FF0D9E8F7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DA3-F101-4FEC-BCAF-C1688978A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ECA-5E0C-4A24-92CB-4C1C63107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B65-94B3-42F8-B723-C35202BD7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B2A-2194-438E-8AFF-2828F284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8E1E-CF54-43D8-A9A3-004BBE63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011D-11CD-4DF5-9414-CE4E385A3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39A-9001-4B20-A0C4-5AE22FBFE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89E6-B60F-43F1-B349-544E689FA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8DA9-29DA-4A36-B63A-9AE56CC05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9C0-5C7C-40D9-8A45-9138C36C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147-0514-4029-8AEC-03F8677B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34C-F5FA-4239-AA8A-17E6617E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F7F-A6DA-4593-BBC5-3E8780F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DCF-3172-402C-A76C-A4D1062E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D75-FA2D-4DC5-8961-4C168D7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44F-61F7-47FD-A6E2-D54A2BC0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469-5F58-45FE-96B7-1B4EFED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2E4-52F5-4A53-910D-282E780D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E04-5BD1-4E51-864E-E2BC371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1BC-8FF7-4A53-979D-0F2B2F5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A5C-0B73-402C-AE05-991AE81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E5A-8449-4D89-8C9D-3C4B7654DA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32:41Z</dcterms:modified>
  <cp:revision>311</cp:revision>
  <dc:subject/>
  <dc:title>PowerPoint Presentation</dc:title>
</cp:coreProperties>
</file>