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191D-271E-4397-9D1C-54C537AB4E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3255840" y="504720"/>
            <a:ext cx="3362400" cy="2521080"/>
          </a:xfrm>
          <a:prstGeom prst="rect">
            <a:avLst/>
          </a:prstGeom>
          <a:ln w="0">
            <a:noFill/>
          </a:ln>
        </p:spPr>
      </p:sp>
      <p:sp>
        <p:nvSpPr>
          <p:cNvPr id="9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66B2-8523-41C1-8E26-AECB888327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A90EC-181D-45C0-A266-9029E198C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9C822-3EB8-4C6A-AE2A-0E1E8F4E2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28679-6C18-42BD-9DA3-AC21F3A87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B6CC-A2B6-482D-B798-A64A98940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1EEC0-EC8F-42CB-95B2-7995AD5EB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3631-4902-4CD3-886B-344D7DA2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4362C-852F-43A6-8460-E07B641BB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FB4C-D3C5-49E7-91C7-8FEC8515E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9BFFB-81EB-4BE9-BB14-0CD367E34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B7FF-ED21-465F-BF9E-6BC0B6BDA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2CEE-49A8-4C83-84C6-A979C5EE4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04E64-DFAE-4901-989F-4ABAA540D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8B1A-CD6D-457E-B75C-DD701AB7CE7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a:t>
            </a:r>
            <a:r>
              <a:rPr b="0" lang="sl-SI" sz="3200" spc="-1" strike="noStrike">
                <a:solidFill>
                  <a:srgbClr val="898989"/>
                </a:solidFill>
                <a:latin typeface="Calibri"/>
              </a:rPr>
              <a:t>2</a:t>
            </a:r>
            <a:r>
              <a:rPr b="0" lang="en-US" sz="3200" spc="-1" strike="noStrike">
                <a:solidFill>
                  <a:srgbClr val="898989"/>
                </a:solidFill>
                <a:latin typeface="Calibri"/>
              </a:rPr>
              <a:t>.</a:t>
            </a:r>
            <a:r>
              <a:rPr b="0" lang="sl-SI" sz="3200" spc="-1" strike="noStrike">
                <a:solidFill>
                  <a:srgbClr val="898989"/>
                </a:solidFill>
                <a:latin typeface="Calibri"/>
              </a:rPr>
              <a:t>5</a:t>
            </a: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r>
              <a:rPr b="1" lang="sl-SI" sz="2800" spc="-1" strike="noStrike">
                <a:solidFill>
                  <a:srgbClr val="ff0000"/>
                </a:solidFill>
                <a:latin typeface="Calibri"/>
              </a:rPr>
              <a:t>?</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9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delays</a:t>
                      </a:r>
                      <a:r>
                        <a:rPr b="0" lang="sl-SI" sz="1800" spc="-1" strike="noStrike">
                          <a:solidFill>
                            <a:srgbClr val="ff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41Z</dcterms:modified>
  <cp:revision>409</cp:revision>
  <dc:subject/>
  <dc:title>PowerPoint Presentation</dc:title>
</cp:coreProperties>
</file>