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66BB-4C89-4322-A38B-3AF0F0EC47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3255840" y="504720"/>
            <a:ext cx="3362400" cy="2521080"/>
          </a:xfrm>
          <a:prstGeom prst="rect">
            <a:avLst/>
          </a:prstGeom>
          <a:ln w="0">
            <a:noFill/>
          </a:ln>
        </p:spPr>
      </p:sp>
      <p:sp>
        <p:nvSpPr>
          <p:cNvPr id="9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76C9-89A9-4FBD-8564-56329ECFB0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671D-A879-42F5-ABF9-BA4D38EEC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D0A1-8910-4F31-9F4C-4DD4A98F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22AB3-DFC1-452D-B8C6-128434E85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534E1-B8FD-43EF-AC89-2D6742065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0C97-B5B1-477E-A4C9-03EAA8BE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78A26-8A9A-4F9C-BE81-CA174657E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8D8E-324D-4D74-BBE0-2029EEDBB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DED8-3608-4253-9607-56918948D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A3368-32B9-43F7-B8C6-A942B242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C08C-2302-418F-BB66-880CF36D0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62D1-2C27-4464-AEA7-CB1B536A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2E9F-7A7D-4017-8BB6-4C4145412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44BB-A8BB-4DB6-BB23-A20CB9646C1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a:t>
            </a:r>
            <a:r>
              <a:rPr b="0" lang="sl-SI" sz="3200" spc="-1" strike="noStrike">
                <a:solidFill>
                  <a:srgbClr val="898989"/>
                </a:solidFill>
                <a:latin typeface="Calibri"/>
              </a:rPr>
              <a:t>2</a:t>
            </a:r>
            <a:r>
              <a:rPr b="0" lang="en-US" sz="3200" spc="-1" strike="noStrike">
                <a:solidFill>
                  <a:srgbClr val="898989"/>
                </a:solidFill>
                <a:latin typeface="Calibri"/>
              </a:rPr>
              <a:t>.</a:t>
            </a:r>
            <a:r>
              <a:rPr b="0" lang="sl-SI" sz="3200" spc="-1" strike="noStrike">
                <a:solidFill>
                  <a:srgbClr val="898989"/>
                </a:solidFill>
                <a:latin typeface="Calibri"/>
              </a:rPr>
              <a:t>5</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r>
              <a:rPr b="1" lang="sl-SI"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9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delays</a:t>
                      </a:r>
                      <a:r>
                        <a:rPr b="0" lang="sl-SI" sz="1800" spc="-1" strike="noStrike">
                          <a:solidFill>
                            <a:srgbClr val="ff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41Z</dcterms:modified>
  <cp:revision>409</cp:revision>
  <dc:subject/>
  <dc:title>PowerPoint Presentation</dc:title>
</cp:coreProperties>
</file>