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54D9-DEE3-4126-AC12-DE10E6EDB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17B4-FF14-4BB7-AD91-BB7584306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01F2-ED2C-4E5B-BB1E-1D32AAF5B5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4989-0FFA-45B8-9DD3-25399ABF4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A9B6-8638-48B2-B43B-8AD7F9272A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BFC2-8847-4F49-8EB1-DD7B47090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64EE-7107-488C-BB20-86193D299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1795-A163-4EC1-A26A-975CC9A87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8C40-4DF7-463A-9BA3-725349D7D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BCC6-FFF5-4098-BCDC-9BA53CC81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2F4F-D2BE-48B4-ADF0-226F134DB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4CCD-7645-4D73-A9A2-4691423CBA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318F-E5BD-49C6-BB33-F582804FA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420E-23D7-412B-980C-F180F52D6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0836-113F-4198-8162-C1CB0C544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5F9D-7B3B-4CB1-BF38-FF02A55587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32B4-1688-48A1-854C-8A61EF9E10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82D5-5FBC-4930-BC6A-8F9E642F1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5928-FE94-4705-9768-358AFC073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4FF0-C9BE-48DC-8B92-979CC8AEF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6B51-22F2-4D2A-AA3B-C3540BE2C8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B326-9CBF-4158-B51A-30D9EB4773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D77A-6F75-40E7-8E88-E282BB43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E300-74E9-455A-9BD2-B566372C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874E-B82D-4DBD-B5E0-A0DFFADA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5ACD-57EF-4A44-9CB7-471EE263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5E3E-1962-405A-A4BA-9C580AC0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FE26-43E5-4633-9620-372EFCFB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3A90-358A-4BA7-85AE-56AD3E78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1D0-BCDE-4075-B8DB-259AB44A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B886-24FF-49D9-97EE-845A6138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256D-58B2-4CA6-ACDC-49B43971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F5AC-BA70-46FE-900C-41C80C33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319E-C7A9-4C93-ABEA-320E1755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1A32-82B3-4C81-BBF5-6A5B88066A2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Criminal Money Flow Typ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2.3/Hour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ire transfer, Takeover/opening of bank accou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tional Banking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ybercriminals continue to rely on traditional banking serv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obviously particularly relevant in cases that involve extracting money from victim’s bank accou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tional Banking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ithin the traditional banking sector, what techniques can be used to obfuscate the sources of funds extracted from a victim’s bank accou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re Transf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Victim bank accounts are compromised through various cybercrime techniques (e.g. phishing, malware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ew beneficiaries are added to the victim’s bank account and funds are transferred to mule accoun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unds are withdrawn in cash or transferred to other destin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nsfers are made in small amounts to avoid reporting threshol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mplex structures of meaningless transfers to mule accounts are used to obfuscate the source of fun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er Pro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491920"/>
            <a:ext cx="82296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controls do financial institutions use to prevent the misuse of customer’s compromised online banking credenti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Wire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wire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Wire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wire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sh withdraw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hallenges does cash present for cybercriminal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h Withdrawal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some instances of cybercrime, such as payment card-related crime, crime proceeds are immediately withdrawn in cas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other instances, crime proceeds from other types of crime are transferred to mule accounts, from which they are withdraw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sh it typically re-introduced to the financial system through a variety of techniques such a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chase of pre-paid cards of various types (e.g. store credit, mobile phone credi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use of money mules or compromised bank accou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 Remittance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re Transfers, Takeover/Opening of Bank Accou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h Withdra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Payment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Cash Withdraw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cash withdraw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Cash Withdraw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cash withdraw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et Payment servi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n Internet Payment Servi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Payment Service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iminally obtained funds are transferred to an Internet Payment Service accou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wo op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nternet Payment Service offers services similar to an online bank account, in which case typologies similar to “wire transfer/bank account creation or takover” are us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unds held with the Internet Payment Service are used to purchase products and services on the Interne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Internet Payment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Internet Payment Servi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Internet Payment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Internet payment servi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funds from Internet Payment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held by an Internet payment service provi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3085200" y="4500720"/>
            <a:ext cx="29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ney Remittance provid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oney remittance provid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oney remittance provid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is the problem with remittance provid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ittance Provid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s (both knowingly and without knowledge) are recruited as mules to the laundering scheme, often via “work at home” job off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e proceeds are transferred to the bank accounts of the mu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ule withdraws the cash and transfers the cash by wire transfer to a specific beneficiar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ule retains a payment as commission for performing this servic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nsfers are usually of an amount lower than the reporting threshold, to avoid detec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mittance providers are used again to move the cash to its final destin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icit Provid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es have been identified where extensive use of particular remittance providers has raised concerns about possible collusion or infiltration of such busin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Remittance Provi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remittance provid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Remittance Provi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remittance provid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4-14T18:32:41Z</dcterms:modified>
  <cp:revision>311</cp:revision>
  <dc:subject/>
  <dc:title>PowerPoint Presentation</dc:title>
</cp:coreProperties>
</file>