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E671-4343-4143-A910-31E638842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897E-B643-4103-B688-1513F8593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6D51-513D-4398-ADFA-DFEDC2378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8D95-3614-430D-B79E-62A2B4E51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D3CF-76DE-4CCD-9952-DB85DDA53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1EC1-5905-4109-84AE-519E9ED33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6687-B6FA-4628-97B4-FC003125C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C5FD-4ED3-4D85-B5BF-BE1329A84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1B44-9E6F-4332-9490-37417DE00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57BC-EC66-489E-8546-F4DD31C6E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4E8A-D780-46C5-A0ED-C4EC3911B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C868-99A6-44D2-AE9F-2C7917C3B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21A6-01EA-48A5-963B-7A1AED4A1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2DE6-DFD1-4B57-91C7-CCC3BE57C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7A5A-A88E-43EF-8D2F-02E51D372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70FC-4A03-424D-952A-E18158FE2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66A4-F750-4371-828B-2D9D55D78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90DF-BA75-4487-9BE4-7AFCDA04C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DD05-4270-4190-B51F-8E1C143DE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69C2-7F32-4F82-B09E-23EA38697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BCAB-6FA8-430F-A700-429F54A38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CCD8-8D1F-4442-A177-F726D11B7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AFA8-1C5B-435A-BAEB-AE0F20967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38A5-3E72-4D8A-A047-90D286C22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604-B4CE-41E9-A58B-27D623D7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321-1B4D-40C0-88DD-2341D983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4DF-8E0C-438F-AD14-9B78FEC0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AAC-E75A-4646-9D46-9A2F8ED4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350-FD60-49FA-898F-F01CDD37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343-C61A-49D0-B7F0-89998EEE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54A-5570-4877-BB53-2A4DD78F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2CF-CA97-4716-BB95-0D52A9A7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521-F727-444C-9733-81FF418C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36FC-AA05-4498-8E5F-402CE748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7B2D-3205-4454-8289-F0A8FD88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147-8216-4A3B-B4E6-566539B8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40CB-7066-4F0D-A0B6-F479DA0A41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2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ll companies are already well understood to be a money laundering techniq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aundering technique is also used in the online world, primarily in an attempt to make transactions look more legit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s of funds transferred to shell companies tend to be larger than amounts transferred to/by individual m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are companies with no business activity, assets or liabilities, created solely for the purpose of holding bank acc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(or their bank accounts) are often located in foreign jurisdictions to the location of the predicate off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give a façade of legitimacy to the transfer from the payer’s ban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additional challenges arise when shell companies are used for online crime procee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y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reates a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opens a bank account in the name of the shell company in a foreign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onducts fraudulent activity and transfers funds from victim accounts into the bank account of the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ow value to be pre-associated with a payment car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wo typ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d prepaid cards: can only be used in a particular company or store (e.g. gift cards) and can be bought and used anonymous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prepaid cards: issued by a bank, credit card or other financial institution. Can be used just like any other payment c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ame typology applies to mobile phone top-up credit and pre-paid mobile phon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s obtain funds, e.g. through banking malwa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to a money m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withdraws cash and uses the cash to purchase prepaid c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ds are then used or sold. When sold, the cards are usually sold for less than f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gaming and online trading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gambling of various types onl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 funds are cashed in/cashed out via traditional banking sector (e.g. funds transfer, credit/debit card, etc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nsistent legal status and regulation of online gamb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bling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s and associates have multiple stolen credit cards to monet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holds a prepaid card (or other card where laundered funds are to be placed) and associates hold stolen credit car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log on to gambling platform and transfer funds to their gambling accou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enter (for example) a poker room toge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es deliberately lose to crimi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nings are transferred to criminal’s online gambling accou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transfers funds to the payment card in their possession, which is then used or sol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from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chases through the Inter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 Typ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acquires access to compromised card data or banking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purchases goods (e.g. airline ticket) using compromised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lists airline tickets for sale on online auction sit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meone wins the auction and sends payment to the crimin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sends airline tickets to winner of auc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24T05:14:53Z</dcterms:modified>
  <cp:revision>344</cp:revision>
  <dc:subject/>
  <dc:title>PowerPoint Presentation</dc:title>
</cp:coreProperties>
</file>