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E91-94C0-4CD3-BC6A-D1B63FC1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609-1B7E-4D0D-827E-2C7A33AD7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7B2-04D9-44CD-B70B-7A8388722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971B-A883-4D0B-8C6D-838372237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9A84-9C19-4D26-8432-277283AD5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874A-396F-47ED-9E12-15F3E11F4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50C-F78A-458E-90EF-55576631F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1C7E-80A3-441C-BC61-3A74B9808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C30-29F6-41E0-B2CC-4538A29EF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6FD-9FDD-4D6F-B78B-AC87C0ABB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879-3081-4E32-A9A1-9B27782E1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7F2-3184-4EA6-8085-589737A15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0C82-C20D-42C9-9405-7408542F4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487-360E-4DD3-9FBD-DD4425721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4A7-813B-4984-9338-30DC83ED7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4D0B-6769-42C0-AF9B-32BEAC376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2A8C-53DD-4844-A29A-7DE750561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FBE-4819-42E2-AAC9-88544132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C69-00B7-4F85-A2C6-F2C25D8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A32-02A2-44EF-B81B-58B37D1E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C10-47E5-4BC8-89FC-7356AD3D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F0C-00EC-45F8-B6C6-40C4500C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679-06C5-45FF-BBF1-EB8D4843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168-1735-4F14-BC15-E1955B4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220-F53B-4ECF-9AA8-F336942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3E9-015D-4D66-9DD0-C132C142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574-F4A8-43A2-B89B-B196ECD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BC9-BF03-4812-89A3-9A50108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5B2-2778-44DA-939A-EB9D55E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38C-90FB-4FB7-877C-148703C517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Financial Intelligence Units and the Money Laundering Off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ssion 1.1.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ther FIU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ervision of Money Laundering regulations/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Risk Assessment (FATF R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money launde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ssically described as a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scribed by internationa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rsaw/Palermo/Vienna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TF Recommendat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: INTERNATIONAL STANDARDS (FINANCIAL ACTION TASK FO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AL INVESTIGATIONS AND THE MONEY LAUNDERING OF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vestigations (and criminal investigation) can lead to the identification of money laundering typologies for concealing the origin of money, and thus to the suspicion of a money launder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ff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can allow the engagement of the Financial Intelligence Unit (FIU) and its powers can therefore be invok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picious Transaction Report (STR) analysis conducted by a Financial Intelligence Unit (FIU) can also lead to the investigation of (predicate) offence and related procee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uch conditions are met,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U can be engag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ts powers can be invoke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bank data (STR) domestically and abroa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tical capa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ly suspend the bank transaction domestically and abro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999800"/>
            <a:ext cx="8229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national legislation and jurisprudence (including relevant judgment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necessary elements for the criminal offence of Money Launderi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actice, is the result of a Financial Investigation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ney Laundering charg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the Money Laundering charge be more efficient than charging for the predicate offenc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FIU data be used as evidence in criminal proceeding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US AND ONLINE CRIME PROC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contacted by e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er represents as being from an existing partner/supp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tricked into making transfer to incorrect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n FIU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ze transaction to prevent onwards transfer of funds (possibly recover stolen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co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raising through circulation of business email compromise red flags/indicators to obliged entities (financial institu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Time is of the ess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functions, responsibilities and powers of a Financial Intelligence Unit (FIU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the types of information that an FIU has access t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how FIUs exchange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 aware of the relevant international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basic nature of the money laundering offe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the relevance of money laundering to a financial investig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 an example of how FIUs can help with cases involving online crime procee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s and analyses suspected money laundering reports from the financial business that are regulated by AML (“obliged entitie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s of FIUs, they are not a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Law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% Judicial/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access to othe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da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P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mporarily freeze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tpone or suspend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hority given to continue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ministrative sanctions (some F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your F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an overseas FIU – Egmont principles of information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mont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members foster the widest possible co-operation and exchange of information with other Egmont Group FIUs on the basis of reciprocity or mutual agreement and following the basic rules established in the Princip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exchange of information for purposes of analysis at FIU lev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dissemination or use of the information for any other purpose without prior consent of the providing F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of the confidentiality of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624040" y="2276640"/>
            <a:ext cx="3917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-FIU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mont secure web (ES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 FIU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Us host the CARIN/ARO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9:15:36Z</dcterms:modified>
  <cp:revision>349</cp:revision>
  <dc:subject/>
  <dc:title>PowerPoint Presentation</dc:title>
</cp:coreProperties>
</file>