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893-05A9-4C3B-B04B-92BE042A1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2D5-2168-4887-A8EB-EC84DB95C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3692-DA33-4400-A983-DC6737668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B2DE-5775-49C9-BD9A-65882AF12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75F1-C430-42DE-91F2-2A233187C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B3E5-D859-435A-85D2-1471BCC6E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846A-025A-4A06-9731-2B8F48853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042D-94A1-4B8C-974B-445AC1110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5CD5-C575-4808-981B-59855EC33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4BF4-0219-4C1D-872A-1C71E057A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1C26-6336-4AEC-94B9-E85FB1090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D005-8DAC-4377-9C84-010557DA3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BB7-F6F9-4996-B61E-088D0C300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5052-5601-4139-B7FC-A3D12FBF2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61DD-35E3-433F-9259-6662E86AA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372A-BBF3-492F-B167-82749E6A5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EF98-896F-45C6-B03A-4FCF54212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92E6-90C3-4BFF-91D2-0CCB11E48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1CA-942D-43FE-A523-D7F4E9DC2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A25-8422-4EE5-B4F7-B4215AF7E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8F8F-F2B8-4116-B276-4E7F134ED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2D12-5B28-454A-9181-C2F74A94E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ABAD-730F-4A22-BB66-1181AC96A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C05-DE44-4453-8254-4D8009DE0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CA5-24A0-419B-A5BE-855BCAAB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3B4-7B11-4604-8207-AAD678CA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C02-67C1-449D-8F9B-3491D517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9D5-2F8B-40D8-8CFA-2F4E6DCA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262-CB98-4AE7-B397-38181735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2EB-0E32-45EB-8669-61AE414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679-2010-4A1E-A5C7-2E368450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77E-ADE6-4DE7-B9CA-144D5346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EAD-095F-4B43-A741-B5D0BFCD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668-0606-45C8-B1B0-64BACD74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D53-F9B4-4A0F-876B-15AE2BD6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AB6-CB63-4A08-AD10-2B993B9E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36F-15B4-4E31-BCE6-249E214BD4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24T05:14:53Z</dcterms:modified>
  <cp:revision>344</cp:revision>
  <dc:subject/>
  <dc:title>PowerPoint Presentation</dc:title>
</cp:coreProperties>
</file>