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14ED-D100-4CD9-9230-956D3CE5F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302A-3223-4C2E-90EB-C5725D6B4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4030-19E7-413B-B236-AB3A68F87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4D09-75B9-4403-8F19-99B088233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23AA-847B-45E7-A45A-8E243716B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583C-5054-4985-96C5-5B59A9292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4ED6-4F71-4551-BCD9-12A9C14D3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E7A4-BF7A-478F-8792-9755D7CD0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9452-3AEA-4318-A456-AF4D50DA6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2BF3-A6A8-4CF7-B172-84053082E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9C77-9726-4AD0-B001-C85DA3209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DA79-5D41-405E-B968-760FCCFA2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66D3-C860-4E6D-83ED-46FD2B8B8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B8F9-F954-4F65-BE17-F95496FD5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5E32-0169-485D-AAEF-212DC2187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6CE1-62D2-41FB-B23B-778ED976C1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432240" y="465120"/>
            <a:ext cx="3097080" cy="2322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B003-7AA0-44A9-A169-AC656673F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43BA-DB24-4DCD-8FA5-B283CD59E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0EE7-19F1-4DF8-9B94-78B326142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FA46-3915-4883-A82C-48CC75026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4182-B1C2-4150-9C70-A42E2297A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2A21-9E16-4183-970C-BC6D31FD1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09B7-22AD-4E2A-99B7-D8D915E6E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1406-81EC-41CE-A8C6-8E78C51E7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05D3-2C49-4A81-AA5E-BB1673EEF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2EF8-71E3-4844-B3AD-003318323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2E09-5F1C-4309-B540-343B7FB21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F426-2115-4FF4-85EE-D3060C7DA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112-B6FA-4BAA-BE9E-C30DA879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A98-3FA0-4E0C-9E0D-146BDEA4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95D-1886-4543-9F5D-DFC61A72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9EF-BE38-4CB4-8D5B-F2D9619D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05E-F1A5-44E4-B3F6-B6E84479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E50-609C-41B7-87F7-AB7A98D2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46F5-8562-460A-A30C-344688B4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4210-0412-40C1-8289-C18F29DD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60E-7403-4785-A22A-C874951D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8E9C-BE1F-40CB-87C1-8097C928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5205-4CC1-43C0-989A-51375317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E6D8-C5DE-4B05-A03B-69A3301E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9932-0698-4FF1-A690-89994A2092F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2.3/Hour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activity of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transfers of various types are used by criminals to make crime proceeds more difficult to tr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transfers can be performed using bank accounts, e-currency, Internet payment services, money remittance servic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challenges arise to the investigation, search, seizure and confiscation of criminal funds when the funds have been transferred international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gains control of (for example) compromised customer bank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transferred to mules in same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es transfer funds by international bank transfer to a natural or legal person in a different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ational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international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ies and e-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virtual currencies and e-money do you know abou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rtual curr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 virtual currency is a digital representation of value that can be traded on the Internet and functions as (1) a medium of exchange; (2) a unit of account; and/or (3) a store of value, but does not have legal tender status in any jurisdi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ectronic Money/e-mon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irtual currency is distinct from e-money, which is a digital representation of fiat currency used to electronically transfer value denominated in fiat currency. E-money is a digital transfer mechanism for fiat currency – i.e. it electronically transfers value that has legal tender stat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gital Curr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gital currency is a digital representation of either virtual currency (non-fiat) or e-money (fia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ies and e-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 is the significance of the expression “digital representation” in the above defini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tegorising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rt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 convertible virtual currency has an equivalent value in real currency and can be exchanged back-and-forth for real currency. Examples: Bitcoin, Second Life Linden Dollars, WebMone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n-Convert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A non-convertible virtual currency is intended to be specific to a particular virtual domain or world, and under the rules governing its use cannot be exchanged for fiat currency. Examples: Q Coins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entrali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Centralised virtual currencies have a single administrating authority (i.e. a third party) that controls the system. The administrator issues the currency, establishes the rules for its use, maintains a central payment ledger and has authority to redeem the currency. Examples: Linden Dollars, WebMoney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entrali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Decentralised virtual currencies are distributed, math-based, peer-to-peer virtual currencies that have no central administrating authority, no central monitoring and no oversight. Examples: Bitcoin, LiteCoin, Rippl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tcoin is a convertible, decentralised virtual currenc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ctions take place between users without an intermedia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ctions are verified using a public distributed ledger, called the blockchai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tcoin mining is the process by which users offer their computing power to verify and record bitcoin transactions into the blockchain. For this, the users receive a reward in newly created bitcoi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transactions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ly instantaneous transactions (approx 10 mins until transaction is confirme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s take place between anonymous IDs (wallet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(or zero) transaction fe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s are not rever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MC900434845"/>
          <p:cNvPicPr/>
          <p:nvPr/>
        </p:nvPicPr>
        <p:blipFill>
          <a:blip r:embed="rId1"/>
          <a:stretch/>
        </p:blipFill>
        <p:spPr>
          <a:xfrm>
            <a:off x="5715000" y="200808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MP900402149"/>
          <p:cNvPicPr/>
          <p:nvPr/>
        </p:nvPicPr>
        <p:blipFill>
          <a:blip r:embed="rId2"/>
          <a:stretch/>
        </p:blipFill>
        <p:spPr>
          <a:xfrm>
            <a:off x="914400" y="2160720"/>
            <a:ext cx="1447920" cy="130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pc"/>
          <p:cNvPicPr/>
          <p:nvPr/>
        </p:nvPicPr>
        <p:blipFill>
          <a:blip r:embed="rId3"/>
          <a:stretch/>
        </p:blipFill>
        <p:spPr>
          <a:xfrm>
            <a:off x="3581280" y="3760920"/>
            <a:ext cx="125100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6"/>
          <p:cNvSpPr/>
          <p:nvPr/>
        </p:nvSpPr>
        <p:spPr>
          <a:xfrm>
            <a:off x="685800" y="345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ustomer 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565240" y="353232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itcoin Wal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3433680" y="505620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&amp;C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2362320" y="27702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1"/>
          <p:cNvSpPr/>
          <p:nvPr/>
        </p:nvSpPr>
        <p:spPr>
          <a:xfrm flipH="1" flipV="1">
            <a:off x="1587240" y="3912840"/>
            <a:ext cx="22222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2286000" y="3836880"/>
            <a:ext cx="15238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23"/>
          <p:cNvSpPr/>
          <p:nvPr/>
        </p:nvSpPr>
        <p:spPr>
          <a:xfrm flipV="1">
            <a:off x="4800600" y="3912840"/>
            <a:ext cx="8380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400800" y="39895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6" descr="MC900139499"/>
          <p:cNvPicPr/>
          <p:nvPr/>
        </p:nvPicPr>
        <p:blipFill>
          <a:blip r:embed="rId4"/>
          <a:stretch/>
        </p:blipFill>
        <p:spPr>
          <a:xfrm>
            <a:off x="7238880" y="4903920"/>
            <a:ext cx="132084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MC900445014"/>
          <p:cNvPicPr/>
          <p:nvPr/>
        </p:nvPicPr>
        <p:blipFill>
          <a:blip r:embed="rId5"/>
          <a:stretch/>
        </p:blipFill>
        <p:spPr>
          <a:xfrm>
            <a:off x="1143000" y="2160720"/>
            <a:ext cx="94140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robber_clipart"/>
          <p:cNvPicPr/>
          <p:nvPr/>
        </p:nvPicPr>
        <p:blipFill>
          <a:blip r:embed="rId6"/>
          <a:stretch/>
        </p:blipFill>
        <p:spPr>
          <a:xfrm>
            <a:off x="3851280" y="5594400"/>
            <a:ext cx="853920" cy="1219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9"/>
          <p:cNvSpPr/>
          <p:nvPr/>
        </p:nvSpPr>
        <p:spPr>
          <a:xfrm>
            <a:off x="7548120" y="6199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2849760" y="60976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rimi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31"/>
          <p:cNvSpPr/>
          <p:nvPr/>
        </p:nvSpPr>
        <p:spPr>
          <a:xfrm flipH="1">
            <a:off x="4787640" y="5970600"/>
            <a:ext cx="2755800" cy="27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minal Use of Virtual Currency: Ransom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y Eco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Exchan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Administ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r/Ow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Wall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llet Provi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rch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ntities (software developers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ace between Virtual Currencies and the Traditional Financial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y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ly obtained funds are converted to virtual currenc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ly, criminal services are paid for in virtual curr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ly, funds are extorted from victims in the form of virtual curr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virtual currency is traded or exchanged for fiat currenc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e to the inconsistent regulation of virtual currencies, virtual currency exchanges in all jurisdictions may not have adequate customer records and/or reporting obliga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Virtual Currenc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virtual currenc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Virtual Curr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an Internet payment service provi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3085200" y="450072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ney mules are an essential component of many online laundering sche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les are recruited through a variety of techniques, which can be broadly categorised in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ing mules, who are recruited knowing in advance that they are participating in illegal activ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willing mules, who are recruited through deceptive means, such as through a fake job off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lling vs unwilling mu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Mule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are recruited either willingly or unwilling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are transferred into the mule’s bank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then either withdraws the funds as cash or transfers the funds to another account (or abroa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retains a commi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alue of arresting/charging mu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m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is the problem with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4-14T20:16:34Z</dcterms:modified>
  <cp:revision>341</cp:revision>
  <dc:subject/>
  <dc:title>PowerPoint Presentation</dc:title>
</cp:coreProperties>
</file>