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B272-14BA-403F-9EF9-CDAC606A3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3C2A-42DF-4CEA-8EA7-DC418E166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FEA7-2FE4-446A-8E00-AC7BD6B03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EA65-C4DA-452B-86CA-FFFE38E8D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0186-B220-4364-9D95-145223C45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37FC-8A90-4DE1-BAB1-2B29AC2C4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BBAA-904B-4D72-A9DE-44764A2FF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FFC8-C235-4A29-8838-E453F862E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2F0D-A236-413F-B97C-EF22CCA8C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8585-042F-4224-9A92-EDF4D78E5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1448-9E06-4D98-9111-DD30848E9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7E2E-6944-497C-8E32-0F9491084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B88D-EDDD-4AEA-A160-261164048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AFF6-1114-4198-8E41-75E9A5DAC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60A4-DB78-4C13-A240-8D4EA7AC6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23A8-7C45-4631-9C01-F6841620E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30F3-12E5-41E5-B5E5-6828F8C37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E94D-9FEB-4EF4-A4A1-77F6A178A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5006-22A6-49D9-ABF7-E67A3297D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A9B2-9FA3-4801-B634-961097F31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FF8C-78ED-4052-B039-15DA72F9F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1BC9-0111-4188-AAFF-36D336373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56B2-365D-4994-835D-08314A2EC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64AD-2EF1-465E-B4CF-AC2C3F62D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C85-4FF8-40AD-B3D5-777EB8C5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D4C-2E4E-49A8-AA83-1F4F647E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7D58-7993-4F1A-B52E-9E6DD2D0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AB7-2976-4B8D-8565-611B8DDB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E48-5804-42D6-A26E-3D4D8ACA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565-20CB-4104-812E-9293836B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114-7859-49F6-B3A7-F53BC077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5EB-6510-4BDE-9D37-92BE5570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5289-D2A2-4E2B-9B87-5015473B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5B9-DA4C-4361-860F-82F8C5B5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3F8-3D9D-4A0E-8EE3-D238B9EB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118-C544-4FBF-B16A-DF6C9CE2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AF03-DA60-4853-8E43-E8FB4634DF1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2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ll companies are already well understood to be a money laundering techniq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aundering technique is also used in the online world, primarily in an attempt to make transactions look more legit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s of funds transferred to shell companies tend to be larger than amounts transferred to/by individual m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are companies with no business activity, assets or liabilities, created solely for the purpose of holding bank acc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(or their bank accounts) are often located in foreign jurisdictions to the location of the predicate off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give a façade of legitimacy to the transfer from the payer’s ban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additional challenges arise when shell companies are used for online crime procee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y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reates a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opens a bank account in the name of the shell company in a foreign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onducts fraudulent activity and transfers funds from victim accounts into the bank account of the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ow value to be pre-associated with a payment car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wo typ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d prepaid cards: can only be used in a particular company or store (e.g. gift cards) and can be bought and used anonymous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prepaid cards: issued by a bank, credit card or other financial institution. Can be used just like any other payment c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ame typology applies to mobile phone top-up credit and pre-paid mobile phon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s obtain funds, e.g. through banking malwa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to a money m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withdraws cash and uses the cash to purchase prepaid c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ds are then used or sold. When sold, the cards are usually sold for less than f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gaming and online trading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gambling of various types onl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 funds are cashed in/cashed out via traditional banking sector (e.g. funds transfer, credit/debit card, etc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nsistent legal status and regulation of online gamb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bling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s and associates have multiple stolen credit cards to monet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holds a prepaid card (or other card where laundered funds are to be placed) and associates hold stolen credit car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log on to gambling platform and transfer funds to their gambling accou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enter (for example) a poker room toge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es deliberately lose to crimi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nings are transferred to criminal’s online gambling accou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transfers funds to the payment card in their possession, which is then used or sol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from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chases through the Inter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 Typ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acquires access to compromised card data or banking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purchases goods (e.g. airline ticket) using compromised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lists airline tickets for sale on online auction sit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meone wins the auction and sends payment to the crimin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sends airline tickets to winner of auc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24T05:14:53Z</dcterms:modified>
  <cp:revision>344</cp:revision>
  <dc:subject/>
  <dc:title>PowerPoint Presentation</dc:title>
</cp:coreProperties>
</file>