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E109-B3D0-4182-B538-79DC706BB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F9A0-A749-45D7-882F-41B2CF67F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7B7-BFE9-448C-A78C-CFE8F5820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686-DEFC-49C8-983E-D420A372B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E12-7A56-4C92-B00B-1DCF772D5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C816-4ED3-4A81-8080-636300823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7B36-8DF7-463B-B8D0-A15DF005D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B79-1327-4003-B08A-FB8C8554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462C-650D-4673-9003-DF1FE7188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9AB0-B430-45C6-9575-ACB305364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EA9-EDCE-4E8D-988E-29FC459CD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69D2-CBC4-4E20-A964-0032CA677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514E-A756-4834-8166-F1BFE38B72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C888-C146-44A7-BC23-04A07671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F3D-FDA5-4004-8B44-86322DAA6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163-8C14-4941-BF4B-AB1878F63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72F-CB85-4F09-A869-8C6BDADD3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AE7-40A7-4B58-BD61-ADAD021B8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A41-0D30-4813-A21F-E86AF5B18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9BC-BABF-410E-9146-91B4C1FF8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2E9-AD93-44F7-A2C1-F57E67396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675-26B4-471B-9A6F-79262F1DD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C79-CC33-4923-8717-FCE482DA6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C064-B199-4614-A3A3-79AA8F0FB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66F1-8930-4B38-AF4A-F0D9504E3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215F-8755-46F7-867E-582219995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D040-D270-4B98-BEA5-1C32BDDCB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C55-92B7-4CDB-81F6-09586603C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564-49DA-4A11-B15D-F1379E8D5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B62-9413-4A31-AC2D-EB81317E0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3EB-91A3-4740-8C1A-71202E39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3D4-D1AD-4A7E-854D-8FB2C5A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802-F8AE-4CDF-8CCB-13C43C02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95B-7A32-47AE-8144-A644A44A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7BF-2AA3-4E49-AEEB-8F81475C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8D0-2D73-4983-AEC0-46910E4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5B5-3A80-4DD3-A03D-D78AB5B0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CCC-809C-4E37-9C52-62C03C0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889-184F-421B-8EB6-182577E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6DF-442E-4275-AF53-F16FE6C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A64-4BA3-4910-B7E5-A2FF4E0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E6B-9EF9-41BA-AA09-C2D1A9E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142C-A897-48E9-9053-03EAB9D4AB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Questio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shared infrastructure know how to get information from our organisation to Goo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Traffic Forwa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True internet"/>
          <p:cNvPicPr/>
          <p:nvPr/>
        </p:nvPicPr>
        <p:blipFill>
          <a:blip r:embed="rId1"/>
          <a:stretch/>
        </p:blipFill>
        <p:spPr>
          <a:xfrm>
            <a:off x="971640" y="2060640"/>
            <a:ext cx="6840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= Specific Pers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necessari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not always accu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ERCISE: What is yOUR IP ADDRESS? WHAT CAN YOU FIND OUT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640"/>
            <a:ext cx="8229600" cy="49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important Internet terminolo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an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D7D-62B2-4067-9991-AAD25A072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any other online services will keep records of IP addresses used to communicat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ich others can you think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 IP Address != Specific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will also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ai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TERMINOLOGY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Both intentional and unintentional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Internet” is a contraction of the words “Interconnected Network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ame suggests, it is the name given to a set of technologies used for connecting different, smaller network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you connect your PC or laptop to your office network, you are connecting to a Local Area Network, or L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erally speaking, the characteristics of a LAN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ing infrastructure is owned and managed by the organisation that uses the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 is geographically limited in extent (e.g. one building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r more of a small number of possible networking communication protocols are used (typically Ethernet (for wired connections) and/or Wi-Fi (for wireless connections)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organisation has more than one location (e.g. more than one building) they might want to connect the two local network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technique for doing this is to lease a connection from a telecommunications provider (known as a leased 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: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2000px-EPN_Leased_Line_and_dial-up_Network.svg.png"/>
          <p:cNvPicPr/>
          <p:nvPr/>
        </p:nvPicPr>
        <p:blipFill>
          <a:blip r:embed="rId1"/>
          <a:stretch/>
        </p:blipFill>
        <p:spPr>
          <a:xfrm>
            <a:off x="1187280" y="2073240"/>
            <a:ext cx="676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ndwid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name given to how much information per second can be transferred across a particular conne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 of hardware that decides which connection to transfer information along nex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 or Switc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s of hardware that connect PCs to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twork Interface Card (NIC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iece of hardware inside your PC or laptop that sends and receives information on the network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dia Access Control (MAC) addr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unique identifier used to identify your Network Interface Card (NIC) address on the network. This ID is only used on the Local Are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computer that provides information or services on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two organisations want to connect their networks and share information or provide services to each 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09:29Z</dcterms:modified>
  <cp:revision>272</cp:revision>
  <dc:subject/>
  <dc:title>PowerPoint Presentation</dc:title>
</cp:coreProperties>
</file>