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D1B-94AA-4B39-A32D-463F1793B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958-6B25-413E-AFB0-7B730AF93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1D82-A809-472E-A366-CBEFDAF04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F7F5-EE22-4266-8164-2D6F2909A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202-6CC3-408C-993E-43570BC6E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522-6593-44BA-9FE2-9B0BED058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6588-B0C4-4E22-9C3A-FDEF90422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5AE2-82F4-4B1A-9D07-698DD07A7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A55-9C3A-4127-A4C4-8B4D605F3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5B74-6717-4265-8ED7-E62AE27E1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5FE0-59C9-4519-A84C-2B89ADEA4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2C63-3336-46D9-ACE8-A02073786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F23-BC54-4C0D-94B5-D984285FA5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DCFE-05A0-4080-885C-1C1E92FE1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1B6-C6CF-47DA-B357-A5CA7A439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243-63E4-41DF-A281-CFCC907DC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6AD-17B7-4811-A89B-CB7520566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174-25D5-442B-92A9-07B983876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1E3-9403-4A59-8D2A-C73BB88B4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D01-63F3-4514-ABF9-12DE3900F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413E-6C2A-471E-A394-3A335B77E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6CDC-E773-4F73-AD48-E0B305A05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50E-0B05-43E2-A2FC-E62DBF022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879-A592-47B5-9F50-ABD697029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A463-486B-4C0F-9602-BB93E83A7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11D-8F15-4CE6-AC00-9DC4704B2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8D00-FC1F-43BA-9CFC-D92F57E22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5860-54C3-444E-B55F-BBA2DB7A5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D71-0374-4FA0-9336-741217115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2C9C-EFC8-425E-8479-244F6758B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430-F7E8-4FF0-990E-2BFA57CF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870-9AA6-4CCA-897D-6031114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D7E-0F77-4C68-A006-ADABEB40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0C9-79BB-4143-9429-F898374F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A2E-F4DA-451B-9A5C-B2380C8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FBD-63BB-4C30-AF62-5D9769DC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C3E-C14E-45F1-AE9A-432A4EB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09F-AECA-4D95-BF0F-F0379DFF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BB1-E145-4AAC-AAC3-81F042E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93F-2509-4948-BEC2-7D19587C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3FE-0FBC-4637-B751-3B14B56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D85-8C41-487A-8C44-A240BF6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C1F-DF73-4BE6-88EF-FF9F421294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Questio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shared infrastructure know how to get information from our organisation to Goog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Traffic Forwa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True internet"/>
          <p:cNvPicPr/>
          <p:nvPr/>
        </p:nvPicPr>
        <p:blipFill>
          <a:blip r:embed="rId1"/>
          <a:stretch/>
        </p:blipFill>
        <p:spPr>
          <a:xfrm>
            <a:off x="971640" y="2060640"/>
            <a:ext cx="6840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= Specific Pers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necessari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not always accu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ERCISE: What is yOUR IP ADDRESS? WHAT CAN YOU FIND OUT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640"/>
            <a:ext cx="8229600" cy="49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important Internet terminolo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an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139-078E-4229-89D7-3D14BAF49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any other online services will keep records of IP addresses used to communicat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ich others can you think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: IP Address != Specific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will also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ai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TERMINOLOGY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Both intentional and unintentional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Internet” is a contraction of the words “Interconnected Network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ame suggests, it is the name given to a set of technologies used for connecting different, smaller network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you connect your PC or laptop to your office network, you are connecting to a Local Area Network, or L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erally speaking, the characteristics of a LAN a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ing infrastructure is owned and managed by the organisation that uses the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 is geographically limited in extent (e.g. one building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r more of a small number of possible networking communication protocols are used (typically Ethernet (for wired connections) and/or Wi-Fi (for wireless connections)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organisation has more than one location (e.g. more than one building) they might want to connect the two local network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technique for doing this is to lease a connection from a telecommunications provider (known as a leased 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: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2000px-EPN_Leased_Line_and_dial-up_Network.svg.png"/>
          <p:cNvPicPr/>
          <p:nvPr/>
        </p:nvPicPr>
        <p:blipFill>
          <a:blip r:embed="rId1"/>
          <a:stretch/>
        </p:blipFill>
        <p:spPr>
          <a:xfrm>
            <a:off x="1187280" y="2073240"/>
            <a:ext cx="676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ndwid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name given to how much information per second can be transferred across a particular conne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 of hardware that decides which connection to transfer information along nex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ub or Switc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s of hardware that connect PCs to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twork Interface Card (NIC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iece of hardware inside your PC or laptop that sends and receives information on the network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dia Access Control (MAC) addr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unique identifier used to identify your Network Interface Card (NIC) address on the network. This ID is only used on the Local Are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computer that provides information or services on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two organisations want to connect their networks and share information or provide services to each 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09:29Z</dcterms:modified>
  <cp:revision>272</cp:revision>
  <dc:subject/>
  <dc:title>PowerPoint Presentation</dc:title>
</cp:coreProperties>
</file>