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A697-83C5-4E5D-A8C9-943D580325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8CC0-0F07-41FE-AC3E-0AA15F223F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7654-F959-4D32-8B29-E0B79892E4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B381-F150-4534-9D37-190DDE0214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8DCE-05FB-43C0-850C-BEF13756A5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2390-A081-4538-925B-0CC269B4F2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4F52-1E01-47F0-B7FA-C3BD463CE6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E970-4B49-4E42-A2F3-46DA0670F6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AAFE-EDDE-444F-B07F-939E321C43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27A8-C7A9-4973-BB1A-8E4CEF9CFE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D9CA-D4A1-43BE-A33C-1055E14228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B507-2BFC-44AA-B5B5-C90EFE0FCF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C19A-CE27-4818-83F5-DC34E2C6D2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B3B9-5367-49F4-B5F8-1283CCEAEB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319C-DF9B-4C15-AA4D-EEA2864852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992D-8A5C-4BEC-A904-B327F9A467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918F-347C-41FE-8594-242653628F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C43E-967C-47B8-BD99-853758CD0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3DC2-A1B4-4E1C-A71A-2581DA7F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BA5B-DEFF-4F24-8CB4-4258167F2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B0CE-DAE5-4CF9-AC7C-A31A1E69F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4AA6-AB3C-4486-A1E2-4890CA50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D36C-DC37-4BF2-827A-2C17EBD4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9F58-D475-4487-A799-C7BBBAE3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1C92-FF02-4236-9FE8-D3191E45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C8C8-7329-4705-8071-061B29E2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71F8-B321-462F-92C7-A06007FB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DC74-8B2A-4D1C-A945-CEA2845A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A462-B086-4285-A61D-3600AD1B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E3FC-DA13-4197-95B0-45135F61198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  <a:ea typeface="MS PGothic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MS PGothic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troduction to Financial Intelligence Units and the Money Laundering Off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ession 1.1.4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ther FIU responsibil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upervision of Money Laundering regulations/compli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ational Risk Assessment (FATF R.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money launder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lassically described as a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lac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ay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scribed by international l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arsaw/Palermo/Vienna conven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ATF Recommendation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SCUSSION: INTERNATIONAL STANDARDS (FINANCIAL ACTION TASK FOR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NCIAL INVESTIGATIONS AND THE MONEY LAUNDERING OFF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oney laundering and Financial Investig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04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ancial investigations (and criminal investigation) can lead to the identification of money laundering typologies for concealing the origin of money, and thus to the suspicion of a money laundering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offen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can allow the engagement of the Financial Intelligence Unit (FIU) and its powers can therefore be invok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spicious Transaction Report (STR) analysis conducted by a Financial Intelligence Unit (FIU) can also lead to the investigation of (predicate) offence and related proceed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such conditions are met,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U can be engaged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its powers can be invoked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ess to bank data (STR) domestically and abroad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alytical capabilit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ly suspend the bank transaction domestically and abroa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oney laundering and Financial Investig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1999800"/>
            <a:ext cx="822960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national legislation and jurisprudence (including relevant judgments)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the necessary elements for the criminal offence of Money Laundering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practice, is the result of a Financial Investigation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oney Laundering charge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the Money Laundering charge be more efficient than charging for the predicate offence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FIU data be used as evidence in criminal proceedings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US AND ONLINE CRIME PROCE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105228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se Study: Business Email Compromi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ctim contacted by emai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acker represents as being from an existing partner/suppli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ctim tricked into making transfer to incorrect accou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105228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se Study: Business Email Compromi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an FIU help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eze transaction to prevent onwards transfer of funds (possibly recover stolen fund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tional coope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wareness raising through circulation of business email compromise red flags/indicators to obliged entities (financial institution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mber: Time is of the essenc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3087360" y="4500720"/>
            <a:ext cx="298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ssion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plain the functions, responsibilities and powers of a Financial Intelligence Unit (FIU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nderstand the types of information that an FIU has access to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Know how FIUs exchange informatio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e aware of the relevant international standard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plain the basic nature of the money laundering offenc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escribe the relevance of money laundering to a financial investigatio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rovide an example of how FIUs can help with cases involving online crime proceed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FI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eives and analyses suspected money laundering reports from the financial business that are regulated by AML (“obliged entities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t models of FIUs, they are not all the s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9.5% Administr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9.5% Law Enforc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% Judicial/Hybr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U access to other datab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EA intellig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cial secu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inan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dast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siness regi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ank accou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U Po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emporarily freeze bank accou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stpone or suspend trans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uthority given to continue trans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dministrative sanctions (some FIU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U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formation see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om your FI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om an overseas FIU – Egmont principles of information ex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gmont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l members foster the widest possible co-operation and exchange of information with other Egmont Group FIUs on the basis of reciprocity or mutual agreement and following the basic rules established in the Principle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ree exchange of information for purposes of analysis at FIU leve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o dissemination or use of the information for any other purpose without prior consent of the providing FIU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tection of the confidentiality of the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ontent Placeholder 3" descr=""/>
          <p:cNvPicPr/>
          <p:nvPr/>
        </p:nvPicPr>
        <p:blipFill>
          <a:blip r:embed="rId1"/>
          <a:stretch/>
        </p:blipFill>
        <p:spPr>
          <a:xfrm>
            <a:off x="2624040" y="2276640"/>
            <a:ext cx="391788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U-FIU coop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gmont secure web (ESW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U FIU.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me FIUs host the CARIN/ARO func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CHICU Mariana</cp:lastModifiedBy>
  <cp:lastPrinted>2016-05-18T07:38:13Z</cp:lastPrinted>
  <dcterms:modified xsi:type="dcterms:W3CDTF">2017-05-16T09:15:36Z</dcterms:modified>
  <cp:revision>349</cp:revision>
  <dc:subject/>
  <dc:title>PowerPoint Presentation</dc:title>
</cp:coreProperties>
</file>