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661-49FD-4BC3-987C-F770BFE1A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32AF-077C-4F53-813C-F39B18775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7799-96AF-462D-B8CB-04C3642F0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AB0-E737-46FF-B633-35DDA74C8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9936-A46B-4F69-B2D7-31C0E9CAC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7328-C003-409D-B6C2-E54D125A9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7CA4-8F77-42E2-A1A1-2800F2B91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3C4-5920-4AD3-A2A3-7AEA39C80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687-FAE6-41E2-BA74-6ACEF0833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D09E-C90D-4022-B16A-5B58F9D4A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A6E2-990D-4833-AD92-4C13625A2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6E1-F165-481E-947F-4C99E0588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934-4DE3-4894-BBAD-2D8F283B3C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7888-CB9F-4779-80CB-122C247B2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531B-D4D5-41D2-BB9B-C190E8186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7B4-A7B5-43FC-B0D8-887334024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F01-AC4C-419B-A04C-41852F324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2D6C-1E7B-4A47-B064-D1150CB4A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2FA3-CDCF-4FD1-BD2A-140AAB459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FCA6-AB79-4FA1-8E9A-6A3C11CDA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274B-68FF-4FA8-AD9F-8AC88DC90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C21-F0A9-43A1-8463-06F2CF0DB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FC25-F519-42D1-9EEB-2C8E8D1CC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C6D1-91AD-4720-AF9C-7E81F2ACC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10D-3102-4F7F-B0E5-3E444DF07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8F2A-4E19-4FBE-939B-B3E80D8F0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FEDF-B421-4DFA-A86A-95B884DFE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C7E-B07A-47C7-8369-9C49FCB0D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BB6C-D5D5-41D5-9507-E327FA5C0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F439-4AF4-4565-AC9F-D58A945A7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5CD-2367-454F-A015-CABE9EEA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093-7537-49C8-AF60-024F93F6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8D7-17F2-449D-ABC8-C9AA35D7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EA3-A613-41A3-AE1A-AC8AFAE9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3AA-72BD-45AD-BF0F-A1002238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70A-1D7E-4294-8468-5BDDAD0E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FBA-39A1-42C4-9B3C-E1B82488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116-B5D5-43E1-A439-FA63C56A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940-7E17-4A53-9EFD-D5F7656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0E0-5500-4BE4-B951-341ABDA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B4B-45A7-47CA-A227-6E0AF36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6BF-493B-4684-84C0-F69435E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D113-E5A3-4FAA-AC94-7D307A44E1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Questio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shared infrastructure know how to get information from our organisation to Goog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Traffic Forwa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True internet"/>
          <p:cNvPicPr/>
          <p:nvPr/>
        </p:nvPicPr>
        <p:blipFill>
          <a:blip r:embed="rId1"/>
          <a:stretch/>
        </p:blipFill>
        <p:spPr>
          <a:xfrm>
            <a:off x="971640" y="2060640"/>
            <a:ext cx="6840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= Specific Pers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necessari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not always accu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ERCISE: What is yOUR IP ADDRESS? WHAT CAN YOU FIND OUT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640"/>
            <a:ext cx="8229600" cy="49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important Internet terminolo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an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9DF-0264-4004-89EB-07F69CD08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any other online services will keep records of IP addresses used to communicat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ich others can you think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: IP Address != Specific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will also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ai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TERMINOLOGY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Both intentional and unintentional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Internet” is a contraction of the words “Interconnected Network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ame suggests, it is the name given to a set of technologies used for connecting different, smaller network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you connect your PC or laptop to your office network, you are connecting to a Local Area Network, or L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erally speaking, the characteristics of a LAN a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ing infrastructure is owned and managed by the organisation that uses the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 is geographically limited in extent (e.g. one building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r more of a small number of possible networking communication protocols are used (typically Ethernet (for wired connections) and/or Wi-Fi (for wireless connections)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organisation has more than one location (e.g. more than one building) they might want to connect the two local network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technique for doing this is to lease a connection from a telecommunications provider (known as a leased 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: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2000px-EPN_Leased_Line_and_dial-up_Network.svg.png"/>
          <p:cNvPicPr/>
          <p:nvPr/>
        </p:nvPicPr>
        <p:blipFill>
          <a:blip r:embed="rId1"/>
          <a:stretch/>
        </p:blipFill>
        <p:spPr>
          <a:xfrm>
            <a:off x="1187280" y="2073240"/>
            <a:ext cx="676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ndwid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name given to how much information per second can be transferred across a particular conne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 of hardware that decides which connection to transfer information along nex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ub or Switc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s of hardware that connect PCs to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twork Interface Card (NIC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iece of hardware inside your PC or laptop that sends and receives information on the network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dia Access Control (MAC) addr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unique identifier used to identify your Network Interface Card (NIC) address on the network. This ID is only used on the Local Are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computer that provides information or services on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two organisations want to connect their networks and share information or provide services to each 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09:29Z</dcterms:modified>
  <cp:revision>272</cp:revision>
  <dc:subject/>
  <dc:title>PowerPoint Presentation</dc:title>
</cp:coreProperties>
</file>