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66B8-1B9D-40EF-8AC6-34E3E0497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Offences against the computer data and systems: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llegal access, Illegal interception, Data &amp; System interference, Misuse of devices (virus, skimming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Computer-related offences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orger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raud (alteration of computer data,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ntent-related offences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 pornography, infringements of copyright and related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značba mesta številke diapozitiva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8D0F-4477-4110-B0B5-92AF8EB39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DA7-EA93-4D0D-9CF1-C43513C1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A0A-C243-478A-A920-591B2E58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36A-4DF3-4434-9BB0-8091315E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738-CE93-4678-9798-2486B6B9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CA5-78C3-45F0-97F0-BEFA3D49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6BF-CCBA-43CA-9AD8-E2651DE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337-DA53-466B-9B41-A7E02417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E7A-5657-48DD-8FEE-E68545BF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1A2-92E7-4769-A0CB-2BE74AAD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F33-31D0-49B6-A244-05934E8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4EF-E3A4-49FA-BF4A-2B808A5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7A1-8DF7-455B-A330-FD58DAD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8F9-D682-4EBE-A349-5734102EAA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Course on the Search, Seizure and Confiscation of Online Crime Proc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.1.1 - Course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ime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tabl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with someone you do not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10 minutes to find out and tell 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y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interesting abou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level of knowledge of cybercrime, financial investigations, FIUs and money laund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and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Ex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l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i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Phones &amp; P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and Lunch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tle of this course is “Basic Course on the Search, Seizure and Confiscation of Online Crime Proceed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veloped under the European Union and Council of Europe Joint Project iPROC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delegates with information about the need for the training course and its aim and objectiv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e that delegates have sufficient information about the programme of activities and the time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information about the health, safety and administrative details of the cour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duce the delegates to the trainers and other delegat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 Proceeds on the Internet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2"/>
          <p:cNvSpPr/>
          <p:nvPr/>
        </p:nvSpPr>
        <p:spPr>
          <a:xfrm>
            <a:off x="39528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inal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320364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e Proc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6300720" y="2276640"/>
            <a:ext cx="230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ey Laund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6300720" y="4292640"/>
            <a:ext cx="230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, Seizure, Confis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>
            <a:stCxn id="68" idx="3"/>
            <a:endCxn id="69" idx="1"/>
          </p:cNvCxnSpPr>
          <p:nvPr/>
        </p:nvCxnSpPr>
        <p:spPr>
          <a:xfrm>
            <a:off x="2700360" y="3681000"/>
            <a:ext cx="504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Straight Arrow Connector 12"/>
          <p:cNvCxnSpPr>
            <a:stCxn id="69" idx="3"/>
            <a:endCxn id="70" idx="1"/>
          </p:cNvCxnSpPr>
          <p:nvPr/>
        </p:nvCxnSpPr>
        <p:spPr>
          <a:xfrm flipV="1">
            <a:off x="5508720" y="2744280"/>
            <a:ext cx="79272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>
            <a:stCxn id="69" idx="3"/>
            <a:endCxn id="71" idx="1"/>
          </p:cNvCxnSpPr>
          <p:nvPr/>
        </p:nvCxnSpPr>
        <p:spPr>
          <a:xfrm>
            <a:off x="5508720" y="3681000"/>
            <a:ext cx="792720" cy="108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pects of investigation involving proceeds of crim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916280"/>
          <a:ext cx="8064360" cy="4449600"/>
        </p:xfrm>
        <a:graphic>
          <a:graphicData uri="http://schemas.openxmlformats.org/drawingml/2006/table">
            <a:tbl>
              <a:tblPr/>
              <a:tblGrid>
                <a:gridCol w="3959280"/>
                <a:gridCol w="410508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ybercr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ubstantive offen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ffences against computer data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puter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tent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cedural pow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llecting electronic evidence (IP addresses and other Internet ev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1add5"/>
                    </a:solidFill>
                  </a:tcPr>
                </a:tc>
              </a:tr>
              <a:tr h="12812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nline money laundering (typolog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TextBox 1"/>
          <p:cNvSpPr/>
          <p:nvPr/>
        </p:nvSpPr>
        <p:spPr>
          <a:xfrm>
            <a:off x="4500720" y="1916280"/>
            <a:ext cx="39589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ancial investig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rgeting instrumentalities and proceeds of cri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yment for criminal goods (drugs, weapons, false ID)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eds from crime (fraud, corruption etc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lated: e-banking, bitcoins, Dark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verlapping responsibilities of </a:t>
            </a:r>
            <a:r>
              <a:rPr b="1" lang="ga-IE" sz="28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agencices/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064720" cy="4724280"/>
        </p:xfrm>
        <a:graphic>
          <a:graphicData uri="http://schemas.openxmlformats.org/drawingml/2006/table">
            <a:tbl>
              <a:tblPr/>
              <a:tblGrid>
                <a:gridCol w="2737080"/>
                <a:gridCol w="2376360"/>
                <a:gridCol w="2951280"/>
              </a:tblGrid>
              <a:tr h="79200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s the investig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porn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 attac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ed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c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nce/cri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c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666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U – Financial Intelligenc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ri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s 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competencies, powers,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064720" cy="4714920"/>
        </p:xfrm>
        <a:graphic>
          <a:graphicData uri="http://schemas.openxmlformats.org/drawingml/2006/table">
            <a:tbl>
              <a:tblPr/>
              <a:tblGrid>
                <a:gridCol w="3024360"/>
                <a:gridCol w="2160360"/>
                <a:gridCol w="2880000"/>
              </a:tblGrid>
              <a:tr h="76176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 investigation, order measures, make proposals to the cou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ion of cyber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forensics (sometimes sepa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criber identification (e.g. email, Faceboo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P engagement (subscriber, traffic, content da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cover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ta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e sear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bank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z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s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700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 - F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to bank data/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ment of suspicious financial 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Training Necess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ing use of technology means that in many cases where a financial or cybercrime investigations is being performed, the criminal activity, predicate offence, proceeds of crime and money laundering typologies used will overlap with the world of cybercrime and electronic evid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therefore important for those responsible for the investigation, prosecution and adjudication of these matters to have an appreciation of the particularities of cases with both cyber and financial ele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8:49:50Z</dcterms:modified>
  <cp:revision>341</cp:revision>
  <dc:subject/>
  <dc:title>PowerPoint Presentation</dc:title>
</cp:coreProperties>
</file>