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BE12-CBE2-47FC-926D-264F33D36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Offences against the computer data and systems: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Illegal access, Illegal interception, Data &amp; System interference, Misuse of devices (virus, skimming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Computer-related offences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-related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forgery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-related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fraud (alteration of computer data, sys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Content-related offences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ild pornography, infringements of copyright and related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značba mesta številke diapozitiva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011A-3E02-43FC-804E-0F316458D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00D-0ED1-41F2-A01D-E98C8AF6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87D-2985-4C40-BCB6-9C2A7A6D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C32-B14B-4BD0-8CA1-D8D943EF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908-60ED-4690-B97F-B47EB755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1A5-DAC3-4BB6-8551-F84A5F16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43D-64F7-4EFF-AFAB-46E02B56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168-17F6-406F-8B83-3E5B600C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EAC-A4C5-4EE2-A6AC-26508BD4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D9F-4152-4423-80AC-EDF7A770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CDB-8ED6-4929-AF42-6DCCFC94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0B6-4CCF-49DA-AE0F-87B85A19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1E6-73C3-42DB-BA1A-09088F3E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DF43-8230-4663-8C3E-C0CBD2FF27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c Course on the Search, Seizure and Confiscation of Online Crime Procee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.1.1 - Course Op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Time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tabl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ir with someone you do not k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10 minutes to find out and tell 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na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they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hey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interesting abou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level of knowledge of cybercrime, financial investigations, FIUs and money launde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and Saf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cy Ex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 Ala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i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e Phones &amp; P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ffee and Lunch 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tle of this course is “Basic Course on the Search, Seizure and Confiscation of Online Crime Proceeds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been developed under the European Union and Council of Europe Joint Project iPROC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A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delegates with information about the need for the training course and its aim and objectiv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sure that delegates have sufficient information about the programme of activities and the timet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information about the health, safety and administrative details of the cours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roduce the delegates to the trainers and other delegat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e Proceeds on the Internet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2"/>
          <p:cNvSpPr/>
          <p:nvPr/>
        </p:nvSpPr>
        <p:spPr>
          <a:xfrm>
            <a:off x="395280" y="3213000"/>
            <a:ext cx="2305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iminal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3203640" y="3213000"/>
            <a:ext cx="2305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ime Proc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6300720" y="2276640"/>
            <a:ext cx="2303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ney Laund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6300720" y="4292640"/>
            <a:ext cx="2303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arch, Seizure, Confis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Straight Arrow Connector 4"/>
          <p:cNvCxnSpPr>
            <a:stCxn id="68" idx="3"/>
            <a:endCxn id="69" idx="1"/>
          </p:cNvCxnSpPr>
          <p:nvPr/>
        </p:nvCxnSpPr>
        <p:spPr>
          <a:xfrm>
            <a:off x="2700360" y="3681000"/>
            <a:ext cx="5040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3" name="Straight Arrow Connector 12"/>
          <p:cNvCxnSpPr>
            <a:stCxn id="69" idx="3"/>
            <a:endCxn id="70" idx="1"/>
          </p:cNvCxnSpPr>
          <p:nvPr/>
        </p:nvCxnSpPr>
        <p:spPr>
          <a:xfrm flipV="1">
            <a:off x="5508720" y="2744280"/>
            <a:ext cx="792720" cy="937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4" name="Straight Arrow Connector 15"/>
          <p:cNvCxnSpPr>
            <a:stCxn id="69" idx="3"/>
            <a:endCxn id="71" idx="1"/>
          </p:cNvCxnSpPr>
          <p:nvPr/>
        </p:nvCxnSpPr>
        <p:spPr>
          <a:xfrm>
            <a:off x="5508720" y="3681000"/>
            <a:ext cx="792720" cy="1080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pects of investigation involving proceeds of crime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916280"/>
          <a:ext cx="8064360" cy="4449600"/>
        </p:xfrm>
        <a:graphic>
          <a:graphicData uri="http://schemas.openxmlformats.org/drawingml/2006/table">
            <a:tbl>
              <a:tblPr/>
              <a:tblGrid>
                <a:gridCol w="3959280"/>
                <a:gridCol w="4105080"/>
              </a:tblGrid>
              <a:tr h="3168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ybercr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Substantive offenc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Offences against computer data and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mputer-related off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ntent-related off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ocedural power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llecting electronic evidence (IP addresses and other Internet ev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1add5"/>
                    </a:solidFill>
                  </a:tcPr>
                </a:tc>
              </a:tr>
              <a:tr h="12812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oney laund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Online money laundering (typologi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" name="TextBox 1"/>
          <p:cNvSpPr/>
          <p:nvPr/>
        </p:nvSpPr>
        <p:spPr>
          <a:xfrm>
            <a:off x="4500720" y="1916280"/>
            <a:ext cx="39589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ancial investig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rgeting instrumentalities and proceeds of crim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yment for criminal goods (drugs, weapons, false ID) 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ceeds from crime (fraud, corruption etc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et related: e-banking, bitcoins, Dark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Overlapping responsibilities of </a:t>
            </a:r>
            <a:r>
              <a:rPr b="1" lang="ga-IE" sz="2800" spc="-1" strike="noStrike">
                <a:solidFill>
                  <a:srgbClr val="000000"/>
                </a:solidFill>
                <a:latin typeface="Calibri"/>
              </a:rPr>
              <a:t>multipl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agencices/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1773360"/>
          <a:ext cx="8064720" cy="4724280"/>
        </p:xfrm>
        <a:graphic>
          <a:graphicData uri="http://schemas.openxmlformats.org/drawingml/2006/table">
            <a:tbl>
              <a:tblPr/>
              <a:tblGrid>
                <a:gridCol w="2737080"/>
                <a:gridCol w="2376360"/>
                <a:gridCol w="2951280"/>
              </a:tblGrid>
              <a:tr h="79200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ecu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eads the investig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5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crime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 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 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 porn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ine 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 attac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inter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Un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ed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c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Investigation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ence/cri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proce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z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0666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laund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U – Financial Intelligence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li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rim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eds 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competencies, powers,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064720" cy="4714920"/>
        </p:xfrm>
        <a:graphic>
          <a:graphicData uri="http://schemas.openxmlformats.org/drawingml/2006/table">
            <a:tbl>
              <a:tblPr/>
              <a:tblGrid>
                <a:gridCol w="3024360"/>
                <a:gridCol w="2160360"/>
                <a:gridCol w="2880000"/>
              </a:tblGrid>
              <a:tr h="76176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ecu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ead investigation, order measures, make proposals to the cour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3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crime 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gation of cyber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 forensics (sometimes separ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iden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criber identification (e.g. email, Faceboo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P engagement (subscriber, traffic, content da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Uni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cover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retap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se sear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investigati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ss bank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iz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z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s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2700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laundering - F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s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ss to bank data/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ponement of suspicious financial 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Training Necessar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reasing use of technology means that in many cases where a financial or cybercrime investigations is being performed, the criminal activity, predicate offence, proceeds of crime and money laundering typologies used will overlap with the world of cybercrime and electronic evid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is therefore important for those responsible for the investigation, prosecution and adjudication of these matters to have an appreciation of the particularities of cases with both cyber and financial element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CHICU Mariana</cp:lastModifiedBy>
  <cp:lastPrinted>2016-05-18T07:38:13Z</cp:lastPrinted>
  <dcterms:modified xsi:type="dcterms:W3CDTF">2017-05-16T08:49:50Z</dcterms:modified>
  <cp:revision>341</cp:revision>
  <dc:subject/>
  <dc:title>PowerPoint Presentation</dc:title>
</cp:coreProperties>
</file>