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1678-2900-4A40-A175-7D77BB30B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5624-5723-46CA-9C02-3107F52FE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977B-DE4C-43B6-8357-5846EA122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AC11-EFDC-412B-9C6F-F3C0E3A32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6DE-131B-4506-92A9-FE8D37508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AD79-F121-45DE-A057-56F51B4B0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EC9-DB0F-40CD-B279-4D45732BA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69D-D6F7-4CA9-B624-071DF4D90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3D11-B38B-46A3-923D-FFD58A88A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D3C9-F2EC-473B-8077-67EE4CB92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5507-665F-4633-A65D-C0440C537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5ED6-45BC-4229-AE26-2A7CF0B51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D75C-4FBC-4001-8CF2-A29531E0F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C8DA-9518-4B1C-95AB-CFCE20F59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839B-510F-4A4E-8467-6C65BC47E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55E-20C4-4BBA-B384-C1D5A5BD8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0C72-032C-4FD6-ACAB-64BEE7D1D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372-0385-462E-BEE6-DE51C968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67C-7290-4C47-B3AA-2BE75B0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6E9-5468-46F6-A243-DD1E5853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A2A-9C3B-4EE2-B5C5-E05A501C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619-DE8D-41DA-AA19-288ACEE5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8C4-DD66-4427-B4CB-E3571837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597-D0EC-4765-B6BD-D88B3187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4A3-5E5B-4559-A565-2D5B1E6B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D2E-D8A5-41D4-8DCF-D5F1FCF2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A75-01C3-4660-9286-F35E517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197-5F63-4CE7-87DB-9CD1D0DE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D7C-5E5A-41D3-8CC8-F885A51A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283A-ABB1-4FA2-9B90-70C7267B48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Financial Intelligence Units and the Money Laundering Off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ession 1.1.4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ther FIU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pervision of Money Laundering regulations/com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Risk Assessment (FATF R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money launder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assically described as a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y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scribed by international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rsaw/Palermo/Vienna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TF Recommendati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: INTERNATIONAL STANDARDS (FINANCIAL ACTION TASK FOR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AL INVESTIGATIONS AND THE MONEY LAUNDERING OFF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investigations (and criminal investigation) can lead to the identification of money laundering typologies for concealing the origin of money, and thus to the suspicion of a money launderin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ff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can allow the engagement of the Financial Intelligence Unit (FIU) and its powers can therefore be invok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picious Transaction Report (STR) analysis conducted by a Financial Intelligence Unit (FIU) can also lead to the investigation of (predicate) offence and related procee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such conditions are met,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U can be engag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its powers can be invoked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to bank data (STR) domestically and abroad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tical capabi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ly suspend the bank transaction domestically and abro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999800"/>
            <a:ext cx="8229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national legislation and jurisprudence (including relevant judgments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necessary elements for the criminal offence of Money Laundering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ractice, is the result of a Financial Investigation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ney Laundering charg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the Money Laundering charge be more efficient than charging for the predicate offenc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FIU data be used as evidence in criminal proceeding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US AND ONLINE CRIME PROC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contacted by e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er represents as being from an existing partner/supp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tricked into making transfer to incorrect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an FIU hel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ze transaction to prevent onwards transfer of funds (possibly recover stolen fun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co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eness raising through circulation of business email compromise red flags/indicators to obliged entities (financial institut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Time is of the ess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functions, responsibilities and powers of a Financial Intelligence Unit (FIU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the types of information that an FIU has access t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 how FIUs exchange inform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e aware of the relevant international standar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basic nature of the money laundering offen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cribe the relevance of money laundering to a financial investig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ide an example of how FIUs can help with cases involving online crime procee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s and analyses suspected money laundering reports from the financial business that are regulated by AML (“obliged entities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dels of FIUs, they are not all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Administ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Law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% Judicial/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access to other 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 intel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das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Po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mporarily freeze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tpone or suspend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hority given to continue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ministrative sanctions (some F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ation se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your F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an overseas FIU – Egmont principles of information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mont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members foster the widest possible co-operation and exchange of information with other Egmont Group FIUs on the basis of reciprocity or mutual agreement and following the basic rules established in the Principl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ee exchange of information for purposes of analysis at FIU leve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dissemination or use of the information for any other purpose without prior consent of the providing FI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tection of the confidentiality of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624040" y="2276640"/>
            <a:ext cx="39178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-FIU co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mont secure web (ES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U FIU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FIUs host the CARIN/ARO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9:15:36Z</dcterms:modified>
  <cp:revision>349</cp:revision>
  <dc:subject/>
  <dc:title>PowerPoint Presentation</dc:title>
</cp:coreProperties>
</file>