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395-C5A2-4FCD-BDE8-E9342F21B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9801-F2AD-4E88-B2D0-B2048D5CD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4670-F1ED-4047-B505-037725038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310D-37FC-47E0-A675-F2572BFF9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29A0-0266-4B83-A0AB-B00CD0733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C307-133D-417A-8C54-1D0DDE633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B22C-8C3E-425F-9719-53DF32CBD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8335-3817-4EBB-B439-417CC1D9B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880B-C943-40A8-9392-39BF62924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8CAF-AC58-4C0A-88F9-0FDBB6668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CB92-A2DF-4668-902C-EF04DEE6B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9F4F-95A7-4FCF-B2EB-C1006A09F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AC6A-1579-4285-B5C3-1E78BCFF5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16F-F4E8-4AFC-9C42-54F7ED41C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5E6-AFE0-4BB3-8859-A3695F2DB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B7D1-19ED-44DE-9A4D-EC9EF7ABF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F5E6-FF76-43D8-BCB0-ADA855071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55FE-98EF-4858-B365-825E7121A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ED74-16F7-4EE2-9267-A15C893B5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E9CE-5140-4AF1-AA0B-41AA84819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D936-FED2-41A4-BA14-EAD1ACFDF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107C-C23E-4201-BE31-784E93C31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9A4F-CC66-46D3-B951-5B5887345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D1D3-4F93-4E37-8839-884A1575E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5253-DC1F-4C73-939B-B78B3E9E5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56BB-8731-4CF4-A2FD-1F2F93A93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F23-1A31-40C2-A177-F132FA6E9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6C68-34F0-4FAA-A07F-FF0F8AE30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913-6FD1-4034-833B-0CBE74E9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B1F-62DF-41E9-BED6-DF254C09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3C7-9898-4A05-9832-E1DF7353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AD7-E726-4654-A86D-0B48223E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18C-F979-48F8-9C63-971B2243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632-D78B-44C6-A894-C09498D2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F1D-D50A-400E-A06C-18A8109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027-B678-4AC4-9815-3E486C3D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657-D8C0-40BA-B04F-64E2D92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109-A5C3-4AB2-BB93-AE82EAA1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20D-715A-4830-98AF-B7A30FF4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120-D02A-4BC0-AF02-5FA3C85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EC12-CBC1-4296-8B73-8E3AC524D5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20:16:34Z</dcterms:modified>
  <cp:revision>341</cp:revision>
  <dc:subject/>
  <dc:title>PowerPoint Presentation</dc:title>
</cp:coreProperties>
</file>