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268-D6C0-4D46-939B-26FD924BE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575-A5B0-49DC-AF56-3A020DCFA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D27B-281F-4F29-9D95-11AFDBB8E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F56-B09F-419A-ABF5-5D1297691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714E-04B9-4274-AC57-D4272F9DA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499-8510-4219-B827-86C6EAF80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1F5-097A-4B2C-AC74-207741FD0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0DE-0E51-4CBF-9C81-2F5C9C5C5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2A1-6F50-4E89-A5B7-9CB4C3225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458-D403-45B3-9713-F3E081FBD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A593-81C8-4E72-A344-7B9036F70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281-DE43-4C63-9FBF-B2C71F8F4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59C-4EB1-415D-BA94-95771B40B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6E8-D477-4BBC-A0F6-37C29CE5D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58C-F9E1-4CDC-B0EF-B8D64E2B4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843-5616-4792-A73C-DB54E583E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EF8-2A17-41D8-AC9F-083F80C89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6EF-6134-4719-A3E0-14ED49C5D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2A6-0D56-405C-83CE-C499DAF67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82E-777A-41F2-B90E-6739D69E7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BE0-C36A-4147-BBEF-230DE94D8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19A-37A3-45CF-B7ED-255C68CB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7A93-3C70-438A-ACE5-E639FE1D2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71A-285E-456D-BC2F-ED55ED131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B61-276E-4DB5-A64B-02811E092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40B-93C6-4511-9A96-29E2E3379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60E-6ADF-4440-9D53-6FCFCF994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F99-D4A4-4E76-89DF-40960FF36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3B1-DFF4-484D-8D93-B98508F3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23-713F-4CF6-9CCA-60F35765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C7B-4777-4F38-9821-2AD13CE0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30A-F328-4222-BDC0-8497274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8B8-D077-44A5-B8C6-2A7DBB6A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04E-5C4B-4CF5-807F-94516E0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307-630F-4F7E-A629-89846AB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66B-04A3-47B6-8127-FBD8B9F0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6CA-64D4-40B7-A1F9-FD8F6E8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2C2-EC63-44C6-A26F-8EC5ABE4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A41-BAD4-4B4C-B161-8B08A85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115-F37D-4EF3-AE50-AF27DB8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56B-72FF-40D9-859D-77CC7319D3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20:16:34Z</dcterms:modified>
  <cp:revision>341</cp:revision>
  <dc:subject/>
  <dc:title>PowerPoint Presentation</dc:title>
</cp:coreProperties>
</file>