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7390-8F49-4E5C-B19F-BE0DD5DCF1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0E7C-391B-4707-92D4-AD152169E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FD46-12E2-4119-9186-CA779FD78A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74D6-A3BC-45C2-9A85-93EAB2983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069D-7F90-41E7-9C92-A5F7216D3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548A-8DB4-4636-B85E-8E3F906FC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247E-754C-4D41-9880-5A58E2E4F2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2C36-9492-462C-B11B-1D49F1459A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2FD6-F74F-4F84-A3F1-D35CF04958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8608-9256-45A9-AA33-F2A0660296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D9D8-BDD5-4703-9DBA-F779FF0A58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2CBB-4D20-4094-85DF-7B0530EBED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07D1-AD62-4272-AA88-67731E7E1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255840" y="504720"/>
            <a:ext cx="3362400" cy="2521080"/>
          </a:xfrm>
          <a:prstGeom prst="rect">
            <a:avLst/>
          </a:prstGeom>
          <a:ln w="0">
            <a:noFill/>
          </a:ln>
        </p:spPr>
      </p:sp>
      <p:sp>
        <p:nvSpPr>
          <p:cNvPr id="13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1D4A-2C5A-4F98-8BCC-567620CBA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55840" y="504720"/>
            <a:ext cx="3362400" cy="2521080"/>
          </a:xfrm>
          <a:prstGeom prst="rect">
            <a:avLst/>
          </a:prstGeom>
          <a:ln w="0">
            <a:noFill/>
          </a:ln>
        </p:spPr>
      </p:sp>
      <p:sp>
        <p:nvSpPr>
          <p:cNvPr id="14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6C60-95E8-43DA-ADF3-F6D5746EB9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50A9-CD08-4BCE-8A22-65A71A5039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A857B-B3F7-4084-9FE9-C638DC2AA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569B-CA7C-491D-B76D-965CB2D34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A4CFE-D06A-4BEC-BBBD-6C56E5930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20840-4C40-4EB6-9A43-3503D11DB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7B3C-1FEC-42CF-92B4-BB23ED34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A41C-0D1C-4AFF-BE30-BCFC444C5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7C61-56B1-4ECD-A1EE-D9387AB1B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B6163-20EB-4797-9002-E40168808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C20B1-BFCE-428A-936A-3F8248AA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AC5B-75CD-4C3E-B7E1-EED9E23A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5516-FAF6-4828-B15F-744110CA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3CED-98C2-4E91-A085-EC72D7DD3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AC2C-88BD-41D4-AB75-4794B326507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nic Evidenc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dentifying, seizing and handling electronic evidence</a:t>
            </a:r>
            <a:endParaRPr b="0" lang="en-US" sz="40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izure of electronic evidence</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d on Council of Europe electronic evidence gui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y be applied to all cases in which electronic evidence should be seiz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e docu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organisation or agency wishing to apply the recommended procedures should determine the responsibilities for individual steps/actions according to its internal structu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inciple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ndling electronic evidence, it is crucially important to follow these general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 tr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 supp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r training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ity and adherence to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 Data Integrity</a:t>
            </a:r>
            <a:endParaRPr b="0" lang="en-US" sz="4400" spc="-1" strike="noStrike">
              <a:solidFill>
                <a:srgbClr val="000000"/>
              </a:solidFill>
              <a:latin typeface="Calibri"/>
            </a:endParaRPr>
          </a:p>
        </p:txBody>
      </p:sp>
      <p:sp>
        <p:nvSpPr>
          <p:cNvPr id="84" name=""/>
          <p:cNvSpPr txBox="1"/>
          <p:nvPr/>
        </p:nvSpPr>
        <p:spPr>
          <a:xfrm>
            <a:off x="468360" y="3428640"/>
            <a:ext cx="8229600" cy="3095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devices and data must not be changed, either in relation to hardware or software. The person in charge of a crime scene or for collecting the evidence is responsible for maintaining the integrity of the material recovered and for ensuring the forensic chain of custody. Subsequent custodians of the device and/or data must assume that responsibility.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ata is accessed on a “live” computer system this must be done in the manner that causes the least impact on the data and by a person qualified to do so. Principles 2 to 5 apply if this course of action is found to be necessary.</a:t>
            </a:r>
            <a:endParaRPr b="0" lang="en-US" sz="2000" spc="-1" strike="noStrike">
              <a:solidFill>
                <a:srgbClr val="000000"/>
              </a:solidFill>
              <a:latin typeface="Calibri"/>
            </a:endParaRPr>
          </a:p>
        </p:txBody>
      </p:sp>
      <p:sp>
        <p:nvSpPr>
          <p:cNvPr id="85"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nciple: </a:t>
            </a:r>
            <a:r>
              <a:rPr b="0" i="1" lang="en-US" sz="3000" spc="-1" strike="noStrike">
                <a:solidFill>
                  <a:srgbClr val="000000"/>
                </a:solidFill>
                <a:latin typeface="Calibri"/>
              </a:rPr>
              <a:t>No action taken should materially change any data, electronic device or media which may subsequently be used as evidence in cour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 Audit Trail</a:t>
            </a:r>
            <a:endParaRPr b="0" lang="en-US" sz="4400" spc="-1" strike="noStrike">
              <a:solidFill>
                <a:srgbClr val="000000"/>
              </a:solidFill>
              <a:latin typeface="Calibri"/>
            </a:endParaRPr>
          </a:p>
        </p:txBody>
      </p:sp>
      <p:sp>
        <p:nvSpPr>
          <p:cNvPr id="87"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imperative to record accurately all activity at the scene to enable a third party to reconstruct the first responder’s actions if necessary. All activity relating to the seizure, access, storage or transfer of electronic evidence must be fully documented, preserved and available for review. Any subsequent action related to the processing and examination of electronic evidence should also be amenable to audit in the same way.</a:t>
            </a:r>
            <a:endParaRPr b="0" lang="en-US" sz="2700" spc="-1" strike="noStrike">
              <a:solidFill>
                <a:srgbClr val="000000"/>
              </a:solidFill>
              <a:latin typeface="Calibri"/>
            </a:endParaRPr>
          </a:p>
        </p:txBody>
      </p:sp>
      <p:sp>
        <p:nvSpPr>
          <p:cNvPr id="88"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A record of all actions taken when handling electronic evidence should be created and preserved. An independent third party should not only be able to repeat those actions, but also to achieve the same resu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 – Specialist Support</a:t>
            </a:r>
            <a:endParaRPr b="0" lang="en-US" sz="4400" spc="-1" strike="noStrike">
              <a:solidFill>
                <a:srgbClr val="000000"/>
              </a:solidFill>
              <a:latin typeface="Calibri"/>
            </a:endParaRPr>
          </a:p>
        </p:txBody>
      </p:sp>
      <p:sp>
        <p:nvSpPr>
          <p:cNvPr id="90" name=""/>
          <p:cNvSpPr txBox="1"/>
          <p:nvPr/>
        </p:nvSpPr>
        <p:spPr>
          <a:xfrm>
            <a:off x="468360" y="3212640"/>
            <a:ext cx="8229600" cy="35290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vestigations involving search and seizure of electronic evidence it is always desirable to involve electronic evidence specialists wherever possible. All such specialists, either from within the organisation or as external contractors, should have the appropriate and objectively verifiable knowledge to deal with electronic evidence properly. Such a specialist should hav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specialist expertise and experience in the fiel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and skills in conducting investig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of the matter at han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legal knowledg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communication skills (for both oral and written explan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and appropriate language skill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authorisation and/or legal justification for his/her involvement in the activity.</a:t>
            </a:r>
            <a:endParaRPr b="0" lang="en-US" sz="1800" spc="-1" strike="noStrike">
              <a:solidFill>
                <a:srgbClr val="000000"/>
              </a:solidFill>
              <a:latin typeface="Calibri"/>
            </a:endParaRPr>
          </a:p>
        </p:txBody>
      </p:sp>
      <p:sp>
        <p:nvSpPr>
          <p:cNvPr id="91"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If it is expected that electronic evidence may be found in the course of a planned operation, the person in charge of the operation should notify specialists/external advisers in time to arrange their presence if possi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 – Appropriate Training</a:t>
            </a:r>
            <a:endParaRPr b="0" lang="en-US" sz="4400" spc="-1" strike="noStrike">
              <a:solidFill>
                <a:srgbClr val="000000"/>
              </a:solidFill>
              <a:latin typeface="Calibri"/>
            </a:endParaRPr>
          </a:p>
        </p:txBody>
      </p:sp>
      <p:sp>
        <p:nvSpPr>
          <p:cNvPr id="93"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ose circumstances where only a first responder is available to collect electronic evidence and/or access original data held on an electronic device or digital storage media, s/he must be trained to do so according to legally sanctioned procedures and to be able to explain and justify the relevant and implications of his/her actions.</a:t>
            </a:r>
            <a:endParaRPr b="0" lang="en-US" sz="3000" spc="-1" strike="noStrike">
              <a:solidFill>
                <a:srgbClr val="000000"/>
              </a:solidFill>
              <a:latin typeface="Calibri"/>
            </a:endParaRPr>
          </a:p>
        </p:txBody>
      </p:sp>
      <p:sp>
        <p:nvSpPr>
          <p:cNvPr id="94"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inciple: </a:t>
            </a:r>
            <a:r>
              <a:rPr b="0" i="1" lang="en-US" sz="2700" spc="-1" strike="noStrike">
                <a:solidFill>
                  <a:srgbClr val="000000"/>
                </a:solidFill>
                <a:latin typeface="Calibri"/>
              </a:rPr>
              <a:t>First responders must have the necessary and appropriate training to be able to search for and seize electronic evidence if no specialists are available at the sce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6 – Legality</a:t>
            </a:r>
            <a:endParaRPr b="0" lang="en-US" sz="4400" spc="-1" strike="noStrike">
              <a:solidFill>
                <a:srgbClr val="000000"/>
              </a:solidFill>
              <a:latin typeface="Calibri"/>
            </a:endParaRPr>
          </a:p>
        </p:txBody>
      </p:sp>
      <p:sp>
        <p:nvSpPr>
          <p:cNvPr id="96"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is document. One of the internationally important legal documents, the Convention on Cybercrime by the Council of Europe, is currently open for signature by the member states and the states which have participated in its elaboration, and for accession by other states.</a:t>
            </a:r>
            <a:endParaRPr b="0" lang="en-US" sz="2700" spc="-1" strike="noStrike">
              <a:solidFill>
                <a:srgbClr val="000000"/>
              </a:solidFill>
              <a:latin typeface="Calibri"/>
            </a:endParaRPr>
          </a:p>
        </p:txBody>
      </p:sp>
      <p:sp>
        <p:nvSpPr>
          <p:cNvPr id="97"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inciple: </a:t>
            </a:r>
            <a:r>
              <a:rPr b="0" i="1" lang="en-US" sz="2500" spc="-1" strike="noStrike">
                <a:solidFill>
                  <a:srgbClr val="000000"/>
                </a:solidFill>
                <a:latin typeface="Calibri"/>
              </a:rPr>
              <a:t>The person and agency in charge of the case are responsible for ensuring that the law,  the evidential safeguards and the general forensic principles are followed to the lett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ng electronic evidence</a:t>
            </a:r>
            <a:endParaRPr b="0" lang="en-US" sz="4000" spc="-1" strike="noStrike">
              <a:solidFill>
                <a:srgbClr val="000000"/>
              </a:solidFill>
              <a:latin typeface="Calibri"/>
            </a:endParaRPr>
          </a:p>
        </p:txBody>
      </p:sp>
      <p:sp>
        <p:nvSpPr>
          <p:cNvPr id="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forensics</a:t>
            </a:r>
            <a:endParaRPr b="0" lang="en-US" sz="4400" spc="-1" strike="noStrike">
              <a:solidFill>
                <a:srgbClr val="000000"/>
              </a:solidFill>
              <a:latin typeface="Calibri"/>
            </a:endParaRPr>
          </a:p>
        </p:txBody>
      </p:sp>
      <p:sp>
        <p:nvSpPr>
          <p:cNvPr id="10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uter forensics is the branch of forensic science pertaining to legal evidence found in computers and digital storage med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im is to examine digital media in a forensically sound manner with the aim of identifying, preserving, recovering, analysing and presenting facts and opinions about the inform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though some activity may take place at the scene, most of the activity described here is carried out in a computer forensic labora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relevance of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identified, seized and hand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analy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 relevant procedural provisions of the Budapest Co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ly the most complex phase of the electronic evidence lifecyc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mount of data involved presents significant challenges for investigato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ing the relevant information for the investigation and linking it is therefore one of the major tasks of forensic expe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ork ranges for searches for illegal content on computers to analysis of log fi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ll activity by an offender leaves tra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nalysing all available evidence, forensic experts can nevertheless reconstruct how an offence was com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5" name=""/>
          <p:cNvSpPr txBox="1"/>
          <p:nvPr/>
        </p:nvSpPr>
        <p:spPr>
          <a:xfrm>
            <a:off x="45720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d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locations of relevant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remote storage</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eted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yption of files</a:t>
            </a:r>
            <a:endParaRPr b="0" lang="en-US" sz="2600" spc="-1" strike="noStrike">
              <a:solidFill>
                <a:srgbClr val="000000"/>
              </a:solidFill>
              <a:latin typeface="Calibri"/>
            </a:endParaRPr>
          </a:p>
        </p:txBody>
      </p:sp>
      <p:sp>
        <p:nvSpPr>
          <p:cNvPr id="106" name=""/>
          <p:cNvSpPr txBox="1"/>
          <p:nvPr/>
        </p:nvSpPr>
        <p:spPr>
          <a:xfrm>
            <a:off x="464832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integrit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histor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transaction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l time collection of traffic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activiti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ote forens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ual analysis: Despite the available tools, computer forensics remains a largely manual task. Particularly in cases that involve large amounts of data or when appropriate tools are not availa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tools: Some processes, such as keyword searching, reconstructing deleted files, decrypting encrypted material can be automated by using forensic too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vestigations will involve both types of analysi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ion/Presentation</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is results in a report which includes among other issues the steps of the investigation and the methods used to obtain evid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ts can be expert witnesses but it is not necessary in general for witnesses producing factual evidence to have the status of expert witn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ts play an important role to help the court and the jury understand the processes of how the evidence was created, the procedures used to collect the evidence and evaluation of the evidence. They may also provide evidence of opinion when required to do so by the cour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al provisions of the budapest convention</a:t>
            </a:r>
            <a:endParaRPr b="0" lang="en-US" sz="4000" spc="-1" strike="noStrike">
              <a:solidFill>
                <a:srgbClr val="000000"/>
              </a:solidFill>
              <a:latin typeface="Calibri"/>
            </a:endParaRPr>
          </a:p>
        </p:txBody>
      </p:sp>
      <p:sp>
        <p:nvSpPr>
          <p:cNvPr id="11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14 – scope of the procedural rule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ules of the Convention will be applica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the crime under investigation is one of the listed crimes in the Conven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investigation of any crime if it was committed by the means of a computer sys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ing evidence in any investigation if the evidence, in the case, is kept in any kind of digital rec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s 16 – Expedited preservation of computer dat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nable its competent authorities to </a:t>
            </a:r>
            <a:r>
              <a:rPr b="1" lang="en-US" sz="2000" spc="-1" strike="noStrike">
                <a:solidFill>
                  <a:srgbClr val="000000"/>
                </a:solidFill>
                <a:latin typeface="Calibri"/>
              </a:rPr>
              <a:t>order or similarly obtain the expeditious preservation of specified computer data, including traffic data</a:t>
            </a:r>
            <a:r>
              <a:rPr b="0" lang="en-US" sz="2000" spc="-1" strike="noStrike">
                <a:solidFill>
                  <a:srgbClr val="000000"/>
                </a:solidFill>
                <a:latin typeface="Calibri"/>
              </a:rPr>
              <a:t>, that has been </a:t>
            </a:r>
            <a:r>
              <a:rPr b="1" lang="en-US" sz="2000" spc="-1" strike="noStrike">
                <a:solidFill>
                  <a:srgbClr val="000000"/>
                </a:solidFill>
                <a:latin typeface="Calibri"/>
              </a:rPr>
              <a:t>stored by means of a computer system</a:t>
            </a:r>
            <a:r>
              <a:rPr b="0" lang="en-US" sz="2000" spc="-1" strike="noStrike">
                <a:solidFill>
                  <a:srgbClr val="000000"/>
                </a:solidFill>
                <a:latin typeface="Calibri"/>
              </a:rPr>
              <a:t>, in particular where the grounds to believe that the computer data is particularly vulnerable to loss or modifica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 Party gives effect to paragraph 1 above by means of an order to a person to preserve specified stored computer data in the person’s possession or control, the Party shall adopt such legislative or other measures as may be necessary </a:t>
            </a:r>
            <a:r>
              <a:rPr b="1" lang="en-US" sz="2000" spc="-1" strike="noStrike">
                <a:solidFill>
                  <a:srgbClr val="000000"/>
                </a:solidFill>
                <a:latin typeface="Calibri"/>
              </a:rPr>
              <a:t>to oblige that person to preserve and maintain the integrity of that computer data for a period of time as long as necessary, up to a maximum of ninety days</a:t>
            </a:r>
            <a:r>
              <a:rPr b="0" lang="en-US" sz="2000" spc="-1" strike="noStrike">
                <a:solidFill>
                  <a:srgbClr val="000000"/>
                </a:solidFill>
                <a:latin typeface="Calibri"/>
              </a:rPr>
              <a:t>, to enable the competent authorities to seek its disclosure. A Party may provide for such an order to be subsequently ren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17 – Expedited preservation and partial disclosure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in respect of traffic data that is to be preserved under Article 16, such legislative and other measures as may be necessary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at such expeditious preservation of traffic data is available </a:t>
            </a:r>
            <a:r>
              <a:rPr b="0" lang="en-US" sz="2000" spc="-1" strike="noStrike">
                <a:solidFill>
                  <a:srgbClr val="000000"/>
                </a:solidFill>
                <a:latin typeface="Calibri"/>
              </a:rPr>
              <a:t>regardless of whether one or more service providers were involved in the transmission of that communication;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e expeditious disclosure to the Party’s competent authority</a:t>
            </a:r>
            <a:r>
              <a:rPr b="0" lang="en-US" sz="2000" spc="-1" strike="noStrike">
                <a:solidFill>
                  <a:srgbClr val="000000"/>
                </a:solidFill>
                <a:latin typeface="Calibri"/>
              </a:rPr>
              <a:t>, or a person designated by that authority, of a </a:t>
            </a:r>
            <a:r>
              <a:rPr b="1" lang="en-US" sz="2000" spc="-1" strike="noStrike">
                <a:solidFill>
                  <a:srgbClr val="000000"/>
                </a:solidFill>
                <a:latin typeface="Calibri"/>
              </a:rPr>
              <a:t>sufficient amount of traffic data</a:t>
            </a:r>
            <a:r>
              <a:rPr b="0" lang="en-US" sz="2000" spc="-1" strike="noStrike">
                <a:solidFill>
                  <a:srgbClr val="000000"/>
                </a:solidFill>
                <a:latin typeface="Calibri"/>
              </a:rPr>
              <a:t> to enable the Party </a:t>
            </a:r>
            <a:r>
              <a:rPr b="1" lang="en-US" sz="2000" spc="-1" strike="noStrike">
                <a:solidFill>
                  <a:srgbClr val="000000"/>
                </a:solidFill>
                <a:latin typeface="Calibri"/>
              </a:rPr>
              <a:t>to identify the service providers and the path</a:t>
            </a:r>
            <a:r>
              <a:rPr b="0" lang="en-US" sz="2000" spc="-1" strike="noStrike">
                <a:solidFill>
                  <a:srgbClr val="000000"/>
                </a:solidFill>
                <a:latin typeface="Calibri"/>
              </a:rPr>
              <a:t> through which the communication was transmit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0"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16 and 17 – Expedited preservation of computer data and expedited preservation and disclosure of computer dat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y innovative and extremely significant.</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fferent foc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of them are expedited, to correspond to the speed of circulation of information in the digital environ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intrusiveness level is very hig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ing traffic data there is also a provision allowing expedited disclos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pecting content data is not per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s 18 – Production orde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mpower its competent authorities </a:t>
            </a:r>
            <a:r>
              <a:rPr b="1" lang="en-US" sz="1500" spc="-1" strike="noStrike">
                <a:solidFill>
                  <a:srgbClr val="000000"/>
                </a:solidFill>
                <a:latin typeface="Calibri"/>
              </a:rPr>
              <a:t>to order</a:t>
            </a:r>
            <a:r>
              <a:rPr b="0" lang="en-US" sz="1500" spc="-1" strike="noStrike">
                <a:solidFill>
                  <a:srgbClr val="000000"/>
                </a:solidFill>
                <a:latin typeface="Calibri"/>
              </a:rPr>
              <a: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t>
            </a:r>
            <a:r>
              <a:rPr b="0" lang="en-US" sz="1300" spc="-1" strike="noStrike">
                <a:solidFill>
                  <a:srgbClr val="000000"/>
                </a:solidFill>
                <a:latin typeface="Calibri"/>
              </a:rPr>
              <a:t>in its territory </a:t>
            </a:r>
            <a:r>
              <a:rPr b="1" lang="en-US" sz="1300" spc="-1" strike="noStrike">
                <a:solidFill>
                  <a:srgbClr val="000000"/>
                </a:solidFill>
                <a:latin typeface="Calibri"/>
              </a:rPr>
              <a:t>to submit specified computer data in that person’s possession or control</a:t>
            </a:r>
            <a:r>
              <a:rPr b="0" lang="en-US" sz="1300" spc="-1" strike="noStrike">
                <a:solidFill>
                  <a:srgbClr val="000000"/>
                </a:solidFill>
                <a:latin typeface="Calibri"/>
              </a:rPr>
              <a:t>, which is stored in a computer system or a computer-data storage medium; and</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service provider offering its services in the territory of the Party to submit subscriber information </a:t>
            </a:r>
            <a:r>
              <a:rPr b="0" lang="en-US" sz="1300" spc="-1" strike="noStrike">
                <a:solidFill>
                  <a:srgbClr val="000000"/>
                </a:solidFill>
                <a:latin typeface="Calibri"/>
              </a:rPr>
              <a:t>relating to such services in that service provider’s possession or control. </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a:t>
            </a:r>
            <a:r>
              <a:rPr b="1" lang="en-US" sz="1500" spc="-1" strike="noStrike">
                <a:solidFill>
                  <a:srgbClr val="000000"/>
                </a:solidFill>
                <a:latin typeface="Calibri"/>
              </a:rPr>
              <a:t>purposes of this article, the term “subscriber information” means any information contained in the form of computer data or any other form </a:t>
            </a:r>
            <a:r>
              <a:rPr b="0" lang="en-US" sz="1500" spc="-1" strike="noStrike">
                <a:solidFill>
                  <a:srgbClr val="000000"/>
                </a:solidFill>
                <a:latin typeface="Calibri"/>
              </a:rPr>
              <a:t>that is held by a service provider, relating to subscribers of its services </a:t>
            </a:r>
            <a:r>
              <a:rPr b="1" lang="en-US" sz="1500" spc="-1" strike="noStrike">
                <a:solidFill>
                  <a:srgbClr val="000000"/>
                </a:solidFill>
                <a:latin typeface="Calibri"/>
              </a:rPr>
              <a:t>other than traffic or content data </a:t>
            </a:r>
            <a:r>
              <a:rPr b="0" lang="en-US" sz="1500" spc="-1" strike="noStrike">
                <a:solidFill>
                  <a:srgbClr val="000000"/>
                </a:solidFill>
                <a:latin typeface="Calibri"/>
              </a:rPr>
              <a:t>and by which can be established:</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t>
            </a:r>
            <a:r>
              <a:rPr b="1" lang="en-US" sz="1300" spc="-1" strike="noStrike">
                <a:solidFill>
                  <a:srgbClr val="000000"/>
                </a:solidFill>
                <a:latin typeface="Calibri"/>
              </a:rPr>
              <a:t>type of communication service used</a:t>
            </a:r>
            <a:r>
              <a:rPr b="0" lang="en-US" sz="1300" spc="-1" strike="noStrike">
                <a:solidFill>
                  <a:srgbClr val="000000"/>
                </a:solidFill>
                <a:latin typeface="Calibri"/>
              </a:rPr>
              <a:t>, the technical provisions taken thereto and the period of the service;</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subscriber’s identity</a:t>
            </a:r>
            <a:r>
              <a:rPr b="0" lang="en-US" sz="1300" spc="-1" strike="noStrike">
                <a:solidFill>
                  <a:srgbClr val="000000"/>
                </a:solidFill>
                <a:latin typeface="Calibri"/>
              </a:rPr>
              <a:t>, postal or geographic address, telephone and other access number, billing and payment information, available on the basis of the service agreement or arrangemen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ny other information on the site of the installation of communication equipment</a:t>
            </a:r>
            <a:r>
              <a:rPr b="0" lang="en-US" sz="1300" spc="-1" strike="noStrike">
                <a:solidFill>
                  <a:srgbClr val="000000"/>
                </a:solidFill>
                <a:latin typeface="Calibri"/>
              </a:rPr>
              <a:t>, available on the basis of the service agreement or arran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lectronic evidence?</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8 –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very innovativ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mpower competent authorities with the possibility of giving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rder can be issued by law enforcement agencies to citizens and to Internet service provi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to provi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tored in a computer system under their responsi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subscriber data</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ion order must specify the nature and extent of the required data</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required by the investigation must be previously determin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rticles 19 – Search and Seizure of Stored Computer Data</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a:t>
            </a:r>
            <a:r>
              <a:rPr b="1" lang="en-US" sz="1300" spc="-1" strike="noStrike">
                <a:solidFill>
                  <a:srgbClr val="000000"/>
                </a:solidFill>
                <a:latin typeface="Calibri"/>
              </a:rPr>
              <a:t>empower its competent authorities to search or similarly access</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computer system </a:t>
            </a:r>
            <a:r>
              <a:rPr b="0" lang="en-US" sz="1100" spc="-1" strike="noStrike">
                <a:solidFill>
                  <a:srgbClr val="000000"/>
                </a:solidFill>
                <a:latin typeface="Calibri"/>
              </a:rPr>
              <a:t>or part of it and computer data stored therein; and</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r>
              <a:rPr b="1" lang="en-US" sz="1100" spc="-1" strike="noStrike">
                <a:solidFill>
                  <a:srgbClr val="000000"/>
                </a:solidFill>
                <a:latin typeface="Calibri"/>
              </a:rPr>
              <a:t>computer-data storage medium </a:t>
            </a:r>
            <a:r>
              <a:rPr b="0" lang="en-US" sz="1100" spc="-1" strike="noStrike">
                <a:solidFill>
                  <a:srgbClr val="000000"/>
                </a:solidFill>
                <a:latin typeface="Calibri"/>
              </a:rPr>
              <a:t>in which computer data may be stored in its territory</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a:t>
            </a:r>
            <a:r>
              <a:rPr b="1" lang="en-US" sz="1300" spc="-1" strike="noStrike">
                <a:solidFill>
                  <a:srgbClr val="000000"/>
                </a:solidFill>
                <a:latin typeface="Calibri"/>
              </a:rPr>
              <a:t>have grounds to believe that the data sought is stored in another computer system </a:t>
            </a:r>
            <a:r>
              <a:rPr b="0" lang="en-US" sz="1300" spc="-1" strike="noStrike">
                <a:solidFill>
                  <a:srgbClr val="000000"/>
                </a:solidFill>
                <a:latin typeface="Calibri"/>
              </a:rPr>
              <a:t>or part of it in its territory, </a:t>
            </a:r>
            <a:r>
              <a:rPr b="1" lang="en-US" sz="1300" spc="-1" strike="noStrike">
                <a:solidFill>
                  <a:srgbClr val="000000"/>
                </a:solidFill>
                <a:latin typeface="Calibri"/>
              </a:rPr>
              <a:t>and such data is lawfully accessible from or available to the initial system</a:t>
            </a:r>
            <a:r>
              <a:rPr b="0" lang="en-US" sz="1300" spc="-1" strike="noStrike">
                <a:solidFill>
                  <a:srgbClr val="000000"/>
                </a:solidFill>
                <a:latin typeface="Calibri"/>
              </a:rPr>
              <a:t>, the authorities shall be able to expeditiously </a:t>
            </a:r>
            <a:r>
              <a:rPr b="1" lang="en-US" sz="1300" spc="-1" strike="noStrike" u="sng">
                <a:solidFill>
                  <a:srgbClr val="000000"/>
                </a:solidFill>
                <a:uFillTx/>
                <a:latin typeface="Calibri"/>
              </a:rPr>
              <a:t>extend the search </a:t>
            </a:r>
            <a:r>
              <a:rPr b="0" lang="en-US" sz="1300" spc="-1" strike="noStrike">
                <a:solidFill>
                  <a:srgbClr val="000000"/>
                </a:solidFill>
                <a:latin typeface="Calibri"/>
              </a:rPr>
              <a:t>or similar accessing to the other system.</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seize or similarly secure computer data accessed according to paragraphs 1 and 2. These measures shall include the power to:</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ze or similarly secure a computer system or part of it or a computer-data storage medium;</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and retain a copy of those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intain the integrity of the relevant stored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nder inaccessible or remove those computer data in the accessed computer system</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order any person who has knowledge about the functioning of the computer system or measures applied to protect the computer therein to provide, as is reasonable, the necessary information, to enable the undertaking of the measures referred to in paragraphs 1 and 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9 – Search and seizure of stored computer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ules for computer search and seizur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ticle 19, paragraph 2 allows extension of a search when, during a search, the investigators conclude there is a need to extend the search to another computer system.</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iz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eiz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making a cop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as the maintenance of the integrity of those data, keeping the data in the computer where they are sto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imposing the impossibility of access to data, or even removal of specific data from a specified computer or computer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0 – Real-time collection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to </a:t>
            </a:r>
            <a:r>
              <a:rPr b="1" lang="en-US" sz="2200" spc="-1" strike="noStrike">
                <a:solidFill>
                  <a:srgbClr val="000000"/>
                </a:solidFill>
                <a:latin typeface="Calibri"/>
              </a:rPr>
              <a:t>empower its competent authorities to</a:t>
            </a:r>
            <a:r>
              <a:rPr b="0" lang="en-US" sz="2200" spc="-1" strike="noStrike">
                <a:solidFill>
                  <a:srgbClr val="000000"/>
                </a:solidFill>
                <a:latin typeface="Calibri"/>
              </a:rPr>
              <a:t>:</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affic data, in real-time</a:t>
            </a:r>
            <a:r>
              <a:rPr b="0" lang="en-US" sz="1700" spc="-1" strike="noStrike">
                <a:solidFill>
                  <a:srgbClr val="000000"/>
                </a:solidFill>
                <a:latin typeface="Calibri"/>
              </a:rPr>
              <a:t>, associated with specified communications 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1 – Interception of content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in relation to a range of serious offences to be determined by domestic law</a:t>
            </a:r>
            <a:r>
              <a:rPr b="0" lang="en-US" sz="2200" spc="-1" strike="noStrike">
                <a:solidFill>
                  <a:srgbClr val="000000"/>
                </a:solidFill>
                <a:latin typeface="Calibri"/>
              </a:rPr>
              <a:t>, to empower its competent authorities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ent data, in real-time, of specified communications </a:t>
            </a:r>
            <a:r>
              <a:rPr b="0" lang="en-US" sz="1700" spc="-1" strike="noStrike">
                <a:solidFill>
                  <a:srgbClr val="000000"/>
                </a:solidFill>
                <a:latin typeface="Calibri"/>
              </a:rPr>
              <a:t>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relevant procedural rule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6" name="TextBox 4"/>
          <p:cNvSpPr/>
          <p:nvPr/>
        </p:nvSpPr>
        <p:spPr>
          <a:xfrm>
            <a:off x="3085200" y="4500720"/>
            <a:ext cx="298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onic evidence?</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makes electronic evidence spec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isible to the untrained ey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to authentica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acce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interpre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eed to exercise coercive powers to obtain or acces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lati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ily deleted, changed, manipulated, altered or damage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ot be available for lo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70" name=""/>
          <p:cNvSpPr txBox="1"/>
          <p:nvPr/>
        </p:nvSpPr>
        <p:spPr>
          <a:xfrm>
            <a:off x="468360" y="2276280"/>
            <a:ext cx="8229600" cy="4321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makes electronic evidence speci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linked with non-evidential materia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outside the jurisdictio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a large in volum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vidence may be contained within large volume of non-evidential material</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such as hearsay, business records, automated processes, intermingled evidence and expert ev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ssibility</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entic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etenes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li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liev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portionalit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electronic evidence</a:t>
            </a:r>
            <a:endParaRPr b="0" lang="en-US" sz="4000" spc="-1" strike="noStrike">
              <a:solidFill>
                <a:srgbClr val="000000"/>
              </a:solidFill>
              <a:latin typeface="Calibri"/>
            </a:endParaRPr>
          </a:p>
        </p:txBody>
      </p:sp>
      <p:sp>
        <p:nvSpPr>
          <p:cNvPr id="7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lectronic evidence</a:t>
            </a:r>
            <a:endParaRPr b="0" lang="en-US" sz="4400" spc="-1" strike="noStrike">
              <a:solidFill>
                <a:srgbClr val="000000"/>
              </a:solidFill>
              <a:latin typeface="Calibri"/>
            </a:endParaRPr>
          </a:p>
        </p:txBody>
      </p:sp>
      <p:graphicFrame>
        <p:nvGraphicFramePr>
          <p:cNvPr id="74" name=""/>
          <p:cNvGraphicFramePr/>
          <p:nvPr/>
        </p:nvGraphicFramePr>
        <p:xfrm>
          <a:off x="468360" y="2205000"/>
          <a:ext cx="8280360" cy="4319640"/>
        </p:xfrm>
        <a:graphic>
          <a:graphicData uri="http://schemas.openxmlformats.org/drawingml/2006/table">
            <a:tbl>
              <a:tblPr/>
              <a:tblGrid>
                <a:gridCol w="2760480"/>
                <a:gridCol w="2759040"/>
                <a:gridCol w="276084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ybercri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ncia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ther/Al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200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mobile device evidenc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d files/folder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 Provider subscriber, traffic and content dat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trading/selling platform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 used to log in to bank accou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digital/electronic currenc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payment servic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gambling platform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resale of goods onlin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communication services (Skype, Whatsapp,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arch/browsing histo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 log fi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 of electronic evidence</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st expertise and experience required to collect and gather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ybercrime and/or digital forensic units have expertise in the collection and handling of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support and offer guidance to less experienced investigators in the particularities of  identification, analysis and interpretation of this type of evi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ave O'Reilly</cp:lastModifiedBy>
  <cp:lastPrinted>2016-05-18T07:38:13Z</cp:lastPrinted>
  <dcterms:modified xsi:type="dcterms:W3CDTF">2017-04-14T18:25:03Z</dcterms:modified>
  <cp:revision>295</cp:revision>
  <dc:subject/>
  <dc:title>PowerPoint Presentation</dc:title>
</cp:coreProperties>
</file>