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83.png" ContentType="image/png"/>
  <Override PartName="/ppt/media/image58.jpeg" ContentType="image/jpeg"/>
  <Override PartName="/ppt/media/image57.jpeg" ContentType="image/jpeg"/>
  <Override PartName="/ppt/media/image56.jpeg" ContentType="image/jpeg"/>
  <Override PartName="/ppt/media/image53.jpeg" ContentType="image/jpeg"/>
  <Override PartName="/ppt/media/image23.png" ContentType="image/png"/>
  <Override PartName="/ppt/media/image51.jpeg" ContentType="image/jpeg"/>
  <Override PartName="/ppt/media/image50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8.png" ContentType="image/png"/>
  <Override PartName="/ppt/media/image40.jpeg" ContentType="image/jpeg"/>
  <Override PartName="/ppt/media/image43.jpeg" ContentType="image/jpeg"/>
  <Override PartName="/ppt/media/image28.png" ContentType="image/png"/>
  <Override PartName="/ppt/media/image35.png" ContentType="image/png"/>
  <Override PartName="/ppt/media/image32.png" ContentType="image/png"/>
  <Override PartName="/ppt/media/image31.jpeg" ContentType="image/jpeg"/>
  <Override PartName="/ppt/media/image30.jpeg" ContentType="image/jpeg"/>
  <Override PartName="/ppt/media/image54.jpeg" ContentType="image/jpeg"/>
  <Override PartName="/ppt/media/image2.jpeg" ContentType="image/jpeg"/>
  <Override PartName="/ppt/media/image22.png" ContentType="image/png"/>
  <Override PartName="/ppt/media/image33.jpeg" ContentType="image/jpeg"/>
  <Override PartName="/ppt/media/image27.png" ContentType="image/png"/>
  <Override PartName="/ppt/media/image3.jpeg" ContentType="image/jpeg"/>
  <Override PartName="/ppt/media/image20.png" ContentType="image/png"/>
  <Override PartName="/ppt/media/image37.jpeg" ContentType="image/jpeg"/>
  <Override PartName="/ppt/media/image60.jpeg" ContentType="image/jpeg"/>
  <Override PartName="/ppt/media/image77.jpeg" ContentType="image/jpeg"/>
  <Override PartName="/ppt/media/image55.jpeg" ContentType="image/jpeg"/>
  <Override PartName="/ppt/media/image4.jpeg" ContentType="image/jpeg"/>
  <Override PartName="/ppt/media/image16.jpeg" ContentType="image/jpeg"/>
  <Override PartName="/ppt/media/image62.png" ContentType="image/png"/>
  <Override PartName="/ppt/media/image63.jpeg" ContentType="image/jpeg"/>
  <Override PartName="/ppt/media/image21.png" ContentType="image/png"/>
  <Override PartName="/ppt/media/image67.jpeg" ContentType="image/jpeg"/>
  <Override PartName="/ppt/media/image64.jpeg" ContentType="image/jpeg"/>
  <Override PartName="/ppt/media/image65.jpeg" ContentType="image/jpeg"/>
  <Override PartName="/ppt/media/image80.png" ContentType="image/png"/>
  <Override PartName="/ppt/media/image26.png" ContentType="image/png"/>
  <Override PartName="/ppt/media/image8.jpeg" ContentType="image/jpeg"/>
  <Override PartName="/ppt/media/image87.png" ContentType="image/png"/>
  <Override PartName="/ppt/media/image5.jpeg" ContentType="image/jpeg"/>
  <Override PartName="/ppt/media/image81.png" ContentType="image/png"/>
  <Override PartName="/ppt/media/image68.jpeg" ContentType="image/jpeg"/>
  <Override PartName="/ppt/media/image13.png" ContentType="image/png"/>
  <Override PartName="/ppt/media/image52.jpeg" ContentType="image/jpeg"/>
  <Override PartName="/ppt/media/image1.png" ContentType="image/png"/>
  <Override PartName="/ppt/media/image61.jpeg" ContentType="image/jpeg"/>
  <Override PartName="/ppt/media/image74.png" ContentType="image/png"/>
  <Override PartName="/ppt/media/image78.jpeg" ContentType="image/jpeg"/>
  <Override PartName="/ppt/media/image66.jpeg" ContentType="image/jpeg"/>
  <Override PartName="/ppt/media/image9.jpeg" ContentType="image/jpeg"/>
  <Override PartName="/ppt/media/image76.png" ContentType="image/png"/>
  <Override PartName="/ppt/media/image85.png" ContentType="image/png"/>
  <Override PartName="/ppt/media/image75.jpeg" ContentType="image/jpeg"/>
  <Override PartName="/ppt/media/image70.jpeg" ContentType="image/jpeg"/>
  <Override PartName="/ppt/media/image72.png" ContentType="image/png"/>
  <Override PartName="/ppt/media/image86.png" ContentType="image/png"/>
  <Override PartName="/ppt/media/image71.png" ContentType="image/png"/>
  <Override PartName="/ppt/media/image69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73.jpeg" ContentType="image/jpeg"/>
  <Override PartName="/ppt/media/image24.png" ContentType="image/png"/>
  <Override PartName="/ppt/media/image11.jpeg" ContentType="image/jpeg"/>
  <Override PartName="/ppt/media/image84.png" ContentType="image/png"/>
  <Override PartName="/ppt/media/image79.jpeg" ContentType="image/jpeg"/>
  <Override PartName="/ppt/media/image7.png" ContentType="image/png"/>
  <Override PartName="/ppt/media/image39.jpeg" ContentType="image/jpeg"/>
  <Override PartName="/ppt/media/image82.png" ContentType="image/png"/>
  <Override PartName="/ppt/media/image36.jpeg" ContentType="image/jpeg"/>
  <Override PartName="/ppt/media/image10.png" ContentType="image/png"/>
  <Override PartName="/ppt/media/image29.jpeg" ContentType="image/jpeg"/>
  <Override PartName="/ppt/media/image12.jpeg" ContentType="image/jpeg"/>
  <Override PartName="/ppt/media/image3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76B428-9D9C-4426-98F1-FF29CDD19D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Klip Video për ndryshimet ndërmjet SSD dhe HDD. Mund të thuhet se cilat prej këtyre diferencave janë të dobishme për Hetuesit e Kriminalistikë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C2A5D4-5B22-4E9F-9144-82E03E19A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ëto pajisje mbajnë sasi të mëdha të dhënash që mund të jenë me vlerë provue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gjithëse duken shumë të ngjashme, kapacitetet e ruajtjes së të dhënave mund të ndryshojnë shumë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ë në gjendje të ruajnë të dhëna për nevojën e energjisë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nd të mbajnë sasi shumë të mëdha të dhënas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ë shumë të vogla dhe të lehta për t’u fshehur nga pamj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Siç u tha për Kartat e Memories, ato janë në gjendje të mbajnë të dhëna pa nevojën e energjis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Mund të mbajnë sasi shumë të mëdha të dhënas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Janë shumë të vogla dhe të lehta për t’u fshehur nga pamj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iritat janë gjithashtu në gjendje të mbajnë të dhëna pa nevojën e energjisë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 mund të mbajnë sasi të mëdha të dhënas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ërderisa përdoren për rezervë, shpesh është i dobishëm një krahasim me të dhënat aktua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A njihni ndonjë Pajisje tjetër Periferike 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mbuj të pajisjeve periferike janë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kanerat, printerat, njësitë me shirit, kamerat Ueb, altoparlantët, mikrofonat, makinat llogaritëse, fakset, sekretaritë telefonike dhe lexuesit e kartave.</a:t>
            </a:r>
            <a:r>
              <a:rPr b="1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umë prej këtyre pajisjeve kanë kapacitetin e tyre të mbajtjes së të dhën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.sh. prezenca e një pajisjeje që lexon kartat mund të jetë e nevojshme në një hetim për klonimin e kartave të kredit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ëto mund të kenë madje dhe disqe të ngurt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jë vend i mirë për fshehje është një lexues i dytë i z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 mund të përmendni disa funksione që mund të kryejë një Telefon Celular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ën Fo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ën 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ën Telefon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ërgon S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 Internet nëpërmjet lidhjes 3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 Internet nëpërmjet rrjetit W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jesht për ruajtje të dhën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ër loj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ër G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e të tjera të ndrysh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Q&amp;A : Provat në Kartën SIM që mund të gjend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ëshuesi i kartës </a:t>
            </a:r>
            <a:r>
              <a:rPr b="0" i="1" lang="de-DE" sz="1200" spc="-1" strike="noStrike">
                <a:solidFill>
                  <a:srgbClr val="000000"/>
                </a:solidFill>
                <a:latin typeface="Calibri"/>
              </a:rPr>
              <a:t>(`talkline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umri i Kartës (ICC-I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umrat PIN/ P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MSI </a:t>
            </a:r>
            <a:r>
              <a:rPr b="0" i="1" lang="de-DE" sz="1200" spc="-1" strike="noStrike">
                <a:solidFill>
                  <a:srgbClr val="000000"/>
                </a:solidFill>
                <a:latin typeface="Calibri"/>
              </a:rPr>
              <a:t>(Identiteti Ndërkombëtar i Abonentit Celula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dresarin e Numr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umrat e thirru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MS-t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ozicionin e fundit të regjistru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jurmët e gishtërinj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jurmët D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ni se nga Fotot mund të përcatohet se nga cila Kamera u bënë fotografitë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tat e Memories mund të mbajnë të gjitha llojet e të Dhënave, jo vetëm Foto dhe 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pacitet më i madh për mbajtjen e të dhënave dhe një Cilësi më e mirë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HS – Sistemi Video Home është më i vjetër dhe gjendet rrallë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jistruesit e Videos Dixhitale mund të përdorin CD, DVD, Disk Blu-ray, dhe madje Disqet e Ngurta të Brendsh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jistrim i bisedave i nënshtrohet autoritetit ligjor në shumicën e vendev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TV janë relativisht të vështira për tu ekzaminuar përderisa shumica prej tyre kanë Sistemin e tyre të Operim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merat IP siç është thënë më parë mund të aksesohen kudo, madje edhe nga Telefonat Celularë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Çdo lloj skedari mund të ruh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ë ditët e sotme Pajisjet Portabël për Luajtjen e Skedarëve Audio dhe Video mund të bëjnë shumë më tepë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.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likacio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e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itimi/shikimi i dokumente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 Pajisje për Lojrat Video kanë aftësinë për tu lidhur me Internetin dhe për të luajtur video, foto dhe muzikë, si dhe për navigimin në Inter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stemi i tyre i “kyçur” i operimit mund të ndryshohet dhe më pas mund të kemi një kompjuter të zakonshëm të kamufluar si një Pajisje për Loj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 zakonisht kanë karta memorie të brendshme ose memorie të brendsh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ugët e udhëzimit, Vendet e Preferuara mund të merren nga Marrësit G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Rëndësia e Provave Elektronike duhet të deklarohet këtu dhe se pse ato duhet të trajtohen me korrektës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A kundërshtohen njohuritë e juaja ? Ndoshta në Gjykatë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3AF875-E7BA-4FCA-8735-9ED9BA188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 përkufizime kryesore do të shpjegohen më vonë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rahasoji këto me Rrjetet Personale (PANs), Rrjetet e Kampuseve të Universiteteve (CANs), ose rrjetet metropolitane (MANs), që zakonisht janë të kufizuara tek një dhomë, ndërtesë, kampus ose zona specifike metropolitane (p.sh., një qytet) respektivisht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Numrat e Portave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lejojnë aplikacione të ndryshme në të njëjtin kompjuter të përdorin burimet e rrjetit pa ndërhyrë tek njëri tjetri. Portat janë “virtuale” – JO priza ku fut spinën! Një analogji e ngjashme me portat janë dyert e shtëpisë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Sa më e madhe të jetë </a:t>
            </a: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gjerësia e valës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, aq më e madhe është shpejtësia e lidhjes dhe po kaq më e madhe është përvoja juaj në Internet në shkarkimin e menjëhershëm të të dhënave, dhe përvojën e ngjashme me një Televiz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Në një rrjet lokal adresat IP </a:t>
            </a:r>
            <a:r>
              <a:rPr b="1" lang="sq-AL" sz="1200" spc="-1" strike="noStrike">
                <a:solidFill>
                  <a:srgbClr val="ff0000"/>
                </a:solidFill>
                <a:latin typeface="Calibri"/>
              </a:rPr>
              <a:t>get resolved</a:t>
            </a: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tek Adresat MAC në mënyrë që paketat e të dhënave të dinë se në cilin NIC të shkojnë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qet e Ngurta nga Kompjutera në Rrjet mund të ndahen por kompjuteri duhet të jetë në funksion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 nganjehrë mund të përdoren si servera për shkarkim automatik (p.sh. Programi uTorrent) dhe madje edhe si servera Ue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ërdorimi i RAID - Redundant Array of Independent Disks (RAID) është një konfigurim i hapësirës që krijon mundësinë që disa disqe të lidhen me njëri tjetrin së bashku në një kornizë logjike.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pjegoni ndryshimin ndërmjet një Network Hub dhe një Network Swit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dryshimi kryesor me një Network Switch është se një Network Hub transmeton të gjitha paketat tek të gjitha portat ndërsa një Network Switch i dërgon ato vetëm tek një portë e caktu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ters përdoren zakonisht në kushtet e shtëpisë për të lidhur një shtëpi me një kompani që ofron shërbimin e Internetit. Kutitë shpesh përdoren për shumë qëllime të tilla si switch, pikë aksesi, firewall, router dhe gateway të gjitha së bashku.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gjithëse ndodhet në hyrjen e një rrjeti, jo domosdoshmërisht duhet të jetë hyrja e rrjetit për në Internet. Termi ‘layer 3 switch’ shpesh përdoret në mënyrë të shkëmbyeshme me pajisjen router, por një pajisje switch është në fakt një term i përgjithshëm pa një përkufizim teknik rigoroz.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 programin e duhur, çdo kompjuter i lidhur me rrjetin mund të konfigurohet si një server. Në shumicën e rasteve është një kompjuter i dedikuar i fuqishëm, i caktuar të jetë “gjithnjë i disponueshëm”.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ë një biznes shpesh ka kuptim që të kryhen shërbime të ndryshme në makina të ndryshme për arsye të sigurisë dhe për të minimizuar impaktin e ndonjë mosfunksionim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Testi i njohurive është dokumenti me titu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Storage media Exercise.doc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Zgjidhjet për testin e njohurive janë në dokumentin me titu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Solutions for exercise.t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820D17-6860-42FD-B7DA-12C239886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lokon trafikun që përpiqet të hyjë në rrjet nëpërmjet të gjitha portave përveç atyre që janë konfiguruar të lejojnë trafikun në hyrje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jistrimet e Firewall-it mund të jenë shumë të dobishme për një het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terat modernë shpesh përshijnë dhe funksionimin e Pikave të Akses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 i një kompjuteri ose madje edhe i një telefoni celular mund të konfigurohet si një Pikë Akse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F1C8FB-B6F4-41A8-B923-E437DAD882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pjegoni se çfarë konsiderohet pjesë fizike e kompjuterit dhe çfarë konsiderohet pjesë kompjuter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ni se në ditët e sotme shumica e komponentëve janë përmbledhur në një. (kompjutera laptop, kompjutera tabl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Kompjuterët Mainframe – Serverët: Diskutoni për Proporcionalitetin – Sa shumë është mjaf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rni në konsideratë vështirësitë që mund të dalin kur bëhen kontrolle në bizne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Shpjegoni dhe diskutoni vështirësitë që dalin gjatë ekzaminimit të Pajisjeve Table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Cila është diferenca ndërmjet një disku të ngurtë tradicional dhe një disku SS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Megjithëse disqet e ngurtë ruajnë të dhëna në </a:t>
            </a: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pllaka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qet SSD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ruajnë të dhëna duke përdorur </a:t>
            </a: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mikroçipet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që nuk kanë pjesë të lëvizsh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Si të tillë ata ka më pak të ngjarë të dëmtohen nga goditja dhe ofrojnë akses më të shpejtë tek të dhën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Në këtë pikë duhet të thuhet se këto pajisje mund të mbajnë prova të vlefsh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2355-9DF3-484D-8376-0C48B84F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1603-80FD-46F4-99B4-D1CFAAF9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3742-A5E1-46D6-94EA-B595D63C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8468-B859-4799-891B-139EC97B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42EE-AE9C-4F87-83B0-A37821BF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7C47-D9E8-4346-B0D3-78B4F2E4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0AB4-8B40-4B99-A4D5-87FA557B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8D79-EE22-4807-B7EC-06084945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7BE8-0EDA-469F-8F1B-06117515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5ECD-F8C7-4DF9-8AEF-B825CAE4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DFB0-210F-40CC-8647-47C9079D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9D27-1782-407E-93BA-F60D7276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EE99A5-A0DB-4046-9AB6-C5491CBA94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31F86D-B897-41AB-B034-A4310AB85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image" Target="../media/image66.jpeg"/><Relationship Id="rId7" Type="http://schemas.openxmlformats.org/officeDocument/2006/relationships/image" Target="../media/image67.jpeg"/><Relationship Id="rId8" Type="http://schemas.openxmlformats.org/officeDocument/2006/relationships/image" Target="../media/image6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jpeg"/><Relationship Id="rId3" Type="http://schemas.openxmlformats.org/officeDocument/2006/relationships/image" Target="../media/image7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268AA2-CB08-4746-893B-4D4AB7EB5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4400" spc="-1" strike="noStrike">
                <a:solidFill>
                  <a:srgbClr val="000000"/>
                </a:solidFill>
                <a:latin typeface="Calibri"/>
              </a:rPr>
              <a:t>Trajnim për Grupet Hetimore të Autoriteteve të Zbatimit të Ligj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sioni 1.1.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rimet e Prov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F48AE-D317-4EA8-95FE-04C9D4996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Samsung SSD vs HDD.mp4" descr=""/>
          <p:cNvPicPr/>
          <p:nvPr/>
        </p:nvPicPr>
        <p:blipFill>
          <a:blip r:embed="rId1"/>
          <a:stretch/>
        </p:blipFill>
        <p:spPr>
          <a:xfrm>
            <a:off x="1036800" y="1150920"/>
            <a:ext cx="7360920" cy="5519880"/>
          </a:xfrm>
          <a:prstGeom prst="rect">
            <a:avLst/>
          </a:prstGeom>
          <a:ln w="0">
            <a:noFill/>
          </a:ln>
        </p:spPr>
      </p:pic>
      <p:sp>
        <p:nvSpPr>
          <p:cNvPr id="14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SSD VS H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2D4B1-DF82-41FD-89BF-E4F4AD915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e Heqsh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mpakt Disk (C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 për Video Dixhitale (DVD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 Blu-ray (BD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11"/>
          <p:cNvGrpSpPr/>
          <p:nvPr/>
        </p:nvGrpSpPr>
        <p:grpSpPr>
          <a:xfrm>
            <a:off x="901800" y="3571920"/>
            <a:ext cx="6899040" cy="2095560"/>
            <a:chOff x="901800" y="3571920"/>
            <a:chExt cx="6899040" cy="2095560"/>
          </a:xfrm>
        </p:grpSpPr>
        <p:pic>
          <p:nvPicPr>
            <p:cNvPr id="148" name="Picture 21" descr="cd.jpg"/>
            <p:cNvPicPr/>
            <p:nvPr/>
          </p:nvPicPr>
          <p:blipFill>
            <a:blip r:embed="rId1"/>
            <a:stretch/>
          </p:blipFill>
          <p:spPr>
            <a:xfrm>
              <a:off x="901800" y="3702960"/>
              <a:ext cx="1927440" cy="140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22" descr="bluray.jpg"/>
            <p:cNvPicPr/>
            <p:nvPr/>
          </p:nvPicPr>
          <p:blipFill>
            <a:blip r:embed="rId2"/>
            <a:stretch/>
          </p:blipFill>
          <p:spPr>
            <a:xfrm>
              <a:off x="5556600" y="3571920"/>
              <a:ext cx="2244240" cy="162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23" descr="dvd.jpg"/>
            <p:cNvPicPr/>
            <p:nvPr/>
          </p:nvPicPr>
          <p:blipFill>
            <a:blip r:embed="rId3"/>
            <a:stretch/>
          </p:blipFill>
          <p:spPr>
            <a:xfrm>
              <a:off x="3183480" y="3702960"/>
              <a:ext cx="2062800" cy="149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24"/>
            <p:cNvSpPr/>
            <p:nvPr/>
          </p:nvSpPr>
          <p:spPr>
            <a:xfrm>
              <a:off x="1167480" y="5137200"/>
              <a:ext cx="145692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ompakt Disk (C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5"/>
            <p:cNvSpPr/>
            <p:nvPr/>
          </p:nvSpPr>
          <p:spPr>
            <a:xfrm>
              <a:off x="3444480" y="5140440"/>
              <a:ext cx="178524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Disk për Video Dixhitale (DV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6"/>
            <p:cNvSpPr/>
            <p:nvPr/>
          </p:nvSpPr>
          <p:spPr>
            <a:xfrm>
              <a:off x="6043680" y="5140080"/>
              <a:ext cx="145440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Disk Blu-ray (B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1CAA69-34AE-4AE4-8538-53F563D7C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artat e Mem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rtat e Memories, të njohura gjithashtu dhe si karta flash janë pajisje për ruajtjen e të dhënave dixhi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30"/>
          <p:cNvGrpSpPr/>
          <p:nvPr/>
        </p:nvGrpSpPr>
        <p:grpSpPr>
          <a:xfrm>
            <a:off x="457200" y="3068640"/>
            <a:ext cx="7736040" cy="2854440"/>
            <a:chOff x="457200" y="3068640"/>
            <a:chExt cx="7736040" cy="2854440"/>
          </a:xfrm>
        </p:grpSpPr>
        <p:pic>
          <p:nvPicPr>
            <p:cNvPr id="158" name="Picture 28" descr="compact flash.jpg"/>
            <p:cNvPicPr/>
            <p:nvPr/>
          </p:nvPicPr>
          <p:blipFill>
            <a:blip r:embed="rId1"/>
            <a:stretch/>
          </p:blipFill>
          <p:spPr>
            <a:xfrm>
              <a:off x="5613840" y="3152880"/>
              <a:ext cx="2579400" cy="206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29" descr="128gb memory card1.jpg"/>
            <p:cNvPicPr/>
            <p:nvPr/>
          </p:nvPicPr>
          <p:blipFill>
            <a:blip r:embed="rId2"/>
            <a:stretch/>
          </p:blipFill>
          <p:spPr>
            <a:xfrm>
              <a:off x="457200" y="3068640"/>
              <a:ext cx="3467160" cy="215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30" descr="micro memory card.jpg"/>
            <p:cNvPicPr/>
            <p:nvPr/>
          </p:nvPicPr>
          <p:blipFill>
            <a:blip r:embed="rId3"/>
            <a:stretch/>
          </p:blipFill>
          <p:spPr>
            <a:xfrm>
              <a:off x="3362400" y="3068640"/>
              <a:ext cx="2070360" cy="228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Rectangle 31"/>
            <p:cNvSpPr/>
            <p:nvPr/>
          </p:nvSpPr>
          <p:spPr>
            <a:xfrm>
              <a:off x="1082160" y="5072760"/>
              <a:ext cx="208872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rta Secure Digital (S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2"/>
            <p:cNvSpPr/>
            <p:nvPr/>
          </p:nvSpPr>
          <p:spPr>
            <a:xfrm>
              <a:off x="3827880" y="5060880"/>
              <a:ext cx="143172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rta Micro SD dhe përshtatë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3"/>
            <p:cNvSpPr/>
            <p:nvPr/>
          </p:nvSpPr>
          <p:spPr>
            <a:xfrm>
              <a:off x="6449400" y="5051520"/>
              <a:ext cx="12772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rta Compact Flash</a:t>
              </a:r>
              <a:r>
                <a:rPr b="0" lang="en-GB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 (CF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08ABB3-D6A9-46C3-8D4D-AB4DABE47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USB për Mbajtjen e të Dhën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Është një standard që përcakton protokollet për komunikimin, lidhjen dhe furnizimin me energji për pajisje që duhet të lidh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Grafik 112" descr=""/>
          <p:cNvPicPr/>
          <p:nvPr/>
        </p:nvPicPr>
        <p:blipFill>
          <a:blip r:embed="rId1"/>
          <a:stretch/>
        </p:blipFill>
        <p:spPr>
          <a:xfrm>
            <a:off x="457200" y="3513240"/>
            <a:ext cx="771192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797D19-DD8E-47BE-ACEB-ED0485535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USB për Mbajtjen e të Dhën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 të gjitha pajisjet janë ashtu siç duken 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912960" y="2220840"/>
            <a:ext cx="3052440" cy="3814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4168800" y="2077920"/>
            <a:ext cx="2709720" cy="2032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3"/>
          <a:stretch/>
        </p:blipFill>
        <p:spPr>
          <a:xfrm>
            <a:off x="4176720" y="4110120"/>
            <a:ext cx="270180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8DFE69-E0DF-4192-8457-20E85B88E1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USB për Mbajtjen e të Dhën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 të gjitha pajisjet janë ashtu siç duken 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1" descr="Description: odd usb.png"/>
          <p:cNvPicPr/>
          <p:nvPr/>
        </p:nvPicPr>
        <p:blipFill>
          <a:blip r:embed="rId1"/>
          <a:stretch/>
        </p:blipFill>
        <p:spPr>
          <a:xfrm>
            <a:off x="638280" y="2201760"/>
            <a:ext cx="7748640" cy="1960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"/>
          <p:cNvPicPr/>
          <p:nvPr/>
        </p:nvPicPr>
        <p:blipFill>
          <a:blip r:embed="rId2"/>
          <a:stretch/>
        </p:blipFill>
        <p:spPr>
          <a:xfrm>
            <a:off x="6953400" y="4292640"/>
            <a:ext cx="1904760" cy="2008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"/>
          <p:cNvPicPr/>
          <p:nvPr/>
        </p:nvPicPr>
        <p:blipFill>
          <a:blip r:embed="rId3"/>
          <a:stretch/>
        </p:blipFill>
        <p:spPr>
          <a:xfrm>
            <a:off x="5048280" y="5533920"/>
            <a:ext cx="1905120" cy="924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/>
          <p:cNvPicPr/>
          <p:nvPr/>
        </p:nvPicPr>
        <p:blipFill>
          <a:blip r:embed="rId4"/>
          <a:stretch/>
        </p:blipFill>
        <p:spPr>
          <a:xfrm>
            <a:off x="1976400" y="4292640"/>
            <a:ext cx="4600440" cy="1085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"/>
          <p:cNvPicPr/>
          <p:nvPr/>
        </p:nvPicPr>
        <p:blipFill>
          <a:blip r:embed="rId5"/>
          <a:stretch/>
        </p:blipFill>
        <p:spPr>
          <a:xfrm>
            <a:off x="638280" y="4014720"/>
            <a:ext cx="1771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FC4DB-0A0E-4091-82B9-1B0806C12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Disqet me Shirit për Mbajtjen e të Dhën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ë dhënat e ruajtura në shirit ka më shumë të ngjarë të hasen në një bizn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ritat zakonisht përdoren për rezerv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457200" y="3476520"/>
            <a:ext cx="7832880" cy="2355840"/>
            <a:chOff x="457200" y="3476520"/>
            <a:chExt cx="7832880" cy="2355840"/>
          </a:xfrm>
        </p:grpSpPr>
        <p:pic>
          <p:nvPicPr>
            <p:cNvPr id="186" name="Picture 35" descr="ultrium 5 tape.jpg"/>
            <p:cNvPicPr/>
            <p:nvPr/>
          </p:nvPicPr>
          <p:blipFill>
            <a:blip r:embed="rId1"/>
            <a:stretch/>
          </p:blipFill>
          <p:spPr>
            <a:xfrm>
              <a:off x="457200" y="3649320"/>
              <a:ext cx="1741680" cy="193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36" descr="lto 5 tape cassette.jpg"/>
            <p:cNvPicPr/>
            <p:nvPr/>
          </p:nvPicPr>
          <p:blipFill>
            <a:blip r:embed="rId2"/>
            <a:stretch/>
          </p:blipFill>
          <p:spPr>
            <a:xfrm>
              <a:off x="3280320" y="3476520"/>
              <a:ext cx="2462400" cy="19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37" descr="lto tape drive.jpg"/>
            <p:cNvPicPr/>
            <p:nvPr/>
          </p:nvPicPr>
          <p:blipFill>
            <a:blip r:embed="rId3"/>
            <a:stretch/>
          </p:blipFill>
          <p:spPr>
            <a:xfrm>
              <a:off x="6040440" y="3476520"/>
              <a:ext cx="2249640" cy="22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Rectangle 38"/>
            <p:cNvSpPr/>
            <p:nvPr/>
          </p:nvSpPr>
          <p:spPr>
            <a:xfrm>
              <a:off x="1825920" y="5440680"/>
              <a:ext cx="308196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Linear Tape-Open (LTO) Storage Tap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39"/>
            <p:cNvSpPr/>
            <p:nvPr/>
          </p:nvSpPr>
          <p:spPr>
            <a:xfrm>
              <a:off x="6676560" y="5426280"/>
              <a:ext cx="13492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LTO Tape Dri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6B3967-42AE-4009-9392-496CD1BD8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Perifer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iferiket janë pajisje që nuk janë pjesë përbërëse e kompjuterit por lidhen me të për të përmirësuar kapacitetet e ti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Group 10"/>
          <p:cNvGrpSpPr/>
          <p:nvPr/>
        </p:nvGrpSpPr>
        <p:grpSpPr>
          <a:xfrm>
            <a:off x="1079640" y="3233880"/>
            <a:ext cx="2073240" cy="2641320"/>
            <a:chOff x="1079640" y="3233880"/>
            <a:chExt cx="2073240" cy="2641320"/>
          </a:xfrm>
        </p:grpSpPr>
        <p:pic>
          <p:nvPicPr>
            <p:cNvPr id="195" name="Picture 47" descr="scl5"/>
            <p:cNvPicPr/>
            <p:nvPr/>
          </p:nvPicPr>
          <p:blipFill>
            <a:blip r:embed="rId1"/>
            <a:stretch/>
          </p:blipFill>
          <p:spPr>
            <a:xfrm>
              <a:off x="1079640" y="3233880"/>
              <a:ext cx="2073240" cy="224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Rectangle 48"/>
            <p:cNvSpPr/>
            <p:nvPr/>
          </p:nvSpPr>
          <p:spPr>
            <a:xfrm>
              <a:off x="1238400" y="5551200"/>
              <a:ext cx="16772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kinë Fak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3"/>
          <p:cNvGrpSpPr/>
          <p:nvPr/>
        </p:nvGrpSpPr>
        <p:grpSpPr>
          <a:xfrm>
            <a:off x="3530520" y="3233880"/>
            <a:ext cx="2324160" cy="2641320"/>
            <a:chOff x="3530520" y="3233880"/>
            <a:chExt cx="2324160" cy="2641320"/>
          </a:xfrm>
        </p:grpSpPr>
        <p:pic>
          <p:nvPicPr>
            <p:cNvPr id="198" name="Picture 50" descr="scl10"/>
            <p:cNvPicPr/>
            <p:nvPr/>
          </p:nvPicPr>
          <p:blipFill>
            <a:blip r:embed="rId2"/>
            <a:stretch/>
          </p:blipFill>
          <p:spPr>
            <a:xfrm>
              <a:off x="3530520" y="3233880"/>
              <a:ext cx="2324160" cy="235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51"/>
            <p:cNvSpPr/>
            <p:nvPr/>
          </p:nvSpPr>
          <p:spPr>
            <a:xfrm>
              <a:off x="4245120" y="5562000"/>
              <a:ext cx="12200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ka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6"/>
          <p:cNvGrpSpPr/>
          <p:nvPr/>
        </p:nvGrpSpPr>
        <p:grpSpPr>
          <a:xfrm>
            <a:off x="5854680" y="3068640"/>
            <a:ext cx="2506680" cy="2633760"/>
            <a:chOff x="5854680" y="3068640"/>
            <a:chExt cx="2506680" cy="2633760"/>
          </a:xfrm>
        </p:grpSpPr>
        <p:pic>
          <p:nvPicPr>
            <p:cNvPr id="201" name="Picture 55" descr="scl8"/>
            <p:cNvPicPr/>
            <p:nvPr/>
          </p:nvPicPr>
          <p:blipFill>
            <a:blip r:embed="rId3"/>
            <a:stretch/>
          </p:blipFill>
          <p:spPr>
            <a:xfrm>
              <a:off x="5854680" y="3068640"/>
              <a:ext cx="2506680" cy="247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Rectangle 56"/>
            <p:cNvSpPr/>
            <p:nvPr/>
          </p:nvSpPr>
          <p:spPr>
            <a:xfrm>
              <a:off x="6728040" y="5406480"/>
              <a:ext cx="70704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i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417BF-30EE-441C-826E-2092ECD47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akinat e Fotokopjim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39840" y="1600200"/>
            <a:ext cx="474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jë Makinë Fotokopje është një makinë që bën kopje të dokumenteve dhe imazheve të tjera vizuale me shpejtësi dhe lir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jendet në bizn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orje e brendshme ose e heqsh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264960" y="1270080"/>
            <a:ext cx="36752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E462A4-DCA5-4000-83F0-2366D538E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elefonat Celularë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elefonat Celularë përdoren për shumë detyra dhe mund të mbajnë sasi të mëdha që shpesh janë të rëndësishme.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oup 95"/>
          <p:cNvGrpSpPr/>
          <p:nvPr/>
        </p:nvGrpSpPr>
        <p:grpSpPr>
          <a:xfrm>
            <a:off x="1346040" y="3068640"/>
            <a:ext cx="6537600" cy="2956680"/>
            <a:chOff x="1346040" y="3068640"/>
            <a:chExt cx="6537600" cy="2956680"/>
          </a:xfrm>
        </p:grpSpPr>
        <p:grpSp>
          <p:nvGrpSpPr>
            <p:cNvPr id="211" name="Group 96"/>
            <p:cNvGrpSpPr/>
            <p:nvPr/>
          </p:nvGrpSpPr>
          <p:grpSpPr>
            <a:xfrm>
              <a:off x="1346040" y="3068640"/>
              <a:ext cx="6537600" cy="2903400"/>
              <a:chOff x="1346040" y="3068640"/>
              <a:chExt cx="6537600" cy="2903400"/>
            </a:xfrm>
          </p:grpSpPr>
          <p:pic>
            <p:nvPicPr>
              <p:cNvPr id="212" name="Picture 13" descr="iphone 4.jpg"/>
              <p:cNvPicPr/>
              <p:nvPr/>
            </p:nvPicPr>
            <p:blipFill>
              <a:blip r:embed="rId1"/>
              <a:stretch/>
            </p:blipFill>
            <p:spPr>
              <a:xfrm>
                <a:off x="2508480" y="3068640"/>
                <a:ext cx="3980160" cy="29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Picture 14" descr="samsung galaxy.jpg"/>
              <p:cNvPicPr/>
              <p:nvPr/>
            </p:nvPicPr>
            <p:blipFill>
              <a:blip r:embed="rId2"/>
              <a:stretch/>
            </p:blipFill>
            <p:spPr>
              <a:xfrm>
                <a:off x="1346040" y="3337560"/>
                <a:ext cx="1261800" cy="230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Picture 15" descr="blackberrystorm.gif"/>
              <p:cNvPicPr/>
              <p:nvPr/>
            </p:nvPicPr>
            <p:blipFill>
              <a:blip r:embed="rId3"/>
              <a:stretch/>
            </p:blipFill>
            <p:spPr>
              <a:xfrm>
                <a:off x="6177600" y="3282840"/>
                <a:ext cx="1706040" cy="2492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5" name="Rectangle 16"/>
            <p:cNvSpPr/>
            <p:nvPr/>
          </p:nvSpPr>
          <p:spPr>
            <a:xfrm>
              <a:off x="3824280" y="5887800"/>
              <a:ext cx="1127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Telefona Celularë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92706-9067-4F13-B1FA-2194264E8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ktivat e Sesio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45720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2800" spc="-1" strike="noStrike">
                <a:solidFill>
                  <a:srgbClr val="000000"/>
                </a:solidFill>
                <a:latin typeface="Arial"/>
              </a:rPr>
              <a:t>Në përfundim të mësimit pjesëmarrësit do të jenë në gjendje të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Njohin se cilat Burime të Provave janë me vler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provue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Bëjnë dallim ndërmjet Rrjeteve Kompjuter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Identifikojnë pajisjet e rrjet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CA31DD-DB51-46DF-A06C-FDF5EF101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elefonat Celularë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Karta Sim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Moduli i Identitetit të Abonentit </a:t>
            </a:r>
            <a:r>
              <a:rPr b="0" i="1" lang="el-GR" sz="3200" spc="-1" strike="noStrike">
                <a:solidFill>
                  <a:srgbClr val="000000"/>
                </a:solidFill>
                <a:latin typeface="Calibri"/>
              </a:rPr>
              <a:t>(SIM)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është një qark i integruar që mban në mënyrë të sigurtë identitetin ndërkombëtar të abonentit celular </a:t>
            </a:r>
            <a:r>
              <a:rPr b="0" i="1" lang="el-GR" sz="3200" spc="-1" strike="noStrike">
                <a:solidFill>
                  <a:srgbClr val="000000"/>
                </a:solidFill>
                <a:latin typeface="Calibri"/>
              </a:rPr>
              <a:t>(IMSI)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he çelësin e përdorur për të identifikuar dhe vërtetuar abonentët në pajisjet e telefonisë së lëvizsh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11" descr="C:\Users\Lemon\Desktop\BackUp\COE Training\Photos\sim.jpg"/>
          <p:cNvPicPr/>
          <p:nvPr/>
        </p:nvPicPr>
        <p:blipFill>
          <a:blip r:embed="rId1"/>
          <a:stretch/>
        </p:blipFill>
        <p:spPr>
          <a:xfrm>
            <a:off x="5165640" y="4086360"/>
            <a:ext cx="277488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C8BFA-2943-4FCC-B437-5F44E3153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4000" spc="-1" strike="noStrike">
                <a:solidFill>
                  <a:srgbClr val="000000"/>
                </a:solidFill>
                <a:latin typeface="Calibri"/>
              </a:rPr>
              <a:t>Regjistrimi me Foto dhe Vide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Kamerat Dixhitale mund të mbajnë foto dhe video ose në memorien e brendshme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ose në kartat e mem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" name="Group 10"/>
          <p:cNvGrpSpPr/>
          <p:nvPr/>
        </p:nvGrpSpPr>
        <p:grpSpPr>
          <a:xfrm>
            <a:off x="789120" y="2881440"/>
            <a:ext cx="7591320" cy="3403440"/>
            <a:chOff x="789120" y="2881440"/>
            <a:chExt cx="7591320" cy="3403440"/>
          </a:xfrm>
        </p:grpSpPr>
        <p:pic>
          <p:nvPicPr>
            <p:cNvPr id="224" name="Picture 77" descr="watch spy camera.jpg"/>
            <p:cNvPicPr/>
            <p:nvPr/>
          </p:nvPicPr>
          <p:blipFill>
            <a:blip r:embed="rId1"/>
            <a:stretch/>
          </p:blipFill>
          <p:spPr>
            <a:xfrm>
              <a:off x="6741720" y="2881440"/>
              <a:ext cx="1638720" cy="29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78" descr="spy clock camera.jpg"/>
            <p:cNvPicPr/>
            <p:nvPr/>
          </p:nvPicPr>
          <p:blipFill>
            <a:blip r:embed="rId2"/>
            <a:stretch/>
          </p:blipFill>
          <p:spPr>
            <a:xfrm>
              <a:off x="2637720" y="2881440"/>
              <a:ext cx="2188080" cy="29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79" descr="spy camera.jpg"/>
            <p:cNvPicPr/>
            <p:nvPr/>
          </p:nvPicPr>
          <p:blipFill>
            <a:blip r:embed="rId3"/>
            <a:stretch/>
          </p:blipFill>
          <p:spPr>
            <a:xfrm>
              <a:off x="789120" y="3068640"/>
              <a:ext cx="1947600" cy="27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80" descr="pen spy camera.jpg"/>
            <p:cNvPicPr/>
            <p:nvPr/>
          </p:nvPicPr>
          <p:blipFill>
            <a:blip r:embed="rId4"/>
            <a:stretch/>
          </p:blipFill>
          <p:spPr>
            <a:xfrm>
              <a:off x="5079240" y="2881440"/>
              <a:ext cx="150840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Rectangle 81"/>
            <p:cNvSpPr/>
            <p:nvPr/>
          </p:nvSpPr>
          <p:spPr>
            <a:xfrm>
              <a:off x="3511800" y="5778000"/>
              <a:ext cx="2219400" cy="5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mera Dixhitale “Spiune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D1D95-2EA5-44F6-A5FD-29FB1D1F4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amerat Video Dixhit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Kamerat video dixhitale mund të mbajnë foto dhe video ose në memorien e brendshme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ose në kartat e mem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është e rëndësishme të bëhet dalli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Group 10"/>
          <p:cNvGrpSpPr/>
          <p:nvPr/>
        </p:nvGrpSpPr>
        <p:grpSpPr>
          <a:xfrm>
            <a:off x="579600" y="3532320"/>
            <a:ext cx="8107200" cy="2617560"/>
            <a:chOff x="579600" y="3532320"/>
            <a:chExt cx="8107200" cy="2617560"/>
          </a:xfrm>
        </p:grpSpPr>
        <p:pic>
          <p:nvPicPr>
            <p:cNvPr id="233" name="Picture 83" descr="video camera2.jpg"/>
            <p:cNvPicPr/>
            <p:nvPr/>
          </p:nvPicPr>
          <p:blipFill>
            <a:blip r:embed="rId1"/>
            <a:stretch/>
          </p:blipFill>
          <p:spPr>
            <a:xfrm>
              <a:off x="579600" y="3532320"/>
              <a:ext cx="2274480" cy="251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84" descr="video camera.jpg"/>
            <p:cNvPicPr/>
            <p:nvPr/>
          </p:nvPicPr>
          <p:blipFill>
            <a:blip r:embed="rId2"/>
            <a:stretch/>
          </p:blipFill>
          <p:spPr>
            <a:xfrm>
              <a:off x="5893560" y="3890160"/>
              <a:ext cx="2793240" cy="196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85" descr="video camera4.jpg"/>
            <p:cNvPicPr/>
            <p:nvPr/>
          </p:nvPicPr>
          <p:blipFill>
            <a:blip r:embed="rId3"/>
            <a:stretch/>
          </p:blipFill>
          <p:spPr>
            <a:xfrm>
              <a:off x="3187440" y="3610440"/>
              <a:ext cx="2132280" cy="235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Rectangle 86"/>
            <p:cNvSpPr/>
            <p:nvPr/>
          </p:nvSpPr>
          <p:spPr>
            <a:xfrm>
              <a:off x="3252240" y="5826600"/>
              <a:ext cx="226584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merat Video Dixhita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C9B53-F5AC-4C48-A385-C7861A4AE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Regjistruesit Vide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q-AL" sz="3200" spc="-1" strike="noStrike">
                <a:solidFill>
                  <a:srgbClr val="000000"/>
                </a:solidFill>
                <a:latin typeface="Calibri"/>
              </a:rPr>
              <a:t>Regjistruesit VH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q-AL" sz="3200" spc="-1" strike="noStrike">
                <a:solidFill>
                  <a:srgbClr val="000000"/>
                </a:solidFill>
                <a:latin typeface="Calibri"/>
              </a:rPr>
              <a:t>Regjistruesit e Videos Dixhi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9"/>
          <p:cNvGrpSpPr/>
          <p:nvPr/>
        </p:nvGrpSpPr>
        <p:grpSpPr>
          <a:xfrm>
            <a:off x="863640" y="3560760"/>
            <a:ext cx="7221600" cy="2743200"/>
            <a:chOff x="863640" y="3560760"/>
            <a:chExt cx="7221600" cy="2743200"/>
          </a:xfrm>
        </p:grpSpPr>
        <p:pic>
          <p:nvPicPr>
            <p:cNvPr id="241" name="Picture 94" descr="vhs.jpg"/>
            <p:cNvPicPr/>
            <p:nvPr/>
          </p:nvPicPr>
          <p:blipFill>
            <a:blip r:embed="rId1"/>
            <a:stretch/>
          </p:blipFill>
          <p:spPr>
            <a:xfrm>
              <a:off x="863640" y="3560760"/>
              <a:ext cx="3395520" cy="228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95" descr="digtial video recorder.jpg"/>
            <p:cNvPicPr/>
            <p:nvPr/>
          </p:nvPicPr>
          <p:blipFill>
            <a:blip r:embed="rId2"/>
            <a:stretch/>
          </p:blipFill>
          <p:spPr>
            <a:xfrm>
              <a:off x="4329000" y="3696480"/>
              <a:ext cx="3756240" cy="24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Rectangle 96"/>
            <p:cNvSpPr/>
            <p:nvPr/>
          </p:nvSpPr>
          <p:spPr>
            <a:xfrm>
              <a:off x="2002680" y="5938200"/>
              <a:ext cx="16160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setë Video VH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97"/>
            <p:cNvSpPr/>
            <p:nvPr/>
          </p:nvSpPr>
          <p:spPr>
            <a:xfrm>
              <a:off x="5158800" y="5942160"/>
              <a:ext cx="21438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Rregjistrues i Videos Dixhita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B539C-277B-4B2C-91E2-9BF234631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Regjistruesit Dixhital të Aud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gjistrimi i zë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ëgjimi i regjistrimeve të zë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gjistrimi i prezantimeve ose bised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edhja në kapacitetin e Kompjute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Group 9"/>
          <p:cNvGrpSpPr/>
          <p:nvPr/>
        </p:nvGrpSpPr>
        <p:grpSpPr>
          <a:xfrm>
            <a:off x="457200" y="3762360"/>
            <a:ext cx="8229600" cy="2625840"/>
            <a:chOff x="457200" y="3762360"/>
            <a:chExt cx="8229600" cy="2625840"/>
          </a:xfrm>
        </p:grpSpPr>
        <p:pic>
          <p:nvPicPr>
            <p:cNvPr id="249" name="Picture 88" descr="audio recorder 3.jpg"/>
            <p:cNvPicPr/>
            <p:nvPr/>
          </p:nvPicPr>
          <p:blipFill>
            <a:blip r:embed="rId1"/>
            <a:srcRect l="1551" t="2627" r="1551" b="2627"/>
            <a:stretch/>
          </p:blipFill>
          <p:spPr>
            <a:xfrm>
              <a:off x="457200" y="4036680"/>
              <a:ext cx="2883600" cy="20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89" descr="audio recorder 1.jpg"/>
            <p:cNvPicPr/>
            <p:nvPr/>
          </p:nvPicPr>
          <p:blipFill>
            <a:blip r:embed="rId2"/>
            <a:stretch/>
          </p:blipFill>
          <p:spPr>
            <a:xfrm>
              <a:off x="3094560" y="3879000"/>
              <a:ext cx="2580120" cy="212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90" descr="audio recorder.jpg"/>
            <p:cNvPicPr/>
            <p:nvPr/>
          </p:nvPicPr>
          <p:blipFill>
            <a:blip r:embed="rId3"/>
            <a:stretch/>
          </p:blipFill>
          <p:spPr>
            <a:xfrm>
              <a:off x="5125320" y="3762360"/>
              <a:ext cx="3561480" cy="236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91"/>
            <p:cNvSpPr/>
            <p:nvPr/>
          </p:nvSpPr>
          <p:spPr>
            <a:xfrm>
              <a:off x="1918080" y="6008400"/>
              <a:ext cx="1611000" cy="21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92"/>
            <p:cNvSpPr/>
            <p:nvPr/>
          </p:nvSpPr>
          <p:spPr>
            <a:xfrm>
              <a:off x="3477240" y="6047640"/>
              <a:ext cx="25628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Rregjistruesit Dixhital të Audi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877E77-E9C3-4C97-AC77-748A734A1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amerat CCT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ërdorur për sigurin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ërdorur si prova në shumicën e çështje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gjistrojnë për pajisje me të dhëna ose monitorim dire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Kamerat 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" name="Group 10"/>
          <p:cNvGrpSpPr/>
          <p:nvPr/>
        </p:nvGrpSpPr>
        <p:grpSpPr>
          <a:xfrm>
            <a:off x="457200" y="4062240"/>
            <a:ext cx="7808760" cy="1941840"/>
            <a:chOff x="457200" y="4062240"/>
            <a:chExt cx="7808760" cy="1941840"/>
          </a:xfrm>
        </p:grpSpPr>
        <p:pic>
          <p:nvPicPr>
            <p:cNvPr id="258" name="Picture 99" descr="cctv 3.jpg"/>
            <p:cNvPicPr/>
            <p:nvPr/>
          </p:nvPicPr>
          <p:blipFill>
            <a:blip r:embed="rId1"/>
            <a:stretch/>
          </p:blipFill>
          <p:spPr>
            <a:xfrm>
              <a:off x="2494080" y="4062240"/>
              <a:ext cx="1473120" cy="156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100" descr="cctv2.jpg"/>
            <p:cNvPicPr/>
            <p:nvPr/>
          </p:nvPicPr>
          <p:blipFill>
            <a:blip r:embed="rId2"/>
            <a:stretch/>
          </p:blipFill>
          <p:spPr>
            <a:xfrm>
              <a:off x="457200" y="4105080"/>
              <a:ext cx="1788840" cy="15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101" descr="cctv1.jpg"/>
            <p:cNvPicPr/>
            <p:nvPr/>
          </p:nvPicPr>
          <p:blipFill>
            <a:blip r:embed="rId3"/>
            <a:stretch/>
          </p:blipFill>
          <p:spPr>
            <a:xfrm>
              <a:off x="4142520" y="4165200"/>
              <a:ext cx="1615320" cy="14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102" descr="cctv5.jpg"/>
            <p:cNvPicPr/>
            <p:nvPr/>
          </p:nvPicPr>
          <p:blipFill>
            <a:blip r:embed="rId4"/>
            <a:stretch/>
          </p:blipFill>
          <p:spPr>
            <a:xfrm>
              <a:off x="5811840" y="4105080"/>
              <a:ext cx="2454120" cy="15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Rectangle 103"/>
            <p:cNvSpPr/>
            <p:nvPr/>
          </p:nvSpPr>
          <p:spPr>
            <a:xfrm>
              <a:off x="2417400" y="5704920"/>
              <a:ext cx="363096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merat e Televizionit me Qark të Shkurtër (CCTV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903EE2-44AB-47F9-85D5-57D1D4E95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Portabë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ërdorur për ruajtjen dhe luajtjen e skedarëve audio, video dhe imazhe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Zakonisht janë me memorie të brendshme flash ose edhe me disk të ngurt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Group 10"/>
          <p:cNvGrpSpPr/>
          <p:nvPr/>
        </p:nvGrpSpPr>
        <p:grpSpPr>
          <a:xfrm>
            <a:off x="457200" y="3713040"/>
            <a:ext cx="7856640" cy="2538360"/>
            <a:chOff x="457200" y="3713040"/>
            <a:chExt cx="7856640" cy="2538360"/>
          </a:xfrm>
        </p:grpSpPr>
        <p:pic>
          <p:nvPicPr>
            <p:cNvPr id="267" name="Picture 105" descr="mp3 2.jpg"/>
            <p:cNvPicPr/>
            <p:nvPr/>
          </p:nvPicPr>
          <p:blipFill>
            <a:blip r:embed="rId1"/>
            <a:stretch/>
          </p:blipFill>
          <p:spPr>
            <a:xfrm>
              <a:off x="6713640" y="3945240"/>
              <a:ext cx="1600200" cy="17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106" descr="ipod.jpg"/>
            <p:cNvPicPr/>
            <p:nvPr/>
          </p:nvPicPr>
          <p:blipFill>
            <a:blip r:embed="rId2"/>
            <a:stretch/>
          </p:blipFill>
          <p:spPr>
            <a:xfrm>
              <a:off x="457200" y="3816000"/>
              <a:ext cx="1848600" cy="207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107" descr="mp3.jpg"/>
            <p:cNvPicPr/>
            <p:nvPr/>
          </p:nvPicPr>
          <p:blipFill>
            <a:blip r:embed="rId3"/>
            <a:stretch/>
          </p:blipFill>
          <p:spPr>
            <a:xfrm>
              <a:off x="3444840" y="3713040"/>
              <a:ext cx="2267640" cy="217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108" descr="mp3 3.jpg"/>
            <p:cNvPicPr/>
            <p:nvPr/>
          </p:nvPicPr>
          <p:blipFill>
            <a:blip r:embed="rId4"/>
            <a:stretch/>
          </p:blipFill>
          <p:spPr>
            <a:xfrm>
              <a:off x="2077200" y="4221360"/>
              <a:ext cx="1849320" cy="15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109" descr="ipod 1.jpg"/>
            <p:cNvPicPr/>
            <p:nvPr/>
          </p:nvPicPr>
          <p:blipFill>
            <a:blip r:embed="rId5"/>
            <a:stretch/>
          </p:blipFill>
          <p:spPr>
            <a:xfrm>
              <a:off x="5256000" y="4308840"/>
              <a:ext cx="130464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Rectangle 110"/>
            <p:cNvSpPr/>
            <p:nvPr/>
          </p:nvSpPr>
          <p:spPr>
            <a:xfrm>
              <a:off x="3299400" y="5885640"/>
              <a:ext cx="25588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Plaisjet Portabël për Luajtjen e Skendarëve Audio e Vide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CFDF1-6CF4-433E-AA07-293034240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për Lojrat Vide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ërdorur për të luajtur loj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to përdorin ruajtjen e të dhënave me flash ose me disqe të ngur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Janë më shumë sesa thjesht luajtje lojra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" name="Group 11"/>
          <p:cNvGrpSpPr/>
          <p:nvPr/>
        </p:nvGrpSpPr>
        <p:grpSpPr>
          <a:xfrm>
            <a:off x="620640" y="3681360"/>
            <a:ext cx="7256520" cy="2400480"/>
            <a:chOff x="620640" y="3681360"/>
            <a:chExt cx="7256520" cy="2400480"/>
          </a:xfrm>
        </p:grpSpPr>
        <p:grpSp>
          <p:nvGrpSpPr>
            <p:cNvPr id="277" name="Group 136"/>
            <p:cNvGrpSpPr/>
            <p:nvPr/>
          </p:nvGrpSpPr>
          <p:grpSpPr>
            <a:xfrm>
              <a:off x="632880" y="3681360"/>
              <a:ext cx="6913440" cy="2400480"/>
              <a:chOff x="632880" y="3681360"/>
              <a:chExt cx="6913440" cy="2400480"/>
            </a:xfrm>
          </p:grpSpPr>
          <p:pic>
            <p:nvPicPr>
              <p:cNvPr id="278" name="Picture 137" descr="xbox.jpg"/>
              <p:cNvPicPr/>
              <p:nvPr/>
            </p:nvPicPr>
            <p:blipFill>
              <a:blip r:embed="rId1"/>
              <a:stretch/>
            </p:blipFill>
            <p:spPr>
              <a:xfrm>
                <a:off x="632880" y="3681360"/>
                <a:ext cx="2077200" cy="10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" name="Picture 138" descr="sega.png"/>
              <p:cNvPicPr/>
              <p:nvPr/>
            </p:nvPicPr>
            <p:blipFill>
              <a:blip r:embed="rId2"/>
              <a:stretch/>
            </p:blipFill>
            <p:spPr>
              <a:xfrm>
                <a:off x="6100200" y="3699720"/>
                <a:ext cx="1446120" cy="10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Picture 139" descr="nintendo ds.jpg"/>
              <p:cNvPicPr/>
              <p:nvPr/>
            </p:nvPicPr>
            <p:blipFill>
              <a:blip r:embed="rId3"/>
              <a:stretch/>
            </p:blipFill>
            <p:spPr>
              <a:xfrm>
                <a:off x="2710080" y="3791520"/>
                <a:ext cx="1195920" cy="79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Picture 140" descr="vita.jpg"/>
              <p:cNvPicPr/>
              <p:nvPr/>
            </p:nvPicPr>
            <p:blipFill>
              <a:blip r:embed="rId4"/>
              <a:stretch/>
            </p:blipFill>
            <p:spPr>
              <a:xfrm>
                <a:off x="4041000" y="3806640"/>
                <a:ext cx="1901160" cy="84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Rectangle 141"/>
              <p:cNvSpPr/>
              <p:nvPr/>
            </p:nvSpPr>
            <p:spPr>
              <a:xfrm>
                <a:off x="2981160" y="5846760"/>
                <a:ext cx="2292120" cy="23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ajisjet për Lojrat Vide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3" name="Picture 142" descr="ps3.jpg"/>
            <p:cNvPicPr/>
            <p:nvPr/>
          </p:nvPicPr>
          <p:blipFill>
            <a:blip r:embed="rId5"/>
            <a:stretch/>
          </p:blipFill>
          <p:spPr>
            <a:xfrm>
              <a:off x="620640" y="4932000"/>
              <a:ext cx="1542600" cy="89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43" descr="wii-u.jpg"/>
            <p:cNvPicPr/>
            <p:nvPr/>
          </p:nvPicPr>
          <p:blipFill>
            <a:blip r:embed="rId6"/>
            <a:stretch/>
          </p:blipFill>
          <p:spPr>
            <a:xfrm>
              <a:off x="2294280" y="5038920"/>
              <a:ext cx="2016000" cy="73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45" descr="wii.jpg"/>
            <p:cNvPicPr/>
            <p:nvPr/>
          </p:nvPicPr>
          <p:blipFill>
            <a:blip r:embed="rId7"/>
            <a:stretch/>
          </p:blipFill>
          <p:spPr>
            <a:xfrm>
              <a:off x="6033600" y="4830840"/>
              <a:ext cx="1843560" cy="10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44" descr="wii-u2.jpg"/>
            <p:cNvPicPr/>
            <p:nvPr/>
          </p:nvPicPr>
          <p:blipFill>
            <a:blip r:embed="rId8"/>
            <a:srcRect l="-7" t="0" r="4920" b="0"/>
            <a:stretch/>
          </p:blipFill>
          <p:spPr>
            <a:xfrm>
              <a:off x="4139640" y="4830840"/>
              <a:ext cx="1960200" cy="93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70E7DE-B198-446F-9266-DF82809C5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arrësit G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istemi Global i Pozicionimit (GPS) është një sistem i navigimit satelitor i vendosur në hapësirë që jep të dhëna për vendndodhjen dhe kohë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15" descr="gps2"/>
          <p:cNvPicPr/>
          <p:nvPr/>
        </p:nvPicPr>
        <p:blipFill>
          <a:blip r:embed="rId1"/>
          <a:stretch/>
        </p:blipFill>
        <p:spPr>
          <a:xfrm>
            <a:off x="4881600" y="3733920"/>
            <a:ext cx="2890800" cy="1847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6" descr="gps1"/>
          <p:cNvPicPr/>
          <p:nvPr/>
        </p:nvPicPr>
        <p:blipFill>
          <a:blip r:embed="rId2"/>
          <a:stretch/>
        </p:blipFill>
        <p:spPr>
          <a:xfrm>
            <a:off x="1301760" y="3733920"/>
            <a:ext cx="3149640" cy="18669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7"/>
          <p:cNvSpPr/>
          <p:nvPr/>
        </p:nvSpPr>
        <p:spPr>
          <a:xfrm>
            <a:off x="3247920" y="5738760"/>
            <a:ext cx="21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rësit G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12DDBD-C91B-4B37-A8C0-1C98048A9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rovat e Mundsh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okument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ot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sazhet Elektronike Skedarët Bashkëngjit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Bazat e të Dhën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ë Dhëna Financi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istoria e Navigimit të Internet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gjistrimet e Bisedave në C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gjistrimet e Ngjarje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Vendndodhjet G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675361-09CF-4902-96B4-00BCAF024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urimet e Prov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at Elektronike mund të lidhen me pothuaj të gjitha llojet e hetime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oji dhe numri i pajisjeve elektronike rriten përdit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at Elektronike duhet të trajtohen me korrektësi që të kenë vlerë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71CF6B-CA98-467A-8826-6DCD1F79AF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"/>
          <p:cNvGrpSpPr/>
          <p:nvPr/>
        </p:nvGrpSpPr>
        <p:grpSpPr>
          <a:xfrm>
            <a:off x="2828880" y="457200"/>
            <a:ext cx="3673440" cy="5977080"/>
            <a:chOff x="2828880" y="457200"/>
            <a:chExt cx="3673440" cy="5977080"/>
          </a:xfrm>
        </p:grpSpPr>
        <p:sp>
          <p:nvSpPr>
            <p:cNvPr id="298" name="AutoShape 3"/>
            <p:cNvSpPr/>
            <p:nvPr/>
          </p:nvSpPr>
          <p:spPr>
            <a:xfrm>
              <a:off x="2828880" y="457200"/>
              <a:ext cx="3673440" cy="597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4"/>
            <p:cNvSpPr/>
            <p:nvPr/>
          </p:nvSpPr>
          <p:spPr>
            <a:xfrm>
              <a:off x="2828880" y="872640"/>
              <a:ext cx="3668760" cy="5538240"/>
            </a:xfrm>
            <a:custGeom>
              <a:avLst/>
              <a:gdLst>
                <a:gd name="textAreaLeft" fmla="*/ 26280 w 3668760"/>
                <a:gd name="textAreaRight" fmla="*/ 3642480 w 3668760"/>
                <a:gd name="textAreaTop" fmla="*/ 26280 h 5538240"/>
                <a:gd name="textAreaBottom" fmla="*/ 5511960 h 5538240"/>
              </a:gdLst>
              <a:ahLst/>
              <a:rect l="textAreaLeft" t="textAreaTop" r="textAreaRight" b="textAreaBottom"/>
              <a:pathLst>
                <a:path w="21600" h="32606">
                  <a:moveTo>
                    <a:pt x="532" y="0"/>
                  </a:moveTo>
                  <a:arcTo wR="532" hR="532" stAng="16200000" swAng="-5400000"/>
                  <a:lnTo>
                    <a:pt x="0" y="32074"/>
                  </a:lnTo>
                  <a:arcTo wR="532" hR="532" stAng="10800000" swAng="-5400000"/>
                  <a:lnTo>
                    <a:pt x="21068" y="32606"/>
                  </a:lnTo>
                  <a:arcTo wR="532" hR="532" stAng="5400000" swAng="-5400000"/>
                  <a:lnTo>
                    <a:pt x="21600" y="532"/>
                  </a:lnTo>
                  <a:arcTo wR="532" hR="532" stAng="0" swAng="-5400000"/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5"/>
            <p:cNvSpPr/>
            <p:nvPr/>
          </p:nvSpPr>
          <p:spPr>
            <a:xfrm>
              <a:off x="2921760" y="872640"/>
              <a:ext cx="3513240" cy="5493960"/>
            </a:xfrm>
            <a:custGeom>
              <a:avLst/>
              <a:gdLst>
                <a:gd name="textAreaLeft" fmla="*/ 25560 w 3513240"/>
                <a:gd name="textAreaRight" fmla="*/ 3487680 w 3513240"/>
                <a:gd name="textAreaTop" fmla="*/ 25560 h 5493960"/>
                <a:gd name="textAreaBottom" fmla="*/ 5468400 h 5493960"/>
              </a:gdLst>
              <a:ahLst/>
              <a:rect l="textAreaLeft" t="textAreaTop" r="textAreaRight" b="textAreaBottom"/>
              <a:pathLst>
                <a:path w="21600" h="33777">
                  <a:moveTo>
                    <a:pt x="540" y="0"/>
                  </a:moveTo>
                  <a:arcTo wR="540" hR="540" stAng="16200000" swAng="-5400000"/>
                  <a:lnTo>
                    <a:pt x="0" y="33237"/>
                  </a:lnTo>
                  <a:arcTo wR="540" hR="540" stAng="10800000" swAng="-5400000"/>
                  <a:lnTo>
                    <a:pt x="21060" y="33777"/>
                  </a:lnTo>
                  <a:arcTo wR="540" hR="540" stAng="5400000" swAng="-5400000"/>
                  <a:lnTo>
                    <a:pt x="21600" y="540"/>
                  </a:lnTo>
                  <a:arcTo wR="540" hR="54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6"/>
            <p:cNvSpPr/>
            <p:nvPr/>
          </p:nvSpPr>
          <p:spPr>
            <a:xfrm>
              <a:off x="2921760" y="872640"/>
              <a:ext cx="3506760" cy="181800"/>
            </a:xfrm>
            <a:prstGeom prst="pie">
              <a:avLst/>
            </a:prstGeom>
            <a:solidFill>
              <a:srgbClr val="254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7"/>
            <p:cNvSpPr/>
            <p:nvPr/>
          </p:nvSpPr>
          <p:spPr>
            <a:xfrm>
              <a:off x="3143880" y="1378440"/>
              <a:ext cx="3069360" cy="460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8"/>
            <p:cNvSpPr/>
            <p:nvPr/>
          </p:nvSpPr>
          <p:spPr>
            <a:xfrm>
              <a:off x="4053240" y="648720"/>
              <a:ext cx="1234800" cy="6447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9"/>
            <p:cNvSpPr/>
            <p:nvPr/>
          </p:nvSpPr>
          <p:spPr>
            <a:xfrm>
              <a:off x="4063680" y="648720"/>
              <a:ext cx="1209240" cy="644760"/>
            </a:xfrm>
            <a:prstGeom prst="pi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0"/>
            <p:cNvSpPr/>
            <p:nvPr/>
          </p:nvSpPr>
          <p:spPr>
            <a:xfrm>
              <a:off x="4074120" y="648720"/>
              <a:ext cx="1188720" cy="644760"/>
            </a:xfrm>
            <a:prstGeom prst="pie">
              <a:avLst/>
            </a:pr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1"/>
            <p:cNvSpPr/>
            <p:nvPr/>
          </p:nvSpPr>
          <p:spPr>
            <a:xfrm>
              <a:off x="4078440" y="648720"/>
              <a:ext cx="1173600" cy="644760"/>
            </a:xfrm>
            <a:prstGeom prst="pie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2"/>
            <p:cNvSpPr/>
            <p:nvPr/>
          </p:nvSpPr>
          <p:spPr>
            <a:xfrm>
              <a:off x="4088880" y="648720"/>
              <a:ext cx="1146960" cy="644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3"/>
            <p:cNvSpPr/>
            <p:nvPr/>
          </p:nvSpPr>
          <p:spPr>
            <a:xfrm>
              <a:off x="4099320" y="648720"/>
              <a:ext cx="1126440" cy="644760"/>
            </a:xfrm>
            <a:prstGeom prst="pie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4"/>
            <p:cNvSpPr/>
            <p:nvPr/>
          </p:nvSpPr>
          <p:spPr>
            <a:xfrm>
              <a:off x="4109760" y="648720"/>
              <a:ext cx="1105920" cy="644760"/>
            </a:xfrm>
            <a:prstGeom prst="pie">
              <a:avLst/>
            </a:pr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5"/>
            <p:cNvSpPr/>
            <p:nvPr/>
          </p:nvSpPr>
          <p:spPr>
            <a:xfrm>
              <a:off x="4120200" y="648720"/>
              <a:ext cx="1080360" cy="644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6"/>
            <p:cNvSpPr/>
            <p:nvPr/>
          </p:nvSpPr>
          <p:spPr>
            <a:xfrm>
              <a:off x="4120200" y="1030320"/>
              <a:ext cx="15516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7"/>
            <p:cNvSpPr/>
            <p:nvPr/>
          </p:nvSpPr>
          <p:spPr>
            <a:xfrm>
              <a:off x="4120200" y="1035000"/>
              <a:ext cx="15516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8"/>
            <p:cNvSpPr/>
            <p:nvPr/>
          </p:nvSpPr>
          <p:spPr>
            <a:xfrm>
              <a:off x="4120200" y="1035000"/>
              <a:ext cx="14508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9"/>
            <p:cNvSpPr/>
            <p:nvPr/>
          </p:nvSpPr>
          <p:spPr>
            <a:xfrm>
              <a:off x="4125600" y="1035000"/>
              <a:ext cx="13932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0"/>
            <p:cNvSpPr/>
            <p:nvPr/>
          </p:nvSpPr>
          <p:spPr>
            <a:xfrm>
              <a:off x="412560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1"/>
            <p:cNvSpPr/>
            <p:nvPr/>
          </p:nvSpPr>
          <p:spPr>
            <a:xfrm>
              <a:off x="4125600" y="1035000"/>
              <a:ext cx="12888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2"/>
            <p:cNvSpPr/>
            <p:nvPr/>
          </p:nvSpPr>
          <p:spPr>
            <a:xfrm>
              <a:off x="4125600" y="1035000"/>
              <a:ext cx="12420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3"/>
            <p:cNvSpPr/>
            <p:nvPr/>
          </p:nvSpPr>
          <p:spPr>
            <a:xfrm>
              <a:off x="4130640" y="1041120"/>
              <a:ext cx="10908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4"/>
            <p:cNvSpPr/>
            <p:nvPr/>
          </p:nvSpPr>
          <p:spPr>
            <a:xfrm>
              <a:off x="5091480" y="1030320"/>
              <a:ext cx="16092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5"/>
            <p:cNvSpPr/>
            <p:nvPr/>
          </p:nvSpPr>
          <p:spPr>
            <a:xfrm>
              <a:off x="5091480" y="1035000"/>
              <a:ext cx="15048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26"/>
            <p:cNvSpPr/>
            <p:nvPr/>
          </p:nvSpPr>
          <p:spPr>
            <a:xfrm>
              <a:off x="5097240" y="1035000"/>
              <a:ext cx="14472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27"/>
            <p:cNvSpPr/>
            <p:nvPr/>
          </p:nvSpPr>
          <p:spPr>
            <a:xfrm>
              <a:off x="5097240" y="1035000"/>
              <a:ext cx="13896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28"/>
            <p:cNvSpPr/>
            <p:nvPr/>
          </p:nvSpPr>
          <p:spPr>
            <a:xfrm>
              <a:off x="509724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29"/>
            <p:cNvSpPr/>
            <p:nvPr/>
          </p:nvSpPr>
          <p:spPr>
            <a:xfrm>
              <a:off x="5101560" y="1035000"/>
              <a:ext cx="11952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0"/>
            <p:cNvSpPr/>
            <p:nvPr/>
          </p:nvSpPr>
          <p:spPr>
            <a:xfrm>
              <a:off x="5101560" y="1035000"/>
              <a:ext cx="11952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1"/>
            <p:cNvSpPr/>
            <p:nvPr/>
          </p:nvSpPr>
          <p:spPr>
            <a:xfrm>
              <a:off x="5101560" y="1041120"/>
              <a:ext cx="11376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2"/>
            <p:cNvSpPr/>
            <p:nvPr/>
          </p:nvSpPr>
          <p:spPr>
            <a:xfrm>
              <a:off x="3764160" y="457200"/>
              <a:ext cx="1797480" cy="1020600"/>
            </a:xfrm>
            <a:prstGeom prst="pie">
              <a:avLst/>
            </a:prstGeom>
            <a:solidFill>
              <a:srgbClr val="c0c0c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33"/>
            <p:cNvSpPr/>
            <p:nvPr/>
          </p:nvSpPr>
          <p:spPr>
            <a:xfrm>
              <a:off x="3754080" y="1467000"/>
              <a:ext cx="1822680" cy="67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34"/>
            <p:cNvSpPr/>
            <p:nvPr/>
          </p:nvSpPr>
          <p:spPr>
            <a:xfrm>
              <a:off x="4383720" y="490680"/>
              <a:ext cx="594720" cy="43848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35"/>
            <p:cNvSpPr/>
            <p:nvPr/>
          </p:nvSpPr>
          <p:spPr>
            <a:xfrm>
              <a:off x="4507920" y="631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36"/>
            <p:cNvSpPr/>
            <p:nvPr/>
          </p:nvSpPr>
          <p:spPr>
            <a:xfrm>
              <a:off x="4507920" y="642600"/>
              <a:ext cx="35640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37"/>
            <p:cNvSpPr/>
            <p:nvPr/>
          </p:nvSpPr>
          <p:spPr>
            <a:xfrm>
              <a:off x="4507920" y="703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38"/>
            <p:cNvSpPr/>
            <p:nvPr/>
          </p:nvSpPr>
          <p:spPr>
            <a:xfrm>
              <a:off x="4507920" y="714600"/>
              <a:ext cx="356400" cy="291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39"/>
            <p:cNvSpPr/>
            <p:nvPr/>
          </p:nvSpPr>
          <p:spPr>
            <a:xfrm>
              <a:off x="4507920" y="781920"/>
              <a:ext cx="356400" cy="460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40"/>
            <p:cNvSpPr/>
            <p:nvPr/>
          </p:nvSpPr>
          <p:spPr>
            <a:xfrm>
              <a:off x="4507920" y="794520"/>
              <a:ext cx="356400" cy="3816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41"/>
            <p:cNvSpPr/>
            <p:nvPr/>
          </p:nvSpPr>
          <p:spPr>
            <a:xfrm>
              <a:off x="4435200" y="86184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42"/>
            <p:cNvSpPr/>
            <p:nvPr/>
          </p:nvSpPr>
          <p:spPr>
            <a:xfrm>
              <a:off x="4435200" y="872640"/>
              <a:ext cx="496080" cy="3960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43"/>
            <p:cNvSpPr/>
            <p:nvPr/>
          </p:nvSpPr>
          <p:spPr>
            <a:xfrm>
              <a:off x="4435200" y="950400"/>
              <a:ext cx="496080" cy="39960"/>
            </a:xfrm>
            <a:prstGeom prst="roundRect">
              <a:avLst>
                <a:gd name="adj" fmla="val 4285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44"/>
            <p:cNvSpPr/>
            <p:nvPr/>
          </p:nvSpPr>
          <p:spPr>
            <a:xfrm>
              <a:off x="4435200" y="963000"/>
              <a:ext cx="49608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45"/>
            <p:cNvSpPr/>
            <p:nvPr/>
          </p:nvSpPr>
          <p:spPr>
            <a:xfrm>
              <a:off x="4435200" y="102420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46"/>
            <p:cNvSpPr/>
            <p:nvPr/>
          </p:nvSpPr>
          <p:spPr>
            <a:xfrm>
              <a:off x="4435200" y="1035000"/>
              <a:ext cx="496080" cy="33480"/>
            </a:xfrm>
            <a:prstGeom prst="roundRect">
              <a:avLst>
                <a:gd name="adj" fmla="val 41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Box 48"/>
          <p:cNvSpPr/>
          <p:nvPr/>
        </p:nvSpPr>
        <p:spPr>
          <a:xfrm>
            <a:off x="3144960" y="3025800"/>
            <a:ext cx="306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122031"/>
                </a:solidFill>
                <a:latin typeface="Calibri"/>
              </a:rPr>
              <a:t>Rrjetet Kompjuter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9B6D59-5657-4A86-9B72-217F9FADE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Rrjetet Kompjuter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jë rrjet përbëhet nga lidhjet ndërmjet dy ose më shumë kompjuterave që janë lidhur me kabllo të dhënash ose me lidhjen pa kabëll.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rjeti i mundëson kompjuterave të ndajnë të dhënat dhe burimet e tjera ndërmjet ty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F4487-CA5B-4084-8C2F-1EC1CADC8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lojet e Rrjete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3200" spc="-1" strike="noStrike">
                <a:solidFill>
                  <a:srgbClr val="000000"/>
                </a:solidFill>
                <a:latin typeface="Calibri"/>
              </a:rPr>
              <a:t>Local Area Network (LAN) – </a:t>
            </a: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është një rrjet kompjuterik që mbulon një zonë të vogël gjeografike, si shtëpia, zyra, ose grup ndërtesash p.sh. një shkollë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3200" spc="-1" strike="noStrike">
                <a:solidFill>
                  <a:srgbClr val="000000"/>
                </a:solidFill>
                <a:latin typeface="Calibri"/>
              </a:rPr>
              <a:t>Wide Area Network (WAN) </a:t>
            </a: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– është një rrjet kompjuterik që mbulon një zonë të gjerë (d.m.th, çdo rrjet, lidhjet e komunikimit kalojnë kufijtë metropolitanë, rajon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 ose kombët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Shembulli më i madh dhe i mirënjohur i një rrjeti WAN është </a:t>
            </a:r>
            <a:r>
              <a:rPr b="1" lang="sq-AL" sz="3200" spc="-1" strike="noStrike">
                <a:solidFill>
                  <a:srgbClr val="000000"/>
                </a:solidFill>
                <a:latin typeface="Calibri"/>
              </a:rPr>
              <a:t>INTERNETI</a:t>
            </a: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19CF93-6F96-4218-8736-DC488C164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Terminologjia dhe Pajisje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r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janë një pikë fundore ose “kanal" për komunikimet në rrj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ndwidt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është sasia e informacionit që mund të kalojë nëpërmjet një kablli ose linje pa kabë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resa Media Access Control (MAC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është një identifikues gati-unik i caktuar për shumicën e përshtatësve të rrjetit ose kartave të ndërfaqes së rrjetit (NICs) nga prodhue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0A17A8-F8A8-42FD-B876-8C3DCA9D3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ajisjet e Ruajtjes 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ë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nave q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i bashk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ngjiten Rrjetit ose Network Attached Storage (NAS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Content Placeholder 2"/>
          <p:cNvSpPr/>
          <p:nvPr/>
        </p:nvSpPr>
        <p:spPr>
          <a:xfrm>
            <a:off x="457200" y="2133720"/>
            <a:ext cx="82296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është e ngjashme me disqet e ngurta të jashtme me ndryshimin që ata ofrojnë hapësirë për një rrjet të tërë në vend të një Kompjuteri të vetëm.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45"/>
          <p:cNvGrpSpPr/>
          <p:nvPr/>
        </p:nvGrpSpPr>
        <p:grpSpPr>
          <a:xfrm>
            <a:off x="770040" y="3870360"/>
            <a:ext cx="7315200" cy="2314080"/>
            <a:chOff x="770040" y="3870360"/>
            <a:chExt cx="7315200" cy="2314080"/>
          </a:xfrm>
        </p:grpSpPr>
        <p:pic>
          <p:nvPicPr>
            <p:cNvPr id="356" name="Grafik 167" descr=""/>
            <p:cNvPicPr/>
            <p:nvPr/>
          </p:nvPicPr>
          <p:blipFill>
            <a:blip r:embed="rId1"/>
            <a:stretch/>
          </p:blipFill>
          <p:spPr>
            <a:xfrm>
              <a:off x="6107760" y="3870360"/>
              <a:ext cx="1977480" cy="22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Grafik 168" descr=""/>
            <p:cNvPicPr/>
            <p:nvPr/>
          </p:nvPicPr>
          <p:blipFill>
            <a:blip r:embed="rId2"/>
            <a:stretch/>
          </p:blipFill>
          <p:spPr>
            <a:xfrm>
              <a:off x="770040" y="3870360"/>
              <a:ext cx="1854000" cy="206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8" name="Group 244"/>
            <p:cNvGrpSpPr/>
            <p:nvPr/>
          </p:nvGrpSpPr>
          <p:grpSpPr>
            <a:xfrm>
              <a:off x="2884680" y="3870360"/>
              <a:ext cx="2707200" cy="2314080"/>
              <a:chOff x="2884680" y="3870360"/>
              <a:chExt cx="2707200" cy="2314080"/>
            </a:xfrm>
          </p:grpSpPr>
          <p:pic>
            <p:nvPicPr>
              <p:cNvPr id="359" name="Picture 127" descr="RAID.jpg"/>
              <p:cNvPicPr/>
              <p:nvPr/>
            </p:nvPicPr>
            <p:blipFill>
              <a:blip r:embed="rId3"/>
              <a:stretch/>
            </p:blipFill>
            <p:spPr>
              <a:xfrm>
                <a:off x="2884680" y="3870360"/>
                <a:ext cx="2707200" cy="189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Rectangle 128"/>
              <p:cNvSpPr/>
              <p:nvPr/>
            </p:nvSpPr>
            <p:spPr>
              <a:xfrm>
                <a:off x="3227760" y="5793480"/>
                <a:ext cx="192060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l-GR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NAS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me vendosje </a:t>
                </a:r>
                <a:r>
                  <a:rPr b="0" lang="el-GR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RA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104FC7-CFFF-4FFF-98C9-4F96A45CE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Kontrolluesi i Nd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rfaqes s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Rrjetit ose Network Interface Controller (NIC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Content Placeholder 2"/>
          <p:cNvSpPr/>
          <p:nvPr/>
        </p:nvSpPr>
        <p:spPr>
          <a:xfrm>
            <a:off x="457200" y="1866960"/>
            <a:ext cx="82296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C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shtë një qark ose kartë e instaluar në një kompjuter që i lejon atij të lidhet me një rrj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246"/>
          <p:cNvGrpSpPr/>
          <p:nvPr/>
        </p:nvGrpSpPr>
        <p:grpSpPr>
          <a:xfrm>
            <a:off x="612720" y="3138480"/>
            <a:ext cx="7399080" cy="2935080"/>
            <a:chOff x="612720" y="3138480"/>
            <a:chExt cx="7399080" cy="2935080"/>
          </a:xfrm>
        </p:grpSpPr>
        <p:pic>
          <p:nvPicPr>
            <p:cNvPr id="365" name="Grafik 129" descr=""/>
            <p:cNvPicPr/>
            <p:nvPr/>
          </p:nvPicPr>
          <p:blipFill>
            <a:blip r:embed="rId1"/>
            <a:stretch/>
          </p:blipFill>
          <p:spPr>
            <a:xfrm>
              <a:off x="612720" y="3138480"/>
              <a:ext cx="2196000" cy="246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133" descr="NIC.jpg"/>
            <p:cNvPicPr/>
            <p:nvPr/>
          </p:nvPicPr>
          <p:blipFill>
            <a:blip r:embed="rId2"/>
            <a:stretch/>
          </p:blipFill>
          <p:spPr>
            <a:xfrm>
              <a:off x="2823480" y="3505320"/>
              <a:ext cx="2823840" cy="21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Title 1"/>
            <p:cNvSpPr/>
            <p:nvPr/>
          </p:nvSpPr>
          <p:spPr>
            <a:xfrm>
              <a:off x="3313800" y="5655960"/>
              <a:ext cx="22291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Grafik 116" descr=""/>
            <p:cNvPicPr/>
            <p:nvPr/>
          </p:nvPicPr>
          <p:blipFill>
            <a:blip r:embed="rId3"/>
            <a:stretch/>
          </p:blipFill>
          <p:spPr>
            <a:xfrm>
              <a:off x="5624640" y="3138480"/>
              <a:ext cx="2387160" cy="195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9FF6CD-30BA-4DB9-9D8D-E16469891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etwork Hub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Content Placeholder 2"/>
          <p:cNvSpPr/>
          <p:nvPr/>
        </p:nvSpPr>
        <p:spPr>
          <a:xfrm>
            <a:off x="457200" y="1417680"/>
            <a:ext cx="822960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twork Hub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shtë një pajisje për lidhjen së bashku të pajisjeve të eternetit me fibra optike ose me çifte, duke i kthyer ato në një segment të vetëm të rrjetit.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9"/>
          <p:cNvGrpSpPr/>
          <p:nvPr/>
        </p:nvGrpSpPr>
        <p:grpSpPr>
          <a:xfrm>
            <a:off x="4448160" y="3584520"/>
            <a:ext cx="2143080" cy="2238480"/>
            <a:chOff x="4448160" y="3584520"/>
            <a:chExt cx="2143080" cy="2238480"/>
          </a:xfrm>
        </p:grpSpPr>
        <p:pic>
          <p:nvPicPr>
            <p:cNvPr id="373" name="Picture 147" descr="Network Hub.jpg"/>
            <p:cNvPicPr/>
            <p:nvPr/>
          </p:nvPicPr>
          <p:blipFill>
            <a:blip r:embed="rId1"/>
            <a:stretch/>
          </p:blipFill>
          <p:spPr>
            <a:xfrm>
              <a:off x="4448160" y="3584520"/>
              <a:ext cx="214308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Title 1"/>
            <p:cNvSpPr/>
            <p:nvPr/>
          </p:nvSpPr>
          <p:spPr>
            <a:xfrm>
              <a:off x="5019120" y="5548680"/>
              <a:ext cx="109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Ne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ork Hu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465A1-1532-4C60-8215-F86E9CB30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etwork Swi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Content Placeholder 2"/>
          <p:cNvSpPr/>
          <p:nvPr/>
        </p:nvSpPr>
        <p:spPr>
          <a:xfrm>
            <a:off x="457200" y="1417680"/>
            <a:ext cx="82296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twork Switc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shtë një pajisje e rrjetit kompjuterik që përdoret kryesisht për lidhjen e grupeve të pajisjeve të rrjetit me njëra tjetrën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ngjashme me pajisjen H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138"/>
          <p:cNvGrpSpPr/>
          <p:nvPr/>
        </p:nvGrpSpPr>
        <p:grpSpPr>
          <a:xfrm>
            <a:off x="5869080" y="3830760"/>
            <a:ext cx="1973160" cy="2090520"/>
            <a:chOff x="5869080" y="3830760"/>
            <a:chExt cx="1973160" cy="2090520"/>
          </a:xfrm>
        </p:grpSpPr>
        <p:pic>
          <p:nvPicPr>
            <p:cNvPr id="379" name="Picture 150" descr="network switch.jpg"/>
            <p:cNvPicPr/>
            <p:nvPr/>
          </p:nvPicPr>
          <p:blipFill>
            <a:blip r:embed="rId1"/>
            <a:stretch/>
          </p:blipFill>
          <p:spPr>
            <a:xfrm>
              <a:off x="5869080" y="3830760"/>
              <a:ext cx="197316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Title 1"/>
            <p:cNvSpPr/>
            <p:nvPr/>
          </p:nvSpPr>
          <p:spPr>
            <a:xfrm>
              <a:off x="6083280" y="5433120"/>
              <a:ext cx="161892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Ne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ork S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it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110DA7-A51C-478B-84FD-5A5E218AC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etwork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outer</a:t>
            </a: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457200" y="1417680"/>
            <a:ext cx="82296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uter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htë një pajisje që përcakton pikën tjetër të rrjetit ku duhet të përcillet një paketë për në destinacionin e s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het të jetë e lidhur me të paktën 2 rrjete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7"/>
          <p:cNvGrpSpPr/>
          <p:nvPr/>
        </p:nvGrpSpPr>
        <p:grpSpPr>
          <a:xfrm>
            <a:off x="3213000" y="4033800"/>
            <a:ext cx="4079880" cy="1957320"/>
            <a:chOff x="3213000" y="4033800"/>
            <a:chExt cx="4079880" cy="1957320"/>
          </a:xfrm>
        </p:grpSpPr>
        <p:pic>
          <p:nvPicPr>
            <p:cNvPr id="385" name="Picture 153" descr="network router.jpg"/>
            <p:cNvPicPr/>
            <p:nvPr/>
          </p:nvPicPr>
          <p:blipFill>
            <a:blip r:embed="rId1"/>
            <a:stretch/>
          </p:blipFill>
          <p:spPr>
            <a:xfrm>
              <a:off x="3213000" y="4033800"/>
              <a:ext cx="4079880" cy="19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Title 1"/>
            <p:cNvSpPr/>
            <p:nvPr/>
          </p:nvSpPr>
          <p:spPr>
            <a:xfrm flipV="1" rot="10800000">
              <a:off x="4053600" y="5535360"/>
              <a:ext cx="2534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04E8A-23D8-4020-8386-5B1F60596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Serveri</a:t>
            </a: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Content Placeholder 2"/>
          <p:cNvSpPr/>
          <p:nvPr/>
        </p:nvSpPr>
        <p:spPr>
          <a:xfrm>
            <a:off x="457200" y="1417680"/>
            <a:ext cx="82296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rver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është një kompjuter ose një pajisje që ofron informacion ose shërbime për kompjuterat e tjerë në rrj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jë Server mund të kryejë disa shërbime – p.sh. Server Uebi, Server per postën elektronike, server për skedarët, server për printerat etj.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Grafik 131" descr=""/>
          <p:cNvPicPr/>
          <p:nvPr/>
        </p:nvPicPr>
        <p:blipFill>
          <a:blip r:embed="rId1"/>
          <a:stretch/>
        </p:blipFill>
        <p:spPr>
          <a:xfrm>
            <a:off x="4037040" y="4664160"/>
            <a:ext cx="29653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47777-FB7B-4F36-BEB7-304A190DF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sti i Njohuriv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User\Desktop\test.jpg"/>
          <p:cNvPicPr/>
          <p:nvPr/>
        </p:nvPicPr>
        <p:blipFill>
          <a:blip r:embed="rId1"/>
          <a:stretch/>
        </p:blipFill>
        <p:spPr>
          <a:xfrm>
            <a:off x="2655720" y="1646280"/>
            <a:ext cx="270360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8A95F6-8F16-47AB-B680-1368FB6F4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Firew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Content Placeholder 2"/>
          <p:cNvSpPr/>
          <p:nvPr/>
        </p:nvSpPr>
        <p:spPr>
          <a:xfrm>
            <a:off x="457200" y="1238400"/>
            <a:ext cx="822960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rewal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shtë një pajisje fizike ose shërbim i një programi kompjuterik i përdorur për rritjen e sigurisë së rrjet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yra e një firewall-i është ose të bllokojë ose të lejojë trafikun nga rrjeti ose për në rrj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250"/>
          <p:cNvGrpSpPr/>
          <p:nvPr/>
        </p:nvGrpSpPr>
        <p:grpSpPr>
          <a:xfrm>
            <a:off x="614520" y="4289400"/>
            <a:ext cx="8072280" cy="1530000"/>
            <a:chOff x="614520" y="4289400"/>
            <a:chExt cx="8072280" cy="1530000"/>
          </a:xfrm>
        </p:grpSpPr>
        <p:pic>
          <p:nvPicPr>
            <p:cNvPr id="395" name="Grafik 161" descr=""/>
            <p:cNvPicPr/>
            <p:nvPr/>
          </p:nvPicPr>
          <p:blipFill>
            <a:blip r:embed="rId1"/>
            <a:stretch/>
          </p:blipFill>
          <p:spPr>
            <a:xfrm>
              <a:off x="3441960" y="4595400"/>
              <a:ext cx="3125520" cy="61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Grafik 163" descr=""/>
            <p:cNvPicPr/>
            <p:nvPr/>
          </p:nvPicPr>
          <p:blipFill>
            <a:blip r:embed="rId2"/>
            <a:stretch/>
          </p:blipFill>
          <p:spPr>
            <a:xfrm>
              <a:off x="6846480" y="4289400"/>
              <a:ext cx="1840320" cy="152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247"/>
            <p:cNvSpPr/>
            <p:nvPr/>
          </p:nvSpPr>
          <p:spPr>
            <a:xfrm>
              <a:off x="3988080" y="5207400"/>
              <a:ext cx="226188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Pajisjet 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Fir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Grafik 162" descr=""/>
            <p:cNvPicPr/>
            <p:nvPr/>
          </p:nvPicPr>
          <p:blipFill>
            <a:blip r:embed="rId3"/>
            <a:stretch/>
          </p:blipFill>
          <p:spPr>
            <a:xfrm>
              <a:off x="614520" y="4289400"/>
              <a:ext cx="2200320" cy="120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F6F04-3F5A-4AC9-AFFE-6CBC3F958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ika e Aksesi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Content Placeholder 2"/>
          <p:cNvSpPr/>
          <p:nvPr/>
        </p:nvSpPr>
        <p:spPr>
          <a:xfrm>
            <a:off x="457200" y="1417680"/>
            <a:ext cx="82296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kat e Aksesit krijojnë një rrjet për shërbimet e WLAN-it dhe i lidhin ato me pjesën tjetër të rrjetit.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Grafik 164" descr=""/>
          <p:cNvPicPr/>
          <p:nvPr/>
        </p:nvPicPr>
        <p:blipFill>
          <a:blip r:embed="rId1"/>
          <a:stretch/>
        </p:blipFill>
        <p:spPr>
          <a:xfrm>
            <a:off x="457200" y="3811680"/>
            <a:ext cx="2025720" cy="2025720"/>
          </a:xfrm>
          <a:prstGeom prst="rect">
            <a:avLst/>
          </a:prstGeom>
          <a:ln w="0">
            <a:noFill/>
          </a:ln>
        </p:spPr>
      </p:pic>
      <p:pic>
        <p:nvPicPr>
          <p:cNvPr id="403" name="Grafik 165" descr=""/>
          <p:cNvPicPr/>
          <p:nvPr/>
        </p:nvPicPr>
        <p:blipFill>
          <a:blip r:embed="rId2"/>
          <a:stretch/>
        </p:blipFill>
        <p:spPr>
          <a:xfrm>
            <a:off x="3165480" y="3743280"/>
            <a:ext cx="1900080" cy="1889280"/>
          </a:xfrm>
          <a:prstGeom prst="rect">
            <a:avLst/>
          </a:prstGeom>
          <a:ln w="0">
            <a:noFill/>
          </a:ln>
        </p:spPr>
      </p:pic>
      <p:pic>
        <p:nvPicPr>
          <p:cNvPr id="404" name="Grafik 166" descr=""/>
          <p:cNvPicPr/>
          <p:nvPr/>
        </p:nvPicPr>
        <p:blipFill>
          <a:blip r:embed="rId3"/>
          <a:stretch/>
        </p:blipFill>
        <p:spPr>
          <a:xfrm>
            <a:off x="5641920" y="3684600"/>
            <a:ext cx="265896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43256-DD65-4AC4-A181-6CAD7A4A5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ktivat e Sesio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Content Placeholder 2"/>
          <p:cNvSpPr/>
          <p:nvPr/>
        </p:nvSpPr>
        <p:spPr>
          <a:xfrm>
            <a:off x="45720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2800" spc="-1" strike="noStrike">
                <a:solidFill>
                  <a:srgbClr val="000000"/>
                </a:solidFill>
                <a:latin typeface="Arial"/>
              </a:rPr>
              <a:t>Në përfundim të mësimit pjesëmarrësit do të jenë në gjendje të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Njohin se cilat Burime të Provave janë me vler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provue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Bëjnë dallim ndërmjet Rrjeteve Kompjuter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Identifikojnë pajisjet e rrjet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2E3D8-D75D-4727-AF5C-FD8E8E610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410" name="TextBox 3"/>
          <p:cNvSpPr/>
          <p:nvPr/>
        </p:nvSpPr>
        <p:spPr>
          <a:xfrm>
            <a:off x="3085920" y="4500720"/>
            <a:ext cx="290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P y e t j 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B0FEF5-44FF-48E1-9773-2A9B1A3D0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istemet Kompjuter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stemet kompjuterike zakonisht përbëhen nga pjesët fizike të kompjuterit dhe programet kompjuterik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jithashtu Pjesët e Kompjuterit mund të kategorizohen përgjithësisht në Njësinë Qendrore dhe Pjesët Perifer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69FC05-D262-4DFE-A8A2-FFAC2EB2B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istemet Kompjuter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Group 1"/>
          <p:cNvGrpSpPr/>
          <p:nvPr/>
        </p:nvGrpSpPr>
        <p:grpSpPr>
          <a:xfrm>
            <a:off x="1079640" y="1308240"/>
            <a:ext cx="3490920" cy="2423880"/>
            <a:chOff x="1079640" y="1308240"/>
            <a:chExt cx="3490920" cy="2423880"/>
          </a:xfrm>
        </p:grpSpPr>
        <p:pic>
          <p:nvPicPr>
            <p:cNvPr id="67" name="Picture 7" descr=""/>
            <p:cNvPicPr/>
            <p:nvPr/>
          </p:nvPicPr>
          <p:blipFill>
            <a:blip r:embed="rId1"/>
            <a:stretch/>
          </p:blipFill>
          <p:spPr>
            <a:xfrm>
              <a:off x="1079640" y="1308240"/>
              <a:ext cx="3490920" cy="22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Rectangle 8"/>
            <p:cNvSpPr/>
            <p:nvPr/>
          </p:nvSpPr>
          <p:spPr>
            <a:xfrm>
              <a:off x="1530360" y="3372480"/>
              <a:ext cx="290736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Desktop/Toëer Syste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5"/>
          <p:cNvGrpSpPr/>
          <p:nvPr/>
        </p:nvGrpSpPr>
        <p:grpSpPr>
          <a:xfrm>
            <a:off x="946080" y="3732120"/>
            <a:ext cx="3490920" cy="2386080"/>
            <a:chOff x="946080" y="3732120"/>
            <a:chExt cx="3490920" cy="2386080"/>
          </a:xfrm>
        </p:grpSpPr>
        <p:pic>
          <p:nvPicPr>
            <p:cNvPr id="70" name="Picture 3" descr="laptop.jpg"/>
            <p:cNvPicPr/>
            <p:nvPr/>
          </p:nvPicPr>
          <p:blipFill>
            <a:blip r:embed="rId2"/>
            <a:stretch/>
          </p:blipFill>
          <p:spPr>
            <a:xfrm>
              <a:off x="946080" y="3732120"/>
              <a:ext cx="3490920" cy="209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4"/>
            <p:cNvSpPr/>
            <p:nvPr/>
          </p:nvSpPr>
          <p:spPr>
            <a:xfrm>
              <a:off x="1634400" y="5779080"/>
              <a:ext cx="232524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Laptop Compu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4859280" y="1308240"/>
            <a:ext cx="3282840" cy="4432320"/>
            <a:chOff x="4859280" y="1308240"/>
            <a:chExt cx="3282840" cy="4432320"/>
          </a:xfrm>
        </p:grpSpPr>
        <p:pic>
          <p:nvPicPr>
            <p:cNvPr id="73" name="Picture 10" descr="mainframe computer.jpg"/>
            <p:cNvPicPr/>
            <p:nvPr/>
          </p:nvPicPr>
          <p:blipFill>
            <a:blip r:embed="rId3"/>
            <a:stretch/>
          </p:blipFill>
          <p:spPr>
            <a:xfrm>
              <a:off x="4859280" y="1308240"/>
              <a:ext cx="3013560" cy="37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11"/>
            <p:cNvSpPr/>
            <p:nvPr/>
          </p:nvSpPr>
          <p:spPr>
            <a:xfrm>
              <a:off x="4863240" y="5047920"/>
              <a:ext cx="3278880" cy="6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Mainframe Compu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6BF84A-5E2D-46DC-AA34-BB51EF843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ajisjet Tabl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jë kompjuter tablet është një pajisje që vihet në funksionim duke prekur ekranin dhe jo duke përdorur një tastierë dhe një maus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457200" y="3483000"/>
            <a:ext cx="8229600" cy="2950560"/>
            <a:chOff x="457200" y="3483000"/>
            <a:chExt cx="8229600" cy="2950560"/>
          </a:xfrm>
        </p:grpSpPr>
        <p:pic>
          <p:nvPicPr>
            <p:cNvPr id="79" name="Picture 118" descr=""/>
            <p:cNvPicPr/>
            <p:nvPr/>
          </p:nvPicPr>
          <p:blipFill>
            <a:blip r:embed="rId1"/>
            <a:stretch/>
          </p:blipFill>
          <p:spPr>
            <a:xfrm>
              <a:off x="457200" y="3578760"/>
              <a:ext cx="1799280" cy="244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19" descr=""/>
            <p:cNvPicPr/>
            <p:nvPr/>
          </p:nvPicPr>
          <p:blipFill>
            <a:blip r:embed="rId2"/>
            <a:stretch/>
          </p:blipFill>
          <p:spPr>
            <a:xfrm>
              <a:off x="2256480" y="3578760"/>
              <a:ext cx="1805040" cy="267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123" descr="galaxy tablet.jpg"/>
            <p:cNvPicPr/>
            <p:nvPr/>
          </p:nvPicPr>
          <p:blipFill>
            <a:blip r:embed="rId3"/>
            <a:stretch/>
          </p:blipFill>
          <p:spPr>
            <a:xfrm>
              <a:off x="4002480" y="3578760"/>
              <a:ext cx="2355840" cy="261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124" descr="tablet.jpg"/>
            <p:cNvPicPr/>
            <p:nvPr/>
          </p:nvPicPr>
          <p:blipFill>
            <a:blip r:embed="rId4"/>
            <a:stretch/>
          </p:blipFill>
          <p:spPr>
            <a:xfrm>
              <a:off x="6358320" y="3483000"/>
              <a:ext cx="2328480" cy="292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125"/>
            <p:cNvSpPr/>
            <p:nvPr/>
          </p:nvSpPr>
          <p:spPr>
            <a:xfrm>
              <a:off x="3074400" y="6202440"/>
              <a:ext cx="2740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Tablet PC’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2F8EA-4655-403D-8A58-433860B64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2"/>
          <p:cNvGrpSpPr/>
          <p:nvPr/>
        </p:nvGrpSpPr>
        <p:grpSpPr>
          <a:xfrm>
            <a:off x="2828880" y="457200"/>
            <a:ext cx="3673440" cy="5977080"/>
            <a:chOff x="2828880" y="457200"/>
            <a:chExt cx="3673440" cy="5977080"/>
          </a:xfrm>
        </p:grpSpPr>
        <p:sp>
          <p:nvSpPr>
            <p:cNvPr id="86" name="AutoShape 3"/>
            <p:cNvSpPr/>
            <p:nvPr/>
          </p:nvSpPr>
          <p:spPr>
            <a:xfrm>
              <a:off x="2828880" y="457200"/>
              <a:ext cx="3673440" cy="597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4"/>
            <p:cNvSpPr/>
            <p:nvPr/>
          </p:nvSpPr>
          <p:spPr>
            <a:xfrm>
              <a:off x="2828880" y="872640"/>
              <a:ext cx="3668760" cy="5538240"/>
            </a:xfrm>
            <a:custGeom>
              <a:avLst/>
              <a:gdLst>
                <a:gd name="textAreaLeft" fmla="*/ 26280 w 3668760"/>
                <a:gd name="textAreaRight" fmla="*/ 3642480 w 3668760"/>
                <a:gd name="textAreaTop" fmla="*/ 26280 h 5538240"/>
                <a:gd name="textAreaBottom" fmla="*/ 5511960 h 5538240"/>
              </a:gdLst>
              <a:ahLst/>
              <a:rect l="textAreaLeft" t="textAreaTop" r="textAreaRight" b="textAreaBottom"/>
              <a:pathLst>
                <a:path w="21600" h="32606">
                  <a:moveTo>
                    <a:pt x="532" y="0"/>
                  </a:moveTo>
                  <a:arcTo wR="532" hR="532" stAng="16200000" swAng="-5400000"/>
                  <a:lnTo>
                    <a:pt x="0" y="32074"/>
                  </a:lnTo>
                  <a:arcTo wR="532" hR="532" stAng="10800000" swAng="-5400000"/>
                  <a:lnTo>
                    <a:pt x="21068" y="32606"/>
                  </a:lnTo>
                  <a:arcTo wR="532" hR="532" stAng="5400000" swAng="-5400000"/>
                  <a:lnTo>
                    <a:pt x="21600" y="532"/>
                  </a:lnTo>
                  <a:arcTo wR="532" hR="532" stAng="0" swAng="-5400000"/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5"/>
            <p:cNvSpPr/>
            <p:nvPr/>
          </p:nvSpPr>
          <p:spPr>
            <a:xfrm>
              <a:off x="2921760" y="872640"/>
              <a:ext cx="3513240" cy="5493960"/>
            </a:xfrm>
            <a:custGeom>
              <a:avLst/>
              <a:gdLst>
                <a:gd name="textAreaLeft" fmla="*/ 25560 w 3513240"/>
                <a:gd name="textAreaRight" fmla="*/ 3487680 w 3513240"/>
                <a:gd name="textAreaTop" fmla="*/ 25560 h 5493960"/>
                <a:gd name="textAreaBottom" fmla="*/ 5468400 h 5493960"/>
              </a:gdLst>
              <a:ahLst/>
              <a:rect l="textAreaLeft" t="textAreaTop" r="textAreaRight" b="textAreaBottom"/>
              <a:pathLst>
                <a:path w="21600" h="33777">
                  <a:moveTo>
                    <a:pt x="540" y="0"/>
                  </a:moveTo>
                  <a:arcTo wR="540" hR="540" stAng="16200000" swAng="-5400000"/>
                  <a:lnTo>
                    <a:pt x="0" y="33237"/>
                  </a:lnTo>
                  <a:arcTo wR="540" hR="540" stAng="10800000" swAng="-5400000"/>
                  <a:lnTo>
                    <a:pt x="21060" y="33777"/>
                  </a:lnTo>
                  <a:arcTo wR="540" hR="540" stAng="5400000" swAng="-5400000"/>
                  <a:lnTo>
                    <a:pt x="21600" y="540"/>
                  </a:lnTo>
                  <a:arcTo wR="540" hR="54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"/>
            <p:cNvSpPr/>
            <p:nvPr/>
          </p:nvSpPr>
          <p:spPr>
            <a:xfrm>
              <a:off x="2921760" y="872640"/>
              <a:ext cx="3506760" cy="181800"/>
            </a:xfrm>
            <a:prstGeom prst="pie">
              <a:avLst/>
            </a:prstGeom>
            <a:solidFill>
              <a:srgbClr val="254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7"/>
            <p:cNvSpPr/>
            <p:nvPr/>
          </p:nvSpPr>
          <p:spPr>
            <a:xfrm>
              <a:off x="3143880" y="1378440"/>
              <a:ext cx="3069360" cy="460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8"/>
            <p:cNvSpPr/>
            <p:nvPr/>
          </p:nvSpPr>
          <p:spPr>
            <a:xfrm>
              <a:off x="4053240" y="648720"/>
              <a:ext cx="1234800" cy="6447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"/>
            <p:cNvSpPr/>
            <p:nvPr/>
          </p:nvSpPr>
          <p:spPr>
            <a:xfrm>
              <a:off x="4063680" y="648720"/>
              <a:ext cx="1209240" cy="644760"/>
            </a:xfrm>
            <a:prstGeom prst="pi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0"/>
            <p:cNvSpPr/>
            <p:nvPr/>
          </p:nvSpPr>
          <p:spPr>
            <a:xfrm>
              <a:off x="4074120" y="648720"/>
              <a:ext cx="1188720" cy="644760"/>
            </a:xfrm>
            <a:prstGeom prst="pie">
              <a:avLst/>
            </a:pr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1"/>
            <p:cNvSpPr/>
            <p:nvPr/>
          </p:nvSpPr>
          <p:spPr>
            <a:xfrm>
              <a:off x="4078440" y="648720"/>
              <a:ext cx="1173600" cy="644760"/>
            </a:xfrm>
            <a:prstGeom prst="pie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4088880" y="648720"/>
              <a:ext cx="1146960" cy="644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3"/>
            <p:cNvSpPr/>
            <p:nvPr/>
          </p:nvSpPr>
          <p:spPr>
            <a:xfrm>
              <a:off x="4099320" y="648720"/>
              <a:ext cx="1126440" cy="644760"/>
            </a:xfrm>
            <a:prstGeom prst="pie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4"/>
            <p:cNvSpPr/>
            <p:nvPr/>
          </p:nvSpPr>
          <p:spPr>
            <a:xfrm>
              <a:off x="4109760" y="648720"/>
              <a:ext cx="1105920" cy="644760"/>
            </a:xfrm>
            <a:prstGeom prst="pie">
              <a:avLst/>
            </a:pr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5"/>
            <p:cNvSpPr/>
            <p:nvPr/>
          </p:nvSpPr>
          <p:spPr>
            <a:xfrm>
              <a:off x="4120200" y="648720"/>
              <a:ext cx="1080360" cy="644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6"/>
            <p:cNvSpPr/>
            <p:nvPr/>
          </p:nvSpPr>
          <p:spPr>
            <a:xfrm>
              <a:off x="4120200" y="1030320"/>
              <a:ext cx="15516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7"/>
            <p:cNvSpPr/>
            <p:nvPr/>
          </p:nvSpPr>
          <p:spPr>
            <a:xfrm>
              <a:off x="4120200" y="1035000"/>
              <a:ext cx="15516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8"/>
            <p:cNvSpPr/>
            <p:nvPr/>
          </p:nvSpPr>
          <p:spPr>
            <a:xfrm>
              <a:off x="4120200" y="1035000"/>
              <a:ext cx="14508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9"/>
            <p:cNvSpPr/>
            <p:nvPr/>
          </p:nvSpPr>
          <p:spPr>
            <a:xfrm>
              <a:off x="4125600" y="1035000"/>
              <a:ext cx="13932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0"/>
            <p:cNvSpPr/>
            <p:nvPr/>
          </p:nvSpPr>
          <p:spPr>
            <a:xfrm>
              <a:off x="412560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21"/>
            <p:cNvSpPr/>
            <p:nvPr/>
          </p:nvSpPr>
          <p:spPr>
            <a:xfrm>
              <a:off x="4125600" y="1035000"/>
              <a:ext cx="12888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2"/>
            <p:cNvSpPr/>
            <p:nvPr/>
          </p:nvSpPr>
          <p:spPr>
            <a:xfrm>
              <a:off x="4125600" y="1035000"/>
              <a:ext cx="12420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3"/>
            <p:cNvSpPr/>
            <p:nvPr/>
          </p:nvSpPr>
          <p:spPr>
            <a:xfrm>
              <a:off x="4130640" y="1041120"/>
              <a:ext cx="10908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4"/>
            <p:cNvSpPr/>
            <p:nvPr/>
          </p:nvSpPr>
          <p:spPr>
            <a:xfrm>
              <a:off x="5091480" y="1030320"/>
              <a:ext cx="16092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5"/>
            <p:cNvSpPr/>
            <p:nvPr/>
          </p:nvSpPr>
          <p:spPr>
            <a:xfrm>
              <a:off x="5091480" y="1035000"/>
              <a:ext cx="15048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6"/>
            <p:cNvSpPr/>
            <p:nvPr/>
          </p:nvSpPr>
          <p:spPr>
            <a:xfrm>
              <a:off x="5097240" y="1035000"/>
              <a:ext cx="14472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7"/>
            <p:cNvSpPr/>
            <p:nvPr/>
          </p:nvSpPr>
          <p:spPr>
            <a:xfrm>
              <a:off x="5097240" y="1035000"/>
              <a:ext cx="13896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8"/>
            <p:cNvSpPr/>
            <p:nvPr/>
          </p:nvSpPr>
          <p:spPr>
            <a:xfrm>
              <a:off x="509724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9"/>
            <p:cNvSpPr/>
            <p:nvPr/>
          </p:nvSpPr>
          <p:spPr>
            <a:xfrm>
              <a:off x="5101560" y="1035000"/>
              <a:ext cx="11952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0"/>
            <p:cNvSpPr/>
            <p:nvPr/>
          </p:nvSpPr>
          <p:spPr>
            <a:xfrm>
              <a:off x="5101560" y="1035000"/>
              <a:ext cx="11952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1"/>
            <p:cNvSpPr/>
            <p:nvPr/>
          </p:nvSpPr>
          <p:spPr>
            <a:xfrm>
              <a:off x="5101560" y="1041120"/>
              <a:ext cx="11376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2"/>
            <p:cNvSpPr/>
            <p:nvPr/>
          </p:nvSpPr>
          <p:spPr>
            <a:xfrm>
              <a:off x="3764160" y="457200"/>
              <a:ext cx="1797480" cy="1020600"/>
            </a:xfrm>
            <a:prstGeom prst="pie">
              <a:avLst/>
            </a:prstGeom>
            <a:solidFill>
              <a:srgbClr val="c0c0c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3"/>
            <p:cNvSpPr/>
            <p:nvPr/>
          </p:nvSpPr>
          <p:spPr>
            <a:xfrm>
              <a:off x="3754080" y="1467000"/>
              <a:ext cx="1822680" cy="67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4"/>
            <p:cNvSpPr/>
            <p:nvPr/>
          </p:nvSpPr>
          <p:spPr>
            <a:xfrm>
              <a:off x="4383720" y="490680"/>
              <a:ext cx="594720" cy="43848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35"/>
            <p:cNvSpPr/>
            <p:nvPr/>
          </p:nvSpPr>
          <p:spPr>
            <a:xfrm>
              <a:off x="4507920" y="631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36"/>
            <p:cNvSpPr/>
            <p:nvPr/>
          </p:nvSpPr>
          <p:spPr>
            <a:xfrm>
              <a:off x="4507920" y="642600"/>
              <a:ext cx="35640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37"/>
            <p:cNvSpPr/>
            <p:nvPr/>
          </p:nvSpPr>
          <p:spPr>
            <a:xfrm>
              <a:off x="4507920" y="703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38"/>
            <p:cNvSpPr/>
            <p:nvPr/>
          </p:nvSpPr>
          <p:spPr>
            <a:xfrm>
              <a:off x="4507920" y="714600"/>
              <a:ext cx="356400" cy="291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39"/>
            <p:cNvSpPr/>
            <p:nvPr/>
          </p:nvSpPr>
          <p:spPr>
            <a:xfrm>
              <a:off x="4507920" y="781920"/>
              <a:ext cx="356400" cy="460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40"/>
            <p:cNvSpPr/>
            <p:nvPr/>
          </p:nvSpPr>
          <p:spPr>
            <a:xfrm>
              <a:off x="4507920" y="794520"/>
              <a:ext cx="356400" cy="3816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41"/>
            <p:cNvSpPr/>
            <p:nvPr/>
          </p:nvSpPr>
          <p:spPr>
            <a:xfrm>
              <a:off x="4435200" y="86184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42"/>
            <p:cNvSpPr/>
            <p:nvPr/>
          </p:nvSpPr>
          <p:spPr>
            <a:xfrm>
              <a:off x="4435200" y="872640"/>
              <a:ext cx="496080" cy="3960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43"/>
            <p:cNvSpPr/>
            <p:nvPr/>
          </p:nvSpPr>
          <p:spPr>
            <a:xfrm>
              <a:off x="4435200" y="950400"/>
              <a:ext cx="496080" cy="39960"/>
            </a:xfrm>
            <a:prstGeom prst="roundRect">
              <a:avLst>
                <a:gd name="adj" fmla="val 4285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44"/>
            <p:cNvSpPr/>
            <p:nvPr/>
          </p:nvSpPr>
          <p:spPr>
            <a:xfrm>
              <a:off x="4435200" y="963000"/>
              <a:ext cx="49608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45"/>
            <p:cNvSpPr/>
            <p:nvPr/>
          </p:nvSpPr>
          <p:spPr>
            <a:xfrm>
              <a:off x="4435200" y="102420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46"/>
            <p:cNvSpPr/>
            <p:nvPr/>
          </p:nvSpPr>
          <p:spPr>
            <a:xfrm>
              <a:off x="4435200" y="1035000"/>
              <a:ext cx="496080" cy="33480"/>
            </a:xfrm>
            <a:prstGeom prst="roundRect">
              <a:avLst>
                <a:gd name="adj" fmla="val 41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Box 48"/>
          <p:cNvSpPr/>
          <p:nvPr/>
        </p:nvSpPr>
        <p:spPr>
          <a:xfrm>
            <a:off x="3144960" y="3025800"/>
            <a:ext cx="3068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3200" spc="-1" strike="noStrike">
                <a:solidFill>
                  <a:srgbClr val="000000"/>
                </a:solidFill>
                <a:latin typeface="Arial"/>
              </a:rPr>
              <a:t>Pajisj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q-AL" sz="3200" spc="-1" strike="noStrike">
                <a:solidFill>
                  <a:srgbClr val="000000"/>
                </a:solidFill>
                <a:latin typeface="Arial"/>
              </a:rPr>
              <a:t> për Ruajtjen e të Dhën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14A2D-8AD2-41A5-80CE-1F44F7DD2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Hard Disks dhe Solid State Dis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ëto janë pajisjet kryesore për ruajtjen e të dhënave brenda sistemeve kompjuter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2" descr=""/>
          <p:cNvPicPr/>
          <p:nvPr/>
        </p:nvPicPr>
        <p:blipFill>
          <a:blip r:embed="rId1"/>
          <a:stretch/>
        </p:blipFill>
        <p:spPr>
          <a:xfrm>
            <a:off x="698400" y="3176640"/>
            <a:ext cx="2446560" cy="213048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7"/>
          <p:cNvGrpSpPr/>
          <p:nvPr/>
        </p:nvGrpSpPr>
        <p:grpSpPr>
          <a:xfrm>
            <a:off x="3911760" y="2876400"/>
            <a:ext cx="1803240" cy="2778120"/>
            <a:chOff x="3911760" y="2876400"/>
            <a:chExt cx="1803240" cy="2778120"/>
          </a:xfrm>
        </p:grpSpPr>
        <p:pic>
          <p:nvPicPr>
            <p:cNvPr id="136" name="Picture 18" descr="hard disk1.jpg"/>
            <p:cNvPicPr/>
            <p:nvPr/>
          </p:nvPicPr>
          <p:blipFill>
            <a:blip r:embed="rId2"/>
            <a:stretch/>
          </p:blipFill>
          <p:spPr>
            <a:xfrm>
              <a:off x="3911760" y="2876400"/>
              <a:ext cx="180324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Rectangle 19"/>
            <p:cNvSpPr/>
            <p:nvPr/>
          </p:nvSpPr>
          <p:spPr>
            <a:xfrm>
              <a:off x="3911760" y="5114160"/>
              <a:ext cx="1594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Hard Dis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Pamja nga jashtë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20"/>
          <p:cNvGrpSpPr/>
          <p:nvPr/>
        </p:nvGrpSpPr>
        <p:grpSpPr>
          <a:xfrm>
            <a:off x="6421320" y="3241800"/>
            <a:ext cx="1587600" cy="1930320"/>
            <a:chOff x="6421320" y="3241800"/>
            <a:chExt cx="1587600" cy="1930320"/>
          </a:xfrm>
        </p:grpSpPr>
        <p:pic>
          <p:nvPicPr>
            <p:cNvPr id="139" name="Picture 121" descr="ssd.jpg"/>
            <p:cNvPicPr/>
            <p:nvPr/>
          </p:nvPicPr>
          <p:blipFill>
            <a:blip r:embed="rId3"/>
            <a:stretch/>
          </p:blipFill>
          <p:spPr>
            <a:xfrm>
              <a:off x="6421320" y="3241800"/>
              <a:ext cx="1587600" cy="160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122"/>
            <p:cNvSpPr/>
            <p:nvPr/>
          </p:nvSpPr>
          <p:spPr>
            <a:xfrm>
              <a:off x="6489000" y="4865760"/>
              <a:ext cx="137124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Solid State Dis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2:20:24Z</dcterms:created>
  <dc:creator>Nigel Jones</dc:creator>
  <dc:description/>
  <dc:language>en-US</dc:language>
  <cp:lastModifiedBy>perdorues</cp:lastModifiedBy>
  <dcterms:modified xsi:type="dcterms:W3CDTF">2013-07-29T15:00:56Z</dcterms:modified>
  <cp:revision>190</cp:revision>
  <dc:subject/>
  <dc:title>Introductory Cybercrime Training for Judges and Prosecutors</dc:title>
</cp:coreProperties>
</file>