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EA4EA-F358-4C86-89F2-83B4B904A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8A4D4-2411-4109-BF40-2FDC564CC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ynimi i kësaj pune në grup është të ketë diskutim ndërmjet pjesëmarrësve në grupe në lidhje me informacionin për të dyshuarin që mund të kontrollohet. Gjithashtu është shumë e rëndësishme të identifikohen burimet e mundshme të informac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diskutimit ndërmjet pjesëmarrësve në grupe, ata duhet të paraqesin një listë të të dhënave që mund të merren nga burime të ndryshme informacion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sim nga grupet që të renditin të gjitha burimet e informacionit për të dyshuarin, duke theksuar Internetin si burimi i informacion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fund të këtij ushtrimi praktik grupet duhet të bien dakord për listën e burimeve të informacionit dhe informacionin që duhet të merret në konsideratë përpara fillimit të fazës së planifikimit dhe përgatitj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E978B-FBFB-4C91-A492-F4F9D7518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F72C4-6C88-40C9-88A3-F82A70107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magjinoni një shërbim në Internet që ruan të dhëna të papërpunuara në Amazon S3, përdor verifikimin nëpërmjet Facebook-ut, pagesat i kryen me shërbimin PayPal dhe ofron në kohë reale informacion të quajtur “push” (të iniciuara nga serveri dhe jo nga përdoruesi) për aktivitete të ndryshme nëpërmjet uebsajtit T</a:t>
            </a:r>
            <a:r>
              <a:rPr b="0" lang="en-US" sz="1200" spc="-1" strike="noStrike">
                <a:solidFill>
                  <a:srgbClr val="000000"/>
                </a:solidFill>
                <a:latin typeface="Calibri"/>
              </a:rPr>
              <a:t>w</a:t>
            </a:r>
            <a:r>
              <a:rPr b="0" lang="sq-AL" sz="1200" spc="-1" strike="noStrike">
                <a:solidFill>
                  <a:srgbClr val="000000"/>
                </a:solidFill>
                <a:latin typeface="Calibri"/>
              </a:rPr>
              <a:t>itter tek abonentët e tij</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C743D-67D7-43E0-8E38-845CF0F02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AE203-B219-44ED-ADB4-95CB81C46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2CDE1-DCDC-4D23-8AC9-2F5987AC9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BE866-AC46-4967-AFB5-91F96ACF2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B14BC-D659-49B3-96BA-9819047E5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AE611-A181-4875-955C-10B98592B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07A04-62A5-4EAC-A019-37741F5B4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A7EAE-2EE9-4DDF-B3F0-A3CAAAB66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C20E5-E541-446B-A602-ABCE32AB5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9C9E1-4A8F-4083-90C4-4F7B856BC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F8039-3585-4BAF-AD75-E12E61CB35C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7032E-4B6D-4763-8716-3A0E05F9F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29BF0-9F2F-4965-94F3-5563D7B61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49E62-06E3-4622-8968-7F3BEF302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546A-56DB-4E32-B015-9B4F2B419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7DCD5-03A5-471B-86A8-AA3631003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A60AF-4E4F-4131-ACA2-6A4732180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19F90-EE1A-4D0B-A3FD-D875BFDE0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3BD36-FCE7-486F-84EB-739A654A2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47D1-E626-4C29-9974-2A0917689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8C75-9789-438E-9B89-00582BC44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2DCA-A49D-42CC-94F3-35892B05B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1E893-E4F7-4D41-87A5-50E2A5A6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A91D-C77A-42DE-990F-73DD6DE8A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3B34-3D4F-4D0D-8B2C-15F855071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1AF67-D946-402D-8F14-09FF1E727B8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1F182-1E79-4B4D-9DBB-DE03A3881B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DEF60-3E00-405A-B6A2-18A7603B45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Trajnim për Grupet Hetimore të Autoriteteve të Zbatimit të Ligjit</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esioni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Elektronike</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Hetimi</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para fillimit të planifikimit dhe përgatitjes për kontroll, duhet së pari të plotësohet profili i të dyshuarit dhe të bëhet analiza e situatës me anë të përgjigjes ndaj pyetjeve të mëposhtme :</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sh? Kë po kërkojmë? </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Çfarë? Cila është vepra penale dhe çfarë po kërkojm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 Ku po zhvillohet kontrolli dhe çfarë vendi është ai?</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r? Kur është planifikuar kontrolli dhe kur duhet ta planifikojmë at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 Si do shkojmë atje dhe si do ta kryejmë kontrollin?</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igjet ndaj këtyre pyetjeve na japin një panoramë më të mirë të situatës dhe bazuar në përgjigjet planifikojmë aktivitetet.</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09049-C800-4C16-8474-CB8E679EB5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ku mund ta kërkojmë informacionin për të dyshuari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622DE-E83C-420F-98DC-4A4E40E04A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Mbledhje e Informacionit nga Burimi i Hapur i të Dyshuarit</a:t>
            </a:r>
            <a:endParaRPr b="0" lang="en-US" sz="3600" spc="-1" strike="noStrike">
              <a:solidFill>
                <a:srgbClr val="000000"/>
              </a:solidFill>
              <a:latin typeface="Calibri"/>
            </a:endParaRPr>
          </a:p>
        </p:txBody>
      </p:sp>
      <p:sp>
        <p:nvSpPr>
          <p:cNvPr id="82" name=""/>
          <p:cNvSpPr txBox="1"/>
          <p:nvPr/>
        </p:nvSpPr>
        <p:spPr>
          <a:xfrm>
            <a:off x="457200" y="1600200"/>
            <a:ext cx="8229600" cy="47563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i marrë nga Kompanitë ISP ose kompanitë e hostimit për të dyshuarit; duhet të kuptojmë se vetëm ky informacion mund të mos jetë i mjaftueshëm për identifikimin e të dyshuarit. Do të përpiqemi të gjejmë dhe mbledhim më shumë informacio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ënyra të ndryshme për të mbledhur të dhënat. Është shumë e dobishme të kontrollohen të dhënat e të dyshuarit në Databazën e Policisë sepse ai/ajo mund të jetë i/e njohur për vepra penale të ngjashme, por një alternativë tjetër është të kontrollohen databazat me burime të hapura : </a:t>
            </a:r>
            <a:r>
              <a:rPr b="1" i="1" lang="sq-AL" sz="2400" spc="-1" strike="noStrike">
                <a:solidFill>
                  <a:srgbClr val="000000"/>
                </a:solidFill>
                <a:latin typeface="Calibri"/>
              </a:rPr>
              <a:t>Interneti</a:t>
            </a:r>
            <a:r>
              <a:rPr b="0" lang="sq-AL"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6CA4F-9D72-49E8-AC7A-A3AFE575FC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ledhja e provave nga të dhënat publikisht të disponueshme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va nga hetimet e fshehura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njohuri dhe aftësi të ndry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legjislacion dhe procedu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94B33-EB7D-4CFF-A630-4F162F1C56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756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Mashup”</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mbin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izualiz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Mbledhja</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gjitha këto “Prova Online” kërkojnë procedura të posaçme për mbledhjen që të garantojnë pranueshmërinë e provave të mbledhura</a:t>
            </a: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o të gjitha informacionet online mund të jenë prova!</a:t>
            </a: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399ED-ADFE-4A83-82E4-773A7860DF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1" name=""/>
          <p:cNvSpPr txBox="1"/>
          <p:nvPr/>
        </p:nvSpPr>
        <p:spPr>
          <a:xfrm>
            <a:off x="457200" y="1600200"/>
            <a:ext cx="8229600" cy="5121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rotokolli i Internetit (IP) është përgjegjës për drejtimin e paketave të të dhënave nga burimi në destinacion, ku edhe burimi edhe destinacioni janë hoste të identifikuar nga adresa me gjatësi të përcaktuar.</a:t>
            </a:r>
            <a:endParaRPr b="0" lang="en-US" sz="28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ormati i një adrese IPv4 është një adresë numerike 32-bit e shkruar si katër numra të ndarë me pika. Secili numër mund të jetë nga 0 deri 255. Një shembull i një adrese IP është: 68.160.10.24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jë adresë IPv6 përbëhet nga 8 grupe me katër shifra heksadecimale. Secili grup ndahen me presje (p.sh. 2001:0db8:85a3:0042:0000:8a2e:0370:7334).</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CC6D0-78FC-48B8-BB34-9C3BE30995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adresa IP i rregullon departamenti i quajtur Internet Assigned Numbers Authority (IANA). Ndër të tjera, qëllimi i këtij departamenti është të koordinojë adresimin IP nëpër organizata rajonale të vendosura në të gjithë botën të njohura si Regional Internet Registries (RI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IPE (Evropa dhe disa pjesë të Azisë)</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PNIC (Azia dhe Rajoni i Paqësori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RIN (Amerika e Veriu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LACNIC (Amerika Latine dhe Karaibe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friNIC (Afrika)</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E2003-6C21-4578-A06A-6C07E90B00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oli i Kompanisë Shërbimofruese të Internetit - ISP</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Gama e adresave IP</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DHCP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iferenca ndërmjet adresave IP statike dhe dinami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0.0.0.0 to 10.255.255.255 – Klasa 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72.16.0.0 to 172.31.255.255 – Klasa B</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92.168.0.0 to 192.168.255.255 – Klasa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67D7C-32F4-4CB1-8938-D16D1A37F9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4840" y="274680"/>
            <a:ext cx="8702640" cy="93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DNS për Sistemin e Emrave të Domeneve</a:t>
            </a:r>
            <a:endParaRPr b="0" lang="en-US" sz="4000" spc="-1" strike="noStrike">
              <a:solidFill>
                <a:srgbClr val="000000"/>
              </a:solidFill>
              <a:latin typeface="Calibri"/>
            </a:endParaRPr>
          </a:p>
        </p:txBody>
      </p:sp>
      <p:sp>
        <p:nvSpPr>
          <p:cNvPr id="100" name=""/>
          <p:cNvSpPr txBox="1"/>
          <p:nvPr/>
        </p:nvSpPr>
        <p:spPr>
          <a:xfrm>
            <a:off x="457200" y="1418760"/>
            <a:ext cx="8229600" cy="530244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mrat e domeneve menaxhohen nga Departamentet e Regjistrimit që duhet të akreditohen nga</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rporata e Internetit për Caktimin e Numrave dhe Emrave (Internet Corporation for Assigned Names and Numbers) (ICANN; http://www.icann.org/) </a:t>
            </a:r>
            <a:endParaRPr b="0" lang="en-US" sz="20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uesit e renditur nga IANA (Internet Assigned Numbers Authority).</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Mbaresat e Nivelit të Lartë të Domeneve (gTLDs) të tilla si .com, .net, .org, .biz, etj. Korporata ICANN akrediton Departamentet ose Regjistruesit</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omenet e Nivelit të Lartë për Kodin e Shteteve (ccTLFDs) të tilla si .us, .uk, .de, .ie, et</a:t>
            </a:r>
            <a:r>
              <a:rPr b="0" lang="en-US" sz="2200" spc="-1" strike="noStrike">
                <a:solidFill>
                  <a:srgbClr val="000000"/>
                </a:solidFill>
                <a:latin typeface="Calibri"/>
              </a:rPr>
              <a:t>j</a:t>
            </a:r>
            <a:r>
              <a:rPr b="0" lang="sq-AL" sz="2200" spc="-1" strike="noStrike">
                <a:solidFill>
                  <a:srgbClr val="000000"/>
                </a:solidFill>
                <a:latin typeface="Calibri"/>
              </a:rPr>
              <a:t>. IANA ia delegon departamenteve ose regjistrimeve</a:t>
            </a:r>
            <a:endParaRPr b="0" lang="en-US" sz="2200" spc="-1" strike="noStrike">
              <a:solidFill>
                <a:srgbClr val="000000"/>
              </a:solidFill>
              <a:latin typeface="Calibri"/>
            </a:endParaRPr>
          </a:p>
          <a:p>
            <a:pPr marL="332640" indent="-3326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se një emër domeni nuk është regjistruar nga një kompani për mbrojtjen e jetës private, këto Departamente mund të mbajnë informacion të vlefshëm në lidhje me pronarin e emrit të një domeni.</a:t>
            </a:r>
            <a:endParaRPr b="0" lang="en-US" sz="1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3D6A9-D01E-42D9-A579-D3821A7CA1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3440" y="274320"/>
            <a:ext cx="8707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500" spc="-1" strike="noStrike">
                <a:solidFill>
                  <a:srgbClr val="000000"/>
                </a:solidFill>
                <a:latin typeface="Calibri"/>
              </a:rPr>
              <a:t>URI për Identifikuesin Uniform të Burimit</a:t>
            </a:r>
            <a:endParaRPr b="0" lang="en-US" sz="3500" spc="-1" strike="noStrike">
              <a:solidFill>
                <a:srgbClr val="000000"/>
              </a:solidFill>
              <a:latin typeface="Calibri"/>
            </a:endParaRPr>
          </a:p>
        </p:txBody>
      </p:sp>
      <p:sp>
        <p:nvSpPr>
          <p:cNvPr id="103" name=""/>
          <p:cNvSpPr txBox="1"/>
          <p:nvPr/>
        </p:nvSpPr>
        <p:spPr>
          <a:xfrm>
            <a:off x="163440" y="1600200"/>
            <a:ext cx="870768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rjeti Mbarë Botëror (WWW) është një sistem me dokumente të lidhur me njëri tjetrin që mund të aksesohen nëpërmjet Interneti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dokumente nuk janë dokumente të zakonshme me tekst, por janë dokumente me hipertekst, të njohura si Web Pages (Faqet e Rrjet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iperteksti bën të mundur lidhjen e dokumenteve që mund të ruhen në kompjuterë të ndryshëm në të gjithë botë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shkruhen në atë që zakonisht njihet si Kodi HTML, dhe mund të përmbajnë lloje të ndryshme informacioni.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grupohen në ato që njihen si Uebsajte.</a:t>
            </a:r>
            <a:endParaRPr b="0" lang="en-US" sz="24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Struktura e URL : </a:t>
            </a:r>
            <a:r>
              <a:rPr b="0" lang="sq-AL" sz="1800" spc="-1" strike="noStrike" u="sng">
                <a:solidFill>
                  <a:srgbClr val="0000ff"/>
                </a:solidFill>
                <a:uFillTx/>
                <a:latin typeface="Calibri"/>
              </a:rPr>
              <a:t>http://www.name-of-the-website.com/name-of-the-webpage.htm</a:t>
            </a:r>
            <a:endParaRPr b="0" lang="en-US" sz="1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36934-4121-42FB-BB76-9A791D7547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F3312-FE7A-47F1-97F7-9AA1DB04D7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Arial"/>
              </a:rPr>
              <a:t>Në përfundim të mësimit, pjesëmarrësit do të jenë në gjendje të:</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provat e mundshme dhe burimet e provave në Internet</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Përfundojnë përgatitjen dhe planifikimin efektiv të kontrollit dhe sekuestrimit të provave elektronike</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burimet autoritare dhe autorizimin e tyre në procesin e kontrollit dhe sekuestrimit të provave elektronike </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a:t>
            </a:r>
            <a:r>
              <a:rPr b="0" lang="en-US" sz="2800" spc="-1" strike="noStrike">
                <a:solidFill>
                  <a:srgbClr val="000000"/>
                </a:solidFill>
                <a:latin typeface="Arial"/>
                <a:ea typeface="Arial"/>
              </a:rPr>
              <a:t>j</a:t>
            </a:r>
            <a:r>
              <a:rPr b="0" lang="sq-AL" sz="2800" spc="-1" strike="noStrike">
                <a:solidFill>
                  <a:srgbClr val="000000"/>
                </a:solidFill>
                <a:latin typeface="Arial"/>
                <a:ea typeface="Arial"/>
              </a:rPr>
              <a:t>në rolin e specialistëve të jashtëm si dëshmitar</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Të dhënat IP &amp; DNS në hetimet online</a:t>
            </a:r>
            <a:endParaRPr b="0" lang="en-US" sz="3600" spc="-1" strike="noStrike">
              <a:solidFill>
                <a:srgbClr val="000000"/>
              </a:solidFill>
              <a:latin typeface="Calibri"/>
            </a:endParaRPr>
          </a:p>
        </p:txBody>
      </p:sp>
      <p:sp>
        <p:nvSpPr>
          <p:cNvPr id="106" name=""/>
          <p:cNvSpPr txBox="1"/>
          <p:nvPr/>
        </p:nvSpPr>
        <p:spPr>
          <a:xfrm>
            <a:off x="457200" y="1166760"/>
            <a:ext cx="8229600" cy="55548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whois ose “whois Looku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Reverse ose “Reverse who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për IP ose “IP Lookup”</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ë dhënat DNS mund të ndryshojnë herë pas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acioni i disponueshëm i lidhur me një adresë IP të dhënë</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ush është regjistru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 </a:t>
            </a:r>
            <a:r>
              <a:rPr b="0" lang="sq-AL" sz="2000" spc="-1" strike="noStrike">
                <a:solidFill>
                  <a:srgbClr val="000000"/>
                </a:solidFill>
                <a:latin typeface="Calibri"/>
              </a:rPr>
              <a:t>Shteti, Reverse DNS dhe shtrirja e bllokimit të IP-s, të cilave i përket ky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fizike në një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gjeografike (jo gjithnjë e vërtetë) dhe jepe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Qyteti, gjerësi dhe gjatësi gjeografike</a:t>
            </a:r>
            <a:endParaRPr b="0" lang="en-US" sz="20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DCC52-2E80-4193-A2B6-A3BCD60DEB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Kombëtare ISP</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bledhja e informacionit nga ISP-të Kombëta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 për abonentin (pronari i regjistruar i lidhjes, adresa e lidhjes, informacioni financiar, numri i telefonit, etj.).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për veprimet (koha e lidhjes, datat e lidhjes, dhe adresa IP e përdoru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mbajtja (kjo nuk është gjithnjë e disponueshme), shumica e ISP-ve ofrojnë llogari pa pagesë për postën elektronike, shërbime të ndryshme. Mesazhe të postës elektronike ose shërbime të tjera mund të merren nga ISP-të.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Si mund ta marrin këtë informacion?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02363-DE59-43C7-B7F8-B69C356F6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Ndërkombëtare ISP</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i nga ISP-j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dresat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pa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fun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Regjistrimet e aktivitete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tjera</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i e marrin këtë informacion?</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nventa e Budapestit për Krimin Kibernetik</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ërdorim i urdhrit të Gjykatës ose MLA</a:t>
            </a:r>
            <a:endParaRPr b="0" lang="en-US" sz="24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731A5-3AA8-436A-8BCD-E5CE58ED81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bajtësit e pavarur të të dhënav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xitja e bashkëpunimit ndërmjet mbajtësve të pavarur të të dhënave dhe autoriteteve të zbatimit të ligj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Ruajtja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arrja e raporteve informative për krimin kiberneti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12999-CADF-462B-A544-640728CE55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0" y="2937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Arial"/>
              </a:rPr>
              <a:t>Të dhëna të mbajtura nga palë të tre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 i zakonshëm</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i i Burim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mentet për Kod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Fushat e Fshehur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ferencat e jashtme për faq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klamat On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WebSense / AdSense / SearchSen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rsionet e mëparshme në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26F1E-4C92-4C31-9863-13D12C194D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i i bur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dentifikimi i brendshë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ënsistemi i Cha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et WebSense / AdSense / SearchSen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adata (psh. Krijimi / modifikimi i fund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9DEFF-0C95-445A-9AD5-2489D1D19D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Identiteti (internal IDs)</a:t>
            </a:r>
            <a:r>
              <a:rPr b="0" lang="sq-AL" sz="1600" spc="-1" strike="noStrike">
                <a:solidFill>
                  <a:srgbClr val="000000"/>
                </a:solidFill>
                <a:latin typeface="Calibri"/>
              </a:rPr>
              <a:t>. Këto uebsajte shfrytëzojnë gjerësisht identitetin për të gjurmuar gjithçka (përdoruesit, fotot, bisedat, sesionet, grupet, çfarë pëlqen/nuk pëlqen, etj.) dhe këto identitete përdoruesish shumicën e kohës me identitetin e abonentëve të ISP-së.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Chat</a:t>
            </a:r>
            <a:r>
              <a:rPr b="0" lang="sq-AL" sz="1600" spc="-1" strike="noStrike">
                <a:solidFill>
                  <a:srgbClr val="000000"/>
                </a:solidFill>
                <a:latin typeface="Calibri"/>
              </a:rPr>
              <a:t>. Këto uebsajte zakonisht ofrojnë shërbimet chat dhe këto ofrojnë informacion të një cilësie shumë të mirë nëse përpunohen në mënyrë të saktë. Elementi kyç në të gjithë elementët interaktiv të rrjetit që hetuesi duhet të sigurojë është mbledhja e sa më shumë të dhënave që të jetë e mundur dhe jo vetëm rezultatet, që jepen nga programi navigues për rrjetin.</a:t>
            </a:r>
            <a:endParaRPr b="0" lang="en-US" sz="1600" spc="-1" strike="noStrike">
              <a:solidFill>
                <a:srgbClr val="000000"/>
              </a:solidFill>
              <a:latin typeface="Calibri"/>
            </a:endParaRPr>
          </a:p>
          <a:p>
            <a:pPr lvl="1" marL="705600" indent="-2714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Fotot</a:t>
            </a:r>
            <a:r>
              <a:rPr b="0" lang="sq-AL" sz="1600" spc="-1" strike="noStrike">
                <a:solidFill>
                  <a:srgbClr val="000000"/>
                </a:solidFill>
                <a:latin typeface="Calibri"/>
              </a:rPr>
              <a:t>. Megjithëse uebsajtet me profil të lartë kanë futur filtra “pastrues” për fotot e vendosura, hetuesi prapëseprapë mund të hasë disa uebsajte sociale dhe uebsajte të tjera që i publikojnë direkt fotot dhe të nxjerrë të gjitha të dhënat përkatëse të quajtura EXIF metadata</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600" spc="-1" strike="noStrike">
                <a:solidFill>
                  <a:srgbClr val="000000"/>
                </a:solidFill>
                <a:latin typeface="Calibri"/>
              </a:rPr>
              <a:t>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F3060-B5C9-412E-8213-3B7BAEF7BE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7" name=""/>
          <p:cNvSpPr txBox="1"/>
          <p:nvPr/>
        </p:nvSpPr>
        <p:spPr>
          <a:xfrm>
            <a:off x="457200" y="1924200"/>
            <a:ext cx="8229600" cy="4201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Bloggin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dentifikim i brendshëm (blogID, userI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89FBB-D7ED-4759-BFB2-4952A8E591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rjetet P2P për shkëmbimin e skedarë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ort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Data/Koh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primet</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C7C81-FFA4-4C93-A06D-417076C90D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279600" y="2189160"/>
            <a:ext cx="5767560" cy="423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Për çfarë i doni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vijnë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për integritetin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se të dhënat janë të plot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a:t>
            </a:r>
            <a:r>
              <a:rPr b="0" lang="en-US" sz="2800" spc="-1" strike="noStrike">
                <a:solidFill>
                  <a:srgbClr val="000000"/>
                </a:solidFill>
                <a:latin typeface="Calibri"/>
              </a:rPr>
              <a:t>t</a:t>
            </a:r>
            <a:r>
              <a:rPr b="0" lang="sq-AL" sz="2800" spc="-1" strike="noStrike">
                <a:solidFill>
                  <a:srgbClr val="000000"/>
                </a:solidFill>
                <a:latin typeface="Calibri"/>
              </a:rPr>
              <a:t> se nuk ka detaje për të cilat mund të mos jeni në dijeni?</a:t>
            </a:r>
            <a:endParaRPr b="0" lang="en-US" sz="2800" spc="-1" strike="noStrike">
              <a:solidFill>
                <a:srgbClr val="000000"/>
              </a:solidFill>
              <a:latin typeface="Calibri"/>
            </a:endParaRPr>
          </a:p>
          <a:p>
            <a:pPr lvl="1">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9A821-7055-46EF-AD70-E7DF0E4C3D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ynimi për Mbledhjen e Provav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800" spc="-1" strike="noStrike">
                <a:solidFill>
                  <a:srgbClr val="000000"/>
                </a:solidFill>
                <a:latin typeface="Calibri"/>
              </a:rPr>
              <a:t>Mbas sekuestrimit të provave, prokurori duhet t’i demonstrojë gjykatës se provat e paraqitura janë ato që u morën në posedim gjatë sekuestrimit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02DFA-9C84-4198-9ACA-B0BB153CC9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A mundet që fotoja e uebsajtit të jetë një prov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pjoni kodin e burim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gram kompjuterik për regjistrimin e imazhit në ekran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rijimi i një dublikate të shikueshme të një uebsajti </a:t>
            </a:r>
            <a:endParaRPr b="0" lang="en-US" sz="28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Kopjuesi i Uebsajteve HTTrack</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41F0E-F392-4079-AD15-7B44FC8BF6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etimet e Fshehura në Internet</a:t>
            </a:r>
            <a:endParaRPr b="0" lang="en-US" sz="4400" spc="-1" strike="noStrike">
              <a:solidFill>
                <a:srgbClr val="000000"/>
              </a:solidFill>
              <a:latin typeface="Calibri"/>
            </a:endParaRPr>
          </a:p>
        </p:txBody>
      </p:sp>
      <p:sp>
        <p:nvSpPr>
          <p:cNvPr id="140" name=""/>
          <p:cNvSpPr txBox="1"/>
          <p:nvPr/>
        </p:nvSpPr>
        <p:spPr>
          <a:xfrm>
            <a:off x="456840" y="1417320"/>
            <a:ext cx="8474040" cy="4708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unonjësi i zbatimit të ligjit duhet të jetë: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 trajnuar siç duhe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mpetent dhe i autorizu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Hetues onl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Që operon në mënyrë të fshehtë nëpërmjet Interne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ërkon të marrë</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informac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të dhëna ose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000" spc="-1" strike="noStrike">
                <a:solidFill>
                  <a:srgbClr val="000000"/>
                </a:solidFill>
                <a:latin typeface="Calibri"/>
              </a:rPr>
              <a:t>prova kundër një individi, grupi ose organizate</a:t>
            </a:r>
            <a:endParaRPr b="0" lang="en-US" sz="20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39C35-5886-4B6C-B05A-490F204C24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54C62-4661-4343-ABB9-1D6497F55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7D004-663B-440E-8A07-5CF8E46357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4C46D-13EC-4526-A803-973265A4BA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5AD2C-6776-4E8B-A645-14DE9B58C7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7B817-EDF6-43C6-841E-30134CDEB6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981D3-18B5-4DBF-B303-38711B3E60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Google</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B861A-6DB1-421E-BC55-C84FE7689A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amje e një Rruge</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97577-8682-477B-9EA7-1705657DD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1 – Integriteti i të Dhënav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snjë veprim nuk duhet të ndryshojë mjetet apo pajisjet elektronike, të cilat më pas mund të përdoren në gjyki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Gjatë trajtimit të të dhënave dhe pajisjeve elektronike, ato nuk duhet të ndryshohen, as nga pjesët fizike e as nga programet kompjuterik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a rrethana kur do të merret një vendim për të aksesuar të dhënat në një sistem kompjuterik “në funksionim” për evitimin e humbjes së provave të mundshm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91B6C-AD12-41EA-BB4D-2065E0E9B8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cilin prej këtyre hapave do të ndërme</a:t>
            </a:r>
            <a:r>
              <a:rPr b="0" lang="en-US" sz="2800" spc="-1" strike="noStrike">
                <a:solidFill>
                  <a:srgbClr val="000000"/>
                </a:solidFill>
                <a:latin typeface="Calibri"/>
              </a:rPr>
              <a:t>r</a:t>
            </a:r>
            <a:r>
              <a:rPr b="0" lang="sq-AL" sz="2800" spc="-1" strike="noStrike">
                <a:solidFill>
                  <a:srgbClr val="000000"/>
                </a:solidFill>
                <a:latin typeface="Calibri"/>
              </a:rPr>
              <a:t>rnit me qëllim që të ruhen provat kompjuterike:</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oni gjithçka që i bëhet provave elektronik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ërkojini të dyshuarit të kërkojë informacionin që po kërkoni në kompjute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 kërkoni të dyshuarit të mbyllë sistemin kompjuterik për ju</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igurohuni që e gjithë puna të kryhet nga personel i kualifikua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piquni të mos bëni ndonjë aktivitet të panevojshëm në kompjuter</a:t>
            </a:r>
            <a:endParaRPr b="0" lang="en-US" sz="20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E9539-20DD-423D-8C82-BDB7EAB2FD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jë sistem me prova të mundshme duhet të mbrohet nga modifikimi, provat nuk duhet të ndrysho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rrethana përjashtimore që kërkojnë veprime të veçanta dhe jo procedurën standarde të sekuestrim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kufizim në kohë për proces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pengesa ose kufizim të mundshëm të procesit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E6E51-2C18-4CE0-9A01-97AE2D5503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7" name=""/>
          <p:cNvSpPr txBox="1"/>
          <p:nvPr/>
        </p:nvSpPr>
        <p:spPr>
          <a:xfrm>
            <a:off x="457200" y="1212840"/>
            <a:ext cx="8229600" cy="5508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rojtësi i ekranit i mbyll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d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gramet e Dëmsh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hërbimet Informatike në Largësi (sky drive, drop box, et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e në largësi e të dhëna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s kompjuterik në prog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munikim në chat në progre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i duhet të veprohet në këto situata?</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14CD1-D68E-4D40-AB94-A12FE66F3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Metodologjia e Përgjithshme</a:t>
            </a:r>
            <a:endParaRPr b="0" lang="en-US" sz="4400" spc="-1" strike="noStrike">
              <a:solidFill>
                <a:srgbClr val="000000"/>
              </a:solidFill>
              <a:latin typeface="Calibri"/>
            </a:endParaRPr>
          </a:p>
        </p:txBody>
      </p:sp>
      <p:sp>
        <p:nvSpPr>
          <p:cNvPr id="180" name=""/>
          <p:cNvSpPr txBox="1"/>
          <p:nvPr/>
        </p:nvSpPr>
        <p:spPr>
          <a:xfrm>
            <a:off x="457200" y="1417320"/>
            <a:ext cx="8229600" cy="49388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lanifikimi i para-kontroll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ërko informacion nga Databazat Kombëtar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 nga burime të hapur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Vëzhgim dhe analizë në ven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durat e zbatimit të kapjes së të dhëna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igurimi i kapjes së të dhënave për qëllime të verifikim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Hartimi i një liste kontrolli për vendimet dhe veprimet</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45921-E3B2-4B52-A09A-344E5FF44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 i Operimit</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a e planit të operacionit gjatë procesit të përgatitjes në zy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natyrës së krim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rolit të provave elektronike në kr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përgjegjësisë për secilin (lista e detyr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mënyrës së trajtimit të provave elektronik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limiteve të kontrollit dhe sekuestrimit</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Përgatitja për situatë të papritu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65EAF-E20A-4A52-8B50-C76C37C2F6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aza e informacionit që kemi – i dyshuari; planifikojmë dhe vendosim se kur do të fillojë kontrolli.</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dhënia e udhëzimeve dhe shpërndarja e përgjegjësisë:</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i Kontrollit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Kriminalisti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F7F95-AB34-41B3-9310-1619E05D5F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Grupi i Kontrollit </a:t>
            </a:r>
            <a:r>
              <a:rPr b="0" lang="sq-AL" sz="2000" spc="-1" strike="noStrike">
                <a:solidFill>
                  <a:srgbClr val="000000"/>
                </a:solidFill>
                <a:latin typeface="Calibri"/>
              </a:rPr>
              <a:t>ka përgjegjësi për</a:t>
            </a:r>
            <a:r>
              <a:rPr b="0" lang="sq-AL"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arrjen e urdhrit të duhur gjyqësor (Urdhër Kontrolli) për hyrjen, kontrollin dhe ekzaminimin e pajisjeve të gjetura në apartamen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Hyrjen dhe kontrollin e kompjuterit dhe ruajtjes së të dhënave që kanë prova dhe pengimin e modifikimit apo dëmtimit të tyr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imi i pajisjeve të ruajtjes së të dhënav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uajtja dhe sigurimi i mjedisit elektronik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rollimi i personave të pranishëm dhe sekuestrimi i sendeve të gjetura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imi i dokumentacionit të nevojshëm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aportimi për çdo hap dhe çdo situatë gjatë hyrjes dhe kontrollit të apartamenti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Arrestimi i person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C2932-C583-4101-AE76-2C9F27E723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58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92" name=""/>
          <p:cNvSpPr txBox="1"/>
          <p:nvPr/>
        </p:nvSpPr>
        <p:spPr>
          <a:xfrm>
            <a:off x="457200" y="914040"/>
            <a:ext cx="8229600" cy="521172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Grupi i Kriminalistikës </a:t>
            </a:r>
            <a:r>
              <a:rPr b="0" lang="sq-AL" sz="1800" spc="-1" strike="noStrike">
                <a:solidFill>
                  <a:srgbClr val="000000"/>
                </a:solidFill>
                <a:latin typeface="Calibri"/>
              </a:rPr>
              <a:t>ka një përgjegjësi për përgatitjen e të gjithë mjeteve dhe pajisjeve të domosdoshme për raportimin në lidhje me gjendjen e kompjuterit dhe kryerjen e procesit të mbledhjes së provave me kompjuter në funksionim, që përfshin :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 CD, USB, Kompjuterë Laptop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CD për mbledhjen e të dhënave me kompjuter ndezur dhe një USB bosh për të marrë informacionin nga mbledhja e të dhënave me kompjuter ndezur</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USB për hedhjen e memories RAM të kompjuterit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Furnizuesit Hot plug (për furnizim të pandërprerë të energjisë elektrike në rast të një kompjuteri të koduar)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e mbajtjes së të dhënave (duhet të jenë pajisje të pastra dhe të “sterilizuar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rupi i kriminalistikës është përgjegjës për përcaktimin e një procedure për ekzaminimin dhe gjithashtu testimin e të gjitha instrumenteve që janë planifikuar për tu përdorur dhe ata duhet të jenë të përgatitur për ruajtjen e sigurt dhe të pastër.</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23972-5172-42DE-8B73-EB2C72CA2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B4F8C-5777-4ADF-A93A-C7E1ABB5B8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e dhe planifikim i kujdesshëm për një aktivitet është i rëndësishëm dhe duhet të marrë në konsideratë një sërë elementësh duke përfshirë edhe sa më poshtë </a:t>
            </a:r>
            <a:r>
              <a:rPr b="1"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u mbahet të dhën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Sa i sofistikuar është i dyshuari?</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ka burime alternative për marrjen e të njëjtave prova, burime plotësuese për forcimin e provave?</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Vendimi taktik për rikuperimin e të dhënave nga i dyshuari ose mbajtësi i të dhënave alternati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BAB6F-D55E-4406-B76C-9EE79FD6DC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Ku  mbahet të dhënat?</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uk është e pazakontë që të dhënat të mbahen në një vend të ndryshëm nga vendi ku mbahet pajisjet. Është e nevojshme të mbahet parasysh se ku mund të mbahen të dhënat. Arsyet për këtë janë:</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ksesi tek të dhënat mund të kërkojë autorizim ligjor shtesë, veçanërisht nëse të dhënat ruhen në një juridiksion të ndryshëm;</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und të jenë të nevojshme kritere teknike shtesë për të garantuar ruajtjen e integritetit të provave dhe kjo mund të provohe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2 – Lista e Kontrolleve</a:t>
            </a:r>
            <a:endParaRPr b="0" lang="en-US" sz="4400" spc="-1" strike="noStrike">
              <a:solidFill>
                <a:srgbClr val="000000"/>
              </a:solidFill>
              <a:latin typeface="Calibri"/>
            </a:endParaRPr>
          </a:p>
        </p:txBody>
      </p:sp>
      <p:sp>
        <p:nvSpPr>
          <p:cNvPr id="61" name=""/>
          <p:cNvSpPr txBox="1"/>
          <p:nvPr/>
        </p:nvSpPr>
        <p:spPr>
          <a:xfrm>
            <a:off x="457200" y="1600200"/>
            <a:ext cx="822960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uhet të krijohet dhe ruhet një listë kontrollesh apo të dhëna të tjera të të gjitha veprimeve të ndërmarra gjatë administrimit të provave elektronike. Një palë e tretë e pavarur duhet të jetë në gjendje të ekzaminojë këto veprime dhe të arrijë të njëjtin rezultat.</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Është imperative të regjistrohen me saktësi të gjitha aktivitetet për t’i mundësuar një pale të tretë të rindërtojë veprimet e hetuesit të parë në vendngjarje me qëllim që të sigurohet vlera e tyre provuese në gjykatë. I gjithë aktiviteti në lidhje me sekuestrimin, aksesin, ruajtjen ose transferimin e provave elektronike duhet të dokumentohet plotësisht, të ruhet dhe të bëhet i disponueshëm për rishik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69ED7-DA14-4FBD-8A48-C59DF6BF31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78439-8984-40CA-BA3B-85D73236C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a i sofistikuar është i dyshuari?</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a:t>
            </a:r>
            <a:r>
              <a:rPr b="0" lang="sq-AL" sz="2400" spc="-1" strike="noStrike">
                <a:solidFill>
                  <a:srgbClr val="000000"/>
                </a:solidFill>
                <a:latin typeface="Arial"/>
              </a:rPr>
              <a:t>të dhëna për personin dhe aftësitë e tij</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programeve kompjuterike të koduara</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ruajtjes së të dhënave në largësi</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të dhëna për aktivitetet e tij të përditshme në Internet</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A ka burime alternative për marrjen e provave të njëjta, burime plotësuese për forcimin e prova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errni parasysh nëse ka burime të tjera të provave</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a tjetër në një transaksion online si psh shkëmbimi i një mesazhi të postës elektronik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ë e tretë që mban të dhënat si psh Kompania Ofruese e Shërbimit të Internetit (ISP)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hërbimofrues Onlin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dorimi i shërbimeve në largësi; të njëjtat të dhëna mund të jenë të rikuperueshme nga një palë e tretë</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E892C-038D-40B2-8068-42AF697385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ndimi taktik për rikuperimin e të dhënave nga i dyshuari ose nga mbajtësi alternativ i të dhënav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marrjen e të dhënave/provave nga palë të treta</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ligjore për rikuperimin e të dhënave</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se cila burime provash janë të rëndësishme për hetimin </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33F52-AA13-40BD-81C8-5477F7A518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Cilat burime autoritare ju nevojiten për Kontrollin dhe Sekuestrim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i mund ta përzgjidhni një ekspert për të qenë prezent gjatë sekuestrimit të provave, çfarë duhet të merrni në konsideratë?</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33666-DA8C-461E-B75A-B363A8BBE6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B7840-0AAD-45E7-8401-D4AE8D6E2C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Çfarë autoriteti ju duhet?</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a:bodyPr>
          <a:p>
            <a:pPr marL="514440" indent="-514440" algn="just">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utoriteti që do të nevojitet për zhvillimin e veprimeve.</a:t>
            </a:r>
            <a:endParaRPr b="0" lang="en-US" sz="28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personi i kupton plotësisht implikimet e dhënies së pëlqimit </a:t>
            </a:r>
            <a:r>
              <a:rPr b="0" lang="sq-AL" sz="2400" spc="-1" strike="noStrike">
                <a:solidFill>
                  <a:srgbClr val="000000"/>
                </a:solidFill>
                <a:latin typeface="Calibri"/>
              </a:rPr>
              <a:t>	</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a:t>
            </a:r>
            <a:r>
              <a:rPr b="0" lang="sq-AL" sz="2400" spc="-1" strike="noStrike">
                <a:solidFill>
                  <a:srgbClr val="000000"/>
                </a:solidFill>
                <a:latin typeface="Calibri"/>
              </a:rPr>
              <a:t>- legjislacioni kombëtar deri tek urdhrat gjyqësorë</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2. </a:t>
            </a:r>
            <a:r>
              <a:rPr b="0" lang="sq-AL" sz="2400" spc="-1" strike="noStrike">
                <a:solidFill>
                  <a:srgbClr val="000000"/>
                </a:solidFill>
                <a:latin typeface="Calibri"/>
              </a:rPr>
              <a:t>Nivelet e tjera të autoritetit do të varen nëse çështja në hetim është çështje civile ose penale dhe nëse ato që kërkojnë autoritetin janë nga prokuroria ose nga autoritetet e zbatimit të ligjit, hetues civilë ose avokatë përfaqësues të klientëve ose kategorive të tjera në të dy llojet e procedimeve.</a:t>
            </a:r>
            <a:endParaRPr b="0" lang="en-US" sz="2400" spc="-1" strike="noStrike">
              <a:solidFill>
                <a:srgbClr val="000000"/>
              </a:solidFill>
              <a:latin typeface="Calibri"/>
            </a:endParaRPr>
          </a:p>
          <a:p>
            <a:pPr lvl="1" marL="914400" indent="-49320" algn="just">
              <a:lnSpc>
                <a:spcPct val="8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	</a:t>
            </a:r>
            <a:r>
              <a:rPr b="0" lang="sq-AL" sz="2000" spc="-1" strike="noStrike">
                <a:solidFill>
                  <a:srgbClr val="ff0000"/>
                </a:solidFill>
                <a:latin typeface="Calibri"/>
              </a:rPr>
              <a:t>*Nuk duhet të ndërmerret asnjë aktivitet për sekuestrimin e pajisjeve ose kapjen e të dhënave pa nivelin e duhur të autoritetit, i cili duhet të merret përpara aktivitet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6" name=""/>
          <p:cNvSpPr txBox="1"/>
          <p:nvPr/>
        </p:nvSpPr>
        <p:spPr>
          <a:xfrm>
            <a:off x="457200" y="2061720"/>
            <a:ext cx="8229600" cy="4064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jo është aftësia ose kompetenca për të kryer një punë të caktuar, për të përfshirë çështje të tilla si:</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ualifikimet përkatëse të individi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e personit në këtë punë të caktua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të specifike që ka ai/aj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ëse aftësitë bazohen në kualifikime teknike ose kohëzgjatje përvoje, ose të dyj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53C92-836B-4FDB-B6AA-D3434AD56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atyra e përvojës së llojit të punës që ka individi.</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umri i çështjeve që ka trajtuar ai/aj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Lloji i çështjeve në të cilat është përfshirë individ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asia e kohë që individi ka punuar në këtë fushë.</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ëshmi për të provuar përvojën e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2E260-E92E-489D-B925-F2A47D2C12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Njohuri Hetimo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Të kuptuarit e natyrës së hetimeve përsa i takon konfidencialitetit, lidhjes me dhe dallimit ndërmje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nformaci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vave</a:t>
            </a:r>
            <a:endParaRPr b="0" lang="en-US" sz="28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20F33-79AA-4698-A295-429EE8818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 kontekstual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metodave të ndryshme, gjuha, filozofitë, praktikat dhe roli i policisë, ligji, dhe njohuritë teknike për informacionin</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Teknologjia është thelbësore në garantimin e qëndrueshmërisë së provave elektronike në Gjykatë. Themelore për këtë është të kuptuarit e probabilitetit në kuptimin e tij të gjerë dhe diferencave ndërmjet </a:t>
            </a:r>
            <a:r>
              <a:rPr b="1" lang="sq-AL" sz="2400" spc="-1" strike="noStrike">
                <a:solidFill>
                  <a:srgbClr val="000000"/>
                </a:solidFill>
                <a:latin typeface="Calibri"/>
              </a:rPr>
              <a:t>provës shkencore dhe provës ligjo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4EC81-235E-4709-96DE-0546BEB5C2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të juridik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aspekteve përkatëse të ligjit të tilla si konceptet dhe procedurat ligjore në lidhje me:</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eklarat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Vazhdimësi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gjyqësor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kuptuarit e qartë të roleve dhe përgjegjësive të ekspertëve si dëshmitarë është thelbës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E5560-57B8-4A7C-AA53-41BF2B47A2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02680" y="274320"/>
            <a:ext cx="8788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3 – Mbështetja me Specialist</a:t>
            </a:r>
            <a:endParaRPr b="0" lang="en-US" sz="4400" spc="-1" strike="noStrike">
              <a:solidFill>
                <a:srgbClr val="000000"/>
              </a:solidFill>
              <a:latin typeface="Calibri"/>
            </a:endParaRPr>
          </a:p>
        </p:txBody>
      </p:sp>
      <p:sp>
        <p:nvSpPr>
          <p:cNvPr id="64" name=""/>
          <p:cNvSpPr txBox="1"/>
          <p:nvPr/>
        </p:nvSpPr>
        <p:spPr>
          <a:xfrm>
            <a:off x="457200" y="1599840"/>
            <a:ext cx="8229600" cy="4940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2000" spc="-1" strike="noStrike">
                <a:solidFill>
                  <a:srgbClr val="000000"/>
                </a:solidFill>
                <a:latin typeface="Calibri"/>
              </a:rPr>
              <a:t>Nëse supozohet se gjatë një operacioni policie do të gjenden prova elektronike, oficeri përgjegjës duhet të njoftojë specialistët/konsulentët e jashtëm në kohë</a:t>
            </a:r>
            <a:r>
              <a:rPr b="0" lang="sq-AL"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 hetimet që kanë të bëjnë me kontrollin dhe sekuestrimin e provave elektronike, mund të jetë e nevojshme konsultimi me specialistët e jashtëm. Të gjithë specialistët e jashtëm duhet të njohin parimet e përcaktuara në këtë ose dokumente të tjerë të ngjashëm. Një specialist duhet të ketë :</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Ekspertizën e nevojshme të specializuar dhe përvojën në fush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investigativ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për çështjen në fjal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juridik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përshtatshme të komunikimit</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nevojshme e të duhura linguistik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1F794-6FC1-4DF9-9583-A7D9844CD0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Aftësitë e komunikim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për të shprehur dhe shpjeguar në gjuhë të thjeshtë, edhe me gojë edhe me shkrim:</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atyra e specializim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eknikat dhe pajisjet e përdoru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odat e interpretimi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ikat e forta dhe të dobëta të prova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hpjegimet alterna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05DC7-99C4-451F-BD4B-7F2ACC481A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Të përgjithshm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a nivelin e duhur të sigurisë për të administruar materialin e prov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të gjitha udhëzimet materiale për abuzimet me fëmijë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efektin mbi anëtarët e stafit të një materiali të tillë dhe vlerësimin e riskut në mënyrën e duhu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 se specialisti nuk ka asnjë konflikt interesi</a:t>
            </a:r>
            <a:endParaRPr b="0" lang="en-US" sz="28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ACE5F-DB79-4A01-AB87-4D43841DE1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BA2FE-02E6-48D0-B77F-D7F3BC5CE8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ë përfundimt të këtij sesioni pjesëmarrësit do të jenë në gjendje të: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 </a:t>
            </a:r>
            <a:r>
              <a:rPr b="0" lang="sq-AL" sz="2400" spc="-1" strike="noStrike">
                <a:solidFill>
                  <a:srgbClr val="000000"/>
                </a:solidFill>
                <a:latin typeface="Arial"/>
                <a:ea typeface="Arial"/>
              </a:rPr>
              <a:t>Diskutojnë provat e mundshme dhe burimet e provave në Internet</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Përfundojnë përgatitjen dhe planifikimin efektiv të kontrollit dhe sekuestrimit të provave elektronike</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jnë burimet autoritare dhe autorizimin e tyre në procesin e kontrollit dhe sekuestrimit të provave elektronike </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ni rolin e specialistëve të jashtëm si dëshmitarë</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D23026-87C0-4EB9-A642-CD6329E94C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085920" y="450072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47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4 – Trajnimi i Përshtatshë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etuesit e parë në vendngjarje duhet të jenë të trajnuar në mënyrë të përshtatshme për të kontrolluar dhe sekuestruar provat elektronike nëse nuk janë të disponueshëm ekspertët në vendngjar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ë rrethana përjashtimore kur është e domosdoshme që një hetues në vendngjarje të mbledhë prova elektronike dhe/ose të aksesojë të dhëna origjinale të ruajtura në një pajisje elektronike ose pajisje dixhitale të ruajtjes së të dhënave, ai/ajo duhet të jetë i trajnuar për ta realizuar atë siç duhet dhe të shpjegojë lidhjen dhe implikimet e veprimeve të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BEB05-3853-48F6-B315-F24A6BE4A8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5 - Ligjshmëria</a:t>
            </a:r>
            <a:endParaRPr b="0" lang="en-US" sz="4400" spc="-1" strike="noStrike">
              <a:solidFill>
                <a:srgbClr val="000000"/>
              </a:solidFill>
              <a:latin typeface="Calibri"/>
            </a:endParaRPr>
          </a:p>
        </p:txBody>
      </p:sp>
      <p:sp>
        <p:nvSpPr>
          <p:cNvPr id="70" name=""/>
          <p:cNvSpPr txBox="1"/>
          <p:nvPr/>
        </p:nvSpPr>
        <p:spPr>
          <a:xfrm>
            <a:off x="457200" y="1574280"/>
            <a:ext cx="8229600" cy="455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Oficeri dhe agjencia përgjegjëse për garantimin e ligjit duhet t’i përmbahet parimeve procedurale dhe kriminalistike të përgjithshme, dhe parimeve të sipërpërmendura. Kjo zbatohet edhe për posedimin dhe aksesin tek provat elektronike.</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ë nga dokumentet ligjorë më të rëndësishëm ndërkombëtarë, Konventa për Krimin Kibernetik e Këshillit të Evropës, aktualisht është e hapur për nënshkrim nga Shtetet Anëtare dhe Shtetet që kanë marrë pjesë në trajtimin dhe aderimin në të nga shtetet e tjera.</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arimet hedhin themelet për informacionin që jepet në kapitujt pasues dhe duhet të merren në konsideratë në të gjitha fazat e trajtimit të burimeve potenciale t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B3F97-FF4D-45AB-89C3-4158ED2701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5360"/>
            <a:ext cx="8674200" cy="95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Grupi Hetimor (të parët në vendngjarje)</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procesin e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marrjen e urdhrit të duhur për Kontroll dhe pasjen e të gjitha autorizimeve të nevojshme përpara procesit të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sigurimin e vendngjarjes, dokumentimin  e saj dhe ruajtjen e prov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identifikimin e të gjitha vendeve ku mund të ruhen provat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rr vendim për metodat e mbledhjes dhe sekuestrimit të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veprimet që mund të ndryshojnë prov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gjendjen e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aktivitetet për parandalimin e modifikimit ose humbjes s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344A7-4DAD-46F3-88DE-F2C3FB4C1E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7-29T15:07:16Z</dcterms:modified>
  <cp:revision>310</cp:revision>
  <dc:subject/>
  <dc:title>Introductory Cybercrime Training for Judges and Prosecutors</dc:title>
</cp:coreProperties>
</file>