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53BCC3-5D58-4780-B845-B72FF14849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mailto:bessermit8@hotmail.com" TargetMode="External"/><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Gjyqtarët nuk janë mësuar me provat dixhit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uhet të kuptohet se kur flasim për prova dixhitale dhe prezantimin e një çështjeje të krimit kibernetik përpara gjykatës, edhe sot duket një diçka e re për shumicën e gjyqtarëve dhe prokurorëve. Pra, duhet të jemi të kujdesshëm. Shumë përpjekje janë bërë për trajnimin e oficerëve të policisë, prokurorët, avokatëve dhe gjyqtarëve që të mund të jenë në gjendje të trajtojnë çështjet e krimit kibernetik dhe provat elektronike. Jo vetëm që janë organizuar në nivel kombëtar, por gjithashtu edhe në nivel Evropian dhe ndërkombëtar (arsyeja se pse jemi këtu apo j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Fatkeqësisht, e dimë se fakti që sot çështjet e krimit kibernetik hetohen nga punonjësit e specializuar dhe të trajnuar të policisë, nuk do të thotë se çështja do të çohet në gjykatë nga një prokuror i specializuar ose do të gjykohet nga një gjyqtar i specializua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umica e magjistratëve janë trajnuar në një kohë jo dixhitale dhe madje edhe kur janë juristë të shkëlqyer ata prapëseprapë mund të mos e kenë idenë e provave elektronike, sesi janë mbledhur ato apo shkurt sesi funksionon kompjuteri ose Internet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igurisht avokatët mbrojtës do të duan të përfitojnë nga kjo situat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o përveç problemeve që mund të dalin në lidhje me personat që trajtojnë këto çështje të krimit kibernetik, problemeve që mund të zgjidhen me mënyrën sesi prezantohet çështja në gjykatë (shihni më tej), vetë provat dixhitale duhet të trajtohen në një mënyrë të veçantë përpara gjykatë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jo ka të bëjë me karakteristikat e provave dixhit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Përdorimi i provave dixhitale në procedimin gjyqëso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ihni Kapitullin 7 të Guidës së Këshillit të Evropës për Provat Elektron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dorimi i provave elektronike është rritur gjatë viteve të fundit se gjykatat kanë pranuar prova elektronike në formën e mesazheve elektronike, fotografive dixhitale, regjistrimeve të transaksioneve nga bankomatët, dokumente teksti, mesazhe të menjëhershme, fletët e punës, historitë e navigimit në Internet, bazat e të dhënave, përmbajtjet e memories së kompjuterëve, rezervimi i skedarëve të kompjuterit, dokumente kompjuterike të printuara dhe skedarë dixhitalë audio dhe video – të gjitha këto përbëjnë të dhëna dixhit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pajisje dixhitale e përdorur në një krim duhet të sigurohet njësoj si do të siguronit forma të tjera të provave materiale që do të gjendeshin në skenën e krimit, sepse të gjitha këto pajisje mbeten prova materiale. Njësoj si gjurmët e gishtërinjve dhe provat e ADN-së, provat dixhitale janë të brishta dhe humbasin apo modifikohen me lehtësi nëse nuk ndërmerren masat e duhura. Në ditët e para të provave dixhitale, punonjësit e patrajnuar të forcave të zbatimit të ligjit ndiznin kompjuterët për të kërkuar prova përpara se t’i dorëzonin ato për ekzaminim kriminalist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rëndësishme të regjistrohet se ku u gjet dhe u sekuestrua prova dixhitale, sepse mund të zbulojë shumë në lidhje me synimin e keqbërësit të dyshuar. Është praktikë e mirë të regjistrohet kontrolli dhe sekuestrimi me video. Kjo do të tregojë pozicionin e pajisjeve dixhitale, në mënyrë që të mos ketë diskutime, për shembull, se pajisja pa kabull u gjet e fshehur në raft dhe jo në vend të hapur në dhomën e ndenj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Cilësia është e detyruesh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Pranueshmëri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vat kompjuterike janë të pranueshme nëse janë konform me një sërë rregullat dhe ligjesh që garantojnë se ato janë të pranueshme në gjykatë. Duhet të ndiqen procedurat e duhura gjatë marrjes së provave. Këto trajtohen në kapitujt 4, 5 dhe 6 të Guidës së Këshillit të Evropës për Provat Elektron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vat dixhitale në çështjet penale duhet të jenë të pranueshme, autentike, të sakta dhe të plota. Ato duhet të jenë konform me një seri ligjesh dhe rregullash dhe duhet të jenë të pranueshme në gjykat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rishikimin e çështjes, prokurori do të konsiderojë nëse është e mundur të </a:t>
            </a:r>
            <a:r>
              <a:rPr b="0" lang="sq-AL" sz="1200" spc="-1" strike="noStrike" u="sng">
                <a:solidFill>
                  <a:srgbClr val="000000"/>
                </a:solidFill>
                <a:uFillTx/>
                <a:latin typeface="Calibri"/>
              </a:rPr>
              <a:t>lidhen</a:t>
            </a:r>
            <a:r>
              <a:rPr b="0" lang="sq-AL" sz="1200" spc="-1" strike="noStrike">
                <a:solidFill>
                  <a:srgbClr val="000000"/>
                </a:solidFill>
                <a:latin typeface="Calibri"/>
              </a:rPr>
              <a:t> në mënyrë të qartë skedarë, të dhëna për individë dhe ngjarje specifike, dhe </a:t>
            </a:r>
            <a:r>
              <a:rPr b="0" lang="sq-AL" sz="1200" spc="-1" strike="noStrike" u="sng">
                <a:solidFill>
                  <a:srgbClr val="000000"/>
                </a:solidFill>
                <a:uFillTx/>
                <a:latin typeface="Calibri"/>
              </a:rPr>
              <a:t>të shpjegojë</a:t>
            </a:r>
            <a:r>
              <a:rPr b="0" lang="sq-AL" sz="1200" spc="-1" strike="noStrike">
                <a:solidFill>
                  <a:srgbClr val="000000"/>
                </a:solidFill>
                <a:latin typeface="Calibri"/>
              </a:rPr>
              <a:t> sesi u krijua një provë materiale duke demonstruar </a:t>
            </a:r>
            <a:r>
              <a:rPr b="0" lang="sq-AL" sz="1200" spc="-1" strike="noStrike" u="sng">
                <a:solidFill>
                  <a:srgbClr val="000000"/>
                </a:solidFill>
                <a:uFillTx/>
                <a:latin typeface="Calibri"/>
              </a:rPr>
              <a:t>një sekuencë të pandërprerë provash</a:t>
            </a:r>
            <a:r>
              <a:rPr b="0" lang="sq-AL" sz="1200" spc="-1" strike="noStrike">
                <a:solidFill>
                  <a:srgbClr val="000000"/>
                </a:solidFill>
                <a:latin typeface="Calibri"/>
              </a:rPr>
              <a:t>, duke e ruajtur </a:t>
            </a:r>
            <a:r>
              <a:rPr b="0" lang="sq-AL" sz="1200" spc="-1" strike="noStrike" u="sng">
                <a:solidFill>
                  <a:srgbClr val="000000"/>
                </a:solidFill>
                <a:uFillTx/>
                <a:latin typeface="Calibri"/>
              </a:rPr>
              <a:t>zinxhirin e ruajtjes së provave</a:t>
            </a:r>
            <a:r>
              <a:rPr b="0" lang="sq-AL"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Gjatë gjykimeve penale, prokurori duhet të përdorë provat për të provuar çështjen ‘përtej dyshimit të arsyeshëm’. Si pjesë e rregullave të provave, gjykata ka gjithnjë të drejtë që t’i paraqiten provat më të mira. Tradicionalisht, provat më të mira janë dokumentet origjinalë, por në disa rrethana të caktuara, mund të pranohen edhe provat dytësore. Zakonisht provat dytësore përfshijnë kopje ose ekstrakte të provave më të mir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rishikim i hershëm i provave elektronike nga prokurori lejon për një përgjigje të shpejtë, që do të ndihmojë për të përcaktuar se ku kërkohen prova të tjera elektronike ndërkohë që ka akoma mundësi që ato të merren nga juridiksionet e tjer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Autenticiteti, saktësia, dhe plotësi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I takon palës që kërkon që provat të pranohen të përgatisë dhe paraqesë prova për autenticitetin e të dhëna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vat elektronike nuk janë të ndryshme nga provat materiale fizike, të tilla si një dokument i regjistruar në një copë letër. Është e nevojshme të garantohet se provat janë autentike. Ndryshimi ndërmjet provave elektronike dhe provave fizike është zakonisht lehtësia me anë të të cilës mund të ndryshohet ose modifikohen provat elektronike, ose me qëllim ose pa qëllim.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vat elektronike i nënshtrohen rregullave dhe ligjeve të njëjta që zbatohen për provat dokumentare. Doktrina e provave dokumentare mund të shpjegohet kështu: barra i takon prokurorisë për ti treguar gjykatës se provat e paraqitura nuk janë as më shumë e as më pak por ato që u morën në fillim në posedim nga policia. Sistemet e operimit dhe programet e tjera shpesh ndryshojnë dhe shtojnë të dhëna në përmbajtjen e të dhënave elektronike. Kjo mund të ndodhë automatikisht pa domosdoshmërisht dijeninë e përdoruesit se të dhënat po ndryshohe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 t’iu përmbajtur parimeve të provave elektronike, sipas rastit, duhet t’i bëhet një imazh të gjithë pajisjes në objektiv. Si alternativë në rrethana të caktuara mund të merret parasysh edhe kopjimi i pjesshëm ose me përzgjedhje i skedarëve, për shembull kur sasia e të dhënave, të cilave duhet t’u bëhet imazhi e bën këtë jo praktike. Megjithatë, hetuesit duhet të jenë të kujdesshëm për të garantuar marrjen e provave përkatëse nëse miratohet kjo metod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një pakicë çështjesh, mund të mos jetë e mundur të merret një imazh duke përdorur një pajisje për marrjen e imazhit. Në këto rrethana, mund të bëhet e domosdoshme të merret aksesi për tek makina origjinale për rikuperimin e provave. Me këtë në mendje, është thelbësore që provat të merren nga një specialist i kualifikuar për provat dixhitale që është kompetent në këtë fush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domosdoshme që në gjykatë të tregohet objektiviteti si dhe vazhdimësia dhe integriteti i provave. Është gjithashtu e domosdoshme të demonstrohet sesi u mblodhën provat, duke treguar secilin proces nëpërmjet të cilit u morën ato. Provat duhet të ruhen në një masë të tillë saqë një palë e tretë të jetë në gjendje të përsërisë të njëjtin proces me të njëjtin rezultat si ai i paraqitur në gjykat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Bindj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rastin kur ekziston dyshim për të dhënat e shtuara tek provat elektronike, i takon mbrojtjes të kundërshtojë pranueshmërinë e provave. Sapo të ngrihet si çështje, prokuroria duhet ta trajtojë këtë, zakonisht duke dhënë prova të mjaftueshme se “integriteti i të dhënave është i besueshëm, dhe për rrjedhojë ato janë të besueshme”. Provat duhet të jenë bindës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aspekt tjetër i provave është mënyra sesi u morën ato, dhe nëse është përcaktuar metoda e trajtimit të tyre, për shembull, me anë të rishikimit shkencor. Për shembull, nëse prokuroria paraqet një faturë telefoni, për të treguar se i akuzuari ishte lidhur me ISP-në në një moment të caktuar të ditës, atëherë kjo zakonisht pranohet. Nga ana tjetër, nëse prokuroria pretendon se “i akuzuari i ka fshirë të gjithë skedarët nga disku i tij i kompjuterit, e ka riformatuar atë, dhe më pas e ka hedhur nga dritarja e katit të 10-të, por ne kemi mundur të rindërtojmë skedarët me ndihmën e një firme për rikuperimin e të dhënave”, atëherë mbrojtja mund të vendosë pikëpyetje mbi vlefshmërinë e metodës së rikuperimit të të dhënave. I takon akuzës të demonstrojë se metodat e përdorura për rikuperimin e provave ishin të vlefshme dhe të bindë gjykatën se provat duhet të pranohe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domosdoshme të vendoset balanca e duhur. Nga njëra anë, nuk është e arsyeshme të presësh që një gjyqtar (pavarësisht nëse mund të jetë anëtar i jurisë së gjykimit apo një gjyqtar i vetëm) të kuptojë procesverbalin teknik. Nga ana tjetër, nuk është e përshtatshme të presësh që gjyqtari të pranojë se teknikat e rikuperimit të të dhënave janë “magjike”. Në disa vende, përgjigjja është rishikimi i materialeve nga kolegët – nëse specialistë të tjerë të fushës e kanë studiuar këtë teknikë, e kanë testuar atë, dhe kanë vlerësuar rezultatet atëherë gjykata do të pranojë prov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thelb, provat elektronike shqyrtohen në të njëjtën mënyrë si dhe format e tjera të provave. Prokuroria do të duhet të provojë se dokumenti është autentik dhe se përmbajtja e tij është e pranueshme. Të gjitha shqyrtimet e provave elektronike duhet të jenë konform me parimet e provave elektronike të përcaktuara në hyrje të kësaj guid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arimet vendosin themelet për përdorimin e provave elektronike dhe duhet të merren në konsideratë gjithmonë gjatë shqyrtimit të burimeve potenciale të provave të tilla</a:t>
            </a:r>
            <a:endParaRPr b="0" lang="en-US" sz="1200" spc="-1" strike="noStrike">
              <a:solidFill>
                <a:srgbClr val="000000"/>
              </a:solidFill>
              <a:latin typeface="Calibri"/>
            </a:endParaRPr>
          </a:p>
        </p:txBody>
      </p:sp>
      <p:sp>
        <p:nvSpPr>
          <p:cNvPr id="4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B28447-4A0C-4E39-8B3F-119353FE0F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600" spc="-1" strike="noStrike">
                <a:solidFill>
                  <a:srgbClr val="000000"/>
                </a:solidFill>
                <a:latin typeface="Calibri"/>
              </a:rPr>
              <a:t>Kategorizoni provat dixhitale në 3 grupe:</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Regjistrime të aktiviteteve që kanë dokumente të shkruara nga një apo më shumë persona (P.sh. mesazhet elektronike, skedarët ëord, Mesazhet e menjëhershme). Mund të jetë e nevojshme të demonstrohet se përmbajtja e dokumentit është e dhënë e besueshme e deklarimeve njerëzore, e cila mund të besoh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Të dhënat e gjeneruara nga një kompjuter që nuk ka pasur ndonjë ndikim nga ndonjë njeri (p.sh. skedarë me regjistrime të të dhënave, veprimet në bankomate, lidhjet telefonike). Çështja kryesore provuese me të dhëna të tilla mund të jetë demonstrimi se programi kompjuterik që i gjeneroi të dhënat po funksiononte në vazhdimësi në kohën e caktuar.</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Të dhëna që përfshijnë një kombinim të të dhënave të futura nga njerëzit dhe përllogaritje të gjeneruara dhe të memorizuara nga kompjuteri (p.sh. një fletë pune financiare). Nga këndvështrimi i provave, çështja është nëse përmbajtja e të dhënave u krijua nga njeriu apo nga kompjuteri, dhe sasia e krijuar nga njeriu dhe sasia e krijuar nga kompjuteri. Është e mundur që të dhënat e futura mund të jenë fjalë të dëgjuara, dhe autenticiteti i përpunimit kompjuterik mund të jetë çështja.</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600" spc="-1" strike="noStrike">
                <a:solidFill>
                  <a:srgbClr val="000000"/>
                </a:solidFill>
                <a:latin typeface="Calibri"/>
              </a:rPr>
              <a:t>Roli i rëndësishëm i ekspertëve/specialistëve të provave dixhitale</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Zemra e rolit të një eksperti kriminalist si dëshmitar qëndron në prodhimin e raporteve që lidhen me provat elektronike të marra, deklaratat dhe kundërshtimi i raporteve të kundërta ku të jetë e përshtatshme. Duhet të inkurajoni përdorimin e thënieve të shkurtra, qartësisht të ndara ndërmjet faktit dhe mendimit, në mënyrë që të mund të ketë një kuptim të saktë se cilat janë proceset e mendimit dhe argumentet që ngrihen. Kërkoni dokumentacion mbështetës si shtojcat p.sh. dhe jo dokumente voluminozë të panevojshëm.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Një raport i shkurtër mund të jetë një raport i mirë; një raport i gjatë nuk është i nevojshëm nëse askush nuk është në gjendje ta lexojë deri në fund.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Kërkoni informacion dhe shpjegime specifike nëse dihen ose për udhëzim nga dëshmitari përpara deklarimeve nëse nuk dihen, dhe nëse dihen bëni pyetje specifike që dalin nga deklarimet kundërshtuese që kërkojnë kundërshtim ose shpjegim. Më e rëndësishmja kërkoni që dëshmitarët të nxjerrin dhe të bien dakord për një fjalorth termash që do të përdoren gjatë çështje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Ekspertët e kriminalistikës kur janë si dëshmitarë inkurajohen që të përcaktojnë pikat e përbashkëta dhe diferencat e rëna dakord ndërmjet pozitave të akuzës dhe mbrojtjes në lidhje me interpretimin e provave dixhitale, dhe është gjithashtu e dobishme që të bihet dakord për një fjalorth termash të fushë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Është thelbësore që përfaqësuesit e të dy anëve të ndjekin takimet ndërmjet ekspertëve kriminalistë si dëshmitarë. Në takime duhet të mbahet procesverbal, i cili duhet të nënshkruhet nga të dy palë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Provat që eksperti dëshmitar jep duhet të kenë karakteristikat e mëposhtme me qëllim që të garantohet vlerësimi i saktë në Gjykatë: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a. të Besueshm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b. të Paanshm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c. të Qarta </a:t>
            </a:r>
            <a:endParaRPr b="0" lang="en-US" sz="600" spc="-1" strike="noStrike">
              <a:solidFill>
                <a:srgbClr val="000000"/>
              </a:solidFill>
              <a:latin typeface="Calibri"/>
            </a:endParaRPr>
          </a:p>
        </p:txBody>
      </p:sp>
      <p:sp>
        <p:nvSpPr>
          <p:cNvPr id="4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C81146-6925-4041-B4AF-6711B4CAF6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Zinxhiri i Ruajtjes së Provave Elektron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ihni kapitullin 9.4.3 të Guidës së Këshillit të Evropës për Provat Elektron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Zinxhiri i ruajtjes së provave fillohet me përshkrimin e sekuestrimit nga punonjësi i zbatimit të ligjit dhe ka për qëllim të regjistrojë të gjitha veprimet që ndodhin me provat elektronike që do të analizohe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apo klonohet një pajisje për mbajtjen e të dhënave, rekomandohet shumë që nëse është e mundur pajisja origjinale të mbahet në ruajtje nga punonjësi i zbatimit të ligjit. Në rast se kjo gjë nuk është e mundur, atëherë është e mundur që të bëhet një kopje e dytë gjatë procesit të sekuestrimit për ta çuar tek punonjësi i zbatimit të ligjit, ndërsa pajisja e parë e klonuar do të përdoret për ekzaminimin kriminalistik. Nëse nevojiten më shumë kopje të klonuara për ekzaminime shtesë ose për specialistin e palës kundërshtare, atëherë kopje të tilla mund të bëhen nga pajisja që është në ruajtje nga punonjësi i zbatimit të ligj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uke lënë në ruajtje origjinalin ose kopjen, ne lejojmë që përmbajtja e diskut të kompjuterit të jetë e aksesueshme për palët e tjera që mund të duan të provojnë manipulimin ose mos-manipulimin e rezultateve të paraqitura duke aksesuar origjinalin dhe duke bërë një kopje identike për të kryer një ekzaminim të dytë kriminalistik.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ekuestrimi i pajisjes origjinale të ruajtjes së të dhënave me punonjësin e zbatimit të ligjit është e mundur vetëm kur largimi i pajisjes nga vendi i sekuestrimit nuk do të shkaktojë ndonjë dëmtim ekonomik për shembull privimin e një biznesi nga të dhënat e tij dhe vetëm kur është zgjedhja më pragmatike dhe në proporcion me rrethanat e çështjes. Në të gjitha rastet e tjera, pajisja origjinale e ruajtjes së të dhënave nuk duhet të sekuestrohet, por në vend të saj duhet të bëhet një kopje ekzakte sepse kjo është e mjaftueshme për garantimin e ruajtjes së përmbajtjes së pajisjeve elektronike të të dhëna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unonjësi i ligjit më pas do t’i mbajë të dhënat e sekuestruara në ruajtje, ose pajisjen origjinale të të dhënave ose një kopje identike, dhe do të krijojë një dokument që përshkruan secilën kohë që u administruan të dhënat, nga kush, dhe për çfarë qëllimi për të përshkruar zinxhirin e ruajtjes së provav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397388-704F-48D9-8977-C199F3A22E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Garantimi i integritetit të provave që vijnë nga jashtë shtet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domosdoshme që të përfshini në kërkesën për Ndihmë të Ndërsjellë Juridike që të gjitha veprimet dhe metoda e hetimit të dokumentohe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umë shtete, për shembull SHBA dhe MB (ku janë përqendruar lojtarët më të shumtë në Internet), janë të gatshme të marrin në konsideratë procedime të posaçme dhe kritere me qëllim garantimin që provat të mblidhen në përputhje me ligjin kombëta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 shembull ju mund të specifikoni në kërkesën tuaj për NNJ se keni nevojë që provat dixhitale të sekuestruara të jenë me kopje rezervë dhe të vulosura në një mënyrë të caktuar. Ju, madje, mund të kërkoni që të gjitha provat të kalojnë procesin “Hash”.</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Garantoni pranueshmërinë dhe ligjshmërinë e provave që vijnë nga jashtë shtet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Ju mund të merrni në konsideratë se jo të gjitha provat që vijnë nga jashtë shtetit mund të konsiderohen të pranuesh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Jo të gjitha shtetet nga të cilat do të kërkonit prova dixhitale e kanë ratifikuar KEDNJ-n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uhet të merrni në konsideratë çështje s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lauzola e vetë-inkriminimit:</a:t>
            </a:r>
            <a:br>
              <a:rPr sz="1200"/>
            </a:br>
            <a:r>
              <a:rPr b="0" lang="sq-AL" sz="1200" spc="-1" strike="noStrike">
                <a:solidFill>
                  <a:srgbClr val="000000"/>
                </a:solidFill>
                <a:latin typeface="Calibri"/>
              </a:rPr>
              <a:t>Në disa shtete, legjislacioni e mundëson të detyrosh një të dyshuar të bashkëpunojë me drejtësinë (p.sh. të japë një çelës ç’kodimi, një fjalëkalim,…). Kjo mund të mos jetë e pranueshme në Gjykatë në vendin tuaj.</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dorimi i provokimit (i pranueshëm në SHBA, i papranueshëm në Evrop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dihma e avokatit (vendimi Salduz i KEDNJ)</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und të specifikoni në kërkesën tuaj për NNJ se dëshironi që shteti i kërkuar të marrë parasysh detyrimet procedur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Juridiksioni dhe kombësia e prova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ihni Kapitullin 8 të Guidës së Këshillin të Evropës për Provat Elektronike që flet për </a:t>
            </a:r>
            <a:r>
              <a:rPr b="1" lang="sq-AL" sz="1200" spc="-1" strike="noStrike">
                <a:solidFill>
                  <a:srgbClr val="000000"/>
                </a:solidFill>
                <a:latin typeface="Calibri"/>
              </a:rPr>
              <a:t>JURISDIKSIONI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Dimensioni Ndërkombëtar i Krimit Kibernetik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Rrjeti botëror është një kënd lojërash i mirë për keqbërësit. Me mijëra fëmijë dhe të rritur në të gjithë globin dëmtohen çdo ditë nga keqpërdorimi i Internetit; të pafajshëm që iu vidhen paratë, dhe hajdutët që kryejnë krime të mëdha pa kufizim kufijsh ndërkombëtarë. Për këtë arsye, është e rëndësishme për autoritetet e hetimit që të lehtësohet ndërlidhja ndërkufitare. Marrja e provave nëpërmjet ndihmës së ndërsjellë juridike dhe ekstradimit luan një rol të rëndësishëm në punën e forcave të policisë dhe prokurorëve. Prokurorët punojnë me hetuesit dhe prokurorët nga vendet e tjera për të çuar përpara hetimet dhe ndjekjen ligjore. Bashkëpunimi ndërkombëtar për hetimin e krimeve kibernetike duhet të theksohet gjithnjë e më shum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Hetimet ndërkufitare duhet të trajtojnë një çështje të rëndësishme: rrethanat në të cilat një punonjës i zbatimit të ligjit mund të hetojë në mënyrë të ligjshme jashtë vendit të tij/saj (duke përfshirë provat e ruajtura në ‘re’, të cilat mund të jenë kudo), veçanërisht nëse ai/ajo duhet të veprojë me urgjencë. Është e rëndësishme të dihet nëse është e mundur të merren dhe mblidhen provat elektronike që ruhen diku jashtë kufijve të një shteti, veçanërisht nëse provat ka të ngjarë të zhduke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a dy kategori rrethanash që janë të rëndësishme për tu dalluar kur trajtohen provat elektronike që nuk janë fizikisht brenda juridiksion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1. Kur një hetues ka marrë kontrollin e një kompjuteri të lidhur në Internet. Në rrethana të tilla, hetuesi mund të ketë autoritetin për të klikuar në uebsajte ose të hyjë në kompjuterë në juridiksione të tjera. Autoriteti për të vepruar kështu mund t’i jepet hetuesit në bazë të ligjit të brendshëm ose një kombinimi të ligjit të brendshëm dhe dispozitave të nenit 32 të Konventës së Budapestit për Krimin Kibernetik.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2. Kur provat elektronike gjenden në “re” – dmth kur për shembull mesazhet elektronike të një të dyshuari nuk janë ruajtur në kompjuterin e shtëpisë por janë ruajtur diku tjetër, në një disk të posaçëm në Shtetet e Bashkuara të Amerikë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rëndësishme të kuptohet ndryshimi ndërmjet këtyre dy lloj rrethanash, sepse autoritetet hetimore do të duhet të ndërmarrin veprime të ndryshme në secilën rrethanë në varësi të legjislacionit venda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Përgjigjja ndaj krimit kibernetik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a masa të ndryshme që janë ndërmarrë nga Evropa si përgjigje ndaj krimit kibernetik. Ato më të fundit përfshijnë Interpolin, Këshillin e Evropës dhe zhvillimet nga Bashkimi Evropian (Rrjeti i Pikave të Kontaktit, Europoli, Eurojust-i dhe Rrjeti Gjyqësor Evropian në çështjet penale). Burimet e këtyre institucioneve mund të jenë të disponueshme për aktorë të ndryshëm në sistemin e drejtësisë penale për t’i ndihmuar ata në hetime dhe ndjekje penal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Ndihma e Ndërsjellë Juridik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tetet sovrane gjithmonë kanë pasur nevojë të bëjnë kërkesa shteteve të tjera sovrane në lidhje me mbledhjen e provave për krimet që përfshijnë një komponent ndërkombëtar. Në këto çështje, mund të bëhet një aplikim për Ndihmë të Ndërsjellë Juridike (NNJ), ose të kërkohen forma të tjera bashkëpunimi. Kërkesat për ndihmë ndërkufitare janë veçanërisht të rëndësishme në çështjet që kanë të bëjnë me provat elektronike sepse ekziston mundësia që provat të fshihen ose të modifikohen. Sfida reale në këto çështje është të jesh në gjendje të veprosh me mjaft shpejtësi.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r bëhet një kërkesë për NNJ, është e nevojshme të fillohet me një kërkesë formale nga autoritetet e prokurorisë, ose nganjëherë nga autoritetet gjyqësore. Megjithatë, suksesi i një kërkese të tillë shpesh varet nga vullneti i mirë dhe niveli i ekspertizës së atyre që janë përfshirë, edhe nga autoritetet kërkuese edhe nga autoritetet që u dërgohet kërkesa. Krahas kësaj, mund të duhen ca kohë që kërkesa të plotësohe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 këtë arsye, autoritetet e hetimit dhe ndjekjes ligjore mund të provojnë të marrin provat nga një rrugë tjetër në çështjet që kanë prova elektronike me qëllim që të kenë një rezultat më të mir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Çështje Ndërkufitar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r një çështje kalon një numër juridiksionesh duhet të merren parasysh edhe ligji material, por edhe diskutimet ndërmjet institucioneve të ndryshme përgjegjëse për hetimin e veprave penale në secilin juridiksion. Kjo mund të jetë një zonë komplekse, dhe nganjëherë merret një vendim për të lejuar një grup të vetëm hetuesish në një juridiksion të marrin drejtimin në hetimin dhe procedimin e veprave penale. Institucionet përkatëse në juridiksionet e tjera do të bien dakord me institucionin që drejton hetimin për sigurimin e provave në juridiksionin e tyr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eni 35 i Konventës së Budapestit ofron pak ndihmë praktike për hetuesit sepse kërkon që secila palë nënshkruese të “caktojë një pikë kontakti të disponueshme njëzet e katër orë në ditë dhe shtatë ditë në javë”. Synimi për këtë është parashikimi i “ndihmës së menjëhershme për qëllime të hetimeve ose procedimeve në lidhje me veprat penale që lidhen me sistemet dhe të dhënat kompjuterike, ose për grumbullimin e provave në formë elektronike për një vepër penal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alëve në Konventë iu kërkohet të ndërmarrin një numër masash, me kusht që praktika dhe legjislacioni i brendshëm t’ju lejojë si më posht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1. Dhënien e konsulencës teknik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2. Ruajtjen e të dhënave sipas Neneve 29 dhe 30;</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3. Grumbullimin e provave, dhënien e informacionit ligjor dhe vendndodhjen e të dyshuar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jo është një pjesë e rëndësishme e lehtësimit të punës efektive dhe efiçente në procedimin e krimeve që përfshijnë një element të provave elektronike në juridiksione të ndrysh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Kompetenca territoriale (e mbledhjes së provave) në hapësirën kibernet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Një përpjekje Belge për një zgjidhje dhe një ftesë për reflektim për të gjith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A keni frikë nga lufta kundër krimit kibernet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Një histori nga jeta reale për të treguar disa proble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ristian B., i cili jeton pranë ndërtesës së Parlamentit Evropian në Bruksel, nuk i pëlqen gjithë këto institucione Evropiane dhe dëshiron që në Bruksel të jetonin vetëm belgët që janë aty. Ai vendos të fillojë një fushatë terrori dhe dëshiron të shkaktojë frikë që të largohen Evropianët. Ai fillon me dërgimin e disa mesazheve elektronike, në të cilat ai pretendon se është një organizatë me bazë në Gjermani që lufton për një Bashkim Evropian më të vogël dhe se ai nuk është vetëm, dhe është i përgatitur madje të vendosë bomba për arritjen e synimit final.</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ristiani nuk di shumë nga kompjuterët, por në Internet mësoi se mund të bëhet totalisht anonim duke përdorur instrumente lirshmërisht të disponuesh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esazhet e tij elektronike u dërguan nga llogaria e Hotmailit bessermit8@hotmail.com, që do të thotë se llogaria e tij e postës elektronike është në serverët e uebsajtit Hotmail në SHBA (Kristiani dëgjoi se bashkëpunimi me SHBA-në është i ngadaltë dhe jo efektiv kur policia dëshiron të marrë përmbajtjen e mesazheve për shkak të rregullave të posaçme </a:t>
            </a:r>
            <a:r>
              <a:rPr b="0" i="1" lang="sq-AL" sz="1200" spc="-1" strike="noStrike">
                <a:solidFill>
                  <a:srgbClr val="000000"/>
                </a:solidFill>
                <a:latin typeface="Calibri"/>
              </a:rPr>
              <a:t>“probable cause”</a:t>
            </a:r>
            <a:r>
              <a:rPr b="0" lang="sq-AL" sz="1200" spc="-1" strike="noStrike">
                <a:solidFill>
                  <a:srgbClr val="000000"/>
                </a:solidFill>
                <a:latin typeface="Calibri"/>
              </a:rPr>
              <a:t>). Llogaria në Hotmail u krijua duke përdorur Rrjetin TOR (the Onion Ring Router) dhe çdo lidhje më pas u realizua duke përdorur këtë rrjet. Nga të dhënat teknike në kokën e mesazhit elektronik dhe nga të dhënat e regjistruara nga Kompania Microsoft, policia është e mendimit se mesazhet elektronike u dërguan nga Gjermania por llogaria ishte krijuar në Kazakista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olicia Belge nuk e di nëse është e mundur të vazhdojë hetimin, sepse mendojnë se kjo është një çështje për policinë Gjermane (personi thotë se i përket një organizate Gjermane, dhe mesazhet elektronike duket sikur dërgohen nga Gjermania); atyre nuk iu pëlqen të dërgojnë letër porosie në SHBA dhe në Kazakistan, sepse e dinë se nuk do të marrin përgjigje ose do të marrin përgjigje shumë vonë në lidhje me rregullat e mbajtjes së të dhënave në Evropë që thonë se provat dixhitale nga Kompanitë Shërbimofruese të Internetit duhet të eliminohen mbas një periudhe prej 12 muajsh.</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utoritetet e zbatimit të ligjit dhe gjyqësori në Belgjikë u detyruan nga qeveria belge të ndërmarrin vepri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o ku të filloni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është kompetente territorialisht policia Belg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është policia Belge kompetente t’i mbledhë vetë provat në Gjermani, SHBA, Kazakistan apo nga ndonjë shtet tjetë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Kur jemi territorialisht kompetentë për të trajtuar një çështje të krimit kibernet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Belgjikë, neni 3 i Kodi Penal Belg thotë se gjykatat duhet të jenë kompetente për të gjitha krimet në territorin Belg, pavarësisht nëse janë kryer nga Belgët apo të huajt (kompetenca territori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eni 4 thotë se gjykatat do të jenë kompetente për krimet e kryera jashtë shtetit vetëm kur parashikohet kështu nga Kodi i Procedurës Penale Belge  (p.sh. neni 10 i Titullit Paraprak të Kodit Penal të Belgjikës: shfrytëzimi seksual, përdhunimi, sulmi ndaj personit, terrorizmi) (kompetenca jashtëterritoriale). Shumë vende kanë dispozita të ngjashme për kompetencën territori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r e konsiderojmë veten kompetentë territorialisht, avantazhet e kësaj kompetence territoriale janë të shumta: ajo bazohet në sovranitetin kombëtar; nuk ka kushte bashkëngjitur për tu bërë kompetent; kombësia e keqbërësit ose viktimës janë irelevante (madje edhe kur të dy janë të huaj ose nuk janë të ndëshkueshëm në një shtet tjetër (p.sh. bigamia). Një gjykim i bazuar në të njëjtat fakte në një shtet tjetër nuk është domosdoshmërisht një pengesë dhe legjislacioni i huaj nuk ka pse të merret në konsideratë (nuk kërkohet kriminalizim i dyfisht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Çështja kryesore në gjykimin e krimit kibernetik mbetet lokalizimi i veprës penale kibernetike. Deri më sot askush nuk ka vendosur ndonjë flamur (akoma) në hapësirën kibernetike. Askush nuk e di në të vërtetë se ku është hapësira kibernetike dhe askush nuk e di në të vërtetë sesi të trajtojë </a:t>
            </a:r>
            <a:r>
              <a:rPr b="0" i="1" lang="sq-AL" sz="1200" spc="-1" strike="noStrike">
                <a:solidFill>
                  <a:srgbClr val="000000"/>
                </a:solidFill>
                <a:latin typeface="Calibri"/>
              </a:rPr>
              <a:t>“realitetin virtual”</a:t>
            </a:r>
            <a:r>
              <a:rPr b="0" lang="sq-AL" sz="1200" spc="-1" strike="noStrike">
                <a:solidFill>
                  <a:srgbClr val="000000"/>
                </a:solidFill>
                <a:latin typeface="Calibri"/>
              </a:rPr>
              <a:t> në drejtësi. Mendjet gjyqësore shpesh nuk duket të jenë gati për implementimin e mënyrës së tyre tradicionale të materializuar në mjedisin virtual kibernetik. Hapësira kibernetike nuk ka kufij dhe krimi kibernetik nuk ka kufij. Si mund ta pajtojmë këtë fakt me rregullat tona të ngushta të kompetencës kombëtare dhe gjyqësore? Si mund ta lidhim një krim (në hapësirë) kibernetik me tokën e një komb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Belgjikë, si në shtetet e tjera, çështja e lokalizimit të një vepre penale nuk rregullohet me ligj por me doktrinën juridike. Për të lokalizuar një vepër penale, janë nxjerrë në dritë teori të ndryshme. Ekziston teoria e ngjarjeve kriminale sipas të cilës, përcaktuese duhet të jetë ku filloi vepra penale ose </a:t>
            </a:r>
            <a:r>
              <a:rPr b="0" i="1" lang="sq-AL" sz="1200" spc="-1" strike="noStrike">
                <a:solidFill>
                  <a:srgbClr val="000000"/>
                </a:solidFill>
                <a:latin typeface="Calibri"/>
              </a:rPr>
              <a:t>itercriminis</a:t>
            </a:r>
            <a:r>
              <a:rPr b="0" lang="sq-AL" sz="1200" spc="-1" strike="noStrike">
                <a:solidFill>
                  <a:srgbClr val="000000"/>
                </a:solidFill>
                <a:latin typeface="Calibri"/>
              </a:rPr>
              <a:t>. Në përputhje me teorinë e instrumentit, është e rëndësishme se ku ka ndodhur akti kriminal dhe ku u ekzekutua. Teoria e pasojës së drejtpërdrejtë e vë theksin tek rezultati i krim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E përkthyer në gjuhën e hapësirës kibernetike, kjo do të thotë se në përputhje me teorinë e instrumentit, vendi i banimit (dhe kompjuteri) i hakerit përcakton prokurorin dhe gjykatën kompetente. Në përputhje me teorinë e instrumentit, vendndodhja e serverit me anë të të cilit u krye veprimi i paligjshëm është përcaktues. Dhe së fundi, në përputhje me teorinë e pasojës së drejtpërdrejtë, do të ishte shteti në të cilin viktima është përballur me veprimin e paligjshëm.</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umica e shteteve zbatojnë një kombinim i këtyre teorive. Për shembull në SHBA gjykatat zbatojnë gjerësisht teorinë e efekteve, që përfshijnë gjithashtu efekte të largëta, me qëllim që të deklarohen kompetent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Belgjikë, përdoret një kombinim i të gjitha teorive, e quajtur “theory of objective ubiquity” (</a:t>
            </a:r>
            <a:r>
              <a:rPr b="0" i="1" lang="sq-AL" sz="1200" spc="-1" strike="noStrike">
                <a:solidFill>
                  <a:srgbClr val="000000"/>
                </a:solidFill>
                <a:latin typeface="Calibri"/>
              </a:rPr>
              <a:t>“théorie de l’ubiquité objective”</a:t>
            </a:r>
            <a:r>
              <a:rPr b="0" lang="sq-AL" sz="1200" spc="-1" strike="noStrike">
                <a:solidFill>
                  <a:srgbClr val="000000"/>
                </a:solidFill>
                <a:latin typeface="Calibri"/>
              </a:rPr>
              <a:t>), në përputhje me të cilën vepra e paligjshme ndodhet në të gjitha vendet ku ekziston një element konstituiv i shkeljes. Kjo teori është plotësuar nga “teoria e pandashmërisë”, e cila bën të mundur që Gjykatat të marrin në konsideratë të gjitha elementët që janë pandashmërisht të lidhura me një vepër të paligjshme në Belgjikë me qëllim që të deklarohen kompetentë. Kjo është shumë e krahasueshme me teorinë e efekteve. Teoria Belge është përcaktuar qartë nga Gjykata e Kasacionit e Belgjikës (Gjykata e Lartë) në 23 Janar 1979 (në çështjen Ghavami-Lahidji). Një çek i keq u shkrua dhe u lëshua në Teheran, por llogaria tek e cila ata u përpoqën të ngarkonin çekun (në Teheran) ishte një llogari bankare Belge. Gjykata Belge e Kasacionit vendosi që gjykatat Belge ishin kompetent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jo ishte në vitin 1979, shumë përpara se të zbuloheshin hapësira kibernetike dhe krimi kibernetik. Tani, si mund t’i zbatojmë këto rregulla dhe teori në çështjet e krimit kibernet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vitin 2008, filloi një çështje në gjykatën e shkallës së parë të Dendermonde në Belgjikë. Një grua u ndoq ligjërisht për hyrje të paautorizuar në llogarinë e Hotmail-it dhe disa llogari të tjera në Internet të ish të dashurit të saj që e kishte tradhtuar. Punë e madhe, mund të mendojë dikush. Megjithatë problemi ishte se kjo grua jetonte në një rreth gjyqësor tjetër, dhe se ajo kishte kryer hyrjen e paautorizuar nga ai distrikt në serverë që ndodheshin në SHBA dhe Holandë. Gjyqtari dha vendim në 29 Shtator 2008 se ai ishte kompetent se viktima u përball së pari me hyrjen e paautorizuar kur ai kontrollonte llogarinë e tij të postës elektronike dhe llogaritë e tjera kur ishte në distriktin e Dendermondes. Me sa duket, në përputhje me këtë vendim, aktivizimi i kompjuterit tuaj dhe të provuarit e krimit kibernetik është e mjaftueshme për të përcaktuar juridiksionin. Gjyqtari siç duket gjeti në distriktin e tij një udhëkryq ndërmjet botës reale dhe botës virtu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Belgjikë, duket se është e mjaftueshme të aktivizohet një kompjuter dhe të hyhet në Internet në një vend të caktuar me qëllim që të sigurohet kompetenca. Kjo mund të ketë kuptim se Belgjika pretendon të ketë një lloj kompetence globale në lidhje me krimin kibernetik. Kjo gjithashtu do të thotë se çdo shtet tjetër mund të jetë njësoj kompetent. Sado absurde mund të duket në pamje të parë, ne duhet të marrim në konsideratë mundësinë që krimi kibernetik shkakton një formë të kompetencës glob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I njëjti gjyqtar i çështjes së përmendur më lart dha vendim në 2 Mars 2009 se Kompania YAHOO Inc.! ishte virtualisht dhe ekonomikisht e pranishme në Belgjikë (nëpërmjet Internetit) dhe për rrjedhim duhet gjithashtu të konsiderohet e pranishme gjyqësisht në një mënyrë të tillë që Kompania YAHOO Inc.! duhet t’i bindet urdhrit direkt të prokurorit për të bashkëpunuar me drejtësinë. Vëreni se prokurori ia kishte dorëzuar kërkesën e tij për bashkëpunim Kompanisë YAHOO Inc.! nëpërmjet Internetit (!). Më pas Kompania YAHOO Inc.! u shpall e pafajshme nga Gjykata e Apelit të Gentit; pafajësia u anulua nga Gjykata Belge e Kasacionit, dhe mbas asaj Kompania YAHOO Inc.! u shpall e pafajshme nga gjykata e apelit e Brukselit. Çështja shkoi për herë të dytë në Gjykatën e Kasacionit. Ndërkohë, edhe Gjykatat e Apelit që deklaruan të pafajshme Kompaninë YAHOO Inc.! e deklaruan veten kompetente për kryerjen e procedimit gjyqësor të Kompanisë YAHOO Inc.!, edhe pse Kompania YAHOO Inc.! mund të konsiderohet virtualisht e pranishme në Belgjikë vetëm kur aktivizohet kompjuteri dhe i has ato në Internet. Me sa duket gjykatat ranë dakord që prokurori bëri takim me YAHOO Inc.! në zyrën e tij. Në 4 Shtator 2012, gjykata e kasacionit vendosi që: “</a:t>
            </a:r>
            <a:r>
              <a:rPr b="0" i="1" lang="sq-AL" sz="1200" spc="-1" strike="noStrike">
                <a:solidFill>
                  <a:srgbClr val="000000"/>
                </a:solidFill>
                <a:latin typeface="Calibri"/>
              </a:rPr>
              <a:t>Rrethana që Prokurori dërgon nga Belgjika kërkesën e tij me shkrim, sipas kuptimit të Nenit 46bis të Kodit Belg të Procedurës Penale, ku kërkon bashkëpunimin e një operatori të një rrjeti të komunikimeve elektronike ose të shërbimofruesit të komunikimeve elektronike të vendosura jashtë territorit Belg, në një adresë të huaj, nuk e zhvlerëson kërkesën</a:t>
            </a:r>
            <a:r>
              <a:rPr b="0" lang="sq-AL"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e jemi në favor të vendimeve dhe rregullave të gjera të kompetencës ,të cilat dematerializojnë parimet klasike të kompetencës territoriale. Kjo mënyrë të menduari është e domosdoshme për përballimin e realitetit virtual dhe krimit kibernetik në çështjet e drejtësis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shembullin e mësipërm e konsiderojmë policinë belge si kompetente territorialish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A  jemi kompetentë të mbledhim vetë prova në një shtet tjetë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apo të kemi deklaruar veten kompetentë për hetimin e një çështjeje dhe dërgimin e çështjes në gjykatë, është e rëndësishme që provat dixhitale të mund të mblidhen për të ndërtuar çështje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derisa kriminelët kibernetikë operojnë duke injoruar kufijtë ose në shumë raste nga kompjuterë jashtë shtetit ku duan të kryejnë krimin, është e qartë se më shumë prova do të gjenden në vendet e tjera sesa në vendin që dëshiron t’i nxjerrë kriminelët përpara gjykatë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avarësisht nga të gjitha përpjekjet e bëra për të lehtësuar bashkëpunimin ndërkombëtar, në jetën reale, shpesh të përballuar me krimet ndërkufitare, ndihma e ndërsjellë juridike funksionon shumë ngadalë, nëse funksiono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eri tani komisionet e letërporosive kanë shumë punë për përgatitjen e letrave dhe shpesh nevojiten përkthime që duhet të bëhen. Në hapësirën kibernetike ku provat dixhitale janë shumë të paqëndrueshme (një shtypje e tastit “delete” dhe gjithçka humbet përgjithmonë) çdo sekondë ka rëndës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rahas sa më sipër, komisionet e letërporosive kërkojnë faktin se një autoritet i huaj jo vetëm duhet të jetë i kontaktueshëm (preferueshmërisht 24/7), por gjithashtu duhet të jepet një përgjigje e shpejtë dhe tërësore. Sot fatkeqësisht nuk ndodh kështu në shumicën e raste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utoritetet Evropiane të zbatimit të ligjit më së shumti përballen me kompani dhe server që janë vendosur në SHBA, tokën e njerëzve të lirë. Jo vetëm shumë Shërbimofrues gjenden në SHBA (Yahoo!, Google, Microsoft...), por gjithashtu është dhe amendamenti i parë që përfshin lirinë e shprehjes që tërheq shumë njerëz për të vendosur përmbajtjen (e ligjshme dhe të paligjshme) në serverët e vendosur në SHB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r nevojitet vetëm informacion për abonentin, ose thjesht të dhënat e komunikimit (jo përmbajtja e të dhënave), marrëveshjet unilaterale ndërmjet autoriteteve lokale të zbatimit të ligjit dhe kompanive të vendosura në SHBA janë një rrugë e shkurtër e çmuar. Por kur kërkohet përmbajtja e të dhënave, duhet të ndiqen kanalet e zakonshme diplomatike dhe duhet të provohet një </a:t>
            </a:r>
            <a:r>
              <a:rPr b="0" i="1" lang="sq-AL" sz="1200" spc="-1" strike="noStrike">
                <a:solidFill>
                  <a:srgbClr val="000000"/>
                </a:solidFill>
                <a:latin typeface="Calibri"/>
              </a:rPr>
              <a:t>“shkak i mundshëm”</a:t>
            </a:r>
            <a:r>
              <a:rPr b="0" lang="sq-AL" sz="1200" spc="-1" strike="noStrike">
                <a:solidFill>
                  <a:srgbClr val="000000"/>
                </a:solidFill>
                <a:latin typeface="Calibri"/>
              </a:rPr>
              <a:t> (një figurë gjyqësore e panjohur në shumicën e vendeve Evropiane). Dërgohen shumë letërporosi dhe jo shumë prej tyre ekzekutohen me suks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ashkëpunimi me shumë shtete të huaja të tjera, të vështira për tu ndërlidhur, tregon të njëjtat vështirës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 rrjedhojë do të ishte shumë më e lehtë të sekuestroheshin të dhënat nga një vend i caktuar në Internet, në hapësirën kibernetike, pa u marrë me gjithë ato lloje të ndryshme ndihmash të ndërsjell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onventa e Budapestit për Krimin Kibernetik nuk deshi të shkonte aq larg akoma, por nuk përjashtoi që shtete të tjera anëtare mund të mendojnë në atë mënyrë. Legjislatori Belg bëri një ligj që është inovativ dhe ndihmon në marrjen e provave nga jashtë shtetit. Zgjidhja ligjore belge hap diskutimin dhe tregon se sa shpejt mund të sekuestrohen provat dixhitale dhe kriminelët kibernetikë mund të sillen në gjykatë. Zgjidhja belge shpesh përdoret dhe deri tani në gjykatë nuk ka hasur asnjë problem.</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Konventa e Budapestit për Krimin Kibernet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nenin 19.2 të Konventës së Budapestit për Krimin Kibernetik shkruhe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a:t>
            </a:r>
            <a:r>
              <a:rPr b="0" i="1" lang="sq-AL" sz="1200" spc="-1" strike="noStrike">
                <a:solidFill>
                  <a:srgbClr val="000000"/>
                </a:solidFill>
                <a:latin typeface="Calibri"/>
              </a:rPr>
              <a:t>Secila Palë duhet të miratojë masa të tilla legjislative dhe masa të tjera siç mund të jetë e nevojshme për të garantuar se aty ku autoritetet kërkojnë ose në mënyrë të ngjashme aksesojnë një sistem kompjuterik specifik ose pjesë të tij, në përputhje me paragrafin 1.a, dhe kanë arsye të besojnë se të dhënat e kërkuara ruhen në një sistem tjetër kompjuterik ose pjesë të tij në territorin e saj, dhe këto të dhëna janë ligjërisht të aksesueshme ose të disponueshme në sistemin fillestar, autoritetet duhet të jenë në gjendje të shtrijnë me shpejtësi kontrollin ose aksesin e ngjashëm në sistemin tjetër”</a:t>
            </a:r>
            <a:r>
              <a:rPr b="0" lang="sq-AL"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e këtë nen Këshilli i Evropës pranoi se shpesh të dhënat nuk ruhen në kompjuterin e përdorur nga i dyshuari, por kompjuteri i të dyshuarit është vetëm një pikë aksesi tek të dhënat faktike që ruhen diku tjetër në një sistem kompjuterik tjetër. Këshilli i Evropës thekson se në këto raste, dhe deri në njoftimin pasues vetëm kur të dhënat janë të ruajtura në territorin e shtetit anëtar që po shqyrton çështjen, duhet të jetë e mundur që kontrolli i kompjuterit të parë të shtrihet me shpejtësi tek sistemi kompjuterik tjetër, i lidhur me t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jo është e dobishme, por kur të dhënat janë të ruajtura në një shtet tjetër, kjo nuk shkon shumë larg.</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a kur neni 19.2 i Konventës së Budapestit për Krimin Kibernetik flet vetëm për territorin e tij, neni 32 i Konventës së Budapestit për Krimin Kibernetik shkon një hap më tej:</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a:t>
            </a:r>
            <a:r>
              <a:rPr b="0" i="1" lang="sq-AL" sz="1200" spc="-1" strike="noStrike">
                <a:solidFill>
                  <a:srgbClr val="000000"/>
                </a:solidFill>
                <a:latin typeface="Calibri"/>
              </a:rPr>
              <a:t>Një mundet, pa autorizimin e Palës tjetë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a. të aksesojë të dhëna kompjuterike (burim i hapur) të disponueshme publikisht, pavarësisht se ku ndodhen të dhënat gjeografikisht; os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b. të aksesojë ose marrë, nëpërmjet një sistemi kompjuterik në territorin e saj, të dhëna kompjuterike të ruajtura tek një Palë tjetër, nëse Pala merr pëlqimin e vullnetshëm dhe të ligjshëm të personit, i cili ka autoritetin ligjor t’i zbulojë të dhënat Palës nëpërmjet atij sistemi kompjuter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shkruar qartësisht se informacioni ose të dhënat e aksesuara në një shtet (anëtar) tjetër mund të përdoren pa autorizimin e Palës tjetër vetëm kur të dhënat janë ose (1) të disponueshme publikisht ose (2) kur pëlqimi (i) i ligjshëm dhe (ii) i vullnetshëm është dhënë nga personi që ka (iii) autoritetin e ligjshëm për zbulimin e të dhëna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jaft trishtueshëm, këto situata shpesh nuk ndodhin në hetimet penale. Kriminelët nuk priren të zbulojnë vullnetarisht provat që mund t’i fusin ata në burg. Është e kuptueshme se informacioni që u intereson autoriteteve të zbatimit të ligjit nuk është pothuaj kurrë i disponueshëm publikish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qartë se për të bërë një mjet të dobishëm për luftën kundër krimit kibernetik, Këshilli i Evropës duhet të ketë zgjeruar mundësitë e mbledhjes së të dhënave nga jashtë shtetit. Me sa duket kjo është diskutuar por pa rezultate akoma.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raportin shpjegues jepet një moment nga diskutimi për vendosjen e kompetencës ndërkufitar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a:t>
            </a:r>
            <a:r>
              <a:rPr b="0" i="1" lang="sq-AL" sz="1200" spc="-1" strike="noStrike">
                <a:solidFill>
                  <a:srgbClr val="000000"/>
                </a:solidFill>
                <a:latin typeface="Calibri"/>
              </a:rPr>
              <a:t>293. Çështja se kur një Palë lejohet të aksesojë në mënyrë të njëanshme të dhëna kompjuterike të ruajtura tek një Palë tjetër pa kërkuar ndihmë të ndërsjellë është një çështje që hartuesit e Konventës e kanë diskutuar gjerësisht. Ka pasur shqyrtim të detajuar të rrethanave në të cilat mund të jetë e pranueshme që Shtetet të veprojnë në mënyrë të njëanshme dhe të rrethanave kur ato nuk munden të veprojnë kështu. Hartuesit në fund përcaktuan se nuk ishte akoma e mundur të përgatitej një regjim përfshirës detyrues ligjor që të rregullonte këtë pjesë. Pjesërisht, kjo vinte për shkak të një mungese të përvojës konkrete me situata të tilla deri tani; dhe pjesërisht, kjo vinte për shkak të kuptimit se zgjidhja e duhur shpesh dilte në rrethana të përcaktuara të rastit individual, duke e bërë të vështirë kështu formulimin e rregullave të përgjithshme. Së fundmi, hartuesit vendosën të përcaktojnë vetëm situatat e Nenit 32 të Konventës për të cilat të gjithë ranë dakord se veprimi i njëanshëm ishte i lejueshëm. U ra dakord të mos rregulloheshin situatat e tjera derisa të mblidhej përvojë dhe të mbaheshin diskutime të tjera në këtë drejtim. Në lidhje me këtë, Neni 39, paragrafi 3 parashikon se </a:t>
            </a:r>
            <a:r>
              <a:rPr b="0" i="1" lang="sq-AL" sz="1200" spc="-1" strike="noStrike" u="sng">
                <a:solidFill>
                  <a:srgbClr val="000000"/>
                </a:solidFill>
                <a:uFillTx/>
                <a:latin typeface="Calibri"/>
              </a:rPr>
              <a:t>situatat e tjera as nuk autorizohen e as nuk përjashtohen</a:t>
            </a:r>
            <a:r>
              <a:rPr b="0" i="1" lang="sq-AL"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kruhet qartësisht se ekziston nevoja për kompetencë ndërkufitare, por që nuk ishte akoma e mundur të gjendej një marrëveshje ndërmjet shteteve anëtare dhe ishte akoma shumë shpejt për shkak të mungesës së përvojës dhe kohës për të diskutua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lidhje me zgjidhjet e mundshme për këtë problem të kërkuara dhe ndoshta të gjetura nga shtetet anëtare, u shkruajt se zgjidhjet e tjera në atë pikë as nuk autorizoheshin dhe as nuk përjashtoheshi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Zgjidhja Belge: Neni 88 i Kodit Belg të Procedurës Pen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vit përpara nënshkrimit të Konventës së Budapestit për Krimin Kibernetik në 23 Nëntor 2001, legjislatori Belg miratoi Ligjin për Krimin Informatik në 28 Nëntor 2000; dhe nenin 88 të Kodit të Procedurës Penale (KBP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ty ku ligji belg i vitit 2000 solli legjislacionin belg në linjë me Konventën e Budapestit për Krimin Kibernetik që duhej nënshkruar, neni 88 i KBPP ishte një përgjigje ndaj neneve të sipërpërmendura 19.2 dhe 32 të Konventës së Budapestit për Krimin Kibernet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eni 88 i KBPP i lejon një gjyqtari hetues (ky është gjyqtar me detyrën e posaçme të drejtimit të hetimit dhe me kompetenca të posaçme investigative), që kur ai urdhëron të bëhet kontroll në një sistem kompjuterik të caktuar, të shtrihet kërkimi edhe tek një sistem tjetër kompjuterik ose tek një pjesë e një sistemi tjetër kompjuterik të ndodhur diku tjetë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jo kompetencë vjen me kushte. Gjyqtari investigativ mund të vendosë për këtë kompetencë vetëm kur (1) është e domosdoshme të gjendet e vërteta në një hetim dhe (2) kur (i) masa të tjera hetimore nuk janë proporcionale (për shembull duhet të autorizohen urdhra kontrolli të ndryshëm për vendndodhje të ndryshme) ose (ii) ka një risk të qartë se provat do të zhduken (në çështjet kibernetike është një kusht që pothuaj gjithmonë përmbushet sepse provat dixhitale janë shumë të paqëndrueshme (tasti delet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eqë legjislatori Belg preokupohej për faktin se policia do të shkonte shumë larg dhe shumë lehtë (për shembull nga llogaria bankare e një të dyshuari tek të gjitha llogaritë bankare në të njëjtën bankë), u shtua një kusht shtesë në kuptimin që Gjyqtari Investigativ duhet të kufizonte kontrollin e zgjeruar tek pjesa e sistemit tjetër kompjuterik, tek i cili kanë akses përdoruesit e sistemit fillestar (ky kusht përmbushet më së shumti ku Gjyqtari Investigativ lejon policinë të shkojë tek një kompjuter tjetër me të dhënat e aksesit dhe fjalëkalimin e të dyshuarit; këto të dhëna dhe fjalëkalimi përcaktojnë kufizimin e akses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bas kontrollit të zgjeruar, personi përgjegjës për sistemin kompjuterik duhet të informohet nga Gjyqtari Investigativ nëse ai/ajo mund të identifikohet në mënyrë të arsyeshme (në shumë raste nuk ndodh kështu).</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or pjesa më inovative e nenit 88 të KBPP qëndron tek nënseksioni i paragrafit 3 të nenit që thotë se kur duket se të dhënat që zbulohen nuk ruhen në territorin Belg, këto të dhëna vetëm kopjohen. Kur ndodh kjo Gjyqtari Investigativ duhet vetëm të informojë Ministrinë e Drejtësisë nëpërmjet Prokurorisë së Përgjithshme; Ministria e Drejtësisë informon Shtetin në fjalë, nëse mund të përcaktohet (shpesh nuk ndodh kështu).</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përputhje me nenin 39 të KBPP, të dhënat e kopjuara janë po aq të vlefshme përpara gjykatës po aq sa të dhënat origjinale (të dhënat nuk sekuestrohen fizikisht, por konsiderohen si të sekuestruar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çështjen si shembull, kjo do të thotë se policia Belge mund të mbledhë prova nga kompjuterët Belg (jo domosdoshmërisht kompjuteri i të dyshuarit) dhe të shkojë prej aty tek serverët e vendosur në Gjermani, SHBA, Kazakistan, në pjesën tjetër të botës... Ata mund të fillojnë ekzaminimin e llogarisë bessermit8@hotmail.com, në momentin që kanë të dhënat e hyrjes dhe fjalëkalimi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y është qartësisht një avantazh me qëllim ruajtjen e kohës së çmuar dhe me qëllim që të mos humben provat dixhitale ndërkohë që bëhen shkres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uhet të theksohet se sado të fuqishme duken në pamje të parë instrumentet e nenit 88 të KBPP, puna e policisë mbetet po aq e rëndësishme. Pa gjurmët e të dhënave dhe fjalëkalimeve, për shembull të zbuluara nga një përgjim i zakonshëm, llogaria </a:t>
            </a:r>
            <a:r>
              <a:rPr b="0" lang="sq-AL" sz="1200" spc="-1" strike="noStrike" u="sng">
                <a:solidFill>
                  <a:srgbClr val="0000ff"/>
                </a:solidFill>
                <a:uFillTx/>
                <a:latin typeface="Calibri"/>
                <a:hlinkClick r:id="rId1"/>
              </a:rPr>
              <a:t>bessermit8@hotmail.com</a:t>
            </a:r>
            <a:r>
              <a:rPr b="0" lang="sq-AL" sz="1200" spc="-1" strike="noStrike">
                <a:solidFill>
                  <a:srgbClr val="000000"/>
                </a:solidFill>
                <a:latin typeface="Calibri"/>
              </a:rPr>
              <a:t> në hotmail nuk do të ishte e aksesueshme përveçse kur ligji të ofron mundësinë ligjore të hysh pa lejen e përdoruesit në llogarinë e tij.</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egjithatë zgjidhja Belge ofron mundësi të mëdha për trajtimin e të dhënave të ruajtura në “re”. Meqë kompanitë dhe individët privatë po ruajnë jo vetëm të dhëna por edhe sisteme në “re” dhe për pasojë as vetë nuk e dinë si ruhen ekzaktësisht të dhënat apo në cilin vend ndodhen të dhënat, zgjidhja Belge e bën të qartë se nuk është e rëndësishme të dihet se </a:t>
            </a:r>
            <a:r>
              <a:rPr b="0" i="1" lang="sq-AL" sz="1200" spc="-1" strike="noStrike">
                <a:solidFill>
                  <a:srgbClr val="000000"/>
                </a:solidFill>
                <a:latin typeface="Calibri"/>
              </a:rPr>
              <a:t>ku</a:t>
            </a:r>
            <a:r>
              <a:rPr b="0" lang="sq-AL" sz="1200" spc="-1" strike="noStrike">
                <a:solidFill>
                  <a:srgbClr val="000000"/>
                </a:solidFill>
                <a:latin typeface="Calibri"/>
              </a:rPr>
              <a:t> ruhen të dhënat, por </a:t>
            </a:r>
            <a:r>
              <a:rPr b="0" i="1" lang="sq-AL" sz="1200" spc="-1" strike="noStrike">
                <a:solidFill>
                  <a:srgbClr val="000000"/>
                </a:solidFill>
                <a:latin typeface="Calibri"/>
              </a:rPr>
              <a:t>nga ku</a:t>
            </a:r>
            <a:r>
              <a:rPr b="0" lang="sq-AL" sz="1200" spc="-1" strike="noStrike">
                <a:solidFill>
                  <a:srgbClr val="000000"/>
                </a:solidFill>
                <a:latin typeface="Calibri"/>
              </a:rPr>
              <a:t> janë të aksesueshme at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qasje klasike ndaj kompetencës territoriale për marrjen e provave do të paralizonte tërësisht çdo hetim, kur vetëm deklarimi i të dyshuarit se ai/ajo vetë nuk e di se në cilin shtet ruhen të dhënat do të bënte që të ndërpritej çdo veprim i mëtejshëm.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Konkluzione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shumë e qartë se me Internetin erdhi dhe globalizimi i krimit (kibernetik). Nëse autoritetet kompetente dëshirojnë të luftojnë krimin kibernetik dhe nuk duan të ndalojnë në ndonjë kufi hipotetik, janë të nevojshme rregullat për kompetencën. Kjo bën të domosdoshme pasjen e marrëveshjeve të qarta ndërkombëtare në lidhje me se çfarë të bëhet nëse më shumë se një shtet e konsideron veten kompetent për të vajtur në gjykat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rahas kësaj, ekziston nevoja për rregulla të qarta ligjore për të qenë në gjendje të merren me shpejtësi provat e ruajtura jashtë shtetit. Në ditët e sotme, përvojat e përditshme personale nuk duken premtuese. Për këtë arsye, është i nevojshëm një përpunim i mëtejshëm i neneve 19.2 dhe 32 të Konventës së Budapestit për Krimin Kibernetik. Ndërkohë vijnë në ndihmë zgjidhjet e dhëna nga shtetet. Zgjidhja Belge e përcaktuar në nenin 88 të KBPP mund të përdoret si shembull sesi të merren me shpejtësi provat dixhit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qartë se në një kontekst të krimit kibernetik, duhet të zbatohet një qasje tjetër. Krimi kibernetik nuk ka kufij. Ofrimi i shërbimeve në distancë dhe ruajtja e informacioni në Internet e bëjnë akoma dhe më të vështirë të kuptohet se ku ruhen të dhënat (apo pjesë të tyre). Një qasje klasike e sovranitetit dhe kufijve duhet të konsiderohet si mure betoni që bëjnë luftën kundër krimit kibernetik të pamundur. Duhet të bëhen zgjedhje polit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RUFR8?</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elgjikë, Prill 2012 (azhurnuar në Shtator 2012)</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ezantimi është i rëndësishëm sikur nga këndvështrimi i avokatëve, gjyqtarëve dhe më e rëndësishmja nga këndvështrimi i prokurorëve juria t’iu japë provave të specializuara peshën që meritojnë. Prokurorët duhet të marrin në konsideratë natyrën, vendin dhe volumin e materialit që do të përdorin si provat për mbrojtjen e interesave të klientëve të tyre në Gjykatë, të planifikojnë sesi do ta prezantojnë këtë material, dhe së fundmi të prezantojnë të gjitha çështjet përpara fillimit të procedurës në mënyrë që materiali të jetë i menaxhueshëm.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ezantimi i provave elektronike gjyqtarit dhe jurisë (në sistemet adversare) nevojitet të jetë vizual, duke përdorur demonstrimet kompjuterike, grafikat kompjuterike, demonstrimin me video, programet dhe tabelat. Prokurorët duhet të jenë të ndërgjegjshëm për paragjykimin që krijohet nga përdorimi i teknologjisë, dhe duhet të jenë gati të diskutojnë këto çështje me autoritet nëse mbrojtja e kundërshton përdorimin e një teknologjie të till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ërkimet kanë zbuluar se njerëzit i kushtojnë më shumë vëmendje asaj që shohin sesa asaj që dëgjojnë. Meqë detyra e prokurorit është të çojë përpara çështjen në mënyrën më të mirë të mundshme, për rrjedhim duhet të realizojmë një prezantim vizual të provave veçanërisht në çështje të komplikuara; për shembull duke përdorur demonstrimet kompjuterik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Provat do të kundërshtohen: jini të përgatit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nga gjërat më të rëndësishme për të ditur është fakti se të gjitha provat do të kundërshtohen. Jo vetëm nga avokatët mbrojtës, por gjithashtu edhe gjatë shqyrtimit nga gjyqtari. Gjyqtari duhet ta shohë se provat janë mbledhur në mënyrë korrekte, janë të besueshme dhe nëse nuk ka shkaqe ligjore për përjashtimin e provave nga vendimmarrj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Jo çdo provë lejohet të përdoret në gjykatë. Shumë gjera varen nga sistemi ligjor, përsa i takon legjislacionit që rregullon mbledhjen e provave dhe jurisprudencën për këtë temë në vendin tuaj. Në disa vende ekzistojnë rregulla specifike në Kodin e Procedurës Penale që mund të shkaktojnë pavlefshmërinë e provave. Në disa vende të tjera provat në çështjet penale janë tërësisht të lira dhe i takon palëve të përfshira në proces të diskutojnë përpara gjyqtarit për provat dhe se ç’duan të bëjë gjyqtari me to. Disa shtete kombinojnë dy qasjet e mësipërme të trajtimit të prova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kuptueshme që avokatët mbrojtës do të bëjnë çmos që t’i shpjegojnë Gjyqtarit se provat nuk janë të besueshme ose janë marrë në mënyrë të paligjshme. Është detyra e tyre ta bëjnë këtë. Nuk do të ishte me mënd të mendohet se çështjet e ngritura nga mbrojtja mund të zgjidhen lehtësisht në momentin që do të jemi në gjykatë. Sigurisht është e rëndësishme të jesh i përgatitur për gjykatë dhe të jesh i përgatitur dhe në gjendje të demonstrohet logjika dhe ligjshmëria e veprimeve dhe sesi u mblodhën provat. Është akoma më e rëndësishme që të kujdesemi madje përpara se çështja të shkojë në gjykatë, që të jemi të përgatitur të përballemi me të gjitha sfidat që avokatët mbrojtës mund të ngrenë gjatë debateve gjyqësore. Sigurohuni se punonjësit e policisë dhe ekspertët që thirren si dëshmitarë të jenë të përgatitur për t’ju përgjigjur të gjitha pyetjeve të mbrojtjes. Në gjykatë shansi favorizon mendjen e përgatit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shumë e rëndësishme që prokurori të jetë në dijeni të çdo dobësie ose kufizimi të provave që paraqiten. Prokurori nevojitet të jetë në dijeni të çdo shpjegimi alternativ, jo thjesht më të mirin, ose atë që shpresonte të dëgjon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uhet të inkurajohet ideja që edhe prokurorët dhe gjyqtarët janë në gjendje të trajtojnë çështjet teknike të kriminalistikës, kështu që të mund të përballen me çështjet në këtë fushë të ngritura nga avokatët mbrojtë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Hetuesit, prokurorët, përfaqësuesit e mbrojtjes, gjyqtarët dhe juritë, të gjithë duhet të kuptojnë informacionin dhe teknologjinë. Çështjet mund të dështojnë nëse prokurori nuk është në gjendje të identifikojë çështjet që nevojitet të vendosen në një çështje gjyqësore dhe ta paraqesë atë çështje në mënyrë të thjeshtë dhe precize përpara gjykatës, veçanërisht nëse ka të përfshira aty aspekte teknike. Prokurorët dhe hetuesit duhet të trajnohen dhe pajisen me aftësi dhe njohuri të specializuara për hetimin dhe ndjekjen ligjore, veçanërisht kur kemi të bëjmë me teknologji të rej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kurorët duhet të mësojnë sesi funksionojnë kompjuterët dhe shërbimet e Internetit; të kuptojnë raportet e ekspertëve dëshmitarë dhe të jenë në gjendje të japin konsulencë (dhe instruksione në disa juridiksione) policisë në lidhje me hetimin, dhe të mbikëqyrin mbledhjen dhe mbrojtjen e integritetit të provave dixhitale në përputhje me parimet për sekuestrimin e provave dixhitale edhe brenda edhe jashtë juridiksioni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çështje e përgatitur mirë ka një numër përfitimesh; është e rëndësishme që edhe prokurori edhe hetuesi të kuptojnë se çfarë është në fakt çështja e ty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Vetëm atëherë prokurori do të jetë në gjendje të mbrojë provat e kundërshtuara në gjykat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u="sng">
                <a:solidFill>
                  <a:srgbClr val="000000"/>
                </a:solidFill>
                <a:uFillTx/>
                <a:latin typeface="Calibri"/>
              </a:rPr>
              <a:t>Nëse jo vetë provat, mund të kundërshtohet personi që i mblodhi ato dhe mënyra sesi u mblodhë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Zyrtarët e policisë që duhet të dëshmojnë në gjykatë duhet të kuptojnë se kur provat flasin vetë dhe kur ato inkriminojnë të dyshuarin, rruga e fundit për mbrojtjen do të jetë sulmi direkt i personit që i mblodhi provat dhe mënyra në të cilën ai/ajo e realizoi kët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igurisht në sistemet juridike anglo-saksone, kundërpyetja e oficerëve të policisë është një pjesë e rëndësishme e procesit të të provuarit përpara gjykatës. Në sistemet juridike kontinentale kjo realizohet më pak. Sigurisht që duhet të kuptojnë se sa më shumë prova të kundërshtohen aq më shumë të ngjarë ka që të bëhet ekzaminimi i ekzaminues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ë tej në këtë prezantim do të trajtojmë karakteristikat specifike të provave dixhitale. Dhe në këtë pikë do të bëhet më e qartë se ka shumë për të sfidu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Neni 6 KEDNJ – E Drejta për një Proces të Rregul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eni 6 i Konventës Evropiane për të Drejtat e Njeriut përcakton se gjithë duhet të gëzojnë të drejtën për një proces të rregullt dhe shpjegon se çdo të thotë kj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ENI 6 KEDNJ: E Drejta për një Proces të Rregul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1. Çdo person ka të drejtë që çështja e tij të dëgjohet drejtësisht, publikisht dhe brenda një afati të arsyeshëm nga një gjykatë e pavarur dhe e paanshme, e krijuar me ligj, e cila do të vendosë si për mosmarrëveshjet në lidhje me të drejtat dhe detyrimet e tij të natyrës civile, ashtu edhe për bazueshmërinë e çdo akuze të natyrës penale që i është drejtuar. Vendimi duhet të jepet publikisht, por prania në sallën e gjykatës mund t’i ndalohet shtypit dhe publikut gjatë tërë procesit ose gjatë një pjese të tij, në interes të moralit, të rendit publik ose të sigurimit kombëtar në një shoqëri demokratike, kur kjo kërkohet nga interesat e të miturve ose mbrojtja e jetës private të palëve në proces ose në shkallën që çmohet tepër e domosdoshme nga gjykata, kur në rrethana të veçanta natyra e publicitetit do të dëmtonte interesat e drejtësisë.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2. Çdo person i akuzuar për një vepër penale prezumohet i pafajshëm, derisa fajësia e tij të provohet ligjëris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3. Çdo i akuzuar për një vepër penale ka, së paku,të drejtat e mëposht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të informohet, brenda një afati sa më të shkurtër, në një gjuhë që ai e kupton dhe në mënyrë të hollësishme, për natyrën dhe për shkakun e akuzës që ngrihet ndaj tij;</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t’i jepet koha dhe lehtësitë e përshtatshme për përgatitjen e mbrojtj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të mbrohet vetë ose të ndihmohet nga një mbrojtës i zgjedhur prej tij dhe, në qoftë se ai nuk ka mjete për të shpërblyer mbrojtësin, t’i mundësohet ndihma ligjore falas nga një avokat i caktuar, kryesisht kur këtë e kërkojnë interesat e drejtësis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 të pyesë, ose të kërkojë që të merren në pyetje dëshmitarët e akuzës dhe të ketë të drejtën e thirrjes dhe të pyetjes të dëshmitarëve në favor të tij, në kushte të njëjta me dëshmitarët e akuzë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e) të ndihmohet falas nga një përkthyes, në qoftë se nuk kupton ose nuk flet gjuhën e përdorur në gjy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kurt, kjo do të thotë se kur dikush ndiqet ligjërisht dhe kur ky person përballet me gjykim në gjykatë, ai/ajo duhet të ketë mundësinë të kuptojë për çfarë po ndiqet ligjërisht dhe duhet gjithashtu të ketë mundësinë dhe lehtësirat për përgatitjen e mbrojtjes së tij dhe të kundërshtojë jo vetëm dëshmitarët por të gjitha provat që janë kundër tij. Varet nga shteti në shtet sesi është organizuar kjo dhe se në cilën kohë i paraqitet mbrojtjes (avokatëv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700" spc="-1" strike="noStrike" u="sng">
                <a:solidFill>
                  <a:srgbClr val="000000"/>
                </a:solidFill>
                <a:uFillTx/>
                <a:latin typeface="Calibri"/>
              </a:rPr>
              <a:t>Si të paraqiten provat në gjykatë?</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Edhe kur ndiqni bazat e strategjisë së procesit gjyqësor, duhet prapëseprapë të mbani parasysh se </a:t>
            </a:r>
            <a:r>
              <a:rPr b="1" lang="sq-AL" sz="700" spc="-1" strike="noStrike">
                <a:solidFill>
                  <a:srgbClr val="000000"/>
                </a:solidFill>
                <a:latin typeface="Calibri"/>
              </a:rPr>
              <a:t>jo të gjithë në sallën e gjyqit kanë të njëjtën ekspertizë</a:t>
            </a:r>
            <a:r>
              <a:rPr b="0" lang="sq-AL" sz="700" spc="-1" strike="noStrike">
                <a:solidFill>
                  <a:srgbClr val="000000"/>
                </a:solidFill>
                <a:latin typeface="Calibri"/>
              </a:rPr>
              <a:t>.</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Kur filloni të prezantoni çështjen tuaj, duhet të ndërtoni provat mbi baza solide: sigurohuni që të dokumentoni çdo hap dhe tregoni logjikën e ngjarjeve përpara se t’i tregoni provat gjyqtarit. Mbani parasysh thirrjen e ekspertëve dëshmitarë që janë në gjendje të përkthejnë ekzaminimet kriminalistike në gjuhën e zakonshme. Si kujtesë, kjo është në përputhje me të gjitha kriteret e nenit 6 të Konventës Evropiane të të Drejtave të Njeriut.</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Mos harroni të mësoni së pari të ecni përpara se të vraponi. Së pari shpjegoni bazat (ndoshta duke përdorur një prezantim me Po</a:t>
            </a:r>
            <a:r>
              <a:rPr b="0" lang="en-US" sz="700" spc="-1" strike="noStrike">
                <a:solidFill>
                  <a:srgbClr val="000000"/>
                </a:solidFill>
                <a:latin typeface="Calibri"/>
              </a:rPr>
              <a:t>w</a:t>
            </a:r>
            <a:r>
              <a:rPr b="0" lang="sq-AL" sz="700" spc="-1" strike="noStrike">
                <a:solidFill>
                  <a:srgbClr val="000000"/>
                </a:solidFill>
                <a:latin typeface="Calibri"/>
              </a:rPr>
              <a:t>er Point, ose një leksikon) dhe më pas kaloni në pjesën e vështirë të kriminalistikës (nuk ka asnjë dobi të përpiqeni të bindni një gjyqtar në lidhje me provat e teknologjisë së lartë, kur gjyqtari nuk e ka idenë se çdo të thotë një adresë IP).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700" spc="-1" strike="noStrike">
                <a:solidFill>
                  <a:srgbClr val="000000"/>
                </a:solidFill>
                <a:latin typeface="Calibri"/>
              </a:rPr>
              <a:t>Ndërtoni çështjen duke u nisur nga niveli i gjyqtarit</a:t>
            </a:r>
            <a:r>
              <a:rPr b="0" lang="sq-AL"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700" spc="-1" strike="noStrike" u="sng">
                <a:solidFill>
                  <a:srgbClr val="000000"/>
                </a:solidFill>
                <a:uFillTx/>
                <a:latin typeface="Calibri"/>
              </a:rPr>
              <a:t>Mos provokoni debate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Ligjshmëria e ndjekjes ligjore prezumohet në shumicën e vendeve të Evropës Kontinentale. Kjo gjë mund të jetë e ndryshme në vendet anglo-saksone.</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Sigurisht gjyqtari zyrtarisht duhet të ekzaminojë të gjitha aspektet e pranueshmërisë së akuzë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Në varësi të ligjit kombëtar për Provat, pranueshmëria dhe ligjshmëria e provave duhet të përfshihen në aktakuzë.</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Nëse ligji kombëtar nuk ua kërkon që të provoni ligjshmërinë dhe/ose pranueshmërinë e provave ose mbledhjen e tyre, mos e bëni ju vetë; mund të ngacmoni avokatët mbrojtës që ta ngrenë në diskutim.</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700" spc="-1" strike="noStrike" u="sng">
                <a:solidFill>
                  <a:srgbClr val="000000"/>
                </a:solidFill>
                <a:uFillTx/>
                <a:latin typeface="Calibri"/>
              </a:rPr>
              <a:t>Vendosni ritmin</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Bëni një plan procedimi. Mendoni për linjën kryesore dhe bazën e procedimit. Përqendrohuni tek baza.</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Përmbajuni planit, dhe mos lejoni që avokatët mbrojtës t’ju ç’orientojnë.</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Mbrojtja më shumë mundësi e ka një plan mbrojtjeje. Nëse mbrojtja arrin t’ju bëjë që të shkoni pas planit të saj, e ka arritur gjysmën e suksesit.</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Qëndroni në vijën kryesore, mos i lejoni t’ju mënjanojnë që të humbisni dhe ngatërroheni në detaje pa rëndësi që do ta ç’orientonin gjyqtarin.</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Mos bini pre e provokimeve. Qëndroni të qetë dhe gjithmonë kthejuni planit; modifikojeni vetëm kur duhet domosdoshmërisht.</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Përcaktoni ritmin. Përpiquni të përvetësoni kadencën e procedurës. Përpiquni të vendosni ritmin dhe menaxhoni axhendën procedurale.</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Për shembull: nëse mbrojtja provokon një shtyrje me anë të dorëzimit të deklaratave me shkrim/konkluzioneve në momentin e fundit, ju duhet të merrni parasysh të mos kërkoni shtyrje për të studiuar deklaratën e tyre. E nesërmja nuk vjen kurrë.</a:t>
            </a:r>
            <a:endParaRPr b="0" lang="en-US" sz="700" spc="-1" strike="noStrike">
              <a:solidFill>
                <a:srgbClr val="000000"/>
              </a:solidFill>
              <a:latin typeface="Calibri"/>
            </a:endParaRPr>
          </a:p>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4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FC3F27-1F01-4DBB-9535-619C32541D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Specialistët e kriminalistikës dixhitale si dëshmitar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Hetuesi ose prokurori mund të ketë nevojë që të mbajë një specialist të kriminalistikës gjatë një hetimi. Kjo mund të jetë e nevojshme sepse kërkohet një lloj specifik specializimi, për shembull njohuri për një sistem të caktuar operativ ose një program Internet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Çështja kryesore që do përgjigje në përzgjedhjen e një dëshmitari është nëse ata kanë njohuritë e kërkuara që janë fituar me studim ose përvojë për ta bërë mendimin e tyre të vlefshëm në zgjidhjen e çështje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lloj akreditimi mund të jetë i dobishëm sepse rrit kredibilitetin e dëshmitarëve kriminalistë të thirrur edhe nga akuza edhe nga mbrojtja, si dhe dhënia e një vlerësimi të pavarur dhe objektiv të kredencialeve të ekspertëve mbi të cilët do të mbështetet gjykata.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Janë thelbësore konsultimet e hershme ndërmjet oficerëve investigativ, specialistëve dëshmitarë dhe prokurorit për një hetim dhe procedim të suksesshëm. Policia dhe prokurorët duhet të garantojnë që ekzaminuesit kriminalistik ti jepen udhëzime të qarta. Hetuesit duhet të japin axhenda të sakta dhe të detajuara.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zgjedhja e dëshmitarëve të jashtëm konsultativ, me shumë mundësi në zonat e pazakonta ose shumë teknike, mund të jetë problem për hetuesin. Procesi i përzgjedhjes nuk duhet të jetë kuturu, por aktiv dhe i strukturuar që nga fillimi. Njësitë e krimit kibernetik mund të jenë në gjendje të ofrojnë më shumë konsulencë në lidhje me kriteret e përzgjedhj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Udhëzimet e mëposhtme duhet të përfshihen në realizimin e përzgjedhjes dhe fushat e mëposhtme konsiderohen të jenë baza e aftësive konsultative të pavarura për dëshmitarë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Ekspertizë e Specializua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jo është një aftësi apo zotësi për të bërë një punë të caktuar, dhe përfshin çështje të tilla si: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Kualifikimet përkatëse të person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Aftësinë e personit në këtë punë specifik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Aftësitë specifike që ka.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 Nëse aftësia bazohet në kualifikimet teknike ose kohëzgjatjen e përvojës, ose të dyja.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Përvoja e Specializua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Natyra e përvojës së këtij lloji pune që ka individi.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Numri i çështjeve që është përfshirë ai/aj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Lloji i çështjeve në të cilat është përfshirë individi.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 Sasia e kohës që individi ka punuar në këtë fush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e. Provat për të provuar përvojë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Njohuri Investigati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ptimi i natyrës së hetimeve në drejtim të konfidencialitetit, lidhjes dhe dallimit ndërmje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Të dhëna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Informacionit të përpunuar (rrjedhim i analiza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Prova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Njohuri Kontekstual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ptimi i qasjeve të ndryshme, gjuhëve, filozofive, praktikave dhe roleve të policisë, ligjit, dhe njohuritë teknike të Teknologjive të Informacionit është esenciale për garantimin e qëndrueshmërisë së provave elektronike në Gjykatë. Themelore për këtë është të kuptuarit e probabilitetit në kuptimin e tij më të gjerë dhe ndryshimet ndërmjet provave shkencore dhe provave ligjor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Njohuritë Juridik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Të kuptuarit e aspekteve përkatëse të tilla si konceptet dhe procedurat ligjore në lidhje me t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Deklarat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Vazhdimësin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Procedurat Gjyqësor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 Një kuptim të qartë të roleve dhe përgjegjësive të ekspertëve dëshmitarë është thelbëso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Aftësitë e Komunikim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ftësia për të shprehur dhe shpjeguar në gjuhën e zakonshme, edhe me gojë edhe me shkrim:</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Natyra e specializim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Teknikat dhe pajisjet e përdorura.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Metodat e interpretim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 Pikat e forta dhe pikat e dobëta të prova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e. Shpjegimet alternati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Të Përgjithshm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Me autoritetin deri në nivelin e duhur për të administruar materialet provues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I ndërgjegjshëm për çdo udhëzim në lidhje me materialet përkatëse për pedofilin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I ndërgjegjshëm për efektin mbi anëtarët e stafit të këtij materiali dhe vlerësimit të duhur të riskut. </a:t>
            </a:r>
            <a:endParaRPr b="0" lang="en-US" sz="1200" spc="-1" strike="noStrike">
              <a:solidFill>
                <a:srgbClr val="000000"/>
              </a:solidFill>
              <a:latin typeface="Calibri"/>
            </a:endParaRPr>
          </a:p>
        </p:txBody>
      </p:sp>
      <p:sp>
        <p:nvSpPr>
          <p:cNvPr id="44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D3A659-91FC-4114-9364-7905065EF6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Roli i ekspert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ihni kapitullin 9.3.2 të Guidës së këshillit të Evropës për Provat Elektron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proceset gjyqësore penale është e mundur të lejohet mendimi i një eksperti ku çështjet që duhet të zgjidhë gjykata janë larg përvojës dhe njohurive të gjykuesit. Kur një çështje kërkon prova të tilla, vetëm një ekspert i kualifikuar siç duhet mund t’i paraqesë at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uk ka asnjë kriter specifik për kualifikimet e ekspertëve si dëshmitarë. Ajo që kërkohet është që eksperti, për shkak të përvojës së tij, studimeve ose të dyjave, të mund të japë mendimin e tij të vlefshëm për një çështje që gjykata nuk mund ta zgjidhë vetëm. (Ky pozicion është i ndryshëm në një numër vendesh Evropian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ekspert dëshmitar duhet gjithashtu të jetë i pavarur dhe i paanshëm. Një dëshmitar ka detyrim ndaj gjykatës, jo ndaj klientit. Ai/ajo duhet të identifikojë dhe sjellë në vëmendje çdo dobësi ose kufizim për provat që do paraqiten. Prokurori duhet të jetë i ndërgjegjshëm për çdo shpjegim alternativ, jo thjesht më të mirin, ose shpjegimin që prokurori shpresonte të dëgjonte. Deklarimet e ekspertëve duhet të jenë sa më të thjeshta që të munden, me fotografi.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Eksperti i kriminalistikës si dëshmitar është një dëshmitar ekspert nëse çmohet i tillë nga gjyqtari mbas dëgjimit të kualifikimeve dhe përvojës së dëshmitarëve. Pavarësisht se cila nga palët në proces e ka udhëzuar atë, eksperti dëshmitar është shërbyes i gjykatës dhe është aty për të ndihmuar gjykatën të kuptojë provat komplekse, që janë jashtë përvojës së zakonshme të gjykatë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r edhe prokuroria edhe mbrojtja kanë një ekspert kriminalistik si dëshmitar, dëshmitarët do të lejohen të japin opinionin e tyre të specializuar për faktet e çështjes. Kjo është në kontrast me të gjithë dëshmitarët e tjerë, që zakonisht japin dëshmi vetëm për atë që kanë parë personalisht. Ekspertët si dëshmitarë do të paguhen zakonisht nga pala që i thërret dhe pritet që të kenë shkëmbyer raportet, të kenë rënë dakord për çështjet që nuk janë në konflikt dhe të kenë rënë dakord për një fjalorth termash.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Ka një numër në rritje çështjesh që përfshijnë provat elektronike të ruajtura në sisteme kompjuterike ose në pajisje të tjera. Gjyqtarët (si prokurorët dhe hetuesit) duhet të jenë të përgatitur të përballen me krimin kibernetik dhe provat elektronike. Në shumicën e çështjeve, gjyqtarët (si prokurorët dhe hetuesit) hasin vështirësi në përballjen me këtë realitet të ri të botës kibernetike dhe duhet të trajnohen për njohuritë dhe të kuptuarin e krimit kibernetik dhe të provave elektronike. Ata duhet gjithashtu ta vazhdojnë zhvillimin e tyre profesional në mënyrë të pavarur. Për këtë arsye, gjyqtarët dhe prokurorët duhet të inkurajohen të kontribuojnë për rritjen e njohurive dhe përvojës së tyre</a:t>
            </a:r>
            <a:r>
              <a:rPr b="1" lang="en-US" sz="1200" spc="-1" strike="noStrike">
                <a:solidFill>
                  <a:srgbClr val="000000"/>
                </a:solidFill>
                <a:latin typeface="Calibri"/>
              </a:rPr>
              <a:t> </a:t>
            </a:r>
            <a:r>
              <a:rPr b="1" lang="sq-AL" sz="1200" spc="-1" strike="noStrike">
                <a:solidFill>
                  <a:srgbClr val="000000"/>
                </a:solidFill>
                <a:latin typeface="Calibri"/>
              </a:rPr>
              <a:t>nëpërmjet lidhjes në rrjet në vend dhe jashtë shtetit me gjyqtarët dhe prokurorët e tjerë</a:t>
            </a:r>
            <a:r>
              <a:rPr b="1" lang="en-US" sz="1200" spc="-1" strike="noStrike">
                <a:solidFill>
                  <a:srgbClr val="000000"/>
                </a:solidFill>
                <a:latin typeface="Calibri"/>
              </a:rPr>
              <a:t>.</a:t>
            </a:r>
            <a:endParaRPr b="0" lang="en-US" sz="1200" spc="-1" strike="noStrike">
              <a:solidFill>
                <a:srgbClr val="000000"/>
              </a:solidFill>
              <a:latin typeface="Calibri"/>
            </a:endParaRPr>
          </a:p>
        </p:txBody>
      </p:sp>
      <p:sp>
        <p:nvSpPr>
          <p:cNvPr id="45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24CC22-A5D6-4BF5-8AAD-2AC299621C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Mendoni për mënyrat e prezantim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i një prokuror apo hetues i krimit kibernetik, mos harroni të përdorni instrumentet që na solli IC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ini parasysh një prezantim me poëer point për ta bërë çështjen “të gatshme”, ofroni një fjalorth ku të jenë përkufizuar të gjitha termat specifike dhe teknike, ofroni një përmbledhje të çështjes për ta bërë historinë të lexueshme dhe së fundmi tregoni provat. Gjithashtu, kini parasysh të bëni një shpjegim të shkurtër të teknologjisë/provave elektronike të çështjes, të vendosni një standard për të gjithë ata në gjykatë, kështu që të paktën ata të kenë një shans të kuptojnë çështjen</a:t>
            </a:r>
            <a:endParaRPr b="0" lang="en-US" sz="1200" spc="-1" strike="noStrike">
              <a:solidFill>
                <a:srgbClr val="000000"/>
              </a:solidFill>
              <a:latin typeface="Calibri"/>
            </a:endParaRPr>
          </a:p>
        </p:txBody>
      </p:sp>
      <p:sp>
        <p:nvSpPr>
          <p:cNvPr id="4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9709A6-3C3C-4EE0-814E-C860525F7C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000" spc="-1" strike="noStrike" u="sng">
                <a:solidFill>
                  <a:srgbClr val="000000"/>
                </a:solidFill>
                <a:uFillTx/>
                <a:latin typeface="Calibri"/>
              </a:rPr>
              <a:t>Gjërat për tu mbajtur në konsideratë kur e lejon sistemi ligjor dhe mjetet në dispozicion</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000" spc="-1" strike="noStrike">
                <a:solidFill>
                  <a:srgbClr val="000000"/>
                </a:solidFill>
                <a:latin typeface="Calibri"/>
              </a:rPr>
              <a:t>Siç u përmend ka një diferencë të madh ndërmjet sistemit inkuizitor dhe sistemit adversar. Në sistemin adversar, çdo gjë ndodh në gjykatë, përpara gjyqtarit dhe jurisë; ata me siguri nuk kanë asnjë njohuri paraprake për çështjen. Ju duhet të rregulloni metodat e prezantimit në përputhje me situatën.</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000" spc="-1" strike="noStrike" u="sng">
                <a:solidFill>
                  <a:srgbClr val="000000"/>
                </a:solidFill>
                <a:uFillTx/>
                <a:latin typeface="Calibri"/>
              </a:rPr>
              <a:t>Demonstroni një foto/sistemin e të dyshuarit në gjykatë për të demonstruar prezencën e provave në sistem ose për të qenë në gjendje të tregoni sesi u krye krimi</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000" spc="-1" strike="noStrike">
                <a:solidFill>
                  <a:srgbClr val="000000"/>
                </a:solidFill>
                <a:latin typeface="Calibri"/>
              </a:rPr>
              <a:t>Disa mënyra prezantimi që sugjerohen nuk përdoren ose përdoren rrallë në një gjykatë të sistemit inkuizitor. Në një procedurë inkuizitore e gjithë mbledhja e provave dhe mostrat e provave tregohen dhe përshkruhen në raportet e policisë. Nëse një avokat dëshiron të kundërshtojë raportet, ai shkon tek regjistrimi dhe kërkon akses tek provat e sekuestruara, e cila i lejohet. Ai/ajo do të kontrollojë nëse mund të gjejë një argument për kundërshtim. Nëse jo, ai/ajo kurrë nuk do të ngrejë çështjen e “tregimit dhe demonstrimit” të provave në gjykatë. Në një procedurë inkuizitore, ne zakonisht nuk do të marrim në konsideratë tregimin e sistemit të të dyshuarit për të treguar se ç’ka në të ose për të treguar sesi u krye krimi; kjo gjë është në raportet e policisë, dhe nuk ka asnjë juri pa njohuri paraprake që duhet të bindni. </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000" spc="-1" strike="noStrike" u="sng">
                <a:solidFill>
                  <a:srgbClr val="000000"/>
                </a:solidFill>
                <a:uFillTx/>
                <a:latin typeface="Calibri"/>
              </a:rPr>
              <a:t>Paraqitjani provat palëve duke i demonstruar në monitor</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000" spc="-1" strike="noStrike" u="sng">
                <a:solidFill>
                  <a:srgbClr val="000000"/>
                </a:solidFill>
                <a:uFillTx/>
                <a:latin typeface="Calibri"/>
              </a:rPr>
              <a:t> </a:t>
            </a:r>
            <a:endParaRPr b="0" lang="en-US" sz="10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000" spc="-1" strike="noStrike">
                <a:solidFill>
                  <a:srgbClr val="000000"/>
                </a:solidFill>
                <a:latin typeface="Calibri"/>
              </a:rPr>
              <a:t>Do të ishte ëndërr që çdokush në gjykatë të kishte kompjuter, por për momentin kjo nuk është e mundur në gjykatat e sistemit inkuizitor. Prezantimet e çështjeve/provave bëhen me mjete konvencionale siç përshkruhet në slajdet e mëparshme (një prezantim me po</a:t>
            </a:r>
            <a:r>
              <a:rPr b="0" lang="en-US" sz="1000" spc="-1" strike="noStrike">
                <a:solidFill>
                  <a:srgbClr val="000000"/>
                </a:solidFill>
                <a:latin typeface="Calibri"/>
              </a:rPr>
              <a:t>w</a:t>
            </a:r>
            <a:r>
              <a:rPr b="0" lang="sq-AL" sz="1000" spc="-1" strike="noStrike">
                <a:solidFill>
                  <a:srgbClr val="000000"/>
                </a:solidFill>
                <a:latin typeface="Calibri"/>
              </a:rPr>
              <a:t>er point dhe/ose një projektor (nëse keni ndonjë regjistrim për të demonstruar)), nëse mund të ketë ndonjë vlerë të shtuar me qëllim që të jepni një përmbledhje apo vështrim të përgjithshëm të çështjes). Në shumicën e çështjeve, prokurori e paraqet çështjen me gojë. Në një gjykatë të sistemit inkuizitor, nganjëherë deri në 20 çështje duhet të trajtohen deri përpara mesditës...</a:t>
            </a:r>
            <a:br>
              <a:rPr sz="900"/>
            </a:br>
            <a:endParaRPr b="0" lang="en-US" sz="1000" spc="-1" strike="noStrike">
              <a:solidFill>
                <a:srgbClr val="000000"/>
              </a:solidFill>
              <a:latin typeface="Calibri"/>
            </a:endParaRPr>
          </a:p>
        </p:txBody>
      </p:sp>
      <p:sp>
        <p:nvSpPr>
          <p:cNvPr id="4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45C6A5-E9BC-4F21-BBB1-EA5DB32704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9C8A94-804E-434D-8C9C-366485D0CB3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F4B97-723A-4ACD-AC87-B49C96AA50BB}" type="slidenum">
              <a:rPr b="0" lang="nl-NL"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0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00" spc="-1" strike="noStrike" u="sng">
                <a:solidFill>
                  <a:srgbClr val="000000"/>
                </a:solidFill>
                <a:uFillTx/>
                <a:latin typeface="Calibri"/>
              </a:rPr>
              <a:t>Qasja inkuizitore dhe adversare</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Shumica e vendeve kontinentale Evropiane kanë një procedurë penale inkuizitore, që do të thotë se në qendër të kërkimit për të vërtetën është faza hetimore.</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rovat dixhitale, si dhe provat e tjera, duhet të mblidhen dhe analizohen përpara se të shkojnë në gjykatë. Të gjithë dëshmitarët përkatës duhet të dëgjohen gjatë hetimit.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Ekspertët duhet të dorëzojnë raportet e tyre përpara se të shkojnë në gjykatë. Në një sistem ligjor inkuizitor, hetimi zakonisht drejtohet nga një gjyqtar hetues dhe/ose prokurori, dhe ekzekutohet nga policia. Gjyqtari hetues dhe/ose prokurori kanë përgjegjësi të plotë për cilësinë, besnikërinë dhe ligjshmërinë e hetimit, dhe janë të detyruar të kërkojnë prova për akuzën </a:t>
            </a:r>
            <a:r>
              <a:rPr b="0" i="1" lang="sq-AL" sz="300" spc="-1" strike="noStrike">
                <a:solidFill>
                  <a:srgbClr val="000000"/>
                </a:solidFill>
                <a:latin typeface="Calibri"/>
              </a:rPr>
              <a:t>dhe</a:t>
            </a:r>
            <a:r>
              <a:rPr b="0" lang="sq-AL" sz="300" spc="-1" strike="noStrike">
                <a:solidFill>
                  <a:srgbClr val="000000"/>
                </a:solidFill>
                <a:latin typeface="Calibri"/>
              </a:rPr>
              <a:t> për mbrojtjen.</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Që nga momenti që prokurori vendos të sjellë çështjen në gjykatë me thirrjen për gjyq, thirrjen e dëshmitarëve dhe/ose aktakuzën, të gjitha provat duhet të jenë të disponueshme për të akuzuarin që ai/ajo të përgatisë mbrojtjen e tij me avokatët. Zakonisht në këtë pikë, hetimi konsiderohet i përfunduar, pa paragjykim për të drejtën e mbrojtjes që të bindë gjyqtarin për të kundërtën. Në procesin gjyqësor gjyqtari luan rolin qendror në gjetjen e të vërtetës dhe shqyrtimin e të gjitha provave (që janë mbledhur gjatë hetimit) që ose provojnë pafajësinë ose fajësinë e të akuzuarit përpara gjykatës. Nëse disa deklarata të dëshmitarëve kundërshtohen, dëshmitarët mund të thirren në gjyq. Është gjyqtari ai që i merr në pyetje dëshmitarët dhe madje mund t’i kërkojë prokurorit të thërrasë dëshmitarë për paraqitje, ndërkohë që akuza dhe mbrojtja mund të bëjnë pyetje pasuese.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Në shumicën e vendeve kontinentale Evropiane, nuk është procedurë standarde thirrja e dëshmitarëve dhe ekspertëve dëshmitarë në çdo gjykim.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Në një sistem ligjor inkuizitor, rregullat e pranueshmërisë së provave mund ta lejojnë gjithashtu gjyqtarin të veprojë më tepër si një hetues sesa si një arbitër i drejtësisë.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Sistemi i drejtësisë në vendet e sistemit common laë bazohet në modelin adversar. Sistemi adversar nënkupton që dy palë janë në pozita të kundërta në debatimin e fajësisë ose pafajësisë së një individi. Në këtë skenar, gjyqtarit i kërkohet të jetë neutral në gjyqësinë që zhvillohet përpara tij/saj. Roli i gjyqtarit në këtë proces është të garantojë që gjyqi të procedojë në përputhje me rregullat procedurale të gjykimit ose procesit të drejtë gjyqësor dhe që provat e paraqitura të jenë në përputhje me udhëzimet dhe rregullat e miratuara.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Baza e kësaj qasjeje në çështjet penale, janë dy palë që debatojnë dhe luftojnë për fajësinë ose pafajësinë e një të akuzuari dhe meqë secila palë dëshiron të fitojë atëherë debati do të paraqesë një vështrim kritik mbi çështjet dhe paraqitjen e provave që do të shqyrtohen nga të dy palët. Duke u angazhuar në debat, e vërteta duhet të shfaqet ndërsa gjyqtari mbikëqyr procedurën. Kjo do të thotë se rolet e luajtura nga punonjësit e ndryshëm të gjykatës janë shumë të dallueshme. Avokati mbrojtës si një nga palët kundërshtare mbledh argumentet për të mbrojtur klientin e tij dhe sulmon kredibilitetin dhe vlerën e provave të paraqitura nga prokurori. Prokurori parashtron argumentet në emër të shtetit dhe mbledh dhe paraqet provat që demonstrojnë se i akuzuari e ka kryer veprën penale. Gjyqtari është arbitri në çështjet që lidhen me sqarimin se cili është ligji. Gjyqtari nuk ndërhyn për ndonjë palë përveçse kur vihet në rrezik drejtësia procedurale nga secila palë.</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rovat dhe dëshmitarët që thirren i lihen dy palëve argumentuese, avokatit mbrojtës dhe prokurorit. Gjyqtari nuk përfshihet në atë çka i paraqitet gjykatës. Nëse prokurori dëshiron të mos paraqesë disa prova apo të mos thërrasë ndonjë dëshmitar edhe pse mund të hedhë dritë mbi çështjen, gjyqtari nuk mund të ndërhyjë. Kjo i lë palët në drejtim të çështjes dhe drejtimit që merr ajo.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Avantazhet e sistemit adversar përfshijnë:</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Gjyqtari i rezervon komentet derisa të jepen të gjitha provat nga të dy palët;</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Kjo bën që gjyqtari të duket më neutral përderisa vendimi gjyqësor duhet të rezervohet derisa të paraqiten të gjitha provat.</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Disavantazhet e sistemit adversar përfshijnë:</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Gjetja e provave mbetet tek të dy palët burimet e të cilave mund të mos jenë të barabarta;</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alët japin prova që janë të favorshme vetëm për argumentet e tyre.</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ra, në vendet e sistemit common laë, kur shkohet në gjykatë, duhet të merren parasysh angazhime specifike:</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Thërret dëshmitarë nga juridiksione të tjera gjatë procedimit;</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Thërret ekspertë si dëshmitarë;</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lotëson me saktësi dhe azhurnon dokumentacionin përkatës dhe procedurat;</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Garanton që të jenë përgatitur dosjet e përshtatshme dhe dokumentet mbështetës dhe i paraqet ato në formën e kërkuar brenda afateve përkatëse;</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Informon mbrojtjen për provat;</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Merr në konsideratë se gjykimi do të jetë me juri;</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Siç e thamë në shumicën e sistemeve ligjore kontinentale, shumica e këtyre aspekteve ndodhen në fazën e hetimit.</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00" spc="-1" strike="noStrike" u="sng">
                <a:solidFill>
                  <a:srgbClr val="000000"/>
                </a:solidFill>
                <a:uFillTx/>
                <a:latin typeface="Calibri"/>
              </a:rPr>
              <a:t>Menaxhimi i ndjekjes ligjore</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Shihni kapitullin 9.2.2. të Guidës për Provat Elektronike të Këshillit të Evropës.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E drejta për një gjykim të drejtë e të paanshëm është e shenjtë, dhe përgjegjësia e grupeve hetimore në mbledhjen, ruajtjen dhe paraqitjen e provave elektronike në gjykatë mbetet më e larta. Secili anëtar i grupit hetimor ka një rol qartësisht të identifikuar për të luajtur. Duhet të ketë takime të përbashkëta të rregullta nga prokuroria dhe policia dhe personeli tjetër përkatës në lidhje me çështjen gjatë gjithë kohëzgjatjes së procedimit gjyqësor. Pas akuzimit, duhet të ketë sesione zyrtare informimi me të gjithë pjesëmarrësit që të identifikohen dhe përhapen mësimet e që dalin.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Krimi kibernetik nuk njeh kufij gjeografikë; prokurorët kanë një rol gjithnjë e më të madh në lehtësimin e ndërlidhjes ndërkufitare. Marrja e provave elektronike nëpërmjet ndihmës juridike dhe ekstradimit do të luajë një rol gjithnjë e më të madh se kriminelët përdorin rrjetin botëror për kryerjen e krimeve. Prokurorët do të duhet të punojnë përkrah hetuesve në juridiksionet e tyre dhe prokurorëve dhe hetuesve nga vende të tjera; duke u bërë kështu grup i vetëm për të qenë efiçent dhe për të kryer hetime dhe ndjekje ligjore të ndërlidhura.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rokurorët duhet të japin udhëzime dhe konsulencë për hetuesit gjatë gjithë procesit të hetimit dhe procedimit gjyqësor. Kjo mund të përfshijë linjat e hetimit, kriteret e provave dhe ndihmën në procedurat paraprake të ngritjes formale të akuzës.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rokurorët duhet të jenë proaktivë në identifikimin dhe ku të jetë e mundur korrigjimin e të metave tek provat dhe të arrijnë në konkluzione të shpejta në ato çështje që nuk mund të forcohen nga hetimi i mëtejshëm.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Është e rëndësishme të mbahet parasysh se secila çështje është unike dhe duhet të konsiderohet me faktet dhe meritat e saj për të qenë në gjendje të përcaktohet qartë se çfarë masash nevojiten për të garantuar rezultatin e hetimit.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Është e rëndësishme të vlerësohen provat dhe sasia e krimeve që janë zbardhur gjatë hetimit nga këndvështrimi i një ndjekjeje ligjore efektive dhe efiçente.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Një nga gabimet më të mëdha që mund të bëjë një prokuror është të ngarkojë ndjekjen ligjore me detaje dhe fakte të vogla.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ërpiquni të vlerësoni thënien e mirënjohur: «</a:t>
            </a:r>
            <a:r>
              <a:rPr b="0" i="1" lang="sq-AL" sz="300" spc="-1" strike="noStrike">
                <a:solidFill>
                  <a:srgbClr val="000000"/>
                </a:solidFill>
                <a:latin typeface="Calibri"/>
              </a:rPr>
              <a:t>De minimis non curat praetor</a:t>
            </a:r>
            <a:r>
              <a:rPr b="0" lang="sq-AL" sz="300" spc="-1" strike="noStrike">
                <a:solidFill>
                  <a:srgbClr val="000000"/>
                </a:solidFill>
                <a:latin typeface="Calibri"/>
              </a:rPr>
              <a:t>».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Nëse jeni në gjendje të provoni pa të meta në gjykatë 5 krime, përpiquni të fokusoheni tek ato 5 krime. Mos u tundoni të bëni ndjekje penale masive të krimeve për të cilat provat janë shumë të përcipta ose të pasigurta; kjo do të infektojë autoritetin dhe kredibilitetin e provave për krimet e tjera.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ak është shumë, </a:t>
            </a:r>
            <a:r>
              <a:rPr b="0" lang="en-US" sz="300" spc="-1" strike="noStrike">
                <a:solidFill>
                  <a:srgbClr val="000000"/>
                </a:solidFill>
                <a:latin typeface="Calibri"/>
              </a:rPr>
              <a:t>p</a:t>
            </a:r>
            <a:r>
              <a:rPr b="0" lang="sq-AL" sz="300" spc="-1" strike="noStrike">
                <a:solidFill>
                  <a:srgbClr val="000000"/>
                </a:solidFill>
                <a:latin typeface="Calibri"/>
              </a:rPr>
              <a:t>ë</a:t>
            </a:r>
            <a:r>
              <a:rPr b="0" lang="en-US" sz="300" spc="-1" strike="noStrike">
                <a:solidFill>
                  <a:srgbClr val="000000"/>
                </a:solidFill>
                <a:latin typeface="Calibri"/>
              </a:rPr>
              <a:t>r </a:t>
            </a:r>
            <a:r>
              <a:rPr b="0" lang="sq-AL" sz="300" spc="-1" strike="noStrike">
                <a:solidFill>
                  <a:srgbClr val="000000"/>
                </a:solidFill>
                <a:latin typeface="Calibri"/>
              </a:rPr>
              <a:t>sigurinë në krimin kibernetik.</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Menaxhimi i ndjekjes ligjore do të thotë gjithashtu se duhet të vlerësoni jo vetëm sasinë e provave dhe gjetjeve por edhe cilësinë.</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Duhet të bëheni gjyqtari i parë i punës tuaj! Është shumë e rëndësishme të mos dobësohet ndjekja ligjore me faktorë të pasigurtë:</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Nëse nuk jeni vetë i bindur, mos u përpiqni të bindni gjyqtarin;</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Nëse ka ndonjë dyshim në lidhje me ligjshmërinë e disa provave, mos u përpiqni ti përfshini ato me patjetër;</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Bëni një plan për ndjekjen ligjor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ëni një plan për ndjekjen ligjore. Mendoni për vijën kryesore dhe themelet e ndjekjes ligjore. Përqendrohuni tek themele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mbajuni planit, dhe mos i lini avokatët mbrojtës t’ju nxjerrin nga balanca. Mbrojtja ka shumë mundësi të ketë bërë një plan mbrojtjeje. Nëse mbrojtja arrin t’ju bëjë që të ndiqni planin e tyre të mbrojtjes, ia kanë arritur pothuaj qëllimit të tyre. Qëndroni në linjën kryesore, mos i lini t’ju ç’orientojnë që të humbisni dhe ngatërroheni në detaje të parëndësishme që do ta ngatërronin gjyqtari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os lejoni që të provokoheni. Qëndroni të qetë dhe gjithnjë përmbajuni planit; ndryshojeni vetëm kur nevojitet absolutish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Kontrollojini dyfish prov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Integriteti dhe autenticiteti i provave është thelbëso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vat dixhitale (rezervat kriminalistike të provave, komponentët fizikë dhe programet kompjuterike të sekuestruara) nuk tregohen gjithmonë dhe përdoren në gjykatë përsa kohë që nuk sillen në vëmendje nga avokatët mbrojtës. Megjithatë, kontrollojini dyfish integritetin e provave. A ekziston akoma/ A janë akoma të paprekura rezervat kriminalistike në rast se avokatët mbrojtës i sjellin në qendër të vëmendjes? Këto pyetje duhet të jenë të panevojshme, por shpesh gabime ndodhin. Provat dixhitale janë të brisht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Zbulimi i prova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ihni kapitullin 7.4 dhe 9.2.3 të Guidës së Këshillit të Evropës për Provat Elektron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ecili juridiksion ka rregulla dhe procedura të ndryshme për informimin e mbrojtjes për provat e mbledhura. Zakonisht, prokurori dhe gjyqtari hetues kanë një detyrim për të ndjekur të gjitha linjat e arsyeshme të hetimit pavarësisht nëse këto linja drejtohen tek i dyshuari apo largohen prej tij. Fshirja e materialeve të sjella nga policia ose materiale të palëve të treta në posedim të policisë mund të përbëjë shkelje nëse këto materiale nuk janë gati për t’ju zbuluar mbrojtjes. Në praktikë kjo do të thotë se provat e prodhuara nga policia duhet të shoqërohen me listën e plotë të kontrollit, që nga momenti i kapjes së tyre deri sa i kalohen prokurorisë dhe gjatë gjithë procesit të administrimit të tyr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çdo hetim do të sigurohen materiale që nuk do të mbështeten në provat elektronike. Një i akuzuar duhet të ketë një proces të drejtë ligjor në përputhje me nenin 6 të Konventës Evropiane për të Drejtat e Njeriut (KEDNJ). Hetuesi duhet të identifikojë materialin që ose mund t’ia minojë çështjen akuzës ose të ndihmojë çështjen për mbrojtje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Hetuesi e bën këtë duke përdorur metodën kërkimit të termave ose metodën e përzgjedhjes kuturu, dhe përshkruan materialin për programin e zbulimit dhe për shkak të volumit të madh të materialit dixhital të sekuestruar, mund të mos jetë i mundur identifikimi i të gjitha provave. Në raste të tilla, është e rëndësishme të regjistrohen vendimet përkatëse së bashku me justifikimin për miratimin e metodës që është ndjeku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disa juridiksione, zbulimi i provave është një nga çështjet më të rëndësishme në sistemin e drejtësisë penale, dhe aplikimi i zbulimit të drejtë dhe të duhur është një komponent vital i një sistemi të drejtë të drejtësisë penale. “Rregulli i Artë” është që drejtësia kërkon që duhet të zbulohet i gjithë materiali i poseduar nga prokuroria: duke përfshirë provat që dobësojnë çështjen ose forcojnë mbrojtje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Hetuesit duhet të jenë të drejtë dhe objektivë së bashku me prokurorët për të garantuar se janë përmbushur detyrimet e zbulimit të provave për palën tjetër. Hetuesit duhet të mbajnë materialin që mund të duhet për hetime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kurorët duhet të bëjnë gjithçka që munden për të lehtësuar zbulimin e provave, si pjesë e përgjegjësisë personale dhe të përgjithshme profesionale për të vepruar në mënyrë të drejtë dhe të paanshme, në interes të drejtësisë dhe në përputhje me ligjin. Prokurorët duhet gjithashtu të jenë vigjilent për nevojën për të dhënë këshilla, dhe sipas nevojës, për të hetuar veprimet e ndërmarra nga hetuesit që të garantojnë se janë përmbushur detyrimet e zbulimit të materialeve të provav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Problemet me provat dixhitale </a:t>
            </a:r>
            <a:r>
              <a:rPr b="0" lang="sq-AL" sz="1200" spc="-1" strike="noStrike" u="sng">
                <a:solidFill>
                  <a:srgbClr val="000000"/>
                </a:solidFill>
                <a:uFillTx/>
                <a:latin typeface="Calibri"/>
              </a:rPr>
              <a:t>(gjithashtu shihni slajdin pas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vat dixhitale nuk mund të trajtohen si provat e tjera, sepse janë t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1) paqëndrueshme, që do të thotë se mund të zhduken fare leht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2) lehta për tu manipuluar, që do të thotë se duhet të jemi gjithnjë të sigurt dhe në gjendje të risigurohemi se provat nuk janë manipulu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3) vështira për tu përftuar, për shkak të kodimit, madhësisë, vendndodhjes, ruajtjes fizikisht larg në Intern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4) vështira për të provuar origjinën dhe autenticitetin, sepse shpesh i marrim në mënyrë virtuale (nuk i sekuestrojmë gjithmonë në mënyrë tradicionale, si për shembull siç sekuestrojmë një arm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5) nuk njohin kufij territorial që do të thotë se jo gjithmonë e dimë çfarë ligjesh zbatohen dhe nëse këto prova të huaja janë mbledhur në mënyrë të ligjshme…</a:t>
            </a:r>
            <a:endParaRPr b="0" lang="en-US" sz="1200" spc="-1" strike="noStrike">
              <a:solidFill>
                <a:srgbClr val="000000"/>
              </a:solidFill>
              <a:latin typeface="Calibri"/>
            </a:endParaRPr>
          </a:p>
        </p:txBody>
      </p:sp>
      <p:sp>
        <p:nvSpPr>
          <p:cNvPr id="4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F1604E-54AD-4582-8E82-FC92F86F3B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 spc="-1" strike="noStrike" u="sng">
                <a:solidFill>
                  <a:srgbClr val="000000"/>
                </a:solidFill>
                <a:uFillTx/>
                <a:latin typeface="Calibri"/>
              </a:rPr>
              <a:t>Praktikat më të mira për provat elektronike </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Si përballemi përpara gjykatës kur përdorim provat dixhitale? Siç e thamë, këto prova janë të veçanta dhe kanë nevojë për trajtim të veçantë. Ekzistojnë shumë sfida dhe probleme, por nuk do të ishim këtu nëse nuk mendojmë se shumë probleme kanë zgjidhje.</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 spc="-1" strike="noStrike" u="sng">
                <a:solidFill>
                  <a:srgbClr val="000000"/>
                </a:solidFill>
                <a:uFillTx/>
                <a:latin typeface="Calibri"/>
              </a:rPr>
              <a:t>Të paqëndrueshme </a:t>
            </a:r>
            <a:r>
              <a:rPr b="1" lang="sq-AL" sz="400" spc="-1" strike="noStrike" u="sng">
                <a:solidFill>
                  <a:srgbClr val="000000"/>
                </a:solidFill>
                <a:uFillTx/>
                <a:latin typeface="Wingdings"/>
                <a:ea typeface="Wingdings"/>
              </a:rPr>
              <a:t></a:t>
            </a:r>
            <a:r>
              <a:rPr b="1" lang="sq-AL" sz="400" spc="-1" strike="noStrike" u="sng">
                <a:solidFill>
                  <a:srgbClr val="000000"/>
                </a:solidFill>
                <a:uFillTx/>
                <a:latin typeface="Calibri"/>
              </a:rPr>
              <a:t> Jini të shpejtë dhe koshientë për rregullat e ndryshme në botë për ruajtjen e të dhënave</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Kur hetoni një vrasje me sëpatë, në një moment të caktuar do të sekuestroni sëpatën dhe jeni të sigurt se kjo sëpatë nuk do të zhduket. Por nuk ndodh kështu me provat dixhitale. Përderisa kemi të bëjmë me prova optike ose elektromagnetike, mënyra sesi janë mbledhur provat është shumë e rëndësishme, siç është dhe mënyra sesi ruhen.</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Por me provat elektronike sfidat janë akoma dhe më të mëdha. Përderisa të dhënat nuk ruhen gjithmonë ose ruhen vetëm për një kohë të shkurtër, duhet të veprojmë shpejt dhe të grumbullojmë gjithçka që na nevojitet ose që mund të na duhet më vonë për një debat në gjykatë. Ne mund të mos kemi një shans të dytë ose mundësinë të kthehemi në kohë. Sapo dikush të shtypë butonin “delete” të gjitha provat zhduken njëherë e përgjithmonë.</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Gjithmonë duhet të mbajmë në konsideratë rregullat e ruajtjes së provave në vendin tonë dhe në vendet me të cilat duhet të punojmë.</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Do të duhet të jemi të ndërgjegjshëm se për vendet Evropiane koha mund të jetë ndërmjet gjashtë dhe njëzet e katër muajve (Direktiva 2006/24/EC e Parlamentit Evropian dhe e Këshillit e datës 15 Mars 2006: “</a:t>
            </a:r>
            <a:r>
              <a:rPr b="0" i="1" lang="sq-AL" sz="400" spc="-1" strike="noStrike">
                <a:solidFill>
                  <a:srgbClr val="000000"/>
                </a:solidFill>
                <a:latin typeface="Calibri"/>
              </a:rPr>
              <a:t>Shtetet Anëtare duhet të garantojnë se kategoritë e të dhënave të specifikuara në Nenin 5 ruhen për periudha jo më shumë sesa gjashtë muaj dhe jo më shumë sesa dy vjet nga data e komunikimit</a:t>
            </a:r>
            <a:r>
              <a:rPr b="0" lang="sq-AL" sz="400" spc="-1" strike="noStrike">
                <a:solidFill>
                  <a:srgbClr val="000000"/>
                </a:solidFill>
                <a:latin typeface="Calibri"/>
              </a:rPr>
              <a:t>.”), por për shembull te Microsoft, në kompaninë e vendosur në Shtetet e Bashkuara të Amerikës, është vetëm nëntëdhjetë ditë (maksimumi)!</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Kjo do të thotë se duhet të jeni të ndërgjegjshëm se që nga momenti që jeni në gjykatë, provat dixhitale dhe të dhënat nga koha e krimit me shumë mundësi nuk mund të mblidhen më. Kjo do të thotë se ju duhet të siguroheni, gjatë hetimit, që do të mblidhni gjithçka që ju nevojitet në kohën e duhur. Nuk do të keni një shans të dytë kur të jeni në gjykatë.</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 spc="-1" strike="noStrike" u="sng">
                <a:solidFill>
                  <a:srgbClr val="000000"/>
                </a:solidFill>
                <a:uFillTx/>
                <a:latin typeface="Calibri"/>
              </a:rPr>
              <a:t>Të lehta për tu manipuluar </a:t>
            </a:r>
            <a:r>
              <a:rPr b="1" lang="sq-AL" sz="400" spc="-1" strike="noStrike" u="sng">
                <a:solidFill>
                  <a:srgbClr val="000000"/>
                </a:solidFill>
                <a:uFillTx/>
                <a:latin typeface="Wingdings"/>
                <a:ea typeface="Wingdings"/>
              </a:rPr>
              <a:t></a:t>
            </a:r>
            <a:r>
              <a:rPr b="1" lang="sq-AL" sz="400" spc="-1" strike="noStrike" u="sng">
                <a:solidFill>
                  <a:srgbClr val="000000"/>
                </a:solidFill>
                <a:uFillTx/>
                <a:latin typeface="Calibri"/>
              </a:rPr>
              <a:t> Garantoni integritetin</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Interneti është një kënd lojërash për kriminelët:</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Anonymizers:</a:t>
            </a:r>
            <a:endParaRPr b="0" lang="en-US" sz="400" spc="-1" strike="noStrike">
              <a:solidFill>
                <a:srgbClr val="000000"/>
              </a:solidFill>
              <a:latin typeface="Calibri"/>
            </a:endParaRPr>
          </a:p>
          <a:p>
            <a:pPr lvl="1" marL="457200" indent="0">
              <a:lnSpc>
                <a:spcPct val="80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400" spc="-1" strike="noStrike">
                <a:solidFill>
                  <a:srgbClr val="000000"/>
                </a:solidFill>
                <a:latin typeface="Calibri"/>
              </a:rPr>
              <a:t>TOR (</a:t>
            </a:r>
            <a:r>
              <a:rPr b="0" lang="en-US" sz="400" spc="-1" strike="noStrike">
                <a:solidFill>
                  <a:srgbClr val="000000"/>
                </a:solidFill>
                <a:latin typeface="Calibri"/>
              </a:rPr>
              <a:t>www</a:t>
            </a:r>
            <a:r>
              <a:rPr b="0" lang="sq-AL" sz="400" spc="-1" strike="noStrike">
                <a:solidFill>
                  <a:srgbClr val="000000"/>
                </a:solidFill>
                <a:latin typeface="Calibri"/>
              </a:rPr>
              <a:t>.torproject.org)</a:t>
            </a:r>
            <a:endParaRPr b="0" lang="en-US" sz="400" spc="-1" strike="noStrike">
              <a:solidFill>
                <a:srgbClr val="000000"/>
              </a:solidFill>
              <a:latin typeface="Calibri"/>
            </a:endParaRPr>
          </a:p>
          <a:p>
            <a:pPr lvl="1" marL="457200" indent="0">
              <a:lnSpc>
                <a:spcPct val="80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400" spc="-1" strike="noStrike">
                <a:solidFill>
                  <a:srgbClr val="000000"/>
                </a:solidFill>
                <a:latin typeface="Calibri"/>
              </a:rPr>
              <a:t>Proxies (ex. </a:t>
            </a:r>
            <a:r>
              <a:rPr b="0" lang="en-US" sz="400" spc="-1" strike="noStrike">
                <a:solidFill>
                  <a:srgbClr val="000000"/>
                </a:solidFill>
                <a:latin typeface="Calibri"/>
              </a:rPr>
              <a:t>www</a:t>
            </a:r>
            <a:r>
              <a:rPr b="0" lang="sq-AL" sz="400" spc="-1" strike="noStrike">
                <a:solidFill>
                  <a:srgbClr val="000000"/>
                </a:solidFill>
                <a:latin typeface="Calibri"/>
              </a:rPr>
              <a:t>.proxy4free.com - </a:t>
            </a:r>
            <a:r>
              <a:rPr b="0" lang="en-US" sz="400" spc="-1" strike="noStrike">
                <a:solidFill>
                  <a:srgbClr val="000000"/>
                </a:solidFill>
                <a:latin typeface="Calibri"/>
              </a:rPr>
              <a:t>www</a:t>
            </a:r>
            <a:r>
              <a:rPr b="0" lang="sq-AL" sz="400" spc="-1" strike="noStrike">
                <a:solidFill>
                  <a:srgbClr val="000000"/>
                </a:solidFill>
                <a:latin typeface="Calibri"/>
              </a:rPr>
              <a:t>.stopkinderporno.com)</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 Sfida e </a:t>
            </a:r>
            <a:r>
              <a:rPr b="1" lang="sq-AL" sz="400" spc="-1" strike="noStrike">
                <a:solidFill>
                  <a:srgbClr val="000000"/>
                </a:solidFill>
                <a:latin typeface="Calibri"/>
              </a:rPr>
              <a:t>lokalizimit</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Steganografia:</a:t>
            </a:r>
            <a:br>
              <a:rPr sz="400"/>
            </a:br>
            <a:r>
              <a:rPr b="0" lang="sq-AL" sz="400" spc="-1" strike="noStrike">
                <a:solidFill>
                  <a:srgbClr val="000000"/>
                </a:solidFill>
                <a:latin typeface="Calibri"/>
              </a:rPr>
              <a:t>Arti dhe shkenca të të shkruarit të mesazheve të fshehur </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Kodimi:</a:t>
            </a:r>
            <a:br>
              <a:rPr sz="400"/>
            </a:br>
            <a:r>
              <a:rPr b="0" lang="sq-AL" sz="400" spc="-1" strike="noStrike">
                <a:solidFill>
                  <a:srgbClr val="000000"/>
                </a:solidFill>
                <a:latin typeface="Calibri"/>
              </a:rPr>
              <a:t>Prova dixhitale në kasafortë!</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Një nga sfidat më të mëdha është të jesh në gjendje të provosh përpara gjykatës se asgjë nuk ka ndodhur me provat që janë mbledhur dhe se janë në gjendjen që ishin kur sapo u sekuestruan. Të gjithë e dinë se çfarë mund të bëjë një haker me kompjuterin tuaj, se çfarë mund të bëjë programi Photoshop me një imazh dixhital. Mbrojtja do të përpiqet të bëjë audience të besojë se provat janë manipuluar.</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Merrni në konsideratë, për shembull, përdorimin e ‘</a:t>
            </a:r>
            <a:r>
              <a:rPr b="1" lang="sq-AL" sz="400" spc="-1" strike="noStrike">
                <a:solidFill>
                  <a:srgbClr val="000000"/>
                </a:solidFill>
                <a:latin typeface="Calibri"/>
              </a:rPr>
              <a:t>Mjeteve Hash</a:t>
            </a:r>
            <a:r>
              <a:rPr b="0" lang="sq-AL" sz="400" spc="-1" strike="noStrike">
                <a:solidFill>
                  <a:srgbClr val="000000"/>
                </a:solidFill>
                <a:latin typeface="Calibri"/>
              </a:rPr>
              <a:t>’: Funksioni Hashing është transformimi i një zinxhiri karakteresh në një çelës ose vlerë më të shkurtër me gjatësi fikse që përfaqëson zinxhirin fillestar. Hashing përdoret për të indeksuar dhe tërhequr të dhëna nga një databazë sepse është më e lehtë për të gjetur të dhënën duke përdorur funksionin e shkurtuar Hash sesa ta gjesh atë duke përdorur vlerën origjinale. Ky funksion përdoret gjithashtu në shumë algoritme kodimi, dhe për të garantuar autenticitetin dhe integritetin e provave dixhitale. Nëse siguroheni se provat tuaja dixhitale janë vlerësuar me funksionin Hash në momentin e sekuestrimit, ju mund të provoni me siguri matematikore në gjykatë se provat dixhitale të paraqitura në gjykatë dhe të analizuara nga ekspertët janë po të njëjtat të dhëna si ato që u sekuestruan; të dhënat do të kenë të njëjtën vlerë Hash.</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 spc="-1" strike="noStrike" u="sng">
                <a:solidFill>
                  <a:srgbClr val="000000"/>
                </a:solidFill>
                <a:uFillTx/>
                <a:latin typeface="Calibri"/>
              </a:rPr>
              <a:t>Të vështira për tu marrë </a:t>
            </a:r>
            <a:r>
              <a:rPr b="1" lang="sq-AL" sz="400" spc="-1" strike="noStrike" u="sng">
                <a:solidFill>
                  <a:srgbClr val="000000"/>
                </a:solidFill>
                <a:uFillTx/>
                <a:latin typeface="Wingdings"/>
                <a:ea typeface="Wingdings"/>
              </a:rPr>
              <a:t></a:t>
            </a:r>
            <a:r>
              <a:rPr b="1" lang="sq-AL" sz="400" spc="-1" strike="noStrike" u="sng">
                <a:solidFill>
                  <a:srgbClr val="000000"/>
                </a:solidFill>
                <a:uFillTx/>
                <a:latin typeface="Calibri"/>
              </a:rPr>
              <a:t> Përdorni ligjin e brendshëm, NNJ, LO, Rrjetin Gjyqësor Evropian, Pikat e Kontaktit të Këshillit të Evropës, Rrjetin Global të Prokurorëve për Krimin Kibernetik (GPEN), …</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E dimë se provat dixhitale në çështjet e krimit kibernetik ka më shumë të ngjarë të ruhen diku jashtë vendit sesa do të kishte të ngjarë të sekuestroheshin në distriktin tonë. Të dhënat e ruajtura fizikisht larg në Internet, në server që mund të ndodhen kudo në botë …</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Një luftëtar i mirë kundër krimit kibernetik do të përpiqet që t’i mbledhë provat sidoqoftë. Ai mund të përdorë traktatet e Ndihmës së Ndërsjellë Juridike, mund të përdorë ndihmën e Oficerit të tij Ndërlidhës me Rrjetin Gjyqësor Evropian, pikat e kontaktit 24/7 (Konventa e Budapestit për Krimin Kibernetik e Këshillit të Evropës), e kështu me radhë.</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Do të jetë e rëndësishme t’i shpjegohet gjyqtarit se nga vijnë provat, dhe nëse janë të marra nga jashtë shtetit, nëse procedura e marrjes ka qenë e drejtë dhe e ligjshme. A është ruajtur integriteti i provave edhe në vendin nga erdhën…?</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E gjitha kjo do të kundërshtohet nga mbrojtja.</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 spc="-1" strike="noStrike" u="sng">
                <a:solidFill>
                  <a:srgbClr val="000000"/>
                </a:solidFill>
                <a:uFillTx/>
                <a:latin typeface="Calibri"/>
              </a:rPr>
              <a:t>Vështirë të provohet origjina dhe autenticiteti </a:t>
            </a:r>
            <a:r>
              <a:rPr b="1" lang="sq-AL" sz="400" spc="-1" strike="noStrike" u="sng">
                <a:solidFill>
                  <a:srgbClr val="000000"/>
                </a:solidFill>
                <a:uFillTx/>
                <a:latin typeface="Wingdings"/>
                <a:ea typeface="Wingdings"/>
              </a:rPr>
              <a:t></a:t>
            </a:r>
            <a:r>
              <a:rPr b="1" lang="sq-AL" sz="400" spc="-1" strike="noStrike" u="sng">
                <a:solidFill>
                  <a:srgbClr val="000000"/>
                </a:solidFill>
                <a:uFillTx/>
                <a:latin typeface="Calibri"/>
              </a:rPr>
              <a:t> dokumentoni plotësisht të gjitha veprimet, kërkesat dhe ekzaminimin kriminalistik</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Nëse ka ndonjë sekret për një mbyllje të suksesshme të një çështjeje, ai është dokumentimi i plotë – asgjë për të fshehur – i gjithçkaje që ka ndodhur gjatë hetimit.</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Sigurohuni që të gjitha raportet të përmendin të gjitha hapat të provojnë logjikën e veprimeve investigative.</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Nëse kjo gjë bëhet, atëherë jemi plotësisht në përputhje me nenin 6 të KEDNJ.</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 spc="-1" strike="noStrike" u="sng">
                <a:solidFill>
                  <a:srgbClr val="000000"/>
                </a:solidFill>
                <a:uFillTx/>
                <a:latin typeface="Calibri"/>
              </a:rPr>
              <a:t>Nuk ka kufij territorialë </a:t>
            </a:r>
            <a:r>
              <a:rPr b="1" lang="sq-AL" sz="400" spc="-1" strike="noStrike" u="sng">
                <a:solidFill>
                  <a:srgbClr val="000000"/>
                </a:solidFill>
                <a:uFillTx/>
                <a:latin typeface="Wingdings"/>
                <a:ea typeface="Wingdings"/>
              </a:rPr>
              <a:t></a:t>
            </a:r>
            <a:r>
              <a:rPr b="1" lang="sq-AL" sz="400" spc="-1" strike="noStrike" u="sng">
                <a:solidFill>
                  <a:srgbClr val="000000"/>
                </a:solidFill>
                <a:uFillTx/>
                <a:latin typeface="Calibri"/>
              </a:rPr>
              <a:t> Ndiqni rregullat e bashkëpunimit ndërkufitar </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Përpiquni të realizoni vetë sa më shumë që të mundeni, megjithatë përdorini dhe mundësitë e bashkëpunimit ndërkufitar. Për çdo veprim që do të ndërmerret, ai duhet të dokumentohet plotësisht.</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Pranueshmëria e provave që janë mbledhur nga jashtë shtetit është një çështje e vështirë gjyqësore.</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Disa vende mendojnë se kur provat merren nga një vend tjetër, ata mund të mbështeten mbi këto prova përderisa nuk mund të ketë diskutime sesi vendi tjetër i organizon hetimet e tij (bazuar në besim). Vende të tjera lejojnë që provat e huaja të kundërshtohen, dhe krahasojnë mënyrën në të cilën provat u mblodhën me rregullat e tyre. Jini të ndërgjegjshëm dhe të përgatitur për këtë. Do të bisedojmë për garantimin e integritetit dhe ligjshmërisë së provave dixhitale të marra nga jashtë shtetit më vonë.</a:t>
            </a:r>
            <a:endParaRPr b="0" lang="en-US" sz="4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p:txBody>
      </p:sp>
      <p:sp>
        <p:nvSpPr>
          <p:cNvPr id="4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84A81F-C4A2-4D48-937C-705F64D370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1A162-8021-4CC0-AC63-580053A39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CD21B-3467-42AE-9CCD-07E4A0AF2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96C47-39AB-4400-9E20-D3ABB104E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A8B3C-59F2-4C92-852C-D8A8DBC9E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6D05EE-B81C-4C09-AC27-2CF320C783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24D29-84B1-4B58-8AE9-6F474FD28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2BC39-7D53-43D2-AB26-8F98A6EB9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668A3-AE81-4C20-8B90-0ED3F3CBF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C85DB-87ED-4BCB-921C-7AFCD570B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71638-652C-4F6A-87A2-D702E70EE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5D049-8EFA-4C47-AD33-481748668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ED0C8-95CD-43E0-B96E-04F1A20B6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95561-E5AF-407B-8564-8E949866D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12743-7423-4CE0-B806-D525D4789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D32C8-F1DD-4228-891D-4080F00E9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F560DE-8068-4470-8A2F-198CFA6860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DF4199-FB04-4084-B842-8BCA4EF0F0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D22F2-25E5-4050-B828-136478914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65B76-D8B9-4E20-97F5-A607E8205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B6F59-E5C8-450D-B5B9-DFF1534DB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CB676-A678-47F3-A014-B6A545FCD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DEEE4-D347-4FFF-A81C-40AF452E1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900DC-0391-4A1F-BA41-159D1A232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97F5C-FC09-408B-95FF-77D1DFE6F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1E6332-2BBF-4D00-B684-6A402308B867}"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 Philippe Van Linthout &amp; Jan Kerkhofs</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C16059-5131-4E28-8758-E2662C3EEA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AD2C1F-F369-47AC-98C6-85446F6D561C}"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 Philippe Van Linthout &amp; Jan Kerkhofs</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B29A42-CB0A-46E5-A3E1-EDFB0FCD5C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57080"/>
            <a:ext cx="7772400" cy="194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jnim i Përparuar për Krimin Kibernetik për Gjyqtarët dhe Prokurorët</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ezantim për përgatitjen e çështjes për gjykatë duke përfshirë metodat e paraqitjes së provave</a:t>
            </a:r>
            <a:endParaRPr b="0" lang="en-US" sz="3200" spc="-1" strike="noStrike">
              <a:solidFill>
                <a:srgbClr val="000000"/>
              </a:solidFill>
              <a:latin typeface="Calibri"/>
            </a:endParaRPr>
          </a:p>
        </p:txBody>
      </p:sp>
      <p:pic>
        <p:nvPicPr>
          <p:cNvPr id="91" name="Picture 3" descr="COE.png"/>
          <p:cNvPicPr/>
          <p:nvPr/>
        </p:nvPicPr>
        <p:blipFill>
          <a:blip r:embed="rId1"/>
          <a:stretch/>
        </p:blipFill>
        <p:spPr>
          <a:xfrm>
            <a:off x="1517760" y="552600"/>
            <a:ext cx="6108480" cy="110484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2828880" y="457200"/>
            <a:ext cx="3673440" cy="5977080"/>
            <a:chOff x="2828880" y="457200"/>
            <a:chExt cx="3673440" cy="5977080"/>
          </a:xfrm>
        </p:grpSpPr>
        <p:sp>
          <p:nvSpPr>
            <p:cNvPr id="243"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AutoShape 4"/>
            <p:cNvSpPr/>
            <p:nvPr/>
          </p:nvSpPr>
          <p:spPr>
            <a:xfrm>
              <a:off x="2828880" y="872640"/>
              <a:ext cx="3668760" cy="5541480"/>
            </a:xfrm>
            <a:custGeom>
              <a:avLst/>
              <a:gdLst>
                <a:gd name="textAreaLeft" fmla="*/ 26280 w 3668760"/>
                <a:gd name="textAreaRight" fmla="*/ 3642480 w 3668760"/>
                <a:gd name="textAreaTop" fmla="*/ 26280 h 5541480"/>
                <a:gd name="textAreaBottom" fmla="*/ 5515200 h 5541480"/>
              </a:gdLst>
              <a:ahLst/>
              <a:rect l="textAreaLeft" t="textAreaTop" r="textAreaRight" b="textAreaBottom"/>
              <a:pathLst>
                <a:path w="21600" h="32625">
                  <a:moveTo>
                    <a:pt x="532" y="0"/>
                  </a:moveTo>
                  <a:arcTo wR="532" hR="532" stAng="16200000" swAng="-5400000"/>
                  <a:lnTo>
                    <a:pt x="0" y="32093"/>
                  </a:lnTo>
                  <a:arcTo wR="532" hR="532" stAng="10800000" swAng="-5400000"/>
                  <a:lnTo>
                    <a:pt x="21068" y="32625"/>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6" name="Freeform 6"/>
            <p:cNvSpPr/>
            <p:nvPr/>
          </p:nvSpPr>
          <p:spPr>
            <a:xfrm>
              <a:off x="2921760" y="872640"/>
              <a:ext cx="3506760" cy="18180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8" name="Freeform 8"/>
            <p:cNvSpPr/>
            <p:nvPr/>
          </p:nvSpPr>
          <p:spPr>
            <a:xfrm>
              <a:off x="4053240" y="648720"/>
              <a:ext cx="1234800" cy="6447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Freeform 9"/>
            <p:cNvSpPr/>
            <p:nvPr/>
          </p:nvSpPr>
          <p:spPr>
            <a:xfrm>
              <a:off x="4063680" y="648720"/>
              <a:ext cx="1209240" cy="64476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0" name="Freeform 10"/>
            <p:cNvSpPr/>
            <p:nvPr/>
          </p:nvSpPr>
          <p:spPr>
            <a:xfrm>
              <a:off x="4074120" y="648720"/>
              <a:ext cx="1188720" cy="64476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1" name="Freeform 11"/>
            <p:cNvSpPr/>
            <p:nvPr/>
          </p:nvSpPr>
          <p:spPr>
            <a:xfrm>
              <a:off x="4078440" y="648720"/>
              <a:ext cx="1173600" cy="64476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2" name="Freeform 12"/>
            <p:cNvSpPr/>
            <p:nvPr/>
          </p:nvSpPr>
          <p:spPr>
            <a:xfrm>
              <a:off x="4088880" y="648720"/>
              <a:ext cx="1146960" cy="64476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Freeform 13"/>
            <p:cNvSpPr/>
            <p:nvPr/>
          </p:nvSpPr>
          <p:spPr>
            <a:xfrm>
              <a:off x="4099320" y="648720"/>
              <a:ext cx="1126440" cy="64476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4" name="Freeform 14"/>
            <p:cNvSpPr/>
            <p:nvPr/>
          </p:nvSpPr>
          <p:spPr>
            <a:xfrm>
              <a:off x="4109760" y="648720"/>
              <a:ext cx="1105920" cy="64476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Freeform 15"/>
            <p:cNvSpPr/>
            <p:nvPr/>
          </p:nvSpPr>
          <p:spPr>
            <a:xfrm>
              <a:off x="4120200" y="648720"/>
              <a:ext cx="1080360" cy="6447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6"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6"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Freeform 32"/>
            <p:cNvSpPr/>
            <p:nvPr/>
          </p:nvSpPr>
          <p:spPr>
            <a:xfrm>
              <a:off x="3764160" y="457200"/>
              <a:ext cx="179748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4" name="Freeform 34"/>
            <p:cNvSpPr/>
            <p:nvPr/>
          </p:nvSpPr>
          <p:spPr>
            <a:xfrm>
              <a:off x="4383720" y="490680"/>
              <a:ext cx="594720" cy="43848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87" name="TextBox 48"/>
          <p:cNvSpPr/>
          <p:nvPr/>
        </p:nvSpPr>
        <p:spPr>
          <a:xfrm>
            <a:off x="3144960" y="2654280"/>
            <a:ext cx="3068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Karakteristikat e provave dixhitale në gjykatë</a:t>
            </a:r>
            <a:endParaRPr b="0" lang="en-US" sz="36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Karakteristikat e provave dixhitale në gjykatë</a:t>
            </a:r>
            <a:endParaRPr b="0" lang="en-US" sz="3600" spc="-1" strike="noStrike">
              <a:solidFill>
                <a:srgbClr val="000000"/>
              </a:solidFill>
              <a:latin typeface="Calibri"/>
            </a:endParaRPr>
          </a:p>
        </p:txBody>
      </p:sp>
      <p:sp>
        <p:nvSpPr>
          <p:cNvPr id="289" name=""/>
          <p:cNvSpPr txBox="1"/>
          <p:nvPr/>
        </p:nvSpPr>
        <p:spPr>
          <a:xfrm>
            <a:off x="457200" y="1292040"/>
            <a:ext cx="8229600" cy="526068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Calibri"/>
              </a:rPr>
              <a:t>Gjyqtarët nuk janë mësuar (akoma) me provat</a:t>
            </a:r>
            <a:endParaRPr b="0" lang="en-US" sz="28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Natyra e pasigurt e provave dixhitale duhet të transformohet në karakteristika të reja</a:t>
            </a:r>
            <a:endParaRPr b="0" lang="en-US" sz="28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Calibri"/>
              </a:rPr>
              <a:t>Cilësia e trefishtë është e detyrueshme</a:t>
            </a:r>
            <a:r>
              <a:rPr b="1"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1f497d"/>
                </a:solidFill>
                <a:latin typeface="Calibri"/>
              </a:rPr>
              <a:t>Të pranueshme</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1f497d"/>
                </a:solidFill>
                <a:latin typeface="Calibri"/>
              </a:rPr>
              <a:t>A</a:t>
            </a:r>
            <a:r>
              <a:rPr b="1" lang="en-US" sz="2400" spc="-1" strike="noStrike">
                <a:solidFill>
                  <a:srgbClr val="000000"/>
                </a:solidFill>
                <a:latin typeface="Calibri"/>
              </a:rPr>
              <a:t>utentike</a:t>
            </a:r>
            <a:endParaRPr b="0" lang="en-US" sz="24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1f497d"/>
                </a:solidFill>
                <a:latin typeface="Calibri"/>
              </a:rPr>
              <a:t>Të përpikta</a:t>
            </a:r>
            <a:r>
              <a:rPr b="1" lang="en-US" sz="2400" spc="-1" strike="noStrike">
                <a:solidFill>
                  <a:srgbClr val="000000"/>
                </a:solidFill>
                <a:latin typeface="Calibri"/>
              </a:rPr>
              <a:t> (dhe të plota</a:t>
            </a:r>
            <a:r>
              <a:rPr b="1" lang="en-GB"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2800" spc="-1" strike="noStrike">
                <a:solidFill>
                  <a:srgbClr val="000000"/>
                </a:solidFill>
                <a:latin typeface="Calibri"/>
              </a:rPr>
              <a:t>Provat dixhitale duhet të jenë patjetër bindëse</a:t>
            </a:r>
            <a:endParaRPr b="0" lang="en-US" sz="2800" spc="-1" strike="noStrike">
              <a:solidFill>
                <a:srgbClr val="000000"/>
              </a:solidFill>
              <a:latin typeface="Calibri"/>
            </a:endParaRPr>
          </a:p>
        </p:txBody>
      </p:sp>
      <p:sp>
        <p:nvSpPr>
          <p:cNvPr id="290" name="AutoShape 5"/>
          <p:cNvSpPr/>
          <p:nvPr/>
        </p:nvSpPr>
        <p:spPr>
          <a:xfrm>
            <a:off x="268200" y="4200480"/>
            <a:ext cx="660600" cy="1001880"/>
          </a:xfrm>
          <a:custGeom>
            <a:avLst/>
            <a:gdLst>
              <a:gd name="textAreaLeft" fmla="*/ 88200 w 660600"/>
              <a:gd name="textAreaRight" fmla="*/ 572400 w 660600"/>
              <a:gd name="textAreaTop" fmla="*/ 175320 h 1001880"/>
              <a:gd name="textAreaBottom" fmla="*/ 726480 h 1001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AutoShape 6"/>
          <p:cNvSpPr/>
          <p:nvPr/>
        </p:nvSpPr>
        <p:spPr>
          <a:xfrm rot="16006200">
            <a:off x="2769840" y="4208400"/>
            <a:ext cx="812880" cy="720720"/>
          </a:xfrm>
          <a:custGeom>
            <a:avLst/>
            <a:gdLst>
              <a:gd name="textAreaLeft" fmla="*/ 142200 w 812880"/>
              <a:gd name="textAreaRight" fmla="*/ 589320 w 812880"/>
              <a:gd name="textAreaTop" fmla="*/ 96480 h 720720"/>
              <a:gd name="textAreaBottom" fmla="*/ 624240 h 720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92240" y="108000"/>
            <a:ext cx="8842320" cy="931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Provoni Vërtetësinë e të Dhënave Dixhitale</a:t>
            </a:r>
            <a:endParaRPr b="0" lang="en-US" sz="3600" spc="-1" strike="noStrike">
              <a:solidFill>
                <a:srgbClr val="000000"/>
              </a:solidFill>
              <a:latin typeface="Calibri"/>
            </a:endParaRPr>
          </a:p>
        </p:txBody>
      </p:sp>
      <p:sp>
        <p:nvSpPr>
          <p:cNvPr id="293" name=""/>
          <p:cNvSpPr txBox="1"/>
          <p:nvPr/>
        </p:nvSpPr>
        <p:spPr>
          <a:xfrm>
            <a:off x="0" y="1039680"/>
            <a:ext cx="9034560" cy="58183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1f497d"/>
                </a:solidFill>
                <a:latin typeface="Calibri"/>
              </a:rPr>
              <a:t>Kategorizoni dhe strukturoni provat dixhitale (në 3 grupe):</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000" spc="-1" strike="noStrike">
                <a:solidFill>
                  <a:srgbClr val="000000"/>
                </a:solidFill>
                <a:latin typeface="Calibri"/>
              </a:rPr>
              <a:t>Të dhëna për aktivitetet që kanë përmbajtje të shkruar nga një apo më shumë njerëz</a:t>
            </a:r>
            <a:r>
              <a:rPr b="0" lang="sq-AL" sz="2000" spc="-1" strike="noStrike">
                <a:solidFill>
                  <a:srgbClr val="000000"/>
                </a:solidFill>
                <a:latin typeface="Calibri"/>
              </a:rPr>
              <a:t> (p.sh. </a:t>
            </a:r>
            <a:r>
              <a:rPr b="0" lang="sq-AL" sz="2000" spc="-1" strike="noStrike">
                <a:solidFill>
                  <a:srgbClr val="fc2610"/>
                </a:solidFill>
                <a:latin typeface="Calibri"/>
              </a:rPr>
              <a:t>Mesazhe elektronike</a:t>
            </a:r>
            <a:r>
              <a:rPr b="0" lang="sq-AL" sz="2000" spc="-1" strike="noStrike">
                <a:solidFill>
                  <a:srgbClr val="000000"/>
                </a:solidFill>
                <a:latin typeface="Calibri"/>
              </a:rPr>
              <a:t>, skedarë word, mesazhe nga chat-i)</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000" spc="-1" strike="noStrike">
                <a:solidFill>
                  <a:srgbClr val="000000"/>
                </a:solidFill>
                <a:latin typeface="Calibri"/>
              </a:rPr>
              <a:t>Të dhëna të gjeneruara nga kompjuteri pa input nga njerëzit</a:t>
            </a:r>
            <a:r>
              <a:rPr b="0" lang="sq-AL" sz="2000" spc="-1" strike="noStrike">
                <a:solidFill>
                  <a:srgbClr val="000000"/>
                </a:solidFill>
                <a:latin typeface="Calibri"/>
              </a:rPr>
              <a:t> (p.sh. Regjistrimet e të dhënave, </a:t>
            </a:r>
            <a:r>
              <a:rPr b="0" lang="sq-AL" sz="2000" spc="-1" strike="noStrike">
                <a:solidFill>
                  <a:srgbClr val="fc2610"/>
                </a:solidFill>
                <a:latin typeface="Calibri"/>
              </a:rPr>
              <a:t>transaksionet e bankomateve</a:t>
            </a:r>
            <a:r>
              <a:rPr b="0" lang="sq-AL" sz="2000" spc="-1" strike="noStrike">
                <a:solidFill>
                  <a:srgbClr val="000000"/>
                </a:solidFill>
                <a:latin typeface="Calibri"/>
              </a:rPr>
              <a:t>, lidhjet telefonike)</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000" spc="-1" strike="noStrike">
                <a:solidFill>
                  <a:srgbClr val="000000"/>
                </a:solidFill>
                <a:latin typeface="Calibri"/>
              </a:rPr>
              <a:t>Të dhënat që përfshijnë një kombinim të të dhënave të futura nga njerëzit dhe llogaritjeve të gjeneruara dhe memorizuara nga kompjuteri</a:t>
            </a:r>
            <a:r>
              <a:rPr b="0" lang="sq-AL" sz="2000" spc="-1" strike="noStrike">
                <a:solidFill>
                  <a:srgbClr val="000000"/>
                </a:solidFill>
                <a:latin typeface="Calibri"/>
              </a:rPr>
              <a:t> (p.sh. Një fletë pune financiare)</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1f497d"/>
                </a:solidFill>
                <a:latin typeface="Calibri"/>
              </a:rPr>
              <a:t>Natyra e provave të disponueshme në gjykatë për të përcaktuar vërtetësinë e të dhënave dixhitale që ndryshon nga çështja në çështje </a:t>
            </a:r>
            <a:r>
              <a:rPr b="0" lang="sq-AL" sz="2000" spc="-1" strike="noStrike">
                <a:solidFill>
                  <a:srgbClr val="000000"/>
                </a:solidFill>
                <a:latin typeface="Calibri"/>
              </a:rPr>
              <a:t>(</a:t>
            </a:r>
            <a:r>
              <a:rPr b="0" lang="sq-AL" sz="2000" spc="-1" strike="noStrike">
                <a:solidFill>
                  <a:srgbClr val="000000"/>
                </a:solidFill>
                <a:latin typeface="Wingdings"/>
                <a:ea typeface="Wingdings"/>
              </a:rPr>
              <a:t></a:t>
            </a:r>
            <a:r>
              <a:rPr b="0" lang="sq-AL" sz="2000" spc="-1" strike="noStrike">
                <a:solidFill>
                  <a:srgbClr val="000000"/>
                </a:solidFill>
                <a:latin typeface="Calibri"/>
              </a:rPr>
              <a:t> roli i rëndësishëm </a:t>
            </a:r>
            <a:r>
              <a:rPr b="0" lang="sq-AL" sz="2000" spc="-1" strike="noStrike">
                <a:solidFill>
                  <a:srgbClr val="fc2610"/>
                </a:solidFill>
                <a:latin typeface="Calibri"/>
              </a:rPr>
              <a:t>i ekspertëve/specialistëve të të dhënave dixhitale</a:t>
            </a:r>
            <a:r>
              <a:rPr b="0" lang="sq-AL" sz="2000" spc="-1" strike="noStrike">
                <a:solidFill>
                  <a:srgbClr val="000000"/>
                </a:solidFill>
                <a:latin typeface="Calibri"/>
              </a:rPr>
              <a:t>)</a:t>
            </a:r>
            <a:endParaRPr b="0" lang="en-US" sz="20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122031"/>
                </a:solidFill>
                <a:latin typeface="Calibri"/>
              </a:rPr>
              <a:t>Të Provuarit e Autenticitetit</a:t>
            </a:r>
            <a:endParaRPr b="0" lang="en-US" sz="4000" spc="-1" strike="noStrike">
              <a:solidFill>
                <a:srgbClr val="000000"/>
              </a:solidFill>
              <a:latin typeface="Calibri"/>
            </a:endParaRPr>
          </a:p>
        </p:txBody>
      </p:sp>
      <p:sp>
        <p:nvSpPr>
          <p:cNvPr id="295" name=""/>
          <p:cNvSpPr txBox="1"/>
          <p:nvPr/>
        </p:nvSpPr>
        <p:spPr>
          <a:xfrm>
            <a:off x="456840" y="1292400"/>
            <a:ext cx="8288280" cy="5202000"/>
          </a:xfrm>
          <a:prstGeom prst="rect">
            <a:avLst/>
          </a:prstGeom>
          <a:noFill/>
          <a:ln w="0">
            <a:noFill/>
          </a:ln>
        </p:spPr>
        <p:txBody>
          <a:bodyPr anchor="t">
            <a:normAutofit/>
          </a:bodyPr>
          <a:p>
            <a:pPr marL="343080" indent="-343080" algn="just">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Varet nga pala që kërkon pranimin e provave që të përgatisë dhe paraqesë prova për autenticitetin e të dhënave.</a:t>
            </a:r>
            <a:endParaRPr b="0" lang="en-US" sz="2800" spc="-1" strike="noStrike">
              <a:solidFill>
                <a:srgbClr val="000000"/>
              </a:solidFill>
              <a:latin typeface="Calibri"/>
            </a:endParaRPr>
          </a:p>
          <a:p>
            <a:pPr marL="343080" indent="-343080" algn="just">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Demonstroni historinë sesi janë menaxhuar të dhënat, që përfshin:</a:t>
            </a:r>
            <a:endParaRPr b="0" lang="en-US" sz="2800" spc="-1" strike="noStrike">
              <a:solidFill>
                <a:srgbClr val="000000"/>
              </a:solidFill>
              <a:latin typeface="Calibri"/>
            </a:endParaRPr>
          </a:p>
          <a:p>
            <a:pPr lvl="1" marL="743040" indent="-285840" algn="just">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ë dhënat i nënshtrohen </a:t>
            </a:r>
            <a:r>
              <a:rPr b="1" lang="sq-AL" sz="2400" spc="-1" strike="noStrike">
                <a:solidFill>
                  <a:srgbClr val="000000"/>
                </a:solidFill>
                <a:latin typeface="Calibri"/>
              </a:rPr>
              <a:t>zinxhirit të ruajtjes së provave</a:t>
            </a:r>
            <a:endParaRPr b="0" lang="en-US" sz="2400" spc="-1" strike="noStrike">
              <a:solidFill>
                <a:srgbClr val="000000"/>
              </a:solidFill>
              <a:latin typeface="Calibri"/>
            </a:endParaRPr>
          </a:p>
          <a:p>
            <a:pPr lvl="1" marL="743040" indent="-285840" algn="just">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ë dhënat </a:t>
            </a:r>
            <a:r>
              <a:rPr b="1" lang="sq-AL" sz="2400" spc="-1" strike="noStrike">
                <a:solidFill>
                  <a:srgbClr val="000000"/>
                </a:solidFill>
                <a:latin typeface="Calibri"/>
              </a:rPr>
              <a:t>nuk janë modifikuar </a:t>
            </a:r>
            <a:r>
              <a:rPr b="0" lang="sq-AL" sz="2400" spc="-1" strike="noStrike">
                <a:solidFill>
                  <a:srgbClr val="000000"/>
                </a:solidFill>
                <a:latin typeface="Calibri"/>
              </a:rPr>
              <a:t>pa autorizim ndërmjet kohës që u krijuan ose u shtuan në depozitim në momentin që u krijuan, që do të thotë:</a:t>
            </a:r>
            <a:endParaRPr b="0" lang="en-US" sz="2400" spc="-1" strike="noStrike">
              <a:solidFill>
                <a:srgbClr val="000000"/>
              </a:solidFill>
              <a:latin typeface="Calibri"/>
            </a:endParaRPr>
          </a:p>
          <a:p>
            <a:pPr lvl="2" marL="1143000" indent="-228600" algn="just">
              <a:spcBef>
                <a:spcPts val="300"/>
              </a:spcBef>
              <a:spcAft>
                <a:spcPts val="300"/>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Demonstroni </a:t>
            </a:r>
            <a:r>
              <a:rPr b="1" lang="sq-AL" sz="2400" spc="-1" strike="noStrike">
                <a:solidFill>
                  <a:srgbClr val="1f497d"/>
                </a:solidFill>
                <a:latin typeface="Calibri"/>
              </a:rPr>
              <a:t>integritetin</a:t>
            </a:r>
            <a:endParaRPr b="0" lang="en-US" sz="2400" spc="-1" strike="noStrike">
              <a:solidFill>
                <a:srgbClr val="000000"/>
              </a:solidFill>
              <a:latin typeface="Calibri"/>
            </a:endParaRPr>
          </a:p>
          <a:p>
            <a:pPr lvl="2" marL="1143000" indent="-228600">
              <a:spcBef>
                <a:spcPts val="300"/>
              </a:spcBef>
              <a:spcAft>
                <a:spcPts val="300"/>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Demonstroni </a:t>
            </a:r>
            <a:r>
              <a:rPr b="1" lang="sq-AL" sz="2400" spc="-1" strike="noStrike">
                <a:solidFill>
                  <a:srgbClr val="1f497d"/>
                </a:solidFill>
                <a:latin typeface="Calibri"/>
              </a:rPr>
              <a:t>besueshmërinë </a:t>
            </a:r>
            <a:endParaRPr b="0" lang="en-US" sz="24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8520" y="0"/>
            <a:ext cx="8879040" cy="1179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a:solidFill>
                  <a:srgbClr val="122031"/>
                </a:solidFill>
                <a:latin typeface="Calibri"/>
              </a:rPr>
              <a:t>Përballja me juridiksionin dhe provat nga jashtë shtetit</a:t>
            </a:r>
            <a:endParaRPr b="0" lang="en-US" sz="3800" spc="-1" strike="noStrike">
              <a:solidFill>
                <a:srgbClr val="000000"/>
              </a:solidFill>
              <a:latin typeface="Calibri"/>
            </a:endParaRPr>
          </a:p>
        </p:txBody>
      </p:sp>
      <p:sp>
        <p:nvSpPr>
          <p:cNvPr id="297" name=""/>
          <p:cNvSpPr txBox="1"/>
          <p:nvPr/>
        </p:nvSpPr>
        <p:spPr>
          <a:xfrm>
            <a:off x="456840" y="1145880"/>
            <a:ext cx="8550360" cy="535140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500" spc="-1" strike="noStrike">
                <a:solidFill>
                  <a:srgbClr val="000000"/>
                </a:solidFill>
                <a:latin typeface="Calibri"/>
              </a:rPr>
              <a:t>Garantoni integritetin, pranueshmërinë dhe ligjshmërinë e provave që vijnë nga jashtë shtetit (cila rregulla zbatohen?)</a:t>
            </a:r>
            <a:endParaRPr b="0" lang="en-US" sz="25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500" spc="-1" strike="noStrike">
                <a:solidFill>
                  <a:srgbClr val="1f497d"/>
                </a:solidFill>
                <a:latin typeface="Calibri"/>
              </a:rPr>
              <a:t>Jini në gjendje t’i shpjegoni gjyqtarit çështjen e juridiksionit</a:t>
            </a:r>
            <a:endParaRPr b="0" lang="en-US" sz="25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500" spc="-1" strike="noStrike">
                <a:solidFill>
                  <a:srgbClr val="000000"/>
                </a:solidFill>
                <a:latin typeface="Calibri"/>
              </a:rPr>
              <a:t>Kini parasysh kombësinë e provave:</a:t>
            </a:r>
            <a:endParaRPr b="0" lang="en-US" sz="25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500" spc="-1" strike="noStrike">
                <a:solidFill>
                  <a:srgbClr val="1f497d"/>
                </a:solidFill>
                <a:latin typeface="Calibri"/>
              </a:rPr>
              <a:t>Çfarë është territorialiteti dhe ekstra-territorialiteti në hapësirën kibernetike</a:t>
            </a:r>
            <a:r>
              <a:rPr b="0" lang="sq-AL" sz="2500" spc="-1" strike="noStrike">
                <a:solidFill>
                  <a:srgbClr val="1f497d"/>
                </a:solidFill>
                <a:latin typeface="Calibri"/>
              </a:rPr>
              <a:t>?</a:t>
            </a:r>
            <a:endParaRPr b="0" lang="en-US" sz="25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500" spc="-1" strike="noStrike">
                <a:solidFill>
                  <a:srgbClr val="000000"/>
                </a:solidFill>
                <a:latin typeface="Calibri"/>
              </a:rPr>
              <a:t>Ku u morën provat dhe si e dimë?</a:t>
            </a:r>
            <a:endParaRPr b="0" lang="en-US" sz="25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500" spc="-1" strike="noStrike">
                <a:solidFill>
                  <a:srgbClr val="1f497d"/>
                </a:solidFill>
                <a:latin typeface="Calibri"/>
              </a:rPr>
              <a:t>Mblidhni prova nga jashtë shtetit nëpërmjet Ndihmës së Ndërsjellë Juridike nëse është nevoja</a:t>
            </a:r>
            <a:endParaRPr b="0" lang="en-US" sz="25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2"/>
          <p:cNvGrpSpPr/>
          <p:nvPr/>
        </p:nvGrpSpPr>
        <p:grpSpPr>
          <a:xfrm>
            <a:off x="2828880" y="457200"/>
            <a:ext cx="3673440" cy="5977080"/>
            <a:chOff x="2828880" y="457200"/>
            <a:chExt cx="3673440" cy="5977080"/>
          </a:xfrm>
        </p:grpSpPr>
        <p:sp>
          <p:nvSpPr>
            <p:cNvPr id="299"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AutoShape 4"/>
            <p:cNvSpPr/>
            <p:nvPr/>
          </p:nvSpPr>
          <p:spPr>
            <a:xfrm>
              <a:off x="2828880" y="872640"/>
              <a:ext cx="3668760" cy="5541480"/>
            </a:xfrm>
            <a:custGeom>
              <a:avLst/>
              <a:gdLst>
                <a:gd name="textAreaLeft" fmla="*/ 26280 w 3668760"/>
                <a:gd name="textAreaRight" fmla="*/ 3642480 w 3668760"/>
                <a:gd name="textAreaTop" fmla="*/ 26280 h 5541480"/>
                <a:gd name="textAreaBottom" fmla="*/ 5515200 h 5541480"/>
              </a:gdLst>
              <a:ahLst/>
              <a:rect l="textAreaLeft" t="textAreaTop" r="textAreaRight" b="textAreaBottom"/>
              <a:pathLst>
                <a:path w="21600" h="32625">
                  <a:moveTo>
                    <a:pt x="532" y="0"/>
                  </a:moveTo>
                  <a:arcTo wR="532" hR="532" stAng="16200000" swAng="-5400000"/>
                  <a:lnTo>
                    <a:pt x="0" y="32093"/>
                  </a:lnTo>
                  <a:arcTo wR="532" hR="532" stAng="10800000" swAng="-5400000"/>
                  <a:lnTo>
                    <a:pt x="21068" y="32625"/>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2" name="Freeform 6"/>
            <p:cNvSpPr/>
            <p:nvPr/>
          </p:nvSpPr>
          <p:spPr>
            <a:xfrm>
              <a:off x="2921760" y="872640"/>
              <a:ext cx="3506760" cy="18180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3"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4" name="Freeform 8"/>
            <p:cNvSpPr/>
            <p:nvPr/>
          </p:nvSpPr>
          <p:spPr>
            <a:xfrm>
              <a:off x="4053240" y="648720"/>
              <a:ext cx="1234800" cy="6447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Freeform 9"/>
            <p:cNvSpPr/>
            <p:nvPr/>
          </p:nvSpPr>
          <p:spPr>
            <a:xfrm>
              <a:off x="4063680" y="648720"/>
              <a:ext cx="1209240" cy="64476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6" name="Freeform 10"/>
            <p:cNvSpPr/>
            <p:nvPr/>
          </p:nvSpPr>
          <p:spPr>
            <a:xfrm>
              <a:off x="4074120" y="648720"/>
              <a:ext cx="1188720" cy="64476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Freeform 11"/>
            <p:cNvSpPr/>
            <p:nvPr/>
          </p:nvSpPr>
          <p:spPr>
            <a:xfrm>
              <a:off x="4078440" y="648720"/>
              <a:ext cx="1173600" cy="64476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8" name="Freeform 12"/>
            <p:cNvSpPr/>
            <p:nvPr/>
          </p:nvSpPr>
          <p:spPr>
            <a:xfrm>
              <a:off x="4088880" y="648720"/>
              <a:ext cx="1146960" cy="64476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Freeform 13"/>
            <p:cNvSpPr/>
            <p:nvPr/>
          </p:nvSpPr>
          <p:spPr>
            <a:xfrm>
              <a:off x="4099320" y="648720"/>
              <a:ext cx="1126440" cy="64476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Freeform 14"/>
            <p:cNvSpPr/>
            <p:nvPr/>
          </p:nvSpPr>
          <p:spPr>
            <a:xfrm>
              <a:off x="4109760" y="648720"/>
              <a:ext cx="1105920" cy="64476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Freeform 15"/>
            <p:cNvSpPr/>
            <p:nvPr/>
          </p:nvSpPr>
          <p:spPr>
            <a:xfrm>
              <a:off x="4120200" y="648720"/>
              <a:ext cx="1080360" cy="6447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9"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6"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7"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Freeform 32"/>
            <p:cNvSpPr/>
            <p:nvPr/>
          </p:nvSpPr>
          <p:spPr>
            <a:xfrm>
              <a:off x="3764160" y="457200"/>
              <a:ext cx="179748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0" name="Freeform 34"/>
            <p:cNvSpPr/>
            <p:nvPr/>
          </p:nvSpPr>
          <p:spPr>
            <a:xfrm>
              <a:off x="4383720" y="490680"/>
              <a:ext cx="594720" cy="43848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1"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5"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6"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2"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43" name="TextBox 48"/>
          <p:cNvSpPr/>
          <p:nvPr/>
        </p:nvSpPr>
        <p:spPr>
          <a:xfrm>
            <a:off x="3144960" y="23004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Paraqitja e provave dixhitale</a:t>
            </a:r>
            <a:endParaRPr b="0" lang="en-US" sz="36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22031"/>
                </a:solidFill>
                <a:latin typeface="Calibri"/>
              </a:rPr>
              <a:t>Konsiderata të Përgjithshme</a:t>
            </a:r>
            <a:endParaRPr b="0" lang="en-US" sz="4400" spc="-1" strike="noStrike">
              <a:solidFill>
                <a:srgbClr val="000000"/>
              </a:solidFill>
              <a:latin typeface="Calibri"/>
            </a:endParaRPr>
          </a:p>
        </p:txBody>
      </p:sp>
      <p:sp>
        <p:nvSpPr>
          <p:cNvPr id="345" name=""/>
          <p:cNvSpPr txBox="1"/>
          <p:nvPr/>
        </p:nvSpPr>
        <p:spPr>
          <a:xfrm>
            <a:off x="457200" y="1145880"/>
            <a:ext cx="8686800" cy="5459400"/>
          </a:xfrm>
          <a:prstGeom prst="rect">
            <a:avLst/>
          </a:prstGeom>
          <a:noFill/>
          <a:ln w="0">
            <a:noFill/>
          </a:ln>
        </p:spPr>
        <p:txBody>
          <a:bodyPr anchor="t">
            <a:normAutofit fontScale="99000"/>
          </a:bodyPr>
          <a:p>
            <a:pPr marL="339480" indent="-339480" algn="just">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Provat do të kundërshtohen nga mbrojtja:</a:t>
            </a:r>
            <a:endParaRPr b="0" lang="en-US" sz="2400" spc="-1" strike="noStrike">
              <a:solidFill>
                <a:srgbClr val="000000"/>
              </a:solidFill>
              <a:latin typeface="Calibri"/>
            </a:endParaRPr>
          </a:p>
          <a:p>
            <a:pPr lvl="1" marL="735480" indent="-28296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BE" sz="2000" spc="-1" strike="noStrike">
                <a:solidFill>
                  <a:srgbClr val="000000"/>
                </a:solidFill>
                <a:latin typeface="Calibri"/>
              </a:rPr>
              <a:t>Kini kujdes nga </a:t>
            </a:r>
            <a:r>
              <a:rPr b="1" lang="fr-BE" sz="2000" spc="-1" strike="noStrike">
                <a:solidFill>
                  <a:srgbClr val="1f497d"/>
                </a:solidFill>
                <a:latin typeface="Calibri"/>
              </a:rPr>
              <a:t>shpjegimet alternative </a:t>
            </a:r>
            <a:r>
              <a:rPr b="0" lang="fr-BE" sz="2000" spc="-1" strike="noStrike">
                <a:solidFill>
                  <a:srgbClr val="000000"/>
                </a:solidFill>
                <a:latin typeface="Calibri"/>
              </a:rPr>
              <a:t>të mbrojtjes</a:t>
            </a:r>
            <a:endParaRPr b="0" lang="en-US" sz="2000" spc="-1" strike="noStrike">
              <a:solidFill>
                <a:srgbClr val="000000"/>
              </a:solidFill>
              <a:latin typeface="Calibri"/>
            </a:endParaRPr>
          </a:p>
          <a:p>
            <a:pPr lvl="1" marL="735480" indent="-28296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BE" sz="2000" spc="-1" strike="noStrike">
                <a:solidFill>
                  <a:srgbClr val="000000"/>
                </a:solidFill>
                <a:latin typeface="Calibri"/>
              </a:rPr>
              <a:t>Kini kujdes nga ç</a:t>
            </a:r>
            <a:r>
              <a:rPr b="1" lang="fr-BE" sz="2000" spc="-1" strike="noStrike">
                <a:solidFill>
                  <a:srgbClr val="1f497d"/>
                </a:solidFill>
                <a:latin typeface="Calibri"/>
              </a:rPr>
              <a:t>ështjet teknike </a:t>
            </a:r>
            <a:r>
              <a:rPr b="0" lang="fr-BE" sz="2000" spc="-1" strike="noStrike">
                <a:solidFill>
                  <a:srgbClr val="000000"/>
                </a:solidFill>
                <a:latin typeface="Calibri"/>
              </a:rPr>
              <a:t>që mund të ngrejë mbrojtja</a:t>
            </a:r>
            <a:endParaRPr b="0" lang="en-US" sz="2000" spc="-1" strike="noStrike">
              <a:solidFill>
                <a:srgbClr val="000000"/>
              </a:solidFill>
              <a:latin typeface="Calibri"/>
            </a:endParaRPr>
          </a:p>
          <a:p>
            <a:pPr lvl="2" marL="1131480" indent="-226080" algn="just">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BE" sz="1800" spc="-1" strike="noStrike">
                <a:solidFill>
                  <a:srgbClr val="000000"/>
                </a:solidFill>
                <a:latin typeface="Calibri"/>
              </a:rPr>
              <a:t>Besueshmëria e identifikimit të IP (IPv4-IPv6, Carrier Grade NAT, …)</a:t>
            </a:r>
            <a:endParaRPr b="0" lang="en-US" sz="1800" spc="-1" strike="noStrike">
              <a:solidFill>
                <a:srgbClr val="000000"/>
              </a:solidFill>
              <a:latin typeface="Calibri"/>
            </a:endParaRPr>
          </a:p>
          <a:p>
            <a:pPr lvl="2" marL="1131480" indent="-226080" algn="just">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BE" sz="1800" spc="-1" strike="noStrike">
                <a:solidFill>
                  <a:srgbClr val="000000"/>
                </a:solidFill>
                <a:latin typeface="Calibri"/>
              </a:rPr>
              <a:t>Teori konspirative, rrjetet e pambrojtura pa kabull, … </a:t>
            </a:r>
            <a:endParaRPr b="0" lang="en-US" sz="1800" spc="-1" strike="noStrike">
              <a:solidFill>
                <a:srgbClr val="000000"/>
              </a:solidFill>
              <a:latin typeface="Calibri"/>
            </a:endParaRPr>
          </a:p>
          <a:p>
            <a:pPr marL="339480" indent="-339480" algn="just">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Nëse nuk mund të kundërshtohen vetë provat, mund të kundërshtohet personi që i mblodhi dhe mënyra në të cilën u kundërshtuan:</a:t>
            </a:r>
            <a:endParaRPr b="0" lang="en-US" sz="2400" spc="-1" strike="noStrike">
              <a:solidFill>
                <a:srgbClr val="000000"/>
              </a:solidFill>
              <a:latin typeface="Calibri"/>
            </a:endParaRPr>
          </a:p>
          <a:p>
            <a:pPr lvl="1" marL="735480" indent="-28296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BE" sz="2000" spc="-1" strike="noStrike">
                <a:solidFill>
                  <a:srgbClr val="000000"/>
                </a:solidFill>
                <a:latin typeface="Calibri"/>
              </a:rPr>
              <a:t>Ekspert-oficer i policisë</a:t>
            </a:r>
            <a:endParaRPr b="0" lang="en-US" sz="2000" spc="-1" strike="noStrike">
              <a:solidFill>
                <a:srgbClr val="000000"/>
              </a:solidFill>
              <a:latin typeface="Calibri"/>
            </a:endParaRPr>
          </a:p>
          <a:p>
            <a:pPr lvl="1" marL="735480" indent="-28296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BE" sz="2000" spc="-1" strike="noStrike">
                <a:solidFill>
                  <a:srgbClr val="000000"/>
                </a:solidFill>
                <a:latin typeface="Calibri"/>
              </a:rPr>
              <a:t>Ekspert i kriminalistikës dixhitale</a:t>
            </a:r>
            <a:endParaRPr b="0" lang="en-US" sz="2000" spc="-1" strike="noStrike">
              <a:solidFill>
                <a:srgbClr val="000000"/>
              </a:solidFill>
              <a:latin typeface="Calibri"/>
            </a:endParaRPr>
          </a:p>
          <a:p>
            <a:pPr marL="339480" indent="-339480" algn="just">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1f497d"/>
                </a:solidFill>
                <a:latin typeface="Calibri"/>
              </a:rPr>
              <a:t>Neni 6 i KEDNJ</a:t>
            </a:r>
            <a:r>
              <a:rPr b="1" lang="en-GB" sz="2400" spc="-1" strike="noStrike">
                <a:solidFill>
                  <a:srgbClr val="000000"/>
                </a:solidFill>
                <a:latin typeface="Calibri"/>
              </a:rPr>
              <a:t> – E Drejta për një Gjykim të Rregullt</a:t>
            </a:r>
            <a:endParaRPr b="0" lang="en-US" sz="2400" spc="-1" strike="noStrike">
              <a:solidFill>
                <a:srgbClr val="000000"/>
              </a:solidFill>
              <a:latin typeface="Calibri"/>
            </a:endParaRPr>
          </a:p>
        </p:txBody>
      </p:sp>
      <p:sp>
        <p:nvSpPr>
          <p:cNvPr id="346" name="AutoShape 11"/>
          <p:cNvSpPr/>
          <p:nvPr/>
        </p:nvSpPr>
        <p:spPr>
          <a:xfrm>
            <a:off x="8191440" y="2936880"/>
            <a:ext cx="576360" cy="647640"/>
          </a:xfrm>
          <a:custGeom>
            <a:avLst/>
            <a:gdLst>
              <a:gd name="textAreaLeft" fmla="*/ 37080 w 576360"/>
              <a:gd name="textAreaRight" fmla="*/ 539280 w 576360"/>
              <a:gd name="textAreaTop" fmla="*/ 37080 h 647640"/>
              <a:gd name="textAreaBottom" fmla="*/ 610560 h 647640"/>
            </a:gdLst>
            <a:ahLst/>
            <a:rect l="textAreaLeft" t="textAreaTop" r="textAreaRight" b="textAreaBottom"/>
            <a:pathLst>
              <a:path w="21600" h="24270">
                <a:moveTo>
                  <a:pt x="0" y="0"/>
                </a:moveTo>
                <a:lnTo>
                  <a:pt x="21600" y="0"/>
                </a:lnTo>
                <a:lnTo>
                  <a:pt x="21600" y="24270"/>
                </a:lnTo>
                <a:lnTo>
                  <a:pt x="0" y="24270"/>
                </a:lnTo>
                <a:close/>
              </a:path>
              <a:path fill="lightenLess" w="21600" h="24270">
                <a:moveTo>
                  <a:pt x="0" y="0"/>
                </a:moveTo>
                <a:lnTo>
                  <a:pt x="21600" y="0"/>
                </a:lnTo>
                <a:lnTo>
                  <a:pt x="20200" y="1400"/>
                </a:lnTo>
                <a:lnTo>
                  <a:pt x="1400" y="1400"/>
                </a:lnTo>
                <a:close/>
              </a:path>
              <a:path fill="darken" w="21600" h="24270">
                <a:moveTo>
                  <a:pt x="21600" y="0"/>
                </a:moveTo>
                <a:lnTo>
                  <a:pt x="21600" y="24270"/>
                </a:lnTo>
                <a:lnTo>
                  <a:pt x="20200" y="22870"/>
                </a:lnTo>
                <a:lnTo>
                  <a:pt x="20200" y="1400"/>
                </a:lnTo>
                <a:close/>
              </a:path>
              <a:path fill="darkenLess" w="21600" h="24270">
                <a:moveTo>
                  <a:pt x="21600" y="24270"/>
                </a:moveTo>
                <a:lnTo>
                  <a:pt x="0" y="24270"/>
                </a:lnTo>
                <a:lnTo>
                  <a:pt x="1400" y="22870"/>
                </a:lnTo>
                <a:lnTo>
                  <a:pt x="20200" y="22870"/>
                </a:lnTo>
                <a:close/>
              </a:path>
              <a:path fill="lighten" w="21600" h="24270">
                <a:moveTo>
                  <a:pt x="0" y="24270"/>
                </a:moveTo>
                <a:lnTo>
                  <a:pt x="0" y="0"/>
                </a:lnTo>
                <a:lnTo>
                  <a:pt x="1400" y="1400"/>
                </a:lnTo>
                <a:lnTo>
                  <a:pt x="1400" y="22870"/>
                </a:lnTo>
                <a:close/>
              </a:path>
              <a:path fill="darken" w="21600" h="24270">
                <a:moveTo>
                  <a:pt x="10800" y="5128"/>
                </a:moveTo>
                <a:arcTo wR="7006" hR="7006" stAng="16200000" swAng="-5400000"/>
                <a:arcTo wR="7006" hR="7006" stAng="10800000" swAng="-5400000"/>
                <a:arcTo wR="7006" hR="7006" stAng="5400000" swAng="-5400000"/>
                <a:arcTo wR="7006" hR="7006" stAng="0" swAng="-5400000"/>
                <a:close/>
              </a:path>
              <a:path fill="lighten" w="21600" h="24270">
                <a:moveTo>
                  <a:pt x="10800" y="5503"/>
                </a:moveTo>
                <a:arcTo wR="1793" hR="1793" stAng="16200000" swAng="-5400000"/>
                <a:arcTo wR="1793" hR="1793" stAng="10800000" swAng="-5400000"/>
                <a:arcTo wR="1793" hR="1793" stAng="5400000" swAng="-5400000"/>
                <a:arcTo wR="1793" hR="1793" stAng="0" swAng="-5400000"/>
                <a:close/>
              </a:path>
              <a:path fill="lighten" w="21600" h="24270">
                <a:moveTo>
                  <a:pt x="8224" y="9559"/>
                </a:moveTo>
                <a:lnTo>
                  <a:pt x="12088" y="9559"/>
                </a:lnTo>
                <a:lnTo>
                  <a:pt x="12088" y="16556"/>
                </a:lnTo>
                <a:lnTo>
                  <a:pt x="13376" y="16556"/>
                </a:lnTo>
                <a:lnTo>
                  <a:pt x="13376" y="17479"/>
                </a:lnTo>
                <a:lnTo>
                  <a:pt x="8224" y="17479"/>
                </a:lnTo>
                <a:lnTo>
                  <a:pt x="8224" y="16556"/>
                </a:lnTo>
                <a:lnTo>
                  <a:pt x="9512" y="16556"/>
                </a:lnTo>
                <a:lnTo>
                  <a:pt x="9512" y="10464"/>
                </a:lnTo>
                <a:lnTo>
                  <a:pt x="8224" y="10464"/>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22031"/>
                </a:solidFill>
                <a:latin typeface="Calibri"/>
              </a:rPr>
              <a:t>Metoda</a:t>
            </a:r>
            <a:endParaRPr b="0" lang="en-US" sz="4400" spc="-1" strike="noStrike">
              <a:solidFill>
                <a:srgbClr val="000000"/>
              </a:solidFill>
              <a:latin typeface="Calibri"/>
            </a:endParaRPr>
          </a:p>
        </p:txBody>
      </p:sp>
      <p:sp>
        <p:nvSpPr>
          <p:cNvPr id="348" name=""/>
          <p:cNvSpPr txBox="1"/>
          <p:nvPr/>
        </p:nvSpPr>
        <p:spPr>
          <a:xfrm>
            <a:off x="457200" y="1146240"/>
            <a:ext cx="8229600" cy="5238720"/>
          </a:xfrm>
          <a:prstGeom prst="rect">
            <a:avLst/>
          </a:prstGeom>
          <a:noFill/>
          <a:ln w="0">
            <a:noFill/>
          </a:ln>
        </p:spPr>
        <p:txBody>
          <a:bodyPr anchor="t">
            <a:normAutofit/>
          </a:bodyPr>
          <a:p>
            <a:pPr marL="343080" indent="-343080" algn="just">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Mbani parasysh nivelin e specializimit:</a:t>
            </a:r>
            <a:endParaRPr b="0" lang="en-US" sz="24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Persona nga policia (i thërrisni si ekspert dëshmitarë)</a:t>
            </a:r>
            <a:endParaRPr b="0" lang="en-US" sz="2000" spc="-1" strike="noStrike">
              <a:solidFill>
                <a:srgbClr val="000000"/>
              </a:solidFill>
              <a:latin typeface="Calibri"/>
            </a:endParaRPr>
          </a:p>
          <a:p>
            <a:pPr lvl="1" marL="743040" indent="-285840" algn="just">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1f497d"/>
                </a:solidFill>
                <a:latin typeface="Calibri"/>
              </a:rPr>
              <a:t>Prokurorët publik</a:t>
            </a:r>
            <a:endParaRPr b="0" lang="en-US" sz="20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Gjyqtarët (të fundit por jo më pak të rëndësishmit)</a:t>
            </a:r>
            <a:endParaRPr b="0" lang="en-US" sz="2000" spc="-1" strike="noStrike">
              <a:solidFill>
                <a:srgbClr val="000000"/>
              </a:solidFill>
              <a:latin typeface="Calibri"/>
            </a:endParaRPr>
          </a:p>
          <a:p>
            <a:pPr marL="343080" indent="-343080" algn="just">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1f497d"/>
                </a:solidFill>
                <a:latin typeface="Calibri"/>
              </a:rPr>
              <a:t>Ngrini nivelin: së pari Internet për njerëzit e zakonshëm, më pas Internet për ekspertët</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Dokumentoni çdo hap dhe tregoni logjikën e ngjarjeve</a:t>
            </a:r>
            <a:endParaRPr b="0" lang="en-US" sz="2400" spc="-1" strike="noStrike">
              <a:solidFill>
                <a:srgbClr val="000000"/>
              </a:solidFill>
              <a:latin typeface="Calibri"/>
            </a:endParaRPr>
          </a:p>
          <a:p>
            <a:pPr marL="343080" indent="-343080" algn="just">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1f497d"/>
                </a:solidFill>
                <a:latin typeface="Calibri"/>
              </a:rPr>
              <a:t>Mos provokoni argumente – mos e ngatërroni gjyqtarin</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Përcaktoni ritmin </a:t>
            </a:r>
            <a:endParaRPr b="0" lang="en-US" sz="2400" spc="-1" strike="noStrike">
              <a:solidFill>
                <a:srgbClr val="000000"/>
              </a:solidFill>
              <a:latin typeface="Calibri"/>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28160" y="0"/>
            <a:ext cx="8823240" cy="1146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Specialistët e kriminalistikës dixhitale si dëshmitarë </a:t>
            </a:r>
            <a:endParaRPr b="0" lang="en-US" sz="4400" spc="-1" strike="noStrike">
              <a:solidFill>
                <a:srgbClr val="000000"/>
              </a:solidFill>
              <a:latin typeface="Calibri"/>
            </a:endParaRPr>
          </a:p>
        </p:txBody>
      </p:sp>
      <p:sp>
        <p:nvSpPr>
          <p:cNvPr id="350" name=""/>
          <p:cNvSpPr txBox="1"/>
          <p:nvPr/>
        </p:nvSpPr>
        <p:spPr>
          <a:xfrm>
            <a:off x="456840" y="1146240"/>
            <a:ext cx="8134200" cy="571176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Oficerët e specializuar të policisë </a:t>
            </a:r>
            <a:r>
              <a:rPr b="0" lang="sq-AL" sz="2400" spc="-1" strike="noStrike">
                <a:solidFill>
                  <a:srgbClr val="000000"/>
                </a:solidFill>
                <a:latin typeface="Calibri"/>
              </a:rPr>
              <a:t>(Njësitë e Krimeve Kompjuterike)</a:t>
            </a:r>
            <a:endParaRPr b="0" lang="en-US" sz="24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1f497d"/>
                </a:solidFill>
                <a:latin typeface="Calibri"/>
              </a:rPr>
              <a:t>Specialistët e kriminalistikës dixhitale si dëshmitarë </a:t>
            </a:r>
            <a:r>
              <a:rPr b="1" lang="sq-AL" sz="2800" spc="-1" strike="noStrike">
                <a:solidFill>
                  <a:srgbClr val="000000"/>
                </a:solidFill>
                <a:latin typeface="Calibri"/>
              </a:rPr>
              <a:t>të caktuar nga prokurori ose gjyqtari, të cilët japin</a:t>
            </a:r>
            <a:r>
              <a:rPr b="0" lang="sq-AL"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800" spc="-1" strike="noStrike">
                <a:solidFill>
                  <a:srgbClr val="1f497d"/>
                </a:solidFill>
                <a:latin typeface="Calibri"/>
              </a:rPr>
              <a:t>Espertizë të posaçme</a:t>
            </a:r>
            <a:endParaRPr b="0" lang="en-US" sz="1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800" spc="-1" strike="noStrike">
                <a:solidFill>
                  <a:srgbClr val="1f497d"/>
                </a:solidFill>
                <a:latin typeface="Calibri"/>
              </a:rPr>
              <a:t>Përvojë të specializuar</a:t>
            </a:r>
            <a:endParaRPr b="0" lang="en-US" sz="1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800" spc="-1" strike="noStrike">
                <a:solidFill>
                  <a:srgbClr val="1f497d"/>
                </a:solidFill>
                <a:latin typeface="Calibri"/>
              </a:rPr>
              <a:t>Njohuri investigative</a:t>
            </a:r>
            <a:endParaRPr b="0" lang="en-US" sz="1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800" spc="-1" strike="noStrike">
                <a:solidFill>
                  <a:srgbClr val="1f497d"/>
                </a:solidFill>
                <a:latin typeface="Calibri"/>
              </a:rPr>
              <a:t>Njohuri kontekstuale</a:t>
            </a:r>
            <a:endParaRPr b="0" lang="en-US" sz="1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800" spc="-1" strike="noStrike">
                <a:solidFill>
                  <a:srgbClr val="1f497d"/>
                </a:solidFill>
                <a:latin typeface="Calibri"/>
              </a:rPr>
              <a:t>Njohuri juridike</a:t>
            </a:r>
            <a:endParaRPr b="0" lang="en-US" sz="1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800" spc="-1" strike="noStrike">
                <a:solidFill>
                  <a:srgbClr val="1f497d"/>
                </a:solidFill>
                <a:latin typeface="Calibri"/>
              </a:rPr>
              <a:t>Aftësi komunikimi</a:t>
            </a:r>
            <a:endParaRPr b="0" lang="en-US" sz="1800" spc="-1" strike="noStrike">
              <a:solidFill>
                <a:srgbClr val="000000"/>
              </a:solidFill>
              <a:latin typeface="Calibri"/>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28160" y="0"/>
            <a:ext cx="8823240" cy="1146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Specialistët e kriminalistikës dixhitale si dëshmitarë </a:t>
            </a:r>
            <a:endParaRPr b="0" lang="en-US" sz="4400" spc="-1" strike="noStrike">
              <a:solidFill>
                <a:srgbClr val="000000"/>
              </a:solidFill>
              <a:latin typeface="Calibri"/>
            </a:endParaRPr>
          </a:p>
        </p:txBody>
      </p:sp>
      <p:sp>
        <p:nvSpPr>
          <p:cNvPr id="352" name=""/>
          <p:cNvSpPr txBox="1"/>
          <p:nvPr/>
        </p:nvSpPr>
        <p:spPr>
          <a:xfrm>
            <a:off x="128160" y="1419120"/>
            <a:ext cx="8823240" cy="49658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Provat që japin specialistët dëshmitarë duhet të ketë karakteristikat e mëposhtme që të garantojë vlerësimin e saj korrekt në Gjykatë: </a:t>
            </a:r>
            <a:endParaRPr b="0" lang="en-US" sz="3200" spc="-1" strike="noStrike">
              <a:solidFill>
                <a:srgbClr val="000000"/>
              </a:solidFill>
              <a:latin typeface="Calibri"/>
            </a:endParaRPr>
          </a:p>
          <a:p>
            <a:pPr lvl="1" marL="743040" indent="-285840" algn="just">
              <a:spcBef>
                <a:spcPts val="7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3600" spc="-1" strike="noStrike">
                <a:solidFill>
                  <a:srgbClr val="1f497d"/>
                </a:solidFill>
                <a:latin typeface="Calibri"/>
              </a:rPr>
              <a:t> </a:t>
            </a:r>
            <a:r>
              <a:rPr b="1" lang="sq-AL" sz="3600" spc="-1" strike="noStrike">
                <a:solidFill>
                  <a:srgbClr val="1f497d"/>
                </a:solidFill>
                <a:latin typeface="Calibri"/>
              </a:rPr>
              <a:t>e besueshme</a:t>
            </a:r>
            <a:r>
              <a:rPr b="1" lang="sq-AL" sz="3200" spc="-1" strike="noStrike">
                <a:solidFill>
                  <a:srgbClr val="1f497d"/>
                </a:solidFill>
                <a:latin typeface="Calibri"/>
              </a:rPr>
              <a:t> </a:t>
            </a:r>
            <a:endParaRPr b="0" lang="en-US" sz="3200" spc="-1" strike="noStrike">
              <a:solidFill>
                <a:srgbClr val="000000"/>
              </a:solidFill>
              <a:latin typeface="Calibri"/>
            </a:endParaRPr>
          </a:p>
          <a:p>
            <a:pPr lvl="1" marL="743040" indent="-285840" algn="just">
              <a:spcBef>
                <a:spcPts val="7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3200" spc="-1" strike="noStrike">
                <a:solidFill>
                  <a:srgbClr val="1f497d"/>
                </a:solidFill>
                <a:latin typeface="Calibri"/>
              </a:rPr>
              <a:t> </a:t>
            </a:r>
            <a:r>
              <a:rPr b="1" lang="sq-AL" sz="3200" spc="-1" strike="noStrike">
                <a:solidFill>
                  <a:srgbClr val="1f497d"/>
                </a:solidFill>
                <a:latin typeface="Calibri"/>
              </a:rPr>
              <a:t>e paanshme </a:t>
            </a:r>
            <a:endParaRPr b="0" lang="en-US" sz="3200" spc="-1" strike="noStrike">
              <a:solidFill>
                <a:srgbClr val="000000"/>
              </a:solidFill>
              <a:latin typeface="Calibri"/>
            </a:endParaRPr>
          </a:p>
          <a:p>
            <a:pPr lvl="1" marL="743040" indent="-285840" algn="just">
              <a:spcBef>
                <a:spcPts val="7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3200" spc="-1" strike="noStrike">
                <a:solidFill>
                  <a:srgbClr val="1f497d"/>
                </a:solidFill>
                <a:latin typeface="Calibri"/>
              </a:rPr>
              <a:t> </a:t>
            </a:r>
            <a:r>
              <a:rPr b="1" lang="sq-AL" sz="3200" spc="-1" strike="noStrike">
                <a:solidFill>
                  <a:srgbClr val="1f497d"/>
                </a:solidFill>
                <a:latin typeface="Calibri"/>
              </a:rPr>
              <a:t>e qartë</a:t>
            </a:r>
            <a:r>
              <a:rPr b="0" lang="sq-AL"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Të ofrojë një sistem për renditjen e ekspertëve të kualifikuar, për të cilën palët të bien dakord</a:t>
            </a:r>
            <a:endParaRPr b="0" lang="en-US" sz="32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60" y="711360"/>
            <a:ext cx="8969400" cy="614664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Në përfundim të këtij sesioni pjesëmarrësit do të jenë në gjendje të:</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Menaxhojnë ndjekjen ligjo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Mbledhin prova nga jashtë shtetit nëpërmjet Ndihmë së Ndërsjellë Juridik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Sigurohen se nuk ka asnjë pengesë procedurale ose ligjore për kërkesat për prov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Kontaktojnë dëshmitarët në juridiksionet e tjera gjatë procedimit gjyqëso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lotësojnë me saktësi dhe azhurnojnë të gjithë dokumentacionin dhe procedurat përkatë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Garantojnë se janë përgatitur dosjet e përshtatshme dhe dokumentet mbështetës në formën e kërkuar brenda afateve përkatë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Informojnë mbrojtjen për provat (nëse nevojit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Trajtojnë pranueshmërinë e provave elektronike dhe provave të tjer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Garantojnë pajtueshmërinë me KEDNJ dhe dispozitat e tjer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Njohin rolin dhe pritshmëritë e ekspertëve dëshmitarë</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Dokumentojnë plotësisht vendimet, veprimet, alternativat dhe arsyetimin në përputhje me legjislacionin dhe politikat aktual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Identifikojnë metodat e paraqitjes së provave elektronike në procedimin gjyqësor</a:t>
            </a:r>
            <a:endParaRPr b="0" lang="en-US" sz="2000" spc="-1" strike="noStrike">
              <a:solidFill>
                <a:srgbClr val="000000"/>
              </a:solidFill>
              <a:latin typeface="Calibri"/>
            </a:endParaRPr>
          </a:p>
        </p:txBody>
      </p:sp>
      <p:sp>
        <p:nvSpPr>
          <p:cNvPr id="93" name="PlaceHolder 1"/>
          <p:cNvSpPr>
            <a:spLocks noGrp="1"/>
          </p:cNvSpPr>
          <p:nvPr>
            <p:ph type="title"/>
          </p:nvPr>
        </p:nvSpPr>
        <p:spPr>
          <a:xfrm>
            <a:off x="45720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bjektivat e Sesionit</a:t>
            </a:r>
            <a:endParaRPr b="0" lang="en-US" sz="4400" spc="-1" strike="noStrike">
              <a:solidFill>
                <a:srgbClr val="000000"/>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22031"/>
                </a:solidFill>
                <a:latin typeface="Calibri"/>
              </a:rPr>
              <a:t>Paraqitja e provave</a:t>
            </a:r>
            <a:endParaRPr b="0" lang="en-US" sz="4400" spc="-1" strike="noStrike">
              <a:solidFill>
                <a:srgbClr val="000000"/>
              </a:solidFill>
              <a:latin typeface="Calibri"/>
            </a:endParaRPr>
          </a:p>
        </p:txBody>
      </p:sp>
      <p:sp>
        <p:nvSpPr>
          <p:cNvPr id="354" name=""/>
          <p:cNvSpPr txBox="1"/>
          <p:nvPr/>
        </p:nvSpPr>
        <p:spPr>
          <a:xfrm>
            <a:off x="457200" y="1146240"/>
            <a:ext cx="8229600" cy="5238720"/>
          </a:xfrm>
          <a:prstGeom prst="rect">
            <a:avLst/>
          </a:prstGeom>
          <a:noFill/>
          <a:ln w="0">
            <a:noFill/>
          </a:ln>
        </p:spPr>
        <p:txBody>
          <a:bodyPr anchor="t">
            <a:normAutofit/>
          </a:bodyPr>
          <a:p>
            <a:pPr marL="343080" indent="-343080" algn="just">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1f497d"/>
                </a:solidFill>
                <a:latin typeface="Calibri"/>
              </a:rPr>
              <a:t>Mendoni për mënyrat e paraqitjes:</a:t>
            </a:r>
            <a:endParaRPr b="0" lang="en-US" sz="32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Prezantim me Power Point</a:t>
            </a:r>
            <a:endParaRPr b="0" lang="en-US" sz="2400" spc="-1" strike="noStrike">
              <a:solidFill>
                <a:srgbClr val="000000"/>
              </a:solidFill>
              <a:latin typeface="Calibri"/>
            </a:endParaRPr>
          </a:p>
          <a:p>
            <a:pPr lvl="1" marL="743040" indent="-285840" algn="just">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1f497d"/>
                </a:solidFill>
                <a:latin typeface="Calibri"/>
              </a:rPr>
              <a:t>Shpjegim i shkurtër për provat elektronike/teknologjinë përkatëse të çështjes, për të vendosur një standard bazë për të gjithë personat në gjyq</a:t>
            </a:r>
            <a:endParaRPr b="0" lang="en-US" sz="24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Jepni një fjalorth termash (një standard të njohur)</a:t>
            </a:r>
            <a:endParaRPr b="0" lang="en-US" sz="2400" spc="-1" strike="noStrike">
              <a:solidFill>
                <a:srgbClr val="000000"/>
              </a:solidFill>
              <a:latin typeface="Calibri"/>
            </a:endParaRPr>
          </a:p>
          <a:p>
            <a:pPr lvl="1" marL="743040" indent="-285840" algn="just">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1f497d"/>
                </a:solidFill>
                <a:latin typeface="Calibri"/>
              </a:rPr>
              <a:t>Bëni një përmbledhje të çështjes dhe të provave</a:t>
            </a:r>
            <a:endParaRPr b="0" lang="en-US" sz="24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Demonstroni provat</a:t>
            </a:r>
            <a:endParaRPr b="0" lang="en-US" sz="2400" spc="-1" strike="noStrike">
              <a:solidFill>
                <a:srgbClr val="000000"/>
              </a:solidFill>
              <a:latin typeface="Calibri"/>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22031"/>
                </a:solidFill>
                <a:latin typeface="Calibri"/>
              </a:rPr>
              <a:t>Paraqitja e provave</a:t>
            </a:r>
            <a:endParaRPr b="0" lang="en-US" sz="4400" spc="-1" strike="noStrike">
              <a:solidFill>
                <a:srgbClr val="000000"/>
              </a:solidFill>
              <a:latin typeface="Calibri"/>
            </a:endParaRPr>
          </a:p>
        </p:txBody>
      </p:sp>
      <p:sp>
        <p:nvSpPr>
          <p:cNvPr id="356" name=""/>
          <p:cNvSpPr txBox="1"/>
          <p:nvPr/>
        </p:nvSpPr>
        <p:spPr>
          <a:xfrm>
            <a:off x="457200" y="1146240"/>
            <a:ext cx="8229600" cy="5470560"/>
          </a:xfrm>
          <a:prstGeom prst="rect">
            <a:avLst/>
          </a:prstGeom>
          <a:noFill/>
          <a:ln w="0">
            <a:noFill/>
          </a:ln>
        </p:spPr>
        <p:txBody>
          <a:bodyPr anchor="t">
            <a:normAutofit/>
          </a:bodyPr>
          <a:p>
            <a:pPr marL="343080" indent="-343080" algn="just">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1f497d"/>
                </a:solidFill>
                <a:latin typeface="Calibri"/>
              </a:rPr>
              <a:t>Kur sistemi ligjor dhe mjetet e lejojnë: </a:t>
            </a:r>
            <a:endParaRPr b="0" lang="en-US" sz="32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Ofroni një kopje dixhitale të skedarit</a:t>
            </a:r>
            <a:endParaRPr b="0" lang="en-US" sz="2400" spc="-1" strike="noStrike">
              <a:solidFill>
                <a:srgbClr val="000000"/>
              </a:solidFill>
              <a:latin typeface="Calibri"/>
            </a:endParaRPr>
          </a:p>
          <a:p>
            <a:pPr lvl="1" marL="743040" indent="-285840" algn="just">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1f497d"/>
                </a:solidFill>
                <a:latin typeface="Calibri"/>
              </a:rPr>
              <a:t>Sillini teknologjitë e prezantimit në gjykatë</a:t>
            </a:r>
            <a:endParaRPr b="0" lang="en-US" sz="24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Në çështje të mëdha, paraqitini provat tek palët me anë të projektimit në ekrane sesa duke printuar miliona faqe </a:t>
            </a:r>
            <a:endParaRPr b="0" lang="en-US" sz="2400" spc="-1" strike="noStrike">
              <a:solidFill>
                <a:srgbClr val="000000"/>
              </a:solidFill>
              <a:latin typeface="Calibri"/>
            </a:endParaRPr>
          </a:p>
          <a:p>
            <a:pPr lvl="1" marL="743040" indent="-285840" algn="just">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1f497d"/>
                </a:solidFill>
                <a:latin typeface="Calibri"/>
              </a:rPr>
              <a:t>Vini në funksionim një imazh/sistemin kompjuterik të të dyshuarit dhe demonstroni prezencën e provave në sistem ose të jini në gjendje të tregoni sesi u krye krimi</a:t>
            </a:r>
            <a:endParaRPr b="0" lang="en-US" sz="2400" spc="-1" strike="noStrike">
              <a:solidFill>
                <a:srgbClr val="000000"/>
              </a:solidFill>
              <a:latin typeface="Calibri"/>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6840" y="1235160"/>
            <a:ext cx="8512200" cy="52164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Në përfundim të këtij sesioni pjesëmarrësit do të jenë në gjendje të:</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Menaxhojnë ndjekjen ligjore</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Mbledhin prova nga jashtë shtetit nëpërmjet Ndihmë së Ndërsjellë Juridike</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Sigurohen se nuk ka asnjë pengesë procedurale ose ligjore për kërkesat për prov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Kontaktojnë dëshmitarët në juridiksionet e tjera gjatë procedimit gjyqësor</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Plotësojnë me saktësi dhe azhurnojnë të gjithë dokumentacionin dhe procedurat përkatëse</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Garantojnë se janë përgatitur dosjet e përshtatshme dhe dokumentet mbështetës në formën e kërkuar brenda afateve përkatëse</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Informojnë mbrojtjen për provat (nëse nevojitet)</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Trajtojnë pranueshmërinë e provave elektronike dhe provave të tjer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Garantojnë pajtueshmërinë me KEDNJ dhe dispozitat e tjer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Njohin rolin dhe pritshmëritë e ekspertëve dëshmitarë</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Dokumentojnë plotësisht vendimet, veprimet, alternativat dhe arsyetimin në përputhje me legjislacionin dhe politikat aktuale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Identifikojnë metodat e paraqitjes së provave elektronike në procedimin gjyqësor</a:t>
            </a:r>
            <a:endParaRPr b="0" lang="en-US" sz="1800" spc="-1" strike="noStrike">
              <a:solidFill>
                <a:srgbClr val="000000"/>
              </a:solidFill>
              <a:latin typeface="Calibri"/>
            </a:endParaRPr>
          </a:p>
        </p:txBody>
      </p:sp>
      <p:sp>
        <p:nvSpPr>
          <p:cNvPr id="3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Përmbledhje e Objektivave të Sesionit</a:t>
            </a:r>
            <a:endParaRPr b="0" lang="en-US" sz="3600" spc="-1" strike="noStrike">
              <a:solidFill>
                <a:srgbClr val="000000"/>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Question Mark Clip Art">
            <a:hlinkClick r:id="rId1"/>
          </p:cNvPr>
          <p:cNvPicPr/>
          <p:nvPr/>
        </p:nvPicPr>
        <p:blipFill>
          <a:blip r:embed="rId2"/>
          <a:stretch/>
        </p:blipFill>
        <p:spPr>
          <a:xfrm>
            <a:off x="3073320" y="2106720"/>
            <a:ext cx="2857680" cy="2857320"/>
          </a:xfrm>
          <a:prstGeom prst="rect">
            <a:avLst/>
          </a:prstGeom>
          <a:ln w="0">
            <a:noFill/>
          </a:ln>
        </p:spPr>
      </p:pic>
      <p:sp>
        <p:nvSpPr>
          <p:cNvPr id="360" name="TextBox 3"/>
          <p:cNvSpPr/>
          <p:nvPr/>
        </p:nvSpPr>
        <p:spPr>
          <a:xfrm>
            <a:off x="3039840" y="969840"/>
            <a:ext cx="2908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 </a:t>
            </a:r>
            <a:r>
              <a:rPr b="1" lang="en-GB" sz="5400" spc="-1" strike="noStrike">
                <a:solidFill>
                  <a:srgbClr val="000000"/>
                </a:solidFill>
                <a:latin typeface="Calibri"/>
              </a:rPr>
              <a:t>P y e t j e</a:t>
            </a:r>
            <a:endParaRPr b="0" lang="en-US" sz="54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Ruajtja e të dhënave në Evropë: </a:t>
            </a:r>
            <a:endParaRPr b="0" lang="en-US" sz="3200" spc="-1" strike="noStrike">
              <a:solidFill>
                <a:srgbClr val="000000"/>
              </a:solidFill>
              <a:latin typeface="Calibri"/>
            </a:endParaRPr>
          </a:p>
          <a:p>
            <a:pPr lvl="2" marL="1143000" indent="-228600" algn="just">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Direktiva 2006/24/EC e Parlamentit Evropian dhe e Këshillit e 15 Marsit 2006: </a:t>
            </a:r>
            <a:br>
              <a:rPr sz="2400"/>
            </a:br>
            <a:r>
              <a:rPr b="0" i="1" lang="sq-AL" sz="2000" spc="-1" strike="noStrike">
                <a:solidFill>
                  <a:srgbClr val="000000"/>
                </a:solidFill>
                <a:latin typeface="Calibri"/>
              </a:rPr>
              <a:t>“Shtetet Anëtare duhet të garantojnë se kategoritë e të dhënave të specifikuara në Nenin 5 ruhen për periudha </a:t>
            </a:r>
            <a:r>
              <a:rPr b="1" i="1" lang="sq-AL" sz="2000" spc="-1" strike="noStrike">
                <a:solidFill>
                  <a:srgbClr val="1f497d"/>
                </a:solidFill>
                <a:latin typeface="Calibri"/>
              </a:rPr>
              <a:t>jo më pak sesa gjashtë muaj dhe jo më shumë sesa dy vjet</a:t>
            </a:r>
            <a:r>
              <a:rPr b="0" i="1" lang="sq-AL" sz="2000" spc="-1" strike="noStrike">
                <a:solidFill>
                  <a:srgbClr val="000000"/>
                </a:solidFill>
                <a:latin typeface="Calibri"/>
              </a:rPr>
              <a:t> nga data e komunikimit.”</a:t>
            </a:r>
            <a:endParaRPr b="0" lang="en-US" sz="2000" spc="-1" strike="noStrike">
              <a:solidFill>
                <a:srgbClr val="000000"/>
              </a:solidFill>
              <a:latin typeface="Calibri"/>
            </a:endParaRPr>
          </a:p>
          <a:p>
            <a:pPr lvl="2" marL="1143000" indent="-22860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Parashkrimi </a:t>
            </a:r>
            <a:r>
              <a:rPr b="0" lang="sq-AL" sz="2400" spc="-1" strike="noStrike">
                <a:solidFill>
                  <a:srgbClr val="000000"/>
                </a:solidFill>
                <a:latin typeface="Calibri"/>
                <a:ea typeface="Tahoma"/>
              </a:rPr>
              <a:t>&gt; periudha e ruajtjes së të dhënave</a:t>
            </a:r>
            <a:endParaRPr b="0" lang="en-US" sz="24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ea typeface="Tahoma"/>
              </a:rPr>
              <a:t>Nuk do të keni një shans të dytë sapo të jeni në gjykatë</a:t>
            </a:r>
            <a:endParaRPr b="0" lang="en-US" sz="3200" spc="-1" strike="noStrike">
              <a:solidFill>
                <a:srgbClr val="000000"/>
              </a:solidFill>
              <a:latin typeface="Calibri"/>
            </a:endParaRPr>
          </a:p>
        </p:txBody>
      </p:sp>
      <p:sp>
        <p:nvSpPr>
          <p:cNvPr id="362" name="PlaceHolder 2"/>
          <p:cNvSpPr>
            <a:spLocks noGrp="1"/>
          </p:cNvSpPr>
          <p:nvPr>
            <p:ph type="title"/>
          </p:nvPr>
        </p:nvSpPr>
        <p:spPr>
          <a:xfrm>
            <a:off x="0" y="0"/>
            <a:ext cx="9144000" cy="104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bani parasysh paqëndrueshmërinë e provave dixhitale</a:t>
            </a:r>
            <a:endParaRPr b="0" lang="en-US" sz="3600" spc="-1" strike="noStrike">
              <a:solidFill>
                <a:srgbClr val="000000"/>
              </a:solidFill>
              <a:latin typeface="Calibri"/>
            </a:endParaRPr>
          </a:p>
        </p:txBody>
      </p:sp>
      <p:sp>
        <p:nvSpPr>
          <p:cNvPr id="363" name="AutoShape 29"/>
          <p:cNvSpPr/>
          <p:nvPr/>
        </p:nvSpPr>
        <p:spPr>
          <a:xfrm>
            <a:off x="8101080" y="537516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ijdelijke aanduiding voor datum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4400" spc="-1" strike="noStrike">
                <a:solidFill>
                  <a:srgbClr val="000000"/>
                </a:solidFill>
                <a:latin typeface="Times New Roman"/>
                <a:ea typeface="ＭＳ Ｐゴシック"/>
              </a:rPr>
              <a:t>9 2009</a:t>
            </a:r>
            <a:endParaRPr b="0" lang="en-US" sz="4400" spc="-1" strike="noStrike">
              <a:solidFill>
                <a:srgbClr val="000000"/>
              </a:solidFill>
              <a:latin typeface="Arial"/>
            </a:endParaRPr>
          </a:p>
        </p:txBody>
      </p:sp>
      <p:sp>
        <p:nvSpPr>
          <p:cNvPr id="365"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21657B-2341-4BB9-A8ED-0C09DFFF7D6E}" type="slidenum">
              <a:rPr b="0" lang="en-US" sz="4400" spc="-1" strike="noStrike">
                <a:solidFill>
                  <a:srgbClr val="000000"/>
                </a:solidFill>
                <a:latin typeface="Times New Roman"/>
                <a:ea typeface="ＭＳ Ｐゴシック"/>
              </a:rPr>
              <a:t>&lt;number&gt;</a:t>
            </a:fld>
            <a:endParaRPr b="0" lang="en-US" sz="4400" spc="-1" strike="noStrike">
              <a:solidFill>
                <a:srgbClr val="000000"/>
              </a:solidFill>
              <a:latin typeface="Arial"/>
            </a:endParaRPr>
          </a:p>
        </p:txBody>
      </p:sp>
      <p:sp>
        <p:nvSpPr>
          <p:cNvPr id="367" name="Rectangle 2"/>
          <p:cNvSpPr/>
          <p:nvPr/>
        </p:nvSpPr>
        <p:spPr>
          <a:xfrm>
            <a:off x="0" y="0"/>
            <a:ext cx="9144000" cy="6858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8" name="Rectangle 3"/>
          <p:cNvSpPr/>
          <p:nvPr/>
        </p:nvSpPr>
        <p:spPr>
          <a:xfrm>
            <a:off x="2590920" y="0"/>
            <a:ext cx="1904760" cy="685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Rectangle 4"/>
          <p:cNvSpPr/>
          <p:nvPr/>
        </p:nvSpPr>
        <p:spPr>
          <a:xfrm>
            <a:off x="3492360" y="0"/>
            <a:ext cx="7632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0" name="Rectangle 5"/>
          <p:cNvSpPr/>
          <p:nvPr/>
        </p:nvSpPr>
        <p:spPr>
          <a:xfrm>
            <a:off x="3505320" y="1066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Rectangle 6"/>
          <p:cNvSpPr/>
          <p:nvPr/>
        </p:nvSpPr>
        <p:spPr>
          <a:xfrm>
            <a:off x="3505320" y="2133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Rectangle 7"/>
          <p:cNvSpPr/>
          <p:nvPr/>
        </p:nvSpPr>
        <p:spPr>
          <a:xfrm>
            <a:off x="3505320" y="3276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3" name="Rectangle 8"/>
          <p:cNvSpPr/>
          <p:nvPr/>
        </p:nvSpPr>
        <p:spPr>
          <a:xfrm>
            <a:off x="3505320" y="4419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4" name="Rectangle 9"/>
          <p:cNvSpPr/>
          <p:nvPr/>
        </p:nvSpPr>
        <p:spPr>
          <a:xfrm>
            <a:off x="3505320" y="5638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5" name="Oval 10"/>
          <p:cNvSpPr/>
          <p:nvPr/>
        </p:nvSpPr>
        <p:spPr>
          <a:xfrm>
            <a:off x="1905120" y="304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6" name="Oval 11"/>
          <p:cNvSpPr/>
          <p:nvPr/>
        </p:nvSpPr>
        <p:spPr>
          <a:xfrm>
            <a:off x="1905120" y="5943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Oval 12"/>
          <p:cNvSpPr/>
          <p:nvPr/>
        </p:nvSpPr>
        <p:spPr>
          <a:xfrm>
            <a:off x="1905120" y="4800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8" name="Oval 13"/>
          <p:cNvSpPr/>
          <p:nvPr/>
        </p:nvSpPr>
        <p:spPr>
          <a:xfrm>
            <a:off x="1905120" y="38098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Oval 14"/>
          <p:cNvSpPr/>
          <p:nvPr/>
        </p:nvSpPr>
        <p:spPr>
          <a:xfrm>
            <a:off x="1905120" y="28954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0" name="Oval 15"/>
          <p:cNvSpPr/>
          <p:nvPr/>
        </p:nvSpPr>
        <p:spPr>
          <a:xfrm>
            <a:off x="1905120" y="19810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Oval 16"/>
          <p:cNvSpPr/>
          <p:nvPr/>
        </p:nvSpPr>
        <p:spPr>
          <a:xfrm>
            <a:off x="1905120" y="12193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Oval 17"/>
          <p:cNvSpPr/>
          <p:nvPr/>
        </p:nvSpPr>
        <p:spPr>
          <a:xfrm>
            <a:off x="4724280" y="6019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Oval 18"/>
          <p:cNvSpPr/>
          <p:nvPr/>
        </p:nvSpPr>
        <p:spPr>
          <a:xfrm>
            <a:off x="4724280" y="5029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4" name="Oval 19"/>
          <p:cNvSpPr/>
          <p:nvPr/>
        </p:nvSpPr>
        <p:spPr>
          <a:xfrm>
            <a:off x="4724280" y="1371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Oval 20"/>
          <p:cNvSpPr/>
          <p:nvPr/>
        </p:nvSpPr>
        <p:spPr>
          <a:xfrm>
            <a:off x="4724280" y="457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6" name="Rectangle 21"/>
          <p:cNvSpPr/>
          <p:nvPr/>
        </p:nvSpPr>
        <p:spPr>
          <a:xfrm>
            <a:off x="4876920" y="2133720"/>
            <a:ext cx="3429000" cy="2361960"/>
          </a:xfrm>
          <a:prstGeom prst="rect">
            <a:avLst/>
          </a:prstGeom>
          <a:solidFill>
            <a:srgbClr val="4f81bd"/>
          </a:solidFill>
          <a:ln w="114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7" name="Rectangle 22"/>
          <p:cNvSpPr/>
          <p:nvPr/>
        </p:nvSpPr>
        <p:spPr>
          <a:xfrm>
            <a:off x="4800600" y="2971800"/>
            <a:ext cx="152280" cy="6858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8" name="Rectangle 23"/>
          <p:cNvSpPr/>
          <p:nvPr/>
        </p:nvSpPr>
        <p:spPr>
          <a:xfrm>
            <a:off x="6019920" y="2133720"/>
            <a:ext cx="1522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Rectangle 24"/>
          <p:cNvSpPr/>
          <p:nvPr/>
        </p:nvSpPr>
        <p:spPr>
          <a:xfrm>
            <a:off x="7238880" y="2193840"/>
            <a:ext cx="15264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0" name="Rectangle 25"/>
          <p:cNvSpPr/>
          <p:nvPr/>
        </p:nvSpPr>
        <p:spPr>
          <a:xfrm>
            <a:off x="5943600" y="3429000"/>
            <a:ext cx="15238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1" name="Picture 26" descr="IN00561_"/>
          <p:cNvPicPr/>
          <p:nvPr/>
        </p:nvPicPr>
        <p:blipFill>
          <a:blip r:embed="rId1"/>
          <a:stretch/>
        </p:blipFill>
        <p:spPr>
          <a:xfrm>
            <a:off x="3639960" y="2743200"/>
            <a:ext cx="1008360" cy="1257480"/>
          </a:xfrm>
          <a:prstGeom prst="rect">
            <a:avLst/>
          </a:prstGeom>
          <a:ln w="0">
            <a:noFill/>
          </a:ln>
        </p:spPr>
      </p:pic>
      <p:sp>
        <p:nvSpPr>
          <p:cNvPr id="392" name="Oval 27"/>
          <p:cNvSpPr/>
          <p:nvPr/>
        </p:nvSpPr>
        <p:spPr>
          <a:xfrm>
            <a:off x="6934320" y="233352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Rectangle 28"/>
          <p:cNvSpPr/>
          <p:nvPr/>
        </p:nvSpPr>
        <p:spPr>
          <a:xfrm>
            <a:off x="8213760" y="3581280"/>
            <a:ext cx="168120" cy="60984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4" name="AutoShape 29"/>
          <p:cNvSpPr/>
          <p:nvPr/>
        </p:nvSpPr>
        <p:spPr>
          <a:xfrm>
            <a:off x="5181480" y="2438280"/>
            <a:ext cx="38124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AutoShape 30"/>
          <p:cNvSpPr/>
          <p:nvPr/>
        </p:nvSpPr>
        <p:spPr>
          <a:xfrm>
            <a:off x="7543800" y="3962520"/>
            <a:ext cx="380880" cy="30456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AutoShape 31"/>
          <p:cNvSpPr/>
          <p:nvPr/>
        </p:nvSpPr>
        <p:spPr>
          <a:xfrm>
            <a:off x="8077320" y="1295280"/>
            <a:ext cx="38088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Oval 32"/>
          <p:cNvSpPr/>
          <p:nvPr/>
        </p:nvSpPr>
        <p:spPr>
          <a:xfrm>
            <a:off x="6629400" y="2057400"/>
            <a:ext cx="762120" cy="6858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8" name="Oval 33"/>
          <p:cNvSpPr/>
          <p:nvPr/>
        </p:nvSpPr>
        <p:spPr>
          <a:xfrm>
            <a:off x="6445080" y="1873080"/>
            <a:ext cx="1143000" cy="10670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Oval 34"/>
          <p:cNvSpPr/>
          <p:nvPr/>
        </p:nvSpPr>
        <p:spPr>
          <a:xfrm>
            <a:off x="6172200" y="1600200"/>
            <a:ext cx="167652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Oval 35"/>
          <p:cNvSpPr/>
          <p:nvPr/>
        </p:nvSpPr>
        <p:spPr>
          <a:xfrm>
            <a:off x="5759280" y="1295280"/>
            <a:ext cx="2514600" cy="2286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Oval 36"/>
          <p:cNvSpPr/>
          <p:nvPr/>
        </p:nvSpPr>
        <p:spPr>
          <a:xfrm>
            <a:off x="5378400" y="914400"/>
            <a:ext cx="3232080" cy="30481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Oval 37"/>
          <p:cNvSpPr/>
          <p:nvPr/>
        </p:nvSpPr>
        <p:spPr>
          <a:xfrm>
            <a:off x="4908600" y="533520"/>
            <a:ext cx="4146480" cy="38098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Oval 38"/>
          <p:cNvSpPr/>
          <p:nvPr/>
        </p:nvSpPr>
        <p:spPr>
          <a:xfrm>
            <a:off x="4387680" y="152280"/>
            <a:ext cx="5213520" cy="46483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Oval 39"/>
          <p:cNvSpPr/>
          <p:nvPr/>
        </p:nvSpPr>
        <p:spPr>
          <a:xfrm>
            <a:off x="3854520" y="-244440"/>
            <a:ext cx="6280200" cy="54864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Oval 41"/>
          <p:cNvSpPr/>
          <p:nvPr/>
        </p:nvSpPr>
        <p:spPr>
          <a:xfrm>
            <a:off x="2057400" y="457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Oval 42"/>
          <p:cNvSpPr/>
          <p:nvPr/>
        </p:nvSpPr>
        <p:spPr>
          <a:xfrm>
            <a:off x="2057400" y="4952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7" name="Oval 43"/>
          <p:cNvSpPr/>
          <p:nvPr/>
        </p:nvSpPr>
        <p:spPr>
          <a:xfrm>
            <a:off x="2057400" y="39625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8" name="Oval 44"/>
          <p:cNvSpPr/>
          <p:nvPr/>
        </p:nvSpPr>
        <p:spPr>
          <a:xfrm>
            <a:off x="2057400" y="30481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Oval 45"/>
          <p:cNvSpPr/>
          <p:nvPr/>
        </p:nvSpPr>
        <p:spPr>
          <a:xfrm>
            <a:off x="2057400" y="21337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0" name="Oval 46"/>
          <p:cNvSpPr/>
          <p:nvPr/>
        </p:nvSpPr>
        <p:spPr>
          <a:xfrm>
            <a:off x="2057400" y="1371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Oval 47"/>
          <p:cNvSpPr/>
          <p:nvPr/>
        </p:nvSpPr>
        <p:spPr>
          <a:xfrm>
            <a:off x="2057400" y="6095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Oval 48"/>
          <p:cNvSpPr/>
          <p:nvPr/>
        </p:nvSpPr>
        <p:spPr>
          <a:xfrm>
            <a:off x="4876920" y="6172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Oval 49"/>
          <p:cNvSpPr/>
          <p:nvPr/>
        </p:nvSpPr>
        <p:spPr>
          <a:xfrm>
            <a:off x="4876920" y="5181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4" name="Oval 50"/>
          <p:cNvSpPr/>
          <p:nvPr/>
        </p:nvSpPr>
        <p:spPr>
          <a:xfrm>
            <a:off x="4876920" y="1523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5" name="Oval 51"/>
          <p:cNvSpPr/>
          <p:nvPr/>
        </p:nvSpPr>
        <p:spPr>
          <a:xfrm>
            <a:off x="4876920" y="609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6" name="Text Box 54"/>
          <p:cNvSpPr/>
          <p:nvPr/>
        </p:nvSpPr>
        <p:spPr>
          <a:xfrm>
            <a:off x="0" y="56386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2800" spc="-1" strike="noStrike">
                <a:solidFill>
                  <a:srgbClr val="fc2610"/>
                </a:solidFill>
                <a:latin typeface="Calibri"/>
              </a:rPr>
              <a:t>GJITHMONË MBANI PARASYSH – DIKUSH MUND TË JETË I PAFAJSHËM</a:t>
            </a:r>
            <a:endParaRPr b="0" lang="en-US" sz="2800" spc="-1" strike="noStrike">
              <a:solidFill>
                <a:srgbClr val="000000"/>
              </a:solidFill>
              <a:latin typeface="Arial"/>
            </a:endParaRPr>
          </a:p>
        </p:txBody>
      </p:sp>
      <p:sp>
        <p:nvSpPr>
          <p:cNvPr id="417" name="AutoShape 29"/>
          <p:cNvSpPr/>
          <p:nvPr/>
        </p:nvSpPr>
        <p:spPr>
          <a:xfrm>
            <a:off x="8213760" y="495288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94"/>
                                        </p:tgtEl>
                                        <p:attrNameLst>
                                          <p:attrName>style.visibility</p:attrName>
                                        </p:attrNameLst>
                                      </p:cBhvr>
                                      <p:to>
                                        <p:strVal val="visible"/>
                                      </p:to>
                                    </p:set>
                                    <p:animEffect filter="dissolve" transition="in">
                                      <p:cBhvr additive="repl">
                                        <p:cTn id="7" dur="500"/>
                                        <p:tgtEl>
                                          <p:spTgt spid="394"/>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395"/>
                                        </p:tgtEl>
                                        <p:attrNameLst>
                                          <p:attrName>style.visibility</p:attrName>
                                        </p:attrNameLst>
                                      </p:cBhvr>
                                      <p:to>
                                        <p:strVal val="visible"/>
                                      </p:to>
                                    </p:set>
                                    <p:animEffect filter="dissolve" transition="in">
                                      <p:cBhvr additive="repl">
                                        <p:cTn id="11" dur="500"/>
                                        <p:tgtEl>
                                          <p:spTgt spid="395"/>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396"/>
                                        </p:tgtEl>
                                        <p:attrNameLst>
                                          <p:attrName>style.visibility</p:attrName>
                                        </p:attrNameLst>
                                      </p:cBhvr>
                                      <p:to>
                                        <p:strVal val="visible"/>
                                      </p:to>
                                    </p:set>
                                    <p:animEffect filter="dissolve" transition="in">
                                      <p:cBhvr additive="repl">
                                        <p:cTn id="15" dur="500"/>
                                        <p:tgtEl>
                                          <p:spTgt spid="39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392"/>
                                        </p:tgtEl>
                                        <p:attrNameLst>
                                          <p:attrName>style.visibility</p:attrName>
                                        </p:attrNameLst>
                                      </p:cBhvr>
                                      <p:to>
                                        <p:strVal val="visible"/>
                                      </p:to>
                                    </p:set>
                                    <p:animEffect filter="dissolve" transition="in">
                                      <p:cBhvr additive="repl">
                                        <p:cTn id="20" dur="500"/>
                                        <p:tgtEl>
                                          <p:spTgt spid="392"/>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397"/>
                                        </p:tgtEl>
                                        <p:attrNameLst>
                                          <p:attrName>style.visibility</p:attrName>
                                        </p:attrNameLst>
                                      </p:cBhvr>
                                      <p:to>
                                        <p:strVal val="visible"/>
                                      </p:to>
                                    </p:set>
                                    <p:animEffect filter="dissolve" transition="in">
                                      <p:cBhvr additive="repl">
                                        <p:cTn id="25" dur="500"/>
                                        <p:tgtEl>
                                          <p:spTgt spid="397"/>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398"/>
                                        </p:tgtEl>
                                        <p:attrNameLst>
                                          <p:attrName>style.visibility</p:attrName>
                                        </p:attrNameLst>
                                      </p:cBhvr>
                                      <p:to>
                                        <p:strVal val="visible"/>
                                      </p:to>
                                    </p:set>
                                    <p:animEffect filter="dissolve" transition="in">
                                      <p:cBhvr additive="repl">
                                        <p:cTn id="29" dur="500"/>
                                        <p:tgtEl>
                                          <p:spTgt spid="398"/>
                                        </p:tgtEl>
                                      </p:cBhvr>
                                    </p:animEffect>
                                  </p:childTnLst>
                                </p:cTn>
                              </p:par>
                            </p:childTnLst>
                          </p:cTn>
                        </p:par>
                        <p:par>
                          <p:cTn id="30" fill="hold">
                            <p:stCondLst>
                              <p:cond delay="1000"/>
                            </p:stCondLst>
                            <p:childTnLst>
                              <p:par>
                                <p:cTn id="31" nodeType="afterEffect" fill="hold" presetClass="entr" presetID="9">
                                  <p:stCondLst>
                                    <p:cond delay="0"/>
                                  </p:stCondLst>
                                  <p:childTnLst>
                                    <p:set>
                                      <p:cBhvr>
                                        <p:cTn id="32" dur="1" fill="hold">
                                          <p:stCondLst>
                                            <p:cond delay="0"/>
                                          </p:stCondLst>
                                        </p:cTn>
                                        <p:tgtEl>
                                          <p:spTgt spid="399"/>
                                        </p:tgtEl>
                                        <p:attrNameLst>
                                          <p:attrName>style.visibility</p:attrName>
                                        </p:attrNameLst>
                                      </p:cBhvr>
                                      <p:to>
                                        <p:strVal val="visible"/>
                                      </p:to>
                                    </p:set>
                                    <p:animEffect filter="dissolve" transition="in">
                                      <p:cBhvr additive="repl">
                                        <p:cTn id="33" dur="500"/>
                                        <p:tgtEl>
                                          <p:spTgt spid="399"/>
                                        </p:tgtEl>
                                      </p:cBhvr>
                                    </p:animEffect>
                                  </p:childTnLst>
                                </p:cTn>
                              </p:par>
                            </p:childTnLst>
                          </p:cTn>
                        </p:par>
                        <p:par>
                          <p:cTn id="34" fill="hold">
                            <p:stCondLst>
                              <p:cond delay="1500"/>
                            </p:stCondLst>
                            <p:childTnLst>
                              <p:par>
                                <p:cTn id="35" nodeType="afterEffect" fill="hold" presetClass="entr" presetID="9">
                                  <p:stCondLst>
                                    <p:cond delay="0"/>
                                  </p:stCondLst>
                                  <p:childTnLst>
                                    <p:set>
                                      <p:cBhvr>
                                        <p:cTn id="36" dur="1" fill="hold">
                                          <p:stCondLst>
                                            <p:cond delay="0"/>
                                          </p:stCondLst>
                                        </p:cTn>
                                        <p:tgtEl>
                                          <p:spTgt spid="400"/>
                                        </p:tgtEl>
                                        <p:attrNameLst>
                                          <p:attrName>style.visibility</p:attrName>
                                        </p:attrNameLst>
                                      </p:cBhvr>
                                      <p:to>
                                        <p:strVal val="visible"/>
                                      </p:to>
                                    </p:set>
                                    <p:animEffect filter="dissolve" transition="in">
                                      <p:cBhvr additive="repl">
                                        <p:cTn id="37" dur="500"/>
                                        <p:tgtEl>
                                          <p:spTgt spid="400"/>
                                        </p:tgtEl>
                                      </p:cBhvr>
                                    </p:animEffect>
                                  </p:childTnLst>
                                </p:cTn>
                              </p:par>
                            </p:childTnLst>
                          </p:cTn>
                        </p:par>
                        <p:par>
                          <p:cTn id="38" fill="hold">
                            <p:stCondLst>
                              <p:cond delay="2000"/>
                            </p:stCondLst>
                            <p:childTnLst>
                              <p:par>
                                <p:cTn id="39" nodeType="afterEffect" fill="hold" presetClass="entr" presetID="9">
                                  <p:stCondLst>
                                    <p:cond delay="0"/>
                                  </p:stCondLst>
                                  <p:childTnLst>
                                    <p:set>
                                      <p:cBhvr>
                                        <p:cTn id="40" dur="1" fill="hold">
                                          <p:stCondLst>
                                            <p:cond delay="0"/>
                                          </p:stCondLst>
                                        </p:cTn>
                                        <p:tgtEl>
                                          <p:spTgt spid="401"/>
                                        </p:tgtEl>
                                        <p:attrNameLst>
                                          <p:attrName>style.visibility</p:attrName>
                                        </p:attrNameLst>
                                      </p:cBhvr>
                                      <p:to>
                                        <p:strVal val="visible"/>
                                      </p:to>
                                    </p:set>
                                    <p:animEffect filter="dissolve" transition="in">
                                      <p:cBhvr additive="repl">
                                        <p:cTn id="41" dur="500"/>
                                        <p:tgtEl>
                                          <p:spTgt spid="401"/>
                                        </p:tgtEl>
                                      </p:cBhvr>
                                    </p:animEffect>
                                  </p:childTnLst>
                                </p:cTn>
                              </p:par>
                            </p:childTnLst>
                          </p:cTn>
                        </p:par>
                        <p:par>
                          <p:cTn id="42" fill="hold">
                            <p:stCondLst>
                              <p:cond delay="2500"/>
                            </p:stCondLst>
                            <p:childTnLst>
                              <p:par>
                                <p:cTn id="43" nodeType="afterEffect" fill="hold" presetClass="entr" presetID="9">
                                  <p:stCondLst>
                                    <p:cond delay="0"/>
                                  </p:stCondLst>
                                  <p:childTnLst>
                                    <p:set>
                                      <p:cBhvr>
                                        <p:cTn id="44" dur="1" fill="hold">
                                          <p:stCondLst>
                                            <p:cond delay="0"/>
                                          </p:stCondLst>
                                        </p:cTn>
                                        <p:tgtEl>
                                          <p:spTgt spid="402"/>
                                        </p:tgtEl>
                                        <p:attrNameLst>
                                          <p:attrName>style.visibility</p:attrName>
                                        </p:attrNameLst>
                                      </p:cBhvr>
                                      <p:to>
                                        <p:strVal val="visible"/>
                                      </p:to>
                                    </p:set>
                                    <p:animEffect filter="dissolve" transition="in">
                                      <p:cBhvr additive="repl">
                                        <p:cTn id="45" dur="500"/>
                                        <p:tgtEl>
                                          <p:spTgt spid="402"/>
                                        </p:tgtEl>
                                      </p:cBhvr>
                                    </p:animEffect>
                                  </p:childTnLst>
                                </p:cTn>
                              </p:par>
                            </p:childTnLst>
                          </p:cTn>
                        </p:par>
                        <p:par>
                          <p:cTn id="46" fill="hold">
                            <p:stCondLst>
                              <p:cond delay="3000"/>
                            </p:stCondLst>
                            <p:childTnLst>
                              <p:par>
                                <p:cTn id="47" nodeType="afterEffect" fill="hold" presetClass="entr" presetID="9">
                                  <p:stCondLst>
                                    <p:cond delay="0"/>
                                  </p:stCondLst>
                                  <p:childTnLst>
                                    <p:set>
                                      <p:cBhvr>
                                        <p:cTn id="48" dur="1" fill="hold">
                                          <p:stCondLst>
                                            <p:cond delay="0"/>
                                          </p:stCondLst>
                                        </p:cTn>
                                        <p:tgtEl>
                                          <p:spTgt spid="403"/>
                                        </p:tgtEl>
                                        <p:attrNameLst>
                                          <p:attrName>style.visibility</p:attrName>
                                        </p:attrNameLst>
                                      </p:cBhvr>
                                      <p:to>
                                        <p:strVal val="visible"/>
                                      </p:to>
                                    </p:set>
                                    <p:animEffect filter="dissolve" transition="in">
                                      <p:cBhvr additive="repl">
                                        <p:cTn id="49" dur="500"/>
                                        <p:tgtEl>
                                          <p:spTgt spid="403"/>
                                        </p:tgtEl>
                                      </p:cBhvr>
                                    </p:animEffect>
                                  </p:childTnLst>
                                </p:cTn>
                              </p:par>
                            </p:childTnLst>
                          </p:cTn>
                        </p:par>
                        <p:par>
                          <p:cTn id="50" fill="hold">
                            <p:stCondLst>
                              <p:cond delay="3500"/>
                            </p:stCondLst>
                            <p:childTnLst>
                              <p:par>
                                <p:cTn id="51" nodeType="afterEffect" fill="hold" presetClass="entr" presetID="9">
                                  <p:stCondLst>
                                    <p:cond delay="0"/>
                                  </p:stCondLst>
                                  <p:childTnLst>
                                    <p:set>
                                      <p:cBhvr>
                                        <p:cTn id="52" dur="1" fill="hold">
                                          <p:stCondLst>
                                            <p:cond delay="0"/>
                                          </p:stCondLst>
                                        </p:cTn>
                                        <p:tgtEl>
                                          <p:spTgt spid="404"/>
                                        </p:tgtEl>
                                        <p:attrNameLst>
                                          <p:attrName>style.visibility</p:attrName>
                                        </p:attrNameLst>
                                      </p:cBhvr>
                                      <p:to>
                                        <p:strVal val="visible"/>
                                      </p:to>
                                    </p:set>
                                    <p:animEffect filter="dissolv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391"/>
                                        </p:tgtEl>
                                        <p:attrNameLst>
                                          <p:attrName>style.visibility</p:attrName>
                                        </p:attrNameLst>
                                      </p:cBhvr>
                                      <p:to>
                                        <p:strVal val="visible"/>
                                      </p:to>
                                    </p:set>
                                    <p:anim calcmode="lin" valueType="num">
                                      <p:cBhvr additive="base">
                                        <p:cTn id="58" dur="500" fill="hold"/>
                                        <p:tgtEl>
                                          <p:spTgt spid="391"/>
                                        </p:tgtEl>
                                        <p:attrNameLst>
                                          <p:attrName>ppt_x</p:attrName>
                                        </p:attrNameLst>
                                      </p:cBhvr>
                                      <p:tavLst>
                                        <p:tav tm="0">
                                          <p:val>
                                            <p:strVal val="#ppt_x"/>
                                          </p:val>
                                        </p:tav>
                                        <p:tav tm="100000">
                                          <p:val>
                                            <p:strVal val="#ppt_x"/>
                                          </p:val>
                                        </p:tav>
                                      </p:tavLst>
                                    </p:anim>
                                    <p:anim calcmode="lin" valueType="num">
                                      <p:cBhvr additive="base">
                                        <p:cTn id="59" dur="500" fill="hold"/>
                                        <p:tgtEl>
                                          <p:spTgt spid="3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2"/>
          <p:cNvGrpSpPr/>
          <p:nvPr/>
        </p:nvGrpSpPr>
        <p:grpSpPr>
          <a:xfrm>
            <a:off x="2286000" y="457200"/>
            <a:ext cx="4826160" cy="5977080"/>
            <a:chOff x="2286000" y="457200"/>
            <a:chExt cx="4826160" cy="5977080"/>
          </a:xfrm>
        </p:grpSpPr>
        <p:sp>
          <p:nvSpPr>
            <p:cNvPr id="95" name="AutoShape 3"/>
            <p:cNvSpPr/>
            <p:nvPr/>
          </p:nvSpPr>
          <p:spPr>
            <a:xfrm>
              <a:off x="2286000" y="457200"/>
              <a:ext cx="482616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AutoShape 4"/>
            <p:cNvSpPr/>
            <p:nvPr/>
          </p:nvSpPr>
          <p:spPr>
            <a:xfrm>
              <a:off x="2286000" y="872640"/>
              <a:ext cx="4819680" cy="5541480"/>
            </a:xfrm>
            <a:custGeom>
              <a:avLst/>
              <a:gdLst>
                <a:gd name="textAreaLeft" fmla="*/ 34560 w 4819680"/>
                <a:gd name="textAreaRight" fmla="*/ 4785120 w 4819680"/>
                <a:gd name="textAreaTop" fmla="*/ 34560 h 5541480"/>
                <a:gd name="textAreaBottom" fmla="*/ 5506920 h 5541480"/>
              </a:gdLst>
              <a:ahLst/>
              <a:rect l="textAreaLeft" t="textAreaTop" r="textAreaRight" b="textAreaBottom"/>
              <a:pathLst>
                <a:path w="21600" h="24835">
                  <a:moveTo>
                    <a:pt x="532" y="0"/>
                  </a:moveTo>
                  <a:arcTo wR="532" hR="532" stAng="16200000" swAng="-5400000"/>
                  <a:lnTo>
                    <a:pt x="0" y="24303"/>
                  </a:lnTo>
                  <a:arcTo wR="532" hR="532" stAng="10800000" swAng="-5400000"/>
                  <a:lnTo>
                    <a:pt x="21068" y="24835"/>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AutoShape 5"/>
            <p:cNvSpPr/>
            <p:nvPr/>
          </p:nvSpPr>
          <p:spPr>
            <a:xfrm>
              <a:off x="2408400" y="872640"/>
              <a:ext cx="4615920" cy="5493960"/>
            </a:xfrm>
            <a:custGeom>
              <a:avLst/>
              <a:gdLst>
                <a:gd name="textAreaLeft" fmla="*/ 33480 w 4615920"/>
                <a:gd name="textAreaRight" fmla="*/ 4582440 w 4615920"/>
                <a:gd name="textAreaTop" fmla="*/ 33480 h 5493960"/>
                <a:gd name="textAreaBottom" fmla="*/ 5460480 h 5493960"/>
              </a:gdLst>
              <a:ahLst/>
              <a:rect l="textAreaLeft" t="textAreaTop" r="textAreaRight" b="textAreaBottom"/>
              <a:pathLst>
                <a:path w="21600" h="25708">
                  <a:moveTo>
                    <a:pt x="540" y="0"/>
                  </a:moveTo>
                  <a:arcTo wR="540" hR="540" stAng="16200000" swAng="-5400000"/>
                  <a:lnTo>
                    <a:pt x="0" y="25168"/>
                  </a:lnTo>
                  <a:arcTo wR="540" hR="540" stAng="10800000" swAng="-5400000"/>
                  <a:lnTo>
                    <a:pt x="21060" y="25708"/>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Freeform 6"/>
            <p:cNvSpPr/>
            <p:nvPr/>
          </p:nvSpPr>
          <p:spPr>
            <a:xfrm>
              <a:off x="2408400" y="872640"/>
              <a:ext cx="4606920" cy="18180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Rectangle 7"/>
            <p:cNvSpPr/>
            <p:nvPr/>
          </p:nvSpPr>
          <p:spPr>
            <a:xfrm>
              <a:off x="2700000" y="1378440"/>
              <a:ext cx="4032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Freeform 8"/>
            <p:cNvSpPr/>
            <p:nvPr/>
          </p:nvSpPr>
          <p:spPr>
            <a:xfrm>
              <a:off x="3894480" y="648720"/>
              <a:ext cx="1622160" cy="6447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Freeform 9"/>
            <p:cNvSpPr/>
            <p:nvPr/>
          </p:nvSpPr>
          <p:spPr>
            <a:xfrm>
              <a:off x="3908160" y="648720"/>
              <a:ext cx="1588680" cy="64476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Freeform 10"/>
            <p:cNvSpPr/>
            <p:nvPr/>
          </p:nvSpPr>
          <p:spPr>
            <a:xfrm>
              <a:off x="3921840" y="648720"/>
              <a:ext cx="1561680" cy="64476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Freeform 11"/>
            <p:cNvSpPr/>
            <p:nvPr/>
          </p:nvSpPr>
          <p:spPr>
            <a:xfrm>
              <a:off x="3927960" y="648720"/>
              <a:ext cx="1541880" cy="64476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Freeform 12"/>
            <p:cNvSpPr/>
            <p:nvPr/>
          </p:nvSpPr>
          <p:spPr>
            <a:xfrm>
              <a:off x="3941640" y="648720"/>
              <a:ext cx="1506960" cy="64476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Freeform 13"/>
            <p:cNvSpPr/>
            <p:nvPr/>
          </p:nvSpPr>
          <p:spPr>
            <a:xfrm>
              <a:off x="3955320" y="648720"/>
              <a:ext cx="1479960" cy="64476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Freeform 14"/>
            <p:cNvSpPr/>
            <p:nvPr/>
          </p:nvSpPr>
          <p:spPr>
            <a:xfrm>
              <a:off x="3968640" y="648720"/>
              <a:ext cx="1452960" cy="64476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Freeform 15"/>
            <p:cNvSpPr/>
            <p:nvPr/>
          </p:nvSpPr>
          <p:spPr>
            <a:xfrm>
              <a:off x="3982320" y="648720"/>
              <a:ext cx="1419480" cy="6447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16"/>
            <p:cNvSpPr/>
            <p:nvPr/>
          </p:nvSpPr>
          <p:spPr>
            <a:xfrm>
              <a:off x="3982320" y="1030320"/>
              <a:ext cx="2037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7"/>
            <p:cNvSpPr/>
            <p:nvPr/>
          </p:nvSpPr>
          <p:spPr>
            <a:xfrm>
              <a:off x="3982320" y="1035000"/>
              <a:ext cx="2037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8"/>
            <p:cNvSpPr/>
            <p:nvPr/>
          </p:nvSpPr>
          <p:spPr>
            <a:xfrm>
              <a:off x="3982320" y="1035000"/>
              <a:ext cx="19044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9"/>
            <p:cNvSpPr/>
            <p:nvPr/>
          </p:nvSpPr>
          <p:spPr>
            <a:xfrm>
              <a:off x="3989880" y="1035000"/>
              <a:ext cx="18288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Oval 20"/>
            <p:cNvSpPr/>
            <p:nvPr/>
          </p:nvSpPr>
          <p:spPr>
            <a:xfrm>
              <a:off x="3989880" y="1035000"/>
              <a:ext cx="17676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Oval 21"/>
            <p:cNvSpPr/>
            <p:nvPr/>
          </p:nvSpPr>
          <p:spPr>
            <a:xfrm>
              <a:off x="3989880" y="1035000"/>
              <a:ext cx="16920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Oval 22"/>
            <p:cNvSpPr/>
            <p:nvPr/>
          </p:nvSpPr>
          <p:spPr>
            <a:xfrm>
              <a:off x="3989880" y="1035000"/>
              <a:ext cx="16308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Oval 23"/>
            <p:cNvSpPr/>
            <p:nvPr/>
          </p:nvSpPr>
          <p:spPr>
            <a:xfrm>
              <a:off x="3996000" y="1041120"/>
              <a:ext cx="14364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Oval 24"/>
            <p:cNvSpPr/>
            <p:nvPr/>
          </p:nvSpPr>
          <p:spPr>
            <a:xfrm>
              <a:off x="5258520" y="1030320"/>
              <a:ext cx="2113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Oval 25"/>
            <p:cNvSpPr/>
            <p:nvPr/>
          </p:nvSpPr>
          <p:spPr>
            <a:xfrm>
              <a:off x="5258520" y="1035000"/>
              <a:ext cx="1976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Oval 26"/>
            <p:cNvSpPr/>
            <p:nvPr/>
          </p:nvSpPr>
          <p:spPr>
            <a:xfrm>
              <a:off x="5266080" y="1035000"/>
              <a:ext cx="190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Oval 27"/>
            <p:cNvSpPr/>
            <p:nvPr/>
          </p:nvSpPr>
          <p:spPr>
            <a:xfrm>
              <a:off x="5266080" y="1035000"/>
              <a:ext cx="1825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Oval 28"/>
            <p:cNvSpPr/>
            <p:nvPr/>
          </p:nvSpPr>
          <p:spPr>
            <a:xfrm>
              <a:off x="5266080" y="1035000"/>
              <a:ext cx="17676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Oval 29"/>
            <p:cNvSpPr/>
            <p:nvPr/>
          </p:nvSpPr>
          <p:spPr>
            <a:xfrm>
              <a:off x="5271840" y="1035000"/>
              <a:ext cx="1573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Oval 30"/>
            <p:cNvSpPr/>
            <p:nvPr/>
          </p:nvSpPr>
          <p:spPr>
            <a:xfrm>
              <a:off x="5271840" y="1035000"/>
              <a:ext cx="1573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Oval 31"/>
            <p:cNvSpPr/>
            <p:nvPr/>
          </p:nvSpPr>
          <p:spPr>
            <a:xfrm>
              <a:off x="5271840" y="1041120"/>
              <a:ext cx="149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Freeform 32"/>
            <p:cNvSpPr/>
            <p:nvPr/>
          </p:nvSpPr>
          <p:spPr>
            <a:xfrm>
              <a:off x="3515040" y="457200"/>
              <a:ext cx="236160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Rectangle 33"/>
            <p:cNvSpPr/>
            <p:nvPr/>
          </p:nvSpPr>
          <p:spPr>
            <a:xfrm>
              <a:off x="3501720" y="1467000"/>
              <a:ext cx="239472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Freeform 34"/>
            <p:cNvSpPr/>
            <p:nvPr/>
          </p:nvSpPr>
          <p:spPr>
            <a:xfrm>
              <a:off x="4328640" y="490680"/>
              <a:ext cx="781560" cy="43848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AutoShape 35"/>
            <p:cNvSpPr/>
            <p:nvPr/>
          </p:nvSpPr>
          <p:spPr>
            <a:xfrm>
              <a:off x="4491720" y="631800"/>
              <a:ext cx="46836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AutoShape 36"/>
            <p:cNvSpPr/>
            <p:nvPr/>
          </p:nvSpPr>
          <p:spPr>
            <a:xfrm>
              <a:off x="4491720" y="642600"/>
              <a:ext cx="46836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AutoShape 37"/>
            <p:cNvSpPr/>
            <p:nvPr/>
          </p:nvSpPr>
          <p:spPr>
            <a:xfrm>
              <a:off x="4491720" y="703800"/>
              <a:ext cx="46836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AutoShape 38"/>
            <p:cNvSpPr/>
            <p:nvPr/>
          </p:nvSpPr>
          <p:spPr>
            <a:xfrm>
              <a:off x="4491720" y="714600"/>
              <a:ext cx="46836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AutoShape 39"/>
            <p:cNvSpPr/>
            <p:nvPr/>
          </p:nvSpPr>
          <p:spPr>
            <a:xfrm>
              <a:off x="4491720" y="781920"/>
              <a:ext cx="46836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AutoShape 40"/>
            <p:cNvSpPr/>
            <p:nvPr/>
          </p:nvSpPr>
          <p:spPr>
            <a:xfrm>
              <a:off x="4491720" y="794520"/>
              <a:ext cx="46836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AutoShape 41"/>
            <p:cNvSpPr/>
            <p:nvPr/>
          </p:nvSpPr>
          <p:spPr>
            <a:xfrm>
              <a:off x="4396680" y="861840"/>
              <a:ext cx="65160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AutoShape 42"/>
            <p:cNvSpPr/>
            <p:nvPr/>
          </p:nvSpPr>
          <p:spPr>
            <a:xfrm>
              <a:off x="4396680" y="872640"/>
              <a:ext cx="65160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AutoShape 43"/>
            <p:cNvSpPr/>
            <p:nvPr/>
          </p:nvSpPr>
          <p:spPr>
            <a:xfrm>
              <a:off x="4396680" y="950400"/>
              <a:ext cx="65160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AutoShape 44"/>
            <p:cNvSpPr/>
            <p:nvPr/>
          </p:nvSpPr>
          <p:spPr>
            <a:xfrm>
              <a:off x="4396680" y="963000"/>
              <a:ext cx="6516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AutoShape 45"/>
            <p:cNvSpPr/>
            <p:nvPr/>
          </p:nvSpPr>
          <p:spPr>
            <a:xfrm>
              <a:off x="4396680" y="1024200"/>
              <a:ext cx="65160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AutoShape 46"/>
            <p:cNvSpPr/>
            <p:nvPr/>
          </p:nvSpPr>
          <p:spPr>
            <a:xfrm>
              <a:off x="4396680" y="1035000"/>
              <a:ext cx="65160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9" name="TextBox 48"/>
          <p:cNvSpPr/>
          <p:nvPr/>
        </p:nvSpPr>
        <p:spPr>
          <a:xfrm>
            <a:off x="2700360" y="3025800"/>
            <a:ext cx="4075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Vajtja në Gjykatë:</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Hyrje</a:t>
            </a:r>
            <a:endParaRPr b="0" lang="en-US" sz="36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22031"/>
                </a:solidFill>
                <a:latin typeface="Calibri"/>
              </a:rPr>
              <a:t>Hyrje</a:t>
            </a:r>
            <a:endParaRPr b="0" lang="en-US" sz="4400" spc="-1" strike="noStrike">
              <a:solidFill>
                <a:srgbClr val="000000"/>
              </a:solidFill>
              <a:latin typeface="Calibri"/>
            </a:endParaRPr>
          </a:p>
        </p:txBody>
      </p:sp>
      <p:sp>
        <p:nvSpPr>
          <p:cNvPr id="141" name=""/>
          <p:cNvSpPr txBox="1"/>
          <p:nvPr/>
        </p:nvSpPr>
        <p:spPr>
          <a:xfrm>
            <a:off x="457200" y="1146240"/>
            <a:ext cx="8229600" cy="532440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1f497d"/>
                </a:solidFill>
                <a:latin typeface="Calibri"/>
              </a:rPr>
              <a:t>Kombinoni më të mirën e të dy botëve</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2800" spc="-1" strike="noStrike">
                <a:solidFill>
                  <a:srgbClr val="000000"/>
                </a:solidFill>
                <a:latin typeface="Calibri"/>
              </a:rPr>
              <a:t>Qasja Adversare</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2800" spc="-1" strike="noStrike">
                <a:solidFill>
                  <a:srgbClr val="000000"/>
                </a:solidFill>
                <a:latin typeface="Calibri"/>
              </a:rPr>
              <a:t>Qasja Inkuizitore</a:t>
            </a:r>
            <a:endParaRPr b="0" lang="en-US" sz="28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1f497d"/>
                </a:solidFill>
                <a:latin typeface="Calibri"/>
              </a:rPr>
              <a:t>Menaxhoni procedimin ligjor </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2800" spc="-1" strike="noStrike">
                <a:solidFill>
                  <a:srgbClr val="000000"/>
                </a:solidFill>
                <a:latin typeface="Calibri"/>
              </a:rPr>
              <a:t>Cilësia</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2800" spc="-1" strike="noStrike">
                <a:solidFill>
                  <a:srgbClr val="000000"/>
                </a:solidFill>
                <a:latin typeface="Calibri"/>
              </a:rPr>
              <a:t>Sasia</a:t>
            </a:r>
            <a:endParaRPr b="0" lang="en-US" sz="28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fr-BE" sz="2400" spc="-1" strike="noStrike">
                <a:solidFill>
                  <a:srgbClr val="000000"/>
                </a:solidFill>
                <a:latin typeface="Calibri"/>
              </a:rPr>
              <a:t>de minimis non curat praetor</a:t>
            </a:r>
            <a:endParaRPr b="0" lang="en-US" sz="24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BE" sz="2400" spc="-1" strike="noStrike">
                <a:solidFill>
                  <a:srgbClr val="000000"/>
                </a:solidFill>
                <a:latin typeface="Calibri"/>
              </a:rPr>
              <a:t>më pak mund të jetë shumë</a:t>
            </a:r>
            <a:endParaRPr b="0" lang="en-US" sz="2400" spc="-1" strike="noStrike">
              <a:solidFill>
                <a:srgbClr val="000000"/>
              </a:solidFill>
              <a:latin typeface="Calibri"/>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2"/>
          <p:cNvGrpSpPr/>
          <p:nvPr/>
        </p:nvGrpSpPr>
        <p:grpSpPr>
          <a:xfrm>
            <a:off x="2828880" y="457200"/>
            <a:ext cx="3673440" cy="5977080"/>
            <a:chOff x="2828880" y="457200"/>
            <a:chExt cx="3673440" cy="5977080"/>
          </a:xfrm>
        </p:grpSpPr>
        <p:sp>
          <p:nvSpPr>
            <p:cNvPr id="143"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AutoShape 4"/>
            <p:cNvSpPr/>
            <p:nvPr/>
          </p:nvSpPr>
          <p:spPr>
            <a:xfrm>
              <a:off x="2828880" y="872640"/>
              <a:ext cx="3668760" cy="5541480"/>
            </a:xfrm>
            <a:custGeom>
              <a:avLst/>
              <a:gdLst>
                <a:gd name="textAreaLeft" fmla="*/ 26280 w 3668760"/>
                <a:gd name="textAreaRight" fmla="*/ 3642480 w 3668760"/>
                <a:gd name="textAreaTop" fmla="*/ 26280 h 5541480"/>
                <a:gd name="textAreaBottom" fmla="*/ 5515200 h 5541480"/>
              </a:gdLst>
              <a:ahLst/>
              <a:rect l="textAreaLeft" t="textAreaTop" r="textAreaRight" b="textAreaBottom"/>
              <a:pathLst>
                <a:path w="21600" h="32625">
                  <a:moveTo>
                    <a:pt x="532" y="0"/>
                  </a:moveTo>
                  <a:arcTo wR="532" hR="532" stAng="16200000" swAng="-5400000"/>
                  <a:lnTo>
                    <a:pt x="0" y="32093"/>
                  </a:lnTo>
                  <a:arcTo wR="532" hR="532" stAng="10800000" swAng="-5400000"/>
                  <a:lnTo>
                    <a:pt x="21068" y="32625"/>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Freeform 6"/>
            <p:cNvSpPr/>
            <p:nvPr/>
          </p:nvSpPr>
          <p:spPr>
            <a:xfrm>
              <a:off x="2921760" y="872640"/>
              <a:ext cx="3506760" cy="18180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Freeform 8"/>
            <p:cNvSpPr/>
            <p:nvPr/>
          </p:nvSpPr>
          <p:spPr>
            <a:xfrm>
              <a:off x="4053240" y="648720"/>
              <a:ext cx="1234800" cy="6447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Freeform 9"/>
            <p:cNvSpPr/>
            <p:nvPr/>
          </p:nvSpPr>
          <p:spPr>
            <a:xfrm>
              <a:off x="4063680" y="648720"/>
              <a:ext cx="1209240" cy="64476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 name="Freeform 10"/>
            <p:cNvSpPr/>
            <p:nvPr/>
          </p:nvSpPr>
          <p:spPr>
            <a:xfrm>
              <a:off x="4074120" y="648720"/>
              <a:ext cx="1188720" cy="64476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Freeform 11"/>
            <p:cNvSpPr/>
            <p:nvPr/>
          </p:nvSpPr>
          <p:spPr>
            <a:xfrm>
              <a:off x="4078440" y="648720"/>
              <a:ext cx="1173600" cy="64476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Freeform 12"/>
            <p:cNvSpPr/>
            <p:nvPr/>
          </p:nvSpPr>
          <p:spPr>
            <a:xfrm>
              <a:off x="4088880" y="648720"/>
              <a:ext cx="1146960" cy="64476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Freeform 13"/>
            <p:cNvSpPr/>
            <p:nvPr/>
          </p:nvSpPr>
          <p:spPr>
            <a:xfrm>
              <a:off x="4099320" y="648720"/>
              <a:ext cx="1126440" cy="64476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Freeform 14"/>
            <p:cNvSpPr/>
            <p:nvPr/>
          </p:nvSpPr>
          <p:spPr>
            <a:xfrm>
              <a:off x="4109760" y="648720"/>
              <a:ext cx="1105920" cy="64476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Freeform 15"/>
            <p:cNvSpPr/>
            <p:nvPr/>
          </p:nvSpPr>
          <p:spPr>
            <a:xfrm>
              <a:off x="4120200" y="648720"/>
              <a:ext cx="1080360" cy="6447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Freeform 32"/>
            <p:cNvSpPr/>
            <p:nvPr/>
          </p:nvSpPr>
          <p:spPr>
            <a:xfrm>
              <a:off x="3764160" y="457200"/>
              <a:ext cx="179748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Freeform 34"/>
            <p:cNvSpPr/>
            <p:nvPr/>
          </p:nvSpPr>
          <p:spPr>
            <a:xfrm>
              <a:off x="4383720" y="490680"/>
              <a:ext cx="594720" cy="43848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87" name="TextBox 48"/>
          <p:cNvSpPr/>
          <p:nvPr/>
        </p:nvSpPr>
        <p:spPr>
          <a:xfrm>
            <a:off x="3144960" y="30258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Përgatitja e </a:t>
            </a:r>
            <a:r>
              <a:rPr b="1" lang="sq-AL" sz="3600" spc="-1" strike="noStrike">
                <a:solidFill>
                  <a:srgbClr val="000000"/>
                </a:solidFill>
                <a:latin typeface="Calibri"/>
              </a:rPr>
              <a:t>ç</a:t>
            </a:r>
            <a:r>
              <a:rPr b="1" lang="en-US" sz="3600" spc="-1" strike="noStrike">
                <a:solidFill>
                  <a:srgbClr val="000000"/>
                </a:solidFill>
                <a:latin typeface="Calibri"/>
              </a:rPr>
              <a:t>ështjes për gjyq</a:t>
            </a:r>
            <a:endParaRPr b="0" lang="en-US" sz="36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22031"/>
                </a:solidFill>
                <a:latin typeface="Calibri"/>
              </a:rPr>
              <a:t>Përgatitja e çështjes për gjyq</a:t>
            </a:r>
            <a:endParaRPr b="0" lang="en-US" sz="4400" spc="-1" strike="noStrike">
              <a:solidFill>
                <a:srgbClr val="000000"/>
              </a:solidFill>
              <a:latin typeface="Calibri"/>
            </a:endParaRPr>
          </a:p>
        </p:txBody>
      </p:sp>
      <p:sp>
        <p:nvSpPr>
          <p:cNvPr id="189" name=""/>
          <p:cNvSpPr txBox="1"/>
          <p:nvPr/>
        </p:nvSpPr>
        <p:spPr>
          <a:xfrm>
            <a:off x="457200" y="1146240"/>
            <a:ext cx="8686800" cy="5711760"/>
          </a:xfrm>
          <a:prstGeom prst="rect">
            <a:avLst/>
          </a:prstGeom>
          <a:noFill/>
          <a:ln w="0">
            <a:noFill/>
          </a:ln>
        </p:spPr>
        <p:txBody>
          <a:bodyPr anchor="t">
            <a:normAutofit fontScale="99000"/>
          </a:bodyPr>
          <a:p>
            <a:pPr marL="339480" indent="-3394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Bëni një plan për procedimin ligjor</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Plotësoni me saktësi dhe azhurnoni të gjithë dokumentacionin dhe procedurat përkatës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Garantoni se janë përgatitur dosjet e përshtatshme dhe dokumentet mbështetës në formën e kërkuar brenda afateve përkatëse</a:t>
            </a:r>
            <a:endParaRPr b="0" lang="en-US" sz="2800" spc="-1" strike="noStrike">
              <a:solidFill>
                <a:srgbClr val="000000"/>
              </a:solidFill>
              <a:latin typeface="Calibri"/>
            </a:endParaRPr>
          </a:p>
          <a:p>
            <a:pPr marL="339480" indent="-3394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Informoni mbrojtjen për provat </a:t>
            </a:r>
            <a:endParaRPr b="0" lang="en-US" sz="2800" spc="-1" strike="noStrike">
              <a:solidFill>
                <a:srgbClr val="000000"/>
              </a:solidFill>
              <a:latin typeface="Calibri"/>
            </a:endParaRPr>
          </a:p>
          <a:p>
            <a:pPr marL="339480" indent="-3394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Garantoni se nuk ka asnjë pengesë procedurale ose ligjore ndaj kërkesave për provat</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Dokumentoni plotësisht vendimet, veprimet, alternativat dhe arsyetimin në përputhje me legjislacionin dhe politikat aktuale </a:t>
            </a:r>
            <a:endParaRPr b="0" lang="en-US" sz="2800" spc="-1" strike="noStrike">
              <a:solidFill>
                <a:srgbClr val="000000"/>
              </a:solidFill>
              <a:latin typeface="Calibri"/>
            </a:endParaRPr>
          </a:p>
          <a:p>
            <a:pPr marL="339480" indent="-3394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Kontrolloni dyfish provat dixhitale</a:t>
            </a:r>
            <a:endParaRPr b="0" lang="en-US" sz="28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2"/>
          <p:cNvGrpSpPr/>
          <p:nvPr/>
        </p:nvGrpSpPr>
        <p:grpSpPr>
          <a:xfrm>
            <a:off x="2828880" y="457200"/>
            <a:ext cx="3673440" cy="5977080"/>
            <a:chOff x="2828880" y="457200"/>
            <a:chExt cx="3673440" cy="5977080"/>
          </a:xfrm>
        </p:grpSpPr>
        <p:sp>
          <p:nvSpPr>
            <p:cNvPr id="191"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AutoShape 4"/>
            <p:cNvSpPr/>
            <p:nvPr/>
          </p:nvSpPr>
          <p:spPr>
            <a:xfrm>
              <a:off x="2828880" y="872640"/>
              <a:ext cx="3668760" cy="5541480"/>
            </a:xfrm>
            <a:custGeom>
              <a:avLst/>
              <a:gdLst>
                <a:gd name="textAreaLeft" fmla="*/ 26280 w 3668760"/>
                <a:gd name="textAreaRight" fmla="*/ 3642480 w 3668760"/>
                <a:gd name="textAreaTop" fmla="*/ 26280 h 5541480"/>
                <a:gd name="textAreaBottom" fmla="*/ 5515200 h 5541480"/>
              </a:gdLst>
              <a:ahLst/>
              <a:rect l="textAreaLeft" t="textAreaTop" r="textAreaRight" b="textAreaBottom"/>
              <a:pathLst>
                <a:path w="21600" h="32625">
                  <a:moveTo>
                    <a:pt x="532" y="0"/>
                  </a:moveTo>
                  <a:arcTo wR="532" hR="532" stAng="16200000" swAng="-5400000"/>
                  <a:lnTo>
                    <a:pt x="0" y="32093"/>
                  </a:lnTo>
                  <a:arcTo wR="532" hR="532" stAng="10800000" swAng="-5400000"/>
                  <a:lnTo>
                    <a:pt x="21068" y="32625"/>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Freeform 6"/>
            <p:cNvSpPr/>
            <p:nvPr/>
          </p:nvSpPr>
          <p:spPr>
            <a:xfrm>
              <a:off x="2921760" y="872640"/>
              <a:ext cx="3506760" cy="18180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Freeform 8"/>
            <p:cNvSpPr/>
            <p:nvPr/>
          </p:nvSpPr>
          <p:spPr>
            <a:xfrm>
              <a:off x="4053240" y="648720"/>
              <a:ext cx="1234800" cy="6447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Freeform 9"/>
            <p:cNvSpPr/>
            <p:nvPr/>
          </p:nvSpPr>
          <p:spPr>
            <a:xfrm>
              <a:off x="4063680" y="648720"/>
              <a:ext cx="1209240" cy="64476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Freeform 10"/>
            <p:cNvSpPr/>
            <p:nvPr/>
          </p:nvSpPr>
          <p:spPr>
            <a:xfrm>
              <a:off x="4074120" y="648720"/>
              <a:ext cx="1188720" cy="64476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9" name="Freeform 11"/>
            <p:cNvSpPr/>
            <p:nvPr/>
          </p:nvSpPr>
          <p:spPr>
            <a:xfrm>
              <a:off x="4078440" y="648720"/>
              <a:ext cx="1173600" cy="64476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0" name="Freeform 12"/>
            <p:cNvSpPr/>
            <p:nvPr/>
          </p:nvSpPr>
          <p:spPr>
            <a:xfrm>
              <a:off x="4088880" y="648720"/>
              <a:ext cx="1146960" cy="64476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1" name="Freeform 13"/>
            <p:cNvSpPr/>
            <p:nvPr/>
          </p:nvSpPr>
          <p:spPr>
            <a:xfrm>
              <a:off x="4099320" y="648720"/>
              <a:ext cx="1126440" cy="64476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2" name="Freeform 14"/>
            <p:cNvSpPr/>
            <p:nvPr/>
          </p:nvSpPr>
          <p:spPr>
            <a:xfrm>
              <a:off x="4109760" y="648720"/>
              <a:ext cx="1105920" cy="64476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Freeform 15"/>
            <p:cNvSpPr/>
            <p:nvPr/>
          </p:nvSpPr>
          <p:spPr>
            <a:xfrm>
              <a:off x="4120200" y="648720"/>
              <a:ext cx="1080360" cy="6447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Freeform 32"/>
            <p:cNvSpPr/>
            <p:nvPr/>
          </p:nvSpPr>
          <p:spPr>
            <a:xfrm>
              <a:off x="3764160" y="457200"/>
              <a:ext cx="179748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Freeform 34"/>
            <p:cNvSpPr/>
            <p:nvPr/>
          </p:nvSpPr>
          <p:spPr>
            <a:xfrm>
              <a:off x="4383720" y="490680"/>
              <a:ext cx="594720" cy="43848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35" name="TextBox 48"/>
          <p:cNvSpPr/>
          <p:nvPr/>
        </p:nvSpPr>
        <p:spPr>
          <a:xfrm>
            <a:off x="3144960" y="2654280"/>
            <a:ext cx="30686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Karakteristikat e Provave Dixhitale në Hapësirën Kibernetike</a:t>
            </a:r>
            <a:endParaRPr b="0" lang="en-US" sz="36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Karakteristikat e Provave Dixhitale në Hapësirën Kibernetike</a:t>
            </a:r>
            <a:endParaRPr b="0" lang="en-US" sz="36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1f497d"/>
                </a:solidFill>
                <a:latin typeface="Calibri"/>
              </a:rPr>
              <a:t>Probleme me provat dixhitale:</a:t>
            </a:r>
            <a:endParaRPr b="0" lang="en-US" sz="32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Të paqëndrueshme</a:t>
            </a:r>
            <a:endParaRPr b="0" lang="en-US" sz="2800" spc="-1" strike="noStrike">
              <a:solidFill>
                <a:srgbClr val="000000"/>
              </a:solidFill>
              <a:latin typeface="Calibri"/>
            </a:endParaRPr>
          </a:p>
          <a:p>
            <a:pPr lvl="1" marL="720720" indent="-2772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1f497d"/>
                </a:solidFill>
                <a:latin typeface="Calibri"/>
              </a:rPr>
              <a:t>Të lehta për tu manipuluar</a:t>
            </a:r>
            <a:endParaRPr b="0" lang="en-US" sz="28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Të vështira për tu mbledhur</a:t>
            </a:r>
            <a:endParaRPr b="0" lang="en-US" sz="2800" spc="-1" strike="noStrike">
              <a:solidFill>
                <a:srgbClr val="000000"/>
              </a:solidFill>
              <a:latin typeface="Calibri"/>
            </a:endParaRPr>
          </a:p>
          <a:p>
            <a:pPr lvl="1" marL="720720" indent="-2772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1f497d"/>
                </a:solidFill>
                <a:latin typeface="Calibri"/>
              </a:rPr>
              <a:t>Të vështira për të provuar origjinën dhe autenticitetin</a:t>
            </a:r>
            <a:endParaRPr b="0" lang="en-US" sz="28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Nuk njohin kufij territorialë</a:t>
            </a:r>
            <a:endParaRPr b="0" lang="en-US" sz="28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
            <a:ext cx="8229600" cy="822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122031"/>
                </a:solidFill>
                <a:latin typeface="Calibri"/>
              </a:rPr>
              <a:t>Përballja me natyrën e provave dixhitale</a:t>
            </a:r>
            <a:endParaRPr b="0" lang="en-US" sz="3200" spc="-1" strike="noStrike">
              <a:solidFill>
                <a:srgbClr val="000000"/>
              </a:solidFill>
              <a:latin typeface="Calibri"/>
            </a:endParaRPr>
          </a:p>
        </p:txBody>
      </p:sp>
      <p:sp>
        <p:nvSpPr>
          <p:cNvPr id="239" name="PlaceHolder 2"/>
          <p:cNvSpPr>
            <a:spLocks noGrp="1"/>
          </p:cNvSpPr>
          <p:nvPr>
            <p:ph/>
          </p:nvPr>
        </p:nvSpPr>
        <p:spPr>
          <a:xfrm>
            <a:off x="457200" y="1158840"/>
            <a:ext cx="4038480" cy="491184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2200" spc="-1" strike="noStrike">
                <a:solidFill>
                  <a:srgbClr val="1f497d"/>
                </a:solidFill>
                <a:latin typeface="Calibri"/>
              </a:rPr>
              <a:t>PROBLEME</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000000"/>
                </a:solidFill>
                <a:latin typeface="Calibri"/>
              </a:rPr>
              <a:t>Të paqendrueshme</a:t>
            </a:r>
            <a:endParaRPr b="0" lang="en-US" sz="22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1f497d"/>
                </a:solidFill>
                <a:latin typeface="Calibri"/>
              </a:rPr>
              <a:t>Të lehta për manipulim</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000000"/>
                </a:solidFill>
                <a:latin typeface="Calibri"/>
              </a:rPr>
              <a:t>Të vështira për tu marrë</a:t>
            </a:r>
            <a:endParaRPr b="0" lang="en-US" sz="2200" spc="-1" strike="noStrike">
              <a:solidFill>
                <a:srgbClr val="000000"/>
              </a:solidFill>
              <a:latin typeface="Calibri"/>
            </a:endParaRPr>
          </a:p>
          <a:p>
            <a:pPr lvl="1" marL="743040" indent="0">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spcBef>
                <a:spcPts val="55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1f497d"/>
                </a:solidFill>
                <a:latin typeface="Calibri"/>
              </a:rPr>
              <a:t>Të vështira për të provuar origjinalitetin dhe autenticiteti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Calibri"/>
              </a:rPr>
              <a:t>Pa kufij territorialë</a:t>
            </a:r>
            <a:endParaRPr b="0" lang="en-US" sz="22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240" name="PlaceHolder 3"/>
          <p:cNvSpPr>
            <a:spLocks noGrp="1"/>
          </p:cNvSpPr>
          <p:nvPr>
            <p:ph/>
          </p:nvPr>
        </p:nvSpPr>
        <p:spPr>
          <a:xfrm>
            <a:off x="4059360" y="838080"/>
            <a:ext cx="5084640" cy="601992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1f497d"/>
                </a:solidFill>
                <a:latin typeface="Calibri"/>
              </a:rPr>
              <a:t>QASJA</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000000"/>
                </a:solidFill>
                <a:latin typeface="Calibri"/>
              </a:rPr>
              <a:t>Jini të shpejtë dhe kini parasysh rregullat e ndryshme të ruajtjes së provave në të gjithë botën</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1f497d"/>
                </a:solidFill>
                <a:latin typeface="Calibri"/>
              </a:rPr>
              <a:t>Garantoni integritetin</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000000"/>
                </a:solidFill>
                <a:latin typeface="Calibri"/>
              </a:rPr>
              <a:t>Përdorni ligjin kombëtar, NNJ, LO, EJN, pikat e kontaktit të KiE, GPEN, …</a:t>
            </a:r>
            <a:endParaRPr b="0" lang="en-US" sz="2200" spc="-1" strike="noStrike">
              <a:solidFill>
                <a:srgbClr val="000000"/>
              </a:solidFill>
              <a:latin typeface="Calibri"/>
            </a:endParaRPr>
          </a:p>
          <a:p>
            <a:pPr lvl="1" marL="743040" indent="-285840">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1f497d"/>
                </a:solidFill>
                <a:latin typeface="Calibri"/>
              </a:rPr>
              <a:t>Dokumentoni plotësisht të gjitha veprimet, kërkesat dhe ekzaminimet kriminalistik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Calibri"/>
              </a:rPr>
              <a:t>Ndiqni rregullat e bashkëpunimit ndërkufitar</a:t>
            </a:r>
            <a:endParaRPr b="0" lang="en-US" sz="2200" spc="-1" strike="noStrike">
              <a:solidFill>
                <a:srgbClr val="000000"/>
              </a:solidFill>
              <a:latin typeface="Calibri"/>
            </a:endParaRPr>
          </a:p>
        </p:txBody>
      </p:sp>
      <p:sp>
        <p:nvSpPr>
          <p:cNvPr id="241" name="AutoShape 11"/>
          <p:cNvSpPr/>
          <p:nvPr/>
        </p:nvSpPr>
        <p:spPr>
          <a:xfrm>
            <a:off x="8480520" y="2143080"/>
            <a:ext cx="576000" cy="647640"/>
          </a:xfrm>
          <a:custGeom>
            <a:avLst/>
            <a:gdLst>
              <a:gd name="textAreaLeft" fmla="*/ 37080 w 576000"/>
              <a:gd name="textAreaRight" fmla="*/ 538920 w 576000"/>
              <a:gd name="textAreaTop" fmla="*/ 37080 h 647640"/>
              <a:gd name="textAreaBottom" fmla="*/ 610560 h 647640"/>
            </a:gdLst>
            <a:ahLst/>
            <a:rect l="textAreaLeft" t="textAreaTop" r="textAreaRight" b="textAreaBottom"/>
            <a:pathLst>
              <a:path w="21600" h="24285">
                <a:moveTo>
                  <a:pt x="0" y="0"/>
                </a:moveTo>
                <a:lnTo>
                  <a:pt x="21600" y="0"/>
                </a:lnTo>
                <a:lnTo>
                  <a:pt x="21600" y="24285"/>
                </a:lnTo>
                <a:lnTo>
                  <a:pt x="0" y="24285"/>
                </a:lnTo>
                <a:close/>
              </a:path>
              <a:path fill="lightenLess" w="21600" h="24285">
                <a:moveTo>
                  <a:pt x="0" y="0"/>
                </a:moveTo>
                <a:lnTo>
                  <a:pt x="21600" y="0"/>
                </a:lnTo>
                <a:lnTo>
                  <a:pt x="20200" y="1400"/>
                </a:lnTo>
                <a:lnTo>
                  <a:pt x="1400" y="1400"/>
                </a:lnTo>
                <a:close/>
              </a:path>
              <a:path fill="darken" w="21600" h="24285">
                <a:moveTo>
                  <a:pt x="21600" y="0"/>
                </a:moveTo>
                <a:lnTo>
                  <a:pt x="21600" y="24285"/>
                </a:lnTo>
                <a:lnTo>
                  <a:pt x="20200" y="22885"/>
                </a:lnTo>
                <a:lnTo>
                  <a:pt x="20200" y="1400"/>
                </a:lnTo>
                <a:close/>
              </a:path>
              <a:path fill="darkenLess" w="21600" h="24285">
                <a:moveTo>
                  <a:pt x="21600" y="24285"/>
                </a:moveTo>
                <a:lnTo>
                  <a:pt x="0" y="24285"/>
                </a:lnTo>
                <a:lnTo>
                  <a:pt x="1400" y="22885"/>
                </a:lnTo>
                <a:lnTo>
                  <a:pt x="20200" y="22885"/>
                </a:lnTo>
                <a:close/>
              </a:path>
              <a:path fill="lighten" w="21600" h="24285">
                <a:moveTo>
                  <a:pt x="0" y="24285"/>
                </a:moveTo>
                <a:lnTo>
                  <a:pt x="0" y="0"/>
                </a:lnTo>
                <a:lnTo>
                  <a:pt x="1400" y="1400"/>
                </a:lnTo>
                <a:lnTo>
                  <a:pt x="1400" y="22885"/>
                </a:lnTo>
                <a:close/>
              </a:path>
              <a:path fill="darken" w="21600" h="24285">
                <a:moveTo>
                  <a:pt x="10800" y="5136"/>
                </a:moveTo>
                <a:arcTo wR="7006" hR="7006" stAng="16200000" swAng="-5400000"/>
                <a:arcTo wR="7006" hR="7006" stAng="10800000" swAng="-5400000"/>
                <a:arcTo wR="7006" hR="7006" stAng="5400000" swAng="-5400000"/>
                <a:arcTo wR="7006" hR="7006" stAng="0" swAng="-5400000"/>
                <a:close/>
              </a:path>
              <a:path fill="lighten" w="21600" h="24285">
                <a:moveTo>
                  <a:pt x="10800" y="5510"/>
                </a:moveTo>
                <a:arcTo wR="1793" hR="1793" stAng="16200000" swAng="-5400000"/>
                <a:arcTo wR="1793" hR="1793" stAng="10800000" swAng="-5400000"/>
                <a:arcTo wR="1793" hR="1793" stAng="5400000" swAng="-5400000"/>
                <a:arcTo wR="1793" hR="1793" stAng="0" swAng="-5400000"/>
                <a:close/>
              </a:path>
              <a:path fill="lighten" w="21600" h="24285">
                <a:moveTo>
                  <a:pt x="8224" y="9566"/>
                </a:moveTo>
                <a:lnTo>
                  <a:pt x="12088" y="9566"/>
                </a:lnTo>
                <a:lnTo>
                  <a:pt x="12088" y="16564"/>
                </a:lnTo>
                <a:lnTo>
                  <a:pt x="13376" y="16564"/>
                </a:lnTo>
                <a:lnTo>
                  <a:pt x="13376" y="17486"/>
                </a:lnTo>
                <a:lnTo>
                  <a:pt x="8224" y="17486"/>
                </a:lnTo>
                <a:lnTo>
                  <a:pt x="8224" y="16564"/>
                </a:lnTo>
                <a:lnTo>
                  <a:pt x="9512" y="16564"/>
                </a:lnTo>
                <a:lnTo>
                  <a:pt x="9512" y="10471"/>
                </a:lnTo>
                <a:lnTo>
                  <a:pt x="8224" y="10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perdorues</cp:lastModifiedBy>
  <dcterms:modified xsi:type="dcterms:W3CDTF">2013-09-11T09:06:28Z</dcterms:modified>
  <cp:revision>167</cp:revision>
  <dc:subject/>
  <dc:title>Introductory Cybercrime Training for Judges and Prosecutors</dc:title>
</cp:coreProperties>
</file>