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25CA34-358B-4F20-894B-2C9F2F5CA628}"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FCB59-64D9-49E5-8026-F601550B89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0D7B8-5C01-4599-83DC-DE8B56C4E43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9C057-35B5-4364-9B4A-551F987B48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E6D01-63A3-4BF0-AA0E-30BDB6165F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17E7B-A6F9-42F8-9F7C-0B16B19D33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8AB16F-5EBB-4EFC-B043-0F650A60DE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9CB31-A1E1-4CD3-BD61-1903FE66786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013A2-91E4-4E7F-B4E6-5CD1701C78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61EDC-B56C-46CB-B50C-3646635F7D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D44C8-0513-4C5D-B748-E92967F255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92341B-E875-49BD-AD0F-5A74ECE10D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D5D021-FBC0-4C48-B548-38B6708EA9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CA002-0097-4E71-9CDD-D724042A39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B7131-C2B8-4F61-A57A-CB796F1E27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A59DE8-D751-45CA-AE45-946FA54745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65840-7F16-478E-A8D0-EC5762F86E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13445-F387-46F6-A80D-F6ABA7551E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FD8BD-7B4E-4FE5-AEEB-290A49D7EC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94524B-D516-494C-9684-7D1A0C83C7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8C186-31D4-4F2D-A605-5E56A134C1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326A8A-F2E3-4504-9740-0A0EBFC51A3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733CA8-EA8C-4689-9FD6-EF6D751184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54961-1247-404B-A35E-FCC9CBB13A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13F718-6341-4FCA-A8A7-4963F836DD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37488-541B-40C1-9342-4A6A16D26D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A9144-785D-4C36-98B8-5B395199F3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56E5E-823E-424E-88B3-BACCEA7D8D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7BF0C-5246-4AF9-B080-5493645DE4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B6EE87-97CA-4A49-9317-8AC7DF1025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2E60D-CBB2-4D42-905A-CB8551B3E8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FC96E9-C62C-416C-8E39-63438C8B47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2E694-634C-42F0-A2E5-59B189976F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EC4F5B-8B4C-4160-A259-C75887DF2D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6AD97F-6F3F-4AD2-9630-CEC02E865F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95C6E-6C69-46AF-9553-8A66044730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BA9E9F-728D-4073-80FB-556767094D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6D7D0E-A828-4D92-B505-BE63404457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7B3D50-8F9B-4A6C-BC96-F83ABE5494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1883A-D31F-4CF8-8D27-58F9FBFFA5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91B1F-AD3A-4061-8118-7985D68B6E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46B93-E23B-4A4A-8705-D020FFDFBE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D35683-5374-4580-8106-3EFCFD8EFE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19FA3-E957-47AA-94FA-79D2C4F8C9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207CE-7C87-4BEB-A180-05F0EC5C6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69CBF-F5C8-4715-AE84-E259965DE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29AB0-4B46-431B-A40F-BCBBD9AF9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42B09-513E-4123-A967-A1FFEABB3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180B-44DD-493F-8C0C-E95CC2B5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9EE38-2332-48CA-9470-D5C41D561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75ADE-B336-48D6-8832-61263C98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986B1-CBD2-4B1A-9307-8B2E61D26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7E930-9E71-48C4-9339-14DE73C1B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B07A-1968-40CA-AD61-351425134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FFA7-A2F7-4194-830D-96BA01E34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ACD5-6E3F-4F03-852E-343A69624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F5BFC-60C0-4F12-93E6-363B31A908EA}"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56A2C-CCDB-4813-AEBA-F8B6F04687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x.x.x e x.x.x</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C961E1-8441-4E1A-83C1-E332E8F611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DD739-BA67-4DCA-89D4-E51716F46A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09F102-9345-496D-A710-E762A41709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26179-0C9F-4949-9DFE-1C71F28DA6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79BA6-105E-441C-82D5-593D1D0670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E2DB4-C518-41EE-890F-B90F9D87E30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DABAAE-9495-4D41-86FB-B6DA09B362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A56D88-86D4-4FF1-8E40-1FED4467BE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AE9C2-4C9E-4E6F-8A7B-64BC338EC3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9EDE7D-7519-4338-B7CF-54E05E94A0F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A2D59-B56F-40F8-9209-3CCA43AC09E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B8900A-EE25-4863-B51B-6117AFB3DC9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5FAEA2-87F8-4C6D-9A31-6D4C55E272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576D2-D5EA-4BB4-860C-35C44BE0FB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05C08-2DC3-49B1-8FC0-C9CFF25EBF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E6B00-F14C-4FF9-8A29-4169776107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92412C-3274-4E09-B2FE-90EAEE9FC3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8DAAD-31F5-4FAA-8566-A08A1884A6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2C24D-6A8E-4002-AD7C-D6B3C4CADD5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26FF8A-7997-4EC5-8283-205600B918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15F89-424B-4ED0-ABB9-AF3C121ADE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DAD2E3-C00D-4DBF-937D-0409A2F4B8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5ABCCB-D078-4B64-BAFF-3C4C9BFCDB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7A044-317D-4FE9-BE36-B536B05D5F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D978A-C3AF-4BA6-86B8-9103415B8B5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115692-3235-4101-845E-B8B4BACC7E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48D24-ACDC-468E-AF56-EA22DE8654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8F564-53FA-45D4-969D-61CB5907D89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11643-378C-4435-8369-C3BB3095C1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6693E-4755-41C4-BB6E-CD9EBC7E74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9C3A23-C972-4490-950B-4AA5EB8FDA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5D5FB6-3D47-4238-94B5-18BFAFF433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4FEA3B-9779-4D91-952E-339E8E7F847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4B086-32E3-4F2A-9E45-F7449511F6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D8B6E-6518-49F8-BFCA-08305FB3C0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0A1C9-6B97-4B4A-B2E4-F85380949C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0B018D-62B0-4C96-A836-DE69672321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83CFD4-4EF2-4D8F-B277-0D7EF9FC5F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B73F7-6830-4145-8824-18205931F2A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A859E-A531-47C0-8772-0D102717315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Pedro Verdelho</cp:lastModifiedBy>
  <dcterms:modified xsi:type="dcterms:W3CDTF">2019-04-22T14:49:22Z</dcterms:modified>
  <cp:revision>427</cp:revision>
  <dc:subject/>
  <dc:title>Introductory Cybercrime Training for Judges and Prosecutors</dc:title>
</cp:coreProperties>
</file>