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829BE-7A2F-4667-933A-01A97FC1D1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71BD9-F020-4C0C-AA1C-D2FCCFFD6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ção ao estudo de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anteriormente detet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F8C8C-982B-42C9-A10F-3E58EB284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 esta formação, foram criadas empresas e países fictícios. Estes são Atlantis, Norland, Ostland, Westland, etc. Para o exercício, todos eles ratificaram a Convenção do Conselho da Europa sobre Cibercrime (“Convenção de Budapeste”). Esta abordagem é para permitir a transferência da formação entre jurisdições, sem a necessidade de grandes mudanças nos materiais do curso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23290-7C0D-40AB-B572-D485AADCA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trodução do facto de que, por causa do período de férias de verão, funcionários recentemente contratados foram incluídos numa operação tão importante deve levantar imediatamente suspeitas entre os forman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AA8D9-1FF1-4E53-9D80-0C2DAD49C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iguração financeira deve indicar que a transferência bancária inicial não teve problemas e que mencionar as contas SWIFT e IBAN significa que a transferência de dinheiro é da natureza internacional e não naci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começar a considerar a utilização dos artigos de assistência jurídica internacional da Convenção de Budapest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56E5B-C646-4D93-9423-B0E3F5E12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3AC8B-FDCE-4EAA-9400-C2C46739A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ECF7D-D70E-4547-9F74-96D260A52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F2758-3200-40F3-986E-4B3082E80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2265C-82F8-4499-B442-E3A3DC171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oante o desenvolvimento do cenário, os formadores podem desenvolver transações adicionais entre a conta bancária em Ostland e contas bancárias noutros países pertencentes a partes estatutárias da Convenção de Budapeste ou não. Ao critério dos formadores, o fim das transferências bancárias pode ser no país que está dentro do âmbito da Convenção de Budapeste ou não. No segundo caso, provavelmente os vestígios e provas finais serão perdidos ou não poderão ser recuper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BA6CD-F63B-42A2-B33E-2B64CD0AC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apresentação e apresentará as principais partes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6ECEF-AAD3-4FF9-8653-663F6D877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D51A6-D347-49F7-9A23-3AADBA13D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42FAB-B1A0-404A-9B22-E5E694D1F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ED101-EB8D-4AC5-9DA2-29C033EF1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as eletrónicas devem ser examinadas e utilizadas como ferramenta essencial para a construção e o término da investigação e a preparação do caso para julga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F54E5-F3A0-4A2F-AD87-E8111832C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4CF5A-8887-4A9A-ADB1-4583482BC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DE3D7-73FD-4425-B6F9-EB85A438E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7A8C0-3BC6-4227-A004-D8B7A309C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B9798-8457-499C-B932-4EFF4887C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ário de estudo de caso começa com o estabelecimento do Federal Bank of Atlantis (FBA), banco internacional bem conhecido, bem estabelecido e respeitado. Uma descrição como esta deve levar os formandos a tomarem uma decisão de que este tipo de banco não deve estar envolvido em nenhum tipo de problema, muito menos aqueles semelhantes a um que será descrito adi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identificar os principais factos e as principais divisões e participantes do negócio, a fim de compreender o âmbito e a configuração do círculo de negócios, no qual serão definidos mais detalhes sobre 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2DC04-498E-44C7-ABCE-9641467D3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Federal Bank of Atlan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814FA-6F58-463E-BD34-48BAE3C40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United Bank Prin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9177C-268F-41CA-9EB2-996E6918B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Docklands Securities Bank of Nor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A1B99-5B5E-46E9-AFD0-0AF836D21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ED751-0290-475B-827D-CDF4A1FBD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A90-B057-45F8-AED0-BD7FD07E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4AB-52AE-4B71-8F29-02081C0A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6A0-AA44-4B8D-AA18-3513893C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0DC-CE45-4066-ADC8-F401E5E3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89E-59C6-49AA-83CB-6C7E76C3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CDE-B8DF-450D-A7FF-5451D44D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BFB-5C12-4C15-B289-3B57AED9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E7D-8D82-4014-979C-4D8C03EF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76A-4AB4-4946-9878-13A2803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32D-A51E-4213-9F2D-DF1A6CF6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81E-F4DC-45AB-907F-73A1E6D3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66B-4634-4F8D-8E34-62A6D0D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FBF0F-3AB5-44BA-84FB-587D4CD68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516C-5766-42A8-A980-872D57AE2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Sessão 2.2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Introdução ao estudo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526CCFF-D2AC-4C37-8E10-8CF6C6501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BA), na qualidade de banco conhecido, bem-sucedido e fiáve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issão de bónus especial de aniversár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o de Logística e Operaçõ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LO) encarregado da logística deste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BP) como fornecedor de material de impress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ão do Departamento Financeiro do F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r parte do DLO na logística do negó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341CB78-256F-409B-9C97-4969C7A59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vido ao período de férias de verã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, foi incluído o pessoal júnior e recentemente contratad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uspeita de que o pessoal júnior é, na verdade, membro do grupo de crime organizad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solicitou a posição de nível inferior do DLO, a fim de obter qualquer tipo de acesso direto aos computadores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objetivo era apresentar um e-mail específico de spywar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capaz de fazer cópias de correspondência por e-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9258595-7EE1-44A3-A14B-F9BF9A56D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1104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"Foi feito um pedido por parte do FBA para a compra de 20.000 materiais em papel especializados da UBP pelo preço de 300.000 €. Os departamentos relevantes do FBA e da UBP começaram a tratar da parte logística e financeira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inclusão do Docklands Securities Bank of Norland no círculo de negócios como banco designado da UBP para a transferência de dinheir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agamento efetivo da transferência inicial de 100.000 € entre o FBA e a UBP com contas DSBL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trodução do facto de as contas SWIFT e IBAN serem incluídas na transaçã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E9B5ECD-9017-4789-9304-5E2CC5129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A6B71DF-9C3A-4D6B-AD0D-096377B72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AD0A6B2-CE8C-4644-AEDF-F6B814AE7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determinante para a perpetração do crime - o membro do OCG, através de spyware, conseguiu seguir o desenvolvimento da transação comercial entre o FBA e a UB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ção e reação imediata no momento do pagamento f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tilização de faturas falsas previamente elaboradas com títulos de e-mai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 o esquema assumiu um caráter mais urgente, tal como o Departamento Financeiro d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09D4B4A-92E7-41E8-8988-52DED8C89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6820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impressão efetiva do material em papel foi feita e a UBP notificou esse facto, sendo que o FBA solicitou o pagamento devid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membro infiltrado do grupo de crime organizado, através de spyware, detetou os momentos finais da conclusão do negóci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grupo registou-se como empresa "fictícia" em Ostland e abriu uma conta bancária comercial na filial do banco utilizado em Ostland pelo FBA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lsa documentação, incluindo a parte principal – foi elaborada uma fatura falsa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B97E968-3EDE-4F3F-915F-2982452A3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21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 servidor SMTP aberto foi encontrado e testado para envio de e-mails falsos (ou pode ser utilizado um exemplo de uma conta de webmail com uma pequena alteração ao nome da conta de e-mail, consoante as habilidades do formador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s serviços do servidor de e-mail SMTP aberto foram pagos em Bitcoins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Foram elaborados e-mails falsos, incluindo os nomes das pessoas do Departamento Financeiro, detalhes sobre o contrato e o idioma que foram utilizados anteriormente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F429E0B-C297-4701-B675-C7D3CD782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iretor Financeiro autoriza a transferência com base em documentos apresentados anteriormente: correio falso da UBP com uma fatura falsa que continha a conta bancária falsa num país diferente tanto para o FBA como para 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em que a fraude é cometida e 200.000 EUR são transferidos para a conta fraudulen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epartamento Financeiro da UBP conferiu a sua conta bancária e respondeu à FBA dizendo que não foi recebido qualquer paga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916431B-805A-4BCE-BA7D-A7BE24D60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i="1" lang="pt-PT" sz="2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s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AE09B64-1651-4B57-AAA0-E860EF88D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C64BFF0-3669-42F3-A45E-A90BC4FC8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13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FE20E70-4015-4712-9689-E4110A01D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DSBN em Norland e Ostland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00F831D-BFD4-4A5E-BBC1-4C430C9BD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eletrónicas e outras provas de ambos os banc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da autoridade de registo comercial competente em Ostland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operação entre a polícia, o Ministério Público e, se for caso disso, juízes de instruçã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clusão de assistência jurídica internacional nas disposições da Convenção de Budapeste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AE571D2-93B8-431E-8D7D-B7661FD53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ais provas eletró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yware utilizado no FB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dor SMTP para envio de 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ptomoeda (Bitcoin)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regulare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s falsa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informáticos da UBP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bancári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comerciais da empres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de vigilânci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a provas eletrónica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77A43BA-C42B-446F-8DC1-74DB75003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25BADB8-9B40-499E-8628-18983004E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1640"/>
            <a:ext cx="85122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C8A2EB8-AC2E-41B4-84ED-733CDB27D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FCDDCE8-D5C1-4310-83AD-85DC29750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047240"/>
            <a:ext cx="85122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s 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CBFECD6-52E8-4740-B668-E20BAC8D1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5E323C5-10EA-4BB2-BF55-29114F465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D7FFE5E-F414-4444-9000-A2F591746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82560"/>
            <a:ext cx="84042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Banco fornec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a série de serviços bancários e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Federal Bank of Atlantis Ltd., FBA Bank Towers, Atlantis 12345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 e funcionários: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idente Independente Não Executivo do Conselho, Diretor Executivo, Diretor-Geral, Diretor a Tempo Inteiro, Diretor Executivo e Financeiro do Grupo, Secretário da Empresa, Diretor-Geral Executivo (Jurídico), Diretor-Geral Executivo e Chefe de Relações com Investidores, Auditoria Interna do Grupo e Diretor-Geral Executivo, Diretor Executivo, Chefe do Departamento de Logística e Operações, Chefe do Departamento de Tecnologia da Inform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000FBE8-F6A6-44E8-8A4E-9465CFA28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B.Stam\Desktop\AJT evidences\FBA logo.jpg"/>
          <p:cNvPicPr/>
          <p:nvPr/>
        </p:nvPicPr>
        <p:blipFill>
          <a:blip r:embed="rId1"/>
          <a:stretch/>
        </p:blipFill>
        <p:spPr>
          <a:xfrm>
            <a:off x="6675480" y="957240"/>
            <a:ext cx="2011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UBP fornece serviços de impressão e gestão da cadeia de suprimentos especializados para o setor bancário. A empresa também organiza e envia publicações bancárias de curto a médio prazo, que são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stribuídas em revista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pecializ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United Bank Printing, Green Garden Avenue 123, Blankenberg 123456, Norl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iretor Executivo, Diretor-Geral, Diretor a Tempo Inteiro, Diretor Financei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27B60-AA68-43F5-8523-BBC913D53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B.Stam\Desktop\AJT evidences\UBP.jpg"/>
          <p:cNvPicPr/>
          <p:nvPr/>
        </p:nvPicPr>
        <p:blipFill>
          <a:blip r:embed="rId1"/>
          <a:stretch/>
        </p:blipFill>
        <p:spPr>
          <a:xfrm>
            <a:off x="5840280" y="1349280"/>
            <a:ext cx="2405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4800" y="1095480"/>
            <a:ext cx="8474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oklands Securitie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Docklands Security Bank of Norland presta serviços banc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a corporações, governos, investidores institucionais, pequenas e médias empresas e pessoas fís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ocklands Security Bank of Norland, DSBN Homestead Building, Blankenberg 65432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Presidente Independente Não Executivo do Conselho, Diretor Executivo, Diretor-Geral, Diretor a Tempo Inteiro, Diretor Executivo e Financeiro do Grupo, Secretário da Empresa, Diretor-Geral Executivo, Diretor-Geral e Chefe de Relações com Investidores, Chefe de Auditoria Interna do Grupo e Diretor-Geral Executivo, Diretor Execu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EB0B144-AA0F-4A3E-9D14-3C2B14608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lika 5" descr="C:\Users\B.Stam\Desktop\DSBN.jpg"/>
          <p:cNvPicPr/>
          <p:nvPr/>
        </p:nvPicPr>
        <p:blipFill>
          <a:blip r:embed="rId1"/>
          <a:stretch/>
        </p:blipFill>
        <p:spPr>
          <a:xfrm>
            <a:off x="5423040" y="1192320"/>
            <a:ext cx="3122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E2AC2BF-30F1-4DF7-B245-6E1E982AD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53:08Z</dcterms:modified>
  <cp:revision>166</cp:revision>
  <dc:subject/>
  <dc:title>Introductory Cybercrime Training for Judges and Prosecutors</dc:title>
</cp:coreProperties>
</file>