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949B6A-D3DC-482B-9648-FD77DF6FE1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79FCC-D630-47F1-A352-8615DFF00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ção ao estudo de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anteriormente detet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C027F-1A68-4CC7-8671-76E5E41C23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 esta formação, foram criadas empresas e países fictícios. Estes são Atlantis, Norland, Ostland, Westland, etc. Para o exercício, todos eles ratificaram a Convenção do Conselho da Europa sobre Cibercrime (“Convenção de Budapeste”). Esta abordagem é para permitir a transferência da formação entre jurisdições, sem a necessidade de grandes mudanças nos materiais do curso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37B70-0D33-4F66-B71D-682C04C98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trodução do facto de que, por causa do período de férias de verão, funcionários recentemente contratados foram incluídos numa operação tão importante deve levantar imediatamente suspeitas entre os forman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3A459C-E06D-4AA6-874D-2E3F6560D1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iguração financeira deve indicar que a transferência bancária inicial não teve problemas e que mencionar as contas SWIFT e IBAN significa que a transferência de dinheiro é da natureza internacional e não nacion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começar a considerar a utilização dos artigos de assistência jurídica internacional da Convenção de Budapest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A56D5F-74D9-4C23-9AD8-6683C5B8E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26A33-FF7C-4AD8-B238-D4BD9FE35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38905-DC7E-4B14-9382-9A24B08E6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B9A552-859B-4EEE-9799-F84CAE286C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nvolvimento da perpetração apresentado pelos passos mais importantes e os seus result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824652-0FCB-4DBF-9ED4-47C421890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oante o desenvolvimento do cenário, os formadores podem desenvolver transações adicionais entre a conta bancária em Ostland e contas bancárias noutros países pertencentes a partes estatutárias da Convenção de Budapeste ou não. Ao critério dos formadores, o fim das transferências bancárias pode ser no país que está dentro do âmbito da Convenção de Budapeste ou não. No segundo caso, provavelmente os vestígios e provas finais serão perdidos ou não poderão ser recuperado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C6CB8D-2614-4486-BA96-62B0B901B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apresentação e apresentará as principais partes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9A080-B1E6-44A9-B45E-40975F28B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F35B0-E41A-4E01-A808-C28E8C202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50BD9-9AAF-41B8-87F9-A0E672B47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A9B5C-0F7B-46DD-AA9C-4C5463A44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as eletrónicas devem ser examinadas e utilizadas como ferramenta essencial para a construção e o término da investigação e a preparação do caso para julgament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EC8DC-29EB-4A39-8EAD-DC7FD4D77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F0337-93E3-4A46-A208-9D3460924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9A1FF-CB68-439E-9107-AB832B454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39B1A-8642-47A4-B665-680ECA6AF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C6A88-69C3-4AFD-8F10-B4A1FB4F1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ário de estudo de caso começa com o estabelecimento do Federal Bank of Atlantis (FBA), banco internacional bem conhecido, bem estabelecido e respeitado. Uma descrição como esta deve levar os formandos a tomarem uma decisão de que este tipo de banco não deve estar envolvido em nenhum tipo de problema, muito menos aqueles semelhantes a um que será descrito adia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 formandos devem identificar os principais factos e as principais divisões e participantes do negócio, a fim de compreender o âmbito e a configuração do círculo de negócios, no qual serão definidos mais detalhes sobre 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827714-0CC8-47CA-9627-82D9B73F3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Federal Bank of Atlant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A0A988-ABE3-4DD3-AF52-60205CEF9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United Bank Prin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C9FF0-834C-446E-A558-DF729A538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ganização fictícia Docklands Securities Bank of Nor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3F412-A9A5-49D4-ACB5-AFEDB5AC1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BD0C6-6CFD-4B99-9D46-E9C6E6518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E706-ABF6-426B-910F-1EC98F63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AD2-27BD-4893-8B21-17457D1F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C1B-C78D-43C4-9E9E-2AB810D4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3DAB-EF73-4D8C-91BB-D8B7745B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BD5-C091-42CE-80FB-9E22C37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9095-1932-480F-8767-9D912865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F9E-8762-48D8-9819-01B1D574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B6A-CBB6-42F9-B3A0-3B484EEC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16B-F66E-4CBA-8E91-6AF96195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6D0-683C-4095-8220-8545104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6FC-F89E-4933-9216-CCF3F0F5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BAE3-FD62-4D3A-B7DA-D352C31C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991C6C-D89E-4BA7-A25B-F60E238720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3A635-53A7-4866-9350-7CFEF27056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Sessão 2.2.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Introdução ao estudo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755336E-8B9E-4DC9-82CA-704347733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FBA), na qualidade de banco conhecido, bem-sucedido e fiáve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missão de bónus especial de aniversári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partamento de Logística e Operaçõ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DLO) encarregado da logística deste cas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UBP) como fornecedor de material de impress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clusão do Departamento Financeiro do F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r parte do DLO na logística do negóc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2C9E898-D617-4327-AA4F-ADD353B26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6328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Devido ao período de férias de verã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, foi incluído o pessoal júnior e recentemente contratad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uspeita de que o pessoal júnior é, na verdade, membro do grupo de crime organizad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que solicitou a posição de nível inferior do DLO, a fim de obter qualquer tipo de acesso direto aos computadores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O objetivo era apresentar um e-mail específico de spywar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capaz de fazer cópias de correspondência por e-ma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9B6C0B4-990E-425C-94B8-44626E70F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21104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"Foi feito um pedido por parte do FBA para a compra de 20.000 materiais em papel especializados da UBP pelo preço de 300.000 €. Os departamentos relevantes do FBA e da UBP começaram a tratar da parte logística e financeira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inclusão do Docklands Securities Bank of Norland no círculo de negócios como banco designado da UBP para a transferência de dinheir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agamento efetivo da transferência inicial de 100.000 € entre o FBA e a UBP com contas DSBL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trodução do facto de as contas SWIFT e IBAN serem incluídas na transação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C8B2223-094B-43BB-9697-794269D07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2F6DB82-5BAB-400F-A080-AC2B52836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B574A53-2EC2-46DF-B482-05610992F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determinante para a perpetração do crime - o membro do OCG, através de spyware, conseguiu seguir o desenvolvimento da transação comercial entre o FBA e a UB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ção e reação imediata no momento do pagamento f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tilização de faturas falsas previamente elaboradas com títulos de e-mai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Todo o esquema assumiu um caráter mais urgente, tal como o Departamento Financeiro d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0B2F2C0-D7EC-4E60-9DB1-F9276F0A8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6820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 impressão efetiva do material em papel foi feita e a UBP notificou esse facto, sendo que o FBA solicitou o pagamento devid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membro infiltrado do grupo de crime organizado, através de spyware, detetou os momentos finais da conclusão do negócio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grupo registou-se como empresa "fictícia" em Ostland e abriu uma conta bancária comercial na filial do banco utilizado em Ostland pelo FBA;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lsa documentação, incluindo a parte principal – foi elaborada uma fatura falsa;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202A3BE-9A9E-42DB-996F-C527110EDC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2160"/>
            <a:ext cx="822960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 servidor SMTP aberto foi encontrado e testado para envio de e-mails falsos (ou pode ser utilizado um exemplo de uma conta de webmail com uma pequena alteração ao nome da conta de e-mail, consoante as habilidades do formador)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Os serviços do servidor de e-mail SMTP aberto foram pagos em Bitcoins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Calibri"/>
              </a:rPr>
              <a:t>Foram elaborados e-mails falsos, incluindo os nomes das pessoas do Departamento Financeiro, detalhes sobre o contrato e o idioma que foram utilizados anteriormente;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8AC417B-A1ED-47B2-AF14-D9D7D0C91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iretor Financeiro autoriza a transferência com base em documentos apresentados anteriormente: correio falso da UBP com uma fatura falsa que continha a conta bancária falsa num país diferente tanto para o FBA como para a UB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omento em que a fraude é cometida e 200.000 EUR são transferidos para a conta fraudulent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Departamento Financeiro da UBP conferiu a sua conta bancária e respondeu à FBA dizendo que não foi recebido qualquer pagament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CCF73FE-DAFD-4425-960D-8A551CCB0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803160"/>
            <a:ext cx="851364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i="1" lang="pt-PT" sz="26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s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819A745-2788-496A-AAF4-DA4EBC370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386E9BE-9CDE-46B2-A1DB-72C4D0D51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113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D879A02-214B-45A4-9BB1-C4567BD8BE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o FBA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tenção de provas eletrónicas e outras provas da UBP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gisto dos depoimentos dos representantes da DSBN em Norland e Ostland;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4FCCB7C-AA59-4064-8E9E-994D0047D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ício da investiga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eletrónicas e outras provas de ambos os banc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btenção de provas da autoridade de registo comercial competente em Ostland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operação entre a polícia, o Ministério Público e, se for caso disso, juízes de instrução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clusão de assistência jurídica internacional nas disposições da Convenção de Budapeste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30D5B14-D098-47E1-AFC8-8F618E63A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cipais provas eletrón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yware utilizado no FB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vidor SMTP para envio de 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iptomoeda (Bitcoin)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regulare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-mails fals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turas falsa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informáticos da UBP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bancários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comerciais da empres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os de vigilância;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ra provas eletrónicas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1FF9FB8-5E46-4415-A517-62055D864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85F5774-DEB5-4F3C-A3C4-EE9D32BED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1640"/>
            <a:ext cx="85122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F14E23E-C17E-4D7A-BE1F-950B4D3E43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445C526-1810-4E8F-8DAF-A1B8C94EC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047240"/>
            <a:ext cx="851220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No final desta sessão,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s formandos serão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Identificar as pessoas jurídicas e naturais envolvidas no cenário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o </a:t>
            </a:r>
            <a:r>
              <a:rPr b="1" i="1" lang="pt-PT" sz="2800" spc="-1" strike="noStrike">
                <a:solidFill>
                  <a:srgbClr val="000000"/>
                </a:solidFill>
                <a:latin typeface="Calibri"/>
              </a:rPr>
              <a:t>layout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 do caso e a situação dos factos introdutórios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Seguir e explicar o fluxo e o desenvolvimento da investigação do caso.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Explicar como é que o ato criminoso foi cometido e quem foram os principais intervenient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mo e onde é que a investigação criminal deve começar e quais devem ser os veto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04E7A6D-DD4C-4754-B0C1-F0E24A8B2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8C83DF6-0C27-476C-B774-772CAAF8A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klands Securities Bank 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ção e principais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B61E303-3478-40A8-9F6E-C66AAE615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6840" y="1582560"/>
            <a:ext cx="840420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Federal Bank of Atlan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Banco fornec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a série de serviços bancários e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Federal Bank of Atlantis Ltd., FBA Bank Towers, Atlantis 123456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 e funcionários: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idente Independente Não Executivo do Conselho, Diretor Executivo, Diretor-Geral, Diretor a Tempo Inteiro, Diretor Executivo e Financeiro do Grupo, Secretário da Empresa, Diretor-Geral Executivo (Jurídico), Diretor-Geral Executivo e Chefe de Relações com Investidores, Auditoria Interna do Grupo e Diretor-Geral Executivo, Diretor Executivo, Chefe do Departamento de Logística e Operações, Chefe do Departamento de Tecnologia da Informa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777C6F3-8DCF-4FDC-A9D4-655C5A930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Users\B.Stam\Desktop\AJT evidences\FBA logo.jpg"/>
          <p:cNvPicPr/>
          <p:nvPr/>
        </p:nvPicPr>
        <p:blipFill>
          <a:blip r:embed="rId1"/>
          <a:stretch/>
        </p:blipFill>
        <p:spPr>
          <a:xfrm>
            <a:off x="6675480" y="957240"/>
            <a:ext cx="20113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34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United Bank Pri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UBP fornece serviços de impressão e gestão da cadeia de suprimentos especializados para o setor bancário. A empresa também organiza e envia publicações bancárias de curto a médio prazo, que são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stribuídas em revistas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pecializ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United Bank Printing, Green Garden Avenue 123, Blankenberg 123456, Norlan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iretor Executivo, Diretor-Geral, Diretor a Tempo Inteiro, Diretor Financeir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BE293-0E43-4326-9A45-D179FC81F1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Users\B.Stam\Desktop\AJT evidences\UBP.jpg"/>
          <p:cNvPicPr/>
          <p:nvPr/>
        </p:nvPicPr>
        <p:blipFill>
          <a:blip r:embed="rId1"/>
          <a:stretch/>
        </p:blipFill>
        <p:spPr>
          <a:xfrm>
            <a:off x="5840280" y="1349280"/>
            <a:ext cx="24051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34800" y="1095480"/>
            <a:ext cx="84744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Doklands Securities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of Nor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O Docklands Security Bank of Norland presta serviços banc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a corporações, governos, investidores institucionais, pequenas e médias empresas e pessoas fís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Morada da empresa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Docklands Security Bank of Norland, DSBN Homestead Building, Blankenberg 65432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Diretores e funcionári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Presidente Independente Não Executivo do Conselho, Diretor Executivo, Diretor-Geral, Diretor a Tempo Inteiro, Diretor Executivo e Financeiro do Grupo, Secretário da Empresa, Diretor-Geral Executivo, Diretor-Geral e Chefe de Relações com Investidores, Chefe de Auditoria Interna do Grupo e Diretor-Geral Executivo, Diretor Executiv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rodução e principais intervenien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217E2A2-298E-492A-938C-3B833A888D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Slika 5" descr="C:\Users\B.Stam\Desktop\DSBN.jpg"/>
          <p:cNvPicPr/>
          <p:nvPr/>
        </p:nvPicPr>
        <p:blipFill>
          <a:blip r:embed="rId1"/>
          <a:stretch/>
        </p:blipFill>
        <p:spPr>
          <a:xfrm>
            <a:off x="5423040" y="1192320"/>
            <a:ext cx="3122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4009178-022C-4177-830E-671E4B4D3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53:08Z</dcterms:modified>
  <cp:revision>166</cp:revision>
  <dc:subject/>
  <dc:title>Introductory Cybercrime Training for Judges and Prosecutors</dc:title>
</cp:coreProperties>
</file>