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AA3A5-26F3-4D61-B1A1-DDE1DCDEF4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F726A-EC2C-450C-948D-5D1D5D34B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ção ao estudo de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cenário do estudo de caso refere-se a esquemas recentes de comprometimento de e-mails empresariais ou "BEC" (do inglês, Business E-Mail Compromise), que derivam de fraudes como "fraude de CEO" ou "ataques indiretos/por intermediários"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an-in-the-midd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anteriormente detetad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1266B-9E33-4F3A-9951-6941C2686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 esta formação, foram criadas empresas e países fictícios. Estes são Atlantis, Norland, Ostland, Westland, etc. Para o exercício, todos eles ratificaram a Convenção do Conselho da Europa sobre Cibercrime (“Convenção de Budapeste”). Esta abordagem é para permitir a transferência da formação entre jurisdições, sem a necessidade de grandes mudanças nos materiais do curso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8664A-AC5D-4F49-A689-59E5110D8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trodução do facto de que, por causa do período de férias de verão, funcionários recentemente contratados foram incluídos numa operação tão importante deve levantar imediatamente suspeitas entre os formand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0E69B-6940-4339-B772-1C76ED82FF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figuração financeira deve indicar que a transferência bancária inicial não teve problemas e que mencionar as contas SWIFT e IBAN significa que a transferência de dinheiro é da natureza internacional e não nacion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 formandos devem começar a considerar a utilização dos artigos de assistência jurídica internacional da Convenção de Budapest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4B74E-50A1-4B4D-A159-17718E511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Doi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956CD-53B8-4A99-A2F7-ADB58A654D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nvolvimento da perpetração apresentado pelos passos mais importantes e os seus result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EF4F4-E6F0-4450-A9C1-CDC2F135B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nvolvimento da perpetração apresentado pelos passos mais importantes e os seus result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115D94-437A-407C-BB9B-3DC2CE985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nvolvimento da perpetração apresentado pelos passos mais importantes e os seus result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EBA99-7D7E-42B9-9796-3A4BE5DD9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oante o desenvolvimento do cenário, os formadores podem desenvolver transações adicionais entre a conta bancária em Ostland e contas bancárias noutros países pertencentes a partes estatutárias da Convenção de Budapeste ou não. Ao critério dos formadores, o fim das transferências bancárias pode ser no país que está dentro do âmbito da Convenção de Budapeste ou não. No segundo caso, provavelmente os vestígios e provas finais serão perdidos ou não poderão ser recuperad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6B4C7-067D-4E60-B3E3-FD9FDB757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Um da apresentação fará a apresentação e apresentará as principais partes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Dois apresentará o layout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Três será a perpetração do ato criminos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Quatro irá estabelecer as bases para o início da investigação e trabalho dos forman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Cinco é um resumo dos apresentados anteriorm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5A5CF-3E49-469D-98BA-DB9A57839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Trê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BD1B35-0FCC-4A80-B359-F5706F0339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E703CA-B6B0-4A26-874C-66BA8B0EE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64B31-A8D8-4DC0-8502-E7AFB72617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as eletrónicas devem ser examinadas e utilizadas como ferramenta essencial para a construção e o término da investigação e a preparação do caso para julgamen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CD9F3-3F60-470F-A56A-4293D45D6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Quatro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06DDD-5CFF-4413-98F9-88C3617D4A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40A3D-E759-4C92-A7A8-1CB3A8753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A7EDF1-AB4C-431D-9E46-65638B6A0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18788-1D0E-42B4-879B-F3BE4A1F9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ário de estudo de caso começa com o estabelecimento do Federal Bank of Atlantis (FBA), banco internacional bem conhecido, bem estabelecido e respeitado. Uma descrição como esta deve levar os formandos a tomarem uma decisão de que este tipo de banco não deve estar envolvido em nenhum tipo de problema, muito menos aqueles semelhantes a um que será descrito adia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 formandos devem identificar os principais factos e as principais divisões e participantes do negócio, a fim de compreender o âmbito e a configuração do círculo de negócios, no qual serão definidos mais detalhes sobre 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94A96E-78E0-48FB-B6B0-41AF15D80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ção fictícia Federal Bank of Atlant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500615-01D4-48D8-BE2C-E0C668A47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ção fictícia United Bank Prin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9150B-BCE9-4B71-9964-4A3547EA8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ção fictícia Docklands Securities Bank of Nor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FC089-E266-488B-A4BB-C2EE983E5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Um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90B51A-DE52-471F-B1D9-F6C1EDEE38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FB96-7216-41A9-8B92-20641E3D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801-9378-47BC-A51D-76CAB0E4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EBCB-30E7-4C6D-9F09-CF67FFF4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3634-43E6-4F57-A42B-5D52653C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25B-4ACC-4F8D-8AF5-99888126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925-17C3-471A-96AD-54C01985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D8CB-EBA4-4ABA-9AB0-4CDA2E4A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82F8-3056-4209-B20F-372E22CF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1132-FB42-42BB-AAFA-16B563B3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B80D-083E-44E9-ACA3-C8D0F97E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4E48-EA94-42D4-A7E5-028197BE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F35C-6253-45CC-B36A-0EE639DA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3DC82-638C-43F7-9D18-81AF751318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66C8DC-A849-45E8-BEF0-4D8DDF69A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ação Avançada sobre Cibercrime para Juízes e Procura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898989"/>
                </a:solidFill>
                <a:latin typeface="Calibri"/>
              </a:rPr>
              <a:t>Sessão 2.2.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898989"/>
                </a:solidFill>
                <a:latin typeface="Calibri"/>
              </a:rPr>
              <a:t>Introdução ao estudo do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e Dois: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8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543A0CC-41E0-4EF6-A243-43F588828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deral Bank of Atlant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FBA), na qualidade de banco conhecido, bem-sucedido e fiáve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missão de bónus especial de aniversári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partamento de Logística e Operaçõ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DLO) encarregado da logística deste cas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ited Bank Print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UBP) como fornecedor de material de impressã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são do Departamento Financeiro do FB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or parte do DLO na logística do negóc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2E1D325-F9C9-4156-ACE0-D62C41B63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6328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Devido ao período de férias de verão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, foi incluído o pessoal júnior e recentemente contratad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Suspeita de que o pessoal júnior é, na verdade, membro do grupo de crime organizado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que solicitou a posição de nível inferior do DLO, a fim de obter qualquer tipo de acesso direto aos computadores do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O objetivo era apresentar um e-mail específico de spyware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capaz de fazer cópias de correspondência por e-ma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7BC0873-4B92-495F-BFF4-C6DC0075B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21104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"Foi feito um pedido por parte do FBA para a compra de 20.000 materiais em papel especializados da UBP pelo preço de 300.000 €. Os departamentos relevantes do FBA e da UBP começaram a tratar da parte logística e financeira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 inclusão do Docklands Securities Bank of Norland no círculo de negócios como banco designado da UBP para a transferência de dinheiro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Pagamento efetivo da transferência inicial de 100.000 € entre o FBA e a UBP com contas DSBL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Introdução do facto de as contas SWIFT e IBAN serem incluídas na transação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29594BC-8B91-496D-A3F8-0356D9D09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FBE3CD2-696D-4864-809E-F1F602CC5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e Trê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9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74BCF9C-C883-4907-A94E-357B7AE4C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omento determinante para a perpetração do crime - o membro do OCG, através de spyware, conseguiu seguir o desenvolvimento da transação comercial entre o FBA e a UB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Identificação e reação imediata no momento do pagamento fina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Utilização de faturas falsas previamente elaboradas com títulos de e-mai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Todo o esquema assumiu um caráter mais urgente, tal como o Departamento Financeiro da UB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3988CD5-D0A7-4C36-B155-555D931B0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6820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 impressão efetiva do material em papel foi feita e a UBP notificou esse facto, sendo que o FBA solicitou o pagamento devido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membro infiltrado do grupo de crime organizado, através de spyware, detetou os momentos finais da conclusão do negócio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grupo registou-se como empresa "fictícia" em Ostland e abriu uma conta bancária comercial na filial do banco utilizado em Ostland pelo FBA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alsa documentação, incluindo a parte principal – foi elaborada uma fatura falsa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E498D8B-CFB4-4E8E-973B-5CA81DB10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62160"/>
            <a:ext cx="82296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Calibri"/>
              </a:rPr>
              <a:t>O servidor SMTP aberto foi encontrado e testado para envio de e-mails falsos (ou pode ser utilizado um exemplo de uma conta de webmail com uma pequena alteração ao nome da conta de e-mail, consoante as habilidades do formador);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Calibri"/>
              </a:rPr>
              <a:t>Os serviços do servidor de e-mail SMTP aberto foram pagos em Bitcoins;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Calibri"/>
              </a:rPr>
              <a:t>Foram elaborados e-mails falsos, incluindo os nomes das pessoas do Departamento Financeiro, detalhes sobre o contrato e o idioma que foram utilizados anteriormente;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6C6F22D-B128-49CA-992A-7188F6FC1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Diretor Financeiro autoriza a transferência com base em documentos apresentados anteriormente: correio falso da UBP com uma fatura falsa que continha a conta bancária falsa num país diferente tanto para o FBA como para a UB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omento em que a fraude é cometida e 200.000 EUR são transferidos para a conta fraudulent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Departamento Financeiro da UBP conferiu a sua conta bancária e respondeu à FBA dizendo que não foi recebido qualquer pagament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074D541-D5A8-472A-A749-B9059B9FF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803160"/>
            <a:ext cx="851364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Um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Dois</a:t>
            </a:r>
            <a:br>
              <a:rPr sz="2600"/>
            </a:br>
            <a:r>
              <a:rPr b="0" i="1" lang="pt-PT" sz="26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s Três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Quatro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Cin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sum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263AE5C-C17D-4A93-86FB-653FA5965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1FE8779-F6FC-4CD2-9033-72B42F45F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te Quatro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113" name="Čuvar mesta za broj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9FBCE3D-6F18-4C91-9C66-6BFF02BAE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gisto dos depoimentos dos representantes do FBA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Obtenção de provas eletrónicas e outras provas do FBA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gisto dos depoimentos dos representantes da UBP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Obtenção de provas eletrónicas e outras provas da UBP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gisto dos depoimentos dos representantes da DSBN em Norland e Ostland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C9EC749-817F-448E-9AA7-28022AA1E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btenção de provas eletrónicas e outras provas de ambos os banc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btenção de provas da autoridade de registo comercial competente em Ostland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ooperação entre a polícia, o Ministério Público e, se for caso disso, juízes de instrução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Inclusão de assistência jurídica internacional nas disposições da Convenção de Budapeste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55967A6-D92F-4D60-9491-F17AB9A38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ncipais provas eletrón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yware utilizado no FBA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idor SMTP para envio de e-mails fals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ptomoeda (Bitcoin)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-mails regulare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-mails fals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turas falsa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informáticos da UBP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bancári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comerciais da empresa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de vigilância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ra provas eletrónicas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45C31A0-A7EA-4AE7-86CE-3C6D62356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4BE8681-9837-4526-A620-11E2C2023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6840" y="1061640"/>
            <a:ext cx="8512200" cy="52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No final desta sessão, os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ormandos serão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apazes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Identificar as pessoas jurídicas e naturais envolvidas no cená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xplicar o 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do caso e a situação dos factos introdutóri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Seguir e explicar o fluxo e o desenvolvimento da investigação do cas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xplicar como é que o ato criminoso foi cometido e quem foram os principais intervenien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omo e onde é que a investigação criminal deve começar e quais devem ser os vet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su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19CD312-70C0-4E14-BF85-3107F0B0F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C5C95DD-2547-4E63-9F12-E8E619361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047240"/>
            <a:ext cx="851220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No final desta sessão,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s formandos serão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apazes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Identificar as pessoas jurídicas e naturais envolvidas no cenário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Explicar o </a:t>
            </a:r>
            <a:r>
              <a:rPr b="1" i="1" lang="pt-PT" sz="28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 do caso e a situação dos factos introdutórios.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Seguir e explicar o fluxo e o desenvolvimento da investigação do caso.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Explicar como é que o ato criminoso foi cometido e quem foram os principais intervenien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Como e onde é que a investigação criminal deve começar e quais devem ser os vet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a sess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D3FDA71-D0DC-4928-8213-54B72369E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rte Um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5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7231437-1E19-4B28-A8CB-71099A969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ção e principais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ção e principais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klands Securities Bank 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ção e principais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7D9006D-B8F5-44DA-8753-52FE4E48E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6840" y="1582560"/>
            <a:ext cx="840420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O Banco fornece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uma série de serviços bancários e financeir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Morada da empresa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Federal Bank of Atlantis Ltd., FBA Bank Towers, Atlantis 123456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Diretor e funcionários: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Presidente Independente Não Executivo do Conselho, Diretor Executivo, Diretor-Geral, Diretor a Tempo Inteiro, Diretor Executivo e Financeiro do Grupo, Secretário da Empresa, Diretor-Geral Executivo (Jurídico), Diretor-Geral Executivo e Chefe de Relações com Investidores, Auditoria Interna do Grupo e Diretor-Geral Executivo, Diretor Executivo, Chefe do Departamento de Logística e Operações, Chefe do Departamento de Tecnologia da Informaçã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15B4E9C-8C61-4AE7-ADE0-4F27EF886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C:\Users\B.Stam\Desktop\AJT evidences\FBA logo.jpg"/>
          <p:cNvPicPr/>
          <p:nvPr/>
        </p:nvPicPr>
        <p:blipFill>
          <a:blip r:embed="rId1"/>
          <a:stretch/>
        </p:blipFill>
        <p:spPr>
          <a:xfrm>
            <a:off x="6675480" y="957240"/>
            <a:ext cx="20113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349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 UBP fornece serviços de impressão e gestão da cadeia de suprimentos especializados para o setor bancário. A empresa também organiza e envia publicações bancárias de curto a médio prazo, que são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istribuídas em revistas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especializad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Morada da empresa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United Bank Printing, Green Garden Avenue 123, Blankenberg 123456, Norland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Diretores e funcionári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Diretor Executivo, Diretor-Geral, Diretor a Tempo Inteiro, Diretor Financei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54AE4-B655-49B7-9F3A-CE91E6115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B.Stam\Desktop\AJT evidences\UBP.jpg"/>
          <p:cNvPicPr/>
          <p:nvPr/>
        </p:nvPicPr>
        <p:blipFill>
          <a:blip r:embed="rId1"/>
          <a:stretch/>
        </p:blipFill>
        <p:spPr>
          <a:xfrm>
            <a:off x="5840280" y="1349280"/>
            <a:ext cx="240516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34800" y="1095480"/>
            <a:ext cx="84744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Doklands Securities Ba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O Docklands Security Bank of Norland presta serviços bancári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a corporações, governos, investidores institucionais, pequenas e médias empresas e pessoas físic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Morada da empresa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Docklands Security Bank of Norland, DSBN Homestead Building, Blankenberg 65432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Diretores e funcionári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Presidente Independente Não Executivo do Conselho, Diretor Executivo, Diretor-Geral, Diretor a Tempo Inteiro, Diretor Executivo e Financeiro do Grupo, Secretário da Empresa, Diretor-Geral Executivo, Diretor-Geral e Chefe de Relações com Investidores, Chefe de Auditoria Interna do Grupo e Diretor-Geral Executivo, Diretor Executiv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3AA5B0E-81B3-4A2B-809B-4F17C367E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Slika 5" descr="C:\Users\B.Stam\Desktop\DSBN.jpg"/>
          <p:cNvPicPr/>
          <p:nvPr/>
        </p:nvPicPr>
        <p:blipFill>
          <a:blip r:embed="rId1"/>
          <a:stretch/>
        </p:blipFill>
        <p:spPr>
          <a:xfrm>
            <a:off x="5423040" y="1192320"/>
            <a:ext cx="3122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2C7FBA7-340D-4EA6-B6AB-80F7F7CDF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dc:language>en-US</dc:language>
  <cp:lastModifiedBy>Pedro Verdelho</cp:lastModifiedBy>
  <dcterms:modified xsi:type="dcterms:W3CDTF">2019-04-22T13:53:08Z</dcterms:modified>
  <cp:revision>166</cp:revision>
  <dc:subject/>
  <dc:title>Introductory Cybercrime Training for Judges and Prosecutors</dc:title>
</cp:coreProperties>
</file>