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F966A-9B08-4C13-BA38-3968DEAC4436}"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CB33-9562-4F6C-87AF-09A000E3C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DF925-7C58-44C3-9B4A-A699A5A1B2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6506E-554C-4490-85EA-9CA59561AF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5F08F-36C5-4494-8ECE-5CBAF62292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AE036-BBFE-4886-9925-9F483725B0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4A322-6715-4512-8977-E71D772C2F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FFC2F-E09D-4748-B551-65F0586B32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63A2B-63BB-47F6-BE77-C030D5F1E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327FE-7DAE-45F3-8671-82E3849EB3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4AC95-7E5E-432E-A23C-513063945C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B3577-9029-498E-A41F-7F2C978C9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46924-EE09-408E-8095-5577C8CA68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E5D29-9E7A-4D5A-B778-6231F72EA3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FB0DC-6080-476E-922F-3DE67D0176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0C77D-CB74-4912-981B-8C5C66B86E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0DC58-F831-4694-BBCE-468649D2E8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73818-9C22-41E9-8A8A-1170FD7418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6F1B1-9815-41E5-A165-E998E9FF2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391C9-73CA-4571-8DCC-962A4C1DD3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024EA-7DE6-4A78-96BF-361F6E0EF3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1EBFC-5B94-4720-8387-9D1FAAA51F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225CC-3AC2-4276-8F82-4D3BA9445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EF9D8-DDCF-4C3F-9CA3-D9BD99E6F3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62DCF-076E-411D-B147-D444D7DB2A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AC71B-2BB4-4644-903D-4D0690A362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3D23D-41F5-48EC-B32B-218426209D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73A08-BF8B-45EC-9228-C3F9AB0001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97827-4512-40E6-BBDF-69626BDD2B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CD6F8-C70F-44CA-8E98-A6004C0829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0000C-3CB2-40BF-BA99-3BE97E2892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507B1-0490-4E47-888C-CF94E81045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6EB96-7C2C-42CC-8734-DCD3E78C98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F2BC1-E610-4F57-B7BA-4F3A61EBC1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0ED90-4EB9-4941-BC2D-E89AAC32B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9C20F-E753-4E52-9434-5DEC5631AE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7BAC2-2512-4BBC-B582-257495A6BC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BC0A5-4963-488A-868D-656DCCCFD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364D5-1E08-4214-B418-B4335C5A9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2E06B-8857-4761-993C-A414346472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EF28A-1D7C-4ABE-AC60-747A90D314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24B52-91C4-4D16-A3B2-CDDA2DBE23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4C740-C88F-48CB-9897-7821CFD73E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8842A-B723-41AE-ABB4-117D9D6A76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7BA61-C528-4C35-8A8F-FC7B9ADCB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5623F-B7CA-46D1-81C9-5C973997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819F5-F804-4A90-88FB-F2C84052A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84C8A-A13A-4CA1-B7AD-8F2374C90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D359-36E2-44F0-967A-C139253A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0D6A8-81CF-4D14-B5D5-E5FCEAA5C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B5E9-D8DA-4B2D-B4A2-F94E35E1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3FCB0-3C02-4F5A-A643-D44212787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9C418-6E3F-4E5A-83D5-D2C0FE32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0120-147B-4F82-98E7-4B2C72A5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78F10-64A6-4BF2-BBF9-DDD82C2E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257C-067C-4E54-B4CB-8BFEE429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D55E5-8AFB-466A-8365-FF526242A1B8}"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6E047-83E4-462D-98B9-FB60E00F76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2.3.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CB8B2E-7EA6-4D67-851D-A65CD3F898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EB2ED-E3A1-4A1E-9656-D4D37AF83E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9581C-3AB7-4FD2-9B35-B2E5DB90A4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9DF52-E77A-491D-9DFF-19CEAF8F3C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15103-354F-4B04-87B5-88204A19A9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CF416-D13B-4192-A1F0-40DA6FA2C8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CD22C-2431-4238-BF82-99F65C82F9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A8BD9-70C0-4770-94DA-C721789D1F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9985B-E634-4F20-8ABB-952A4CD953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EDDA6-CD12-4210-BEE1-3A91EBD621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E691F-8799-4889-9237-6178B8FEDB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375E55-3972-43B7-A91C-CF5946D5A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4D34E-4DD9-4889-80A1-F688F9808A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AFD64-C668-4079-9D69-3226C6F39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66E14-9EDF-4A76-AEC7-6235A74B2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1A720-A526-4750-BD58-8713CE159E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36FD0-C624-43EE-BC10-23A593207C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69BD3-7D08-4A16-BF2C-B2F0063ED3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4FF23-7DF4-45F2-B0C6-A21D04FEF1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6B850-FFBC-41D8-8948-DB0B5AC03C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E3C7C-03E1-4C8C-8110-799427CF2C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42DE5-DC3C-4EA4-BF0B-F674365BA8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EC4032-6BE0-4AD9-8DB9-701F580388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8C8D-A321-4CF3-9C94-0CFBA52B48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84C2B-EF59-464D-8073-AF0072107A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7498F-56B0-4E59-987C-C9EE45674D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2B84E-0EC1-4D89-9976-574DCD341C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F8FEA-1E8B-45DB-A564-C4D1B6431F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A2FC3-FA75-4E5A-A4E5-E70FA6C61F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DEFD7-E98C-4265-A470-2648B1B08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0ED14-0F40-4C95-AD29-DE8E485556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4F83B-C635-425A-B886-9531405543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5679B-7569-40C9-9CC0-20AA66DD47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2644D-87FA-450C-9472-A317B3F819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71A45-13CA-42DD-8FE8-18E8906E47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D4FB0-E75D-4634-BB55-89AEED40AC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B496F8-B1CB-485F-AFE1-BE357B09B9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F1A5F-BAB7-40CF-9546-F434273319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95745-8B27-4EB5-953B-055456D260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A0006-0472-4732-937D-372AF563EB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8:29Z</dcterms:modified>
  <cp:revision>428</cp:revision>
  <dc:subject/>
  <dc:title>Introductory Cybercrime Training for Judges and Prosecutors</dc:title>
</cp:coreProperties>
</file>