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D928F-9CFF-401A-B706-C4CFE8425E66}"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53177D-2198-43C9-A437-6C5BB6DF85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9D9FB7-9F53-462C-8F00-2AEF2C318F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ao direito </a:t>
            </a:r>
            <a:r>
              <a:rPr b="0" lang="pt-PT" sz="1200" spc="-1" strike="noStrike" u="sng">
                <a:solidFill>
                  <a:srgbClr val="000000"/>
                </a:solidFill>
                <a:uFillTx/>
                <a:latin typeface="Calibri"/>
              </a:rPr>
              <a:t>substantivo</a:t>
            </a:r>
            <a:r>
              <a:rPr b="0" lang="pt-PT" sz="1200" spc="-1" strike="noStrike">
                <a:solidFill>
                  <a:srgbClr val="000000"/>
                </a:solidFill>
                <a:latin typeface="Calibri"/>
              </a:rPr>
              <a:t> aos deleg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diz respeito à conduta de hackear unidades de dados e instalar malware em sistemas informáticos de uma instituição financeira de renome. Requer a identificação das infrações relevantes e é esperado que seja fornecida uma justificação para as infrações relevantes por parte da legislação 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conduta criminosa que está a ocorrer no DarkHacker e refere-se, particularmente, à venda do software de tradução no fórum. Requer que os participantes identifiquem as infrações relevantes e forneçam uma justificação para a respo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refere-se à conduta do agente da autoridade que adquiriu códigos de acesso para efeitos de acesso a um sistema informático.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61BAC-E0EA-467B-B588-D91D726903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prestador de serviços de e-mail está sediado e possui centros de dados localizados no país em que a investigação está a ser desenvolvida. O formador também deve esclarecer que o prestador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delegados 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F81F2-E45B-44E5-B3F3-08760CF7E4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2 (direito </a:t>
            </a:r>
            <a:r>
              <a:rPr b="0" lang="pt-PT" sz="1200" spc="-1" strike="noStrike" u="sng">
                <a:solidFill>
                  <a:srgbClr val="000000"/>
                </a:solidFill>
                <a:uFillTx/>
                <a:latin typeface="Calibri"/>
              </a:rPr>
              <a:t>substantivo</a:t>
            </a:r>
            <a:r>
              <a:rPr b="0" lang="pt-PT" sz="1200" spc="-1" strike="noStrike">
                <a:solidFill>
                  <a:srgbClr val="000000"/>
                </a:solidFill>
                <a:latin typeface="Calibri"/>
              </a:rPr>
              <a:t>)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34B9C-582A-485D-A38E-F9E36E5610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aos poderes processuais aos deleg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diz respeito à questão de que a política de retenção do prestador de serviços de e-mail é limitada a 7 dia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medidas apropriadas para impedir que o processo de investigação seja compromet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identificação das informações necessárias que permitiriam a identificação da pessoa que enviou o código de acesso através da conta de e-mail criminal@scammail.com. A segunda parte desta questão requer que os </a:t>
            </a:r>
            <a:r>
              <a:rPr b="0" lang="pt-PT" sz="1200" spc="-1" strike="noStrike" u="sng">
                <a:solidFill>
                  <a:srgbClr val="000000"/>
                </a:solidFill>
                <a:uFillTx/>
                <a:latin typeface="Calibri"/>
              </a:rPr>
              <a:t>formandos</a:t>
            </a:r>
            <a:r>
              <a:rPr b="0" lang="pt-PT" sz="1200" spc="-1" strike="noStrike">
                <a:solidFill>
                  <a:srgbClr val="000000"/>
                </a:solidFill>
                <a:latin typeface="Calibri"/>
              </a:rPr>
              <a:t>  expliquem como esta informação pode ser ob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é um pouco mais vasta e refere-se a terceiros que foram contactados por uma conta de e-mail específica.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o procedimento através do qual estas informações dev</a:t>
            </a:r>
            <a:r>
              <a:rPr b="0" lang="en-US" sz="1200" spc="-1" strike="noStrike">
                <a:solidFill>
                  <a:srgbClr val="000000"/>
                </a:solidFill>
                <a:latin typeface="Calibri"/>
              </a:rPr>
              <a:t>em ser obtidas.</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98067-B8B8-4662-BEBE-7CDE7CE514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93337-5ECE-4F3D-8AD8-B2C242196C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3970D-5F29-480D-9532-EEFB306F76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às formas de cooperação aos </a:t>
            </a:r>
            <a:r>
              <a:rPr b="0" lang="pt-PT" sz="1200" spc="-1" strike="noStrike" u="sng">
                <a:solidFill>
                  <a:srgbClr val="000000"/>
                </a:solidFill>
                <a:uFillTx/>
                <a:latin typeface="Calibri"/>
              </a:rPr>
              <a:t>formandos</a:t>
            </a:r>
            <a:r>
              <a:rPr b="0" lang="pt-PT"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relaciona a identificação do tipo de informações que seriam necessárias para determinar quem está a utilizar a conta de e-mail mencion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obtenção das informações acima identificadas. O formador deve esclarecer que, embora possa haver várias formas de acesso e obtenção a esses dado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medida mais ráp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diz respeito à obtenção de dados de e-mail de pessoas que consentiram voluntariamente com a divulgação em questão. Novamente, é importante enfatizar que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forma mais rápida de obter esses e-mail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91D2F-BBB0-423C-9D2C-19AE350EB2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4 (cooperação internacional)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pós um interrogatório, toma-se conhecimento de que um sistema informático utilizado pelo DarkHacker está localizado num país diferente,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otícia da prisão de Boris Smith não foi divulgada e não há razão para os LEA acreditarem que os dados do computador armazenados no sistema informático do DarkHacker estão vulneráveis a perda ou modific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lém disso, o formador deve explicar que Boris Smith avisou as LEA de uma comunicação específica que será realizada no dia seguinte às 17:00, utilizando a conta de e-mail fraud@hackmail.com.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BCC967-E33D-4CA8-A3F3-E014EC2504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refere-se a medidas que podem ser tomadas para garanti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localizado noutra jurisdição preserve os dados relacionados com a conta de e-mail especific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a medidas relativas à identificação de outr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nvolvidos na transmissão de comunic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refere-se a medidas que podem ser tomadas para obter dados informáticos armazenados noutra jurisdi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quarta questão envolve medidas para descobrir e averiguar a localização do cliente do DarkHacker que participará numa comunicação futura.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8691D-9EE5-4300-AB0F-CCC8659E66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aborda as disposições </a:t>
            </a:r>
            <a:r>
              <a:rPr b="0" lang="pt-PT" sz="1200" spc="-1" strike="noStrike" u="sng">
                <a:solidFill>
                  <a:srgbClr val="000000"/>
                </a:solidFill>
                <a:uFillTx/>
                <a:latin typeface="Calibri"/>
              </a:rPr>
              <a:t>de direito substantivo</a:t>
            </a:r>
            <a:r>
              <a:rPr b="0" lang="pt-PT" sz="1200" spc="-1" strike="noStrike" u="sng">
                <a:solidFill>
                  <a:srgbClr val="000000"/>
                </a:solidFill>
                <a:uFillTx/>
                <a:latin typeface="Calibri"/>
              </a:rPr>
              <a:t> </a:t>
            </a:r>
            <a:r>
              <a:rPr b="0" lang="pt-PT" sz="1200" spc="-1" strike="noStrike">
                <a:solidFill>
                  <a:srgbClr val="000000"/>
                </a:solidFill>
                <a:latin typeface="Calibri"/>
              </a:rPr>
              <a:t>da Convenção de Budapeste. Esta parte começa com os factos de um estudo de caso e questões relevantes.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392AB-18B1-4271-9E53-C5CE0087F0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sessão é constituída por cinc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Um fornece uma introdução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Dois refere-se ao direito </a:t>
            </a:r>
            <a:r>
              <a:rPr b="0" lang="pt-PT" sz="1200" spc="-1" strike="noStrike" u="sng">
                <a:solidFill>
                  <a:srgbClr val="000000"/>
                </a:solidFill>
                <a:uFillTx/>
                <a:latin typeface="Calibri"/>
              </a:rPr>
              <a:t>sub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Três refere-se ao direito processu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Quatro refere-se a outras formas de cooperação permitidas pel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Cinco refere-se à assistência jurídica mútua.</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2E500-C47E-4AE5-8194-ED5EA008D0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E34BC-2BBA-4598-BFA8-4930DCFBEC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a:t>
            </a:r>
            <a:r>
              <a:rPr b="0" lang="pt-PT" sz="1100" spc="-1" strike="noStrike" u="sng">
                <a:solidFill>
                  <a:srgbClr val="000000"/>
                </a:solidFill>
                <a:uFillTx/>
                <a:latin typeface="Calibri"/>
              </a:rPr>
              <a:t>sublinhado </a:t>
            </a:r>
            <a:r>
              <a:rPr b="0" lang="pt-PT" sz="1100" spc="-1" strike="noStrike">
                <a:solidFill>
                  <a:srgbClr val="000000"/>
                </a:solidFill>
                <a:latin typeface="Calibri"/>
              </a:rPr>
              <a:t>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04CEC-C574-4479-B3EE-B9DD290F42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diz respeito à conduta de hackear unidades de dados e instalar malware em sistemas informáticos de uma instituição financeira de renome. Requer a identificação das infrações relevantes e é esperado que seja fornecida uma justificação para as infrações relevantes por parte da legislação nacional.</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82D8D-B838-4A02-8604-BC39DD2664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slide destaca que ocorreu uma conduta envolvendo invasão de unidades de dados de sistemas informáticos e instalação de malware em sistemas informáticos. O efeito do malware é limitado ao aumento do tamanho do cursor do rato.</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CE4A9-5195-4020-ACD2-101534C484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produz o Artigo 2.º da Convenção de Budapeste, que inclui intencionalmente e sem autorização o acesso a qualquer parte de um sistema informático com intenção desonesta.</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3D9D9-6F0A-4C0B-BC35-C860CBC9DD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o Artigo 5.º da Convenção de Budapeste, que inclui o impedimento grave, intencionalmente e sem autorização ,do funcionamento de um sistema informático através da introdução de dados informáticos.</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80F942-2F9B-4311-8D5F-070090A067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a resposta á pergunta de que a infração de Acesso Ilegal deve ser identificada. Este slide apresente os aspetos dos factos que ajudam a determinar se a conduta se enquadra no âmbito do Artigo 2.º da Convenção de Budapeste.</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F4A1A-1C53-443C-8384-50970655AE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por que razão a infração de </a:t>
            </a:r>
            <a:r>
              <a:rPr b="0" lang="pt-PT" sz="1200" spc="-1" strike="noStrike" u="sng">
                <a:solidFill>
                  <a:srgbClr val="000000"/>
                </a:solidFill>
                <a:uFillTx/>
                <a:latin typeface="Calibri"/>
              </a:rPr>
              <a:t>sabotagem informática </a:t>
            </a:r>
            <a:r>
              <a:rPr b="0" lang="pt-PT" sz="1200" spc="-1" strike="noStrike">
                <a:solidFill>
                  <a:srgbClr val="000000"/>
                </a:solidFill>
                <a:latin typeface="Calibri"/>
              </a:rPr>
              <a:t>(Artigo 5.º da Convenção de Budapeste) não seria correta, embora seja aparente que os serviços de interferência do sistema podem ser fornecidos no DarkHacker.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BA356E-4791-4BAF-81CE-DB8F6244CC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conduta criminosa que está a ocorrer no DarkHacker e refere-se, particularmente, à venda do software de tradução no fórum. Requer que os participantes identifiquem as infrações relevantes e forneçam uma justificação para a resposta.</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F99956-0AC0-4430-82FA-1A5FB16D78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É importante destacar particularmente que o software que está a ser vendido é um software com dupla finalidade. Embora seja essencialmente um software de tradução, foi concebido principalmente para invadir computadores e está a ser abertamente comercializado como permitindo a infração de acesso </a:t>
            </a:r>
            <a:r>
              <a:rPr b="0" lang="pt-PT" sz="1200" spc="-1" strike="noStrike" u="sng">
                <a:solidFill>
                  <a:srgbClr val="000000"/>
                </a:solidFill>
                <a:uFillTx/>
                <a:latin typeface="Calibri"/>
              </a:rPr>
              <a:t>ilícito</a:t>
            </a:r>
            <a:r>
              <a:rPr b="0" lang="pt-PT" sz="1200" spc="-1" strike="noStrike">
                <a:solidFill>
                  <a:srgbClr val="000000"/>
                </a:solidFill>
                <a:latin typeface="Calibri"/>
              </a:rPr>
              <a:t>.</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7ED64-2D41-4036-87CD-DA4F0EC081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presentar os objetivos desta sessão aos participantes. O formador também deve informar os participantes de que esta sessão avançada se encontra na forma de um estudo de caso detalhado que requer participação ativa e resposta a perguntas. O principal objetivo é reforçar e aprofundar as disposições substanciais, processuais e internacionais relacionadas com a cooperação da Convenção de Budapeste.</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837D33-ECC0-4ED5-93BE-AB24F090D1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s partes relevantes do Artigo 6.º, que é a infração atraída pela condu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de também observar-se que o Artigo 6.º refere-se não apenas a dispositivos, mas também a programas informáticos, como software de tradu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eve ser também enfatizado que as seguintes ações seriam parte de uma inf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Ven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istribui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a forma de disponibil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 razão por trás da utilização da palavra "principalmente" - mostrando que a Convenção de Budapeste não pretendia excluir a utilização indevida de programas de duplo finalidade, como aqueles que estão a ser vendidos no DarkHacker no âmbito da infração.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A50C1-04AB-4693-AFFC-EBA48F3CDF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á pergunta de que a infração de Utilização indevida de dispositivos (Artigo 6.º da Convenção de Budapeste) deve ser identificada. Este slide apresenta os aspetos dos factos que ajudam a determinar se a conduta se enquadra no âmbito do Artigo 6.º da Convenção de Budapeste.</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5F52CD-4A63-4893-A793-8F4BB672DF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em particular, destina-se a promover uma discussão sobre se a conduta dos agentes da autoridade pode constituir uma infração correspondente ao Artigo 6.º da Convenção de Budapeste.  Em particular, os participantes devem perceber que esta conduta está relacionada com o Artigo 6.º, Parágrafo 1(a)(2), que inclui a aquisição de códigos de acesso ou dados semelhantes que permitam o acesso a um sistema informático. Os participantes devem ter em conta que a conduta só constituiria uma infração se fosse feita com a intenção de cometer uma infração correspondente aos Artigos 2.º - 5.º e não constituiria conduta criminosa se fosse feita sem tal intenção (Artigo 6.º, Parágrafo 2). Além disso, a Convenção exige que a conduta realizada no Artigo 6.º seja apenas uma infração se for cometida "sem autorização" - considerando que é possível que a operação secreta conduzida tenha alguma base legal ou administra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inalmente, pode também observar-se que a aquisição que é a base dessa conduta deve ser "para utilização" e não para a aquisição geral para fins de identificação de indivíduos que operam um site que envolva atividades criminosas.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9D8A8-F858-4A47-A890-3B24417D77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slide destaca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LEA adquiriu códigos de acess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códigos de acesso não foram adquiridos para utiliz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códigos de acesso foram adquiridos numa tentativa de identificar os indivíduos que operam o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participantes também podem discutir se a conduta foi realizada "sem autorização", pois isso dependeria se a operação secreta realizada fosse permitida ao abrigo da legislação interna.</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4A63BF-7ACD-455D-B782-AD7FBC8F6E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6.º da Convenção de Budapeste, que inclui intencionalmente e sem autorização de obter um código de acesso através do qual a totalidade ou parte de um sistema informático é capaz de ser acedida com a intenção de o utilizar para cometer uma infração estabelecida nos Artigos 2.º a 5.º.</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D1781-1181-459C-B20C-5FC4239F39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ornece a resposta à questão de que o comportamento do LEA não constitui a infração de utilização indevida de dispositivos (Artigo 6.º da Convenção de Budapeste) ou qualquer outro crime correspondente à Convenção de Budapeste. Este slide apresente os aspetos dos factos que ajudam a determinar se a conduta não se enquadra no âmbito do Artigo 6.º da Convenção de Budapeste.</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7F1651-B838-450C-85AE-D6C1488D1B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lição aborda o direito processual da Convenção de Budapeste. Esta parte começa com os factos de um estudo de caso e questões relevantes.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5EB43F-2D11-4E2F-8EE2-F0F9EF0AB2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está sediado e possui centros de dados localizados no país em que a investigação está a ser desenvolvida. O formador também deve esclarece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a:t>
            </a:r>
            <a:r>
              <a:rPr b="0" lang="pt-PT" sz="1200" spc="-1" strike="noStrike" u="sng">
                <a:solidFill>
                  <a:srgbClr val="000000"/>
                </a:solidFill>
                <a:uFillTx/>
                <a:latin typeface="Calibri"/>
              </a:rPr>
              <a:t>formandos</a:t>
            </a:r>
            <a:r>
              <a:rPr b="0" lang="pt-PT" sz="1200" spc="-1" strike="noStrike">
                <a:solidFill>
                  <a:srgbClr val="000000"/>
                </a:solidFill>
                <a:latin typeface="Calibri"/>
              </a:rPr>
              <a:t> 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3C9B8-E9FE-4B39-ABED-A8A71CD2D0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prestador de serviços de e-mail está sediado e possui centros de dados localizados no país em que a investigação está a ser desenvolvida. O formador também deve esclarecer que o prestador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a:t>
            </a:r>
            <a:r>
              <a:rPr b="0" lang="pt-PT" sz="1200" spc="-1" strike="noStrike" u="sng">
                <a:solidFill>
                  <a:srgbClr val="000000"/>
                </a:solidFill>
                <a:uFillTx/>
                <a:latin typeface="Calibri"/>
              </a:rPr>
              <a:t>formandos </a:t>
            </a:r>
            <a:r>
              <a:rPr b="0" lang="pt-PT" sz="1200" spc="-1" strike="noStrike">
                <a:solidFill>
                  <a:srgbClr val="000000"/>
                </a:solidFill>
                <a:latin typeface="Calibri"/>
              </a:rPr>
              <a:t>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FD53D-E985-4842-B517-4AA6A28431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diz respeito à questão de que a política de retenção do prestador de serviços de e-mail é limitada a 7 dia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medidas apropriadas para impedir que o processo de investigação seja comprometido.</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3BC36-4023-40F5-93B9-8AA8C52BC3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aula fornece uma introdução ao estudo de caso que é a base da lição. Os participantes serão apresentados aos factos do estudo de caso nesta parte e também às perguntas que o acompanham. Após a conclusão desta parte, os participantes terão a oportunidade de responder às perguntas com base no conhecimento da Convenção de Budapeste adquirida durante o Curso Introdutório.</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134D9-9C7D-4E44-A275-F60ED2CAC2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Em particular, é importante observar que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Scam Mail Inc. tem um período de retenção de dados limitado de sete dia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862B3-E679-4A1A-893F-F23A1F2DAB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produz parte do Artigo 16.º da Convenção de Budapeste que autoriza a autoridade competente a ordenar a conservação rápida dos dados informáticos especificados armazenados através de um sistema informático, quando haja motivos para crer que os dados informáticos são particularmente vulneráveis a perdas ou modificações, e também obrigar uma pessoa a preservar e manter a integridade dos dados informáticos por um período máximo de noventa dia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43F75-7F7A-42C4-93ED-E725CE5489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como a medida apropriada que deve ser tomada é a conservação acelerada dos dados informáticos armazenados em relação a criminal@scammail.com. Dado o período de retenção limitado, os dados armazenados no Scam Mail Inc. são particularmente vulneráveis a perdas. Assim, é importante que todos os dados relevantes (dados de tráfego e dados de conteúdo) sejam conservados em relação aos últimos sete dias e que a Scam Mail Inc. seja solicitada a manter a integridade dos dados conservados.</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2DF03-49DA-404D-BA7F-D1E9799C3A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refere-se à identificação das informações necessárias que permitiriam a identificação da pessoa que enviou o código de acesso através da conta de e-mail criminal@scammail.com. A segunda parte desta questão requer que os </a:t>
            </a:r>
            <a:r>
              <a:rPr b="0" lang="pt-PT" sz="1200" spc="-1" strike="noStrike" u="sng">
                <a:solidFill>
                  <a:srgbClr val="000000"/>
                </a:solidFill>
                <a:uFillTx/>
                <a:latin typeface="Calibri"/>
              </a:rPr>
              <a:t>formandos e</a:t>
            </a:r>
            <a:r>
              <a:rPr b="0" lang="pt-PT" sz="1200" spc="-1" strike="noStrike">
                <a:solidFill>
                  <a:srgbClr val="000000"/>
                </a:solidFill>
                <a:latin typeface="Calibri"/>
              </a:rPr>
              <a:t>xpliquem como esta informação pode ser ob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B85E2-9922-4D40-90B7-D4D77C523E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É importante para o formador enfatizar que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Scam Mail Inc não tem a sua sede e centro de dados localizados na Terra Média. Além disso, o formador deve explicar que as informações solicitadas como resultado da aplicação do poder processual devem permitir a identificação do agente do DarkHacker (ou seja, subscritor dos </a:t>
            </a:r>
            <a:r>
              <a:rPr b="0" lang="pt-PT" sz="1200" spc="-1" strike="noStrike" u="sng">
                <a:solidFill>
                  <a:srgbClr val="000000"/>
                </a:solidFill>
                <a:uFillTx/>
                <a:latin typeface="Calibri"/>
              </a:rPr>
              <a:t>fornecedores </a:t>
            </a:r>
            <a:r>
              <a:rPr b="0" lang="pt-PT" sz="1200" spc="-1" strike="noStrike">
                <a:solidFill>
                  <a:srgbClr val="000000"/>
                </a:solidFill>
                <a:latin typeface="Calibri"/>
              </a:rPr>
              <a:t>de serviço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16C66F-9FD5-467E-840B-185619D7C6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fine o termo informações do subscritor como informações que incluem as informáticas e outras formas que permitem o estabelecimento da identidade do subscritor, endereço postal ou geográfico, telefone e outro número de acesso, informações de faturação e pagamento com base no contrato ou acordo de serviço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57C332-CD96-48BE-8EE9-200BBEF190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reproduz parte do Artigo 18.º da Convenção de Budapeste, que descreve o procedimento através do qual as informações do subscritor na posse ou controlo dos prestadores de serviços podem ser obtidas através de uma ordem de produção emitida por esses prestadores de serviços que oferecem serviços num determinado país.</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BAF308-6EC7-416F-9FCD-59D091A0E0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para a pergunta.  Em primeiro lugar, explica porque é que as informações do subscritor são as informações relevante que lhe permitiria identificar uma pessoa que tenha subscrito os serviços da Scam Mail Inc. Em particular, permitiria a identificação da identidade, endereço postal, endereço geográfico, telefone e outras informações relativas a um subscritor. Explica então como a informação do assinante pode ser obtida </a:t>
            </a:r>
            <a:r>
              <a:rPr b="0" lang="pt-PT" sz="1200" spc="-1" strike="noStrike" u="sng">
                <a:solidFill>
                  <a:srgbClr val="000000"/>
                </a:solidFill>
                <a:uFillTx/>
                <a:latin typeface="Calibri"/>
              </a:rPr>
              <a:t>mediante a emissão de uma injunção de comunicar dados </a:t>
            </a:r>
            <a:r>
              <a:rPr b="0" lang="pt-PT" sz="1200" spc="-1" strike="noStrike">
                <a:solidFill>
                  <a:srgbClr val="000000"/>
                </a:solidFill>
                <a:latin typeface="Calibri"/>
              </a:rPr>
              <a:t>sob o equivalente nacional do Artigo 18.º.1.b.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de também ser explicado pelo formador que o Artigo 18.º é o único poder processual que se relaciona especificamente com as informações do </a:t>
            </a:r>
            <a:r>
              <a:rPr b="0" lang="pt-PT" sz="1200" spc="-1" strike="noStrike" u="sng">
                <a:solidFill>
                  <a:srgbClr val="000000"/>
                </a:solidFill>
                <a:uFillTx/>
                <a:latin typeface="Calibri"/>
              </a:rPr>
              <a:t>assinante</a:t>
            </a:r>
            <a:r>
              <a:rPr b="0" lang="pt-PT" sz="1200" spc="-1" strike="noStrike">
                <a:solidFill>
                  <a:srgbClr val="000000"/>
                </a:solidFill>
                <a:latin typeface="Calibri"/>
              </a:rPr>
              <a:t>.</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3D81C-43B4-4C19-8846-B819AFCF81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é um pouco mais vasta e refere-se a terceiros que foram contactados por uma conta de e-mail específica.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o procedimento através do qual estas informações devem ser obtida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A2F16-4A36-4581-AF7A-9E541646B8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O formador deve relembrar os </a:t>
            </a:r>
            <a:r>
              <a:rPr b="0" lang="pt-PT" sz="1200" spc="-1" strike="noStrike" u="sng">
                <a:solidFill>
                  <a:srgbClr val="000000"/>
                </a:solidFill>
                <a:uFillTx/>
                <a:latin typeface="Calibri"/>
              </a:rPr>
              <a:t>formandos</a:t>
            </a:r>
            <a:r>
              <a:rPr b="0" lang="pt-PT" sz="1200" spc="-1" strike="noStrike">
                <a:solidFill>
                  <a:srgbClr val="000000"/>
                </a:solidFill>
                <a:latin typeface="Calibri"/>
              </a:rPr>
              <a:t> de que a Scam Mail Inc. apenas retém dados durante um período de 7 dias, portanto, provavelmente só possuem dados dos últimos sete dias. Eles desejam obter informações sobre outras pessoas desconhecidas contactadas durante tal período por um subscritor.</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D665B-0574-4648-8332-2D67D5A4BF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screve o procedimento pelo qual é possível obter dados informáticos armazenados na posse ou sob controlo de uma pessoa. Em particular, uma ordem de produção permitiria a procura de dados informáticos especificados na posse de qualquer pessoa (o que, conforme os delegados relembrarão, inclui prestadores de serviço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0DC26-80F2-43C8-9E9D-BBD9672A95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para a pergunta.  A primeira parte do diapositivo identifica o tipo de dados que seriam necessários nessa fase da investigação. É possível que os delegados tenham identificado apenas os dados de tráfego como dados procurados para determinar outras pessoas contactadas pelo utilizador de criminal@scammail.com, uma vez que a pergunta não está especificamente relacionada com o conteúdo da comunic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destacar que, em circunstâncias normais, essa ordem de produção vasta não seria permitida. Todavia, dado que criminal@scammail.com só retém dados por um período de sete dias, e tendo em conta que os dados solicitados estão relacionados apenas com uma conta, é possível que tal ordem de produção seja permitida.</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FBCB7-AD0F-4191-A9B2-7D79D3C930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a lição trata da cooperação internacional sem pedidos de assistência mútua permitidos pela Convenção de Budapeste. Esta parte começa com os factos de um estudo de caso e questões relevantes.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63F4F6-4DA4-4F80-B4D0-879F8A6F15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CF39C-DCF0-4E26-9137-3DC62045C2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420F8C-9385-4FFD-B6E8-DCFBE9AA3B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s duas primeiras perguntas relativas a esta parte do módulo são tratadas em conjunto, uma vez que as perguntas estão relacionadas entre s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relaciona a identificação do tipo de informações que seriam necessárias para determinar quem está a utilizar a conta de e-mail mencionada. A segunda questão refere-se à obtenção das informações acima identificadas. O formador deve esclarecer que, embora possa haver várias formas de acesso e obtenção a esses dado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medida mais rápida.</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92D92-23C7-47AA-B883-2F57FC9835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s perguntas do diapositivo anterior. Em particular, o formador deve destaca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Hack Mail Inc. não possui um escritório na Terra Média e, portanto, está fora do território em que é um oficial da lei. O formador deve esclarecer que, embora a Hack Mail Inc. não tenha uma presença física no país, oferece serviços aos residentes da Terra Média e publicou anúncios recentemente na Terra Média no idioma local, visando assim claramente os utilizadores da Terra Méd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ambém é importante esclarecer que a Hack Mail Inc. apenas armazena as informações dos subscritores como dados informáticos.</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16520-42EA-46BD-BCB2-A09D96C94A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fine o termo informações do subscritor como informações que incluem as informáticas e outras formas que permitem o estabelecimento da identidade do subscritor, endereço postal ou geográfico, telefone e outro número de acesso, informações de faturação e pagamento com base no contrato ou acordo de serviços.</a:t>
            </a: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084A2-2A54-477B-A4B1-DB0DBEF553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screve o procedimento através do qual as informações do subscritor na posse ou controlo d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podem ser obtidas através de uma </a:t>
            </a:r>
            <a:r>
              <a:rPr b="0" lang="pt-PT" sz="1200" spc="-1" strike="noStrike" u="sng">
                <a:solidFill>
                  <a:srgbClr val="000000"/>
                </a:solidFill>
                <a:uFillTx/>
                <a:latin typeface="Calibri"/>
              </a:rPr>
              <a:t>injunção de comunicar </a:t>
            </a:r>
            <a:r>
              <a:rPr b="0" lang="pt-PT" sz="1200" spc="-1" strike="noStrike">
                <a:solidFill>
                  <a:srgbClr val="000000"/>
                </a:solidFill>
                <a:latin typeface="Calibri"/>
              </a:rPr>
              <a:t>emitida por esse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que oferecem serviços num determinado paí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nfatizar que o Artigo 18.1.b. da Convenção de Budapeste não exige a presença física de um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no território, mas exige que esse prestador de serviços ofereça serviços no território. Os </a:t>
            </a:r>
            <a:r>
              <a:rPr b="0" lang="pt-PT" sz="1200" spc="-1" strike="noStrike" u="sng">
                <a:solidFill>
                  <a:srgbClr val="000000"/>
                </a:solidFill>
                <a:uFillTx/>
                <a:latin typeface="Calibri"/>
              </a:rPr>
              <a:t>formandos </a:t>
            </a:r>
            <a:r>
              <a:rPr b="0" lang="pt-PT" sz="1200" spc="-1" strike="noStrike">
                <a:solidFill>
                  <a:srgbClr val="000000"/>
                </a:solidFill>
                <a:latin typeface="Calibri"/>
              </a:rPr>
              <a:t>devem ser lembrados da Nota de Orientação do Artigo 18.º, que declara que um fator a considerar ao determinar se um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oferece serviços num território é perceber se anuncia os seus serviços localmente.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6F8990-0B4C-4D89-9B1A-6C4540365E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rimeira pergunta, especificando que a informação dos subscritores seriam a forma relevante de informação que permitiria a identificação do utilizador de uma conta de e-mail específ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ornece ainda duas respostas possíveis para a segunda pergunta, ou seja, refere que é possível obter informações de um prestador de serviços localizado noutro país, mas que ofereça serviços na Terra Média, através de um pedido formal de assistência mútua para aceder aos dados ou de uma ordem de produção apresentada diretamente ao prestador de serviços.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62AA5-9B02-4F39-ADAA-0C02E16144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ala sobre a resposta para a segunda pergunta e explica porque é que as ordens de produção são mais apropriadas nestas circunstâncias. O Artigo 18.º, conforme explicado na Nota de Orientação do Artigo 18.º, permite procurar informações de subscritores na posse ou sob controlo de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localizados fora de um país, desde que esse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stejam a prestar serviços no território. Além disso, os pedidos de assistência mútua são geralmente muito lentos, pelo que é provável que uma ordem de produção seja uma maneira mais rápida de obter as informações procuradas.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FB51C7-CE96-42E6-B330-630812B7DC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diz respeito à obtenção de dados de e-mail de pessoas que consentiram voluntariamente com a divulgação em questão. Novamente, é importante enfatizar que os delegados devem identificar a forma mais rápida de obter esses e-mails.</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A5548-52D7-4B41-9F2B-B6EAB32487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O formador deve explicar que as autoridades policiais encontraram queixas em sites/fóruns acessíveis ao público. Durante a investigação, as autoridades policiais contactam as pessoas que se queixaram em relação à conta de e-mail fraud@hackmail.com e obtiveram o consentimento legal para aceder a contas e mensagens de e-mail das pessoas com autoridade para permitir esse acesso.</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4752F-029E-4F77-BB55-E6DA7FF75E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reproduz parte do artigo 32.º da Convenção de Budapeste, que permite o acesso transfronteiriço a dados informáticos armazenados quando estão disponíveis publicamente ou com o consentimento de uma pessoa que tenha autoridade legal para divulgá-los. O formador deve explicar que o acesso transfronteiriço ao abrigo do artigo 32.º não exige um pedido prévio de assistência mútua e pode ser exercido diretamente por uma das partes (possivelmente até sem notificação à autoridade central da outra parte, dependendo da legislação interna em matéria de MLA).</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A6997-8BEB-46A2-9326-F366892084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Em relação ao acesso e à utilização como </a:t>
            </a:r>
            <a:r>
              <a:rPr b="0" lang="pt-PT" sz="1200" spc="-1" strike="noStrike" u="sng">
                <a:solidFill>
                  <a:srgbClr val="000000"/>
                </a:solidFill>
                <a:uFillTx/>
                <a:latin typeface="Calibri"/>
              </a:rPr>
              <a:t>prova </a:t>
            </a:r>
            <a:r>
              <a:rPr b="0" lang="pt-PT" sz="1200" spc="-1" strike="noStrike">
                <a:solidFill>
                  <a:srgbClr val="000000"/>
                </a:solidFill>
                <a:latin typeface="Calibri"/>
              </a:rPr>
              <a:t>das </a:t>
            </a:r>
            <a:r>
              <a:rPr b="0" lang="pt-PT" sz="1200" spc="-1" strike="noStrike" u="sng">
                <a:solidFill>
                  <a:srgbClr val="000000"/>
                </a:solidFill>
                <a:uFillTx/>
                <a:latin typeface="Calibri"/>
              </a:rPr>
              <a:t>queixas p</a:t>
            </a:r>
            <a:r>
              <a:rPr b="0" lang="pt-PT" sz="1200" spc="-1" strike="noStrike">
                <a:solidFill>
                  <a:srgbClr val="000000"/>
                </a:solidFill>
                <a:latin typeface="Calibri"/>
              </a:rPr>
              <a:t>úblicas, o Artigo 32a permitiria que acedesse a essas </a:t>
            </a:r>
            <a:r>
              <a:rPr b="0" lang="pt-PT" sz="1200" spc="-1" strike="noStrike" u="sng">
                <a:solidFill>
                  <a:srgbClr val="000000"/>
                </a:solidFill>
                <a:uFillTx/>
                <a:latin typeface="Calibri"/>
              </a:rPr>
              <a:t>1queixas</a:t>
            </a:r>
            <a:r>
              <a:rPr b="0" lang="pt-PT" sz="1200" spc="-1" strike="noStrike">
                <a:solidFill>
                  <a:srgbClr val="000000"/>
                </a:solidFill>
                <a:latin typeface="Calibri"/>
              </a:rPr>
              <a:t> diretamente e as utilizasse como prova sem ter de pedir e obter esses dados através de um pedido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endo em conta que os subscritores de contas de e-mail estão em muitas jurisdições consideradas a parte com autoridade legal para divulgar e-mails associados a essas contas de e-mail, é possível aceder novamente a esses e-mails sem um pedido de assistência mútua.</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7027F-EF97-4987-A651-9A16A0B8D1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lição trata dos pedidos de assistência mútua permitidos pela Convenção de Budapeste. Esta parte começa com os factos de um estudo de caso e questões relev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3C8D6A-492E-4AAC-8E47-08BE352526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5 (assistência jurídica mútua) neste diapositivo.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lida com mecanismos para obter dados de outras jurisdições fazendo um pedido de assistência mútua ativado de acordo com as disposições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o sítio onde se acredita que DarkHacker está a utilizar um sistema informático foi divulgado. O sistema informático está localizado em Rohan, um país vizinho da Terra Média. Deve assumir-se que a detenção do informante não é conhecida publicamente e, em particular, não a outras pessoas associadas ao DarkHacker, portanto, não há razão para acreditar que os dados sejam vulneráveis a perdas ou modific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r fim, o formador deve explicar que as autoridades policiais obtiveram uma pista sobre uma futura comunicação que deve ocorrer utilizando o computador DarkHack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9D778-6912-4902-88E9-0F2584CC57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s perguntas estão relacionadas com a preservação de dados informáticos pel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Hack Mail Inc. e com a obtenção de informações que permitam a identificação de outros </a:t>
            </a:r>
            <a:r>
              <a:rPr b="0" lang="pt-PT" sz="1200" spc="-1" strike="noStrike" u="sng">
                <a:solidFill>
                  <a:srgbClr val="000000"/>
                </a:solidFill>
                <a:uFillTx/>
                <a:latin typeface="Calibri"/>
              </a:rPr>
              <a:t>fornecedor</a:t>
            </a:r>
            <a:r>
              <a:rPr b="0" lang="pt-PT" sz="1200" spc="-1" strike="noStrike">
                <a:solidFill>
                  <a:srgbClr val="000000"/>
                </a:solidFill>
                <a:latin typeface="Calibri"/>
              </a:rPr>
              <a:t>es de serviços envolvidos na transmissão das comunicações identificadas.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C6A65-10E1-4EF8-B0E6-EC32A13A86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O único facto adicional importante que deve ser referido aqui é que o informador forneceu informações que sugerem que outros agentes DarkHacker podem ser identificados por outras pessoas que foram contactadas através da utilização da conta de e-mail fraud@hackmail.com.</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E4015-FBDF-4AF8-8FBD-2701C35228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29.º da Convenção de Budapeste, que diz respeito à procura de uma rápida preservação transfronteiriça dos dados. Trata-se de uma medida preliminar a ser tomada caso uma parte pretenda apresentar um pedido de acordo com o Artigo 31.º da Convenção de Budapeste e permitir a preservação temporária de dados informáticos.</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8A37BE-6A9D-464D-B0C3-E64440C5CE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a base para o estudo de caso que é a base desta sessão. É importante que o formador faça uma breve introdução ao estudo de caso, que coloca os participantes na posição de um agente da autoridade num país fictício chamado Terra Média. Outros países que são subsequentemente discutidos no estudo de caso, isto é, Mordor e Rohan, também devem ser apresentados a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de ser útil apresentar também aos participantes a estrutura da restante lição - o estudo de caso é dividido em quatro partes ligadas, cada uma abordando de uma determinada categoria de questões.  A primeira parte aborda as questões de direito substancial, a segunda parte questões relacionadas com o poder processual, a terceira questões relativas a outras formas de cooperação e a quarta questões relativas à assistência jurídica mútua.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710D0-7CEB-4948-AD3F-485CB392BB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30.º da Convenção de Budapeste, que diz respeito à divulgação célere de dados de tráfego preservados. O Artigo 30.º não prevê que as partes façam um pedido específico de divulgação célere de dados de tráfego. No entanto, vincula uma parte a executar um pedido de </a:t>
            </a:r>
            <a:r>
              <a:rPr b="0" lang="pt-PT" sz="1200" spc="-1" strike="noStrike" u="sng">
                <a:solidFill>
                  <a:srgbClr val="000000"/>
                </a:solidFill>
                <a:uFillTx/>
                <a:latin typeface="Calibri"/>
              </a:rPr>
              <a:t>conservação</a:t>
            </a:r>
            <a:r>
              <a:rPr b="0" lang="pt-PT" sz="1200" spc="-1" strike="noStrike">
                <a:solidFill>
                  <a:srgbClr val="000000"/>
                </a:solidFill>
                <a:latin typeface="Calibri"/>
              </a:rPr>
              <a:t> expresso nos termos do Artigo 29.º se descobrir que outr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noutro estado esteve envolvido na transmissão de uma comunicação para divulgar rapidamente quantidades suficientes de dados de tráfego para identificar outr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nvolvidos na transmissão dessa comunicação.</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23C47-582E-49D0-9B5D-6C25D53BAD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Ao contrário do poder processual interno relativo à </a:t>
            </a:r>
            <a:r>
              <a:rPr b="0" lang="pt-PT" sz="1200" spc="-1" strike="noStrike" u="sng">
                <a:solidFill>
                  <a:srgbClr val="000000"/>
                </a:solidFill>
                <a:uFillTx/>
                <a:latin typeface="Calibri"/>
              </a:rPr>
              <a:t>conservação expedita </a:t>
            </a:r>
            <a:r>
              <a:rPr b="0" lang="pt-PT" sz="1200" spc="-1" strike="noStrike">
                <a:solidFill>
                  <a:srgbClr val="000000"/>
                </a:solidFill>
                <a:latin typeface="Calibri"/>
              </a:rPr>
              <a:t>(equivalente ao Artigo 16.º da Convenção de Budapeste), é necessário que haja razão para acreditar que os dados que se pretende preservar são particularmente vulneráveis a perdas ou modificações. Contudo, neste caso, a preservação célere é uma medida anterior ao pedido de assistência mútua e pode não ser necessária a exigência de que os dados sejam vulneráveis a perda ou modificação.  Dado que a Terra Média pretende fazer um pedido de assistência mútua para apreensão e divulgação de dados informáticos, também pode fazer este pedido preliminar para preservação dos referidos d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relação à segunda pergunta, durante a execução do pedido para preservar os dados, é possível que a Hack Mail Inc. descubra que as comunicações de fraude@hackmail.com foram transmitidas através de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noutros países. Nesse caso, o Artigo 30.º obriga-o a divulgar diretamente quantidades suficientes de dados para permitir a identificação do(s) prestador(es) de serviços e as vias através das quais as comunicações foram transmitidas. Não há necessidade de fazer um pedido de divulgação de dados de tráfego nesse caso.</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E91DF0-15E5-4EE5-A38D-F3E979B871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refere-se a medidas que podem ser tomadas para obter dados informáticos armazenados noutra jurisdição. É importante que o formador esclareça que o computador DarkHacker está localizado em Rohan, perto da Terra Média</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8D1F6-9A33-49E6-9935-6193B8DC05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Em particular, é importante relembrar que o sistema informático está localizado no território de outra parte.</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16D7DC-FA70-43DD-A933-CDCFA5C991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inclui partes relevantes do Artigo 31.º da Convenção de Budapeste (</a:t>
            </a:r>
            <a:r>
              <a:rPr b="0" lang="pt-PT" sz="1200" spc="-1" strike="noStrike" u="sng">
                <a:solidFill>
                  <a:srgbClr val="000000"/>
                </a:solidFill>
                <a:uFillTx/>
                <a:latin typeface="Calibri"/>
              </a:rPr>
              <a:t>auxílio mútuo </a:t>
            </a:r>
            <a:r>
              <a:rPr b="0" lang="pt-PT" sz="1200" spc="-1" strike="noStrike">
                <a:solidFill>
                  <a:srgbClr val="000000"/>
                </a:solidFill>
                <a:latin typeface="Calibri"/>
              </a:rPr>
              <a:t>relativo ao acesso a dados informáticos armazenados). O formador deve explicar que o Artigo 31.º permite que uma parte faça um pedido a uma </a:t>
            </a:r>
            <a:r>
              <a:rPr b="0" lang="pt-PT" sz="1200" spc="-1" strike="noStrike" u="sng">
                <a:solidFill>
                  <a:srgbClr val="000000"/>
                </a:solidFill>
                <a:uFillTx/>
                <a:latin typeface="Calibri"/>
              </a:rPr>
              <a:t>outra </a:t>
            </a:r>
            <a:r>
              <a:rPr b="0" lang="pt-PT" sz="1200" spc="-1" strike="noStrike">
                <a:solidFill>
                  <a:srgbClr val="000000"/>
                </a:solidFill>
                <a:latin typeface="Calibri"/>
              </a:rPr>
              <a:t>parte para apreender ou proteger e divulgar de outra forma dados armazenados através de um sistema informático localizado no território </a:t>
            </a:r>
            <a:r>
              <a:rPr b="0" lang="pt-PT" sz="1200" spc="-1" strike="noStrike" u="sng">
                <a:solidFill>
                  <a:srgbClr val="000000"/>
                </a:solidFill>
                <a:uFillTx/>
                <a:latin typeface="Calibri"/>
              </a:rPr>
              <a:t>desta</a:t>
            </a:r>
            <a:r>
              <a:rPr b="0" lang="pt-PT"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pode mencionar que, para que um pedido de assistência referente à apreensão de dados informáticos seja mais célere, deve haver motivos para acreditar que os dados relevantes são particularmente vulneráveis a perda ou modificação.  Isto ao contrário do Artigo 16.º da Convenção de Budapeste, que exige que os dados sejam vulneráveis a perda ou modificação para permitir que seja adotada uma medida para procurar dados informáticos.</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C2203-8ED9-40DF-B627-BBBD8E86F8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O formador deve explicar que os dados informáticos relevantes podem ser obtidos fazendo um pedido de assistência mútua permitido pelo Artigo 31.º da Convenção de Budapeste. Em particular, o pedido deve abranger a apreensão do sistema informático, a proteção dos dados informáticos e também a divulgação dos dados apreendi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bora não seja necessário responder, o formador também pode explicar que, tendo em conta que o sistema informático DarkHacker e os dados dele obtidos não são vulneráveis a perda ou modificação, a Terra Média não pode solicitar uma ação célere.</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A3DC2A-0B3A-4A6C-865E-FDAF363C24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refere-se a medidas para garantir e determinar a localização do cliente DarkHacker que estará a participar numa comunicação futura.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45A2E1-ACBA-4140-A674-DFAAE3C072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Em particular, o formador deve explicar que as autoridades policiais tiveram conhecimento de que se acredita que ocorrerá uma transação potencialmente criminosa em larga escala no dia seguinte às 17h00. As autoridades policiais sabem que endereço de e-mail será utilizado para enviar a comunicação.</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F4297-6004-4429-A8F5-36A64EFE04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inclui partes relevantes do artigo 33.º da Convenção de Budapeste relativas à assistência mútua na recolha de dados de tráfego em tempo real. O formador deve explicar que este artigo permite solicitar assistência mútua para a recolha de dados de tráfego associados a comunicações especificadas noutro território em tempo real.</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B2C233-F7E3-431B-86E3-8660AE583F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contém a resposta para a pergunta. A Terra Média pode fazer um pedido de assistência mútua a Mordor (onde a Hack Mail Inc. está sediada) para pedir que a Hack Mail Inc. recolha dados de tráfego em tempo real associados à comunicação especificada de fraude@hackmail.com às 17h00 do dia seguin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independentemente de essa assistência ser ou não prestada, pode depender dos requisitos legais existentes em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6F9528-F369-402F-B541-7272BB71D3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0FA4D-4697-4262-8EDA-E2AA250615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E91053-E560-4A86-A1A2-EC3FFA5B57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68FDA-CCDD-4410-8BF6-4E8B4147FA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C3FE2A-399E-4B7F-A710-2AEF6BAD0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a:t>
            </a:r>
            <a:r>
              <a:rPr b="0" lang="pt-PT" sz="1100" spc="-1" strike="noStrike" u="sng">
                <a:solidFill>
                  <a:srgbClr val="000000"/>
                </a:solidFill>
                <a:uFillTx/>
                <a:latin typeface="Calibri"/>
              </a:rPr>
              <a:t>substantivo</a:t>
            </a:r>
            <a:r>
              <a:rPr b="0" lang="pt-PT" sz="1100" spc="-1" strike="noStrike">
                <a:solidFill>
                  <a:srgbClr val="000000"/>
                </a:solidFill>
                <a:latin typeface="Calibri"/>
              </a:rPr>
              <a:t>)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1CA34-645B-42A8-89AA-9DF4A2830E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13000-7AEA-47C7-A919-766F2D9C5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FB7ED-CFB0-449E-A772-D86FCD1D5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99DE1-499F-4193-99FE-9DBA40611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F6948-7780-4661-92C2-9B93B685A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0B8FF-2EB0-4E92-A6A1-C7EDB2B33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2D150-AAA6-4666-BFBC-0F37ED01A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33A4A-2395-42A0-AD1B-06EC6D1A6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4A3D9-ACC5-4D6F-8953-A39B5AD52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0F202-19CB-4E74-9C16-875BAE600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DAB32-92F0-4461-9890-B1280BC5E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76201-C2A0-4917-A114-4B209E589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2517B-B43E-4F65-BB9F-6933AA8C5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C3CC8-64FD-439F-AA39-DACF56BABDF6}"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0F47A-7EE4-40D2-9177-852CD7CCCB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Avançada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2.1.4, 2.1.5 e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ção de Budapeste:</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reito </a:t>
            </a:r>
            <a:r>
              <a:rPr b="0" lang="en-US" sz="3200" spc="-1" strike="noStrike">
                <a:solidFill>
                  <a:srgbClr val="000000"/>
                </a:solidFill>
                <a:latin typeface="Calibri"/>
              </a:rPr>
              <a:t>substantivo, poderes </a:t>
            </a:r>
            <a:r>
              <a:rPr b="0" lang="en-US" sz="3200" spc="-1" strike="noStrike">
                <a:solidFill>
                  <a:srgbClr val="898989"/>
                </a:solidFill>
                <a:latin typeface="Calibri"/>
              </a:rPr>
              <a:t>processuais e cooperação internacional</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B851A56-B013-43D9-86E5-FC46C3CA36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3ABDF-811B-4CC4-B0AD-8D3DBD7089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474840"/>
            <a:ext cx="8066160" cy="528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rPr>
              <a:t>Pergunta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cibercrime(s) foi/foram cometido(s) pela instalação de malware nos sistemas informáticos da instituição financeira de renome?</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cibercrime(s) consegue identificar como a ser cometido por pessoas no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meteu uma infração de cibercrime ao comprar códigos de acesso no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F2908-0D03-45B9-9C19-9DC03457DF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mo parte da operação secreta, obtém códigos de acesso e informações de pagamento de um agente DarkHacker. Recebe um e-mail de uma conta de e-mail paga </a:t>
            </a:r>
            <a:r>
              <a:rPr b="0" lang="pt-PT" sz="2900" spc="-1" strike="noStrike" u="sng">
                <a:solidFill>
                  <a:srgbClr val="000000"/>
                </a:solidFill>
                <a:uFillTx/>
                <a:latin typeface="Calibri"/>
              </a:rPr>
              <a:t>criminal@scammail.com</a:t>
            </a:r>
            <a:r>
              <a:rPr b="0" lang="pt-PT" sz="2900" spc="-1" strike="noStrike">
                <a:solidFill>
                  <a:srgbClr val="000000"/>
                </a:solidFill>
                <a:latin typeface="Calibri"/>
              </a:rPr>
              <a:t> com uma hiperligação de transferência para os códigos de acesso.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 sua investigação inicial revela que o prestador de serviços de e-mail para criminal@scammail.com é Scam Mail Inc. A Scam Mail Inc tem a sua sede e o centro de dados na Terra Média.</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56C62-52C1-4CD4-9D54-616BC80CF2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838512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prende do seu site que a Scam Mail Inc. apenas retém dados durante um período de 7 dias após o qual todos os dados são eliminad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nsidere a utilização dos endereços de e-mail para identificar o agent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s informações obtidas sugerem que a escala de operações é muito maior do que o inicialmente previsto. Acha que agora é necessário obter informações de outras pessoas desconhecidas contactadas através da conta de e-mail criminal@scammail.com nos últimos 7 dia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C0844-99A0-4C32-A862-BF0A37F9F0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336600" y="353880"/>
            <a:ext cx="8350200" cy="551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iniciais deve tomar para garantir que o processo de investigação não seja frustrado?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tipo de informações iria precisar para identificar a pessoa utilizando criminal@scammail.com? Como pode obter tais informações do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Como procuraria informações da Scam Mail Inc sobre outras pessoas contactadas por criminal@scammail.com nos últimos sete d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29495-59E7-417E-8F6A-C5B2C54EB0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374760" y="382680"/>
            <a:ext cx="846432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lique na hiperligação para transferir o código de acesso e receber outro e-mail de uma conta de e-mail fraud@hackmail.com com dados bancári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nsidere a utilização dos endereços de e-mail para identificar o agente DarkHacker. A sua investigação inicial revela que a Hack Mail Inc (sede em Mordor) não possui escritórios ou centros de dados na Terra Média, mas publicou recentemente anúncios sobre os seus serviços gratuitos na Terra Média no idioma local. </a:t>
            </a:r>
            <a:br>
              <a:rPr sz="2900"/>
            </a:br>
            <a:br>
              <a:rPr sz="2900"/>
            </a:br>
            <a:r>
              <a:rPr b="0" lang="pt-PT" sz="2900" spc="-1" strike="noStrike">
                <a:solidFill>
                  <a:srgbClr val="000000"/>
                </a:solidFill>
                <a:latin typeface="Calibri"/>
              </a:rPr>
              <a:t>Hack Mail Inc armazena informações </a:t>
            </a:r>
            <a:r>
              <a:rPr b="0" lang="pt-PT" sz="2900" spc="-1" strike="noStrike">
                <a:solidFill>
                  <a:srgbClr val="000000"/>
                </a:solidFill>
                <a:latin typeface="Calibri"/>
              </a:rPr>
              <a:t>do assinante </a:t>
            </a:r>
            <a:r>
              <a:rPr b="0" lang="pt-PT" sz="2900" spc="-1" strike="noStrike">
                <a:solidFill>
                  <a:srgbClr val="000000"/>
                </a:solidFill>
                <a:latin typeface="Calibri"/>
              </a:rPr>
              <a:t>na forma de dados do computado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7E2B9-106D-40CC-8A06-437A7FF129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ambém conhece separadamente várias pessoas em Mordor que se queixaram em diferentes fóruns públicos de incidentes de fraude supostamente perpetrados pelo utilizador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Deseja utilizar </a:t>
            </a:r>
            <a:r>
              <a:rPr b="0" lang="pt-PT" sz="2900" spc="-1" strike="noStrike">
                <a:solidFill>
                  <a:srgbClr val="000000"/>
                </a:solidFill>
                <a:latin typeface="Calibri"/>
              </a:rPr>
              <a:t>essas queixas </a:t>
            </a:r>
            <a:r>
              <a:rPr b="0" lang="pt-PT" sz="2900" spc="-1" strike="noStrike">
                <a:solidFill>
                  <a:srgbClr val="000000"/>
                </a:solidFill>
                <a:latin typeface="Calibri"/>
              </a:rPr>
              <a:t>como prova em processos subsequentes. Além disso, entra em contacto com essas pessoas para obter informações e elas estão dispostas a consentir que aceda às suas contas de e-mail e mensagens de e-mail.</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0CDCA-31A0-487E-A189-5460113391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412920" y="216000"/>
            <a:ext cx="8273880" cy="567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De que tipo </a:t>
            </a:r>
            <a:r>
              <a:rPr b="0" lang="pt-PT" sz="2800" spc="-1" strike="noStrike">
                <a:solidFill>
                  <a:srgbClr val="000000"/>
                </a:solidFill>
                <a:latin typeface="Calibri"/>
              </a:rPr>
              <a:t>de informações iria precisar para identificar a pessoa utilizando fraud@hackmail.com?</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al é a medida mais rápida para obter estas informações da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al é a maneira mais rápida de obter e-mails enviados pela pessoa utilizando o endereço fraud@hackmail.com para os reclam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E583C-C941-4816-B82A-5677D2BEFD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266760" y="317520"/>
            <a:ext cx="85611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resultado da análise dos dados obtidos, identifica um indivíduo responsável por vender os dados e fornecer serviços: Boris Smith, que é um cidadão nacional e reside na Terra Média.</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rende Boris Smith na Terra Média e ele revela a localização do sistema informático que está a ser utilizado pela DarkHacker em Rohan. Como o facto de Boris ter sido preso não é público, não há razão para acreditar que os dados são vulneráveis a perdas ou modificações. </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le informa que a conta fraud@hackmail.com foi utilizada para entrar em contacto com outros agentes do DarkHacker. Também </a:t>
            </a:r>
            <a:r>
              <a:rPr b="0" lang="pt-PT" sz="2400" spc="-1" strike="noStrike">
                <a:solidFill>
                  <a:srgbClr val="00b050"/>
                </a:solidFill>
                <a:latin typeface="Calibri"/>
              </a:rPr>
              <a:t>o</a:t>
            </a:r>
            <a:r>
              <a:rPr b="0" lang="pt-PT" sz="2400" spc="-1" strike="noStrike">
                <a:solidFill>
                  <a:srgbClr val="000000"/>
                </a:solidFill>
                <a:latin typeface="Calibri"/>
              </a:rPr>
              <a:t> informa sobre transações em grande escala para a venda de códigos PIN de bancos planeados para serem realizados no dia seguinte às 17:00, utilizando a mesma conta de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AD764-1BF1-44BA-9453-BA0B06D87C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393840" y="119160"/>
            <a:ext cx="8292960" cy="63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garantir que a HackMail Inc preserva os dados relacionados com a conta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deve tomar para identificar outros prestadores de serviços envolvidos na transmissão de comunicações relacionadas com a fraude do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obter dados informáticos do sistema informático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determinar a localização do cliente DarkHacker que esteja planear comprar os códigos PIN do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Dois</a:t>
            </a:r>
            <a:br>
              <a:rPr sz="4000"/>
            </a:br>
            <a:r>
              <a:rPr b="1" lang="pt-PT" sz="4000" spc="-1" strike="noStrike">
                <a:solidFill>
                  <a:srgbClr val="000000"/>
                </a:solidFill>
                <a:latin typeface="Calibri"/>
              </a:rPr>
              <a:t>Direito </a:t>
            </a:r>
            <a:r>
              <a:rPr b="1" lang="pt-PT" sz="4000" spc="-1" strike="noStrike">
                <a:solidFill>
                  <a:srgbClr val="000000"/>
                </a:solidFill>
                <a:latin typeface="Calibri"/>
              </a:rPr>
              <a:t>substantivo</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39142-B3B4-4F94-AB1F-C948B5A3B0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774360"/>
            <a:ext cx="6095880" cy="594684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e Um</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pt-PT" sz="2500" spc="-1" strike="noStrike">
                <a:solidFill>
                  <a:srgbClr val="000000"/>
                </a:solidFill>
                <a:latin typeface="Calibri"/>
              </a:rPr>
              <a:t>Introdução ao estudo de cas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Dois</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500" spc="-1" strike="noStrike">
                <a:solidFill>
                  <a:srgbClr val="000000"/>
                </a:solidFill>
                <a:latin typeface="Calibri"/>
              </a:rPr>
              <a:t>	</a:t>
            </a:r>
            <a:r>
              <a:rPr b="0" lang="pt-PT" sz="2500" spc="-1" strike="noStrike">
                <a:solidFill>
                  <a:srgbClr val="000000"/>
                </a:solidFill>
                <a:latin typeface="Calibri"/>
              </a:rPr>
              <a:t>Direito substantiv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Três</a:t>
            </a:r>
            <a:br>
              <a:rPr sz="2500"/>
            </a:br>
            <a:r>
              <a:rPr b="0" lang="pt-PT" sz="2500" spc="-1" strike="noStrike">
                <a:solidFill>
                  <a:srgbClr val="000000"/>
                </a:solidFill>
                <a:latin typeface="Calibri"/>
              </a:rPr>
              <a:t>Direito processual</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Quatro</a:t>
            </a:r>
            <a:br>
              <a:rPr sz="2500"/>
            </a:br>
            <a:r>
              <a:rPr b="0" lang="pt-PT" sz="2500" spc="-1" strike="noStrike">
                <a:solidFill>
                  <a:srgbClr val="000000"/>
                </a:solidFill>
                <a:latin typeface="Calibri"/>
              </a:rPr>
              <a:t>Outras formas de cooperaçã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Cinco</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500" spc="-1" strike="noStrike">
                <a:solidFill>
                  <a:srgbClr val="000000"/>
                </a:solidFill>
                <a:latin typeface="Calibri"/>
              </a:rPr>
              <a:t>     </a:t>
            </a:r>
            <a:r>
              <a:rPr b="0" lang="pt-PT" sz="2500" spc="-1" strike="noStrike">
                <a:solidFill>
                  <a:srgbClr val="000000"/>
                </a:solidFill>
                <a:latin typeface="Calibri"/>
              </a:rPr>
              <a:t>Auxílio judiciário mútuo</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0B42408-29F2-4CBF-A826-2515ED74A6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BDCA5-7815-4809-8DDD-29C98EE3F4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Recebe um relatório informativo de que unidades de dados de sistemas informáticos de uma instituição financeira de renome foram invadidas por criminosos cibernéticos e malwares desconhecidos, o que aumenta o tamanho do cursor do rato que foi instalado nesses sistemas informáticos. A sua investigação sugere que o malware foi criado por um fórum de hackers denominado "DarkHacker".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26785-B6C6-4BE1-BDE0-A89B9570A1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611280"/>
            <a:ext cx="707364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Investigações posteriores revelam que o software de tradução concebido principalmente para invadir computadores também está a ser vendido pela DarkHacker com o slogan "Compre o nosso software de tradução e consiga amigos para instalá-lo - pode aceder aos seus computadores sem direito!"</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Numa tentativa de identificar os indivíduos que operam o DarkHacker, realiza uma operação encoberta obtendo com sucesso códigos de acesso a sistema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6DD0B-0706-4FAD-AC07-7DAD5E7717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474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a:t>
            </a:r>
            <a:r>
              <a:rPr b="1" lang="pt-PT" sz="2900" spc="-1" strike="noStrike">
                <a:solidFill>
                  <a:srgbClr val="ff0000"/>
                </a:solidFill>
                <a:latin typeface="Calibri"/>
              </a:rPr>
              <a:t>cibercrime(s)</a:t>
            </a:r>
            <a:r>
              <a:rPr b="0" lang="pt-PT" sz="2900" spc="-1" strike="noStrike">
                <a:solidFill>
                  <a:srgbClr val="000000"/>
                </a:solidFill>
                <a:latin typeface="Calibri"/>
              </a:rPr>
              <a:t>foi/foram cometido(s) pela </a:t>
            </a:r>
            <a:r>
              <a:rPr b="1" lang="pt-PT" sz="2900" spc="-1" strike="noStrike">
                <a:solidFill>
                  <a:srgbClr val="ff0000"/>
                </a:solidFill>
                <a:latin typeface="Calibri"/>
              </a:rPr>
              <a:t>instalação de malware </a:t>
            </a:r>
            <a:r>
              <a:rPr b="0" lang="pt-PT" sz="2900" spc="-1" strike="noStrike">
                <a:solidFill>
                  <a:srgbClr val="000000"/>
                </a:solidFill>
                <a:latin typeface="Calibri"/>
              </a:rPr>
              <a:t>nos </a:t>
            </a:r>
            <a:r>
              <a:rPr b="1" lang="pt-PT" sz="2900" spc="-1" strike="noStrike">
                <a:solidFill>
                  <a:srgbClr val="ff0000"/>
                </a:solidFill>
                <a:latin typeface="Calibri"/>
              </a:rPr>
              <a:t>sistemas informáticos </a:t>
            </a:r>
            <a:r>
              <a:rPr b="0" lang="pt-PT" sz="2900" spc="-1" strike="noStrike">
                <a:solidFill>
                  <a:srgbClr val="000000"/>
                </a:solidFill>
                <a:latin typeface="Calibri"/>
              </a:rPr>
              <a:t>da instituição financeira de renome?</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899062-6857-4621-9750-D51D443D80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Recebe um relatório a informar que as </a:t>
            </a:r>
            <a:r>
              <a:rPr b="1" lang="pt-PT" sz="2900" spc="-1" strike="noStrike">
                <a:solidFill>
                  <a:srgbClr val="ff0000"/>
                </a:solidFill>
                <a:latin typeface="Calibri"/>
              </a:rPr>
              <a:t>unidades de dados de sistemas informáticos</a:t>
            </a:r>
            <a:r>
              <a:rPr b="0" lang="pt-PT" sz="2900" spc="-1" strike="noStrike">
                <a:solidFill>
                  <a:srgbClr val="000000"/>
                </a:solidFill>
                <a:latin typeface="Calibri"/>
              </a:rPr>
              <a:t> de uma instituição financeira de renome </a:t>
            </a:r>
            <a:r>
              <a:rPr b="1" lang="pt-PT" sz="2900" spc="-1" strike="noStrike">
                <a:solidFill>
                  <a:srgbClr val="ff0000"/>
                </a:solidFill>
                <a:latin typeface="Calibri"/>
              </a:rPr>
              <a:t>foram invadidas</a:t>
            </a:r>
            <a:r>
              <a:rPr b="0" lang="pt-PT" sz="2900" spc="-1" strike="noStrike">
                <a:solidFill>
                  <a:srgbClr val="000000"/>
                </a:solidFill>
                <a:latin typeface="Calibri"/>
              </a:rPr>
              <a:t> por criminosos cibernéticos e que </a:t>
            </a:r>
            <a:r>
              <a:rPr b="1" lang="pt-PT" sz="2900" spc="-1" strike="noStrike">
                <a:solidFill>
                  <a:srgbClr val="ff0000"/>
                </a:solidFill>
                <a:latin typeface="Calibri"/>
              </a:rPr>
              <a:t>malwares </a:t>
            </a:r>
            <a:r>
              <a:rPr b="0" lang="pt-PT" sz="2900" spc="-1" strike="noStrike">
                <a:solidFill>
                  <a:srgbClr val="000000"/>
                </a:solidFill>
                <a:latin typeface="Calibri"/>
              </a:rPr>
              <a:t>desconhecidos, o que </a:t>
            </a:r>
            <a:r>
              <a:rPr b="1" lang="pt-PT" sz="2900" spc="-1" strike="noStrike">
                <a:solidFill>
                  <a:srgbClr val="ff0000"/>
                </a:solidFill>
                <a:latin typeface="Calibri"/>
              </a:rPr>
              <a:t>aumenta o tamanho do cursor do rato que foi instalado</a:t>
            </a:r>
            <a:r>
              <a:rPr b="0" lang="pt-PT" sz="2900" spc="-1" strike="noStrike">
                <a:solidFill>
                  <a:srgbClr val="000000"/>
                </a:solidFill>
                <a:latin typeface="Calibri"/>
              </a:rPr>
              <a:t> nesses sistemas informátic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67320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2.º - </a:t>
            </a:r>
            <a:r>
              <a:rPr b="1" lang="pt-PT" sz="3000" spc="-1" strike="noStrike">
                <a:solidFill>
                  <a:srgbClr val="000000"/>
                </a:solidFill>
                <a:latin typeface="Calibri"/>
              </a:rPr>
              <a:t>Acesso ilícito</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quando realizado de forma intencional o </a:t>
            </a:r>
            <a:r>
              <a:rPr b="1" lang="pt-PT" sz="3000" spc="-1" strike="noStrike">
                <a:solidFill>
                  <a:srgbClr val="ff0000"/>
                </a:solidFill>
                <a:latin typeface="Calibri"/>
              </a:rPr>
              <a:t>acesso a </a:t>
            </a:r>
            <a:r>
              <a:rPr b="0" lang="pt-PT" sz="3000" spc="-1" strike="noStrike">
                <a:solidFill>
                  <a:srgbClr val="000000"/>
                </a:solidFill>
                <a:latin typeface="Calibri"/>
              </a:rPr>
              <a:t>todo ou a </a:t>
            </a:r>
            <a:r>
              <a:rPr b="1" lang="pt-PT" sz="3000" spc="-1" strike="noStrike">
                <a:solidFill>
                  <a:srgbClr val="ff0000"/>
                </a:solidFill>
                <a:latin typeface="Calibri"/>
              </a:rPr>
              <a:t>qualquer parte de um sistema informático sem autorização</a:t>
            </a:r>
            <a:r>
              <a:rPr b="0" lang="pt-PT"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Uma Parte pode exigir que a infração seja cometida por infração de medidas de segurança, com a intenção de obter dados informáticos ou outra </a:t>
            </a:r>
            <a:r>
              <a:rPr b="1" lang="pt-PT" sz="3000" spc="-1" strike="noStrike">
                <a:solidFill>
                  <a:srgbClr val="ff0000"/>
                </a:solidFill>
                <a:latin typeface="Calibri"/>
              </a:rPr>
              <a:t>intenção desonesta</a:t>
            </a:r>
            <a:r>
              <a:rPr b="0" lang="pt-PT" sz="3000" spc="-1" strike="noStrike">
                <a:solidFill>
                  <a:srgbClr val="000000"/>
                </a:solidFill>
                <a:latin typeface="Calibri"/>
              </a:rPr>
              <a:t> ou em relação a um sistema informático que esteja ligado a outro sistema informático.</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6B7FE-B18A-4090-ACE5-12AC38FDA7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a:t>
            </a:r>
            <a:r>
              <a:rPr b="1" lang="pt-PT" sz="3000" spc="-1" strike="noStrike">
                <a:solidFill>
                  <a:srgbClr val="000000"/>
                </a:solidFill>
                <a:latin typeface="Calibri"/>
              </a:rPr>
              <a:t>5.º - Sabotagem informátic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quando cometido intencionalmente, o </a:t>
            </a:r>
            <a:r>
              <a:rPr b="1" lang="pt-PT" sz="3000" spc="-1" strike="noStrike" u="sng">
                <a:solidFill>
                  <a:srgbClr val="ff0000"/>
                </a:solidFill>
                <a:uFillTx/>
                <a:latin typeface="Calibri"/>
              </a:rPr>
              <a:t>impedimento</a:t>
            </a:r>
            <a:r>
              <a:rPr b="0" lang="pt-PT" sz="3000" spc="-1" strike="noStrike">
                <a:solidFill>
                  <a:srgbClr val="ff0000"/>
                </a:solidFill>
                <a:latin typeface="Calibri"/>
              </a:rPr>
              <a:t> </a:t>
            </a:r>
            <a:r>
              <a:rPr b="1" lang="pt-PT" sz="3000" spc="-1" strike="noStrike" u="sng">
                <a:solidFill>
                  <a:srgbClr val="ff0000"/>
                </a:solidFill>
                <a:uFillTx/>
                <a:latin typeface="Calibri"/>
              </a:rPr>
              <a:t>grave,</a:t>
            </a:r>
            <a:r>
              <a:rPr b="1" lang="pt-PT" sz="3000" spc="-1" strike="noStrike">
                <a:solidFill>
                  <a:srgbClr val="ff0000"/>
                </a:solidFill>
                <a:latin typeface="Calibri"/>
              </a:rPr>
              <a:t> </a:t>
            </a:r>
            <a:r>
              <a:rPr b="0" lang="pt-PT" sz="3000" spc="-1" strike="noStrike">
                <a:solidFill>
                  <a:srgbClr val="000000"/>
                </a:solidFill>
                <a:latin typeface="Calibri"/>
              </a:rPr>
              <a:t>sem direito, do </a:t>
            </a:r>
            <a:r>
              <a:rPr b="1" lang="pt-PT" sz="3000" spc="-1" strike="noStrike">
                <a:solidFill>
                  <a:srgbClr val="ff0000"/>
                </a:solidFill>
                <a:latin typeface="Calibri"/>
              </a:rPr>
              <a:t>funcionamento de um sistema informático</a:t>
            </a:r>
            <a:r>
              <a:rPr b="0" lang="pt-PT" sz="3000" spc="-1" strike="noStrike">
                <a:solidFill>
                  <a:srgbClr val="000000"/>
                </a:solidFill>
                <a:latin typeface="Calibri"/>
              </a:rPr>
              <a:t> </a:t>
            </a:r>
            <a:r>
              <a:rPr b="1" lang="pt-PT" sz="3000" spc="-1" strike="noStrike">
                <a:solidFill>
                  <a:srgbClr val="ff0000"/>
                </a:solidFill>
                <a:latin typeface="Calibri"/>
              </a:rPr>
              <a:t>inserindo</a:t>
            </a:r>
            <a:r>
              <a:rPr b="0" lang="pt-PT" sz="3000" spc="-1" strike="noStrike">
                <a:solidFill>
                  <a:srgbClr val="000000"/>
                </a:solidFill>
                <a:latin typeface="Calibri"/>
              </a:rPr>
              <a:t>, transmitindo, danificando, eliminado, deteriorando, alterando ou suprimindo </a:t>
            </a:r>
            <a:r>
              <a:rPr b="1" lang="pt-PT" sz="3000" spc="-1" strike="noStrike">
                <a:solidFill>
                  <a:srgbClr val="ff0000"/>
                </a:solidFill>
                <a:latin typeface="Calibri"/>
              </a:rPr>
              <a:t>dados informáticos</a:t>
            </a:r>
            <a:r>
              <a:rPr b="1" lang="en-US" sz="3000" spc="-1" strike="noStrike">
                <a:solidFill>
                  <a:srgbClr val="ff0000"/>
                </a:solidFill>
                <a:latin typeface="Calibri"/>
              </a:rPr>
              <a:t>.</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B7D34-4BF7-4E29-AFED-D6992AF803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673200"/>
            <a:ext cx="8039160" cy="5683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pode </a:t>
            </a:r>
            <a:r>
              <a:rPr b="1" lang="pt-PT" sz="2800" spc="-1" strike="noStrike">
                <a:solidFill>
                  <a:srgbClr val="ff0000"/>
                </a:solidFill>
                <a:latin typeface="Calibri"/>
              </a:rPr>
              <a:t>identificar</a:t>
            </a:r>
            <a:r>
              <a:rPr b="0" lang="pt-PT" sz="2800" spc="-1" strike="noStrike">
                <a:solidFill>
                  <a:srgbClr val="ff0000"/>
                </a:solidFill>
                <a:latin typeface="Calibri"/>
              </a:rPr>
              <a:t> </a:t>
            </a:r>
            <a:r>
              <a:rPr b="0" lang="pt-PT" sz="2800" spc="-1" strike="noStrike">
                <a:solidFill>
                  <a:srgbClr val="000000"/>
                </a:solidFill>
                <a:latin typeface="Calibri"/>
              </a:rPr>
              <a:t>a infração </a:t>
            </a:r>
            <a:r>
              <a:rPr b="1" lang="pt-PT" sz="2800" spc="-1" strike="noStrike">
                <a:solidFill>
                  <a:srgbClr val="ff0000"/>
                </a:solidFill>
                <a:latin typeface="Calibri"/>
              </a:rPr>
              <a:t>Acesso Ilícito</a:t>
            </a:r>
            <a:r>
              <a:rPr b="0" lang="pt-PT" sz="2800" spc="-1" strike="noStrike">
                <a:solidFill>
                  <a:srgbClr val="ff0000"/>
                </a:solidFill>
                <a:latin typeface="Calibri"/>
              </a:rPr>
              <a:t> </a:t>
            </a:r>
            <a:r>
              <a:rPr b="0" lang="pt-PT" sz="2800" spc="-1" strike="noStrike">
                <a:solidFill>
                  <a:srgbClr val="000000"/>
                </a:solidFill>
                <a:latin typeface="Calibri"/>
              </a:rPr>
              <a:t>(Artigo 2.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duta do prestador de serviços envolve o </a:t>
            </a:r>
            <a:r>
              <a:rPr b="1" lang="pt-PT" sz="2800" spc="-1" strike="noStrike">
                <a:solidFill>
                  <a:srgbClr val="ff0000"/>
                </a:solidFill>
                <a:latin typeface="Calibri"/>
              </a:rPr>
              <a:t>acesso a </a:t>
            </a:r>
            <a:r>
              <a:rPr b="0" lang="pt-PT" sz="2800" spc="-1" strike="noStrike">
                <a:solidFill>
                  <a:srgbClr val="000000"/>
                </a:solidFill>
                <a:latin typeface="Calibri"/>
              </a:rPr>
              <a:t>uma unidade de dados que faz </a:t>
            </a:r>
            <a:r>
              <a:rPr b="1" lang="pt-PT" sz="2800" spc="-1" strike="noStrike">
                <a:solidFill>
                  <a:srgbClr val="ff0000"/>
                </a:solidFill>
                <a:latin typeface="Calibri"/>
              </a:rPr>
              <a:t>parte de um sistema informátic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te acesso é feito </a:t>
            </a:r>
            <a:r>
              <a:rPr b="1" lang="pt-PT" sz="2800" spc="-1" strike="noStrike">
                <a:solidFill>
                  <a:srgbClr val="ff0000"/>
                </a:solidFill>
                <a:latin typeface="Calibri"/>
              </a:rPr>
              <a:t>sem autoriza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se acesso é feito com </a:t>
            </a:r>
            <a:r>
              <a:rPr b="1" lang="pt-PT" sz="2800" spc="-1" strike="noStrike">
                <a:solidFill>
                  <a:srgbClr val="ff0000"/>
                </a:solidFill>
                <a:latin typeface="Calibri"/>
              </a:rPr>
              <a:t>intenção desonesta</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mas jurisdições podem exigir que o acesso ilegal seja feito com a </a:t>
            </a:r>
            <a:r>
              <a:rPr b="1" lang="pt-PT" sz="2800" spc="-1" strike="noStrike">
                <a:solidFill>
                  <a:srgbClr val="ff0000"/>
                </a:solidFill>
                <a:latin typeface="Calibri"/>
              </a:rPr>
              <a:t>intenção de obter dados</a:t>
            </a:r>
            <a:endParaRPr b="0" lang="en-US" sz="28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0315B-F69F-4A43-8689-997FBBCF67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5526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nacional, </a:t>
            </a:r>
            <a:r>
              <a:rPr b="1" lang="pt-PT" sz="2800" spc="-1" strike="noStrike">
                <a:solidFill>
                  <a:srgbClr val="ff0000"/>
                </a:solidFill>
                <a:latin typeface="Calibri"/>
              </a:rPr>
              <a:t>não pode identificar</a:t>
            </a:r>
            <a:r>
              <a:rPr b="0" lang="pt-PT" sz="2800" spc="-1" strike="noStrike">
                <a:solidFill>
                  <a:srgbClr val="000000"/>
                </a:solidFill>
                <a:latin typeface="Calibri"/>
              </a:rPr>
              <a:t> a infração de </a:t>
            </a:r>
            <a:r>
              <a:rPr b="1" lang="pt-PT" sz="2800" spc="-1" strike="noStrike">
                <a:solidFill>
                  <a:srgbClr val="ff0000"/>
                </a:solidFill>
                <a:latin typeface="Calibri"/>
              </a:rPr>
              <a:t>sabotagem informática </a:t>
            </a:r>
            <a:r>
              <a:rPr b="0" lang="pt-PT" sz="2800" spc="-1" strike="noStrike">
                <a:solidFill>
                  <a:srgbClr val="000000"/>
                </a:solidFill>
                <a:latin typeface="Calibri"/>
              </a:rPr>
              <a:t>(Artigo 5.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bora a conduta de </a:t>
            </a:r>
            <a:r>
              <a:rPr b="1" lang="pt-PT" sz="2800" spc="-1" strike="noStrike">
                <a:solidFill>
                  <a:srgbClr val="ff0000"/>
                </a:solidFill>
                <a:latin typeface="Calibri"/>
              </a:rPr>
              <a:t>inserir dados informáticos</a:t>
            </a:r>
            <a:r>
              <a:rPr b="0" lang="pt-PT" sz="2800" spc="-1" strike="noStrike">
                <a:solidFill>
                  <a:srgbClr val="000000"/>
                </a:solidFill>
                <a:latin typeface="Calibri"/>
              </a:rPr>
              <a:t> tenha afetado o tamanho do cursor do sistema informátic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funcionamento do computador parece não estar </a:t>
            </a:r>
            <a:r>
              <a:rPr b="1" lang="pt-PT" sz="2800" spc="-1" strike="noStrike">
                <a:solidFill>
                  <a:srgbClr val="ff0000"/>
                </a:solidFill>
                <a:latin typeface="Calibri"/>
              </a:rPr>
              <a:t>prejudicado com gravidade</a:t>
            </a:r>
            <a:r>
              <a:rPr b="0" lang="pt-PT" sz="2800" spc="-1" strike="noStrike">
                <a:solidFill>
                  <a:srgbClr val="000000"/>
                </a:solidFill>
                <a:latin typeface="Calibri"/>
              </a:rPr>
              <a:t>, conforme exigido pelo Artigo 5.º.</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algumas jurisdições isto pode ser considerado grave</a:t>
            </a:r>
            <a:endParaRPr b="0" lang="en-US" sz="28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B0BDA4-D209-47AE-A7C5-FEF9FF490C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96DFA-6C18-4E7D-B220-D3FAFBF22B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pt-PT" sz="2900" spc="-1" strike="noStrike">
                <a:solidFill>
                  <a:srgbClr val="000000"/>
                </a:solidFill>
                <a:latin typeface="Calibri"/>
              </a:rPr>
              <a:t> </a:t>
            </a:r>
            <a:r>
              <a:rPr b="0" lang="pt-PT" sz="2900" spc="-1" strike="noStrike">
                <a:solidFill>
                  <a:srgbClr val="000000"/>
                </a:solidFill>
                <a:latin typeface="Calibri"/>
              </a:rPr>
              <a:t>Que </a:t>
            </a:r>
            <a:r>
              <a:rPr b="1" lang="pt-PT" sz="2900" spc="-1" strike="noStrike">
                <a:solidFill>
                  <a:srgbClr val="ff0000"/>
                </a:solidFill>
                <a:latin typeface="Calibri"/>
              </a:rPr>
              <a:t>cibercrime(s) </a:t>
            </a:r>
            <a:r>
              <a:rPr b="0" lang="pt-PT" sz="2900" spc="-1" strike="noStrike">
                <a:solidFill>
                  <a:srgbClr val="000000"/>
                </a:solidFill>
                <a:latin typeface="Calibri"/>
              </a:rPr>
              <a:t>consegue identificar como sendo </a:t>
            </a:r>
            <a:r>
              <a:rPr b="1" lang="pt-PT" sz="2900" spc="-1" strike="noStrike">
                <a:solidFill>
                  <a:srgbClr val="ff0000"/>
                </a:solidFill>
                <a:latin typeface="Calibri"/>
              </a:rPr>
              <a:t>cometido(s) por pessoas no DarkHacker</a:t>
            </a:r>
            <a:r>
              <a:rPr b="0" lang="pt-PT"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B71F5C-2787-4541-8E15-FF1E45A2BF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458640" y="512640"/>
            <a:ext cx="8228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investigação sugere que o malware foi criado por um </a:t>
            </a:r>
            <a:r>
              <a:rPr b="1" lang="pt-PT" sz="2800" spc="-1" strike="noStrike">
                <a:solidFill>
                  <a:srgbClr val="ff0000"/>
                </a:solidFill>
                <a:latin typeface="Calibri"/>
              </a:rPr>
              <a:t>fórum de hackers denominado "DarkHacker"</a:t>
            </a:r>
            <a:r>
              <a:rPr b="0" lang="pt-P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vestigações posteriores </a:t>
            </a:r>
            <a:r>
              <a:rPr b="1" lang="pt-PT" sz="2800" spc="-1" strike="noStrike">
                <a:solidFill>
                  <a:srgbClr val="ff0000"/>
                </a:solidFill>
                <a:latin typeface="Calibri"/>
              </a:rPr>
              <a:t>revelam que o software de tradução concebido</a:t>
            </a:r>
            <a:r>
              <a:rPr b="0" lang="pt-PT" sz="2800" spc="-1" strike="noStrike">
                <a:solidFill>
                  <a:srgbClr val="000000"/>
                </a:solidFill>
                <a:latin typeface="Calibri"/>
              </a:rPr>
              <a:t> </a:t>
            </a:r>
            <a:r>
              <a:rPr b="1" lang="pt-PT" sz="2800" spc="-1" strike="noStrike">
                <a:solidFill>
                  <a:srgbClr val="ff0000"/>
                </a:solidFill>
                <a:latin typeface="Calibri"/>
              </a:rPr>
              <a:t>principalmente para invadir computadores</a:t>
            </a:r>
            <a:r>
              <a:rPr b="0" lang="pt-PT" sz="2800" spc="-1" strike="noStrike">
                <a:solidFill>
                  <a:srgbClr val="000000"/>
                </a:solidFill>
                <a:latin typeface="Calibri"/>
              </a:rPr>
              <a:t> também </a:t>
            </a:r>
            <a:r>
              <a:rPr b="1" lang="pt-PT" sz="2800" spc="-1" strike="noStrike">
                <a:solidFill>
                  <a:srgbClr val="ff0000"/>
                </a:solidFill>
                <a:latin typeface="Calibri"/>
              </a:rPr>
              <a:t>está a ser vendido pelo DarkHacker</a:t>
            </a:r>
            <a:r>
              <a:rPr b="0" lang="pt-PT" sz="2800" spc="-1" strike="noStrike">
                <a:solidFill>
                  <a:srgbClr val="000000"/>
                </a:solidFill>
                <a:latin typeface="Calibri"/>
              </a:rPr>
              <a:t> com o slogan "Compre o nosso software de tradução e consiga amigos para instalá-lo - pode </a:t>
            </a:r>
            <a:r>
              <a:rPr b="1" lang="pt-PT" sz="2800" spc="-1" strike="noStrike">
                <a:solidFill>
                  <a:srgbClr val="ff0000"/>
                </a:solidFill>
                <a:latin typeface="Calibri"/>
              </a:rPr>
              <a:t>aceder aos seus computadores sem autorização!</a:t>
            </a:r>
            <a:r>
              <a:rPr b="0" lang="pt-PT" sz="2800" spc="-1" strike="noStrike">
                <a:solidFill>
                  <a:srgbClr val="000000"/>
                </a:solidFill>
                <a:latin typeface="Calibri"/>
              </a:rPr>
              <a:t>"</a:t>
            </a:r>
            <a:endParaRPr b="0" lang="en-US" sz="2800" spc="-1" strike="noStrike">
              <a:solidFill>
                <a:srgbClr val="000000"/>
              </a:solidFill>
              <a:latin typeface="Arial"/>
            </a:endParaRPr>
          </a:p>
        </p:txBody>
      </p:sp>
      <p:pic>
        <p:nvPicPr>
          <p:cNvPr id="116" name="Picture 7" descr=""/>
          <p:cNvPicPr/>
          <p:nvPr/>
        </p:nvPicPr>
        <p:blipFill>
          <a:blip r:embed="rId1"/>
          <a:stretch/>
        </p:blipFill>
        <p:spPr>
          <a:xfrm>
            <a:off x="5165640" y="544824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806400" y="1200240"/>
            <a:ext cx="78804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a:t>
            </a:r>
            <a:r>
              <a:rPr b="0" lang="pt-PT" sz="2400" spc="-1" strike="noStrike">
                <a:solidFill>
                  <a:srgbClr val="000000"/>
                </a:solidFill>
                <a:latin typeface="Calibri"/>
              </a:rPr>
              <a:t>capazes d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Relembrar a lei substantiva, o direito processual e as disposições relativas à cooperação internacional da Convenção de Budapeste, abordadas no curso introdutó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plicar o alcance e a extensão da lei substantiva, do direito processual e das disposições relativas à cooperação internacional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plicar as disposições da Convenção de Budapeste e as legislações nacionais correspondentes a estudos de casos relacionados com a lei de cooperação substantiva, processual e internacional</a:t>
            </a: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7413CB9-7CDF-4845-A8EB-CE66CF7C8A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23880" y="422280"/>
            <a:ext cx="8172360" cy="5789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6.º – Utilização indevida de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t>
            </a:r>
            <a:r>
              <a:rPr b="0" lang="pt-PT" sz="2800" spc="-1" strike="noStrike">
                <a:solidFill>
                  <a:srgbClr val="000000"/>
                </a:solidFill>
                <a:latin typeface="Calibri"/>
              </a:rPr>
              <a:t>quando realizado intencionalmente e sem autorizaçã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dução, </a:t>
            </a:r>
            <a:r>
              <a:rPr b="1" lang="pt-PT" sz="2800" spc="-1" strike="noStrike">
                <a:solidFill>
                  <a:srgbClr val="ff0000"/>
                </a:solidFill>
                <a:latin typeface="Calibri"/>
              </a:rPr>
              <a:t>venda</a:t>
            </a:r>
            <a:r>
              <a:rPr b="0" lang="pt-PT" sz="2800" spc="-1" strike="noStrike">
                <a:solidFill>
                  <a:srgbClr val="000000"/>
                </a:solidFill>
                <a:latin typeface="Calibri"/>
              </a:rPr>
              <a:t>, aquisição para utilização, importação, </a:t>
            </a:r>
            <a:r>
              <a:rPr b="1" lang="pt-PT" sz="2800" spc="-1" strike="noStrike">
                <a:solidFill>
                  <a:srgbClr val="ff0000"/>
                </a:solidFill>
                <a:latin typeface="Calibri"/>
              </a:rPr>
              <a:t>distribuição</a:t>
            </a:r>
            <a:r>
              <a:rPr b="0" lang="pt-PT" sz="2800" spc="-1" strike="noStrike">
                <a:solidFill>
                  <a:srgbClr val="ff0000"/>
                </a:solidFill>
                <a:latin typeface="Calibri"/>
              </a:rPr>
              <a:t> </a:t>
            </a:r>
            <a:r>
              <a:rPr b="0" lang="pt-PT" sz="2800" spc="-1" strike="noStrike">
                <a:solidFill>
                  <a:srgbClr val="000000"/>
                </a:solidFill>
                <a:latin typeface="Calibri"/>
              </a:rPr>
              <a:t>ou </a:t>
            </a:r>
            <a:r>
              <a:rPr b="1" lang="pt-PT" sz="2800" spc="-1" strike="noStrike">
                <a:solidFill>
                  <a:srgbClr val="ff0000"/>
                </a:solidFill>
                <a:latin typeface="Calibri"/>
              </a:rPr>
              <a:t>disponibilização</a:t>
            </a:r>
            <a:r>
              <a:rPr b="0" lang="pt-PT" sz="2800" spc="-1" strike="noStrike">
                <a:solidFill>
                  <a:srgbClr val="ff0000"/>
                </a:solidFill>
                <a:latin typeface="Calibri"/>
              </a:rPr>
              <a:t> </a:t>
            </a:r>
            <a:r>
              <a:rPr b="0" lang="pt-PT" sz="2800" spc="-1" strike="noStrike">
                <a:solidFill>
                  <a:srgbClr val="000000"/>
                </a:solidFill>
                <a:latin typeface="Calibri"/>
              </a:rPr>
              <a:t>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m dispositivo, incluindo um </a:t>
            </a:r>
            <a:r>
              <a:rPr b="1" lang="pt-PT" sz="2800" spc="-1" strike="noStrike">
                <a:solidFill>
                  <a:srgbClr val="ff0000"/>
                </a:solidFill>
                <a:latin typeface="Calibri"/>
              </a:rPr>
              <a:t>programa informático</a:t>
            </a:r>
            <a:r>
              <a:rPr b="0" lang="pt-PT" sz="2800" spc="-1" strike="noStrike">
                <a:solidFill>
                  <a:srgbClr val="000000"/>
                </a:solidFill>
                <a:latin typeface="Calibri"/>
              </a:rPr>
              <a:t>, </a:t>
            </a:r>
            <a:r>
              <a:rPr b="1" lang="pt-PT" sz="2800" spc="-1" strike="noStrike">
                <a:solidFill>
                  <a:srgbClr val="ff0000"/>
                </a:solidFill>
                <a:latin typeface="Calibri"/>
              </a:rPr>
              <a:t>concebido ou adaptado </a:t>
            </a:r>
            <a:r>
              <a:rPr b="1" lang="pt-PT" sz="2800" spc="-1" strike="noStrike" u="sng">
                <a:solidFill>
                  <a:srgbClr val="ff0000"/>
                </a:solidFill>
                <a:uFillTx/>
                <a:latin typeface="Calibri"/>
              </a:rPr>
              <a:t>principalmente</a:t>
            </a:r>
            <a:r>
              <a:rPr b="1" lang="pt-PT" sz="2800" spc="-1" strike="noStrike">
                <a:solidFill>
                  <a:srgbClr val="ff0000"/>
                </a:solidFill>
                <a:latin typeface="Calibri"/>
              </a:rPr>
              <a:t> para cometer qualquer uma das infrações</a:t>
            </a:r>
            <a:r>
              <a:rPr b="0" lang="pt-PT" sz="2800" spc="-1" strike="noStrike">
                <a:solidFill>
                  <a:srgbClr val="000000"/>
                </a:solidFill>
                <a:latin typeface="Calibri"/>
              </a:rPr>
              <a:t> estabelecidas em conformidade com os Artigos 2.º – 5.º;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 a intenção de que seja utilizado para cometer qualquer uma das infrações estabelecidas nos Artigos 2.º - 5.º.</a:t>
            </a:r>
            <a:endParaRPr b="0" lang="en-US" sz="28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9A84B-ADF1-49FE-B556-B39DDF6862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57360"/>
            <a:ext cx="8229600" cy="4927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pode identificar a infração de </a:t>
            </a:r>
            <a:r>
              <a:rPr b="1" lang="pt-PT" sz="2800" spc="-1" strike="noStrike">
                <a:solidFill>
                  <a:srgbClr val="ff0000"/>
                </a:solidFill>
                <a:latin typeface="Calibri"/>
              </a:rPr>
              <a:t>Utilização indevida de dispositivos</a:t>
            </a:r>
            <a:r>
              <a:rPr b="0" lang="pt-PT" sz="2800" spc="-1" strike="noStrike">
                <a:solidFill>
                  <a:srgbClr val="000000"/>
                </a:solidFill>
                <a:latin typeface="Calibri"/>
              </a:rPr>
              <a:t> (Artigo 6.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duta envolve a </a:t>
            </a:r>
            <a:r>
              <a:rPr b="1" lang="pt-PT" sz="2800" spc="-1" strike="noStrike">
                <a:solidFill>
                  <a:srgbClr val="ff0000"/>
                </a:solidFill>
                <a:latin typeface="Calibri"/>
              </a:rPr>
              <a:t>venda</a:t>
            </a:r>
            <a:r>
              <a:rPr b="0" lang="pt-PT" sz="2800" spc="-1" strike="noStrike">
                <a:solidFill>
                  <a:srgbClr val="000000"/>
                </a:solidFill>
                <a:latin typeface="Calibri"/>
              </a:rPr>
              <a:t>, </a:t>
            </a:r>
            <a:r>
              <a:rPr b="1" lang="pt-PT" sz="2800" spc="-1" strike="noStrike">
                <a:solidFill>
                  <a:srgbClr val="ff0000"/>
                </a:solidFill>
                <a:latin typeface="Calibri"/>
              </a:rPr>
              <a:t>distribuição</a:t>
            </a:r>
            <a:r>
              <a:rPr b="0" lang="pt-PT" sz="2800" spc="-1" strike="noStrike">
                <a:solidFill>
                  <a:srgbClr val="000000"/>
                </a:solidFill>
                <a:latin typeface="Calibri"/>
              </a:rPr>
              <a:t> ou </a:t>
            </a:r>
            <a:r>
              <a:rPr b="1" lang="pt-PT" sz="2800" spc="-1" strike="noStrike">
                <a:solidFill>
                  <a:srgbClr val="ff0000"/>
                </a:solidFill>
                <a:latin typeface="Calibri"/>
              </a:rPr>
              <a:t>disponibilização de</a:t>
            </a:r>
            <a:r>
              <a:rPr b="0" lang="pt-PT" sz="2800" spc="-1" strike="noStrike">
                <a:solidFill>
                  <a:srgbClr val="000000"/>
                </a:solidFill>
                <a:latin typeface="Calibri"/>
              </a:rPr>
              <a:t> </a:t>
            </a:r>
            <a:r>
              <a:rPr b="1" lang="pt-PT" sz="2800" spc="-1" strike="noStrike">
                <a:solidFill>
                  <a:srgbClr val="ff0000"/>
                </a:solidFill>
                <a:latin typeface="Calibri"/>
              </a:rPr>
              <a:t>software de tradução</a:t>
            </a:r>
            <a:r>
              <a:rPr b="0" lang="pt-PT" sz="2800" spc="-1" strike="noStrike">
                <a:solidFill>
                  <a:srgbClr val="000000"/>
                </a:solidFill>
                <a:latin typeface="Calibri"/>
              </a:rPr>
              <a:t>; 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software de tradução é </a:t>
            </a:r>
            <a:r>
              <a:rPr b="1" lang="pt-PT" sz="2800" spc="-1" strike="noStrike">
                <a:solidFill>
                  <a:srgbClr val="ff0000"/>
                </a:solidFill>
                <a:latin typeface="Calibri"/>
              </a:rPr>
              <a:t>projetado principalmente</a:t>
            </a:r>
            <a:r>
              <a:rPr b="0" lang="pt-PT" sz="2800" spc="-1" strike="noStrike">
                <a:solidFill>
                  <a:srgbClr val="000000"/>
                </a:solidFill>
                <a:latin typeface="Calibri"/>
              </a:rPr>
              <a:t> para </a:t>
            </a:r>
            <a:r>
              <a:rPr b="1" lang="pt-PT" sz="2800" spc="-1" strike="noStrike">
                <a:solidFill>
                  <a:srgbClr val="ff0000"/>
                </a:solidFill>
                <a:latin typeface="Calibri"/>
              </a:rPr>
              <a:t>cometer</a:t>
            </a:r>
            <a:r>
              <a:rPr b="0" lang="pt-PT" sz="2800" spc="-1" strike="noStrike">
                <a:solidFill>
                  <a:srgbClr val="000000"/>
                </a:solidFill>
                <a:latin typeface="Calibri"/>
              </a:rPr>
              <a:t> a infração de </a:t>
            </a:r>
            <a:r>
              <a:rPr b="1" lang="pt-PT" sz="2800" spc="-1" strike="noStrike">
                <a:solidFill>
                  <a:srgbClr val="ff0000"/>
                </a:solidFill>
                <a:latin typeface="Calibri"/>
              </a:rPr>
              <a:t>acesso ilícito </a:t>
            </a:r>
            <a:r>
              <a:rPr b="0" lang="pt-PT" sz="2800" spc="-1" strike="noStrike">
                <a:solidFill>
                  <a:srgbClr val="000000"/>
                </a:solidFill>
                <a:latin typeface="Calibri"/>
              </a:rPr>
              <a:t>(Artigo 2.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te </a:t>
            </a:r>
            <a:r>
              <a:rPr b="1" lang="pt-PT" sz="2800" spc="-1" strike="noStrike">
                <a:solidFill>
                  <a:srgbClr val="ff0000"/>
                </a:solidFill>
                <a:latin typeface="Calibri"/>
              </a:rPr>
              <a:t>software está a ser vendido</a:t>
            </a:r>
            <a:r>
              <a:rPr b="0" lang="pt-PT" sz="2800" spc="-1" strike="noStrike">
                <a:solidFill>
                  <a:srgbClr val="000000"/>
                </a:solidFill>
                <a:latin typeface="Calibri"/>
              </a:rPr>
              <a:t> com a </a:t>
            </a:r>
            <a:r>
              <a:rPr b="1" lang="pt-PT" sz="2800" spc="-1" strike="noStrike">
                <a:solidFill>
                  <a:srgbClr val="ff0000"/>
                </a:solidFill>
                <a:latin typeface="Calibri"/>
              </a:rPr>
              <a:t>intenção de ser utilizado para confirmar o acesso ilícito</a:t>
            </a:r>
            <a:endParaRPr b="0" lang="en-US" sz="28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F1503-F778-4719-B321-45FC26967B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C93F6-D2D8-4B3B-83AB-8E7321E09B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Cometeu uma infração de cibercrime</a:t>
            </a:r>
            <a:r>
              <a:rPr b="0" lang="pt-PT" sz="2900" spc="-1" strike="noStrike">
                <a:solidFill>
                  <a:srgbClr val="000000"/>
                </a:solidFill>
                <a:latin typeface="Calibri"/>
              </a:rPr>
              <a:t> ao  </a:t>
            </a:r>
            <a:r>
              <a:rPr b="1" lang="pt-PT" sz="2900" spc="-1" strike="noStrike">
                <a:solidFill>
                  <a:srgbClr val="ff0000"/>
                </a:solidFill>
                <a:latin typeface="Calibri"/>
              </a:rPr>
              <a:t>comprar códigos de acesso </a:t>
            </a:r>
            <a:r>
              <a:rPr b="0" lang="pt-PT" sz="2900" spc="-1" strike="noStrike">
                <a:solidFill>
                  <a:srgbClr val="000000"/>
                </a:solidFill>
                <a:latin typeface="Calibri"/>
              </a:rPr>
              <a:t>no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F9513-F044-426D-8AF1-32131C4B97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uma </a:t>
            </a:r>
            <a:r>
              <a:rPr b="1" lang="pt-PT" sz="2800" spc="-1" strike="noStrike">
                <a:solidFill>
                  <a:srgbClr val="ff0000"/>
                </a:solidFill>
                <a:latin typeface="Calibri"/>
              </a:rPr>
              <a:t>tentativa de identificar os indivíduos que operam o DarkHacker</a:t>
            </a:r>
            <a:r>
              <a:rPr b="0" lang="pt-PT" sz="2800" spc="-1" strike="noStrike">
                <a:solidFill>
                  <a:srgbClr val="000000"/>
                </a:solidFill>
                <a:latin typeface="Calibri"/>
              </a:rPr>
              <a:t>, realiza uma operação secreta </a:t>
            </a:r>
            <a:r>
              <a:rPr b="1" lang="pt-PT" sz="2800" spc="-1" strike="noStrike">
                <a:solidFill>
                  <a:srgbClr val="ff0000"/>
                </a:solidFill>
                <a:latin typeface="Calibri"/>
              </a:rPr>
              <a:t>obtendo com sucesso códigos de acesso</a:t>
            </a:r>
            <a:r>
              <a:rPr b="0" lang="pt-PT" sz="2800" spc="-1" strike="noStrike">
                <a:solidFill>
                  <a:srgbClr val="000000"/>
                </a:solidFill>
                <a:latin typeface="Calibri"/>
              </a:rPr>
              <a:t> que permitem o </a:t>
            </a:r>
            <a:r>
              <a:rPr b="1" lang="pt-PT" sz="2800" spc="-1" strike="noStrike">
                <a:solidFill>
                  <a:srgbClr val="ff0000"/>
                </a:solidFill>
                <a:latin typeface="Calibri"/>
              </a:rPr>
              <a:t>acesso a sistemas informáticos</a:t>
            </a:r>
            <a:r>
              <a:rPr b="0" lang="pt-PT" sz="2800" spc="-1" strike="noStrike">
                <a:solidFill>
                  <a:srgbClr val="000000"/>
                </a:solidFill>
                <a:latin typeface="Calibri"/>
              </a:rPr>
              <a:t>.</a:t>
            </a:r>
            <a:endParaRPr b="0" lang="en-US" sz="28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711360"/>
            <a:ext cx="8229600" cy="5481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6.º – Utilização indevida de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t>
            </a:r>
            <a:r>
              <a:rPr b="0" lang="pt-PT" sz="2800" spc="-1" strike="noStrike">
                <a:solidFill>
                  <a:srgbClr val="000000"/>
                </a:solidFill>
                <a:latin typeface="Calibri"/>
              </a:rPr>
              <a:t>quando realizado intencionalmente e </a:t>
            </a:r>
            <a:r>
              <a:rPr b="1" lang="pt-PT" sz="2800" spc="-1" strike="noStrike" u="sng">
                <a:solidFill>
                  <a:srgbClr val="ff0000"/>
                </a:solidFill>
                <a:uFillTx/>
                <a:latin typeface="Calibri"/>
              </a:rPr>
              <a:t>sem autorização</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dução, venda, </a:t>
            </a:r>
            <a:r>
              <a:rPr b="1" lang="pt-PT" sz="2800" spc="-1" strike="noStrike">
                <a:solidFill>
                  <a:srgbClr val="ff0000"/>
                </a:solidFill>
                <a:latin typeface="Calibri"/>
              </a:rPr>
              <a:t>aquisição </a:t>
            </a:r>
            <a:r>
              <a:rPr b="1" lang="pt-PT" sz="2800" spc="-1" strike="noStrike" u="sng">
                <a:solidFill>
                  <a:srgbClr val="ff0000"/>
                </a:solidFill>
                <a:uFillTx/>
                <a:latin typeface="Calibri"/>
              </a:rPr>
              <a:t>para utilização</a:t>
            </a:r>
            <a:r>
              <a:rPr b="0" lang="pt-PT" sz="2800" spc="-1" strike="noStrike">
                <a:solidFill>
                  <a:srgbClr val="000000"/>
                </a:solidFill>
                <a:latin typeface="Calibri"/>
              </a:rPr>
              <a:t>, importação, distribuição ou disponibilização 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i. uma palavra-passe, </a:t>
            </a:r>
            <a:r>
              <a:rPr b="1" lang="pt-PT" sz="2800" spc="-1" strike="noStrike">
                <a:solidFill>
                  <a:srgbClr val="ff0000"/>
                </a:solidFill>
                <a:latin typeface="Calibri"/>
              </a:rPr>
              <a:t>código de acesso</a:t>
            </a:r>
            <a:r>
              <a:rPr b="0" lang="pt-PT" sz="2800" spc="-1" strike="noStrike">
                <a:solidFill>
                  <a:srgbClr val="000000"/>
                </a:solidFill>
                <a:latin typeface="Calibri"/>
              </a:rPr>
              <a:t> ou dados semelhantes </a:t>
            </a:r>
            <a:r>
              <a:rPr b="1" lang="pt-PT" sz="2800" spc="-1" strike="noStrike">
                <a:solidFill>
                  <a:srgbClr val="ff0000"/>
                </a:solidFill>
                <a:latin typeface="Calibri"/>
              </a:rPr>
              <a:t>através dos quais é possível aceder a todo ou qualquer parte de um sistema informático</a:t>
            </a:r>
            <a:r>
              <a:rPr b="0" lang="pt-PT"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 </a:t>
            </a:r>
            <a:r>
              <a:rPr b="1" lang="pt-PT" sz="2800" spc="-1" strike="noStrike" u="sng">
                <a:solidFill>
                  <a:srgbClr val="ff0000"/>
                </a:solidFill>
                <a:uFillTx/>
                <a:latin typeface="Calibri"/>
              </a:rPr>
              <a:t>a intenção de que seja utilizado para cometer qualquer uma das infrações estabelecidas nos Artigos 2.º - 5.º.</a:t>
            </a:r>
            <a:endParaRPr b="0" lang="en-US" sz="28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DA2B53-9376-4DB7-8027-D1417E85B9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a sua conduta</a:t>
            </a:r>
            <a:r>
              <a:rPr b="0" lang="pt-PT" sz="2800" spc="-1" strike="noStrike">
                <a:solidFill>
                  <a:srgbClr val="ff0000"/>
                </a:solidFill>
                <a:latin typeface="Calibri"/>
              </a:rPr>
              <a:t> </a:t>
            </a:r>
            <a:r>
              <a:rPr b="1" lang="pt-PT" sz="2800" spc="-1" strike="noStrike">
                <a:solidFill>
                  <a:srgbClr val="ff0000"/>
                </a:solidFill>
                <a:latin typeface="Calibri"/>
              </a:rPr>
              <a:t>não é uma infração </a:t>
            </a:r>
            <a:r>
              <a:rPr b="0" lang="pt-PT" sz="2800" spc="-1" strike="noStrike">
                <a:solidFill>
                  <a:srgbClr val="000000"/>
                </a:solidFill>
                <a:latin typeface="Calibri"/>
              </a:rPr>
              <a:t>ao abrigo do Artigo 6.º da Convenção de Budapeste, porqu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conduta não é necessariamente </a:t>
            </a:r>
            <a:r>
              <a:rPr b="1" lang="pt-PT" sz="2800" spc="-1" strike="noStrike">
                <a:solidFill>
                  <a:srgbClr val="ff0000"/>
                </a:solidFill>
                <a:latin typeface="Calibri"/>
              </a:rPr>
              <a:t>sem autorização</a:t>
            </a:r>
            <a:r>
              <a:rPr b="0" lang="pt-PT" sz="2800" spc="-1" strike="noStrike">
                <a:solidFill>
                  <a:srgbClr val="000000"/>
                </a:solidFill>
                <a:latin typeface="Calibri"/>
              </a:rPr>
              <a:t> (se a operação secreta tiver alguma base legal ou administrativa)</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adquiriu os códigos de acesso </a:t>
            </a:r>
            <a:r>
              <a:rPr b="1" lang="pt-PT" sz="2800" spc="-1" strike="noStrike">
                <a:solidFill>
                  <a:srgbClr val="ff0000"/>
                </a:solidFill>
                <a:latin typeface="Calibri"/>
              </a:rPr>
              <a:t>para utiliza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adquiriu os códigos de acesso com a </a:t>
            </a:r>
            <a:r>
              <a:rPr b="1" lang="pt-PT" sz="2800" spc="-1" strike="noStrike">
                <a:solidFill>
                  <a:srgbClr val="ff0000"/>
                </a:solidFill>
                <a:latin typeface="Calibri"/>
              </a:rPr>
              <a:t>intenção desses códigos de acesso serem utilizados para cometer uma infração</a:t>
            </a:r>
            <a:r>
              <a:rPr b="0" lang="pt-PT" sz="2800" spc="-1" strike="noStrike">
                <a:solidFill>
                  <a:srgbClr val="ff0000"/>
                </a:solidFill>
                <a:latin typeface="Calibri"/>
              </a:rPr>
              <a:t> </a:t>
            </a:r>
            <a:r>
              <a:rPr b="0" lang="pt-PT" sz="2800" spc="-1" strike="noStrike">
                <a:solidFill>
                  <a:srgbClr val="000000"/>
                </a:solidFill>
                <a:latin typeface="Calibri"/>
              </a:rPr>
              <a:t>dos Artigos </a:t>
            </a:r>
            <a:r>
              <a:rPr b="0" lang="pt-PT" sz="2800" spc="-1" strike="noStrike">
                <a:solidFill>
                  <a:srgbClr val="000000"/>
                </a:solidFill>
                <a:latin typeface="Calibri"/>
              </a:rPr>
              <a:t>2.º a 5.º</a:t>
            </a:r>
            <a:endParaRPr b="0" lang="en-US" sz="28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56CED-117E-434B-B3A8-5BADE77EBE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ês</a:t>
            </a:r>
            <a:br>
              <a:rPr sz="4000"/>
            </a:br>
            <a:r>
              <a:rPr b="1" lang="en-US" sz="4000" spc="-1" strike="noStrike">
                <a:solidFill>
                  <a:srgbClr val="000000"/>
                </a:solidFill>
                <a:latin typeface="Calibri"/>
              </a:rPr>
              <a:t>Direito processual</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399A11-971B-41AB-BE58-24C4716060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0D521-EF65-4A58-A44C-6BF77CF36B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703440"/>
            <a:ext cx="81820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parte da operação secreta, </a:t>
            </a:r>
            <a:r>
              <a:rPr b="1" lang="pt-PT" sz="2800" spc="-1" strike="noStrike">
                <a:solidFill>
                  <a:srgbClr val="ff0000"/>
                </a:solidFill>
                <a:latin typeface="Calibri"/>
              </a:rPr>
              <a:t>obtém códigos de acesso</a:t>
            </a:r>
            <a:r>
              <a:rPr b="0" lang="pt-PT" sz="2800" spc="-1" strike="noStrike">
                <a:solidFill>
                  <a:srgbClr val="000000"/>
                </a:solidFill>
                <a:latin typeface="Calibri"/>
              </a:rPr>
              <a:t> e informações de pagamento de um agente DarkHacker. Recebe um </a:t>
            </a:r>
            <a:r>
              <a:rPr b="1" lang="pt-PT" sz="2800" spc="-1" strike="noStrike">
                <a:solidFill>
                  <a:srgbClr val="ff0000"/>
                </a:solidFill>
                <a:latin typeface="Calibri"/>
              </a:rPr>
              <a:t>e-mail</a:t>
            </a:r>
            <a:r>
              <a:rPr b="0" lang="pt-PT" sz="2800" spc="-1" strike="noStrike">
                <a:solidFill>
                  <a:srgbClr val="000000"/>
                </a:solidFill>
                <a:latin typeface="Calibri"/>
              </a:rPr>
              <a:t> de uma </a:t>
            </a:r>
            <a:r>
              <a:rPr b="1" lang="pt-PT" sz="2800" spc="-1" strike="noStrike">
                <a:solidFill>
                  <a:srgbClr val="ff0000"/>
                </a:solidFill>
                <a:latin typeface="Calibri"/>
              </a:rPr>
              <a:t>conta de e-mail paga </a:t>
            </a:r>
            <a:r>
              <a:rPr b="1" lang="pt-PT" sz="2800" spc="-1" strike="noStrike" u="sng">
                <a:solidFill>
                  <a:srgbClr val="ff0000"/>
                </a:solidFill>
                <a:uFillTx/>
                <a:latin typeface="Calibri"/>
              </a:rPr>
              <a:t>criminal@scammail.com</a:t>
            </a:r>
            <a:r>
              <a:rPr b="1" lang="pt-PT" sz="2800" spc="-1" strike="noStrike">
                <a:solidFill>
                  <a:srgbClr val="ff0000"/>
                </a:solidFill>
                <a:latin typeface="Calibri"/>
              </a:rPr>
              <a:t> </a:t>
            </a:r>
            <a:r>
              <a:rPr b="0" lang="pt-PT" sz="2800" spc="-1" strike="noStrike">
                <a:solidFill>
                  <a:srgbClr val="000000"/>
                </a:solidFill>
                <a:latin typeface="Calibri"/>
              </a:rPr>
              <a:t>com uma hiperligação de transferência para os códigos de acesso.</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investigação inicial revela que o </a:t>
            </a:r>
            <a:r>
              <a:rPr b="1" lang="pt-PT" sz="2800" spc="-1" strike="noStrike">
                <a:solidFill>
                  <a:srgbClr val="ff0000"/>
                </a:solidFill>
                <a:latin typeface="Calibri"/>
              </a:rPr>
              <a:t>prestador de serviços de e-mail</a:t>
            </a:r>
            <a:r>
              <a:rPr b="0" lang="pt-PT" sz="2800" spc="-1" strike="noStrike">
                <a:solidFill>
                  <a:srgbClr val="000000"/>
                </a:solidFill>
                <a:latin typeface="Calibri"/>
              </a:rPr>
              <a:t> de criminal@scammail.com é </a:t>
            </a:r>
            <a:r>
              <a:rPr b="1" lang="pt-PT" sz="2800" spc="-1" strike="noStrike">
                <a:solidFill>
                  <a:srgbClr val="ff0000"/>
                </a:solidFill>
                <a:latin typeface="Calibri"/>
              </a:rPr>
              <a:t>Scam Mail Inc.</a:t>
            </a:r>
            <a:r>
              <a:rPr b="0" lang="pt-PT" sz="2800" spc="-1" strike="noStrike">
                <a:solidFill>
                  <a:srgbClr val="000000"/>
                </a:solidFill>
                <a:latin typeface="Calibri"/>
              </a:rPr>
              <a:t> Scam Mail Inc tem a sua </a:t>
            </a:r>
            <a:r>
              <a:rPr b="1" lang="pt-PT" sz="2800" spc="-1" strike="noStrike">
                <a:solidFill>
                  <a:srgbClr val="000000"/>
                </a:solidFill>
                <a:latin typeface="Calibri"/>
              </a:rPr>
              <a:t>sede e centro de dados na </a:t>
            </a:r>
            <a:r>
              <a:rPr b="1" lang="pt-PT" sz="2800" spc="-1" strike="noStrike">
                <a:solidFill>
                  <a:srgbClr val="ff0000"/>
                </a:solidFill>
                <a:latin typeface="Calibri"/>
              </a:rPr>
              <a:t>Terra Média.</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C48E2-2761-4F42-B2B6-44714FCE6A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596880"/>
            <a:ext cx="8302680" cy="487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Toma conhecimento do seu site que a</a:t>
            </a:r>
            <a:r>
              <a:rPr b="1" lang="pt-PT" sz="2600" spc="-1" strike="noStrike">
                <a:solidFill>
                  <a:srgbClr val="ff0000"/>
                </a:solidFill>
                <a:latin typeface="Calibri"/>
              </a:rPr>
              <a:t> Scam Mail Inc. apenas retém dados durante um período de 7 dias </a:t>
            </a:r>
            <a:r>
              <a:rPr b="0" lang="pt-PT" sz="2600" spc="-1" strike="noStrike">
                <a:solidFill>
                  <a:srgbClr val="000000"/>
                </a:solidFill>
                <a:latin typeface="Calibri"/>
              </a:rPr>
              <a:t>após o qual todos os </a:t>
            </a:r>
            <a:r>
              <a:rPr b="1" lang="pt-PT" sz="2600" spc="-1" strike="noStrike">
                <a:solidFill>
                  <a:srgbClr val="ff0000"/>
                </a:solidFill>
                <a:latin typeface="Calibri"/>
              </a:rPr>
              <a:t>dados são eliminados</a:t>
            </a:r>
            <a:r>
              <a:rPr b="0" lang="pt-PT" sz="2600" spc="-1" strike="noStrike">
                <a:solidFill>
                  <a:srgbClr val="000000"/>
                </a:solidFill>
                <a:latin typeface="Calibri"/>
              </a:rPr>
              <a:t>.</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onsidere a utilização dos endereços de </a:t>
            </a:r>
            <a:r>
              <a:rPr b="1" lang="pt-PT" sz="2600" spc="-1" strike="noStrike">
                <a:solidFill>
                  <a:srgbClr val="ff0000"/>
                </a:solidFill>
                <a:latin typeface="Calibri"/>
              </a:rPr>
              <a:t>e-mail para identificar o agente DarkHacker.</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s informações obtidas sugerem que a escala de operações é muito maior do que o inicialmente previsto. Considera que é agora necessário </a:t>
            </a:r>
            <a:r>
              <a:rPr b="1" lang="pt-PT" sz="2600" spc="-1" strike="noStrike">
                <a:solidFill>
                  <a:srgbClr val="ff0000"/>
                </a:solidFill>
                <a:latin typeface="Calibri"/>
              </a:rPr>
              <a:t>obter informações de outras pessoas desconhecidas contactadas através do e-mail</a:t>
            </a:r>
            <a:r>
              <a:rPr b="0" lang="pt-PT" sz="2600" spc="-1" strike="noStrike">
                <a:solidFill>
                  <a:srgbClr val="000000"/>
                </a:solidFill>
                <a:latin typeface="Calibri"/>
              </a:rPr>
              <a:t> criminal@scammail.com pelo agente </a:t>
            </a:r>
            <a:r>
              <a:rPr b="1" lang="pt-PT" sz="2600" spc="-1" strike="noStrike">
                <a:solidFill>
                  <a:srgbClr val="ff0000"/>
                </a:solidFill>
                <a:latin typeface="Calibri"/>
              </a:rPr>
              <a:t>nos últimos sete dias</a:t>
            </a:r>
            <a:r>
              <a:rPr b="1" lang="pt-PT" sz="2800" spc="-1" strike="noStrike">
                <a:solidFill>
                  <a:srgbClr val="ff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D378BD-D154-401C-B732-91085BB09C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medida inicial deve tomar para garantir que a investigação não fique comprometid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Introdução ao estudo de caso</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E6E910-5DBA-476F-915A-4A0276B41A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F658A-C39B-40EA-8828-EAF043CC62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62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oma conhecimento do seu site que a Scam Mail Inc. </a:t>
            </a:r>
            <a:r>
              <a:rPr b="1" lang="pt-PT" sz="2900" spc="-1" strike="noStrike">
                <a:solidFill>
                  <a:srgbClr val="ff0000"/>
                </a:solidFill>
                <a:latin typeface="Calibri"/>
              </a:rPr>
              <a:t>apenas retém dados durante um período de 7 dias </a:t>
            </a:r>
            <a:r>
              <a:rPr b="0" lang="pt-PT" sz="2900" spc="-1" strike="noStrike">
                <a:solidFill>
                  <a:srgbClr val="000000"/>
                </a:solidFill>
                <a:latin typeface="Calibri"/>
              </a:rPr>
              <a:t>após o qual todos os </a:t>
            </a:r>
            <a:r>
              <a:rPr b="1" lang="pt-PT" sz="2900" spc="-1" strike="noStrike">
                <a:solidFill>
                  <a:srgbClr val="ff0000"/>
                </a:solidFill>
                <a:latin typeface="Calibri"/>
              </a:rPr>
              <a:t>dados são eliminados</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309600" y="581040"/>
            <a:ext cx="85392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16 – </a:t>
            </a:r>
            <a:r>
              <a:rPr b="1" lang="pt-PT" sz="2800" spc="-1" strike="noStrike">
                <a:solidFill>
                  <a:srgbClr val="000000"/>
                </a:solidFill>
                <a:latin typeface="Calibri"/>
              </a:rPr>
              <a:t>Conservação expedita de </a:t>
            </a:r>
            <a:r>
              <a:rPr b="1" lang="pt-PT" sz="2800" spc="-1" strike="noStrike">
                <a:solidFill>
                  <a:srgbClr val="000000"/>
                </a:solidFill>
                <a:latin typeface="Calibri"/>
              </a:rPr>
              <a:t>dados armazenados no computad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rdenar a </a:t>
            </a:r>
            <a:r>
              <a:rPr b="1" lang="pt-PT" sz="2800" spc="-1" strike="noStrike">
                <a:solidFill>
                  <a:srgbClr val="ff0000"/>
                </a:solidFill>
                <a:latin typeface="Calibri"/>
              </a:rPr>
              <a:t>rápida conservação</a:t>
            </a:r>
            <a:r>
              <a:rPr b="0" lang="pt-PT" sz="2800" spc="-1" strike="noStrike">
                <a:solidFill>
                  <a:srgbClr val="000000"/>
                </a:solidFill>
                <a:latin typeface="Calibri"/>
              </a:rPr>
              <a:t> de </a:t>
            </a:r>
            <a:r>
              <a:rPr b="1" lang="pt-PT" sz="2800" spc="-1" strike="noStrike">
                <a:solidFill>
                  <a:srgbClr val="ff0000"/>
                </a:solidFill>
                <a:latin typeface="Calibri"/>
              </a:rPr>
              <a:t>dados informáticos especificados</a:t>
            </a:r>
            <a:r>
              <a:rPr b="0" lang="pt-PT" sz="2800" spc="-1" strike="noStrike">
                <a:solidFill>
                  <a:srgbClr val="000000"/>
                </a:solidFill>
                <a:latin typeface="Calibri"/>
              </a:rPr>
              <a:t>, incluindo dados de tráfego, que tenham sido </a:t>
            </a:r>
            <a:r>
              <a:rPr b="1" lang="pt-PT" sz="2800" spc="-1" strike="noStrike">
                <a:solidFill>
                  <a:srgbClr val="ff0000"/>
                </a:solidFill>
                <a:latin typeface="Calibri"/>
              </a:rPr>
              <a:t>armazenados através de um sistema informático</a:t>
            </a:r>
            <a:r>
              <a:rPr b="0" lang="pt-PT" sz="2800" spc="-1" strike="noStrike">
                <a:solidFill>
                  <a:srgbClr val="000000"/>
                </a:solidFill>
                <a:latin typeface="Calibri"/>
              </a:rPr>
              <a:t>, especialmente quando haja </a:t>
            </a:r>
            <a:r>
              <a:rPr b="1" lang="pt-PT" sz="2800" spc="-1" strike="noStrike">
                <a:solidFill>
                  <a:srgbClr val="ff0000"/>
                </a:solidFill>
                <a:latin typeface="Calibri"/>
              </a:rPr>
              <a:t>motivos para acreditar</a:t>
            </a:r>
            <a:r>
              <a:rPr b="0" lang="pt-PT" sz="2800" spc="-1" strike="noStrike">
                <a:solidFill>
                  <a:srgbClr val="000000"/>
                </a:solidFill>
                <a:latin typeface="Calibri"/>
              </a:rPr>
              <a:t> que os dados informáticos são </a:t>
            </a:r>
            <a:r>
              <a:rPr b="1" lang="pt-PT" sz="2800" spc="-1" strike="noStrike">
                <a:solidFill>
                  <a:srgbClr val="ff0000"/>
                </a:solidFill>
                <a:latin typeface="Calibri"/>
              </a:rPr>
              <a:t>particularmente vulneráveis a perdas ou modificações</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brigar essa pessoa a </a:t>
            </a:r>
            <a:r>
              <a:rPr b="1" lang="pt-PT" sz="2800" spc="-1" strike="noStrike">
                <a:solidFill>
                  <a:srgbClr val="ff0000"/>
                </a:solidFill>
                <a:latin typeface="Calibri"/>
              </a:rPr>
              <a:t>preservar e manter a integridade</a:t>
            </a:r>
            <a:r>
              <a:rPr b="0" lang="pt-PT" sz="2800" spc="-1" strike="noStrike">
                <a:solidFill>
                  <a:srgbClr val="000000"/>
                </a:solidFill>
                <a:latin typeface="Calibri"/>
              </a:rPr>
              <a:t> dos dados informáticos durante um período de tempo, enquanto necessário, </a:t>
            </a:r>
            <a:r>
              <a:rPr b="1" lang="pt-PT" sz="2800" spc="-1" strike="noStrike">
                <a:solidFill>
                  <a:srgbClr val="ff0000"/>
                </a:solidFill>
                <a:latin typeface="Calibri"/>
              </a:rPr>
              <a:t>até um máximo de noventa dias</a:t>
            </a:r>
            <a:endParaRPr b="0" lang="en-US" sz="28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A74B1-7668-40CC-A322-82D8F90FAB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53686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tomar a </a:t>
            </a:r>
            <a:r>
              <a:rPr b="1" lang="pt-PT" sz="2800" spc="-1" strike="noStrike">
                <a:solidFill>
                  <a:srgbClr val="ff0000"/>
                </a:solidFill>
                <a:latin typeface="Calibri"/>
              </a:rPr>
              <a:t> medida inicial </a:t>
            </a:r>
            <a:r>
              <a:rPr b="0" lang="pt-PT" sz="2800" spc="-1" strike="noStrike">
                <a:solidFill>
                  <a:srgbClr val="000000"/>
                </a:solidFill>
                <a:latin typeface="Calibri"/>
              </a:rPr>
              <a:t>de garantir </a:t>
            </a:r>
            <a:r>
              <a:rPr b="1" lang="pt-PT" sz="2800" spc="-1" strike="noStrike">
                <a:solidFill>
                  <a:srgbClr val="ff0000"/>
                </a:solidFill>
                <a:latin typeface="Calibri"/>
              </a:rPr>
              <a:t>a conservação rápida dos dados informáticos armazenados</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Os dados </a:t>
            </a:r>
            <a:r>
              <a:rPr b="0" lang="pt-PT" sz="2800" spc="-1" strike="noStrike">
                <a:solidFill>
                  <a:srgbClr val="000000"/>
                </a:solidFill>
                <a:latin typeface="Calibri"/>
              </a:rPr>
              <a:t>armazenados pelo Scam Mail Inc são </a:t>
            </a:r>
            <a:r>
              <a:rPr b="1" lang="pt-PT" sz="2800" spc="-1" strike="noStrike">
                <a:solidFill>
                  <a:srgbClr val="ff0000"/>
                </a:solidFill>
                <a:latin typeface="Calibri"/>
              </a:rPr>
              <a:t>particularmente vulneráveis a perdas </a:t>
            </a:r>
            <a:r>
              <a:rPr b="0" lang="pt-PT" sz="2800" spc="-1" strike="noStrike">
                <a:solidFill>
                  <a:srgbClr val="000000"/>
                </a:solidFill>
                <a:latin typeface="Calibri"/>
              </a:rPr>
              <a:t>devido à sua </a:t>
            </a:r>
            <a:r>
              <a:rPr b="1" lang="pt-PT" sz="2800" spc="-1" strike="noStrike">
                <a:solidFill>
                  <a:srgbClr val="ff0000"/>
                </a:solidFill>
                <a:latin typeface="Calibri"/>
              </a:rPr>
              <a:t>política de reten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a:t>
            </a:r>
            <a:r>
              <a:rPr b="1" lang="pt-PT" sz="2800" spc="-1" strike="noStrike">
                <a:solidFill>
                  <a:srgbClr val="ff0000"/>
                </a:solidFill>
                <a:latin typeface="Calibri"/>
              </a:rPr>
              <a:t>ter como objetivo a preservação de todos os dados informáticos armazenados </a:t>
            </a:r>
            <a:r>
              <a:rPr b="0" lang="pt-PT" sz="2800" spc="-1" strike="noStrike">
                <a:solidFill>
                  <a:srgbClr val="000000"/>
                </a:solidFill>
                <a:latin typeface="Calibri"/>
              </a:rPr>
              <a:t>(dados de conteúdo e dados de tráfego) </a:t>
            </a:r>
            <a:r>
              <a:rPr b="1" lang="pt-PT" sz="2800" spc="-1" strike="noStrike">
                <a:solidFill>
                  <a:srgbClr val="ff0000"/>
                </a:solidFill>
                <a:latin typeface="Calibri"/>
              </a:rPr>
              <a:t>relacionados a criminal@scammail.com </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ter como objetivo que a Scam Mail Inc </a:t>
            </a:r>
            <a:r>
              <a:rPr b="1" lang="pt-PT" sz="2800" spc="-1" strike="noStrike">
                <a:solidFill>
                  <a:srgbClr val="ff0000"/>
                </a:solidFill>
                <a:latin typeface="Calibri"/>
              </a:rPr>
              <a:t>mantenha a integridade dos dados preservados</a:t>
            </a:r>
            <a:endParaRPr b="0" lang="en-US" sz="28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0629C5-E0FD-4127-8D9A-0DD99CC665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FA107-F7B4-4F29-9F11-0211DEAB20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90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tipo de informações iria precisar para identificar a pessoa utilizando criminal@scammail.com? Como obteria estas informaçõ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46E48-9784-4356-A766-EE2EF3AC65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 sua investigação inicial revela que o </a:t>
            </a:r>
            <a:r>
              <a:rPr b="1" lang="en-US" sz="2900" spc="-1" strike="noStrike">
                <a:solidFill>
                  <a:srgbClr val="ff0000"/>
                </a:solidFill>
                <a:latin typeface="Calibri"/>
              </a:rPr>
              <a:t>fornecedor de serviços de e-mail</a:t>
            </a:r>
            <a:r>
              <a:rPr b="0" lang="en-US" sz="2900" spc="-1" strike="noStrike">
                <a:solidFill>
                  <a:srgbClr val="000000"/>
                </a:solidFill>
                <a:latin typeface="Calibri"/>
              </a:rPr>
              <a:t> para criminal@scammail.com é Scam Mail Inc. A Scam Mail Inc </a:t>
            </a:r>
            <a:r>
              <a:rPr b="1" lang="en-US" sz="2900" spc="-1" strike="noStrike">
                <a:solidFill>
                  <a:srgbClr val="ff0000"/>
                </a:solidFill>
                <a:latin typeface="Calibri"/>
              </a:rPr>
              <a:t>tem a sua sede e o centro de dados na Terra Média </a:t>
            </a:r>
            <a:r>
              <a:rPr b="0" lang="en-US" sz="2900" spc="-1" strike="noStrike">
                <a:solidFill>
                  <a:srgbClr val="000000"/>
                </a:solidFill>
                <a:latin typeface="Calibri"/>
              </a:rPr>
              <a:t> e essa Scam Mail Inc.</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nsidere a utilização dos </a:t>
            </a:r>
            <a:r>
              <a:rPr b="1" lang="en-US" sz="2900" spc="-1" strike="noStrike">
                <a:solidFill>
                  <a:srgbClr val="ff0000"/>
                </a:solidFill>
                <a:latin typeface="Calibri"/>
              </a:rPr>
              <a:t>endereços de e-mail</a:t>
            </a:r>
            <a:r>
              <a:rPr b="0" lang="en-US" sz="2900" spc="-1" strike="noStrike">
                <a:solidFill>
                  <a:srgbClr val="000000"/>
                </a:solidFill>
                <a:latin typeface="Calibri"/>
              </a:rPr>
              <a:t> para </a:t>
            </a:r>
            <a:r>
              <a:rPr b="1" lang="en-US" sz="2900" spc="-1" strike="noStrike">
                <a:solidFill>
                  <a:srgbClr val="ff0000"/>
                </a:solidFill>
                <a:latin typeface="Calibri"/>
              </a:rPr>
              <a:t>identificar o agente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5205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ados dos assinantes" significa </a:t>
            </a:r>
            <a:r>
              <a:rPr b="0" lang="pt-PT" sz="2800" spc="-1" strike="noStrike">
                <a:solidFill>
                  <a:srgbClr val="000000"/>
                </a:solidFill>
                <a:latin typeface="Calibri"/>
              </a:rPr>
              <a:t>quaisquer </a:t>
            </a:r>
            <a:r>
              <a:rPr b="1" lang="pt-PT" sz="2800" spc="-1" strike="noStrike">
                <a:solidFill>
                  <a:srgbClr val="ff0000"/>
                </a:solidFill>
                <a:latin typeface="Calibri"/>
              </a:rPr>
              <a:t>informações </a:t>
            </a:r>
            <a:r>
              <a:rPr b="0" lang="pt-PT" sz="2800" spc="-1" strike="noStrike">
                <a:solidFill>
                  <a:srgbClr val="000000"/>
                </a:solidFill>
                <a:latin typeface="Calibri"/>
              </a:rPr>
              <a:t>que o fornecedor de serviços possua </a:t>
            </a:r>
            <a:r>
              <a:rPr b="1" lang="pt-PT" sz="2800" spc="-1" strike="noStrike">
                <a:solidFill>
                  <a:srgbClr val="ff0000"/>
                </a:solidFill>
                <a:latin typeface="Calibri"/>
              </a:rPr>
              <a:t>sobre os assinantes dos seus serviços</a:t>
            </a:r>
            <a:r>
              <a:rPr b="0" lang="pt-PT" sz="2800" spc="-1" strike="noStrike">
                <a:solidFill>
                  <a:srgbClr val="000000"/>
                </a:solidFill>
                <a:latin typeface="Calibri"/>
              </a:rPr>
              <a:t>,  sob a forma de </a:t>
            </a:r>
            <a:r>
              <a:rPr b="1" lang="pt-PT" sz="2800" spc="-1" strike="noStrike">
                <a:solidFill>
                  <a:srgbClr val="ff0000"/>
                </a:solidFill>
                <a:latin typeface="Calibri"/>
              </a:rPr>
              <a:t>dados informáticos</a:t>
            </a:r>
            <a:r>
              <a:rPr b="0" lang="pt-PT" sz="2800" spc="-1" strike="noStrike">
                <a:solidFill>
                  <a:srgbClr val="000000"/>
                </a:solidFill>
                <a:latin typeface="Calibri"/>
              </a:rPr>
              <a:t> ou qualquer </a:t>
            </a:r>
            <a:r>
              <a:rPr b="1" lang="pt-PT" sz="2800" spc="-1" strike="noStrike">
                <a:solidFill>
                  <a:srgbClr val="ff0000"/>
                </a:solidFill>
                <a:latin typeface="Calibri"/>
              </a:rPr>
              <a:t>outra forma</a:t>
            </a:r>
            <a:r>
              <a:rPr b="0" lang="pt-PT" sz="2800" spc="-1" strike="noStrike">
                <a:solidFill>
                  <a:srgbClr val="000000"/>
                </a:solidFill>
                <a:latin typeface="Calibri"/>
              </a:rPr>
              <a:t>, </a:t>
            </a:r>
            <a:r>
              <a:rPr b="0" lang="pt-PT" sz="2800" spc="-1" strike="noStrike">
                <a:solidFill>
                  <a:srgbClr val="000000"/>
                </a:solidFill>
                <a:latin typeface="Calibri"/>
              </a:rPr>
              <a:t>distintas dos dados de tráfego ou de conteúdo e que </a:t>
            </a:r>
            <a:r>
              <a:rPr b="1" lang="pt-PT" sz="2800" spc="-1" strike="noStrike">
                <a:solidFill>
                  <a:srgbClr val="ff0000"/>
                </a:solidFill>
                <a:latin typeface="Calibri"/>
              </a:rPr>
              <a:t>permitam determin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a:t>
            </a:r>
            <a:r>
              <a:rPr b="1" lang="pt-PT" sz="2800" spc="-1" strike="noStrike">
                <a:solidFill>
                  <a:srgbClr val="ff0000"/>
                </a:solidFill>
                <a:latin typeface="Calibri"/>
              </a:rPr>
              <a:t>identidade do subscritor</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0000"/>
                </a:solidFill>
                <a:latin typeface="Calibri"/>
              </a:rPr>
              <a:t> </a:t>
            </a:r>
            <a:r>
              <a:rPr b="1" lang="pt-PT" sz="2800" spc="-1" strike="noStrike">
                <a:solidFill>
                  <a:srgbClr val="ff0000"/>
                </a:solidFill>
                <a:latin typeface="Calibri"/>
              </a:rPr>
              <a:t>endereço postal</a:t>
            </a:r>
            <a:r>
              <a:rPr b="0" lang="pt-PT" sz="2800" spc="-1" strike="noStrike">
                <a:solidFill>
                  <a:srgbClr val="000000"/>
                </a:solidFill>
                <a:latin typeface="Calibri"/>
              </a:rPr>
              <a:t> ou </a:t>
            </a:r>
            <a:r>
              <a:rPr b="1" lang="pt-PT" sz="2800" spc="-1" strike="noStrike">
                <a:solidFill>
                  <a:srgbClr val="ff0000"/>
                </a:solidFill>
                <a:latin typeface="Calibri"/>
              </a:rPr>
              <a:t>geográfico</a:t>
            </a:r>
            <a:r>
              <a:rPr b="0" lang="pt-PT" sz="2800" spc="-1" strike="noStrike">
                <a:solidFill>
                  <a:srgbClr val="000000"/>
                </a:solidFill>
                <a:latin typeface="Calibri"/>
              </a:rPr>
              <a:t>, </a:t>
            </a:r>
            <a:r>
              <a:rPr b="0" lang="pt-PT" sz="2800" spc="-1" strike="noStrike">
                <a:solidFill>
                  <a:srgbClr val="000000"/>
                </a:solidFill>
                <a:latin typeface="Calibri"/>
              </a:rPr>
              <a:t>o n</a:t>
            </a:r>
            <a:r>
              <a:rPr b="0" lang="pt-PT" sz="2800" spc="-1" strike="noStrike">
                <a:solidFill>
                  <a:srgbClr val="000000"/>
                </a:solidFill>
                <a:latin typeface="Calibri"/>
              </a:rPr>
              <a:t>úmero de </a:t>
            </a:r>
            <a:r>
              <a:rPr b="1" lang="pt-PT" sz="2800" spc="-1" strike="noStrike">
                <a:solidFill>
                  <a:srgbClr val="ff0000"/>
                </a:solidFill>
                <a:latin typeface="Calibri"/>
              </a:rPr>
              <a:t>telefone </a:t>
            </a:r>
            <a:r>
              <a:rPr b="0" lang="pt-PT" sz="2800" spc="-1" strike="noStrike">
                <a:solidFill>
                  <a:srgbClr val="000000"/>
                </a:solidFill>
                <a:latin typeface="Calibri"/>
              </a:rPr>
              <a:t>e </a:t>
            </a:r>
            <a:r>
              <a:rPr b="0" lang="pt-PT" sz="2800" spc="-1" strike="noStrike">
                <a:solidFill>
                  <a:srgbClr val="000000"/>
                </a:solidFill>
                <a:latin typeface="Calibri"/>
              </a:rPr>
              <a:t>qualquer o</a:t>
            </a:r>
            <a:r>
              <a:rPr b="0" lang="pt-PT" sz="2800" spc="-1" strike="noStrike">
                <a:solidFill>
                  <a:srgbClr val="000000"/>
                </a:solidFill>
                <a:latin typeface="Calibri"/>
              </a:rPr>
              <a:t>utro número de acesso, </a:t>
            </a:r>
            <a:r>
              <a:rPr b="1" lang="pt-PT" sz="2800" spc="-1" strike="noStrike">
                <a:solidFill>
                  <a:srgbClr val="ff0000"/>
                </a:solidFill>
                <a:latin typeface="Calibri"/>
              </a:rPr>
              <a:t>os dados referentes à faturação</a:t>
            </a:r>
            <a:r>
              <a:rPr b="0" lang="pt-PT" sz="2800" spc="-1" strike="noStrike">
                <a:solidFill>
                  <a:srgbClr val="000000"/>
                </a:solidFill>
                <a:latin typeface="Calibri"/>
              </a:rPr>
              <a:t> e ao </a:t>
            </a:r>
            <a:r>
              <a:rPr b="1" lang="pt-PT" sz="2800" spc="-1" strike="noStrike">
                <a:solidFill>
                  <a:srgbClr val="ff0000"/>
                </a:solidFill>
                <a:latin typeface="Calibri"/>
              </a:rPr>
              <a:t>pagamento</a:t>
            </a:r>
            <a:r>
              <a:rPr b="0" lang="pt-PT" sz="2800" spc="-1" strike="noStrike">
                <a:solidFill>
                  <a:srgbClr val="000000"/>
                </a:solidFill>
                <a:latin typeface="Calibri"/>
              </a:rPr>
              <a:t>, disponíveis com base </a:t>
            </a:r>
            <a:r>
              <a:rPr b="0" lang="pt-PT" sz="2800" spc="-1" strike="noStrike">
                <a:solidFill>
                  <a:srgbClr val="000000"/>
                </a:solidFill>
                <a:latin typeface="Calibri"/>
              </a:rPr>
              <a:t>num contrato ou num acordo de serviç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8B1EB-0D18-43BB-830F-BD092BDE09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a:t>
            </a:r>
            <a:r>
              <a:rPr b="1" lang="pt-PT" sz="3000" spc="-1" strike="noStrike">
                <a:solidFill>
                  <a:srgbClr val="000000"/>
                </a:solidFill>
                <a:latin typeface="Calibri"/>
              </a:rPr>
              <a:t>-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um </a:t>
            </a:r>
            <a:r>
              <a:rPr b="1" lang="pt-PT" sz="2800" spc="-1" strike="noStrike">
                <a:solidFill>
                  <a:srgbClr val="000000"/>
                </a:solidFill>
                <a:latin typeface="Calibri"/>
              </a:rPr>
              <a:t>fornecedor </a:t>
            </a:r>
            <a:r>
              <a:rPr b="1" lang="pt-PT" sz="2800" spc="-1" strike="noStrike">
                <a:solidFill>
                  <a:srgbClr val="ff0000"/>
                </a:solidFill>
                <a:latin typeface="Calibri"/>
              </a:rPr>
              <a:t>de serviços que ofereça os seus serviços no território</a:t>
            </a:r>
            <a:r>
              <a:rPr b="0" lang="pt-PT" sz="2800" spc="-1" strike="noStrike">
                <a:solidFill>
                  <a:srgbClr val="ff0000"/>
                </a:solidFill>
                <a:latin typeface="Calibri"/>
              </a:rPr>
              <a:t> </a:t>
            </a:r>
            <a:r>
              <a:rPr b="0" lang="pt-PT" sz="2800" spc="-1" strike="noStrike">
                <a:solidFill>
                  <a:srgbClr val="000000"/>
                </a:solidFill>
                <a:latin typeface="Calibri"/>
              </a:rPr>
              <a:t>da Parte </a:t>
            </a:r>
            <a:r>
              <a:rPr b="0" lang="pt-PT" sz="2800" spc="-1" strike="noStrike">
                <a:solidFill>
                  <a:srgbClr val="000000"/>
                </a:solidFill>
                <a:latin typeface="Calibri"/>
              </a:rPr>
              <a:t>que disponibilize </a:t>
            </a:r>
            <a:r>
              <a:rPr b="1" lang="pt-PT" sz="2800" spc="-1" strike="noStrike">
                <a:solidFill>
                  <a:srgbClr val="000000"/>
                </a:solidFill>
                <a:latin typeface="Calibri"/>
              </a:rPr>
              <a:t>os dados dos assinantes</a:t>
            </a:r>
            <a:r>
              <a:rPr b="1" lang="pt-PT" sz="2800" spc="-1" strike="noStrike">
                <a:solidFill>
                  <a:srgbClr val="ff0000"/>
                </a:solidFill>
                <a:latin typeface="Calibri"/>
              </a:rPr>
              <a:t> relacionados com esses serviç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7CAB3-769C-4FBC-8CF7-9A711BCB29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82680" y="423720"/>
            <a:ext cx="8304120" cy="6297840"/>
          </a:xfrm>
          <a:prstGeom prst="rect">
            <a:avLst/>
          </a:prstGeom>
          <a:noFill/>
          <a:ln w="0">
            <a:noFill/>
          </a:ln>
        </p:spPr>
        <p:style>
          <a:lnRef idx="0"/>
          <a:fillRef idx="0"/>
          <a:effectRef idx="0"/>
          <a:fontRef idx="minor"/>
        </p:style>
        <p:txBody>
          <a:bodyPr lIns="90000" rIns="90000" tIns="46800" bIns="46800" anchor="t">
            <a:normAutofit/>
          </a:bodyPr>
          <a:p>
            <a:pPr marL="338040" indent="-28080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As informações dos subscritores </a:t>
            </a:r>
            <a:r>
              <a:rPr b="0" lang="pt-PT" sz="2800" spc="-1" strike="noStrike">
                <a:solidFill>
                  <a:srgbClr val="000000"/>
                </a:solidFill>
                <a:latin typeface="Calibri"/>
              </a:rPr>
              <a:t>irão ajudar a identificar a identidade, endereço postal ou geográfico, telefone, outro número de acesso ou informações de faturação e pagamento</a:t>
            </a:r>
            <a:r>
              <a:rPr b="1" lang="pt-PT" sz="2800" spc="-1" strike="noStrike">
                <a:solidFill>
                  <a:srgbClr val="ff0000"/>
                </a:solidFill>
                <a:latin typeface="Calibri"/>
              </a:rPr>
              <a:t> dos assinantes utilizando a conta criminal@scammail.com</a:t>
            </a:r>
            <a:endParaRPr b="0" lang="en-US" sz="2800" spc="-1" strike="noStrike">
              <a:solidFill>
                <a:srgbClr val="000000"/>
              </a:solidFill>
              <a:latin typeface="Arial"/>
            </a:endParaRPr>
          </a:p>
          <a:p>
            <a:pPr marL="338040" indent="-28080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8040" indent="-280800"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as</a:t>
            </a:r>
            <a:r>
              <a:rPr b="1" lang="pt-PT" sz="2800" spc="-1" strike="noStrike">
                <a:solidFill>
                  <a:srgbClr val="ff0000"/>
                </a:solidFill>
                <a:latin typeface="Calibri"/>
              </a:rPr>
              <a:t> informações do subscritor </a:t>
            </a:r>
            <a:r>
              <a:rPr b="0" lang="pt-PT" sz="2800" spc="-1" strike="noStrike">
                <a:solidFill>
                  <a:srgbClr val="000000"/>
                </a:solidFill>
                <a:latin typeface="Calibri"/>
              </a:rPr>
              <a:t>podem ser obtidas através da </a:t>
            </a:r>
            <a:r>
              <a:rPr b="1" lang="pt-PT" sz="2800" spc="-1" strike="noStrike">
                <a:solidFill>
                  <a:srgbClr val="ff0000"/>
                </a:solidFill>
                <a:latin typeface="Calibri"/>
              </a:rPr>
              <a:t>injunção de comunicar </a:t>
            </a:r>
            <a:r>
              <a:rPr b="0" lang="pt-PT" sz="2800" spc="-1" strike="noStrike">
                <a:solidFill>
                  <a:srgbClr val="000000"/>
                </a:solidFill>
                <a:latin typeface="Calibri"/>
              </a:rPr>
              <a:t>que exigirá que a Scam Mail Inc</a:t>
            </a:r>
            <a:r>
              <a:rPr b="1" lang="pt-PT" sz="2800" spc="-1" strike="noStrike">
                <a:solidFill>
                  <a:srgbClr val="ff0000"/>
                </a:solidFill>
                <a:latin typeface="Calibri"/>
              </a:rPr>
              <a:t> apresente informações do subscritor relacionadas com a conta criminal@scammail.com na sua posse ou controlo.</a:t>
            </a:r>
            <a:endParaRPr b="0" lang="en-US" sz="28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45DF2-E9D6-4796-9AF0-B2BABFF9E0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BBC00-63F9-4601-B37D-5B6DBF297F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Como procuraria informações da Scam Mail Inc sobre outras pessoas contactadas por criminal@scammail.com nos últimos sete dia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D0BCB-489E-48B8-96C3-E638E3A5CA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s informações obtidas sugerem que a escala de operações é muito maior do que o inicialmente previsto. Acha que agora é necessário </a:t>
            </a:r>
            <a:r>
              <a:rPr b="1" lang="pt-PT" sz="2900" spc="-1" strike="noStrike">
                <a:solidFill>
                  <a:srgbClr val="ff0000"/>
                </a:solidFill>
                <a:latin typeface="Calibri"/>
              </a:rPr>
              <a:t>obter informações de outras pessoas desconhecidas contactadas através</a:t>
            </a:r>
            <a:r>
              <a:rPr b="0" lang="pt-PT" sz="2900" spc="-1" strike="noStrike">
                <a:solidFill>
                  <a:srgbClr val="000000"/>
                </a:solidFill>
                <a:latin typeface="Calibri"/>
              </a:rPr>
              <a:t> da conta de e-mail </a:t>
            </a:r>
            <a:r>
              <a:rPr b="1" lang="pt-PT" sz="2900" spc="-1" strike="noStrike">
                <a:solidFill>
                  <a:srgbClr val="ff0000"/>
                </a:solidFill>
                <a:latin typeface="Calibri"/>
              </a:rPr>
              <a:t>criminal@scammail.com</a:t>
            </a:r>
            <a:r>
              <a:rPr b="0" lang="pt-PT" sz="2900" spc="-1" strike="noStrike">
                <a:solidFill>
                  <a:srgbClr val="000000"/>
                </a:solidFill>
                <a:latin typeface="Calibri"/>
              </a:rPr>
              <a:t> pelo agent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5A498A-CB56-4212-AC44-81CA646E9F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1208160"/>
            <a:ext cx="8229600" cy="4808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18.º </a:t>
            </a:r>
            <a:r>
              <a:rPr b="1" lang="pt-PT" sz="2800" spc="-1" strike="noStrike">
                <a:solidFill>
                  <a:srgbClr val="000000"/>
                </a:solidFill>
                <a:latin typeface="Calibri"/>
              </a:rPr>
              <a:t>- 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 uma pessoa que se encontre no seu </a:t>
            </a:r>
            <a:r>
              <a:rPr b="0" lang="pt-PT" sz="2800" spc="-1" strike="noStrike">
                <a:solidFill>
                  <a:srgbClr val="000000"/>
                </a:solidFill>
                <a:latin typeface="Calibri"/>
              </a:rPr>
              <a:t>território </a:t>
            </a:r>
            <a:r>
              <a:rPr b="1" lang="pt-PT" sz="2800" spc="-1" strike="noStrike">
                <a:solidFill>
                  <a:srgbClr val="ff0000"/>
                </a:solidFill>
                <a:latin typeface="Calibri"/>
              </a:rPr>
              <a:t>disponibilize dados informáticos específic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 </a:t>
            </a:r>
            <a:r>
              <a:rPr b="0" lang="pt-PT" sz="2800" spc="-1" strike="noStrike">
                <a:solidFill>
                  <a:srgbClr val="000000"/>
                </a:solidFill>
                <a:latin typeface="Calibri"/>
              </a:rPr>
              <a:t>e </a:t>
            </a:r>
            <a:r>
              <a:rPr b="0" lang="pt-PT" sz="2800" spc="-1" strike="noStrike">
                <a:solidFill>
                  <a:srgbClr val="000000"/>
                </a:solidFill>
                <a:latin typeface="Calibri"/>
              </a:rPr>
              <a:t>que estejam </a:t>
            </a:r>
            <a:r>
              <a:rPr b="1" lang="pt-PT" sz="2800" spc="-1" strike="noStrike">
                <a:solidFill>
                  <a:srgbClr val="ff0000"/>
                </a:solidFill>
                <a:latin typeface="Calibri"/>
              </a:rPr>
              <a:t>armazenados num sistema informático</a:t>
            </a:r>
            <a:r>
              <a:rPr b="0" lang="pt-PT" sz="2800" spc="-1" strike="noStrike">
                <a:solidFill>
                  <a:srgbClr val="000000"/>
                </a:solidFill>
                <a:latin typeface="Calibri"/>
              </a:rPr>
              <a:t> ou num </a:t>
            </a:r>
            <a:r>
              <a:rPr b="0" lang="pt-PT" sz="2800" spc="-1" strike="noStrike">
                <a:solidFill>
                  <a:srgbClr val="000000"/>
                </a:solidFill>
                <a:latin typeface="Calibri"/>
              </a:rPr>
              <a:t>dispositivo de </a:t>
            </a:r>
            <a:r>
              <a:rPr b="0" lang="pt-PT" sz="2800" spc="-1" strike="noStrike">
                <a:solidFill>
                  <a:srgbClr val="000000"/>
                </a:solidFill>
                <a:latin typeface="Calibri"/>
              </a:rPr>
              <a:t>armazenamento de dados informáticos</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E99906-6892-4697-BA64-6A16509CDB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260280" y="560520"/>
            <a:ext cx="842652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ara tomar conhecimento de outras pessoas contactadas pelo utilizador de criminal@scammail.com, </a:t>
            </a:r>
            <a:r>
              <a:rPr b="1" lang="pt-PT" sz="2800" spc="-1" strike="noStrike">
                <a:solidFill>
                  <a:srgbClr val="ff0000"/>
                </a:solidFill>
                <a:latin typeface="Calibri"/>
              </a:rPr>
              <a:t>precisará de obter</a:t>
            </a:r>
            <a:r>
              <a:rPr b="0" lang="pt-PT"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601"/>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Dados de conteúdo</a:t>
            </a:r>
            <a:r>
              <a:rPr b="0" lang="pt-PT" sz="2800" spc="-1" strike="noStrike">
                <a:solidFill>
                  <a:srgbClr val="000000"/>
                </a:solidFill>
                <a:latin typeface="Calibri"/>
              </a:rPr>
              <a:t> </a:t>
            </a:r>
            <a:r>
              <a:rPr b="0" lang="pt-PT" sz="2400" spc="-1" strike="noStrike">
                <a:solidFill>
                  <a:srgbClr val="000000"/>
                </a:solidFill>
                <a:latin typeface="Calibri"/>
              </a:rPr>
              <a:t>(para verificar o conteúdo dos e-mails enviados)</a:t>
            </a:r>
            <a:endParaRPr b="0" lang="en-US" sz="2400" spc="-1" strike="noStrike">
              <a:solidFill>
                <a:srgbClr val="000000"/>
              </a:solidFill>
              <a:latin typeface="Arial"/>
            </a:endParaRPr>
          </a:p>
          <a:p>
            <a:pPr lvl="1" marL="1200240" indent="-457200" algn="just">
              <a:lnSpc>
                <a:spcPct val="100000"/>
              </a:lnSpc>
              <a:spcBef>
                <a:spcPts val="601"/>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Dados de tráfego</a:t>
            </a:r>
            <a:r>
              <a:rPr b="0" lang="pt-PT" sz="2800" spc="-1" strike="noStrike">
                <a:solidFill>
                  <a:srgbClr val="000000"/>
                </a:solidFill>
                <a:latin typeface="Calibri"/>
              </a:rPr>
              <a:t> </a:t>
            </a:r>
            <a:r>
              <a:rPr b="0" lang="pt-PT" sz="2400" spc="-1" strike="noStrike">
                <a:solidFill>
                  <a:srgbClr val="000000"/>
                </a:solidFill>
                <a:latin typeface="Calibri"/>
              </a:rPr>
              <a:t>(para verificar o destino dos e-mails enviados)</a:t>
            </a:r>
            <a:endParaRPr b="0" lang="en-US" sz="24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ependendo da legislação nacional, pode </a:t>
            </a:r>
            <a:r>
              <a:rPr b="1" lang="pt-PT" sz="2800" spc="-1" strike="noStrike">
                <a:solidFill>
                  <a:srgbClr val="ff0000"/>
                </a:solidFill>
                <a:latin typeface="Calibri"/>
              </a:rPr>
              <a:t>ser emitida uma injunção de comunicar exigindo que a Scam Mail Inc. apresente todos os dados informáticos relacionados com a conta</a:t>
            </a:r>
            <a:r>
              <a:rPr b="0" lang="pt-PT" sz="2800" spc="-1" strike="noStrike">
                <a:solidFill>
                  <a:srgbClr val="000000"/>
                </a:solidFill>
                <a:latin typeface="Calibri"/>
              </a:rPr>
              <a:t> criminal@scammail.com em sua </a:t>
            </a:r>
            <a:r>
              <a:rPr b="1" lang="pt-PT" sz="2800" spc="-1" strike="noStrike">
                <a:solidFill>
                  <a:srgbClr val="ff0000"/>
                </a:solidFill>
                <a:latin typeface="Calibri"/>
              </a:rPr>
              <a:t>posse ou sob o seu controlo</a:t>
            </a:r>
            <a:r>
              <a:rPr b="0" lang="pt-PT" sz="2800" spc="-1" strike="noStrike">
                <a:solidFill>
                  <a:srgbClr val="000000"/>
                </a:solidFill>
                <a:latin typeface="Calibri"/>
              </a:rPr>
              <a:t> no respetivo centro de dados</a:t>
            </a:r>
            <a:endParaRPr b="0" lang="en-US" sz="28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8FB94-4D06-45B4-A253-C84C1BFEDC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Quatro </a:t>
            </a:r>
            <a:br>
              <a:rPr sz="4000"/>
            </a:br>
            <a:r>
              <a:rPr b="1" lang="pt-PT" sz="4000" spc="-1" strike="noStrike">
                <a:solidFill>
                  <a:srgbClr val="000000"/>
                </a:solidFill>
                <a:latin typeface="Calibri"/>
              </a:rPr>
              <a:t>Outra Cooperação</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44A29-7374-4ABC-A21F-F440146891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03C60-093B-4D7F-B725-A13B0E8C76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426960" y="444600"/>
            <a:ext cx="825984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lique na hiperligação para transferir o código de acesso e receber outro e-mail de uma conta de e-mail fraud@hackmail.com com dados bancários.</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sidere a utilização dos endereços de e-mail para identificar o agente DarkHacker. A sua investigação inicial revela que a Hack Mail Inc (sede em Mordor) não possui escritórios ou centros de dados na Terra Média, mas publicou recentemente anúncios sobre os seus serviços gratuitos na Terra Média no idioma local. </a:t>
            </a:r>
            <a:br>
              <a:rPr sz="2800"/>
            </a:br>
            <a:br>
              <a:rPr sz="2800"/>
            </a:br>
            <a:r>
              <a:rPr b="0" lang="pt-PT" sz="2800" spc="-1" strike="noStrike">
                <a:solidFill>
                  <a:srgbClr val="000000"/>
                </a:solidFill>
                <a:latin typeface="Calibri"/>
              </a:rPr>
              <a:t>Hack Mail Inc armazena informações do subscritor na forma de dados do computa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60D7C-FDB3-45BC-8165-A4728C8FBF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48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mbém conhece separadamente várias pessoas em Mordor que se queixaram em diferentes fóruns públicos de incidentes de fraude supostamente perpetrados pelo utilizador de fraud@hackmail.com.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seja utilizar essas reclamações como prova em processos subsequentes. Além disso, entra em contacto com essas pessoas para obter informações e elas estão dispostas a consentir que aceda às suas contas de e-mail e mensagens de e-m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878DA2-76C4-4527-A8B0-36C2B27F7E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tipo de informações iria precisar para identificar a pessoa utilizando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al é a medida mais rápida para obter estas informações da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42DE4-B9ED-45D6-9AE7-C9E4EBE69D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569880"/>
            <a:ext cx="8182080" cy="533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lique na hiperligação para transferir o código de acesso e receber outro e-mail de uma conta de e-mail </a:t>
            </a:r>
            <a:r>
              <a:rPr b="1" lang="pt-PT" sz="2600" spc="-1" strike="noStrike">
                <a:solidFill>
                  <a:srgbClr val="000000"/>
                </a:solidFill>
                <a:latin typeface="Calibri"/>
              </a:rPr>
              <a:t>fraud@hackmail.com</a:t>
            </a:r>
            <a:r>
              <a:rPr b="0" lang="pt-PT" sz="2600" spc="-1" strike="noStrike">
                <a:solidFill>
                  <a:srgbClr val="000000"/>
                </a:solidFill>
                <a:latin typeface="Calibri"/>
              </a:rPr>
              <a:t> com dados bancários.</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onsidere novamente </a:t>
            </a:r>
            <a:r>
              <a:rPr b="1" lang="pt-PT" sz="2600" spc="-1" strike="noStrike">
                <a:solidFill>
                  <a:srgbClr val="ff0000"/>
                </a:solidFill>
                <a:latin typeface="Calibri"/>
              </a:rPr>
              <a:t>a utilização do endereço de e-mail para identificar o agente DarkHacker.</a:t>
            </a:r>
            <a:r>
              <a:rPr b="0" lang="pt-PT" sz="2600" spc="-1" strike="noStrike">
                <a:solidFill>
                  <a:srgbClr val="000000"/>
                </a:solidFill>
                <a:latin typeface="Calibri"/>
              </a:rPr>
              <a:t> A sua investigação inicial revela que </a:t>
            </a:r>
            <a:r>
              <a:rPr b="1" lang="pt-PT" sz="2600" spc="-1" strike="noStrike">
                <a:solidFill>
                  <a:srgbClr val="ff0000"/>
                </a:solidFill>
                <a:latin typeface="Calibri"/>
              </a:rPr>
              <a:t>a Hack Mail Inc (sede em Mordor) não possui escritórios ou centros de dados na Terra Média, </a:t>
            </a:r>
            <a:r>
              <a:rPr b="0" lang="pt-PT" sz="2600" spc="-1" strike="noStrike">
                <a:solidFill>
                  <a:srgbClr val="000000"/>
                </a:solidFill>
                <a:latin typeface="Calibri"/>
              </a:rPr>
              <a:t>mas </a:t>
            </a:r>
            <a:r>
              <a:rPr b="1" lang="pt-PT" sz="2600" spc="-1" strike="noStrike">
                <a:solidFill>
                  <a:srgbClr val="ff0000"/>
                </a:solidFill>
                <a:latin typeface="Calibri"/>
              </a:rPr>
              <a:t>publicou recentemente anúncios </a:t>
            </a:r>
            <a:r>
              <a:rPr b="0" lang="pt-PT" sz="2600" spc="-1" strike="noStrike">
                <a:solidFill>
                  <a:srgbClr val="000000"/>
                </a:solidFill>
                <a:latin typeface="Calibri"/>
              </a:rPr>
              <a:t>sobre os seus serviços gratuitos </a:t>
            </a:r>
            <a:r>
              <a:rPr b="1" lang="pt-PT" sz="2600" spc="-1" strike="noStrike">
                <a:solidFill>
                  <a:srgbClr val="ff0000"/>
                </a:solidFill>
                <a:latin typeface="Calibri"/>
              </a:rPr>
              <a:t>na Terra Média no idioma local.</a:t>
            </a:r>
            <a:r>
              <a:rPr b="0" lang="pt-PT" sz="2600" spc="-1" strike="noStrike">
                <a:solidFill>
                  <a:srgbClr val="000000"/>
                </a:solidFill>
                <a:latin typeface="Calibri"/>
              </a:rPr>
              <a:t> </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 Hackmail Inc. armazena </a:t>
            </a:r>
            <a:r>
              <a:rPr b="1" lang="pt-PT" sz="2600" spc="-1" strike="noStrike">
                <a:solidFill>
                  <a:srgbClr val="ff0000"/>
                </a:solidFill>
                <a:latin typeface="Calibri"/>
              </a:rPr>
              <a:t>informaçõ</a:t>
            </a:r>
            <a:r>
              <a:rPr b="1" lang="pt-PT" sz="2900" spc="-1" strike="noStrike">
                <a:solidFill>
                  <a:srgbClr val="ff0000"/>
                </a:solidFill>
                <a:latin typeface="Calibri"/>
              </a:rPr>
              <a:t>es dos assinantes</a:t>
            </a:r>
            <a:r>
              <a:rPr b="0" lang="pt-PT" sz="2900" spc="-1" strike="noStrike">
                <a:solidFill>
                  <a:srgbClr val="ff0000"/>
                </a:solidFill>
                <a:latin typeface="Calibri"/>
              </a:rPr>
              <a:t> </a:t>
            </a:r>
            <a:r>
              <a:rPr b="0" lang="pt-PT" sz="2900" spc="-1" strike="noStrike">
                <a:solidFill>
                  <a:srgbClr val="000000"/>
                </a:solidFill>
                <a:latin typeface="Calibri"/>
              </a:rPr>
              <a:t>como </a:t>
            </a:r>
            <a:r>
              <a:rPr b="1" lang="pt-PT" sz="2900" spc="-1" strike="noStrike">
                <a:solidFill>
                  <a:srgbClr val="ff0000"/>
                </a:solidFill>
                <a:latin typeface="Calibri"/>
              </a:rPr>
              <a:t>dados informáticos</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457200" y="581040"/>
            <a:ext cx="84326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a:t>
            </a:r>
            <a:r>
              <a:rPr b="1" lang="pt-PT" sz="3000" spc="-1" strike="noStrike">
                <a:solidFill>
                  <a:srgbClr val="000000"/>
                </a:solidFill>
                <a:latin typeface="Calibri"/>
              </a:rPr>
              <a:t>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ados dos assinantes" significa quaisquer </a:t>
            </a:r>
            <a:r>
              <a:rPr b="1" lang="pt-PT" sz="2800" spc="-1" strike="noStrike">
                <a:solidFill>
                  <a:srgbClr val="000000"/>
                </a:solidFill>
                <a:latin typeface="Calibri"/>
              </a:rPr>
              <a:t>informações </a:t>
            </a:r>
            <a:r>
              <a:rPr b="0" lang="pt-PT" sz="2800" spc="-1" strike="noStrike">
                <a:solidFill>
                  <a:srgbClr val="000000"/>
                </a:solidFill>
                <a:latin typeface="Calibri"/>
              </a:rPr>
              <a:t>que o fornecedor de serviços possua </a:t>
            </a:r>
            <a:r>
              <a:rPr b="1" lang="pt-PT" sz="2800" spc="-1" strike="noStrike">
                <a:solidFill>
                  <a:srgbClr val="ff0000"/>
                </a:solidFill>
                <a:latin typeface="Calibri"/>
              </a:rPr>
              <a:t>sobre os assinantes dos seus serviços</a:t>
            </a:r>
            <a:r>
              <a:rPr b="0" lang="pt-PT" sz="2800" spc="-1" strike="noStrike">
                <a:solidFill>
                  <a:srgbClr val="000000"/>
                </a:solidFill>
                <a:latin typeface="Calibri"/>
              </a:rPr>
              <a:t>,  sob a forma de </a:t>
            </a:r>
            <a:r>
              <a:rPr b="1" lang="pt-PT" sz="2800" spc="-1" strike="noStrike">
                <a:solidFill>
                  <a:srgbClr val="ff0000"/>
                </a:solidFill>
                <a:latin typeface="Calibri"/>
              </a:rPr>
              <a:t>dados informáticos</a:t>
            </a:r>
            <a:r>
              <a:rPr b="0" lang="pt-PT" sz="2800" spc="-1" strike="noStrike">
                <a:solidFill>
                  <a:srgbClr val="000000"/>
                </a:solidFill>
                <a:latin typeface="Calibri"/>
              </a:rPr>
              <a:t> ou qualquer </a:t>
            </a:r>
            <a:r>
              <a:rPr b="1" lang="pt-PT" sz="2800" spc="-1" strike="noStrike">
                <a:solidFill>
                  <a:srgbClr val="ff0000"/>
                </a:solidFill>
                <a:latin typeface="Calibri"/>
              </a:rPr>
              <a:t>outra forma</a:t>
            </a:r>
            <a:r>
              <a:rPr b="0" lang="pt-PT" sz="2800" spc="-1" strike="noStrike">
                <a:solidFill>
                  <a:srgbClr val="000000"/>
                </a:solidFill>
                <a:latin typeface="Calibri"/>
              </a:rPr>
              <a:t>, </a:t>
            </a:r>
            <a:r>
              <a:rPr b="0" lang="pt-PT" sz="2800" spc="-1" strike="noStrike">
                <a:solidFill>
                  <a:srgbClr val="000000"/>
                </a:solidFill>
                <a:latin typeface="Calibri"/>
              </a:rPr>
              <a:t>distintas dos dados de tráfego ou de conteúdo e que</a:t>
            </a:r>
            <a:r>
              <a:rPr b="0" lang="pt-PT" sz="2800" spc="-1" strike="noStrike">
                <a:solidFill>
                  <a:srgbClr val="00b050"/>
                </a:solidFill>
                <a:latin typeface="Calibri"/>
              </a:rPr>
              <a:t> </a:t>
            </a:r>
            <a:r>
              <a:rPr b="1" lang="pt-PT" sz="2800" spc="-1" strike="noStrike">
                <a:solidFill>
                  <a:srgbClr val="ff0000"/>
                </a:solidFill>
                <a:latin typeface="Calibri"/>
              </a:rPr>
              <a:t>permitam determin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a:t>
            </a:r>
            <a:r>
              <a:rPr b="1" lang="pt-PT" sz="2800" spc="-1" strike="noStrike">
                <a:solidFill>
                  <a:srgbClr val="ff0000"/>
                </a:solidFill>
                <a:latin typeface="Calibri"/>
              </a:rPr>
              <a:t>identidade do subscritor</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0000"/>
                </a:solidFill>
                <a:latin typeface="Calibri"/>
              </a:rPr>
              <a:t> </a:t>
            </a:r>
            <a:r>
              <a:rPr b="1" lang="pt-PT" sz="2800" spc="-1" strike="noStrike">
                <a:solidFill>
                  <a:srgbClr val="ff0000"/>
                </a:solidFill>
                <a:latin typeface="Calibri"/>
              </a:rPr>
              <a:t>endereço postal</a:t>
            </a:r>
            <a:r>
              <a:rPr b="0" lang="pt-PT" sz="2800" spc="-1" strike="noStrike">
                <a:solidFill>
                  <a:srgbClr val="000000"/>
                </a:solidFill>
                <a:latin typeface="Calibri"/>
              </a:rPr>
              <a:t> ou </a:t>
            </a:r>
            <a:r>
              <a:rPr b="1" lang="pt-PT" sz="2800" spc="-1" strike="noStrike">
                <a:solidFill>
                  <a:srgbClr val="ff0000"/>
                </a:solidFill>
                <a:latin typeface="Calibri"/>
              </a:rPr>
              <a:t>geográfico</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b050"/>
                </a:solidFill>
                <a:latin typeface="Calibri"/>
              </a:rPr>
              <a:t> </a:t>
            </a:r>
            <a:r>
              <a:rPr b="0" lang="pt-PT" sz="2800" spc="-1" strike="noStrike">
                <a:solidFill>
                  <a:srgbClr val="000000"/>
                </a:solidFill>
                <a:latin typeface="Calibri"/>
              </a:rPr>
              <a:t>número de </a:t>
            </a:r>
            <a:r>
              <a:rPr b="1" lang="pt-PT" sz="2800" spc="-1" strike="noStrike">
                <a:solidFill>
                  <a:srgbClr val="ff0000"/>
                </a:solidFill>
                <a:latin typeface="Calibri"/>
              </a:rPr>
              <a:t>telefone </a:t>
            </a:r>
            <a:r>
              <a:rPr b="0" lang="pt-PT" sz="2800" spc="-1" strike="noStrike">
                <a:solidFill>
                  <a:srgbClr val="000000"/>
                </a:solidFill>
                <a:latin typeface="Calibri"/>
              </a:rPr>
              <a:t>e </a:t>
            </a:r>
            <a:r>
              <a:rPr b="0" lang="pt-PT" sz="2800" spc="-1" strike="noStrike">
                <a:solidFill>
                  <a:srgbClr val="000000"/>
                </a:solidFill>
                <a:latin typeface="Calibri"/>
              </a:rPr>
              <a:t>qualquer </a:t>
            </a:r>
            <a:r>
              <a:rPr b="0" lang="pt-PT" sz="2800" spc="-1" strike="noStrike">
                <a:solidFill>
                  <a:srgbClr val="000000"/>
                </a:solidFill>
                <a:latin typeface="Calibri"/>
              </a:rPr>
              <a:t>outro número de acesso, </a:t>
            </a:r>
            <a:r>
              <a:rPr b="1" lang="pt-PT" sz="2800" spc="-1" strike="noStrike">
                <a:solidFill>
                  <a:srgbClr val="ff0000"/>
                </a:solidFill>
                <a:latin typeface="Calibri"/>
              </a:rPr>
              <a:t>os dados referentes à faturação</a:t>
            </a:r>
            <a:r>
              <a:rPr b="0" lang="pt-PT" sz="2800" spc="-1" strike="noStrike">
                <a:solidFill>
                  <a:srgbClr val="000000"/>
                </a:solidFill>
                <a:latin typeface="Calibri"/>
              </a:rPr>
              <a:t> e ao </a:t>
            </a:r>
            <a:r>
              <a:rPr b="1" lang="pt-PT" sz="2800" spc="-1" strike="noStrike">
                <a:solidFill>
                  <a:srgbClr val="ff0000"/>
                </a:solidFill>
                <a:latin typeface="Calibri"/>
              </a:rPr>
              <a:t>pagamento</a:t>
            </a:r>
            <a:r>
              <a:rPr b="0" lang="pt-PT" sz="2800" spc="-1" strike="noStrike">
                <a:solidFill>
                  <a:srgbClr val="000000"/>
                </a:solidFill>
                <a:latin typeface="Calibri"/>
              </a:rPr>
              <a:t>, disponíveis com </a:t>
            </a:r>
            <a:r>
              <a:rPr b="0" lang="pt-PT" sz="2800" spc="-1" strike="noStrike">
                <a:solidFill>
                  <a:srgbClr val="000000"/>
                </a:solidFill>
                <a:latin typeface="Calibri"/>
              </a:rPr>
              <a:t>base num contrato ou num </a:t>
            </a:r>
            <a:r>
              <a:rPr b="0" lang="pt-PT" sz="2800" spc="-1" strike="noStrike">
                <a:solidFill>
                  <a:srgbClr val="000000"/>
                </a:solidFill>
                <a:latin typeface="Calibri"/>
              </a:rPr>
              <a:t>acordo de serviç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59D54-05C6-46E8-9678-E1B34EB111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703440" y="87480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um </a:t>
            </a:r>
            <a:r>
              <a:rPr b="1" lang="pt-PT" sz="2800" spc="-1" strike="noStrike">
                <a:solidFill>
                  <a:srgbClr val="ff0000"/>
                </a:solidFill>
                <a:latin typeface="Calibri"/>
              </a:rPr>
              <a:t>fornecedor de serviços que ofereça os seus serviços no território</a:t>
            </a:r>
            <a:r>
              <a:rPr b="0" lang="pt-PT" sz="2800" spc="-1" strike="noStrike">
                <a:solidFill>
                  <a:srgbClr val="ff0000"/>
                </a:solidFill>
                <a:latin typeface="Calibri"/>
              </a:rPr>
              <a:t> </a:t>
            </a:r>
            <a:r>
              <a:rPr b="0" lang="pt-PT" sz="2800" spc="-1" strike="noStrike">
                <a:solidFill>
                  <a:srgbClr val="000000"/>
                </a:solidFill>
                <a:latin typeface="Calibri"/>
              </a:rPr>
              <a:t>da Parte </a:t>
            </a:r>
            <a:r>
              <a:rPr b="0" lang="pt-PT" sz="2800" spc="-1" strike="noStrike">
                <a:solidFill>
                  <a:srgbClr val="000000"/>
                </a:solidFill>
                <a:latin typeface="Calibri"/>
              </a:rPr>
              <a:t>que disponibilize</a:t>
            </a:r>
            <a:r>
              <a:rPr b="0" lang="pt-PT" sz="2800" spc="-1" strike="noStrike">
                <a:solidFill>
                  <a:srgbClr val="00b050"/>
                </a:solidFill>
                <a:latin typeface="Calibri"/>
              </a:rPr>
              <a:t> </a:t>
            </a:r>
            <a:r>
              <a:rPr b="1" lang="pt-PT" sz="2800" spc="-1" strike="noStrike">
                <a:solidFill>
                  <a:srgbClr val="ff0000"/>
                </a:solidFill>
                <a:latin typeface="Calibri"/>
              </a:rPr>
              <a:t>os dados dos assinantes relacionados com esses serviç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5E990-3267-470E-96A7-4A3A195846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As informações dos subscritores</a:t>
            </a:r>
            <a:r>
              <a:rPr b="0" lang="pt-PT" sz="2800" spc="-1" strike="noStrike">
                <a:solidFill>
                  <a:srgbClr val="000000"/>
                </a:solidFill>
                <a:latin typeface="Calibri"/>
              </a:rPr>
              <a:t> ajudarão a identificar:</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dentidade, endereço postal ou geográfico, telefone, outro número de acesso ou informações de faturação e pagamento dos subscritores utilizando a conta criminal@scammail.co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nacional, </a:t>
            </a:r>
            <a:r>
              <a:rPr b="1" lang="pt-PT" sz="2800" spc="-1" strike="noStrike">
                <a:solidFill>
                  <a:srgbClr val="ff0000"/>
                </a:solidFill>
                <a:latin typeface="Calibri"/>
              </a:rPr>
              <a:t>é possível obter informações dos subscritores por</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edido de assistência mútua</a:t>
            </a:r>
            <a:r>
              <a:rPr b="0" lang="pt-PT" sz="2800" spc="-1" strike="noStrike">
                <a:solidFill>
                  <a:srgbClr val="000000"/>
                </a:solidFill>
                <a:latin typeface="Calibri"/>
              </a:rPr>
              <a:t> em relação ao acesso a dados informáticos armazenados (porque </a:t>
            </a:r>
            <a:r>
              <a:rPr b="1" lang="pt-PT" sz="2800" spc="-1" strike="noStrike">
                <a:solidFill>
                  <a:srgbClr val="ff0000"/>
                </a:solidFill>
                <a:latin typeface="Calibri"/>
              </a:rPr>
              <a:t>as informações dos subscritores são armazenadas pelo Hack Mail como dados informáticos armazenados</a:t>
            </a:r>
            <a:r>
              <a:rPr b="0" lang="pt-PT" sz="2800" spc="-1" strike="noStrike">
                <a:solidFill>
                  <a:srgbClr val="000000"/>
                </a:solidFill>
                <a:latin typeface="Calibri"/>
              </a:rPr>
              <a:t> ); OU</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Injunção de comunicar</a:t>
            </a:r>
            <a:endParaRPr b="0" lang="en-US" sz="28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51236F-B6DE-4672-A3F6-24DB171580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CCE231-CC36-4C4D-8DB9-A159755958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60280" y="171360"/>
            <a:ext cx="8643960" cy="6297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200" spc="-1" strike="noStrike">
                <a:solidFill>
                  <a:srgbClr val="000000"/>
                </a:solidFill>
                <a:latin typeface="Calibri"/>
              </a:rPr>
              <a:t>Nesse caso</a:t>
            </a:r>
            <a:r>
              <a:rPr b="1" lang="pt-PT" sz="2800" spc="-1" strike="noStrike">
                <a:solidFill>
                  <a:srgbClr val="ff0000"/>
                </a:solidFill>
                <a:latin typeface="Calibri"/>
              </a:rPr>
              <a:t>, </a:t>
            </a:r>
            <a:r>
              <a:rPr b="1" lang="pt-PT" sz="3200" spc="-1" strike="noStrike">
                <a:solidFill>
                  <a:srgbClr val="ff0000"/>
                </a:solidFill>
                <a:latin typeface="Calibri"/>
              </a:rPr>
              <a:t>a injunção de comunicar é mais apropriada porque</a:t>
            </a:r>
            <a:r>
              <a:rPr b="0" lang="pt-PT"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O Artigo 18.º permite que </a:t>
            </a:r>
            <a:r>
              <a:rPr b="0" lang="pt-PT" sz="2800" spc="-1" strike="noStrike">
                <a:solidFill>
                  <a:srgbClr val="000000"/>
                </a:solidFill>
                <a:latin typeface="Calibri"/>
              </a:rPr>
              <a:t>se ordene a</a:t>
            </a:r>
            <a:r>
              <a:rPr b="1" lang="pt-PT" sz="2800" spc="-1" strike="noStrike">
                <a:solidFill>
                  <a:srgbClr val="ff0000"/>
                </a:solidFill>
                <a:latin typeface="Calibri"/>
              </a:rPr>
              <a:t> produção de informações dos subscritores na posse ou sob controlo de um prestador de serviços que não esteja na Terra Média, desde que lá ofereça serviços.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rPr>
              <a:t>As</a:t>
            </a:r>
            <a:r>
              <a:rPr b="1" lang="pt-PT" sz="2800" spc="-1" strike="noStrike">
                <a:solidFill>
                  <a:srgbClr val="ff0000"/>
                </a:solidFill>
                <a:latin typeface="Calibri"/>
              </a:rPr>
              <a:t> informações dos subscritores procuradas estão na posse e sob controlo da Hack Mail Inc</a:t>
            </a:r>
            <a:r>
              <a:rPr b="0" lang="pt-PT"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A Hack Mail Inc está a oferecer serviços na Terra Média </a:t>
            </a:r>
            <a:r>
              <a:rPr b="0" lang="pt-PT" sz="2800" spc="-1" strike="noStrike">
                <a:solidFill>
                  <a:srgbClr val="000000"/>
                </a:solidFill>
                <a:latin typeface="Calibri"/>
              </a:rPr>
              <a:t>porque tem</a:t>
            </a:r>
            <a:r>
              <a:rPr b="1" lang="pt-PT" sz="2800" spc="-1" strike="noStrike">
                <a:solidFill>
                  <a:srgbClr val="ff0000"/>
                </a:solidFill>
                <a:latin typeface="Calibri"/>
              </a:rPr>
              <a:t> sócios lá </a:t>
            </a:r>
            <a:r>
              <a:rPr b="0" lang="pt-PT" sz="2800" spc="-1" strike="noStrike">
                <a:solidFill>
                  <a:srgbClr val="000000"/>
                </a:solidFill>
                <a:latin typeface="Calibri"/>
              </a:rPr>
              <a:t>e</a:t>
            </a:r>
            <a:r>
              <a:rPr b="1" lang="pt-PT" sz="2800" spc="-1" strike="noStrike">
                <a:solidFill>
                  <a:srgbClr val="ff0000"/>
                </a:solidFill>
                <a:latin typeface="Calibri"/>
              </a:rPr>
              <a:t> faz publicidade </a:t>
            </a:r>
            <a:r>
              <a:rPr b="0" lang="pt-PT" sz="2800" spc="-1" strike="noStrike">
                <a:solidFill>
                  <a:srgbClr val="000000"/>
                </a:solidFill>
                <a:latin typeface="Calibri"/>
              </a:rPr>
              <a:t>no</a:t>
            </a:r>
            <a:r>
              <a:rPr b="1" lang="pt-PT" sz="2800" spc="-1" strike="noStrike">
                <a:solidFill>
                  <a:srgbClr val="ff0000"/>
                </a:solidFill>
                <a:latin typeface="Calibri"/>
              </a:rPr>
              <a:t> idioma local</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0DB7E-51E3-4C85-A044-9EA7EFC8F5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128FC-6D8D-4DCB-BBAE-2322397CBA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al é a maneira mais rápida de obter e-mails enviados pela pessoa utilizando o endereço fraud@hackmail.com para os reclamante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F56AB-1953-4E07-8C8D-2A66760CD1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ambém conhece separadamente várias </a:t>
            </a:r>
            <a:r>
              <a:rPr b="1" lang="pt-PT" sz="2900" spc="-1" strike="noStrike">
                <a:solidFill>
                  <a:srgbClr val="ff0000"/>
                </a:solidFill>
                <a:latin typeface="Calibri"/>
              </a:rPr>
              <a:t>pessoas em Mordor </a:t>
            </a:r>
            <a:r>
              <a:rPr b="0" lang="pt-PT" sz="2900" spc="-1" strike="noStrike">
                <a:solidFill>
                  <a:srgbClr val="000000"/>
                </a:solidFill>
                <a:latin typeface="Calibri"/>
              </a:rPr>
              <a:t>que se </a:t>
            </a:r>
            <a:r>
              <a:rPr b="1" lang="pt-PT" sz="2900" spc="-1" strike="noStrike">
                <a:solidFill>
                  <a:srgbClr val="ff0000"/>
                </a:solidFill>
                <a:latin typeface="Calibri"/>
              </a:rPr>
              <a:t>queixaram </a:t>
            </a:r>
            <a:r>
              <a:rPr b="0" lang="pt-PT" sz="2900" spc="-1" strike="noStrike">
                <a:solidFill>
                  <a:srgbClr val="000000"/>
                </a:solidFill>
                <a:latin typeface="Calibri"/>
              </a:rPr>
              <a:t>em diferentes </a:t>
            </a:r>
            <a:r>
              <a:rPr b="1" lang="pt-PT" sz="2900" spc="-1" strike="noStrike">
                <a:solidFill>
                  <a:srgbClr val="ff0000"/>
                </a:solidFill>
                <a:latin typeface="Calibri"/>
              </a:rPr>
              <a:t>fóruns públicos</a:t>
            </a:r>
            <a:r>
              <a:rPr b="0" lang="pt-PT" sz="2900" spc="-1" strike="noStrike">
                <a:solidFill>
                  <a:srgbClr val="000000"/>
                </a:solidFill>
                <a:latin typeface="Calibri"/>
              </a:rPr>
              <a:t> de incidentes de fraude supostamente perpetrados pelo utilizador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Deseja utilizar essas </a:t>
            </a:r>
            <a:r>
              <a:rPr b="1" lang="pt-PT" sz="2900" spc="-1" strike="noStrike">
                <a:solidFill>
                  <a:srgbClr val="ff0000"/>
                </a:solidFill>
                <a:latin typeface="Calibri"/>
              </a:rPr>
              <a:t>queixas como prova</a:t>
            </a:r>
            <a:r>
              <a:rPr b="0" lang="pt-PT" sz="2900" spc="-1" strike="noStrike">
                <a:solidFill>
                  <a:srgbClr val="000000"/>
                </a:solidFill>
                <a:latin typeface="Calibri"/>
              </a:rPr>
              <a:t> em processos subsequentes. Além disso, entra em contacto com essas pessoas para obter informações e elas estão dispostas a </a:t>
            </a:r>
            <a:r>
              <a:rPr b="1" lang="pt-PT" sz="2900" spc="-1" strike="noStrike">
                <a:solidFill>
                  <a:srgbClr val="ff0000"/>
                </a:solidFill>
                <a:latin typeface="Calibri"/>
              </a:rPr>
              <a:t>consentir que aceda às suas contas de e-mail e mensagens de e-mail</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61128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32.º — Acesso transfronteiriço a dados informáticos armazenados </a:t>
            </a:r>
            <a:r>
              <a:rPr b="1" lang="pt-PT" sz="2800" spc="-1" strike="noStrike">
                <a:solidFill>
                  <a:srgbClr val="000000"/>
                </a:solidFill>
                <a:latin typeface="Calibri"/>
              </a:rPr>
              <a:t>num computador, mediante consentimento ou quando se trate de dados acessíveis ao público</a:t>
            </a:r>
            <a:endParaRPr b="0" lang="en-US" sz="28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Uma Parte pode, sem autorização de outra Parte</a:t>
            </a:r>
            <a:r>
              <a:rPr b="0" lang="pt-PT"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ceder a </a:t>
            </a:r>
            <a:r>
              <a:rPr b="1" lang="pt-PT" sz="2400" spc="-1" strike="noStrike">
                <a:solidFill>
                  <a:srgbClr val="ff0000"/>
                </a:solidFill>
                <a:latin typeface="Calibri"/>
              </a:rPr>
              <a:t>dados informáticos armazenados acessíveis ao público </a:t>
            </a:r>
            <a:r>
              <a:rPr b="0" lang="pt-PT" sz="2400" spc="-1" strike="noStrike">
                <a:solidFill>
                  <a:srgbClr val="000000"/>
                </a:solidFill>
                <a:latin typeface="Calibri"/>
              </a:rPr>
              <a:t>(fonte aberta), </a:t>
            </a:r>
            <a:r>
              <a:rPr b="1" lang="pt-PT" sz="2400" spc="-1" strike="noStrike">
                <a:solidFill>
                  <a:srgbClr val="ff0000"/>
                </a:solidFill>
                <a:latin typeface="Calibri"/>
              </a:rPr>
              <a:t>independentemente de onde os dados estão localizados geograficamente</a:t>
            </a:r>
            <a:r>
              <a:rPr b="0" lang="pt-PT" sz="2400" spc="-1" strike="noStrike">
                <a:solidFill>
                  <a:srgbClr val="000000"/>
                </a:solidFill>
                <a:latin typeface="Calibri"/>
              </a:rPr>
              <a:t>; ou</a:t>
            </a:r>
            <a:endParaRPr b="0" lang="en-US" sz="24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ff0000"/>
                </a:solidFill>
                <a:latin typeface="Calibri"/>
              </a:rPr>
              <a:t>aceder ou receber, através de um sistema informático </a:t>
            </a:r>
            <a:r>
              <a:rPr b="0" lang="pt-PT" sz="2400" spc="-1" strike="noStrike">
                <a:solidFill>
                  <a:srgbClr val="000000"/>
                </a:solidFill>
                <a:latin typeface="Calibri"/>
              </a:rPr>
              <a:t>no seu território</a:t>
            </a:r>
            <a:r>
              <a:rPr b="1" lang="pt-PT" sz="2400" spc="-1" strike="noStrike">
                <a:solidFill>
                  <a:srgbClr val="000000"/>
                </a:solidFill>
                <a:latin typeface="Calibri"/>
              </a:rPr>
              <a:t>, </a:t>
            </a:r>
            <a:r>
              <a:rPr b="1" lang="pt-PT" sz="2400" spc="-1" strike="noStrike">
                <a:solidFill>
                  <a:srgbClr val="ff0000"/>
                </a:solidFill>
                <a:latin typeface="Calibri"/>
              </a:rPr>
              <a:t>dados informáticos armazenados localizados no território de outra Parte, </a:t>
            </a:r>
            <a:r>
              <a:rPr b="0" lang="pt-PT" sz="2400" spc="-1" strike="noStrike">
                <a:solidFill>
                  <a:srgbClr val="000000"/>
                </a:solidFill>
                <a:latin typeface="Calibri"/>
              </a:rPr>
              <a:t>se obtiver o </a:t>
            </a:r>
            <a:r>
              <a:rPr b="1" lang="pt-PT" sz="2400" spc="-1" strike="noStrike">
                <a:solidFill>
                  <a:srgbClr val="ff0000"/>
                </a:solidFill>
                <a:latin typeface="Calibri"/>
              </a:rPr>
              <a:t>consentimento legal e voluntário da pessoa legalmente autorizada a divulgar esses dados </a:t>
            </a:r>
            <a:r>
              <a:rPr b="0" lang="pt-PT" sz="2400" spc="-1" strike="noStrike">
                <a:solidFill>
                  <a:srgbClr val="000000"/>
                </a:solidFill>
                <a:latin typeface="Calibri"/>
              </a:rPr>
              <a:t>através desse sistema informático.</a:t>
            </a:r>
            <a:endParaRPr b="0" lang="en-US" sz="24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EC1255-20CC-44F9-9D09-E379B578F0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857160"/>
            <a:ext cx="8229600" cy="55404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soante a legislação nacional, pode </a:t>
            </a:r>
            <a:r>
              <a:rPr b="1" lang="pt-PT" sz="2800" spc="-1" strike="noStrike">
                <a:solidFill>
                  <a:srgbClr val="ff0000"/>
                </a:solidFill>
                <a:latin typeface="Calibri"/>
              </a:rPr>
              <a:t>aceder diretamente</a:t>
            </a:r>
            <a:r>
              <a:rPr b="0" lang="pt-PT" sz="2800" spc="-1" strike="noStrike">
                <a:solidFill>
                  <a:srgbClr val="000000"/>
                </a:solidFill>
                <a:latin typeface="Calibri"/>
              </a:rPr>
              <a:t> às </a:t>
            </a:r>
            <a:r>
              <a:rPr b="0" lang="pt-PT" sz="2800" spc="-1" strike="noStrike">
                <a:solidFill>
                  <a:srgbClr val="000000"/>
                </a:solidFill>
                <a:latin typeface="Calibri"/>
              </a:rPr>
              <a:t>queixas</a:t>
            </a:r>
            <a:r>
              <a:rPr b="0" lang="pt-PT" sz="2800" spc="-1" strike="noStrike">
                <a:solidFill>
                  <a:srgbClr val="ff0000"/>
                </a:solidFill>
                <a:latin typeface="Calibri"/>
              </a:rPr>
              <a:t> </a:t>
            </a:r>
            <a:r>
              <a:rPr b="1" lang="pt-PT" sz="2800" spc="-1" strike="noStrike">
                <a:solidFill>
                  <a:srgbClr val="ff0000"/>
                </a:solidFill>
                <a:latin typeface="Calibri"/>
              </a:rPr>
              <a:t>disponíveis publicamente</a:t>
            </a:r>
            <a:r>
              <a:rPr b="0" lang="pt-PT" sz="2800" spc="-1" strike="noStrike">
                <a:solidFill>
                  <a:srgbClr val="000000"/>
                </a:solidFill>
                <a:latin typeface="Calibri"/>
              </a:rPr>
              <a:t> no fórum </a:t>
            </a:r>
            <a:r>
              <a:rPr b="1" lang="pt-PT" sz="2800" spc="-1" strike="noStrike">
                <a:solidFill>
                  <a:srgbClr val="ff0000"/>
                </a:solidFill>
                <a:latin typeface="Calibri"/>
              </a:rPr>
              <a:t>sem fazer um pedido de assistência mútua. </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a:t>
            </a:r>
            <a:r>
              <a:rPr b="0" lang="pt-PT" sz="2800" spc="-1" strike="noStrike">
                <a:solidFill>
                  <a:srgbClr val="000000"/>
                </a:solidFill>
                <a:latin typeface="Calibri"/>
              </a:rPr>
              <a:t>os queixosos </a:t>
            </a:r>
            <a:r>
              <a:rPr b="0" lang="pt-PT" sz="2800" spc="-1" strike="noStrike">
                <a:solidFill>
                  <a:srgbClr val="000000"/>
                </a:solidFill>
                <a:latin typeface="Calibri"/>
              </a:rPr>
              <a:t>têm </a:t>
            </a:r>
            <a:r>
              <a:rPr b="1" lang="pt-PT" sz="2800" spc="-1" strike="noStrike">
                <a:solidFill>
                  <a:srgbClr val="ff0000"/>
                </a:solidFill>
                <a:latin typeface="Calibri"/>
              </a:rPr>
              <a:t>autoridade legal para divulgar</a:t>
            </a:r>
            <a:r>
              <a:rPr b="0" lang="pt-PT" sz="2800" spc="-1" strike="noStrike">
                <a:solidFill>
                  <a:srgbClr val="000000"/>
                </a:solidFill>
                <a:latin typeface="Calibri"/>
              </a:rPr>
              <a:t> os seus e-mails e </a:t>
            </a:r>
            <a:r>
              <a:rPr b="1" lang="pt-PT" sz="2800" spc="-1" strike="noStrike">
                <a:solidFill>
                  <a:srgbClr val="ff0000"/>
                </a:solidFill>
                <a:latin typeface="Calibri"/>
              </a:rPr>
              <a:t>autorizaram o</a:t>
            </a:r>
            <a:r>
              <a:rPr b="0" lang="pt-PT" sz="2800" spc="-1" strike="noStrike">
                <a:solidFill>
                  <a:srgbClr val="000000"/>
                </a:solidFill>
                <a:latin typeface="Calibri"/>
              </a:rPr>
              <a:t> </a:t>
            </a:r>
            <a:r>
              <a:rPr b="1" lang="pt-PT" sz="2800" spc="-1" strike="noStrike">
                <a:solidFill>
                  <a:srgbClr val="ff0000"/>
                </a:solidFill>
                <a:latin typeface="Calibri"/>
              </a:rPr>
              <a:t>seu acesso</a:t>
            </a:r>
            <a:r>
              <a:rPr b="0" lang="pt-PT" sz="2800" spc="-1" strike="noStrike">
                <a:solidFill>
                  <a:srgbClr val="000000"/>
                </a:solidFill>
                <a:latin typeface="Calibri"/>
              </a:rPr>
              <a:t> às suas contas e mensagens de e-mail, pode, </a:t>
            </a:r>
            <a:r>
              <a:rPr b="1" lang="pt-PT" sz="2800" spc="-1" strike="noStrike">
                <a:solidFill>
                  <a:srgbClr val="ff0000"/>
                </a:solidFill>
                <a:latin typeface="Calibri"/>
              </a:rPr>
              <a:t>sem fazer um pedido de assistência mútua,</a:t>
            </a:r>
            <a:r>
              <a:rPr b="0" lang="pt-PT" sz="2800" spc="-1" strike="noStrike">
                <a:solidFill>
                  <a:srgbClr val="000000"/>
                </a:solidFill>
                <a:latin typeface="Calibri"/>
              </a:rPr>
              <a:t> aceder a todos esses e-mails para realizar a investigaçã</a:t>
            </a:r>
            <a:r>
              <a:rPr b="0" lang="pt-PT" sz="3200" spc="-1" strike="noStrike">
                <a:solidFill>
                  <a:srgbClr val="000000"/>
                </a:solidFill>
                <a:latin typeface="Calibri"/>
              </a:rPr>
              <a:t>o.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004A8-25B9-438F-AD69-E22C6484EC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Cinco</a:t>
            </a:r>
            <a:br>
              <a:rPr sz="4000"/>
            </a:br>
            <a:r>
              <a:rPr b="1" lang="pt-PT" sz="4000" spc="-1" strike="noStrike">
                <a:solidFill>
                  <a:srgbClr val="000000"/>
                </a:solidFill>
                <a:latin typeface="Calibri"/>
              </a:rPr>
              <a:t>Assistência Judiciária Mútua</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9375E3-C781-4EC8-B940-E8692AB236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12089-DC8D-4BE6-A9A7-75411C7981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306360" y="412920"/>
            <a:ext cx="85978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resultado da análise dos dados obtidos, identifica um indivíduo responsável por vender os dados e fornecer serviços: Boris Smith, que é um cidadão nacional e reside na Terra Média.</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rende Boris Smith na Terra Média e ele revela a localização do sistema informático que está a ser utilizado pela DarkHacker em Rohan. Como o facto de Boris ter sido preso não é público, parece não haver razão para acreditar que os dados sejam vulneráveis a perdas ou modificações.</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le informa que a conta fraud@hackmail.com foi utilizada para entrar em contacto com outros agentes do DarkHacker. Também lhe informa sobre transações em grande escala para a venda de códigos PIN de bancos planeados para serem realizados no dia seguinte às 17:00, utilizando a mesma conta de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F3E52A-B01C-4C22-90A1-0A0EF015DA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509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pode tomar para garantir que a HackMail Inc preserva os dados relacionados com a conta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deve tomar para identificar outros prestadores de serviços envolvidos na transmissão de comunicações relacionadas com a fraude do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324FF4-2CB7-46A4-B0E5-C54636338B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Ele informa que a conta </a:t>
            </a:r>
            <a:r>
              <a:rPr b="1" lang="pt-PT" sz="2700" spc="-1" strike="noStrike">
                <a:solidFill>
                  <a:srgbClr val="000000"/>
                </a:solidFill>
                <a:latin typeface="Calibri"/>
              </a:rPr>
              <a:t>fraud@hackmail.com</a:t>
            </a:r>
            <a:r>
              <a:rPr b="0" lang="pt-PT" sz="2700" spc="-1" strike="noStrike">
                <a:solidFill>
                  <a:srgbClr val="000000"/>
                </a:solidFill>
                <a:latin typeface="Calibri"/>
              </a:rPr>
              <a:t> foi utilizada para </a:t>
            </a:r>
            <a:r>
              <a:rPr b="1" lang="pt-PT" sz="2700" spc="-1" strike="noStrike">
                <a:solidFill>
                  <a:srgbClr val="ff0000"/>
                </a:solidFill>
                <a:latin typeface="Calibri"/>
              </a:rPr>
              <a:t>entrar em contacto com outros agentes do DarkHacker</a:t>
            </a:r>
            <a:r>
              <a:rPr b="0" lang="pt-PT"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673200"/>
            <a:ext cx="8229600" cy="5481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29.º – </a:t>
            </a:r>
            <a:r>
              <a:rPr b="1" lang="pt-PT" sz="2800" spc="-1" strike="noStrike">
                <a:solidFill>
                  <a:srgbClr val="000000"/>
                </a:solidFill>
                <a:latin typeface="Calibri"/>
              </a:rPr>
              <a:t>Preservação expedita de dados informáticos arma</a:t>
            </a:r>
            <a:r>
              <a:rPr b="1" lang="pt-PT" sz="2800" spc="-1" strike="noStrike">
                <a:solidFill>
                  <a:srgbClr val="000000"/>
                </a:solidFill>
                <a:latin typeface="Calibri"/>
              </a:rPr>
              <a:t>zenad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Uma Parte poderá </a:t>
            </a:r>
            <a:r>
              <a:rPr b="1" lang="pt-PT" sz="2800" spc="-1" strike="noStrike">
                <a:solidFill>
                  <a:srgbClr val="ff0000"/>
                </a:solidFill>
                <a:latin typeface="Calibri"/>
              </a:rPr>
              <a:t>solicitar a outra Parte </a:t>
            </a:r>
            <a:r>
              <a:rPr b="0" lang="pt-PT" sz="2800" spc="-1" strike="noStrike">
                <a:solidFill>
                  <a:srgbClr val="000000"/>
                </a:solidFill>
                <a:latin typeface="Calibri"/>
              </a:rPr>
              <a:t>que ordene ou, de outro modo, imponha a</a:t>
            </a:r>
            <a:r>
              <a:rPr b="1" lang="pt-PT" sz="2800" spc="-1" strike="noStrike">
                <a:solidFill>
                  <a:srgbClr val="ff0000"/>
                </a:solidFill>
                <a:latin typeface="Calibri"/>
              </a:rPr>
              <a:t> conservação expedita de dados armazenados através de um sistema informático</a:t>
            </a:r>
            <a:r>
              <a:rPr b="0" lang="pt-PT" sz="2800" spc="-1" strike="noStrike">
                <a:solidFill>
                  <a:srgbClr val="000000"/>
                </a:solidFill>
                <a:latin typeface="Calibri"/>
              </a:rPr>
              <a:t> localizado no </a:t>
            </a:r>
            <a:r>
              <a:rPr b="0" lang="pt-PT" sz="2800" spc="-1" strike="noStrike">
                <a:solidFill>
                  <a:srgbClr val="000000"/>
                </a:solidFill>
                <a:latin typeface="Calibri"/>
              </a:rPr>
              <a:t>seu território </a:t>
            </a:r>
            <a:r>
              <a:rPr b="0" lang="pt-PT" sz="2800" spc="-1" strike="noStrike">
                <a:solidFill>
                  <a:srgbClr val="000000"/>
                </a:solidFill>
                <a:latin typeface="Calibri"/>
              </a:rPr>
              <a:t>e</a:t>
            </a:r>
            <a:r>
              <a:rPr b="1" lang="pt-PT" sz="2800" spc="-1" strike="noStrike">
                <a:solidFill>
                  <a:srgbClr val="ff0000"/>
                </a:solidFill>
                <a:latin typeface="Calibri"/>
              </a:rPr>
              <a:t> relativamente aos quais a Parte requerente pretenda apresentar um pedido de auxílio judiciário mútuo para busca ou outro acesso semelhante, apreensão ou obtenção por meio semelhante, ou divulgação dos dados.</a:t>
            </a: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3805E-8DDD-4A54-B454-08400D9698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BA209C-B665-4696-97AE-110B46BD61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316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É um agente da autoridade da Terra Média, um pequeno país </a:t>
            </a:r>
            <a:r>
              <a:rPr b="0" lang="pt-PT" sz="2700" spc="-1" strike="noStrike">
                <a:solidFill>
                  <a:srgbClr val="000000"/>
                </a:solidFill>
                <a:latin typeface="Calibri"/>
              </a:rPr>
              <a:t>vizinho de outros dois países, Rohan e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É responsável por investigar cibercrimes na Terra Média. Durante o curso de uma investigação, depara-se com os seguintes problemas:</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direito substantivo</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direito processua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Outras questões de formas de cooperação</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auxílio judiciário mútuo</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ocê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642960"/>
            <a:ext cx="8229600" cy="5762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30.º — </a:t>
            </a:r>
            <a:r>
              <a:rPr b="1" lang="pt-PT" sz="3000" spc="-1" strike="noStrike">
                <a:solidFill>
                  <a:srgbClr val="000000"/>
                </a:solidFill>
                <a:latin typeface="Calibri"/>
              </a:rPr>
              <a:t>Divulgação expedita de dados de tráfego conserv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Quando, no </a:t>
            </a:r>
            <a:r>
              <a:rPr b="1" lang="pt-PT" sz="2800" spc="-1" strike="noStrike">
                <a:solidFill>
                  <a:srgbClr val="ff0000"/>
                </a:solidFill>
                <a:latin typeface="Calibri"/>
              </a:rPr>
              <a:t>decurso da execução</a:t>
            </a:r>
            <a:r>
              <a:rPr b="0" lang="pt-PT" sz="2800" spc="-1" strike="noStrike">
                <a:solidFill>
                  <a:srgbClr val="000000"/>
                </a:solidFill>
                <a:latin typeface="Calibri"/>
              </a:rPr>
              <a:t> de um pedido feito nos termos do </a:t>
            </a:r>
            <a:r>
              <a:rPr b="1" lang="pt-PT" sz="2800" spc="-1" strike="noStrike">
                <a:solidFill>
                  <a:srgbClr val="ff0000"/>
                </a:solidFill>
                <a:latin typeface="Calibri"/>
              </a:rPr>
              <a:t>Artigo 29.º,</a:t>
            </a:r>
            <a:r>
              <a:rPr b="0" lang="pt-PT" sz="2800" spc="-1" strike="noStrike">
                <a:solidFill>
                  <a:srgbClr val="000000"/>
                </a:solidFill>
                <a:latin typeface="Calibri"/>
              </a:rPr>
              <a:t> para </a:t>
            </a:r>
            <a:r>
              <a:rPr b="0" lang="pt-PT" sz="2800" spc="-1" strike="noStrike">
                <a:solidFill>
                  <a:srgbClr val="000000"/>
                </a:solidFill>
                <a:latin typeface="Calibri"/>
              </a:rPr>
              <a:t>conservação de dados </a:t>
            </a:r>
            <a:r>
              <a:rPr b="0" lang="pt-PT" sz="2800" spc="-1" strike="noStrike">
                <a:solidFill>
                  <a:srgbClr val="000000"/>
                </a:solidFill>
                <a:latin typeface="Calibri"/>
              </a:rPr>
              <a:t>de tráfego relativos a uma comunicação específica, a Parte requerida </a:t>
            </a:r>
            <a:r>
              <a:rPr b="1" lang="pt-PT" sz="2800" spc="-1" strike="noStrike">
                <a:solidFill>
                  <a:srgbClr val="ff0000"/>
                </a:solidFill>
                <a:latin typeface="Calibri"/>
              </a:rPr>
              <a:t>descobrir que um fornecedor de serviços de outro Estado participou na transmissão da comunicação</a:t>
            </a:r>
            <a:r>
              <a:rPr b="0" lang="pt-PT" sz="2800" spc="-1" strike="noStrike">
                <a:solidFill>
                  <a:srgbClr val="000000"/>
                </a:solidFill>
                <a:latin typeface="Calibri"/>
              </a:rPr>
              <a:t>, a Parte requerida </a:t>
            </a:r>
            <a:r>
              <a:rPr b="1" lang="pt-PT" sz="2800" spc="-1" strike="noStrike">
                <a:solidFill>
                  <a:srgbClr val="ff0000"/>
                </a:solidFill>
                <a:latin typeface="Calibri"/>
              </a:rPr>
              <a:t>deverá transmitir rapidamente</a:t>
            </a:r>
            <a:r>
              <a:rPr b="0" lang="pt-PT" sz="2800" spc="-1" strike="noStrike">
                <a:solidFill>
                  <a:srgbClr val="000000"/>
                </a:solidFill>
                <a:latin typeface="Calibri"/>
              </a:rPr>
              <a:t> à Parte </a:t>
            </a:r>
            <a:r>
              <a:rPr b="0" lang="pt-PT" sz="2800" spc="-1" strike="noStrike">
                <a:solidFill>
                  <a:srgbClr val="000000"/>
                </a:solidFill>
                <a:latin typeface="Calibri"/>
              </a:rPr>
              <a:t>requerente uma </a:t>
            </a:r>
            <a:r>
              <a:rPr b="1" lang="pt-PT" sz="2800" spc="-1" strike="noStrike">
                <a:solidFill>
                  <a:srgbClr val="ff0000"/>
                </a:solidFill>
                <a:latin typeface="Calibri"/>
              </a:rPr>
              <a:t>quantidade suficiente de dados de tráfego para identificar esse fornecedor de serviços e a via através da qual a comunicação foi transmitida</a:t>
            </a:r>
            <a:r>
              <a:rPr b="0" lang="pt-PT"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1160D-00E1-4F39-98BF-5B3A122682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ependendo da legislação nacional, a Terra Média poderá </a:t>
            </a:r>
            <a:r>
              <a:rPr b="1" lang="pt-PT" sz="2400" spc="-1" strike="noStrike">
                <a:solidFill>
                  <a:srgbClr val="ff0000"/>
                </a:solidFill>
                <a:latin typeface="Calibri"/>
              </a:rPr>
              <a:t>pedir auxílio</a:t>
            </a:r>
            <a:r>
              <a:rPr b="0" lang="pt-PT" sz="2400" spc="-1" strike="noStrike">
                <a:solidFill>
                  <a:srgbClr val="ff0000"/>
                </a:solidFill>
                <a:latin typeface="Calibri"/>
              </a:rPr>
              <a:t> </a:t>
            </a:r>
            <a:r>
              <a:rPr b="0" lang="pt-PT" sz="2400" spc="-1" strike="noStrike">
                <a:solidFill>
                  <a:srgbClr val="000000"/>
                </a:solidFill>
                <a:latin typeface="Calibri"/>
              </a:rPr>
              <a:t>para </a:t>
            </a:r>
            <a:r>
              <a:rPr b="1" lang="pt-PT" sz="2400" spc="-1" strike="noStrike">
                <a:solidFill>
                  <a:srgbClr val="ff0000"/>
                </a:solidFill>
                <a:latin typeface="Calibri"/>
              </a:rPr>
              <a:t>preservar rapidamente dados específicos</a:t>
            </a:r>
            <a:r>
              <a:rPr b="0" lang="pt-PT" sz="2400" spc="-1" strike="noStrike">
                <a:solidFill>
                  <a:srgbClr val="000000"/>
                </a:solidFill>
                <a:latin typeface="Calibri"/>
              </a:rPr>
              <a:t>, de acordo com o Artigo 29.º da Convenção de Budapeste.  </a:t>
            </a: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Terra Média </a:t>
            </a:r>
            <a:r>
              <a:rPr b="1" lang="pt-PT" sz="2400" spc="-1" strike="noStrike">
                <a:solidFill>
                  <a:srgbClr val="ff0000"/>
                </a:solidFill>
                <a:latin typeface="Calibri"/>
              </a:rPr>
              <a:t>exigiria a divulgação de dados de tráfego preservados da Hack Mail Inc. para identificar outros fornecedores de serviços</a:t>
            </a:r>
            <a:endParaRPr b="0" lang="en-US" sz="2400" spc="-1" strike="noStrike">
              <a:solidFill>
                <a:srgbClr val="000000"/>
              </a:solidFill>
              <a:latin typeface="Arial"/>
            </a:endParaRPr>
          </a:p>
          <a:p>
            <a:pPr marL="457200" indent="-457200" algn="just">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ependendo da legislação nacional, a Terra Média </a:t>
            </a:r>
            <a:r>
              <a:rPr b="1" lang="pt-PT" sz="2400" spc="-1" strike="noStrike">
                <a:solidFill>
                  <a:srgbClr val="ff0000"/>
                </a:solidFill>
                <a:latin typeface="Calibri"/>
              </a:rPr>
              <a:t>não precisa de fazer nenhum pedido adicional para divulgação de dados de tráfego</a:t>
            </a:r>
            <a:r>
              <a:rPr b="0" lang="pt-PT" sz="2400" spc="-1" strike="noStrike">
                <a:solidFill>
                  <a:srgbClr val="000000"/>
                </a:solidFill>
                <a:latin typeface="Calibri"/>
              </a:rPr>
              <a:t> — Rohan será obrigado a </a:t>
            </a:r>
            <a:r>
              <a:rPr b="1" lang="pt-PT" sz="2400" spc="-1" strike="noStrike">
                <a:solidFill>
                  <a:srgbClr val="ff0000"/>
                </a:solidFill>
                <a:latin typeface="Calibri"/>
              </a:rPr>
              <a:t>divulgar automaticamente dados de tráfego suficientes para permitir a identificação de outros fornecedores de serviços se descobrirem o seu envolvimento na conservação</a:t>
            </a:r>
            <a:r>
              <a:rPr b="0" lang="pt-PT" sz="2400" spc="-1" strike="noStrike">
                <a:solidFill>
                  <a:srgbClr val="000000"/>
                </a:solidFill>
                <a:latin typeface="Calibri"/>
              </a:rPr>
              <a:t>.</a:t>
            </a:r>
            <a:endParaRPr b="0" lang="en-US" sz="24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95FCD-F0D0-4F87-B281-05C1C8BBC6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4B5DBE-9696-4F2C-8634-C59AED862C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pode tomar para obter dados informáticos do sistema informático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1F2806-2BC7-443A-ABAC-C9B551461C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Prende Boris Smith na Terra Média e ele revela a localização do </a:t>
            </a:r>
            <a:r>
              <a:rPr b="1" lang="pt-PT" sz="2700" spc="-1" strike="noStrike">
                <a:solidFill>
                  <a:srgbClr val="ff0000"/>
                </a:solidFill>
                <a:latin typeface="Calibri"/>
              </a:rPr>
              <a:t>sistema informático</a:t>
            </a:r>
            <a:r>
              <a:rPr b="0" lang="pt-PT" sz="2700" spc="-1" strike="noStrike">
                <a:solidFill>
                  <a:srgbClr val="000000"/>
                </a:solidFill>
                <a:latin typeface="Calibri"/>
              </a:rPr>
              <a:t> que está a ser utilizado pelo DarkHacker em Rohan. Como o facto de </a:t>
            </a:r>
            <a:r>
              <a:rPr b="1" lang="pt-PT" sz="2700" spc="-1" strike="noStrike">
                <a:solidFill>
                  <a:srgbClr val="ff0000"/>
                </a:solidFill>
                <a:latin typeface="Calibri"/>
              </a:rPr>
              <a:t>Boris ter sido preso não é público</a:t>
            </a:r>
            <a:r>
              <a:rPr b="0" lang="pt-PT" sz="2700" spc="-1" strike="noStrike">
                <a:solidFill>
                  <a:srgbClr val="000000"/>
                </a:solidFill>
                <a:latin typeface="Calibri"/>
              </a:rPr>
              <a:t>, parece </a:t>
            </a:r>
            <a:r>
              <a:rPr b="1" lang="pt-PT" sz="2700" spc="-1" strike="noStrike">
                <a:solidFill>
                  <a:srgbClr val="ff0000"/>
                </a:solidFill>
                <a:latin typeface="Calibri"/>
              </a:rPr>
              <a:t>não haver razão para acreditar que os dados sejam vulnerável a perda ou modificação</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357120"/>
            <a:ext cx="8229600" cy="599940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Artigo 31.º </a:t>
            </a:r>
            <a:r>
              <a:rPr b="1" lang="pt-PT" sz="2700" spc="-1" strike="noStrike">
                <a:solidFill>
                  <a:srgbClr val="000000"/>
                </a:solidFill>
                <a:latin typeface="Calibri"/>
              </a:rPr>
              <a:t>— Auxílio mútuo relativamente ao acesso a dados informáticos </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1 Uma Parte poderá </a:t>
            </a:r>
            <a:r>
              <a:rPr b="1" lang="pt-PT" sz="2700" spc="-1" strike="noStrike">
                <a:solidFill>
                  <a:srgbClr val="ff0000"/>
                </a:solidFill>
                <a:latin typeface="Calibri"/>
              </a:rPr>
              <a:t>solicitar a outra Parte</a:t>
            </a:r>
            <a:r>
              <a:rPr b="0" lang="pt-PT" sz="2700" spc="-1" strike="noStrike">
                <a:solidFill>
                  <a:srgbClr val="ff0000"/>
                </a:solidFill>
                <a:latin typeface="Calibri"/>
              </a:rPr>
              <a:t> </a:t>
            </a:r>
            <a:r>
              <a:rPr b="0" lang="pt-PT" sz="2700" spc="-1" strike="noStrike">
                <a:solidFill>
                  <a:srgbClr val="000000"/>
                </a:solidFill>
                <a:latin typeface="Calibri"/>
              </a:rPr>
              <a:t>que proceda a buscas ou outro acesso semelhante, </a:t>
            </a:r>
            <a:r>
              <a:rPr b="1" lang="pt-PT" sz="2700" spc="-1" strike="noStrike">
                <a:solidFill>
                  <a:srgbClr val="ff0000"/>
                </a:solidFill>
                <a:latin typeface="Calibri"/>
              </a:rPr>
              <a:t>à apreensão ou outro tipo de retenção semelhante</a:t>
            </a:r>
            <a:r>
              <a:rPr b="0" lang="pt-PT" sz="2700" spc="-1" strike="noStrike">
                <a:solidFill>
                  <a:srgbClr val="00b050"/>
                </a:solidFill>
                <a:latin typeface="Calibri"/>
              </a:rPr>
              <a:t> </a:t>
            </a:r>
            <a:r>
              <a:rPr b="0" lang="pt-PT" sz="2700" spc="-1" strike="noStrike">
                <a:solidFill>
                  <a:srgbClr val="000000"/>
                </a:solidFill>
                <a:latin typeface="Calibri"/>
              </a:rPr>
              <a:t>e</a:t>
            </a:r>
            <a:r>
              <a:rPr b="0" lang="pt-PT" sz="2700" spc="-1" strike="noStrike">
                <a:solidFill>
                  <a:srgbClr val="000000"/>
                </a:solidFill>
                <a:latin typeface="Calibri"/>
              </a:rPr>
              <a:t> que </a:t>
            </a:r>
            <a:r>
              <a:rPr b="1" lang="pt-PT" sz="2700" spc="-1" strike="noStrike">
                <a:solidFill>
                  <a:srgbClr val="ff0000"/>
                </a:solidFill>
                <a:latin typeface="Calibri"/>
              </a:rPr>
              <a:t>divulgue</a:t>
            </a:r>
            <a:r>
              <a:rPr b="0" lang="pt-PT" sz="2700" spc="-1" strike="noStrike">
                <a:solidFill>
                  <a:srgbClr val="000000"/>
                </a:solidFill>
                <a:latin typeface="Calibri"/>
              </a:rPr>
              <a:t> </a:t>
            </a:r>
            <a:r>
              <a:rPr b="1" lang="pt-PT" sz="2700" spc="-1" strike="noStrike">
                <a:solidFill>
                  <a:srgbClr val="ff0000"/>
                </a:solidFill>
                <a:latin typeface="Calibri"/>
              </a:rPr>
              <a:t>dados</a:t>
            </a:r>
            <a:r>
              <a:rPr b="0" lang="pt-PT" sz="2700" spc="-1" strike="noStrike">
                <a:solidFill>
                  <a:srgbClr val="000000"/>
                </a:solidFill>
                <a:latin typeface="Calibri"/>
              </a:rPr>
              <a:t> armazenados através de um sistema informático </a:t>
            </a:r>
            <a:r>
              <a:rPr b="0" lang="pt-PT" sz="2700" spc="-1" strike="noStrike">
                <a:solidFill>
                  <a:srgbClr val="000000"/>
                </a:solidFill>
                <a:latin typeface="Calibri"/>
              </a:rPr>
              <a:t>localizado no território da Parte requerida, incluindo dados que tenham sido conservados de acordo com o artigo 29.º.</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3 O pedido deve ser satisfeito o mais rapidamente possível sempre que:</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existam </a:t>
            </a:r>
            <a:r>
              <a:rPr b="1" lang="pt-PT" sz="2700" spc="-1" strike="noStrike">
                <a:solidFill>
                  <a:srgbClr val="ff0000"/>
                </a:solidFill>
                <a:latin typeface="Calibri"/>
              </a:rPr>
              <a:t>motivos para acreditar que os dados relevantes são especialmente suscetíveis de se perderem ou de serem alterados</a:t>
            </a:r>
            <a:endParaRPr b="0" lang="en-US" sz="27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B83CC-18BC-411F-902A-6344EECA4A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560232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Dependendo da legislação nacional, a Terra Média pode fazer um</a:t>
            </a:r>
            <a:r>
              <a:rPr b="0" lang="pt-PT" sz="2600" spc="-1" strike="noStrike">
                <a:solidFill>
                  <a:srgbClr val="ff0000"/>
                </a:solidFill>
                <a:latin typeface="Calibri"/>
              </a:rPr>
              <a:t> </a:t>
            </a:r>
            <a:r>
              <a:rPr b="1" lang="pt-PT" sz="2600" spc="-1" strike="noStrike">
                <a:solidFill>
                  <a:srgbClr val="ff0000"/>
                </a:solidFill>
                <a:latin typeface="Calibri"/>
              </a:rPr>
              <a:t>pedido de auxílio judiciário para que Rohan apreenda e proteja o computador DarkHacker.</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Isso incluirá também um</a:t>
            </a:r>
            <a:r>
              <a:rPr b="0" lang="pt-PT" sz="2600" spc="-1" strike="noStrike">
                <a:solidFill>
                  <a:srgbClr val="ff0000"/>
                </a:solidFill>
                <a:latin typeface="Calibri"/>
              </a:rPr>
              <a:t> </a:t>
            </a:r>
            <a:r>
              <a:rPr b="1" lang="pt-PT" sz="2600" spc="-1" strike="noStrike">
                <a:solidFill>
                  <a:srgbClr val="ff0000"/>
                </a:solidFill>
                <a:latin typeface="Calibri"/>
              </a:rPr>
              <a:t>pedido para divulgar os dados informáticos obtidos</a:t>
            </a:r>
            <a:r>
              <a:rPr b="0" lang="pt-PT" sz="2600" spc="-1" strike="noStrike">
                <a:solidFill>
                  <a:srgbClr val="ff0000"/>
                </a:solidFill>
                <a:latin typeface="Calibri"/>
              </a:rPr>
              <a:t> </a:t>
            </a:r>
            <a:r>
              <a:rPr b="0" lang="pt-PT" sz="2600" spc="-1" strike="noStrike">
                <a:solidFill>
                  <a:srgbClr val="000000"/>
                </a:solidFill>
                <a:latin typeface="Calibri"/>
              </a:rPr>
              <a:t>como resultado da ação de apreensão e proteção do computador DarkHacker</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Dependendo da legislação nacional, se os</a:t>
            </a:r>
            <a:r>
              <a:rPr b="0" lang="pt-PT" sz="2600" spc="-1" strike="noStrike">
                <a:solidFill>
                  <a:srgbClr val="ff0000"/>
                </a:solidFill>
                <a:latin typeface="Calibri"/>
              </a:rPr>
              <a:t> </a:t>
            </a:r>
            <a:r>
              <a:rPr b="1" lang="pt-PT" sz="2600" spc="-1" strike="noStrike">
                <a:solidFill>
                  <a:srgbClr val="ff0000"/>
                </a:solidFill>
                <a:latin typeface="Calibri"/>
              </a:rPr>
              <a:t>dados não forem vulneráveis a perda ou modificação</a:t>
            </a:r>
            <a:r>
              <a:rPr b="0" lang="pt-PT" sz="2600" spc="-1" strike="noStrike">
                <a:solidFill>
                  <a:srgbClr val="000000"/>
                </a:solidFill>
                <a:latin typeface="Calibri"/>
              </a:rPr>
              <a:t>,</a:t>
            </a:r>
            <a:r>
              <a:rPr b="1" lang="pt-PT" sz="2600" spc="-1" strike="noStrike">
                <a:solidFill>
                  <a:srgbClr val="ff0000"/>
                </a:solidFill>
                <a:latin typeface="Calibri"/>
              </a:rPr>
              <a:t> a Terra Média pode não conseguir pedir uma ação célere.</a:t>
            </a:r>
            <a:endParaRPr b="0" lang="en-US" sz="26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3AD948-95B9-438A-9523-139944FB4F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FBB83-0290-4B2A-8AD6-286021AB63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Que medidas pode tomar para determinar a localização do cliente DarkHacker que esteja planear comprar os códigos PIN do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B69AC-36E9-4AD5-9754-06AD0B572A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Também o informa sobre </a:t>
            </a:r>
            <a:r>
              <a:rPr b="1" lang="pt-PT" sz="2700" spc="-1" strike="noStrike">
                <a:solidFill>
                  <a:srgbClr val="ff0000"/>
                </a:solidFill>
                <a:latin typeface="Calibri"/>
              </a:rPr>
              <a:t>transações em grande escala para a venda de códigos PIN planeados para serem realizados</a:t>
            </a:r>
            <a:r>
              <a:rPr b="0" lang="pt-PT" sz="2700" spc="-1" strike="noStrike">
                <a:solidFill>
                  <a:srgbClr val="000000"/>
                </a:solidFill>
                <a:latin typeface="Calibri"/>
              </a:rPr>
              <a:t> no dia seguinte </a:t>
            </a:r>
            <a:r>
              <a:rPr b="1" lang="pt-PT" sz="2700" spc="-1" strike="noStrike">
                <a:solidFill>
                  <a:srgbClr val="ff0000"/>
                </a:solidFill>
                <a:latin typeface="Calibri"/>
              </a:rPr>
              <a:t>às 17h00 utilizando a mesma conta de e-mail</a:t>
            </a:r>
            <a:r>
              <a:rPr b="0" lang="pt-PT"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1212840"/>
            <a:ext cx="8229600" cy="5192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33.º — </a:t>
            </a:r>
            <a:r>
              <a:rPr b="1" lang="pt-PT" sz="2800" spc="-1" strike="noStrike">
                <a:solidFill>
                  <a:srgbClr val="000000"/>
                </a:solidFill>
                <a:latin typeface="Calibri"/>
              </a:rPr>
              <a:t>Auxílio mútuo relativamente à recolha de dados de tráfego em tempo real</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As Partes concederão entre si o </a:t>
            </a:r>
            <a:r>
              <a:rPr b="1" lang="pt-PT" sz="2800" spc="-1" strike="noStrike">
                <a:solidFill>
                  <a:srgbClr val="000000"/>
                </a:solidFill>
                <a:latin typeface="Calibri"/>
              </a:rPr>
              <a:t>auxílio mútuo </a:t>
            </a:r>
            <a:r>
              <a:rPr b="0" lang="pt-PT" sz="2800" spc="-1" strike="noStrike">
                <a:solidFill>
                  <a:srgbClr val="000000"/>
                </a:solidFill>
                <a:latin typeface="Calibri"/>
              </a:rPr>
              <a:t>no que diz respeito à</a:t>
            </a:r>
            <a:r>
              <a:rPr b="0" lang="pt-PT" sz="2800" spc="-1" strike="noStrike">
                <a:solidFill>
                  <a:srgbClr val="00b050"/>
                </a:solidFill>
                <a:latin typeface="Calibri"/>
              </a:rPr>
              <a:t> </a:t>
            </a:r>
            <a:r>
              <a:rPr b="1" lang="pt-PT" sz="2800" spc="-1" strike="noStrike">
                <a:solidFill>
                  <a:srgbClr val="ff0000"/>
                </a:solidFill>
                <a:latin typeface="Calibri"/>
              </a:rPr>
              <a:t>recolha de dados de tráfego em tempo real</a:t>
            </a:r>
            <a:r>
              <a:rPr b="0" lang="pt-PT" sz="2800" spc="-1" strike="noStrike">
                <a:solidFill>
                  <a:srgbClr val="000000"/>
                </a:solidFill>
                <a:latin typeface="Calibri"/>
              </a:rPr>
              <a:t> associados a </a:t>
            </a:r>
            <a:r>
              <a:rPr b="1" lang="pt-PT" sz="2800" spc="-1" strike="noStrike">
                <a:solidFill>
                  <a:srgbClr val="ff0000"/>
                </a:solidFill>
                <a:latin typeface="Calibri"/>
              </a:rPr>
              <a:t>comunicações específicas</a:t>
            </a:r>
            <a:r>
              <a:rPr b="0" lang="pt-PT" sz="2800" spc="-1" strike="noStrike">
                <a:solidFill>
                  <a:srgbClr val="000000"/>
                </a:solidFill>
                <a:latin typeface="Calibri"/>
              </a:rPr>
              <a:t> </a:t>
            </a:r>
            <a:r>
              <a:rPr b="0" lang="pt-PT" sz="2800" spc="-1" strike="noStrike">
                <a:solidFill>
                  <a:srgbClr val="000000"/>
                </a:solidFill>
                <a:latin typeface="Calibri"/>
              </a:rPr>
              <a:t>transmitidas no seu território por meio </a:t>
            </a:r>
            <a:r>
              <a:rPr b="0" lang="pt-PT" sz="2800" spc="-1" strike="noStrike">
                <a:solidFill>
                  <a:srgbClr val="000000"/>
                </a:solidFill>
                <a:latin typeface="Calibri"/>
              </a:rPr>
              <a:t>de um sistema informátic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D28C1-FDAF-4EB1-957D-920DFE68A7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A Terra Média pode </a:t>
            </a:r>
            <a:r>
              <a:rPr b="1" lang="pt-PT" sz="2600" spc="-1" strike="noStrike">
                <a:solidFill>
                  <a:srgbClr val="ff0000"/>
                </a:solidFill>
                <a:latin typeface="Calibri"/>
              </a:rPr>
              <a:t>solicitar assistência mútua para recolha de dados de tráfego em tempo real</a:t>
            </a:r>
            <a:r>
              <a:rPr b="0" lang="pt-PT" sz="2600" spc="-1" strike="noStrike">
                <a:solidFill>
                  <a:srgbClr val="000000"/>
                </a:solidFill>
                <a:latin typeface="Calibri"/>
              </a:rPr>
              <a:t> em relação à comunicação especificada às 17h00 do dia seguinte.</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Mordor, dependendo das leis nacionais, é </a:t>
            </a:r>
            <a:r>
              <a:rPr b="1" lang="pt-PT" sz="2600" spc="-1" strike="noStrike">
                <a:solidFill>
                  <a:srgbClr val="ff0000"/>
                </a:solidFill>
                <a:latin typeface="Calibri"/>
              </a:rPr>
              <a:t>obrigada a prestar essa assistência,</a:t>
            </a:r>
            <a:r>
              <a:rPr b="0" lang="pt-PT" sz="2600" spc="-1" strike="noStrike">
                <a:solidFill>
                  <a:srgbClr val="000000"/>
                </a:solidFill>
                <a:latin typeface="Calibri"/>
              </a:rPr>
              <a:t> no mínimo </a:t>
            </a:r>
            <a:r>
              <a:rPr b="1" lang="pt-PT" sz="2600" spc="-1" strike="noStrike">
                <a:solidFill>
                  <a:srgbClr val="ff0000"/>
                </a:solidFill>
                <a:latin typeface="Calibri"/>
              </a:rPr>
              <a:t>quando essa competência estiver disponível num caso nacional semelhante.</a:t>
            </a: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B5A25-0357-4AF2-802C-61E1A3C3D3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5429D2-1885-429D-9316-8A4EAF0EF6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Recebe um relatório informativo de que unidades de dados de sistemas informáticos de uma instituição financeira de renome foram invadidas por criminosos cibernéticos e malwares desconhecidos, o que aumenta o tamanho do cursor do rato que foi instalado nesses sistemas informáticos. A sua investigação sugere que o malware foi criado por um fórum de hackers denominado "DarkHacker".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Cinc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CB0B21-899C-44AB-92FC-755AE45593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a:t>
            </a:r>
            <a:r>
              <a:rPr b="0" lang="pt-PT" sz="2400" spc="-1" strike="noStrike">
                <a:solidFill>
                  <a:srgbClr val="000000"/>
                </a:solidFill>
                <a:latin typeface="Calibri"/>
              </a:rPr>
              <a:t>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Relembrar a lei substantiva, o direito processual e as disposições relativas à cooperação internacional da Convenção de Budapeste, abordadas no curso introdutó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plicar o alcance e a extensão da lei substantiva, do direito processual e das disposições relativas à cooperação internacional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preender como as disposições da Convenção de Budapeste e as legislações nacionais correspondentes se aplicam a estudos de caso reai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86A370A-FCB7-4DD0-9332-4ED2F5077E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69AA5-526C-4D99-8C97-5533CB2874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C8EAF-C8B4-4812-AEC0-0AE78CC2DB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754200" y="520560"/>
            <a:ext cx="76784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Investigações posteriores revelam que o software de tradução concebido principalmente para invadir computadores também está a ser vendido pela DarkHacker com o slogan "Compre o nosso software de tradução e consiga amigos para instalá-lo - pode aceder aos seus computadores sem direito!"</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Numa tentativa de identificar os indivíduos que operam o DarkHacker, realiza uma operação encoberta obtendo com sucesso códigos de acesso a sistemas informático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10T00:43:16Z</dcterms:created>
  <dc:creator>Nigel Jones</dc:creator>
  <dc:description/>
  <dc:language>en-US</dc:language>
  <cp:lastModifiedBy>Pedro Verdelho</cp:lastModifiedBy>
  <dcterms:modified xsi:type="dcterms:W3CDTF">2019-04-30T15:09:03Z</dcterms:modified>
  <cp:revision>544</cp:revision>
  <dc:subject/>
  <dc:title>Introductory Cybercrime Training for Judges and Prosecutors</dc:title>
</cp:coreProperties>
</file>