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18A81D-B9B7-45C9-9901-2A6B414CE49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9BC33D-E6F4-4CF0-8121-2B9C64BFF1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ecção "Descrição geral das provas do estudo de caso" apresenta, de forma condensada, as provas que serão apresentadas aos delegad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222849-2C33-4DA7-9A2D-7B7B6A2273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10 e-mails considerados regulares trocados entre os responsáveis do FBA e da UBP encarregados de diferentes secções de atividade e contratos para a impressão de bónus de aniversári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O contrato entre o FBA e o UBP ocorre após a troca de e-mails e é perspetivado em termos da estrutura comercial da transação. Também define etapas cruciais para o posterior desenvolvimento do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D341DB-EC06-4C4D-A5B5-AB404621AA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Os extratos bancários acompanham de perto o desenvolvimento do caso. Os delegados poderão implementar o princípio “seguir o dinheiro”, analisando os extratos bancários do FBA e do UB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A fatura pró-forma é genuína e emitida pelo UBP para o FBA referente a um adiantamento no valor de 100.000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ADDA36-EE71-43B3-884B-119738F80B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formador deve dar aos participantes a oportunidade de fazer quaisquer perguntas que possam ter em relação à parte Dois da au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2C7237-AF1E-48B9-925F-7CBB7A5A61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352874-A9F9-4DFA-80F3-CDDF82611E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11.º e-mail os seguintes são ferramentas de perpetração. O conteúdo dos e-mails é escrito pelo autor do crime e inclui os elementos necessários para análi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atura falsa é elaborada pelo autor do crime e direciona a transferência do dinheiro para a conta bancária real existente, mas aberta com finalidade fraudulen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1F2A31-4ECE-4AD1-B040-5AAF487C92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Depoimentos dos funcionários do Federal Bank of Atlantis envolvidos no caso em fases diferentes. Os depoimentos mais importantes são os do Departamento Financeiro e de TI, pois dão pistas ou explicações sobre a forma como o crime foi, de facto, cometid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E4E878-735B-4FA3-85DD-C238169EFF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formador deve dar aos participantes a oportunidade de fazer quaisquer perguntas que possam ter em relação à parte Três da au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5D2984-9CED-4F97-82AF-F974C33C0D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investigação deve começar em grupos de trabalho com líderes de grupo e membros a começarem a trabalhar no caso a partir da base fornecida no Material do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49DC50-9723-4050-A84B-F14335B00B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investigação deve começar em grupos de trabalho com líderes de grupo e membros a começarem a trabalhar no caso a partir da base fornecida no Material do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8DA508-54D9-4E1E-A35C-C29EB0BC9D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e Um da apresentação fará a introdução à prova inicial fornecida no material do cenário de cas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e Dois apresentará o layout do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e Três será a perpetração do ato criminos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e Quatro irá estabelecer as bases para o início da investigação e trabalho dos formand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e Cinco é um resumo dos apresentados anteriormen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ADBD0F-A983-4C34-9EBD-402A4B83EB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investigação deve começar em grupos de trabalho com líderes de grupo e membros a começarem a trabalhar no caso a partir da base fornecida no Material do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F8BEAD-8718-4C5C-9B7C-B6D81FB900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formador deve dar aos participantes a oportunidade de fazer quaisquer perguntas que possam ter em relação à Parte Quatro da au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00613E-0A9C-48A1-913C-76255CD329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CD0441-7A6E-4049-946D-5CA802AB92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formador deve dar aos participantes a oportunidade de fazer quaisquer perguntas que possam ter em relação à au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1AEFFF-D418-4EB8-9895-84CF1EE245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93728E-E5E8-4422-902B-C488C938E1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O cenário começa com o estabelecimento do Federal Bank of Atlantis (FBA), banco internacional bem conhecido, bem estabelecido e respeitado. Uma descrição como esta deve levar os formandos a concluir que este tipo de banco não deve estar envolvido em nenhum tipo de problema, muito menos aqueles semelhantes a um que será descrito mais tarde neste documento. 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B4968F-384A-4888-B61E-8E58252C7C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fil da empresa de empresas envolvidas no cenário do caso. São produzidos 3 ficheiros diferentes do MS Word no formato 97-2003 no material. Devem estar à disposição dos delegados em cópia impressa ou, se as circunstâncias permitirem, e todos os delegados tiverem acesso único aos computadores, em formato eletrónic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30A54B-B34A-46A3-B422-B11CC3E3AD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Diversos documentos de apoio para o cenário do caso. São produzidos 3 ficheiros diferentes do MS Word no formato 97-2003 e Adobe Reader no material. Devem estar à disposição dos delegados em cópia impressa ou, se as circunstâncias permitirem, e todos os delegados tiverem acesso único aos computadores, em formato eletrónic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8CDA40-D8CC-41F0-A484-AB6695081D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formador deve dar aos participantes a oportunidade de fazer quaisquer perguntas que possam ter em relação à Parte Um da au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60EB87-872F-40E0-8240-5BCAC2BDDB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8D10-EF43-48AF-AA43-8B89032C0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1132-2DF5-4AAE-92DF-94F9B231D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6014-88C8-4BB7-9560-BA4D4688C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AB5B-051D-47ED-A038-A34A859EB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EB73-1800-486A-B097-BFE8FC400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1510-1DB3-42AF-802C-288A3A1E2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E4AF-B80F-4F67-95F5-D97B835DB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2EC6-56CC-4730-96AB-A3AF1035B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4916-476C-4651-AF32-D17E44D5D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0D96-C6FF-47E4-A2D5-C285C402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D7E7-5E2C-495D-9086-0121F4BF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1DF5-DBE6-44C0-9B2A-63841083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1F285B-E563-4318-B6FC-2E59B3ECB1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3C5CCB-1721-4B0E-9EB0-73B47CBE98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95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ormação Avançada sobre Cibercrime para Juízes e Procurado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a6a6a6"/>
                </a:solidFill>
                <a:latin typeface="Calibri"/>
              </a:rPr>
              <a:t>Sessão 2.2.3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a6a6a6"/>
                </a:solidFill>
                <a:latin typeface="Calibri"/>
              </a:rPr>
              <a:t>Descrição geral das provas do caso de estu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COE.png"/>
          <p:cNvPicPr/>
          <p:nvPr/>
        </p:nvPicPr>
        <p:blipFill>
          <a:blip r:embed="rId1"/>
          <a:stretch/>
        </p:blipFill>
        <p:spPr>
          <a:xfrm>
            <a:off x="1517760" y="552600"/>
            <a:ext cx="610848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136160"/>
            <a:ext cx="8229600" cy="507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Pasta </a:t>
            </a: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i="1" lang="pt-PT" sz="3200" spc="-1" strike="noStrike">
                <a:solidFill>
                  <a:srgbClr val="000000"/>
                </a:solidFill>
                <a:latin typeface="Calibri"/>
              </a:rPr>
              <a:t>E-mails"</a:t>
            </a: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Troca de e-mail entre o FBA e a UB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e-mails fornecidos após o desenvolvimento da troca entre pessoas contratadas e responsáveis do FBA e da UBP para a emissão do bónus de aniversári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Pasta "</a:t>
            </a:r>
            <a:r>
              <a:rPr b="0" i="1" lang="pt-PT" sz="3200" spc="-1" strike="noStrike">
                <a:solidFill>
                  <a:srgbClr val="000000"/>
                </a:solidFill>
                <a:latin typeface="Calibri"/>
              </a:rPr>
              <a:t>Documentos e relatórios</a:t>
            </a: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"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- O contrato entre o FBA e a UBP é fornecido para uma melhor análise, mas também como prova de apoio ao process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esenvolvimento do ca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D86809A3-20D0-4EA0-B5AA-0DBC967851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50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Pasta "</a:t>
            </a:r>
            <a:r>
              <a:rPr b="0" i="1" lang="pt-PT" sz="2400" spc="-1" strike="noStrike">
                <a:solidFill>
                  <a:srgbClr val="000000"/>
                </a:solidFill>
                <a:latin typeface="Calibri"/>
              </a:rPr>
              <a:t>Extratos bancários</a:t>
            </a: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Extrato bancário do FB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- numerosas transações enumeradas, incluindo pagamento antecipado de 100.000 EUR indicado neste extrat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Extrato bancário da U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- O Docklands Securities Bank of Norland efetua as transações bancárias da United Bank Printing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Fatura pró-forma da U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- A fatura pró-forma foi emitida pela UBP ao FBA no valor de 100.000 EU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esenvolvimento do ca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04AB9603-2DDE-4EFF-9780-4D6D4ED822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Question Mark Clip Art"/>
          <p:cNvPicPr/>
          <p:nvPr/>
        </p:nvPicPr>
        <p:blipFill>
          <a:blip r:embed="rId1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82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er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3219C50D-7FB9-4120-AE55-BC687B3438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Calibri"/>
              </a:rPr>
              <a:t>Parte Três:</a:t>
            </a:r>
            <a:br>
              <a:rPr sz="4000"/>
            </a:br>
            <a:r>
              <a:rPr b="1" lang="pt-PT" sz="4000" spc="-1" strike="noStrike">
                <a:solidFill>
                  <a:srgbClr val="000000"/>
                </a:solidFill>
                <a:latin typeface="Calibri"/>
              </a:rPr>
              <a:t>Perpetração do crime </a:t>
            </a:r>
            <a:r>
              <a:rPr b="1" lang="pt-PT" sz="4000" spc="-1" strike="noStrike">
                <a:solidFill>
                  <a:srgbClr val="000000"/>
                </a:solidFill>
                <a:latin typeface="Calibri"/>
              </a:rPr>
              <a:t>- Provas e depoimentos de testemunh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86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1C44F8F8-298A-4F4F-8D1A-4A82A1F811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erpetração do cr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Pasta "E-mails"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- 11.º</a:t>
            </a: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e-mail e troca seguinte como momento-chave para a perpetração do crim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Pasta "Extratos bancários"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- A fatura falsa da UBP inclui informações sobre a conta fraudulenta e um pedido de pagamento de 200.000 EUR pela finalização da impressão de 20.000 bónus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47FD96F7-8389-4F5E-A54F-8EB6A96FC7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erpetração do cr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Pasta "Depoimentos de testemunhas"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- Depoimento do Departamento de Logística e Operações do FB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- Depoimento do Departamento Financeiro do FB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- Depoimento do Departamento de Tecnologia da Informação do FB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AF304FEB-42EC-45EF-AFBB-DA0CAC2034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Question Mark Clip Art"/>
          <p:cNvPicPr/>
          <p:nvPr/>
        </p:nvPicPr>
        <p:blipFill>
          <a:blip r:embed="rId1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94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er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50211B76-F143-4F04-B3FC-A432EAFCD2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arte Quatro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lossár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98" name="Čuvar mesta za broj slajda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4BDDC8D1-2BEE-42E1-90F5-0CE0796972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lossár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Ameaça persistente avança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- "conjunto de processos furtivos e contínuos efetuados por de hackers informáticos, frequentemente orquestrados por uma pessoa ou por várias pessoas que visam atingir uma entidade específica"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31F90189-7F65-4725-A439-C0042D0160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C:\Users\B.Stam\Desktop\b-apt_infographic.jpg"/>
          <p:cNvPicPr/>
          <p:nvPr/>
        </p:nvPicPr>
        <p:blipFill>
          <a:blip r:embed="rId1"/>
          <a:stretch/>
        </p:blipFill>
        <p:spPr>
          <a:xfrm>
            <a:off x="2406600" y="3452760"/>
            <a:ext cx="427212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lossár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Criptomoed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- "ativo digital concebido para funcionar como meio de troca utilizando a encriptação para proteger as transações e para controlar a criação de unidades adicionais da moeda"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AF95E898-07D8-4F96-9BE7-674E672E27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C:\Users\B.Stam\Desktop\alt-cryptocurrencies.jpg"/>
          <p:cNvPicPr/>
          <p:nvPr/>
        </p:nvPicPr>
        <p:blipFill>
          <a:blip r:embed="rId1"/>
          <a:stretch/>
        </p:blipFill>
        <p:spPr>
          <a:xfrm>
            <a:off x="2001960" y="3830760"/>
            <a:ext cx="535752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73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ogra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236600"/>
            <a:ext cx="851364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Parte Um</a:t>
            </a:r>
            <a:br>
              <a:rPr sz="2600"/>
            </a:b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Introdução e provas inicia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Parte Dois</a:t>
            </a:r>
            <a:br>
              <a:rPr sz="2600"/>
            </a:b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Desenvolvimento do cas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Parte Três</a:t>
            </a:r>
            <a:br>
              <a:rPr sz="2600"/>
            </a:b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Perpetração do crime e depoimentos de testemunh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Parte Quatr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Glossári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Parte Cinco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sum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CC5BB4F2-F887-46FD-B2A4-799EABC109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lossár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41084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Engenharia social cibernét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- "tipo de logro para fins de recolha de informações, fraude ou acesso a sistemas; difere de um "golpe " tradicional, pois, muitas vezes, é um dos muitos passos de um esquema de fraude mais complex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E9CBD570-09C6-437B-8D0C-5E50F36BDA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Users\B.Stam\Desktop\Social Engineering, Baiting, Phishing, Email Hacking, Contact Spamming, Pretexting, Spear Phishing,Vishing, Hunting, Farming NORTON_0.jpg"/>
          <p:cNvPicPr/>
          <p:nvPr/>
        </p:nvPicPr>
        <p:blipFill>
          <a:blip r:embed="rId1"/>
          <a:stretch/>
        </p:blipFill>
        <p:spPr>
          <a:xfrm>
            <a:off x="5076720" y="3814920"/>
            <a:ext cx="361008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6" descr="Question Mark Clip Art"/>
          <p:cNvPicPr/>
          <p:nvPr/>
        </p:nvPicPr>
        <p:blipFill>
          <a:blip r:embed="rId1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12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er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F9BC847C-1F4A-4783-97FD-1E09512329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6840" y="1353960"/>
            <a:ext cx="851220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No final desta sessão, os delegados serão capazes d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- Compreender a introdução e as provas iniciais do caso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- Compreender o desenvolvimento do caso, analisando as provas eletrónicas e reais apresentadas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- Acompanhar a perpetração efetiva e encontrar factos adicionais nos depoimentos das testemunhas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- Encontrar informações adicionais sobre os principais termos e definições das ferramentas do mundo cibernético e do crime e utilizá-los neste cas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bjetivos da sessã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55AF7ED6-5A51-40EB-AF22-8B16D75332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6" descr="Question Mark Clip Art"/>
          <p:cNvPicPr/>
          <p:nvPr/>
        </p:nvPicPr>
        <p:blipFill>
          <a:blip r:embed="rId1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18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er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D6CF40E6-3CE6-49E4-8E4F-265B464D65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6840" y="1558800"/>
            <a:ext cx="851220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No final desta sessão, os </a:t>
            </a: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formandos serão </a:t>
            </a: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capazes d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Compreender a introdução e as provas iniciais do cas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- Compreender o desenvolvimento do caso, analisando as provas eletrónicas e reais apresentada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- Acompanhar a perpetração efetiva e encontrar factos adicionais nos depoimentos das testemunha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- Encontrar informações adicionais sobre os principais termos e definições das ferramentas do mundo cibernético e do crime e utilizá-los neste cas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bjetivos da sessã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DDB789B6-578E-44F2-AF70-358C0B301B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arte Um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rodução e provas inicia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59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B6A8FFAF-93EE-49B8-882A-29F41C22A1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149480"/>
            <a:ext cx="8229600" cy="52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Pasta "</a:t>
            </a:r>
            <a:r>
              <a:rPr b="0" i="1" lang="pt-PT" sz="3200" spc="-1" strike="noStrike">
                <a:solidFill>
                  <a:srgbClr val="000000"/>
                </a:solidFill>
                <a:latin typeface="Calibri"/>
              </a:rPr>
              <a:t>Introdução</a:t>
            </a: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"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Sinopse do ca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O cenário do estudo de caso refere-se a esquemas recentes de comprometimento de e-mails empresariais ou "BEC" (do inglês, Business E-Mail Compromise), que derivam de fraudes como "fraude de CEO" ou "ataques indiretos/por intermediários" (</a:t>
            </a:r>
            <a:r>
              <a:rPr b="0" i="1" lang="pt-PT" sz="2800" spc="-1" strike="noStrike">
                <a:solidFill>
                  <a:srgbClr val="000000"/>
                </a:solidFill>
                <a:latin typeface="Calibri"/>
              </a:rPr>
              <a:t>man-in-the-middle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) anteriormente detetada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O objetivo e a dimensão destas fraudes são surpreendentes.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roduçã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52D7434E-9629-48B8-A9B5-A739896A9E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004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Pasta "Perfis empresariais"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Perfil empresarial do Federal Bank of Atlant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- Descrição geral, organização e funcionár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Perfil empresarial da United Bank Prin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- Descrição geral, organização e funcionár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Perfil empresarial do Doklands Securities Bank of Norl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- Descrição geral, organ</a:t>
            </a: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ização e funcionári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ovas inicia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856497B6-C22E-437E-99CD-29ACE3D22A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186920"/>
            <a:ext cx="8229600" cy="516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Pasta "</a:t>
            </a:r>
            <a:r>
              <a:rPr b="0" i="1" lang="pt-PT" sz="2800" spc="-1" strike="noStrike">
                <a:solidFill>
                  <a:srgbClr val="000000"/>
                </a:solidFill>
                <a:latin typeface="Calibri"/>
              </a:rPr>
              <a:t>Documentos e relatórios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Anúncio do bónus de aniversário por parte do F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- Decisão do Conselho de Administração sobre a emissão do bónus e respetivos elementos financeiro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Bónus do F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- preparação provisória do bónus, incluindo os elementos para impressã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Contrato entre o FBA e a UB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- contrato celebrado para o serviço de impressão de 20.000 elementos do bónus de aniversário do FB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ovas inicia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E62879F5-82F7-4CC6-90E9-B43F79E12E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Question Mark Clip Art"/>
          <p:cNvPicPr/>
          <p:nvPr/>
        </p:nvPicPr>
        <p:blipFill>
          <a:blip r:embed="rId1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70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er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76818B0B-3886-4D18-93C2-EF846B47D8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arte Dois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esenvolvimento do cas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74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F57F558D-E6C6-4D5C-95B3-B3E0FD2C7F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6T09:33:22Z</dcterms:created>
  <dc:creator>Nigel Jones</dc:creator>
  <dc:description/>
  <dc:language>en-US</dc:language>
  <cp:lastModifiedBy>Pedro Verdelho</cp:lastModifiedBy>
  <dcterms:modified xsi:type="dcterms:W3CDTF">2019-04-22T13:49:18Z</dcterms:modified>
  <cp:revision>184</cp:revision>
  <dc:subject/>
  <dc:title>Introductory Cybercrime Training for Judges and Prosecutors</dc:title>
</cp:coreProperties>
</file>