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A1D79-EDA7-4810-8C91-22171822CFAF}"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1C24F-9B18-4BC8-8670-700A4F8428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A941F-0157-42A7-9726-AD5B5E9BF5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40A45-D16C-4CA9-BE8D-326A7D2CBC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E1AA6-9E2F-4228-8BF9-B7F348CE98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306F4-F64D-4A65-AB31-E3401BB42E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F4DE7-432F-48AE-B7FC-21B045EF9F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978EA-B155-4A82-A3EF-463BDE3756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08684-013A-4B54-A5FD-4BD208C0B2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A563E-D2FE-4273-AE7A-F60689222B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10994-71EC-4ED7-94AB-B7C41C71D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DAB10-4CB5-400C-9F90-1FD13C0136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3AB58-5C66-4FAA-83D8-8B911F5F47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560AF-CA18-48B5-A55E-BA38AFB82E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BB921-2A12-4CF0-A0A3-8700D547A2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160FF-4760-4E7F-91DD-FE18C3659A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0666A-E734-4694-81AB-564FD5AA9B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D5C71-7E92-467F-A1B0-A2FD6D30F1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5470E-3B47-49B1-B4B3-7C53B61772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73C48-4F34-4C03-9DB4-A36247A3F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ADA47-0B8B-41E4-971C-58791896A9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B60B2-FB2F-4EEB-AA41-D6F804BB5C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99F6E-A426-4807-B086-6DEC7634E0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C082E-C64C-4C87-B706-BBC873C704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B93AD-5FB0-4A84-81B8-1606EB1105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D52D1-1915-4D26-AB69-5EFB554DF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751E3-35BE-444B-BBD0-9CBB0E6C67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69AE5-A465-4663-8EA6-CD6EFF258F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9684D-A023-465F-A41F-7DE7865C75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5CCB4-CD5E-47D2-A745-5B95F48759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9E3AD-D2AF-46B8-8A6E-E468ED4AD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84A9-7D2D-4FA1-88EF-F1EDD91D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14428-922E-4085-BB11-F9A453E82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ED76B-1FF9-4197-91EC-02A9604BA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AC39-4D9E-4CC7-B4C8-B60A1D662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86FF4-0E86-40BB-92A6-CE3CB2D9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3B7B-FCC6-4CA1-B6BB-B1461EFA3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0C30-9575-41A1-867C-05B8DB432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4F726-A98D-425B-A1D8-E335CFD8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3548-526D-4BBD-BAB0-98C766D9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F17A-979F-437D-BDF3-3A4B428F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3642-0749-4626-8695-7B465E981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5FC12-F69B-410B-9B51-6B9A7A4DA28A}"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52D2E-1E5F-4BB6-BC6C-4A707276AD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4FA5EA-81EF-4E9F-AE74-E4F7C9EE69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C859ED-D770-4D7C-ABE6-B50049B530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728121-7933-4D6B-BCBA-9A58B765CC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68EA98-26AF-4179-AA49-1B833D4C55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BD262B-FF6D-4341-864C-59073827A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F596E0-D8C9-42C9-9E19-BC47E50436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1CD9DC-B2CB-4B12-BA85-450CE0142F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0C3852-C061-4EF1-89D2-9D025AF982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A18C7A-5906-4C4F-A1AF-646800B560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36352F-4535-49EE-8238-F00CC8365B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E8A133-2D41-44E7-95F1-384CFD6E14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F0BE1E-3948-44E5-BF14-DE095A3501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13A4F2-6900-4266-9ADF-BB85E2F5ED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2CB176-A89B-46A7-A67F-9F2B8BB404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CC40E1-7B26-4D1C-87DD-EC7398431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EDED22-FEA6-46BB-AD8F-0E7E3D49A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6000C6-74D8-4009-B4FF-F09A427AB4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5B98ED-744A-45AE-B0F3-BB03931AB4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D0E93-C86F-40E6-9392-CEC88E3E0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B7F19A-3347-415E-A91E-C6FAC45F24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2CE5C9-38DB-487F-929D-6FC0F3342C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D40F55-C716-42CF-AA07-ADB6D0C15B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83355F-CE60-408C-B3B6-0B16E2315B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E65BBC-9ED1-4CFB-B8A8-B59C8228ED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83D716-9BEA-4771-BB3E-A3911B64ED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1B5A37-DB5F-43FC-94C7-135C6261F2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0BA284-119C-442A-903F-E2EC9B5509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CF0361-9C55-4B3B-A79B-BA56B96B9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162F11-DF4D-4959-BA41-3B4AF7464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14:52Z</dcterms:modified>
  <cp:revision>509</cp:revision>
  <dc:subject/>
  <dc:title>Introductory Cybercrime Training for Judges and Prosecutors</dc:title>
</cp:coreProperties>
</file>