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4259C-F492-4C15-98B0-C755E174A8A7}"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CB112-D0D5-417E-908E-358A69976C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F6118-C07C-4DC8-8461-245A6E4D4E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6165D-2E3C-44C3-A7FE-600A961F2A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1BCC6-C8CD-49E0-9297-7C18E31EC4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4F8B7-F34C-4910-AB03-969C4670C2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3A609-38C9-44DA-BE6B-4D23129AF8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018E0-A071-4092-B0A2-A4E097416E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E0173-E007-4AA0-A1E0-32BA60314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2A06E-9463-4F8A-8686-376DE40D0F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3A74F-1366-4FC3-BDA2-ACF76315FB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2B58E-0958-4F59-B95A-72CD202133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9029C-CD06-4F7D-97A2-CA42AC82E9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D0950-E01D-455A-9B04-A3039DDCA9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02C5A-B9E6-4CB9-9BF6-EBF209BA02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E74C9-2EBC-4B28-A10D-03CDE51266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6FD83-014C-4C44-91D2-1CBBFCA528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8993E-459E-4B95-BD71-7FECD6004A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69226-4D25-46AB-8800-41DA4965CD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8D3F0-1926-4740-BD82-A4D95B2023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2B5AC-D4D3-4D2F-BB43-4508F52B4E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70218-0F35-4350-90A6-2BFEEF70C8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2FF08-4BEB-4013-BFB9-7164123CFD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F7123-5301-4A54-ADCE-ECEF43DEA4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D3DF1-3D2C-44C7-83BB-8727A6B0D9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69C21-DF14-4004-9A41-0540F0FB9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B1B9C-5EF3-46F0-967D-80350E123C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29083-6564-4B17-AE5A-68C5B2E40B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EBA0A-6386-41CA-B08A-5EB2E3A60B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B6D71-1EC1-449B-8DE0-42D156E055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18215-763B-40EF-AA37-9E9B3D689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5114E-E6B3-47E2-B987-89C1C04B1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0E5EA-2246-4160-A4FB-4A334BBD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DAF0B-2B79-4A35-B004-1332BFE9A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4E62-DAF7-4B75-8D46-4F67F062E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978A-A884-4FD0-B557-660B3EEA1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4611C-3D6A-4ABA-BC86-D69B4B7F2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FBC3-481A-46D7-8FE9-12147B73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BB7F-E210-4252-A64F-603D8C24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895C-D73F-4B55-9E34-18D4C5DB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9313-B084-49FA-BF98-7D3D1D19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EAAA-179E-4140-929D-0A03911F3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30C91-7B12-463C-9D5F-FDA8F9150C86}"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183BF-D949-493B-A560-FD0CD63895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91CFF3-296C-49C4-A743-E80701583C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B22D66-7DCA-458E-A6A1-C61FE77FAF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F2F9AB-5A71-4363-B143-401DCA91CF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CCDA0B-D556-4362-97DB-07A321F4A2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D8C239-0C1A-4935-B27E-282E2887FA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70F7F6-4977-4EC0-9AA7-D02705C15A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B9F662-68C1-45DE-B6C0-AF1D12596C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52F8CB-BF14-4F37-9C2D-673DDD9BD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3B82C3-5DEF-4E95-924C-4B041B1448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6B2F10-21D1-4B6B-8DAC-1E770FD9A1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A9A4EA-74CF-4E50-B56A-5A69852C23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52E2E5-022D-4AB1-A4FF-767D92CB7A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10941A-41A2-43FF-95C3-43A7633132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247E4F-FE90-465B-8823-00CAD81BD7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EDA9C4-C57D-4FA1-A530-34E172A0DE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1F1201-20EA-4365-BA90-36C7295ADD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B178AE-8DB4-40BF-B682-33FB913030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F4D07A-59F9-4580-86F1-42488D1AE2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7A4D4-D6CD-4C93-BCAB-5FB99A7D05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7284AD-F734-4C19-A347-2F8B4C82DC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DEEBE1-9790-4331-A18F-EC200F4FAD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6FB009-AC93-4FB0-B364-4CE2F96A33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5ABB25-8AEB-4FBF-9D08-2D88D43A6E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415383-D338-4DF7-94C4-265CAB580E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165D84-A5B6-4C64-88ED-838FB32A3B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4B2F29-2A8D-4AE4-B786-2A81D35FF2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5A1DF9-F571-4EB1-BF6B-F2A6EDF375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2AA12D-ADBE-4791-ACC3-4C437F59D7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7C50E8-6CCF-4ADF-A9DB-8C32795232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37:32Z</dcterms:modified>
  <cp:revision>510</cp:revision>
  <dc:subject/>
  <dc:title>Introductory Cybercrime Training for Judges and Prosecutors</dc:title>
</cp:coreProperties>
</file>