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5C206-C749-45E2-8337-0E6DC7A60EF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4F465-78CF-43EE-A123-29F8750F8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bjetivo desta sessão é oferecer pontos de vista práticos e conselhos aos participantes sobre como fazer uso total das regras de as</a:t>
            </a:r>
            <a:r>
              <a:rPr b="0" lang="en-US" sz="1200" spc="-1" strike="noStrike" u="sng">
                <a:solidFill>
                  <a:srgbClr val="000000"/>
                </a:solidFill>
                <a:uFillTx/>
                <a:latin typeface="Calibri"/>
              </a:rPr>
              <a:t>sistência </a:t>
            </a:r>
            <a:r>
              <a:rPr b="0" lang="en-US" sz="1200" spc="-1" strike="noStrike">
                <a:solidFill>
                  <a:srgbClr val="000000"/>
                </a:solidFill>
                <a:latin typeface="Calibri"/>
              </a:rPr>
              <a:t>judiociária mútua de forma mais eficiente, em casos de cibercrime ou casos em que recolher provas eletrónicas em outro país é necessário, enquanto permanece sempre no quadro legal, internacional e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66F7E-E853-4203-BC6A-E9D7F7763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az a transição entre os princípios gerais aplicados à assistência jujudiciária mútua geral e as provas eletrónicas obtidas nos canais de cooperação judiciária internacional.</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CE812-ACEE-46A3-9D44-F903DE609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336BE-2783-4E86-8B6E-A02277AB3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3 a 17 serão dedicados à preparação eficiente de um pedido de MLA, inclui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e outros canais de cooperação, se permitido pela lei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a convenção de Budapeste, quando aplicá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ificar as informações utilizadas para a elaboração do pedido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878C7-3CD3-4F50-9173-178FEFCD6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e slide tem como objetivo fazer com que os participantes pensem noutras possibilidades legais do que num pedido de assistência jurídica mútua quando a lei nacional o permitir, o que pode nem sempre ser o caso. O formador deve então ser capaz de se ajustar às regras e práticas locais sobre este assunto. É a ocasião para iniciar uma breve discussão com os participantes sobre o que é ou não permitido pela lei nacional. Os participantes devem frequentemente chegar à conclusão de que nem tudo é especificado na sua lei nacional, mas que não pode resultar na conclusão de que as provas não seriam admissíveis no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formador pode oferecer exemplos úteis se tiver alguma experiência pessoal em relação às três principais categorias de informações que podem ser obtidas legalmente sem um pedido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is alternativos de cooperação</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ção publicamente disponíve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rtigo 32.º da Convenção de Budapeste (um lembrete, se necessário, da sessão de cooperação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xemplo, pode-se mencionar que em alguns países, como o Canadá, a polícia é independente da autoridade judiciária e é responsável por decidir se lhes é permitido partilhar relatórios policiais. Noutros países, como França, a polícia atua sempre sob a supervisão da autoridade judiciária e, por conseguinte, será quase sempre obrigada a remeter para a autoridade judicial (procurador ou jui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ém pode ser mencionado em relação à informação disponível publicamente que não é necessário, na maioria dos países, recolher informações do google, considerando que os dados provavelmente serão armazenados nou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utros exemplos de informações disponíveis publicamente podem ser o localizador “Encontre um recluso” disponível para procurar um recluso nas prisões federais dos EUA (www.bop.gov/inmateloc), ou o site público que permite verificar um número IBAN e, portanto, identificar o banco e sua agência antes de redigir uma solicitação de MLA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 relação ao artigo 32.º da Convenção de Budapeste, os participantes já devem ter conhecimento disso em sessões anteriores. No entanto, o formador deve tentar determinar se pode parecer útil recordar os participantes desta possibilidade legal de uma forma prática: em que situações seria permitida pela lei nacional? Em que situações não seria? Porquê?</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462F6-01C1-43E7-9AF5-868420CF6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o uso das ferramentas e redes existentes para agilizar a assistência jurídica mútua, que também pode ser útil na fase de elaboração para obter informações sobre os requisitos específicos de um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ém lembra os participantes do artigo 29.º da Convenção de Budapeste, que deveria ter sido estudado na sessão de cooperação internacional. Esta ferramenta é um pré-requisito para uma solicitação de MLA mais eficiente em relação à prova eletrónica.</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40AE6-E9DA-4BD8-893A-17E052C8D2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formandos de dois importantes artigos da convenção de Budapeste que deveriam ter sido explorados no curso introdutó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5.º exige que cada Estado Parte organize um ponto de contacto 24 horas por dia, 7 dias por semana, com a finalidade de fornecer uma rede 24/7 capaz de responder a solicitações urgentes. Em alguns países, e não em todos, a rede 24/7 permitirá mais ou menos troca de informações. A convenção oferece essa possibilidade. No entanto, nem todos os países permitem a transmissão de informações. Além disso, como este curso é sobre o uso de ferramentas de assistência jurídica mútua, esses “recursos extras” que não são comuns para todos os países não serão explorados, mas podem ser detalhados pelo formador se ele tiver conhecimento sobre as possibilidades oferecidas por ele ou pelo seu po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aos alunos a possibilidade de usar o artigo 29.º e solicitar a preservação rápida dos dados armazenados do computador através da rede 24/7, antes de enviar a solicitação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A6738-9D1A-48EB-9811-BF7532587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97763-0ED7-46DF-ADC4-D3FBB465D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anterior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75146-4270-4379-8F75-5195BDF8F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a informação básica que deveriam ter verificado quando começaram a elaborar um pedido de assistência jurídica mútua. O formador deve lembrar aos participantes que o trabalho se baseia em duas cois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 forma da solicitação (requisitos leg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 conteú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ão igualmente importantes para que a solicitação chegue à autoridade certa e seja executada.</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B7F28-14C2-4B54-8E36-B1F8E3CA82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s requisitos de formulário estabelecidos numa convençã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to de que, depois de verificados esses pré-requisitos, eles tornam-se quase como um processo automático que demora menos tempo, ao mesmo tempo em que aumenta as oportunidades de uma melhor execução da solicitação.</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392C4-2B5F-4114-ACC2-29557E41C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da apresentação irá atualizar os participantes sobre os princípios principais da assistência jurídic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Dois trata de como melhorar a prepara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dá dicas para melhorar a elaboração de pedido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Quatro concentra-se na receção e execu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Cinco resume os objetivos do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10948-7E2A-4890-BCAB-34C86576F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C938DB-9DED-4D54-8D68-8B195A3A4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9 a 44 concentram-se na fase de elaboração de um pedido de assistência jurídica mútua, desde a sua forma e aparência até o conteúdo e as informações normalmente necessári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dedicados à solicitação de MLA do Conselho Europeu. O formador poderia ignorá-las quanto a restrições de tempo. No entanto, pode ser útil para os participantes que se perguntam como deve ser a sua solicitação de MLA. Para os países da UE, ou para os participantes interessados ​​no modelo da UE, o formador também pode decidir adicionar um modelo da Ordem Europeia de Investigação (OEI),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2545E-6320-43A3-8287-C43C095B8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a ausência de um modelo mundial único e uniforme para solicitações de MLA. Os slides a seguir mostrarão aos participantes que, no entanto, uma certa quantidade de informações solicitadas é geralmente a me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3204C-A0D1-400B-9A6E-4A903F67D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 o novo mandado de investigação europeu a utilizar em toda a União Europeia, com exceção das JIT (equipas de investigação conjunta) e, com exceção da Dinamarca e da Irlanda (que optaram pela exclu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s países da UE, ou para os participantes interessados ​​no modelo da UE, um modelo da Decisão Europeia de Investigação (DEI), está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A1370-EF17-4CEA-8B61-A71775A718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solicitação do modelo de MLA do Conselho da Europa, que é um guia, mas não é obrigatório. Os slides a seguir irão reproduzir o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DAE91-6370-40C1-BEC8-A654999E94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poderia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63DF9-3326-4427-8DE5-CA87E4CE8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EB0DA-0312-4573-9354-57074A6C2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5FCF3-4237-4518-BB6C-0ABFAF7B1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C7FD3-FC06-4C6F-94AE-AAA7A457AB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 para 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esta sessão, todos os participantes deverão ser capazes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e um pedid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50566-14CC-4F83-832E-0D9AE2FA09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673EDC-4AFA-4E9D-B5F2-C4F567B58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54191-3B22-4CF5-B2EA-A7D2FD6CD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9F7AF-4558-44F2-A178-31CC2E2F1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2788D-9F94-40AE-B1E3-1341D8080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E97EC-4149-4775-9F0C-28D5D6CDD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se slide em particular pode ser utilizado para discussão sobre a necessidade de ser específico em relação à prova eletrón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745BE-A2E4-4DD4-970E-B97EC3F1D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se slide em particular pode ser utilizado para discussão sobre a necessidade de ser específico em relação à prova eletrónica.  É também a ocasião para mencionar que a interceção de comunicações em tempo real não será executada pelos EUA num pedido de assistência jurídica mútua. A única possibilidade é quando um caso dos EUA é aberto e utilizado para obter tal autorização.</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E5149-2AFE-4FFE-A88A-A7F8F30799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F14F4-EF55-4757-8F8C-5F488E78AA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087B6-65A6-4EF1-907C-97F0CB03F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AEC14-13FD-43BF-9637-392CAE03D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4 a 11 concentram-se nos princípios gerais sobre os quais se baseia a assistência jurídica mútua.</a:t>
            </a:r>
            <a:br>
              <a:rPr sz="1200"/>
            </a:br>
            <a:br>
              <a:rPr sz="1200"/>
            </a:br>
            <a:r>
              <a:rPr b="0" lang="en-US" sz="1200" spc="-1" strike="noStrike">
                <a:solidFill>
                  <a:srgbClr val="000000"/>
                </a:solidFill>
                <a:latin typeface="Calibri"/>
              </a:rPr>
              <a:t>Estes princípios, que são geralmente comuns a todos os países até certo ponto, são de extrema importância quando se elabora ou executa um pedido de assistência jurídica mútua.</a:t>
            </a:r>
            <a:br>
              <a:rPr sz="1200"/>
            </a:br>
            <a:r>
              <a:rPr b="0" lang="en-US" sz="1200" spc="-1" strike="noStrike">
                <a:solidFill>
                  <a:srgbClr val="000000"/>
                </a:solidFill>
                <a:latin typeface="Calibri"/>
              </a:rPr>
              <a:t>O formador deve passar por todos os tópicos mencionados por estes slides e concluí-los, se necessário, com considerações locais, para que os participantes tenham esses princípios em mente ao participarem na sessão de elaboração da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256A9A-7A9E-4CFF-BB9C-0EB666D6C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os tratados e convenções possam diferir nos vários requisitos sobre o conteúdo de uma solicitação de MLA, a maioria deles e a maioria dos Estados que executam pedidos com base na reciprocidade (isto é, fora da estrutura de uma convenção ou tratado) exigem os itens mencionados acima.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0E6F2-692B-4CAC-A690-243072F4D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ubstituir a convenção de Budapeste na discussão lembrando aos participantes que a convenção de Budapeste é um instrumento internacional que fornece um capítulo completo e aplicável sobre as regras da MLA a serem seguidas na ausência de ou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49EE9-C806-4FA6-87F3-068746481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papel da comunicação, na racionalização do pedido de assistência jurídica mútua, insistindo, quando necessário, no facto de não contornar os canais legais, mas visa apenas facilitar o entendimento e a execução do pedido que foi ou será enviado através de canais oficia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itos pedidos na prática judicial ainda não têm endereço de e-mail ou informações sobre os idiomas falados pela autoridade requere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E71BDF-5FB2-42C1-93A3-D85C11BD8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 resumo dos factos, que é um requisito na maioria dos tratados e convenções internacion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uma das partes mais importantes das solicitações, pois determinará se uma medida de investigação pode ser solicitada no país solicitado. Estas dicas parecem simples, mas, na prática, é bastante óbvio que os juízes e procuradores devem dedicar mais tempo ao resumo dos factos, tendo em consideração essas dicas simples, começando com o facto de que apenas eles conhecem o caso em detalhes, não a autoridade solicitada que muitas vezes tem apenas a solicitação de MLA para fazer a sua própria determinação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a necessidade de dedicar tempo ao resumo dos factos que serão específicos e cumprir os possíveis padrões de provas estabelecidas em certos Estados para medidas coercivas, por ex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FC94A-C35A-41D2-9824-67E8DB24FC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ois slides a seguir contêm um exemplo de requisitos específicos ao elaborar o resumo dos factos: o padrão de causa provável exigido pelos EUA visivelmente quando o conteúdo do e-mail é solicitado.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A879B-2D8A-4EFF-B9C2-A5072A9F0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D3C4ACC-965B-49F6-A2D1-DAFB02035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266BFCAA-4217-49C3-967F-3F620808FDE0}"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e slide resume os três diferentes padrões legais exigidos pelos EUA quando os dados eletrónicos são solicitad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 formador pode adicionar até este slide se ele estiver familiarizado com o sistema dos EUA ou com outro exemplo de um país diferente, quando possível.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tudo, tal apresentação deve limitar-se a uma descrição objetiva dos requisitos de um país no contexto dos regulamentos gerais de assistência jurídica mútua e dos tratados e convenções relevantes, pois certos países podem ter exigências que podem de facto contornar os regulamentos tradicionais de assistência jurídica mútua ou tratados. Este último não é o assunto desta sessão.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 tipo de medidas a serem procuradas e as possibilidades legais para a sua execução.</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4FF31-7F73-420D-9536-0DCE45242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que documentos poderiam ou deveriam ser anexados à solicitação de MLA, sujeitos a outros requisitos estabelecidos pelos tratados ou convenções relevantes.</a:t>
            </a:r>
            <a:br>
              <a:rPr sz="1200"/>
            </a:br>
            <a:br>
              <a:rPr sz="1200"/>
            </a:br>
            <a:r>
              <a:rPr b="0" lang="en-US" sz="1200" spc="-1" strike="noStrike">
                <a:solidFill>
                  <a:srgbClr val="000000"/>
                </a:solidFill>
                <a:latin typeface="Calibri"/>
              </a:rPr>
              <a:t>O formador deve enriquecer este slide com qualquer requisito específico relevante para a sua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5730A-80AE-486A-A860-D6FA43C96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possibilidade de enviar uma cópia avançada da solicitação oficial por qualquer meio ao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cto de que esta prática também pode ser utilizada quando as autoridades centrais estão envolvidas no processo de transmissão e que quando a cópia avançada for enviada através do circuito oficial, conforme solicitado pela convenção ou tratado, a sua execução pode começar mais ce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mencionar que uma cópia avançada é enviada diretamente a uma autoridade estrangeira, mas que o tratado relevante não a permite, dependendo do país solicitado, ela não pode ser executada. A cópia avançada deve, portanto, seguir os canais de transmissão estabelecidos no tratado ou convenção relevante para um melhor resul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O formador poderia mencionar esta possibilidade, conforme estabelecido no artigo 25.3.º da Convenção de Budapeste, descrita no próximo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66CFE-B1B0-429C-8798-7C12154D8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produz o artigo 25. 3.º da Convenção de Budapeste relacionada com o uso de meios de telecomunicação, para transmitir solicitações de MLA de forma mais eficiente, assim, nos casos em que a prova eletrónica é necessária e quando circunstâncias urgentes podem ser invocadas.</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5CBA5-016B-4789-A90D-48538DC32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9AF2A-C89D-4C9C-A2A4-C768BACDE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quarta parte trata da receção e execução de um pedido de MLA de uma questão prática. Esta parte é curta, pois não é possível descrever todas as possibilidades legais que dependem do tratado ou convenção aplicável, bem como do tipo de medida solicitada. Esta parte, visa apenas dar conselhos aos participantes, para que eles adotem uma perspetiva voltada mais para a cooperação eficiente, ao invés de apenas uma abordagem legalista, enquanto permanece dentro dos limites da sua lei nacional e do direito inter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7F44C-23FC-4C10-B2EA-32DCA64CB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os participantes da importância da comunicação, como já explicado na parte referente à elaboração de solicitações de MLA.</a:t>
            </a:r>
            <a:br>
              <a:rPr sz="1200"/>
            </a:br>
            <a:r>
              <a:rPr b="0" lang="en-US" sz="1200" spc="-1" strike="noStrike">
                <a:solidFill>
                  <a:srgbClr val="000000"/>
                </a:solidFill>
                <a:latin typeface="Calibri"/>
              </a:rPr>
              <a:t>A comunicação é igualmente importante por parte do rece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quando não é exigido por lei, os participantes devem ser encorajados a comunicar informalmente com a autoridade solicitante para que eles saibam que serão executados na MLA. Isto é importante quando um processo criminal está em curso no Estado solicitante, uma vez que a autoridade solicitante pode não receber notícias do seu pedido durante meses, ou mesmo anos, e pode decidir em algum momento encerrar o caso, enquanto a autoridade solicitada pode ser executar a solicitação ou pode ter sido obrigada a adiar a execução da solici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quando necessário, no facto de que esta comunicação visa simplificar e melhorar a compreensão da solicitação e não contornar os canais oficiais de transmissão.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317FB-F69E-4C0E-9C34-413A9E3F3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que existem dois níveis de análise que o recetor deve tentar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jurídica (forma da solicitação, conteúdo da solicit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eficiente (se uma medida não pode ser ordenada, a lei nacional permite outros meios legais para alcançar o me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77F5B-3674-4CAB-8CC3-7EE24F6F0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á dicas simples aos participantes para melhorar a abordagem de eficiência dentro da sua estrutura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EFA67-805A-4B82-BB99-A9CB0D6CD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C4C21-E924-45B3-9D56-35C8DA64F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B78BB-7471-4FAE-864C-101C3933E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5BAB5-B884-4344-896C-0264792BF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A52B5-75CE-4490-86C4-9F6DB1420A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B0B3A-3887-413B-9545-6E809018A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passa pelas principais ideias comuns sobre as quais se baseiam os tratados e convenções de assistência judiciária mútu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 normalmente ilustrar através de exemplos retirados do seu sistema nacional ou de um caso local que pode levantar questões legai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5152CF-44CA-4F0A-B11B-49BE7C971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principais objetivos da ses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a sessão, todos os participantes devem ter atingido os segui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a sua solicitaçã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C3440-653A-4C3C-89DB-724F69DFD98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determinadas sessões de formação, uma sessão pode ser focada na aplicação desta apresentação e na elaboração ou análise real de uma solicitaçã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formadores podem, no futuro, procurar complementar aprendizagem adicionando exercícios, nos quais a formação é apresentada num ambiente onde as instalações são adeq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está prevista qualquer avaliação de conhecimentos para este curso além das indicadas acima. Não foi solicitada qualquer avaliação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B9D17-65F5-4557-A020-B128CB64370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lembrete rápido dos problemas levantados pelo cibercrime e provas eletrónicas em casos internacionais. Nesta fase do programa, os participantes devem ter aprendido sobre essas questões em detalhes no curso introdutório ou no curso de Formação jurídica avançada (apresentações gerai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3B299-9E95-4C90-A49B-239159F1E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apontar algumas das principais diferenças entre um caso tradicional da “vida real” e um caso de prova digital na deteção de um crime e na recolha de prova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ria ilustrar dando exemplos práticos, como, por exemplo:</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uma situação de um assalto a um banco (tempo para se preparar, hora de ir ao local do crime, hora de entrar no banco, tempo para conseguir dinheiro, tempo para fugir, vestígios digitais ou de ADN deixados no local, às vezes sangue, vítimas que sabem que foram vítimas de um crime, traumas, policiais e especialistas que sabem para onde devem ir para recolher as provas... etc ... versus uma empresa que está a perceber que foi vítima de uma enorme violação de dados num tempo não identificado … Etc…)  </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também deve insistir no facto de que a territorialidade é cada vez mais desafiada em crimes cibernéticos, ao contrário de um crime básico que geralmente é facilmente localizado dentro da própria jurisdição. No entanto, uma vez que esta sessão é sobre assistência jurídica mútua, que se baseia principalmente no direito internacional (convenções e tratados), também deve ser lembrado aos alunos que os juízes e magistrados têm que cumprir a lei e começar a ser mais criativo dentro dos limites da lei (por outras palavras, respeitar a lei, mas tentar analisá-la mais especificamente quando ela permitir novas práticas relacionadas com a recolha de provas ele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0F6FA-26E1-4652-A01A-E48E797F5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resumo do dilema atual detalhado nos slides 7 e 8: a necessidade de respeitar o direito internacional versus a necessidade de ser mais eficiente no ci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D87FF8-5E64-4D1C-8F69-89F762E84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09229-595D-4A33-8CC1-BA48EE99C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28F38-5574-46C6-A1D6-9D692FCE6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CE8184-3A51-4660-B4D1-3A7413255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14686-D987-42FD-8F0F-92529AA71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9A24A-9CFE-4D77-B8C5-A0D78F7E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5E9B7-B5B8-4F54-BE61-CB7022368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44865-28C6-4345-96DD-02D760E27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B41F3-B7E6-4266-A544-275CF7B3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90E4-3291-4ABB-85CA-4B4D8D14F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0D14-F17D-4893-A8B8-D2CCD7A01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C12B-EAD0-4DEA-8A90-D2F1E203E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563D7-51AA-4EBB-859C-19977B8C4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30F32-52E5-40A5-A7DA-2E87F7E01FE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DCDA1-B52D-4139-9CAF-A9455D56C1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edidos de assistência judiciária mútua</a:t>
            </a:r>
            <a:br>
              <a:rPr sz="4400"/>
            </a:br>
            <a:r>
              <a:rPr b="0" lang="pt-PT" sz="4400" spc="-1" strike="noStrike">
                <a:solidFill>
                  <a:srgbClr val="000000"/>
                </a:solidFill>
                <a:latin typeface="Calibri"/>
              </a:rPr>
              <a:t>Aspetos prático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ão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741370-3746-404D-9C59-503BC245C6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ção a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canais de assistência judiciária mútua não são adequados em relação à prova eletrónica</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É necessário encontrar novas formas de cooperação em relação à prova eletrónica e ao cibercrime</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udo:</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 assistência judiciária mútua continua a ser o canal internacional de cooperação legalmente acei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operacionais devem fazer um uso melhor e mais completo das possibilidades de assistência judiciária mútua para melhorar os se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868C52-1710-422C-BE0C-FC866BEDCC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583F6-3EB7-4EEF-ACAE-F179B65773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Dois</a:t>
            </a:r>
            <a:br>
              <a:rPr sz="3200"/>
            </a:br>
            <a:r>
              <a:rPr b="1" lang="en-US" sz="3200" spc="-1" strike="noStrike">
                <a:solidFill>
                  <a:srgbClr val="000000"/>
                </a:solidFill>
                <a:latin typeface="Calibri"/>
                <a:ea typeface="ＭＳ Ｐゴシック"/>
              </a:rPr>
              <a:t>Preparação do pedido de assistência </a:t>
            </a:r>
            <a:r>
              <a:rPr b="1" lang="en-US" sz="3200" spc="-1" strike="noStrike">
                <a:solidFill>
                  <a:srgbClr val="000000"/>
                </a:solidFill>
                <a:latin typeface="Calibri"/>
                <a:ea typeface="ＭＳ Ｐゴシック"/>
              </a:rPr>
              <a:t>judiciária mútu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D01614-F121-4183-A67B-6FA1E611D2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6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a:t>
            </a:r>
            <a:r>
              <a:rPr b="1" lang="en-US" sz="3200" spc="-1" strike="noStrike">
                <a:solidFill>
                  <a:srgbClr val="000000"/>
                </a:solidFill>
                <a:latin typeface="Calibri"/>
              </a:rPr>
              <a:t>enviar um pedido </a:t>
            </a:r>
            <a:r>
              <a:rPr b="1" lang="en-US" sz="3200" spc="-1" strike="noStrike">
                <a:solidFill>
                  <a:srgbClr val="000000"/>
                </a:solidFill>
                <a:latin typeface="Calibri"/>
              </a:rPr>
              <a:t>de assistência mútua, estas alternativas legais devem ser verificadas:</a:t>
            </a:r>
            <a:endParaRPr b="0" lang="en-US" sz="3200" spc="-1" strike="noStrike">
              <a:solidFill>
                <a:srgbClr val="000000"/>
              </a:solidFill>
              <a:latin typeface="Calibri"/>
            </a:endParaRPr>
          </a:p>
        </p:txBody>
      </p:sp>
      <p:sp>
        <p:nvSpPr>
          <p:cNvPr id="86" name=""/>
          <p:cNvSpPr txBox="1"/>
          <p:nvPr/>
        </p:nvSpPr>
        <p:spPr>
          <a:xfrm>
            <a:off x="457200" y="2195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pt-PT" sz="2400" spc="-1" strike="noStrike">
                <a:solidFill>
                  <a:srgbClr val="000000"/>
                </a:solidFill>
                <a:latin typeface="Calibri"/>
              </a:rPr>
              <a:t>Canais alternativos de cooperação</a:t>
            </a:r>
            <a:r>
              <a:rPr b="0" lang="pt-PT" sz="2400" spc="-1" strike="noStrike">
                <a:solidFill>
                  <a:srgbClr val="000000"/>
                </a:solidFill>
                <a:latin typeface="Calibri"/>
              </a:rPr>
              <a:t> (por exemplo, cooperação polícia-a-polícia): </a:t>
            </a:r>
            <a:endParaRPr b="0" lang="en-US" sz="2400" spc="-1" strike="noStrike">
              <a:solidFill>
                <a:srgbClr val="000000"/>
              </a:solidFill>
              <a:latin typeface="Calibri"/>
            </a:endParaRPr>
          </a:p>
          <a:p>
            <a:pPr marL="343080" indent="-343080"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A</a:t>
            </a:r>
            <a:r>
              <a:rPr b="0" lang="pt-PT" sz="2400" spc="-1" strike="noStrike">
                <a:solidFill>
                  <a:srgbClr val="000000"/>
                </a:solidFill>
                <a:latin typeface="Calibri"/>
              </a:rPr>
              <a:t> </a:t>
            </a:r>
            <a:r>
              <a:rPr b="0" i="1" lang="pt-PT" sz="2400" spc="-1" strike="noStrike">
                <a:solidFill>
                  <a:srgbClr val="000000"/>
                </a:solidFill>
                <a:latin typeface="Calibri"/>
              </a:rPr>
              <a:t>lei nacional</a:t>
            </a:r>
            <a:r>
              <a:rPr b="0" lang="pt-PT" sz="2400" spc="-1" strike="noStrike">
                <a:solidFill>
                  <a:srgbClr val="000000"/>
                </a:solidFill>
                <a:latin typeface="Calibri"/>
              </a:rPr>
              <a:t> </a:t>
            </a:r>
            <a:r>
              <a:rPr b="0" i="1" lang="pt-PT" sz="2400" spc="-1" strike="noStrike">
                <a:solidFill>
                  <a:srgbClr val="000000"/>
                </a:solidFill>
                <a:latin typeface="Calibri"/>
              </a:rPr>
              <a:t>autoriza? A lei do país requerido autoriza?</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1" lang="pt-PT" sz="2400" spc="-1" strike="noStrike">
                <a:solidFill>
                  <a:srgbClr val="000000"/>
                </a:solidFill>
                <a:latin typeface="Calibri"/>
              </a:rPr>
              <a:t>Informações disponíveis publicamente</a:t>
            </a:r>
            <a:r>
              <a:rPr b="0" lang="pt-PT" sz="2400" spc="-1" strike="noStrike">
                <a:solidFill>
                  <a:srgbClr val="000000"/>
                </a:solidFill>
                <a:latin typeface="Calibri"/>
              </a:rPr>
              <a:t> que poderiam ser obtidas pela Internet </a:t>
            </a:r>
            <a:r>
              <a:rPr b="0" lang="pt-PT" sz="2400" spc="-1" strike="noStrike">
                <a:solidFill>
                  <a:srgbClr val="000000"/>
                </a:solidFill>
                <a:latin typeface="Calibri"/>
              </a:rPr>
              <a:t>sem um pedido de assistência ou por meio de bases de dados específicas disponíveis </a:t>
            </a:r>
            <a:r>
              <a:rPr b="0" lang="pt-PT" sz="2400" spc="-1" strike="noStrike">
                <a:solidFill>
                  <a:srgbClr val="000000"/>
                </a:solidFill>
                <a:latin typeface="Calibri"/>
              </a:rPr>
              <a:t>gratuitamente ou mediante pagamento de taxa (</a:t>
            </a:r>
            <a:r>
              <a:rPr b="0" i="1" lang="pt-PT" sz="2400" spc="-1" strike="noStrike">
                <a:solidFill>
                  <a:srgbClr val="000000"/>
                </a:solidFill>
                <a:latin typeface="Calibri"/>
              </a:rPr>
              <a:t>se permitido pela</a:t>
            </a:r>
            <a:r>
              <a:rPr b="0" lang="pt-PT" sz="2400" spc="-1" strike="noStrike">
                <a:solidFill>
                  <a:srgbClr val="000000"/>
                </a:solidFill>
                <a:latin typeface="Calibri"/>
              </a:rPr>
              <a:t> </a:t>
            </a:r>
            <a:r>
              <a:rPr b="0" i="1" lang="pt-PT" sz="2400" spc="-1" strike="noStrike">
                <a:solidFill>
                  <a:srgbClr val="000000"/>
                </a:solidFill>
                <a:latin typeface="Calibri"/>
              </a:rPr>
              <a:t>lei nacional)</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ART. 32.º a) da Convenção de Budapeste</a:t>
            </a:r>
            <a:r>
              <a:rPr b="0" lang="pt-PT" sz="2400" spc="-1" strike="noStrike">
                <a:solidFill>
                  <a:srgbClr val="000000"/>
                </a:solidFill>
                <a:latin typeface="Calibri"/>
              </a:rPr>
              <a:t>: acesso transfronteiriço a dados de computadores armazenados com consentimento </a:t>
            </a:r>
            <a:endParaRPr b="0" lang="en-US" sz="24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50E871-94A4-4F53-A854-FB5F0FB9CE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293400"/>
            <a:ext cx="8229600" cy="15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eparar </a:t>
            </a:r>
            <a:r>
              <a:rPr b="1" lang="en-US" sz="3200" spc="-1" strike="noStrike">
                <a:solidFill>
                  <a:srgbClr val="000000"/>
                </a:solidFill>
                <a:latin typeface="Calibri"/>
              </a:rPr>
              <a:t>eficientemente um pedido de </a:t>
            </a:r>
            <a:r>
              <a:rPr b="1" lang="en-US" sz="3200" spc="-1" strike="noStrike">
                <a:solidFill>
                  <a:srgbClr val="000000"/>
                </a:solidFill>
                <a:latin typeface="Calibri"/>
              </a:rPr>
              <a:t>assistência judiciária mútua referente à obtenção de provas eletrónicas</a:t>
            </a:r>
            <a:endParaRPr b="0" lang="en-US" sz="3200" spc="-1" strike="noStrike">
              <a:solidFill>
                <a:srgbClr val="000000"/>
              </a:solidFill>
              <a:latin typeface="Calibri"/>
            </a:endParaRPr>
          </a:p>
        </p:txBody>
      </p:sp>
      <p:sp>
        <p:nvSpPr>
          <p:cNvPr id="89" name=""/>
          <p:cNvSpPr txBox="1"/>
          <p:nvPr/>
        </p:nvSpPr>
        <p:spPr>
          <a:xfrm>
            <a:off x="212400" y="2336760"/>
            <a:ext cx="8612280" cy="3743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tilizar as redes existentes, magistrados de ligação/adidos legais, autoridade central interna (para aconselhamento), Interpol, Europol, contactos diretos, redes judiciárias..</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tilizar o ART. 29.º da Convenção de Budapeste </a:t>
            </a:r>
            <a:r>
              <a:rPr b="0" lang="en-US" sz="2800" spc="-1" strike="noStrike">
                <a:solidFill>
                  <a:srgbClr val="000000"/>
                </a:solidFill>
                <a:latin typeface="Calibri"/>
              </a:rPr>
              <a:t>(preservação expedita de dados armazenados em computador)</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0AAF04-9E8D-46ED-AD38-E11D5EDDA4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MBRETE: </a:t>
            </a:r>
            <a:endParaRPr b="0" lang="en-US" sz="4400" spc="-1" strike="noStrike">
              <a:solidFill>
                <a:srgbClr val="000000"/>
              </a:solidFill>
              <a:latin typeface="Calibri"/>
            </a:endParaRPr>
          </a:p>
        </p:txBody>
      </p:sp>
      <p:graphicFrame>
        <p:nvGraphicFramePr>
          <p:cNvPr id="92" name=""/>
          <p:cNvGraphicFramePr/>
          <p:nvPr/>
        </p:nvGraphicFramePr>
        <p:xfrm>
          <a:off x="0" y="1254240"/>
          <a:ext cx="9144000" cy="5595840"/>
        </p:xfrm>
        <a:graphic>
          <a:graphicData uri="http://schemas.openxmlformats.org/drawingml/2006/table">
            <a:tbl>
              <a:tblPr/>
              <a:tblGrid>
                <a:gridCol w="4572000"/>
                <a:gridCol w="45720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35.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29.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3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35.º – Rede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Cada Parte deverá designar um ponto de contacto que deverá estar disponível vinte e quatro horas por dia, sete dias por semana, a fim de assegurar de imediato a prestação de auxílio nas investigações e nos procedimentos relativos a infracções penais relacionadas com sistemas informáticos, ou na recolha de provas sob a forma electrónica, da prática de infracções penais. Esse auxílio deverá compreender a facilitação ou, se o direito e a prática internos o permitirem, a execução directa das seguintes medidas</a:t>
                      </a:r>
                      <a:r>
                        <a:rPr b="0" lang="en-US"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a) O aconselham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b) A conservação de dados em conformidade com os artigos 29.º e 30.º;</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c) A recolha de provas, prestação de informações de natureza jurídica e localização de suspeito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2 — a) O ponto de contacto de uma Parte deverá dispor de meios para contactar com rapidez o ponto de contacto de uma outra Parte. b) O ponto de contacto designado por uma Parte deverá assegurar que se pode coordenar de forma célere com a ou as autoridades dessa Parte responsáveis pelo auxílio mútuo internacional ou pela extradição, caso não seja parte integrante dessa ou dessas autoridade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3- Cada Parte deverá assegurar que dispõe de pessoal com formação o e equipamento de modo a facilitar o funcionamento a re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29.º – Conservação expedita de dados informáticos armazenado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Uma Parte pode solicitar a outra Parte que ordene ou, de outro modo, imponha a conservação expedita de dados armazenados através de um sistema informático situado no território dessa outra Parte, e relativamente aos quais a Parte requerente pretende efectuar um pedido de auxílio mútuo tendo em vista a busca ou outro acesso semelhante, a apreensão ou outro tipo de retenção semelhante, ou a divulgação dos dados. </a:t>
                      </a: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3. </a:t>
                      </a:r>
                      <a:r>
                        <a:rPr b="1" lang="pt-PT" sz="1100" spc="-1" strike="noStrike">
                          <a:solidFill>
                            <a:srgbClr val="000000"/>
                          </a:solidFill>
                          <a:latin typeface="Calibri"/>
                          <a:ea typeface="ヒラギノ角ゴ Pro W3"/>
                        </a:rPr>
                        <a:t>Após ter recebido o pedido de outra Parte, a Parte requerida deverá tomar todas as medidas adequadas para proceder, de forma expedita, à conservação dos dados especificados, em conformidade com o seu direito interno. Para efeitos de execução de um pedido, o requisito da dupla incriminação não é exigido como condição para essa conservação</a:t>
                      </a: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7. </a:t>
                      </a:r>
                      <a:r>
                        <a:rPr b="1" lang="pt-PT" sz="1100" spc="-1" strike="noStrike">
                          <a:solidFill>
                            <a:srgbClr val="000000"/>
                          </a:solidFill>
                          <a:latin typeface="Calibri"/>
                          <a:ea typeface="ヒラギノ角ゴ Pro W3"/>
                        </a:rPr>
                        <a:t>Qualquer conservação efectuada em resposta ao pedido referido no n.º 1 do presente artigo é válida por um período não inferior a 60 dias, de modo a permitir que a Parte requerente possa apresentar um pedido tendo em vista a busca ou outro acesso semelhante, a apreensão ou outro tipo de retenção semelhante, ou a divulgação dos dados. Após a recepção desse pedido, os dados deverão continuar a ser conservados até que haja uma decisão sobre o pedido</a:t>
                      </a:r>
                      <a:r>
                        <a:rPr b="0" lang="en-US" sz="1100" spc="-1" strike="noStrike">
                          <a:solidFill>
                            <a:srgbClr val="000000"/>
                          </a:solidFill>
                          <a:latin typeface="Calibri"/>
                          <a:ea typeface="ヒラギノ角ゴ Pro W3"/>
                        </a:rPr>
                        <a:t>d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019C9E-4E26-4925-A431-897B6881AD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2068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enviar um pedido de assistência judiciária mútua para obtenção de dados eletrónicos…</a:t>
            </a:r>
            <a:endParaRPr b="0" lang="en-US" sz="3200" spc="-1" strike="noStrike">
              <a:solidFill>
                <a:srgbClr val="000000"/>
              </a:solidFill>
              <a:latin typeface="Calibri"/>
            </a:endParaRPr>
          </a:p>
        </p:txBody>
      </p:sp>
      <p:sp>
        <p:nvSpPr>
          <p:cNvPr id="95" name=""/>
          <p:cNvSpPr txBox="1"/>
          <p:nvPr/>
        </p:nvSpPr>
        <p:spPr>
          <a:xfrm>
            <a:off x="220680" y="2068560"/>
            <a:ext cx="8688240" cy="4597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o país requerido for Parte da Convenção de Budapeste, </a:t>
            </a:r>
            <a:r>
              <a:rPr b="1" lang="pt-PT" sz="2800" spc="-1" strike="noStrike" u="sng">
                <a:solidFill>
                  <a:srgbClr val="000000"/>
                </a:solidFill>
                <a:uFillTx/>
                <a:latin typeface="Calibri"/>
              </a:rPr>
              <a:t>utilize o artigo 29.</a:t>
            </a:r>
            <a:r>
              <a:rPr b="0" lang="pt-PT" sz="2800" spc="-1" strike="noStrike">
                <a:solidFill>
                  <a:srgbClr val="000000"/>
                </a:solidFill>
                <a:latin typeface="Calibri"/>
              </a:rPr>
              <a:t> e coordene-se com as autoridades nacionais competentes para solicitar a preservação urgente dos dado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2400" spc="-1" strike="noStrike">
                <a:solidFill>
                  <a:srgbClr val="000000"/>
                </a:solidFill>
                <a:latin typeface="Wingdings"/>
                <a:ea typeface="Wingdings"/>
              </a:rPr>
              <a:t></a:t>
            </a:r>
            <a:r>
              <a:rPr b="0" i="1" lang="pt-PT" sz="2400" spc="-1" strike="noStrike">
                <a:solidFill>
                  <a:srgbClr val="000000"/>
                </a:solidFill>
                <a:latin typeface="Calibri"/>
              </a:rPr>
              <a:t> </a:t>
            </a:r>
            <a:r>
              <a:rPr b="0" i="1" lang="pt-PT" sz="2400" spc="-1" strike="noStrike">
                <a:solidFill>
                  <a:srgbClr val="000000"/>
                </a:solidFill>
                <a:latin typeface="Calibri"/>
              </a:rPr>
              <a:t>Este procedimento apenas será útil numa fase inicial da investigação, já que nem todos os países impõem aos prestadores de serviços de Internet (ISP) e outros prestadores de serviços de internet a obrigação de conserver os dados por um período mínimo de tempo para fins de investigação</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32866E-C0AB-412B-8B3C-2C4C8FB016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a prá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ponto de contacto designado contacta o seu homólogo no país de destino, disponível 24 horas por dia, 7 dias por semana;</a:t>
            </a:r>
            <a:endParaRPr b="0" lang="en-US" sz="24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t>
            </a:r>
            <a:r>
              <a:rPr b="0" lang="pt-PT" sz="1800" spc="-1" strike="noStrike">
                <a:solidFill>
                  <a:srgbClr val="000000"/>
                </a:solidFill>
                <a:latin typeface="Calibri"/>
              </a:rPr>
              <a:t>Pontos de contacto designados: http://www.coe.int/en/web/conventions/full-list/-/conventions/treaty/185/declarations?p_auth=r6eUYhF4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edir-lhe-á para </a:t>
            </a:r>
            <a:r>
              <a:rPr b="1" lang="pt-PT" sz="2400" spc="-1" strike="noStrike" u="sng">
                <a:solidFill>
                  <a:srgbClr val="000000"/>
                </a:solidFill>
                <a:uFillTx/>
                <a:latin typeface="Calibri"/>
              </a:rPr>
              <a:t>preservar</a:t>
            </a:r>
            <a:r>
              <a:rPr b="0" lang="pt-PT" sz="2400" spc="-1" strike="noStrike">
                <a:solidFill>
                  <a:srgbClr val="000000"/>
                </a:solidFill>
                <a:latin typeface="Calibri"/>
              </a:rPr>
              <a:t> os dados necessários à investigação por pelo menos 60 dias (às vezes mais: por exemplo, EUA: 90 dias, renováveis por uma ve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urante esta fase, preparar e enviar o pedido de assistência judiciária mútua para </a:t>
            </a:r>
            <a:r>
              <a:rPr b="1" lang="pt-PT" sz="2400" spc="-1" strike="noStrike" u="sng">
                <a:solidFill>
                  <a:srgbClr val="000000"/>
                </a:solidFill>
                <a:uFillTx/>
                <a:latin typeface="Calibri"/>
              </a:rPr>
              <a:t>obter</a:t>
            </a:r>
            <a:r>
              <a:rPr b="0" lang="pt-PT" sz="2400" spc="-1" strike="noStrike">
                <a:solidFill>
                  <a:srgbClr val="000000"/>
                </a:solidFill>
                <a:latin typeface="Calibri"/>
              </a:rPr>
              <a:t> os dado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os dados existem, devem ter sido preservad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a “probable cause” (EUA) for exigida, mencione o pedido de preservação expedido (data e número) no pedido de assistênci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D68F8E8-A1F2-4CB8-8B4F-4670734974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8240" y="395280"/>
            <a:ext cx="900576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ndo tem que se elaborar um pedido de assistência, que informações devem ser verificadas?</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e convenção deve ser aplicada e mencionada no pedid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Wingdings"/>
                <a:ea typeface="Wingdings"/>
              </a:rPr>
              <a:t></a:t>
            </a:r>
            <a:r>
              <a:rPr b="0" lang="pt-PT" sz="2800" spc="-1" strike="noStrike">
                <a:solidFill>
                  <a:srgbClr val="000000"/>
                </a:solidFill>
                <a:latin typeface="Calibri"/>
              </a:rPr>
              <a:t> </a:t>
            </a:r>
            <a:r>
              <a:rPr b="0" lang="pt-PT" sz="2800" spc="-1" strike="noStrike">
                <a:solidFill>
                  <a:srgbClr val="000000"/>
                </a:solidFill>
                <a:latin typeface="Calibri"/>
              </a:rPr>
              <a:t>Posso mencionar a Convenção de Budapeste?)</a:t>
            </a:r>
            <a:endParaRPr b="0" lang="en-US" sz="28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900" spc="-1" strike="noStrike">
                <a:solidFill>
                  <a:srgbClr val="000000"/>
                </a:solidFill>
                <a:latin typeface="Calibri"/>
              </a:rPr>
              <a:t>http://www.coe.int/en/web/conventions/full-list/-/conventions/treaty/185</a:t>
            </a:r>
            <a:endParaRPr b="0" lang="en-US" sz="19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canais específicos de transmis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trad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conteúdo? (por exemplo, “probable cause” nos EUA)</a:t>
            </a:r>
            <a:endParaRPr b="0" lang="en-US" sz="28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A6B3E5-A346-4755-B9B8-4262036F30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is são as possíveis consequências de não cumprir os requisitos de transmissão e elaboração?</a:t>
            </a:r>
            <a:endParaRPr b="0" lang="en-US" sz="32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pt-PT" sz="2800" spc="-1" strike="noStrike">
                <a:solidFill>
                  <a:srgbClr val="000000"/>
                </a:solidFill>
                <a:latin typeface="Calibri"/>
              </a:rPr>
              <a:t>O pedido de assistência não será executado ou </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 execução será atrasada e serão solicitadas mais informações</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s provas podem não ser admissíveis no julgamento se as normas nacionais e internacionais forem violada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va eletrónica é volátil e pode desaparecer a qualquer momento! (há apenas 1 oportunidade)</a:t>
            </a:r>
            <a:endParaRPr b="0" lang="en-US" sz="2800" spc="-1" strike="noStrike">
              <a:solidFill>
                <a:srgbClr val="000000"/>
              </a:solidFill>
              <a:latin typeface="Calibri"/>
            </a:endParaRPr>
          </a:p>
        </p:txBody>
      </p:sp>
      <p:sp>
        <p:nvSpPr>
          <p:cNvPr id="105" name="Éclair 3"/>
          <p:cNvSpPr/>
          <p:nvPr/>
        </p:nvSpPr>
        <p:spPr>
          <a:xfrm>
            <a:off x="358920" y="4870440"/>
            <a:ext cx="914400" cy="654120"/>
          </a:xfrm>
          <a:prstGeom prst="lightningBol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76864-2D03-43D1-97E4-09F9A37401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Um</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100" spc="-1" strike="noStrike">
                <a:solidFill>
                  <a:srgbClr val="000000"/>
                </a:solidFill>
                <a:latin typeface="Calibri"/>
              </a:rPr>
              <a:t>	</a:t>
            </a:r>
            <a:r>
              <a:rPr b="0" lang="pt-PT" sz="2100" spc="-1" strike="noStrike">
                <a:solidFill>
                  <a:srgbClr val="000000"/>
                </a:solidFill>
                <a:latin typeface="Calibri"/>
              </a:rPr>
              <a:t>Princípios gerais de assistência judiciária mútua</a:t>
            </a:r>
            <a:endParaRPr b="0" lang="en-US" sz="2100" spc="-1" strike="noStrike">
              <a:solidFill>
                <a:srgbClr val="000000"/>
              </a:solidFill>
              <a:latin typeface="Calibri"/>
            </a:endParaRPr>
          </a:p>
          <a:p>
            <a:pPr marL="332640" indent="-33264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Dois</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100" spc="-1" strike="noStrike">
                <a:solidFill>
                  <a:srgbClr val="000000"/>
                </a:solidFill>
                <a:latin typeface="Calibri"/>
              </a:rPr>
              <a:t>Preparação de um pedido de assistência judiciária mútua</a:t>
            </a:r>
            <a:endParaRPr b="0" lang="en-US" sz="2100" spc="-1" strike="noStrike">
              <a:solidFill>
                <a:srgbClr val="000000"/>
              </a:solidFill>
              <a:latin typeface="Calibri"/>
            </a:endParaRPr>
          </a:p>
          <a:p>
            <a:pPr lvl="1" marL="44316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Três</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Elaboraçã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Quatro</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cebiment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Cinco </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sumo</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6D3D28-FDF6-41DE-B882-4B278FA55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756F3-A479-464F-B9EA-97E39EC3C8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920" y="2761920"/>
            <a:ext cx="9205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Três</a:t>
            </a:r>
            <a:br>
              <a:rPr sz="3200"/>
            </a:br>
            <a:r>
              <a:rPr b="1" lang="en-US" sz="3200" spc="-1" strike="noStrike">
                <a:solidFill>
                  <a:srgbClr val="000000"/>
                </a:solidFill>
                <a:latin typeface="Calibri"/>
                <a:ea typeface="ＭＳ Ｐゴシック"/>
              </a:rPr>
              <a:t>Elaboração do pedido de assistência judiciária mútu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3E0340-7C51-417B-ACE2-03B4EA1F3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o deve ser um pedido de assistência judiciária mútua?</a:t>
            </a: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ada país e autoridade podem ter uma maneira diferente de apresentar um pedido de assistência judiciária mútu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Não há nenhum modelo imposto internacionalmente, exceto quanto aos EUA desde 22 de maio de 2017</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Há experiências regionais que visam o uso de modelos de formulários para certos países ou para certos tipos de solicitações (por exemplo, formulários do modelo CoE, formulários do modelo UNODC, solicitações de dados eletrónicos para os EUA...)</a:t>
            </a:r>
            <a:endParaRPr b="0" lang="en-US" sz="26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526340-FF72-4A13-8731-355570903E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mplos regionai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A União Europei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artir de 22 de maio de 2017, os Estados da UE foram </a:t>
            </a:r>
            <a:r>
              <a:rPr b="0" lang="pt-PT" sz="2800" spc="-1" strike="noStrike" u="sng">
                <a:solidFill>
                  <a:srgbClr val="000000"/>
                </a:solidFill>
                <a:uFillTx/>
                <a:latin typeface="Calibri"/>
              </a:rPr>
              <a:t>obrigados</a:t>
            </a:r>
            <a:r>
              <a:rPr b="0" lang="pt-PT" sz="2800" spc="-1" strike="noStrike">
                <a:solidFill>
                  <a:srgbClr val="000000"/>
                </a:solidFill>
                <a:latin typeface="Calibri"/>
              </a:rPr>
              <a:t> a substituir os pedidos de assistência judiciária mútua por um formulário único denominado Decisão Europeia de Investigação (DEI) para cooperação em matéria penal entre os Estados-Membros (exceto para equipas de investigação conjuntas)</a:t>
            </a:r>
            <a:endParaRPr b="0" lang="en-US" sz="28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F3D61-4EB1-45B5-9907-F5ED947866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 Decisão Europeia de Investigação (desde mai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m único formulário para preencher entre os países da UE (exceto a Irlanda e a Dinamarca e, com exceção das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zos específicos para executar 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zões específicas para recusar a execução de um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rões uniformes e elevados para garantir os direitos dos cidadã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00901-CD22-4239-BFA1-2798E63A0F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elo de formulário de pedido de assistência do Conselho da Europa</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23" name=""/>
          <p:cNvSpPr txBox="1"/>
          <p:nvPr/>
        </p:nvSpPr>
        <p:spPr>
          <a:xfrm>
            <a:off x="457200" y="2207880"/>
            <a:ext cx="8229600" cy="429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delo de formulário de </a:t>
            </a:r>
            <a:r>
              <a:rPr b="0" lang="pt-PT" sz="3200" spc="-1" strike="noStrike">
                <a:solidFill>
                  <a:srgbClr val="000000"/>
                </a:solidFill>
                <a:latin typeface="Calibri"/>
              </a:rPr>
              <a:t>pedido de </a:t>
            </a:r>
            <a:r>
              <a:rPr b="0" lang="pt-PT" sz="3200" spc="-1" strike="noStrike">
                <a:solidFill>
                  <a:srgbClr val="000000"/>
                </a:solidFill>
                <a:latin typeface="Calibri"/>
              </a:rPr>
              <a:t>assistência judiciária mútua em matéria penal adotado pelo PC-OC na sua 69.ª reunião em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etendido apenas como um guia e uma referê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de ser adaptado para cada país e par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BCF1D6-9821-49C5-B801-081925D0F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O PEDIDO</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Processo n.º …….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rgência/Confidencialidad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1. </a:t>
            </a:r>
            <a:r>
              <a:rPr b="1" lang="pt-PT" sz="1400" spc="-1" strike="noStrike">
                <a:solidFill>
                  <a:srgbClr val="000000"/>
                </a:solidFill>
                <a:latin typeface="Calibri"/>
              </a:rPr>
              <a:t>AUTORIDADE REQUERE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Detalhes de contacto: números de telefone e fax, endereços de e-mai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2. AUTORIDADE REQUERIDA</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3. OBJETO E RAZÃ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Tipo e finalidade do pedido - Base jurídica do pedido Tipo de infração - Descrição da fase do processo pena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Se aplicáve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Justificação da urgê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m requisito a ser notificado sobre a data/local da execução do pedido, bem como sobre a</a:t>
            </a:r>
            <a:r>
              <a:rPr b="0" lang="pt-PT" sz="1400" spc="-1" strike="noStrike">
                <a:solidFill>
                  <a:srgbClr val="000000"/>
                </a:solidFill>
                <a:latin typeface="Calibri"/>
              </a:rPr>
              <a:t> presença de determinadas pessoas com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dicação sobre o envolvimento prévio de agentes da autoridade e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formações sobre solicitações anteriores de comunicações/MLA (incluindo números de referê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8FF12-5183-462E-9220-3267E5ADE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SSOAS ENVOLVIDAS (principalmente suspei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dereç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ção no processo</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 aplicável e disponível: - Número de identificação/passaporte - Alcunha ​​- data/local de nascim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ção sobre uma pessoa coletiv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Se aplicável e disponível </a:t>
            </a:r>
            <a:endParaRPr b="0" lang="en-US" sz="18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úmero de registo e endereço da sede</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dereços de diferentes agências </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hes de contacto da pessoa autorizada a atuar em nome da empresa </a:t>
            </a:r>
            <a:endParaRPr b="0" lang="en-US" sz="14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EEFEE-E7EF-469E-A6EC-4F1D50DA5F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tas rogató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os e informações legais sobre a infraçã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o dos factos relevantes que indicam o tempo, o local e o modo de prática d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lificação legal da infração com indicação das disposições relevantes, incluindo a moldura legal da pena</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ção clara das ligações entre a infração e a pessoa e entre a infração e as provas/medidas/recursos criminais pretendidos no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aplicável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nos causados ​​pel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ção sobre as ví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necessário, disposições sobre o lapso de t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isquer outras informações adicionais que possam ajudar a autoridade solicitada a executar a solicitação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EF9A6-C571-4B7D-93F1-4E99CD71B7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a. Audiência/interrogatório de testemunhas, peritos, suspeitos, acusados ​​e outras pesso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1. </a:t>
            </a:r>
            <a:r>
              <a:rPr b="1" lang="pt-PT" sz="2000" spc="-1" strike="noStrike">
                <a:solidFill>
                  <a:srgbClr val="000000"/>
                </a:solidFill>
                <a:latin typeface="Calibri"/>
              </a:rPr>
              <a:t>Audição/interrogatório realizado pela autoridade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autoridade competente que deve realizar a audiçã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o estatuto da pessoa a ser ouvi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formações sobre direitos e obrigações (por exemplo, inquirição sob juramento/compromisso ou o direito de ser assistido por um advogado/intérprete) para ser notificado à pessoa a ser ouvi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dicar se a pessoa a ouvir requer proteção (incluindo pormenores sobre eventuais acordos existentes entre ambas as Partes sobre esta questão)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4CB4D-5744-4E4C-85E9-9A7E6E5A73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
          <p:cNvSpPr txBox="1"/>
          <p:nvPr/>
        </p:nvSpPr>
        <p:spPr>
          <a:xfrm>
            <a:off x="456840" y="1417680"/>
            <a:ext cx="8451720" cy="51861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No final desta sessão, os participantes deverão ser capazes de:</a:t>
            </a:r>
            <a:endParaRPr b="0" lang="en-US" sz="30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Melhorar ou atualizar os seus conhecimentos sobre os princípios gerais da assistência judiciária mútua</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Saber como reforçar, na fase de elaboração, a possibilidade de um pedido de assistência judiciária mútua vir a ser executado</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dotar uma perspetiva de eficiência ao receber um pedido de assistência judiciária mútua de um país estrangeiro</a:t>
            </a:r>
            <a:endParaRPr b="0" lang="en-US" sz="28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36C8D0-05BD-428F-9FE6-BCDD80BC63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2. Audiência/interrogatório por videoconferê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s razões pelas quais não é desejável ou possível comparecer pessoalmen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da autoridade judicial que realiza </a:t>
            </a:r>
            <a:r>
              <a:rPr b="0" lang="pt-PT" sz="2000" spc="-1" strike="noStrike">
                <a:solidFill>
                  <a:srgbClr val="000000"/>
                </a:solidFill>
                <a:latin typeface="Calibri"/>
              </a:rPr>
              <a:t>a audição/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etalhes relativos às modalidades práticas (informação técnica sobre meios disponíveis, propostas relativas ao pagamento de custos, dados de contacto para a pessoa de contacto técnico,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tificação de direitos e obrigações da pessoa a ser ouvida/interroga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tas/hora propos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necessidade de um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medidas para proteger a pessoa a ser ouvida/interroga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que o suspeito ou acusado consente na audiência/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9DBD4-5E41-49E7-BD95-214F631322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3. </a:t>
            </a:r>
            <a:r>
              <a:rPr b="1" lang="pt-PT" sz="2800" spc="-1" strike="noStrike">
                <a:solidFill>
                  <a:srgbClr val="000000"/>
                </a:solidFill>
                <a:latin typeface="Calibri"/>
              </a:rPr>
              <a:t>Audição/interrogatório por conferê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o nome da autoridade judiciária ou das pessoas que irão realizar a audição/interrogató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e que a testemunha ou especialista está disposta a participar na audição/interrogatório por conferê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886F4-F700-4FBA-B0C0-D1CBCAB35F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12840" y="414360"/>
            <a:ext cx="8596080" cy="771984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b. Obtenção de prov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1. Medidas gerai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dentificação de iten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usca e apreens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Tipo de investigação: buscas corporais/buscas domiciliária/outros locai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a medida do possível, identificação precisa da pessoa, ou locais a serem buscados (localização, interesse da propriedade, contas bancá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dentificação de documentos, registos, dad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r detalhes sobre as ligações entre a pessoa, os procedimentos a realizar no estrangeiro e as medidas solicitadas, por exemplo, o local a ser buscad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Cópia do mandado/ordem emitida pelas autoridades requerentes</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6332D-31C4-492E-B176-468CF47616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20680" y="282600"/>
            <a:ext cx="8688240" cy="643896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b2. Medidas específica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u="sng">
                <a:solidFill>
                  <a:srgbClr val="000000"/>
                </a:solidFill>
                <a:uFillTx/>
                <a:latin typeface="Calibri"/>
              </a:rPr>
              <a:t> </a:t>
            </a:r>
            <a:r>
              <a:rPr b="1" lang="pt-PT" sz="1700" spc="-1" strike="noStrike" u="sng">
                <a:solidFill>
                  <a:srgbClr val="000000"/>
                </a:solidFill>
                <a:uFillTx/>
                <a:latin typeface="Calibri"/>
              </a:rPr>
              <a:t>b2.1. Dados eletrónicos  </a:t>
            </a:r>
            <a:endParaRPr b="0" lang="en-US" sz="1700" spc="-1" strike="noStrike">
              <a:solidFill>
                <a:srgbClr val="000000"/>
              </a:solidFill>
              <a:latin typeface="Calibri"/>
            </a:endParaRPr>
          </a:p>
          <a:p>
            <a:pPr>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reservaçã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relevantes a serem preservados, incluindo a sua localização (detentor dos dados armazenados no computador, localização do sistema informático)</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Motivos para acreditar que existem riscos de perda ou modific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dicação que uma solicitação de assistência judiciária mútua será emitida de seguida , com o objetivo de obter os dados preserv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 </a:t>
            </a:r>
            <a:r>
              <a:rPr b="1" lang="pt-PT" sz="1700" spc="-1" strike="noStrike">
                <a:solidFill>
                  <a:srgbClr val="000000"/>
                </a:solidFill>
                <a:latin typeface="Calibri"/>
              </a:rPr>
              <a:t>* Busca ou acesso semelhante, apreensão ou obtenção coreciva semelhante, ou forneciment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Finalidade específica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solicitados a serem apreendidos, obtidos ou fornecidos, incluindo, se conhecida, a sua localização física e o controlador de dados (detentor dos dados armazenados do computador), dados técnicos necessários para executar esta 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Na maior medida possível, a identificação precisa da pessoa ou locais a serem investigados, dando detalhes sobre as ligações entre a pessoa, dados e o local a ser investig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onto de contact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Se aplicável:</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 </a:t>
            </a:r>
            <a:r>
              <a:rPr b="0" lang="pt-PT" sz="1700" spc="-1" strike="noStrike">
                <a:solidFill>
                  <a:srgbClr val="000000"/>
                </a:solidFill>
                <a:latin typeface="Calibri"/>
              </a:rPr>
              <a:t>- Informação sobre uma eventual solicitação anterior de preservação de dados </a:t>
            </a:r>
            <a:endParaRPr b="0" lang="en-US" sz="17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CA4DE-927A-4800-B267-089C418DE4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80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Calibri"/>
              </a:rPr>
              <a:t> </a:t>
            </a:r>
            <a:r>
              <a:rPr b="1" lang="en-US" sz="1700" spc="-1" strike="noStrike" u="sng">
                <a:solidFill>
                  <a:srgbClr val="000000"/>
                </a:solidFill>
                <a:uFillTx/>
                <a:latin typeface="Calibri"/>
              </a:rPr>
              <a:t>b2.2. Apreensão e/ou confisco de bens criminos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Razões para acreditar que os ativos estão localizados no Estado solicit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os procedimentos que o Estado solicitante deseja seguir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que a medida solicitada ou quaisquer outras medidas semelhantes podem ser tomadas no território do Estado solicitante ao abrigo da sua lei nacion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os: cópia do mandado de apreensão ou confisco e declaração dos respetivos motivos; e, se for o caso, confirmação de que o confisco é exequí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formações relativas a contas bancárias no Estado solicitad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Quando o confisco se destina ao pagamento de uma quantia monetária correspondente ao valor dos ativos confiscados, forneçer informações sobre o valor máximo dos ativos a serem apreendi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ar documentos que comprovem que terceiros tiveram a oportunidade de reivindicar direitos - Informações sobre solicitações semelhantes enviadas para outros Est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Informação sobre solicitações anteriores de obtenção de provas/para imobilização de bens ou apreensão de objetos relacionados com a presente solicitação (nome do arguido/condenado) - Restituição: indicação de itens/artigos obtidos por meios criminais que devem estar à disposição do Estado solicitante a serem devolvidos aos seus legítimos proprietári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F4E08-A7DA-4CEB-A7E1-5602EEA557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247680"/>
            <a:ext cx="8451720" cy="5686560"/>
          </a:xfrm>
          <a:prstGeom prst="rect">
            <a:avLst/>
          </a:prstGeom>
          <a:noFill/>
          <a:ln w="0">
            <a:noFill/>
          </a:ln>
        </p:spPr>
        <p:txBody>
          <a:bodyPr anchor="t">
            <a:normAutofit fontScale="96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c. Obtenção de informações de instituições financei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talhes da instituição financeira (nome do banco ou instituição financeira, endereço da agência onde a conta é manti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Número da co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as informações são solicitadas - Razões para acreditar que a conta é mantida no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d. Obtenção dados de telefone/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1. Informação sobre dad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relativas ao titular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os dados do telefone são necessári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2. Informações sobre dad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endereço IP em relação ao qual a identificação do utilizador é procurada (quando o endereço IP é conhecido), o registo temporal (dia e hora de utilização), e do nome do ISP - Indicação do nome e endereço do suspeito (quando ele/ela é conhecido, mas o endereço IP do utilizador concreto não é conhecido) e, se conhecido, a data e hora de uso e o nome do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Para mais dados de tráfego, informações sobre o período em relação ao qual se pretende informação sobre qual o endereço IP que foi utilizado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E20AD-7F38-40E3-AA23-6F8B247CD1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e. Realização de períci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formação sobre a perícia pretendid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Lista de quesitos a serem respondidos pelo peri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f. Interceção de comunicaçõ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Qualquer informação relevante sobre o estado da pessoa e sobre a relação entre a medida e a investigação em curso, tendo como referência os requisitos legais daquela no </a:t>
            </a:r>
            <a:r>
              <a:rPr b="0" lang="pt-PT" sz="2000" spc="-1" strike="noStrike">
                <a:solidFill>
                  <a:srgbClr val="000000"/>
                </a:solidFill>
                <a:latin typeface="Calibri"/>
              </a:rPr>
              <a:t>Estado requere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 Informações sobre o período de temp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g. Técnicas especiais de </a:t>
            </a:r>
            <a:r>
              <a:rPr b="1" lang="pt-PT" sz="2000" spc="-1" strike="noStrike" u="sng">
                <a:solidFill>
                  <a:srgbClr val="000000"/>
                </a:solidFill>
                <a:uFillTx/>
                <a:latin typeface="Calibri"/>
              </a:rPr>
              <a:t>investigaç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ntregas controladas: consultar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Ações encobertas: consultar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quipas de investigação conjuntas: consultar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2CABE-67DA-479F-9D09-CA7ECBBC4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ii. Modalidades específicas de execuçã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Formalidades e procedimentos necessários ao abrigo da lei do Estado solicitante e orientação sobre as mesmas</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esença de funcionários e outras pessoas relevantes envolvidas do Estado solicitante e nome e cargo dessas pesso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licitação para realizar a audiência/interrogatório pelos funcion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azo para execu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ordenação entre autoridades competentes e relevantes (pessoas de contact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ustos (consulte a explicação nas diretrize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dioma a utilizar - Indicação de requisitos para manter a existência e a substância da solicitação confidenci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regras para garantir a proteção de d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v. Modalidades para a transmissão de prov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se os originais são necess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eios preferidos de transmissão a serem utilizados pelo Estado solicitado (correio oficial, funcionário de ligação, representante diplomático, etc.)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ópias antecipadas</a:t>
            </a:r>
            <a:endParaRPr b="0" lang="en-US" sz="17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EEA19-2CA2-4453-908B-C0542ACEBF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B. Entrega de documentos judiciais (escritos e registos; convocatória para comparecer como testemunha/peri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 Informação </a:t>
            </a:r>
            <a:r>
              <a:rPr b="1" lang="pt-PT" sz="1600" spc="-1" strike="noStrike">
                <a:solidFill>
                  <a:srgbClr val="000000"/>
                </a:solidFill>
                <a:latin typeface="Calibri"/>
              </a:rPr>
              <a:t>comum a todos os pedidos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entrega solicita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Especificação de documentos a serem entregu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sobre proteção de testemunh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roblemas de passagem segur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para confirmação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se a entrega falh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Aprovação da assunção de cust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i. Informações necessárias na convocatória para comparec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de compa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alternativa de comparência, 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embolsos aproximados a pagar e despesas de viagem e de estadia reembolsáve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Visto ou ou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1855A-83F4-4619-8E68-968E25791B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C. Transferência temporária de uma </a:t>
            </a:r>
            <a:r>
              <a:rPr b="1" lang="pt-PT" sz="1600" spc="-1" strike="noStrike">
                <a:solidFill>
                  <a:srgbClr val="000000"/>
                </a:solidFill>
                <a:latin typeface="Calibri"/>
              </a:rPr>
              <a:t>pessoa deti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transferência: ao Estado solicitante ou ao Estad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s propostas para transferência e regress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Local de transfe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Finalidade da transferência (por exemplo, testemunha, confronto)</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claração de consentimento da pessoa interess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onfirmação de que a pessoa em questão permanecerá detida</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se o trânsito é necessár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essoa(s) de contacto responsável(eis) pela transfer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 Extratos de registos judicia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Identificação da pessoa cujo registo judicial é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 Indicação se o pedido é feito num contexto nã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6. </a:t>
            </a:r>
            <a:r>
              <a:rPr b="1" lang="pt-PT" sz="1600" spc="-1" strike="noStrike">
                <a:solidFill>
                  <a:srgbClr val="000000"/>
                </a:solidFill>
                <a:latin typeface="Calibri"/>
              </a:rPr>
              <a:t>INFORMAÇÃO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Qualquer outra informação que o Estado requerente considere importante - Pessoa de contacto (nome, detalhes de contacto, idioma) - Lista de anex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arimbo, nome, função do funcionário, data e assinatur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563D79-F388-444D-93F3-F57A3C0416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Um</a:t>
            </a:r>
            <a:br>
              <a:rPr sz="3200"/>
            </a:br>
            <a:r>
              <a:rPr b="1" lang="en-US" sz="3200" spc="-1" strike="noStrike">
                <a:solidFill>
                  <a:srgbClr val="000000"/>
                </a:solidFill>
                <a:latin typeface="Calibri"/>
                <a:ea typeface="ＭＳ Ｐゴシック"/>
              </a:rPr>
              <a:t>Princípios gerais de assistência judiciária mú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C004FB-4301-4848-B33C-1EB4388C3C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quisitos frequentes e comuns (com ou sem um tratado) incluem: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função, carimbo e assinatura da autoridade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Base jurídica do pedido (tratado internacional/convenção ou reciprocidad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Quadro jurídico no </a:t>
            </a:r>
            <a:r>
              <a:rPr b="0" lang="pt-PT" sz="2000" spc="-1" strike="noStrike">
                <a:solidFill>
                  <a:srgbClr val="000000"/>
                </a:solidFill>
                <a:latin typeface="Calibri"/>
              </a:rPr>
              <a:t>Estado requerente (</a:t>
            </a:r>
            <a:r>
              <a:rPr b="0" lang="pt-PT" sz="2000" spc="-1" strike="noStrike">
                <a:solidFill>
                  <a:srgbClr val="000000"/>
                </a:solidFill>
                <a:latin typeface="Calibri"/>
              </a:rPr>
              <a:t>nome dos suspeitos, qualificação jurídica das infrações e disposições pertinentes, incluindo sançõ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Resumo dos fact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Medidas específicas pretendi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2DAB25-2AD1-47DC-84B8-87E69246BD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Base </a:t>
            </a:r>
            <a:r>
              <a:rPr b="1" lang="pt-PT" sz="3200" spc="-1" strike="noStrike">
                <a:solidFill>
                  <a:srgbClr val="000000"/>
                </a:solidFill>
                <a:latin typeface="Calibri"/>
              </a:rPr>
              <a:t>jurídica do pedido de assistência</a:t>
            </a:r>
            <a:endParaRPr b="0" lang="en-US" sz="3200" spc="-1" strike="noStrike">
              <a:solidFill>
                <a:srgbClr val="000000"/>
              </a:solidFill>
              <a:latin typeface="Calibri"/>
            </a:endParaRPr>
          </a:p>
        </p:txBody>
      </p:sp>
      <p:sp>
        <p:nvSpPr>
          <p:cNvPr id="157" name=""/>
          <p:cNvSpPr txBox="1"/>
          <p:nvPr/>
        </p:nvSpPr>
        <p:spPr>
          <a:xfrm>
            <a:off x="456840" y="1471320"/>
            <a:ext cx="8451720" cy="4957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outros tratados e convenções bilaterais ou multilaterais, </a:t>
            </a:r>
            <a:r>
              <a:rPr b="1" lang="pt-PT" sz="2400" spc="-1" strike="noStrike" u="sng">
                <a:solidFill>
                  <a:srgbClr val="000000"/>
                </a:solidFill>
                <a:uFillTx/>
                <a:latin typeface="Calibri"/>
              </a:rPr>
              <a:t>a convenção de Budapeste</a:t>
            </a:r>
            <a:r>
              <a:rPr b="0" lang="pt-PT" sz="2400" spc="-1" strike="noStrike">
                <a:solidFill>
                  <a:srgbClr val="000000"/>
                </a:solidFill>
                <a:latin typeface="Calibri"/>
              </a:rPr>
              <a:t> </a:t>
            </a:r>
            <a:r>
              <a:rPr b="1" lang="pt-PT" sz="2400" spc="-1" strike="noStrike">
                <a:solidFill>
                  <a:srgbClr val="000000"/>
                </a:solidFill>
                <a:latin typeface="Calibri"/>
              </a:rPr>
              <a:t>pode ser utilizada como base legal </a:t>
            </a:r>
            <a:r>
              <a:rPr b="1" lang="pt-PT" sz="2400" spc="-1" strike="noStrike">
                <a:solidFill>
                  <a:srgbClr val="000000"/>
                </a:solidFill>
                <a:latin typeface="Calibri"/>
              </a:rPr>
              <a:t>para pedidos de </a:t>
            </a:r>
            <a:r>
              <a:rPr b="1" lang="pt-PT" sz="2400" spc="-1" strike="noStrike">
                <a:solidFill>
                  <a:srgbClr val="000000"/>
                </a:solidFill>
                <a:latin typeface="Calibri"/>
              </a:rPr>
              <a:t>assistência judiciária mútua relacionadas com cibercrimes, bem como para recolher provas em qualquer processo crimina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pt-PT" sz="2400" spc="-1" strike="noStrike">
                <a:solidFill>
                  <a:srgbClr val="000000"/>
                </a:solidFill>
                <a:latin typeface="Calibri"/>
              </a:rPr>
              <a:t>ART. 25.1.º da Convenção de Budapeste</a:t>
            </a: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Calibri"/>
              </a:rPr>
              <a:t>Quando não houver tratado ou acordo de assistência mútua com base em legislação uniforme ou recíproca em vigor entre as Partes solicitante e solicitada, aplicar-se-á o disposto nos parágrafos 2 a 9 deste artigo. As disposições deste artigo não se aplicam quando existe um tratado, acordo ou legislação, a menos que as Partes envolvidas concordem em aplicar qualquer parte do restante deste artigo no seu luga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49F17E-CAB8-4D29-A89C-51978F9DD6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comunicação é tão </a:t>
            </a:r>
            <a:r>
              <a:rPr b="1" lang="en-US" sz="4000" spc="-1" strike="noStrike">
                <a:solidFill>
                  <a:srgbClr val="000000"/>
                </a:solidFill>
                <a:latin typeface="Calibri"/>
              </a:rPr>
              <a:t>importante como o próprio pedido: </a:t>
            </a:r>
            <a:br>
              <a:rPr sz="4000"/>
            </a:br>
            <a:endParaRPr b="0" lang="en-US" sz="40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nome e título mencionados </a:t>
            </a:r>
            <a:r>
              <a:rPr b="0" lang="pt-PT" sz="2400" spc="-1" strike="noStrike" u="sng">
                <a:solidFill>
                  <a:srgbClr val="000000"/>
                </a:solidFill>
                <a:uFillTx/>
                <a:latin typeface="Calibri"/>
              </a:rPr>
              <a:t>claramente</a:t>
            </a:r>
            <a:r>
              <a:rPr b="0" lang="pt-PT" sz="2400" spc="-1" strike="noStrike">
                <a:solidFill>
                  <a:srgbClr val="000000"/>
                </a:solidFill>
                <a:latin typeface="Calibri"/>
              </a:rPr>
              <a:t> (não apenas a sua assinatura e carimb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Informações de contacto (endereço de e-mail, número de telefone, fuso horário...) a ser obti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Línguas falada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Wingdings"/>
                <a:ea typeface="Wingdings"/>
              </a:rPr>
              <a:t></a:t>
            </a:r>
            <a:r>
              <a:rPr b="0" lang="pt-PT" sz="2400" spc="-1" strike="noStrike">
                <a:solidFill>
                  <a:srgbClr val="000000"/>
                </a:solidFill>
                <a:latin typeface="Calibri"/>
              </a:rPr>
              <a:t> </a:t>
            </a:r>
            <a:r>
              <a:rPr b="0" lang="pt-PT" sz="2400" spc="-1" strike="noStrike">
                <a:solidFill>
                  <a:srgbClr val="000000"/>
                </a:solidFill>
                <a:latin typeface="Calibri"/>
              </a:rPr>
              <a:t>Se a </a:t>
            </a:r>
            <a:r>
              <a:rPr b="0" lang="pt-PT" sz="2400" spc="-1" strike="noStrike">
                <a:solidFill>
                  <a:srgbClr val="000000"/>
                </a:solidFill>
                <a:latin typeface="Calibri"/>
              </a:rPr>
              <a:t>autoridade requerida tiver uma pergunta ou problema e não entender as suas expectativas, poderá dar uma resposta clara e breve, evitando a elaboração de um novo pedido </a:t>
            </a:r>
            <a:r>
              <a:rPr b="0" lang="pt-PT" sz="2400" spc="-1" strike="noStrike">
                <a:solidFill>
                  <a:srgbClr val="000000"/>
                </a:solidFill>
                <a:latin typeface="Calibri"/>
              </a:rPr>
              <a:t>de assistência judiciária mútu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005A349-63DD-4493-B6BB-126A10C76E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 dos fact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pt-PT" sz="2000" spc="-1" strike="noStrike">
                <a:solidFill>
                  <a:srgbClr val="000000"/>
                </a:solidFill>
                <a:latin typeface="Calibri"/>
              </a:rPr>
              <a:t>Tenha sempre em mente que a </a:t>
            </a:r>
            <a:r>
              <a:rPr b="0" lang="pt-PT" sz="2000" spc="-1" strike="noStrike">
                <a:solidFill>
                  <a:srgbClr val="000000"/>
                </a:solidFill>
                <a:latin typeface="Calibri"/>
              </a:rPr>
              <a:t>autoridade requerida não conhece o seu caso enquanto explica os factos e as investigações necessá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Nunca escreva de maneira muito conclusiva </a:t>
            </a:r>
            <a:r>
              <a:rPr b="0" i="1" lang="pt-PT" sz="2000" spc="-1" strike="noStrike">
                <a:solidFill>
                  <a:srgbClr val="000000"/>
                </a:solidFill>
                <a:latin typeface="Calibri"/>
              </a:rPr>
              <a:t>(por exemplo, explicação de “investigações para a identificação do Sr. X”).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executar facilmente quase tudo que pergunt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farão uma verificação de dupla incriminação para certos tipos de investigações (ou se nenhum tratado/convenção se aplic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solicitar elementos complementares para a tomada de medidas coercivas (por exemplo, “probable cause”, nos EUA ou “certificate” em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3DB992-CEC2-45AB-8644-80B703D214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guns Estados exigirão informações específicas de conteú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fontScale="99000"/>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xemplo do padrão "probable causa” nos EUA: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Trebuchet MS"/>
              </a:rPr>
              <a:t>"Um </a:t>
            </a:r>
            <a:r>
              <a:rPr b="1" i="1" lang="pt-PT" sz="2000" spc="-1" strike="noStrike">
                <a:solidFill>
                  <a:srgbClr val="000000"/>
                </a:solidFill>
                <a:latin typeface="Trebuchet MS"/>
              </a:rPr>
              <a:t>motivo razoável</a:t>
            </a:r>
            <a:r>
              <a:rPr b="0" i="1" lang="pt-PT" sz="2000" spc="-1" strike="noStrike">
                <a:solidFill>
                  <a:srgbClr val="000000"/>
                </a:solidFill>
                <a:latin typeface="Trebuchet MS"/>
              </a:rPr>
              <a:t> para suspeitar que</a:t>
            </a:r>
            <a:r>
              <a:rPr b="0" lang="pt-PT" sz="2000" spc="-1" strike="noStrike">
                <a:solidFill>
                  <a:srgbClr val="000000"/>
                </a:solidFill>
                <a:latin typeface="Calibri"/>
              </a:rPr>
              <a:t> </a:t>
            </a:r>
            <a:r>
              <a:rPr b="1" i="1" lang="pt-PT" sz="2000" spc="-1" strike="noStrike" u="sng">
                <a:solidFill>
                  <a:srgbClr val="000000"/>
                </a:solidFill>
                <a:uFillTx/>
                <a:latin typeface="Trebuchet MS"/>
              </a:rPr>
              <a:t>uma pessoa cometeu ou está a cometer um crime ou que um local contém itens específicos relacionados com um crime</a:t>
            </a:r>
            <a:r>
              <a:rPr b="0" i="1" lang="pt-PT" sz="2000" spc="-1" strike="noStrike">
                <a:solidFill>
                  <a:srgbClr val="000000"/>
                </a:solidFill>
                <a:latin typeface="Trebuchet MS"/>
              </a:rPr>
              <a:t>" (Black’s law dictionary)</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pedido de assistência </a:t>
            </a:r>
            <a:r>
              <a:rPr b="1" lang="pt-PT" sz="2000" spc="-1" strike="noStrike">
                <a:solidFill>
                  <a:srgbClr val="000000"/>
                </a:solidFill>
                <a:latin typeface="Calibri"/>
              </a:rPr>
              <a:t>judiciária mútua </a:t>
            </a:r>
            <a:r>
              <a:rPr b="1" lang="pt-PT" sz="2000" spc="-1" strike="noStrike" u="sng">
                <a:solidFill>
                  <a:srgbClr val="000000"/>
                </a:solidFill>
                <a:uFillTx/>
                <a:latin typeface="Calibri"/>
              </a:rPr>
              <a:t>deve</a:t>
            </a:r>
            <a:r>
              <a:rPr b="1" lang="pt-PT" sz="2000" spc="-1" strike="noStrike">
                <a:solidFill>
                  <a:srgbClr val="000000"/>
                </a:solidFill>
                <a:latin typeface="Calibri"/>
              </a:rPr>
              <a:t> fornecer as seguintes informações:</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O tipo de dados a serem apreendidos</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 razão pela qual se relaciona com a infração penal a ser investigada (ligação com o alegado autor e com o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É provável que os dados estejam atualmente onde a busca será feita (não se esqueça de mencionar qualquer solicitação anterior de preservação feita ao abrigo da convenção de Budapeste!)</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4DAE2-5AF5-4FB5-96A0-CC0C8B952E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S DE DAD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PADRÃO LEGAL NOS E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do subscri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relação" entre as provas solicitadas e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transa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 os dados devem ser relevantes e materiais para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ú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PADRÕES LEGAIS DOS EUA A SEREM CONHECIDAS NO RESUMO DOS FACT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A5EAF-4844-481D-A60B-92086D1C66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no pedido</a:t>
            </a:r>
            <a:endParaRPr b="0" lang="en-US" sz="4400" spc="-1" strike="noStrike">
              <a:solidFill>
                <a:srgbClr val="000000"/>
              </a:solidFill>
              <a:latin typeface="Calibri"/>
            </a:endParaRPr>
          </a:p>
        </p:txBody>
      </p:sp>
      <p:sp>
        <p:nvSpPr>
          <p:cNvPr id="173" name=""/>
          <p:cNvSpPr txBox="1"/>
          <p:nvPr/>
        </p:nvSpPr>
        <p:spPr>
          <a:xfrm>
            <a:off x="140760" y="1025640"/>
            <a:ext cx="8842680" cy="533088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Peça todas as medidas que possam ser ordenadas no seu sistema legal e que pareçam úteis para o seu caso criminal</a:t>
            </a:r>
            <a:endParaRPr b="0" lang="en-US" sz="20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Mencione a confidencialidade se necessário: NÃO é um princípio em todos os Estados </a:t>
            </a:r>
            <a:r>
              <a:rPr b="0" lang="pt-PT" sz="1800" spc="-1" strike="noStrike">
                <a:solidFill>
                  <a:srgbClr val="000000"/>
                </a:solidFill>
                <a:latin typeface="Calibri"/>
              </a:rPr>
              <a:t>(</a:t>
            </a:r>
            <a:r>
              <a:rPr b="0" i="1" lang="pt-PT" sz="1600" spc="-1" strike="noStrike">
                <a:solidFill>
                  <a:srgbClr val="000000"/>
                </a:solidFill>
                <a:latin typeface="Calibri"/>
              </a:rPr>
              <a:t>ex .: EUA) - NB: ART. 28.º da Convenção de Budapeste</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specifique qualquer urgência </a:t>
            </a:r>
            <a:r>
              <a:rPr b="0" i="1" lang="pt-PT" sz="1600" spc="-1" strike="noStrike">
                <a:solidFill>
                  <a:srgbClr val="000000"/>
                </a:solidFill>
                <a:latin typeface="Calibri"/>
              </a:rPr>
              <a:t>(por exemplo: detenção preventiva, prazos específicos...)</a:t>
            </a:r>
            <a:endParaRPr b="0" lang="en-US" sz="16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Seja o mais específico possível</a:t>
            </a:r>
            <a:endParaRPr b="0" lang="en-US" sz="20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 Por exemplo:  especificar o local a ser investigado, que dados são importantes, especificar as datas e a hora de um endereço IP a ser identificado (data e hora)</a:t>
            </a:r>
            <a:endParaRPr b="0" lang="en-US" sz="16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Descreva qualquer procedimento específico </a:t>
            </a:r>
            <a:r>
              <a:rPr b="0" lang="pt-PT" sz="2000" spc="-1" strike="noStrike">
                <a:solidFill>
                  <a:srgbClr val="000000"/>
                </a:solidFill>
                <a:latin typeface="Calibri"/>
              </a:rPr>
              <a:t>que deva ser implementado para a </a:t>
            </a:r>
            <a:r>
              <a:rPr b="0" lang="pt-PT" sz="2000" spc="-1" strike="noStrike">
                <a:solidFill>
                  <a:srgbClr val="000000"/>
                </a:solidFill>
                <a:latin typeface="Calibri"/>
              </a:rPr>
              <a:t>regularidade da medida pretendida, caso contrário, o Estado requerido executa o pedido de assistência de acordo com sua própria lei nacional.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Por exemplo</a:t>
            </a:r>
            <a:r>
              <a:rPr b="0" i="1" lang="pt-PT" sz="1600" spc="-1" strike="noStrike">
                <a:solidFill>
                  <a:srgbClr val="000000"/>
                </a:solidFill>
                <a:latin typeface="Calibri"/>
              </a:rPr>
              <a:t>: fazer um juramento específico para depôr como testemunhar, tipo de cópia e proteção necessária para dados eletrónicos ou dispositivo)</a:t>
            </a:r>
            <a:endParaRPr b="0" lang="en-US" sz="16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	</a:t>
            </a:r>
            <a:endParaRPr b="0" lang="en-US" sz="18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DD5E31-41B1-4C41-A453-787B2E528A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 </a:t>
            </a:r>
            <a:r>
              <a:rPr b="1" lang="en-US" sz="3200" spc="-1" strike="noStrike">
                <a:solidFill>
                  <a:srgbClr val="000000"/>
                </a:solidFill>
                <a:latin typeface="Calibri"/>
              </a:rPr>
              <a:t>que deve/pode ser </a:t>
            </a:r>
            <a:r>
              <a:rPr b="1" lang="en-US" sz="3200" spc="-1" strike="noStrike">
                <a:solidFill>
                  <a:srgbClr val="000000"/>
                </a:solidFill>
                <a:latin typeface="Calibri"/>
              </a:rPr>
              <a:t>anexado ao pedido de assistência  judiciária</a:t>
            </a:r>
            <a:endParaRPr b="0" lang="en-US" sz="32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DEV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exigida pela convenção ou tratado aplicável (incluindo geralmente identidade e função da autoridade solicitante, resumo de factos e qualificações legais e provisões legais e disposições relativas à penalidade incorrida),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Às vezes as convenções ou tratados exigem uma lista de perguntas para entrevista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Tradução quando necessário (incluindo os documentos e disposições em anexo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POD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útil para a autoridade solicitada entender o que é procurado (por exemplo, cópias de ordens bancárias falsas, entrevistas, e-mails suspe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Ordem de injunção nacional ou mandado de busca, se houver (nem sempre obrigatório)</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Disposições de lei nacional relativa a poderes específicos </a:t>
            </a:r>
            <a:r>
              <a:rPr b="0" i="1" lang="pt-PT" sz="1600" spc="-1" strike="noStrike">
                <a:solidFill>
                  <a:srgbClr val="000000"/>
                </a:solidFill>
                <a:latin typeface="Calibri"/>
              </a:rPr>
              <a:t>(por exemplo, o juiz de instrução nem sempre é conhecido em certos países)</a:t>
            </a:r>
            <a:endParaRPr b="0" lang="en-US" sz="16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D2D468-693F-4582-B4AF-0D10F6E5BF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rmas rápidas de transmitir um pedido de assistência judiciária mútua:</a:t>
            </a:r>
            <a:endParaRPr b="0" lang="en-US" sz="32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ando o </a:t>
            </a:r>
            <a:r>
              <a:rPr b="0" lang="pt-PT" sz="2800" spc="-1" strike="noStrike">
                <a:solidFill>
                  <a:srgbClr val="000000"/>
                </a:solidFill>
                <a:latin typeface="Calibri"/>
              </a:rPr>
              <a:t>original do pedido é necessário, a maioria das convenções ou tratados tem </a:t>
            </a:r>
            <a:r>
              <a:rPr b="0" lang="pt-PT" sz="2800" spc="-1" strike="noStrike">
                <a:solidFill>
                  <a:srgbClr val="000000"/>
                </a:solidFill>
                <a:latin typeface="Calibri"/>
              </a:rPr>
              <a:t>um procedimento de transmissão específico para assuntos urg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É comum a boa prática, especialmente para recolher provas eletrónicas, da remessa antecipada de cópia do pedido, por e-mail, diretamente pela autoridade judiciária ou pela autoridade centr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RT. 25.3.º da Convenção de Budapeste</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0B81D2-15DB-4269-A284-1EC982897F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º da Convenção de Budapeste</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 </a:t>
            </a:r>
            <a:r>
              <a:rPr b="0" i="1" lang="pt-PT" sz="2400" spc="-1" strike="noStrike">
                <a:solidFill>
                  <a:srgbClr val="000000"/>
                </a:solidFill>
                <a:latin typeface="Calibri"/>
              </a:rPr>
              <a:t>Em caso de urgência, cada Parte pode efectuar os pedidos de auxílio judiciário mútuo ou as comunicações conexas, através de meios de comunicação expeditos, nomeadamente por fax ou correio electrónico, desde que esses meios assegurem níveis de segurança e autenticação adequados (incluindo a encriptação, se necessário), com confirmação oficial posterior se o Estado requerido o exigir. O Estado requerido deverá aceitar e responder ao pedido através de qualquer um desses meios de comunicação expeditos. </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55D60-A043-44AB-8AAF-3C88A882D4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o definir a assistência judiciária internacional?</a:t>
            </a:r>
            <a:endParaRPr b="0" lang="en-US" sz="4400" spc="-1" strike="noStrike">
              <a:solidFill>
                <a:srgbClr val="000000"/>
              </a:solidFill>
              <a:latin typeface="Calibri"/>
            </a:endParaRPr>
          </a:p>
        </p:txBody>
      </p:sp>
      <p:sp>
        <p:nvSpPr>
          <p:cNvPr id="62" name=""/>
          <p:cNvSpPr txBox="1"/>
          <p:nvPr/>
        </p:nvSpPr>
        <p:spPr>
          <a:xfrm>
            <a:off x="456840" y="1839600"/>
            <a:ext cx="845172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nhuma </a:t>
            </a:r>
            <a:r>
              <a:rPr b="0" lang="pt-PT" sz="2800" spc="-1" strike="noStrike">
                <a:solidFill>
                  <a:srgbClr val="000000"/>
                </a:solidFill>
                <a:latin typeface="Calibri"/>
              </a:rPr>
              <a:t>definição i</a:t>
            </a:r>
            <a:r>
              <a:rPr b="0" lang="pt-PT" sz="2800" spc="-1" strike="noStrike">
                <a:solidFill>
                  <a:srgbClr val="000000"/>
                </a:solidFill>
                <a:latin typeface="Calibri"/>
              </a:rPr>
              <a:t>nternacional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 do quadr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ser distinguido da cooperação policial, embora complementa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1" lang="pt-PT" sz="2400" spc="-1" strike="noStrike">
                <a:solidFill>
                  <a:srgbClr val="000000"/>
                </a:solidFill>
                <a:latin typeface="Calibri"/>
              </a:rPr>
              <a:t>Pode ser definido como qualquer meio legal com o objetivo de encontrar uma pessoa, uma informação, um documento ou qualquer prova necessária para um processo judicial e que esteja fora de alcance, porque está localizado noutro país, ao abrigo da autoridade de outro Estado</a:t>
            </a: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869D79-8A7E-40EA-8BCE-F7385FE1CF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DDCBF-530A-4F2A-B8E4-DE20BEA719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Quatro</a:t>
            </a:r>
            <a:br>
              <a:rPr sz="3200"/>
            </a:br>
            <a:r>
              <a:rPr b="1" lang="en-US" sz="3200" spc="-1" strike="noStrike">
                <a:solidFill>
                  <a:srgbClr val="000000"/>
                </a:solidFill>
                <a:latin typeface="Calibri"/>
                <a:ea typeface="ＭＳ Ｐゴシック"/>
              </a:rPr>
              <a:t>Recebimento de um pedido de assistência judiciária mútu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A5A3B0-4734-4316-A320-4436D58F6C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275760"/>
            <a:ext cx="8580600" cy="188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oa prática no recebimento de um pedido de execução: </a:t>
            </a:r>
            <a:br>
              <a:rPr sz="3200"/>
            </a:br>
            <a:r>
              <a:rPr b="1" lang="en-US" sz="3200" spc="-1" strike="noStrike">
                <a:solidFill>
                  <a:srgbClr val="000000"/>
                </a:solidFill>
                <a:latin typeface="Calibri"/>
              </a:rPr>
              <a:t>Informar do recebimento</a:t>
            </a:r>
            <a:br>
              <a:rPr sz="3200"/>
            </a:br>
            <a:endParaRPr b="0" lang="en-US" sz="32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e não seja exigido pela lei nacional, é boa prática manter a </a:t>
            </a:r>
            <a:r>
              <a:rPr b="0" lang="pt-PT" sz="2800" spc="-1" strike="noStrike">
                <a:solidFill>
                  <a:srgbClr val="000000"/>
                </a:solidFill>
                <a:latin typeface="Calibri"/>
              </a:rPr>
              <a:t>autoridade requerente informada </a:t>
            </a:r>
            <a:r>
              <a:rPr b="0" lang="pt-PT" sz="2800" spc="-1" strike="noStrike">
                <a:solidFill>
                  <a:srgbClr val="000000"/>
                </a:solidFill>
                <a:latin typeface="Calibri"/>
              </a:rPr>
              <a:t>de quem será o responsável pela execução (por exemplo, comunicação por e-mail quand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ertas situações, é um requisito (por exemplo, a DEI n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F3A9A8A-6063-4706-9559-04C7492F41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360" y="274320"/>
            <a:ext cx="8793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o analisar a solicitação de execução de um pedido de execução:</a:t>
            </a:r>
            <a:endParaRPr b="0" lang="en-US" sz="36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a convenção/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forma e conteúdo, anexos relev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o direito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Mas també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nta flexibilidade quant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ção com o remetente, se necessá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formação/explicação ao remetente quando a assistência tem de ser recusada</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E11F5B-9365-4E38-8277-8EF495D2DC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 a lei</a:t>
            </a:r>
            <a:r>
              <a:rPr b="1" lang="en-US" sz="4000" spc="-1" strike="noStrike">
                <a:solidFill>
                  <a:srgbClr val="000000"/>
                </a:solidFill>
                <a:latin typeface="Calibri"/>
              </a:rPr>
              <a:t> </a:t>
            </a:r>
            <a:r>
              <a:rPr b="1" lang="en-US" sz="3600" spc="-1" strike="noStrike">
                <a:solidFill>
                  <a:srgbClr val="000000"/>
                </a:solidFill>
                <a:latin typeface="Calibri"/>
              </a:rPr>
              <a:t>nacional parece opor-se à execução da solicitação:</a:t>
            </a:r>
            <a:endParaRPr b="0" lang="en-US" sz="3600" spc="-1" strike="noStrike">
              <a:solidFill>
                <a:srgbClr val="000000"/>
              </a:solidFill>
              <a:latin typeface="Calibri"/>
            </a:endParaRPr>
          </a:p>
        </p:txBody>
      </p:sp>
      <p:sp>
        <p:nvSpPr>
          <p:cNvPr id="197" name=""/>
          <p:cNvSpPr txBox="1"/>
          <p:nvPr/>
        </p:nvSpPr>
        <p:spPr>
          <a:xfrm>
            <a:off x="456840" y="1965240"/>
            <a:ext cx="8451720" cy="4756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Verificar que medidas ainda assim podem ser executad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rocurar alternativas legais, se houver, que possam atingir o mesmo objetivo, assim como medidas temporárias para salvaguardar as prov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r com a </a:t>
            </a:r>
            <a:r>
              <a:rPr b="0" lang="pt-PT" sz="2800" spc="-1" strike="noStrike">
                <a:solidFill>
                  <a:srgbClr val="000000"/>
                </a:solidFill>
                <a:latin typeface="Calibri"/>
              </a:rPr>
              <a:t>autoridade requerente antes </a:t>
            </a:r>
            <a:r>
              <a:rPr b="0" lang="pt-PT" sz="2800" spc="-1" strike="noStrike">
                <a:solidFill>
                  <a:srgbClr val="000000"/>
                </a:solidFill>
                <a:latin typeface="Calibri"/>
              </a:rPr>
              <a:t>da decisão final, quando possível, para discutir as alternativas ou as informações suplementares necessárias para permitir a execução.</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8A2EAC-9D6A-4469-AE7E-B978281AA0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unicação entre autoridades: </a:t>
            </a:r>
            <a:br>
              <a:rPr sz="3200"/>
            </a:br>
            <a:r>
              <a:rPr b="1" lang="en-US" sz="3200" spc="-1" strike="noStrike">
                <a:solidFill>
                  <a:srgbClr val="000000"/>
                </a:solidFill>
                <a:latin typeface="Calibri"/>
              </a:rPr>
              <a:t>ART. 27.º da Convenção de Budapeste</a:t>
            </a:r>
            <a:endParaRPr b="0" lang="en-US" sz="32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go 27.º - </a:t>
            </a:r>
            <a:r>
              <a:rPr b="1" lang="pt-PT" sz="2800" spc="-1" strike="noStrike">
                <a:solidFill>
                  <a:srgbClr val="000000"/>
                </a:solidFill>
                <a:latin typeface="Calibri"/>
              </a:rPr>
              <a:t>Procedimentos relativos aos pedidos de auxílio mútuo na falta de acordos internacionais aplicáveis</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pt-PT" sz="2400" spc="-1" strike="noStrike">
                <a:solidFill>
                  <a:srgbClr val="000000"/>
                </a:solidFill>
                <a:latin typeface="Calibri"/>
              </a:rPr>
              <a:t>Na falta de um tratado de auxílio mútuo ou de um acordo assente em legislação uniforme ou recíproca em vigor entre a Parte requerente e a Parte requerida, aplica-se o disposto nos n.os 2 a 9 do presente artigo. Existindo esse tratado, acordo ou legislação, só se aplica o disposto no presente artigo se, em vez deles, as Partes envolvidas decidirem aplicar o presente artigo, no todo ou em parte</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CD084-EC0C-4B37-AD39-9EFAE87F9F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 27.º da Convenção de Budapeste</a:t>
            </a:r>
            <a:endParaRPr b="0" lang="en-US" sz="3600" spc="-1" strike="noStrike">
              <a:solidFill>
                <a:srgbClr val="000000"/>
              </a:solidFill>
              <a:latin typeface="Calibri"/>
            </a:endParaRPr>
          </a:p>
        </p:txBody>
      </p:sp>
      <p:sp>
        <p:nvSpPr>
          <p:cNvPr id="203" name=""/>
          <p:cNvSpPr txBox="1"/>
          <p:nvPr/>
        </p:nvSpPr>
        <p:spPr>
          <a:xfrm>
            <a:off x="456840" y="1600200"/>
            <a:ext cx="845172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0" lang="pt-PT" sz="2400" spc="-1" strike="noStrike">
                <a:solidFill>
                  <a:srgbClr val="000000"/>
                </a:solidFill>
                <a:latin typeface="Calibri"/>
              </a:rPr>
              <a:t>Antes de recusar ou adiar o auxílio, a Parte requerida deverá, se for caso disso, após consulta com a Parte requerente, verificar se o pedido pode ser parcialmente executado ou sujeito às condições que considere necessária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arte requerida deverá de imediato informar a Parte requerente do resultado da execução do pedido de auxílio. Qualquer recusa ou adiamento do pedido deverão ser fundamentados. A Parte requerida também deverá informar a Parte requerente de quaisquer motivos que impossibilitem a execução do pedido ou que conduzam a um atraso significativo da mesma. </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C94DF-958D-48A8-AD0E-1822E4142A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970859-1DAC-4501-AECF-50865F1ACA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280542-1D9D-4856-8A8A-56A3FA461D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1DEB988-AE60-46EE-A03F-E44DF59D1B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Estados são soberanos dentro do seu territó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visam preservar a soberania nacional, ao mesmo tempo que estabelecem formas de cooperaçã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motivos de recusa de cooperação  são geralmente limitados pelas convençõ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tem critérios específicos para determinar se a sua legislação nacional pode ser aplicada no exteri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também visam preservar os poderes e procedimentos das autoridades nacionais a serem seguidos no país requeri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assistência judiciária mútua baseia-se nos seguintes princípios principai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366678D-6359-471B-A705-C86D2CF826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arte Cinco</a:t>
            </a:r>
            <a:br>
              <a:rPr sz="3600"/>
            </a:br>
            <a:r>
              <a:rPr b="1" lang="en-US" sz="3600" spc="-1" strike="noStrike">
                <a:solidFill>
                  <a:srgbClr val="000000"/>
                </a:solidFill>
                <a:latin typeface="Calibri"/>
              </a:rPr>
              <a:t>Resumo</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442C1D5A-ADEC-4450-9F5B-109404FDD42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18" name="Content Placeholder 2"/>
          <p:cNvSpPr/>
          <p:nvPr/>
        </p:nvSpPr>
        <p:spPr>
          <a:xfrm>
            <a:off x="457200" y="12780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ea typeface="ＭＳ Ｐゴシック"/>
              </a:rPr>
              <a:t>No final desta sessão, os participantes serão capazes d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Melhorar ou atualizar os seus conhecimentos sobre os princípios gerais da assistência judiciária mútu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Saber como reforçar as hipóteses de um pedido de assistência judiciária mútua ser executado na fase de elaboração</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Adotar uma perspetiva de eficiência ao receber um pedido de assistência </a:t>
            </a:r>
            <a:r>
              <a:rPr b="0" lang="pt-PT" sz="2800" spc="-1" strike="noStrike">
                <a:solidFill>
                  <a:srgbClr val="000000"/>
                </a:solidFill>
                <a:latin typeface="Calibri"/>
                <a:ea typeface="ＭＳ Ｐゴシック"/>
              </a:rPr>
              <a:t>judiciária mútua de um país estrangeiro</a:t>
            </a:r>
            <a:endParaRPr b="0" lang="en-US" sz="28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EF031C65-D074-4D5F-B27B-B2E370F3A66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ＭＳ Ｐゴシック"/>
              </a:rPr>
              <a:t>Per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1300B6E6-F52E-402E-9E14-7A8B39A7BD1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vos desafios para a cooperação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efones e computadores através das fronteiras para cometer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ções/e-mails ou mensagens encriptados para comunicação entre fronteiras com parceiros no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a localizada no estrangei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e dos dados probatór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ção do processo normal de assistência judiciária mú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71E5E7-7274-4FF1-9757-7299C724E5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dade judicial versus realidade digital</a:t>
            </a:r>
            <a:endParaRPr b="0" lang="en-US" sz="3600" spc="-1" strike="noStrike">
              <a:solidFill>
                <a:srgbClr val="000000"/>
              </a:solidFill>
              <a:latin typeface="Calibri"/>
            </a:endParaRPr>
          </a:p>
        </p:txBody>
      </p:sp>
      <p:graphicFrame>
        <p:nvGraphicFramePr>
          <p:cNvPr id="71" name=""/>
          <p:cNvGraphicFramePr/>
          <p:nvPr/>
        </p:nvGraphicFramePr>
        <p:xfrm>
          <a:off x="0" y="1168560"/>
          <a:ext cx="9144000" cy="5578200"/>
        </p:xfrm>
        <a:graphic>
          <a:graphicData uri="http://schemas.openxmlformats.org/drawingml/2006/table">
            <a:tbl>
              <a:tblPr/>
              <a:tblGrid>
                <a:gridCol w="4573440"/>
                <a:gridCol w="45705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Um certo tempo para cometer crime</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Jurisdição e soberania territorial</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s geralmente visíveis ao olho humano (registos bancários, sangue, faca, ADN...)</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Tempo necessário para investigar e recolher prov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Local para investigar facilmente determin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Geralmente LE especializados e procuradores e juízes</a:t>
                      </a:r>
                      <a:endParaRPr b="0" lang="en-US" sz="17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Segundos para trocar ficheiros e cometer crime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in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Efeitos internacionais do crime e provas em todo o l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 eletrónica difícil de encontrar e altamente volátil, às vezes encriptad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lta volatilidade da prova eletrónic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Incerteza sobre o local onde estão os dado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gentes policiais especializados, mas procuradores e juízes com formação ainda são necessários à medida que a tecnologia evolui e os advogados nem sempre são entendidos em computação</a:t>
                      </a:r>
                      <a:endParaRPr b="0" lang="en-US" sz="17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9D0DF-3D1B-4936-AABA-BB1594AC2D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esafi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respeitar a soberania dos outros Estados e de cumprir as convenções internacionai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mais eficiência e maior agilidade na recolha de prova eletrónica e na captura de criminos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B252C9-0BA2-43CB-81E8-8F70BBE498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5T22:48:10Z</dcterms:created>
  <dc:creator>Nigel Jones</dc:creator>
  <dc:description/>
  <dc:language>en-US</dc:language>
  <cp:lastModifiedBy>Pedro Verdelho</cp:lastModifiedBy>
  <cp:lastPrinted>2017-06-04T15:39:20Z</cp:lastPrinted>
  <dcterms:modified xsi:type="dcterms:W3CDTF">2019-09-16T05:09:13Z</dcterms:modified>
  <cp:revision>125</cp:revision>
  <dc:subject/>
  <dc:title>Introductory Cybercrime Training for Judges and Prosecutors</dc:title>
</cp:coreProperties>
</file>