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096CE0-1DC5-48C3-8C0B-429B44A833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206F3D-007D-48B9-905C-FE12354502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ção ao estudo de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cenário do estudo de caso refere-se a esquemas recentes de comprometimento de e-mails empresariais ou "BEC" (do inglês, Business E-Mail Compromise), que derivam de fraudes como "fraude de CEO" ou "ataques indiretos/por intermediários"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an-in-the-midd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anteriormente detetad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6BC1D9-DECD-4938-AFB9-2C97481850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 esta formação, foram criadas empresas e países fictícios. Estes são Atlantis, Norland, Ostland, Westland, etc. Para o exercício, todos eles ratificaram a Convenção do Conselho da Europa sobre Cibercrime (“Convenção de Budapeste”). Esta abordagem é para permitir a transferência da formação entre jurisdições, sem a necessidade de grandes mudanças nos materiais do curso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2C1272-A039-4B77-8568-556126C39A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ntrodução do facto de que, por causa do período de férias de verão, funcionários recentemente contratados foram incluídos numa operação tão importante deve levantar imediatamente suspeitas entre os formand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175DF1-751B-4829-905E-E1889A6EBA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figuração financeira deve indicar que a transferência bancária inicial não teve problemas e que mencionar as contas SWIFT e IBAN significa que a transferência de dinheiro é da natureza internacional e não nacion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 formandos devem começar a considerar a utilização dos artigos de assistência jurídica internacional da Convenção de Budapeste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65CE9E-C2B7-45DA-8556-C106388ACE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Dois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87134B-06DF-49EC-8207-F2805F58D7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nvolvimento da perpetração apresentado pelos passos mais importantes e os seus result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85355C-FADA-4C33-8164-58F52D5614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nvolvimento da perpetração apresentado pelos passos mais importantes e os seus result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01E8AF-9F9A-4E09-BF8A-8E9EAF92E0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nvolvimento da perpetração apresentado pelos passos mais importantes e os seus result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50C1B1-2B4F-4EF7-A920-F374485CEA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oante o desenvolvimento do cenário, os formadores podem desenvolver transações adicionais entre a conta bancária em Ostland e contas bancárias noutros países pertencentes a partes estatutárias da Convenção de Budapeste ou não. Ao critério dos formadores, o fim das transferências bancárias pode ser no país que está dentro do âmbito da Convenção de Budapeste ou não. No segundo caso, provavelmente os vestígios e provas finais serão perdidos ou não poderão ser recuperad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12DA3C-C298-48EC-B3AD-3036BE1BB0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Um da apresentação fará a apresentação e apresentará as principais partes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Dois apresentará o layout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Três será a perpetração do ato criminos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Quatro irá estabelecer as bases para o início da investigação e trabalho dos forman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Cinco é um resumo dos apresentados anteriormen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4922FB-2A4C-45DA-AE39-D31B1A5F23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Três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5AB3A9-4552-4EB5-8F42-247BE417B2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nvestigação deve começar em grupos de trabalho com líderes de grupo e membros a começarem a trabalhar no caso a partir da base fornecida no Material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8ECF33-CE4D-49B6-A56D-3E07672D1E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nvestigação deve começar em grupos de trabalho com líderes de grupo e membros a começarem a trabalhar no caso a partir da base fornecida no Material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F5E96A-FD9A-49BF-AD44-E21C2EB934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as eletrónicas devem ser examinadas e utilizadas como ferramenta essencial para a construção e o término da investigação e a preparação do caso para julgament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CE5567-E0FC-4327-8FA0-825599ECBE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Quatro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D1781C-6CE0-451C-A69A-6C936C0F86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9AFEC3-B261-4E36-BAA1-BE60E5ABF2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C94E65-CB9B-4B11-8647-689554122D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E64B27-0029-43E2-B807-C645C06556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ário de estudo de caso começa com o estabelecimento do Federal Bank of Atlantis (FBA), banco internacional bem conhecido, bem estabelecido e respeitado. Uma descrição como esta deve levar os formandos a tomarem uma decisão de que este tipo de banco não deve estar envolvido em nenhum tipo de problema, muito menos aqueles semelhantes a um que será descrito adian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 formandos devem identificar os principais factos e as principais divisões e participantes do negócio, a fim de compreender o âmbito e a configuração do círculo de negócios, no qual serão definidos mais detalhes sobre 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0FEA71-3887-418E-8F06-527F06752A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ação fictícia Federal Bank of Atlant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0ED9DB-9E4A-4121-8C7C-0C7A213DFC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ação fictícia United Bank Prin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C03E0F-E3B9-4C24-8C09-9C6F8004F8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ação fictícia Docklands Securities Bank of Nor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98F882-0593-4AC1-A52F-CBBA990C14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Um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5A9E04-8314-451B-B87C-372F6247C3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3A9F-B076-46E1-A287-EC513E1E6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9F04-CD85-481B-B03E-68324DA7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369B-2BC5-4164-93DA-25D056A3B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80B1-C158-4233-97A5-46270230D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1834-4C0E-4F7B-B3A1-D3620480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E13A-8E3E-4AEB-B688-BA3A081B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1CB4-CBFE-44D8-A319-369C6CBA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1D19-045D-47F1-9D64-9826CB4A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C5A3-3662-4BB6-B9F4-2447F73D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ED8D-C7C7-44C7-A574-9DB533D7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AB97-DAB0-428C-A130-ABE950AB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B89A-59E7-498E-A602-75500D04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4F3637-E6E5-4913-BBAD-6AEAADF92C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B24FC2-29C8-429B-B309-111EF0E8A4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5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mação Avançada sobre Cibercrime para Juízes e Procurado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898989"/>
                </a:solidFill>
                <a:latin typeface="Calibri"/>
              </a:rPr>
              <a:t>Sessão 2.2.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898989"/>
                </a:solidFill>
                <a:latin typeface="Calibri"/>
              </a:rPr>
              <a:t>Introdução ao estudo do ca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rte Dois: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do cas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80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F30F07F8-0DEC-443F-81FB-16FA85A67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ederal Bank of Atlant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FBA), na qualidade de banco conhecido, bem-sucedido e fiável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missão de bónus especial de aniversári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partamento de Logística e Operaçõ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DLO) encarregado da logística deste cas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nited Bank Print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UBP) como fornecedor de material de impressã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clusão do Departamento Financeiro do FB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or parte do DLO na logística do negóc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do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1566DB6A-1CEC-4B52-B216-D0FD6F75E0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863280"/>
            <a:ext cx="822960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Devido ao período de férias de verão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, foi incluído o pessoal júnior e recentemente contratad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Suspeita de que o pessoal júnior é, na verdade, membro do grupo de crime organizado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que solicitou a posição de nível inferior do DLO, a fim de obter qualquer tipo de acesso direto aos computadores do F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O objetivo era apresentar um e-mail específico de spyware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capaz de fazer cópias de correspondência por e-mai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do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5809B4C8-B9F4-4797-B20D-D13273ADE8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211040"/>
            <a:ext cx="822960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"Foi feito um pedido por parte do FBA para a compra de 20.000 materiais em papel especializados da UBP pelo preço de 300.000 €. Os departamentos relevantes do FBA e da UBP começaram a tratar da parte logística e financeira"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A inclusão do Docklands Securities Bank of Norland no círculo de negócios como banco designado da UBP para a transferência de dinheiro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Pagamento efetivo da transferência inicial de 100.000 € entre o FBA e a UBP com contas DSBL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Introdução do facto de as contas SWIFT e IBAN serem incluídas na transação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do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38A22D95-63F4-4603-B7AC-B3A86AAFC1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FE4CE63D-7143-4353-A42C-31CFD8456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rte Três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9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94DFE664-DA2F-4E81-BE93-33AA235C0C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Momento determinante para a perpetração do crime - o membro do OCG, através de spyware, conseguiu seguir o desenvolvimento da transação comercial entre o FBA e a UBP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Identificação e reação imediata no momento do pagamento final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Utilização de faturas falsas previamente elaboradas com títulos de e-mail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Todo o esquema assumiu um caráter mais urgente, tal como o Departamento Financeiro da UB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941C3D3F-D9F9-4E51-AC73-A4D3539A6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6820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A impressão efetiva do material em papel foi feita e a UBP notificou esse facto, sendo que o FBA solicitou o pagamento devido;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 membro infiltrado do grupo de crime organizado, através de spyware, detetou os momentos finais da conclusão do negócio;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 grupo registou-se como empresa "fictícia" em Ostland e abriu uma conta bancária comercial na filial do banco utilizado em Ostland pelo FBA;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Falsa documentação, incluindo a parte principal – foi elaborada uma fatura falsa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72CAA347-C942-45E1-8823-724EAA4D10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262160"/>
            <a:ext cx="82296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Calibri"/>
              </a:rPr>
              <a:t>O servidor SMTP aberto foi encontrado e testado para envio de e-mails falsos (ou pode ser utilizado um exemplo de uma conta de webmail com uma pequena alteração ao nome da conta de e-mail, consoante as habilidades do formador);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Calibri"/>
              </a:rPr>
              <a:t>Os serviços do servidor de e-mail SMTP aberto foram pagos em Bitcoins;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Calibri"/>
              </a:rPr>
              <a:t>Foram elaborados e-mails falsos, incluindo os nomes das pessoas do Departamento Financeiro, detalhes sobre o contrato e o idioma que foram utilizados anteriormente;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685585FD-1ED5-4FFA-A697-5AC5B3102E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 Diretor Financeiro autoriza a transferência com base em documentos apresentados anteriormente: correio falso da UBP com uma fatura falsa que continha a conta bancária falsa num país diferente tanto para o FBA como para a UB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Momento em que a fraude é cometida e 200.000 EUR são transferidos para a conta fraudulent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 Departamento Financeiro da UBP conferiu a sua conta bancária e respondeu à FBA dizendo que não foi recebido qualquer pagament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A6AE1014-48F9-44C7-BF04-553A5FB6D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803160"/>
            <a:ext cx="851364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Um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Introdução e principais intervenien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Dois</a:t>
            </a:r>
            <a:br>
              <a:rPr sz="2600"/>
            </a:br>
            <a:r>
              <a:rPr b="0" i="1" lang="pt-PT" sz="26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 do cas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s Três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Quatro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Início da investigaçã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Cinc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Resum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0D198547-9A64-42E9-883B-5AE80E4C55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DBE43325-66B1-43DB-8364-9E35DB8D9F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arte Quatro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ício da investigaçã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113" name="Čuvar mesta za broj slajd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19BEB78D-471E-439E-92B2-3EC0540A68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ício da investiga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Registo dos depoimentos dos representantes do FBA;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Obtenção de provas eletrónicas e outras provas do FBA;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Registo dos depoimentos dos representantes da UBP;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Obtenção de provas eletrónicas e outras provas da UBP;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Registo dos depoimentos dos representantes da DSBN em Norland e Ostland;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EDE84EA0-F39E-4EBD-B08D-40AEE042AF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ício da investiga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Obtenção de provas eletrónicas e outras provas de ambos os bancos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Obtenção de provas da autoridade de registo comercial competente em Ostland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Cooperação entre a polícia, o Ministério Público e, se for caso disso, juízes de instrução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Inclusão de assistência jurídica internacional nas disposições da Convenção de Budapeste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18F95872-8DB9-49C1-8095-EC385994D2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incipais provas eletrón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yware utilizado no FBA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rvidor SMTP para envio de e-mails falsos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iptomoeda (Bitcoin)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-mails regulares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-mails falsos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turas falsas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stos informáticos da UBP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stos bancários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stos comerciais da empresa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stos de vigilância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ra provas eletrónicas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076A6C60-95ED-4D01-9D7D-6FBDDD0097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D7B4463B-83C0-4296-9B20-6A8607A57E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6840" y="1061640"/>
            <a:ext cx="8512200" cy="52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No final desta sessão, os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formandos serão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capazes 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Identificar as pessoas jurídicas e naturais envolvidas no cená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Explicar o </a:t>
            </a: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do caso e a situação dos factos introdutóri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Seguir e explicar o fluxo e o desenvolvimento da investigação do cas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Explicar como é que o ato criminoso foi cometido e quem foram os principais intervenien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Como e onde é que a investigação criminal deve começar e quais devem ser os veto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su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94C241E7-C0F2-4ECA-A553-8399378EE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6248D4A2-C1D9-44A2-840C-3AC5817B74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1047240"/>
            <a:ext cx="8512200" cy="53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No final desta sessão,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s formandos serão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capazes 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Identificar as pessoas jurídicas e naturais envolvidas no cenário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Explicar o </a:t>
            </a:r>
            <a:r>
              <a:rPr b="1" i="1" lang="pt-PT" sz="28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 do caso e a situação dos factos introdutórios.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Seguir e explicar o fluxo e o desenvolvimento da investigação do caso.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Explicar como é que o ato criminoso foi cometido e quem foram os principais intervenien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Como e onde é que a investigação criminal deve começar e quais devem ser os veto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tivos da sess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DFF7D6CC-A46E-48F7-86AD-015060E086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rte Um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ção e principais interveni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5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5EA24E55-9054-401A-A699-71BAA5E1BE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ederal Bank of Atlan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ção e principais funcioná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nited Bank Pri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ção e principais funcioná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oklands Securities Bank of No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ção e principais funcioná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ção e principais interveni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1F17DC8A-D822-4B74-A8DF-BAE131EDAA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6840" y="1582560"/>
            <a:ext cx="840420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Federal Bank of Atlan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O Banco fornece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uma série de serviços bancários e financeiro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Morada da empresa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: Federal Bank of Atlantis Ltd., FBA Bank Towers, Atlantis 123456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Diretor e funcionários: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Presidente Independente Não Executivo do Conselho, Diretor Executivo, Diretor-Geral, Diretor a Tempo Inteiro, Diretor Executivo e Financeiro do Grupo, Secretário da Empresa, Diretor-Geral Executivo (Jurídico), Diretor-Geral Executivo e Chefe de Relações com Investidores, Auditoria Interna do Grupo e Diretor-Geral Executivo, Diretor Executivo, Chefe do Departamento de Logística e Operações, Chefe do Departamento de Tecnologia da Informaçã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ção e principais interveni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058A2689-7F22-46B3-BD54-A35E298211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C:\Users\B.Stam\Desktop\AJT evidences\FBA logo.jpg"/>
          <p:cNvPicPr/>
          <p:nvPr/>
        </p:nvPicPr>
        <p:blipFill>
          <a:blip r:embed="rId1"/>
          <a:stretch/>
        </p:blipFill>
        <p:spPr>
          <a:xfrm>
            <a:off x="6675480" y="957240"/>
            <a:ext cx="201132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349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United Bank Pri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A UBP fornece serviços de impressão e gestão da cadeia de suprimentos especializados para o setor bancário. A empresa também organiza e envia publicações bancárias de curto a médio prazo, que são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distribuídas em revistas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especializada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Morada da empresa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: United Bank Printing, Green Garden Avenue 123, Blankenberg 123456, Norland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Diretores e funcionários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: Diretor Executivo, Diretor-Geral, Diretor a Tempo Inteiro, Diretor Financeir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ção e principais interveni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59ACB0-C58F-4A42-8D27-0824A88FD7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Users\B.Stam\Desktop\AJT evidences\UBP.jpg"/>
          <p:cNvPicPr/>
          <p:nvPr/>
        </p:nvPicPr>
        <p:blipFill>
          <a:blip r:embed="rId1"/>
          <a:stretch/>
        </p:blipFill>
        <p:spPr>
          <a:xfrm>
            <a:off x="5840280" y="1349280"/>
            <a:ext cx="240516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34800" y="1095480"/>
            <a:ext cx="847440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Doklands Securities Ba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of No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O Docklands Security Bank of Norland presta serviços bancários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a corporações, governos, investidores institucionais, pequenas e médias empresas e pessoas física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Morada da empresa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: Docklands Security Bank of Norland, DSBN Homestead Building, Blankenberg 654321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Diretores e funcionários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: Presidente Independente Não Executivo do Conselho, Diretor Executivo, Diretor-Geral, Diretor a Tempo Inteiro, Diretor Executivo e Financeiro do Grupo, Secretário da Empresa, Diretor-Geral Executivo, Diretor-Geral e Chefe de Relações com Investidores, Chefe de Auditoria Interna do Grupo e Diretor-Geral Executivo, Diretor Executiv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rodução e principais intervenien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A6EECEA7-D3F0-4106-A536-4FF31F3434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Slika 5" descr="C:\Users\B.Stam\Desktop\DSBN.jpg"/>
          <p:cNvPicPr/>
          <p:nvPr/>
        </p:nvPicPr>
        <p:blipFill>
          <a:blip r:embed="rId1"/>
          <a:stretch/>
        </p:blipFill>
        <p:spPr>
          <a:xfrm>
            <a:off x="5423040" y="1192320"/>
            <a:ext cx="312264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76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68996D48-61A5-4F8A-8222-5BCA9D6A69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09:33:22Z</dcterms:created>
  <dc:creator>Nigel Jones</dc:creator>
  <dc:description/>
  <dc:language>en-US</dc:language>
  <cp:lastModifiedBy>Pedro Verdelho</cp:lastModifiedBy>
  <dcterms:modified xsi:type="dcterms:W3CDTF">2019-04-22T13:53:08Z</dcterms:modified>
  <cp:revision>166</cp:revision>
  <dc:subject/>
  <dc:title>Introductory Cybercrime Training for Judges and Prosecutors</dc:title>
</cp:coreProperties>
</file>