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A9DBCC-75A4-4B3E-9CF0-85264AED653E}"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3598AE-688E-459E-BBC3-8097A17FAB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A3D99-BDD2-4DE8-BD21-8CF3E61324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EC7C0-1D9A-4834-98FF-CDA28E8C1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29EEB-CD59-4FE5-AF20-DC5210A9AE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2B49E-6A87-4098-926E-806906A5B7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85F08-74E5-458A-A01F-521095D2FD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0221F-AF6F-4F56-B07E-CCC6824BFE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7F53C-F3CD-4A20-8154-EEF553B664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54F36-8793-4A92-B498-6A2CDF225D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CBE97-A144-4BCC-B4FD-08BDFD6D17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1BC11-EE0D-4431-A5FF-F8DC5A4B94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38EEE-9246-433E-8C7D-2567061582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1493F-0280-4DE5-8931-7C5FAEDC25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AEECC-6D42-4BB4-8340-FD90EEAABB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EFB02-5D9C-4D5A-9A43-B7912FB750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E1B7C-02DB-45EF-8232-7080410903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5A7E3-81A0-4C98-BC79-A66F28BC22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61324-E0F1-4027-96F4-9055304B57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1015E-01CE-4AC5-9E68-E0A947B2F6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1DAE9-4235-4F89-A642-6809C5D057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0A16E-79C5-41BE-A482-01948AB2A0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5FDC0A-9C7D-4B0B-AF57-B6C9766A2E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AB180-4665-424A-AD5F-060CB00AA2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21D33-63C4-439F-A32B-3BC0F1DA41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E3FF1-CE1A-4B5B-8D9C-BB027D9A2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CA876-1C5C-457B-9EBE-F639BC8BF2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6B58D-B3EA-4D0F-87A3-7B9C5DE3BC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AA7C5-7215-4930-9697-C1F1FF788E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EECBF-CD63-4AE1-9ECA-C82C91F269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1B5E7-0223-4A7E-AEE6-E65B3EF7A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A3928-E68C-4605-8F42-F7AC3C098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133A8-34B2-4B1B-9AF4-7B84890A3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C201B-0659-4E0A-A91D-D54851CB9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51609-1E60-4BE9-922C-9714430D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0F943-84ED-47F2-BD58-55B1D4C9F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DAA3-076E-4ED9-832F-2A1EDCD9E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8885-81E6-402F-9ED2-AC9268BC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CC28F-7A11-4746-97B9-01F3BB8C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4B1DC-9F95-45E4-AB62-64681488D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D1F4-901B-4D41-9F4F-BF8B2D75A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21531-C094-4023-9BFB-5FD3FC996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21DC7-D3E4-4993-B31B-D3478215866E}"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2B108-B000-4469-926D-863C235C01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6CDDD1-441C-4EBA-9274-65D4B756FD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72D2B6-C345-4B5A-8706-CA13378656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0F2D6D-7805-4F7A-9F3A-EBBC962431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67B6D0-1A46-485C-B39C-7227B4C13E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8B575D-647F-480B-958F-833E8FECD4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84D82C-D903-47CB-8037-534D008775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93F58E-E7CE-4458-8352-C5B1161E93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C03F1A-BF81-487E-9EB2-A79AB45256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13F858-F18E-482D-8821-27BA7FC648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436B94-00A8-4794-92CC-7A83D2A047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095209-5AC6-4BD0-B474-0EE89BF4D0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B86039-8CC5-4F7F-A576-EE7E3EA41A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D654E9-A5BD-4EE7-B151-4B4F1A8F75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0F985B-EF3B-420F-8E70-0F2DB07CAB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2001FE-F8C1-4B17-8C36-99CD0DB40D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5FD075-CA72-4326-8089-D415AA0834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F42EEB-5271-4A0D-AE38-EBFB9C9EE8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8FDACF-AE89-4BC9-84A0-AE0815B1E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5317C-B785-428E-ADAA-BAFA12D6D6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548F58-E7E1-4184-8830-61206DD12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E0984CD-0EBE-4BCA-8D6A-15CB7D659C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603DC9-394B-4534-A2B9-7C061B0477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51F8D1-C414-44F4-A688-8D90CAF2A8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5A6BE9-B20B-45F9-83F5-050B46D501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8D4F7A-1D87-4905-AF99-CBF5B0A021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34F479-61C5-4000-80E9-92FB12121D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0D7639-EA4F-4248-BA18-B37952E296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E4EC0-A9BD-4413-A83E-286E2345F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54892C-1C0F-4AC8-9B14-B13FB2CAC5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14:52Z</dcterms:modified>
  <cp:revision>509</cp:revision>
  <dc:subject/>
  <dc:title>Introductory Cybercrime Training for Judges and Prosecutors</dc:title>
</cp:coreProperties>
</file>