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5C378-1F96-45A1-8813-6F27CC6C8EFA}"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ED2AB-4C43-41E0-82B5-7D9063816B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7124F-7A52-4E25-B03C-0C2F5A4DAC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1C15B-AB90-425A-B5FC-3262FA85A2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0BCC61-443F-404D-B920-0BACB5D4C6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EC610-2A1C-411D-8DD3-9B9C679177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16224-C3D8-47AF-BABB-81445EBD8B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066C1-CFF5-4506-B593-EFFAFA16B0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33006-18B5-4C93-A559-CE8B82F198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35D28-FE5C-482E-A530-AEC273CAF7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C11816-9C2D-4671-AB1F-E367051461F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7FA82-999C-4A28-B153-59B4F0C38A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D3D26-3CEA-4705-B715-2DBFDB31FC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02A1E-8F78-4B2E-95DB-8330E8609C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22A85-6C18-40C0-BD98-F0D0A693BE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18B02-2ABA-40E3-9368-21D4A391F1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5B06C-E3EF-4D74-BF30-D103426B3E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0129F-1DDB-4C5F-9EF9-2DC26E6DCC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FA821-B244-479B-9DCD-A66D158082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FFBC5-D3CF-477A-A0D2-07280AF07B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9B369-D33C-4BEC-A84E-5903D5A39F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C30DDC-89CB-4752-95E3-7B4BA0AF42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FB151-1377-42D3-BD0E-BF5D55671E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308E2-1103-435D-9A73-F995949F96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15C853-7CE6-4979-934F-CCDC4FCF67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5007F-0D36-4C71-B139-D099B985F5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D885D-7677-40C4-92A5-2428A14974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EE0C66-77D6-40B0-87F2-BF62E88049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A823F-E214-4AAB-A27D-86382BF15D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D58D5-6A42-44AB-9F44-3CE46BBA13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9D785-1C9B-455D-BCA4-C0CC8E01E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07B1C-2D31-48A2-8D0A-7EA503BCF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70395-5793-4F0B-B729-DABBD1019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45E68-0233-42D7-B6B9-43CF3CF5B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862A9-449B-4478-8529-BC1C7FF4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32B6F-98AE-45F4-892C-163506342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B38E5-4626-41BD-BF3C-98D2335FA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369DD-05D6-4737-8456-32E94C120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8980-8851-4E3B-A62D-142F13F79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8A12-752D-40F5-96E9-E263066D6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BECE-CCAA-423A-B7EF-98A1ED2B9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5F23-C5CE-4CCE-88E8-6B8F9EBFE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CF425-3DD6-433B-8188-268F51EBEFD2}"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72800-4D0E-43C6-8C39-3E425DB026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1D866E-138F-47F7-A277-31F0C8233E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CA6806-A4DE-4C0F-9A3A-70AC5BE4B7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7202AB-173D-44B1-9990-1A2E87281F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01BB20-4754-4373-A265-89CCF25651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086A454-643E-46B9-A72F-4679677D71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396C5F-5CE2-4D6E-93D3-087E8A7A8A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442C34-13CB-443F-AFA2-916B706D9B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53DD67-1F16-4A2F-8C35-D4DEC67C3C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79D316-9E9B-4950-88A3-BBDBCAB825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3DAF24-4942-4FFC-84AC-7806807C98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13218A-6AF0-4FE0-9439-D9B5E33E6F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BBD118-2BEB-4C9B-9614-4C198117B2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95F19AC-BC62-47E7-A973-0D33400008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2FDADF4-A95E-49F2-9848-15888C6466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DB85F9-E7F8-4B3D-8EFC-CE1D79C441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7AC23D-560D-4206-A74C-B9D119B9CA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ABEE7B-DBAC-445F-B2EF-121F13C589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B0DB18-4692-4D23-AEA1-BFC5EC0055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38B8BC-97A1-4DA5-AE39-AD9E3B196E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1B1BC8-F6FA-48EB-9168-01A3858504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0F20C3-B43A-427B-ABB1-732CAD7A8A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D9E721-C0F3-4EA7-BC01-B3D5921351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C38423-47DB-4CDF-B7B4-07AD37F0B7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D217EF-A7F1-4FBD-B7B0-7EFCDF7197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5B6D6F-4EFD-4B92-9F2C-70B62068EF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47A3D1F-95D1-4034-9EFA-D4B276DEEB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3012C8-83E0-451D-B486-E5D56FD1F9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CFF3482-56F1-4BA5-999C-12B3CB8F11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8152F4-6B48-4098-8482-AEA94B5DE7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1:09Z</dcterms:modified>
  <cp:revision>511</cp:revision>
  <dc:subject/>
  <dc:title>Introductory Cybercrime Training for Judges and Prosecutors</dc:title>
</cp:coreProperties>
</file>