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22C1D-1BFA-4767-BD38-AD0AF8D872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3AC63B-2EB1-4C88-932B-2EF53BE9A7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ção ao estudo de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cenário do estudo de caso refere-se a esquemas recentes de comprometimento de e-mails empresariais ou "BEC" (do inglês, Business E-Mail Compromise), que derivam de fraudes como "fraude de CEO" ou "ataques indiretos/por intermediários"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an-in-the-midd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anteriormente detetad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E5D1FD-D1E3-49B5-BFD8-9CA2AB658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 esta formação, foram criadas empresas e países fictícios. Estes são Atlantis, Norland, Ostland, Westland, etc. Para o exercício, todos eles ratificaram a Convenção do Conselho da Europa sobre Cibercrime (“Convenção de Budapeste”). Esta abordagem é para permitir a transferência da formação entre jurisdições, sem a necessidade de grandes mudanças nos materiais do curso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B397E2-AD47-4E5D-9124-0DB708A7ED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trodução do facto de que, por causa do período de férias de verão, funcionários recentemente contratados foram incluídos numa operação tão importante deve levantar imediatamente suspeitas entre os formand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010F9B-59D9-406C-BB60-35AFDBC97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figuração financeira deve indicar que a transferência bancária inicial não teve problemas e que mencionar as contas SWIFT e IBAN significa que a transferência de dinheiro é da natureza internacional e não nacion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 formandos devem começar a considerar a utilização dos artigos de assistência jurídica internacional da Convenção de Budapest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6CA686-0F6F-4C71-BC16-3906A4C41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Dois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7EFE13-B534-4FB0-A274-756CD62230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nvolvimento da perpetração apresentado pelos passos mais importantes e os seus result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3FF78A-C305-471C-8701-D1248E16C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nvolvimento da perpetração apresentado pelos passos mais importantes e os seus result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9C4EE-1C45-40EC-8CB3-639419237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nvolvimento da perpetração apresentado pelos passos mais importantes e os seus result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AEA50D-C667-4804-96F6-92C710D05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oante o desenvolvimento do cenário, os formadores podem desenvolver transações adicionais entre a conta bancária em Ostland e contas bancárias noutros países pertencentes a partes estatutárias da Convenção de Budapeste ou não. Ao critério dos formadores, o fim das transferências bancárias pode ser no país que está dentro do âmbito da Convenção de Budapeste ou não. No segundo caso, provavelmente os vestígios e provas finais serão perdidos ou não poderão ser recuperad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77A4AC-603B-47A9-931A-D5CD239519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Um da apresentação fará a apresentação e apresentará as principais partes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Dois apresentará o layout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Três será a perpetração do ato criminos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Quatro irá estabelecer as bases para o início da investigação e trabalho dos forman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Cinco é um resumo dos apresentados anteriorm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D35DC-D21C-427A-B407-C7DD41839F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Três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761BF0-E6AA-4D3E-A4ED-1CD53C8BCD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5269AF-94C0-4834-B182-E648C1380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039BAD-55FE-49EC-B28B-37C2C47C57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as eletrónicas devem ser examinadas e utilizadas como ferramenta essencial para a construção e o término da investigação e a preparação do caso para julgamen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D0F6F0-D732-419B-B971-D260A5AF2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Quatro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CD1784-C771-4CD1-81DB-2BC461E854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4B52BB-CAB5-4B1D-A8E8-382E331B4E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7A64A-59BA-4167-A655-9CA03C5D16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AE7664-EE21-4B10-8D93-C298E8D0B8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ário de estudo de caso começa com o estabelecimento do Federal Bank of Atlantis (FBA), banco internacional bem conhecido, bem estabelecido e respeitado. Uma descrição como esta deve levar os formandos a tomarem uma decisão de que este tipo de banco não deve estar envolvido em nenhum tipo de problema, muito menos aqueles semelhantes a um que será descrito adia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 formandos devem identificar os principais factos e as principais divisões e participantes do negócio, a fim de compreender o âmbito e a configuração do círculo de negócios, no qual serão definidos mais detalhes sobre 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D9B29-80C7-453B-ACF9-7DE8818F94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ação fictícia Federal Bank of Atlant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F36E1E-58EC-4F60-9F87-ADA462129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ação fictícia United Bank Prin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F5544B-2640-4097-8735-8DA079A846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ação fictícia Docklands Securities Bank of Nor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F99A9C-2C94-4D67-A852-8506E9D93A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Um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7308C8-2F14-42CA-A7CB-19CE65E091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FBD2-DA42-4215-A279-2D62CCD7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1959-1036-4B7E-B015-5273922A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7264-0F43-4989-8D34-A007478E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8955-6D53-47AD-AF55-F5019B30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31E4-3F1B-453D-9454-60EBE891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AEA5-E6D7-491D-80FB-72CAB596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11F5-30D4-4949-B8FA-65A9A1C6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5AE5-1C0D-46B6-847A-5F06310C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7459-F8FB-447B-BAF7-C88F9574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9F2-826E-4BC8-BE9A-80635BEB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C0B8-981D-481C-AD09-410E186A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1DAD-DA7D-4E34-9570-E88BF71C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264C26-16FC-4CE4-8BC8-D495E76CEF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B92725-FB7A-4CEA-8798-95DEF3C80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ação Avançada sobre Cibercrime para Juízes e Procurad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898989"/>
                </a:solidFill>
                <a:latin typeface="Calibri"/>
              </a:rPr>
              <a:t>Sessão 2.2.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898989"/>
                </a:solidFill>
                <a:latin typeface="Calibri"/>
              </a:rPr>
              <a:t>Introdução ao estudo do c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e Dois: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8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4AF9041-F040-4A45-A2D8-ABD2C204F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deral Bank of Atlant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FBA), na qualidade de banco conhecido, bem-sucedido e fiável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missão de bónus especial de aniversári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partamento de Logística e Operaçõ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DLO) encarregado da logística deste cas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nited Bank Print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UBP) como fornecedor de material de impressã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lusão do Departamento Financeiro do FB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or parte do DLO na logística do negóc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022B7AD-9957-414A-BE47-AF0DABC73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86328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Devido ao período de férias de verão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, foi incluído o pessoal júnior e recentemente contratad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Suspeita de que o pessoal júnior é, na verdade, membro do grupo de crime organizado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que solicitou a posição de nível inferior do DLO, a fim de obter qualquer tipo de acesso direto aos computadores do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O objetivo era apresentar um e-mail específico de spyware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capaz de fazer cópias de correspondência por e-ma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76605EE-46E8-4E26-B59B-C403C7843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21104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"Foi feito um pedido por parte do FBA para a compra de 20.000 materiais em papel especializados da UBP pelo preço de 300.000 €. Os departamentos relevantes do FBA e da UBP começaram a tratar da parte logística e financeira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 inclusão do Docklands Securities Bank of Norland no círculo de negócios como banco designado da UBP para a transferência de dinheiro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Pagamento efetivo da transferência inicial de 100.000 € entre o FBA e a UBP com contas DSBL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Introdução do facto de as contas SWIFT e IBAN serem incluídas na transação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81E3CAF9-D2CA-49D3-B3D9-D8D45C6EBA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FCBE676-4CA4-4FE0-ADD9-2760CCB0C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e Trê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9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F604FEB3-27A4-41D3-BA62-30836F9E6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Momento determinante para a perpetração do crime - o membro do OCG, através de spyware, conseguiu seguir o desenvolvimento da transação comercial entre o FBA e a UB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Identificação e reação imediata no momento do pagamento final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Utilização de faturas falsas previamente elaboradas com títulos de e-mail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Todo o esquema assumiu um caráter mais urgente, tal como o Departamento Financeiro da UB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7B19871-A4DE-4B98-B375-14A170E67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6820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 impressão efetiva do material em papel foi feita e a UBP notificou esse facto, sendo que o FBA solicitou o pagamento devido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membro infiltrado do grupo de crime organizado, através de spyware, detetou os momentos finais da conclusão do negócio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grupo registou-se como empresa "fictícia" em Ostland e abriu uma conta bancária comercial na filial do banco utilizado em Ostland pelo FBA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alsa documentação, incluindo a parte principal – foi elaborada uma fatura falsa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56CFEBC-F8DB-492A-9681-5B5745D73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62160"/>
            <a:ext cx="82296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Calibri"/>
              </a:rPr>
              <a:t>O servidor SMTP aberto foi encontrado e testado para envio de e-mails falsos (ou pode ser utilizado um exemplo de uma conta de webmail com uma pequena alteração ao nome da conta de e-mail, consoante as habilidades do formador);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Calibri"/>
              </a:rPr>
              <a:t>Os serviços do servidor de e-mail SMTP aberto foram pagos em Bitcoins;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Calibri"/>
              </a:rPr>
              <a:t>Foram elaborados e-mails falsos, incluindo os nomes das pessoas do Departamento Financeiro, detalhes sobre o contrato e o idioma que foram utilizados anteriormente;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69572D5-1AFB-4BEA-A6A5-68AF7B440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Diretor Financeiro autoriza a transferência com base em documentos apresentados anteriormente: correio falso da UBP com uma fatura falsa que continha a conta bancária falsa num país diferente tanto para o FBA como para a UB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Momento em que a fraude é cometida e 200.000 EUR são transferidos para a conta fraudulent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Departamento Financeiro da UBP conferiu a sua conta bancária e respondeu à FBA dizendo que não foi recebido qualquer pagament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8FBCEEC-94D1-41C3-A6AA-000F7DCF8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803160"/>
            <a:ext cx="851364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Um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Dois</a:t>
            </a:r>
            <a:br>
              <a:rPr sz="2600"/>
            </a:br>
            <a:r>
              <a:rPr b="0" i="1" lang="pt-PT" sz="26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s Três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Quatro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Início da investigaçã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Cin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sum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E7F763BE-0C2D-41D7-ADBF-AD2F0504F3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E2C43F2A-2179-4623-950D-2176E4B4C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te Quatro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ício da investigaçã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113" name="Čuvar mesta za broj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8F3B4323-C857-41DD-8B83-4A8BFB910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ício da investig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gisto dos depoimentos dos representantes do FBA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Obtenção de provas eletrónicas e outras provas do FBA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gisto dos depoimentos dos representantes da UBP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Obtenção de provas eletrónicas e outras provas da UBP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gisto dos depoimentos dos representantes da DSBN em Norland e Ostland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9743FB6-3B84-4B70-9F4D-66AC92288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ício da investig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btenção de provas eletrónicas e outras provas de ambos os banco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btenção de provas da autoridade de registo comercial competente em Ostland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Cooperação entre a polícia, o Ministério Público e, se for caso disso, juízes de instrução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Inclusão de assistência jurídica internacional nas disposições da Convenção de Budapeste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FCF9468-CB45-4E2D-AFCA-AD6331199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ncipais provas eletrón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yware utilizado no FBA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vidor SMTP para envio de e-mails falso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ptomoeda (Bitcoin)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-mails regulare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-mails falso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turas falsa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os informáticos da UBP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os bancário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os comerciais da empresa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os de vigilância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ra provas eletrónicas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0CE5E8F-FE04-458D-905A-4E667CF9D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DFC8773-EEF1-48C1-852D-E864A31F35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6840" y="1061640"/>
            <a:ext cx="8512200" cy="52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No final desta sessão, os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ormandos serão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apazes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Identificar as pessoas jurídicas e naturais envolvidas no cená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xplicar o 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do caso e a situação dos factos introdutóri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Seguir e explicar o fluxo e o desenvolvimento da investigação do cas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xplicar como é que o ato criminoso foi cometido e quem foram os principais intervenien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omo e onde é que a investigação criminal deve começar e quais devem ser os vet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su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17278E2-C383-4186-9231-D5D60E36EC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26250BE-8958-437A-A7BD-B5F504D64F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047240"/>
            <a:ext cx="851220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No final desta sessão,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s formandos serão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apazes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Identificar as pessoas jurídicas e naturais envolvidas no cenário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Explicar o </a:t>
            </a:r>
            <a:r>
              <a:rPr b="1" i="1" lang="pt-PT" sz="28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 do caso e a situação dos factos introdutórios.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Seguir e explicar o fluxo e o desenvolvimento da investigação do caso.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Explicar como é que o ato criminoso foi cometido e quem foram os principais intervenien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Como e onde é que a investigação criminal deve começar e quais devem ser os vet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a sess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856FF133-321F-430F-8AFB-31B30C72E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rte Um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5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588DE9E-D63E-49EF-8F8C-5EECB5041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ederal Bank of Atl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ção e principais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ted Bank Pr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ção e principais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klands Securities Bank of No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ção e principais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C7EA21D-390A-4064-BB39-3A8E18276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6840" y="1582560"/>
            <a:ext cx="840420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Federal Bank of Atl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O Banco fornece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uma série de serviços bancários e financeir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Morada da empresa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Federal Bank of Atlantis Ltd., FBA Bank Towers, Atlantis 123456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Diretor e funcionários: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Presidente Independente Não Executivo do Conselho, Diretor Executivo, Diretor-Geral, Diretor a Tempo Inteiro, Diretor Executivo e Financeiro do Grupo, Secretário da Empresa, Diretor-Geral Executivo (Jurídico), Diretor-Geral Executivo e Chefe de Relações com Investidores, Auditoria Interna do Grupo e Diretor-Geral Executivo, Diretor Executivo, Chefe do Departamento de Logística e Operações, Chefe do Departamento de Tecnologia da Informaçã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2D2FEB6-FAC7-4565-AAC3-9670C02A9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C:\Users\B.Stam\Desktop\AJT evidences\FBA logo.jpg"/>
          <p:cNvPicPr/>
          <p:nvPr/>
        </p:nvPicPr>
        <p:blipFill>
          <a:blip r:embed="rId1"/>
          <a:stretch/>
        </p:blipFill>
        <p:spPr>
          <a:xfrm>
            <a:off x="6675480" y="957240"/>
            <a:ext cx="20113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349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United Bank Pr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 UBP fornece serviços de impressão e gestão da cadeia de suprimentos especializados para o setor bancário. A empresa também organiza e envia publicações bancárias de curto a médio prazo, que são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distribuídas em revistas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especializad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Morada da empresa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United Bank Printing, Green Garden Avenue 123, Blankenberg 123456, Norland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Diretores e funcionários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Diretor Executivo, Diretor-Geral, Diretor a Tempo Inteiro, Diretor Financei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2DD3FF-2619-4892-8834-3DC8FC413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B.Stam\Desktop\AJT evidences\UBP.jpg"/>
          <p:cNvPicPr/>
          <p:nvPr/>
        </p:nvPicPr>
        <p:blipFill>
          <a:blip r:embed="rId1"/>
          <a:stretch/>
        </p:blipFill>
        <p:spPr>
          <a:xfrm>
            <a:off x="5840280" y="1349280"/>
            <a:ext cx="240516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34800" y="1095480"/>
            <a:ext cx="84744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Doklands Securities Ba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of No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O Docklands Security Bank of Norland presta serviços bancários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a corporações, governos, investidores institucionais, pequenas e médias empresas e pessoas físic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Morada da empresa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Docklands Security Bank of Norland, DSBN Homestead Building, Blankenberg 654321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Diretores e funcionários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Presidente Independente Não Executivo do Conselho, Diretor Executivo, Diretor-Geral, Diretor a Tempo Inteiro, Diretor Executivo e Financeiro do Grupo, Secretário da Empresa, Diretor-Geral Executivo, Diretor-Geral e Chefe de Relações com Investidores, Chefe de Auditoria Interna do Grupo e Diretor-Geral Executivo, Diretor Executiv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8F79CFB-8DFC-4487-8FE1-ADC2485C0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Slika 5" descr="C:\Users\B.Stam\Desktop\DSBN.jpg"/>
          <p:cNvPicPr/>
          <p:nvPr/>
        </p:nvPicPr>
        <p:blipFill>
          <a:blip r:embed="rId1"/>
          <a:stretch/>
        </p:blipFill>
        <p:spPr>
          <a:xfrm>
            <a:off x="5423040" y="1192320"/>
            <a:ext cx="3122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8BD8BC7-9B68-4B86-A0F4-E4D3E5857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9:33:22Z</dcterms:created>
  <dc:creator>Nigel Jones</dc:creator>
  <dc:description/>
  <dc:language>en-US</dc:language>
  <cp:lastModifiedBy>Pedro Verdelho</cp:lastModifiedBy>
  <dcterms:modified xsi:type="dcterms:W3CDTF">2019-04-22T13:53:08Z</dcterms:modified>
  <cp:revision>166</cp:revision>
  <dc:subject/>
  <dc:title>Introductory Cybercrime Training for Judges and Prosecutors</dc:title>
</cp:coreProperties>
</file>