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75AAA-441F-46C3-A048-EBDE70795FD4}"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EC491-4161-4F74-970E-E2301A64E0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386C2-2CCD-4ADB-A1CA-82171B490C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FF770-3678-4075-984A-F442648E21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77548-F4B7-4E58-8E2E-DB8D0F5D39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4EBB9-C886-4D77-8F14-CF8AC72537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4A83A-4F0D-4635-BA2C-71761F1DE7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02BF2-990A-4E3E-87C7-5D10662508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A4AD0-6518-4324-B837-F00034DF05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54A48-21A6-49A2-993E-963E3F19C0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959A8-80E5-49E5-A934-703AF8FC1A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6CD62-3922-4B1A-99CD-1D66339AA7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B39AC-459F-41CA-BDF6-C7B07AFD3D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7ECBC-1063-4203-8C7B-DC931A7840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F4458-B69D-4866-A6B4-2944309913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68363-D992-41EC-9A94-2A68846DF5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E7FA0-9B4B-4D31-8FC3-4150685C88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05B02-4DDD-4083-A18C-53CA7D7874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52019-6DE5-4C47-9271-CB8B60AE51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18FC8-F3CD-4EF4-993D-E4F7BF154C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B5B4C-DFB3-4F1D-9DBD-9EB127EA94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EAFDF-374A-41B5-8491-85871E32AD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F2107-3A40-43BF-9EC6-AB4B121097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24F57-3AF1-4373-AA3C-85CAD8A98A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0EFD6-7F42-4501-813C-65BD70CDC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CDCAE-6A83-4759-AC08-C5E885EBB9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3CDEB-D3D1-4E0C-94FA-43E92296A2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1646D-D638-4990-9B78-4331EECA12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0EC5B-72AB-493A-A3AA-6AB297EAEC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766BF-2582-4194-8256-0AEF8A69F9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3A02D-7037-4F5C-BCB1-8378D047D4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C7839-BD21-4DEB-9E02-8C2B0ADBBA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EB813-D868-40D3-A268-5D874D81BE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BD38B-5D59-447D-BEED-A6ED163CFB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67565-3407-4347-A016-CD8E1DD609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CBE44-1216-4181-B6AD-ADFAE7738D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968A7-DBD7-4521-A6D1-0E25C335C9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F1CF5-0A0B-4413-AE93-CCE96BC435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F5EE8-D53C-4C35-92A2-E030FCF1C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B58B5-4DE5-4E2C-8745-60A79FB805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A4DC6-C7AE-4017-A41B-4A34EDA7AD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D0308-A400-4D21-94E6-4F6E5006FE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ADB54-5797-40E8-BD15-AE00187EDF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EA176-2259-4984-B29F-39622FCDBC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748A7-74F8-4F6D-881D-DCF883088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6754-2D92-403A-944A-9C1409E60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554D3-FD31-455F-BCE5-EA78EEA27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838EC-B104-45A1-9562-5ECCF7A85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604B-AAA2-4BA4-98BB-DB4C562E8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EE929-81A7-455E-9284-A33FF40FF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5B83-7583-40A6-B4FD-AF6A02DB5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34C4-9DC6-4D8A-8AA9-C6C05D724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9AFB5-5CA6-4A97-A418-6A8F07729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84B8-5928-4131-9019-AFB86B6B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CC28-9389-483A-9642-9C4CE063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6CE2-C259-43AD-B3C4-CC0768781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48953-ACA4-4FD7-8967-DA62E3EA7B53}"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D23C9-78CF-4460-83CE-6FFCA2C00E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6F367A-B96B-46A5-825C-498C9283AC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1516F-0D79-4D65-898D-B324FD8852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806A5-41E3-4BFC-8EC3-F38756AE9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C051B-FA29-45B5-90C6-639291D4F8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6040B-8692-4C2C-BEBE-4757764970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3ADE2-CFF9-4EF4-9B09-AB9CC214D3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4C052-1C1B-4BFA-9EE0-040DCA66F0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CEB7E-B113-471B-A643-71011D0D4B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F2CF2-1E05-4C3F-A9BB-E9F0360587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C9C02-8A2B-4158-AC78-C702C98055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40DE3-7A11-41C0-AF79-29A426DA70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03FEFA-20DF-41A6-B138-014299EFB2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590BD-E4DC-44CA-9317-4047933473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90AC1-9002-4753-AD61-76F123A94B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9D669-FDC2-453F-9A89-A0531A5010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F72B3-CD79-4BF3-B8F0-9EA5FA93E1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22B2D-329B-46F1-94E9-DD5D857893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D09EF-CB23-4B68-B85E-BB158DBBAC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99EAF-273F-4A67-9435-2FA42E9F9C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A9102-02D3-412F-9771-69217AF8F6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0D368-E95A-4A2D-8A69-AAEE9708F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E101B-028C-469E-B7BA-B602E4E26C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0B9102-E428-4E15-90B8-BB158157BD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ECD64-4E4F-48CE-8D4E-4AA69BC70F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41FC2-01E7-44D3-83FB-36CB58F04E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FB2B3-8C33-4AE8-8E1A-7B73D58665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3BB7E-3738-4C73-8363-5AAAB7CD49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C99D3-4E23-40B4-8B8E-22C76E8D17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CE079-6ED2-41E8-A315-384F2E8388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4B72A-F2BC-41CC-8BEC-F6B62503C2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8B2E6-BBE8-455A-B94B-AC47741D1D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74E71-F253-4D34-B563-D193C62B80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C836D-2663-4A3E-B9CC-880A146F5E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FB260-5891-4D06-A1C1-6884B805FD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547AD-37B3-46D0-ABDD-D3728EA3CB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9B32F-B314-4993-AE30-DEAAFD6394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665A09-69CE-4BB3-8C9F-8A8792A4A0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8C47E-AC4C-4649-8AF6-813959B715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12232-33B7-4276-BAA9-3673D18588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510ED-0F69-4B2E-B52F-76C7FF6FC9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49:22Z</dcterms:modified>
  <cp:revision>427</cp:revision>
  <dc:subject/>
  <dc:title>Introductory Cybercrime Training for Judges and Prosecutors</dc:title>
</cp:coreProperties>
</file>