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64A31-4A67-4376-AAFE-78001B0E65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CAB11-302A-4D06-A59C-E4FF05AF3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ção ao estudo de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cenário do estudo de caso refere-se a esquemas recentes de comprometimento de e-mails empresariais ou "BEC" (do inglês, Business E-Mail Compromise), que derivam de fraudes como "fraude de CEO" ou "ataques indiretos/por intermediários"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an-in-the-midd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anteriormente detetad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DA0ED-F022-4961-856C-D63F5E8D0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 esta formação, foram criadas empresas e países fictícios. Estes são Atlantis, Norland, Ostland, Westland, etc. Para o exercício, todos eles ratificaram a Convenção do Conselho da Europa sobre Cibercrime (“Convenção de Budapeste”). Esta abordagem é para permitir a transferência da formação entre jurisdições, sem a necessidade de grandes mudanças nos materiais do curso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CA2F8-B5D7-44ED-B354-26E10AA16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trodução do facto de que, por causa do período de férias de verão, funcionários recentemente contratados foram incluídos numa operação tão importante deve levantar imediatamente suspeitas entre os forman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ECAB1-6E4C-4C8E-BB43-408C7E54E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iguração financeira deve indicar que a transferência bancária inicial não teve problemas e que mencionar as contas SWIFT e IBAN significa que a transferência de dinheiro é da natureza internacional e não nacio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 formandos devem começar a considerar a utilização dos artigos de assistência jurídica internacional da Convenção de Budapest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DD952-A65E-45B8-BFB3-E82F6F87D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Doi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53BC71-502F-4013-9BA1-59B2E3176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52302-63A5-4925-9921-D8ABFC618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0DD40-78F9-482A-BF19-204B8D4F6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E2E58-C211-45D5-978E-3E66B3C02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oante o desenvolvimento do cenário, os formadores podem desenvolver transações adicionais entre a conta bancária em Ostland e contas bancárias noutros países pertencentes a partes estatutárias da Convenção de Budapeste ou não. Ao critério dos formadores, o fim das transferências bancárias pode ser no país que está dentro do âmbito da Convenção de Budapeste ou não. No segundo caso, provavelmente os vestígios e provas finais serão perdidos ou não poderão ser recupera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590C3-7D49-4472-B06D-B5DD0867E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Um da apresentação fará a apresentação e apresentará as principais partes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Dois apresentará o layout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Três será a perpetração do ato criminos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Quatro irá estabelecer as bases para o início da investigação e trabalho dos forman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Cinco é um resumo dos apresentado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89B59-EDAD-4A65-BC71-15C89E915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Trê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0462E-AFD5-47ED-A334-72C729C16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A1CC4-293B-4FE3-BE6C-0978B25DD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033E8-9812-4526-BACE-699595F37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as eletrónicas devem ser examinadas e utilizadas como ferramenta essencial para a construção e o término da investigação e a preparação do caso para julgam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B912E-4889-4FC3-BFC7-3C87704B7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Quatro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9055E-C783-4A21-8B2E-F2C3953FB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B0CBF-F1A2-411B-A170-DE38756CE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F52CF-4CC9-41F4-ADAD-24E28E568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5FC27-A526-4DC3-BE78-F96174650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ário de estudo de caso começa com o estabelecimento do Federal Bank of Atlantis (FBA), banco internacional bem conhecido, bem estabelecido e respeitado. Uma descrição como esta deve levar os formandos a tomarem uma decisão de que este tipo de banco não deve estar envolvido em nenhum tipo de problema, muito menos aqueles semelhantes a um que será descrito adia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 formandos devem identificar os principais factos e as principais divisões e participantes do negócio, a fim de compreender o âmbito e a configuração do círculo de negócios, no qual serão definidos mais detalhes sobre 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169337-FDC2-4D2A-927E-C34263F50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Federal Bank of Atlant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A68C2-DAD8-4BF1-9619-0FFDE5CE0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United Bank Prin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B982A-9ED6-4CA0-B04E-872FF4EDAE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Docklands Securities Bank of Nor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BF249-B57F-432A-873C-8421433F4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Um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700A2-BC75-4138-840D-B6B7F71AB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4DC-D949-412A-AD0D-8BB86085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ED0-4B78-47F4-8B3D-22482010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0B1-AF2F-41A3-8E0F-157DD967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37B-2410-4DCE-BC49-CD95F301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BC8-E691-45AD-BB41-EFE681FA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C11-5B73-4AFC-8912-5F1BBEA2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D61-3ADC-419F-825D-29B977AF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C89A-588B-46B9-89CA-CB65674B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9D1-7172-4EC4-AB52-3B799770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B77-1F89-4115-9FD1-2F081C60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44F-02E6-4C3D-A6E7-2C1F38DA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CA6-1096-4AEA-8937-99071FC7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187D7-6D0E-4019-8524-FBC312C10E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453A8-3C11-4C03-95B5-566427872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ção Avançada sobre Cibercrime para Juízes e Procur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Sessão 2.2.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Introdução ao estudo do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Dois: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E3229B5-C9A7-4F4F-8160-FCAEBB2C1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FBA), na qualidade de banco conhecido, bem-sucedido e fiáve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missão de bónus especial de aniversár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partamento de Logística e Operaçõ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DLO) encarregado da logística deste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UBP) como fornecedor de material de impressã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ão do Departamento Financeiro do FB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r parte do DLO na logística do negóc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61DA1B7-E2BE-4A90-B031-D5381333C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6328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vido ao período de férias de verã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, foi incluído o pessoal júnior e recentemente contratad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uspeita de que o pessoal júnior é, na verdade, membro do grupo de crime organizad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que solicitou a posição de nível inferior do DLO, a fim de obter qualquer tipo de acesso direto aos computadores do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O objetivo era apresentar um e-mail específico de spyware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capaz de fazer cópias de correspondência por e-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4094265-F868-4D64-8419-405E18CD1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21104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"Foi feito um pedido por parte do FBA para a compra de 20.000 materiais em papel especializados da UBP pelo preço de 300.000 €. Os departamentos relevantes do FBA e da UBP começaram a tratar da parte logística e financeira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inclusão do Docklands Securities Bank of Norland no círculo de negócios como banco designado da UBP para a transferência de dinheiro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agamento efetivo da transferência inicial de 100.000 € entre o FBA e a UBP com contas DSBL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trodução do facto de as contas SWIFT e IBAN serem incluídas na transação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F8D752D-18D0-49AC-AEB2-37BAFC2A4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8F8D53E-B0A8-497E-A391-855A75A74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Trê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E7FFC58-DB5E-4B8D-9DB0-EEE100C3F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omento determinante para a perpetração do crime - o membro do OCG, através de spyware, conseguiu seguir o desenvolvimento da transação comercial entre o FBA e a UB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dentificação e reação imediata no momento do pagamento fina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Utilização de faturas falsas previamente elaboradas com títulos de e-mai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Todo o esquema assumiu um caráter mais urgente, tal como o Departamento Financeiro da UB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D02C76C-FA61-4B81-88D0-9191AAA0F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6820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 impressão efetiva do material em papel foi feita e a UBP notificou esse facto, sendo que o FBA solicitou o pagamento devido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membro infiltrado do grupo de crime organizado, através de spyware, detetou os momentos finais da conclusão do negócio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grupo registou-se como empresa "fictícia" em Ostland e abriu uma conta bancária comercial na filial do banco utilizado em Ostland pelo FBA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lsa documentação, incluindo a parte principal – foi elaborada uma fatura falsa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28F8E3C-F6D6-4D30-9621-D75A0EFB8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2160"/>
            <a:ext cx="82296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O servidor SMTP aberto foi encontrado e testado para envio de e-mails falsos (ou pode ser utilizado um exemplo de uma conta de webmail com uma pequena alteração ao nome da conta de e-mail, consoante as habilidades do formador)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Os serviços do servidor de e-mail SMTP aberto foram pagos em Bitcoins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Foram elaborados e-mails falsos, incluindo os nomes das pessoas do Departamento Financeiro, detalhes sobre o contrato e o idioma que foram utilizados anteriormente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760BB84-3885-4028-9418-B52741536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Diretor Financeiro autoriza a transferência com base em documentos apresentados anteriormente: correio falso da UBP com uma fatura falsa que continha a conta bancária falsa num país diferente tanto para o FBA como para a UB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omento em que a fraude é cometida e 200.000 EUR são transferidos para a conta fraudulent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Departamento Financeiro da UBP conferiu a sua conta bancária e respondeu à FBA dizendo que não foi recebido qualquer pagamen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38C5745-C6CD-448F-80BE-4DC1966C8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Um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Dois</a:t>
            </a:r>
            <a:br>
              <a:rPr sz="2600"/>
            </a:br>
            <a:r>
              <a:rPr b="0" i="1" lang="pt-PT" sz="26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s Trê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Quatro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Cin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2756CD0-B7E3-4946-BB3B-79E7BEDDC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21B150F-69FD-4BBB-AF7E-3BE40114D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e Quatro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113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E19B339-8E43-490D-8EEB-ED83CE5E1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o FBA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tenção de provas eletrónicas e outras provas do FBA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a UBP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tenção de provas eletrónicas e outras provas da UBP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a DSBN em Norland e Ostland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8B01683-8CF3-4D2E-8396-C6C4E905A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btenção de provas eletrónicas e outras provas de ambos os banc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btenção de provas da autoridade de registo comercial competente em Ostland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operação entre a polícia, o Ministério Público e, se for caso disso, juízes de instrução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clusão de assistência jurídica internacional nas disposições da Convenção de Budapeste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21A4BD6-B05A-4694-A827-4EF60C8B7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ncipais provas eletrón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yware utilizado no FB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idor SMTP para envio de e-mails fals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ptomoeda (Bitcoin)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s regulare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s fals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turas falsa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informáticos da UBP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bancári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comerciais da empres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de vigilânci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ra provas eletrónicas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3EB8C13-7050-4D12-9846-4A9122A17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9C7C9C9-FA5F-427B-BE17-22402C577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1061640"/>
            <a:ext cx="851220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o final desta sessão, os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ormandos serão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dentificar as pessoas jurídicas e naturais envolvidas no cená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plicar o 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do caso e a situação dos factos introdutór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Seguir e explicar o fluxo e o desenvolvimento da investigação do cas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plicar como é que o ato criminoso foi cometido e quem foram os principais interveni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omo e onde é que a investigação criminal deve começar e quais devem ser os ve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CD2E279-5E90-4747-BDAE-6F4290294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3B9376D-C4C6-4E8E-8101-FBC248CAB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047240"/>
            <a:ext cx="85122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o final desta sessão,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s formandos serão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Identificar as pessoas jurídicas e naturais envolvidas no cenári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Explicar o </a:t>
            </a:r>
            <a:r>
              <a:rPr b="1" i="1" lang="pt-PT" sz="2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 do caso e a situação dos factos introdutórios.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eguir e explicar o fluxo e o desenvolvimento da investigação do caso.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Explicar como é que o ato criminoso foi cometido e quem foram os principais interveni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omo e onde é que a investigação criminal deve começar e quais devem ser os ve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990BABF-140D-4F24-B78F-3983F7F7E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te Um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2C7DE9A-2E00-476A-A84C-8CABD41E9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B07603D-4511-459D-881D-B5B195900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1582560"/>
            <a:ext cx="840420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 Banco fornece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uma série de serviços bancários e financeir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Federal Bank of Atlantis Ltd., FBA Bank Towers, Atlantis 12345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 e funcionários: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residente Independente Não Executivo do Conselho, Diretor Executivo, Diretor-Geral, Diretor a Tempo Inteiro, Diretor Executivo e Financeiro do Grupo, Secretário da Empresa, Diretor-Geral Executivo (Jurídico), Diretor-Geral Executivo e Chefe de Relações com Investidores, Auditoria Interna do Grupo e Diretor-Geral Executivo, Diretor Executivo, Chefe do Departamento de Logística e Operações, Chefe do Departamento de Tecnologia da Informaçã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5A93125-7025-4FB0-8D9F-8934840BF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Users\B.Stam\Desktop\AJT evidences\FBA logo.jpg"/>
          <p:cNvPicPr/>
          <p:nvPr/>
        </p:nvPicPr>
        <p:blipFill>
          <a:blip r:embed="rId1"/>
          <a:stretch/>
        </p:blipFill>
        <p:spPr>
          <a:xfrm>
            <a:off x="6675480" y="957240"/>
            <a:ext cx="20113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349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UBP fornece serviços de impressão e gestão da cadeia de suprimentos especializados para o setor bancário. A empresa também organiza e envia publicações bancárias de curto a médio prazo, que são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istribuídas em revistas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specializad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United Bank Printing, Green Garden Avenue 123, Blankenberg 123456, Norlan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es e funcion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Diretor Executivo, Diretor-Geral, Diretor a Tempo Inteiro, Diretor Financei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0AB63-5905-449E-9DF5-81255C254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B.Stam\Desktop\AJT evidences\UBP.jpg"/>
          <p:cNvPicPr/>
          <p:nvPr/>
        </p:nvPicPr>
        <p:blipFill>
          <a:blip r:embed="rId1"/>
          <a:stretch/>
        </p:blipFill>
        <p:spPr>
          <a:xfrm>
            <a:off x="5840280" y="1349280"/>
            <a:ext cx="24051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34800" y="1095480"/>
            <a:ext cx="84744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Doklands Securities Ba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 Docklands Security Bank of Norland presta serviços banc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a corporações, governos, investidores institucionais, pequenas e médias empresas e pessoas físic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Docklands Security Bank of Norland, DSBN Homestead Building, Blankenberg 65432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es e funcion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Presidente Independente Não Executivo do Conselho, Diretor Executivo, Diretor-Geral, Diretor a Tempo Inteiro, Diretor Executivo e Financeiro do Grupo, Secretário da Empresa, Diretor-Geral Executivo, Diretor-Geral e Chefe de Relações com Investidores, Chefe de Auditoria Interna do Grupo e Diretor-Geral Executivo, Diretor Execut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76A96AB-EE16-4552-8259-058322E13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lika 5" descr="C:\Users\B.Stam\Desktop\DSBN.jpg"/>
          <p:cNvPicPr/>
          <p:nvPr/>
        </p:nvPicPr>
        <p:blipFill>
          <a:blip r:embed="rId1"/>
          <a:stretch/>
        </p:blipFill>
        <p:spPr>
          <a:xfrm>
            <a:off x="5423040" y="1192320"/>
            <a:ext cx="3122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5E1885E-92BB-49EA-A9D7-B2499761A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Pedro Verdelho</cp:lastModifiedBy>
  <dcterms:modified xsi:type="dcterms:W3CDTF">2019-04-22T13:53:08Z</dcterms:modified>
  <cp:revision>166</cp:revision>
  <dc:subject/>
  <dc:title>Introductory Cybercrime Training for Judges and Prosecutors</dc:title>
</cp:coreProperties>
</file>