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2D260-C0F4-4FA1-B3CA-3E56421D22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CC05C-7530-4CF1-9720-59A971CDB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ção "Descrição geral das provas do estudo de caso" apresenta, de forma condensada, as provas que serão apresentadas a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28490-A878-49B5-A9B9-56ADAACE4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10 e-mails considerados regulares trocados entre os responsáveis do FBA e da UBP encarregados de diferentes secções de atividade e contratos para a impressão de bónus de aniversá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ontrato entre o FBA e o UBP ocorre após a troca de e-mails e é perspetivado em termos da estrutura comercial da transação. Também define etapas cruciais para o posterior desenvolvimento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DB51B-8CF3-431E-8918-8DB20C97F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s extratos bancários acompanham de perto o desenvolvimento do caso. Os delegados poderão implementar o princípio “seguir o dinheiro”, analisando os extratos bancários do FBA e do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 fatura pró-forma é genuína e emitida pelo UBP para o FBA referente a um adiantamento no valor de 100.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80CCF-E271-4023-B2CF-44815B594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BCBA1-4B96-4E7D-827C-FAD72FC7A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3955D-6C8A-44CB-88E8-C9D72CF7A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11.º e-mail os seguintes são ferramentas de perpetração. O conteúdo dos e-mails é escrito pelo autor do crime e inclui os elementos necessários para anál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tura falsa é elaborada pelo autor do crime e direciona a transferência do dinheiro para a conta bancária real existente, mas aberta com finalidade fraudulen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530E6-20DA-41BF-9644-63C64A4C5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mentos dos funcionários do Federal Bank of Atlantis envolvidos no caso em fases diferentes. Os depoimentos mais importantes são os do Departamento Financeiro e de TI, pois dão pistas ou explicações sobre a forma como o crime foi, de facto, cometi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EE351-42C6-43D8-BDA3-B5B88C8B6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3CD3F-A075-4BC8-9DE2-6C0D43150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EFC00-5C51-455C-8A62-7258F0843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916B6-065A-4CD4-AFE3-1A18A48B7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introdução à prova inicial fornecida no material do cenário de cas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34BB6-83C8-4A02-9F13-58C3649A5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9C9D9-BA01-48BB-8BBD-DF6C1FA18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D0248-7FDA-4271-8754-4A829D2B2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D6F6E-F10E-4916-B98A-10B5C9541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49E4A-47B6-493A-84D8-EC5B03892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B31FB-92A5-4F0E-A468-25EDC1E52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enário começa com o estabelecimento do Federal Bank of Atlantis (FBA), banco internacional bem conhecido, bem estabelecido e respeitado. Uma descrição como esta deve levar os formandos a concluir que este tipo de banco não deve estar envolvido em nenhum tipo de problema, muito menos aqueles semelhantes a um que será descrito mais tarde n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0D0E2-45C0-484F-874D-66B9D8AA2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a empresa de empresas envolvidas no cenário do caso. São produzidos 3 ficheiros diferentes do MS Word no formato 97-2003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3D9C6-FFB4-4ED5-A9E8-C87B4F057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iversos documentos de apoio para o cenário do caso. São produzidos 3 ficheiros diferentes do MS Word no formato 97-2003 e Adobe Reader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3C5AF-2D59-4C5A-8A9C-5058C77FE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CB27D-22F5-4288-831F-A513DF87D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901-8CF7-46C5-9A1D-0C5BBC60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F6E-4234-4CB8-ACD2-F79CD7A9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A12-B3B4-4CB5-B4CB-5C694DD1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9CC-B5A9-4488-8BD7-25385AC5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570-380B-4B0D-A6A6-0EA60025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860-7865-42B9-AED1-C71B0975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2D1-E084-4D6A-982D-80C38B60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D3F-498C-4291-A18D-F16522D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683-F3BC-4DB4-9541-2EC7FF2A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DEB-037A-45E4-8A2D-1F993A65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B30-5ED5-439A-A845-C1458DD4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454-0369-4E96-8F98-587651F0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7CD4E-C050-40D9-AF79-786888FC5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B7A48-9D2A-46EE-9B78-662BABA82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Sessão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Descrição geral das provas do caso de estu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13616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E-mails"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Troca de e-mail entre o FBA e a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s fornecidos após o desenvolvimento da troca entre pessoas contratadas e responsáveis do FBA e da UBP para a emissão do bónus de anivers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O contrato entre o FBA e a UBP é fornecido para uma melhor análise, mas também como prova de apoio ao proces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6B2F1A7-6D81-4769-819B-662DCE6EF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400" spc="-1" strike="noStrike">
                <a:solidFill>
                  <a:srgbClr val="000000"/>
                </a:solidFill>
                <a:latin typeface="Calibri"/>
              </a:rPr>
              <a:t>Extratos bancários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o F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numerosas transações enumeradas, incluindo pagamento antecipado de 100.000 EUR indicado neste extra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O Docklands Securities Bank of Norland efetua as transações bancárias da United Bank Printin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Fatura pró-forma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 fatura pró-forma foi emitida pela UBP ao FBA no valor de 100.000 E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A2A5A1D-3C30-49FE-977D-FCE419B56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9FE59BE-181F-4277-B75E-7B43E4EFC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erpetração do crime </a:t>
            </a: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- Provas e depoimentos de testemunh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4149B5E-5FA1-4193-9980-BD5AC258E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-mail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11.º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 e troca seguinte como momento-chave para a perpetração do cri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xtratos bancá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A fatura falsa da UBP inclui informações sobre a conta fraudulenta e um pedido de pagamento de 200.000 EUR pela finalização da impressão de 20.000 bónu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BCFCD49-DF55-4314-9B68-65D84EC66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Depoimentos de testemunha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Logística e Operações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Financeiro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Tecnologia da Informação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ADE7456-B89E-42F6-9EEC-8C977E9BD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249D6B5-94A1-4BF0-A51C-5DCFD6753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46783B4-55CE-43DD-A5DE-D3ED13DCF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meaça persistente avanç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"conjunto de processos furtivos e contínuos efetuados por de hackers informáticos, frequentemente orquestrados por uma pessoa ou por várias pessoas que visam atingir uma entidade específica"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11B2BF9-A10D-47DE-8641-C2ADA6475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riptomo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ativo digital concebido para funcionar como meio de troca utilizando a encriptação para proteger as transações e para controlar a criação de unidades adicionais da mo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4BC8BAE-22E5-4021-B39D-D2B105FA5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36600"/>
            <a:ext cx="85136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 e depoimentos de testemunh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12B43B5-94E4-4D45-9B78-BE5F6662A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10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ngenharia social ciber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tipo de logro para fins de recolha de informações, fraude ou acesso a sistemas; difere de um "golpe " tradicional, pois, muitas vezes, é um dos muitos passos de um esquema de fraude mais complex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4677371-B464-438E-8A3D-6DBF5922A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5076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962D9F7-D018-4FF6-9B00-88806646F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No final desta sessão, os delegados serão capaze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a introdução e as provas iniciais do ca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5A59830-7BD7-42BF-ADEC-32E390817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E7DBBF9-2B37-4201-B537-DC6404134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5880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preender a introdução e as provas iniciais do ca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DA1145E-AD90-4B60-BB65-3762A8AB9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0674CBF-9E1F-49D1-997F-6989AD592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Introdução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Sinopse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) anteriormente detet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objetivo e a dimensão destas fraudes são surpreendentes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AB0D22B-CA9F-45B8-BBD5-F63FFC860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Perfis empresariai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Federal Bank of Atlan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a United Bank 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Doklands Securities Bank of Nor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zação e funcioná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7F6A76A-5A2D-4178-9116-CB517CDC5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86920"/>
            <a:ext cx="822960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núncio do bónus de aniversário por parte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Decisão do Conselho de Administração sobre a emissão do bónus e respetivos elementos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Bónus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preparação provisória do bónus, incluindo os elementos para impress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ntrato entre o FBA e a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ntrato celebrado para o serviço de impressão de 20.000 elementos do bónus de aniversário do FB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D6C4B89-798A-4B68-9096-B0DA9FEE3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C735E9A-13D8-4929-B114-5C0727DBA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384CD43-FB4C-4389-987E-DB707E6EC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49:18Z</dcterms:modified>
  <cp:revision>184</cp:revision>
  <dc:subject/>
  <dc:title>Introductory Cybercrime Training for Judges and Prosecutors</dc:title>
</cp:coreProperties>
</file>