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2378C-3AC1-4B14-A526-FE711EF13033}"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84663-0BB1-4660-88F8-9925C87F43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65E6D-559C-4A5E-9677-F7E503E7E0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F2B43-B2D1-4D1E-BA26-FB38B5956C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F11CF-BBC0-4317-A6C5-858B19CA86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38F2D-2216-4112-A3E2-4F94FABFA5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C708E-9374-4984-9EC4-54C22D9E9C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04BDC-9160-497C-B7C8-C3ACAA8DB7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8992A-0F19-455F-9E8A-F00C84ACAA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1D1D9-8334-4052-8117-3EE2CEDA15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E59F3-4ECF-4F6A-9D8E-65DC941AC0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45B45-F82B-4430-9D9B-4E50A4A07A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8CEBE-6646-4D29-81B7-8706631CAA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A8E4C-111C-45AE-900A-F3F010C6EA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43A81-1686-4371-B9BD-CEABE4C761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929E5-2638-45F2-BC3A-F46AA72C7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FF7BA-A7DF-46DB-B787-E65BEDC691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DC8C4-4FF8-4005-B77B-43546F7E44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230E3-E985-4F65-A7D2-1C29D37EF7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1E6D9-2AD3-4428-A312-0D7CCCF679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88AF2-B561-4F29-BEF3-4C676878DA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5F89E-376F-48BF-B8D5-925DA0D4E3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31745-F024-401E-9EA3-322D8CC689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BB1D2-C753-4649-8E94-4BE96BCA9E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D4329-2ACC-4995-8F25-28CE20E3D5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2C5B0-5078-413C-ACCA-9F68CECC1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CE4D2-FFA6-4C71-A150-A3F7B04051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422F9-D332-4D6B-8E6A-E2B033ADD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60F77-9AAC-46FC-ACC5-9B2E447DF1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DBF82-8BD9-47A1-94DC-AFAFAA7FEC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92BE7-947C-4AFF-BF41-5A8D66A83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C6C4-90AA-4B99-A63D-4DBE0786C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31A6C-9F07-4C41-B4DC-59AE00807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FC949-A2F2-4D7E-B329-1CFD6D25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2F40-A5D7-47A3-84DC-9766C934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42FE-9CFA-4BDA-BD68-0816BF36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03A5D-4C31-472D-B6A8-77BEFFB19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249F1-5476-454C-A6AB-6E9F210AB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8E969-2FEC-4E7E-94B2-AD08EC7E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6D22-C87B-420E-9117-057B9F74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5447-7633-4AB7-88A6-097348AF9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6A9EC-F3F7-4BEB-BDBA-536D68329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F79CB-94AC-41BF-91FA-776F20E0EA8A}"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22D0A-5D1C-4EA3-84FF-3E76C827F3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5D86AB-A31C-4D33-965E-CCF10E3A45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9BED64-455A-4D7A-BDB0-6E5C012200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C8E908-DB27-45A1-B2C9-4FB5A2CD1E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C750B7-5C6D-4974-A60A-D1BE18A08A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8DD637-4301-45E0-A293-B5560B21A6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454B73-C4A0-4CBD-ACF8-7D51AA8036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858BA8-523D-4DE9-B963-83F26CC86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5AA6E5-D967-4F5B-AFD3-75184DD72C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A62319-CDFC-484E-8112-75BFB3FE58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D6E551-1F48-4E03-A36F-C29547BBF9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277107-77EE-40D6-A7BB-0CB007CE3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9847D3-CA4C-4FE8-A5F8-CCA56799CD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6E75C4-DB1E-45EA-B708-11ACABD489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3E7767-2028-4E42-9D6E-E30FE52F2E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9F5A3C-E0C1-4A0C-8A74-42ED882E80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DD7FDA-E816-44C7-A393-0E900AC9EF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2FBD39-500B-4D86-AD3B-E29D049952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644BCF-5192-4A79-9A85-0E70E07575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30AD8-4975-4BDD-A046-9248DAECA2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FA5EBF-EA1F-441B-8483-CB78BA3815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46259A-16A6-4CCA-8CC2-24C5F26EC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B5A665-B5F4-43CC-AE00-D509FE7E69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6BCAD8-C169-4B6C-8D9C-E028A6A6F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6D604C-20E9-4322-9E82-F571F0391A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8E3763-527E-491C-9647-4BB587743B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897091-F184-4597-8BDF-C8F48C2092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62CC5C-7070-44BD-B9CF-C4D3CADD23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3F8A27-9AAA-42FD-B4AE-9F04C632B4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45AC35-64DD-4DCE-8E40-7FB5D63D93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1:09Z</dcterms:modified>
  <cp:revision>511</cp:revision>
  <dc:subject/>
  <dc:title>Introductory Cybercrime Training for Judges and Prosecutors</dc:title>
</cp:coreProperties>
</file>