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4E262-3C7A-484A-A956-F5B17490BD6C}"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91D6B-234F-4FCF-ACCE-A6E998F380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3CA6E-4BAC-4760-B6E6-1AC2B284B6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31DF7-F0F6-492A-AFCE-1041E56D66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89621-D4B9-4750-B1BC-7938DC1E47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4DBB1-F074-4ADE-B9C9-FECAAB3940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70DBB-A03B-4C78-B12F-AF5074FE9F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6D81C-7C58-4AE8-8998-0E9138C706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1DA53-DE6F-41E8-8182-A8E54CE017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AB7E2-FF14-4340-B99E-8C5F65D8F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2969B-3E4C-433E-BA98-432246DEF9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F0763-B4A5-4962-B60E-759DF49AFE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66BCC-D28D-4BAE-B95B-B68B6F7672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F7BE3-33C5-4709-ADA1-A90CB707C3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408EF-8DBE-474A-A32A-D6E82F36C0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CCA3F-25C8-4593-8789-585CD2BEB5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033F1-3D25-422E-AB05-19B2EE615D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13237-D5C2-4350-A102-7E18B7166B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E5481-2831-403A-96F0-013AC14AE6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4DD4D-CA70-4A34-8614-311A42CB57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31F43-8987-4971-9ECF-20DD834086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5C53B-9A77-4ECA-9143-6162BC44B3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DB806-BCD0-48D7-97DA-23ADFA4CDE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0B18C-224B-452A-B950-E8F72B1999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58474-E827-47AD-A8B5-60202C73E9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515E03-543A-4964-A507-7B52D397D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44DA9A-BD89-480D-B21D-33EA4C983C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46833-A14F-475E-9DFA-EC3146CD03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43F17-7CAA-4925-9A6B-0A51913C6F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81157-04F6-4EA0-9494-20B8D4AB08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619C8-BAE7-4AAD-B64B-515A25E07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22639-7C10-4DC1-85C9-74DDD759B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14331-FB2E-421D-B1E1-D73EA97AB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F1171-E62C-4EDF-944A-651B26D54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4375C-F30B-484C-B1DC-1C3D086FD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7F44-FB4E-4BED-8C6A-FA23D1C9A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CDDD1-D750-43B0-822F-D81228478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D5058-48DE-4A5F-BF50-DE1F53750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59F47-40E1-451E-A07C-4C504B0AF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DD36-EEE5-4580-98DE-3B1498BD0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A824-F905-42D4-AAFA-AA3916D8F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54ED-3278-4D77-B71E-F8191D663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BD193-90D5-4023-AE2F-13A71FF49208}"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91E1F4-0AE2-4932-8514-2A088BF8D3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B44AED-BCAC-49B1-BF18-29AD5B5225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EE3F74-E346-4CFC-A2B5-06A24F4FF3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9E97C7-D88A-4014-BBDD-08C3A866F6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B2AFA0-0136-4441-9E7A-C127B632E1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A2DEB8-C7D1-410F-AD2C-EC682195AD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3BE3BD-FB88-4272-85A8-8865C441A5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C13C8D-6946-41DF-AA60-8F78A46C4D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885281-6179-4079-B191-A732BCD6B9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184B1E-74F0-4EDF-B50C-F11E6D0F03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769C71-5F1C-4070-9EF0-E48BDE7C5B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93C8C77-3EAB-48A3-BD42-020DA7BA86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3B6D54-1AEE-4AE8-B773-F44578DAA5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CBDCE0-CDA7-405F-9894-AAB4AFC02C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EAE688-58E9-48F7-B3D5-6E46CA86DD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3B34995-9BDC-43C8-ACC3-52E13BF930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F90CFFB-6269-42A1-B3B0-0ED9A4E366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EF4C66-EDCA-4A90-98C1-5B43FB925B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366BE6-BDD8-4424-8980-7D401301DF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D9D30-C086-42D7-BE59-EEBA32E89D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8896EA-0370-4371-A2EF-B0B1A0E15D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3F0C06-A2D2-472D-B81A-749533F893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F13E5C-87DC-4828-89F4-957F8BE337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24D2B6-CB02-4E88-B646-FA0F9FF294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75E783-88D4-4838-8089-104A23AE8B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50C89C-59C5-48C2-8CB4-45A74BB8D2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B3339F-6E3F-45FE-A929-2690520D9D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3AF9BF-BC8E-4A61-965E-9980784EBC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EA3001-396B-41E0-A018-8554BCAA6D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944D1A-E7E8-4090-9EAC-514497D60F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37:32Z</dcterms:modified>
  <cp:revision>510</cp:revision>
  <dc:subject/>
  <dc:title>Introductory Cybercrime Training for Judges and Prosecutors</dc:title>
</cp:coreProperties>
</file>