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5B6EBE-8FDD-4A04-81E3-020749A05D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307BAA-9D86-4E91-8A32-5DEA4D8035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ecção "Descrição geral das provas do estudo de caso" apresenta, de forma condensada, as provas que serão apresentadas aos delega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D5ED58-6389-4505-88FA-2E2BA54235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10 e-mails considerados regulares trocados entre os responsáveis do FBA e da UBP encarregados de diferentes secções de atividade e contratos para a impressão de bónus de aniversári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O contrato entre o FBA e o UBP ocorre após a troca de e-mails e é perspetivado em termos da estrutura comercial da transação. Também define etapas cruciais para o posterior desenvolvimento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99993B-42E6-4CCD-A5C4-E73F429D1C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Os extratos bancários acompanham de perto o desenvolvimento do caso. Os delegados poderão implementar o princípio “seguir o dinheiro”, analisando os extratos bancários do FBA e do UB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A fatura pró-forma é genuína e emitida pelo UBP para o FBA referente a um adiantamento no valor de 100.00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0DF824-B7A3-497E-9B3D-C4B211EA7B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parte Dois da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09C04A-F01D-4E46-8527-CC39B92CB9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86C93F-E92C-4469-8D67-A4BE7C5792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11.º e-mail os seguintes são ferramentas de perpetração. O conteúdo dos e-mails é escrito pelo autor do crime e inclui os elementos necessários para análi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atura falsa é elaborada pelo autor do crime e direciona a transferência do dinheiro para a conta bancária real existente, mas aberta com finalidade fraudulen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F6BAC8-17E7-42D1-A89B-17257100FD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Depoimentos dos funcionários do Federal Bank of Atlantis envolvidos no caso em fases diferentes. Os depoimentos mais importantes são os do Departamento Financeiro e de TI, pois dão pistas ou explicações sobre a forma como o crime foi, de facto, cometid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6C57FC-BE46-4FE7-A596-853BB9C808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parte Três da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53B1E9-DA68-42D5-9061-DDA846F55D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nvestigação deve começar em grupos de trabalho com líderes de grupo e membros a começarem a trabalhar no caso a partir da base fornecida no Material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DB2F9F-CF0D-41C1-AC62-52690EB1DE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nvestigação deve começar em grupos de trabalho com líderes de grupo e membros a começarem a trabalhar no caso a partir da base fornecida no Material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4E88B9-AA47-4F06-AFE7-DB29849AD7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Um da apresentação fará a introdução à prova inicial fornecida no material do cenário de cas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Dois apresentará o layout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Três será a perpetração do ato criminos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Quatro irá estabelecer as bases para o início da investigação e trabalho dos forman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Cinco é um resumo dos apresentados anteriormen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030DFC-DE00-4E3B-9D3D-A647187D06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nvestigação deve começar em grupos de trabalho com líderes de grupo e membros a começarem a trabalhar no caso a partir da base fornecida no Material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E8CF1D-F258-401E-86B7-D8B7C7AC74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Parte Quatro da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1918F8-D00C-403C-A93C-DDC054CAE2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F4D48D-E706-4E2C-A3E8-EFA36FB60F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6C6EEF-DFBD-488A-949B-F08386CA12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B0F30A-B76E-4C29-A718-6B3CBA3905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O cenário começa com o estabelecimento do Federal Bank of Atlantis (FBA), banco internacional bem conhecido, bem estabelecido e respeitado. Uma descrição como esta deve levar os formandos a concluir que este tipo de banco não deve estar envolvido em nenhum tipo de problema, muito menos aqueles semelhantes a um que será descrito mais tarde neste documento.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7970C9-3CF2-4B1C-B12D-470D1C096D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il da empresa de empresas envolvidas no cenário do caso. São produzidos 3 ficheiros diferentes do MS Word no formato 97-2003 no material. Devem estar à disposição dos delegados em cópia impressa ou, se as circunstâncias permitirem, e todos os delegados tiverem acesso único aos computadores, em formato eletrónic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75A957-1689-40F3-8EE8-4A8C979DB5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Diversos documentos de apoio para o cenário do caso. São produzidos 3 ficheiros diferentes do MS Word no formato 97-2003 e Adobe Reader no material. Devem estar à disposição dos delegados em cópia impressa ou, se as circunstâncias permitirem, e todos os delegados tiverem acesso único aos computadores, em formato eletrónic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57E73B-780A-4060-98FF-4824FDDD56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Parte Um da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A7282A-057E-49A6-807C-090B070969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B086-84B7-4C1D-92B5-682AC9EE7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F328-2864-4505-B4B2-81A0E0BC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75C7-59A0-439A-9942-7B2684F2E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C342-1628-4ACA-9FD3-8BF396779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D18E-AF5E-420F-9F44-2B162FCF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74FE-DE8C-49BF-B84F-E56F41A5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8053-F6C7-495A-8E3B-BF5B612E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AB99-76E1-4635-9038-C80BEBD4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72DE-5810-41EA-904C-E383F0E1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D1FC-BE8E-4912-88DD-033285B9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FBEC-99BB-4C0B-B42A-6CA10F59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E073-9837-484E-990B-1ADD5163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ECA34E-379C-4CDC-8B25-AA44589DB2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796A6D-BB27-4146-9F42-46649E0853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95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mação Avançada sobre Cibercrime para Juízes e Procurado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Sessão 2.2.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Descrição geral das provas do caso de estu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136160"/>
            <a:ext cx="8229600" cy="50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Pasta 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i="1" lang="pt-PT" sz="3200" spc="-1" strike="noStrike">
                <a:solidFill>
                  <a:srgbClr val="000000"/>
                </a:solidFill>
                <a:latin typeface="Calibri"/>
              </a:rPr>
              <a:t>E-mails"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Troca de e-mail entre o FBA e a UB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e-mails fornecidos após o desenvolvimento da troca entre pessoas contratadas e responsáveis do FBA e da UBP para a emissão do bónus de aniversári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Pasta "</a:t>
            </a:r>
            <a:r>
              <a:rPr b="0" i="1" lang="pt-PT" sz="3200" spc="-1" strike="noStrike">
                <a:solidFill>
                  <a:srgbClr val="000000"/>
                </a:solidFill>
                <a:latin typeface="Calibri"/>
              </a:rPr>
              <a:t>Documentos e relatórios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O contrato entre o FBA e a UBP é fornecido para uma melhor análise, mas também como prova de apoio ao process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senvolvimento do ca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A4EC5B5D-4767-4B4F-B200-30C810A2E6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50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Pasta "</a:t>
            </a:r>
            <a:r>
              <a:rPr b="0" i="1" lang="pt-PT" sz="2400" spc="-1" strike="noStrike">
                <a:solidFill>
                  <a:srgbClr val="000000"/>
                </a:solidFill>
                <a:latin typeface="Calibri"/>
              </a:rPr>
              <a:t>Extratos bancários</a:t>
            </a: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Extrato bancário do FB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numerosas transações enumeradas, incluindo pagamento antecipado de 100.000 EUR indicado neste extrat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Extrato bancário da U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O Docklands Securities Bank of Norland efetua as transações bancárias da United Bank Printing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Fatura pró-forma da U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A fatura pró-forma foi emitida pela UBP ao FBA no valor de 100.000 EU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senvolvimento do ca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FF01CEC2-1010-4392-ABFA-55EB969E04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82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CEE66285-1E09-43FB-BD6B-E2DA2F09BF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Calibri"/>
              </a:rPr>
              <a:t>Parte Três:</a:t>
            </a:r>
            <a:br>
              <a:rPr sz="4000"/>
            </a:br>
            <a:r>
              <a:rPr b="1" lang="pt-PT" sz="4000" spc="-1" strike="noStrike">
                <a:solidFill>
                  <a:srgbClr val="000000"/>
                </a:solidFill>
                <a:latin typeface="Calibri"/>
              </a:rPr>
              <a:t>Perpetração do crime </a:t>
            </a:r>
            <a:r>
              <a:rPr b="1" lang="pt-PT" sz="4000" spc="-1" strike="noStrike">
                <a:solidFill>
                  <a:srgbClr val="000000"/>
                </a:solidFill>
                <a:latin typeface="Calibri"/>
              </a:rPr>
              <a:t>- Provas e depoimentos de testemunh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8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23A38C98-AD96-47FD-A760-E51059F109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rpetração do cr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Pasta "E-mails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11.º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e-mail e troca seguinte como momento-chave para a perpetração do crim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Pasta "Extratos bancários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- A fatura falsa da UBP inclui informações sobre a conta fraudulenta e um pedido de pagamento de 200.000 EUR pela finalização da impressão de 20.000 bónu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41AD3611-D17F-4E89-94C2-D6A3B3B0C0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rpetração do cr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Pasta "Depoimentos de testemunhas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Depoimento do Departamento de Logística e Operações do FB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Depoimento do Departamento Financeiro do FB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Depoimento do Departamento de Tecnologia da Informação do FB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6329534E-1F30-45B5-8E77-CE49EF1DB5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94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48C23EE6-55E4-4267-B243-D07A663D0D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rte Quatro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lossá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98" name="Čuvar mesta za broj slajd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1A3DF85B-F00E-479D-92E1-8AD00C31F5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lossá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Ameaça persistente avança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"conjunto de processos furtivos e contínuos efetuados por de hackers informáticos, frequentemente orquestrados por uma pessoa ou por várias pessoas que visam atingir uma entidade específica"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2F6943F9-6338-429A-81DC-E9D82B9CF4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C:\Users\B.Stam\Desktop\b-apt_infographic.jpg"/>
          <p:cNvPicPr/>
          <p:nvPr/>
        </p:nvPicPr>
        <p:blipFill>
          <a:blip r:embed="rId1"/>
          <a:stretch/>
        </p:blipFill>
        <p:spPr>
          <a:xfrm>
            <a:off x="2406600" y="3452760"/>
            <a:ext cx="427212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lossá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Criptomoe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"ativo digital concebido para funcionar como meio de troca utilizando a encriptação para proteger as transações e para controlar a criação de unidades adicionais da moeda"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7C90D0DD-3A8A-4E6A-8365-997044D250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C:\Users\B.Stam\Desktop\alt-cryptocurrencies.jpg"/>
          <p:cNvPicPr/>
          <p:nvPr/>
        </p:nvPicPr>
        <p:blipFill>
          <a:blip r:embed="rId1"/>
          <a:stretch/>
        </p:blipFill>
        <p:spPr>
          <a:xfrm>
            <a:off x="2001960" y="3830760"/>
            <a:ext cx="535752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73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gra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236600"/>
            <a:ext cx="851364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 Um</a:t>
            </a:r>
            <a:br>
              <a:rPr sz="2600"/>
            </a:b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Introdução e provas inicia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 Dois</a:t>
            </a:r>
            <a:br>
              <a:rPr sz="2600"/>
            </a:b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Desenvolvimento do cas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 Três</a:t>
            </a:r>
            <a:br>
              <a:rPr sz="2600"/>
            </a:b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Perpetração do crime e depoimentos de testemunh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 Quatr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Glossári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arte Cinc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sum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0717B2BD-DFE8-470E-9355-181E49128E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lossá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41084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Engenharia social ciberné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"tipo de logro para fins de recolha de informações, fraude ou acesso a sistemas; difere de um "golpe " tradicional, pois, muitas vezes, é um dos muitos passos de um esquema de fraude mais complex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3CD4CB69-4C14-4A14-85E0-B544370AF3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Users\B.Stam\Desktop\Social Engineering, Baiting, Phishing, Email Hacking, Contact Spamming, Pretexting, Spear Phishing,Vishing, Hunting, Farming NORTON_0.jpg"/>
          <p:cNvPicPr/>
          <p:nvPr/>
        </p:nvPicPr>
        <p:blipFill>
          <a:blip r:embed="rId1"/>
          <a:stretch/>
        </p:blipFill>
        <p:spPr>
          <a:xfrm>
            <a:off x="5076720" y="3814920"/>
            <a:ext cx="361008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6D90B7C3-CEC6-4555-87D3-5377379975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6840" y="1353960"/>
            <a:ext cx="851220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No final desta sessão, os delegados serão capazes d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- Compreender a introdução e as provas iniciais do caso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- Compreender o desenvolvimento do caso, analisando as provas eletrónicas e reais apresentadas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- Acompanhar a perpetração efetiva e encontrar factos adicionais nos depoimentos das testemunhas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- Encontrar informações adicionais sobre os principais termos e definições das ferramentas do mundo cibernético e do crime e utilizá-los neste cas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bjetivos da sess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EE026115-3A6C-4624-9030-CD998742BB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29E0E965-4CA3-4202-A088-93F6340A5F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6840" y="1558800"/>
            <a:ext cx="851220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No final desta sessão, os </a:t>
            </a: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formandos serão </a:t>
            </a: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capazes 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Compreender a introdução e as provas iniciais do cas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Compreender o desenvolvimento do caso, analisando as provas eletrónicas e reais apresentada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Acompanhar a perpetração efetiva e encontrar factos adicionais nos depoimentos das testemunha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Encontrar informações adicionais sobre os principais termos e definições das ferramentas do mundo cibernético e do crime e utilizá-los neste cas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bjetivos da sess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5CF7E161-CAC6-4996-9426-1899F2CBD5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rte Um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ção e provas inicia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59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7476C726-4709-4EDE-9D19-D26F608C0F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149480"/>
            <a:ext cx="8229600" cy="52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Pasta "</a:t>
            </a:r>
            <a:r>
              <a:rPr b="0" i="1" lang="pt-PT" sz="3200" spc="-1" strike="noStrike">
                <a:solidFill>
                  <a:srgbClr val="000000"/>
                </a:solidFill>
                <a:latin typeface="Calibri"/>
              </a:rPr>
              <a:t>Introdução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Sinopse do ca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O cenário do estudo de caso refere-se a esquemas recentes de comprometimento de e-mails empresariais ou "BEC" (do inglês, Business E-Mail Compromise), que derivam de fraudes como "fraude de CEO" ou "ataques indiretos/por intermediários" (</a:t>
            </a:r>
            <a:r>
              <a:rPr b="0" i="1" lang="pt-PT" sz="2800" spc="-1" strike="noStrike">
                <a:solidFill>
                  <a:srgbClr val="000000"/>
                </a:solidFill>
                <a:latin typeface="Calibri"/>
              </a:rPr>
              <a:t>man-in-the-middle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) anteriormente detetad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O objetivo e a dimensão destas fraudes são surpreendentes.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3EA13874-F6AA-44EE-9F30-F4EE188405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004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Pasta "Perfis empresariais"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Perfil empresarial do Federal Bank of Atlant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Descrição geral, organização e funcioná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Perfil empresarial da United Bank Prin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Descrição geral, organização e funcioná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Perfil empresarial do Doklands Securities Bank of Norl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Descrição geral, organ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ização e funcionár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vas inicia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035557DC-D49F-4B2D-832F-C44964F0D4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186920"/>
            <a:ext cx="8229600" cy="516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Pasta "</a:t>
            </a:r>
            <a:r>
              <a:rPr b="0" i="1" lang="pt-PT" sz="2800" spc="-1" strike="noStrike">
                <a:solidFill>
                  <a:srgbClr val="000000"/>
                </a:solidFill>
                <a:latin typeface="Calibri"/>
              </a:rPr>
              <a:t>Documentos e relatórios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Anúncio do bónus de aniversário por parte do F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Decisão do Conselho de Administração sobre a emissão do bónus e respetivos elementos financeiro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Bónus do F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preparação provisória do bónus, incluindo os elementos para impressã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Contrato entre o FBA e a UB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contrato celebrado para o serviço de impressão de 20.000 elementos do bónus de aniversário do FB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vas inicia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BE5D8DCB-408D-4E25-8130-6949AC3BD1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6396C0E0-4034-48BF-8E77-623FE74E90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arte Dois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esenvolvimento do cas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74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BAD396E5-E7DF-4482-BEAB-64AC5E5896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09:33:22Z</dcterms:created>
  <dc:creator>Nigel Jones</dc:creator>
  <dc:description/>
  <dc:language>en-US</dc:language>
  <cp:lastModifiedBy>Pedro Verdelho</cp:lastModifiedBy>
  <dcterms:modified xsi:type="dcterms:W3CDTF">2019-04-22T13:49:18Z</dcterms:modified>
  <cp:revision>184</cp:revision>
  <dc:subject/>
  <dc:title>Introductory Cybercrime Training for Judges and Prosecutors</dc:title>
</cp:coreProperties>
</file>