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20552-664D-4704-8A74-41FBEF599EC7}"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262A6-5D30-49FD-BB5D-BF0E17D949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B8FA7-E20C-4DEE-907B-E987E0A074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3D653-0958-40B9-953C-CE9F131B85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E373E-1D6A-47A1-8DB7-3BD3048676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929A37-57BE-4F32-B503-DA0B026B45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6E289-52D7-49CC-B66F-C8BC1E9B4A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4F72E-025E-4140-A420-9AC2D591B3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768C29-B22C-414D-A315-041A060DEA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uma medida 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90FAB4-903A-498E-8360-DC30F25549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E7A1F-0456-47AE-B335-553D32F87F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828BD-3393-421E-B06E-5CE7C6B39C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98AE8-E76B-45E2-8D30-88EF95AF8A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A42361-C729-470E-A31A-6ABE06466E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F9FCF-8428-4B22-BCC5-0D6FAEAC74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B0EE48-B113-4F9E-8048-A324652113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9E79D-D373-4719-B60D-78F27C62D3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8C360C-CA96-4C43-8CF4-DD6B5E94BC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EAF46-5453-49B2-8E56-8B050D7EAF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45C8FF-C0C8-4B8A-B4E1-94627D9B3A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2C149-9186-43FB-985D-CDCE25D7E1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FE1D15-D580-43A3-B50D-56089951B6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041242-6501-4D71-A513-53142F6E78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971AE-9FF3-4923-82B8-50899B4B2D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65C461-0703-4684-A62B-D5CB526CB3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6C437-00A6-42CC-8EF8-837D261736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D92EB-791C-43A3-B3CD-4567BBDFA8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40684D-7F68-44C1-965E-85C6F78693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331BB-B30A-441F-8007-A7F96DB57A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D0EE96-5909-4B15-AE63-FEDBE480C3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6C4AE-C806-4BB0-BF1D-4F19DDAFD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E49FB-9F01-4261-88B7-1DAE9D69F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A5326-D35F-4E1B-8454-7B67E5B4D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8F93C-310F-4F05-A613-1631425FF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BACC6-3B85-438F-842D-34D5ED9AF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0B287-9B35-4B93-951B-E3A812FA0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8E35C-FD1A-4F70-A3C2-CE0F752D4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92197-38E6-42FF-A24C-D79E94950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C1412-1973-48A3-AC52-B4AA2FBA2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6417F-F283-4BA6-9544-505520693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4968D-BA99-4647-814E-EA07D0FB6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42E1D-0B29-4114-A954-DCE53B24E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17C3B7-1B27-48A3-9AD8-44BF65D95308}"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15F06-A24F-46B3-9A25-1F9651C1B7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0" lang="pt-PT" sz="2800" spc="-1" strike="noStrike">
                <a:solidFill>
                  <a:srgbClr val="000000"/>
                </a:solidFill>
                <a:latin typeface="Calibri"/>
              </a:rPr>
              <a:t>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1C2A3E-E274-4F8B-B9E3-47879E9A6E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361B78-FA5D-4117-AEBB-A320313B77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1801F51-1166-428C-8043-5D80069D59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166728-6594-491C-8E13-C02DE35A6F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obtidas </a:t>
            </a:r>
            <a:r>
              <a:rPr b="0" lang="pt-PT" sz="2800" spc="-1" strike="noStrike">
                <a:solidFill>
                  <a:srgbClr val="000000"/>
                </a:solidFill>
                <a:latin typeface="Calibri"/>
              </a:rPr>
              <a:t>relativamente a</a:t>
            </a:r>
            <a:r>
              <a:rPr b="0" lang="pt-PT" sz="2800" spc="-1" strike="noStrike">
                <a:solidFill>
                  <a:srgbClr val="000000"/>
                </a:solidFill>
                <a:latin typeface="Calibri"/>
              </a:rPr>
              <a:t>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a:t>
            </a:r>
            <a:r>
              <a:rPr b="0" lang="pt-PT" sz="2800" spc="-1" strike="noStrike">
                <a:solidFill>
                  <a:srgbClr val="000000"/>
                </a:solidFill>
                <a:latin typeface="Calibri"/>
              </a:rPr>
              <a:t>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384EE0-CE25-4155-8654-C6793419E8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504C4C-9FD0-484A-84FA-10C6834D9B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a:t>
            </a:r>
            <a:r>
              <a:rPr b="0" lang="pt-PT" sz="2800" spc="-1" strike="noStrike">
                <a:solidFill>
                  <a:srgbClr val="000000"/>
                </a:solidFill>
                <a:latin typeface="Calibri"/>
              </a:rPr>
              <a:t>devem 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um 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a:t>
            </a:r>
            <a:r>
              <a:rPr b="0" lang="pt-PT" sz="2800" spc="-1" strike="noStrike">
                <a:solidFill>
                  <a:srgbClr val="000000"/>
                </a:solidFill>
                <a:latin typeface="Calibri"/>
              </a:rPr>
              <a:t>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os fornecedores de serviços, no seu território ou no exterior, podem não estar legalmente </a:t>
            </a:r>
            <a:r>
              <a:rPr b="0" lang="pt-PT" sz="2800" spc="-1" strike="noStrike">
                <a:solidFill>
                  <a:srgbClr val="000000"/>
                </a:solidFill>
                <a:latin typeface="Calibri"/>
              </a:rPr>
              <a:t>sujeitos </a:t>
            </a:r>
            <a:r>
              <a:rPr b="0" lang="pt-PT" sz="2800" spc="-1" strike="noStrike">
                <a:solidFill>
                  <a:srgbClr val="00b050"/>
                </a:solidFill>
                <a:latin typeface="Calibri"/>
              </a:rPr>
              <a:t>a</a:t>
            </a:r>
            <a:r>
              <a:rPr b="0" lang="pt-PT" sz="2800" spc="-1" strike="noStrike">
                <a:solidFill>
                  <a:srgbClr val="000000"/>
                </a:solidFill>
                <a:latin typeface="Calibri"/>
              </a:rPr>
              <a:t>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F1BF68E-2562-486E-8E28-4B4CB8B16A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6A8444F-F871-4626-89DD-D1665371D4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necessário </a:t>
            </a:r>
            <a:r>
              <a:rPr b="0" lang="pt-PT" sz="2800" spc="-1" strike="noStrike">
                <a:solidFill>
                  <a:srgbClr val="000000"/>
                </a:solidFill>
                <a:latin typeface="Calibri"/>
              </a:rPr>
              <a:t>que se considere a possibilidade de violação de normas que os protegem, pois, em geral, há que, nestas situações, respeitar </a:t>
            </a:r>
            <a:r>
              <a:rPr b="0" lang="pt-PT" sz="2800" spc="-1" strike="noStrike">
                <a:solidFill>
                  <a:srgbClr val="000000"/>
                </a:solidFill>
                <a:latin typeface="Calibri"/>
              </a:rPr>
              <a:t>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C58F12-E48B-4621-A6A1-934B6BA504D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 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8F87C5-C36B-46B6-833E-3B7AB34044B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059D37-F7EC-4F4A-B02F-E386D64841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a:t>
            </a:r>
            <a:r>
              <a:rPr b="0" lang="pt-PT" sz="2800" spc="-1" strike="noStrike">
                <a:solidFill>
                  <a:srgbClr val="000000"/>
                </a:solidFill>
                <a:latin typeface="Calibri"/>
                <a:ea typeface="Arial"/>
              </a:rPr>
              <a:t>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a:t>
            </a:r>
            <a:r>
              <a:rPr b="0" lang="pt-PT" sz="2800" spc="-1" strike="noStrike">
                <a:solidFill>
                  <a:srgbClr val="000000"/>
                </a:solidFill>
                <a:latin typeface="Calibri"/>
                <a:ea typeface="Arial"/>
              </a:rPr>
              <a:t>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CCAFDA8-0527-4232-9CCB-1B5A267CB1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de serviços </a:t>
            </a:r>
            <a:r>
              <a:rPr b="0" lang="pt-PT" sz="2800" spc="-1" strike="noStrike">
                <a:solidFill>
                  <a:srgbClr val="000000"/>
                </a:solidFill>
                <a:latin typeface="Calibri"/>
              </a:rPr>
              <a:t>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a:t>
            </a:r>
            <a:r>
              <a:rPr b="0" lang="pt-PT" sz="2800" spc="-1" strike="noStrike">
                <a:solidFill>
                  <a:srgbClr val="000000"/>
                </a:solidFill>
                <a:latin typeface="Calibri"/>
              </a:rPr>
              <a:t>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35BAAB-3021-480A-B141-E0B528830F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09BCD6-EEA6-44E8-BEE5-5C9C3BCA70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2290C3-C60E-44B4-B4E3-23081B51DD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7564EA-D011-4E99-839E-EA239B9381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B15305-32E9-4C22-96FB-E1AA1F3C7B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a:t>
            </a:r>
            <a:r>
              <a:rPr b="0" lang="pt-PT" sz="2600" spc="-1" strike="noStrike">
                <a:solidFill>
                  <a:srgbClr val="000000"/>
                </a:solidFill>
                <a:latin typeface="Calibri"/>
              </a:rPr>
              <a:t>exercer outros podere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Injunção de comunicar/Busca e apreensão</a:t>
            </a:r>
            <a:r>
              <a:rPr b="0" lang="pt-PT" sz="2600" spc="-1" strike="noStrike">
                <a:solidFill>
                  <a:srgbClr val="000000"/>
                </a:solidFill>
                <a:latin typeface="Calibri"/>
              </a:rPr>
              <a:t>: Muitas vezes, solicitar a </a:t>
            </a:r>
            <a:r>
              <a:rPr b="0" lang="pt-PT" sz="2600" spc="-1" strike="noStrike">
                <a:solidFill>
                  <a:srgbClr val="000000"/>
                </a:solidFill>
                <a:latin typeface="Calibri"/>
              </a:rPr>
              <a:t>conservação expedita pode não ser eficaz na prevenção de perda ou modificação de dados (ou seja, onde o objeto da investigação criminal tem o controlo total). É então necessário recorrer à injunção de comunicar ou à apreensão dos dados informáticos refer</a:t>
            </a:r>
            <a:r>
              <a:rPr b="0" lang="pt-PT" sz="2600" spc="-1" strike="noStrike">
                <a:solidFill>
                  <a:srgbClr val="000000"/>
                </a:solidFill>
                <a:latin typeface="Calibri"/>
              </a:rPr>
              <a:t>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a:t>
            </a:r>
            <a:r>
              <a:rPr b="0" lang="pt-PT" sz="2600" spc="-1" strike="noStrike">
                <a:solidFill>
                  <a:srgbClr val="000000"/>
                </a:solidFill>
                <a:latin typeface="Calibri"/>
              </a:rPr>
              <a:t>da comunicação referida ou então a medida tornar-se-á 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31A50E-0BA1-4F7E-BCBA-5A0280DA7C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910128-C49E-4F38-9E53-A3D096A44C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8C266E-9F39-4EA3-9317-FD79A94DD1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a:t>
            </a:r>
            <a:r>
              <a:rPr b="0" lang="pt-PT" sz="2800" spc="-1" strike="noStrike">
                <a:solidFill>
                  <a:srgbClr val="000000"/>
                </a:solidFill>
                <a:latin typeface="Calibri"/>
              </a:rPr>
              <a:t>desta sessão,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132038-0024-43F4-AC8F-CCF00097FD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EF49DB-99A3-4C55-86CC-C4891FF227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CDE23E-F886-451C-AA07-F92AF21769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a:t>
            </a:r>
            <a:r>
              <a:rPr b="1" lang="pt-PT" sz="2800" spc="-1" strike="noStrike">
                <a:solidFill>
                  <a:srgbClr val="ff0000"/>
                </a:solidFill>
                <a:latin typeface="Calibri"/>
              </a:rPr>
              <a:t>de dados </a:t>
            </a:r>
            <a:r>
              <a:rPr b="1" lang="pt-PT" sz="2800" spc="-1" strike="noStrike">
                <a:solidFill>
                  <a:srgbClr val="000000"/>
                </a:solidFill>
                <a:latin typeface="Calibri"/>
              </a:rPr>
              <a:t>informáticos</a:t>
            </a:r>
            <a:r>
              <a:rPr b="1" lang="pt-PT" sz="2800" spc="-1" strike="noStrike">
                <a:solidFill>
                  <a:srgbClr val="00b050"/>
                </a:solidFill>
                <a:latin typeface="Calibri"/>
              </a:rPr>
              <a:t>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 </a:t>
            </a:r>
            <a:r>
              <a:rPr b="1" lang="pt-PT" sz="2800" spc="-1" strike="noStrike">
                <a:solidFill>
                  <a:srgbClr val="ff0000"/>
                </a:solidFill>
                <a:latin typeface="Calibri"/>
              </a:rPr>
              <a:t>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7DF488-C370-46AA-BA1C-49F513D8D4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F567D0-B99A-46B4-A532-D6364AFF26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BB278A-CA5A-4BD0-A208-23A186405F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03C7775-4A0B-488C-B30F-3FFFE500F8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FC4B3D-C6C6-4D8D-8616-CAF7EB5D62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a:t>
            </a:r>
            <a:r>
              <a:rPr b="0" lang="pt-PT" sz="2800" spc="-1" strike="noStrike">
                <a:solidFill>
                  <a:srgbClr val="000000"/>
                </a:solidFill>
                <a:latin typeface="Calibri"/>
              </a:rPr>
              <a:t>, as pessoas envolvidas na investigação não sabem/não podem comparecer à audiência </a:t>
            </a:r>
            <a:r>
              <a:rPr b="0" lang="pt-PT" sz="2800" spc="-1" strike="noStrike">
                <a:solidFill>
                  <a:srgbClr val="000000"/>
                </a:solidFill>
                <a:latin typeface="Calibri"/>
              </a:rPr>
              <a:t>(</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requerentes geralmente não querem que outros sujeitos estejam </a:t>
            </a:r>
            <a:r>
              <a:rPr b="0" lang="pt-PT" sz="2800" spc="-1" strike="noStrike">
                <a:solidFill>
                  <a:srgbClr val="000000"/>
                </a:solidFill>
                <a:latin typeface="Calibri"/>
              </a:rPr>
              <a:t>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C9A1A5-307F-420B-83F6-D62AC5D816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37:32Z</dcterms:modified>
  <cp:revision>510</cp:revision>
  <dc:subject/>
  <dc:title>Introductory Cybercrime Training for Judges and Prosecutors</dc:title>
</cp:coreProperties>
</file>