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93F92-F5EA-41F5-9065-590BBABD18BD}"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B5F6F-FA8E-4291-9416-13AA369301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ADFEC-DBCC-44F1-BA4E-5A6582A956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05A49-A0F6-49AB-8E2E-10FAC05BBD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50CE5-82E3-45F0-B7A6-D7CD5C3997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4A928-DE6E-4D55-B301-A30452B30F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DEAB7-F56A-4F05-A2B7-461FD55326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CD439-5620-4423-8DCF-B0B1C5B7FA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B12D7-F2F2-4294-A459-0D30BBC374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157B5-ED4A-428B-AB02-C19090ED30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4E312-B17D-422C-8862-E26DA0F395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FC218-9F51-40E4-89FD-921F79FB91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EE6D9-7F11-4265-B0B0-A5C725340D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C4068-50CC-44F4-9A48-FD13B7665A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B38D2-550A-4E49-9FA6-181C5B2F39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08068-811E-4372-8885-B061B89D05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43407-F099-41F2-A293-2D66623661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C33C2-3084-4D7D-A331-CA6C61F3AE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BD0F2-872B-40FF-A953-26927213F4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22017-D055-4787-8034-623A4B2EDA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F2A59-1089-4D63-8745-203FBD523A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8BC26-6E4F-4686-B55D-407C8812B8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F8EC6-2DB5-44E9-868C-567653B7ED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5297D-F8ED-4715-8FA6-F131FE7A8A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3DCD1-4D00-481B-9E85-16174CC61A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4D8CA-5707-4EA8-A9B7-DE25469716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2497B-2194-44D7-9908-D2E7719691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7A6CA-CB66-49A4-9C32-9DB90B9590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42055-4802-4D5F-954D-DD838B92B4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81D6C-5C5C-41E8-A987-2019CEA3A8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57AD6-BE45-420B-8DDA-71E2829E9A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372C6-C5B2-4EC4-A03E-6E5EF0A29E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D14E1-6F92-4BA7-8466-BC0046DC8D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BC3B7-21D0-43E6-9BFB-80593E300F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46657-29EE-4AED-A6CF-42793548A5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72E4C-6042-4D2C-ADB0-31258339E7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7D939-C5C6-4873-ABC0-7B18A77000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55E30-0563-4691-B4B1-2603B95860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8ACB5-10A3-4556-A48C-7D0D025F56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98966-91D7-4047-A2E7-53566E1497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A051F-BAA4-4587-857E-771143986A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35EF9-762F-4914-859D-2B8A79377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27957-44AD-46EA-B643-46E271FD65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A6A1E-7319-4959-817B-C464F8312C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F4AD0-B2EA-4D6A-BF26-49B79A0783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04AAF-079B-4E3C-BC7B-C71CCCBD73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DC0CF-F0CF-48BE-A8A4-20437D89CF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AFBDA-BA66-4A4D-AF89-151681CB61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3CD90-0FE3-4BC9-885C-B65E856554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F0BA5-0DCE-4E13-93A9-724E42BB98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38793-03D6-4E23-836E-BFDA65F357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F0431-C993-45D3-8489-F1B49764F3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21FFC-B120-4583-BCB4-A01AACCF79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0E330-713B-48DF-91DF-0CF5931EA0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DD7F6-1DD6-44DE-9BBA-E81373A60B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A21AE-6A8C-4508-AEA0-FD63D969F8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CE361-785B-4510-8C9B-F98F24141A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459DB-A7D0-4672-B3C8-EE48C075C3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4CC38-5F9A-4E17-9A9F-5D794D3686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AB76E-0595-49EE-97C4-D3618D4DB8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0E01E-8C45-45BE-BC8D-B6702F0E7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B1C7B-1940-45AA-86F7-A7B00E7FE4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028AD-5177-4ACA-8F00-F216C48837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96413-99CF-4CBB-8E56-16C9A5E009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FECAC-761E-483E-B7CD-2B061C75C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ECF76-4FEB-4792-9873-9980F9D6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2167-7201-4932-9054-8A8D1D086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ACD4E-BA32-4CD0-93C9-DC213A181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85F53-2382-4885-B556-4212C779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A7DF4-A765-429F-AD98-170D8EF5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8075-2CEE-4D3A-978A-B66735F7E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5B196-D84A-459E-8762-CF470B25C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095C-01A9-40B0-B427-E3EED303F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0194-E2B1-4BBD-B240-99395FCFF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E202-5FE5-4EAA-B8E3-8D0444B5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8BDC-B7C2-4E43-BF0A-3DD5CC407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32C50-52E7-4D8C-8A01-73DB9D6BDF34}"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570D3-FF66-4600-BC0E-948CB654BD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BA3004-BC9B-41D8-BE8A-063E8E9AED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6D8C2-ABD0-49F0-9C86-68AA0996FE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336CD0-71C4-4B5B-96D6-6A3B94B5D4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DA3FC2-CD3A-41DC-91DF-DB2082D65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A31B2-2799-47E7-AD70-F3735B4439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AC778B-4017-49DE-BE14-2D9AA6CF11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9A1E3-F6BB-406A-A20D-E414BF71BE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E5740-AB05-41DF-A03D-19E09C63F8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E4277-DB9C-46A3-9696-A1B9A139BF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3DFC8-8D56-4924-9BFB-7D02756EA5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350190-4BD9-406B-97F9-EAC5FC088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688E4-4AE8-410B-A977-EF64CD9E8D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5:16:47Z</dcterms:modified>
  <cp:revision>499</cp:revision>
  <dc:subject/>
  <dc:title>Introductory Cybercrime Training for Judges and Prosecutors</dc:title>
</cp:coreProperties>
</file>