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F4CAAB-0425-432C-8268-3572A2C7E6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DF7C47-4AB3-438F-A3F3-B76B9141A5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cção "Descrição geral das provas do estudo de caso" apresenta, de forma condensada, as provas que serão apresentadas aos delega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9B731-97F2-4B6D-83F4-A041AEF760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10 e-mails considerados regulares trocados entre os responsáveis do FBA e da UBP encarregados de diferentes secções de atividade e contratos para a impressão de bónus de aniversári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 contrato entre o FBA e o UBP ocorre após a troca de e-mails e é perspetivado em termos da estrutura comercial da transação. Também define etapas cruciais para o posterior desenvolvimento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0DC799-C0EE-46EB-A0F0-261D8DAFD1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s extratos bancários acompanham de perto o desenvolvimento do caso. Os delegados poderão implementar o princípio “seguir o dinheiro”, analisando os extratos bancários do FBA e do UB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A fatura pró-forma é genuína e emitida pelo UBP para o FBA referente a um adiantamento no valor de 100.00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311E6D-A891-4198-B06D-E020565C52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Dois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3970BC-5641-4366-953E-010958423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AEFFEE-BF11-45EB-886C-D21C9D7CC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11.º e-mail os seguintes são ferramentas de perpetração. O conteúdo dos e-mails é escrito pelo autor do crime e inclui os elementos necessários para anál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atura falsa é elaborada pelo autor do crime e direciona a transferência do dinheiro para a conta bancária real existente, mas aberta com finalidade fraudulen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9232B3-3F2C-4CC5-94A5-4CAE193CC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Depoimentos dos funcionários do Federal Bank of Atlantis envolvidos no caso em fases diferentes. Os depoimentos mais importantes são os do Departamento Financeiro e de TI, pois dão pistas ou explicações sobre a forma como o crime foi, de facto, cometi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0BA286-C3A8-4E1F-88BC-53C1B7CFA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Três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691B4A-2134-4B0B-A928-818EB5C67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588CD9-7ACC-48AA-AD9A-AE4736542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8A513D-AB4E-4C94-8C44-F89C0099F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Um da apresentação fará a introdução à prova inicial fornecida no material do cenário de cas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Dois apresentará o layout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Três será a perpetração do ato criminos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Quatro irá estabelecer as bases para o início da investigação e trabalho dos formand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e Cinco é um resumo dos apresentados anteriorm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27F5C6-CDC4-41B2-A672-9B731D4284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nvestigação deve começar em grupos de trabalho com líderes de grupo e membros a começarem a trabalhar no caso a partir da base fornecida no Material do ca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F10B9-A56F-4FF0-9F4F-3037084AB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Quatro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6DFA1D-185E-432A-AFB1-10647F69A9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898F1-FD5D-4835-8455-67502E512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05246D-901A-4723-8E31-6EC7728123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DDF234-6A9C-4505-B5D9-9F8D668FB8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O cenário começa com o estabelecimento do Federal Bank of Atlantis (FBA), banco internacional bem conhecido, bem estabelecido e respeitado. Uma descrição como esta deve levar os formandos a concluir que este tipo de banco não deve estar envolvido em nenhum tipo de problema, muito menos aqueles semelhantes a um que será descrito mais tarde neste documento.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11F632-9759-49B9-9B0A-A0EBE2C6A9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il da empresa de empresas envolvidas no cenário do caso. São produzidos 3 ficheiros diferentes do MS Word no formato 97-2003 no material. Devem estar à disposição dos delegados em cópia impressa ou, se as circunstâncias permitirem, e todos os delegados tiverem acesso único aos computadores, em formato eletróni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CEF910-09B6-4E85-A037-65C4DA747A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Diversos documentos de apoio para o cenário do caso. São produzidos 3 ficheiros diferentes do MS Word no formato 97-2003 e Adobe Reader no material. Devem estar à disposição dos delegados em cópia impressa ou, se as circunstâncias permitirem, e todos os delegados tiverem acesso único aos computadores, em formato eletróni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FC26E-9A80-49A6-94A6-17DC2F54B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formador deve dar aos participantes a oportunidade de fazer quaisquer perguntas que possam ter em relação à Parte Um da au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D1D14A-1A37-4313-9F26-E4DCD4D759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0A55-9B87-4368-99E0-AFF43450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6503-4EBB-4262-B108-C3FB7110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2377-4387-4160-A23B-49E8CFAC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E959-672C-4935-8EEF-ABDBEF1A7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3BEA-2523-4A5F-9973-CE870B0F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70F6-B95C-42BD-A715-6DF70646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4DA0-9ADC-49E3-9A7C-7D1434B1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117A-88E0-4AE0-A9F3-56BE7806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AADC-0D33-4348-95D3-3E555D53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7A54-C4B1-45CE-85F9-CCDF4385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0D11-47B2-483C-A394-9D27C6B2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F18A-E491-4D07-8A82-AB14C8B1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F8846C-9779-44B5-A99D-97A805839B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5D96F6-2643-44D9-9313-DE64B12C7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5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ação Avançada sobre Cibercrime para Juízes e Procurad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Sessão 2.2.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Descrição geral das provas do caso de estu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136160"/>
            <a:ext cx="822960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Pasta 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E-mails"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Troca de e-mail entre o FBA e a UB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-mails fornecidos após o desenvolvimento da troca entre pessoas contratadas e responsáveis do FBA e da UBP para a emissão do bónus de aniversári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Pasta "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Documentos e relatórios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O contrato entre o FBA e a UBP é fornecido para uma melhor análise, mas também como prova de apoio ao proces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envolvimento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629C4C0-4D3F-48AC-8154-E8EF990EB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50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Pasta "</a:t>
            </a:r>
            <a:r>
              <a:rPr b="0" i="1" lang="pt-PT" sz="2400" spc="-1" strike="noStrike">
                <a:solidFill>
                  <a:srgbClr val="000000"/>
                </a:solidFill>
                <a:latin typeface="Calibri"/>
              </a:rPr>
              <a:t>Extratos bancários</a:t>
            </a: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Extrato bancário do F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numerosas transações enumeradas, incluindo pagamento antecipado de 100.000 EUR indicado neste extrat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Extrato bancário da U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O Docklands Securities Bank of Norland efetua as transações bancárias da United Bank Printing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Fatura pró-forma da U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A fatura pró-forma foi emitida pela UBP ao FBA no valor de 100.000 E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senvolvimento do ca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1013BA2F-5352-4517-AC30-02C3E76E2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BE8E233-DB40-43F0-8761-8682ADC79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Calibri"/>
              </a:rPr>
              <a:t>Parte Três:</a:t>
            </a:r>
            <a:br>
              <a:rPr sz="4000"/>
            </a:br>
            <a:r>
              <a:rPr b="1" lang="pt-PT" sz="4000" spc="-1" strike="noStrike">
                <a:solidFill>
                  <a:srgbClr val="000000"/>
                </a:solidFill>
                <a:latin typeface="Calibri"/>
              </a:rPr>
              <a:t>Perpetração do crime </a:t>
            </a:r>
            <a:r>
              <a:rPr b="1" lang="pt-PT" sz="4000" spc="-1" strike="noStrike">
                <a:solidFill>
                  <a:srgbClr val="000000"/>
                </a:solidFill>
                <a:latin typeface="Calibri"/>
              </a:rPr>
              <a:t>- Provas e depoimentos de testemunh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8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EF38EF3-8800-4E38-B377-7E648DA002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Pasta "E-mail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11.º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-mail e troca seguinte como momento-chave para a perpetração do crim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Pasta "Extratos bancário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- A fatura falsa da UBP inclui informações sobre a conta fraudulenta e um pedido de pagamento de 200.000 EUR pela finalização da impressão de 20.000 bónu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89F3E0FD-22A3-42ED-9B13-EF5E57091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erpetração do cr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Pasta "Depoimentos de testemunhas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poimento do Departamento de Logística e Operações do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poimento do Departamento Financeiro do FB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poimento do Departamento de Tecnologia da Informação do FB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9F18493-BFCC-4EFC-B5A2-6015020772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2551168-A716-4142-8AA1-AA7C97E14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te Quatro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98" name="Čuvar mesta za broj slajd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EDCF8D31-0EDE-40E3-9DB3-4DF226326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meaça persistente avanç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"conjunto de processos furtivos e contínuos efetuados por de hackers informáticos, frequentemente orquestrados por uma pessoa ou por várias pessoas que visam atingir uma entidade específica"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E322E66-0932-4625-876C-097968DC6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C:\Users\B.Stam\Desktop\b-apt_infographic.jpg"/>
          <p:cNvPicPr/>
          <p:nvPr/>
        </p:nvPicPr>
        <p:blipFill>
          <a:blip r:embed="rId1"/>
          <a:stretch/>
        </p:blipFill>
        <p:spPr>
          <a:xfrm>
            <a:off x="2406600" y="3452760"/>
            <a:ext cx="427212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Criptomoe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"ativo digital concebido para funcionar como meio de troca utilizando a encriptação para proteger as transações e para controlar a criação de unidades adicionais da moeda"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573AF3B-24D6-4BD7-9B56-DE9E94C68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C:\Users\B.Stam\Desktop\alt-cryptocurrencies.jpg"/>
          <p:cNvPicPr/>
          <p:nvPr/>
        </p:nvPicPr>
        <p:blipFill>
          <a:blip r:embed="rId1"/>
          <a:stretch/>
        </p:blipFill>
        <p:spPr>
          <a:xfrm>
            <a:off x="2001960" y="3830760"/>
            <a:ext cx="535752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73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236600"/>
            <a:ext cx="851364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Um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Introdução e provas inicia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Dois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Desenvolvimento do cas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Três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erpetração do crime e depoimentos de testemunh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Parte Quat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arte Cinco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sum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E8664F7-2B9C-4579-AA48-8AD51E261D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lossá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410840"/>
            <a:ext cx="8229600" cy="48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Engenharia social ciberné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"tipo de logro para fins de recolha de informações, fraude ou acesso a sistemas; difere de um "golpe " tradicional, pois, muitas vezes, é um dos muitos passos de um esquema de fraude mais complex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8C67799A-DDCC-485C-ADDC-50A5AA0586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B.Stam\Desktop\Social Engineering, Baiting, Phishing, Email Hacking, Contact Spamming, Pretexting, Spear Phishing,Vishing, Hunting, Farming NORTON_0.jpg"/>
          <p:cNvPicPr/>
          <p:nvPr/>
        </p:nvPicPr>
        <p:blipFill>
          <a:blip r:embed="rId1"/>
          <a:stretch/>
        </p:blipFill>
        <p:spPr>
          <a:xfrm>
            <a:off x="5076720" y="3814920"/>
            <a:ext cx="361008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B8FF8E8B-5F42-4310-B48E-D1535B4D50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353960"/>
            <a:ext cx="85122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600" spc="-1" strike="noStrike">
                <a:solidFill>
                  <a:srgbClr val="000000"/>
                </a:solidFill>
                <a:latin typeface="Calibri"/>
              </a:rPr>
              <a:t>No final desta sessão, os delegados serão capazes d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- Compreender a introdução e as provas iniciais do cas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- Compreender o desenvolvimento do caso, analisando as provas eletrónicas e reais apresentada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- Acompanhar a perpetração efetiva e encontrar factos adicionais nos depoimentos das testemunha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- Encontrar informações adicionais sobre os principais termos e definições das ferramentas do mundo cibernético e do crime e utilizá-los neste cas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a sess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91C6AC39-15B9-467A-A7DF-71D874026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3E30AB8C-DEA7-4A4A-A253-46809E8D0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558800"/>
            <a:ext cx="851220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No final desta sessão, os 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formandos serão 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capazes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Compreender a introdução e as provas iniciais do cas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Compreender o desenvolvimento do caso, analisando as provas eletrónicas e reais apresentad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Acompanhar a perpetração efetiva e encontrar factos adicionais nos depoimentos das testemunh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Encontrar informações adicionais sobre os principais termos e definições das ferramentas do mundo cibernético e do crime e utilizá-los neste cas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bjetivos da sess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0A08991D-6ACD-4913-8685-D269443C30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rte Um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 e provas inici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59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A5563EAE-B9CA-4706-BE31-5511E6402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149480"/>
            <a:ext cx="822960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Pasta "</a:t>
            </a:r>
            <a:r>
              <a:rPr b="0" i="1" lang="pt-PT" sz="3200" spc="-1" strike="noStrike">
                <a:solidFill>
                  <a:srgbClr val="000000"/>
                </a:solidFill>
                <a:latin typeface="Calibri"/>
              </a:rPr>
              <a:t>Introdução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"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Calibri"/>
              </a:rPr>
              <a:t>Sinopse do cas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cenário do estudo de caso refere-se a esquemas recentes de comprometimento de e-mails empresariais ou "BEC" (do inglês, Business E-Mail Compromise), que derivam de fraudes como "fraude de CEO" ou "ataques indiretos/por intermediários" (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man-in-the-middle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) anteriormente detetad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 objetivo e a dimensão destas fraudes são surpreendentes.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E2299813-DD1A-428F-8465-8DAD2860D8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asta "Perfis empresariais"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erfil empresarial do Federal Bank of Atlan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scrição geral, organização e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erfil empresarial da United Bank Pri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scrição geral, organização e funcioná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erfil empresarial do Doklands Securities Bank of Nor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- Descrição geral, organ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ização e funcionár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vas inici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E4D2D9F-404C-4D97-9EA3-78021F9E3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186920"/>
            <a:ext cx="8229600" cy="51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Pasta "</a:t>
            </a:r>
            <a:r>
              <a:rPr b="0" i="1" lang="pt-PT" sz="2800" spc="-1" strike="noStrike">
                <a:solidFill>
                  <a:srgbClr val="000000"/>
                </a:solidFill>
                <a:latin typeface="Calibri"/>
              </a:rPr>
              <a:t>Documentos e relatórios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Anúncio do bónus de aniversário por parte do F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Decisão do Conselho de Administração sobre a emissão do bónus e respetivos elementos financeir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Bónus do F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preparação provisória do bónus, incluindo os elementos para impressã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Calibri"/>
              </a:rPr>
              <a:t>Contrato entre o FBA e a UB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contrato celebrado para o serviço de impressão de 20.000 elementos do bónus de aniversário do FB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457200" y="1825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ovas inicia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C584E370-64A6-40BF-9743-1F1DCDD59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Question Mark Clip Art"/>
          <p:cNvPicPr/>
          <p:nvPr/>
        </p:nvPicPr>
        <p:blipFill>
          <a:blip r:embed="rId1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3089520" y="4500720"/>
            <a:ext cx="30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gun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4F62A203-307B-42B4-AA5E-030F70C363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6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e Dois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senvolvimento do cas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6786720" y="4643280"/>
            <a:ext cx="1962000" cy="1766880"/>
          </a:xfrm>
          <a:prstGeom prst="rect">
            <a:avLst/>
          </a:prstGeom>
          <a:ln w="0">
            <a:noFill/>
          </a:ln>
        </p:spPr>
      </p:pic>
      <p:sp>
        <p:nvSpPr>
          <p:cNvPr id="74" name="Čuvar mesta za broj slajda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!</a:t>
            </a:r>
            <a:fld id="{585E907C-1D06-4E7B-BC61-75D3CB3B81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9:33:22Z</dcterms:created>
  <dc:creator>Nigel Jones</dc:creator>
  <dc:description/>
  <dc:language>en-US</dc:language>
  <cp:lastModifiedBy>Pedro Verdelho</cp:lastModifiedBy>
  <dcterms:modified xsi:type="dcterms:W3CDTF">2019-04-22T13:49:18Z</dcterms:modified>
  <cp:revision>184</cp:revision>
  <dc:subject/>
  <dc:title>Introductory Cybercrime Training for Judges and Prosecutors</dc:title>
</cp:coreProperties>
</file>