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0C0C48-8BD3-44B0-BC26-3A1B80389880}" type="datetime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FBF707-1F65-4CE8-89BC-07C76AD42F6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ette session présente sous une forme condensée l’ensemble des preuves qui seront mises à la disposition des participa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5B9B03-7CF7-4431-8B95-637BFCA6F3E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s dix premiers e-mails correspondent aux échanges qui ont eu lieu entre les responsables et employés de la FBA et d’UBP qui se sont occupés des transactions et du contrat relatifs à l’impression des obligations anniversai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 contrat FBA – UBP établi à la suite de ces échanges donne un aperçu du cadre commercial dans lequel a été conclu le marché et contient des dispositions qui vont être cruciales dans la suite du développement de l’affai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D2544E-1EC4-408E-B0E9-0A798642A8D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s relevés bancaires suivent la chronologie de l’affaire. Les participants pourront appliquer le principe consistant à « suivre l’argent » en analysant les relevés bancaires de la FBA et d’UB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a facture pro forma est une facture légitime présentée à la FBA par UBP pour un paiement anticipé de 100 000 €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B582CD-7393-4F53-94F4-07FB73A926D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 formateur demande aux participants s’ils ont des questions concernant la deuxième partie du co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B2CF5D-BA81-40C4-B3A5-97ADB8523BD6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 onzième e-mail et les échanges suivants sont les outils de la perpétration. Ils ont été rédigés par l’auteur de l’infraction et incluent les éléments nécessaires pour l’analy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a fausse facture a été établie par l’auteur et dirige le transfert d’argent vers un compte bancaire bien réel, mais ouvert à des fins frauduleu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4E8203-26E1-4969-A79E-D4237AAC9A08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épositions des chefs de départements de la FBA impliqués dans l’affaire à différents stades. Les dépositions les plus importantes sont celles du département financier et du département informatique car elles donnent des indices ou des explications sur la manière dont l’infraction a été perpétré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9D0F44-B318-4A81-AC19-188C360EA27C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 formateur demande aux participants s’ils ont des questions sur la troisième partie du co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488065-BC89-47B2-9504-69DF375F4B99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ans un premier temps, le travail d’investigation se fera en groupes, à partir des éléments fournis dans les supports de l’étude de c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8FEAC6-865A-4161-A929-61518E95DE7A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ans un premier temps, le travail d’investigation se fera en groupes, à partir des éléments fournis dans les supports de l’étude de c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901D26-1614-458E-8F30-8D172984A567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a première partie du diaporama expose les faits initiaux contenus dans les documents de l’étude de c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a deuxième partie présente la structure de l’affai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a troisième partie est consacrée à la perpétration de l’infrac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a quatrième partie fournit les éléments de base pour le début des investigations et du travail des participa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a cinquième et dernière partie fait la synthèse de tous les éléments présenté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EF2A45-BB2F-460D-A9EE-795A16AFD76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ans un premier temps, le travail d’investigation se fera en groupes, à partir des éléments fournis dans les supports de l’étude de c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F8B421-DE89-4EE6-B56A-56AF9882D1B3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 formateur demande aux participants s’ils ont des questions sur la quatrième partie du co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6035EA-9CFE-493F-BDD4-2D5D4FC61C9C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214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EE6F5F-7C4A-47E5-816B-D4D33E6BF74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 formateur demande aux participants s’ils ont des questions concernant le co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CE2883-C1D9-4258-878A-F118528314E4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169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5FEC82-B811-42D3-B859-926D20724DA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 scénario met en scène la Federal Bank of Atlantis (FBA) présentée comme une banque internationale ancienne et à la réputation bien établie. La description qui en est faite devrait amener les participants à conclure que ce type de banque devrait en principe être à l’abri des problèmes, a fortiori tels que ceux qui seront décrits plus loin. 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4B0273-7C98-45E2-9B05-B165D2D39E9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fil des entreprises impliquées dans le scénario de l’étude de cas. Trois documents Word en format 97-2003 sont inclus dans les supports. Ils seront mis à la disposition des participants en version papier ou en version électronique si les circonstances le permettent et si tous les participants ont un accès individuel à un ordinateu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F3671E-7999-4843-A7F6-01A71E2ACA8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ocuments connexes. Les supports contiennent trois documents Word en format 97-2003. Ils seront mis à la disposition des participants en version papier ou en version électronique si les circonstances le permettent et si tous les participants ont un accès individuel à un ordinateu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AA1442-118B-40E7-ACC8-3348BB0E504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 formateur demande aux participants s’ils ont des questions concernant la première partie du co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5B3748-3B44-4314-8D1C-DBB3E1B1D11D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0809-5812-4404-ABDA-B7403E547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1C68-8A8F-4D7B-9C98-A4453710D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3601-1F67-47B5-9852-BC732800D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31ED-59EF-45F8-9E16-011181A3C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1BE2F-5FC6-4FDE-B426-2FB0BA784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A896C-1ACA-4647-82F7-8925CB770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8ACC0-E7EF-4836-B964-ADD72FCBC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68D93-5CB9-47A7-B272-5D3100094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2458F-AA65-4D8E-97F3-101250959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3EEA8-50BA-4090-AEEC-2D9627C5F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5C870-021C-417C-B1EB-B6207B6B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CF6F-5909-4245-B93A-B377ABC3A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7E90E-5554-4CD3-AE96-B4A629471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76AD7-7D4E-4DC9-909A-9B10E0079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83AEE-8868-4189-A04E-F09CBF0F4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8B76F-FFCD-49C2-98BD-248B5845E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D400D-7D2F-4C01-AA88-2621F4B88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4347-5955-4A72-AA89-4C351FAC7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67F0-0302-48EB-B392-60A5428A8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3776-A8A3-4B3A-A591-939DCB8DC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3FDD-208D-454D-A589-9232CA10D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28AD-8EBC-4C0E-B58E-6E7EEC5B8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EE10-F97C-4C15-A816-D25410AAF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7450-119C-41F3-8E26-5F662BB1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2BD2F2-4F22-44A6-9766-7D9F72867630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D8F80D-3C69-46B4-B016-DA708390133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410CC3-965C-4B1E-AA35-DE05883EB8ED}" type="datetime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A09A90-6549-4647-AB4D-DF2E2958A20C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595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Cybercriminalité : formation complémentaire pour les juges et les procureu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Session 2.2.3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Présentation générale des preuves relatives à l’étude de c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3" descr="COE.png"/>
          <p:cNvPicPr/>
          <p:nvPr/>
        </p:nvPicPr>
        <p:blipFill>
          <a:blip r:embed="rId1"/>
          <a:stretch/>
        </p:blipFill>
        <p:spPr>
          <a:xfrm>
            <a:off x="1517760" y="552600"/>
            <a:ext cx="610848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3FFF3F-66E1-4514-B930-3808DA41413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004400"/>
            <a:ext cx="8229600" cy="544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Dossier </a:t>
            </a:r>
            <a:r>
              <a:rPr b="1" i="1" lang="fr-FR" sz="3200" spc="-1" strike="noStrike">
                <a:solidFill>
                  <a:srgbClr val="000000"/>
                </a:solidFill>
                <a:latin typeface="Calibri"/>
              </a:rPr>
              <a:t>« 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E-mails</a:t>
            </a:r>
            <a:r>
              <a:rPr b="1" i="1" lang="fr-FR" sz="3200" spc="-1" strike="noStrike">
                <a:solidFill>
                  <a:srgbClr val="000000"/>
                </a:solidFill>
                <a:latin typeface="Calibri"/>
              </a:rPr>
              <a:t> »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 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Échange d’emails entre la FBA et l’UB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es e-mails fournis suivent la chronologie des échanges entre les donneurs d’ordre et les responsables de l’émission de l’obligation anniversaire au sein de la FBA et d’UBP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Dossier « 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Documents et rapports »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 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le contrat entre la FBA et UBP donne un éclairage supplémentaire et permet une analyse plus poussée, mais il sert aussi de preuve à l’appui du dossi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Développement de l'affai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AED0A2-AFA2-47BD-A381-EA7378A16B9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004400"/>
            <a:ext cx="8229600" cy="52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Dossier « 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relevés bancaires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Relevé bancaire de la FB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de nombreuses transactions y figurent, parmi lesquelles le paiement anticipé de 100 000 EUR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Relevé bancaire d’UB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La Docklands Securities Bank of Norland gère les transactions bancaires d’United Bank Printing 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Facture pro-forma d’UB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une facture pro forma d’un montant de 100 000 EUR a été présentée à la FBA par UPB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Développement de l’affai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224562-970A-4182-800B-6F0A12EA4C9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24" name="TextBox 3"/>
          <p:cNvSpPr/>
          <p:nvPr/>
        </p:nvSpPr>
        <p:spPr>
          <a:xfrm>
            <a:off x="3071880" y="4500720"/>
            <a:ext cx="308124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FE4739-4CB7-4CC5-A24D-437E3B1FDB8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62280"/>
            <a:ext cx="8229600" cy="14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Partie 3</a:t>
            </a:r>
            <a:br>
              <a:rPr sz="4000"/>
            </a:b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Perpétration - preuves et dépositions de témoi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F6486E-33DF-4086-A846-AD1F41107A8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Perpé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Dossier « 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e-mails »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 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le onzième e-mail et l’échange qui suit est le moment clé de la perpétration de l’infraction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Dossier « 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Relevés bancaires » 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la fausse facture d’UBP contient les coordonnées d’un compte bancaire frauduleux et demande le règlement du solde restant dû de 200 000 EUR pour finaliser l’impression des 20 000 obligations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E55445-84E9-4142-B792-3E1B28BE3D8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Perpé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42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Dossier « 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Dépositions de témoins » 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Département de la Logistique et des opérations (DLO) de la FBA 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département financier de la FBA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département informatique de la FB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09808D-60D3-4DA3-BFA1-19B4FF378FC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36" name="TextBox 3"/>
          <p:cNvSpPr/>
          <p:nvPr/>
        </p:nvSpPr>
        <p:spPr>
          <a:xfrm>
            <a:off x="3071880" y="4500720"/>
            <a:ext cx="308124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A6B2E9-0FCD-4759-8319-C99C1E6380D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Quatrième partie :</a:t>
            </a: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Glossa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590AA9-9F63-4361-8307-12A17A8C9B4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Glossai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42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Menace persistante avancé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« 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type de piratage informatique continu et furtif, souvent orchestré par une personne ou un groupe de personnes ciblant une entité spécifique » 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5" descr="C:\Users\B.Stam\Desktop\b-apt_infographic.jpg"/>
          <p:cNvPicPr/>
          <p:nvPr/>
        </p:nvPicPr>
        <p:blipFill>
          <a:blip r:embed="rId1"/>
          <a:stretch/>
        </p:blipFill>
        <p:spPr>
          <a:xfrm>
            <a:off x="2406600" y="3452760"/>
            <a:ext cx="4272120" cy="34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CAD835-A0D8-41CB-BB9F-F711C193093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Glossai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42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Crypto-monna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« 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actif numérique conçu pour fonctionner comme un moyen d’échange qui utilise la cryptographie pour sécuriser les transactions et contrôler la création d’unités supplémentaires de la devise »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2" descr="C:\Users\B.Stam\Desktop\alt-cryptocurrencies.jpg"/>
          <p:cNvPicPr/>
          <p:nvPr/>
        </p:nvPicPr>
        <p:blipFill>
          <a:blip r:embed="rId1"/>
          <a:stretch/>
        </p:blipFill>
        <p:spPr>
          <a:xfrm>
            <a:off x="2001960" y="3830760"/>
            <a:ext cx="535752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6CF589-149D-4B6A-9A4C-5439D255B87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Program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6840" y="803160"/>
            <a:ext cx="8513640" cy="53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alibri"/>
              </a:rPr>
              <a:t>Première partie</a:t>
            </a:r>
            <a:br>
              <a:rPr sz="2600"/>
            </a:b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Introduction et faits initiaux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alibri"/>
              </a:rPr>
              <a:t>Deuxième partie</a:t>
            </a:r>
            <a:br>
              <a:rPr sz="2600"/>
            </a:b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Développement de l’affai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alibri"/>
              </a:rPr>
              <a:t>Troisième partie</a:t>
            </a:r>
            <a:br>
              <a:rPr sz="2600"/>
            </a:b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Perpétration et dépositions de témoi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alibri"/>
              </a:rPr>
              <a:t>Quatrième par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Glossai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alibri"/>
              </a:rPr>
              <a:t>Cinquième partie</a:t>
            </a:r>
            <a:br>
              <a:rPr sz="2600"/>
            </a:b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Résum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4640A0-E14D-4917-9D6A-21F6D76F677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Glossai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42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Manipulation psychologique en ligne (Cyber Social Engineerin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« 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type d'escroquerie ayant pour but la collecte d’informations, le détournement de fonds ou l’accès à un système ; elle diffère des formes traditionnelles d’escroquerie en cela qu’elle s’inscrit souvent dans un stratagème de fraude plus vaste et plus complexe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2" descr="C:\Users\B.Stam\Desktop\Social Engineering, Baiting, Phishing, Email Hacking, Contact Spamming, Pretexting, Spear Phishing,Vishing, Hunting, Farming NORTON_0.jpg"/>
          <p:cNvPicPr/>
          <p:nvPr/>
        </p:nvPicPr>
        <p:blipFill>
          <a:blip r:embed="rId1"/>
          <a:stretch/>
        </p:blipFill>
        <p:spPr>
          <a:xfrm>
            <a:off x="3098880" y="4782960"/>
            <a:ext cx="294624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19E6A6-A528-49BF-9623-AA183B04D4F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54" name="TextBox 3"/>
          <p:cNvSpPr/>
          <p:nvPr/>
        </p:nvSpPr>
        <p:spPr>
          <a:xfrm>
            <a:off x="3071880" y="4500720"/>
            <a:ext cx="308124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8E928D-A12B-4D89-B9C0-C20A0A1DF02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6840" y="1353960"/>
            <a:ext cx="85122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À l’issue de cette session, les participants devraient avoir atteint les objectifs suivants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comprendre l’introduction et les premiers éléments de l’affaire 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comprendre le développement de l’affaire en analysant les preuves électroniques et matérielles présentées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 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suivre la perpétration proprement dite et trouver d’autres faits dans les dépositions de témoins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connaître les termes et définitions-clés relatifs aux outils de la cybercriminalité, dont ceux utilisés en l’espè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Objectifs de la se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6691FB-66DF-4694-88EA-FE2647C6DFD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60" name="TextBox 3"/>
          <p:cNvSpPr/>
          <p:nvPr/>
        </p:nvSpPr>
        <p:spPr>
          <a:xfrm>
            <a:off x="3071880" y="4500720"/>
            <a:ext cx="308124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19E26B-97B1-4DFD-A8A9-16857FDDD31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6840" y="1353600"/>
            <a:ext cx="8512200" cy="509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À l’issue de cette session, les participants devraient avoir atteint les objectifs suivants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comprendre l’introduction et les premiers éléments de l’affaire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comprendre le développement de l’affaire en analysant les preuves électroniques et matérielles présentées 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suivre la perpétration proprement dite et trouver d’autres faits dans les dépositions de témoins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connaître les termes et définitions-clés relatifs aux outils de la cybercriminalité, dont ceux utilisés en l’espè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Objectifs de la se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867F91-7268-42EC-8A8B-02A10B30BFA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Partie 1</a:t>
            </a:r>
            <a:br>
              <a:rPr sz="4400"/>
            </a:b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Introduction et faits initiau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064111-8800-458D-8715-18724362C2F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004400"/>
            <a:ext cx="822960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Dossier « 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Introduction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 » 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Synopsis de l’étude de c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e scénario de l’étude de cas correspond au phénomène récent des attaques dites « BEC » pour « Business E-mail Compromise » (piratage de la messagerie d'entreprise), dérivées des escroqueries « au président » ou au « faux-intermédiaire » déjà connu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’ampleur de ces escroqueries est énorme.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8EF058-685F-437F-A93A-A8C1A2C7872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004400"/>
            <a:ext cx="8229600" cy="52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Dossier « profils » 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Profil de l’entreprise Federal Bank of Atlan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Présentation générale, structure et respons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Profil de l’entreprise United Bank Prin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Présentation générale, structure et respons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Profil de l’entreprise Docklands Securities Bank of Nor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résentation générale, structure et respons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Faits initiau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0AF917-5434-4CD0-82F1-B36E60FBF8F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004760"/>
            <a:ext cx="8229600" cy="567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Dossier « 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Documents et rapports »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 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Annonce de l’obligation anniversaire par la FB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décision du conseil d’administration d’émettre des obligations et éléments financiers correspondants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Obligation anniversa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maquette de l’obligation, y compris éléments imprimés 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Contrat FBA – UB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contrat d’impression de 20 000 éléments pour l’obligation anniversaire de la FB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Faits initiau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BFE99D-0E74-48C5-A016-39C3C29EC1F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12" name="TextBox 3"/>
          <p:cNvSpPr/>
          <p:nvPr/>
        </p:nvSpPr>
        <p:spPr>
          <a:xfrm>
            <a:off x="3071880" y="4500720"/>
            <a:ext cx="308124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E1F66C-8322-46A7-8059-A31BF2C9BC8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Partie 2 :</a:t>
            </a:r>
            <a:br>
              <a:rPr sz="4000"/>
            </a:b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Développement de l’affai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6T09:33:22Z</dcterms:created>
  <dc:creator>Nigel Jones</dc:creator>
  <dc:description/>
  <cp:keywords/>
  <dc:language>en-US</dc:language>
  <cp:lastModifiedBy>CAROLINE MARTIN</cp:lastModifiedBy>
  <dcterms:modified xsi:type="dcterms:W3CDTF">2018-06-01T08:13:37Z</dcterms:modified>
  <cp:revision>187</cp:revision>
  <dc:subject/>
  <dc:title>Introductory Cybercrime Training for Judges and Prosecutors</dc:title>
</cp:coreProperties>
</file>