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0BE63-5E6D-4613-8A2D-C6F9C27513E7}" type="datetime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88366-FEEF-4B47-8496-AB168DD0A4D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tte session présente sous une forme condensée l’ensemble des preuves qui seront mises à la disposition des particip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8F771E-986D-4E82-8A65-4F009A24E20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 dix premiers e-mails correspondent aux échanges qui ont eu lieu entre les responsables et employés de la FBA et d’UBP qui se sont occupés des transactions et du contrat relatifs à l’impression des obligations anniversa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contrat FBA – UBP établi à la suite de ces échanges donne un aperçu du cadre commercial dans lequel a été conclu le marché et contient des dispositions qui vont être cruciales dans la suite du développement de l’affa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86C46-EFA8-4007-A20C-DC2768E8E68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 relevés bancaires suivent la chronologie de l’affaire. Les participants pourront appliquer le principe consistant à « suivre l’argent » en analysant les relevés bancaires de la FBA et d’UB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facture pro forma est une facture légitime présentée à la FBA par UBP pour un paiement anticipé de 100 000 €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1FA562-1198-4EC5-AD1C-797056FAEBA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formateur demande aux participants s’ils ont des questions concernant la deuxième partie du co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5B9BE-CA3B-49A5-AB22-CDA923DA6D5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onzième e-mail et les échanges suivants sont les outils de la perpétration. Ils ont été rédigés par l’auteur de l’infraction et incluent les éléments nécessaires pour l’analy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fausse facture a été établie par l’auteur et dirige le transfert d’argent vers un compte bancaire bien réel, mais ouvert à des fins fraudule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B70B20-7BB9-4184-9424-59221CD3185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épositions des chefs de départements de la FBA impliqués dans l’affaire à différents stades. Les dépositions les plus importantes sont celles du département financier et du département informatique car elles donnent des indices ou des explications sur la manière dont l’infraction a été perpétré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DD6E7-5CD3-44E7-B018-559129CBB08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formateur demande aux participants s’ils ont des questions sur la troisième partie du co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DAC56B-1B68-4BAA-8969-A1A064A68A5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ns un premier temps, le travail d’investigation se fera en groupes, à partir des éléments fournis dans les supports de l’étude de c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FE5DBD-7316-44B6-A6EA-E322CB66985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ns un premier temps, le travail d’investigation se fera en groupes, à partir des éléments fournis dans les supports de l’étude de c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1EFE3-8C86-49D4-9218-AF1C08F2767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première partie du diaporama expose les faits initiaux contenus dans les documents de l’étude de c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deuxième partie présente la structure de l’affa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troisième partie est consacrée à la perpétration de l’infra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quatrième partie fournit les éléments de base pour le début des investigations et du travail des particip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cinquième et dernière partie fait la synthèse de tous les éléments présenté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ACDA3-C4D3-4E77-9DD0-D3B0B6046C4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ns un premier temps, le travail d’investigation se fera en groupes, à partir des éléments fournis dans les supports de l’étude de c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04CA8-28F6-4D86-9585-56DF934BE87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formateur demande aux participants s’ils ont des questions sur la quatrième partie du co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6D47C-B9AA-4110-9FA0-88920923B6B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21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7D074-7B09-491B-9E60-1F975141501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formateur demande aux participants s’ils ont des questions concernant le co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8CF9B-12BD-46D4-961C-6652E07C0E9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69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5B7FA0-B564-41F2-8125-3C0009E9317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scénario met en scène la Federal Bank of Atlantis (FBA) présentée comme une banque internationale ancienne et à la réputation bien établie. La description qui en est faite devrait amener les participants à conclure que ce type de banque devrait en principe être à l’abri des problèmes, a fortiori tels que ceux qui seront décrits plus loin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A1458-57C0-4D5B-BE4D-14B1511D252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fil des entreprises impliquées dans le scénario de l’étude de cas. Trois documents Word en format 97-2003 sont inclus dans les supports. Ils seront mis à la disposition des participants en version papier ou en version électronique si les circonstances le permettent et si tous les participants ont un accès individuel à un ordinate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AE569-69A3-4E59-9F68-4FB630A15EF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cuments connexes. Les supports contiennent trois documents Word en format 97-2003. Ils seront mis à la disposition des participants en version papier ou en version électronique si les circonstances le permettent et si tous les participants ont un accès individuel à un ordinate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B77A7-38B2-4A37-9327-1E0E9508415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formateur demande aux participants s’ils ont des questions concernant la première partie du co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AF4AE-EE16-4EE5-A9E1-09684E07430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8CD-1B96-46E6-A56D-0A758925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FC29-9796-493D-A02E-AC76C2D4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D034-ED52-4655-8649-F99AB1B5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E4F4-710D-4F30-9D3A-B3BE9029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194C-7008-42EF-8B7D-42BFB073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EAC2-09A2-4E4B-9DEB-9FC29C14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B6DB-2A68-4670-9220-3C57DF42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3AC6-961A-451B-AE17-64EF76F3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CBBF-721F-4557-9FD3-0147E786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7EEF-FF5C-4CCF-AD39-4A1794A4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7534-7408-4864-8D87-497A30AF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A6A6-7F98-4DA8-93A6-84934B8C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B458-CC4A-47CF-B517-50CF692A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4B3A-A046-43CA-AF19-C152403B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EF80-800B-4F74-B557-5C374239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6A70-F0E1-4346-A90E-565BF6CD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0A5B-19F7-4B33-A45E-057ABDBA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511-9E3A-434F-B364-DE0F5AEF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90DF-3514-4102-A899-E4919477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AA4-24FC-4E70-8D64-912B2F72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71EC-8814-4EED-BB73-E8909CED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7EC1-FADE-4878-AAD9-692E8759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794F-C9CA-4257-AF53-6CAD0327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9745-6944-4C05-935F-294209B4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4531F-1F04-46AD-A0F0-D7B1680E3CCB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00482B-11C2-458C-BDA4-1BE2F89AADC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BD13C-48AD-4781-8C72-89E5E0579C71}" type="datetime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69200-B509-43BB-94E7-A3C2A2356BA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ybercriminalité : formation complémentaire pour les juges et les procure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Session 2.2.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Présentation générale des preuves relatives à l’étude de 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B061D-AE55-4F58-844F-F16744BBEB3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004400"/>
            <a:ext cx="8229600" cy="544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</a:t>
            </a: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-mails</a:t>
            </a: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Échange d’emails entre la FBA et l’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e-mails fournis suivent la chronologie des échanges entre les donneurs d’ordre et les responsables de l’émission de l’obligation anniversaire au sein de la FBA et d’UBP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Documents et rapports »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e contrat entre la FBA et UBP donne un éclairage supplémentaire et permet une analyse plus poussée, mais il sert aussi de preuve à l’appui du doss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Développement de l'aff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A15E6-25A1-4338-BEF2-2C6CE9F4B10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0044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relevés bancair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elevé bancaire de la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de nombreuses transactions y figurent, parmi lesquelles le paiement anticipé de 100 000 EUR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elevé bancaire d’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a Docklands Securities Bank of Norland gère les transactions bancaires d’United Bank Printing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Facture pro-forma d’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une facture pro forma d’un montant de 100 000 EUR a été présentée à la FBA par UP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Développement de l’aff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B3CD5-AC2B-4B6D-BB9C-68B1E892350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3071880" y="4500720"/>
            <a:ext cx="3081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93AC8-C740-4A3B-AC3D-561959206B0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62280"/>
            <a:ext cx="8229600" cy="14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artie 3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erpétration - preuves et dépositions de témoi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B0FC3-0184-4602-B42F-350F6245961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erpé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-mails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e onzième e-mail et l’échange qui suit est le moment clé de la perpétration de l’infraction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Relevés bancaires »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a fausse facture d’UBP contient les coordonnées d’un compte bancaire frauduleux et demande le règlement du solde restant dû de 200 000 EUR pour finaliser l’impression des 20 000 obligation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40652E-BC4C-428F-85BB-81568D5E36B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erpé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Dépositions de témoins »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Département de la Logistique et des opérations (DLO) de la FBA 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département financier de la FBA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département informatique de la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35765-A9A7-4004-930B-F3208A4AFB5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3071880" y="4500720"/>
            <a:ext cx="3081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6B09B-D30B-48F2-9E1A-83CFAF1E2D8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uatrième partie :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1E38E5-7E69-4155-8606-038877C575D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nace persistante avanc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type de piratage informatique continu et furtif, souvent orchestré par une personne ou un groupe de personnes ciblant une entité spécifique »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5" descr="C:\Users\B.Stam\Desktop\b-apt_infographic.jpg"/>
          <p:cNvPicPr/>
          <p:nvPr/>
        </p:nvPicPr>
        <p:blipFill>
          <a:blip r:embed="rId1"/>
          <a:stretch/>
        </p:blipFill>
        <p:spPr>
          <a:xfrm>
            <a:off x="2406600" y="3452760"/>
            <a:ext cx="4272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29789-7BC1-4BF4-B5CE-9493C8E4BD1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rypto-monna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« 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actif numérique conçu pour fonctionner comme un moyen d’échange qui utilise la cryptographie pour sécuriser les transactions et contrôler la création d’unités supplémentaires de la devise »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C:\Users\B.Stam\Desktop\alt-cryptocurrencies.jpg"/>
          <p:cNvPicPr/>
          <p:nvPr/>
        </p:nvPicPr>
        <p:blipFill>
          <a:blip r:embed="rId1"/>
          <a:stretch/>
        </p:blipFill>
        <p:spPr>
          <a:xfrm>
            <a:off x="2001960" y="3830760"/>
            <a:ext cx="53575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32645-568E-4B85-99FC-25A80515F71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803160"/>
            <a:ext cx="851364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Première partie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Introduction et faits initiau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Deuxième partie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Développement de l’affa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Troisième partie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erpétration et dépositions de témoi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Quatrième par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Cinquième partie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ésum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F498CE-C13B-4EF8-B606-EC53A8ED63B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anipulation psychologique en ligne (Cyber Social Engineer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« 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type d'escroquerie ayant pour but la collecte d’informations, le détournement de fonds ou l’accès à un système ; elle diffère des formes traditionnelles d’escroquerie en cela qu’elle s’inscrit souvent dans un stratagème de fraude plus vaste et plus complexe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C:\Users\B.Stam\Desktop\Social Engineering, Baiting, Phishing, Email Hacking, Contact Spamming, Pretexting, Spear Phishing,Vishing, Hunting, Farming NORTON_0.jpg"/>
          <p:cNvPicPr/>
          <p:nvPr/>
        </p:nvPicPr>
        <p:blipFill>
          <a:blip r:embed="rId1"/>
          <a:stretch/>
        </p:blipFill>
        <p:spPr>
          <a:xfrm>
            <a:off x="3098880" y="4782960"/>
            <a:ext cx="29462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6C007-54F2-492D-BA77-93985A1749C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3"/>
          <p:cNvSpPr/>
          <p:nvPr/>
        </p:nvSpPr>
        <p:spPr>
          <a:xfrm>
            <a:off x="3071880" y="4500720"/>
            <a:ext cx="3081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55A87-D5FB-45E2-BFAE-D150FA584BC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353960"/>
            <a:ext cx="85122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À l’issue de cette session, les participants devraient avoir atteint les objectifs suivant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mprendre l’introduction et les premiers éléments de l’affaire 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mprendre le développement de l’affaire en analysant les preuves électroniques et matérielles présenté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suivre la perpétration proprement dite et trouver d’autres faits dans les dépositions de témoin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nnaître les termes et définitions-clés relatifs aux outils de la cybercriminalité, dont ceux utilisés en l’espè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Objectifs de la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9B1D14-71B9-4C17-AFF6-D7EF7BA58E6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"/>
          <p:cNvSpPr/>
          <p:nvPr/>
        </p:nvSpPr>
        <p:spPr>
          <a:xfrm>
            <a:off x="3071880" y="4500720"/>
            <a:ext cx="3081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7F13C-1B63-49CE-AF36-2D284462EBC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353600"/>
            <a:ext cx="8512200" cy="509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À l’issue de cette session, les participants devraient avoir atteint les objectifs suivant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mprendre l’introduction et les premiers éléments de l’affaire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mprendre le développement de l’affaire en analysant les preuves électroniques et matérielles présentées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suivre la perpétration proprement dite et trouver d’autres faits dans les dépositions de témoin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nnaître les termes et définitions-clés relatifs aux outils de la cybercriminalité, dont ceux utilisés en l’espè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Objectifs de la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01F6F-EC89-4ED3-843D-7A1D8804CB8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artie 1</a:t>
            </a: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Introduction et faits initia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769F1-0CFB-4721-842A-19A83B31E36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00440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 »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ynopsis de l’étude de 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scénario de l’étude de cas correspond au phénomène récent des attaques dites « BEC » pour « Business E-mail Compromise » (piratage de la messagerie d'entreprise), dérivées des escroqueries « au président » ou au « faux-intermédiaire » déjà connu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mpleur de ces escroqueries est énorme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0A6615-5763-49B5-B685-A4C7C7A465E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0044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profils »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rofil de l’entreprise 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Présentation générale, structure et respons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rofil de l’entreprise 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Présentation générale, structure et respons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rofil de l’entreprise Docklands Securities Bank 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ésentation générale, structure et respons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Faits initia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8FA49-21A3-4E60-95C6-4C835DF5D79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Documents et rapports »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nnonce de l’obligation anniversaire par la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décision du conseil d’administration d’émettre des obligations et éléments financiers correspondant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bligation annivers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maquette de l’obligation, y compris éléments imprimés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ontrat FBA –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contrat d’impression de 20 000 éléments pour l’obligation anniversaire de la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Faits initia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43600-3644-468A-98A1-2C8CA65AB5A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071880" y="4500720"/>
            <a:ext cx="3081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7944E-1C02-4520-A379-C249DAF939E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artie 2 :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éveloppement de l’affai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cp:keywords/>
  <dc:language>en-US</dc:language>
  <cp:lastModifiedBy>CAROLINE MARTIN</cp:lastModifiedBy>
  <dcterms:modified xsi:type="dcterms:W3CDTF">2018-06-01T08:13:37Z</dcterms:modified>
  <cp:revision>187</cp:revision>
  <dc:subject/>
  <dc:title>Introductory Cybercrime Training for Judges and Prosecutors</dc:title>
</cp:coreProperties>
</file>