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commentAuthors.xml><?xml version="1.0" encoding="utf-8"?>
<p:cmAuthorLst xmlns:p="http://schemas.openxmlformats.org/presentationml/2006/main">
  <p:cmAuthor id="0" name="CAROLINE MARTIN"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41.xml><?xml version="1.0" encoding="utf-8"?>
<p:cmLst xmlns:p="http://schemas.openxmlformats.org/presentationml/2006/main">
  <p:cm authorId="0" dt="2018-05-31T18:20:44.725000000" idx="1">
    <p:pos x="5435" y="2564"/>
    <p:text>Concernant cette partie, dans l'anglais il y a indiqué "article 25.1" mais le texte en dessous est celui de l'article 27.1. Or, il me semble que le texte qu'il convient d'insérer ici est bien l'article 25.1 c'est pourquoi je l'ai mis en français. A vérifier ! (l'article 27.1 est reproduit dans la diapo 55. pour un autre suje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C46E6-9CB0-496A-989A-BBBE1B19E640}"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BA65B-2019-4CDF-B58B-31927A39F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but de cette session est de donner aux participants des idées et des conseils pratiques sur la manière d’utiliser pleinement et plus efficacement les règles applicables en matière d’entraide judiciaire en vue de la collecte de preuves électroniques auprès d’un pays étranger dans des affaires de cybercriminalité, conformément au cadre juridique national et international en vigueur.</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3C27C-551D-47E8-9404-CD97FD2B5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la transition entre les principes généraux de l’entraide judiciaire et la recherche de preuves électroniques dans le cadre de la coopération judiciaire internationale.</a:t>
            </a: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A2F23-4BCE-44D9-B051-584671D43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AF2D0-7221-43AC-965A-AEC9EB4575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3 à 17 portent sur l'optimisation des demandes d’entraide judiciaire, notamment pa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 recours à d’autres moyens de coopération, s’ils sont autorisés en droit intern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pplication de la convention de Budapest,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 vérification des informations utilisées pour la rédaction de la demande d’entraide judiciaire.</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2AD95-53D8-4DF2-B2C4-A0465FC2A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Cette diapositive amène les participants à réfléchir à des alternatives à l’entraide judiciaire lorsqu’elles sont autorisées en droit interne, ce qui n’est pas toujours le cas. Le formateur doit être en mesure d’adapter le cours aux règles et pratiques locales en la matière. C’est l’occasion d’engager une brève discussion avec les participants sur ce qui est autorisé ou non dans leur pays. Bien souvent, les participants en arriveront à la conclusion que tout n’est pas inscrit dans leur droit interne mais que cela ne signifie pas pour autant que les preuves recueillies ne seraient pas recevables devant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 formateur pourra fournir le cas échéant des exemples tirés de sa propre expérience concernant les trois principales catégories d’informations pouvant être obtenues légalement sans demande d’entraide judiciaire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utres moyens de coopé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informations accessibles au public</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pplication de l’article 32 de la Convention de Budapest (rappel si nécessaire de la session sur la coopération international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notera par exemple que dans certains pays comme le Canada, la police est indépendante du pouvoir judiciaire et est seule compétente pour décider si elle autorise à communiquer les rapports établis par ses services. Dans d’autres pays comme la France, la police agira toujours sous la supervision du pouvoir judiciaire et devra donc presque toujours saisir ce dernier (procureur ou ju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peut ajouter en ce qui concerne les données accessibles au public que dans la plupart des pays, il n’y a pas de nécessité d’avoir compétence pour recueillir des informations fournies par Google bien que les données puissent être stockées dans un autre pay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D'autres exemples d'informations accessibles au public pourraient être le site « Find an inmate » permettant de localiser un détenu dans les prisons fédérales américaines (www.bop.gov/inmateloc) ou le site web public permettant de vérifier un numéro d’IBAN et donc d’identifier la banque et son agence avant de rédiger une demande d’entraide judiciair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s participants sont censés connaître l’article 32 de la Convention de Budapest qu’ils auront déjà rencontré lors des précédentes sessions de formation. Le formateur jugera peut-être utile de leur rappeler cette possibilité légale de manière concrète : dans quelles situations le droit interne autoriserait-il un tel accès aux données ? Dans quelles situations serait-il interdit ? Pourquo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DF405-684B-403D-89D0-67C2C9E23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aux outils et réseaux existants pour optimiser l’entraide judiciaire ; ces derniers peuvent également être utiles lors de la phase de rédaction pour obtenir des informations sur les critères spécifiques à tel ou tel p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rappelle également aux participants l’article 29 de la Convention de Budapest, qui aura en principe été étudié lors de la session de formation consacrée à la coopération internationale. Cet outil est essentiel pour améliorer l’efficacité des demandes d’entraide judiciaire en ce qui concerne les preuves électronique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72FE1-540B-4F73-8858-8E559211A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deux articles importants de la Convention de Budapest qui auront en principe été étudiés dans le cadre de la formation initi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35 demande à chaque État Partie de mettre en place un point de contact joignable 24 heures sur 24, 7 jours sur 7 en vue de la mise en place d'un réseau 24/7 capable de répondre aux demandes urgentes. Dans certains pays, mais pas tous, le réseau 24/7 permettra un échange d'informations plus ou moins important. La Convention offre cette possibilité. Tous les pays n'autorisent cependant pas la transmission d'informations. Ce cours portant sur l'utilisation des outils d’entraide judiciaire, il n’examinera pas les spécificités propres à chacun ; elles pourront néanmoins être détaillées par le formateur s'il a connaissance des possibilités offertes par son point de contact 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à l’article 29 et de demander la conservation rapide de données informatiques stockées, via le réseau 24/7, avant l’envoi d'une demande d’entraide judiciaire. </a:t>
            </a:r>
            <a:endParaRPr b="0" lang="en-US" sz="1200" spc="-1" strike="noStrike">
              <a:solidFill>
                <a:srgbClr val="000000"/>
              </a:solidFill>
              <a:latin typeface="Calibri"/>
            </a:endParaRPr>
          </a:p>
        </p:txBody>
      </p:sp>
      <p:sp>
        <p:nvSpPr>
          <p:cNvPr id="3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366A8-795D-4E86-ABEA-7732CDCBB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p:txBody>
      </p:sp>
      <p:sp>
        <p:nvSpPr>
          <p:cNvPr id="3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4F72D-3355-44F6-A758-B02B93588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D2553-AA70-46CD-A7E4-8B3DE24D5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es informations essentielles à vérifier lorsqu’ils commencent à rédiger une demande d’entraide judiciaire. Le formateur attirera leur attention sur l’importance de veiller autant à la forme de la demande qu’à son contenu si l’on veut qu’elle parvienne bien à l’autorité compétente et soit exécuté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C1157-C5C3-4257-B225-EE871EE51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es exigences de forme prévues dans les conventions/traité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la prise en compte de ces prérequis deviendra peu à peu un automatisme et prendra moins de temps tout en augmentant les chances que la demande soit mieux exécutée.</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BDD9F-43A1-4BAD-8912-4EAF6836E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1 rappelle aux participants les principes généraux de l’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2 traite des moyens d’optimiser la prépara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3 donne des conseils pour améliorer la rédaction des demandes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4 est consacrée à la réception et à l’exécu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5 résume les objectifs du cours.</a:t>
            </a: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A369A-F67A-4035-B218-36FFC0A84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1B3CD-6867-46AD-8E2C-AF5EAE4D90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9 à 44 concernent plus spécifiquement la phase de rédaction de la demande d'entraide judiciaire : format, contenu et informations habituellement deman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consacrées au modèle de demande d’entraide judiciaire du Conseil de l’Europe. Le formateur pourra les sauter s’il manque de temps. Cependant, elles peuvent être utiles pour les participants qui se demandent à quoi devrait ressembler leur demande d’entraide judiciaire. Pour les participants issus des pays de l’UE ou qui s’intéressent au modèle de l’UE, le formateur pourra également ajouter ici le modèle de Décision d'enquête européenne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09628-748D-42F7-B91D-D4B8E1EB7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absence de modèle unique et uniformisé de demande d’entraide judiciaire au niveau international. Les diapositives suivantes montrent néanmoins qu’un certain nombre d'informations sont quasi systématiquement demandées,</a:t>
            </a:r>
            <a:endParaRPr b="0" lang="en-US" sz="1200" spc="-1" strike="noStrike">
              <a:solidFill>
                <a:srgbClr val="000000"/>
              </a:solidFill>
              <a:latin typeface="Calibri"/>
            </a:endParaRPr>
          </a:p>
        </p:txBody>
      </p:sp>
      <p:sp>
        <p:nvSpPr>
          <p:cNvPr id="3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2527F-789E-4D72-A8A9-339FDEDC0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ntionne la Décision d’enquête européenne, qui doit être utilisée dans tous les pays de l’Union européenne à l’exception du Danemark et de l’Irlande (qui ont décidé de ne pas adhérer au dispositif), sauf pour les équipes communes d’enquê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ays de l’UE et les participants qui s’intéressent au modèle de l’UE, un modèle de Décision d'enquête européenne est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9D63D-7E47-4908-8DA5-E0400A921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présente le formulaire type de demande d’entraide judiciaire du Conseil de l’Europe, qui n’a aucun caractère obligatoire. Les diapositives suivantes reproduisent le formulaire dans son intégralité.</a:t>
            </a:r>
            <a:endParaRPr b="0" lang="en-US" sz="1200" spc="-1" strike="noStrike">
              <a:solidFill>
                <a:srgbClr val="000000"/>
              </a:solidFill>
              <a:latin typeface="Calibri"/>
            </a:endParaRPr>
          </a:p>
        </p:txBody>
      </p:sp>
      <p:sp>
        <p:nvSpPr>
          <p:cNvPr id="3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10729-79CF-49E1-A302-16CFD9BA8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2E7A2-2857-4864-BE42-4F380C1DE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707DE-685D-4655-8E84-B5680E793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1E591-AF59-487E-8294-10EEDD7A2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CE8B6-E3DD-4487-B569-ECD937CC1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la présente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dans la coopération entre les autorités judiciai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442A9-E8EF-4002-BBE7-F572CD94F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529FE-2D5B-4155-AB1D-12536E422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631AD-17E3-474F-9664-727296291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3914F-552D-418A-8AC3-29018DE33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6611C-D733-49D9-A474-26C05EAF9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5B14A-F082-419B-968C-22AEA87ED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Cette diapositive pourrait être le point de départ d’une discussion sur la précision requise en matière de preuves électron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F123C-A87F-4067-B0C3-88CFB0CB3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ette diapositive pourrait être le point de départ d’une discussion sur la précision requise en matière de preuves électroniques.  C’est également l’occasion de mentionner que les États-Unis ne procèderont pas à l’interception en temps réel des communications sur la base d’une demande d’entraide judiciaire. Cela n'est possible que lorsqu’il existe une affaire en instance aux États-Unis et que celle-ci est utilisée pour obtenir l'autorisation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1AE7E-C248-4419-9C90-B27F05125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B993F-20DF-4347-BACD-CC5EF2408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45E71-8B41-4DED-B486-451FF1189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50333-24DB-4E4B-B0DD-B5077D6F1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4 à 11 concernent les principes généraux sur lesquels repose l’entraide judiciaire.</a:t>
            </a:r>
            <a:br>
              <a:rPr sz="1200"/>
            </a:br>
            <a:br>
              <a:rPr sz="1200"/>
            </a:br>
            <a:r>
              <a:rPr b="0" lang="fr-FR" sz="1200" spc="-1" strike="noStrike">
                <a:solidFill>
                  <a:srgbClr val="000000"/>
                </a:solidFill>
                <a:latin typeface="Calibri"/>
              </a:rPr>
              <a:t>Ces principes, qui sont plus ou moins communs à tous les pays, revêtent une importance primordiale lors de la rédaction ou de l’exécution d’une demande d’entraide judiciaire.</a:t>
            </a:r>
            <a:br>
              <a:rPr sz="1200"/>
            </a:br>
            <a:r>
              <a:rPr b="0" lang="fr-FR" sz="1200" spc="-1" strike="noStrike">
                <a:solidFill>
                  <a:srgbClr val="000000"/>
                </a:solidFill>
                <a:latin typeface="Calibri"/>
              </a:rPr>
              <a:t>Le formateur devra passer en revue tous les sujets abordés dans les diapositives et les compléter si nécessaire avec des informations locales pour que les participants aient ces principes à l’esprit lors de l’exercice de rédaction de la demande d’entraide judiciaire.</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53A68-59FB-4784-B3A2-4D1987FE0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exigences de contenu d’une demande d’entraide judiciaire varient d’un traité ou d’une convention à l’autre, les éléments indiqués ici sont demandés dans la plupart d’entre eux, ou par la plupart des États qui exécutent les demandes sur une base de réciprocité (c’est-à-dire en dehors du cadre d’une convention ou d’un traité). </a:t>
            </a:r>
            <a:endParaRPr b="0" lang="en-US" sz="1200" spc="-1" strike="noStrike">
              <a:solidFill>
                <a:srgbClr val="000000"/>
              </a:solidFill>
              <a:latin typeface="Calibri"/>
            </a:endParaRPr>
          </a:p>
        </p:txBody>
      </p:sp>
      <p:sp>
        <p:nvSpPr>
          <p:cNvPr id="3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18E3C-4C3A-4392-8E01-7F3633FCB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ramener la Convention de Budapest dans la discussion en rappelant aux participants que ce texte est un instrument international qui contient tout un chapitre sur les règles applicables en matière d’entraide judiciaire en l’absence d'autres traités.</a:t>
            </a:r>
            <a:endParaRPr b="0" lang="en-US" sz="1200" spc="-1" strike="noStrike">
              <a:solidFill>
                <a:srgbClr val="000000"/>
              </a:solidFill>
              <a:latin typeface="Calibri"/>
            </a:endParaRPr>
          </a:p>
        </p:txBody>
      </p:sp>
      <p:sp>
        <p:nvSpPr>
          <p:cNvPr id="3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F5D18-4BFD-482F-B1F6-5DDE76A9C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souligner que la communication contribue pour beaucoup à faciliter les demandes d’entraide judiciaire, en insistant si nécessaire sur le fait qu’elle ne contourne pas les voies légales mais vise uniquement à améliorer la compréhension et l’exécution de la demande qui a été ou qui sera transmise par les moyens offici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Dans la pratique, de nombreuses demandes ne contiennent toujours pas d’adresse de courrier électronique ou d’informations sur les langues parlées par l’autorité requérante.</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8FBEF-84ED-4AFE-85D1-2B80F0632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u résumé des faits, qui est demandé dans la plupart des traités et conventions internationa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l’un des éléments les plus importants de la demande car il détermine si une mesure d’investigation peut être ordonnée dans le pays requis. Ces conseils semblent simples mais il est évident, dans la pratique, que les juges et les procureurs devraient consacrer plus de temps au résumé des faits car ils sont les SEULS à connaître dans le détail l'affaire dont ils sont saisis ; dans bien des cas, l’autorité requise ne pourra s’appuyer que sur la demande d’entraide judiciaire pour prendre une déci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soin à apporter à la rédaction du résumé des faits, qui devra être précis et correspondre par exemple au niveau de preuve pouvant exigé dans certains États pour l’adoption de mesures coercit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7082A-E61B-4FE6-B0F2-DB7E134B2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eux diapositives suivantes contiennent un exemple d’exigence spécifique à respecter lors de la rédaction du résumé des faits, à savoir la norme de la « cause probable » qui s’applique aux États-Unis, notamment lorsque des contenus de courrier électronique sont recherché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DBE4E-0971-48D1-A522-3703502B8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C8F9898A-2E19-42B2-A9BA-CEC3AD7FD21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4B63CA30-C202-48CB-ADFB-A200FA5F3F5D}" type="slidenum">
              <a:rPr b="0" lang="fr-CA"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tte diapositive résume les trois normes juridiques requises par les États-Unis lorsque des données électroniques sont recherché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e formateur pourra la commenter s’il connaît bien le système américain, ou donner l’exemple d’un autre pays si cela est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la dit, une telle présentation devra se limiter à une description objective des exigences fixées par un pays dans le cadre des règles générales de l’entraide judiciaire et des traités et conventions applicables. Certains pays peuvent en effet avoir des exigences qui contournent ces dispositions et instruments. Elles ne seront pas abordées dans cette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 type de mesures à demander et les possibilités légales d’exécution de ces me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6090D-CDA5-4491-8764-6682C0D1A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documents qui peuvent ou doivent être annexés à la demande d’entraide judiciaire, sous réserve d’autres exigences fixées par les traités ou conventions applicables.</a:t>
            </a:r>
            <a:br>
              <a:rPr sz="1200"/>
            </a:br>
            <a:br>
              <a:rPr sz="1200"/>
            </a:br>
            <a:r>
              <a:rPr b="0" lang="fr-FR" sz="1200" spc="-1" strike="noStrike">
                <a:solidFill>
                  <a:srgbClr val="000000"/>
                </a:solidFill>
                <a:latin typeface="Calibri"/>
              </a:rPr>
              <a:t>Le formateur pourra la compléter avec toute exigence spécifique demandée dans sa zone géographique.</a:t>
            </a:r>
            <a:endParaRPr b="0" lang="en-US" sz="1200" spc="-1" strike="noStrike">
              <a:solidFill>
                <a:srgbClr val="000000"/>
              </a:solidFill>
              <a:latin typeface="Calibri"/>
            </a:endParaRPr>
          </a:p>
        </p:txBody>
      </p:sp>
      <p:sp>
        <p:nvSpPr>
          <p:cNvPr id="3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2F17E-A63B-4657-BADB-090B6568B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voque la possibilité d'adresser une copie de la requête officielle au pays requis, par tous les moyens, préalablement à l’envoi de celle-c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cette pratique peut également être utile lorsque les autorités centrales sont impliquées dans le processus de transmission et que, lorsque la copie de la demande est transmise au préalable par les circuits officiels prévus dans la convention ou le traité, son exécution peut commencer plus tô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devra préciser que si une copie de la demande est envoyée directement à une autorité étrangère sans que cette possibilité soit prévue dans le traité applicable, il se peut - selon le pays requis - que la demande ne puisse pas être exécutée. Pour de meilleurs résultats, la copie de la demande devrait par conséquent être transmise selon les modalités prévues dans le traité ou la convention applicab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Le formateur pourra mentionner la possibilité prévue à l’article 25.3 de la Convention de Budapest, qui fait l’objet de la diapositive suivante.</a:t>
            </a:r>
            <a:endParaRPr b="0" lang="en-US" sz="1200" spc="-1" strike="noStrike">
              <a:solidFill>
                <a:srgbClr val="000000"/>
              </a:solidFill>
              <a:latin typeface="Calibri"/>
            </a:endParaRPr>
          </a:p>
        </p:txBody>
      </p:sp>
      <p:sp>
        <p:nvSpPr>
          <p:cNvPr id="4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E2680-461F-4B02-9B8F-5A5A1E441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l’article 25. 3 de la Convention de Budapest qui prévoit la possibilité de recourir à des moyens de télécommunication pour transmettre plus efficacement les demandes d’entraide judiciaire, ce qui s'applique aux situations où des preuves électroniques sont requises et des circonstances urgentes peuvent être invoquées.</a:t>
            </a:r>
            <a:endParaRPr b="0" lang="en-US" sz="1200" spc="-1" strike="noStrike">
              <a:solidFill>
                <a:srgbClr val="000000"/>
              </a:solidFill>
              <a:latin typeface="Calibri"/>
            </a:endParaRPr>
          </a:p>
        </p:txBody>
      </p:sp>
      <p:sp>
        <p:nvSpPr>
          <p:cNvPr id="4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426E7-1CFD-4A3D-A8B7-D81DB9F96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4FA74-9731-4EE2-BCD5-4C4C302DB6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quatrième partie traite de la réception et de l’exécution d’une demande d’entraide judiciaire, d’un point de vue pratique. Elle sera brève car il est impossible de traiter l’ensemble des cas de figure : tout dépend du traité ou de la convention applicables, ainsi que du type de mesures requises. Le but est de donner des orientations aux participants pour leur permettre d’adopter une vision qui ne soit plus purement légaliste mais davantage tournée vers l’efficacité dans la coopération, dans les limites de leur droit interne et du droit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DDC73-AB75-4FE6-9A5B-A2508EB80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vise à rappeler aux participants l’importance de la communication, déjà soulignée dans la partie consacrée à la rédaction des demandes d’entraide judiciaire.</a:t>
            </a:r>
            <a:br>
              <a:rPr sz="1200"/>
            </a:br>
            <a:r>
              <a:rPr b="0" lang="fr-FR" sz="1200" spc="-1" strike="noStrike">
                <a:solidFill>
                  <a:srgbClr val="000000"/>
                </a:solidFill>
                <a:latin typeface="Calibri"/>
              </a:rPr>
              <a:t>Cela concerne autant l’expéditeur que le destinata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ême lorsque la loi ne l’exige pas, les participants devraient être encouragés à communiquer de manière informelle avec l’autorité requérante pour lui confirmer qu’ils exécuteront bien la demande d’entraide judiciaire. Cet aspect est important lorsqu’une affaire pénale est en cours dans l’État requérant, car l’autorité requérante peut ne pas avoir de nouvelles de sa demande pendant des mois, voire des années, et décider à un moment donné de classer l’affaire alors que l’autorité requise pourrait être en train d’exécuter la demande ou avoir été obligée d’en retarder l’exé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insister si nécessaire sur le fait que cette communication vise à faciliter et à améliorer la compréhension de la requête, et non à contourner les moyens de transmission officiels. </a:t>
            </a:r>
            <a:endParaRPr b="0" lang="en-US" sz="1200" spc="-1" strike="noStrike">
              <a:solidFill>
                <a:srgbClr val="000000"/>
              </a:solidFill>
              <a:latin typeface="Calibri"/>
            </a:endParaRPr>
          </a:p>
        </p:txBody>
      </p:sp>
      <p:sp>
        <p:nvSpPr>
          <p:cNvPr id="4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FE7AB-9862-4F8D-B912-F60611272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remarquer qu’il y a deux niveaux d’analyse que le destinataire doit s’efforcer de conci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juridique (forme et contenu de la deman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d’efficacité (si une mesure ne peut être ordonnée, le droit interne prévoit-il un autre moyen juridique permettant d'atteindre le même objec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D6699-313F-4EAE-B2E8-4E35C1A3F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donne des conseils simples aux participants pour une action plus efficace, dans les limites de leur cadre juridique. </a:t>
            </a:r>
            <a:endParaRPr b="0" lang="en-US" sz="1200" spc="-1" strike="noStrike">
              <a:solidFill>
                <a:srgbClr val="000000"/>
              </a:solidFill>
              <a:latin typeface="Calibri"/>
            </a:endParaRPr>
          </a:p>
        </p:txBody>
      </p:sp>
      <p:sp>
        <p:nvSpPr>
          <p:cNvPr id="4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B6E0E-65CC-4578-9F80-2CEEA4232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p:txBody>
      </p:sp>
      <p:sp>
        <p:nvSpPr>
          <p:cNvPr id="4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025CE-609B-4785-9EF4-0A42574CD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4096D-7BA3-4D39-B210-9FE92D958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p:txBody>
      </p:sp>
      <p:sp>
        <p:nvSpPr>
          <p:cNvPr id="4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33FF5-2673-4138-9291-F74692316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B4668-C544-4634-AC82-42F30A2CC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91AE5-0A0A-496D-95CF-DAF57BCE6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nonce les principes fondamentaux sur lesquels reposent habituellement les traités et conventions d’entraide judiciai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 les illustrer par des exemples tirés du système national ou d’affaires locales ayant posé des questions d’ordre juridiqu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20D07-1C67-4487-A5A5-4DD3DEE50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pour les participant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fin de la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et de coopération entre les autorités judiciaires.</a:t>
            </a: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FF3D6-9401-403E-A17F-B4FEA817520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mande aux participants s'ils ont des questions concernant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 de certaines sessions de formation, une séance pourra être consacrée à la mise en pratique du cours et prévoir un travail de rédaction ou d’analyse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formateurs pourront compléter l’apprentissage par des exercices lorsque les cours se déroulent dans un environnement doté des équipements adéqua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Vérification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e vérification des connaissances autre que celle évoquée précédemment n’est actuellement envisagée pour ce cours. Aucune évaluation officielle n’est demandée.</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A33DE-98F1-4EBA-8795-197677B0F330}"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brièvement les problèmes posés par la cybercriminalité et les preuves électroniques dans les affaires internationales. À ce stade du programme, les participants devraient avoir acquis des connaissances sur ces questions dans le cadre de la formation initiale ou de la formation judiciaire complémentaire (présentations génér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633AA-B192-433F-96C1-596327A61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t en lumière quelques-unes des différences majeures, sur le plan détection de l’infraction et de la collecte de preuves, entre une affaire « classique » et une affaire dans laquelle il existe des preuves numériqu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it illustrer cette partie par des exemples concrets, comm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une comparaison entre un cambriolage dans une banque (durée nécessaire pour préparer le vol puis pour se rendre sur les lieux de l'infraction, entrer dans la banque, prendre l’argent et fuir ; empreintes digitales ou ADN, parfois traces de sang laissées sur la scène du crime ; victimes qui savent qu’elles ont été victimes d'une infraction ; traumatisme ; policiers et experts sachant où recueillir des preuves, etc.) et une situation dans laquelle une entreprise apprend qu’elle a été victime d'une atteinte importante à la protection de ses données à un moment non déterminé,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également insister sur le fait que la notion territorialité est de plus en plus bousculée dans tout ce qui relève de la cybercriminalité, contrairement aux infractions classiques qu’il est souvent facile de situer dans tel ou tel État ou territoire. Cela dit, la présente session traitant de l’entraide judiciaire, qui repose principalement sur le droit international (conventions et traités), il convient de rappeler aux participants que les juges et les magistrats sont certes tenus de respecter la loi, mais que rien ne les empêche de se montrer novateurs dans les limites de celles-ci (autrement dit, ils doivent se conformer à la loi mais peuvent essayer de l’analyser de manière plus spécifique dans les cas où elle pourrait autoriser de nouvelles pratiques pour ce qui est de la collecte de preuves électroniques).</a:t>
            </a: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4B166-71F7-4D01-B302-4AD73D63E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st un résumé des défis actuels détaillés dans les diapositives 7 et 8 : la nécessité de respecter le droit international et la nécessité d’une plus grande efficacité en matière de cybercriminalité.</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2FFF6-A4B2-4991-9F98-EC1F039BE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5B416-F950-40C1-A239-84C3D2683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09799-1590-47FB-B41C-F2175A957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9B38A-6DB6-40E3-9FA4-D4F02F10D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75B85-5C55-4505-807D-0C1D4C7E1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18F23-DACF-40A7-802D-B10FFC9A1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B094D-9649-40E6-94EE-65BB3AC42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E6846-F340-436A-A274-A8EBC9D5D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A23D3-B36F-4592-8815-146D105ED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49F8F-6B41-4D4A-982D-6EADABF9F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D8FA7-1077-4C4B-8FE8-7404D92BE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8DEB-67FA-4D01-B33C-FC67B2C9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893F-8141-4CA9-9D18-29F2BBEE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0C63-06E0-445D-8E0E-CAD426C97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E890-74B2-446C-8B12-303E2992A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BBE23-62A5-4627-A39C-965110CB5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75588-E12B-42A9-A807-6BEB05A5B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CA080-A702-4100-BD6F-4347A97E2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9A29C-E1ED-45B6-AFD2-9D5F6D3E4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36CB-1A30-495D-ACA7-EEC106F8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9B56-3A8E-41B8-B77E-CD2EA1687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9AAF9-6EA8-4A22-A21E-5DB22838C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1D43-EB61-4263-AA8E-10EE2CADE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B4CE-C78E-4856-AFD6-3C5884B14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9621-782B-41A7-9C0A-E9DC89EAD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7A790-8518-4C20-BADD-F00A219B613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42C43-1A19-4F6E-93AA-54D074723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E1A22-1470-4B19-9EA7-DB54514C25A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2B73A-5ABD-4663-8859-5E64FFFAF8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71669-3936-4814-B29D-AEA1EECA28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 d’entraide judiciaire</a:t>
            </a:r>
            <a:br>
              <a:rPr sz="4400"/>
            </a:br>
            <a:r>
              <a:rPr b="0" lang="fr-FR" sz="4400" spc="-1" strike="noStrike">
                <a:solidFill>
                  <a:srgbClr val="000000"/>
                </a:solidFill>
                <a:latin typeface="Calibri"/>
              </a:rPr>
              <a:t>Aspects pratiqu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a6a6a6"/>
                </a:solidFill>
                <a:latin typeface="Calibri"/>
              </a:rPr>
              <a:t>Session #?</a:t>
            </a:r>
            <a:endParaRPr b="0" lang="en-US" sz="3200" spc="-1" strike="noStrike">
              <a:solidFill>
                <a:srgbClr val="000000"/>
              </a:solidFill>
              <a:latin typeface="Calibri"/>
            </a:endParaRPr>
          </a:p>
        </p:txBody>
      </p:sp>
      <p:pic>
        <p:nvPicPr>
          <p:cNvPr id="92"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4C066-11E0-4221-B209-49FFA3B6FC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ituation actuelle :</a:t>
            </a:r>
            <a:endParaRPr b="0" lang="en-US" sz="4400" spc="-1" strike="noStrike">
              <a:solidFill>
                <a:srgbClr val="000000"/>
              </a:solidFill>
              <a:latin typeface="Calibri"/>
            </a:endParaRPr>
          </a:p>
        </p:txBody>
      </p:sp>
      <p:sp>
        <p:nvSpPr>
          <p:cNvPr id="119"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ircuits d’entraide judiciaire ne sont pas adaptés aux preuves électroniques</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faut trouver de nouveaux moyens de coopération pour tout ce qui concerne les preuves électroniques et la cybercriminalité</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Cependant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L’entraide judiciaire reste la voie de coopération légale au niveau international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praticiens doivent donc faire plein et meilleur usage des possibilités qu’elle offre pour obtenir de meilleurs résul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629D7-633E-4FAC-B2A3-BB995E439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2"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F3880-80CF-4695-8161-74238029D1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2</a:t>
            </a:r>
            <a:br>
              <a:rPr sz="3200"/>
            </a:br>
            <a:r>
              <a:rPr b="1" lang="fr-FR" sz="3200" spc="-1" strike="noStrike">
                <a:solidFill>
                  <a:srgbClr val="000000"/>
                </a:solidFill>
                <a:latin typeface="Calibri"/>
                <a:ea typeface="ＭＳ Ｐゴシック"/>
              </a:rPr>
              <a:t>Préparation de la demande d’entraide judiciaire</a:t>
            </a:r>
            <a:endParaRPr b="0" lang="en-US" sz="3200" spc="-1" strike="noStrike">
              <a:solidFill>
                <a:srgbClr val="000000"/>
              </a:solidFill>
              <a:latin typeface="Calibri"/>
            </a:endParaRPr>
          </a:p>
        </p:txBody>
      </p:sp>
      <p:pic>
        <p:nvPicPr>
          <p:cNvPr id="12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5A220-EEAE-4D04-A719-5529460F6E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Avant d’envoyer une demande d’entraide judiciaire, il convient d'examiner les alternatives légales suivantes :</a:t>
            </a:r>
            <a:endParaRPr b="0" lang="en-US" sz="3600" spc="-1" strike="noStrike">
              <a:solidFill>
                <a:srgbClr val="000000"/>
              </a:solidFill>
              <a:latin typeface="Calibri"/>
            </a:endParaRPr>
          </a:p>
        </p:txBody>
      </p:sp>
      <p:sp>
        <p:nvSpPr>
          <p:cNvPr id="128"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utres modes de coopération </a:t>
            </a:r>
            <a:r>
              <a:rPr b="0" lang="fr-FR" sz="2700" spc="-1" strike="noStrike">
                <a:solidFill>
                  <a:srgbClr val="000000"/>
                </a:solidFill>
                <a:latin typeface="Calibri"/>
              </a:rPr>
              <a:t>(par exemple entre autorités de police) :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Le droit interne le permet-il ? La législation du pays requis le permet-elle ?</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Données accessibles au public </a:t>
            </a:r>
            <a:r>
              <a:rPr b="0" lang="fr-FR" sz="2700" spc="-1" strike="noStrike">
                <a:solidFill>
                  <a:srgbClr val="000000"/>
                </a:solidFill>
                <a:latin typeface="Calibri"/>
              </a:rPr>
              <a:t>pouvant être obtenues sans demande d’entraide judiciaire, par exemple sur Internet ou dans des bases de données spécifiques à accès gratuit ou payant (</a:t>
            </a:r>
            <a:r>
              <a:rPr b="0" i="1" lang="fr-FR" sz="2700" spc="-1" strike="noStrike">
                <a:solidFill>
                  <a:srgbClr val="000000"/>
                </a:solidFill>
                <a:latin typeface="Calibri"/>
              </a:rPr>
              <a:t>si le droit interne le permet)</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de la Convention de Budapest </a:t>
            </a:r>
            <a:r>
              <a:rPr b="0" lang="fr-FR" sz="2700" spc="-1" strike="noStrike">
                <a:solidFill>
                  <a:srgbClr val="000000"/>
                </a:solidFill>
                <a:latin typeface="Calibri"/>
              </a:rPr>
              <a:t>: accès transfrontière à des données informatiques stockées avec consentement </a:t>
            </a:r>
            <a:endParaRPr b="0" lang="en-US" sz="2700" spc="-1" strike="noStrike">
              <a:solidFill>
                <a:srgbClr val="000000"/>
              </a:solidFill>
              <a:latin typeface="Calibri"/>
            </a:endParaRPr>
          </a:p>
          <a:p>
            <a:pPr marL="322200" indent="-3222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F986A-2F79-4510-9AFF-3AED06D8B1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04640" y="728280"/>
            <a:ext cx="8229600" cy="1476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ien préparer une demande d’entraide judiciaire en vue de l’obtention de preuves électroniques</a:t>
            </a:r>
            <a:endParaRPr b="0" lang="en-US" sz="3600" spc="-1" strike="noStrike">
              <a:solidFill>
                <a:srgbClr val="000000"/>
              </a:solidFill>
              <a:latin typeface="Calibri"/>
            </a:endParaRPr>
          </a:p>
        </p:txBody>
      </p:sp>
      <p:sp>
        <p:nvSpPr>
          <p:cNvPr id="131"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Réseaux existants, magistrats de liaison/attachés juridiques, autorité centrale nationale (à titre consultatif), Interpol, Europol, contacts directs, réseaux judiciaires, etc.</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pplication de l’article 29 de la Convention de Budapest </a:t>
            </a:r>
            <a:r>
              <a:rPr b="0" lang="fr-FR" sz="2800" spc="-1" strike="noStrike">
                <a:solidFill>
                  <a:srgbClr val="000000"/>
                </a:solidFill>
                <a:latin typeface="Calibri"/>
              </a:rPr>
              <a:t>(conservation rapide de données informatiques stocké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7286A-C0C2-4FFC-AC22-9DEEDFBC0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136440"/>
            <a:ext cx="8229600" cy="897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APPEL : </a:t>
            </a:r>
            <a:endParaRPr b="0" lang="en-US" sz="4400" spc="-1" strike="noStrike">
              <a:solidFill>
                <a:srgbClr val="000000"/>
              </a:solidFill>
              <a:latin typeface="Calibri"/>
            </a:endParaRPr>
          </a:p>
        </p:txBody>
      </p:sp>
      <p:graphicFrame>
        <p:nvGraphicFramePr>
          <p:cNvPr id="134" name=""/>
          <p:cNvGraphicFramePr/>
          <p:nvPr/>
        </p:nvGraphicFramePr>
        <p:xfrm>
          <a:off x="457200" y="860400"/>
          <a:ext cx="8229600" cy="568800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00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35 – Réseau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Chaque Partie </a:t>
                      </a:r>
                      <a:r>
                        <a:rPr b="1" lang="fr-FR" sz="1100" spc="-1" strike="noStrike" u="sng">
                          <a:solidFill>
                            <a:srgbClr val="000000"/>
                          </a:solidFill>
                          <a:uFillTx/>
                          <a:latin typeface="Calibri"/>
                        </a:rPr>
                        <a:t>désigne</a:t>
                      </a:r>
                      <a:r>
                        <a:rPr b="1" lang="fr-FR" sz="1100" spc="-1" strike="noStrike">
                          <a:solidFill>
                            <a:srgbClr val="000000"/>
                          </a:solidFill>
                          <a:latin typeface="Calibri"/>
                        </a:rPr>
                        <a:t> un point de contact joignable 24 heures sur 24, sept jours sur sept</a:t>
                      </a:r>
                      <a:r>
                        <a:rPr b="0" lang="fr-FR" sz="1100" spc="-1" strike="noStrike">
                          <a:solidFill>
                            <a:srgbClr val="000000"/>
                          </a:solidFill>
                          <a:latin typeface="Calibri"/>
                        </a:rPr>
                        <a:t>, afin d’assurer </a:t>
                      </a:r>
                      <a:r>
                        <a:rPr b="1" lang="fr-FR" sz="1100" spc="-1" strike="noStrike" u="sng">
                          <a:solidFill>
                            <a:srgbClr val="000000"/>
                          </a:solidFill>
                          <a:uFillTx/>
                          <a:latin typeface="Calibri"/>
                        </a:rPr>
                        <a:t>la fourniture d’une assistance immédiate</a:t>
                      </a:r>
                      <a:r>
                        <a:rPr b="0" lang="fr-FR" sz="1100" spc="-1" strike="noStrike">
                          <a:solidFill>
                            <a:srgbClr val="000000"/>
                          </a:solidFill>
                          <a:latin typeface="Calibri"/>
                        </a:rPr>
                        <a:t> pour des investigations concernant les infractions pénales liées à des systèmes et données informatiques ou pour recueillir les preuves sous forme électronique d’une infraction pénale. Cette assistance englobera la facilitation, ou, si le droit et la pratique internes le permettent, l’application directe des mesures suivant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 apport de conseils techniqu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u="sng">
                          <a:solidFill>
                            <a:srgbClr val="000000"/>
                          </a:solidFill>
                          <a:uFillTx/>
                          <a:latin typeface="Calibri"/>
                        </a:rPr>
                        <a:t>B- conservation des données conformément aux articles 29 et 30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C- recueil de preuves, apport d’informations à caractère juridique, et localisation des suspects.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2 A- Le point de contact d'une Partie pourra correspondre avec le point de contact d’une autre Partie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B- Si le point de contact désigné par une Partie ne dépend pas de l’autorité ou des autorités de cette Partie responsables de l’entraide internationale ou de l’extradition, le point de contact veillera à pouvoir agir en coordination avec cette ou ces autorités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Chaque Partie fera en sorte de disposer d'un personnel formé et équipé en vue de faciliter le fonctionnement du réseau.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29 - Conservation rapide de données informatiques stockées</a:t>
                      </a:r>
                      <a:r>
                        <a:rPr b="0" lang="fr-FR"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Une Partie peut demander à une autre Partie d’ordonner ou d’imposer d’une autre façon la conservation rapide de données stockées au moyen d’un système informatique </a:t>
                      </a:r>
                      <a:r>
                        <a:rPr b="0" lang="fr-FR" sz="1100" spc="-1" strike="noStrike">
                          <a:solidFill>
                            <a:srgbClr val="000000"/>
                          </a:solidFill>
                          <a:latin typeface="Calibri"/>
                        </a:rPr>
                        <a:t>se trouvant sur le territoire de cette autre Partie, </a:t>
                      </a:r>
                      <a:r>
                        <a:rPr b="0" lang="fr-FR" sz="1100" spc="-1" strike="noStrike" u="sng">
                          <a:solidFill>
                            <a:srgbClr val="000000"/>
                          </a:solidFill>
                          <a:uFillTx/>
                          <a:latin typeface="Calibri"/>
                        </a:rPr>
                        <a:t>et</a:t>
                      </a:r>
                      <a:r>
                        <a:rPr b="0" lang="fr-FR" sz="1100" spc="-1" strike="noStrike">
                          <a:solidFill>
                            <a:srgbClr val="000000"/>
                          </a:solidFill>
                          <a:latin typeface="Calibri"/>
                        </a:rPr>
                        <a:t> au sujet desquelles </a:t>
                      </a:r>
                      <a:r>
                        <a:rPr b="1" lang="fr-FR" sz="1100" spc="-1" strike="noStrike">
                          <a:solidFill>
                            <a:srgbClr val="000000"/>
                          </a:solidFill>
                          <a:latin typeface="Calibri"/>
                        </a:rPr>
                        <a:t>la Partie requérante a l’intention de soumettre une demande d’entraide</a:t>
                      </a:r>
                      <a:r>
                        <a:rPr b="0" lang="fr-FR" sz="1100" spc="-1" strike="noStrike">
                          <a:solidFill>
                            <a:srgbClr val="000000"/>
                          </a:solidFill>
                          <a:latin typeface="Calibri"/>
                        </a:rPr>
                        <a:t> en vue de la perquisition ou de l’accès par un moyen similaire, de la saisie ou de l’obtention par un moyen similaire, ou de la divulgation desdites donné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Après avoir reçu la demande d’une autre Partie, la Partie requise doit prendre toutes les mesures appropriées afin de procéder sans délai à la conservation des données spécifiées, conformément à son droit interne. Pour pouvoir répondre à une telle demande, la double incrimination n’est pas requise comme condition préalable à la con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7. </a:t>
                      </a:r>
                      <a:r>
                        <a:rPr b="1" lang="fr-FR" sz="1100" spc="-1" strike="noStrike">
                          <a:solidFill>
                            <a:srgbClr val="000000"/>
                          </a:solidFill>
                          <a:latin typeface="Calibri"/>
                        </a:rPr>
                        <a:t>Toute conservation effectuée en réponse à une demande visée au paragraphe 1 sera valable pour une période </a:t>
                      </a:r>
                      <a:r>
                        <a:rPr b="1" lang="fr-FR" sz="1100" spc="-1" strike="noStrike" u="sng">
                          <a:solidFill>
                            <a:srgbClr val="000000"/>
                          </a:solidFill>
                          <a:uFillTx/>
                          <a:latin typeface="Calibri"/>
                        </a:rPr>
                        <a:t>d’au moins 60 jours</a:t>
                      </a:r>
                      <a:r>
                        <a:rPr b="1" lang="fr-FR" sz="1100" spc="-1" strike="noStrike">
                          <a:solidFill>
                            <a:srgbClr val="000000"/>
                          </a:solidFill>
                          <a:latin typeface="Calibri"/>
                        </a:rPr>
                        <a:t> afin de permettre à la Partie requérante de soumettre une demande</a:t>
                      </a:r>
                      <a:r>
                        <a:rPr b="0" lang="fr-FR" sz="1100" spc="-1" strike="noStrike">
                          <a:solidFill>
                            <a:srgbClr val="000000"/>
                          </a:solidFill>
                          <a:latin typeface="Calibri"/>
                        </a:rPr>
                        <a:t> en vue de la perquisition ou de l’accès par un moyen similaire, de la saisie ou de l’obtention par un moyen similaire, ou de la divulgation des données. Après la réception d’une telle demande, les données doivent continuer à être conservées en attendant l’adoption d’une décision concernant la deman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DA0D0-F3D7-465A-8FA8-D5F64C7A6F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ant l’envoi d'une demande d’entraide judiciaire en vue de la collecte de données électroniques</a:t>
            </a:r>
            <a:endParaRPr b="0" lang="en-US" sz="4400" spc="-1" strike="noStrike">
              <a:solidFill>
                <a:srgbClr val="000000"/>
              </a:solidFill>
              <a:latin typeface="Calibri"/>
            </a:endParaRPr>
          </a:p>
        </p:txBody>
      </p:sp>
      <p:sp>
        <p:nvSpPr>
          <p:cNvPr id="137"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 le pays requis est un État Partie à la Convention de Budapest, </a:t>
            </a:r>
            <a:r>
              <a:rPr b="1" lang="fr-FR" sz="3200" spc="-1" strike="noStrike" u="sng">
                <a:solidFill>
                  <a:srgbClr val="000000"/>
                </a:solidFill>
                <a:uFillTx/>
                <a:latin typeface="Calibri"/>
              </a:rPr>
              <a:t>utiliser l’article 29</a:t>
            </a:r>
            <a:r>
              <a:rPr b="1" lang="fr-FR" sz="3200" spc="-1" strike="noStrike">
                <a:solidFill>
                  <a:srgbClr val="000000"/>
                </a:solidFill>
                <a:latin typeface="Calibri"/>
              </a:rPr>
              <a:t> </a:t>
            </a:r>
            <a:r>
              <a:rPr b="0" lang="fr-FR" sz="3200" spc="-1" strike="noStrike">
                <a:solidFill>
                  <a:srgbClr val="000000"/>
                </a:solidFill>
                <a:latin typeface="Calibri"/>
              </a:rPr>
              <a:t>et assurer la coordination avec les autorités nationales compétentes pour demander la conservation rapide des données</a:t>
            </a: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Cette mesure n’est intéressante que si l’on y a recours aux premiers stades des investigations, car les pays n’imposent pas tous aux fournisseurs et prestataires d’accès Internet l’obligation de conserver les données pendant une durée minimale à des fins d’enquê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4C222-FB53-4891-859F-C9C06E5C0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ans la pratique</a:t>
            </a:r>
            <a:endParaRPr b="0" lang="en-US" sz="4400" spc="-1" strike="noStrike">
              <a:solidFill>
                <a:srgbClr val="000000"/>
              </a:solidFill>
              <a:latin typeface="Calibri"/>
            </a:endParaRPr>
          </a:p>
        </p:txBody>
      </p:sp>
      <p:sp>
        <p:nvSpPr>
          <p:cNvPr id="140" name=""/>
          <p:cNvSpPr txBox="1"/>
          <p:nvPr/>
        </p:nvSpPr>
        <p:spPr>
          <a:xfrm>
            <a:off x="323640" y="1225080"/>
            <a:ext cx="8528040" cy="52326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 point de contact désigné contacte son homologue dans le pays requis sur une base 24/7 ;</a:t>
            </a:r>
            <a:endParaRPr b="0" lang="en-US" sz="2400" spc="-1" strike="noStrike">
              <a:solidFill>
                <a:srgbClr val="000000"/>
              </a:solidFill>
              <a:latin typeface="Calibri"/>
            </a:endParaRPr>
          </a:p>
          <a:p>
            <a:pPr marL="329040" indent="-32904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1800" spc="-1" strike="noStrike">
                <a:solidFill>
                  <a:srgbClr val="000000"/>
                </a:solidFill>
                <a:latin typeface="Calibri"/>
              </a:rPr>
              <a:t>(Points de contact désigné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demande la </a:t>
            </a:r>
            <a:r>
              <a:rPr b="1" lang="fr-FR" sz="2400" spc="-1" strike="noStrike" u="sng">
                <a:solidFill>
                  <a:srgbClr val="000000"/>
                </a:solidFill>
                <a:uFillTx/>
                <a:latin typeface="Calibri"/>
              </a:rPr>
              <a:t>conservation</a:t>
            </a:r>
            <a:r>
              <a:rPr b="0" lang="fr-FR" sz="2400" spc="-1" strike="noStrike">
                <a:solidFill>
                  <a:srgbClr val="000000"/>
                </a:solidFill>
                <a:latin typeface="Calibri"/>
              </a:rPr>
              <a:t> des données nécessaires à l’enquête pendant une durée d'au moins 60 jours (parfois plus : par exemple aux États-Unis, 90 jours, renouvelable une fois)</a:t>
            </a:r>
            <a:endParaRPr b="0" lang="en-US" sz="24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ans l’intervalle, la demande d’entraide judiciaire et préparée et envoyée en vue d’</a:t>
            </a:r>
            <a:r>
              <a:rPr b="1" lang="fr-FR" sz="2400" spc="-1" strike="noStrike" u="sng">
                <a:solidFill>
                  <a:srgbClr val="000000"/>
                </a:solidFill>
                <a:uFillTx/>
                <a:latin typeface="Calibri"/>
              </a:rPr>
              <a:t>obtenir</a:t>
            </a:r>
            <a:r>
              <a:rPr b="0" lang="fr-FR" sz="2400" spc="-1" strike="noStrike">
                <a:solidFill>
                  <a:srgbClr val="000000"/>
                </a:solidFill>
                <a:latin typeface="Calibri"/>
              </a:rPr>
              <a:t> des données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des données existent, elles devraient en principe avoir été conservé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une cause probable est requise, mentionner la demande de conservation rapide (date et numéro) dans la demande d’entraide judici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1A6FF-6098-4F7A-BFD7-35398D7662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223920" y="554040"/>
            <a:ext cx="892008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i une demande d’entraide judiciaire se révèle nécessaire, quelles sont les informations à vérifier ?</a:t>
            </a:r>
            <a:br>
              <a:rPr sz="3200"/>
            </a:br>
            <a:endParaRPr b="0" lang="en-US" sz="3200" spc="-1" strike="noStrike">
              <a:solidFill>
                <a:srgbClr val="000000"/>
              </a:solidFill>
              <a:latin typeface="Calibri"/>
            </a:endParaRPr>
          </a:p>
        </p:txBody>
      </p:sp>
      <p:sp>
        <p:nvSpPr>
          <p:cNvPr id="143" name=""/>
          <p:cNvSpPr txBox="1"/>
          <p:nvPr/>
        </p:nvSpPr>
        <p:spPr>
          <a:xfrm>
            <a:off x="223920" y="1875960"/>
            <a:ext cx="892008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 Convention appliquer et mentionner dans la demande ?</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	</a:t>
            </a:r>
            <a:r>
              <a:rPr b="0" lang="fr-FR" sz="3000" spc="-1" strike="noStrike">
                <a:solidFill>
                  <a:srgbClr val="000000"/>
                </a:solidFill>
                <a:latin typeface="Wingdings"/>
                <a:ea typeface="Wingdings"/>
              </a:rPr>
              <a:t></a:t>
            </a:r>
            <a:r>
              <a:rPr b="0" lang="fr-FR" sz="3000" spc="-1" strike="noStrike">
                <a:solidFill>
                  <a:srgbClr val="000000"/>
                </a:solidFill>
                <a:latin typeface="Calibri"/>
              </a:rPr>
              <a:t> </a:t>
            </a:r>
            <a:r>
              <a:rPr b="0" lang="fr-FR" sz="3000" spc="-1" strike="noStrike">
                <a:solidFill>
                  <a:srgbClr val="000000"/>
                </a:solidFill>
                <a:latin typeface="Calibri"/>
              </a:rPr>
              <a:t>Puis-je appliquer la Convention de Budapest ?</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canaux de transmission spécifique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a-t-il des exigences spécifiques de traduction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exigences de contenu ? (par ex. cause probable aux États-Un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5A6AF-67AD-4C45-84EB-0D62CE19C4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79280" y="232920"/>
            <a:ext cx="885672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Quelles peuvent être les conséquences d’un non-respect des exigences de transmission et de rédaction ?</a:t>
            </a:r>
            <a:endParaRPr b="0" lang="en-US" sz="4000" spc="-1" strike="noStrike">
              <a:solidFill>
                <a:srgbClr val="000000"/>
              </a:solidFill>
              <a:latin typeface="Calibri"/>
            </a:endParaRPr>
          </a:p>
        </p:txBody>
      </p:sp>
      <p:sp>
        <p:nvSpPr>
          <p:cNvPr id="146" name=""/>
          <p:cNvSpPr txBox="1"/>
          <p:nvPr/>
        </p:nvSpPr>
        <p:spPr>
          <a:xfrm>
            <a:off x="379440" y="2106720"/>
            <a:ext cx="8385120" cy="44323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n-exécution de la demand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tard dans l’exécution de la demande et complément d’information requi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rrecevabilité des preuves au procès en cas de violation des règles internes et internationa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Volatilité des preuves électroniques = risque qu’elles disparaissent à tout moment (pas de seconde chance)!</a:t>
            </a:r>
            <a:endParaRPr b="0" lang="en-US" sz="3200" spc="-1" strike="noStrike">
              <a:solidFill>
                <a:srgbClr val="000000"/>
              </a:solidFill>
              <a:latin typeface="Calibri"/>
            </a:endParaRPr>
          </a:p>
        </p:txBody>
      </p:sp>
      <p:sp>
        <p:nvSpPr>
          <p:cNvPr id="147" name="Éclair 3"/>
          <p:cNvSpPr/>
          <p:nvPr/>
        </p:nvSpPr>
        <p:spPr>
          <a:xfrm>
            <a:off x="334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DE508-06F8-4131-AA59-971C63C188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ommair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1</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	</a:t>
            </a:r>
            <a:r>
              <a:rPr b="0" lang="fr-FR" sz="2100" spc="-1" strike="noStrike">
                <a:solidFill>
                  <a:srgbClr val="000000"/>
                </a:solidFill>
                <a:latin typeface="Calibri"/>
              </a:rPr>
              <a:t>Principes généraux de l’entraide judiciair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2</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Préparation d’une demande d’entraide judiciaire</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3</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dac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Quatrième parti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cep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5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sum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53808-297D-46EB-9994-9CCCF255E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CA66D-8079-4265-8C23-3FF2B4FEC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3</a:t>
            </a:r>
            <a:br>
              <a:rPr sz="3200"/>
            </a:br>
            <a:r>
              <a:rPr b="1" lang="fr-FR" sz="3200" spc="-1" strike="noStrike">
                <a:solidFill>
                  <a:srgbClr val="000000"/>
                </a:solidFill>
                <a:latin typeface="Calibri"/>
                <a:ea typeface="ＭＳ Ｐゴシック"/>
              </a:rPr>
              <a:t>Rédaction de la demande d’entraide judiciaire</a:t>
            </a:r>
            <a:endParaRPr b="0" lang="en-US" sz="3200" spc="-1" strike="noStrike">
              <a:solidFill>
                <a:srgbClr val="000000"/>
              </a:solidFill>
              <a:latin typeface="Calibri"/>
            </a:endParaRPr>
          </a:p>
        </p:txBody>
      </p:sp>
      <p:pic>
        <p:nvPicPr>
          <p:cNvPr id="153"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CE9E2-C68C-4B25-8A14-C844B2D188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À quoi devrait ressembler une demande d’entraide judiciaire ?</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56"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anières de présenter une demande d’entraide judiciaire varient selon les pays et les autorités compét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n’y a pas de modèle imposé au niveau international, sauf dans l’Union européenne depuis le 22 mai 20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 initiatives ont été prises au niveau régional en vue de l’utilisation de formulaires types par certains pays ou pour certaines demandes (par ex. formulaires types du CdE ou de l’ONUDC, demandes de données électroniques aux États-Uni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6C6DB-FE5C-4E20-86E7-ACDE5D5BF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Exemples régionaux : </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Union européenn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Depuis le 22 mai 2017, les États de l’UE sont tenus de remplacer les demandes d’entraide judiciaire par un formulaire unique appelé « Décision d’enquête européenne », pour la coopération entre les États membres en matière pénale (sauf pour les équipes communes d’enquê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EADD3-7B0D-4708-B0C5-F48FE8A2E8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cision d’enquête européenne </a:t>
            </a:r>
            <a:br>
              <a:rPr sz="3600"/>
            </a:br>
            <a:r>
              <a:rPr b="1" lang="fr-FR" sz="3600" spc="-1" strike="noStrike">
                <a:solidFill>
                  <a:srgbClr val="000000"/>
                </a:solidFill>
                <a:latin typeface="Calibri"/>
              </a:rPr>
              <a:t>(depuis mai 2017)</a:t>
            </a:r>
            <a:endParaRPr b="0" lang="en-US" sz="3600" spc="-1" strike="noStrike">
              <a:solidFill>
                <a:srgbClr val="000000"/>
              </a:solidFill>
              <a:latin typeface="Calibri"/>
            </a:endParaRPr>
          </a:p>
        </p:txBody>
      </p:sp>
      <p:sp>
        <p:nvSpPr>
          <p:cNvPr id="162" name=""/>
          <p:cNvSpPr txBox="1"/>
          <p:nvPr/>
        </p:nvSpPr>
        <p:spPr>
          <a:xfrm>
            <a:off x="457200" y="1829880"/>
            <a:ext cx="8229600" cy="45262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unique à remplir par les pays de l’UE (à l’exception du Danemark et de l’Irlande, et hors équipes communes d’enquêt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Délais d’exécution spécifiqu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tifs spécifiques de refus d’exécution d’une décision d’enquête européenn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rmes élevées et uniformisées pour garantir les droits des citoye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2F32E-578A-419E-A9A4-838F854E16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rmulaire type de demande d’entraide judiciaire du Conseil de l’Europe </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65" name=""/>
          <p:cNvSpPr txBox="1"/>
          <p:nvPr/>
        </p:nvSpPr>
        <p:spPr>
          <a:xfrm>
            <a:off x="457200" y="1973160"/>
            <a:ext cx="836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type de demande d’entraide judiciaire en matière pénale adopté par le PC-OC à sa 69</a:t>
            </a:r>
            <a:r>
              <a:rPr b="0" lang="fr-FR" sz="3200" spc="-1" strike="noStrike" baseline="30000">
                <a:solidFill>
                  <a:srgbClr val="000000"/>
                </a:solidFill>
                <a:latin typeface="Calibri"/>
              </a:rPr>
              <a:t>e</a:t>
            </a:r>
            <a:r>
              <a:rPr b="0" lang="fr-FR" sz="3200" spc="-1" strike="noStrike">
                <a:solidFill>
                  <a:srgbClr val="000000"/>
                </a:solidFill>
                <a:latin typeface="Calibri"/>
              </a:rPr>
              <a:t> réunio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e document a uniquement vocation à servir de guide et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l peut être adapté à chaque pays et chaqu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CC9D3-5CB4-413E-AD91-94B532AB6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
          <p:cNvSpPr txBox="1"/>
          <p:nvPr/>
        </p:nvSpPr>
        <p:spPr>
          <a:xfrm>
            <a:off x="178920" y="101520"/>
            <a:ext cx="8829720" cy="6756480"/>
          </a:xfrm>
          <a:prstGeom prst="rect">
            <a:avLst/>
          </a:prstGeom>
          <a:noFill/>
          <a:ln w="0">
            <a:noFill/>
          </a:ln>
        </p:spPr>
        <p:txBody>
          <a:bodyPr anchor="t">
            <a:normAutofit fontScale="95000"/>
          </a:bodyPr>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INTITULÉ DE LA DEMAND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océdure n°…….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egré d’urgence/Confidentialité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1. AUTORITÉ REQUÉRANT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utres coordonnées : numéros de téléphone et fax, adresses électroniqu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ngu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2. AUTORITÉ REQUI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3. OBJET ET MOTIF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Type et objet de la demande - Fondement juridique de la demande - Type d’infraction - Descriptif du stade de la procédure pénal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 cas échéant :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Justifier le degré d'urgenc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éciser s’il est nécessaire de notifier la date et le lieu de l’exécution de la demande et si la présence de personnes spécifiques est requise (dans ce cas, préciser leurs coordonné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ndiquer si des agents des services répressifs ont été impliqués auparavant (et donner les coordonnées pour les contacter)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Communiquer des informations relatives aux communications ou MLA antérieures (y compris les numéros de référenc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287EA-967E-424E-908E-DA8A999D9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
          <p:cNvSpPr txBox="1"/>
          <p:nvPr/>
        </p:nvSpPr>
        <p:spPr>
          <a:xfrm>
            <a:off x="457200" y="282240"/>
            <a:ext cx="8229600" cy="626436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4. PERSONNES CONCERNÉES (principalement les suspec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om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ex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ationalité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osition occupée dans la procédure judiciair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information en question est applicable et disponible : - Numéro de carte d’identité ou de passeport - Alias - Date et lieu de naissanc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formations sur une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Nom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orsque l’information en question est applicable et disponib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uméro d’immatriculation et adresse du sièg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s des différents établissemen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ordonnées de la personne habilitée à agir au nom de la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5A98F-AB07-4522-A64C-BBCBA8F8F4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
          <p:cNvSpPr txBox="1"/>
          <p:nvPr/>
        </p:nvSpPr>
        <p:spPr>
          <a:xfrm>
            <a:off x="456840" y="259920"/>
            <a:ext cx="8325000" cy="6264360"/>
          </a:xfrm>
          <a:prstGeom prst="rect">
            <a:avLst/>
          </a:prstGeom>
          <a:noFill/>
          <a:ln w="0">
            <a:noFill/>
          </a:ln>
        </p:spPr>
        <p:txBody>
          <a:bodyPr anchor="t">
            <a:normAutofit fontScale="98000"/>
          </a:bodyPr>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000000"/>
                </a:solidFill>
                <a:latin typeface="Calibri"/>
              </a:rPr>
              <a:t>MESURES REQUISES </a:t>
            </a:r>
            <a:endParaRPr b="0" lang="en-US" sz="1800" spc="-1" strike="noStrike">
              <a:solidFill>
                <a:srgbClr val="000000"/>
              </a:solidFill>
              <a:latin typeface="Calibri"/>
            </a:endParaRPr>
          </a:p>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Commission rogatoire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u="sng">
                <a:solidFill>
                  <a:srgbClr val="000000"/>
                </a:solidFill>
                <a:uFillTx/>
                <a:latin typeface="Calibri"/>
              </a:rPr>
              <a:t>i. Faits et informations juridiques relatifs à l’infraction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Exposer sommairement les faits pertinents, y compris le moment, le lieu et la manière de commission de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Préciser la qualification juridique de l’infraction et les dispositions pertinentes, y compris l’éventail des sanctions applicabl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Faire la description précise des liens entre l’infraction et la personne ainsi qu’entre l’infraction et les éléments de preuve ou mesures ou avoirs d’origine criminelle recherchés auprès de l’État requis.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Dommages causés par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Informations sur les victim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 besoin, dispositions relatives au délai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tres renseignements susceptibles d’aider l’autorité requise pour exécuter la deman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497FB-31F4-4580-98D5-1AA0EA703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
          <p:cNvSpPr txBox="1"/>
          <p:nvPr/>
        </p:nvSpPr>
        <p:spPr>
          <a:xfrm>
            <a:off x="536400" y="391680"/>
            <a:ext cx="8229600" cy="646596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ii. Types de mesures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Audition ou interrogation de témoins, experts, suspects, accusés et autres personnes : modalités spécifiqu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1. Audition ou interrogatoire mené par l’autorité requis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utorité compétente en charge de procéder à l’audition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statut de la personne à entendre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informations sur les droits et les obligations (par exemple, audition sous serment ou sous déclaration solennelle ou droit d’être entendu par un avocat ou de bénéficier d’un interprète) à notifier à la personne à entendre</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préciser s’il est nécessaire d’assurer une protection pour la personne à entendre (préciser les éventuels accords existants entre les deux Parties concerné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1A907-42EB-43CA-9F58-F24B57E1D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98" name=""/>
          <p:cNvSpPr txBox="1"/>
          <p:nvPr/>
        </p:nvSpPr>
        <p:spPr>
          <a:xfrm>
            <a:off x="456840" y="1417680"/>
            <a:ext cx="8435880" cy="518616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À l’issue de la présente session, les participants :</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ront revu ou amélioré leurs connaissances sur les principes généraux de l’entraide judiciair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comment rédiger une demande d’entraide judiciaire pour accroître les chances qu’elle soit exécuté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adopter une approche tournée vers l’efficacité lorsqu’ils recevront une demande d’entraide judiciaire d’un pays étr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1212E-325D-4918-8A98-1611E1B410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
          <p:cNvSpPr txBox="1"/>
          <p:nvPr/>
        </p:nvSpPr>
        <p:spPr>
          <a:xfrm>
            <a:off x="457200" y="392040"/>
            <a:ext cx="8578800" cy="632952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2. Audition ou interrogatoire par vidéo conférence  </a:t>
            </a: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raisons pour lesquelles il n’est pas souhaitable ou pas possible que la personne soit physiquement présent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nom de l’autorité judiciaire menant l’audition ou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onner des informations détaillées sur les modalités pratiques (données techniques sur les moyens disponibles, conditions de paiement des frais, coordonnées de la personne à contacter pour toute question technique, etc.)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 notification des droits et obligations de la personne à entendre ou interrogé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tes et heures proposées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si la présence d’un interprète est requise</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mesures de protection de la personne à entendre ou à interroger</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ntionner si le suspect ou la personne poursuivie pénalement consent à l’audition ou à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03A4E-96AA-4356-A49A-6F58974AD3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
          <p:cNvSpPr txBox="1"/>
          <p:nvPr/>
        </p:nvSpPr>
        <p:spPr>
          <a:xfrm>
            <a:off x="457200" y="450360"/>
            <a:ext cx="8229600" cy="5675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3. Audition ou interrogation par conférence téléphoniqu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le nom de l’autorité judiciaire et des personnes qui procéderont à l’audition ou à l’interrog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si le témoin ou l’expert est disposé à prendre part à l’audition ou l’interrogation par conférence téléphoniq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ABA1F-ABBD-42C6-B5DE-E799849C8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
          <p:cNvSpPr txBox="1"/>
          <p:nvPr/>
        </p:nvSpPr>
        <p:spPr>
          <a:xfrm>
            <a:off x="250920" y="414360"/>
            <a:ext cx="8642160" cy="630720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b. Obtention des éléments de preuv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b1. Mesures général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dentifier les éléments demandé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erquisition et saisi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perquisition : fouilles corporelles ou visites domiciliaires ou perquisition d’autres locaux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ns la mesure du possible, identifier précisément la personne à fouiller ou les locaux à perquisitionner (emplacement, propriétaire légal, comptes bancaires)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dentifier les documents, enregistrements, données, etc.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les liens entre la personne, la procédure engagée à l’étranger et les mesures demandées, par exemple le lieu à perquisitionner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Joindre la copie du mandat ou de la décision émis par l’autorité requéra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AA16D-D277-4619-B9AD-CD764043B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
          <p:cNvSpPr txBox="1"/>
          <p:nvPr/>
        </p:nvSpPr>
        <p:spPr>
          <a:xfrm>
            <a:off x="0" y="282600"/>
            <a:ext cx="8964720" cy="643896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b2. Mesures spécifiques :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1. Données électronique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nservation des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informations appropriées permettant d’identifier les données à conserver ainsi que leur emplacement (responsable qui garde les données informatiques stockées ; emplacement du système informatique)</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les données sont susceptibles de perte ou de modifica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qu’une MLA suivra, aux fins d'obtenir les données conservées.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 </a:t>
            </a:r>
            <a:r>
              <a:rPr b="1" lang="fr-FR" sz="1800" spc="-1" strike="noStrike">
                <a:solidFill>
                  <a:srgbClr val="000000"/>
                </a:solidFill>
                <a:latin typeface="Calibri"/>
              </a:rPr>
              <a:t>* Perquisition ou accès par un moyen similaire, saisie ou obtention par un moyen similaire, ou divulgation de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objet spécifique de la demande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entionner les informations appropriées permettant d’identifier les données à saisir, obtenir ou divulguer, y compris, s’ils sont connus, l’emplacement physique des données et le responsable des données (gardien des données informatiques stockées), et les données techniques nécessaires à l’exécution d’une telle ac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ans toute la mesure du possible, identifier la personne, ou les locaux à perquisitionner et donner les détails sur les liens entre la personne, les données et le lieu à perquisitionner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 point de contac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 cas échéan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 Préciser les informations pour une demande de conservation des donné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BA730-14F2-4467-BF70-C5CEED307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
          <p:cNvSpPr txBox="1"/>
          <p:nvPr/>
        </p:nvSpPr>
        <p:spPr>
          <a:xfrm>
            <a:off x="142920" y="169920"/>
            <a:ext cx="8858160" cy="668808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2. Saisie et/ou confiscation d'avoirs d'origine criminel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des avoirs sont sis sur le territoire de l’Éta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procédures que l’État requérant souhaite suiv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que l’action recherchée ou toute autre mesure peuvent être prises sur le territoire de l’État requérant en vertu de sa législation nationa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ièces jointes : une copie certifiée conforme de la décision de saisie ou de confiscation et de l’exposé des motifs à l'origine de la décision, et, s’il y a lieu, une attestation selon laquelle la décision de confiscation est exécutoi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informations relatives aux comptes bancaires sis dans l’État requi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a confiscation consiste en l’obligation de payer une somme d’argent correspondant à la valeur des avoirs, donner des informations sur la valeur maximale des avoirs à saisi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Joindre les documents attestant que des tiers ont eu la possibilité de faire valoir leurs droits - Indiquer les informations relatives aux demandes similaires adressées à d’autres Éta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Indiquer les informations relatives aux demandes précédentes d’obtention d’éléments de preuve ou de blocage d’avoirs ou de saisie d’objets liés à la présente demande (y compris le nom du défendeur ou de la personne condamnée) – Restitution : indiquer les objets/éléments obtenus par des moyens illicites devant être mis à la disposition de la Partie requérante en vue de leur restitution à leur propriétaire légi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E22D4-9881-406F-9E2A-6525F8128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txBox="1"/>
          <p:nvPr/>
        </p:nvSpPr>
        <p:spPr>
          <a:xfrm>
            <a:off x="457200" y="247680"/>
            <a:ext cx="8229600" cy="66103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c. Obtention d'informations auprès des institutions financièr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s renseignements sur l’institution financière (nom de la banque ou de l’institution financière, adresse de la succursale où le compte est détenu)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éciser le numéro de compt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informations sont requises - Préciser pour quelles raisons il est estimé que le compte est détenu dans l’État requ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d. Obtention de données téléphoniques/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1. Informations sur les données téléphoniqu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 numéro de téléphon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sur le titulaire de la ligne téléphoniqu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données téléphoniques sont requise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2. Informations sur les données 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dresse IP dont on cherche à identifier l’utilisateur (lorsque l’adresse IP est connue),   l’horodatage (jour et heure de l'utilisation) et le nom du fournisseur d’accès Internet (FAI) - Indiquer le nom et l’adresse du suspect (lorsqu’il est connu, mais que l’adresse IP concrète de l’utilisateur n’est pas connue) et, s’ils sont connus, la date et l’heure d’utilisation et le nom du FAI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e cas échéant, préciser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S’agissant des données étendues relatives au trafic, préciser la période visée d’utilisation de l’adresse I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10F01-90DC-4125-9AC1-C6EA66B5FB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
          <p:cNvSpPr txBox="1"/>
          <p:nvPr/>
        </p:nvSpPr>
        <p:spPr>
          <a:xfrm>
            <a:off x="282600" y="192240"/>
            <a:ext cx="8578800" cy="5798880"/>
          </a:xfrm>
          <a:prstGeom prst="rect">
            <a:avLst/>
          </a:prstGeom>
          <a:noFill/>
          <a:ln w="0">
            <a:noFill/>
          </a:ln>
        </p:spPr>
        <p:txBody>
          <a:bodyPr anchor="t">
            <a:normAutofit fontScale="89000"/>
          </a:bodyPr>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e. Recours à une expertis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ndiquer l’expertise recherché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préciser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Liste des questions auxquelles l’expert devra répondr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f. Interception de communication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Donner les informations pertinentes relatives au statut de la personne et au lien entre la mesure et l’enquête en cours en rapport avec les normes juridiques de l’État requéran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 Informations relatives au délai/période concerné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g. Techniques spéciales d'enquête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bservations transfrontières : voir Annexe 1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vraisons surveillées : voir Annexe 2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nquêtes discrètes : voir Annexe 3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quipes communes d’enquête : voir Annexe 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FDBBB-FB90-47B0-8A51-5B0DF5CD3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
          <p:cNvSpPr txBox="1"/>
          <p:nvPr/>
        </p:nvSpPr>
        <p:spPr>
          <a:xfrm>
            <a:off x="214200" y="181080"/>
            <a:ext cx="8669520" cy="641664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ii. Modalités spécifiques d’exécution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formalités et procédures nécessaires en vertu du droit de l’État requérant et recommandation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 la présence de personnes habilitées et d’autres personnes concernées de l’État requérant est requise, avec leurs nom et fonc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est demandé que l’audition ou l’interrogation soient menées par des OPJ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a période d’exécu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faut une coordination entre les différentes autorités compétentes (contac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coûts  (voir explications dans les lignes directrice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a langue à employer, - si la confidentialité est requise concernant la requête et son contenu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règles visant à assurer la protection des donné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v. Modalités de transmission des éléments de preuv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les originaux son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moyens de transmission préférés à utiliser par l’État requis (voie postale, agent de liaison, représentant diplomatique, etc.)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des exemplaires préliminaires sont requ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3BB5C-E708-49B5-8621-B6FE9880C4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
          <p:cNvSpPr txBox="1"/>
          <p:nvPr/>
        </p:nvSpPr>
        <p:spPr>
          <a:xfrm>
            <a:off x="324000" y="246240"/>
            <a:ext cx="8640720" cy="6611760"/>
          </a:xfrm>
          <a:prstGeom prst="rect">
            <a:avLst/>
          </a:prstGeom>
          <a:noFill/>
          <a:ln w="0">
            <a:noFill/>
          </a:ln>
        </p:spPr>
        <p:txBody>
          <a:bodyPr anchor="t">
            <a:normAutofit fontScale="97000"/>
          </a:bodyPr>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B. Notification d’actes judiciaires (remise d’actes ou de décisions ; citations à comparaître en qualité de témoin ou expert ou en tant que mis en cause)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nformations communes à toutes les demandes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notification requi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pécification des documents à notifi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relatives à la protection des témoin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oblèmes de sécurité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de confirmation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dalités à respecter en cas d’échec de la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pprobation de la prise en charge des coût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i. Informations requises pour les citations à comparaître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 de comparu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Heure et lieu de l’audition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tres dates de comparution, heure et lieu de l’audition possible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ntant approximatif des indemnités à verser, ainsi que des frais de voyage et de séjour à rembours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en matière de visa ou d’entrée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F6A0B-65C8-4039-8F11-AB4D677DA5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
          <p:cNvSpPr txBox="1"/>
          <p:nvPr/>
        </p:nvSpPr>
        <p:spPr>
          <a:xfrm>
            <a:off x="326880" y="155160"/>
            <a:ext cx="8506080" cy="6380280"/>
          </a:xfrm>
          <a:prstGeom prst="rect">
            <a:avLst/>
          </a:prstGeom>
          <a:noFill/>
          <a:ln w="0">
            <a:noFill/>
          </a:ln>
        </p:spPr>
        <p:txBody>
          <a:bodyPr anchor="t">
            <a:normAutofit fontScale="98000"/>
          </a:bodyPr>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 Transfèrement temporaire d’une personne détenu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transfèrement : vers l’État requérant ou l’Éta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s proposées de transfèrement et de retour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ieu du transfèremen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Objet du transfèrement (par exemple, témoin ou confrontation)</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éclaration de consentement de la personne concerné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firmation que la personne concernée restera en détention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ention d'un éventuel transi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tact(s) responsable(s) du transfèremen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 Extraits de casiers judiciaires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dentification de la personne dont le casier judiciaire est demandé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préciser que la demande intervient dans un contexte non pénaI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6. </a:t>
            </a:r>
            <a:r>
              <a:rPr b="1" lang="fr-FR" sz="1600" spc="-1" strike="noStrike">
                <a:solidFill>
                  <a:srgbClr val="000000"/>
                </a:solidFill>
                <a:latin typeface="Calibri"/>
              </a:rPr>
              <a:t>INFORMATIONS FINAL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oute autre information jugée importante par l’État requérant - Personne de contact (nom, coordonnées, langue) - Liste des pièces joint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ceau, nom, fonction du responsable, date et signatu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98134-3D8E-42A5-A132-3FE5EA7988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1</a:t>
            </a:r>
            <a:br>
              <a:rPr sz="3200"/>
            </a:br>
            <a:r>
              <a:rPr b="1" lang="fr-FR" sz="3200" spc="-1" strike="noStrike">
                <a:solidFill>
                  <a:srgbClr val="000000"/>
                </a:solidFill>
                <a:latin typeface="Calibri"/>
                <a:ea typeface="ＭＳ Ｐゴシック"/>
              </a:rPr>
              <a:t>Principes généraux de l’entraide judiciaire</a:t>
            </a:r>
            <a:endParaRPr b="0" lang="en-US" sz="32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8CE13-86BB-4307-AB40-1946D0624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Exigences courantes</a:t>
            </a:r>
            <a:br>
              <a:rPr sz="4000"/>
            </a:br>
            <a:r>
              <a:rPr b="1" lang="fr-FR" sz="4000" spc="-1" strike="noStrike">
                <a:solidFill>
                  <a:srgbClr val="000000"/>
                </a:solidFill>
                <a:latin typeface="Calibri"/>
              </a:rPr>
              <a:t>(avec ou sans traité)</a:t>
            </a:r>
            <a:endParaRPr b="0" lang="en-US" sz="4000" spc="-1" strike="noStrike">
              <a:solidFill>
                <a:srgbClr val="000000"/>
              </a:solidFill>
              <a:latin typeface="Calibri"/>
            </a:endParaRPr>
          </a:p>
        </p:txBody>
      </p:sp>
      <p:sp>
        <p:nvSpPr>
          <p:cNvPr id="196"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om, fonction, sceau et signature de l’autorité requér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Fondement juridique de la demande (traité/convention internationaux, ou réciprocité)</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adre juridique dans l’État requérant (nom des suspects, qualification de l’infraction et dispositions pertinentes, y compris éventail des sanctions applicab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ésumé des fai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sures spécifiques demand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98DAB-8F1C-435F-8E38-AC703F2D13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ndement juridique de la demande d’entraide judiciaire</a:t>
            </a:r>
            <a:endParaRPr b="0" lang="en-US" sz="4400" spc="-1" strike="noStrike">
              <a:solidFill>
                <a:srgbClr val="000000"/>
              </a:solidFill>
              <a:latin typeface="Calibri"/>
            </a:endParaRPr>
          </a:p>
        </p:txBody>
      </p:sp>
      <p:sp>
        <p:nvSpPr>
          <p:cNvPr id="199" name=""/>
          <p:cNvSpPr txBox="1"/>
          <p:nvPr/>
        </p:nvSpPr>
        <p:spPr>
          <a:xfrm>
            <a:off x="457200" y="1471320"/>
            <a:ext cx="8229600" cy="4957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l’instar d’autres traités et conventions bilatéraux ou multilatéraux,</a:t>
            </a:r>
            <a:r>
              <a:rPr b="1" lang="fr-FR" sz="2800" spc="-1" strike="noStrike">
                <a:solidFill>
                  <a:srgbClr val="000000"/>
                </a:solidFill>
                <a:latin typeface="Calibri"/>
              </a:rPr>
              <a:t> </a:t>
            </a:r>
            <a:r>
              <a:rPr b="1" lang="fr-FR" sz="2800" spc="-1" strike="noStrike" u="sng">
                <a:solidFill>
                  <a:srgbClr val="000000"/>
                </a:solidFill>
                <a:uFillTx/>
                <a:latin typeface="Calibri"/>
              </a:rPr>
              <a:t>la Convention de Budapest</a:t>
            </a:r>
            <a:r>
              <a:rPr b="1" lang="fr-FR" sz="2800" spc="-1" strike="noStrike">
                <a:solidFill>
                  <a:srgbClr val="000000"/>
                </a:solidFill>
                <a:latin typeface="Calibri"/>
              </a:rPr>
              <a:t> peut servir de fondement juridique à une demande d’entraide judiciaire en matière de cybercriminalité, ainsi que pour la collecte de preuves dans toute affaire pénale</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de la Convention de Budapest :</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Calibri"/>
              </a:rPr>
              <a:t>Les Parties s’accordent l’entraide la plus large possible aux fins d’investigations ou de procédures concernant les infractions pénales liées à des systèmes et des données informatiques ou afin de recueillir les preuves sous forme électronique d’une infraction pénal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6269A-F3EC-4453-9123-887F2BCE24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a communication est aussi importante que la demande elle-même : </a:t>
            </a:r>
            <a:br>
              <a:rPr sz="4400"/>
            </a:br>
            <a:endParaRPr b="0" lang="en-US" sz="4400" spc="-1" strike="noStrike">
              <a:solidFill>
                <a:srgbClr val="000000"/>
              </a:solidFill>
              <a:latin typeface="Calibri"/>
            </a:endParaRPr>
          </a:p>
        </p:txBody>
      </p:sp>
      <p:sp>
        <p:nvSpPr>
          <p:cNvPr id="202"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ention </a:t>
            </a:r>
            <a:r>
              <a:rPr b="0" lang="fr-FR" sz="2400" spc="-1" strike="noStrike" u="sng">
                <a:solidFill>
                  <a:srgbClr val="000000"/>
                </a:solidFill>
                <a:uFillTx/>
                <a:latin typeface="Calibri"/>
              </a:rPr>
              <a:t>claire</a:t>
            </a:r>
            <a:r>
              <a:rPr b="0" lang="fr-FR" sz="2400" spc="-1" strike="noStrike">
                <a:solidFill>
                  <a:srgbClr val="000000"/>
                </a:solidFill>
                <a:latin typeface="Calibri"/>
              </a:rPr>
              <a:t> du nom et de la fonction (signature et sceau ne suffisent p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ordonnées (adresse de courrier électronique, numéro de téléphone, fuseau horaire,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es parlée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Si l’autorité exécutante a une question ou un problème et ne comprend pas vos attentes, vous pourrez donner une réponse claire et rapide, et vous éviterez d’avoir à rédiger une toute nouvelle demande d’entraide judici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53794-6504-4F69-833C-FBDB7EB91E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 des faits</a:t>
            </a:r>
            <a:endParaRPr b="0" lang="en-US" sz="4400" spc="-1" strike="noStrike">
              <a:solidFill>
                <a:srgbClr val="000000"/>
              </a:solidFill>
              <a:latin typeface="Calibri"/>
            </a:endParaRPr>
          </a:p>
        </p:txBody>
      </p:sp>
      <p:sp>
        <p:nvSpPr>
          <p:cNvPr id="205" name=""/>
          <p:cNvSpPr txBox="1"/>
          <p:nvPr/>
        </p:nvSpPr>
        <p:spPr>
          <a:xfrm>
            <a:off x="271440" y="1252440"/>
            <a:ext cx="8702640" cy="5408640"/>
          </a:xfrm>
          <a:prstGeom prst="rect">
            <a:avLst/>
          </a:prstGeom>
          <a:noFill/>
          <a:ln w="0">
            <a:noFill/>
          </a:ln>
        </p:spPr>
        <p:txBody>
          <a:bodyPr anchor="t">
            <a:normAutofit/>
          </a:bodyPr>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orsque vous expliquez les faits et les investigations nécessaires, gardez toujours à l’esprit que l’autorité requise ne connaît pas le dossier dont vous êtes chargé</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mployez jamais de tournures trop affirmatives (par ex.</a:t>
            </a:r>
            <a:r>
              <a:rPr b="0" i="1" lang="fr-FR" sz="2000" spc="-1" strike="noStrike">
                <a:solidFill>
                  <a:srgbClr val="000000"/>
                </a:solidFill>
                <a:latin typeface="Calibri"/>
              </a:rPr>
              <a:t> « investigations en vue de l’identification de M. X » : expliquez).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Certains États exécuteront très facilement toutes vos demand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utres procèderont à un contrôle de double incrimination pour certains types d’enquêtes (ou si aucun traité ou aucune convention ne s’appliquent)</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ertains États demanderont des éléments complémentaires pour prendre des mesures coercitives (par ex. cause probable aux États-Unis, certificat à Hong Kong)</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41C24-2878-4047-A236-10CE1D4204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ertains États demandent des informations spécifiques sur le contenu de l’affaire :</a:t>
            </a:r>
            <a:endParaRPr b="0" lang="en-US" sz="3600" spc="-1" strike="noStrike">
              <a:solidFill>
                <a:srgbClr val="000000"/>
              </a:solidFill>
              <a:latin typeface="Calibri"/>
            </a:endParaRPr>
          </a:p>
        </p:txBody>
      </p:sp>
      <p:sp>
        <p:nvSpPr>
          <p:cNvPr id="208" name=""/>
          <p:cNvSpPr txBox="1"/>
          <p:nvPr/>
        </p:nvSpPr>
        <p:spPr>
          <a:xfrm>
            <a:off x="271440" y="1449360"/>
            <a:ext cx="8702640" cy="5089680"/>
          </a:xfrm>
          <a:prstGeom prst="rect">
            <a:avLst/>
          </a:prstGeom>
          <a:noFill/>
          <a:ln w="0">
            <a:noFill/>
          </a:ln>
        </p:spPr>
        <p:txBody>
          <a:bodyPr anchor="t">
            <a:normAutofit fontScale="98000"/>
          </a:bodyPr>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emple de la norme de la « cause probable » aux États-Unis :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Existence d’un </a:t>
            </a:r>
            <a:r>
              <a:rPr b="1" i="1" lang="fr-FR" sz="2000" spc="-1" strike="noStrike">
                <a:solidFill>
                  <a:srgbClr val="000000"/>
                </a:solidFill>
                <a:latin typeface="Trebuchet MS"/>
              </a:rPr>
              <a:t>motif raisonnable </a:t>
            </a:r>
            <a:r>
              <a:rPr b="0" i="1" lang="fr-FR" sz="2000" spc="-1" strike="noStrike">
                <a:solidFill>
                  <a:srgbClr val="000000"/>
                </a:solidFill>
                <a:latin typeface="Trebuchet MS"/>
              </a:rPr>
              <a:t>de soupçonner qu’</a:t>
            </a:r>
            <a:r>
              <a:rPr b="1" i="1" lang="fr-FR" sz="2000" spc="-1" strike="noStrike" u="sng">
                <a:solidFill>
                  <a:srgbClr val="000000"/>
                </a:solidFill>
                <a:uFillTx/>
                <a:latin typeface="Trebuchet MS"/>
              </a:rPr>
              <a:t>une personne a commis ou commet une infraction ou qu’un lieu contient des éléments spécifiques liés à une infraction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La demande d’entraide judiciaire </a:t>
            </a:r>
            <a:r>
              <a:rPr b="1" lang="fr-FR" sz="2000" spc="-1" strike="noStrike" u="sng">
                <a:solidFill>
                  <a:srgbClr val="000000"/>
                </a:solidFill>
                <a:uFillTx/>
                <a:latin typeface="Calibri"/>
              </a:rPr>
              <a:t>doit </a:t>
            </a:r>
            <a:r>
              <a:rPr b="1" lang="fr-FR" sz="2000" spc="-1" strike="noStrike">
                <a:solidFill>
                  <a:srgbClr val="000000"/>
                </a:solidFill>
                <a:latin typeface="Calibri"/>
              </a:rPr>
              <a:t>donner les informations suivantes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données à saisir</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elles sont liées à l’infraction pénale faisant l’objet de l’enquête (lien avec l’auteur présumé et avec l’infraction)</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il est probable que les données se trouvent là où la perquisition sera effectuée (ne pas oublier de mentionner toute demande de conservation effectuée précédemment en application de la Convention de Budapest)</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6543E-79C5-49DC-90F5-DD6BF42B9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211" name=""/>
          <p:cNvGraphicFramePr/>
          <p:nvPr/>
        </p:nvGraphicFramePr>
        <p:xfrm>
          <a:off x="611280" y="1628640"/>
          <a:ext cx="8067600" cy="4248360"/>
        </p:xfrm>
        <a:graphic>
          <a:graphicData uri="http://schemas.openxmlformats.org/drawingml/2006/table">
            <a:tbl>
              <a:tblPr/>
              <a:tblGrid>
                <a:gridCol w="4035240"/>
                <a:gridCol w="4032360"/>
              </a:tblGrid>
              <a:tr h="686880">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TYPE DE DONNÉES REQU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NORME JURIDIQUE APPLICABLE AUX ÉTATS U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57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e signata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relation » entre les preuves recherchées et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533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a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entre «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cause</a:t>
                      </a: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a:t>
                      </a:r>
                      <a:r>
                        <a:rPr b="0" lang="fr-FR" sz="1800" spc="-1" strike="noStrike">
                          <a:solidFill>
                            <a:srgbClr val="000000"/>
                          </a:solidFill>
                          <a:latin typeface="Book Antiqua"/>
                          <a:ea typeface="MS Gothic"/>
                        </a:rPr>
                        <a:t> » : les données doivent présenter un intérêt et être juridiquement significatives pour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7220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Conten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cause probabl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212" name="ZoneTexte 1"/>
          <p:cNvSpPr/>
          <p:nvPr/>
        </p:nvSpPr>
        <p:spPr>
          <a:xfrm>
            <a:off x="998640" y="244440"/>
            <a:ext cx="7146720" cy="95400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NORMES JURIDIQUES APPLICABLES AUX ÉTATS-UNIS À RESPECTER DANS LE RÉSUMÉ DES FAIT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13450-6704-4EBD-9A0C-6801DF652D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sures demandées</a:t>
            </a:r>
            <a:endParaRPr b="0" lang="en-US" sz="4400" spc="-1" strike="noStrike">
              <a:solidFill>
                <a:srgbClr val="000000"/>
              </a:solidFill>
              <a:latin typeface="Calibri"/>
            </a:endParaRPr>
          </a:p>
        </p:txBody>
      </p:sp>
      <p:sp>
        <p:nvSpPr>
          <p:cNvPr id="215" name=""/>
          <p:cNvSpPr txBox="1"/>
          <p:nvPr/>
        </p:nvSpPr>
        <p:spPr>
          <a:xfrm>
            <a:off x="140760" y="898560"/>
            <a:ext cx="8842680" cy="7138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emandez toutes les mesures qui peuvent être ordonnées dans votre système juridique et qui semblent utiles pour le dossier pénal dont vous êtes chargé</a:t>
            </a: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N’oubliez pas de mentionner l’exigence de confidentialité si nécessaire : ce n’est PAS un principe dans tous les États </a:t>
            </a:r>
            <a:r>
              <a:rPr b="0" lang="fr-FR" sz="2000" spc="-1" strike="noStrike">
                <a:solidFill>
                  <a:srgbClr val="000000"/>
                </a:solidFill>
                <a:latin typeface="Calibri"/>
              </a:rPr>
              <a:t>(</a:t>
            </a:r>
            <a:r>
              <a:rPr b="0" i="1" lang="fr-FR" sz="1800" spc="-1" strike="noStrike">
                <a:solidFill>
                  <a:srgbClr val="000000"/>
                </a:solidFill>
                <a:latin typeface="Calibri"/>
              </a:rPr>
              <a:t>par ex. États Unis) – NB : ART. 28 de la Convention de Budapest</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urgence </a:t>
            </a:r>
            <a:r>
              <a:rPr b="0" i="1" lang="fr-FR" sz="1800" spc="-1" strike="noStrike">
                <a:solidFill>
                  <a:srgbClr val="000000"/>
                </a:solidFill>
                <a:latin typeface="Calibri"/>
              </a:rPr>
              <a:t>(par ex. : détention provisoire, détention, délais spécifiques, etc.)</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oyez le plus précis possible</a:t>
            </a:r>
            <a:endParaRPr b="0" lang="en-US" sz="24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par ex. :  préciser le lieu à perquisitionner, les données recherchées, indiquez les dates et heures correspondant à une adresse IP à identifier (horodatage)</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procédure particulière </a:t>
            </a:r>
            <a:r>
              <a:rPr b="0" lang="fr-FR" sz="2400" spc="-1" strike="noStrike">
                <a:solidFill>
                  <a:srgbClr val="000000"/>
                </a:solidFill>
                <a:latin typeface="Calibri"/>
              </a:rPr>
              <a:t>à mettre en œuvre pour assurer la régularité de la mesure demandée ; dans le cas contraire, l’État requis exécutera la demande d’entraide judiciaire conformément à son droit interne </a:t>
            </a:r>
            <a:endParaRPr b="0" lang="en-US" sz="2400" spc="-1" strike="noStrike">
              <a:solidFill>
                <a:srgbClr val="000000"/>
              </a:solidFill>
              <a:latin typeface="Calibri"/>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a:t>
            </a:r>
            <a:r>
              <a:rPr b="0" i="1" lang="fr-FR" sz="1800" spc="-1" strike="noStrike">
                <a:solidFill>
                  <a:srgbClr val="000000"/>
                </a:solidFill>
                <a:latin typeface="Calibri"/>
              </a:rPr>
              <a:t>par ex. : serment spécifique pour la victime, type de copie et de protection nécessaires pour les données ou dispositifs électroniques</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A2548-11A3-4E6B-BA5F-C96FF8D7DF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122400" y="136080"/>
            <a:ext cx="8842320" cy="825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ièces à joindre à la demande d’entraide judiciaire:</a:t>
            </a:r>
            <a:endParaRPr b="0" lang="en-US" sz="3600" spc="-1" strike="noStrike">
              <a:solidFill>
                <a:srgbClr val="000000"/>
              </a:solidFill>
              <a:latin typeface="Calibri"/>
            </a:endParaRPr>
          </a:p>
        </p:txBody>
      </p:sp>
      <p:sp>
        <p:nvSpPr>
          <p:cNvPr id="218" name=""/>
          <p:cNvSpPr txBox="1"/>
          <p:nvPr/>
        </p:nvSpPr>
        <p:spPr>
          <a:xfrm>
            <a:off x="122400" y="1125000"/>
            <a:ext cx="8842320" cy="5596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DE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requis par la convention ou le traité applicables (y compris en général : identité et fonction de l’autorité requérante, résumé des faits, qualification juridique, dispositions pertinentes, y compris éventail de sanctions applicables), </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Les conventions ou traités exigent parfois une liste de questions pour les entretien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ductions si nécessaire (y compris des documents et dispositions en annexe)</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POU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pouvant aider l’autorité requise à comprendre ce qui est recherché (par ex. copies de faux ordres d’opérations bancaires, entretiens, courriers électroniques suspects, etc.)</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Ordonnance de communication ou mandat de perquisition nationaux s’il y a lieu (pas toujours requis)</a:t>
            </a:r>
            <a:endParaRPr b="0" lang="en-US" sz="20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ispositions de droit interne relatives à certains pouvoirs spécifiques </a:t>
            </a:r>
            <a:r>
              <a:rPr b="0" i="1" lang="fr-FR" sz="1800" spc="-1" strike="noStrike">
                <a:solidFill>
                  <a:srgbClr val="000000"/>
                </a:solidFill>
                <a:latin typeface="Calibri"/>
              </a:rPr>
              <a:t>(par ex. fonction de juge d'instruction qui n’est pas toujours bien connue dans certains pays)</a:t>
            </a:r>
            <a:endParaRPr b="0" lang="en-US" sz="1800" spc="-1" strike="noStrike">
              <a:solidFill>
                <a:srgbClr val="000000"/>
              </a:solidFill>
              <a:latin typeface="Calibri"/>
            </a:endParaRPr>
          </a:p>
          <a:p>
            <a:pPr lvl="1" marL="727920" indent="-28008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144A2-E491-49B9-9456-104332F97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oyens rapides de transmission d’une demande d’entraide judiciaire :</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ême si l’original de la demande reste nécessaire, la plupart des conventions ou traités prévoient une procédure spécifique de transmission en cas d’urgence.</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ne bonne pratique courante, notamment pour la collecte de preuves électroniques, consiste en l’envoi préalable d’une copie de la demande par courrier électronique, directement entre autorités judiciaires ou autorités centrales compétent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de la Convention de Budap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DAF26-AE7C-4DD6-8600-7F63D6B993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de la Convention de Budapest</a:t>
            </a:r>
            <a:endParaRPr b="0" lang="en-US" sz="4400" spc="-1" strike="noStrike">
              <a:solidFill>
                <a:srgbClr val="000000"/>
              </a:solidFill>
              <a:latin typeface="Calibri"/>
            </a:endParaRPr>
          </a:p>
        </p:txBody>
      </p:sp>
      <p:sp>
        <p:nvSpPr>
          <p:cNvPr id="224"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Chaque Partie peut, en cas d’urgence, formuler une demande d’entraide ou les communications s’y rapportant par des moyens rapides de communication, tels que la télécopie ou le courrier électronique, pour autant que ces moyens offrent des conditions suffisantes de sécurité et d’authentification (y compris, si nécessaire, le cryptage), avec confirmation officielle ultérieure si l’État requis l’exige. L’État requis accepte la demande et y répond par n’importe lequel de ces moyens rapides de commun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09444-08BE-401F-935E-8464E3730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mment définir l’entraide judiciaire internationale ?</a:t>
            </a:r>
            <a:endParaRPr b="0" lang="en-US" sz="4400" spc="-1" strike="noStrike">
              <a:solidFill>
                <a:srgbClr val="000000"/>
              </a:solidFill>
              <a:latin typeface="Calibri"/>
            </a:endParaRPr>
          </a:p>
        </p:txBody>
      </p:sp>
      <p:sp>
        <p:nvSpPr>
          <p:cNvPr id="104"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s de décision internationale uniq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épend du cadre juridique propre à chaque p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distinguer de la coopération policière, mais complémentair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éfinition possible : tout moyen juridique permettant de joindre une personne ou d’obtenir des informations, des documents ou des éléments de preuve requis pour une action en justice, mais hors de portée car situés dans un autre pays, sous l’autorité d'un autre Ét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5C497-5F40-44A1-B29B-FEA9D751A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7"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05085-457D-4F1D-BF5C-E5CB9667E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4</a:t>
            </a:r>
            <a:br>
              <a:rPr sz="3200"/>
            </a:br>
            <a:r>
              <a:rPr b="1" lang="fr-FR" sz="3200" spc="-1" strike="noStrike">
                <a:solidFill>
                  <a:srgbClr val="000000"/>
                </a:solidFill>
                <a:latin typeface="Calibri"/>
                <a:ea typeface="ＭＳ Ｐゴシック"/>
              </a:rPr>
              <a:t>Réception d’une demande d’entraide judiciaire</a:t>
            </a:r>
            <a:endParaRPr b="0" lang="en-US" sz="3200" spc="-1" strike="noStrike">
              <a:solidFill>
                <a:srgbClr val="000000"/>
              </a:solidFill>
              <a:latin typeface="Calibri"/>
            </a:endParaRPr>
          </a:p>
        </p:txBody>
      </p:sp>
      <p:pic>
        <p:nvPicPr>
          <p:cNvPr id="23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E0104-98E8-434E-9BB0-1D68AE78A3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onne pratique lors de la réception d’une demande d’entraide judiciaire en vue de son exécution : </a:t>
            </a:r>
            <a:br>
              <a:rPr sz="4400"/>
            </a:br>
            <a:r>
              <a:rPr b="1" lang="fr-FR" sz="4400" spc="-1" strike="noStrike">
                <a:solidFill>
                  <a:srgbClr val="000000"/>
                </a:solidFill>
                <a:latin typeface="Calibri"/>
              </a:rPr>
              <a:t>Accuser réception</a:t>
            </a:r>
            <a:br>
              <a:rPr sz="4400"/>
            </a:br>
            <a:endParaRPr b="0" lang="en-US" sz="4400" spc="-1" strike="noStrike">
              <a:solidFill>
                <a:srgbClr val="000000"/>
              </a:solidFill>
              <a:latin typeface="Calibri"/>
            </a:endParaRPr>
          </a:p>
        </p:txBody>
      </p:sp>
      <p:sp>
        <p:nvSpPr>
          <p:cNvPr id="233" name=""/>
          <p:cNvSpPr txBox="1"/>
          <p:nvPr/>
        </p:nvSpPr>
        <p:spPr>
          <a:xfrm>
            <a:off x="456840" y="2176200"/>
            <a:ext cx="8348760" cy="45450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ême si le droit interne ne l’exige pas, il est de bon ton d’informer l’autorité requérante que vous vous chargerez d’exécuter sa demande (par exemple communication par courrier électronique lorsque cela est possi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arfois, c’est une obligation (par exemple Décision d’enquête européenne au sein de 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4617E-B1AE-4ABA-9CA8-4725EC7E4D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ors de l’analyse de la demande d’entraide judiciaire en vue de son exécution :</a:t>
            </a:r>
            <a:endParaRPr b="0" lang="en-US" sz="4400" spc="-1" strike="noStrike">
              <a:solidFill>
                <a:srgbClr val="000000"/>
              </a:solidFill>
              <a:latin typeface="Calibri"/>
            </a:endParaRPr>
          </a:p>
        </p:txBody>
      </p:sp>
      <p:sp>
        <p:nvSpPr>
          <p:cNvPr id="236"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ise en œuvre de la convention/du traité applicable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e et contenu, pièces jointes utile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du droit intern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Mais aussi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é si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avec l’expéditeur si nécessa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ications à l’expéditeur en cas de refus d’as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2A7A9-BDFB-44AE-87C6-332FE5BC94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i le droit interne semble s’opposer à l’exécution de la demande :</a:t>
            </a:r>
            <a:endParaRPr b="0" lang="en-US" sz="4000" spc="-1" strike="noStrike">
              <a:solidFill>
                <a:srgbClr val="000000"/>
              </a:solidFill>
              <a:latin typeface="Calibri"/>
            </a:endParaRPr>
          </a:p>
        </p:txBody>
      </p:sp>
      <p:sp>
        <p:nvSpPr>
          <p:cNvPr id="239" name=""/>
          <p:cNvSpPr txBox="1"/>
          <p:nvPr/>
        </p:nvSpPr>
        <p:spPr>
          <a:xfrm>
            <a:off x="457200" y="1509480"/>
            <a:ext cx="8229600" cy="47559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ir quelles mesures pourraient tout de même être exécuté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chercher des alternatives légales pouvant aboutir au même résultat, s’il en existe, ainsi que des mesures temporaires pour préserver les éléments de preuv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i possible, communiquer avec l’autorité requérante avant toute décision finale pour examiner les alternatives possibles ou les informations supplémentaires requises pour permettre l’exécution de la deman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FC49C-9F08-4F71-934A-C186885657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entre les autorités : ART. 27 de la Convention de Budapest</a:t>
            </a:r>
            <a:endParaRPr b="0" lang="en-US" sz="4000" spc="-1" strike="noStrike">
              <a:solidFill>
                <a:srgbClr val="000000"/>
              </a:solidFill>
              <a:latin typeface="Calibri"/>
            </a:endParaRPr>
          </a:p>
        </p:txBody>
      </p:sp>
      <p:sp>
        <p:nvSpPr>
          <p:cNvPr id="242"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Article 27 – Procédures relatives aux demandes d’entraide en l’absence d’accords internationaux applicables</a:t>
            </a:r>
            <a:r>
              <a:rPr b="0" lang="fr-FR"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n l’absence de traité d’entraide ou d’arrangement reposant sur des législations uniformes ou réciproques en vigueur entre la Partie requérante et la Partie requise, les dispositions des paragraphes 2 à 9 du présent article s’appliquent. Elles ne s’appliquent pas lorsqu’un traité, un arrangement ou une législation de ce type existent, à moins que les Parties concernées ne décident d’appliquer à la place tout ou partie du reste de cet artic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94E39-6C4F-4D2D-8191-59FF482DD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de la Convention de Budapest</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fontScale="93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 Avant de refuser ou de différer sa coopération, la Partie requise examine, après avoir le cas échéant consulté la Partie requérante, s’il peut être fait droit à la demande partiellement, ou sous réserve des conditions qu’elle juge nécessaire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La Partie requise informe rapidement la Partie requérante de la suite qu’elle entend donner à la demande d’entraide. </a:t>
            </a:r>
            <a:r>
              <a:rPr b="0" lang="fr-FR" sz="2400" spc="-1" strike="noStrike">
                <a:solidFill>
                  <a:srgbClr val="000000"/>
                </a:solidFill>
                <a:latin typeface="Calibri"/>
              </a:rPr>
              <a:t>Elle doit motiver son éventuel refus d’y faire droit ou l’éventuel ajournement de la demande. La Partie requise informe également la Partie requérante de tout motif rendant l’exécution de l’entraide impossible ou étant susceptible de la retarder de manière significativ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DDF66-0CE7-42EA-BC28-6375D773BA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43374-2C18-437B-A67E-2FEF4EF350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2A973-88F5-49B1-B8FB-FFA1B1E7C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BD878-C5BE-4BCC-8EB7-703980DB4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
          <p:cNvSpPr txBox="1"/>
          <p:nvPr/>
        </p:nvSpPr>
        <p:spPr>
          <a:xfrm>
            <a:off x="234720" y="1746360"/>
            <a:ext cx="865476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États sont souverains sur leur territo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à préserver la souveraineté nationale tout en organisant les moyens de coopé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motifs de refus sont généralement limités par les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haque État a des critères spécifiques pour déterminer si son droit national peut s’appliquer à l’étrang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également à préserver les pouvoirs des autorités nationales et les procédures à suivre dans le pays requ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L’entraide judiciaire repose sur les principes fondamentaux suiva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DBF7D-7036-439A-9771-E46063F7D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artie 5</a:t>
            </a:r>
            <a:br>
              <a:rPr sz="3600"/>
            </a:br>
            <a:r>
              <a:rPr b="1" lang="fr-FR" sz="3600" spc="-1" strike="noStrike">
                <a:solidFill>
                  <a:srgbClr val="000000"/>
                </a:solidFill>
                <a:latin typeface="Calibri"/>
              </a:rPr>
              <a:t>Résumé</a:t>
            </a:r>
            <a:br>
              <a:rPr sz="3600"/>
            </a:br>
            <a:endParaRPr b="0" lang="en-US" sz="3600" spc="-1" strike="noStrike">
              <a:solidFill>
                <a:srgbClr val="000000"/>
              </a:solidFill>
              <a:latin typeface="Calibri"/>
            </a:endParaRPr>
          </a:p>
        </p:txBody>
      </p:sp>
      <p:pic>
        <p:nvPicPr>
          <p:cNvPr id="25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CF8CB-B487-4A02-920E-3CC842B3DB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a:t>
            </a:r>
            <a:endParaRPr b="0" lang="en-US" sz="4400" spc="-1" strike="noStrike">
              <a:solidFill>
                <a:srgbClr val="000000"/>
              </a:solidFill>
              <a:latin typeface="Calibri"/>
            </a:endParaRPr>
          </a:p>
        </p:txBody>
      </p:sp>
      <p:sp>
        <p:nvSpPr>
          <p:cNvPr id="260" name="Content Placeholder 2"/>
          <p:cNvSpPr/>
          <p:nvPr/>
        </p:nvSpPr>
        <p:spPr>
          <a:xfrm>
            <a:off x="108000" y="1047600"/>
            <a:ext cx="8861400" cy="5078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ＭＳ Ｐゴシック"/>
              </a:rPr>
              <a:t>À l'issue de la présente session, les participants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auront revu ou amélioré leurs connaissances sur les principes généraux de l’entraide judiciair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comment rédiger une demande d’entraide judiciaire pour accroître les chances qu’elle soit exécuté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adopter une approche tournée vers l’efficacité lorsqu’ils recevront une demande d’entraide judiciaire d’un pays étr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407BF-B211-4D39-9B76-9AF438B4D3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6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ea typeface="ＭＳ Ｐゴシック"/>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3CDA0-CC77-49C9-A0A8-C616BFE6D6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ouveaux défis en matière de coopération internationale :</a:t>
            </a:r>
            <a:endParaRPr b="0" lang="en-US" sz="4400" spc="-1" strike="noStrike">
              <a:solidFill>
                <a:srgbClr val="000000"/>
              </a:solidFill>
              <a:latin typeface="Calibri"/>
            </a:endParaRPr>
          </a:p>
        </p:txBody>
      </p:sp>
      <p:sp>
        <p:nvSpPr>
          <p:cNvPr id="110" name=""/>
          <p:cNvSpPr txBox="1"/>
          <p:nvPr/>
        </p:nvSpPr>
        <p:spPr>
          <a:xfrm>
            <a:off x="457200" y="2050920"/>
            <a:ext cx="8229600" cy="4042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e téléphones et d’ordinateurs au-delà des frontières pour commettre des infra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applications/emails ou messages cryptés pour communiquer au-delà des frontières avec des co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reuves situées à l’étrang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aractère volatil des données en tant que preu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ée de la procédure officielle d’entraide judiciai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0991B-D9F9-4FEC-AEE6-19D3956EA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Réalité judiciaire vs réalité numérique</a:t>
            </a:r>
            <a:endParaRPr b="0" lang="en-US" sz="3600" spc="-1" strike="noStrike">
              <a:solidFill>
                <a:srgbClr val="000000"/>
              </a:solidFill>
              <a:latin typeface="Calibri"/>
            </a:endParaRPr>
          </a:p>
        </p:txBody>
      </p:sp>
      <p:graphicFrame>
        <p:nvGraphicFramePr>
          <p:cNvPr id="113" name=""/>
          <p:cNvGraphicFramePr/>
          <p:nvPr/>
        </p:nvGraphicFramePr>
        <p:xfrm>
          <a:off x="179280" y="1008000"/>
          <a:ext cx="8785440" cy="5668920"/>
        </p:xfrm>
        <a:graphic>
          <a:graphicData uri="http://schemas.openxmlformats.org/drawingml/2006/table">
            <a:tbl>
              <a:tblPr/>
              <a:tblGrid>
                <a:gridCol w="4392720"/>
                <a:gridCol w="4392720"/>
              </a:tblGrid>
              <a:tr h="5668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mettre l’infraction prend un certain tem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visibles de l’infraction (victi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pétence territoriale et souveraineté</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généralement visibles pour l’œil humain (données bancaires, sang, arme blanche, AD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mps nécessaire pour enquêter et recueillir des preuv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Lieu de l’enquête facile à détermin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Juristes, procureurs et juges généralement spécialisé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Quelques secondes pour échanger des fichiers et commettre l’infrac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invisibles de l’infraction (victime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Effets internationaux de l’infraction et preuves partou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électroniques difficiles à trouver et très volatiles, quelquefois crypt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aractère extrêmement volatil des preuves électroniqu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certitude sur la localisation des donn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écialisation des juristes et formation des procureurs et juges restent nécessaires car les technologies évoluent et les avocats ne sont pas toujours experts en nouvelles technologie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0B9A5-F355-49B9-8775-2B4C7D223E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fi</a:t>
            </a:r>
            <a:endParaRPr b="0" lang="en-US" sz="3600" spc="-1" strike="noStrike">
              <a:solidFill>
                <a:srgbClr val="000000"/>
              </a:solidFill>
              <a:latin typeface="Calibri"/>
            </a:endParaRPr>
          </a:p>
        </p:txBody>
      </p:sp>
      <p:sp>
        <p:nvSpPr>
          <p:cNvPr id="116"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e respecter la souveraineté des États et les conventions internat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une plus grande efficacité et rapidité dans la collecte de preuves électroniques et l’arrestation des auteurs d'inf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cp:keywords/>
  <dc:language>en-US</dc:language>
  <cp:lastModifiedBy>CAROLINE MARTIN</cp:lastModifiedBy>
  <cp:lastPrinted>2017-06-04T15:39:20Z</cp:lastPrinted>
  <dcterms:modified xsi:type="dcterms:W3CDTF">2018-06-01T10:59:20Z</dcterms:modified>
  <cp:revision>124</cp:revision>
  <dc:subject/>
  <dc:title>Introductory Cybercrime Training for Judges and Prosecutors</dc:title>
</cp:coreProperties>
</file>