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C05B5-4EC5-4E0A-9693-5F593361D514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AD379-1CA8-419E-A796-1C7FC37476D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tte session présente sous une forme condensée l’ensemble des preuves qui seront mises à la disposition des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D3729-F6B0-41AF-A2B3-7AD7FC0D35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dix premiers e-mails correspondent aux échanges qui ont eu lieu entre les responsables et employés de la FBA et d’UBP qui se sont occupés des transactions et du contrat relatifs à l’impression des obligations annivers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contrat FBA – UBP établi à la suite de ces échanges donne un aperçu du cadre commercial dans lequel a été conclu le marché et contient des dispositions qui vont être cruciales dans la suite du développement de l’aff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6D2A7-CB63-4C8F-BFEF-8DB575B767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relevés bancaires suivent la chronologie de l’affaire. Les participants pourront appliquer le principe consistant à « suivre l’argent » en analysant les relevés bancaires de la FBA et d’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facture pro forma est une facture légitime présentée à la FBA par UBP pour un paiement anticipé de 100 000 €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7BF25-30BC-4617-9512-CC691837E1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a deux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3C93A-57B6-4AD4-BABB-D4BA44C2658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onzième e-mail et les échanges suivants sont les outils de la perpétration. Ils ont été rédigés par l’auteur de l’infraction et incluent les éléments nécessaires pour l’analy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fausse facture a été établie par l’auteur et dirige le transfert d’argent vers un compte bancaire bien réel, mais ouvert à des fins fraudule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D753E-D2F4-4EDF-AD74-25C39D5CDD1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épositions des chefs de départements de la FBA impliqués dans l’affaire à différents stades. Les dépositions les plus importantes sont celles du département financier et du département informatique car elles donnent des indices ou des explications sur la manière dont l’infraction a été perpétré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4EBCE-B03D-4953-BA7E-CAE7EAE64DC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sur la trois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62590-B2B0-47DF-94F7-3F751CC6DD4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55C1B-6C84-4638-9B58-149E00836EC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35299-D768-4E30-81B1-D7E769075C1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remière partie du diaporama expose les faits initiaux contenus dans les documen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deuxième partie présente la structure de l’aff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troisième partie est consacrée à la perpétration de l’infr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quatrième partie fournit les éléments de base pour le début des investigations et du travail des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cinquième et dernière partie fait la synthèse de tous les éléments présent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8CB48-CC35-438C-A8E3-0824E8BE10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14687-341F-470C-8A26-38DBEBB2DC9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sur la quatr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A505A-7771-4448-8C96-2B913014B2A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21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B9F7E-055D-4B82-ADBA-D9FD416602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e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D7C1B-739A-45BA-ABB3-1B98DB1C218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7BDA8-CD85-413D-98D9-3D0CF4D60A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scénario met en scène la Federal Bank of Atlantis (FBA) présentée comme une banque internationale ancienne et à la réputation bien établie. La description qui en est faite devrait amener les participants à conclure que ce type de banque devrait en principe être à l’abri des problèmes, a fortiori tels que ceux qui seront décrits plus loin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D8A94-7CCD-4A8E-9EF2-C03A8F35F7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fil des entreprises impliquées dans le scénario de l’étude de cas. Trois documents Word en format 97-2003 sont inclus dans les supports. Ils seront mis à la disposition des participants en version papier ou en version électronique si les circonstances le permettent et si tous les participants ont un accès individuel à un ordinat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E1029-6865-418A-A08A-A3E52837E3B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cuments connexes. Les supports contiennent trois documents Word en format 97-2003. Ils seront mis à la disposition des participants en version papier ou en version électronique si les circonstances le permettent et si tous les participants ont un accès individuel à un ordinat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E4DA0-6BE0-42AA-97A0-436F6B8E96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a premièr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3D738-7C6C-490B-A3F2-769CEC84B70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CD8-A3A4-4D39-9B96-5288B8D9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229-2F88-4BCE-9AA0-59BAFFF1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200-61D3-4E04-9F13-DC024B8A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326-1801-4974-BF3E-E22F8FCF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907A-1C1A-413F-BFED-FFBF84A7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DB32-A3D7-44E5-9348-32624612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2301-ADFC-4B08-B8FC-A8433D8C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8922-C61B-4A28-891C-A7E806BE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9F7E-6DBA-46DC-8578-33D4227C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D0E2-6FFA-4C76-BB45-4CABD132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CF5D-7F18-4BCD-8D7A-11C884A8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E49-0991-45C8-8B85-CAE68220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C8D4-678C-4C91-B833-F5385F5E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FE7A-4A75-490F-8D52-227A151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5EA6-9760-4541-B6A5-A9D3F066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EB27-C938-4131-8DC2-474EBBDD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6846-1AE8-4183-B871-8E344D40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D73-3BA4-4443-88BB-50B2718C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B80-BC56-4F8A-8874-20B5F19D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294-7B5C-4EAD-922D-FE3BF939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C78-2935-4446-BD71-0983B63A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7F0-5366-41C3-9DAE-0435DEE7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1E1-F302-497E-9ABF-DE3191B7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64A-D205-443D-B905-507B68C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4FA3F-FB61-4F32-A7FE-21E74F8E83D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B2B6E-4591-434A-837C-5A40A98B5D2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0BB24-60BF-43DE-A52E-1E338F01440B}" type="datetime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A3A70-A8DF-4511-9B65-905B3498F82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ybercriminalité : formation complémentaire pour les juges et les procur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Session 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ésentation générale des preuves relatives à l’étude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A9178-530B-4016-BAFC-12565F3523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44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-mails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change d’emails entre la FBA et l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e-mails fournis suivent la chronologie des échanges entre les donneurs d’ordre et les responsables de l’émission de l’obligation anniversaire au sein de la FBA et d’UBP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ocuments et rapports »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 contrat entre la FBA et UBP donne un éclairage supplémentaire et permet une analyse plus poussée, mais il sert aussi de preuve à l’appui du doss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veloppement de l'af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F065B-5F4B-422F-8CAA-F112639B01D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relevés banc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levé bancaire de la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e nombreuses transactions y figurent, parmi lesquelles le paiement anticipé de 100 000 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levé bancaire d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a Docklands Securities Bank of Norland gère les transactions bancaires d’United Bank Printing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acture pro-forma d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une facture pro forma d’un montant de 100 000 EUR a été présentée à la FBA par UP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28547-C428-4DB7-87D0-78C3B2EC91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D4C44-B033-4EF3-941F-AFB66A7616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6228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tie 3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erpétration - preuves et dépositions de témo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8DF8C-021D-4B1C-9E72-A86EE6AD362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erpé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-mails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 onzième e-mail et l’échange qui suit est le moment clé de la perpétration de l’infraction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Relevés bancaires »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a fausse facture d’UBP contient les coordonnées d’un compte bancaire frauduleux et demande le règlement du solde restant dû de 200 000 EUR pour finaliser l’impression des 20 000 obligatio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BC376-D751-46B1-86AF-BE19E335C79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erpé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épositions de témoins »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de la Logistique et des opérations (DLO) de la FBA 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financier de la FBA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informatique de la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E58CE-52B0-478D-9040-05AB51A995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97510-7A0D-4D6C-8E26-3B2A8147DF1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atrième partie :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CD8E7-2572-4559-B303-A13EE92E5B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nace persistante avanc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ype de piratage informatique continu et furtif, souvent orchestré par une personne ou un groupe de personnes ciblant une entité spécifique »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E86BD-4C6E-474A-88D9-0EB2AD9274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rypto-monna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ctif numérique conçu pour fonctionner comme un moyen d’échange qui utilise la cryptographie pour sécuriser les transactions et contrôler la création d’unités supplémentaires de la devise »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27280-F237-4B4E-8B0D-7370AE073E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remièr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Introduction et faits initia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Deux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Trois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erpétration et dépositions de témo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Quatrième par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inqu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ésum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04978-BD3D-48CC-BF98-02C23F25D8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anipulation psychologique en ligne (Cyber Social Engineer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ype d'escroquerie ayant pour but la collecte d’informations, le détournement de fonds ou l’accès à un système ; elle diffère des formes traditionnelles d’escroquerie en cela qu’elle s’inscrit souvent dans un stratagème de fraude plus vaste et plus complex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3098880" y="4782960"/>
            <a:ext cx="29462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3F796-411D-4933-9F9E-2F7AA98A43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09DD3-F78A-49CF-A88C-FEFF435200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353960"/>
            <a:ext cx="8512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l’issue de cette session, les participants devraient avoir atteint les objectifs suivan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’introduction et les premiers éléments de l’affaire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e développement de l’affaire en analysant les preuves électroniques et matérielles présenté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uivre la perpétration proprement dite et trouver d’autres faits dans les dépositions de témoi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nnaître les termes et définitions-clés relatifs aux outils de la cybercriminalité, dont ceux utilisés en l’espè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s de la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B6902-6B0B-4B20-8521-EA6263B11A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77B9C-2FA6-4567-A6D7-07484F1B0A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353600"/>
            <a:ext cx="8512200" cy="509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l’issue de cette session, les participants devraient avoir atteint les objectifs suivan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’introduction et les premiers éléments de l’affair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e développement de l’affaire en analysant les preuves électroniques et matérielles présentées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uivre la perpétration proprement dite et trouver d’autres faits dans les dépositions de témoi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nnaître les termes et définitions-clés relatifs aux outils de la cybercriminalité, dont ceux utilisés en l’espè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s de la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57E98-B400-4BFB-A8F8-ABA7E2B601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artie 1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Introduction et 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34F54-FE11-48F6-98AB-C86A4264DB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»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ynopsis de l’étude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cénario de l’étude de cas correspond au phénomène récent des attaques dites « BEC » pour « Business E-mail Compromise » (piratage de la messagerie d'entreprise), dérivées des escroqueries « au président » ou au « faux-intermédiaire » déjà connu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mpleur de ces escroqueries est énorme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8C1AB-C1E2-482A-950C-65CFD74206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profils »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Doc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3A75C-D88A-4288-801F-756C28F327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ocuments et rapports »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nnonce de l’obligation anniversaire par la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cision du conseil d’administration d’émettre des obligations et éléments financiers correspondan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ligation annivers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aquette de l’obligation, y compris éléments imprimés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trat FBA –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trat d’impression de 20 000 éléments pour l’obligation anniversaire de la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E731F-1822-421E-A522-08AACA12CB5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6855B-F07C-41DA-8F82-90C90B0A90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tie 2 :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cp:keywords/>
  <dc:language>en-US</dc:language>
  <cp:lastModifiedBy>CAROLINE MARTIN</cp:lastModifiedBy>
  <dcterms:modified xsi:type="dcterms:W3CDTF">2018-06-01T08:13:37Z</dcterms:modified>
  <cp:revision>187</cp:revision>
  <dc:subject/>
  <dc:title>Introductory Cybercrime Training for Judges and Prosecutors</dc:title>
</cp:coreProperties>
</file>