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82300C-3DEA-4F1B-ADA4-B8BE272A02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A5CAF-2838-4118-8C66-0700817D3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resumen de las pruebas del caso práctico presentará en forma abreviada las pruebas que se presentarán a los deleg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0FF87-4D69-43DC-A6FA-70E9E026D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orreos electrónicos intercambiados entre el personal del FBA y UBP a cargo de diferentes acuerdos comerciales y de negocios para la impresión de bonos de aniversa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contrato entre el FBA y UBP sigue al intercambio de correos electrónicos y lo sitúa en el esquema del marco comercial del acuerdo. También establece pasos cruciales para el desarrollo de casos adicion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1B090-6D02-44F7-8524-78C6A9347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 extractos bancarios permiten seguir de cerca el desarrollo del caso. Los alumnos podrán implementar el principio de "seguir el dinero" mediante el análisis de los extractos bancarios del FBA y 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actura proforma es la original emitida por UBP al FBA por los 100.000 € de anticip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5DD97-3052-4EB4-B186-895B514C0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segund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44ADD-8DDC-4536-9FC8-2C8CDF868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1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orreo electrónico y los siguientes son herramientas de comisión. El contenido de los correos electrónicos está redactado por el autor del delito e incluye los elementos necesarios para el análi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actura falsa está redactada por el autor del delito y dirige la transferencia del dinero a la cuenta bancaria real existente, pero abierta con un propósito fraudulen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51B95-DAAE-49ED-80B1-1591A3157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laraciones de responsables del Federal Bank of Atlantis que estuvieron implicados en las diferentes etapas del caso. Las declaraciones más importantes son las del Departamento Financiero y de TI, que da pistas o explicaciones sobre la forma en que se produjo la comisión re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F85D3-5F12-4B49-8FCB-133F01A33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tercer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3EB96-2FB7-4D74-859A-E9D53334D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A92C3-3FE3-4A0D-AA6B-E256CE626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78EFE-0473-4CB5-B2D1-07C24479A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primera parte de la presentación consistirá en una introducción a la pruebas iniciales provistas en el material del contexto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segunda parte presentará el diseño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tercera parte será la comisión del acto crimin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cuarta parte sentará las bases para el inicio de la investigación y el trabajo del personal en forma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quinta parte es un resumen de las presentada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B4E1D-18A1-4EFF-AF69-0971C3927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9665C-9060-4932-AAB0-56A6F0352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cuart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EA513-9F50-4407-AD56-8E17E7D26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40CEA-69FD-4C45-9B23-6C8EA3153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B8DB1-CBFF-4D40-9494-024BA0EF6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E536C-72FC-405D-920E-0660CF1A7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contexto comienza con el establecimiento del Federal Bank of Atlantis (FBA) como un banco internacional conocido, consolidado y acreditado. Una descripción como esta debería llevar a los participantes a concluir que este tipo de banco no debería estar implicado en ningún tipo de problema, y ​​mucho menos en uno similar, que se describirá más adelante en este documento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13886-4C9B-4EF7-97C4-B079B9116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il de empresa de las compañías implicadas en el contexto del caso. El material incluye 3 archivos distintos de MS Word en formato 97-2003. Estos deben estar a disposición de los delegados en copia impresa o, si las circunstancias lo permiten y todos los delegados tienen acceso único a los ordenadores, de forma electrón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02BE8-77CA-44E7-93C2-991BB1C54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intos documentos complementarios para el contexto del caso. El material incluye 3 archivos distintos de MS Word en formato 97-2003 y Adobe Reader. Estos deben estar a disposición de los delegados en copia impresa o, si las circunstancias lo permiten y todos los delegados tienen acceso único a los ordenadores, de forma electrón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4995A-E76E-497A-A4C9-96E9CE72A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primer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9F8D4-6625-495D-8014-27370B87F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28A4-4266-493E-8152-079FFAA9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BBA-8461-4710-8356-EF0CD6ED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34FC-EE6F-4C26-B184-D7090BCB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A32F-3C96-4956-A615-6F249138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68AA-0827-48E7-8B65-BCF11C55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EE65-B257-435E-8398-18F0888B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DD2-AD79-4953-B3BB-44DECB72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F20-1DE8-4C12-86DE-0D444718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191-0EAA-450D-8F6F-E8365D02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7B3A-5F6C-4F83-AFC4-DE886730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3B5-9CC8-4806-9713-B01861CC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3486-B851-4522-B5F1-A839C283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18019-1D35-4EAB-8B37-4F5F79D1B1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00B507-B1CD-4333-9D08-4DB41D4AF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rso avanzado de formación en ciberdelincuencia para jueces y fi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ón 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sumen de la pruebas del caso prác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79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rreos electrónic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cambio de correos electrónicos entre el FBA y UB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facilitan correos electrónicos tras el desarrollo del intercambio entre la parte contratante y los responsables en el FBA y UBP para la emisión del bono aniversa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cumentos e inform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facilita el contrato entre el FBA y UBP no solo para tener una perspectiva y realizar un análisis más minuciosos, sino también como prueba complementaria para el archivo del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A7E00DB-BAA3-42BF-AE22-574EDFBE6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2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Extractos bancarios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acto bancario del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recogen numerosas transacciones, incluido el pago por adelantado de 100.000 € que se detalla en esta Declaració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acto bancario de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ocklands Securities Bank of Norland es la entidad que realiza las transacciones bancarias de United Bank Print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ctura proforma de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UBP ha emitido la factura proforma al FBA por un monto de 100.000 €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47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4076EBD-7E29-4273-A69C-F07CADFFE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2823804-AF1F-4015-B570-5B5293FE5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rcera part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misión: pruebas y declaraciones de testig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EE4D006-BE9D-4BF1-BCE1-07F666D74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i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eta "Correos electrónic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l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rreo electrónico e intercambio subsiguiente como momento clave de la comisión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eta "Extractos bancari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a factura falsa de UBP incluye información de cuenta fraudulenta y una solicitud de pago por valor de 200.000 € tras finalizar la impresión de 20.000 bono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5B7AAF8-A926-46A3-8444-C27EF13D2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i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peta "Declaraciones de testigos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de Logística y Operaciones del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Financiero del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de Tecnologías de la Información del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09ED966-5B49-407A-8C5E-7C2975455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DDD1C0F-469E-4088-B238-E0FABDF7F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arta par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8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7647182-0683-466B-ADA5-ED4069E4B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naza persistente avanz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conjunto de procesos de piratería informática sigilosa y continua, a menudo orquestados por una persona o personas y dirigidos a una entidad específic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D9B06A7-9001-4825-AB03-F53FAD0DA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ptomone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activo digital diseñado para funcionar como medio de intercambio utilizando la criptografía para asegurar transacciones y controlar la creación de unidades adicionales de la moned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A083966-1F3E-4D14-8E54-620F4096F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803160"/>
            <a:ext cx="8513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rimera parte.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roducción y pruebas inici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egunda parte.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ercera parte.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isión y declaraciones de testig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uarta parte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Quinta parte.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u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39E2258-16A1-48EE-A2DF-5C6EA6A33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ber-​​ingeniería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tipo de truco de confianza con el propósito de recopilar información, cometer un fraude o acceder a un sistema"; difiere de un "engaño" tradicional en que a menudo es uno de los muchos pasos dentro de un esquema de fraude más complej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9314CF9-C334-4FFD-8AF4-8ED5658E6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2790720" y="3814920"/>
            <a:ext cx="36100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915E995-DEEF-4A03-9D1F-10348CC44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l término de esta sesión, los alumnos sabrá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- Comprender la introducción y las pruebas iniciales del cas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- Comprender el desarrollo del caso mediante el análisis de pruebas electrónicas y reales presentada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Seguir la comisión real y encontrar hechos adicionales en declaraciones de testigo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Encontrar información adicional acerca de términos y definiciones clave de las herramientas del mundo cibernético y de la ciberdelincuencia, y aplicarlas en este cas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B42853C-455D-4DB1-A93F-03D05F1CE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EA76DD1-EB2C-4B23-896E-24F8CD734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 término de esta sesión, los delegados sabrá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Comprender la introducción y las pruebas iniciales del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Comprender el desarrollo del caso mediante el análisis de pruebas electrónicas y reales presentad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Seguir la comisión real y encontrar hechos adicionales en declaraciones de testig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Encontrar información adicional acerca de términos y definiciones clave de las herramientas del mundo cibernético y de la ciberdelincuencia, y aplicarlas en este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CAA69B0-BEE5-4D4C-B21F-5580428EB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mera parte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ción y 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6AF3E72-36F1-42CC-A412-AC02DD8D6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Introducción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nopsis del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contexto de caso práctico pertenece a los esquemas conocidos recientemente como de "Compromiso comercial por correo electrónico" o "BEC", que derivan de fraudes detectados anteriormente como "Fraude del CEO" o de "Intermediarios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alcance y el tamaño de estos fraudes es asombroso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B29E38B-0E1C-42D0-A0D7-463B1A058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"Perfiles de empresa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l 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 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l Do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06A4B17-7D9B-478F-9BD0-F0501688C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Documentos e informes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uncio del FBA de su bono aniver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isión del Consejo de Administración sobre la emisión de bonos y elementos financieros del mism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no del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royecto inicial del bono que incluye elementos impres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ato entre el FBA y UB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Contrato suscrito para el servicio de impresión de 20.000 elementos del bono aniversario del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2EBE0AC-08F7-430D-9C5D-567EAC34F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5568CE5-7D35-4769-B33C-BB6F6A2E2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gunda part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74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BA3E35D-F6DB-470E-A2D6-F9E820133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Ademas lo más</cp:lastModifiedBy>
  <dcterms:modified xsi:type="dcterms:W3CDTF">2019-04-04T21:32:56Z</dcterms:modified>
  <cp:revision>181</cp:revision>
  <dc:subject/>
  <dc:title>Introductory Cybercrime Training for Judges and Prosecutors</dc:title>
</cp:coreProperties>
</file>