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D557A-DED4-4528-A0FF-C2E85306BD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98C95-D447-48C1-B1A3-94854DB53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resumen de las pruebas del caso práctico presentará en forma abreviada las pruebas que se presentarán a l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D7EB2-305F-46F9-9BA8-39EA4DE72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os electrónicos intercambiados entre el personal del FBA y UBP a cargo de diferentes acuerdos comerciales y de negocios para la impresión de bonos de aniversa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rato entre el FBA y UBP sigue al intercambio de correos electrónicos y lo sitúa en el esquema del marco comercial del acuerdo. También establece pasos cruciales para el desarrollo de casos adicion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35152-0263-4C13-953E-82222C269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 extractos bancarios permiten seguir de cerca el desarrollo del caso. Los delegados podrán implementar el principio de "seguir el dinero" mediante el análisis de los extractos bancarios del FBA y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proforma es la original emitida por UBP al FBA por los 100.000 € de anticip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FE963-8D65-4BBB-BA12-64CB8A8B8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segund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99169-4E5B-4301-9170-056FD933B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rreo electrónico y los siguientes son herramientas de comisión. El contenido de los correos electrónicos está redactado por el autor del delito e incluye los elementos necesarios para el análi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falsa está redactada por el autor del delito y dirige la transferencia del dinero a la cuenta bancaria real existente, pero abierta con un propósito fraudul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21CEA-4F96-4DC6-8EC5-16065DE0B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araciones de responsables del Federal Bank of Atlantis que estuvieron implicados en las diferentes etapas del caso. Las declaraciones más importantes son las del Departamento Financiero y de TI, que da pistas o explicaciones sobre la forma en que se produjo la comisión r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59CFE-F0DD-4B4D-8A70-1B5AE8646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terc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FE105-6028-45FE-A9AA-8A27D4A8B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269F3-9A7A-4BA7-B78A-623C6978D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D06BF-05D9-4666-A717-0B20E3E84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primera parte de la presentación consistirá en una introducción a la pruebas iniciales provistas en el material del context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segunda parte presentará el diseñ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tercera parte será la comisión del acto crimi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cuarta parte sentará las bases para el inicio de la investigación y el trabajo del personal en form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quinta parte es un resumen de las presentada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E966C-68C0-496B-9F8A-6B0D73BD3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D188F-DAE6-406F-85D9-B33CC50DA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cuart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493C7-01E1-42EB-AB65-6E55709C8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2A627-659C-4EFD-8061-659F61275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FDCF6-CD91-4BB8-A74A-198BAE8D7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E30A3-AABC-408A-B37E-ED79C8D81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exto comienza con el establecimiento del Federal Bank of Atlantis (FBA) como un banco internacional conocido, consolidado y acreditado. Una descripción como esta debería llevar a los participantes a concluir que este tipo de banco no debería estar implicado en ningún tipo de problema, y ​​mucho menos en uno similar, que se describirá más adelante en 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38C93-2D68-4748-93B2-F6AD80FCC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e empresa de las compañías implicadas en el contexto del caso. El material incluye 3 archivos distintos de MS Word en formato 97-2003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4FC1B-DBB6-432E-97F2-6E07B7260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tos documentos complementarios para el contexto del caso. El material incluye 3 archivos distintos de MS Word en formato 97-2003 y Adobe Reader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D88B8-3527-40E9-A177-A3B1D2DF8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prim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A6BCA-5C14-48A0-8329-183F43F88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9E3-61FE-49D1-9586-9693CDBC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39C-8DAC-4032-B311-3F2DA6EA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F48-C4FB-41B8-A44B-02C03156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5B1-66B5-43CB-B2E3-641E4885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966-1418-4DE3-B15A-90E090A6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503-3333-45F2-8FDF-EA16DEB1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91C-E7EC-466B-93A9-E6B7C30C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C54-4E3D-4868-B17C-3F6FC2BB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410-8C1A-4B41-8262-43CAAA1A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065-8A68-4AA2-AAC3-8E6A713C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21D-9C38-4DA3-8E53-3185A445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174-A05F-4929-B5CF-943A23CB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6D82C-8C50-4B7E-9F7A-039FEF5B14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ABD5D-25EA-4809-A015-E81F50503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so avanzado de formación en ciberdelincuencia para jueces y fi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ón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umen de la pruebas del caso prác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47760" y="86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rreos electrónic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cambio de correos electrónicos entre el FBA y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n correos electrónicos tras el desarrollo del intercambio entre la parte contratante y los responsables en el FBA y UBP para la emisión del bono aniversa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cumentos e infor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 el contrato entre el FBA y UBP no solo para tener una perspectiva y realizar un análisis más minuciosos, sino también como prueba complementaria para el archivo del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347760" y="90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6E2AAC3-EC91-41B9-A547-E78763882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34800" y="7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Extractos bancario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recogen numerosas transacciones, incluido el pago por adelantado de 100.000 € que se detalla en esta Declar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ocklands Securities Bank of Norland es la entidad que realiza las transacciones bancarias de United Bank Prin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ura proforma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UBP ha emitido la factura proforma al FBA por un monto de 100.000 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-60948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ED1BA8F-ED78-4584-97DB-536D6B5FD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5E485FE-CD02-48AB-AF31-D0FF09BF4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rcer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isión: pruebas y declaraciones de testig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A522C45-F22C-4C37-A6FC-778F2F880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Correos electrónic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o electrónico e intercambio subsiguiente como momento clave de la comisió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Extractos banca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factura falsa de UBP incluye información de cuenta fraudulenta y una solicitud de pago por valor de 200.000 € tras finalizar la impresión de 20.000 bon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7A4B0CC-E65B-4D20-BACF-AEED1AD5E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ta "Declaraciones de testigo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Logística y Operaciones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Financiero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Tecnologías de la Información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2928060-3788-402F-B0CB-574B061B6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43855E7-96A8-4FE5-9C1D-B2FB86C07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arta par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86772AC-9F87-48AE-BE27-6323877F4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naza persistente avan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conjunto de procesos de piratería informática sigilosa y continua, a menudo orquestados por una persona o personas y dirigidos a una entidad específic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2DA8631-EB90-4F6E-965D-A612C940B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ptomon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activo digital diseñado para funcionar como medio de intercambio utilizando la criptografía para asegurar transacciones y controlar la creación de unidades adicionales de la mon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9822A95-34C3-40C7-BF00-A1B5C3996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803160"/>
            <a:ext cx="86868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mera parte.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gunda parte.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rcera parte.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isión y declaraciones de testi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arta parte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inta parte.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C26F948-7D7A-4268-88EE-C4B92F4B9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ber-​​ingenierí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tipo de truco de confianza con el propósito de recopilar información, cometer un fraude o acceder a un sistema"; difiere de un "engaño" tradicional en que a menudo es uno de los muchos pasos dentro de un esquema de fraude más compl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56056CC-143F-4004-9B2B-3839B46A9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2790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AE84AD4-9A2E-497C-9D82-97542E741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BE89348-BCB9-4BD8-A577-7623B7006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08D6612-7DC4-41E8-B03C-0F9CFAFF4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865080"/>
            <a:ext cx="851220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960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85C4720-A503-4027-BD6B-8BF057274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era part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9F665C5-B7F8-4843-8C26-F92B747FC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Introducción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opsis del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texto de caso práctico pertenece a los esquemas conocidos recientemente como de "Compromiso comercial por correo electrónico" o "BEC", que derivan de fraudes detectados anteriormente como "Fraude del CEO" o de "Intermediarios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alcance y el tamaño de estos fraudes es asombroso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CD2DD84-341F-4837-92F2-DE975883A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"Perfiles de empresa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1369E0F-AD61-4AAB-995B-00DD45FED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Documentos e informes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uncio del FBA de su bono aniver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isión del Consejo de Administración sobre la emisión de bonos y elementos financieros del mism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yecto inicial del bono que incluye elementos impres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to entre el FBA y UB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ntrato suscrito para el servicio de impresión de 20.000 elementos del bono aniversario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A4BC2EF-E04C-41FB-BD8F-66698346E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07C6AD0-1C79-46DA-90E1-D93D59C7B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gund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5D5F2F2-CB22-41CD-A521-4D02BD9EC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Ademas lo más</cp:lastModifiedBy>
  <dcterms:modified xsi:type="dcterms:W3CDTF">2019-04-03T00:15:49Z</dcterms:modified>
  <cp:revision>183</cp:revision>
  <dc:subject/>
  <dc:title>Introductory Cybercrime Training for Judges and Prosecutors</dc:title>
</cp:coreProperties>
</file>