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C25EE-9E41-44D9-A62C-A6799B3C0F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91988-992A-4271-B23E-26079971F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14D97-FE6B-4B9B-8613-04BD902AB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6F360-5EA1-4BBE-A92A-81AE718CC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alumn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F60FD-FE44-42E1-B0BC-754CA8E6A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DAD4C-B116-4C68-B8E0-06BE9F8DF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4D171-A3A2-413B-AB09-0CBAC22B3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5B680-41E8-4EF9-B780-DC8717D28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C0F24-77D5-4501-B7BB-27F279AD0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ABEA7-9B47-4C9A-AAAE-205E5652F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9337A-C7D6-4C64-85A4-FFECE1470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6C50D-F507-4A93-94B3-10E180B5A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1B9B1-58D6-4E69-ADAC-6F5A5C9CF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17107-9EB7-4FDD-ADC0-78BD2BDCC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BA7B8-ED8D-4BEC-8581-CE4E136BE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403A0-B088-4881-A685-407F93096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8C7ED-8EC1-41A0-BE1E-3B4D39DA2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9C0D4-1097-4BFE-AF08-D232D140A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79777-A90B-4994-A121-10485F7D9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41E1A-47D3-45C3-B4B2-C8392C2EB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B28DA-505C-4E46-AA02-3E318D335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D8D-298B-4305-A71C-42A43D47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A41-E113-4545-9D69-8FCF9B25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F84-7333-4E96-98CC-FC3067C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26B-3F08-41A8-9E19-88853604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392-F777-470F-9710-FB9ECCB5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F6D-25EB-42FB-BDA8-0258B386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21A-790A-428C-B4BB-4DA59CA5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E5D-CB7B-4DB9-AB7F-CB16D7AE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BAA-58B1-4CCC-BD9E-F06AA639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4D9-B0C2-4CCF-AEA1-2312069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70E-2B2C-4E6A-ACE7-4A2E010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702-5C08-4ECE-9612-0C2F8CB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74AC9-E568-4AF1-A8D9-FD6F547BE4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457AE-9FC7-4474-971B-F257774E2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9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21DA727-F3DF-4FEB-9E25-A12B12B11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2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47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809B129-A1FB-4269-83B3-42B4CDD20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8F2A71F-96F0-4604-BA5A-E0756EED9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A1CBE2A-FF25-418B-B8D9-D8AFE5AB9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2CF7703-C1FE-4627-993D-1E5FA0430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89BCBEF-2688-4663-8F0C-6245A3B53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BA7347C-E808-40A8-BCEC-600C5BE21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0F8494B-44D7-4274-88AE-A103BFB5B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314CEBA-58F0-47DD-AEB6-D29119854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12A5EC6-65CD-4727-A4D0-9C62C5EB0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imera parte.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gunda parte.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rcera parte.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uarta parte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inta parte.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5B07569-7B64-4523-B1AE-3E9CA36BE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88698FA-80F4-4C61-8BA3-BAE3F8407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0A65460-3E2D-45FA-9FE8-8F079A17A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 término de esta sesión, los alumnos sabrá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C378136-91E3-4758-B04F-08565E6ED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2E1775B-B680-4FCD-868B-5636B50D4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97A6894-35DB-4678-BBD8-69AD842E5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700868C-AC0E-4B6C-B9AD-6CDF3BE7D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317BFE2-C415-4810-864D-0DD75177E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A14D876-F9A7-4E3C-97DF-03117BE2D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93B5142-5F9F-432E-B3CE-3B3DC4E91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131A2E6-41AC-46FA-89C0-6D6DA051F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899D39E-49A9-4197-8E41-7F24ED5EE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4T21:32:56Z</dcterms:modified>
  <cp:revision>181</cp:revision>
  <dc:subject/>
  <dc:title>Introductory Cybercrime Training for Judges and Prosecutors</dc:title>
</cp:coreProperties>
</file>