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AA015-ADD0-4D40-9F6C-FA6F52C8AB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A26F9-4CA8-4AF2-8A15-BB2CB4AF1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4E3CD-B8E4-474E-A63B-15A327BB4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E49C1-80DD-487A-9E84-13F745F8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delegad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57983-F4D9-4621-903D-F4F5E6538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45707-DE34-425E-B82E-C5C2D85FE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616EA-ADA6-4EC8-BF04-5895F6E0B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B7B17-351D-4532-9659-17A2C3F6A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AEE50-48F4-410C-8A20-4593C00A4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D7701-651C-4C43-A2D3-BCB6BD984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29931-D77E-45A9-B85B-8614F9C03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A014-B6C8-44BC-9241-6E1258F7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9430B-7957-4657-9DD6-956EBA682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3E4B8-6AD3-4B12-9487-92A053116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EDABB-4BEB-490F-AF13-1116FA3C2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BE784-3B4D-48ED-8CDA-9D1CDF5A7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6CABC-D164-4A84-92B8-E42D90B7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6D875-AAB8-40AC-8BEC-19B42E2F2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20DA8-5EDC-4928-81C0-C302EE434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9C835-3A50-4AA8-8C07-C8C33DEBB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739F8-A3C3-4C20-B58E-F43355FA4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DB0-671D-45B6-ADC7-D265D10B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671-D5C8-440F-BD43-3C29644C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CE5-F3B1-4818-B492-D50D2A4A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DC0-33BA-4981-8EEA-3F69EE03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84F-D47C-4544-8E9A-46AB89E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F9B-8493-4743-B3DF-60D444B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B6D-8EF2-4692-A494-CEBACBDB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6FC-A0F5-4932-A5FC-EEA0D8F9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635-AB53-4EB4-9F05-33063BE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048-03F6-4918-8E49-BEDB06D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1F8-2D39-4829-9C0D-DFDE300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12B-BA2B-4BB2-8EB4-13282E4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4C1C7-C8F5-4905-9EAE-28664A976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753FC-608B-4FD7-8D8E-CE071C01F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776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47760" y="90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D270EA1-130C-4779-AA5C-8A8FC328E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7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-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521E47D-20C7-42C2-8230-0C3998202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ECBA140-F41B-4FDE-98DB-85EFF0E5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559A87E-D909-4EB8-9220-4D31B3C3A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A087B00-C996-4A48-8CB8-38AF57FFD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0A05DD9-0D79-4910-9CA6-0E009370D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20BC10F-014C-4E5B-80B9-6DFB03C84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8C6898E-570D-4191-9FA2-EE022F263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99A3BA4-866E-4EB8-81FD-CF030CD07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B03E69E-960F-4C8E-B312-041EFDFB8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03160"/>
            <a:ext cx="8686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era parte.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gunda parte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cera parte.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rta parte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nta parte.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FFCDEEF-A4A3-4F08-BCD8-933090C0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54B3326-F7A2-4D20-A63F-E8FCF8677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5500E33-04E3-425B-9D05-437AC3047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215C67A-C9FE-48ED-9100-53EC0359D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25A31A9-385E-41CD-9254-C2634488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865080"/>
            <a:ext cx="85122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C5CEF7C-D62E-4357-89E2-16D8AB561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C3BFBE-CAC5-4D37-8948-0B4E6900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31128F1-7D63-4BEC-BA3E-4EBA6E2F2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ED4F06B-72F8-4D73-AEAA-F01174FDD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4D60AFC-FD1C-4E22-A42B-CA051657F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EEED43-0275-4118-9DED-124522D50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11C376-C468-4ABF-9EDA-BB9CA608C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3T00:15:49Z</dcterms:modified>
  <cp:revision>183</cp:revision>
  <dc:subject/>
  <dc:title>Introductory Cybercrime Training for Judges and Prosecutors</dc:title>
</cp:coreProperties>
</file>