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B6A85-D9D9-4F61-AC3D-F5C96BF022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BA9BD-EF23-4E1D-A9B6-CDBE5D0B9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resumen de las pruebas del caso práctico presentará en forma abreviada las pruebas que se presentarán a l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5B79E-07B1-42F3-95B2-975697E64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os electrónicos intercambiados entre el personal del FBA y UBP a cargo de diferentes acuerdos comerciales y de negocios para la impresión de bonos de aniversa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rato entre el FBA y UBP sigue al intercambio de correos electrónicos y lo sitúa en el esquema del marco comercial del acuerdo. También establece pasos cruciales para el desarrollo de casos adicion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8D8FB-D0AA-47F8-B4B0-431DEAB02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 extractos bancarios permiten seguir de cerca el desarrollo del caso. Los alumnos podrán implementar el principio de "seguir el dinero" mediante el análisis de los extractos bancarios del FBA y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proforma es la original emitida por UBP al FBA por los 100.000 € de anticip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AC8FF-8C93-4F26-94EA-E3378F7A6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segund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AEA69-8C0D-46D5-8808-A660B7C39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rreo electrónico y los siguientes son herramientas de comisión. El contenido de los correos electrónicos está redactado por el autor del delito e incluye los elementos necesarios para el análi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falsa está redactada por el autor del delito y dirige la transferencia del dinero a la cuenta bancaria real existente, pero abierta con un propósito fraudul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1C39C-52F0-494C-AA9B-23FD412B2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araciones de responsables del Federal Bank of Atlantis que estuvieron implicados en las diferentes etapas del caso. Las declaraciones más importantes son las del Departamento Financiero y de TI, que da pistas o explicaciones sobre la forma en que se produjo la comisión r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7C4FB-84F6-4004-943E-E59F872BB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terc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2A80D-735D-4651-A930-72489E0EE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50E03-E573-4D5B-9E29-DB46BB1BE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256F3-EFE8-4EA5-A9F8-B65E7B498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primera parte de la presentación consistirá en una introducción a la pruebas iniciales provistas en el material del context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segunda parte presentará el diseñ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tercera parte será la comisión del acto crimi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cuarta parte sentará las bases para el inicio de la investigación y el trabajo del personal en form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quinta parte es un resumen de las presentada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DE8DF-4003-4FC2-98FA-94BEAD7EE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A20FD-F362-4063-B32A-5BA265861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cuart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3085C-21DA-4AAA-8E58-5C2186797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CA4CC-E83D-4E1D-A59B-288CE4335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71C1C-3763-4AC8-AAF4-626D7FC70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72133-E26F-4F98-BCFC-53872E35E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exto comienza con el establecimiento del Federal Bank of Atlantis (FBA) como un banco internacional conocido, consolidado y acreditado. Una descripción como esta debería llevar a los participantes a concluir que este tipo de banco no debería estar implicado en ningún tipo de problema, y ​​mucho menos en uno similar, que se describirá más adelante en 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476CD-EDE0-44BA-BC66-4A1DD3376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e empresa de las compañías implicadas en el contexto del caso. El material incluye 3 archivos distintos de MS Word en formato 97-2003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125F1-9847-4AD7-84A9-F5E25405A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tos documentos complementarios para el contexto del caso. El material incluye 3 archivos distintos de MS Word en formato 97-2003 y Adobe Reader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73DBD-E6BF-45A9-A243-7D951220F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prim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0F7EE-B163-4C7F-B884-52D31BCA6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28F-F817-450D-A48C-6532F1F0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285-DFB3-445B-8C0A-4FA2EED5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D11-6225-4237-BDA0-7BDA83A3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C71-29E2-4496-8D80-D7DC0AD2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2FA-D7A0-47A1-AB0E-50499EEB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AC8-E6D4-48D5-8EF0-AE81A14F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293-753C-4097-A865-90C3536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9B7-B393-4FBD-B746-7BDFE734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255-BA1E-4FED-B582-25D4D2EC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2ED-6C01-40D5-9565-C885FAD4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D14-AA04-48D9-A4B1-A1161AF7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B47-D4E4-4846-A523-7FFB638C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16F91-34DE-4A04-93CE-3E8BAEC9A2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DE3AE-789A-4989-9515-BB0CD557D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so avanzado de formación en ciberdelincuencia para jueces y fi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ón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umen de la pruebas del caso prác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9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rreos electrónic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cambio de correos electrónicos entre el FBA y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n correos electrónicos tras el desarrollo del intercambio entre la parte contratante y los responsables en el FBA y UBP para la emisión del bono aniversa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cumentos e infor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 el contrato entre el FBA y UBP no solo para tener una perspectiva y realizar un análisis más minuciosos, sino también como prueba complementaria para el archivo del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1C9B3E9-1FE3-4613-963C-3E5A38B9D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2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Extractos bancario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recogen numerosas transacciones, incluido el pago por adelantado de 100.000 € que se detalla en esta Declar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ocklands Securities Bank of Norland es la entidad que realiza las transacciones bancarias de United Bank Prin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ura proforma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UBP ha emitido la factura proforma al FBA por un monto de 100.000 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47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49DAF56-5BBE-4A33-B676-088D3B38C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CEAE710-1739-4EF1-B302-B8FDFECB1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rcer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isión: pruebas y declaraciones de testig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0A7B050-6B0E-49AE-87A2-3F0D3A364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Correos electrónic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o electrónico e intercambio subsiguiente como momento clave de la comisió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Extractos banca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factura falsa de UBP incluye información de cuenta fraudulenta y una solicitud de pago por valor de 200.000 € tras finalizar la impresión de 20.000 bon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D7E883D-13C1-4998-8F08-BAD7F6EDE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ta "Declaraciones de testigo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Logística y Operaciones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Financiero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Tecnologías de la Información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4DCFA11-9E69-48F1-9B91-D03786C02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1FAEB2E-A2A5-4753-8D99-449CCF753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arta par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805C936-3C9B-4895-AC13-6BE1E29C6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naza persistente avan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conjunto de procesos de piratería informática sigilosa y continua, a menudo orquestados por una persona o personas y dirigidos a una entidad específic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45A948F-ED3F-4129-8EEF-6AF9CEEBF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ptomon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activo digital diseñado para funcionar como medio de intercambio utilizando la criptografía para asegurar transacciones y controlar la creación de unidades adicionales de la mon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5ECFE44-608E-4F0A-AE01-18B46279B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rimera parte.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gunda parte.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ercera parte.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isión y declaraciones de testi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uarta parte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Quinta parte.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2899DD2-4B02-41AA-90F2-2464AC680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ber-​​ingenierí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tipo de truco de confianza con el propósito de recopilar información, cometer un fraude o acceder a un sistema"; difiere de un "engaño" tradicional en que a menudo es uno de los muchos pasos dentro de un esquema de fraude más compl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16E7DEC-7736-4C20-8C55-FBBF684CB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2790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2EC7848-3A8D-4726-8BBD-8B479F2AE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l término de esta sesión, los alumnos sabrá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2B80F01-34D7-4FB0-889E-2F8A73E8F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565A450-9736-4346-8A36-BAD7E9CC3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D0C68D8-01A8-4719-A39E-D4696E8F9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era part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0F67CFA-8F80-4A4E-9F1E-C6F3A8D4E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Introducción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opsis del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texto de caso práctico pertenece a los esquemas conocidos recientemente como de "Compromiso comercial por correo electrónico" o "BEC", que derivan de fraudes detectados anteriormente como "Fraude del CEO" o de "Intermediarios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alcance y el tamaño de estos fraudes es asombroso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9474114-8847-448D-903D-63F864C14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"Perfiles de empresa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0C01F3C-62A2-459A-BA11-D4829F714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Documentos e informes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uncio del FBA de su bono aniver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isión del Consejo de Administración sobre la emisión de bonos y elementos financieros del mism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yecto inicial del bono que incluye elementos impres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to entre el FBA y UB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ntrato suscrito para el servicio de impresión de 20.000 elementos del bono aniversario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CB0D7CE-DA96-475A-A913-4AB6F8470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01434A9-3F89-47C2-9508-ED1ABA17F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gund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006FCE8-AB27-4FDB-9F81-AB118B4D4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Ademas lo más</cp:lastModifiedBy>
  <dcterms:modified xsi:type="dcterms:W3CDTF">2019-04-04T21:32:56Z</dcterms:modified>
  <cp:revision>181</cp:revision>
  <dc:subject/>
  <dc:title>Introductory Cybercrime Training for Judges and Prosecutors</dc:title>
</cp:coreProperties>
</file>