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101BC-E36E-455C-8EC1-64145C319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objetivo de esta sesión es ofrecer una vista y consejos prácticos a los participantes sobre cómo hacer uso completo de la reglas de la asistencia legal mutua de un modo más eficiente, en casos de ciberdelincuencia o en casos en los que sea preciso recoger pruebas electrónicas en otros países, permaneciendo en todo momento dentro de un marco de trabajo legal, internacional y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51331-EA73-47DA-B21E-F3F2C28AA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transición entre los principios generales aplicados a la asistencia legal mutua general y las pruebas electrónicas buscadas entre los canales de cooperación judicial internacionale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CEE88-64A1-480A-A3C2-D5DB42AD5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2F17B-8820-4628-8E8D-0A515AA0D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3 a 17 ilustrarán la preparación eficiente de una solicitud de MLA, incluye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resto de los canales de cooperación, si lo permite la legislación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Convenio de Budapest, cuando proce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obación de la información empleada para la redacción de la solicitud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3C833-F818-4C36-AAF7-381FA7E32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a diapositiva pretende que los participantes piensan en otras posibilidades legales además de la solicitud de asistencia legal mutua cuando lo permita su legislación nacional, que no siempre es el caso. El instructor debe entonces poder ajustar las normativas y prácticas locales en dicho objeto. Es el momento de entablar una breve discusión con los participantes sobre lo que está o no  permitido por su legislación nacional. Los participantes a menudo deben llegar a la conclusión de que sus legislaciones nacionales no lo especifican todo, sino que podría no resultar concluyente que la prueba no fuese admisible en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instructor puede ofrecer ejemplos si tiene cualquier experiencia personal relativa a las tres categorías principales de información que pueden obtenerse legalmente sin una solicitud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les alternativos de cooperació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ción disponible públicament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Artículo 32 del Convenio de Budapest (un recordatorio si es preciso, de la sesión de cooperación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jemplo, podría mencionarse que, en algunos países como en Canadá, la policía es independiente de la autoridad judicial y que es su responsabilidad exclusiva decidir si comparten o no los informes policiales. En otros países, como en Francia, la policía siempre actúa bajo la supervisión de la autoridad judicial y, por lo tanto, casi siempre se exige consultar a la autoridad judicial (fiscal o jue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ién cabe mencionar, respecto a la información disponible públicamente, que en la mayoría de los países no es necesario poder recabar información de Google, mientras que los datos probablemente se almacenan en o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tros ejemplos de información disponible públicamente puede ser el localizador "Find an inmate", disponible para la búsqueda de un recluso en las prisiones federales de EE.UU. (www.bop.gov/inmateloc), o los sitios web públicos que permiten comprobar un número IBAN y, por lo tanto, identificar el banco y su filial antes de redactar una solicitud d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 respecto al Artículo 32 del Convenio de Budapest, los participantes deben contar ya con conocimientos de este tema adquiridos en sesiones anteriores. Sin embargo, el instructor debe intentar determinar si parece útil recordar a los participantes sus posibilidades legales de un modo práctico: ¿en qué situaciones lo permitiría la legislación nacional? ¿En qué situaciones no lo haría? ¿Por qué?</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22ADA-3FC2-44F0-A34E-787243068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sobre el uso de las herramientas y redes existentes para agilizar la asistencia legal mutua, que también puede resultar útil en la fase de redacción para obtener información sobre los requisitos específicos de un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ién recuerda a los participantes el Artículo 29 del Convenio de Budapest que debe haberse estudiado en la sesión de cooperación internacional. Esta herramienta representa un requisito previo para lograr solicitudes de MLA más eficientes relativas a pruebas electrónica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688E3-09F1-47D6-8DBA-DE28F146D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asistentes dos artículos importantes del Convenio de Budapest que deben haberse analizado en el curso introducto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35 exige que cada Estado Parte organice un punto de contacto 24/7 con el propósito de establecer una red 24/7 capaz de responder a solicitudes urgentes. En algunos países, no en todos, la red 24/7 permitirá más o menos intercambio de información. La convención ofrece esta posibilidad. Sin embargo, no todos los países permiten la transmisión de información. Además, como este curso trata del uso de herramientas de asistencia legal mutua, esas "características extra" que no son comunes en todos los países, no se analizarán, aunque el instructor puede detallarlas si conoce las posibilidades ofrecidas por su pu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centra en recordar a los asistentes sobre la posibilidad de emplear el Artículo 29 y solicitar la conservación rápida de los datos informáticos almacenados a través de la red 24/7, antes de enviar la solicitud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3F1BD-E17E-4782-8200-4D005D8EF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478C7-A341-4F85-994A-19BFE411E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anterior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7770C-6B9F-4D09-9D7E-987DA6FD4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nformación básica que deben comprobar al comenzar a redactar una solicitud de asistencia legal mutua. El instructor debe recordar a los participantes que la red descansa en dos punt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la forma de la solicitud (requisitos leg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l conteni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on igualmente importantes para que la solicitud llegue a la autoridad correcta y se ejecut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FDF9D-D072-471F-804E-5545BB120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 los requisitos de forma establecidos en un conveni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una vez comprobados estos requisitos previos, será prácticamente un proceso automático que exigirá menos tiempo mientras aumentan las posibilidades de lograr una mejor ejecución de la solicitud.</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07392-9D7E-4307-BC33-3A524F470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de la presentación recordará a los participantes los principios básicos de la asistencia legal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abordará cómo mejorar la prepara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ofrecerá consejos para mejorar la redacción de solicitude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uarta parte se centrará en la recepción y ejecu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inta parte resumirá los objetivos del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47E6C-35BB-4812-8023-1E7698CEA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B46B1-E476-4181-A9CE-A9EF951FB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9 a 44 se centrarán en la etapa de redacción de una solicitud de asistencia legal mutua, desde su forma y aspecto, hasta su contenido e información normalmente neces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están dedicadas a la solicitud de MLA del modelo del Consejo de Europa. El instructor podría omitirlas por falta de tiempo. Sin embargo, podría ser útil para los participantes preguntarse cómo debería ser su solicitud de MLA. En países de le UE, para participantes interesados en el modelo de la UE, el instructor también puede decidir añadir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65D2E-6B5C-4D23-A6E6-3E94AA45C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ñala la ausencia de un modelo único y uniforme a nivel mundial para las solicitudes de MLA. Las siguientes diapositivas mostrarán a los participantes que sin embargo, parte de la información solicitada a menudo es la mi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B3939-02D6-444D-A915-698C7D1AE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nueva Orden de investigación europea a utilizar por toda la Unión Europea, excepto para JIT y Dinamarca e Irlanda (que optaron por sali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íses de le UE, para participantes interesados en el modelo de la UE, encontrarán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75236-83C7-40A6-B0B1-114ED24E5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solicitud del modelo de MLA del Consejo de Europa, que representa una guía, no siendo obligatorio. Las siguientes diapositivas reproducirán la solicitud del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0D0B2-1923-46F8-98D5-F2B96DAC3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pod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9AB65-3815-426D-B427-8DF4505A7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4440D-4693-498E-8FF5-DD8CB56CE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2772B-24B2-4C18-B73F-0A9B38A04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E31C9-8BC7-4118-B4DD-143049EB5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 a l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esta sesión, los participantes podrá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DEDD4-022B-4F71-AFA8-EA643244F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8CA99-D084-4D99-A515-8F82EAECD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36846-68DC-42F3-B521-464F95743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AE461-3BD0-4190-BC1D-D720C690B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6B8BC-A727-4674-BF3B-C58595753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25D3C-9E85-4E39-9B68-EFA66C4BD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ta diapositiva en concreto puede utilizarse para debatir sobre la necesidad de ser específico con respecto a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9B7C9-A1C6-41EC-962F-CE3C091BA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ta diapositiva en concreto puede utilizarse para debatir sobre la necesidad de ser específico con respecto a las pruebas electrónicas.  También ofrece una oportunidad para mencionar que la interceptación en tiempo real de las comunicaciones no se ejecutará por parte de EE.UU. solicitudes de asistencia legal mutua. La única posibilidad es que un caso de EE.UU. esté abierto y se utilice para obtener dicha autorización.</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DB5D8-A264-423F-B2C0-CEE9BAF29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5A412-82A1-4515-9D19-0AB8E741C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5B032-7386-4612-B631-3A4F996DF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69A7E-20EB-4BB5-93A8-93CE5B868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4 a 11 se centrarán en los principios generales en los que descansa la asistencia legal mutua.</a:t>
            </a:r>
            <a:br>
              <a:rPr sz="1200"/>
            </a:br>
            <a:br>
              <a:rPr sz="1200"/>
            </a:br>
            <a:r>
              <a:rPr b="0" lang="en-US" sz="1200" spc="-1" strike="noStrike">
                <a:solidFill>
                  <a:srgbClr val="000000"/>
                </a:solidFill>
                <a:latin typeface="Calibri"/>
              </a:rPr>
              <a:t>Estos principios, normalmente comunes en todos los países en cierta medida, son de extrema importancia a la hora de redactar o ejecutar una solicitud de asistencia legal mutua.</a:t>
            </a:r>
            <a:br>
              <a:rPr sz="1200"/>
            </a:br>
            <a:r>
              <a:rPr b="0" lang="en-US" sz="1200" spc="-1" strike="noStrike">
                <a:solidFill>
                  <a:srgbClr val="000000"/>
                </a:solidFill>
                <a:latin typeface="Calibri"/>
              </a:rPr>
              <a:t>El instructor debe comentar todos los temas reflejados en estas diapositivas y completarlos, en caso necesario, con consideraciones locales para que los participantes tengan presentes estos principios a la hora de participar en la sesión de redacción de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6DB94-D2AC-4FB2-92C0-D2DE2137E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los tratados y convenciones pueden diferir bajo los distintos requisitos de contenido de una solicitud de MLA, la mayor parte de los mismos y la mayoría de los Estados que ejecutan solicitudes en base a la reciprocidad (es decir, fuera del marco de trabajo de una convención o tratado), exigen los elementos anteriormente mencionado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03CC1-9523-45AA-AD59-B97CB834D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sustituir el Convenio de Budapest en el debate recordando a los participantes que es un instrumento internacional que proporciona un capítulo aplicable completo sobre las normas de MLA a seguir en ausencia de o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B78BE-56CA-4FA1-9851-3B592FE91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papel de la comunicación a la hora de agilizar la solicitud de asistencia legal mutua, recalcando, cuando proceda, el hecho de que no elude los canales legales, solo tiende a facilitar la comprensión y ejecución de la solicitud enviada o que se enviará a través de los canales oficia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chas solicitudes en la práctica judicial no dispondrán de dirección de correo electrónico o información sobre los idiomas que habla al autoridad solicita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F61E8-F2AC-4361-8878-31A4C7E12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l resumen de los hechos, solicitado por la mayoría de los tratados y convenciones internacion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una de las partes más importantes de la solicitud, ya que determinará si pueden ordenarse una medida de investigación en el país solicitado. Estos consejos parecen sencillos, pero en la práctica, es muy obvio que los jueces y fiscales deben emplear más tiempo en el resumen de los hechos teniendo presente estos simples consejos, comenzando por el hecho de que solo ELLOS conocen su caso en detalle, no la autoridad solicitada, que a menudo solo tiene la solicitud de MLA para realizar su propia determinación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la necesidad de emplear tiempo en el resumen de los hechos, que deberá ser específico y cumplir con los posibles estándares sobre pruebas establecidas en ciertos Estados en cuanto a medidas coactivas, por ej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57B75-8A13-4E9A-98A8-DE6786A0C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iguientes dos diapositivas contienen un ejemplo de requisitos específicos al redactar el resumen de hechos: el estándar de causa probable exigido por EE. UU. distintivamente cuando se busca contenido de correos electrónicos.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78166-312F-4D84-8888-AF4C47829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E2954FB-2148-484A-8D9D-F3F21058D1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A46A98F5-4063-4629-9AF3-2D978B43C113}"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a diapositiva resume los tres estándares legales diferentes requeridos en EE.UU. al buscar datos electrónic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 instructor puede añadir esto a su diapositiva si está familiarizado con el sistema de EE.UU. o con otro ejemplo de un país diferente, cuando sea po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 embargo, dicha presentación debe limitarse a una descripción objetiva de los requisitos de un país en el contexto de las reglas generales de asistencia legal mutua y de los tratados y convenciones relevantes, ya que algunos países podrían contar con requisitos que evadiesen de hecho las normas tradicionales de los tratados o la asistencia legal mutua. Lo último no es objeto de estudio de esta sesió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el tipo de medidas buscadas y las posibilidades legales para su ejecución.</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C0027-FC17-4C29-AB16-D3D43DED8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documentos que pueden y deben adjuntarse a la solicitud de MLA, sujeto a otros requisitos establecidos por los tratados o convenciones.</a:t>
            </a:r>
            <a:br>
              <a:rPr sz="1200"/>
            </a:br>
            <a:br>
              <a:rPr sz="1200"/>
            </a:br>
            <a:r>
              <a:rPr b="0" lang="en-US" sz="1200" spc="-1" strike="noStrike">
                <a:solidFill>
                  <a:srgbClr val="000000"/>
                </a:solidFill>
                <a:latin typeface="Calibri"/>
              </a:rPr>
              <a:t>El instructor debe enriquecer esta diapositiva con cualquier requisito relevante concreto para su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F3F78-5397-4C55-94B7-7C8F9C0E4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posibilidad de enviar una copia anticipada de la solicitud oficial por cualquier medio al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esta práctica también puede utilizarse cuando hay autoridades centrales implicadas en el proceso de transmisión y que, al enviar la copia a través del circuito oficial, según las solicitudes del convenio o tratado, su ejecución puede comenzar 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mencionar que si se envía directamente una copia anticipada a una autoridad extranjera, pero el tratado correspondiente no lo permite, dependiendo del país solicitado, podría no ejecutarse. La copia anticipada debe, por lo tanto, seguir los canales de transmisión establecidos por el tratado o convención correspondiente para obtener mejores result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l instructor puede mencionar esta posibilidad según lo establecido en el Artículo 25.3 del Convenio de Budapest, descrito en la siguiente diapositiva.</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793F0-0DC9-4A62-9F1B-1838B2075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oduce el Artículo 25. 3 del Convenio de Budapest relativos al uso de medios de telecomunicación para la transmisión de solicitudes de MLA de modo más eficiente, en casos que requieran pruebas electrónicas y cuando puedan invocarse circunstancias de urgencia.</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C56BA-E147-4A3E-90BA-0F89A862A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41A88-6059-42FC-AE8D-FA5F21632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cuarta parte aborda la recepción y ejecución de una solicitud de MLA de forma práctica. Esta parte es breve, ya que no es posible describir cada posibilidad legal que depende del tratado o convención aplicable, así como el tipo de medida solicitada. En esta parte solo está orientada a ofrecer consejo a los participantes, para que adopten una perspectiva más enfocada a una cooperación eficiente, en lugar de tan solo a una estrategia legal, no abandonando los límites de su legislación nacional ni inter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E4335-47DA-42EE-AB6E-3B5867CDA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mportancia de la comunicación ya explicada en la parte relativa a la redacción de solicitudes de MLA.</a:t>
            </a:r>
            <a:br>
              <a:rPr sz="1200"/>
            </a:br>
            <a:r>
              <a:rPr b="0" lang="en-US" sz="1200" spc="-1" strike="noStrike">
                <a:solidFill>
                  <a:srgbClr val="000000"/>
                </a:solidFill>
                <a:latin typeface="Calibri"/>
              </a:rPr>
              <a:t>La comunicación es también importante por parte del recep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cuando no lo exija la ley, debe fomentarse entre los participantes la comunicación informal con la autoridad solicitante para hacerle saber que se ejecutará la MLA. Esto es importante cuando un caso criminal está en curso en el Estado solicitante, ya que la autoridad solicitante puede no tener noticias de su solicitud durante meses o incluso años, y puede decidir en algún momento cerrar el caso, mientras que la autoridad requerida puede ser ejecutar la solicitud, o puede haber estado en la obligación de posponer la ejecución de la solicit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cuando sea necesario, en el hecho de que esta comunicación está destinada a agilizar y mejorar la comprensión de la solicitud y no a eludir los canales oficiales de la transmisió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0BBBF-3719-46F2-9B5C-61DDC8BF0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a existencia de dos niveles de análisis que el receptor debe tratar de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legal (forma de la solicitud, contenido de la solicitu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eficiente (si no se puede ordenar una medida, ¿permite la legislación nacional otros medios legales de alcanzar el mi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A9697-265E-4624-AA1E-52FD090B6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consejos sencillos a los participantes para mejorar la estrategia de eficiencia dentro de su marco de trabajo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BF9EE-728F-442F-811B-AF8DF0F09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32592-903C-4801-AC68-8752974C5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61033-0F9E-495D-89EC-D067C8A61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194D9-7BD5-4CCF-A93B-F04E4A84F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9F4C0-9678-4CFC-8166-0F9E78685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677A0-C071-48D5-AB04-D37404418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las ideas comunes principales que trata la asistencia legal mutua y en el que descansan las convenci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de su sistema nacional o de un caso local que pueda suscitar cuestiones legal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B525F-07D1-4F71-8F36-AB8CF13A8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principales de la se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la sesión, todos los participantes deberán haber alcanzado los siguie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A6273-07C0-41C2-A0A8-33FBEA62BA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iertas sesiones de formación , puede orientarse una sesión a la aplicación de esta presentación y a la redacción o análisis real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futuro, los instructores pueden intentar complementar la formación añadiendo ejercicios, cuando la formación se imparta en un entorno en el que las instalaciones sean adec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urso no considera actualmente la comprobación de conocimientos específicos además de los arriba indicados. No se ha solicitado evaluación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61663-03BD-4B1F-BF7F-82C8FFAFA5E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upone un recordatorio rápido de los problemas que representa la ciberdelincuencia y las pruebas electrónicas en casos internacionales. En esta etapa del programa, los participantes deben conocer estos problemas a fondo gracias al curso introductorio o al curso avanzado de formación judicial (presentaciones generale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B9760-35A2-4625-9664-F024DCC80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algunas de las diferencias principales entre un caso de la "vida real" tradicional y un caso con pruebas digitales en la detección de un delito y en la recogida de prueb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prácticos como, por ejemplo:</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la situación de un robo a un banco (tiempo de preparación, tiempo para acudir a la escena del crimen, tiempo para entrar en el banco, tiempo para coger el dinero, tiempo para huir, ADN o huellas digitales dejadas en la escena, sangre (en ocasiones), víctimas que sabían que estaban siendo víctimas de un delito, traumas, oficiales de policía y expertos que saben dónde ir a recoger las pruebas, etc., comparado con enterarse de que han sido víctimas de una enorme filtración de datos en un periodo de tiempo no identificado,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insistir en el hecho de que la territorialidad es un asunto que supone un reto cada vez mayor en la ciberdelincuencia, al contrario en los delitos básicos, que a menudo se ubican fácilmente dentro de una jurisdicción. Sin embargo, como esta lección trata de la asistencia legal mutua, que descansa principalmente en leyes internacionales (convenciones y tratados), también debe recordarse a los estudiantes que jueces y magistrados deben cumplir con la ley y, a continuación, ser más creativos dentro de los límites de la legislación (en otras palabras: respetar la ley pero intentar analizarla de un modo más específico cuando se trata de nuevas prácticas relativas a la recogida de pruebas elec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C8FAB-AA5D-41B4-B28B-AD595D080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sumen del dilema actual reflejado en las diapositivas 7 y 8: la necesidad de respetar las leyes internacionales frente a la de ser más eficiente contra la ciberdelincuencia.</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FAD5F-CCCE-4E13-856F-74FDDDC8D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3DDC2-3BAD-49B7-8155-15CADA51F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87C7-83A1-4929-B35F-666B6683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1FC7E-8BDE-4C17-A7CC-317110D10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9ED9E-2B12-4911-8148-3CEE69AEE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73FA-A10B-4106-81C8-36D1C1D3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37B9-3734-433B-8E37-034B8F37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35EF-6753-4B32-B823-6E34D21D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636D-5356-4741-BCB8-30D391151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797D-8FD5-400D-B12A-F053E893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CB97-CD62-4ADC-AF2A-3190B327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51F99-C34A-4DD5-AB5A-CBC5ECEF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BD55-A374-47F2-8B2D-4185DE278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5CB50-B790-45CC-B57F-24ABBD81F8C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3B70D-28FA-4CD0-A5A5-8104E649F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icitudes de asistencia legal mutua (MLA)</a:t>
            </a:r>
            <a:br>
              <a:rPr sz="4400"/>
            </a:br>
            <a:r>
              <a:rPr b="0" lang="en-US" sz="4400" spc="-1" strike="noStrike">
                <a:solidFill>
                  <a:srgbClr val="000000"/>
                </a:solidFill>
                <a:latin typeface="Calibri"/>
              </a:rPr>
              <a:t>Cuestiones práctic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A4DF72-AE36-4B6D-A29C-4461247B4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ción ac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canales de MLA ya no son adecuados en lo relativo a pruebas electrónicas</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bemos encontrar nuevos modos de cooperación con respecto a las pruebas electrónicas y a la ciberdelincuencia</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Calibri"/>
              </a:rPr>
              <a:t>No obstante:</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MLA continúa siendo el canal internacional de cooperación aceptado legalmen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ncargados de ponerla en práctica deben, por lo tanto, hacer un uso mejor y completo de las posibilidades de la MLA para mejorar s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BE104-8236-4652-8FC7-AF065FA551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BE210-2153-45DB-8D6D-9C9E7124FD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Segunda parte</a:t>
            </a:r>
            <a:br>
              <a:rPr sz="3200"/>
            </a:br>
            <a:r>
              <a:rPr b="1" lang="en-US" sz="3200" spc="-1" strike="noStrike">
                <a:solidFill>
                  <a:srgbClr val="000000"/>
                </a:solidFill>
                <a:latin typeface="Calibri"/>
                <a:ea typeface="MS PGothic"/>
              </a:rPr>
              <a:t>Preparativos de la solicitud de ML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BD128E-999E-4A78-9E86-CA1D4542D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ntes de enviar una solicitud de MLA, deben comprobarse estas alternativas legales:</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Canales alternativos de cooperación </a:t>
            </a:r>
            <a:r>
              <a:rPr b="0" lang="en-US" sz="2700" spc="-1" strike="noStrike">
                <a:solidFill>
                  <a:srgbClr val="000000"/>
                </a:solidFill>
                <a:latin typeface="Calibri"/>
              </a:rPr>
              <a:t>(por ejemplo, cooperación entre cuerpos policiales):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a:r>
            <a:r>
              <a:rPr b="0" i="1" lang="en-US" sz="2700" spc="-1" strike="noStrike">
                <a:solidFill>
                  <a:srgbClr val="000000"/>
                </a:solidFill>
                <a:latin typeface="Calibri"/>
              </a:rPr>
              <a:t>Lo autoriza la legislación nacional? ¿Lo autoriza la legislación del país solicitado?</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Información disponible públicamente </a:t>
            </a:r>
            <a:r>
              <a:rPr b="0" lang="en-US" sz="2700" spc="-1" strike="noStrike">
                <a:solidFill>
                  <a:srgbClr val="000000"/>
                </a:solidFill>
                <a:latin typeface="Calibri"/>
              </a:rPr>
              <a:t>que puede obtenerse sin solicitud de MLA a través de Internet o de bases de datos específicas disponibles gratuitas o de pago (</a:t>
            </a:r>
            <a:r>
              <a:rPr b="0" i="1" lang="en-US" sz="2700" spc="-1" strike="noStrike">
                <a:solidFill>
                  <a:srgbClr val="000000"/>
                </a:solidFill>
                <a:latin typeface="Calibri"/>
              </a:rPr>
              <a:t>si lo permite la legislación nacional)</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RT. 32 a) del Convenio de Budapest </a:t>
            </a:r>
            <a:r>
              <a:rPr b="0" lang="en-US" sz="2700" spc="-1" strike="noStrike">
                <a:solidFill>
                  <a:srgbClr val="000000"/>
                </a:solidFill>
                <a:latin typeface="Calibri"/>
              </a:rPr>
              <a:t>: acceso transfronterizo a datos informáticos almacenados con consentimiento </a:t>
            </a: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CF5C63-6A3A-434C-B5B4-5D839A859A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paración eficiente de una solicitud de MLA relativa a la obtención de pruebas electrónicas</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 las redes existentes, magistrados de enlace/agregados jurídicos, autoridad central nacional (asesoramiento), Interpol, Europol, contactos directos, redes judiciales...</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l ART. 29 del Convenio de Budapest </a:t>
            </a:r>
            <a:r>
              <a:rPr b="0" lang="en-US" sz="2800" spc="-1" strike="noStrike">
                <a:solidFill>
                  <a:srgbClr val="000000"/>
                </a:solidFill>
                <a:latin typeface="Calibri"/>
              </a:rPr>
              <a:t>(conservación rápida de los datos informáticos almacenados)</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AF256E-30FE-40B8-8CBD-0683A077BC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VISO: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8760"/>
        </p:xfrm>
        <a:graphic>
          <a:graphicData uri="http://schemas.openxmlformats.org/drawingml/2006/table">
            <a:tbl>
              <a:tblPr/>
              <a:tblGrid>
                <a:gridCol w="4114800"/>
                <a:gridCol w="4114800"/>
              </a:tblGrid>
              <a:tr h="58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35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29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35 – Red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Cada parte </a:t>
                      </a:r>
                      <a:r>
                        <a:rPr b="1" lang="en-US" sz="1100" spc="-1" strike="noStrike" u="sng">
                          <a:solidFill>
                            <a:srgbClr val="000000"/>
                          </a:solidFill>
                          <a:uFillTx/>
                          <a:latin typeface="Calibri"/>
                        </a:rPr>
                        <a:t>designará</a:t>
                      </a:r>
                      <a:r>
                        <a:rPr b="1" lang="en-US" sz="1100" spc="-1" strike="noStrike">
                          <a:solidFill>
                            <a:srgbClr val="000000"/>
                          </a:solidFill>
                          <a:latin typeface="Calibri"/>
                        </a:rPr>
                        <a:t> un punto de contacto disponible a una hora de un día de la semana</a:t>
                      </a:r>
                      <a:r>
                        <a:rPr b="0" lang="en-US" sz="1100" spc="-1" strike="noStrike">
                          <a:solidFill>
                            <a:srgbClr val="000000"/>
                          </a:solidFill>
                          <a:latin typeface="Calibri"/>
                        </a:rPr>
                        <a:t>, para asegurar la </a:t>
                      </a:r>
                      <a:r>
                        <a:rPr b="1" lang="en-US" sz="1100" spc="-1" strike="noStrike" u="sng">
                          <a:solidFill>
                            <a:srgbClr val="000000"/>
                          </a:solidFill>
                          <a:uFillTx/>
                          <a:latin typeface="Calibri"/>
                        </a:rPr>
                        <a:t>provisión de asistencia inmediata </a:t>
                      </a:r>
                      <a:r>
                        <a:rPr b="0" lang="en-US" sz="1100" spc="-1" strike="noStrike">
                          <a:solidFill>
                            <a:srgbClr val="000000"/>
                          </a:solidFill>
                          <a:latin typeface="Calibri"/>
                        </a:rPr>
                        <a:t>con el objetivo de investigaciones o procedimientos relativos a delitos criminales relativos a sistema o datos informáticos o para la recogida de pruebas en formato electrónico de un delito penal. Dicha asistencia incluirá la facilitación o, si lo permite la práctica y la legislación nacional, poner en práctica directamente las siguientes medida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a provisión del asesorami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la conservación de los datos conforme a los Artículos 29 y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la recogida de pruebas, la provisión de información legal y la localización de sospechos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el punto de contacto de una Parte tendrá la capacidad de mantener comunicaciones con el punto de contacto de otra Parte rápidament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Si el punto de contacto designado por una Parte no forma parte de la autoridad de la Parte o las autoridades responsables de la extradición o asistencia mutua internacional, el punto de contacto garantizará que es capaz de coordinarse con dicha autoridad o autoridades sobre la base de la rapidez.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Cada parte garantizará que contar con personal formado y equipado para facilitar la operación de la re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29: conservación rápida de datos informáticos almacenado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Una Parte puede solicitar a otra Parte que ordene u obtenga la conservación rápida de los datos almacenados por medio de un sistema informático</a:t>
                      </a:r>
                      <a:r>
                        <a:rPr b="0" lang="en-US" sz="1100" spc="-1" strike="noStrike">
                          <a:solidFill>
                            <a:srgbClr val="000000"/>
                          </a:solidFill>
                          <a:latin typeface="Calibri"/>
                        </a:rPr>
                        <a:t>, situado dentro del territorio de dicha otra Parte </a:t>
                      </a:r>
                      <a:r>
                        <a:rPr b="0" lang="en-US" sz="1100" spc="-1" strike="noStrike" u="sng">
                          <a:solidFill>
                            <a:srgbClr val="000000"/>
                          </a:solidFill>
                          <a:uFillTx/>
                          <a:latin typeface="Calibri"/>
                        </a:rPr>
                        <a:t>y</a:t>
                      </a:r>
                      <a:r>
                        <a:rPr b="0" lang="en-US" sz="1100" spc="-1" strike="noStrike">
                          <a:solidFill>
                            <a:srgbClr val="000000"/>
                          </a:solidFill>
                          <a:latin typeface="Calibri"/>
                        </a:rPr>
                        <a:t> teniendo presente </a:t>
                      </a:r>
                      <a:r>
                        <a:rPr b="1" lang="en-US" sz="1100" spc="-1" strike="noStrike">
                          <a:solidFill>
                            <a:srgbClr val="000000"/>
                          </a:solidFill>
                          <a:latin typeface="Calibri"/>
                        </a:rPr>
                        <a:t>que la Parte solicitante intenta presentar una solicitud de asistencia mutua para </a:t>
                      </a:r>
                      <a:r>
                        <a:rPr b="0" lang="en-US" sz="1100" spc="-1" strike="noStrike">
                          <a:solidFill>
                            <a:srgbClr val="000000"/>
                          </a:solidFill>
                          <a:latin typeface="Calibri"/>
                        </a:rPr>
                        <a:t>la búsqueda o acceso similar, incautación o protección similar o divulgación de los dat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Al recibir la solicitud de la otra Parte, la Parte solicitada tomará todas las medidas necesarias para conservar rápidamente los datos especificados de acuerdo con su legislación nacional. Con el fin de responder a una solicitud, no se requerirá la criminalidad doble como condición para facilitar dicha conservació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Cualquier conservación afectada en respuesta a la solicitud a la que hace referencia el párrafo 1, será por un periodo </a:t>
                      </a:r>
                      <a:r>
                        <a:rPr b="1" lang="en-US" sz="1100" spc="-1" strike="noStrike" u="sng">
                          <a:solidFill>
                            <a:srgbClr val="000000"/>
                          </a:solidFill>
                          <a:uFillTx/>
                          <a:latin typeface="Calibri"/>
                        </a:rPr>
                        <a:t>no inferior a sesenta días</a:t>
                      </a:r>
                      <a:r>
                        <a:rPr b="0" lang="en-US" sz="1100" spc="-1" strike="noStrike">
                          <a:solidFill>
                            <a:srgbClr val="000000"/>
                          </a:solidFill>
                          <a:latin typeface="Calibri"/>
                        </a:rPr>
                        <a:t>, </a:t>
                      </a:r>
                      <a:r>
                        <a:rPr b="1" lang="en-US" sz="1100" spc="-1" strike="noStrike">
                          <a:solidFill>
                            <a:srgbClr val="000000"/>
                          </a:solidFill>
                          <a:latin typeface="Calibri"/>
                        </a:rPr>
                        <a:t>para permitir que la Parte solicitante presente una solicitud</a:t>
                      </a:r>
                      <a:r>
                        <a:rPr b="0" lang="en-US" sz="1100" spc="-1" strike="noStrike">
                          <a:solidFill>
                            <a:srgbClr val="000000"/>
                          </a:solidFill>
                          <a:latin typeface="Calibri"/>
                        </a:rPr>
                        <a:t> para la búsqueda o acceso similar, incautación o protección similar o divulgación de los datos. Tras las recepción de dicha solicitud, los datos se continuarán conservando pendientes de la decisión sobre dicha solicitu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831D13-ABE1-4727-A2B9-47A43DB443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tes de enviar una MLA para la recogida de datos electrónicos...</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el país requerido forma parte del Convenido de Budapest, </a:t>
            </a:r>
            <a:r>
              <a:rPr b="1" lang="en-US" sz="3200" spc="-1" strike="noStrike" u="sng">
                <a:solidFill>
                  <a:srgbClr val="000000"/>
                </a:solidFill>
                <a:uFillTx/>
                <a:latin typeface="Calibri"/>
              </a:rPr>
              <a:t>utilice el Artículo 29</a:t>
            </a:r>
            <a:r>
              <a:rPr b="1" lang="en-US" sz="3200" spc="-1" strike="noStrike">
                <a:solidFill>
                  <a:srgbClr val="000000"/>
                </a:solidFill>
                <a:latin typeface="Calibri"/>
              </a:rPr>
              <a:t> </a:t>
            </a:r>
            <a:r>
              <a:rPr b="0" lang="en-US" sz="3200" spc="-1" strike="noStrike">
                <a:solidFill>
                  <a:srgbClr val="000000"/>
                </a:solidFill>
                <a:latin typeface="Calibri"/>
              </a:rPr>
              <a:t>y coordine con las autoridades nacionales competentes la solicitud de conservación urgente de los da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Wingdings"/>
                <a:ea typeface="Wingdings"/>
              </a:rPr>
              <a:t></a:t>
            </a:r>
            <a:r>
              <a:rPr b="0" i="1" lang="en-US" sz="2400" spc="-1" strike="noStrike">
                <a:solidFill>
                  <a:srgbClr val="000000"/>
                </a:solidFill>
                <a:latin typeface="Calibri"/>
              </a:rPr>
              <a:t> </a:t>
            </a:r>
            <a:r>
              <a:rPr b="0" i="1" lang="en-US" sz="2400" spc="-1" strike="noStrike">
                <a:solidFill>
                  <a:srgbClr val="000000"/>
                </a:solidFill>
                <a:latin typeface="Calibri"/>
              </a:rPr>
              <a:t>Esto es útil solo si se realiza pronto durante el curso de la investigación, ya que no todos los países imponen a los IPS y a otros proveedores de servicios de Internet obligación de mantener los datos durante un periodo mínimo de tiempo con fines de investigación</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380CC9-162D-481C-A07B-4138FD8C0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la prác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punto de contacto designado contactará con su homólogo en el país objetivo en base 24/7;</a:t>
            </a:r>
            <a:endParaRPr b="0" lang="en-US" sz="2400" spc="-1" strike="noStrike">
              <a:solidFill>
                <a:srgbClr val="000000"/>
              </a:solidFill>
              <a:latin typeface="Calibri"/>
            </a:endParaRPr>
          </a:p>
          <a:p>
            <a:pPr marL="322200" indent="-3222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1800" spc="-1" strike="noStrike">
                <a:solidFill>
                  <a:srgbClr val="000000"/>
                </a:solidFill>
                <a:latin typeface="Calibri"/>
              </a:rPr>
              <a:t>Puntos de contacto designados: </a:t>
            </a:r>
            <a:r>
              <a:rPr b="0" lang="en-US" sz="1800" spc="-1" strike="noStrike" u="sng">
                <a:solidFill>
                  <a:srgbClr val="0000ff"/>
                </a:solidFill>
                <a:uFillTx/>
                <a:latin typeface="Calibri"/>
                <a:hlinkClick r:id="rId1"/>
              </a:rPr>
              <a:t>http://www.coe.int/en/web/conventions/full-list/-/conventions/treaty/185/declarations?p_auth=r6eUYhF4</a:t>
            </a:r>
            <a:r>
              <a:rPr b="0" lang="en-US" sz="1800" spc="-1" strike="noStrike">
                <a:solidFill>
                  <a:srgbClr val="000000"/>
                </a:solidFill>
                <a:latin typeface="Calibri"/>
              </a:rPr>
              <a:t> )</a:t>
            </a:r>
            <a:endParaRPr b="0" lang="en-US" sz="1800" spc="-1" strike="noStrike">
              <a:solidFill>
                <a:srgbClr val="000000"/>
              </a:solidFill>
              <a:latin typeface="Calibri"/>
            </a:endParaRPr>
          </a:p>
          <a:p>
            <a:pPr marL="322200" indent="-3222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icitará </a:t>
            </a:r>
            <a:r>
              <a:rPr b="1" lang="en-US" sz="2400" spc="-1" strike="noStrike" u="sng">
                <a:solidFill>
                  <a:srgbClr val="000000"/>
                </a:solidFill>
                <a:uFillTx/>
                <a:latin typeface="Calibri"/>
              </a:rPr>
              <a:t>preservar</a:t>
            </a:r>
            <a:r>
              <a:rPr b="0" lang="en-US" sz="2400" spc="-1" strike="noStrike">
                <a:solidFill>
                  <a:srgbClr val="000000"/>
                </a:solidFill>
                <a:latin typeface="Calibri"/>
              </a:rPr>
              <a:t> los datos necesarios para la investigación durante al menos 60 días (en ocasiones más; por ejemplo en EE.UU.: 90 días, renovable una vez)</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urante este tiempo, preparar y enviar la MLA para </a:t>
            </a:r>
            <a:r>
              <a:rPr b="1" lang="en-US" sz="2400" spc="-1" strike="noStrike" u="sng">
                <a:solidFill>
                  <a:srgbClr val="000000"/>
                </a:solidFill>
                <a:uFillTx/>
                <a:latin typeface="Calibri"/>
              </a:rPr>
              <a:t>obtener</a:t>
            </a:r>
            <a:r>
              <a:rPr b="0" lang="en-US" sz="2400" spc="-1" strike="noStrike">
                <a:solidFill>
                  <a:srgbClr val="000000"/>
                </a:solidFill>
                <a:latin typeface="Calibri"/>
              </a:rPr>
              <a:t> los dato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los datos existen, deben haberse conservado;</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se necesita la causa probable, mencione la solicitud de conservación rápida (fecha y número) en la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AC7AF3-F19F-423B-8326-49D0ED3BE4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a parece que debe redactarse una solicitud de MLA, ¿qué información debe comprobarse?</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Qué convenio debe aplicarse y mencionarse en la solicitud?</a:t>
            </a:r>
            <a:endParaRPr b="0" lang="en-US" sz="3000" spc="-1" strike="noStrike">
              <a:solidFill>
                <a:srgbClr val="000000"/>
              </a:solidFill>
              <a:latin typeface="Calibri"/>
            </a:endParaRPr>
          </a:p>
          <a:p>
            <a:pPr marL="312120" indent="-3121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Puedo mencionar el Convenio de Budapest?)</a:t>
            </a:r>
            <a:endParaRPr b="0" lang="en-US" sz="30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canales específicos de las transmision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traducció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contenido? (Por ejemplo, la causa probable en EE.UU.)</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1CCE10-29FA-45F4-BC18-9EB892EC0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áles son las posibles consecuencias de no cumplir con los requisitos de transmisión y redacción?</a:t>
            </a:r>
            <a:endParaRPr b="0" lang="en-US" sz="4000" spc="-1" strike="noStrike">
              <a:solidFill>
                <a:srgbClr val="000000"/>
              </a:solidFill>
              <a:latin typeface="Calibri"/>
            </a:endParaRPr>
          </a:p>
        </p:txBody>
      </p:sp>
      <p:sp>
        <p:nvSpPr>
          <p:cNvPr id="104" name=""/>
          <p:cNvSpPr txBox="1"/>
          <p:nvPr/>
        </p:nvSpPr>
        <p:spPr>
          <a:xfrm>
            <a:off x="474840" y="1203120"/>
            <a:ext cx="8386560" cy="4832280"/>
          </a:xfrm>
          <a:prstGeom prst="rect">
            <a:avLst/>
          </a:prstGeom>
          <a:noFill/>
          <a:ln w="0">
            <a:noFill/>
          </a:ln>
        </p:spPr>
        <p:txBody>
          <a:bodyPr anchor="t">
            <a:normAutofit fontScale="91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MLA no se ejecutará, o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 ejecución se retrasará y se solicitará más información</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s pruebas podrían no ser admisibles en un juicio si se infringe la legislación nacional e internacional</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s pruebas electrónicas son volátiles y pueden desaparecer en cualquier momento. (Solo 1 oportunidad)</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426E3-13F8-46BC-9AD8-4456EEA4C3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mera part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	</a:t>
            </a:r>
            <a:r>
              <a:rPr b="0" lang="en-US" sz="2100" spc="-1" strike="noStrike">
                <a:solidFill>
                  <a:srgbClr val="000000"/>
                </a:solidFill>
                <a:latin typeface="Calibri"/>
              </a:rPr>
              <a:t>Principios generales de la asistencia legal mutua</a:t>
            </a:r>
            <a:endParaRPr b="0" lang="en-US" sz="2100" spc="-1" strike="noStrike">
              <a:solidFill>
                <a:srgbClr val="000000"/>
              </a:solidFill>
              <a:latin typeface="Calibri"/>
            </a:endParaRPr>
          </a:p>
          <a:p>
            <a:pPr marL="335880" indent="-3358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egunda parte</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Preparación de una solicitud de asistencia legal mutua</a:t>
            </a:r>
            <a:endParaRPr b="0" lang="en-US" sz="21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ercer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dac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uart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cep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Quinta part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men</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6F0544-589D-4960-8730-BE32A32E2D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B5E82-1E0F-431A-A633-59084C2F53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Tercera parte</a:t>
            </a:r>
            <a:br>
              <a:rPr sz="3200"/>
            </a:br>
            <a:r>
              <a:rPr b="1" lang="en-US" sz="3200" spc="-1" strike="noStrike">
                <a:solidFill>
                  <a:srgbClr val="000000"/>
                </a:solidFill>
                <a:latin typeface="Calibri"/>
                <a:ea typeface="MS PGothic"/>
              </a:rPr>
              <a:t>Redacción de la solicitud de ML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1CC606-E258-4800-9FA7-A2494516B3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be ser la una solicitud de MLA?</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aís y autoridad pueden disponer de varios modos de presentar una MLA</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hay un modelo impuesto internacionalmente, excepto el de EE.UU. posterior al 22 de mayo de 20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riencias regionales orientadas al uso de formularios modelo para algunos países o algunos tipos de solicitudes (por ejemplo, formularios del modelo del CdE, formularios del modelo UNODC, solicitudes de datos electrónicos para EE.UU., ...)</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0ABF13-5495-4995-ADA1-E207A8B92C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jemplos regiona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La Unión Europea:</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de el 22 de mayo de 2017, a los estados de la UE </a:t>
            </a:r>
            <a:r>
              <a:rPr b="0" lang="en-US" sz="3200" spc="-1" strike="noStrike" u="sng">
                <a:solidFill>
                  <a:srgbClr val="000000"/>
                </a:solidFill>
                <a:uFillTx/>
                <a:latin typeface="Calibri"/>
              </a:rPr>
              <a:t>se les solicita</a:t>
            </a:r>
            <a:r>
              <a:rPr b="0" lang="en-US" sz="3200" spc="-1" strike="noStrike">
                <a:solidFill>
                  <a:srgbClr val="000000"/>
                </a:solidFill>
                <a:latin typeface="Calibri"/>
              </a:rPr>
              <a:t> sustituir solicitudes de MLA por un formulario único denominado Orden de investigación europea (EIO, por sus siglas en inglés) para la cooperación en asuntos delictivos entre estados miembros (excepto para equipos de investigación conjunta)</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5EB92-EA59-47C4-8F00-D249B806EA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 Orden de investigación europea (desde may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cumplimenta un formulario único entre países de la UE (excepto Irlanda y Dinamarca y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zos específicos para ejecutar l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específicos para denegar la ejecución de un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os estándares igualitarios para garantizar los derechos de los ciudadan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96944-B495-484B-85C7-BB39997A6F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rio del modelo de MLA del Consejo de Europa</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formulario de solicitud de asistencia mutua en materia penal adoptado por el PC-OC en su 69ª reunió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entado tan solo a ser una guía y ofrecer refer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adaptarse a cada país y 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436B7D-1A79-48E7-9BED-2DCB2E8841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E LA SOLICITU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imiento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rgencia/confidencialida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AUTORIDAD SOLICITA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les de contacto: números de teléfono y fax, direcciones de correo electrónic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AUTORIDAD SOLICITAD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TO Y MOTIV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ipo y propósito de la solicitud. - Base legal de la solicitud. - Tipo de delito. - Descripción de la etapa de los procedimientos penale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uando sea a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ción de la urge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n requisito a notificar sobre la fecha/ubicación de la ejecución de la solicitud, así como la presencia de personas concretas con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ción sobre la participación previa de funcionarios del orden público y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ción sobre solicitudes de MLA/comunicaciones previas (incluyendo números de refere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A55F4-CC4B-409C-A529-901E5997C6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AS IMPLICADAS (principalmente sospechos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br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ción en los procesos judicial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proceda y esté disponible: - Número de DNI/pasaporte. - Alias.  - Fecha/lugar de nacimi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ción sobre una persona legal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br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Cuando proceda y esté disponi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úmero de registro Dirección del asien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ones de las distintas fil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tos de contacto de la persona autorizada a actuar en nombre de la empresa </a:t>
            </a: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2EC48-6F43-4BCB-A82A-F860F4D887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isiones rogato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Hechos e información legal sobre el delit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en de los hechos relevantes que indican la hora, el lugar y la forma de comisión d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ificación lega del delito con provisiones relevantes incluyendo el rango de las penas aplicable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pción clara de los vínculos entre el delito y la persona y entre el delito y la prueba/medias/activos de origen delictivo buscados en el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ños provocados por 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ción sobre las víc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provisiones sobre intervalos de ti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quier otra información adicional que pudiera ayudar a la autoridad solicitada en la realización de la solicitud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43965-8122-4104-9766-C844368D18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Vista/interrogatorio de los testigos, expertos, sospechosos, personas acusadas y otras person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Vista/interrogatorio realizado por la autoridad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autoridad competente que debe realizar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l estado de la persona objeto de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ción de los derechos y obligaciones (por ejemplo, vista bajo juramento/afirmación o  el derecho a ser asistido por un abogado/intérprete) a ser notificado por la persona objeto de la vist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ción de si la persona objeto de la vista requiere protección (incluyendo los detalles sobre posibles acuerdos existentes entre ambas Partes en este problema)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6137F-DC60-4928-8E1C-374064CFF0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fontScale="98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l término de esta sesión, los delegados podrá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pliar o recordar sus conocimientos sobre los principios generales de la asistencia legal mutua</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r con conocimientos técnicos para fortalecer las posibilidades de ejecución de una solicitud de MLA en la etapa de redacció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ar una perspectiva eficiente en la recepción de una solicitud de MLA de un país extranjero</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C2684F-71F2-4EC1-867B-B1480DBDDB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7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Vista/interrogatorio por videoconfer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os motivos por los que no es deseable o posible asistir en person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de la autoridad judicial que realiza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lles de los acuerdos prácticos correspondientes (información del técnico sobre medios disponibles, propuestas relativas al pago de los costes, datos de contacto para la persona de contacto técnica,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ción de los derechos y obligaciones de la persona objeto d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chas/hora propuest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necesidad de un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medidas para proteger a la persona objeto de la vista/interrogatori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si el sospechoso o acusado consient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7E704-DBA5-43F1-A174-0F640BBAFD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Vista/interrogatorio por confere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l nombre de la autoridad judicial o las personas que realizarán la vista/interrogato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 que el testigo o experto está dispuesto a formar parte de la vista/interrogatorio mediante confere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98CC7-7B98-4150-9854-24CBCA5BDE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ención de prueb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Medidas general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ción de los elemento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úsqueda e incautación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po de búsqueda: búsquedas de cuerpos/búsquedas de viviendas/otras premis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 la medida de lo posible, información precisa de la persona o las premisas a buscar (localización, interés por la propiedad, cuentas banca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ción de documentos, registros, dat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recer datos sobre los vínculos entre la persona, el proceso judicial del extranjero y las medidas solicitadas, por ejemplo, el lugar a busca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ia del mandato judicial/orden emitida por las autoridades solicitant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BB978-2154-4634-975E-220EA6D5AA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Medidas específica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Datos electrónicos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ervación de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relevantes a conservar, incluyendo su localización (custodia de los datos informáticos almacenados, ubicación del sistema informático)</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s para creer que existe riesgo de pérdida o modifica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se seguirá una solicitud de MLA, con vistas a la obtención de los datos conserv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Buscar o acceso similar, incautar o protección similar o divulgar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ósito específic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buscados para incautación, protección o divulgación, incluyendo, si se sabe, su ubicación física y el controlador de datos (custodio de los datos informáticos almacenados), datos técnicos necesarios para ejecutar dicha a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asta donde sea posible, identificación precisa de la persona o premisas a buscar mientras se dan detalles en los vínculos entre la persona, los datos y el lugar donde busc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to de contac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sea a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ción sobre una solicitud previa para la conservación de los datos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BEC49-2767-4C90-AE94-FB69F4DA9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Incautación y/o confiscación de los activos de origen delictiv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os para creer que los activos están ubicados en el Estado solicitad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os procedimientos que el Estado solicitante desea segui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la medida buscada o cualquier otra medida similar puede obtenerse en el territorio del Estado solicitante bajo su legislación nacion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s: copia auténtica de la orden de incautación/confiscación y declaración de las bases para la orden; y, cuando proceda, atestado de que la confiscación es a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relativa a las cuentas bancarias en el Estado solicitad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la confiscación adquiere la forma de una solicitud para pagar una suma de dinero correspondiente al valor de los activos, proporcionar información sobre el valor máximo de los bienes a incaut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 de los documentos que demuestran que terceros han tenido la oportunidad de reclamar derechos. - Información sobre solicitudes similares enviadas a otros Est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ción sobre solicitudes anteriores para la obtención de pruebas/para la restricción de bienes u objetos incautados vinculados con la solicitud presente (nombre del acusado/persona sentenciada). - Resolución: indicación de elementos/artículos obtenidos por medios criminales que deben ponerse a disposición del Estado solicitante para devolverse a sus propietarios legítim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97471-9437-4700-9B6C-730DD871D4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89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ención de información sobre instituciones financie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os de la institución financiera (nombre del banco o institución financiera, dirección de la filial en la que se mantiene la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úmero de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que se solicita la información. - Motivos para creer que la cuenta se encuentra en el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ención de datos telefónicos/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ción relativa a dat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relativa al propietario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el que se requieren los datos telefónic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ción relativa a dat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la dirección IP, qué identificación de usuario se busca (cuando se conoce la dirección IP), de los registros de fecha y hora (día y hora del uso) y del nombre del ISP. - Indicación del nombre y la dirección del sospechoso (cuando se conoce, pero la dirección IP del usuario concreto no) y, si se conoce, la fecha y hora del uso y el nombre del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proce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Para datos de tráfico extendidos, información sobre el periodo buscado, para la que se utilizó la dirección IP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5B702-2297-4ADF-B582-9E93326C08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Realización de experi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ción sobre el experto buscad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a de preguntas a formular por parte del exper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ación de comunicacion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Cualquier información relevante sobre el estado de la persona y sobre el vínculo entre la medida y la investigación en curso relativa a los requisitos legales del Estado solicita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 Información sobre el plaz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Técnicas especiales de investigació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servaciones transfronterizas: consulte el Anexo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ga controlada: consulte el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igaciones encubiertas: consulte el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quipos de investigación conjunta: consulte el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4197D-A50F-4467-B587-B88AF04B9B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2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Modalidades específicas de ejecució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idades y procedimientos necesarios al amparo de la legislación del Estado solicitante y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ia de funcionarios y otras personas relevantes implicadas del Estado solicitante y el nombre y puesto de dichas person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icitud para realizar la vista/interrogatorio por parte de los ofic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zo de ejecu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ción entre autoridades relevantes y competentes (personas de contac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es (consulte la explicación en las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ioma a utilizar: indicación de los requisitos para mantener confidencial la existencia y el contenido de la solicitu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as normas para garantizar la protección de da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dades para la transmisión de prueb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si son necesarios los origin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ios preferentes de transmisión a emplear por parte del Estado solicitado (servicio de mensajería, coordinador, representante diplomático,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vanzar copia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BC879-430A-4A72-A5B4-002BB60BC0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io de documentos judiciales (órdenes judiciales y registros; citaciones como testigo/exper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ción común para todas las solicitudes de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servicio requeri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pecificación de los documentos a servi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sobre protección de testig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blemas de salvoconduc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para la confirmación del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si el servicio fall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robación de asunción de cost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ción requerida para la comparecencia de las citacion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de comparec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alternativa de comparecencia; 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tos aproximados a pagar y gastos de viaje y dietas reembolsab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u o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5813A-9571-4A36-AABF-8CEF9D3BD2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ransferencia provisional del una persona en custod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transferencia: al Estado solicitante 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s propuestas para la transferencia y devolució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ugar de la transfer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jetivo de la transferencia (por ejemplo: testigos, confrontació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claración de consentimiento de la persona en cuestió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ción de que la persona en cuestión permanecerá bajo custod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si se requiere transpor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a o personas de contacto para la transfere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os de los registros judicia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ción de la persona de la que se solicita registro judici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 Indicación de si la solicitud se realiza en un contexto n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INFORMACIÓN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lquier otra información que el Estado solicitante considere importante. - Persona de contacto (nombre, datos de contacto, idioma). - Lista de documentos adjun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llo, nombre, puesto del funcionario, fecha y firm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DD8CF-B59E-4E20-87B8-E936E22F98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Primera parte</a:t>
            </a:r>
            <a:br>
              <a:rPr sz="3200"/>
            </a:br>
            <a:r>
              <a:rPr b="1" lang="en-US" sz="3200" spc="-1" strike="noStrike">
                <a:solidFill>
                  <a:srgbClr val="000000"/>
                </a:solidFill>
                <a:latin typeface="Calibri"/>
                <a:ea typeface="MS PGothic"/>
              </a:rPr>
              <a:t>Principios generales de la asistencia legal mu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FB7C85-9D7D-4A41-A89C-0DA5EA6997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ntre los requisitos comunes frecuentes (con o sin tratado) se incluyen: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puesto, sello y firma de la autoridad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 legal para la solicitud (tratado internacional/convención o reciprocidad)</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co de trabajo legal en el Estado solicitante (nombre del sospechoso, cualificaciones legales de los delitos y provisiones relevantes, incluyendo pen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umen de los hech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das específicas busc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A3397-05CC-45B7-8FEB-297D722417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 legal de la solicitud de MLA</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o otros tratados y convenciones bilaterales o multilaterales, </a:t>
            </a:r>
            <a:r>
              <a:rPr b="1" lang="en-US" sz="2800" spc="-1" strike="noStrike" u="sng">
                <a:solidFill>
                  <a:srgbClr val="000000"/>
                </a:solidFill>
                <a:uFillTx/>
                <a:latin typeface="Calibri"/>
              </a:rPr>
              <a:t>el Convenio de Budapest </a:t>
            </a:r>
            <a:r>
              <a:rPr b="1" lang="en-US" sz="2800" spc="-1" strike="noStrike">
                <a:solidFill>
                  <a:srgbClr val="000000"/>
                </a:solidFill>
                <a:latin typeface="Calibri"/>
              </a:rPr>
              <a:t>puede utilizarse como base legal para las solicitudes de MLA relativas a ciberdelincuencia, así como para la recogida de pruebas en cualquier caso penal</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ART. 25.1 del Convenio de Budapest:</a:t>
            </a:r>
            <a:endParaRPr b="0" lang="en-US" sz="24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D25DCF-3A50-44FF-9D49-A86DA9E9C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 comunicación es tan importante como la propia solicitud: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mbre y puesto mencionado </a:t>
            </a:r>
            <a:r>
              <a:rPr b="0" lang="en-US" sz="2400" spc="-1" strike="noStrike" u="sng">
                <a:solidFill>
                  <a:srgbClr val="000000"/>
                </a:solidFill>
                <a:uFillTx/>
                <a:latin typeface="Calibri"/>
              </a:rPr>
              <a:t>claramente</a:t>
            </a:r>
            <a:r>
              <a:rPr b="0" lang="en-US" sz="2400" spc="-1" strike="noStrike">
                <a:solidFill>
                  <a:srgbClr val="000000"/>
                </a:solidFill>
                <a:latin typeface="Calibri"/>
              </a:rPr>
              <a:t> (no solo la firma y el se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ación de contacto (dirección de correo electrónico, número de teléfono, zona hor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iomas hablado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a:solidFill>
                  <a:srgbClr val="000000"/>
                </a:solidFill>
                <a:latin typeface="Calibri"/>
              </a:rPr>
              <a:t>Si la autoridad encargada de la ejecución tiene una pregunta o un problema y no comprende sus expectativas, podrá dar una respuesta clara y rápida, evitando la redacción de una nueva solicitud de MLA complet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BADBB6-5063-44E9-A4A0-5C0DB71C56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 de los hech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nga siempre presente que la autoridad solicitada no conoce su caso durante la explicación de los hechos e investigaciones necesa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 escriba nunca de forma demasiado concluyente </a:t>
            </a:r>
            <a:r>
              <a:rPr b="0" i="1" lang="en-US" sz="2000" spc="-1" strike="noStrike">
                <a:solidFill>
                  <a:srgbClr val="000000"/>
                </a:solidFill>
                <a:latin typeface="Calibri"/>
              </a:rPr>
              <a:t>(por ejemplo "las investigaciones para la identificación del Sr. X": explique).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se ejecutarán fácilmente casi cualquier cosa que solicit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incluso realizarán una comprobación dual de criminalidad para ciertos tipos de investigación (o si no se aplica tratado/convenció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gunos estados solicitarán elementos complementarios para acometer las medidas coactivas (por ejemplo, la causa probable en los EE.UU. y el certificado e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624904-8410-4221-B242-E9FFA727B0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iertos Estados exigirán información específica del conteni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jemplo del estándar de "causa probable" en EE.UU.: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rebuchet MS"/>
              </a:rPr>
              <a:t>«Un</a:t>
            </a:r>
            <a:r>
              <a:rPr b="0" lang="en-US" sz="2000" spc="-1" strike="noStrike">
                <a:solidFill>
                  <a:srgbClr val="000000"/>
                </a:solidFill>
                <a:latin typeface="Calibri"/>
              </a:rPr>
              <a:t> </a:t>
            </a:r>
            <a:r>
              <a:rPr b="1" i="1" lang="en-US" sz="2000" spc="-1" strike="noStrike" u="sng">
                <a:solidFill>
                  <a:srgbClr val="000000"/>
                </a:solidFill>
                <a:uFillTx/>
                <a:latin typeface="Trebuchet MS"/>
              </a:rPr>
              <a:t>motivo razonable para sospechar que una persona ha cometido o está cometiendo un delito o que un lugar contiene elementos específicos relacionados con un delito»</a:t>
            </a:r>
            <a:r>
              <a:rPr b="0" lang="en-US" sz="2000" spc="-1" strike="noStrike">
                <a:solidFill>
                  <a:srgbClr val="000000"/>
                </a:solidFill>
                <a:latin typeface="Calibri"/>
              </a:rPr>
              <a:t> </a:t>
            </a:r>
            <a:r>
              <a:rPr b="0" i="1" lang="en-US" sz="2000" spc="-1" strike="noStrike">
                <a:solidFill>
                  <a:srgbClr val="000000"/>
                </a:solidFill>
                <a:latin typeface="Trebuchet MS"/>
              </a:rPr>
              <a:t>(diccionario de derecho de Black)</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 solicitud de MLA </a:t>
            </a:r>
            <a:r>
              <a:rPr b="1" lang="en-US" sz="2000" spc="-1" strike="noStrike" u="sng">
                <a:solidFill>
                  <a:srgbClr val="000000"/>
                </a:solidFill>
                <a:uFillTx/>
                <a:latin typeface="Calibri"/>
              </a:rPr>
              <a:t>debe</a:t>
            </a:r>
            <a:r>
              <a:rPr b="1" lang="en-US" sz="2000" spc="-1" strike="noStrike">
                <a:solidFill>
                  <a:srgbClr val="000000"/>
                </a:solidFill>
                <a:latin typeface="Calibri"/>
              </a:rPr>
              <a:t> ofrecer la siguiente informació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tipo de datos a incautar</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tivo por el que se relaciona con el delito penal que se está investigando (vínculo con el presunto perpetrador y con el crimen)</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ablemente, los datos se encuentren donde se realizará la búsqueda (no olvide mencionar cualquier solicitud de conservación previa realizada al amparo del Convenio de Budapest)</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A7EB1-7F7D-4627-9AC5-B9E95C2EA3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 DE DAT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ESTÁNDAR LEGAL DE EE.U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del suscrip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relación" entre la prueba buscada y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transac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 los datos deben ser relevantes y el materiales para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STÁNDARES LEGALES DE EE.UU. A CUMPLIR EN EL RESUMEN DE HECH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226B3-07CE-4BB0-B419-9C7A3EACC1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en la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8000"/>
          </a:bodyPr>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licitar todas las medidas que pudieran ordenarse en su sistema legal y que parezcan de utilidad para su caso penal</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cionar la confidencialidad en caso necesario: NO se trata de un principio fundamental en todos los Estados </a:t>
            </a:r>
            <a:r>
              <a:rPr b="0" lang="en-US" sz="2000" spc="-1" strike="noStrike">
                <a:solidFill>
                  <a:srgbClr val="000000"/>
                </a:solidFill>
                <a:latin typeface="Calibri"/>
              </a:rPr>
              <a:t>(</a:t>
            </a:r>
            <a:r>
              <a:rPr b="0" i="1" lang="en-US" sz="2000" spc="-1" strike="noStrike">
                <a:solidFill>
                  <a:srgbClr val="000000"/>
                </a:solidFill>
                <a:latin typeface="Calibri"/>
              </a:rPr>
              <a:t>por ejemplo, en EE.UU.) – Nota: ART. 28 del Convenio de Budapest</a:t>
            </a: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car cualquier urgencia </a:t>
            </a:r>
            <a:r>
              <a:rPr b="0" i="1" lang="en-US" sz="2000" spc="-1" strike="noStrike">
                <a:solidFill>
                  <a:srgbClr val="000000"/>
                </a:solidFill>
                <a:latin typeface="Calibri"/>
              </a:rPr>
              <a:t>(por ejemplo, detención antes de juicio, plazos específicos,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 lo más específico posible</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Por ejemplo:  especifique el lugar a buscar, qué datos se buscan, especifique las fechas y la hora de una dirección IP a identificar (registro de fecha y hora)</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que cualquier procedimiento particular</a:t>
            </a:r>
            <a:r>
              <a:rPr b="0" lang="en-US" sz="2000" spc="-1" strike="noStrike">
                <a:solidFill>
                  <a:srgbClr val="000000"/>
                </a:solidFill>
                <a:latin typeface="Calibri"/>
              </a:rPr>
              <a:t> que deba implementarse para la regularidad de la medida solicitada; de lo contrario, el Estado solicitante ejecutará el MLA de acuerdo con su propia legislación nacional.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or ejemplo: testigos con juramento específico, tipo de copia y protección precisa para datos electrónicos o dispositivo)</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C2CB15-E7C4-4C38-ACBD-CACB7D78A2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60"/>
            <a:ext cx="884232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é </a:t>
            </a:r>
            <a:r>
              <a:rPr b="1" lang="en-US" sz="3200" spc="-1" strike="noStrike">
                <a:solidFill>
                  <a:srgbClr val="000000"/>
                </a:solidFill>
                <a:latin typeface="Calibri"/>
              </a:rPr>
              <a:t>debe/puede</a:t>
            </a:r>
            <a:r>
              <a:rPr b="1" lang="en-US" sz="3600" spc="-1" strike="noStrike">
                <a:solidFill>
                  <a:srgbClr val="000000"/>
                </a:solidFill>
                <a:latin typeface="Calibri"/>
              </a:rPr>
              <a:t> adjuntarse a la MLA?</a:t>
            </a:r>
            <a:endParaRPr b="0" lang="en-US" sz="3600" spc="-1" strike="noStrike">
              <a:solidFill>
                <a:srgbClr val="000000"/>
              </a:solidFill>
              <a:latin typeface="Calibri"/>
            </a:endParaRPr>
          </a:p>
        </p:txBody>
      </p:sp>
      <p:sp>
        <p:nvSpPr>
          <p:cNvPr id="176" name=""/>
          <p:cNvSpPr txBox="1"/>
          <p:nvPr/>
        </p:nvSpPr>
        <p:spPr>
          <a:xfrm>
            <a:off x="122400" y="771480"/>
            <a:ext cx="8842320" cy="5315040"/>
          </a:xfrm>
          <a:prstGeom prst="rect">
            <a:avLst/>
          </a:prstGeom>
          <a:noFill/>
          <a:ln w="0">
            <a:noFill/>
          </a:ln>
        </p:spPr>
        <p:txBody>
          <a:bodyPr anchor="t">
            <a:normAutofit fontScale="95000"/>
          </a:bodyPr>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DEB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quiera la convención o tratado aplicable (incluyendo generalmente, identidad y función de la autoridad solicitante, resumen de los hechos y cualificaciones y provisiones legales y provisiones relativas a las pena en las que se ha incurrido)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n ocasiones, las convenciones o tratados requieren una lista de preguntas para interrogatorios</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raducción, cuando proceda (incluyendo los documentos adjuntos y estipulaciones)</a:t>
            </a:r>
            <a:endParaRPr b="0" lang="en-US" sz="1900" spc="-1" strike="noStrike">
              <a:solidFill>
                <a:srgbClr val="000000"/>
              </a:solidFill>
              <a:latin typeface="Calibri"/>
            </a:endParaRPr>
          </a:p>
          <a:p>
            <a:pPr lvl="1" marL="705600" indent="-271440">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PUED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sulte útil para que la autoridad solicitada comprenda lo que se busca (por ejemplo, copias de órdenes bancarias falsas, interrogatorios, correos electrónicos sospechosos,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Orden de producción nacional u orden de búsqueda si existiera (no siempre necesaria)</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stipulaciones jurídicas nacionales relativas a poderes específicos </a:t>
            </a:r>
            <a:r>
              <a:rPr b="0" i="1" lang="en-US" sz="1900" spc="-1" strike="noStrike">
                <a:solidFill>
                  <a:srgbClr val="000000"/>
                </a:solidFill>
                <a:latin typeface="Calibri"/>
              </a:rPr>
              <a:t>(por ejemplo, investigaciones judiciales no siempre bien conocidas en algunos países)</a:t>
            </a:r>
            <a:endParaRPr b="0" lang="en-US" sz="19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CD5FF1-C31A-462B-97D7-130E2797BA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os rápidos de transmitir una solicitud de MLA:</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es necesaria la solicitud original, la mayoría de los tratados o convenciones cuentan con un procedimiento de transmisión específico para asuntos urgente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buena práctica común orientada específicamente a la recogida de pruebas electrónicas es el uso de copias anticipadas por correo electrónico, directamente entre autoridades judiciales o entre autoridades central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 25.3 del Convenio de Budapest</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78A9FF-7ECE-4851-A5A1-85282210F1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 del Convenio de Budapest</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Cada parte puede, en circunstancias de urgencia, realizar solicitudes de asistencia mutua o comunicaciones relativas a estas por medios de comunicación rápidos, incluyendo el fax o el correo electrónico, en la medida en que dichos medios ofrezcan los niveles adecuados de seguridad y autentificación (incluyendo el uso de cifrado, cuando sea necesario), con confirmación formal de seguimiento, cuando lo exija la Parte solicitada. La Parte solicitada aceptará y responderá a la solicitud por medio de cualquiera de estos medio de comunicación rápidos.</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72845-15E5-4CED-9E53-C6D132579B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finir la asistencia legal mutua internacional?</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nternacional, decisión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ende del marco de trabaj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be distinguirse de la cooperación policial, aunque es complementari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be definirse como cualquier medio legal orientado a conseguir una persona, información, documento o cualquier elemento de prueba necesaria para un caso judicial y lo que se encuentra fuera del alcance, debido a que está ubicado en otro país, bajo la autoridad de otro estado.</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D39486-EFB9-4764-B58D-1B636DC742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75896-B398-4546-87DB-986F03AB6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Cuarta parte</a:t>
            </a:r>
            <a:br>
              <a:rPr sz="3200"/>
            </a:br>
            <a:r>
              <a:rPr b="1" lang="en-US" sz="3200" spc="-1" strike="noStrike">
                <a:solidFill>
                  <a:srgbClr val="000000"/>
                </a:solidFill>
                <a:latin typeface="Calibri"/>
                <a:ea typeface="MS PGothic"/>
              </a:rPr>
              <a:t>Recepción de una solicitud de ML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8BD0C5-7BAC-45AE-82E9-0AED329171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na buena práctica relativa a la recepción de una solicitud de MLA para ejecución es </a:t>
            </a:r>
            <a:br>
              <a:rPr sz="4000"/>
            </a:br>
            <a:r>
              <a:rPr b="1" lang="en-US" sz="4000" spc="-1" strike="noStrike">
                <a:solidFill>
                  <a:srgbClr val="000000"/>
                </a:solidFill>
                <a:latin typeface="Calibri"/>
              </a:rPr>
              <a:t>el acuse de recibo</a:t>
            </a:r>
            <a:br>
              <a:rPr sz="4000"/>
            </a:br>
            <a:endParaRPr b="0" lang="en-US" sz="4000" spc="-1" strike="noStrike">
              <a:solidFill>
                <a:srgbClr val="000000"/>
              </a:solidFill>
              <a:latin typeface="Calibri"/>
            </a:endParaRPr>
          </a:p>
        </p:txBody>
      </p:sp>
      <p:sp>
        <p:nvSpPr>
          <p:cNvPr id="191" name=""/>
          <p:cNvSpPr txBox="1"/>
          <p:nvPr/>
        </p:nvSpPr>
        <p:spPr>
          <a:xfrm>
            <a:off x="456840" y="238572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nque no lo exija la legislación nacional, una buena práctica es mantener a la autoridad solicitante informada de que usted estará a cargo de la ejecución (por ejemplo, mediante comunicación por correo electrónico,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un requisito bajo ciertas situaciones (por ejemplo, órdenes de investigación europea (EIO) dentro de l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569FC0-D356-43C3-AA1F-12ED2AEB22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analizar la solicitud de MLA para ejecución:</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convención/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orma y contenido, adjuntos relevan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legislación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ero tambié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lexibilidad,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ción con el remitente, si fuera necesa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ción/explicación al remitente cuando la asistencia deba denegarse</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E1934D-5A7E-4436-95F9-DA7686E7BC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 la ley nacional parece oponerse a la ejecución de la solicitud:</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 las medidas que deben seguir ejecutándos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alizar alternativas legales, si las hay, que puedan lograr el mismo objetivo, así como medidas provisionales para salvaguardar la prueb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rse con la autoridad solicitante antes de la decisión final, cuando sea posible, para discutir las alternativas o la información complementaria necesaria para permitir la ejecució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03ED18-45A2-4CD2-A0F7-1EA5019744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unicación entre autoridades: ART. 27 del Convenio de Budapest</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7: procedimientos pertenecientes a solicitudes de asistencia mutua en ausencia de acuerdos internacionales vigente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519D2-0540-4722-A158-2C6168F5C0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7 del Convenio de Budapes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5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ntes de denegar o posponer la asistencia, la Parte solicitada considerará, cuando proceda tras consultar con la Parte solicitante, si la solicitud puede concederse parcialmente o someterse a dichas condiciones si se considera necesario.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a Parte solicitada informará puntualmente a la Parte solicitante del resultado de la ejecución de una solicitud de asistencia. </a:t>
            </a:r>
            <a:r>
              <a:rPr b="0" lang="en-US" sz="2400" spc="-1" strike="noStrike">
                <a:solidFill>
                  <a:srgbClr val="000000"/>
                </a:solidFill>
                <a:latin typeface="Calibri"/>
              </a:rPr>
              <a:t>Se darán los motivos de cualquier denegación o aplazamiento de la solicitud. La Parte solicitada también informará a la Parte solicitante de cualquier motivo que haga que sea imposible la ejecución de la solicitud o que probablemente la retrase significativament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0C641-4054-48FD-93B1-00680FB1E9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486500-9B84-44D9-8A11-696CB66EE6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5482ED-D3A9-432E-85AB-955B1E813E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6C2EDE-356E-4084-9B13-1753339E5C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stados son soberanos dentro de su territo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están orientadas a preservar la soberanía nacional organizando modos de cooperac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mente, las bases para la denegación quedan limitadas por conven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posee criterios específicos en lo que se refiere a si su legislación nacional debe aplicarse en el extranj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también están orientadas a preservar que los poderes y procedimientos de las autoridades nacionales se sigan en el país solici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a asistencia legal mutua descansa sobre los siguientes principios principa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130594-AE2D-4EB6-AB5C-5E1B691AE0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inta parte</a:t>
            </a:r>
            <a:br>
              <a:rPr sz="3600"/>
            </a:br>
            <a:r>
              <a:rPr b="1" lang="en-US" sz="3600" spc="-1" strike="noStrike">
                <a:solidFill>
                  <a:srgbClr val="000000"/>
                </a:solidFill>
                <a:latin typeface="Calibri"/>
              </a:rPr>
              <a:t>Resumen</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6D0921D7-C740-4559-B218-38EE3AAEF87C}"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Al término de esta sesión, los participantes podrán:</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mpliar o recordar sus conocimientos sobre los principios generales de la asistencia legal mutua</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Contar con conocimientos técnicos para fortalecer las posibilidades de ejecución de una solicitud de MLA en la etapa de redacción</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doptar una perspectiva eficiente en la recepción de una solicitud de MLA de un país extranjero</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A352B066-39C6-4A8B-B8A7-7C8029D3B98B}"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MS PGothic"/>
              </a:rPr>
              <a:t>Pre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317960CD-B9B6-4299-ACD9-329F8AD52E31}"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uevos retos en materia de cooperación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éfonos y ordenadores entre fronteras para cometer deli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ciones/mensajes o correos electrónicos cifrados para comunicarse atravesando fronteras entre có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uebas situadas en el extranje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 de los datos como parte de la prueb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del proceso regular de asistencia legal mu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059714-0D74-4C42-BE02-ED7D998040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36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ealidad judicial comparada con la realidad digital</a:t>
            </a:r>
            <a:endParaRPr b="0" lang="en-US" sz="3000" spc="-1" strike="noStrike">
              <a:solidFill>
                <a:srgbClr val="000000"/>
              </a:solidFill>
              <a:latin typeface="Calibri"/>
            </a:endParaRPr>
          </a:p>
        </p:txBody>
      </p:sp>
      <p:graphicFrame>
        <p:nvGraphicFramePr>
          <p:cNvPr id="71" name=""/>
          <p:cNvGraphicFramePr/>
          <p:nvPr/>
        </p:nvGraphicFramePr>
        <p:xfrm>
          <a:off x="457200" y="731880"/>
          <a:ext cx="8145360" cy="6126120"/>
        </p:xfrm>
        <a:graphic>
          <a:graphicData uri="http://schemas.openxmlformats.org/drawingml/2006/table">
            <a:tbl>
              <a:tblPr/>
              <a:tblGrid>
                <a:gridCol w="3782880"/>
                <a:gridCol w="4362480"/>
              </a:tblGrid>
              <a:tr h="61268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 momento concreto para cometer el crim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Jurisdicción y soberanía regiona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normalmente visuales físicamente (registros bancarios, sangre, cuchillos, AD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empo necesario para investigar y recoger prueb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Lugar a investigar determinable fácilm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rmalmente jueces y fiscales LE especializado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gundos para intercambiar archivos y cometer el deli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no in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fectos internacionales del delito y pruebas en cualquier lug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electrónicas difíciles de encontrar y altamente volátiles y, en ocasiones, cifrad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ta volatilidad de las pruebas electrónic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Incertidumbre sobre la ubicación de los dat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os fiscales y jueces formados y especializados en LE a continúan siendo necesarios debido a la constante evolución de la tecnología y a que no todos los abogados no expertos en informática</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DB2AF-158A-48B1-A1C3-11C2750F1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t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respetar la soberanía de otros estados y cumplir con convenios internac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nte a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mayor eficiencia y rapidez a la hora de recoger pruebas electrónicas y de arrestar a los autores de los hech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1EE07B-C2BF-44C5-B454-3EB0CA81F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emas lo más</cp:lastModifiedBy>
  <cp:lastPrinted>2017-06-04T15:39:20Z</cp:lastPrinted>
  <dcterms:modified xsi:type="dcterms:W3CDTF">2019-04-09T16:46:58Z</dcterms:modified>
  <cp:revision>104</cp:revision>
  <dc:subject/>
  <dc:title>Introductory Cybercrime Training for Judges and Prosecutors</dc:title>
</cp:coreProperties>
</file>