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F76B3-E9F3-4CD5-90C5-497DD1688B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D9233-AD17-45A2-A413-EA1F25696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resumen de las pruebas del caso práctico presentará en forma abreviada las pruebas que se presentarán a l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C576C-58FE-4498-A9E0-C0B8D1C25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os electrónicos intercambiados entre el personal del FBA y UBP a cargo de diferentes acuerdos comerciales y de negocios para la impresión de bonos de aniversa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rato entre el FBA y UBP sigue al intercambio de correos electrónicos y lo sitúa en el esquema del marco comercial del acuerdo. También establece pasos cruciales para el desarrollo de casos adicion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303BE-B129-46CC-93C9-53EA8CB57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 extractos bancarios permiten seguir de cerca el desarrollo del caso. Los delegados podrán implementar el principio de "seguir el dinero" mediante el análisis de los extractos bancarios del FBA y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proforma es la original emitida por UBP al FBA por los 100.000 € de anticip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3A4DE-82CF-4A71-B326-AF1742629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segund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D108B-56E6-4F00-8AF4-EC2C75CB4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1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rreo electrónico y los siguientes son herramientas de comisión. El contenido de los correos electrónicos está redactado por el autor del delito e incluye los elementos necesarios para el análi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falsa está redactada por el autor del delito y dirige la transferencia del dinero a la cuenta bancaria real existente, pero abierta con un propósito fraudul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E530C-895D-4FCF-B2DA-7A9F4A7D1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laraciones de responsables del Federal Bank of Atlantis que estuvieron implicados en las diferentes etapas del caso. Las declaraciones más importantes son las del Departamento Financiero y de TI, que da pistas o explicaciones sobre la forma en que se produjo la comisión r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DFC51-DC12-4F51-B56D-B107A6199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terc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40F54-74D7-48CE-8C3A-48E9A7CB0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7381F-96D1-418A-BF7D-B0E010B2A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64483-6CCA-41E6-A67A-604562339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primera parte de la presentación consistirá en una introducción a la pruebas iniciales provistas en el material del context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segunda parte presentará el diseñ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tercera parte será la comisión del acto crimi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cuarta parte sentará las bases para el inicio de la investigación y el trabajo del personal en form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quinta parte es un resumen de las presentada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E00EA-FEB1-4086-A17B-8B9D07DBE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04CBF-7066-4120-878F-2AFBACDEF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cuart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38518-97E8-4D5B-9587-E2E0747AD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8EF22-9CF1-42EA-BE86-DA9465947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F885D-D688-4F0A-8E7D-914D56927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E19DA-3B7A-450C-81E4-78CE47891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exto comienza con el establecimiento del Federal Bank of Atlantis (FBA) como un banco internacional conocido, consolidado y acreditado. Una descripción como esta debería llevar a los participantes a concluir que este tipo de banco no debería estar implicado en ningún tipo de problema, y ​​mucho menos en uno similar, que se describirá más adelante en 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6A223-01F9-43B5-83C1-BC20D99CA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e empresa de las compañías implicadas en el contexto del caso. El material incluye 3 archivos distintos de MS Word en formato 97-2003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F8F37-BBE6-4006-BADA-319C2193C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intos documentos complementarios para el contexto del caso. El material incluye 3 archivos distintos de MS Word en formato 97-2003 y Adobe Reader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0001E-BAA1-4FE8-9BDD-2A6D40A42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prim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338BD-4920-4117-A44C-58CFE12AA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881-D51B-41E1-AFC2-2BD1F156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BB1-233D-4636-A9C1-15F81DA7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85A-4708-402E-89C8-0CE47CDC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586-B90A-4E2F-B3BB-8040C8DD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FEB-2A61-4EF7-B016-7C969917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E73-0925-4B88-9388-BA62ADB4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695-E06A-4C21-BD00-2E627374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530-8F6C-477D-8D83-25450775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972-7462-4433-B81B-1483B306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2F0-3C05-4D89-B973-DFBC0264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4FC0-4D64-4A65-B278-6C0E4EF8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85D6-83FA-4124-A64A-4AADCFB0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BB7CB-616B-42A6-88B9-87449A6483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31031-5948-4571-B0D2-B45D84E18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so avanzado de formación en ciberdelincuencia para jueces y fi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ón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umen de la pruebas del caso prác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47760" y="86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rreos electrónic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cambio de correos electrónicos entre el FBA y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n correos electrónicos tras el desarrollo del intercambio entre la parte contratante y los responsables en el FBA y UBP para la emisión del bono aniversa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cumentos e infor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 el contrato entre el FBA y UBP no solo para tener una perspectiva y realizar un análisis más minuciosos, sino también como prueba complementaria para el archivo del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347760" y="90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A4824BB-7222-47E2-9FC9-46A939298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34800" y="7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Extractos bancarios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recogen numerosas transacciones, incluido el pago por adelantado de 100.000 € que se detalla en esta Declaració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ocklands Securities Bank of Norland es la entidad que realiza las transacciones bancarias de United Bank Print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ura proforma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UBP ha emitido la factura proforma al FBA por un monto de 100.000 €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-60948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A5AD1D5-232D-40D5-A628-B74B06692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1E2C64F-543A-4A8D-96A5-CFBD7E5A5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rcer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isión: pruebas y declaraciones de testig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19498F2-B5F0-413F-917C-1F7B5B565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Correos electrónic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l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rreo electrónico e intercambio subsiguiente como momento clave de la comisió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Extractos banca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 factura falsa de UBP incluye información de cuenta fraudulenta y una solicitud de pago por valor de 200.000 € tras finalizar la impresión de 20.000 bon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DDFE919-F659-4E66-B7E7-CB44B858C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peta "Declaraciones de testigo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Logística y Operaciones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Financiero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Tecnologías de la Información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7EDA5A8-C939-4111-8025-7DC9E2834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A33F7C1-4A07-4AA1-B1B5-1ACE338E1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arta par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C814B6F-C53C-4645-9CA1-A55015A50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naza persistente avanz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conjunto de procesos de piratería informática sigilosa y continua, a menudo orquestados por una persona o personas y dirigidos a una entidad específic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CB641F9-063E-472B-86B3-9C369F2E5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ptomon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activo digital diseñado para funcionar como medio de intercambio utilizando la criptografía para asegurar transacciones y controlar la creación de unidades adicionales de la mon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81AC408-A3E5-46BE-BE8C-89204A822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803160"/>
            <a:ext cx="868680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imera parte.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gunda parte.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rcera parte.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isión y declaraciones de testi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arta parte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inta parte.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6933AC9-86B3-4440-AD11-C1148051E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ber-​​ingeniería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tipo de truco de confianza con el propósito de recopilar información, cometer un fraude o acceder a un sistema"; difiere de un "engaño" tradicional en que a menudo es uno de los muchos pasos dentro de un esquema de fraude más complej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DBCB73A-4B8C-4F58-9353-D1382A5CC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2790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2257863-403D-47AF-9938-EB41E91DD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término de esta sesión, los delegados sabr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la introducción y las pruebas iniciales del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el desarrollo del caso mediante el análisis de pruebas electrónicas y reales present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guir la comisión real y encontrar hechos adicionales en declaraciones de testig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Encontrar información adicional acerca de términos y definiciones clave de las herramientas del mundo cibernético y de la ciberdelincuencia, y aplicarlas en este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4F63F52-D84B-48CB-A687-0FBE3274D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AEB3B80-A96D-48BE-B2B1-3D54C3BE4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865080"/>
            <a:ext cx="8512200" cy="54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término de esta sesión, los delegados sabr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Comprender la introducción y las pruebas iniciales del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Comprender el desarrollo del caso mediante el análisis de pruebas electrónicas y reales present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Seguir la comisión real y encontrar hechos adicionales en declaraciones de testig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contrar información adicional acerca de términos y definiciones clave de las herramientas del mundo cibernético y de la ciberdelincuencia, y aplicarlas en este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960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6B9CD0D-4760-45D7-92B2-D8C563198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mera parte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9FE5DA9-BF59-401E-9E16-E61509A11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Introducción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opsis del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contexto de caso práctico pertenece a los esquemas conocidos recientemente como de "Compromiso comercial por correo electrónico" o "BEC", que derivan de fraudes detectados anteriormente como "Fraude del CEO" o de "Intermediarios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alcance y el tamaño de estos fraudes es asombroso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5AD88A6-C58B-4A0A-AE91-36EBA6186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"Perfiles de empresa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 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130E779-8A01-43EE-B93D-312932261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Documentos e informes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uncio del FBA de su bono aniver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isión del Consejo de Administración sobre la emisión de bonos y elementos financieros del mism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n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royecto inicial del bono que incluye elementos impres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to entre el FBA y UB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Contrato suscrito para el servicio de impresión de 20.000 elementos del bono aniversario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18BD9C7-AC8E-4BEE-8E1D-1085FB26A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1172658-02AD-4004-A9BF-ACFA6983C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gund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AD30ECB-1280-44C6-AE7C-6EEB18C24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Ademas lo más</cp:lastModifiedBy>
  <dcterms:modified xsi:type="dcterms:W3CDTF">2019-04-03T00:15:49Z</dcterms:modified>
  <cp:revision>183</cp:revision>
  <dc:subject/>
  <dc:title>Introductory Cybercrime Training for Judges and Prosecutors</dc:title>
</cp:coreProperties>
</file>