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8EE87-47B0-4E91-8B22-D9A67CC1B947}"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40F79-28A8-4B7C-86B3-3A2DB93FE8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F54D2-7F82-4241-8CF7-B3786B9196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 solicitud. Es importante que el instructor tenga en cuenta que los participantes pueden necesitar personalizar la solicitud de acuerdo con la legislación nacional. En concreto, los delitos nacionales y los poderes procesales deben introducirse antes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olicitud está diseñada para ser la base del ejercicio de la vista. Es el documento en el que se basará la argumentación del Solicitante, y lo que escuchará la autoridad competente. Por lo tanto, una lectura previa junto con el instructor resultará tremendamente útil a los participante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ED3A7-4488-4BB3-A3F1-BB123C4D56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50A47-67FD-4C86-A9FF-C3F71E2688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7873C-8FEC-4246-B855-3E60F3C847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relaciona con la función del instructor. Se subdivide en tres área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antes d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urante 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espués del ejercicio</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52BC0-4A88-49FC-B5DF-D1F9B91B1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las responsabilidades del instructor antes d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el propósito del ejercicio de la vista: El instructor debe explicar que el ejercicio de la vista está dirigido a proporcionar a los participantes habilidades prácticas para celebrar una vista. Concretamente, está diseñado para brindar a los participantes la oportunidad de aplicar de manera práctica los conocimientos adquiridos en los cursos introductorios y avanzados de formación judicial, con el beneficio de recibir comentarios. También debe explicarse claramente la función de cada subgrup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qué se espera que suceda durante la tarea y el proceso del ejercicio de la vista: El instructor debe explicar a los participantes sus funciones durante el ejercicio de la vista, así como el proceso de celebración de esta (es decir, estudiar la solicitud, presentar la solicitud, preguntar/responder preguntas, autorizaciones seguidas del intercambio de funciones y repetición del proceso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ecer una cronología realista para la vista: Esto es importante, ya que los participantes deben saber de cuánto tiempo disponen para que cada uno argumente la solicitud y prepare/lea la orden. Esto puede variar en función del tamaño de los grup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acuerdo con la Segunda parte de este módulo, debe presentarse y resumirse la solicitud a los participant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2DF55-98F9-4D3F-9E6A-D2FF89D8A2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a función del instructor durante el ejercicio de la vist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egurar que todos los participantes estén implicados y participen activamente en el ejercicio: Esto es fundamental. Puede darse el caso de que uno o más individuos concretos completen el ejercicio de la vista por sí mismos, sin la participación de los demás miembros del grupo. Aunque puede suceder que ciertas personas de un grupo tomen la iniciativa, los demás deberán continuar participando en 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tar ofrecer indicaciones innecesarias y brindarlas solo cuando sea necesario: El instructor no debe ser el único protagonista del ejercicio de la vista. Brinde a los participantes la oportunidad de demostrar sus conocimientos. El instructor tendrá oportunidad de compartir sus impresiones tras la finalización del ejercicio de la vista. El instructor debe comprender que las intervenciones solo se deben realizar durante el ejercicio de la vista cuando sea necesar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r a los diferentes grupos y tomar notas: La función principal del instructor durante el ejercicio es observar cuidadosamente a los participantes y tomar notas, identificando las posibles áreas de mejora y que pudieran ser el tema del proceso de evaluación en forma de "encabezado".</a:t>
            </a: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6BA13-78C5-4C89-93F3-3C5383568F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laciona con la función del instructor tras completar el ejercicio. El contenido de esta diapositiva se analiza con más detalle en la sesión sobre Impresiones en el Ejercicio de la vista.</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73322-A466-4A85-9C3D-9A8E8C7E2D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ofrecer a los participantes la oportunidad de realizar cualquier pregunta que puedan te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sobre cada uno de los aspectos de la sesió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DCC0D-C04E-4A04-B049-5E59EE84E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está relacionada con el papel del instructor. Se divide en tres subpartes, a saber: la función del instructor antes, durante y después del ejercicio de la vista. </a:t>
            </a:r>
            <a:endParaRPr b="0" lang="en-US" sz="1200" spc="-1" strike="noStrike">
              <a:solidFill>
                <a:srgbClr val="000000"/>
              </a:solidFill>
              <a:latin typeface="Calibri"/>
            </a:endParaRPr>
          </a:p>
        </p:txBody>
      </p:sp>
      <p:sp>
        <p:nvSpPr>
          <p:cNvPr id="1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C4128-AE29-4EEE-9E26-7279EB8D9D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D96AF-ECAF-4D19-AF87-E06E54DB66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p:txBody>
      </p:sp>
      <p:sp>
        <p:nvSpPr>
          <p:cNvPr id="1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3DC36-1582-43E4-9687-041751C76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 diagrama de flujo que explica el proceso del ejercicio de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Divida a los participantes en grupos de cuatro. Esto se puede hacer con anterioridad, en los días previos. Se pueden formar grupos más grandes si hubiera un gran número de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Cada grupo debe dividirse en dos subgrupos iguales. Si un grupo tiene cuatro participantes, cada subgrupo deberán formarlo d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El primer subgrupo recibirá el nombre de Solicitante, mientras que el segundo subgrupo será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os solicitantes recibirán una solicitud pre-redactada. El instructor puede guiar a los participantes a través del contenido d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Los participantes deben tener tiempo para celebrar la vista. Primero, se espera que el subgrupo 1 presente la solicitud, después el subgrupo 2 formulará las preguntas que estime necesarias antes de otorgar una autorización verbal detallada. </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tinuación, se les pedirá a los subgrupos que intercambien sus funciones; a continuación, se repetirá el proceso de vista y autorización. De esta forma, nos aseguramos de que ambos subgrupos tengan la oportunidad de actuar como Solicitante y Autoridad competente.</a:t>
            </a:r>
            <a:endParaRPr b="0" lang="en-US" sz="1200" spc="-1" strike="noStrike">
              <a:solidFill>
                <a:srgbClr val="000000"/>
              </a:solidFill>
              <a:latin typeface="Calibri"/>
            </a:endParaRPr>
          </a:p>
        </p:txBody>
      </p:sp>
      <p:sp>
        <p:nvSpPr>
          <p:cNvPr id="1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3D8B1-4B09-418E-B249-DDA74D0FCB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cómo debe el instructor dividir los grupos para los propósitos del ejercicio de la vista. Es posible que los grupos se dividan antes de esta etapa, posiblemente incluso antes de iniciar la formación, al elaborar la lista de participantes. </a:t>
            </a:r>
            <a:endParaRPr b="0" lang="en-US" sz="1200" spc="-1" strike="noStrike">
              <a:solidFill>
                <a:srgbClr val="000000"/>
              </a:solidFill>
              <a:latin typeface="Calibri"/>
            </a:endParaRPr>
          </a:p>
        </p:txBody>
      </p:sp>
      <p:sp>
        <p:nvSpPr>
          <p:cNvPr id="1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3E2BB-1AD9-4DD1-AD16-2524147906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11683-95AE-4E6D-AAB5-97AEAF13F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D2A76-0337-4EFA-9CBF-7F2435B6A2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F1FEF-F34E-4DAC-A2AA-A14945D08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A9728-92A6-49F4-9735-0FB405E9B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43B7-7A38-4B0F-916F-27758834E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1022A-C3B9-491A-8FAD-B745F5FA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A9791-B1EA-4D4D-B136-8DEC270C7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D7B3-F5E5-4B88-A62F-C71CFDCE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2EE5-D095-44DF-9A7C-9DB8E71D0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8677E-CD16-4818-8460-BCABA97B9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8DE1A-F49F-4130-B171-824EAE86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344D-7392-4A67-AFD0-5EA00853B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13F8-8F83-4BCE-8355-B2C2E325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E15D-17EC-41B6-862B-4F9A9233D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FABB-CCB4-49AB-B002-ECD9AFAF6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3FBEE-49BB-48FA-8910-ED3D39F8C52D}"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7E8CF-3DC5-42D3-9A10-5CED54F18D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676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4.1 </a:t>
            </a:r>
            <a:br>
              <a:rPr sz="3200"/>
            </a:br>
            <a:r>
              <a:rPr b="0" lang="en-US" sz="3200" spc="-1" strike="noStrike">
                <a:solidFill>
                  <a:srgbClr val="898989"/>
                </a:solidFill>
                <a:latin typeface="Calibri"/>
              </a:rPr>
              <a:t>Ejercicio de la vista</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DACD53-EB46-4B43-8F36-AED3C08672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5384C-A876-4D97-B5D6-0872731ABE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Chevron 6"/>
          <p:cNvSpPr/>
          <p:nvPr/>
        </p:nvSpPr>
        <p:spPr>
          <a:xfrm>
            <a:off x="1828800" y="227160"/>
            <a:ext cx="548640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La solicitud</a:t>
            </a:r>
            <a:endParaRPr b="0" lang="en-US" sz="4000" spc="-1" strike="noStrike">
              <a:solidFill>
                <a:srgbClr val="000000"/>
              </a:solidFill>
              <a:latin typeface="Arial"/>
            </a:endParaRPr>
          </a:p>
        </p:txBody>
      </p:sp>
      <p:sp>
        <p:nvSpPr>
          <p:cNvPr id="77"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ejercicio de la vista se basa en una solicitud de búsqueda e incautación de datos informático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proporcionará una solicitud prescrita a ambos subgrupo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solicitud deberá adaptarse de acuerdo con la legislación na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3313F-B930-46A2-842E-3B4209C40D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0"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l solicitan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elit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 solicitudes anterior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apa de solicitu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ialida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ci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ción de los hech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la etapa de investig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A30C1-81B7-4F36-A868-844F57AF8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3"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atos informáticos objeto/Sistema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proteger los datos informáticos especificad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cance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cución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ección de derechos de tercer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esFunción del instructor</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D961A-9E56-47D7-A6CA-50D16EC63E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695160" y="762120"/>
            <a:ext cx="77536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el propósito del ejercicio de la vist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qué se espera que suceda durante la tarea y el proceso del ejercicio de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ecer una cronología realista para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r a los participantes la solicitud para proteger datos informáticos, como describe la Segunda parte</a:t>
            </a:r>
            <a:endParaRPr b="0" lang="en-US" sz="3200" spc="-1" strike="noStrike">
              <a:solidFill>
                <a:srgbClr val="000000"/>
              </a:solidFill>
              <a:latin typeface="Arial"/>
            </a:endParaRPr>
          </a:p>
        </p:txBody>
      </p:sp>
      <p:sp>
        <p:nvSpPr>
          <p:cNvPr id="88"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tes d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todos los participantes se impliquen y participen activamente en el ejercici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tar intervenciones innecesari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ndar orientación a los participantes solo cuando sea necesari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ar a los diferentes grupos que celebran la vista y tomar no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car posibles encabezados (áreas que serán el tema del proceso de evaluació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urante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744480" y="107316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compartir impresiones detalladas con los participante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s impresiones deben adoptar la forma de un proceso de evaluación de seis etapas, tratado en el módulo 2.4.2:</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abezad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oduc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tiv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lu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stra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etición </a:t>
            </a:r>
            <a:endParaRPr b="0" lang="en-US" sz="2800" spc="-1" strike="noStrike">
              <a:solidFill>
                <a:srgbClr val="000000"/>
              </a:solidFill>
              <a:latin typeface="Arial"/>
            </a:endParaRPr>
          </a:p>
        </p:txBody>
      </p:sp>
      <p:sp>
        <p:nvSpPr>
          <p:cNvPr id="92" name="Title 1"/>
          <p:cNvSpPr/>
          <p:nvPr/>
        </p:nvSpPr>
        <p:spPr>
          <a:xfrm>
            <a:off x="506520" y="2365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as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31500-3A1A-46F2-A4BD-62C57AEC7C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ealización del ejercicio de la vista  </a:t>
            </a: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ción a la solicitu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Función del instructo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CB0A2C-4813-49FE-9FFF-094459E763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término de esta sesión, los delegados sabrá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cómo realizar el ejercicio práctico de la vista de la solicitud para proteger datos informáticos</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Reconocer los aspectos clave de la solicitud que se señalarán a los participantes antes d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la función del instructor durante 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518AA0-DE7A-4723-B04B-591021ACC3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Presentación del ejercicio </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FB664-C4EA-4BA6-9501-FB150D2460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2" descr=""/>
          <p:cNvPicPr/>
          <p:nvPr/>
        </p:nvPicPr>
        <p:blipFill>
          <a:blip r:embed="rId1"/>
          <a:stretch/>
        </p:blipFill>
        <p:spPr>
          <a:xfrm>
            <a:off x="279360" y="-12600"/>
            <a:ext cx="5943600" cy="3568680"/>
          </a:xfrm>
          <a:prstGeom prst="rect">
            <a:avLst/>
          </a:prstGeom>
          <a:ln w="0">
            <a:noFill/>
          </a:ln>
        </p:spPr>
      </p:pic>
      <p:pic>
        <p:nvPicPr>
          <p:cNvPr id="62" name="Diagram 6" descr=""/>
          <p:cNvPicPr/>
          <p:nvPr/>
        </p:nvPicPr>
        <p:blipFill>
          <a:blip r:embed="rId2"/>
          <a:stretch/>
        </p:blipFill>
        <p:spPr>
          <a:xfrm>
            <a:off x="2070000" y="3568680"/>
            <a:ext cx="5765760" cy="3086280"/>
          </a:xfrm>
          <a:prstGeom prst="rect">
            <a:avLst/>
          </a:prstGeom>
          <a:ln w="0">
            <a:noFill/>
          </a:ln>
        </p:spPr>
      </p:pic>
      <p:grpSp>
        <p:nvGrpSpPr>
          <p:cNvPr id="63" name="Group 7"/>
          <p:cNvGrpSpPr/>
          <p:nvPr/>
        </p:nvGrpSpPr>
        <p:grpSpPr>
          <a:xfrm>
            <a:off x="5710320" y="3276720"/>
            <a:ext cx="434880" cy="430200"/>
            <a:chOff x="5710320" y="3276720"/>
            <a:chExt cx="434880" cy="430200"/>
          </a:xfrm>
        </p:grpSpPr>
        <p:sp>
          <p:nvSpPr>
            <p:cNvPr id="64" name="Down Arrow 8"/>
            <p:cNvSpPr/>
            <p:nvPr/>
          </p:nvSpPr>
          <p:spPr>
            <a:xfrm>
              <a:off x="5710320" y="3276720"/>
              <a:ext cx="434880" cy="430200"/>
            </a:xfrm>
            <a:prstGeom prst="downArrow">
              <a:avLst>
                <a:gd name="adj1" fmla="val 55000"/>
                <a:gd name="adj2" fmla="val 34875"/>
              </a:avLst>
            </a:prstGeom>
            <a:solidFill>
              <a:srgbClr val="d0e3ea">
                <a:alpha val="90000"/>
              </a:srgbClr>
            </a:solidFill>
            <a:ln w="25560">
              <a:solidFill>
                <a:srgbClr val="d0e3ea">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Down Arrow 4"/>
            <p:cNvSpPr/>
            <p:nvPr/>
          </p:nvSpPr>
          <p:spPr>
            <a:xfrm>
              <a:off x="5837040" y="3276720"/>
              <a:ext cx="308160" cy="32400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744480" y="143208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ida a los participantes en grupos de cuatro persona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ontinuación, divida cada grupo en dos subgrupos de dos alumn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1: Solicitant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2: Autoridad competente/Autoridad judicial</a:t>
            </a:r>
            <a:endParaRPr b="0" lang="en-US" sz="3200" spc="-1" strike="noStrike">
              <a:solidFill>
                <a:srgbClr val="000000"/>
              </a:solidFill>
              <a:latin typeface="Arial"/>
            </a:endParaRPr>
          </a:p>
        </p:txBody>
      </p:sp>
      <p:sp>
        <p:nvSpPr>
          <p:cNvPr id="67"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mación de grup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subgrupos recibirán una solicitud pre-redactada para protege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leer la solicitud con los participantes para revisar su contenido (Segunda par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subgrupo 1 presentará la solicitud y el Subgrupo 2 celebrará una vista</a:t>
            </a:r>
            <a:endParaRPr b="0" lang="en-US" sz="3200" spc="-1" strike="noStrike">
              <a:solidFill>
                <a:srgbClr val="000000"/>
              </a:solidFill>
              <a:latin typeface="Arial"/>
            </a:endParaRPr>
          </a:p>
        </p:txBody>
      </p:sp>
      <p:sp>
        <p:nvSpPr>
          <p:cNvPr id="69"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a vez celebrada la vista, el subgrupo 2 (autoridad judicial) elaborará una orde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subgrupos intercambiarán sus funciones y repetirán el ejercicio</a:t>
            </a:r>
            <a:endParaRPr b="0" lang="en-US" sz="3200" spc="-1" strike="noStrike">
              <a:solidFill>
                <a:srgbClr val="000000"/>
              </a:solidFill>
              <a:latin typeface="Arial"/>
            </a:endParaRPr>
          </a:p>
        </p:txBody>
      </p:sp>
      <p:sp>
        <p:nvSpPr>
          <p:cNvPr id="71"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Introducción a la solicitud </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A53E1-6EB3-49FE-BD2D-8BEED490F7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1T14:17:22Z</dcterms:modified>
  <cp:revision>553</cp:revision>
  <dc:subject/>
  <dc:title>Introductory Cybercrime Training for Judges and Prosecutors</dc:title>
</cp:coreProperties>
</file>