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2EF1-84E0-423F-BD05-2F782D8E61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400" cy="3086280"/>
          </a:xfrm>
          <a:prstGeom prst="rect">
            <a:avLst/>
          </a:prstGeom>
          <a:ln w="0">
            <a:noFill/>
          </a:ln>
        </p:spPr>
      </p:sp>
      <p:sp>
        <p:nvSpPr>
          <p:cNvPr id="1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
        <p:nvSpPr>
          <p:cNvPr id="11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77E4-5977-46FD-B7AC-2CA7E3C7046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4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D0CA-4F4B-499E-9831-45B910357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4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8531-6CB2-402E-B1B4-5F4E8AFF01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4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recuerda que los procedimientos y la legislación nacional tienen prioridad y ofrece a los delegados más referencias del CdE para ayudar en ausencia de documentos nacionales concretos.</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BC88-5693-4942-964F-1AEE9F8B65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4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legados deben recordar que los documentos del CdE están disponibles de forma gratuita a través de la comunidad Octopus y animamos a que las obtenga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028-3CB1-49D8-953D-0125683B4C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4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formular preguntas sobre la diapositiva y estar preparado para comentar ejemplos de casos reales antes de pasar a las pruebas de los casos prácticos del curso.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AF8E-7B19-4169-B867-896DB83DB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4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dos siguientes diapositivas ofrecen detalles sobre la prueba realizada en la investigación del caso.  El instructor debe recordar a los delegados y comentar los problemas de admisibilidad con respecto a los distintos tipos de archiv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6A52-632A-4FC9-ACD7-190D314CE1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proporcionar a los delegados copias impresas de los documentos mail 11.doc y mail 11 (hash).doc y pedirles que identifiquen cualquier diferencia.  Si alguien advierte que existe un espacio adicional entre "use" y la siguiente palabra en la primera línea del primer párrafo, tiene buen ojo.  El objetivo de la formulación de las preguntas es destacar que incluso el más mínimo cambio, modificará el hash MD5 o la huella digital del archivo, como demuestran las siguientes diapositiva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5345-1664-4872-BB35-6ADD8AE98A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doc y se ha recogido e introducido en la diapositiva una captura de pantalla de la primera página</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A05B-3C8B-4845-A2AE-C1AA7545F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doc y debe indicarse a los delegados.  Se ha destacado el valor hash para facilitar su visión.</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A587-93A8-4549-BEBE-ED04A9258E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685800" y="1143000"/>
            <a:ext cx="54864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La diapositiva habla por sí misma.</a:t>
            </a:r>
            <a:endParaRPr b="0" lang="en-US" sz="1200" spc="-1" strike="noStrike">
              <a:solidFill>
                <a:srgbClr val="000000"/>
              </a:solidFill>
              <a:latin typeface="Calibri"/>
            </a:endParaRPr>
          </a:p>
        </p:txBody>
      </p:sp>
      <p:sp>
        <p:nvSpPr>
          <p:cNvPr id="121"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1186-F367-4307-8794-757774FFD3F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4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hash). doc y se ha recogido e introducido en la diapositiva una captura de pantalla de la primera página  Una persona observadora podría ver la diferencia entre este y el archivo original: un espacio adicional entre "use" y la siguiente palabra, destacada convenientemente en la captura de pantalla.</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5312-A26A-4860-A5F7-1711CC483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4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hash).doc y debe indicarse a los delegados.  Se ha destacado el valor hash para facilitar su visión.</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51E6-5A51-4E34-B992-DCB643F684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4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 muestra los valores hash de cada archivo y, como puede verse, son diferentes.  El único cambio realizado en el archivo es la inserción de un espacio adicional entre palabras.  Debe indicarse este hecho a los delegados, que la obtención de valores hash es muy fiable y permite una comparativa sencilla de documentos. El instructor debe demostrar que haciendo una simple modificación en un archivo, al obtener el valor hash de los archivos original y nuevo se puede comprobar la diferencia.</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B265-6E03-4D3C-947D-E28E746D24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4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en varios modos de comprobar la validación de los correos electrónicos. En este escenario, todos los mensajes de correo electrónico son documentos de texto y, por lo tanto, no hay artefactos de correo electrónico a revisar.  El instructor, si lo desea, puede introducir correos electrónicos reales para explicar cómo puede aducirse la prueba de correo electrónico.</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9D87-180F-4EEC-8B3F-8D2A066A69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8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4624-68BA-41C8-BBDE-3B6F1EF33D7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4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Comprobación de conocimien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C15F-B5F8-4A7F-93A4-4B1C215D7B9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685800" y="1143000"/>
            <a:ext cx="54864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2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9BB4-1ECB-4A1E-A367-3B66DF5DD733}"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85800" y="1143000"/>
            <a:ext cx="54864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cordatorio del asunto tratado en el curso introductorio. </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1200" spc="-1" strike="noStrike">
                <a:solidFill>
                  <a:srgbClr val="000000"/>
                </a:solidFill>
                <a:latin typeface="Calibri"/>
              </a:rPr>
              <a:t>prueba electrónica. </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finición” de la Guía del CdE es:</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t>
            </a:r>
            <a:r>
              <a:rPr b="1" i="1" lang="en-US" sz="12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a vez más, es responsabilidad del instructor garantizar que cualquier definición nacional que pudiera existir, quede incluida en el curso de formación del país concreto.</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FF5B-572E-4BB1-90CB-7F353CDBC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685800" y="1143000"/>
            <a:ext cx="54864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sta diapositiva es un recordatorio del asunto tratado en el curso introductori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pruebas electrónicas comparten la mayor parte de las propiedades con las formas de evidencia tradicionales, pero poseen características únicas que las distingu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sultan invisibles a ojos no cualificados</a:t>
            </a:r>
            <a:r>
              <a:rPr b="0" lang="en-US" sz="1000" spc="-1" strike="noStrike">
                <a:solidFill>
                  <a:srgbClr val="000000"/>
                </a:solidFill>
                <a:latin typeface="Calibri"/>
              </a:rPr>
              <a:t>: A menudo, las pruebas electrónicas se encuentran en lugares en los que solo buscarían especialistas o en ubicaciones solo accesibles mediante herramientas muy especializadas. Del mismo modo que el examen mediante un microscopio de electrones permite a un entomólogo identificar características morfológicas clave de los huevos de una mosca, existen herramientas específicas que permiten a las investigaciones forenses digitales examinar y analizar los datos hallados en ordenado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exigir interpretación por parte de un especialista</a:t>
            </a:r>
            <a:r>
              <a:rPr b="0" lang="en-US" sz="1000" spc="-1" strike="noStrike">
                <a:solidFill>
                  <a:srgbClr val="000000"/>
                </a:solidFill>
                <a:latin typeface="Calibri"/>
              </a:rPr>
              <a:t>: La información encontrada en equipos informáticos resulta poco útil en manos de personas no especialistas, que no serán capaces de extraer las propiedades ni las pruebas asociadas que garanticen que la información relevante es veraz y que no ha sido manipulada ni alterada. Ciertos casos, como el análisis de patrones manchas de sangre, exige contar con conocimientos altamente especializado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n altamente volátiles</a:t>
            </a:r>
            <a:r>
              <a:rPr b="0" lang="en-US" sz="1000" spc="-1" strike="noStrike">
                <a:solidFill>
                  <a:srgbClr val="000000"/>
                </a:solidFill>
                <a:latin typeface="Calibri"/>
              </a:rPr>
              <a:t>: En ocasiones, las pruebas electrónicas se encuentran en dispositivos suyo estado de memoria (0 o 1 por bit) se sobrescribe cada vez que se produce un evento concreto. En ciertos casos podría ser la pérdida de energía, en otros, que un sistema automatizado sobrescriba información antigua con el objetivo de ganar espacio de almacenamiento para la nueva información. Los dispositivos que puedan contienen pruebas electrónicas deben protegerse lo antes posi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 alterarse o destruirse con el uso normal</a:t>
            </a:r>
            <a:r>
              <a:rPr b="0" lang="en-US" sz="1000" spc="-1" strike="noStrike">
                <a:solidFill>
                  <a:srgbClr val="000000"/>
                </a:solidFill>
                <a:latin typeface="Calibri"/>
              </a:rPr>
              <a:t>: Los dispositivos cambian constantemente es estado de sus memorias, bien por solicitud del usuario ("guardar este documento", "copiar este archivo") o de forma automática por parte del sistema operativo del ordenador ("obtener espacio para este programa", "guardar temporalmente información para intercambiar entre dispositivos"). Esta característica destaca la importancia de gestionar el dispositivo electrónico de un modo adecuado desde el momento en que es identificado como importante en una investigació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copiarse sin límites</a:t>
            </a:r>
            <a:r>
              <a:rPr b="0" lang="en-US" sz="1000" spc="-1" strike="noStrike">
                <a:solidFill>
                  <a:srgbClr val="000000"/>
                </a:solidFill>
                <a:latin typeface="Calibri"/>
              </a:rPr>
              <a:t>: la información digital puede copiarse indefinidamente, siendo cada copia exacta a la original. Este atributo exclusivo permite realizar varias copias exactas del original para su distribución y análisis por parte de distintos especialistas simultáneamente. También permite que las pruebas electrónicas se presenten en su estado actual en un juzgado junto con el informe del testigo especialista.</a:t>
            </a:r>
            <a:endParaRPr b="0" lang="en-US" sz="1000" spc="-1" strike="noStrike">
              <a:solidFill>
                <a:srgbClr val="000000"/>
              </a:solidFill>
              <a:latin typeface="Calibri"/>
            </a:endParaRPr>
          </a:p>
        </p:txBody>
      </p:sp>
      <p:sp>
        <p:nvSpPr>
          <p:cNvPr id="1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565B-1627-4D28-838E-DF6C4AE53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685800" y="1143000"/>
            <a:ext cx="54864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es una diapositiva de introducción a un análisis más profundo en las consideraciones de las pruebas electrónicas.  Esto solo se había tratado brevemente en el curso introductorio y debe abordarse en más detalle con la ayuda de las siguientes siete diapositiva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2EB6-27DF-4BBC-B03D-125996DE40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685800" y="1143000"/>
            <a:ext cx="54864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8627-1ABA-4CAE-8D6E-F7A9A8AB7B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685800" y="1143000"/>
            <a:ext cx="54864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214A-D9B0-45B3-AC34-E0294B30D7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4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B2B9-062E-499E-88B3-3CA21D3F4E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AB19-EDA9-4C1F-8A42-6A497E3D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82D08-BF61-48EB-9318-95268F7D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865A6-F25D-41AD-BCA4-CD10F3D30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23DC5-611B-482D-A838-AA8E9E1E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258A7-9FE5-44AE-B344-DBE64BF1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7B9D-3BEA-4D5D-9A7C-E808981C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7620-2451-42F4-AA18-BB0EA4AB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DC978-C387-4B86-8753-58C9664E3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221E-E5CB-440C-8415-D28C12658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9C01-7140-4ACE-91FF-AA3D556E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10F0-0887-4EEF-BA82-520A9526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7A11-7A5A-4070-B382-606DB1ECD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C359-6CD5-4F0E-A4BE-1B5EBDD37BA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5541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Curso avanzado de formación en ciberdelincuencia para jueces y fiscales  </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4232160"/>
            <a:ext cx="9144000" cy="1656000"/>
          </a:xfrm>
          <a:prstGeom prst="rect">
            <a:avLst/>
          </a:prstGeom>
          <a:noFill/>
          <a:ln w="0">
            <a:noFill/>
          </a:ln>
        </p:spPr>
        <p:txBody>
          <a:bodyPr anchor="t">
            <a:noAutofit/>
          </a:bodyPr>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Sesión 2.3.2 </a:t>
            </a:r>
            <a:endParaRPr b="0" lang="en-US" sz="2400" spc="-1" strike="noStrike">
              <a:solidFill>
                <a:srgbClr val="000000"/>
              </a:solidFill>
              <a:latin typeface="Calibri"/>
            </a:endParaRPr>
          </a:p>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Pruebas electrónica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3929040" y="399960"/>
            <a:ext cx="4332240" cy="862200"/>
          </a:xfrm>
          <a:prstGeom prst="rect">
            <a:avLst/>
          </a:prstGeom>
          <a:ln w="0">
            <a:noFill/>
          </a:ln>
        </p:spPr>
      </p:pic>
      <p:sp>
        <p:nvSpPr>
          <p:cNvPr id="51"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76F9D83A-7D7F-4575-A007-11655EC1270E}"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 </a:t>
            </a:r>
            <a:endParaRPr b="1" lang="en-US" sz="4400" spc="-1" strike="noStrike">
              <a:solidFill>
                <a:srgbClr val="000000"/>
              </a:solidFill>
              <a:latin typeface="Calibri"/>
            </a:endParaRPr>
          </a:p>
        </p:txBody>
      </p:sp>
      <p:sp>
        <p:nvSpPr>
          <p:cNvPr id="71" name=""/>
          <p:cNvSpPr txBox="1"/>
          <p:nvPr/>
        </p:nvSpPr>
        <p:spPr>
          <a:xfrm>
            <a:off x="838080" y="1690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el objetivo final es el uso de las pruebas adquiridas y analizadas como ayuda en un caso en los tribunales, la evidencia electrónica debe obtenerse de conformidad con la legislación vigente y con las buenas prácticas para ser admisible en un proceso judicial. Aunque los detalles difieran dependiendo de la legislación nacional, por lo general, deben tenerse presente los criterios básicos detallados en las siguientes diapositivas:</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tenticidad</a:t>
            </a:r>
            <a:r>
              <a:rPr b="0" lang="en-US" sz="2800" spc="-1" strike="noStrike">
                <a:solidFill>
                  <a:srgbClr val="000000"/>
                </a:solidFill>
                <a:latin typeface="Calibri"/>
              </a:rPr>
              <a:t>: debe poderse vincular positivamente el material probatorio con el incidente investigado.</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gridad</a:t>
            </a:r>
            <a:r>
              <a:rPr b="0" lang="en-US" sz="2800" spc="-1" strike="noStrike">
                <a:solidFill>
                  <a:srgbClr val="000000"/>
                </a:solidFill>
                <a:latin typeface="Calibri"/>
              </a:rPr>
              <a:t>: debe relatarse la historia completa y no solo desde una perspectiva concreta.</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a:t>
            </a:r>
            <a:endParaRPr b="1" lang="en-US" sz="4400" spc="-1" strike="noStrike">
              <a:solidFill>
                <a:srgbClr val="000000"/>
              </a:solidFill>
              <a:latin typeface="Calibri"/>
            </a:endParaRPr>
          </a:p>
        </p:txBody>
      </p:sp>
      <p:sp>
        <p:nvSpPr>
          <p:cNvPr id="73"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abilidad</a:t>
            </a:r>
            <a:r>
              <a:rPr b="0" lang="en-US" sz="2800" spc="-1" strike="noStrike">
                <a:solidFill>
                  <a:srgbClr val="000000"/>
                </a:solidFill>
                <a:latin typeface="Calibri"/>
              </a:rPr>
              <a:t>: no debe haber nada relativo a la recogida y gestión posterior de las pruebas que suscite dudas sobre su autenticidad y veracidad.</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bilidad</a:t>
            </a:r>
            <a:r>
              <a:rPr b="0" lang="en-US" sz="2800" spc="-1" strike="noStrike">
                <a:solidFill>
                  <a:srgbClr val="000000"/>
                </a:solidFill>
                <a:latin typeface="Calibri"/>
              </a:rPr>
              <a:t>: debe ser fácilmente verosímil y comprensible para un juez y/o los miembros de un jurado.</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rcionalidad</a:t>
            </a:r>
            <a:r>
              <a:rPr b="0" lang="en-US" sz="2800" spc="-1" strike="noStrike">
                <a:solidFill>
                  <a:srgbClr val="000000"/>
                </a:solidFill>
                <a:latin typeface="Calibri"/>
              </a:rPr>
              <a:t>: su aplicación a las investigaciones forenses digitales establece que el proceso de investigación completo debe ser adecuado y apropiado: los beneficios a obtener empleando una medida concreta deben superar los perjuicios para la parte o partes afectadas por la med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9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cumentos relevantes</a:t>
            </a:r>
            <a:endParaRPr b="1" lang="en-US" sz="4400" spc="-1" strike="noStrike">
              <a:solidFill>
                <a:srgbClr val="000000"/>
              </a:solidFill>
              <a:latin typeface="Calibri"/>
            </a:endParaRPr>
          </a:p>
        </p:txBody>
      </p:sp>
      <p:sp>
        <p:nvSpPr>
          <p:cNvPr id="75" name=""/>
          <p:cNvSpPr txBox="1"/>
          <p:nvPr/>
        </p:nvSpPr>
        <p:spPr>
          <a:xfrm>
            <a:off x="837720" y="1434600"/>
            <a:ext cx="11106360" cy="4351320"/>
          </a:xfrm>
          <a:prstGeom prst="rect">
            <a:avLst/>
          </a:prstGeom>
          <a:noFill/>
          <a:ln w="0">
            <a:noFill/>
          </a:ln>
        </p:spPr>
        <p:txBody>
          <a:bodyPr anchor="t">
            <a:normAutofit fontScale="93000"/>
          </a:bodyPr>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leyes o normativas nacionales que rigen</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ción procesal</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 gestión de pruebas electrónicas/digitales</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boratorios de investigaciones forenses digitale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documentos nacionales siempre deben tener prioridad, sin embargo, en su ausencia, el CdE ha publicado varios documentos asociados con el tema:</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pruebas electrónica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laboratorios de investigaciones forenses digitale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 judicial para jueces del CdE sobre ciberdelincuencia y pruebas electrónica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o puede ser útil para que los jueces identifiquen problemas y elaboren pregu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ublicaciones del CdE</a:t>
            </a:r>
            <a:endParaRPr b="1" lang="en-US" sz="4400" spc="-1" strike="noStrike">
              <a:solidFill>
                <a:srgbClr val="000000"/>
              </a:solidFill>
              <a:latin typeface="Calibri"/>
            </a:endParaRPr>
          </a:p>
        </p:txBody>
      </p:sp>
      <p:pic>
        <p:nvPicPr>
          <p:cNvPr id="77" name="Bild 11" descr=""/>
          <p:cNvPicPr/>
          <p:nvPr/>
        </p:nvPicPr>
        <p:blipFill>
          <a:blip r:embed="rId1"/>
          <a:stretch/>
        </p:blipFill>
        <p:spPr>
          <a:xfrm rot="1184400">
            <a:off x="2690280" y="1892160"/>
            <a:ext cx="3140280" cy="4457880"/>
          </a:xfrm>
          <a:prstGeom prst="rect">
            <a:avLst/>
          </a:prstGeom>
          <a:ln w="0">
            <a:noFill/>
          </a:ln>
          <a:effectLst>
            <a:outerShdw dist="89095" dir="2700000" blurRad="0" rotWithShape="0">
              <a:srgbClr val="000000">
                <a:alpha val="58000"/>
              </a:srgbClr>
            </a:outerShdw>
          </a:effectLst>
        </p:spPr>
      </p:pic>
      <p:pic>
        <p:nvPicPr>
          <p:cNvPr id="78" name="Content Placeholder 6" descr=""/>
          <p:cNvPicPr/>
          <p:nvPr/>
        </p:nvPicPr>
        <p:blipFill>
          <a:blip r:embed="rId2"/>
          <a:stretch/>
        </p:blipFill>
        <p:spPr>
          <a:xfrm>
            <a:off x="6985080" y="1473120"/>
            <a:ext cx="4597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encia de los delegados</a:t>
            </a:r>
            <a:endParaRPr b="1" lang="en-US" sz="4400" spc="-1" strike="noStrike">
              <a:solidFill>
                <a:srgbClr val="000000"/>
              </a:solidFill>
              <a:latin typeface="Calibri"/>
            </a:endParaRPr>
          </a:p>
        </p:txBody>
      </p:sp>
      <p:sp>
        <p:nvSpPr>
          <p:cNvPr id="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encontrado algún delegado pruebas electrónicas cuando ha sido necesarias cualquiera de las consideraciones anteriores?</a:t>
            </a:r>
            <a:endParaRPr b="0" lang="en-US" sz="28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 es así, prepárese para comentar los detal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9760" y="-208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2" name=""/>
          <p:cNvSpPr txBox="1"/>
          <p:nvPr/>
        </p:nvSpPr>
        <p:spPr>
          <a:xfrm>
            <a:off x="509400" y="972720"/>
            <a:ext cx="11682360" cy="4351320"/>
          </a:xfrm>
          <a:prstGeom prst="rect">
            <a:avLst/>
          </a:prstGeom>
          <a:noFill/>
          <a:ln w="0">
            <a:noFill/>
          </a:ln>
        </p:spPr>
        <p:txBody>
          <a:bodyPr anchor="t">
            <a:normAutofit fontScale="85000"/>
          </a:bodyPr>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er</a:t>
            </a:r>
            <a:r>
              <a:rPr b="0" lang="en-US" sz="1800" spc="-1" strike="noStrike">
                <a:solidFill>
                  <a:srgbClr val="000000"/>
                </a:solidFill>
                <a:latin typeface="Calibri"/>
              </a:rPr>
              <a:t> correo electrónico: correos electrónicos entre la junta directiva del FBA y el director de logística del FBA </a:t>
            </a:r>
            <a:r>
              <a:rPr b="0" lang="en-US" sz="1800" spc="-1" strike="noStrike">
                <a:solidFill>
                  <a:srgbClr val="000000"/>
                </a:solidFill>
                <a:latin typeface="Calibri"/>
                <a:ea typeface="Mangal"/>
              </a:rPr>
              <a:t>–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2</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y el subdirector de logística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3</a:t>
            </a:r>
            <a:r>
              <a:rPr b="0" lang="en-US" sz="1800" spc="-1" strike="noStrike" baseline="30000">
                <a:solidFill>
                  <a:srgbClr val="000000"/>
                </a:solidFill>
                <a:latin typeface="Calibri"/>
                <a:ea typeface="Mangal"/>
              </a:rPr>
              <a:t>er</a:t>
            </a:r>
            <a:r>
              <a:rPr b="0" lang="en-US" sz="1800" spc="-1" strike="noStrike">
                <a:solidFill>
                  <a:srgbClr val="000000"/>
                </a:solidFill>
                <a:latin typeface="Calibri"/>
                <a:ea typeface="Mangal"/>
              </a:rPr>
              <a:t> correo electrónico: correos electrónicos entre el subdirector de logística del FBA y el director ejecutivo de UBP – 21 de septiembre de 2017 </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4</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distintos correos electrónicos entre FBA y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5</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Hermes Novas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6</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7</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8</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financiero del FBA y Otos Polaroidos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9</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0</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1</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4" name=""/>
          <p:cNvSpPr txBox="1"/>
          <p:nvPr/>
        </p:nvSpPr>
        <p:spPr>
          <a:xfrm>
            <a:off x="558360" y="1690200"/>
            <a:ext cx="6929640" cy="4168800"/>
          </a:xfrm>
          <a:prstGeom prst="rect">
            <a:avLst/>
          </a:prstGeom>
          <a:noFill/>
          <a:ln w="0">
            <a:noFill/>
          </a:ln>
        </p:spPr>
        <p:txBody>
          <a:bodyPr anchor="t">
            <a:norm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uebas, misceláne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esultados del análisis del software anti-spyware</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cuentas del DSBNO UBP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to entre el FBA y UB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uncio del FBA de su bono aniversari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o del FB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l pago en Bitcoins a SMTP Server Company</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astreo de red del servidor SMT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la empresa ficticia UBPO</a:t>
            </a:r>
            <a:endParaRPr b="0" lang="en-US" sz="2400" spc="-1" strike="noStrike">
              <a:solidFill>
                <a:srgbClr val="000000"/>
              </a:solidFill>
              <a:latin typeface="Calibri"/>
            </a:endParaRPr>
          </a:p>
        </p:txBody>
      </p:sp>
      <p:sp>
        <p:nvSpPr>
          <p:cNvPr id="85" name="TextBox 5"/>
          <p:cNvSpPr/>
          <p:nvPr/>
        </p:nvSpPr>
        <p:spPr>
          <a:xfrm>
            <a:off x="7691400" y="1663560"/>
            <a:ext cx="427356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formación financier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falsa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proforma de UBP</a:t>
            </a:r>
            <a:endParaRPr b="0" lang="en-US" sz="2400" spc="-1" strike="noStrike">
              <a:solidFill>
                <a:srgbClr val="000000"/>
              </a:solidFill>
              <a:latin typeface="Calibri"/>
            </a:endParaRPr>
          </a:p>
        </p:txBody>
      </p:sp>
      <p:sp>
        <p:nvSpPr>
          <p:cNvPr id="86" name="TextBox 6"/>
          <p:cNvSpPr/>
          <p:nvPr/>
        </p:nvSpPr>
        <p:spPr>
          <a:xfrm>
            <a:off x="7691400" y="3932280"/>
            <a:ext cx="38098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laraciones de testigos</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DL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FD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IT del F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jercicio</a:t>
            </a:r>
            <a:endParaRPr b="1" lang="en-US" sz="4400" spc="-1" strike="noStrike">
              <a:solidFill>
                <a:srgbClr val="000000"/>
              </a:solidFill>
              <a:latin typeface="Calibri"/>
            </a:endParaRPr>
          </a:p>
        </p:txBody>
      </p:sp>
      <p:sp>
        <p:nvSpPr>
          <p:cNvPr id="88" name=""/>
          <p:cNvSpPr txBox="1"/>
          <p:nvPr/>
        </p:nvSpPr>
        <p:spPr>
          <a:xfrm>
            <a:off x="838080" y="1690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ice los dos documentos:</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 (hash)</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 diferencias entre los documentos?</a:t>
            </a:r>
            <a:endParaRPr b="0" lang="en-US" sz="3200" spc="-1" strike="noStrike">
              <a:solidFill>
                <a:srgbClr val="000000"/>
              </a:solidFill>
              <a:latin typeface="Calibri"/>
            </a:endParaRPr>
          </a:p>
        </p:txBody>
      </p:sp>
      <p:pic>
        <p:nvPicPr>
          <p:cNvPr id="89" name="Picture 4" descr=""/>
          <p:cNvPicPr/>
          <p:nvPr/>
        </p:nvPicPr>
        <p:blipFill>
          <a:blip r:embed="rId1"/>
          <a:stretch/>
        </p:blipFill>
        <p:spPr>
          <a:xfrm>
            <a:off x="9575640" y="0"/>
            <a:ext cx="26085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5386320" y="150840"/>
            <a:ext cx="5945400" cy="6570720"/>
          </a:xfrm>
          <a:prstGeom prst="rect">
            <a:avLst/>
          </a:prstGeom>
          <a:ln w="0">
            <a:noFill/>
          </a:ln>
        </p:spPr>
      </p:pic>
      <p:sp>
        <p:nvSpPr>
          <p:cNvPr id="91" name="Rectangle 1"/>
          <p:cNvSpPr/>
          <p:nvPr/>
        </p:nvSpPr>
        <p:spPr>
          <a:xfrm>
            <a:off x="826200" y="627120"/>
            <a:ext cx="277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l archivo mail11.doc</a:t>
            </a:r>
            <a:endParaRPr b="1" lang="en-US" sz="4400" spc="-1" strike="noStrike">
              <a:solidFill>
                <a:srgbClr val="000000"/>
              </a:solidFill>
              <a:latin typeface="Calibri"/>
            </a:endParaRPr>
          </a:p>
        </p:txBody>
      </p:sp>
      <p:pic>
        <p:nvPicPr>
          <p:cNvPr id="93" name="Content Placeholder 3" descr=""/>
          <p:cNvPicPr/>
          <p:nvPr/>
        </p:nvPicPr>
        <p:blipFill>
          <a:blip r:embed="rId1"/>
          <a:stretch/>
        </p:blipFill>
        <p:spPr>
          <a:xfrm>
            <a:off x="1674720" y="1514520"/>
            <a:ext cx="8336160" cy="5343480"/>
          </a:xfrm>
          <a:prstGeom prst="rect">
            <a:avLst/>
          </a:prstGeom>
          <a:ln w="0">
            <a:noFill/>
          </a:ln>
        </p:spPr>
      </p:pic>
      <p:sp>
        <p:nvSpPr>
          <p:cNvPr id="94" name="TextBox 4"/>
          <p:cNvSpPr/>
          <p:nvPr/>
        </p:nvSpPr>
        <p:spPr>
          <a:xfrm>
            <a:off x="4216320" y="457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a:t>
            </a:r>
            <a:endParaRPr b="0" lang="en-US" sz="2800" spc="-1" strike="noStrike">
              <a:solidFill>
                <a:srgbClr val="000000"/>
              </a:solidFill>
              <a:latin typeface="Calibri"/>
            </a:endParaRPr>
          </a:p>
        </p:txBody>
      </p:sp>
      <p:sp>
        <p:nvSpPr>
          <p:cNvPr id="95" name="Straight Connector 5"/>
          <p:cNvSpPr/>
          <p:nvPr/>
        </p:nvSpPr>
        <p:spPr>
          <a:xfrm flipV="1">
            <a:off x="6615000" y="253224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74800" y="731880"/>
            <a:ext cx="8229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Agenda</a:t>
            </a:r>
            <a:endParaRPr b="1" lang="en-US" sz="4400" spc="-1" strike="noStrike">
              <a:solidFill>
                <a:srgbClr val="000000"/>
              </a:solidFill>
              <a:latin typeface="Calibri"/>
            </a:endParaRPr>
          </a:p>
        </p:txBody>
      </p:sp>
      <p:sp>
        <p:nvSpPr>
          <p:cNvPr id="53" name=""/>
          <p:cNvSpPr txBox="1"/>
          <p:nvPr/>
        </p:nvSpPr>
        <p:spPr>
          <a:xfrm>
            <a:off x="960480" y="1641600"/>
            <a:ext cx="9097920" cy="3257280"/>
          </a:xfrm>
          <a:prstGeom prst="rect">
            <a:avLst/>
          </a:prstGeom>
          <a:noFill/>
          <a:ln w="0">
            <a:noFill/>
          </a:ln>
        </p:spPr>
        <p:txBody>
          <a:bodyPr anchor="t">
            <a:normAutofit/>
          </a:bodyPr>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uebas electrónicas</a:t>
            </a:r>
            <a:r>
              <a:rPr b="0" lang="en-US" sz="2800" spc="-1" strike="noStrike">
                <a:solidFill>
                  <a:srgbClr val="000000"/>
                </a:solidFill>
                <a:latin typeface="Calibri"/>
                <a:ea typeface="Mangal"/>
              </a:rPr>
              <a:t>: un recordatorio</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Una análisis  en mayor profundidad de las consideraciones de las pruebas electrónicas</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Pruebas de investigación de casos</a:t>
            </a:r>
            <a:endParaRPr b="0" lang="en-US" sz="2800" spc="-1" strike="noStrike">
              <a:solidFill>
                <a:srgbClr val="000000"/>
              </a:solidFill>
              <a:latin typeface="Calibri"/>
            </a:endParaRPr>
          </a:p>
        </p:txBody>
      </p:sp>
      <p:sp>
        <p:nvSpPr>
          <p:cNvPr id="54"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FD2E320C-ECEA-4B29-996E-8DC28548289A}"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5405400" y="22320"/>
            <a:ext cx="6147000" cy="6835680"/>
          </a:xfrm>
          <a:prstGeom prst="rect">
            <a:avLst/>
          </a:prstGeom>
          <a:ln w="0">
            <a:noFill/>
          </a:ln>
        </p:spPr>
      </p:pic>
      <p:sp>
        <p:nvSpPr>
          <p:cNvPr id="97" name="Rectangle 4"/>
          <p:cNvSpPr/>
          <p:nvPr/>
        </p:nvSpPr>
        <p:spPr>
          <a:xfrm>
            <a:off x="835200" y="614520"/>
            <a:ext cx="434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 (hash).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 11</a:t>
            </a:r>
            <a:r>
              <a:rPr b="1" lang="en-US" sz="4400" spc="-1" strike="noStrike" baseline="30000">
                <a:solidFill>
                  <a:srgbClr val="000000"/>
                </a:solidFill>
                <a:latin typeface="Calibri"/>
              </a:rPr>
              <a:t>th</a:t>
            </a:r>
            <a:r>
              <a:rPr b="1" lang="en-US" sz="4400" spc="-1" strike="noStrike">
                <a:solidFill>
                  <a:srgbClr val="000000"/>
                </a:solidFill>
                <a:latin typeface="Calibri"/>
              </a:rPr>
              <a:t> Mail (hash).doc</a:t>
            </a:r>
            <a:endParaRPr b="1" lang="en-US" sz="4400" spc="-1" strike="noStrike">
              <a:solidFill>
                <a:srgbClr val="000000"/>
              </a:solidFill>
              <a:latin typeface="Calibri"/>
            </a:endParaRPr>
          </a:p>
        </p:txBody>
      </p:sp>
      <p:pic>
        <p:nvPicPr>
          <p:cNvPr id="99" name="Content Placeholder 11" descr=""/>
          <p:cNvPicPr/>
          <p:nvPr/>
        </p:nvPicPr>
        <p:blipFill>
          <a:blip r:embed="rId1"/>
          <a:stretch/>
        </p:blipFill>
        <p:spPr>
          <a:xfrm>
            <a:off x="1255680" y="1389240"/>
            <a:ext cx="8539200" cy="5487840"/>
          </a:xfrm>
          <a:prstGeom prst="rect">
            <a:avLst/>
          </a:prstGeom>
          <a:ln w="0">
            <a:noFill/>
          </a:ln>
        </p:spPr>
      </p:pic>
      <p:sp>
        <p:nvSpPr>
          <p:cNvPr id="100" name="TextBox 12"/>
          <p:cNvSpPr/>
          <p:nvPr/>
        </p:nvSpPr>
        <p:spPr>
          <a:xfrm>
            <a:off x="3462480" y="474192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1" name="Straight Connector 13"/>
          <p:cNvSpPr/>
          <p:nvPr/>
        </p:nvSpPr>
        <p:spPr>
          <a:xfrm flipV="1">
            <a:off x="6564240" y="257976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 desde otro punto de vista</a:t>
            </a:r>
            <a:endParaRPr b="1" lang="en-US" sz="4400" spc="-1" strike="noStrike">
              <a:solidFill>
                <a:srgbClr val="000000"/>
              </a:solidFill>
              <a:latin typeface="Calibri"/>
            </a:endParaRPr>
          </a:p>
        </p:txBody>
      </p:sp>
      <p:pic>
        <p:nvPicPr>
          <p:cNvPr id="103" name="Content Placeholder 5" descr=""/>
          <p:cNvPicPr/>
          <p:nvPr/>
        </p:nvPicPr>
        <p:blipFill>
          <a:blip r:embed="rId1"/>
          <a:stretch/>
        </p:blipFill>
        <p:spPr>
          <a:xfrm>
            <a:off x="1797120" y="1414440"/>
            <a:ext cx="8597880" cy="4351320"/>
          </a:xfrm>
          <a:prstGeom prst="rect">
            <a:avLst/>
          </a:prstGeom>
          <a:ln w="0">
            <a:noFill/>
          </a:ln>
        </p:spPr>
      </p:pic>
      <p:sp>
        <p:nvSpPr>
          <p:cNvPr id="104" name="TextBox 6"/>
          <p:cNvSpPr/>
          <p:nvPr/>
        </p:nvSpPr>
        <p:spPr>
          <a:xfrm>
            <a:off x="838080" y="2928960"/>
            <a:ext cx="63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b</a:t>
            </a:r>
            <a:endParaRPr b="0" lang="en-US" sz="2800" spc="-1" strike="noStrike">
              <a:solidFill>
                <a:srgbClr val="000000"/>
              </a:solidFill>
              <a:latin typeface="Calibri"/>
            </a:endParaRPr>
          </a:p>
        </p:txBody>
      </p:sp>
      <p:sp>
        <p:nvSpPr>
          <p:cNvPr id="105" name="TextBox 7"/>
          <p:cNvSpPr/>
          <p:nvPr/>
        </p:nvSpPr>
        <p:spPr>
          <a:xfrm>
            <a:off x="6218280" y="382428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6" name="Straight Connector 9"/>
          <p:cNvSpPr/>
          <p:nvPr/>
        </p:nvSpPr>
        <p:spPr>
          <a:xfrm flipV="1">
            <a:off x="4459320" y="1931760"/>
            <a:ext cx="2705040" cy="101916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Straight Connector 12"/>
          <p:cNvSpPr/>
          <p:nvPr/>
        </p:nvSpPr>
        <p:spPr>
          <a:xfrm flipH="1" flipV="1">
            <a:off x="7840800" y="2304720"/>
            <a:ext cx="847440" cy="15541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é significa esto?</a:t>
            </a:r>
            <a:endParaRPr b="1" lang="en-US" sz="4400" spc="-1" strike="noStrike">
              <a:solidFill>
                <a:srgbClr val="000000"/>
              </a:solidFill>
              <a:latin typeface="Calibri"/>
            </a:endParaRPr>
          </a:p>
        </p:txBody>
      </p:sp>
      <p:sp>
        <p:nvSpPr>
          <p:cNvPr id="109" name=""/>
          <p:cNvSpPr txBox="1"/>
          <p:nvPr/>
        </p:nvSpPr>
        <p:spPr>
          <a:xfrm>
            <a:off x="837720" y="1825200"/>
            <a:ext cx="1135404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onadas correctamente, las pruebas electrónicas son uno de los mejores tipos de evidenci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e haber una evidencia en ambos extremos de una cadena de correo electrónic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ede comprobarse comparando la imagen original y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solicitar la comprobación de cualquier arch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preguntar cómo se ha recogido y gestionado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correos electrónicos tienen una información del encabezado adicional que puede comprobar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ocasiones, pueden comprobarse las direcciones IP de los correos electrónic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 preferible la validación de terceros de la prue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evisión de objetivos</a:t>
            </a:r>
            <a:endParaRPr b="1" lang="en-US" sz="4400" spc="-1" strike="noStrike">
              <a:solidFill>
                <a:srgbClr val="000000"/>
              </a:solidFill>
              <a:latin typeface="Calibri"/>
            </a:endParaRPr>
          </a:p>
        </p:txBody>
      </p:sp>
      <p:sp>
        <p:nvSpPr>
          <p:cNvPr id="111"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1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0FCF5664-25A9-4EEB-B749-B446E417538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Question Mark Clip Art">
            <a:hlinkClick r:id="rId1"/>
          </p:cNvPr>
          <p:cNvPicPr/>
          <p:nvPr/>
        </p:nvPicPr>
        <p:blipFill>
          <a:blip r:embed="rId2"/>
          <a:stretch/>
        </p:blipFill>
        <p:spPr>
          <a:xfrm>
            <a:off x="4667400" y="1357200"/>
            <a:ext cx="2857320" cy="2857680"/>
          </a:xfrm>
          <a:prstGeom prst="rect">
            <a:avLst/>
          </a:prstGeom>
          <a:ln w="0">
            <a:noFill/>
          </a:ln>
        </p:spPr>
      </p:pic>
      <p:sp>
        <p:nvSpPr>
          <p:cNvPr id="114" name="TextBox 3"/>
          <p:cNvSpPr/>
          <p:nvPr/>
        </p:nvSpPr>
        <p:spPr>
          <a:xfrm>
            <a:off x="461340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Preguntas</a:t>
            </a:r>
            <a:endParaRPr b="0" lang="en-US" sz="5400" spc="-1" strike="noStrike">
              <a:solidFill>
                <a:srgbClr val="000000"/>
              </a:solidFill>
              <a:latin typeface="Calibri"/>
            </a:endParaRPr>
          </a:p>
        </p:txBody>
      </p:sp>
      <p:sp>
        <p:nvSpPr>
          <p:cNvPr id="11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FB9E-B971-49B7-B58A-4095EA4BA260}"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bjetivos de la sesión</a:t>
            </a:r>
            <a:endParaRPr b="1" lang="en-US" sz="4400" spc="-1" strike="noStrike">
              <a:solidFill>
                <a:srgbClr val="000000"/>
              </a:solidFill>
              <a:latin typeface="Calibri"/>
            </a:endParaRPr>
          </a:p>
        </p:txBody>
      </p:sp>
      <p:sp>
        <p:nvSpPr>
          <p:cNvPr id="56"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57"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9493987B-25D3-41F2-95FB-9CFA64F71F4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electrónicas</a:t>
            </a:r>
            <a:endParaRPr b="1" lang="en-US" sz="4400" spc="-1" strike="noStrike">
              <a:solidFill>
                <a:srgbClr val="000000"/>
              </a:solidFill>
              <a:latin typeface="Calibri"/>
            </a:endParaRPr>
          </a:p>
        </p:txBody>
      </p:sp>
      <p:sp>
        <p:nvSpPr>
          <p:cNvPr id="59" name=""/>
          <p:cNvSpPr txBox="1"/>
          <p:nvPr/>
        </p:nvSpPr>
        <p:spPr>
          <a:xfrm>
            <a:off x="731880" y="1522080"/>
            <a:ext cx="8229600" cy="4908600"/>
          </a:xfrm>
          <a:prstGeom prst="rect">
            <a:avLst/>
          </a:prstGeom>
          <a:noFill/>
          <a:ln w="0">
            <a:noFill/>
          </a:ln>
        </p:spPr>
        <p:txBody>
          <a:bodyPr anchor="t">
            <a:normAutofit/>
          </a:bodyPr>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2800" spc="-1" strike="noStrike">
                <a:solidFill>
                  <a:srgbClr val="000000"/>
                </a:solidFill>
                <a:latin typeface="Calibri"/>
              </a:rPr>
              <a:t>prueba electrónica. </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definición” de la Guía del Consejo de Europa es:</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acterísticas exclusivas</a:t>
            </a:r>
            <a:endParaRPr b="1" lang="en-US" sz="4400" spc="-1" strike="noStrike">
              <a:solidFill>
                <a:srgbClr val="000000"/>
              </a:solidFill>
              <a:latin typeface="Calibri"/>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 invisibles a ojos no cualificados</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exigir interpretación por parte de un especialista</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altamente voláti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alterarse o destruirse con el uso norma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copiarse sin lími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 análisis más en profundidad de las consideraciones de las pruebas electrónicas</a:t>
            </a:r>
            <a:endParaRPr b="1" lang="en-US" sz="4400" spc="-1" strike="noStrike">
              <a:solidFill>
                <a:srgbClr val="000000"/>
              </a:solidFill>
              <a:latin typeface="Calibri"/>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ón por parte de especialist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ción rápida de las fuentes de pruebas electrónic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o de los procedimientos, técnicas y herramientas adecuados</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s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entic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abilidad</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rcionalida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stión por parte de especialistas</a:t>
            </a:r>
            <a:endParaRPr b="1" lang="en-US" sz="4400" spc="-1" strike="noStrike">
              <a:solidFill>
                <a:srgbClr val="000000"/>
              </a:solidFill>
              <a:latin typeface="Calibri"/>
            </a:endParaRPr>
          </a:p>
        </p:txBody>
      </p:sp>
      <p:sp>
        <p:nvSpPr>
          <p:cNvPr id="65"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todas las pruebas electrónicas debe presentarlas un experto validado por el tribunal.</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 pruebas objetivas puede presentarlas cualquier testigo que siga los procedimientos correctos y cumpla con la legislación.</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da dispositivo electrónico posee características específicas, por lo que deben seguirse estrictamente procedimientos concretos para acceder a la memoria en la que se almacenan las pruebas electrónicas. En lo relativa a pruebas electrónicas, uno de los riesgos más destacados es la modificación involuntaria de parte de la prueba. Esto podría suscitar dudas sobre los cambios específicos y si las evidencias incriminatorias o eximentes se han manipulado, lo que podría derivar en problemas de admisibilidad en el juzgad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ución rápida de las fuentes de pruebas electrónicas</a:t>
            </a:r>
            <a:endParaRPr b="1" lang="en-US" sz="4400" spc="-1" strike="noStrike">
              <a:solidFill>
                <a:srgbClr val="000000"/>
              </a:solidFill>
              <a:latin typeface="Calibri"/>
            </a:endParaRPr>
          </a:p>
        </p:txBody>
      </p:sp>
      <p:sp>
        <p:nvSpPr>
          <p:cNvPr id="67"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orígenes de las pruebas electrónicas cambian rápidamente, no solo desde el punto de vista técnico, sino de retos legislativos como la recopilación de evidencias de la nube. </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nuevas tecnologías se desarrollan muy rápido, lo que exige una actualización constante no solo de conocimientos sobre las nuevas tecnologías en sí mismas, sino de los procedimientos y técnicas a aplicar para incautar su contenido y analizarlo.  Estos procedimientos diferirán según la fuente de la prueba. Por ejemplo, tratar con tecnologías móviles exige procedimientos diferentes a los empleados en la recuperación de discos dur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65040"/>
            <a:ext cx="11184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o de los procedimientos, procesos y herramientas adecuados</a:t>
            </a:r>
            <a:endParaRPr b="1" lang="en-US" sz="4400" spc="-1" strike="noStrike">
              <a:solidFill>
                <a:srgbClr val="000000"/>
              </a:solidFill>
              <a:latin typeface="Calibri"/>
            </a:endParaRPr>
          </a:p>
        </p:txBody>
      </p:sp>
      <p:sp>
        <p:nvSpPr>
          <p:cNvPr id="69" name=""/>
          <p:cNvSpPr txBox="1"/>
          <p:nvPr/>
        </p:nvSpPr>
        <p:spPr>
          <a:xfrm>
            <a:off x="838080" y="1690200"/>
            <a:ext cx="10515600" cy="4816440"/>
          </a:xfrm>
          <a:prstGeom prst="rect">
            <a:avLst/>
          </a:prstGeom>
          <a:noFill/>
          <a:ln w="0">
            <a:noFill/>
          </a:ln>
        </p:spPr>
        <p:txBody>
          <a:bodyPr anchor="t">
            <a:normAutofit fontScale="96000"/>
          </a:bodyPr>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o en la mayoría de las disciplinas forenses tradicionales, los especialistas en investigaciones forenses digitales necesitan, además de conocimientos especializados, herramientas específicas para realizar su trabajo correctamente, así como para recopilar toda la información original del dispositivo. Resulta imperativo emplear las técnicas y herramientas adecuadas y que dichos procedimientos permitan el seguimiento y repetición por parte de otros especialistas, de modo que la información recopilada sea de valor probatorio.</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presentarse una prueba electrónica/digital en el juzgado, los testigos debe proporcionar suficiente información al tribunal para permitir una evaluación correcta de la admisibilidad de dicha evidencia.</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s jueces no deben evitar cuestionar las técnicas empleadas en la recopilación, adquisición y presentación de las prueb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6:38:06Z</dcterms:created>
  <dc:creator>Jones, Nigel (nigel.jones@canterbury.ac.uk)</dc:creator>
  <dc:description/>
  <dc:language>en-US</dc:language>
  <cp:lastModifiedBy>Ademas lo más</cp:lastModifiedBy>
  <dcterms:modified xsi:type="dcterms:W3CDTF">2019-04-03T20:53:59Z</dcterms:modified>
  <cp:revision>37</cp:revision>
  <dc:subject/>
  <dc:title>Advanced Cybercrime Training for Judges and Prosecutors</dc:title>
</cp:coreProperties>
</file>