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BB46F-8FC7-4A15-94A2-4393B95052F8}"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8410F-CBED-46F5-B616-8120DDD1A0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84CAB-DC0B-4D58-8B16-ABF64E94FC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23501-C80B-4652-A80B-07D3318450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D4535-81CA-41B6-9558-DA06A56B2A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6A77A-4091-48B6-8E87-FF07F1451C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0BE31-5E0D-456E-B363-C4DC26C9E9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573BD-E31B-441F-B3EC-5BFA9EE2C5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5B7A7-CDFE-401C-9859-765B1FF695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E4A58-9A0B-4994-9AF5-18AFAD765F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C15FE-93C8-4E10-9160-8845EFB4E5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6CDEA-E007-440B-922D-BEB1FF1572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117C3-5A5A-4A3A-AA1F-9E7838AEA5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58DBF-6202-4D73-B6B1-D35595B2AF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1766D-5B7C-4BDD-BE2D-E2E42F9865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774AB-DBFE-43D9-AEC8-4C0FFA6925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8CAB2-0C37-4709-AA8F-5C29387369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C45A5-01EF-4FAF-B242-1E2FF3FDF1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2B7A5-3FCC-451E-9BFE-E2796226DB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0E0B5-36B8-4B3E-AD90-D742642594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E50A5-A94C-4E4E-BFDA-D521580BF6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70FE9-6BA1-4C7F-B816-B003F431EB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02272-65D0-46E1-A6F6-089111B762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2ABFC-4EFF-43E2-928C-A4C11E86DF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06C6F-51A8-4B66-9DB2-ECFF0B8A70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BD7F4-1322-4F85-9B30-4A34D72534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BDE10-931F-49BD-831C-6EC1C6B5B0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9F861-D8A5-41A7-A310-2C23BBA252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CD7F5-E4AD-4DFD-9185-85513E0DDF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6A1ED-E27C-446C-92C2-5BCB439B8C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C5D1B-4FFE-4265-A0EA-8998C2D630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47802-5DAB-4409-99BC-A08E61B40A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A5D7C-1FB9-4163-985B-97142B6DED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2DE87-36FC-45E8-BF06-8BDA4E1750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F25F8-4A86-4908-A1F5-AAFC916E58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E8B66-F509-4F9B-B891-9E71400E75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75F7B-5BCE-4A70-9DB3-4EAB47F1E0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C30C4-97E6-4E3A-8A83-FE936D2BAB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12E8B-DFB2-49EC-AE63-0F3009EDE3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1AB9D-7716-4B5A-917C-47458560B8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F445A-DAE8-4696-BADE-769C3BAE1C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57DF4-3103-4DBC-B103-5F74CEFEB1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C7E74-50BF-458F-9D5F-D27E6B883B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51265-28B3-416F-AD0C-E3A20B2A39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A7054-9C61-4141-8B88-417E72D36A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221B8-B2D1-4D62-BD9D-D347FA1145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9E86B-E2ED-4AB7-8C0D-9616D6AB2A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FDE4C-B81D-4BD5-B06A-5D9C4BC59E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F0840-7596-46FB-BAA7-DCE55B94DC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1F027-C954-4EEF-94C0-62796DD5CE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AE2AA-2D7D-403E-A462-CD3DF47B54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D142A-E794-49D3-A665-C5A8E08FB7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DAE1E-6361-4884-B6E6-76E3076B23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F441A-B5B2-4CE2-AACF-4E05754803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5A978-A7F7-4FE5-B3DB-750DA2281F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FEF13-44B0-46B7-99AA-4ED99D437F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12D9F-3433-4589-969D-6CD0284F89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C839D-07F6-4EC9-B744-3C26F87BF4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6FEFA-1E9C-447A-AC5D-A62989C852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4E015-FCFC-4A16-9D41-B8BFD145C0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3A6B8-0D55-4BD5-AA89-97CD5D4C75C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7B25E-DC11-4357-93FB-13E1F8C91E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FC97F-D146-49C4-8347-93C199722E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BD6A7-2301-4B53-95D0-AEF7D4E179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D3B09-2D41-49AE-B942-7D43B2FAD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402A-9C1D-4361-890D-A99A70224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FF082-F0E8-4AA3-A4FE-B6DCFBE1A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A9D2B-7666-4166-A7F8-A31164679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09B14-ABE9-4DAB-B085-9E92A1C8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F570B-8001-45FE-87A2-F7A91835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DA9D-E37C-46DD-BC24-A8A678567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79F32-BA31-4BB1-AB66-D2D76C28C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CBBE1-DB25-4144-BCB7-62E208E7A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BA5C9-FA23-4148-9496-AA03BC568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81298-DA1F-4721-9B0D-8372F3294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F6798-E1FD-4770-8FF0-3131858E2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55C1E-88F7-46FA-B3C3-5940F4B7161A}"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75A2C-4C35-41E3-841C-EE932CB925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6224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3.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F3BEFA-B8AC-46EA-B527-5E2CD98E5E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C8B56-8EE1-4782-9FE8-9A266BA6DD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F6D1BB-9FF7-40BC-94FE-1382A3E7DE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7E38A3-CBA1-4805-83E6-8FE91A2937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3BD66-42BF-48E4-B6B7-06CD0ED73C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4EDC8-CC1F-4BE9-A847-CC87C14DC2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D0964-F12A-4C0B-A786-F02924CCD0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63269-3F69-471D-94EF-CC2E986007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4779B-D547-4970-9F81-B99574CB10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01B8C5-CD16-46B1-92BC-5B5AA5D6CA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E8A37-DE6D-4A86-BB2B-5B45F2C887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4T14:36:18Z</dcterms:modified>
  <cp:revision>487</cp:revision>
  <dc:subject/>
  <dc:title>Introductory Cybercrime Training for Judges and Prosecutors</dc:title>
</cp:coreProperties>
</file>