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FADA6-563D-4BDE-AB1A-A5970F259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ose of this session is to offer practical views and advice to the participants on how to make full use of mutual legal assistance rules in a more efficient way, in cybercrime cases or cases when collecting electronic evidence in another country is necessary, while always remaining in the legal, international and domestic framework.</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E0C33-560A-403C-BCA4-6E3CCE9B0D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akes the transition between general principles applied to general mutual legal assistance and electronic evidence sought through international judicial cooperation channel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15CC0-6C28-4B7F-8C77-BAB20AEC7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85AB2-E94D-468D-811B-58E17EF6674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3 to 17 will be dedicated to the efficient preparation of an MLA request, includ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other channels of cooperation, if allowed by domestic law</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the Budapest convention, when applic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ecking the information used for the drafting of the MLA request.</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CC569-3465-4444-AF8E-03027C541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is slide aims at making participants think of other legal possibilities than a mutual legal assistance request when their domestic law allowed it, which may not always be the case. The trainer should then be able to adjust to the local rules and practices on that subject. It is the occasion to engage in a short discussion with the participants on what is or is not allowed by domestic law. Participants should often come to the conclusion that not everything is specified in their domestic law, but that it may not result in concluding that evidence would not be admissible in cour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e trainer could usefully offer examples if he or she has any from his personal experience regarding the three main categories of information which could be obtained legally without an MLA request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lternative channels of coope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ublicly available inform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rticle 32 of the Budapest Convention (a reminder if needed from the international cooperation sesss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For instance, it could be mentioned that in some countries such as Canada, the police is independent from the judicial authority, and is the one responsible to decide whether they are allowed to share police reports. In other countries such as France, the police will always act under the supervision of the judicial authority and will therefore almost always be required to refer to the judicial authority (prosecutor or jud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It could also be mentioned regarding publicly available information that there is no need in most countries to be able to collect information from google, whereas the data is likely to be stored in another country.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ther examples of publicly available information could be the « Find an inmate » locator available to search for an inmate in U.S. federal prisons (www.bop.gov/inmateloc), or the public website allowing to check an IBAN number, and therefore to identify the bank and its branch before drafting an MLA request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Regarding article 32 of the Budapest Convention, participants should already have knowledge of it from previous sessions. However, the trainer should try to determine whether it may seem useful to remind participants of this legal possibility in a practical way : in what situations would it be permitted by domestic law? In what situations wouldn’t it be? Wh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5BE03-7205-4A4F-9DD3-F2EE5B46E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use of existing tools and networks in order to streamline mutual legal assistance, which may also be useful in the drafting phase in order to get information about a country’s specific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also reminds participants of article 29 of the Budapest Convention which should have been studied in the international cooperation session. This tool is a prerequisite for a more efficient MLA request regarding electronic evidence.</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9203C-EE61-4F34-B224-5F1F270CD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the trainees of two important articles of the Budapest convention which should have been explored in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rticle 35 requires every State Party to organize a 24/7 contact point for the purpose of a 24/7 network capable of responding to urgent requests. In some countries, and not all, the 24/7 network will allow for more or less exchange of information. The convention offers this possibility. However, not every country allows for the transmission of information. Moreover, as this course is about using mutual legal assistance tools, these « extra features » that are not common for every country will not be explored, but can be detailed by the trainer if he or she has knowledge about the possibilities offered by his or her national contact poi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focuses at reminding trainees of the possibility of using article 29 and request the expedited preservation of stored computer data through the 24/7 network, before sending the MLA request.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65EB0-3BAD-4C12-81F8-D83454A4B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following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BF873-ABD7-4F2E-B577-56C50EB5A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previous slide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97C71-E76A-42A5-BC0D-BD584D386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basic information they should have checked when starting to draft a mutual legal assistance request. The trainer should remind participants that the work rests on two th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form of the request (legal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cont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oth are equally important in order for the request to arrive to the right authority and to be execu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80C1C-D9C6-4165-901C-FF40E16C0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form requirements set up in a convention/trea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once these prerequisites have been checked, they will become almost like an automatic process which will take less time while enhancing the chances for a better execution of the reques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ADD6A-1021-4118-9ADB-8F79DA9C8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fr-FR" sz="1200" spc="-1" strike="noStrike">
                <a:solidFill>
                  <a:srgbClr val="000000"/>
                </a:solidFill>
                <a:latin typeface="Calibri"/>
              </a:rPr>
              <a:t>refresh participants on the main principles of mutual leg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fr-FR" sz="1200" spc="-1" strike="noStrike">
                <a:solidFill>
                  <a:srgbClr val="000000"/>
                </a:solidFill>
                <a:latin typeface="Calibri"/>
              </a:rPr>
              <a:t>deal with how to enhance the prepara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a:t>
            </a:r>
            <a:r>
              <a:rPr b="0" lang="fr-FR" sz="1200" spc="-1" strike="noStrike">
                <a:solidFill>
                  <a:srgbClr val="000000"/>
                </a:solidFill>
                <a:latin typeface="Calibri"/>
              </a:rPr>
              <a:t>give tips in order to improve the drafting of MLA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a:t>
            </a:r>
            <a:r>
              <a:rPr b="0" lang="fr-FR" sz="1200" spc="-1" strike="noStrike">
                <a:solidFill>
                  <a:srgbClr val="000000"/>
                </a:solidFill>
                <a:latin typeface="Calibri"/>
              </a:rPr>
              <a:t>focus on the reception and execu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a:t>
            </a:r>
            <a:r>
              <a:rPr b="0" lang="fr-FR" sz="1200" spc="-1" strike="noStrike">
                <a:solidFill>
                  <a:srgbClr val="000000"/>
                </a:solidFill>
                <a:latin typeface="Calibri"/>
              </a:rPr>
              <a:t>will summarize the objectives of the course.</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D5003-C33B-427B-BE26-861DDC02D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1F3C3-B95C-471F-BBC2-FFCB318DE8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9 to 44 will focus on the drafting stage of a mutual legal assistance request, from its shape and look, to its content and commonly necessary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dedicaded to the Council of Europe model MLA request. The trainer could skip them for time constraints. However, it could be useful for participants who wonder what their MLA request should look like. For UE countries, or for participants interested in the EU model, the trainer could also decide to add a model from the European Investigation Order,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9F2F9-D0AF-4CA2-A150-2EC2C462F9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out the absence of a unique, uniform, worldwide model for MLA requests. The following slides will show participants that however, a certain amount of information requested is often the same.</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508D7-2848-4182-B55E-3D58331A4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new European investigation order to be used throughout the European Union, except for JITs, and except for Denmark and Ireland (they opted 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or UE countries, or for participants interested in the EU model, a model of the European Investigation Order is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40763-2B0E-429D-B1DE-777C18C75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Council of Europe’s MLA model request, which is a guide, but is not mandatory. The following slides will reproduce the entire model request.</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4E963-1C6A-4A95-9D1B-E962E5347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c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2C2D4-B356-4115-8B5C-ADE6C020D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212B0-C90D-4E26-A827-494DAE8B00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396EA-4A28-4D9E-8865-CC2C88423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BFEEA-3FE7-493D-9EB7-3EDA779E8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session objectives for the particip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EFAB9-F772-428E-9C25-9DF871696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2B0A4-5161-44CE-AE31-E4BA35A01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A7AF18-8BB7-4114-BBF6-0DFDAACE71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0F347-05A9-4CC8-853B-B0C1E8A25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24E3C-F07E-42CA-A0E5-C7B4EBBFC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0AB4E-2880-42DC-8E08-7448FA078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This particular slide could be used for discussion about the need to be specific regarding electroni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1389D-8838-45B5-A896-244065BDC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This particular slide could be used for discussion about the need to be specific regarding electronic evidence.  It is also the occasion to mention that real-time interception of communications will not be executed by the USA on a mutual legal assistance request. The only possibility is when a U.S. case is open and used to obtain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44435-6003-4F62-BCB6-EDE75933D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7D28D-79B3-4797-A2F7-E5A1B181A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0B8C4-A265-4AD0-9AAA-E4B37B741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CD059-C6BE-455F-BA38-02C79052F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4 to 11 will focus on the general principles on which mutual legal assistance rests.</a:t>
            </a:r>
            <a:br>
              <a:rPr sz="1200"/>
            </a:br>
            <a:br>
              <a:rPr sz="1200"/>
            </a:br>
            <a:r>
              <a:rPr b="0" lang="fr-FR" sz="1200" spc="-1" strike="noStrike">
                <a:solidFill>
                  <a:srgbClr val="000000"/>
                </a:solidFill>
                <a:latin typeface="Calibri"/>
              </a:rPr>
              <a:t>These principles, which are usually common to all countries to a certain extent, are of extreme importance when drafting or executing a mutual legal assistance request.</a:t>
            </a:r>
            <a:br>
              <a:rPr sz="1200"/>
            </a:br>
            <a:r>
              <a:rPr b="0" lang="fr-FR" sz="1200" spc="-1" strike="noStrike">
                <a:solidFill>
                  <a:srgbClr val="000000"/>
                </a:solidFill>
                <a:latin typeface="Calibri"/>
              </a:rPr>
              <a:t>The trainer should go through all topics raised by these slides, and complete them if needed with local considerations, in order for the participants to have these principles in mind when participating in the MLA drafing session.</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DBEE2-17E1-4325-9B54-27C35302E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though treaties and conventions may differ in the various requirements on the content of an MLA request, most of them and most States executing requests on the basis of reciprocity (i.e. outside the framework of a convention or treaty), require the above-mentioned item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56220-F109-484E-A39E-A44D68C66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place the Budapest convention into the discussion by reminding participants that the Budapest convention is an international instrument providing with a full, applicable chapter on MLA rules to be followed in the absence of other treatie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51AE1-EED1-4E3D-99B6-6BAFE74C28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role of communication in streamlining the mutual legal assistance request, insisting when necessary on the fact that it does not circumvent the legal channels, but it only aims at facilitating the understanding and the execution of the request which was or will be sent through official chann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A lot of requests in judicial practice still have no email address or information about the languages spoken by the requesting authority.</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9CEC9-87B8-429C-88F8-D04A1E3E2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summary of facts, which is a requirement in most of the international treaties and conven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is one of the most important parts of the requests, as it will determine whether an investigative measure can be ordered in the requested country. These tips appear to be simple but in practice, it is quite obvious that judges and prosecutors should spend more time on the summary of facts having in mind these simple tips, starting with the fact that only THEY know their case in details, not the requested authority which will often have only the MLA request to make its own legal determin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necessity to spend time on the summary of facts which will need be specific, and meet the possible standards of evidence set up in certain States for coercive measures, for in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2684E4-1C55-4269-9B2A-2313DC44F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following two slides contain an example of specific requirements when drafting the summary of facts : the probable cause standard required by the US noticeably when email content is sought.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77EF5-7D9A-49AA-B321-27A9BECC0F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E0CEBB96-6831-4396-A93B-A2169E96E524}"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A4FB8726-2C65-453F-8139-46AFE5876825}"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is slide sums up the three different legal standards required by the US when electronic data is sough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e trainer could add up to this slide if he is familiar with the US system or with another example from a different country when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However, such presentation should be limited to an objective description of a country’s requirements in the context of the general rules of mutual legal assistance and of the relevant treaties and conventions, as certain countries may have requirements which may indeed circumvent the traditional rules of mutual legal assistance or treaties. The latter is not the subject of this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type of measures to be sought, and the legal possibilities for their exe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7CE1C-6D75-46BC-84B8-F27283A2D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s up what documents could or should be attached to the MLA request, subject to other requirements set up by the relevant treaties or conventions.</a:t>
            </a:r>
            <a:br>
              <a:rPr sz="1200"/>
            </a:br>
            <a:br>
              <a:rPr sz="1200"/>
            </a:br>
            <a:r>
              <a:rPr b="0" lang="fr-FR" sz="1200" spc="-1" strike="noStrike">
                <a:solidFill>
                  <a:srgbClr val="000000"/>
                </a:solidFill>
                <a:latin typeface="Calibri"/>
              </a:rPr>
              <a:t>The trainer should enrich this slide with any specific requirement relevant to his geographical are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D4BFE-1843-4A97-B241-B00D5C7D8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possibility to send an advanced copy of the official request by any means to the requested coun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this practice can also be used when central authorities are involved in the transmission process, and that when the advanced copy is sent through the official circuit as requested by the convention or treaty, its execution may start ear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mention that is an advanced copy is sent directly to a foreign authority but that the relevant treaty does not allow for it, depending on the requested country, it may not be executed. The advanced copy should therefore follow the transmission channels set up in the relevant treaty or convention for a better resul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The trainer could mention this possibility as set up in article 25.3 of the Budapest convention, described on the following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96AB0-6782-40A4-8216-25F446DB0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produces article 25. 3 of the Budapest convention related to the use of telecommunication means in order to transmit MLA requests more efficiently, thus in cases when electronic evidence is needed and when urgent circumstances could be invoked.</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AA618-42C2-46D2-A129-D7ED67651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95B04-E866-48F3-BB1E-1CB3551D7C7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fourth part deals with the reception and execution of an MLA request from a practical matter. This part is short as it is not possible to describe every legal possibility which depends on the applicable treaty or convention as well as on the type of measure requested. This part then only aims at giving advice to participants, in order for them to adopt a perspective turned more toward efficient cooperation, rather than just a legalistic approach, while remaining within the limits of their domestic law and of inter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0C68B-2D73-4308-9054-527E9F1E5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reminding participants of the importance of communication as already explained in the part regarding the drafting of MLA requests.</a:t>
            </a:r>
            <a:br>
              <a:rPr sz="1200"/>
            </a:br>
            <a:r>
              <a:rPr b="0" lang="fr-FR" sz="1200" spc="-1" strike="noStrike">
                <a:solidFill>
                  <a:srgbClr val="000000"/>
                </a:solidFill>
                <a:latin typeface="Calibri"/>
              </a:rPr>
              <a:t>Communication is as important on the part of the recei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ven when it is not required by law, participants should be encouraged to communicate informally with the requesting authority in order to let them know they will be executed the MLA. This is of importance when a criminal case is ongoing in the requesting State, as the requesting authority may have no news from her request for months, or even years, and may decide at some point to close the case, while the requested authority may be executing the request, or may have been in the obligation to postpone the execution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when necessary on the fact that this communication aims at streamlining and enhancing the understanding of the request, and not at circumventing official channels of transmissio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F1907-444D-47A2-B0A7-4A410670A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at that there are two levels of analysis which the receiver should try to reconcili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gal analysis (form of the request, content of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fficient analysis (if a measure cannot be ordered, does domestic law allow for another legal means to reach the same go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950C0-878E-4A94-BA7F-3977912B5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ives simple tips to participants to enhance the efficiency approach within their legal framework.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D73BB-4A5A-4222-8FAC-A50B951DE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387A8-2987-4747-B024-7429C6E21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83AA1-2E87-4442-BFCA-9116BD5C5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4EDDA-F287-427E-B5AA-BEBD655EC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FE530-FDB4-4A52-B6BA-2196639E49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1AAAE-1742-4008-8A53-850865BAF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oes through the main, common ideas on which mutual legal assistance treaties and conventions r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usually illustrate by examples drawn from their national system or from a local case which may jave raised legal question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349B0-FD1A-4329-BF6D-BA078335BA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main objectifs of the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must have reached the following goal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076CC-32CD-4831-9B31-D1851225BEF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ertain training sessions, a session may be focused on the application of this presentation and on the actual drafting or analysis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iners may in the future seek to supplement to learning by adding exercises, where the training is delivered in an environment where the facilities are sui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specific knowledge check in addition to that listed above is currently envisaged for this course. No official assessment has been requested.</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99988-F8C7-4AAE-8C90-2F16A8A663DC}"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quick reminder of problems raised by cybercrime and electronic evidence in international cases. At this stage of the program, participants should have learned about these issues in details in the Introductory course or in the Advanced Judicial Training course (general present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9303E-042A-4CAD-8964-CEB533065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pointing out some of the main differences between a traditional, « real-life » case and a digital evidence case in the detection of a crime and in the collection of evide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illustrate by giving practical examples, such as, for insta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aring a situation of a bank robbery (time to prepare, time to go to the crime scene, time to get into the bank, time to get the money, time to flee, digital or DNA traces left on the scene, sometimes blood, victims who know they have been the victim of a crime, trauma, police officers and experts knowing where they have to go to collect evidence…etc… vs.  a company learning they have been the victim of a huge data breach at a non-identified time…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also insist on the fact that territoriality is more and more challenged in cybercrime, contrary to a basic crime which is often easily located within one’s jurisdiction. However, since this session is about mutual legal assistance, which rests mostly on international law (conventions and treaties), it should also be reminded to students that judges and magistrates have to abide by the law and then start to be more creative within the limits of the law (in other words, respect the law but try to analyse it more specifically when it could allow new practices related to the collection of electronic evidence).</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47450-23D4-4B22-A31B-A6A7EC466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summary of the current dilemma detailed in slides 7 and 8 : the need to respect international law vs. The need to be more efficient in cy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42859-AC68-44BB-899D-600766BC4C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97152-232E-4877-8C81-492DFE19F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C716-1BD0-40BF-9F4D-0458AD5B5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8581D-EEA0-4752-967C-018853B2E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65435-36EF-48C9-8BC7-CA3295C81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A5F73-5292-423F-902F-82C6AF549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D16A6-1507-4BAC-BB06-82DA644D2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1424B-8B42-43B2-A0DC-F0F5EEB63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49D9D-07C4-4DCD-8869-B937DBB86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58CD3-24D5-4933-98F2-4EA180D87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5B105-51F9-4AA8-9AA3-B70A507D4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A7366-8558-4219-A8DC-57945FB3F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7EB32-7553-41E6-AAD4-BF33E1EEA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857DF-EE01-489D-AD96-F3445ACC587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47D94-EC18-47FF-8E5B-C9FB53B3E0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utual legal assistance requests</a:t>
            </a:r>
            <a:br>
              <a:rPr sz="4400"/>
            </a:br>
            <a:r>
              <a:rPr b="0" lang="en-US" sz="4400" spc="-1" strike="noStrike">
                <a:solidFill>
                  <a:srgbClr val="000000"/>
                </a:solidFill>
                <a:latin typeface="Calibri"/>
              </a:rPr>
              <a:t>Practicaliti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ion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5DF10BA-3550-46E9-8DFB-D9E7168C42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urrent situation :</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LA channels are not adequate anymore with regard to electronic evidence</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We need to find new ways of cooperation regarding electronic evidence and cybercrime</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However:</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MLA remains the legally accepted, international channel of cooperation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Practioners then need to make better and full use of MLA possibilities in order to improve their result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8BFFA-377A-420F-95BD-8459B73233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6AB6C-376E-49FF-9250-99F2E7B879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wo</a:t>
            </a:r>
            <a:br>
              <a:rPr sz="3200"/>
            </a:br>
            <a:r>
              <a:rPr b="1" lang="en-GB" sz="3200" spc="-1" strike="noStrike">
                <a:solidFill>
                  <a:srgbClr val="000000"/>
                </a:solidFill>
                <a:latin typeface="Calibri"/>
                <a:ea typeface="ＭＳ Ｐゴシック"/>
              </a:rPr>
              <a:t>Preparing the MLA request</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E03E20-82F7-4EBE-8F7A-06B67118C9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efore sending an MLA request, these legal alternatives should be checked :</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lternative channels of cooperation </a:t>
            </a:r>
            <a:r>
              <a:rPr b="0" lang="fr-FR" sz="2700" spc="-1" strike="noStrike">
                <a:solidFill>
                  <a:srgbClr val="000000"/>
                </a:solidFill>
                <a:latin typeface="Calibri"/>
              </a:rPr>
              <a:t>(e.g. police-to-police cooperation) : </a:t>
            </a:r>
            <a:endParaRPr b="0" lang="en-US" sz="2700" spc="-1" strike="noStrike">
              <a:solidFill>
                <a:srgbClr val="000000"/>
              </a:solidFill>
              <a:latin typeface="Calibri"/>
            </a:endParaRPr>
          </a:p>
          <a:p>
            <a:pPr marL="343080" indent="-34308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Does domestic law authorize it? Does the law of the requested country authorize it?</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Publicly available information </a:t>
            </a:r>
            <a:r>
              <a:rPr b="0" lang="fr-FR" sz="2700" spc="-1" strike="noStrike">
                <a:solidFill>
                  <a:srgbClr val="000000"/>
                </a:solidFill>
                <a:latin typeface="Calibri"/>
              </a:rPr>
              <a:t>which could be obtained without an MLA request through the internet or through specific databases available for free or on a fee  (</a:t>
            </a:r>
            <a:r>
              <a:rPr b="0" i="1" lang="fr-FR" sz="2700" spc="-1" strike="noStrike">
                <a:solidFill>
                  <a:srgbClr val="000000"/>
                </a:solidFill>
                <a:latin typeface="Calibri"/>
              </a:rPr>
              <a:t>if allowed by domestic law)</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of the Budapest convention</a:t>
            </a:r>
            <a:r>
              <a:rPr b="1" lang="en-US" sz="2700" spc="-1" strike="noStrike">
                <a:solidFill>
                  <a:srgbClr val="000000"/>
                </a:solidFill>
                <a:latin typeface="Calibri"/>
              </a:rPr>
              <a:t> </a:t>
            </a:r>
            <a:r>
              <a:rPr b="0" lang="en-US" sz="2700" spc="-1" strike="noStrike">
                <a:solidFill>
                  <a:srgbClr val="000000"/>
                </a:solidFill>
                <a:latin typeface="Calibri"/>
              </a:rPr>
              <a:t>: trans-border access to stored computer data with conse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F47D3D-D33C-43A0-97EB-0D932ED757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reparing efficiently an MLA request regarding the obtention of electronic evidence?</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existing networks, liaison magistrates/legal attachés, domestic central authority (for advice), Interpol, Europol, direct contacts, judicial network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ART. 29 of Budapest convention </a:t>
            </a:r>
            <a:r>
              <a:rPr b="0" lang="en-US" sz="2800" spc="-1" strike="noStrike">
                <a:solidFill>
                  <a:srgbClr val="000000"/>
                </a:solidFill>
                <a:latin typeface="Calibri"/>
              </a:rPr>
              <a:t>(expedited  preservation of stored computer data)</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9C6BF5-D0C7-4493-A51E-AF48270D8A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EMINDER: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7320"/>
        </p:xfrm>
        <a:graphic>
          <a:graphicData uri="http://schemas.openxmlformats.org/drawingml/2006/table">
            <a:tbl>
              <a:tblPr/>
              <a:tblGrid>
                <a:gridCol w="4114800"/>
                <a:gridCol w="4114800"/>
              </a:tblGrid>
              <a:tr h="581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6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35 – 24/7 Network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Each Party </a:t>
                      </a:r>
                      <a:r>
                        <a:rPr b="1" lang="en-US" sz="1100" spc="-1" strike="noStrike" u="sng">
                          <a:solidFill>
                            <a:srgbClr val="000000"/>
                          </a:solidFill>
                          <a:uFillTx/>
                          <a:latin typeface="Calibri"/>
                        </a:rPr>
                        <a:t>shall</a:t>
                      </a:r>
                      <a:r>
                        <a:rPr b="1" lang="en-US" sz="1100" spc="-1" strike="noStrike">
                          <a:solidFill>
                            <a:srgbClr val="000000"/>
                          </a:solidFill>
                          <a:latin typeface="Calibri"/>
                        </a:rPr>
                        <a:t> designate a point of contact available on a twenty-four hour, seven-day-a-week basis</a:t>
                      </a:r>
                      <a:r>
                        <a:rPr b="0" lang="en-US" sz="1100" spc="-1" strike="noStrike">
                          <a:solidFill>
                            <a:srgbClr val="000000"/>
                          </a:solidFill>
                          <a:latin typeface="Calibri"/>
                        </a:rPr>
                        <a:t>, in order to ensure the </a:t>
                      </a:r>
                      <a:r>
                        <a:rPr b="1" lang="en-US" sz="1100" spc="-1" strike="noStrike" u="sng">
                          <a:solidFill>
                            <a:srgbClr val="000000"/>
                          </a:solidFill>
                          <a:uFillTx/>
                          <a:latin typeface="Calibri"/>
                        </a:rPr>
                        <a:t>provision of immediate assistance </a:t>
                      </a:r>
                      <a:r>
                        <a:rPr b="0" lang="en-US" sz="1100" spc="-1" strike="noStrike">
                          <a:solidFill>
                            <a:srgbClr val="000000"/>
                          </a:solidFill>
                          <a:latin typeface="Calibri"/>
                        </a:rPr>
                        <a:t>for the purpose of investigations or proceedings concerning criminal offences related to computer systems and data, or for the collection of evidence in electronic form of a criminal offence. Such assistance shall include facilitating, or, if permitted by its domestic law and practice, directly carrying out the following measur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the provision of technical advic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the preservation of data pursuant to Articles 29 and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the collection of evidence, the provision of legal information, and locating of suspect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A Party’s point of contact shall have the capacity to carry out communications with the point of contact of another Party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If the point of contact designated by a Party is not part of that Party’s authority or authorities responsible for international mutual assistance or extradition, the point of contact shall ensure that it is able to co-ordinate with such authority or authorities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Each Party shall ensure that trained and equipped personnel are available, in order to facilitate the operation of the network.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29 – Expedited preservation of stored computer data</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A Party may request another Party to order or otherwise obtain the expeditious preservation of data stored by means of a computer system</a:t>
                      </a:r>
                      <a:r>
                        <a:rPr b="0" lang="en-US" sz="1100" spc="-1" strike="noStrike">
                          <a:solidFill>
                            <a:srgbClr val="000000"/>
                          </a:solidFill>
                          <a:latin typeface="Calibri"/>
                        </a:rPr>
                        <a:t>, located within the territory of that other Party </a:t>
                      </a:r>
                      <a:r>
                        <a:rPr b="0" lang="en-US" sz="1100" spc="-1" strike="noStrike" u="sng">
                          <a:solidFill>
                            <a:srgbClr val="000000"/>
                          </a:solidFill>
                          <a:uFillTx/>
                          <a:latin typeface="Calibri"/>
                        </a:rPr>
                        <a:t>and</a:t>
                      </a:r>
                      <a:r>
                        <a:rPr b="0" lang="en-US" sz="1100" spc="-1" strike="noStrike">
                          <a:solidFill>
                            <a:srgbClr val="000000"/>
                          </a:solidFill>
                          <a:latin typeface="Calibri"/>
                        </a:rPr>
                        <a:t> in respect of </a:t>
                      </a:r>
                      <a:r>
                        <a:rPr b="1" lang="en-US" sz="1100" spc="-1" strike="noStrike">
                          <a:solidFill>
                            <a:srgbClr val="000000"/>
                          </a:solidFill>
                          <a:latin typeface="Calibri"/>
                        </a:rPr>
                        <a:t>which the requesting Party intends to submit a request for mutual assistance for </a:t>
                      </a:r>
                      <a:r>
                        <a:rPr b="0" lang="en-US" sz="1100" spc="-1" strike="noStrike">
                          <a:solidFill>
                            <a:srgbClr val="000000"/>
                          </a:solidFill>
                          <a:latin typeface="Calibri"/>
                        </a:rPr>
                        <a:t>the search or similar access, seizure or similar securing, or disclosure of the data.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Upon receiving the request from another Party, the requested Party shall take all appropriate measures to preserve expeditiously the specified data in accordance with its domestic law. For the purposes of responding to a request, dual criminality shall not be required as a condition to providing such pre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Any preservation effected in response to the request referred to in paragraph 1 shall be for a period </a:t>
                      </a:r>
                      <a:r>
                        <a:rPr b="1" lang="en-US" sz="1100" spc="-1" strike="noStrike" u="sng">
                          <a:solidFill>
                            <a:srgbClr val="000000"/>
                          </a:solidFill>
                          <a:uFillTx/>
                          <a:latin typeface="Calibri"/>
                        </a:rPr>
                        <a:t>not less than sixty days</a:t>
                      </a:r>
                      <a:r>
                        <a:rPr b="0" lang="en-US" sz="1100" spc="-1" strike="noStrike">
                          <a:solidFill>
                            <a:srgbClr val="000000"/>
                          </a:solidFill>
                          <a:latin typeface="Calibri"/>
                        </a:rPr>
                        <a:t>, </a:t>
                      </a:r>
                      <a:r>
                        <a:rPr b="1" lang="en-US" sz="1100" spc="-1" strike="noStrike">
                          <a:solidFill>
                            <a:srgbClr val="000000"/>
                          </a:solidFill>
                          <a:latin typeface="Calibri"/>
                        </a:rPr>
                        <a:t>in order to enable the requesting Party to submit a request</a:t>
                      </a:r>
                      <a:r>
                        <a:rPr b="0" lang="en-US" sz="1100" spc="-1" strike="noStrike">
                          <a:solidFill>
                            <a:srgbClr val="000000"/>
                          </a:solidFill>
                          <a:latin typeface="Calibri"/>
                        </a:rPr>
                        <a:t> for the search or similar access, seizure or similar securing, or disclosure of the data. Following the receipt of such a request, the data shall continue to be preserved pending a decision on that reques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D09B52D-AEBE-4F07-BE3B-339D7A85C5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efore sending an MLA for the collection of electronic data…</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f the required country is a Party to the Budapest Convention, </a:t>
            </a:r>
            <a:r>
              <a:rPr b="1" lang="fr-FR" sz="3200" spc="-1" strike="noStrike" u="sng">
                <a:solidFill>
                  <a:srgbClr val="000000"/>
                </a:solidFill>
                <a:uFillTx/>
                <a:latin typeface="Calibri"/>
              </a:rPr>
              <a:t>use article 29</a:t>
            </a:r>
            <a:r>
              <a:rPr b="1" lang="fr-FR" sz="3200" spc="-1" strike="noStrike">
                <a:solidFill>
                  <a:srgbClr val="000000"/>
                </a:solidFill>
                <a:latin typeface="Calibri"/>
              </a:rPr>
              <a:t> </a:t>
            </a:r>
            <a:r>
              <a:rPr b="0" lang="fr-FR" sz="3200" spc="-1" strike="noStrike">
                <a:solidFill>
                  <a:srgbClr val="000000"/>
                </a:solidFill>
                <a:latin typeface="Calibri"/>
              </a:rPr>
              <a:t>and coordinate with the competent, national authorities to request urgent preservation of the data</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47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This is useful only if it is done early during the course of the investigations, as not every country imposes on ISPs and other internet service providers an obligation to keep data for a minimum period of time for investigation purposes</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6204981-63BB-4FDC-92D5-007E446C80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In practice…</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The designated contact point will contact his counterpart in the target country on a 24/7 basis;</a:t>
            </a:r>
            <a:endParaRPr b="0" lang="en-US" sz="2400" spc="-1" strike="noStrike">
              <a:solidFill>
                <a:srgbClr val="000000"/>
              </a:solidFill>
              <a:latin typeface="Calibri"/>
            </a:endParaRPr>
          </a:p>
          <a:p>
            <a:pPr marL="325800" indent="-3258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1800" spc="-1" strike="noStrike">
                <a:solidFill>
                  <a:srgbClr val="000000"/>
                </a:solidFill>
                <a:latin typeface="Calibri"/>
              </a:rPr>
              <a:t>Designated contact point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5800" indent="-3258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t will ask to </a:t>
            </a:r>
            <a:r>
              <a:rPr b="1" lang="fr-FR" sz="2400" spc="-1" strike="noStrike" u="sng">
                <a:solidFill>
                  <a:srgbClr val="000000"/>
                </a:solidFill>
                <a:uFillTx/>
                <a:latin typeface="Calibri"/>
              </a:rPr>
              <a:t>preserve</a:t>
            </a:r>
            <a:r>
              <a:rPr b="0" lang="fr-FR" sz="2400" spc="-1" strike="noStrike">
                <a:solidFill>
                  <a:srgbClr val="000000"/>
                </a:solidFill>
                <a:latin typeface="Calibri"/>
              </a:rPr>
              <a:t> the data needed for the investigation for at least 60 days (sometimes more : e.g. US: 90 days, renewable onc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uring this time, preparing and sending the MLA to </a:t>
            </a:r>
            <a:r>
              <a:rPr b="1" lang="fr-FR" sz="2400" spc="-1" strike="noStrike" u="sng">
                <a:solidFill>
                  <a:srgbClr val="000000"/>
                </a:solidFill>
                <a:uFillTx/>
                <a:latin typeface="Calibri"/>
              </a:rPr>
              <a:t>obtain</a:t>
            </a:r>
            <a:r>
              <a:rPr b="0" lang="fr-FR" sz="2400" spc="-1" strike="noStrike">
                <a:solidFill>
                  <a:srgbClr val="000000"/>
                </a:solidFill>
                <a:latin typeface="Calibri"/>
              </a:rPr>
              <a:t> the data:</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data exists, it should have been preserved;</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probable cause is needed, mention the expedited preservation request (date and number) in the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D4B494F-74F0-45DF-A630-E5AB1AD368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nce it appears that an MLA request should be drafted, what information should be checked?</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convention should be applied and mentioned in the request?</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Can I mention the Budapest Convention?)</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specific channels of transmission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translation requiremen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content requirements? (e.g. probable cause in the US)</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A22957-D354-4F04-9C94-58BF3D3AA2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re the possible consequences of not meeting the transmission and drafting requirements?</a:t>
            </a:r>
            <a:endParaRPr b="0" lang="en-US" sz="40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The MLA will not be executed, or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xecution will be delayed and more information will be reques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vidence could be non admissible at trial if domestic and international rules are viola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Electronic evidence is volatile and could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disappear at any time ! (Only 1 chance)</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22817-E94B-4200-BCBA-A0A409EF07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On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General principles of mutual legal assistanc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wo</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000000"/>
                </a:solidFill>
                <a:latin typeface="Calibri"/>
              </a:rPr>
              <a:t>Preparing a mutual legal assistance request</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hre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rafting an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our</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eceiving a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iv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ummary</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4BEF0B-76B3-4311-9513-7007726831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7C75B-B988-4983-9E96-8D8EFC0F59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hree</a:t>
            </a:r>
            <a:br>
              <a:rPr sz="3200"/>
            </a:br>
            <a:r>
              <a:rPr b="1" lang="en-GB" sz="3200" spc="-1" strike="noStrike">
                <a:solidFill>
                  <a:srgbClr val="000000"/>
                </a:solidFill>
                <a:latin typeface="Calibri"/>
                <a:ea typeface="ＭＳ Ｐゴシック"/>
              </a:rPr>
              <a:t>Drafting the MLA request</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43B8CD-4E04-4B8B-BF61-0F22DECDFB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at should an MLA request look like?</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ry country and authority can have a different way of presenting an ML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ly imposed model, except in the US since May 22, 201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gional experiences aiming at using model forms to certain countries or for certain types of requests (e.g. CoE Model forms, UNODC model forms, electronic data requests to the US…)</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83813E-74B3-4A54-9309-BB8F344721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Regional examp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The European Un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nce May 22, 2017, EU States are </a:t>
            </a:r>
            <a:r>
              <a:rPr b="0" lang="fr-FR" sz="3200" spc="-1" strike="noStrike" u="sng">
                <a:solidFill>
                  <a:srgbClr val="000000"/>
                </a:solidFill>
                <a:uFillTx/>
                <a:latin typeface="Calibri"/>
              </a:rPr>
              <a:t>required</a:t>
            </a:r>
            <a:r>
              <a:rPr b="0" lang="fr-FR" sz="3200" spc="-1" strike="noStrike">
                <a:solidFill>
                  <a:srgbClr val="000000"/>
                </a:solidFill>
                <a:latin typeface="Calibri"/>
              </a:rPr>
              <a:t> to replace MLA requests by a unique form called European Investigative Order (EIO) for cooperation in criminal matters between Member States (except for joint investigation teams)</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71837-A132-4C6F-AF17-CF20D8358F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The European Investigation Order (since May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One, unique form to fill out between EU countries (except Ireland and Denmark, and except J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deadlines to execute the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reasons to refuse execution of an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Uniformed, high standards to guarantee  citizen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F6105-C5CB-422A-98B2-5BBB095D07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odel MLA form by the Council of Europe</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del request form for mutual assistance in criminal matters adopted by the PC-OC at its 69th meeting i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tended as a guide and a reference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an be adapted to each country and each case</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B6184B-7DD1-44E6-910E-8DCC6023AD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TLE OF THE REQUES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ure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Urgency/Confidentiality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REQUESTING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tact details: telephone and fax numbers, e-mail addresse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nguag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REQUESTED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CT AND REASO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ype and purpose of request - Legal basis of the request - Type of offence - Description of the stage of criminal proceeding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here ap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tion of urgenc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a requirement to be notified about the date/place of the execution of the request as well as on the presence of particular persons with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tion on previous involvement of law enforcement officials and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tion on previous communications/ MLA requests (including reference number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80E75-D6CB-4858-A7C4-EA367919C2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S CONCERNED (primarily suspect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de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ity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tion in Legal Proceeding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 - ID / Passport Number - Alias  - Date / place of birth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tion on a legal pers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a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istration number Address of the se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es of different branch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details of the person authorised to act on behalf of the company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59F8F-8DA8-4B77-BE71-0E178B33BB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5000"/>
          </a:bodyPr>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ASURES REQUESTED </a:t>
            </a:r>
            <a:endParaRPr b="0" lang="en-US" sz="1800" spc="-1" strike="noStrike">
              <a:solidFill>
                <a:srgbClr val="000000"/>
              </a:solidFill>
              <a:latin typeface="Calibri"/>
            </a:endParaRPr>
          </a:p>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tters rogatory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s and legal information about the offenc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mmary of the relevant facts indicating time, place and manner of commission of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gal qualification of the offence with relevant provisions including the range of penalties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lear description of the links between the offence and the person and between the offence and the evidence /measures/ criminal assets sought in the requested Stat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mage caused by the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tion on victims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necessary, provisions on lapse of tim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y other additional information which may assist the requested authority in carrying out the reques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0A0412-FD4A-487B-84BA-5C3223AA2F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ypes of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Hearing/questioning of witnesses, experts, suspects, accused persons and other persons: specific modaliti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Hearing/questioning performed by the requested authority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competent authority which should perform the hear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status of the person to be hear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 on rights and obligations (for instance hearing under oath/affirmation or the right to be assisted by a lawyer/interpreter) to be notified to the person to be hear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tion whether the person to be heard requires protection (including details on possible existing agreements between both Parties on this issue)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B9019-CF6E-44E6-8A75-F294ABD3BE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 the end of this session, participants should be able to:</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 or refresh their knowledge about the general principles of mutual legal assistanc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now how to strengthen the chances of an MLA request to be executed at the drafting stag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 an efficiency perspective when receiving an MLA request from a foreign country</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A06F682-8E20-4105-98D6-0062906071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80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Hearing/questioning by video confer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reasons why it is not desirable or possible to attend in perso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me of the judicial authority conducting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ils concerning practical arrangements (technical information on available means, proposals concerning payment of costs, contact details for technical contact person,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tion of rights and obligations of the person to be heard/question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tes/time propos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necessity for an interprete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measures to protect the person to be heard/question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if the suspect or the accused person consents to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42132-7272-4357-A05F-5B0BB0AB89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Hearing/questioning by telephone conference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of the name of the judicial authority or the persons who will be conducting the hearing/questioning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that the witness or expert is willing to take part in the hearing/ questioning by telephone conference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49BD5-29C3-4128-B204-1A2ADE0E4C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aining evid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General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tion of items request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rch and seizur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of search: body searches/ house searches/ other premis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 far as possible, precise identification of the person, or premises to be searched (location, interest for property, bank account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tion of documents, records, data,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ive details on the links between the person, the foreign proceedings and the requested measures e.g. the place to be search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y of warrant/ order issued by requesting authoriti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76920-F851-45F3-A4D8-060567A7FF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Specific measur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Electronic dat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rvation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relevant data to be preserved including its  location (custodian of the stored computer data, location of the computer system)</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ounds to believe that there are risks of loss or modifica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an MLA request will follow, in view of obtaining the preserved dat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Search or similar access, seizure or similar securing, or disclosure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cific purpos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sought data to be seized, secured or disclosed, including, if known, its physical location and the data controller (custodian of the stored computer data) , technical data necessary to perform such ac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the greatest extent possible, precise identification of the person, or premises to be searched while giving details on the links between the person, data and the place to be search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poin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tion on a previous request for the preservation of data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BA2F6-5F42-4752-B672-1453E7CB9C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Seizure and/or confiscation of criminal asset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sons to believe that assets are located in the requested Stat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the procedures the requesting State wishes to follo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the measure sought or any other similar measures can be taken in the territory of the requesting State under its national la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s: true copy of seizure or/confiscation order and statement of grounds for order; and, where applicable attestation that confiscation is enforce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tion relating to bank accounts in the requested Stat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confiscation takes the form of a requirement to pay a sum of money corresponding to the value of the assets, give information on the maximum value of the assets to be seiz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 of documents proving that third parties had the opportunity to claim rights - Information on similar requests sent to other Stat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tion on earlier requests for obtaining evidence / for restraining assets or seizing objects connected with the present request (name of the defendant / sentenced person) -  Restitution: indication of items/articles obtained by criminal means which should be at the disposal of the requesting State to be returned to their rightful owner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63802-A4A9-4F2E-BE17-E2E3822DE9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90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aining information from financial institution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ails of the financial institution (name of the bank or financial institution, address of branch where the account is hel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ccount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information is requested - Reasons to believe that the account is held in the requested Stat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aining telephone/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tion concerning telephone da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concerning the holder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telephone data are requir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tion concerning 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IP address, which user’s identification is sought (when the IP Adress is known), of the time-stamp (day and time of the use), and of the name of the ISP   - Indication of the name and address of the suspect (when he/she is known, but the concrete user’s IP Address is not known)and, if known, the date and time of use and the name of the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For extended traffic data, information on the sought period, for which the IP address was used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C100E-838F-4305-A3FC-B77DD283FC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Conducting of Expertis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tion on the expertise sough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 of questions to be answered by the exper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ion of communication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ny relevant information on the status of the person and on the link between the measure and the ongoing investigation relating to legal requirements of the requesting Sta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 Information on the time-fram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Special investigation techniqu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ross-border observations: see Appendix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rolled delivery: see Appendix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vert investigations: see Appendix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oint investigation teams: see Appendix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B76AA-FDB2-4EEA-A4CC-264A40DAC8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Specific modalities of execu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cessary formalities and procedures under the law of the requesting State and guida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e of officials and other relevant persons involved from the requesting State and the name and title of such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quest to conduct the hearing/questioning by official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ime frame for execu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tion between relevant and competent authorities (contact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s (see explanation in  the guidelin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nguage to be used - Indication of requirements to keep the  existence and substance of the request confidenti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rules to ensure data protec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ties for the transmission of evide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whether originals are need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ferred means of transmission to be used by the requested State (courier, liaison officer, diplomatic representative,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vance copie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5DE30-9DE7-401D-8B69-975FF73BC0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e of judicial documents (writs and records; summons to appear as a witness/expert/ accused perso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tion common to all requests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service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pecification of documents to be serv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on witness protec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fe passage issu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for confirmation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if service fail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val of assumption of cos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tion required for summons to appe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e of appearan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ternative date of appearance, 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ximate allowances payable and the travelling and subsistence expenses refund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or other entry requiremen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10A09-C65B-46E3-8C42-DED40BF82F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emporary transfer of a person in custody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transfer: to the requesting or the requested Sta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posed dates for transfer and retur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ace of transf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urpose of transfer (e.g. witness, confrontatio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 of consent of the person concern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tion that the person concerned will remain in custody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whether transit is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tact person(s)responsible for the transfe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s from judicial record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tion of the person whose judicial record is request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 Indication whether the request is made in a non-criminal contex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FINAL INFORMA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other information which the requesting State considers important - Contact person (name, contact details, language) - List of enclosur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al, name, function of the official, date, and signature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258B5-DF61-44D2-AF89-27A939033D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One</a:t>
            </a:r>
            <a:br>
              <a:rPr sz="3200"/>
            </a:br>
            <a:r>
              <a:rPr b="1" lang="en-GB" sz="3200" spc="-1" strike="noStrike">
                <a:solidFill>
                  <a:srgbClr val="000000"/>
                </a:solidFill>
                <a:latin typeface="Calibri"/>
                <a:ea typeface="ＭＳ Ｐゴシック"/>
              </a:rPr>
              <a:t>General principles of mutual legal assistance</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46790D-1D7B-485E-B811-B2BAEBFBB9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Frequent, common requirements (with or without a treaty) include: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ame, function, seal, and signature of requesting author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basis for the request   (international treaty/Convention, or reciprocity)</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framework in the requesting State (name of suspects, legal qualifications of offences and relevant provisions, including penal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ummary of fac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pecific measures sough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2076E-8BF9-42C6-8C37-A5BECB514C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egal basis of the MLA request</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s other bilateral or multilateral treaties and conventions, </a:t>
            </a:r>
            <a:r>
              <a:rPr b="1" lang="fr-FR" sz="2800" spc="-1" strike="noStrike" u="sng">
                <a:solidFill>
                  <a:srgbClr val="000000"/>
                </a:solidFill>
                <a:uFillTx/>
                <a:latin typeface="Calibri"/>
              </a:rPr>
              <a:t>the Budapest convention </a:t>
            </a:r>
            <a:r>
              <a:rPr b="1" lang="fr-FR" sz="2800" spc="-1" strike="noStrike">
                <a:solidFill>
                  <a:srgbClr val="000000"/>
                </a:solidFill>
                <a:latin typeface="Calibri"/>
              </a:rPr>
              <a:t>can be used as a legal basis for MLA requests regarding cybercrime as well as for collecting evidence in any criminal case</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of the Budapest Convention:</a:t>
            </a:r>
            <a:endParaRPr b="0" lang="en-US" sz="24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a:t>
            </a:r>
            <a:endParaRPr b="0" lang="en-US" sz="20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B77F231-52EB-4B52-8D1E-36886FE96C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on is as important as the request itself: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ame and title mentionned </a:t>
            </a:r>
            <a:r>
              <a:rPr b="0" lang="fr-FR" sz="2400" spc="-1" strike="noStrike" u="sng">
                <a:solidFill>
                  <a:srgbClr val="000000"/>
                </a:solidFill>
                <a:uFillTx/>
                <a:latin typeface="Calibri"/>
              </a:rPr>
              <a:t>clearly</a:t>
            </a:r>
            <a:r>
              <a:rPr b="0" lang="fr-FR" sz="2400" spc="-1" strike="noStrike">
                <a:solidFill>
                  <a:srgbClr val="000000"/>
                </a:solidFill>
                <a:latin typeface="Calibri"/>
              </a:rPr>
              <a:t> (not just your signature and s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ntact information (email address, phone number, time zone…) to be reach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ages spoke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If the executing authority has a question or problem, and does not understand your expectations, you will be able to give a clear and quick answer, while avoiding drafting a whole new MLA request</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B7D986F-E2A1-4129-A13E-35120E17AB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mmary of fact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Always keep in mind the requested authority does not know your case while explaining the facts and investigations needed</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ver write in a too conclusive manner </a:t>
            </a:r>
            <a:r>
              <a:rPr b="0" i="1" lang="fr-FR" sz="2000" spc="-1" strike="noStrike">
                <a:solidFill>
                  <a:srgbClr val="000000"/>
                </a:solidFill>
                <a:latin typeface="Calibri"/>
              </a:rPr>
              <a:t>(e.g. « investigations to the identification of Mr. X » : explain).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asily execute almost everything you as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ven make a dual criminality check for certain types of investigations (or if no treaty/convention applies)</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ome States will request complementary elements in order to undertake coercive measures (e.g. probable cause in the US, certificate i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D90043-B28D-49E8-B3F0-9A729A5E82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Some States will demand specific, content information:</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ample of the « probable cause » standard in the US: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A </a:t>
            </a:r>
            <a:r>
              <a:rPr b="1" i="1" lang="fr-FR" sz="2000" spc="-1" strike="noStrike">
                <a:solidFill>
                  <a:srgbClr val="000000"/>
                </a:solidFill>
                <a:latin typeface="Trebuchet MS"/>
              </a:rPr>
              <a:t>reasonable ground </a:t>
            </a:r>
            <a:r>
              <a:rPr b="0" i="1" lang="fr-FR" sz="2000" spc="-1" strike="noStrike">
                <a:solidFill>
                  <a:srgbClr val="000000"/>
                </a:solidFill>
                <a:latin typeface="Trebuchet MS"/>
              </a:rPr>
              <a:t>to suspect that </a:t>
            </a:r>
            <a:r>
              <a:rPr b="1" i="1" lang="fr-FR" sz="2000" spc="-1" strike="noStrike" u="sng">
                <a:solidFill>
                  <a:srgbClr val="000000"/>
                </a:solidFill>
                <a:uFillTx/>
                <a:latin typeface="Trebuchet MS"/>
              </a:rPr>
              <a:t>a person has committed or is committing a crime or that a place contains specific items connected with a crime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The MLA request </a:t>
            </a:r>
            <a:r>
              <a:rPr b="1" lang="fr-FR" sz="2000" spc="-1" strike="noStrike" u="sng">
                <a:solidFill>
                  <a:srgbClr val="000000"/>
                </a:solidFill>
                <a:uFillTx/>
                <a:latin typeface="Calibri"/>
              </a:rPr>
              <a:t>must</a:t>
            </a:r>
            <a:r>
              <a:rPr b="1" lang="fr-FR" sz="2000" spc="-1" strike="noStrike">
                <a:solidFill>
                  <a:srgbClr val="000000"/>
                </a:solidFill>
                <a:latin typeface="Calibri"/>
              </a:rPr>
              <a:t> provide with the following informatio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type of data to be seiz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reason why it relates to the criminal offense being investigated (link with the alleged perpetrator and with the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data is likely to be currently where the search will be done (do not forget to mention any previous preservation request made under the Budapest conventio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97D1F-78BF-4531-899E-063EDE5D6D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TYPE OF DATA REQUE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US LEGAL STANDA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Subscriber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and « relation » between evidence sought and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Transactional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Between «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 : data must be  relevant and material to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ea typeface="Arial"/>
              </a:rPr>
              <a:t>LEGAL U.S. STANDARDS TO BE MET IN THE SUMMARY OF FACT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77E48-0B21-433D-AE3E-A57000ABA5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asures requested in the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9000"/>
          </a:bodyPr>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Ask for all measures which could be ordered in your legal system and which seem useful to your criminal case</a:t>
            </a:r>
            <a:endParaRPr b="0" lang="en-US" sz="24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Mention confidentiality if needed : it is NOT a principle in all States </a:t>
            </a:r>
            <a:r>
              <a:rPr b="0" lang="fr-FR" sz="2000" spc="-1" strike="noStrike">
                <a:solidFill>
                  <a:srgbClr val="000000"/>
                </a:solidFill>
                <a:latin typeface="Calibri"/>
              </a:rPr>
              <a:t>(</a:t>
            </a:r>
            <a:r>
              <a:rPr b="0" i="1" lang="fr-FR" sz="1800" spc="-1" strike="noStrike">
                <a:solidFill>
                  <a:srgbClr val="000000"/>
                </a:solidFill>
                <a:latin typeface="Calibri"/>
              </a:rPr>
              <a:t>E.g. : the USA) – NB: ART. 28 of the Budapest Convention</a:t>
            </a:r>
            <a:endParaRPr b="0" lang="en-US" sz="18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urgency </a:t>
            </a:r>
            <a:r>
              <a:rPr b="0" i="1" lang="fr-FR" sz="1800" spc="-1" strike="noStrike">
                <a:solidFill>
                  <a:srgbClr val="000000"/>
                </a:solidFill>
                <a:latin typeface="Calibri"/>
              </a:rPr>
              <a:t>(e.g. : pre-trial detention, specific deadlines…)</a:t>
            </a:r>
            <a:endParaRPr b="0" lang="en-US" sz="18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Be as specific as possible</a:t>
            </a:r>
            <a:endParaRPr b="0" lang="en-US" sz="24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E.g. :  specify place to be searched, what data is sougt, specify the dates and time of a IP address to be identified (time and date stamp)</a:t>
            </a:r>
            <a:endParaRPr b="0" lang="en-US" sz="18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particular procedure </a:t>
            </a:r>
            <a:r>
              <a:rPr b="0" lang="fr-FR" sz="2400" spc="-1" strike="noStrike">
                <a:solidFill>
                  <a:srgbClr val="000000"/>
                </a:solidFill>
                <a:latin typeface="Calibri"/>
              </a:rPr>
              <a:t>which should be implemented for the regularity of the measure sougt  - otherwise, the requested State will execute the MLA according to its own national law </a:t>
            </a:r>
            <a:endParaRPr b="0" lang="en-US" sz="24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E.g. : witness to take a specific oath, type of copy and protection needed for electronic data or device)</a:t>
            </a:r>
            <a:endParaRPr b="0" lang="en-US" sz="18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2A97CE-F3FC-4C1D-BD65-8A83554CF1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What </a:t>
            </a:r>
            <a:r>
              <a:rPr b="1" lang="fr-FR" sz="3200" spc="-1" strike="noStrike">
                <a:solidFill>
                  <a:srgbClr val="000000"/>
                </a:solidFill>
                <a:latin typeface="Calibri"/>
              </a:rPr>
              <a:t>should/could</a:t>
            </a:r>
            <a:r>
              <a:rPr b="1" lang="fr-FR" sz="3600" spc="-1" strike="noStrike">
                <a:solidFill>
                  <a:srgbClr val="000000"/>
                </a:solidFill>
                <a:latin typeface="Calibri"/>
              </a:rPr>
              <a:t> be attached to the MLA:</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SH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required by the applicable convention or treaty (including generally identity and function of the requesting authority, summary of facts, and legal qualifications and legal provisions and provisions regarding the incurred penalty), </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ometimes conventions or treaties require a list of questions for interview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nslation when required (including of the attached documents and provisions)</a:t>
            </a:r>
            <a:endParaRPr b="0" lang="en-US" sz="2000" spc="-1" strike="noStrike">
              <a:solidFill>
                <a:srgbClr val="000000"/>
              </a:solidFill>
              <a:latin typeface="Calibri"/>
            </a:endParaRPr>
          </a:p>
          <a:p>
            <a:pPr lvl="1" marL="735480" indent="-28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C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useful for the requested authority to understand what is sought (E.g. copies of fake banking orders, interviews, suspicious email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production order or search warrant if any  (not always required)</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law provisions regarding specific powers </a:t>
            </a:r>
            <a:r>
              <a:rPr b="0" i="1" lang="fr-FR" sz="1800" spc="-1" strike="noStrike">
                <a:solidFill>
                  <a:srgbClr val="000000"/>
                </a:solidFill>
                <a:latin typeface="Calibri"/>
              </a:rPr>
              <a:t>(e.g. investigating judge which is not always well known in certain countries)</a:t>
            </a:r>
            <a:endParaRPr b="0" lang="en-US" sz="1800" spc="-1" strike="noStrike">
              <a:solidFill>
                <a:srgbClr val="000000"/>
              </a:solidFill>
              <a:latin typeface="Calibri"/>
            </a:endParaRPr>
          </a:p>
          <a:p>
            <a:pPr lvl="1" marL="735480" indent="-2829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204262-8F83-439B-9D7D-C16786AA82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wift ways to transmit an MLA request:</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 when the original request is necessary, most conventions or treaties have a specific transmission procedure for urgent matt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 common good practice especially for collecting electronic evidence is the use of advance copies by emails, directly between judicial authorities or between central authoriti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of the Budapest convention</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166F18-17C3-4981-AE40-212437040B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of the Budapest Convention</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ach Party may, in urgent circumstances, make requests for mutual assistance or communications related thereto by expedited means of communication, including fax or email, to the extent that such means provide appropriate levels of security and authentication (including the use of encryption, where necessary), with formal confirmation to follow, where required by the requested Party. The requested Party shall accept and respond to the request by any such expedited means of communication.</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3572F-0A49-417C-8E58-C547FF7239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How to define international judicial legal assistance?</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 unique deci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pends on each country’s legal frame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hould be distinguished from police cooperation, although complementar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t could be defined as any legal means aiming at reaching a person, an information, a document, or any piece of evidence necessary to a  judicial case and which is out of reach, because it is located in another country, under the authority of another State.</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AF2A3D-6C59-4748-97AF-E789B93D40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70EC2-CBA2-4E60-A80B-DCCF5EFC3F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Four</a:t>
            </a:r>
            <a:br>
              <a:rPr sz="3200"/>
            </a:br>
            <a:r>
              <a:rPr b="1" lang="en-GB" sz="3200" spc="-1" strike="noStrike">
                <a:solidFill>
                  <a:srgbClr val="000000"/>
                </a:solidFill>
                <a:latin typeface="Calibri"/>
                <a:ea typeface="ＭＳ Ｐゴシック"/>
              </a:rPr>
              <a:t>Receiving an MLA request</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586899-01ED-4CEC-9760-88E8E7298B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Good practice when receiving an MLA request for execution : </a:t>
            </a:r>
            <a:br>
              <a:rPr sz="4400"/>
            </a:br>
            <a:r>
              <a:rPr b="1" lang="fr-FR" sz="4400" spc="-1" strike="noStrike">
                <a:solidFill>
                  <a:srgbClr val="000000"/>
                </a:solidFill>
                <a:latin typeface="Calibri"/>
              </a:rPr>
              <a:t>acknowledge receipt</a:t>
            </a:r>
            <a:br>
              <a:rPr sz="4400"/>
            </a:br>
            <a:endParaRPr b="0" lang="en-US" sz="44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 if it is not required by one’s national law, good practice is to keep the requesting authority informed that you will be in charge of the execution (e.g. email communication when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 certain situations, it is a requirement (e.g. EIO within the EU</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0CF2BA-C9F5-4C7E-8AE0-AFC777FDA0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analysing the MLA request for execution :</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the relevant convention/treaty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 and content, relevant attach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national law</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But also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y when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with the sender if necess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anation to the sender when assistance has to be refused</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097DF7-C3BF-4210-9313-9E8C7BDD23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If national law seems to oppose the execution of the request:</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ee what measures could still be executed</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ok for legal alternatives, if any, which could reach the same goal – as well as for temporary measures to safeguard the evidenc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e with the requesting authority prior to final decision when possible to discuss the alternatives or the supplementary information needed to allow executio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1B9089-1853-4EDC-AA22-3C97D9DABA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between authorities: ART. 27 of the Budapest Convention</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icle 27 –Procedures pertaining to mutual assistance requests in the absence of applicable international agreements</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 (…)</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C9730-272B-48DB-909B-6AC6573EEE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of the Budapest Convention</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6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Before refusing or postponing assistance, the requested Party shall, where appropriate after having consulted with the requesting Party, consider whether the request may be granted partially or subject to such conditions as it deems necessar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requested Party shall promptly inform the requesting Party of the outcome of the execution of a request for assistance. </a:t>
            </a:r>
            <a:r>
              <a:rPr b="0" lang="en-US" sz="2400" spc="-1" strike="noStrike">
                <a:solidFill>
                  <a:srgbClr val="000000"/>
                </a:solidFill>
                <a:latin typeface="Calibri"/>
              </a:rPr>
              <a:t>Reasons shall be given for any refusal or postponement of the request. The requested Party shall also inform the requesting Party of any reasons that render impossible the execution of the request or are likely to delay it significantl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DB9DE-AF3E-4CDE-90EF-5000FBBFBF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91FBA3-0A0A-429D-8B56-D7A1F702E0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A383C8-7D20-4F67-90A8-8C796DF8E0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4BE069-737C-40FD-8426-CEBC67A9CE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States are sovereign within their terri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ims at preserving national sovereignty while organizing ways of coopera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Grounds for refusal are generally limited by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ach State have specific criteria as to whether their national law could be applied abro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lso aim at preserving national authorities’ powers and procedures to be followed in the requested coun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utual legal assistance rests on the main following princip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25B01CB-DF9B-4C30-85D7-FAB6A54ADB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ive</a:t>
            </a:r>
            <a:br>
              <a:rPr sz="3600"/>
            </a:br>
            <a:r>
              <a:rPr b="1" lang="en-GB" sz="3600" spc="-1" strike="noStrike">
                <a:solidFill>
                  <a:srgbClr val="000000"/>
                </a:solidFill>
                <a:latin typeface="Calibri"/>
              </a:rPr>
              <a:t>Summary</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79EEDB15-94F3-4339-9746-74EB61ADDEB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At the end of this session, participants will be able to:</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Improve or refresh their knowledge about the general principles of mutual legal assistanc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Know how to strengthen the chances of an MLA request to be executed at the drafting stag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Adopt an efficiency perspective when receiving an MLA request from a foreign country</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107D719F-2516-442D-AB05-39EEB2338FE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ＭＳ Ｐゴシック"/>
              </a:rPr>
              <a:t>Question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DA64E5B6-279B-4DD9-AAB1-B7EC69A9F11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ew challenges to international cooperation:</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phones and computers across borders to commit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applications/encrypted emails or messages to communicate across borders with partners in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idence located abro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latility of data as piece of evid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ation of the regular, mutual legal assistance process</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F9A3C4-AA5E-4630-BF14-23CA92E191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Judicial reality   vs.   Digital reality</a:t>
            </a:r>
            <a:endParaRPr b="0" lang="en-US" sz="3600" spc="-1" strike="noStrike">
              <a:solidFill>
                <a:srgbClr val="000000"/>
              </a:solidFill>
              <a:latin typeface="Calibri"/>
            </a:endParaRPr>
          </a:p>
        </p:txBody>
      </p:sp>
      <p:graphicFrame>
        <p:nvGraphicFramePr>
          <p:cNvPr id="71" name=""/>
          <p:cNvGraphicFramePr/>
          <p:nvPr/>
        </p:nvGraphicFramePr>
        <p:xfrm>
          <a:off x="541440" y="1168560"/>
          <a:ext cx="8145360" cy="5578200"/>
        </p:xfrm>
        <a:graphic>
          <a:graphicData uri="http://schemas.openxmlformats.org/drawingml/2006/table">
            <a:tbl>
              <a:tblPr/>
              <a:tblGrid>
                <a:gridCol w="4073400"/>
                <a:gridCol w="40719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A certain time to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rritorial jurisdiction and sovereign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vidence usually visible to human eye (bank records, blood, knife, D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ime needed to investigate and collect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lace to investigate easily determin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Usually specialized LE and prosecutors and judg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econds to exchange files and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ternational effects of the crime and evidence everywhe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lectronic evidence difficult to find and highly volatile, sometimes encrypt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High volatility of electronic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Uncertainty on where the data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ecialized LE and trained prosecutors and judges still needed as technology evolves and lawyers are not always geek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47830-77FD-4C4B-BEF5-1E8CEB7F6D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allenge</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respecting other States’ sovereignty and for complying with international convention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more efficiency, and for more swiftness in collecting electronic evidence and  in arresting perpetrator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2B58E0-853F-4C79-B931-CDEFB97901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Emma Emma</cp:lastModifiedBy>
  <cp:lastPrinted>2017-06-04T15:39:20Z</cp:lastPrinted>
  <dcterms:modified xsi:type="dcterms:W3CDTF">2017-10-08T14:34:07Z</dcterms:modified>
  <cp:revision>99</cp:revision>
  <dc:subject/>
  <dc:title>Introductory Cybercrime Training for Judges and Prosecutors</dc:title>
</cp:coreProperties>
</file>