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583F9-C103-48C6-97F3-0A8C73696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522E4-3AEC-41FE-ABAC-8F1A51035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01660-BCEB-46FE-AFA1-7BB9EC68A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B6E66-0E4E-485B-9CC0-1A49209EEB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3BA6A-5AD8-4926-AF93-00E1F04E0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171B9-0265-4FC1-BF30-B7FDD1E6C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FB533-B61D-4302-A02F-3B942AB21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B7E71-72EB-4920-925C-74214D397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9AF17-3B48-4A33-B91F-7D9F02E66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D5C58-6C87-4E94-B8E2-8D6C20D4B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F4A03-F0E7-4443-9F0F-E48CD697D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8CFC1-58B3-4AF5-ADCD-1FC2C1255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309C2-60A4-4884-AC9E-48CAFB994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97CAA-706C-46A3-9A8B-90617788AD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717FD-256E-43C2-B189-B7BA166CF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92F9C-CC5F-4CDE-92D3-DCB5872CB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44C39-7DAE-426D-B0E2-0EA63D10D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03A7D-4683-460E-8927-0446E8CF2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D2D9F-CA94-4B64-8BB6-1F9A54B15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4C315-DB17-4BB2-9DBC-386CB76B8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9E9D9-5193-4573-BFE0-B2E9C5806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4D063-1CE9-49C5-9AA1-E9772405C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DC90C-E8E0-4830-A4D3-952229179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DB123-9235-422C-B399-046AB4DE4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1D14C-356B-4EF1-856D-4D4F3CA61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3A6D3-361D-4067-BF99-B0157ACFA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A95D4-8760-4DF0-BF69-512EF6F2F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27B7A-057B-4037-A160-E9C6164BE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1074B-4040-4E79-B73C-B24CD9C1E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53065-4E5C-4479-83F2-6147ED777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B48FF-0FC3-4354-B1A0-B1364FCDBC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1697A-DC0F-4A52-AC5F-73C8FFF24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91F9C-7F8A-48EB-B9F1-23B91C6A2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1580D-6C8A-4D6A-A092-C439F5CE5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3632B-73C5-4FCB-9761-A451D61B0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F1DC8-7616-4175-9564-C075FA32A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4C911-F27D-4F3A-8873-B35A1D492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C9A00-0249-4FF8-8C2F-7A964B8C4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37183-B278-4C7E-BE77-A1BEF741F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2C5FC4B5-99FB-469C-A065-540F945DE77D}"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00D0AB1-E70A-4AF8-A31A-95A2E929A934}"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A1BCF-F0B3-4985-8F4F-DE564AE57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968EC-C0CC-4A64-87BF-B50739CC0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2996E-8266-48BD-BA82-59A09CB73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21D05-84E6-46E7-B596-5A28A845E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58DA5-5FA8-45FE-ACA6-1FD29AC27F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C9948-3B5F-4A11-9030-B83528D4B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12B94-2BB3-430B-BE7D-929B57A98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7CD0C-0DEB-47C4-A698-6A160B02B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FF2E3-5630-47FA-96CF-217DBD349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0FF88-9654-4F5B-859A-84B936D86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652A3-D312-4630-9CC8-B655E6CC1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ECF97-6FB7-4EEF-9523-CB733CC5D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CBDBD-5495-4832-ABF6-2F788A9B8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E69B3-1283-4307-8746-026071F1A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BB83D-03B5-42F9-9946-6032E8157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8811B-08C7-4E4C-9321-6C06BF77961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CDC21-F8B6-4376-BB34-ECAA5131E8B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A97E2-A119-4DBA-AF38-4751266D4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1DBD3-8292-4664-8566-1DEDF4FFE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494F9-664D-4BD3-BABB-0E1396A0D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02D02-B7DE-437C-B114-229162651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3C92-6EFF-4759-B4ED-4AB23BB4B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1B97A-3817-40EC-B57E-88843FF7A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1BD71-3F3D-417E-9D63-87978F449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33210-10FD-4862-B67A-76A77515C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AE257-5FE2-4E16-B33A-57C0B7229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1D40-50BB-4B06-95EC-B60D81C2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893F9-1D28-457C-B503-00DB38542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92F1C-AC79-4FB5-8BC0-F5CD65C00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D3CD-08D2-45F4-8F20-F5860104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0A1F-D048-4D3B-B86E-5E1866AC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FC22-5BE5-435B-BFA1-9659E7C81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6B0B9-9E99-4F54-B0A0-F83D1D3746A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D033C-C3EA-41EB-AEE9-DF904C1956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77E288-4696-486E-81FB-D14B9D7ED3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73008-A9BA-493C-934F-26B50B3F91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8DA68-083D-4AB3-A53E-5E54F9DC3B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353EAD-08C9-4C90-BA7F-6911C919FC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5FBADD-4AA6-4A1A-9A68-AFA4305EBD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BFF13D-31AE-45E3-9085-AFCCE66D74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1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CCE2DE4-3DA6-499A-8DC6-F5C7DF8AA7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B26B7D6-88CB-465A-8935-C8AB380A0A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A5397E4-0DFD-4E08-A636-FA133BCDC1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53A3C6-9C6B-4F7E-8B59-3C33AB80A3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4FD95-5648-45A1-AF38-F30E1B24E8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01FA27-3454-448F-A02F-289930A25E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15088-AD5E-43CF-AA57-8F8243853B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8ACA12-88F8-4FB5-B037-5F33DC95F7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BD84D1-209A-442E-9F41-90BBFF446D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34C5B-2B80-4310-8CFB-6899354346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22412-F217-4E78-BADB-5E5D9966E3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C63198-BCCD-42DF-A098-5214476B47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A085E-ED99-4D4B-942A-1602815880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09DA9-E1F7-4110-A647-A99F54B972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9A5B5-A5BE-46A0-861F-19A549E94A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A9BEA-52A3-4D1A-9209-49FB587576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E9E8C1-F588-4428-BA24-9A5D3AE72B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8AE29-5447-435E-B5FC-60991F7F2C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A4E62-A6CC-4AE5-B71F-6AC1E33B64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61BD3-4852-4BF0-A669-9B51AB4517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85DDC-E6D9-45FC-8BE6-99EDE5F29F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32F87-ADCC-4E6E-BE8E-11E0225E5D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0235F-121C-467A-B14A-2A2D94EC38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DF8C9-54D4-4946-9F0F-B7D875BBBE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BCE72-3140-4D2B-811A-CE8B718F43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6305E-807A-4278-A366-B3E25AB1D1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37332-72CB-47F4-B8AF-A755EA39F3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6FB7D0-747C-444A-82CA-C25FCC5311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D25A1-88DB-4430-9B30-9FE9543AB8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1FA94F-BF22-4764-B918-0F80D07065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546C6B-45BD-4963-AF54-867496FF57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80155F-C4B3-4E4B-9F2A-7787F564D0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F22F9-D474-4293-A046-F66CD38308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EE8F3-F3E5-4027-98F3-1519FB6DCB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612E40-DE3D-4586-B2C9-03FA3A6B3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F05941-3520-4C53-80AC-9798066787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FCA304-E152-497A-9798-3383565F2B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CE9AB-02A5-4912-A17D-ADFE4411C7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C8A258-38E3-490D-94C9-DEE4B78C37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2FECE-8FBE-480F-BF58-83D5C2B128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576C2A-4143-4810-BD17-1CC39C6A75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DE9615-AD0E-438C-B10F-960B54D663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BCF263-586E-4673-A56C-9B2F18DF17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116E50-77D1-4E4B-95DC-AA4244469E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A8B82-8079-431A-9B44-1C85B6B803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810B0-EA81-4F6A-8E56-B31387F956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316F9F-13C6-4F0A-BF19-7D4DA081CC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D843EF-FD30-4522-9FD9-C7E692863E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A91041-FA9E-4F85-8886-7E7C094855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3FABCF-2765-484E-A104-CC54D6770C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2C8678F8-F6CA-4AE6-B174-D5B7B7CB984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B3D33196-BCF6-4F80-9CAF-CA2960B7E3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38D85316-1677-4C13-8C99-EA1F7B84DB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B83B93-24E1-4A19-9449-A3AD60D52D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B5A00-344A-4CD9-9887-E3156D19E5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BBCCD6-3D14-4D27-9BE0-ABC6A0BC69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mma Emma</cp:lastModifiedBy>
  <cp:lastPrinted>2017-06-04T15:39:20Z</cp:lastPrinted>
  <dcterms:modified xsi:type="dcterms:W3CDTF">2017-10-08T14:34:07Z</dcterms:modified>
  <cp:revision>99</cp:revision>
  <dc:subject/>
  <dc:title>Introductory Cybercrime Training for Judges and Prosecutors</dc:title>
</cp:coreProperties>
</file>