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D221F-3AD5-4121-BABD-03E079CF1B13}"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2CB56-3212-46A8-90E1-531999A30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roduction to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longs to recently well-known, so called </a:t>
            </a:r>
            <a:r>
              <a:rPr b="0" lang="ja-JP" sz="1200" spc="-1" strike="noStrike">
                <a:solidFill>
                  <a:srgbClr val="000000"/>
                </a:solidFill>
                <a:latin typeface="Calibri"/>
              </a:rPr>
              <a:t>“</a:t>
            </a:r>
            <a:r>
              <a:rPr b="0" lang="en-US" sz="1200" spc="-1" strike="noStrike">
                <a:solidFill>
                  <a:srgbClr val="000000"/>
                </a:solidFill>
                <a:latin typeface="Calibri"/>
              </a:rPr>
              <a:t>Business E-mail Compromise</a:t>
            </a:r>
            <a:r>
              <a:rPr b="0" lang="ja-JP" sz="1200" spc="-1" strike="noStrike">
                <a:solidFill>
                  <a:srgbClr val="000000"/>
                </a:solidFill>
                <a:latin typeface="Calibri"/>
              </a:rPr>
              <a:t>”</a:t>
            </a:r>
            <a:r>
              <a:rPr b="0" lang="en-US" sz="1200" spc="-1" strike="noStrike">
                <a:solidFill>
                  <a:srgbClr val="000000"/>
                </a:solidFill>
                <a:latin typeface="Calibri"/>
              </a:rPr>
              <a:t> schemes, or </a:t>
            </a:r>
            <a:r>
              <a:rPr b="0" lang="ja-JP" sz="1200" spc="-1" strike="noStrike">
                <a:solidFill>
                  <a:srgbClr val="000000"/>
                </a:solidFill>
                <a:latin typeface="Calibri"/>
              </a:rPr>
              <a:t>“</a:t>
            </a:r>
            <a:r>
              <a:rPr b="0" lang="en-US" sz="1200" spc="-1" strike="noStrike">
                <a:solidFill>
                  <a:srgbClr val="000000"/>
                </a:solidFill>
                <a:latin typeface="Calibri"/>
              </a:rPr>
              <a:t>BEC</a:t>
            </a:r>
            <a:r>
              <a:rPr b="0" lang="ja-JP" sz="1200" spc="-1" strike="noStrike">
                <a:solidFill>
                  <a:srgbClr val="000000"/>
                </a:solidFill>
                <a:latin typeface="Calibri"/>
              </a:rPr>
              <a:t>”</a:t>
            </a:r>
            <a:r>
              <a:rPr b="0" lang="en-US" sz="1200" spc="-1" strike="noStrike">
                <a:solidFill>
                  <a:srgbClr val="000000"/>
                </a:solidFill>
                <a:latin typeface="Calibri"/>
              </a:rPr>
              <a:t> cases, which are derived from previously detected </a:t>
            </a:r>
            <a:r>
              <a:rPr b="0" lang="ja-JP" sz="1200" spc="-1" strike="noStrike">
                <a:solidFill>
                  <a:srgbClr val="000000"/>
                </a:solidFill>
                <a:latin typeface="Calibri"/>
              </a:rPr>
              <a:t>“</a:t>
            </a:r>
            <a:r>
              <a:rPr b="0" lang="en-US" sz="1200" spc="-1" strike="noStrike">
                <a:solidFill>
                  <a:srgbClr val="000000"/>
                </a:solidFill>
                <a:latin typeface="Calibri"/>
              </a:rPr>
              <a:t>CEO frau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Man-in-the-middle</a:t>
            </a:r>
            <a:r>
              <a:rPr b="0" lang="ja-JP" sz="1200" spc="-1" strike="noStrike">
                <a:solidFill>
                  <a:srgbClr val="000000"/>
                </a:solidFill>
                <a:latin typeface="Calibri"/>
              </a:rPr>
              <a:t>”</a:t>
            </a:r>
            <a:r>
              <a:rPr b="0" lang="en-US" sz="1200" spc="-1" strike="noStrike">
                <a:solidFill>
                  <a:srgbClr val="000000"/>
                </a:solidFill>
                <a:latin typeface="Calibri"/>
              </a:rPr>
              <a:t> frauds.</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20D63-2F63-479A-AB2A-D6013BC6F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is training fictitious countries and companies have been created. These are Atlantis, Norland, Ostland, Westland etc. For the exercise, all of them have ratified the Council of Europe Convention on Cybercrime (</a:t>
            </a:r>
            <a:r>
              <a:rPr b="0" lang="ja-JP" sz="1200" spc="-1" strike="noStrike">
                <a:solidFill>
                  <a:srgbClr val="000000"/>
                </a:solidFill>
                <a:latin typeface="Calibri"/>
              </a:rPr>
              <a:t>“</a:t>
            </a:r>
            <a:r>
              <a:rPr b="0" lang="en-US" sz="1200" spc="-1" strike="noStrike">
                <a:solidFill>
                  <a:srgbClr val="000000"/>
                </a:solidFill>
                <a:latin typeface="Calibri"/>
              </a:rPr>
              <a:t>Budapest Convention</a:t>
            </a:r>
            <a:r>
              <a:rPr b="0" lang="ja-JP" sz="1200" spc="-1" strike="noStrike">
                <a:solidFill>
                  <a:srgbClr val="000000"/>
                </a:solidFill>
                <a:latin typeface="Calibri"/>
              </a:rPr>
              <a:t>”</a:t>
            </a:r>
            <a:r>
              <a:rPr b="0" lang="en-US" sz="1200" spc="-1" strike="noStrike">
                <a:solidFill>
                  <a:srgbClr val="000000"/>
                </a:solidFill>
                <a:latin typeface="Calibri"/>
              </a:rPr>
              <a:t>). This approach is to allow transferability of the training among jurisdictions, without the need for major changes to the course materials. </a:t>
            </a: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B2F9A-765D-42BF-BFDB-2BEE023E6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tion of the fact that due to the summer vacation period junior and recently employed staff was included in such important operation should rightly raise suspicion amongst trainees.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DAC6B-108B-4566-A325-803A762B9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ncial setup should indicate that initial banking transfer was without problems and that mentioning of SWIFT and IBAN accounts means that money transfer is of the international, not domestic n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start considering use of the international legal assistance articles of the Budapest Convention. </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3D3AA-1495-4FA3-BA13-E59D789AE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352F6-C748-43C3-92DA-81B89E65540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C6413-F2AE-4B51-B92E-212B12CBC7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8C504-3ECC-4573-899D-0CA26FE0F6F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D3625-F690-451D-AA63-F73426ADF6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ending on case scenario development, trainers can develop further transactions between Ostland bank account and bank accounts in other countries belonging to Budapest Convention statutory parties or not. Depending on the trainers choice, ending of the bank transfers can be in country which is reachable by Budapest Convention or not. In second case most probably final traces and evidences are going to be lost or not retrievable fore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81944-43C4-4AED-82C8-FC4764F811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and present key parties of the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91A70-7ED1-45E8-A5B3-466DC05C6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54184-36EA-4E06-9EAB-B2117BDDAB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ED0A3-8592-4B9E-957A-FCD07CDD267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E1483-223E-4E62-B88C-469F9D1051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ronic evidence should be examined and used as essential tool for building up and finishing of the investigation and preparing case for the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4F126-A601-482B-AA6B-831C1016A7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A1E11-7AB8-4FF0-B340-E15E744929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751FE-AC8F-418D-B9C8-1BAEC70A4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F3E7E0-5ED0-43F9-A29D-580A864FE9A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C1893A-01BC-4898-AF08-EFCE961BD1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gins with establishment of Federal Bank of Atlantis (FBA) as well known, well and long established and reputable international bank. Description like this should lead trainees into direction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one which is going to be described furth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identify main facts and key business divisions and players in order to understand the scope and the setup of the business circle in which further case facts are going to be laid-down.</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02F1D-1571-4D57-8E54-504A19F5C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Federal Bank of Atlantis organization.</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C3299-E81B-4593-9702-E30AFFE20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United Bank Printing company organization.</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68CFD-2AEA-4E14-8F1B-E5B8FE456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Docklands Securities Bank of Norland organization.</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CE675-0B22-423D-BA7E-1734C9075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46BBC-5AA8-4168-A988-E2677929868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6EAC0-5B08-4F88-8FD1-02EA991D4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B0611-D73A-4E26-B3DB-0A465A744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6B17F-6278-4699-90F7-071E85DEF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EC74F-1D7D-4F42-94F4-070B476A8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206B0-E67F-4E5D-8E4C-741BF6A34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5EFB6-7717-40C0-9705-913F6C028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4998B-FC20-4261-87A5-240611C74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47FE1-61FA-4118-92C4-CD185C94D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E38EC-122D-4127-BB13-4C5B6BF3D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3D373-FA9B-4B82-A9B5-A30B6D1ED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22345-DDB7-4556-A7F4-6CC1E7EC4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7638E-8386-4D24-A060-AB48B7A26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C220F-62AA-4910-AB71-A55858D0D8F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3FDC1-4B87-4B09-974E-36239853F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2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Introduction to the case study</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Layout</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680D606-9D28-4965-B8A9-351DF74F28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ederal Bank of Atlantis</a:t>
            </a:r>
            <a:r>
              <a:rPr b="0" lang="en-US" sz="2800" spc="-1" strike="noStrike">
                <a:solidFill>
                  <a:srgbClr val="000000"/>
                </a:solidFill>
                <a:latin typeface="Calibri"/>
              </a:rPr>
              <a:t> (FBA) as well-known, successful and trustworthy bank;</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ssuing of special anniversary bond</a:t>
            </a:r>
            <a:r>
              <a:rPr b="0" lang="en-US" sz="2800" spc="-1" strike="noStrike">
                <a:solidFill>
                  <a:srgbClr val="000000"/>
                </a:solidFill>
                <a:latin typeface="Calibri"/>
              </a:rPr>
              <a: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epartment for Logistics and Operations </a:t>
            </a:r>
            <a:r>
              <a:rPr b="0" lang="en-US" sz="2800" spc="-1" strike="noStrike">
                <a:solidFill>
                  <a:srgbClr val="000000"/>
                </a:solidFill>
                <a:latin typeface="Calibri"/>
              </a:rPr>
              <a:t>(DLO) in charge of logistical arrangements with this regar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ted Bank Printing </a:t>
            </a:r>
            <a:r>
              <a:rPr b="0" lang="en-US" sz="2800" spc="-1" strike="noStrike">
                <a:solidFill>
                  <a:srgbClr val="000000"/>
                </a:solidFill>
                <a:latin typeface="Calibri"/>
              </a:rPr>
              <a:t>(UBP) as printing material supplier;</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FBA Finance Department </a:t>
            </a:r>
            <a:r>
              <a:rPr b="0" lang="en-US" sz="2800" spc="-1" strike="noStrike">
                <a:solidFill>
                  <a:srgbClr val="000000"/>
                </a:solidFill>
                <a:latin typeface="Calibri"/>
              </a:rPr>
              <a:t>by DLO into business logistics.</a:t>
            </a:r>
            <a:endParaRPr b="0" lang="en-US" sz="2800" spc="-1" strike="noStrike">
              <a:solidFill>
                <a:srgbClr val="000000"/>
              </a:solidFill>
              <a:latin typeface="Calibri"/>
            </a:endParaRPr>
          </a:p>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2A3FA04-FD91-4E44-8D70-2B51DB096B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ue to the summer vacation </a:t>
            </a:r>
            <a:r>
              <a:rPr b="0" lang="en-US" sz="2800" spc="-1" strike="noStrike">
                <a:solidFill>
                  <a:srgbClr val="000000"/>
                </a:solidFill>
                <a:latin typeface="Calibri"/>
              </a:rPr>
              <a:t>period junior and recently employed staff was inclu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uspicion that junior staff is actually member of the organized crime group </a:t>
            </a:r>
            <a:r>
              <a:rPr b="0" lang="en-US" sz="2800" spc="-1" strike="noStrike">
                <a:solidFill>
                  <a:srgbClr val="000000"/>
                </a:solidFill>
                <a:latin typeface="Calibri"/>
              </a:rPr>
              <a:t>which applied for the lower level position of the DLO in order to gain any kind of direct access to the FBA comput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im was to introduce specific of e-mail spy-ware </a:t>
            </a:r>
            <a:r>
              <a:rPr b="0" lang="en-US" sz="2800" spc="-1" strike="noStrike">
                <a:solidFill>
                  <a:srgbClr val="000000"/>
                </a:solidFill>
                <a:latin typeface="Calibri"/>
              </a:rPr>
              <a:t>able to make copies of e-mail correspondence.</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74DB9F6-21E6-4D91-8353-76D944993D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order was placed by FBA for the purchase of 20,000 specialized paper materials from UBP for the price of €300,000. The relevant departments in FBA and UBP began logistical and financial arrangements</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nclusion of Docklands Securities Bank of Norland in the business circle as designated bank of UBP for money transfe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ccessful payment of the initial transfer of €100,000 between FBA and UBP with DSBL account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roduction of the facts that SWIFT and IBAN accounts are included into the transaction. </a:t>
            </a:r>
            <a:endParaRPr b="0" lang="en-US" sz="24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DD9FD38-E74B-4EAC-855D-346A324B11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99787CE-DB9F-4405-AD62-BAD2A67397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a:t>
            </a:r>
            <a:endParaRPr b="0" lang="en-US" sz="40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F25152D-725B-46ED-B93C-D79437CBA4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riggering moment </a:t>
            </a:r>
            <a:r>
              <a:rPr b="0" lang="en-US" sz="2800" spc="-1" strike="noStrike">
                <a:solidFill>
                  <a:srgbClr val="000000"/>
                </a:solidFill>
                <a:latin typeface="Calibri"/>
              </a:rPr>
              <a:t>for the perpetration - member of the OCG by using spyware was able to follow development of the business exchange between FBA and UBP;</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dentification and prompt reaction </a:t>
            </a:r>
            <a:r>
              <a:rPr b="0" lang="en-US" sz="2800" spc="-1" strike="noStrike">
                <a:solidFill>
                  <a:srgbClr val="000000"/>
                </a:solidFill>
                <a:latin typeface="Calibri"/>
              </a:rPr>
              <a:t>to the time of the final paymen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previously prepared </a:t>
            </a:r>
            <a:r>
              <a:rPr b="0" lang="en-US" sz="2800" spc="-1" strike="noStrike">
                <a:solidFill>
                  <a:srgbClr val="000000"/>
                </a:solidFill>
                <a:latin typeface="Calibri"/>
              </a:rPr>
              <a:t>false invoices with e-mail heading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ense of urgency </a:t>
            </a:r>
            <a:r>
              <a:rPr b="0" lang="en-US" sz="2800" spc="-1" strike="noStrike">
                <a:solidFill>
                  <a:srgbClr val="000000"/>
                </a:solidFill>
                <a:latin typeface="Calibri"/>
              </a:rPr>
              <a:t>was added to the whole scheme same as the UBP Financial.</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16F2E23-8C19-44D1-8DF2-BE48677E62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tual printing of paper material </a:t>
            </a:r>
            <a:r>
              <a:rPr b="0" lang="en-US" sz="2800" spc="-1" strike="noStrike">
                <a:solidFill>
                  <a:srgbClr val="000000"/>
                </a:solidFill>
                <a:latin typeface="Calibri"/>
              </a:rPr>
              <a:t>was done and UBP notified about that fact with FBA requesting due payment;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filtrated member </a:t>
            </a:r>
            <a:r>
              <a:rPr b="0" lang="en-US" sz="2800" spc="-1" strike="noStrike">
                <a:solidFill>
                  <a:srgbClr val="000000"/>
                </a:solidFill>
                <a:latin typeface="Calibri"/>
              </a:rPr>
              <a:t>of organized crime group by use of spyware detected final moments of business closure;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roup registered </a:t>
            </a:r>
            <a:r>
              <a:rPr b="1" lang="ja-JP" sz="2800" spc="-1" strike="noStrike">
                <a:solidFill>
                  <a:srgbClr val="000000"/>
                </a:solidFill>
                <a:latin typeface="Calibri"/>
              </a:rPr>
              <a:t>“</a:t>
            </a:r>
            <a:r>
              <a:rPr b="1" lang="en-US" sz="2800" spc="-1" strike="noStrike">
                <a:solidFill>
                  <a:srgbClr val="000000"/>
                </a:solidFill>
                <a:latin typeface="Calibri"/>
              </a:rPr>
              <a:t>dummy</a:t>
            </a:r>
            <a:r>
              <a:rPr b="1" lang="ja-JP" sz="2800" spc="-1" strike="noStrike">
                <a:solidFill>
                  <a:srgbClr val="000000"/>
                </a:solidFill>
                <a:latin typeface="Calibri"/>
              </a:rPr>
              <a:t>”</a:t>
            </a:r>
            <a:r>
              <a:rPr b="1" lang="en-US" sz="2800" spc="-1" strike="noStrike">
                <a:solidFill>
                  <a:srgbClr val="000000"/>
                </a:solidFill>
                <a:latin typeface="Calibri"/>
              </a:rPr>
              <a:t> company in Ostland</a:t>
            </a:r>
            <a:r>
              <a:rPr b="0" lang="en-US" sz="2800" spc="-1" strike="noStrike">
                <a:solidFill>
                  <a:srgbClr val="000000"/>
                </a:solidFill>
                <a:latin typeface="Calibri"/>
              </a:rPr>
              <a:t> and opened company bank account in the branch of the bank used in Ostland by FBA;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documentation</a:t>
            </a:r>
            <a:r>
              <a:rPr b="0" lang="en-US" sz="2800" spc="-1" strike="noStrike">
                <a:solidFill>
                  <a:srgbClr val="000000"/>
                </a:solidFill>
                <a:latin typeface="Calibri"/>
              </a:rPr>
              <a:t>, including main piece of it – false invoice, was prepared; </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B8BCEAA-71EF-43AA-9579-740D5244F7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3" name=""/>
          <p:cNvSpPr txBox="1"/>
          <p:nvPr/>
        </p:nvSpPr>
        <p:spPr>
          <a:xfrm>
            <a:off x="457200" y="1427040"/>
            <a:ext cx="8229600" cy="4525920"/>
          </a:xfrm>
          <a:prstGeom prst="rect">
            <a:avLst/>
          </a:prstGeom>
          <a:noFill/>
          <a:ln w="0">
            <a:noFill/>
          </a:ln>
        </p:spPr>
        <p:txBody>
          <a:bodyPr anchor="t">
            <a:normAutofit fontScale="98000"/>
          </a:bodyPr>
          <a:p>
            <a:pPr marL="335880" indent="-335880" algn="ctr">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SLIDE TO BE REVIEWED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server was found and tested </a:t>
            </a:r>
            <a:r>
              <a:rPr b="0" lang="en-US" sz="2800" spc="-1" strike="noStrike">
                <a:solidFill>
                  <a:srgbClr val="000000"/>
                </a:solidFill>
                <a:latin typeface="Calibri"/>
              </a:rPr>
              <a:t>for sending false e-mail (or example of a  webmail account with slight change in the name of the e-mail account can be used, depending on trainer skills);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mail server services were paid by Bitcoin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e-mail was prepared</a:t>
            </a:r>
            <a:r>
              <a:rPr b="0" lang="en-US" sz="2800" spc="-1" strike="noStrike">
                <a:solidFill>
                  <a:srgbClr val="000000"/>
                </a:solidFill>
                <a:latin typeface="Calibri"/>
              </a:rPr>
              <a:t>, including names of the actual financial people, details about contract and language which was previously used; </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FDA4B2C-3D2D-4C1E-A709-D239541AC7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hief Financial Officer authorizes transfer</a:t>
            </a:r>
            <a:r>
              <a:rPr b="0" lang="en-US" sz="2800" spc="-1" strike="noStrike">
                <a:solidFill>
                  <a:srgbClr val="000000"/>
                </a:solidFill>
                <a:latin typeface="Calibri"/>
              </a:rPr>
              <a:t> on the basis of previously presented documents: false UBP mail with false invoice containing false bank account in country different both to the FBA and UBP;</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oment when fraud is completed and 200.000 EUR have been transferred to the fraudulent accoun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BP Finance Department checked their bank account </a:t>
            </a:r>
            <a:r>
              <a:rPr b="0" lang="en-US" sz="2800" spc="-1" strike="noStrike">
                <a:solidFill>
                  <a:srgbClr val="000000"/>
                </a:solidFill>
                <a:latin typeface="Calibri"/>
              </a:rPr>
              <a:t>and responded to FBA that no payment had been received from them. </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2EDDEFA-2657-4C83-B152-F93A4D1487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key part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layou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br>
              <a:rPr sz="2600"/>
            </a:br>
            <a:r>
              <a:rPr b="0" lang="en-GB" sz="2600" spc="-1" strike="noStrike">
                <a:solidFill>
                  <a:srgbClr val="000000"/>
                </a:solidFill>
                <a:latin typeface="Calibri"/>
              </a:rPr>
              <a:t>Beginning of the Investig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Part Fiv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1562029-EBA8-4AE5-A5FA-E8CAC7B004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CD93FB4-53CB-4F3F-9537-598DF77023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our:</a:t>
            </a:r>
            <a:br>
              <a:rPr sz="3600"/>
            </a:br>
            <a:r>
              <a:rPr b="1" lang="en-GB" sz="3600" spc="-1" strike="noStrike">
                <a:solidFill>
                  <a:srgbClr val="000000"/>
                </a:solidFill>
                <a:latin typeface="Calibri"/>
              </a:rPr>
              <a:t>Beginning of the Investigation</a:t>
            </a:r>
            <a:endParaRPr b="0" lang="en-US" sz="36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2BEA5B8-1789-4A25-91C9-762E64F92E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FBA;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FBA</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UBP;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UBP</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DSBN in Norland and Ostland; </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F90B91B-E8CD-4EBB-B3BB-00EF256A5C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a:t>
            </a:r>
            <a:r>
              <a:rPr b="0" lang="en-US" sz="2800" spc="-1" strike="noStrike">
                <a:solidFill>
                  <a:srgbClr val="000000"/>
                </a:solidFill>
                <a:latin typeface="Calibri"/>
              </a:rPr>
              <a:t>from both bank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vidence </a:t>
            </a:r>
            <a:r>
              <a:rPr b="0" lang="en-US" sz="2800" spc="-1" strike="noStrike">
                <a:solidFill>
                  <a:srgbClr val="000000"/>
                </a:solidFill>
                <a:latin typeface="Calibri"/>
              </a:rPr>
              <a:t>from competent Company Registration Authority in Ostland;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operation between </a:t>
            </a:r>
            <a:r>
              <a:rPr b="0" lang="en-US" sz="2800" spc="-1" strike="noStrike">
                <a:solidFill>
                  <a:srgbClr val="000000"/>
                </a:solidFill>
                <a:latin typeface="Calibri"/>
              </a:rPr>
              <a:t>police, prosecution and, if relevant, investigative judge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international legal assistance within Budapest Convention provisions. </a:t>
            </a:r>
            <a:endParaRPr b="0" lang="en-US" sz="28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2B98A2F-A343-44DE-92D3-D072BA6619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Key Electronic Evidence</a:t>
            </a:r>
            <a:endParaRPr b="0" lang="en-US" sz="4400" spc="-1" strike="noStrike">
              <a:solidFill>
                <a:srgbClr val="000000"/>
              </a:solidFill>
              <a:latin typeface="Calibri"/>
            </a:endParaRPr>
          </a:p>
        </p:txBody>
      </p:sp>
      <p:sp>
        <p:nvSpPr>
          <p:cNvPr id="121" name=""/>
          <p:cNvSpPr txBox="1"/>
          <p:nvPr/>
        </p:nvSpPr>
        <p:spPr>
          <a:xfrm>
            <a:off x="457200" y="142704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yware used in FBA;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MTP server for sending 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rypto-currency (Bitcoin);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gular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invoice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BP computer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ing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registry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urveillance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Other electronic evidence. </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2E1A993-60DD-44B3-B8EA-BEE4242528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07741FD-F7DF-4E9D-999B-94BE19EA66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D9952D9-2396-4215-B41F-9C4D35EB00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4C5C4B2-BD62-4814-9CD1-A3F72D33A7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7A52C99-C9B8-4FE2-9116-8337E8A47B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BB313D4-4E0F-412D-BD5F-339BB956F6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 of Norland</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4F38EF9-89E2-4136-9165-AF3E025260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75000"/>
          </a:bodyPr>
          <a:p>
            <a:pPr marL="2570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57040" indent="-257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 is engaged in providing </a:t>
            </a:r>
            <a:r>
              <a:rPr b="0" lang="en-US" sz="2400" spc="-1" strike="noStrike">
                <a:solidFill>
                  <a:srgbClr val="000000"/>
                </a:solidFill>
                <a:latin typeface="Calibri"/>
              </a:rPr>
              <a:t>a range of banking and financial services;</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Federal Bank of Atlantis Ltd., FBA Bank Towers, Atlantis 123456;</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 and Officers: </a:t>
            </a:r>
            <a:r>
              <a:rPr b="0" lang="en-US" sz="2400" spc="-1" strike="noStrike">
                <a:solidFill>
                  <a:srgbClr val="000000"/>
                </a:solidFill>
                <a:latin typeface="Calibri"/>
              </a:rPr>
              <a:t>Non-Executive Independent Chairman of the Board, Chief Executive Officer, Managing Director, Whole-time Director, Group Executive and Chief Financial Officer, Company Secretary, Senior General Manager (Legal), Senior General Manager &amp; Head – Investor Relations, Group Internal Audit and Senior General Manager, Executive Director, Head – Department for Logistics and Operations, Head – Information Technologies Department.</a:t>
            </a:r>
            <a:endParaRPr b="0" lang="en-US" sz="2400" spc="-1" strike="noStrike">
              <a:solidFill>
                <a:srgbClr val="000000"/>
              </a:solidFill>
              <a:latin typeface="Calibri"/>
            </a:endParaRPr>
          </a:p>
          <a:p>
            <a:pPr marL="25704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9547649-14DE-4033-88B8-A3D0801623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6675480" y="95724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760"/>
            <a:ext cx="8229600" cy="4525920"/>
          </a:xfrm>
          <a:prstGeom prst="rect">
            <a:avLst/>
          </a:prstGeom>
          <a:noFill/>
          <a:ln w="0">
            <a:noFill/>
          </a:ln>
        </p:spPr>
        <p:txBody>
          <a:bodyPr anchor="t">
            <a:normAutofit fontScale="98000"/>
          </a:bodyPr>
          <a:p>
            <a:pPr marL="3358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35880" indent="-33588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BP provides printing and supply-chain management services specialized for banking sector. Company also sorts and mails short-to-medium run banking publications, which are distributed to specialty magazines;</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United Bank Printing, Green Garden Avenue 123, Blankenberg 123456, Norland;</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Chief Executive Officer, Managing Director, Whole-time Director, Chief Financial Officer.</a:t>
            </a: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726AFA4-DF6C-4C82-A482-A8FBAEB005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5840280" y="134928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a:t>
            </a:r>
            <a:endParaRPr b="0" lang="en-US" sz="3200" spc="-1" strike="noStrike">
              <a:solidFill>
                <a:srgbClr val="000000"/>
              </a:solidFill>
              <a:latin typeface="Calibri"/>
            </a:endParaRPr>
          </a:p>
          <a:p>
            <a:pPr marL="28800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	</a:t>
            </a:r>
            <a:r>
              <a:rPr b="1" lang="pt-PT" sz="3200" spc="-1" strike="noStrike">
                <a:solidFill>
                  <a:srgbClr val="000000"/>
                </a:solidFill>
                <a:latin typeface="Calibri"/>
              </a:rPr>
              <a:t>of Norland</a:t>
            </a:r>
            <a:endParaRPr b="0" lang="en-US" sz="32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cklands Security Bank of Norland provides banking services </a:t>
            </a:r>
            <a:r>
              <a:rPr b="0" lang="en-US" sz="2400" spc="-1" strike="noStrike">
                <a:solidFill>
                  <a:srgbClr val="000000"/>
                </a:solidFill>
                <a:latin typeface="Calibri"/>
              </a:rPr>
              <a:t>to corporations, governments, institutional investors, small and medium-sized businesses, and private individuals;</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Docklands Security Bank of Norland, DSBN Homestead Building, Blankenberg 654321;</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Non-Executive Independent Chairman of the Board, Chief Executive Officer, Managing Director, Whole-time Director, Group Executive and Chief Financial Officer, Company Secretary, Senior General Manager, General Manager &amp; Head – Investor Relations, Head - Group Internal Audit and Senior General Manager, Executive Director.</a:t>
            </a: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9B4A992-B190-48E9-9704-46C5255A06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5423040" y="119232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DCE0C95-0664-4ADC-A5A5-C9BABF8478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6:16Z</dcterms:modified>
  <cp:revision>157</cp:revision>
  <dc:subject/>
  <dc:title>Introductory Cybercrime Training for Judges and Prosecutors</dc:title>
</cp:coreProperties>
</file>