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BA429-4643-4014-AE52-93851605EB8A}"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4B94C-6016-478C-AC91-DF2678AF3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تقدم دراسة الحالة لمحة عامة بطريقة مكثفة عن الأدلة التي سيتم تقديمها للمشاركين.</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E427F-825E-4E1D-B150-5114A49D5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10</a:t>
            </a:r>
            <a:r>
              <a:rPr b="0" lang="ar-SA" sz="1200" spc="-1" strike="noStrike">
                <a:solidFill>
                  <a:srgbClr val="000000"/>
                </a:solidFill>
                <a:latin typeface="Calibri"/>
              </a:rPr>
              <a:t> </a:t>
            </a:r>
            <a:r>
              <a:rPr b="0" lang="ar-SY" sz="1200" spc="-1" strike="noStrike">
                <a:solidFill>
                  <a:srgbClr val="000000"/>
                </a:solidFill>
                <a:latin typeface="Calibri"/>
              </a:rPr>
              <a:t>مراسلات </a:t>
            </a:r>
            <a:r>
              <a:rPr b="0" lang="ar-SA" sz="1200" spc="-1" strike="noStrike">
                <a:solidFill>
                  <a:srgbClr val="000000"/>
                </a:solidFill>
                <a:latin typeface="Calibri"/>
              </a:rPr>
              <a:t>منتظمة </a:t>
            </a:r>
            <a:r>
              <a:rPr b="0" lang="ar-SY" sz="1200" spc="-1" strike="noStrike">
                <a:solidFill>
                  <a:srgbClr val="000000"/>
                </a:solidFill>
                <a:latin typeface="Calibri"/>
              </a:rPr>
              <a:t>عبر البريد ال</a:t>
            </a:r>
            <a:r>
              <a:rPr b="0" lang="ar-SA" sz="1200" spc="-1" strike="noStrike">
                <a:solidFill>
                  <a:srgbClr val="000000"/>
                </a:solidFill>
                <a:latin typeface="Calibri"/>
              </a:rPr>
              <a:t>إلكتروني متبادلة بين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أشخاص في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مكلفين بأنشطة تجارية مختلفة وصفقات تعاقدية من أجل طباعة سندات بمناسبة </a:t>
            </a:r>
            <a:r>
              <a:rPr b="0" lang="ar-SY" sz="1200" spc="-1" strike="noStrike">
                <a:solidFill>
                  <a:srgbClr val="000000"/>
                </a:solidFill>
                <a:latin typeface="Calibri"/>
              </a:rPr>
              <a:t>ال</a:t>
            </a:r>
            <a:r>
              <a:rPr b="0" lang="ar-SA" sz="1200" spc="-1" strike="noStrike">
                <a:solidFill>
                  <a:srgbClr val="000000"/>
                </a:solidFill>
                <a:latin typeface="Calibri"/>
              </a:rPr>
              <a:t>ذكرى </a:t>
            </a:r>
            <a:r>
              <a:rPr b="0" lang="ar-SY" sz="1200" spc="-1" strike="noStrike">
                <a:solidFill>
                  <a:srgbClr val="000000"/>
                </a:solidFill>
                <a:latin typeface="Calibri"/>
              </a:rPr>
              <a:t>ال</a:t>
            </a:r>
            <a:r>
              <a:rPr b="0" lang="ar-SA" sz="1200" spc="-1" strike="noStrike">
                <a:solidFill>
                  <a:srgbClr val="000000"/>
                </a:solidFill>
                <a:latin typeface="Calibri"/>
              </a:rPr>
              <a:t>سنوية</a:t>
            </a:r>
            <a:r>
              <a:rPr b="0" lang="ar-SY" sz="1200" spc="-1" strike="noStrike">
                <a:solidFill>
                  <a:srgbClr val="000000"/>
                </a:solidFill>
                <a:latin typeface="Calibri"/>
              </a:rPr>
              <a:t> للبنك</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عقد المبرم بين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جاء في أعقاب مراسلات متبادلة عبر البريد الإلكتروني تحدد الإطار التجاري للصفقة</a:t>
            </a:r>
            <a:r>
              <a:rPr b="0" lang="ar-SY" sz="1200" spc="-1" strike="noStrike">
                <a:solidFill>
                  <a:srgbClr val="000000"/>
                </a:solidFill>
                <a:latin typeface="Calibri"/>
              </a:rPr>
              <a:t>.</a:t>
            </a:r>
            <a:r>
              <a:rPr b="0" lang="ar-SA" sz="1200" spc="-1" strike="noStrike">
                <a:solidFill>
                  <a:srgbClr val="000000"/>
                </a:solidFill>
                <a:latin typeface="Calibri"/>
              </a:rPr>
              <a:t> كما </a:t>
            </a:r>
            <a:r>
              <a:rPr b="0" lang="ar-SY" sz="1200" spc="-1" strike="noStrike">
                <a:solidFill>
                  <a:srgbClr val="000000"/>
                </a:solidFill>
                <a:latin typeface="Calibri"/>
              </a:rPr>
              <a:t>ي</a:t>
            </a:r>
            <a:r>
              <a:rPr b="0" lang="ar-SA" sz="1200" spc="-1" strike="noStrike">
                <a:solidFill>
                  <a:srgbClr val="000000"/>
                </a:solidFill>
                <a:latin typeface="Calibri"/>
              </a:rPr>
              <a:t>حدد الخطوات الهامة لتطور القضية أكث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FBCBD-5679-4B13-B0B5-914EEBFA0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برز </a:t>
            </a:r>
            <a:r>
              <a:rPr b="0" lang="ar-SY" sz="1200" spc="-1" strike="noStrike">
                <a:solidFill>
                  <a:srgbClr val="000000"/>
                </a:solidFill>
                <a:latin typeface="Calibri"/>
              </a:rPr>
              <a:t>كشوفات </a:t>
            </a:r>
            <a:r>
              <a:rPr b="0" lang="ar-SA" sz="1200" spc="-1" strike="noStrike">
                <a:solidFill>
                  <a:srgbClr val="000000"/>
                </a:solidFill>
                <a:latin typeface="Calibri"/>
              </a:rPr>
              <a:t>البنك التطور الوثيق للحالة. وسيكون بإمكان المشاركين تنفيذ مبدأ "اتبع المال" عبر تحليل </a:t>
            </a:r>
            <a:r>
              <a:rPr b="0" lang="ar-SY" sz="1200" spc="-1" strike="noStrike">
                <a:solidFill>
                  <a:srgbClr val="000000"/>
                </a:solidFill>
                <a:latin typeface="Calibri"/>
              </a:rPr>
              <a:t>كشوفات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الفاتورة المبدئية أصلية وصادرة عن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لفائدة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من أجل دفعة تسبيقية بقيمة </a:t>
            </a:r>
            <a:r>
              <a:rPr b="0" lang="ar-SA" sz="1200" spc="-1" strike="noStrike">
                <a:solidFill>
                  <a:srgbClr val="000000"/>
                </a:solidFill>
                <a:latin typeface="Calibri"/>
              </a:rPr>
              <a:t>100.000</a:t>
            </a:r>
            <a:r>
              <a:rPr b="0" lang="ar-SY" sz="1200" spc="-1" strike="noStrike">
                <a:solidFill>
                  <a:srgbClr val="000000"/>
                </a:solidFill>
                <a:latin typeface="Calibri"/>
              </a:rPr>
              <a:t> يورو</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84041-D2CE-493A-A19A-AB68C7445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ني من هذه الحصة.</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39C7C-5881-4D56-ACBC-D708284C0D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سالة البريد الإلكتروني الحادية عشر وتاليها تشكل أدوات ارتكاب الجريمة. تمت كتابة محتوى الرسائل الإلكترونية من قبل مرتكب الجريمة وتتضمن كافة العناصر الضرورية للتحلي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عداد الفاتورة المزيفة من قبل مرتكب الجريمة وتوجه تحويل الأموال نحو حساب بنكي حقيقي وموجود لكن تم فتحه لأغراض الاحتيال.</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8BA5A-39FA-449F-8A4F-0AA00DB75F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صريحات المدراء لدى البنك الفيدرالي لأتلانتيس المعنيين بالقضية في مختلف مراحلها. أهم التصريحات هي تلك التي أدلى بها قسم الشؤون المالية وقسم تكنولوجيا المعلومات، خاصة وأن هذه التصريحات تقدم أفكار أو شروحات عن كيف تم ارتكاب هذه الجري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85D69-66DE-4E7F-AD3A-403596F58F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لث من هذه الحصة.</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C3484-1DB6-4521-A916-0A5894A8B7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1096D-4FFA-4BF8-9A34-BC64F2987B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F1857-3B36-493C-A2B3-6B8D8C3F17A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أول من العرض تعريفا بالأدلة الأولية المقدمة في مواد سيناريو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ركز الجزء الثالث على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شرح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لخص الجزء الخامس العروض السابقة.</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90CA4-FE55-43CA-9B67-7EA7E92BC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FFB0A-172B-4BBB-8F5F-1E4FE9D6BF6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رابع من هذه الحصة.</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DCDA6-052C-493A-B1A6-BA2429E995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3E69C-7FF8-40C0-9F7C-39C55E881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هذه الحصة.</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63BA7-0952-4198-83DA-0BD223816F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E5C78-3E24-41EC-A65D-A88B77E7E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Sakkal Majalla"/>
                <a:cs typeface="Sakkal Majalla"/>
              </a:rPr>
              <a:t>يبدأ السيناريو </a:t>
            </a:r>
            <a:r>
              <a:rPr b="0" lang="ar-SY" sz="1200" spc="-1" strike="noStrike">
                <a:solidFill>
                  <a:srgbClr val="000000"/>
                </a:solidFill>
                <a:latin typeface="Sakkal Majalla"/>
                <a:cs typeface="Sakkal Majalla"/>
              </a:rPr>
              <a:t>بالإشارة إلى </a:t>
            </a:r>
            <a:r>
              <a:rPr b="0" lang="ar-SA" sz="1200" spc="-1" strike="noStrike">
                <a:solidFill>
                  <a:srgbClr val="000000"/>
                </a:solidFill>
                <a:latin typeface="Sakkal Majalla"/>
                <a:cs typeface="Sakkal Majalla"/>
              </a:rPr>
              <a:t>البنك الفدرالي لأتلانتيس (</a:t>
            </a:r>
            <a:r>
              <a:rPr b="0" lang="en-US" sz="1200" spc="-1" strike="noStrike">
                <a:solidFill>
                  <a:srgbClr val="000000"/>
                </a:solidFill>
                <a:latin typeface="Sakkal Majalla"/>
                <a:ea typeface="Sakkal Majalla"/>
              </a:rPr>
              <a:t>FBA</a:t>
            </a:r>
            <a:r>
              <a:rPr b="0" lang="ar-SA" sz="1200" spc="-1" strike="noStrike">
                <a:solidFill>
                  <a:srgbClr val="000000"/>
                </a:solidFill>
                <a:latin typeface="Sakkal Majalla"/>
                <a:ea typeface="Sakkal Majalla"/>
              </a:rPr>
              <a:t>) كبنك دولي معروف وذي سمعة طيبة. وينبغي أن يجلب وصف من هذا القبيل الم</a:t>
            </a:r>
            <a:r>
              <a:rPr b="0" lang="ar-SY" sz="1200" spc="-1" strike="noStrike">
                <a:solidFill>
                  <a:srgbClr val="000000"/>
                </a:solidFill>
                <a:latin typeface="Sakkal Majalla"/>
                <a:cs typeface="Sakkal Majalla"/>
              </a:rPr>
              <a:t>ت</a:t>
            </a:r>
            <a:r>
              <a:rPr b="0" lang="ar-SA" sz="1200" spc="-1" strike="noStrike">
                <a:solidFill>
                  <a:srgbClr val="000000"/>
                </a:solidFill>
                <a:latin typeface="Sakkal Majalla"/>
                <a:cs typeface="Sakkal Majalla"/>
              </a:rPr>
              <a:t>دربين إلى استنتاج أن هذا النوع من البنوك لا ينبغي أن يشارك في أي نوع من المشاكل، ناهيك عن </a:t>
            </a:r>
            <a:r>
              <a:rPr b="0" lang="ar-SY" sz="1200" spc="-1" strike="noStrike">
                <a:solidFill>
                  <a:srgbClr val="000000"/>
                </a:solidFill>
                <a:latin typeface="Sakkal Majalla"/>
                <a:cs typeface="Sakkal Majalla"/>
              </a:rPr>
              <a:t>المشاكل </a:t>
            </a:r>
            <a:r>
              <a:rPr b="0" lang="ar-SA" sz="1200" spc="-1" strike="noStrike">
                <a:solidFill>
                  <a:srgbClr val="000000"/>
                </a:solidFill>
                <a:latin typeface="Sakkal Majalla"/>
                <a:cs typeface="Sakkal Majalla"/>
              </a:rPr>
              <a:t>المشابهة لتلك التي سيتم وصفها لاحقًا في هذه الوثيقة.</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419D4-75D1-41CC-BCE8-99D227911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صائص/</a:t>
            </a:r>
            <a:r>
              <a:rPr b="0" lang="ar-SA" sz="1200" spc="-1" strike="noStrike">
                <a:solidFill>
                  <a:srgbClr val="000000"/>
                </a:solidFill>
                <a:latin typeface="Calibri"/>
              </a:rPr>
              <a:t>مواصفات الشركات المشاركة في 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40250-8C8E-4F36-9346-FA21E3D15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ثائق الدعم المتنوعة ل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وأدوب ريدر (</a:t>
            </a:r>
            <a:r>
              <a:rPr b="0" lang="en-GB" sz="1200" spc="-1" strike="noStrike">
                <a:solidFill>
                  <a:srgbClr val="000000"/>
                </a:solidFill>
                <a:latin typeface="Calibri"/>
              </a:rPr>
              <a:t>Adobe Reader</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F3F16-FB06-4CB8-B0B2-1A2D95400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أول من هذه الحصة.</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D349C-6E14-49E0-B31E-A23D25D056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DF970-1C12-4FB0-BD2C-BAF2B131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A0E2-D652-40FC-9B16-334BBEC0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E321A-D79F-497F-A305-3D54E849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C7C63-F91F-4C76-B167-939E11EEF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ED29C-182E-4B6E-BEE0-9138722B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07268-2178-4CCC-B822-DFB4D7E5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3D90-B6F6-43E3-9596-F1838A82A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FBBD9-DCED-41D6-A075-29C58B32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75F77-BFBD-4731-80D4-80AE0414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C1B0-92BE-481A-9124-B5489F625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EF45-C00E-43BB-9478-52E74758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8F4D-5615-4D6E-8483-0C7EC093F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ACE4C-893D-48C1-BBC1-7F257DFE702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F742E-C742-4FA9-9B04-928CE5A5AD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3.2.2</a:t>
            </a:r>
            <a:endParaRPr b="0" lang="en-US" sz="3200" spc="-1" strike="noStrike">
              <a:solidFill>
                <a:srgbClr val="000000"/>
              </a:solidFill>
              <a:latin typeface="Calibri"/>
            </a:endParaRPr>
          </a:p>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898989"/>
                </a:solidFill>
                <a:latin typeface="Sakkal Majalla"/>
                <a:cs typeface="Sakkal Majalla"/>
              </a:rPr>
              <a:t>دراسة حالة: لمحة عن الأدلة</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78000"/>
          </a:bodyPr>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بادل رسائل البريد الإلكتروني بين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دم رسائل البريد الإلكتروني وفقا لتسلسل المراسلات بين الأشخاص المتعاقدين والمسؤولين لدى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صدار سندات الذكرى المئوية لتأسيس البنك؛</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قدم  العقد المبرم بين شركتي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لقاء نظرة أشمل والتحليل، وكذلك كدليل لدعم ملف القضية.</a:t>
            </a:r>
            <a:endParaRPr b="0" lang="en-US" sz="3200" spc="-1" strike="noStrike">
              <a:solidFill>
                <a:srgbClr val="000000"/>
              </a:solidFill>
              <a:latin typeface="Calibri"/>
            </a:endParaRPr>
          </a:p>
          <a:p>
            <a:pPr marL="267480" indent="0" algn="just" rtl="1">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0" algn="just" rtl="1">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674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6FFFCB9-A151-4987-A318-AA5FACCC1D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535176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الفدرالي لأتلانتيس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ثمة قائمة بالعديد من المعاملات، بما في ذلك دفعة مسبقة بقيمة </a:t>
            </a:r>
            <a:r>
              <a:rPr b="0" lang="ar-SY"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 مدرجة في هذا الكشف؛</a:t>
            </a:r>
            <a:endParaRPr b="0" lang="en-US" sz="28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a:t>
            </a:r>
            <a:r>
              <a:rPr b="1" lang="ar-SY" sz="3200" spc="-1" strike="noStrike">
                <a:solidFill>
                  <a:srgbClr val="000000"/>
                </a:solidFill>
                <a:latin typeface="Sakkal Majalla"/>
                <a:cs typeface="Sakkal Majalla"/>
              </a:rPr>
              <a:t>المتحد للطباعة </a:t>
            </a:r>
            <a:r>
              <a:rPr b="1"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تم جميع المعاملات البنكية للبنك المتحد للطباعة عبر خدمات دوكلاندس سكيوريتيز بنك نورلاندا؛</a:t>
            </a:r>
            <a:endParaRPr b="0" lang="en-US" sz="2800" spc="-1" strike="noStrike">
              <a:solidFill>
                <a:srgbClr val="000000"/>
              </a:solidFill>
              <a:latin typeface="Calibri"/>
            </a:endParaRPr>
          </a:p>
          <a:p>
            <a:pPr marL="31212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الفاتورة المبدئية </a:t>
            </a:r>
            <a:r>
              <a:rPr b="1" lang="ar-SY" sz="3200" spc="-1" strike="noStrike">
                <a:solidFill>
                  <a:srgbClr val="000000"/>
                </a:solidFill>
                <a:latin typeface="Sakkal Majalla"/>
                <a:cs typeface="Sakkal Majalla"/>
              </a:rPr>
              <a:t>ل</a:t>
            </a:r>
            <a:r>
              <a:rPr b="1" lang="ar-SA" sz="3200" spc="-1" strike="noStrike">
                <a:solidFill>
                  <a:srgbClr val="000000"/>
                </a:solidFill>
                <a:latin typeface="Sakkal Majalla"/>
                <a:cs typeface="Sakkal Majalla"/>
              </a:rPr>
              <a:t>لبنك المتحد للطباعة (</a:t>
            </a:r>
            <a:r>
              <a:rPr b="1" lang="en-GB"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صدر البنك المتحد للطباعة فاتورة مبدئية لفائدة </a:t>
            </a:r>
            <a:r>
              <a:rPr b="0" lang="ar-SA" sz="2800" spc="-1" strike="noStrike">
                <a:solidFill>
                  <a:srgbClr val="000000"/>
                </a:solidFill>
                <a:latin typeface="Sakkal Majalla"/>
                <a:cs typeface="Sakkal Majalla"/>
              </a:rPr>
              <a:t>البنك الفدرالي لأتلانتيس (</a:t>
            </a:r>
            <a:r>
              <a:rPr b="0"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قيمة </a:t>
            </a:r>
            <a:r>
              <a:rPr b="0" lang="ar-SA"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a:t>
            </a:r>
            <a:r>
              <a:rPr b="0"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D799E11-D9EC-4C74-855F-8164B1324C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9870B8E-65E2-4542-B864-4C4A30B94B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0320" y="2762280"/>
            <a:ext cx="8528040" cy="217152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ارتكاب الجريمة – الأدلة وإفادات الشهود</a:t>
            </a:r>
            <a:endParaRPr b="0" lang="en-US" sz="54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51B76EF-8BA9-4434-9253-F600D5FF00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رسالة البريد الإلكتروني الحادية عشر والمراسلات الموالية تعتبر حاسمة بالنسبة للحظة ارتكاب الجريمة؛</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فاتورة المزيفة لشركة «</a:t>
            </a:r>
            <a:r>
              <a:rPr b="0" lang="en-GB" sz="2800" spc="-1" strike="noStrike">
                <a:solidFill>
                  <a:srgbClr val="000000"/>
                </a:solidFill>
                <a:latin typeface="Sakkal Majalla"/>
                <a:ea typeface="Sakkal Majalla"/>
              </a:rPr>
              <a:t>UBP</a:t>
            </a:r>
            <a:r>
              <a:rPr b="0" lang="ar-SY" sz="2800" spc="-1" strike="noStrike">
                <a:solidFill>
                  <a:srgbClr val="000000"/>
                </a:solidFill>
                <a:latin typeface="Sakkal Majalla"/>
                <a:ea typeface="Sakkal Majalla"/>
              </a:rPr>
              <a:t>» معلومات زائفة عن الحساب وتطالب بدفع مبلغ </a:t>
            </a:r>
            <a:r>
              <a:rPr b="0" lang="ar-SY" sz="2800" spc="-1" strike="noStrike">
                <a:solidFill>
                  <a:srgbClr val="000000"/>
                </a:solidFill>
                <a:latin typeface="Sakkal Majalla"/>
                <a:ea typeface="Sakkal Majalla"/>
              </a:rPr>
              <a:t>200.000</a:t>
            </a:r>
            <a:r>
              <a:rPr b="0" lang="ar-SY" sz="2800" spc="-1" strike="noStrike">
                <a:solidFill>
                  <a:srgbClr val="000000"/>
                </a:solidFill>
                <a:latin typeface="Sakkal Majalla"/>
                <a:ea typeface="Sakkal Majalla"/>
              </a:rPr>
              <a:t> يورو نظرا لاستكمال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سند.</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7008C89-F8A9-4D63-A0A5-F88B54EAE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fontScale="88000"/>
          </a:bodyPr>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فادات الشهود</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لوجستيك والعملي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شؤون المالية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تكنولوجيا المعلوم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3692ACC-51DA-472F-A6AE-538709AE8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A50EAC9-5345-42A8-AA5D-520F15CE71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مسرد المصطلحات</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6907493-4F98-45A0-9151-42F36E8D8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تهديد المستمر والمتقدم</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 </a:t>
            </a:r>
            <a:r>
              <a:rPr b="0" lang="ar-SA" sz="3200" spc="-1" strike="noStrike">
                <a:solidFill>
                  <a:srgbClr val="000000"/>
                </a:solidFill>
                <a:latin typeface="Sakkal Majalla"/>
                <a:cs typeface="Sakkal Majalla"/>
              </a:rPr>
              <a:t>مجموعة من عمليات القرصنة الخفية والمستمرة</a:t>
            </a:r>
            <a:r>
              <a:rPr b="0" lang="ar-SY" sz="3200" spc="-1" strike="noStrike">
                <a:solidFill>
                  <a:srgbClr val="000000"/>
                </a:solidFill>
                <a:latin typeface="Sakkal Majalla"/>
                <a:ea typeface="Sakkal Majalla"/>
              </a:rPr>
              <a:t> على الكمبيوتر،</a:t>
            </a:r>
            <a:r>
              <a:rPr b="0" lang="ar-SA" sz="3200" spc="-1" strike="noStrike">
                <a:solidFill>
                  <a:srgbClr val="000000"/>
                </a:solidFill>
                <a:latin typeface="Sakkal Majalla"/>
                <a:ea typeface="Sakkal Majalla"/>
              </a:rPr>
              <a:t> ينسقها عادة شخص أو مجموعة من الأشخاص يستهدفون كيانًا محددً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DFAA74E-B2C3-4856-8C7D-8171D3890F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281320" y="3189240"/>
            <a:ext cx="427176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ملات المشفر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أحد الأصول الرقمية المصممة للعمل كوسيلة للتبادل باستخدام التشفير لتأمين المعاملات والتحكم في إنشاء أي وحدات إضافية للعمل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0113080-83C0-4255-B89B-E5A965C5A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1673280" y="3533760"/>
            <a:ext cx="535788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fontScale="98000"/>
          </a:bodyPr>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قدمة والأدلة الأولي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طور الحال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رتكاب الجريمة وإفادات الشهود</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سرد المصطلحات</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خامس</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لخص</a:t>
            </a:r>
            <a:endParaRPr b="0" lang="en-US" sz="32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41DA5D-040D-41D6-A7A0-E6D76FFE1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rPr>
              <a:t>ا</a:t>
            </a:r>
            <a:r>
              <a:rPr b="1" lang="ar-SY" sz="3200" spc="-1" strike="noStrike">
                <a:solidFill>
                  <a:srgbClr val="000000"/>
                </a:solidFill>
                <a:latin typeface="Calibri"/>
              </a:rPr>
              <a:t>لهندسة الاجتماعية الإلكتروني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نوع من التلاعب النفسي بالأشخاص بغرض جمع معلومات أو الاحتيال أو النفاذ إلى نظام، وتختلف عن "الخدع" التقليدية من حيث أنها غالباً ما تكون إحدى الخطوات العديدة في مخطط أكثر تعقيدًا للاحتي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00F3B23-62D4-4659-A3A3-AD78BD11F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208240" y="3678120"/>
            <a:ext cx="3610080" cy="30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2"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CB6F4B2-8076-4737-B24F-983FB2AE12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4943068-6EC4-47ED-8F0B-28D6DF875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8" name="TextBox 3"/>
          <p:cNvSpPr/>
          <p:nvPr/>
        </p:nvSpPr>
        <p:spPr>
          <a:xfrm>
            <a:off x="142524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0ACACF0-A94F-4B34-A980-70CA3627A9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0000"/>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CB58926-8D53-4EB2-8C83-4D90FE822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881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6000" spc="-1" strike="noStrike">
                <a:solidFill>
                  <a:srgbClr val="000000"/>
                </a:solidFill>
                <a:latin typeface="Sakkal Majalla"/>
                <a:cs typeface="Sakkal Majalla"/>
              </a:rPr>
              <a:t>الجزء الأول:</a:t>
            </a:r>
            <a:br>
              <a:rPr sz="6000"/>
            </a:br>
            <a:r>
              <a:rPr b="1" lang="ar-SY" sz="6000" spc="-1" strike="noStrike">
                <a:solidFill>
                  <a:srgbClr val="000000"/>
                </a:solidFill>
                <a:latin typeface="Sakkal Majalla"/>
                <a:cs typeface="Sakkal Majalla"/>
              </a:rPr>
              <a:t>المقدمة والأدلة الأولية</a:t>
            </a:r>
            <a:endParaRPr b="0" lang="en-US" sz="60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6F81DE2-D02D-45D3-8440-1FB7CF6A2B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cs typeface="Sakkal Majalla"/>
              </a:rPr>
              <a:t>المقدمة</a:t>
            </a:r>
            <a:r>
              <a:rPr b="1" lang="pt-PT"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وجز عن الحالة</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يرتبط سيناريو دراسة هذه الحالة بالخطط التي اشتهرت حديثًا، أو ما يُعرف باسم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بريد الإلكتروني الخاص بالأعمال</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 أو قضايا</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1" lang="en-US" sz="2800" spc="-1" strike="noStrike">
                <a:solidFill>
                  <a:srgbClr val="000000"/>
                </a:solidFill>
                <a:latin typeface="Sakkal Majalla"/>
                <a:ea typeface="Sakkal Majalla"/>
              </a:rPr>
              <a:t>BEC</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Business E-mail Compromise</a:t>
            </a:r>
            <a:r>
              <a:rPr b="0" lang="ar-SA" sz="2800" spc="-1" strike="noStrike">
                <a:solidFill>
                  <a:srgbClr val="000000"/>
                </a:solidFill>
                <a:latin typeface="Sakkal Majalla"/>
                <a:ea typeface="Sakkal Majalla"/>
              </a:rPr>
              <a:t>)</a:t>
            </a:r>
            <a:r>
              <a:rPr b="0" lang="ar-SA" sz="2800" spc="-1" strike="noStrike">
                <a:solidFill>
                  <a:srgbClr val="000000"/>
                </a:solidFill>
                <a:latin typeface="Sakkal Majalla"/>
                <a:cs typeface="Sakkal Majalla"/>
              </a:rPr>
              <a:t>، وهي مشتقة من عمليات الاحتيال التي تم اكتشافها سابقًا وكانت تدعى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رئيس المدير العام</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CEO fraud</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 أو عمليات احتيال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لوسيط</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Man-in-the-middle</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22200" indent="-32220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ويعتبر نطاق وحجم عمليات الاحتيال هذه مدهشا.</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قدمة</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4599408-77F9-4477-89EA-1D5C2E813E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صائص الشركات</a:t>
            </a:r>
            <a:r>
              <a:rPr b="0" lang="pt-PT" sz="3200" spc="-1" strike="noStrike">
                <a:solidFill>
                  <a:srgbClr val="000000"/>
                </a:solidFill>
                <a:latin typeface="Sakkal Majalla"/>
                <a:ea typeface="Sakkal Majalla"/>
              </a:rPr>
              <a:t>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فدرالي لأتلانتيس</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متحد للطباعة</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دوكلاندس سكيوريتيز – بنك نورلاندا</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38DF4F0-7357-42D4-BB77-E2C5CCFA6C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5096160"/>
          </a:xfrm>
          <a:prstGeom prst="rect">
            <a:avLst/>
          </a:prstGeom>
          <a:noFill/>
          <a:ln w="0">
            <a:noFill/>
          </a:ln>
        </p:spPr>
        <p:txBody>
          <a:bodyPr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علان البنك الفيدرالي لأتلانتيس عن سند الذكرى المئوية</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قرار مجلس الإدارة بإصدار  سند والعناصر المالية المرتبطة بذلك؛</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سند البنك الفيدرالي لأتلانتيس </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صميم شكل السند بما في ذلك عناصر الطباعة؛</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قد بين البنك الفيدرالي لأتلانتيس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البنك المتحد للطباعة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قد مبرم من أجل خدمة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قطعة من سندات الذكرى المئوية لتأسيس البنك الفيدرالي لأتلانتيس.</a:t>
            </a:r>
            <a:endParaRPr b="0" lang="en-US" sz="2800" spc="-1" strike="noStrike">
              <a:solidFill>
                <a:srgbClr val="000000"/>
              </a:solidFill>
              <a:latin typeface="Calibri"/>
            </a:endParaRPr>
          </a:p>
          <a:p>
            <a:pPr marL="29844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A740A3B-2194-49BC-94FC-3949D2F71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0"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1679C9-79B0-4017-B668-E20E30F743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2280"/>
            <a:ext cx="8229600" cy="155736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1000C6C-353C-49B8-ADA5-29407B9CF5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3T23:56:17Z</dcterms:modified>
  <cp:revision>202</cp:revision>
  <dc:subject/>
  <dc:title>Introductory Cybercrime Training for Judges and Prosecutors</dc:title>
</cp:coreProperties>
</file>