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4FB18-8BF9-492D-AB3D-E003B91531A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2EF4A-65F8-4A04-8F54-992BF826BF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FE2E0-BB44-4176-ACFA-8C1DDFB1AA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شرح للمشاركين الأسئلة المتعلقة بالقانون الموضوع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رتبط السؤال الثالث بسلوك موظف وكالة إنفاذ القانون الذي حصل على رموز النفاذ لأغراض الولوج إلى نظام الكمبيوتر.</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3E19E-E00C-48C4-946A-145288D29B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577C1-9740-4211-86D0-3FB61BA08E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وضح للمشاركين الوقائع المتعلقة بالجزء </a:t>
            </a:r>
            <a:r>
              <a:rPr b="0" lang="ar-SY" sz="1200" spc="-1" strike="noStrike">
                <a:solidFill>
                  <a:srgbClr val="000000"/>
                </a:solidFill>
                <a:latin typeface="Calibri"/>
              </a:rPr>
              <a:t>2</a:t>
            </a:r>
            <a:r>
              <a:rPr b="0" lang="ar-SY" sz="12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200" spc="-1" strike="noStrike">
                <a:solidFill>
                  <a:srgbClr val="000000"/>
                </a:solidFill>
                <a:latin typeface="Calibri"/>
              </a:rPr>
              <a:t>DarkHacker</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80D6B-3FBC-48D4-A564-C3856F49AD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DACD2-4D46-48C3-8CBD-85E51272E4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D7394-8390-4C1F-A90E-EEA6456267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D5802-2AD4-4B10-9A56-CD5D9712E6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أشكال أخرى للتعاو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من يستخدم حساب البريد الإلكتروني المذكو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32260-8917-4E3F-9C8E-B8FD212AE2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التعاون الدول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د الاستجواب، عرف المحقق أن نظام الكمبيوتر المستخدم من قبل منتدى «دارك هاكر» يوجد في بلد مختلف، روه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أن خبر اعتقال بوريس سميث لم ينشر للعموم، ولا يوجد سبب يجعل وكالات إنفاذ القانون تعتقد أن بيانات الكمبيوتر المخزنة على نظام كمبيوتر منتدى «دارك هاكر» عرضة للضياع أو التعد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اوة على ذلك، ينبغي أن يشرح المدرب أن بوريس سميث أخبر وكالات إنفاذ القانون باتصال محدد سيتم إجراؤه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باستخدام حساب البريد الإلكتروني </a:t>
            </a:r>
            <a:r>
              <a:rPr b="0" lang="fr-FR"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304E3-9240-4265-9835-83C5B1E45E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تدابير التي يمكن اتخاذها لضمان أن مزود الخدمة الموجود في ولاية قضائية أخرى يحافظ على البيانات المتعلقة بحساب البريد الإلكتروني المحدد؟</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تدابير المتعلقة بتحديد مزودي الخدمات الآخرين المشاركين في نقل الاتصال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لث بالتدابير التي يمكن اتخاذها للحصول على بيانات الكمبيوتر المخزنة في ولاية قضائية أخرى.</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طوي السؤال الرابع على التدابير اللازمة لتأمين وتأكيد موقع زبون دارك هاكرالذي سيشارك في اتصال مستقبلي.</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5C495-6F8A-459E-B033-F019D1523E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موضوع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4285E-77E2-4589-8A6B-189EFCB830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خمس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ل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قانون الموضوع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جزء الثالث بالقانون الإجرائ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رابع أشكالا أخرى للتعاون بموجب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خامس بالمساعدة القانونية المتبادلة.</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4EB54-15FC-4928-951B-5B9CEF60A4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FA504-A3EA-4E9D-9CE4-F28EF3B36B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28333-B797-4EE7-8C39-5019777E81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06265-B7AD-4214-A124-19601AF084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تحديدا على السلوك الذي ينطوي على اختراق محركات بيانات أنظمة الكمبيوتر وتثبيت برمجية خبيثة على أنظمة الكمبيوتر. ويقتصر أثر البرمجية الخبيثة على الزيادة في حجم مؤشر الفأرة.</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A2A7C-C60D-40A1-8859-0BA2CA1933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التي تتضمن النفاذ عمدا وبغير حق إلى أي جزي من نظام كمبيوتر بنية غير صادقة.</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48664-3E80-4F58-8081-01EE3FD348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التي تتضمن الإعاقة عمدا وبغير حق لاشتغال نظام كمبيوتر عن طريق إدخال بيانات حاسوبية.</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A1155-13D2-49E8-9684-41A5FBA5FC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النفاذ غير المشروع.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A8A5C-A06C-4131-9217-A2708986AC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لماذا قد لا تعتبر جريمة التدخل في النظام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صحيحة على الرغم أنه واضح أن دارك هاكر بإمكانه تزويد خدمات التدخل في النظام.</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1F6A9-794C-4C99-B771-7BEFDA28E1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122DA-D070-4464-A3F9-BF4F66066A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ومن المهم تسليط الضوء بشكل خاص على أن البرمجية التي تباع هي برمجية مزدوجة الغرض. وعلى الرغم من أنها برمجية للترجمة في الأساس، إلا أنها صممت في المقام الأول لاختراق الحواسيب ويتم تسويقها علنا للمساعدة في ارتكاب جريمة النفاذ غير المشروع.</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FB1DB-1619-4EE6-AD66-E4D2D973C0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قدم المدرب للمشاركين أهداف هذه الحصة. وينبغي له أيضا أن يخبرهم بأن هذه الدورة التدريبية ستقدم في شكل دراسة حالة مفصلة تتطلب مشاركة فعالة والإجابة على الأسئلة. ويتلخص الهدف الرئيسي في تعزيز المعرفة والدخول في تفاصيل معمقة لأحكام اتفاقية بودابست المرتبطة بالقانون الموضوعي، والقانون الإجرائي والتعاون الدولي.</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85DB7-08B0-4EFD-95CE-247BAACD63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أجزاء ذات الصلة في المادة </a:t>
            </a:r>
            <a:r>
              <a:rPr b="0" lang="ar-SY" sz="1200" spc="-1" strike="noStrike">
                <a:solidFill>
                  <a:srgbClr val="000000"/>
                </a:solidFill>
                <a:latin typeface="Calibri"/>
              </a:rPr>
              <a:t>6</a:t>
            </a:r>
            <a:r>
              <a:rPr b="0" lang="ar-SY" sz="1200" spc="-1" strike="noStrike">
                <a:solidFill>
                  <a:srgbClr val="000000"/>
                </a:solidFill>
                <a:latin typeface="Calibri"/>
              </a:rPr>
              <a:t>، أي الجريمة الناجمة عن السلوك.</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جدر الإشارة أيضا إلى أن المادة </a:t>
            </a:r>
            <a:r>
              <a:rPr b="0" lang="ar-SY" sz="1200" spc="-1" strike="noStrike">
                <a:solidFill>
                  <a:srgbClr val="000000"/>
                </a:solidFill>
                <a:latin typeface="Calibri"/>
              </a:rPr>
              <a:t>6</a:t>
            </a:r>
            <a:r>
              <a:rPr b="0" lang="ar-SY" sz="1200" spc="-1" strike="noStrike">
                <a:solidFill>
                  <a:srgbClr val="000000"/>
                </a:solidFill>
                <a:latin typeface="Calibri"/>
              </a:rPr>
              <a:t> لا تتعلق بالأجهزة فقط بل بالبرامج الحاسوبية أيضا من قبيل برمجيات الترج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التأكيد على أن العمليات التالية تشكل جزءا من الجريم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ب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وز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إتاحة بأي طرق أخرى.</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التفسير المنطقي لاستخدام مصطلح «مبدئيا» - بمعنى أن اتفاقية بودابست لم تنو إقصاء إساءة استخدام البرامج مزدوجة الغرض من قبيل تلك التي تباع على منتدى «دارك هاكر» من نطاق الجريمة.</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5E08A-F11D-4F91-B390-DFD0E610A8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519F9-4302-4ED6-8DD7-E9BF8C13BD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هذا السؤال موجه تحديدا لتشجيع مناقشة ما إذا كان سلوك موظف وكالة إنفاذ القانون يمكن اعتبار أنه يشكل جريمة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من اتفاقية بودابست. وينبغي للمشاركين أن يدركوا، وعلى وجه الخصوص، أن هذا السلوك مرتبط ب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1</a:t>
            </a:r>
            <a:r>
              <a:rPr b="0" lang="ar-SY" sz="1200" spc="-1" strike="noStrike">
                <a:solidFill>
                  <a:srgbClr val="000000"/>
                </a:solidFill>
                <a:latin typeface="Sakkal Majalla"/>
                <a:ea typeface="Sakkal Majalla"/>
              </a:rPr>
              <a:t>.أ.</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التي تتضمن شراء رموز النفاذ أو بيانات مماثلة بغرض الاستخدام من أجل تمكين النفاذ إلى نظام كمبيوتر. وينبغي للمشاركين أن يلاحظوا أن هذا السلوك ما كان ليكون جريمة بموجب المادتين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و</a:t>
            </a:r>
            <a:r>
              <a:rPr b="0" lang="ar-SY" sz="1200" spc="-1" strike="noStrike">
                <a:solidFill>
                  <a:srgbClr val="000000"/>
                </a:solidFill>
                <a:latin typeface="Sakkal Majalla"/>
                <a:ea typeface="Sakkal Majalla"/>
              </a:rPr>
              <a:t>5</a:t>
            </a:r>
            <a:r>
              <a:rPr b="0" lang="ar-SY" sz="1200" spc="-1" strike="noStrike">
                <a:solidFill>
                  <a:srgbClr val="000000"/>
                </a:solidFill>
                <a:latin typeface="Sakkal Majalla"/>
                <a:ea typeface="Sakkal Majalla"/>
              </a:rPr>
              <a:t> وأن تشكل سلوكا إجراميا لولا هذه النية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فضلا عن ذلك، تقتضي الاتفاقية أن السلوك المرتكب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لا يشكل جريمة إلا إذا ارتكب «بدون حق» – حيثما كان من الممكن أن العملية السرية المنجزة ترتكز إلى أساس قانوني أو إدار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مكن الإشارة أيضا إلى أن عملية الشراء التي تشكل أساس هذا السلوك يجب أن تكون «من أجل الاستعمال» وليس عملية شراء عامة لأغراض تحديد هوية الأشخاص الذين يديرون موقعا إلكترونيا ينطوي على نشاط إجرامي.</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B0FB1-593D-41EB-88E8-FCB9706C97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الضوء بشكل خاص عل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موز النفاذ التي اشترتها وكالة إنفاذ القانون</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شراء رموز النفاذ من أجل استعمالها</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شراء رموز النفاذ في محاولة لتحديد هوية الأفراد الذين يديرون دارك ها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شاركين أن يناقشوا أيضا ما إذا كان السلوك قد ارتكب «بدون حق» حيث أن هذا قد يرتبط ذلك بما إذا كانت العملية السرية مرخصة بموجب القانون المحلي.</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035DE-64AC-4E02-ABCF-BC3C02DFB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التي تتضمن الشراء عمدا وبغير حق لرمز نفاذ يمكن من خلاله النفاذ الكلي أو الجزئي إلى نظام كمبيوتر بنية استخدامه لغرض ارتكاب جريمة منصوص عليها في المواد من </a:t>
            </a:r>
            <a:r>
              <a:rPr b="0" lang="ar-SY" sz="1200" spc="-1" strike="noStrike">
                <a:solidFill>
                  <a:srgbClr val="000000"/>
                </a:solidFill>
                <a:latin typeface="Calibri"/>
              </a:rPr>
              <a:t>2</a:t>
            </a:r>
            <a:r>
              <a:rPr b="0" lang="ar-SY" sz="1200" spc="-1" strike="noStrike">
                <a:solidFill>
                  <a:srgbClr val="000000"/>
                </a:solidFill>
                <a:latin typeface="Calibri"/>
              </a:rPr>
              <a:t> إلى </a:t>
            </a:r>
            <a:r>
              <a:rPr b="0" lang="ar-SY" sz="1200" spc="-1" strike="noStrike">
                <a:solidFill>
                  <a:srgbClr val="000000"/>
                </a:solidFill>
                <a:latin typeface="Calibri"/>
              </a:rPr>
              <a:t>5</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3DA85-F380-4CA9-9470-A811AA1BEC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أي أن سلوك وكالة إنفاذ القانون لا يشكل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أو أي جريمة أخرى بموجب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D07F4-1ECF-4803-B391-C29D354241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إجرائ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6F9D4-EED4-44BE-B2D7-F690CAB620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4B92A-F6B9-42E4-823E-167F735DD7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20527-D591-4494-8015-8D23422A84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2E18C-235F-4CBB-9BF9-6327678336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هذا الجزء من الحصة تقديما لدراسة الحالة التي تشكل أساس هذه الدورة التدريبية. وسيتعرف المشاركون على وقائع دراسة الحالة في هذا الجزء وكذلك على الأسئلة المرافقة له. وعند الانتهاء من هذا الجزء، سيمنح المشاركون فرصة للإجابة على الأسئلة بناء على المعرفة المكتسبة عن اتفاقية بودابست خلال الدورة التمهيدية.</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7EAA3-9827-49E8-90E2-FBD67E3259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تجدر الإشارة بالتحديد إلى أن مزود الخدمة </a:t>
            </a:r>
            <a:r>
              <a:rPr b="0" lang="en-US" sz="1200" spc="-1" strike="noStrike">
                <a:solidFill>
                  <a:srgbClr val="000000"/>
                </a:solidFill>
                <a:latin typeface="Calibri"/>
              </a:rPr>
              <a:t>Scam Mail Inc</a:t>
            </a:r>
            <a:r>
              <a:rPr b="0" lang="en-US" sz="1200" spc="-1" strike="noStrike">
                <a:solidFill>
                  <a:srgbClr val="000000"/>
                </a:solidFill>
                <a:latin typeface="Calibri"/>
              </a:rPr>
              <a:t>.</a:t>
            </a:r>
            <a:r>
              <a:rPr b="0" lang="ar-SY" sz="1200" spc="-1" strike="noStrike">
                <a:solidFill>
                  <a:srgbClr val="000000"/>
                </a:solidFill>
                <a:latin typeface="Calibri"/>
              </a:rPr>
              <a:t> يحتفظ بالبيانات لمدة محدودة في سبعة أيام.</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894A9-DA51-4100-AA37-AFF4E0B634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يمكن السلطة المختصة بتوجيه أمر بالتعجيل بحفظ بيانات الكمبيوتر المخزنة باستعمال نظام كمبيوتر في حال وجود أسس للاعتقاد أن بيانات الكمبيوتر معرضة بشكل خاصة للضياع أو التعديل، وكذلك بإلزام شخص بحفظ بيانات الكمبيوتر المعينة والحفاظ على سلامتها لمدة أقصاها تسعون يوما.</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8E88E-583A-463C-AB33-F67F39B0C6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أن التدبير الملائم الذي ينبغي اتخاذه يتمثل في التعجيل بحفظ بيانات الكمبيوتر المخزنة المتعلقة بعنوان البريد الإلكتروني</a:t>
            </a:r>
            <a:r>
              <a:rPr b="0" lang="fr-FR" sz="1200" spc="-1" strike="noStrike">
                <a:solidFill>
                  <a:srgbClr val="000000"/>
                </a:solidFill>
                <a:latin typeface="Calibri"/>
              </a:rPr>
              <a:t>criminal@scammail.com</a:t>
            </a:r>
            <a:r>
              <a:rPr b="0" lang="fr-FR" sz="1200" spc="-1" strike="noStrike">
                <a:solidFill>
                  <a:srgbClr val="000000"/>
                </a:solidFill>
                <a:latin typeface="Calibri"/>
              </a:rPr>
              <a:t> </a:t>
            </a:r>
            <a:r>
              <a:rPr b="0" lang="ar-SY" sz="1200" spc="-1" strike="noStrike">
                <a:solidFill>
                  <a:srgbClr val="000000"/>
                </a:solidFill>
                <a:latin typeface="Calibri"/>
              </a:rPr>
              <a:t>. وبالنظر إلى فترة الاحتفاظ المحدودة، فإن البيانات المخزنة لدى شركة</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معرضة بشكل خاص للضياع. وبالتالي من المهم الحفاظ على جميع البيانات ذات الصلة (بيانات الحركة وبيانات المحتوى) المتعلقة بآخر سبعة أيام، وأن يتم توجيه أمر لشركة </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بالحفاظ على سلامة البيانات المحفوظة.</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6F610-11B9-454B-B870-7B2D264B0B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C825B-F4F6-4638-BF7D-C911A485C1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من المهم أن يؤكد المدرب على أن مزود الخدمة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قر رئيسي ولا على مركز بيانات في ميدل أورث. علاوة على ذلك، ينبغي أن يفسر المدرب أن المعلومات التي يسعى للحصول إليها كنتيجة لتطبيق السلطة الإجرائية ينبغي أن تمكن من تحديد هوية عميل دارك هاكر (أي المشترك لدى مزودي الخدمات).</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A0576-5BF0-4FA6-AA25-7429970800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E1ED6-6202-426A-8D5E-A315EBAA8B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CE8A4-27A8-46E2-B908-92828C457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وتشرح أولاً لماذا تعتبر المعلومات عن المشترك هي المعلومات ذات الصلة التي من شأنها أن تساعدك على تحديد الشخص الذي اشترك في خدمات شركة </a:t>
            </a:r>
            <a:r>
              <a:rPr b="0" lang="en-US" sz="1200" spc="-1" strike="noStrike">
                <a:solidFill>
                  <a:srgbClr val="000000"/>
                </a:solidFill>
                <a:latin typeface="Calibri"/>
              </a:rPr>
              <a:t>Scam Mail Inc</a:t>
            </a:r>
            <a:r>
              <a:rPr b="0" lang="ar-SY" sz="1200" spc="-1" strike="noStrike">
                <a:solidFill>
                  <a:srgbClr val="000000"/>
                </a:solidFill>
                <a:latin typeface="Calibri"/>
              </a:rPr>
              <a:t>. وبالتحديد، من شأنها أن تمكن من تحديد هوية المشترك، وعنوانه البريدي والجغرافي، ورقم هاتفه وغيرها من المعلومات المتعلقة به. وتواصل الشفافة تفسير كيف يمكن الحصول على معلومات عن المشترك عن طريق طلب للحصول على أمر بإبراز البيانات بموجب المعادل المحلي ل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فسر أن المادة </a:t>
            </a:r>
            <a:r>
              <a:rPr b="0" lang="ar-SY" sz="1200" spc="-1" strike="noStrike">
                <a:solidFill>
                  <a:srgbClr val="000000"/>
                </a:solidFill>
                <a:latin typeface="Calibri"/>
              </a:rPr>
              <a:t>18</a:t>
            </a:r>
            <a:r>
              <a:rPr b="0" lang="ar-SY" sz="1200" spc="-1" strike="noStrike">
                <a:solidFill>
                  <a:srgbClr val="000000"/>
                </a:solidFill>
                <a:latin typeface="Calibri"/>
              </a:rPr>
              <a:t> تشكل السلطة الإجرائية الوحيدة التي تتعلق تحديدًا بالمعلومات عن المشترك.</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F288C-9452-49B3-8C25-C8FA471A6B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CCBF5-A6F4-47BA-BEA8-0FCCCBD021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ينبغي أن يذكر المدرب المشاركين أن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تحتفظ بالبيانات إلا لمدة سبعة أيام فقط، وبالتالي من المحتمل الحصول على بيانات آخر سبعة أيام التي توجد في حوزة الشركة. وأنتم ترغبون في الحصول على معلومات متعلقة بأشخاص آخرين مجهولين تم الاتصال بهم خلال تلك الفترة من قبل مشترك.</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D86BD-BBEC-4D89-A408-7C1CFFFE6E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بيانات كمبيوتر مخزنة تكون بحوزة أو تحت سيطرة شخص. ويساعد أمر بإبراز البيانات، على وجه التحديد، في السعي إلى الحصول على بيانات كمبيوتر محددة توجد في حوزة أي شخص (ويشمل ذلك مزودي الخدمات كما سيتذكر المشاركون).</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17335-8D86-42DA-950B-B02A4A44C8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يحدد الجزء الأول من الشفافة نوع البيانات المطلوبة في هذه المرحلة من التحقيق. من الممكن أن يكون المشاركون قد حددوا فقط بيانات الحركة باعتبارها البيانات المطلوبة لتحديد أشخاص آخرين تم الاتصال بهم من قبل مستخدم حساب </a:t>
            </a:r>
            <a:r>
              <a:rPr b="0" lang="en-US" sz="1200" spc="-1" strike="noStrike">
                <a:solidFill>
                  <a:srgbClr val="000000"/>
                </a:solidFill>
                <a:latin typeface="Calibri"/>
              </a:rPr>
              <a:t>criminal@scammail.com</a:t>
            </a:r>
            <a:r>
              <a:rPr b="0" lang="ar-SY" sz="1200" spc="-1" strike="noStrike">
                <a:solidFill>
                  <a:srgbClr val="000000"/>
                </a:solidFill>
                <a:latin typeface="Calibri"/>
              </a:rPr>
              <a:t> خاصة وأن السؤال لا يرتبط تحديدا بمحتويات الاتص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التأكيد على أنه في ظروف عادية، لا يسمح بأمر بإبراز البيانات واسع النطاق. ومع ذلك، نظرا لأن </a:t>
            </a:r>
            <a:r>
              <a:rPr b="0" lang="en-US" sz="1200" spc="-1" strike="noStrike">
                <a:solidFill>
                  <a:srgbClr val="000000"/>
                </a:solidFill>
                <a:latin typeface="Calibri"/>
              </a:rPr>
              <a:t>criminal@scammail.com</a:t>
            </a:r>
            <a:r>
              <a:rPr b="0" lang="ar-SY" sz="1200" spc="-1" strike="noStrike">
                <a:solidFill>
                  <a:srgbClr val="000000"/>
                </a:solidFill>
                <a:latin typeface="Calibri"/>
              </a:rPr>
              <a:t> يحتفظ بالبيانات لمدة سبعة أيام فقط، ولأن البيانات المطلوبة مرتبطة بحساب واحد، فإنه من الممكن السماح بأمر بإبراز البيانات من هذا القبيل.</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4543A-2BFF-40B9-BAD1-3062720B2D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الحصة التعاون الدولي دون طلبات المساعدة المتبادلة التي تنص عليها اتفاقية بودابست. ويبدأ هذا الجزء بوقائع دراسة الحالة وأسئلة ذات الصلة.</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90FA3-81E6-4091-901A-33D960940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BD63C-3390-4C4E-BCD2-CF52BA6E7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D3035-09EF-42EC-AD0D-2C689A1775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تناول السؤالين الأولين المتعلقين بهذا الجزء من الوحدة معًا لأن كلا السؤالين مترابطا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الشخص الذي يستخدم حساب البريد الإلكتروني المذكور. 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ED6F1-8428-4822-9135-AFC083E06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المطروح في الشفافة السابقة. ويتعين على المدرب أن يؤكد أن مزود خدمة البريد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كتب في «ميدل أورث» وبالتالي، يوجد مقره خارج أراضي الدولة التي تعمل فيها كموظف وكالة إنفاذ القانون. وينبغي أن يؤكد المدرب أنه على الرغم من أن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غير متواجد ماديا في البلد،</a:t>
            </a:r>
            <a:r>
              <a:rPr b="0" lang="fr-FR" sz="1200" spc="-1" strike="noStrike">
                <a:solidFill>
                  <a:srgbClr val="000000"/>
                </a:solidFill>
                <a:latin typeface="Calibri"/>
              </a:rPr>
              <a:t> </a:t>
            </a:r>
            <a:r>
              <a:rPr b="0" lang="ar-SY" sz="1200" spc="-1" strike="noStrike">
                <a:solidFill>
                  <a:srgbClr val="000000"/>
                </a:solidFill>
                <a:latin typeface="Calibri"/>
              </a:rPr>
              <a:t>إلا أن يعرض خدماته لساكنة «ميدل أورث» ونشر مؤخرًا إعلانات في «ميدل أورث» باللغة المحلية مستهدفا بوضوح المستخدمين في «ميدل أورث».</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يضا توضيح أن</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خزن المعلومات عن المشتركين إلا في شكل بيانات الكمبيوتر.</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607A9-CEA2-464F-863C-2AA64E7173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6D902-5B8F-4CE4-ABE6-34B8CAD427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ن ا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 لا تقتضي التواجد المادي لمزود الخدمة داخل الأراضي لكن تشترط أن يكون مزود الخدمة يعرض خدماته في تلك الأراضي. ينبغي تذكير المشاركين بالملاحظ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تي تشير إلى أن أحد العوامل الذي يجب مراعاته عند تحديد ما إذا كان مزود الخدمة يعرض خدماته في أراضي معينة، يتمثل في تحديد ما إذا كان يقوم بالدعاية لخدماته في تلك الأراضي.</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C801E-F2FE-46AA-8D7E-BF56CD9B73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الأول الذي يحدد أن المعلومات عن المشترك ستكون هي شكل المعلومات ذات الصلة التي تمكن من تحديد هوية مستخدم حساب بريد إلكتروني مع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أيضًا إجابتين محتملتين على السؤال الثاني، أي أنه يمكن الحصول على المعلومات من مقدم الخدمة الموجود في بلد آخر لكنه يعرض خدماته داخل ميدل أورث إما من خلال طلب رسمي للمساعدة المتبادلة من أجل النفاذ إلى البيانات، أو توجيه أمر بإبراز البيانات مباشرة لمزود الخدمة.</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9BFD2-0970-4F52-8BDF-E2B9C48D5F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ضح هذه الشفافة الإجابة على السؤال الثاني وتشرح لماذا تكون أوامر إبراز البيانات أكثر ملاءمة في الظروف المحددة. وتتيح المادة </a:t>
            </a:r>
            <a:r>
              <a:rPr b="0" lang="ar-SY" sz="1200" spc="-1" strike="noStrike">
                <a:solidFill>
                  <a:srgbClr val="000000"/>
                </a:solidFill>
                <a:latin typeface="Calibri"/>
              </a:rPr>
              <a:t>18</a:t>
            </a:r>
            <a:r>
              <a:rPr b="0" lang="ar-SY" sz="1200" spc="-1" strike="noStrike">
                <a:solidFill>
                  <a:srgbClr val="000000"/>
                </a:solidFill>
                <a:latin typeface="Calibri"/>
              </a:rPr>
              <a:t>، كما هو موضح في المذكر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بحث عن معلومات عن المشترك تكون في حوزة أو تحت سيطرة مزودي الخدمات الموجودين خارج البلد ما داموا يعرضون خدماتهم داخل الإقليم. علاوة على ذلك، عادة ما تكون طلبات المساعدة المتبادلة بطيئة للغاية، لذا من المحتمل أن يكون الأمر بإبراز البيانات طريقة أكثر سرعة للحصول على المعلومات المطلوبة.</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9BA2C-8DBF-4AF6-BE1A-6C6E4AB6F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F8D86-F7BF-4247-B2F6-7FEA732CB4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ينبغي أن يوضح المدرب أن وكالة إنفاذ القانون عثرت على شكاوى على مواقع إلكترونية/ منتديات متاحة للعموم.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لال عملية التحقيق، اتصلت سلطات إنفاذ القانون بالأشخاص قدموا شكاوى فيما يتعلق بحساب البريد الإلكتروني </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وحصلت على الموافقة القانونية للنفاذ إلى حسابات البريد الإلكتروني ورسائل البريد الإلكتروني الخاصة بالأشخاص الذين لديهم السلطة لتمكين هذا النفاذ.</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63D41-458E-4C45-84C7-18B9E87309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2</a:t>
            </a:r>
            <a:r>
              <a:rPr b="0" lang="ar-SY" sz="1200" spc="-1" strike="noStrike">
                <a:solidFill>
                  <a:srgbClr val="000000"/>
                </a:solidFill>
                <a:latin typeface="Calibri"/>
              </a:rPr>
              <a:t> من اتفاقية بودابست يمكن من النفاذ العابر للحدود إلى بيانات الكمبيوتر المخزنة عندما تكون تلك البيانات متاحة للعموم أو بموافقة الشخص الذي لديه السلطة القانونية للكشف عن البيانات. وينبغي أن يفسر المدرب أن النفاذ العابر للحدود بموجب المادة </a:t>
            </a:r>
            <a:r>
              <a:rPr b="0" lang="ar-SY" sz="1200" spc="-1" strike="noStrike">
                <a:solidFill>
                  <a:srgbClr val="000000"/>
                </a:solidFill>
                <a:latin typeface="Calibri"/>
              </a:rPr>
              <a:t>32</a:t>
            </a:r>
            <a:r>
              <a:rPr b="0" lang="ar-SY" sz="1200" spc="-1" strike="noStrike">
                <a:solidFill>
                  <a:srgbClr val="000000"/>
                </a:solidFill>
                <a:latin typeface="Calibri"/>
              </a:rPr>
              <a:t> لا يتطلب طلبا مسبقا بالمساعدة المتبادلة ويمكن ممارسته مباشرة من قبل أي دولة طرف (ربما حتى بدون إشعار السلطة المركزية للدولة الطرف الأخرى وفقا للقوانين الوطنية بشأن المساعدة القانونية المتبادلة).</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03410-1324-43B6-B4F2-2360143C50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فيما يتعلق بالنفاذ على الشكاوى واستخدامها كأدلة، فإن المادة </a:t>
            </a:r>
            <a:r>
              <a:rPr b="0" lang="ar-SY" sz="1200" spc="-1" strike="noStrike">
                <a:solidFill>
                  <a:srgbClr val="000000"/>
                </a:solidFill>
                <a:latin typeface="Calibri"/>
              </a:rPr>
              <a:t>32</a:t>
            </a:r>
            <a:r>
              <a:rPr b="0" lang="ar-SY" sz="1200" spc="-1" strike="noStrike">
                <a:solidFill>
                  <a:srgbClr val="000000"/>
                </a:solidFill>
                <a:latin typeface="Calibri"/>
              </a:rPr>
              <a:t>.أ من شأنها أن تمكنك من النفاذ إلى هذه الشكاوى مباشرة ومن استخدامها كدليل دون الحاجة إلى طلب هذه البيانات والحصول عليها من خلال طلب 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نظر إلى أن المشتركين في حسابات البريد الإلكتروني يُعتبرون في العديد من الولايات القضائية بمثابة الطرف الذي يملك السلطة القانونية للكشف عن رسائل البريد الإلكتروني المرتبطة بحسابات البريد الإلكتروني، يمكن النفاذ إلى هذه الرسائل الإلكترونية مرة أخرى دون طلب المساعدة المتبادلة.</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81019-2599-4831-8658-8F9204188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طلبات المساعدة المتبادلة بموجب اتفاقية بودابست. ويبدأ هذا الجزء بوقائع دراسة الحالة والأسئلة ذات الص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E9CEC-F478-4FF9-B093-71E4A1F0A8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5</a:t>
            </a:r>
            <a:r>
              <a:rPr b="0" lang="ar-SY" sz="1200" spc="-1" strike="noStrike">
                <a:solidFill>
                  <a:srgbClr val="000000"/>
                </a:solidFill>
                <a:latin typeface="Calibri"/>
              </a:rPr>
              <a:t> (المساعدة القانونية المتبادل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 بموجب أحكام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نبغي أن يفسر المدرب أنه تم الكشف عن موقع نظام الكمبيوتر يعتقد أنه مستخدم من قبل منتدى «دارك هاكر». يوجد نظام الكمبيوتر في روهان، بلد مجاور ل «ميدل أورث». ويعتقد أن اعتقال المخبر ليس معروفا لدى العموم، وخاصة من قبل شركاء دارك هاكر، لذلك لا يوجد سبب للاعتقاد بأن البيانات عرضة للضياع أو التعديل.</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نبغي للمدرب أن يشرح أن وكالة إنفاذ القانون حصلت على معلومة بشأن اتصال مستقبلي من المتوقع إجراؤه باستخدام كمبيوتر دارك هاكر.</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F8046-5872-46C0-BDAC-64D8E681AD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ن السؤالان بحفظ بيانات الكمبيوتر من قبل مزود خدمة البريد الإلكتروني </a:t>
            </a:r>
            <a:r>
              <a:rPr b="0" lang="en-US" sz="1200" spc="-1" strike="noStrike">
                <a:solidFill>
                  <a:srgbClr val="000000"/>
                </a:solidFill>
                <a:latin typeface="Calibri"/>
              </a:rPr>
              <a:t>Hack Mail Inc</a:t>
            </a:r>
            <a:r>
              <a:rPr b="0" lang="en-US" sz="1200" spc="-1" strike="noStrike">
                <a:solidFill>
                  <a:srgbClr val="000000"/>
                </a:solidFill>
                <a:latin typeface="Calibri"/>
              </a:rPr>
              <a:t>.</a:t>
            </a:r>
            <a:r>
              <a:rPr b="0" lang="ar-SY" sz="1200" spc="-1" strike="noStrike">
                <a:solidFill>
                  <a:srgbClr val="000000"/>
                </a:solidFill>
                <a:latin typeface="Calibri"/>
              </a:rPr>
              <a:t> علاوة على الحصول على معلومات من مخبر من شأنها أن تساعد في تحديد هوية مزودي الخدمات الآخرين المشاركين في نقل الاتصالات المحددة.</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01A8A-BE82-4AFF-BD4E-0CD93BB362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لعل الواقعة الإضافة الوحيدة التي من المهم تغطيتها هنا تتمثل في أن المخبر قدم معلومات تفيد أنه من الممكن تحديد هوية عملاء آخرين من خلال التحقق من أشخاص آخرين تم الاتصال بهم عبر استخدام حساب البريد الإلكتروني </a:t>
            </a:r>
            <a:r>
              <a:rPr b="0" lang="en-US"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8C829-4CEB-4387-B103-FD75962C71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9</a:t>
            </a:r>
            <a:r>
              <a:rPr b="0" lang="ar-SY" sz="1200" spc="-1" strike="noStrike">
                <a:solidFill>
                  <a:srgbClr val="000000"/>
                </a:solidFill>
                <a:latin typeface="Calibri"/>
              </a:rPr>
              <a:t> من اتفاقية بودابست يتعلق بالسعي إلى التعجيل بحفظ البيانات عبر الحدود. ويعتبر هذا الإجراء تدبيرا أوليا يجب إنجازه في حال كانت دولة طرف تنوي تقديم طلب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تمكن من الحفز المؤقت لبيانات الكمبيوتر.</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C89D4-ADAD-45F5-9F62-1370BE67DD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ريحة خلفية لدراسة الحالة التي تشكل أساس هذه الحصة. من المهم أن يعرض المدرب مقدمة مختصرة عن دراسة الحالة، التي تضع المشاركين في منصب موظف لدى سلطة إنفاذ القانون في بلد وهمي يدعى </a:t>
            </a:r>
            <a:r>
              <a:rPr b="0" lang="ar-SY" sz="1200" spc="-1" strike="noStrike">
                <a:solidFill>
                  <a:srgbClr val="000000"/>
                </a:solidFill>
                <a:latin typeface="Sakkal Majalla"/>
                <a:ea typeface="Sakkal Majalla"/>
              </a:rPr>
              <a:t>«ميدل أورث».</a:t>
            </a:r>
            <a:r>
              <a:rPr b="0" lang="fr-FR" sz="1200" spc="-1" strike="noStrike">
                <a:solidFill>
                  <a:srgbClr val="000000"/>
                </a:solidFill>
                <a:latin typeface="Sakkal Majalla"/>
                <a:ea typeface="Sakkal Majalla"/>
              </a:rPr>
              <a:t> </a:t>
            </a:r>
            <a:r>
              <a:rPr b="0" lang="ar-SY" sz="1200" spc="-1" strike="noStrike">
                <a:solidFill>
                  <a:srgbClr val="000000"/>
                </a:solidFill>
                <a:latin typeface="Calibri"/>
                <a:cs typeface="Sakkal Majalla"/>
              </a:rPr>
              <a:t>كما ينبغي تقديم </a:t>
            </a:r>
            <a:r>
              <a:rPr b="0" lang="ar-SY" sz="1200" spc="-1" strike="noStrike">
                <a:solidFill>
                  <a:srgbClr val="000000"/>
                </a:solidFill>
                <a:latin typeface="Calibri"/>
              </a:rPr>
              <a:t>البلدان الآخران اللذان ستتم الإشارة إليهما لاحقا في دراسة الحالة، وهما «موردور» و «روهان»</a:t>
            </a:r>
            <a:r>
              <a:rPr b="0" lang="fr-FR" sz="1200" spc="-1" strike="noStrike">
                <a:solidFill>
                  <a:srgbClr val="000000"/>
                </a:solidFill>
                <a:latin typeface="Calibri"/>
              </a:rPr>
              <a:t>، </a:t>
            </a:r>
            <a:r>
              <a:rPr b="0" lang="ar-SY" sz="1200" spc="-1" strike="noStrike">
                <a:solidFill>
                  <a:srgbClr val="000000"/>
                </a:solidFill>
                <a:latin typeface="Calibri"/>
              </a:rPr>
              <a:t>للمشارك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من المفيد أيضًا تعريف المشاركين ببنية الجزء المتبقي من الحصة – تنقسم دراسة الحالة إلى أربعة أجزاء متصلة، كل منها يتعامل مع فئة معينة من القضايا. ويتناول الجزء الأول قضايا ذات صلة بالقانون الموضوعي، والجزء الثاني قضايا متعلقة بالسلطة الإجرائية، والجزء الثالث قضايا متعلقة بأشكال التعاون الأخرى، والرابع قضايا مرتبطة بالمساعدة القانونية المتبادلة.</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42323-E1DA-4854-A58C-7E811CF8A2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0</a:t>
            </a:r>
            <a:r>
              <a:rPr b="0" lang="ar-SY" sz="1200" spc="-1" strike="noStrike">
                <a:solidFill>
                  <a:srgbClr val="000000"/>
                </a:solidFill>
                <a:latin typeface="Calibri"/>
              </a:rPr>
              <a:t> من اتفاقية بودابست يتعلق بالتعجيل بالكشف عن بيانات الحركة المحفوظة. ولا تنص المادة </a:t>
            </a:r>
            <a:r>
              <a:rPr b="0" lang="ar-SY" sz="1200" spc="-1" strike="noStrike">
                <a:solidFill>
                  <a:srgbClr val="000000"/>
                </a:solidFill>
                <a:latin typeface="Calibri"/>
              </a:rPr>
              <a:t>30</a:t>
            </a:r>
            <a:r>
              <a:rPr b="0" lang="ar-SY" sz="1200" spc="-1" strike="noStrike">
                <a:solidFill>
                  <a:srgbClr val="000000"/>
                </a:solidFill>
                <a:latin typeface="Calibri"/>
              </a:rPr>
              <a:t> على أن تقدم الدول الأطراف طلبا خاص بالتعجيل بالكشف عن بيانات الحركة. ومع ذلك، تلزم الطرف المنفذ لطلب بتعجيل الحفظ بموجب المادة </a:t>
            </a:r>
            <a:r>
              <a:rPr b="0" lang="ar-SY" sz="1200" spc="-1" strike="noStrike">
                <a:solidFill>
                  <a:srgbClr val="000000"/>
                </a:solidFill>
                <a:latin typeface="Calibri"/>
              </a:rPr>
              <a:t>29</a:t>
            </a:r>
            <a:r>
              <a:rPr b="0" lang="ar-SY" sz="1200" spc="-1" strike="noStrike">
                <a:solidFill>
                  <a:srgbClr val="000000"/>
                </a:solidFill>
                <a:latin typeface="Calibri"/>
              </a:rPr>
              <a:t> في حال اكتشف أن مزود خدمة آخر في دولة طرف أخرى شارك في نقل اتصل أن يعجل بالكشف عن القدر الكافي من بيانات الحركة بغية تحديد مزودي الخدمات الآخرين المشاركين في نقل ذلك الاتصال.</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AD349-AF5F-4B98-A18C-5644B942E4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خلافا للسلطة الإجرائية المحلية المتعلقة بالتعجيل بالحفظ (ما يعادل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من الضروري أن يكون هناك سبب للاعتقاد بأن البيانات المراد حفظها معرضة بشكل خاص  للضياع أو التعديل. ومع ذلك، يعد التعجيل بالحفظ في هذه الحال، تدبيرا سابقا لتقديم طلب المساعدة المتبادلة وقد لا يتطلب الأمر أن تكون البيانات عرضة للضياع أو التعديل. وبالنظر إلى أن دولة «ميدل أورث» تنوي تقديم طلب المساعدة المتبادلة من أجل مصادرة بيانات الكمبيوتر والكشف عنها، يمكنها أيضًا أن تقوم بتقديم هذا الطلب الأولي لحفظ البيانات المذكو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السؤال الثاني، أثناء تنفيذ طلب بحفظ بيانات، من الممكن أن تكشف شركة</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أن اتصالات من  حساب</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 تم نقلها من خلال مزودي خدمات في بلدان أخرى. وفي هذه الحال، تكون الشركة ملزمة بموجب المادة </a:t>
            </a:r>
            <a:r>
              <a:rPr b="0" lang="ar-SY" sz="1200" spc="-1" strike="noStrike">
                <a:solidFill>
                  <a:srgbClr val="000000"/>
                </a:solidFill>
                <a:latin typeface="Calibri"/>
              </a:rPr>
              <a:t>30</a:t>
            </a:r>
            <a:r>
              <a:rPr b="0" lang="ar-SY" sz="1200" spc="-1" strike="noStrike">
                <a:solidFill>
                  <a:srgbClr val="000000"/>
                </a:solidFill>
                <a:latin typeface="Calibri"/>
              </a:rPr>
              <a:t> بالكشف بشكل مباشر عن قدر كاف من البيانات لتمكين تحديد هوية مزود (مزودي) الخدمات والمسارات التي تم من خلالها نقل الاتصالات. ولا يوجد أي شرط لتقديم طلب بالكشف عن بيانات الحركة في هذه الحال.</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D4CFF-0DBE-469C-9966-DA3E1672A3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التدابير التي يمكن اتخاذها للحصول على بيانات كمبيوتر مخزنة في ولاية قضائية أخرى. ومن المهم أن يوضح المدرب أن كمبيوتر «دارك هاكر» يوجد في دولة «روهان» المجاورة لدولة «ميدل أورث».</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1616F-B0D5-4C11-BB32-D829DD8E09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ينبغي تحديدا التذكير أن نظام الكمبيوتر متواجد في أقاليم دولة طرف أخرى.</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4F556-50BF-45E0-BC3E-DDBF3CC015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في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المساعدة المتبادلة فيما يتعلق بالنفاذ إلى بيانات الكمبيوتر المخزنة). ويتعين على المدرب أن يشرح أن المادة </a:t>
            </a:r>
            <a:r>
              <a:rPr b="0" lang="ar-SY" sz="1200" spc="-1" strike="noStrike">
                <a:solidFill>
                  <a:srgbClr val="000000"/>
                </a:solidFill>
                <a:latin typeface="Calibri"/>
              </a:rPr>
              <a:t>31</a:t>
            </a:r>
            <a:r>
              <a:rPr b="0" lang="ar-SY" sz="1200" spc="-1" strike="noStrike">
                <a:solidFill>
                  <a:srgbClr val="000000"/>
                </a:solidFill>
                <a:latin typeface="Calibri"/>
              </a:rPr>
              <a:t> تمكن دولة طرف من تقديم طلب إلى دولة طرف أخرى لمصادرة بيانات مخزنة من خلال نظام كمبيوتر موجود داخل إقليم الطرف الثاني أو الكشف عنها بطريقة مماث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ذكر أنه من أجل التعجيل بطلب المساعدة فيما يتعلق بمصادرة بيانات الكمبيوتر، يجب أن تكون هناك أسباب للاعتقاد بأن البيانات ذات الصلة معرضة بشكل خاص للضياع أو التعديل، على عكس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التي تقتضي أن تكون البيانات عرضة للضياع أو التعديل للسماح بتدبير للحصول على بيانات الكمبيوتر.</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6E8D3-B3FE-460A-956C-EF2B0792BF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ينبغي أن يشرح المدرب أنه يمكن الحصول على بيانات الكمبيوتر ذات الصلة عن طريق تقديم طلب بالمساعدة المتبادلة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ينبغي أن يشمل الطلب، على وجه الخصوص، مصادرة نظام الكمبيوتر، وتأمين بيانات الكمبيوتر، وكذلك الكشف عن بيانات الكمبيوتر المصادر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الرغم من أنه ليس مطلوبا الإجابة، يمكن للمدرب أيضا أن يفسر أنه نظرًا لأن نظام كمبيوتر دارك هاكر والبيانات التي تم الحصول عليها منه غير معرضين للضياع أو التعديل، يمكن ألا تطلب دولة «ميدل أورث» التعجيل بالتدبير. </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2EE84-EBB4-45D7-A80E-3A849EF9F3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تدابير تأمين وتأكيد موقع زبون دارك هاكر الذي سيشارك في الاتصال المستقبلي.</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FA16B-554C-417A-91F9-1917789259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المرتبطة بالسؤال. وينبغي للمدرب، على وجه الخصوص، أن يشرح أنه بلغ إلى علم وكالة إنفاذ القانون أنه يعتقد أن معاملة إجرامية واسعة النطاق ستنفذ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وتعرف وكالة إنفاذ القانون من أي بريد إلكتروني سيتم الإرسال.</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DDA75-7BB8-46A6-8374-7DC9BF13CF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من المادة </a:t>
            </a:r>
            <a:r>
              <a:rPr b="0" lang="ar-SY" sz="1200" spc="-1" strike="noStrike">
                <a:solidFill>
                  <a:srgbClr val="000000"/>
                </a:solidFill>
                <a:latin typeface="Calibri"/>
              </a:rPr>
              <a:t>33</a:t>
            </a:r>
            <a:r>
              <a:rPr b="0" lang="ar-SY" sz="1200" spc="-1" strike="noStrike">
                <a:solidFill>
                  <a:srgbClr val="000000"/>
                </a:solidFill>
                <a:latin typeface="Calibri"/>
              </a:rPr>
              <a:t> من اتفاقية بودابست المتعلقة بالمساعدة المتبادلة فيما يخص جمع بيانات الحركة في الوقت الحقيقي. وينبغي أن يشرح المدرب أن هذه المادة تمكن المطالبة بالمساعدة المتبادلة للسعي إلى جمع بيانات الحركة ذات الصلة باتصالات محددة في دولة طرف في الوقت الحقيقي.</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8ECFF-7078-4A7F-8F77-07D4920080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جواب على السؤال. يجوز لدولة «ميدل أورث» تقديم طلب بالمساعدة المتبادلة إلى دولة «موردور» (حيث يوجد المقر الرئيسي لشركة </a:t>
            </a:r>
            <a:r>
              <a:rPr b="0" lang="en-US" sz="1200" spc="-1" strike="noStrike">
                <a:solidFill>
                  <a:srgbClr val="000000"/>
                </a:solidFill>
                <a:latin typeface="Calibri"/>
              </a:rPr>
              <a:t>Hack Mail Inc</a:t>
            </a:r>
            <a:r>
              <a:rPr b="0" lang="ar-SY" sz="1200" spc="-1" strike="noStrike">
                <a:solidFill>
                  <a:srgbClr val="000000"/>
                </a:solidFill>
                <a:latin typeface="Calibri"/>
              </a:rPr>
              <a:t>) فيما يتعلق بالسعي إلى توجيه أمر لشركة </a:t>
            </a:r>
            <a:r>
              <a:rPr b="0" lang="en-US" sz="1200" spc="-1" strike="noStrike">
                <a:solidFill>
                  <a:srgbClr val="000000"/>
                </a:solidFill>
                <a:latin typeface="Calibri"/>
              </a:rPr>
              <a:t>Hack Mail Inc</a:t>
            </a:r>
            <a:r>
              <a:rPr b="0" lang="ar-SY" sz="1200" spc="-1" strike="noStrike">
                <a:solidFill>
                  <a:srgbClr val="000000"/>
                </a:solidFill>
                <a:latin typeface="Calibri"/>
              </a:rPr>
              <a:t> للقيام بجمع بيانات الحركة في الوقت الحقيقي المرتبطة باتصال محدد من </a:t>
            </a:r>
            <a:r>
              <a:rPr b="0" lang="en-US" sz="1200" spc="-1" strike="noStrike">
                <a:solidFill>
                  <a:srgbClr val="000000"/>
                </a:solidFill>
                <a:latin typeface="Calibri"/>
              </a:rPr>
              <a:t>fraud@hackmail.com</a:t>
            </a:r>
            <a:r>
              <a:rPr b="0" lang="ar-SY" sz="1200" spc="-1" strike="noStrike">
                <a:solidFill>
                  <a:srgbClr val="000000"/>
                </a:solidFill>
                <a:latin typeface="Calibri"/>
              </a:rPr>
              <a:t> على الساعة </a:t>
            </a:r>
            <a:r>
              <a:rPr b="0" lang="ar-SY" sz="1200" spc="-1" strike="noStrike">
                <a:solidFill>
                  <a:srgbClr val="000000"/>
                </a:solidFill>
                <a:latin typeface="Calibri"/>
              </a:rPr>
              <a:t>17:00</a:t>
            </a:r>
            <a:r>
              <a:rPr b="0" lang="ar-SY" sz="1200" spc="-1" strike="noStrike">
                <a:solidFill>
                  <a:srgbClr val="000000"/>
                </a:solidFill>
                <a:latin typeface="Calibri"/>
              </a:rPr>
              <a:t> من اليوم الموال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أن تقديم هذه المساعدة من عدمه مرتبط بالمقتضيات القانونية القائمة في دولة «موردور».</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3DBE1-7D1C-4896-B4F4-6831B86C7C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0AD1F-8B4B-4B34-9556-92BDC193B8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6A9B0-D81A-4194-87F4-A1CDC97DD0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1C8C3-3162-47C9-A0F5-C115BBB4FB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80181-1E7C-40FC-BF00-E9F941D546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44454-3801-441C-99B1-B7EFA5C2B5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26A57-7FA1-4C38-8400-408703C50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541D-6ACD-46E1-BADF-401CC778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9BC3B-0010-4BC0-AE79-1FFE41A77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FF76C-37F4-4C98-BAE6-8987B361C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693D-5D69-481B-A5BB-1944A10E0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0C9CF-29C5-4DF4-9A8B-8C72AC1A6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0C57-B4A5-4842-BFF4-EC5B97F6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9F856-A3B4-48AC-AA08-4AD4A8B4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143A-90DE-43FC-915F-5E119F69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825F-0EA5-424D-825F-BBB6FD1A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DBAE-96F2-4F96-B916-ADDFB70F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F94C-160A-464C-870B-6677F4286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4E03D-8100-4B72-8746-58EE2DBBC465}"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B5419-56C6-40EE-97F6-FC206DF3E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1567;"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ص </a:t>
            </a:r>
            <a:r>
              <a:rPr b="0" lang="ar-SY" sz="3200" spc="-1" strike="noStrike">
                <a:solidFill>
                  <a:srgbClr val="898989"/>
                </a:solidFill>
                <a:latin typeface="Sakkal Majalla"/>
                <a:ea typeface="Sakkal Majalla"/>
              </a:rPr>
              <a:t>4.1.2</a:t>
            </a:r>
            <a:r>
              <a:rPr b="0" lang="ar-SY" sz="3200" spc="-1" strike="noStrike">
                <a:solidFill>
                  <a:srgbClr val="898989"/>
                </a:solidFill>
                <a:latin typeface="Sakkal Majalla"/>
                <a:cs typeface="Sakkal Majalla"/>
              </a:rPr>
              <a:t>، </a:t>
            </a:r>
            <a:r>
              <a:rPr b="0" lang="ar-SY" sz="3200" spc="-1" strike="noStrike">
                <a:solidFill>
                  <a:srgbClr val="898989"/>
                </a:solidFill>
                <a:latin typeface="Sakkal Majalla"/>
                <a:ea typeface="Sakkal Majalla"/>
              </a:rPr>
              <a:t>5.1.2</a:t>
            </a:r>
            <a:r>
              <a:rPr b="0" lang="ar-SY" sz="3200" spc="-1" strike="noStrike">
                <a:solidFill>
                  <a:srgbClr val="898989"/>
                </a:solidFill>
                <a:latin typeface="Sakkal Majalla"/>
                <a:ea typeface="Sakkal Majalla"/>
              </a:rPr>
              <a:t> و</a:t>
            </a:r>
            <a:r>
              <a:rPr b="0" lang="ar-SY" sz="3200" spc="-1" strike="noStrike">
                <a:solidFill>
                  <a:srgbClr val="898989"/>
                </a:solidFill>
                <a:latin typeface="Sakkal Majalla"/>
                <a:ea typeface="Sakkal Majalla"/>
              </a:rPr>
              <a:t>1.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تفاقية بودابست:</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قانون الموضوعي، السلطات الإجرائية والتعاون الدولي</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6A2A62-8BB3-47D7-94E6-A6592D1B2A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AA558-3F2C-4A8B-88C1-E05BD10062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63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2800" spc="-1" strike="noStrike" u="sng">
                <a:solidFill>
                  <a:srgbClr val="000000"/>
                </a:solidFill>
                <a:uFillTx/>
                <a:latin typeface="Sakkal Majalla"/>
                <a:cs typeface="Sakkal Majalla"/>
              </a:rPr>
              <a:t>الأسئل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a:t>
            </a:r>
            <a:r>
              <a:rPr b="0" lang="ar-SY" sz="2800" spc="-1" strike="noStrike">
                <a:solidFill>
                  <a:srgbClr val="000000"/>
                </a:solidFill>
                <a:latin typeface="Sakkal Majalla"/>
                <a:ea typeface="Sakkal Majalla"/>
              </a:rPr>
              <a:t> هي</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جريمة (الجرائم) </a:t>
            </a:r>
            <a:r>
              <a:rPr b="0" lang="ar-YE" sz="2800" spc="-1" strike="noStrike">
                <a:solidFill>
                  <a:srgbClr val="000000"/>
                </a:solidFill>
                <a:latin typeface="Sakkal Majalla"/>
                <a:cs typeface="Sakkal Majalla"/>
              </a:rPr>
              <a:t>الإلكترونية التي ارتكبت من خلال تثبيت </a:t>
            </a:r>
            <a:r>
              <a:rPr b="0" lang="ar-SY" sz="2800" spc="-1" strike="noStrike">
                <a:solidFill>
                  <a:srgbClr val="000000"/>
                </a:solidFill>
                <a:latin typeface="Sakkal Majalla"/>
                <a:cs typeface="Sakkal Majalla"/>
              </a:rPr>
              <a:t>برمجية خبيثة </a:t>
            </a:r>
            <a:r>
              <a:rPr b="0" lang="ar-YE" sz="2800" spc="-1" strike="noStrike">
                <a:solidFill>
                  <a:srgbClr val="000000"/>
                </a:solidFill>
                <a:latin typeface="Sakkal Majalla"/>
                <a:cs typeface="Sakkal Majalla"/>
              </a:rPr>
              <a:t>في أنظمة الكمبيوتر الخاصة بالمؤسسة المالية الشهيرة؟</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 هي </a:t>
            </a:r>
            <a:r>
              <a:rPr b="0" lang="ar-SY" sz="2800" spc="-1" strike="noStrike">
                <a:solidFill>
                  <a:srgbClr val="000000"/>
                </a:solidFill>
                <a:latin typeface="Sakkal Majalla"/>
                <a:cs typeface="Sakkal Majalla"/>
              </a:rPr>
              <a:t>الجريمة </a:t>
            </a:r>
            <a:r>
              <a:rPr b="0" lang="ar-YE" sz="2800" spc="-1" strike="noStrike">
                <a:solidFill>
                  <a:srgbClr val="000000"/>
                </a:solidFill>
                <a:latin typeface="Sakkal Majalla"/>
                <a:ea typeface="Sakkal Majalla"/>
              </a:rPr>
              <a:t>(الجرائم) </a:t>
            </a:r>
            <a:r>
              <a:rPr b="0" lang="ar-SY" sz="2800" spc="-1" strike="noStrike">
                <a:solidFill>
                  <a:srgbClr val="000000"/>
                </a:solidFill>
                <a:latin typeface="Sakkal Majalla"/>
                <a:cs typeface="Sakkal Majalla"/>
              </a:rPr>
              <a:t>الإلكترونية </a:t>
            </a:r>
            <a:r>
              <a:rPr b="0" lang="ar-YE" sz="2800" spc="-1" strike="noStrike">
                <a:solidFill>
                  <a:srgbClr val="000000"/>
                </a:solidFill>
                <a:latin typeface="Sakkal Majalla"/>
                <a:cs typeface="Sakkal Majalla"/>
              </a:rPr>
              <a:t>التي يمكنك تحديدها على أنها </a:t>
            </a:r>
            <a:r>
              <a:rPr b="0" lang="ar-SY" sz="2800" spc="-1" strike="noStrike">
                <a:solidFill>
                  <a:srgbClr val="000000"/>
                </a:solidFill>
                <a:latin typeface="Sakkal Majalla"/>
                <a:cs typeface="Sakkal Majalla"/>
              </a:rPr>
              <a:t>جرائم </a:t>
            </a:r>
            <a:r>
              <a:rPr b="0" lang="ar-YE" sz="2800" spc="-1" strike="noStrike">
                <a:solidFill>
                  <a:srgbClr val="000000"/>
                </a:solidFill>
                <a:latin typeface="Sakkal Majalla"/>
                <a:cs typeface="Sakkal Majalla"/>
              </a:rPr>
              <a:t>ارتكبها أشخاص في</a:t>
            </a:r>
            <a:r>
              <a:rPr b="0" lang="ar-SY" sz="2800" spc="-1" strike="noStrike">
                <a:solidFill>
                  <a:srgbClr val="000000"/>
                </a:solidFill>
                <a:latin typeface="Sakkal Majalla"/>
                <a:ea typeface="Sakkal Majalla"/>
              </a:rPr>
              <a:t>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هل ارتكبت </a:t>
            </a:r>
            <a:r>
              <a:rPr b="0" lang="ar-SY" sz="2800" spc="-1" strike="noStrike">
                <a:solidFill>
                  <a:srgbClr val="000000"/>
                </a:solidFill>
                <a:latin typeface="Sakkal Majalla"/>
                <a:cs typeface="Sakkal Majalla"/>
              </a:rPr>
              <a:t>أي </a:t>
            </a:r>
            <a:r>
              <a:rPr b="0" lang="ar-YE" sz="2800" spc="-1" strike="noStrike">
                <a:solidFill>
                  <a:srgbClr val="000000"/>
                </a:solidFill>
                <a:latin typeface="Sakkal Majalla"/>
                <a:cs typeface="Sakkal Majalla"/>
              </a:rPr>
              <a:t>جريمة </a:t>
            </a:r>
            <a:r>
              <a:rPr b="0" lang="ar-SY" sz="2800" spc="-1" strike="noStrike">
                <a:solidFill>
                  <a:srgbClr val="000000"/>
                </a:solidFill>
                <a:latin typeface="Sakkal Majalla"/>
                <a:cs typeface="Sakkal Majalla"/>
              </a:rPr>
              <a:t>إلكترونية ب</a:t>
            </a:r>
            <a:r>
              <a:rPr b="0" lang="ar-YE" sz="2800" spc="-1" strike="noStrike">
                <a:solidFill>
                  <a:srgbClr val="000000"/>
                </a:solidFill>
                <a:latin typeface="Sakkal Majalla"/>
                <a:cs typeface="Sakkal Majalla"/>
              </a:rPr>
              <a:t>شراء </a:t>
            </a:r>
            <a:r>
              <a:rPr b="0" lang="ar-SY" sz="2800" spc="-1" strike="noStrike">
                <a:solidFill>
                  <a:srgbClr val="000000"/>
                </a:solidFill>
                <a:latin typeface="Sakkal Majalla"/>
                <a:cs typeface="Sakkal Majalla"/>
              </a:rPr>
              <a:t>رموز النفاذ إلى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ACBEE-1626-4FB0-B223-028DAEAA0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07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إطار </a:t>
            </a:r>
            <a:r>
              <a:rPr b="0" lang="ar-YE" sz="2900" spc="-1" strike="noStrike">
                <a:solidFill>
                  <a:srgbClr val="000000"/>
                </a:solidFill>
                <a:latin typeface="Sakkal Majalla"/>
                <a:cs typeface="Sakkal Majalla"/>
              </a:rPr>
              <a:t>العملية السرية، تحصل على رموز </a:t>
            </a:r>
            <a:r>
              <a:rPr b="0" lang="ar-SY" sz="2900" spc="-1" strike="noStrike">
                <a:solidFill>
                  <a:srgbClr val="000000"/>
                </a:solidFill>
                <a:latin typeface="Sakkal Majalla"/>
                <a:cs typeface="Sakkal Majalla"/>
              </a:rPr>
              <a:t>النفاذ </a:t>
            </a:r>
            <a:r>
              <a:rPr b="0" lang="ar-YE" sz="2900" spc="-1" strike="noStrike">
                <a:solidFill>
                  <a:srgbClr val="000000"/>
                </a:solidFill>
                <a:latin typeface="Sakkal Majalla"/>
                <a:cs typeface="Sakkal Majalla"/>
              </a:rPr>
              <a:t>ومعلومات الدفع من عميل  </a:t>
            </a:r>
            <a:r>
              <a:rPr b="0" lang="ar-SY" sz="2900" spc="-1" strike="noStrike">
                <a:solidFill>
                  <a:srgbClr val="000000"/>
                </a:solidFill>
                <a:latin typeface="Sakkal Majalla"/>
                <a:cs typeface="Sakkal Majalla"/>
              </a:rPr>
              <a:t>لدى منتدى «دارك هاكر».</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تتلقى بريدًا إلكترونيًا من حساب </a:t>
            </a:r>
            <a:r>
              <a:rPr b="0" lang="ar-SY" sz="2900" spc="-1" strike="noStrike">
                <a:solidFill>
                  <a:srgbClr val="000000"/>
                </a:solidFill>
                <a:latin typeface="Sakkal Majalla"/>
                <a:cs typeface="Sakkal Majalla"/>
              </a:rPr>
              <a:t>ب</a:t>
            </a:r>
            <a:r>
              <a:rPr b="0" lang="ar-YE" sz="2900" spc="-1" strike="noStrike">
                <a:solidFill>
                  <a:srgbClr val="000000"/>
                </a:solidFill>
                <a:latin typeface="Sakkal Majalla"/>
                <a:cs typeface="Sakkal Majalla"/>
              </a:rPr>
              <a:t>ريد إلكتروني مدفوع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مع رابط </a:t>
            </a:r>
            <a:r>
              <a:rPr b="0" lang="ar-SY" sz="2900" spc="-1" strike="noStrike">
                <a:solidFill>
                  <a:srgbClr val="000000"/>
                </a:solidFill>
                <a:latin typeface="Sakkal Majalla"/>
                <a:cs typeface="Sakkal Majalla"/>
              </a:rPr>
              <a:t>ل</a:t>
            </a:r>
            <a:r>
              <a:rPr b="0" lang="ar-YE" sz="2900" spc="-1" strike="noStrike">
                <a:solidFill>
                  <a:srgbClr val="000000"/>
                </a:solidFill>
                <a:latin typeface="Sakkal Majalla"/>
                <a:cs typeface="Sakkal Majalla"/>
              </a:rPr>
              <a:t>تنزيل رموز </a:t>
            </a:r>
            <a:r>
              <a:rPr b="0" lang="ar-SY" sz="2900" spc="-1" strike="noStrike">
                <a:solidFill>
                  <a:srgbClr val="000000"/>
                </a:solidFill>
                <a:latin typeface="Sakkal Majalla"/>
                <a:cs typeface="Sakkal Majalla"/>
              </a:rPr>
              <a:t>النفاذ</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يكشف التحقيق الأولي أن مزود خدمة البريد الإلكتروني ل</a:t>
            </a:r>
            <a:r>
              <a:rPr b="0" lang="ar-SY" sz="2900" spc="-1" strike="noStrike">
                <a:solidFill>
                  <a:srgbClr val="000000"/>
                </a:solidFill>
                <a:latin typeface="Sakkal Majalla"/>
                <a:cs typeface="Sakkal Majalla"/>
              </a:rPr>
              <a:t>عنوان</a:t>
            </a:r>
            <a:r>
              <a:rPr b="0" lang="ar-YE"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2"/>
              </a:rPr>
              <a:t>criminal@scammail.com</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هو 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 </a:t>
            </a:r>
            <a:r>
              <a:rPr b="0" lang="ar-YE" sz="2900" spc="-1" strike="noStrike">
                <a:solidFill>
                  <a:srgbClr val="000000"/>
                </a:solidFill>
                <a:latin typeface="Sakkal Majalla"/>
                <a:cs typeface="Sakkal Majalla"/>
              </a:rPr>
              <a:t>التي يوجد </a:t>
            </a:r>
            <a:r>
              <a:rPr b="0" lang="ar-SY" sz="2900" spc="-1" strike="noStrike">
                <a:solidFill>
                  <a:srgbClr val="000000"/>
                </a:solidFill>
                <a:latin typeface="Sakkal Majalla"/>
                <a:cs typeface="Sakkal Majalla"/>
              </a:rPr>
              <a:t>مقرها ال</a:t>
            </a:r>
            <a:r>
              <a:rPr b="0" lang="ar-YE" sz="2900" spc="-1" strike="noStrike">
                <a:solidFill>
                  <a:srgbClr val="000000"/>
                </a:solidFill>
                <a:latin typeface="Sakkal Majalla"/>
                <a:cs typeface="Sakkal Majalla"/>
              </a:rPr>
              <a:t>رئيسي ومركز بيانات</a:t>
            </a:r>
            <a:r>
              <a:rPr b="0" lang="ar-SY" sz="2900" spc="-1" strike="noStrike">
                <a:solidFill>
                  <a:srgbClr val="000000"/>
                </a:solidFill>
                <a:latin typeface="Sakkal Majalla"/>
                <a:cs typeface="Sakkal Majalla"/>
              </a:rPr>
              <a:t>ها</a:t>
            </a:r>
            <a:r>
              <a:rPr b="0" lang="ar-YE" sz="2900" spc="-1" strike="noStrike">
                <a:solidFill>
                  <a:srgbClr val="000000"/>
                </a:solidFill>
                <a:latin typeface="Sakkal Majalla"/>
                <a:ea typeface="Sakkal Majalla"/>
              </a:rPr>
              <a:t> في </a:t>
            </a:r>
            <a:r>
              <a:rPr b="0" lang="ar-SY" sz="2900" spc="-1" strike="noStrike">
                <a:solidFill>
                  <a:srgbClr val="000000"/>
                </a:solidFill>
                <a:latin typeface="Sakkal Majalla"/>
                <a:ea typeface="Sakkal Majalla"/>
              </a:rPr>
              <a:t>«ميدل أورث».</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1B561-9CCC-4C33-A7C9-8F59072061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ت</a:t>
            </a:r>
            <a:r>
              <a:rPr b="0" lang="ar-YE" sz="2900" spc="-1" strike="noStrike">
                <a:solidFill>
                  <a:srgbClr val="000000"/>
                </a:solidFill>
                <a:latin typeface="Sakkal Majalla"/>
                <a:cs typeface="Sakkal Majalla"/>
              </a:rPr>
              <a:t>حتف</a:t>
            </a:r>
            <a:r>
              <a:rPr b="0" lang="ar-SY" sz="2900" spc="-1" strike="noStrike">
                <a:solidFill>
                  <a:srgbClr val="000000"/>
                </a:solidFill>
                <a:latin typeface="Sakkal Majalla"/>
                <a:cs typeface="Sakkal Majalla"/>
              </a:rPr>
              <a:t>ظ </a:t>
            </a:r>
            <a:r>
              <a:rPr b="0" lang="ar-YE" sz="2900" spc="-1" strike="noStrike">
                <a:solidFill>
                  <a:srgbClr val="000000"/>
                </a:solidFill>
                <a:latin typeface="Sakkal Majalla"/>
                <a:cs typeface="Sakkal Majalla"/>
              </a:rPr>
              <a:t>بالبيانات</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فقط  لمدة </a:t>
            </a:r>
            <a:r>
              <a:rPr b="0" lang="ar-YE" sz="2900" spc="-1" strike="noStrike">
                <a:solidFill>
                  <a:srgbClr val="000000"/>
                </a:solidFill>
                <a:latin typeface="Sakkal Majalla"/>
                <a:ea typeface="Sakkal Majalla"/>
              </a:rPr>
              <a:t>7</a:t>
            </a:r>
            <a:r>
              <a:rPr b="0" lang="ar-YE" sz="2900" spc="-1" strike="noStrike">
                <a:solidFill>
                  <a:srgbClr val="00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حذف جميع البيانات.</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عناوين البريد الإلكتروني لتحديد عميل </a:t>
            </a:r>
            <a:r>
              <a:rPr b="0" lang="ar-SY" sz="2900" spc="-1" strike="noStrike">
                <a:solidFill>
                  <a:srgbClr val="00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الحصول على معلومات عن أشخاص مجهولين آخرين تم الاتصال بهم من خلال حساب البريد الإلكتروني: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خلال الأيام السبعة الأخيرة.</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0AADA-1EAD-4C60-82A8-ED034E8BB4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8024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a:t>
            </a:r>
            <a:r>
              <a:rPr b="0" lang="ar-SY" sz="3200" spc="-1" strike="noStrike">
                <a:solidFill>
                  <a:srgbClr val="000000"/>
                </a:solidFill>
                <a:latin typeface="Sakkal Majalla"/>
                <a:cs typeface="Sakkal Majalla"/>
              </a:rPr>
              <a:t>التدابير </a:t>
            </a:r>
            <a:r>
              <a:rPr b="0" lang="ar-YE" sz="3200" spc="-1" strike="noStrike">
                <a:solidFill>
                  <a:srgbClr val="000000"/>
                </a:solidFill>
                <a:latin typeface="Sakkal Majalla"/>
                <a:cs typeface="Sakkal Majalla"/>
              </a:rPr>
              <a:t>الأولية التي ينبغي عليك اتخاذها لضمان عدم </a:t>
            </a:r>
            <a:r>
              <a:rPr b="0" lang="ar-SY" sz="3200" spc="-1" strike="noStrike">
                <a:solidFill>
                  <a:srgbClr val="000000"/>
                </a:solidFill>
                <a:latin typeface="Sakkal Majalla"/>
                <a:cs typeface="Sakkal Majalla"/>
              </a:rPr>
              <a:t>تقويض </a:t>
            </a:r>
            <a:r>
              <a:rPr b="0" lang="ar-YE" sz="3200" spc="-1" strike="noStrike">
                <a:solidFill>
                  <a:srgbClr val="000000"/>
                </a:solidFill>
                <a:latin typeface="Sakkal Majalla"/>
                <a:cs typeface="Sakkal Majalla"/>
              </a:rPr>
              <a:t>عملية التحقيق؟</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a:t>
            </a:r>
            <a:r>
              <a:rPr b="0" lang="ar-SY" sz="3200" spc="-1" strike="noStrike">
                <a:solidFill>
                  <a:srgbClr val="000000"/>
                </a:solidFill>
                <a:latin typeface="Sakkal Majalla"/>
                <a:ea typeface="Sakkal Majalla"/>
              </a:rPr>
              <a:t> إلي</a:t>
            </a:r>
            <a:r>
              <a:rPr b="0" lang="ar-YE" sz="3200" spc="-1" strike="noStrike">
                <a:solidFill>
                  <a:srgbClr val="000000"/>
                </a:solidFill>
                <a:latin typeface="Sakkal Majalla"/>
                <a:cs typeface="Sakkal Majalla"/>
              </a:rPr>
              <a:t>ها لتحديد هوية الشخص الذي يستخدم </a:t>
            </a:r>
            <a:r>
              <a:rPr b="0" lang="en-US"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cs typeface="Sakkal Majalla"/>
              </a:rPr>
              <a:t>؟</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كيف يمكنك ا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كيف يمكنك الحصول على 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خصوص أشخاص آخرين </a:t>
            </a:r>
            <a:r>
              <a:rPr b="0" lang="ar-SY" sz="3200" spc="-1" strike="noStrike">
                <a:solidFill>
                  <a:srgbClr val="000000"/>
                </a:solidFill>
                <a:latin typeface="Sakkal Majalla"/>
                <a:cs typeface="Sakkal Majalla"/>
              </a:rPr>
              <a:t>تم ال</a:t>
            </a:r>
            <a:r>
              <a:rPr b="0" lang="ar-YE" sz="3200" spc="-1" strike="noStrike">
                <a:solidFill>
                  <a:srgbClr val="000000"/>
                </a:solidFill>
                <a:latin typeface="Sakkal Majalla"/>
                <a:cs typeface="Sakkal Majalla"/>
              </a:rPr>
              <a:t>اتص</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cs typeface="Sakkal Majalla"/>
              </a:rPr>
              <a:t>ل بهم</a:t>
            </a:r>
            <a:r>
              <a:rPr b="0" lang="ar-SY" sz="3200" spc="-1" strike="noStrike">
                <a:solidFill>
                  <a:srgbClr val="000000"/>
                </a:solidFill>
                <a:latin typeface="Sakkal Majalla"/>
                <a:ea typeface="Sakkal Majalla"/>
              </a:rPr>
              <a:t> من خلال عنوان البريد الإلكتروني </a:t>
            </a:r>
            <a:r>
              <a:rPr b="0" lang="en-US"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لال الأيام السبعة الأخيرة؟</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5EF36-CF61-4120-BBFF-18AB71A9B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392040"/>
            <a:ext cx="7966080" cy="7471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FC690-0C9D-4F78-A761-819F4B6F8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649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u="sng">
                <a:solidFill>
                  <a:srgbClr val="0000ff"/>
                </a:solidFill>
                <a:uFillTx/>
                <a:latin typeface="Sakkal Majalla"/>
                <a:ea typeface="Sakkal Majalla"/>
                <a:hlinkClick r:id="rId1"/>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40C93-C510-414C-B6F9-B2E01782F5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75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ها لتحديد</a:t>
            </a:r>
            <a:r>
              <a:rPr b="0" lang="ar-SY" sz="3200" spc="-1" strike="noStrike">
                <a:solidFill>
                  <a:srgbClr val="000000"/>
                </a:solidFill>
                <a:latin typeface="Sakkal Majalla"/>
                <a:ea typeface="Sakkal Majalla"/>
              </a:rPr>
              <a:t> هوية</a:t>
            </a:r>
            <a:r>
              <a:rPr b="0" lang="ar-YE" sz="3200" spc="-1" strike="noStrike">
                <a:solidFill>
                  <a:srgbClr val="000000"/>
                </a:solidFill>
                <a:latin typeface="Sakkal Majalla"/>
                <a:ea typeface="Sakkal Majalla"/>
              </a:rPr>
              <a:t>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و أسرع إجراء ل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Hack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الطريقة الأسرع للحصول على رسائل البريد الإلكتروني المرسلة من قبل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2"/>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إلى مقدمي الشك</a:t>
            </a:r>
            <a:r>
              <a:rPr b="0" lang="ar-SY" sz="3200" spc="-1" strike="noStrike">
                <a:solidFill>
                  <a:srgbClr val="000000"/>
                </a:solidFill>
                <a:latin typeface="Sakkal Majalla"/>
                <a:cs typeface="Sakkal Majalla"/>
              </a:rPr>
              <a:t>اوى</a:t>
            </a:r>
            <a:r>
              <a:rPr b="0" lang="ar-YE"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72099-9267-49F1-8E2C-6C229EDE9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9291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3000" spc="-1" strike="noStrike">
                <a:solidFill>
                  <a:srgbClr val="000000"/>
                </a:solidFill>
                <a:latin typeface="Sakkal Majalla"/>
                <a:ea typeface="Sakkal Majalla"/>
              </a:rPr>
              <a:t>Boris Smith</a:t>
            </a:r>
            <a:r>
              <a:rPr b="0" lang="en-GB" sz="3000" spc="-1" strike="noStrike">
                <a:solidFill>
                  <a:srgbClr val="000000"/>
                </a:solidFill>
                <a:latin typeface="Sakkal Majalla"/>
                <a:ea typeface="Sakkal Majalla"/>
              </a:rPr>
              <a:t> </a:t>
            </a:r>
            <a:r>
              <a:rPr b="0" lang="ar-SY" sz="3000" spc="-1" strike="noStrike">
                <a:solidFill>
                  <a:srgbClr val="000000"/>
                </a:solidFill>
                <a:latin typeface="Sakkal Majalla"/>
                <a:ea typeface="Sakkal Majalla"/>
              </a:rPr>
              <a:t>) وهو من «ميدل أورث» ومقيم بها.</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خبرك بورس أن الحساب </a:t>
            </a:r>
            <a:r>
              <a:rPr b="0" lang="fr-FR" sz="3000" spc="-1" strike="noStrike" u="sng">
                <a:solidFill>
                  <a:srgbClr val="0000ff"/>
                </a:solidFill>
                <a:uFillTx/>
                <a:latin typeface="Sakkal Majalla"/>
                <a:ea typeface="Sakkal Majalla"/>
                <a:hlinkClick r:id="rId1"/>
              </a:rPr>
              <a:t>fraud@hackmail.com</a:t>
            </a:r>
            <a:r>
              <a:rPr b="0" lang="ar-SY" sz="30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3000" spc="-1" strike="noStrike">
                <a:solidFill>
                  <a:srgbClr val="000000"/>
                </a:solidFill>
                <a:latin typeface="Sakkal Majalla"/>
                <a:ea typeface="Sakkal Majalla"/>
              </a:rPr>
              <a:t>17:00</a:t>
            </a:r>
            <a:r>
              <a:rPr b="0" lang="ar-SY" sz="3000" spc="-1" strike="noStrike">
                <a:solidFill>
                  <a:srgbClr val="000000"/>
                </a:solidFill>
                <a:latin typeface="Sakkal Majalla"/>
                <a:ea typeface="Sakkal Majalla"/>
              </a:rPr>
              <a:t> باستخدام حساب البريد الإلكتروني نفسه.</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D10CE-DB9E-4793-86E0-2E4FA7765A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712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800" spc="-1" strike="noStrike" u="sng">
                <a:solidFill>
                  <a:srgbClr val="000000"/>
                </a:solidFill>
                <a:uFillTx/>
                <a:latin typeface="Sakkal Majalla"/>
                <a:cs typeface="Sakkal Majalla"/>
              </a:rPr>
              <a:t>الأسئلة</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ضمان أن شركة </a:t>
            </a:r>
            <a:r>
              <a:rPr b="0" lang="fr-FR" sz="2800" spc="-1" strike="noStrike">
                <a:solidFill>
                  <a:srgbClr val="000000"/>
                </a:solidFill>
                <a:latin typeface="Sakkal Majalla"/>
                <a:ea typeface="Sakkal Majalla"/>
              </a:rPr>
              <a:t>HackMail Inc</a:t>
            </a:r>
            <a:r>
              <a:rPr b="0" lang="fr-FR"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حتفظ بالبيانات المتعلقة بحساب </a:t>
            </a:r>
            <a:r>
              <a:rPr b="0" lang="fr-FR" sz="2800" spc="-1" strike="noStrike" u="sng">
                <a:solidFill>
                  <a:srgbClr val="0000ff"/>
                </a:solidFill>
                <a:uFillTx/>
                <a:latin typeface="Sakkal Majalla"/>
                <a:ea typeface="Sakkal Majalla"/>
                <a:hlinkClick r:id="rId1"/>
              </a:rPr>
              <a:t>fraud@hackmail.com؟</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0" lang="fr-FR"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حصول على بيانات الكمبيوتر من نظام كمبيوتر دارك هاكر</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تأكد من موقع زبون دارك هاكرالذي يخطط لشراء رموز رقم التعريف الشخصي البنك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631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القانون الموضوعي</a:t>
            </a:r>
            <a:endParaRPr b="0" lang="en-US" sz="54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7D473-DFA0-4B94-ACFF-22A9E13930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2184120" y="774360"/>
            <a:ext cx="6095880" cy="539748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أول</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قديم لدراسة الحالة</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ني</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قانون الموضوع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لث</a:t>
            </a:r>
            <a:br>
              <a:rPr sz="2800"/>
            </a:br>
            <a:r>
              <a:rPr b="0" lang="ar-SY" sz="2800" spc="-1" strike="noStrike">
                <a:solidFill>
                  <a:srgbClr val="000000"/>
                </a:solidFill>
                <a:latin typeface="Sakkal Majalla"/>
                <a:cs typeface="Sakkal Majalla"/>
              </a:rPr>
              <a:t>القانون الإجرائ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رابع</a:t>
            </a:r>
            <a:br>
              <a:rPr sz="2800"/>
            </a:br>
            <a:r>
              <a:rPr b="0" lang="ar-SY" sz="2800" spc="-1" strike="noStrike">
                <a:solidFill>
                  <a:srgbClr val="000000"/>
                </a:solidFill>
                <a:latin typeface="Sakkal Majalla"/>
                <a:cs typeface="Sakkal Majalla"/>
              </a:rPr>
              <a:t>أشكال أخرى للتعاون</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خامس</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مساعدة القانونية المتبادلة</a:t>
            </a: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7E3A45-8FE1-4D42-BF5E-26CF7517BE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4A68D-5F40-43C2-A014-3CC263E7C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481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تلقى تقرير</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معلومات</a:t>
            </a:r>
            <a:r>
              <a:rPr b="0" lang="ar-SY" sz="2800" spc="-1" strike="noStrike">
                <a:solidFill>
                  <a:srgbClr val="000000"/>
                </a:solidFill>
                <a:latin typeface="Sakkal Majalla"/>
                <a:cs typeface="Sakkal Majalla"/>
              </a:rPr>
              <a:t>يا يشير إلى اختراق </a:t>
            </a:r>
            <a:r>
              <a:rPr b="0" lang="ar-YE" sz="2800" spc="-1" strike="noStrike">
                <a:solidFill>
                  <a:srgbClr val="000000"/>
                </a:solidFill>
                <a:latin typeface="Sakkal Majalla"/>
                <a:cs typeface="Sakkal Majalla"/>
              </a:rPr>
              <a:t>محركات أقراص بيانات </a:t>
            </a:r>
            <a:r>
              <a:rPr b="0" lang="ar-SY" sz="2800" spc="-1" strike="noStrike">
                <a:solidFill>
                  <a:srgbClr val="000000"/>
                </a:solidFill>
                <a:latin typeface="Sakkal Majalla"/>
                <a:cs typeface="Sakkal Majalla"/>
              </a:rPr>
              <a:t>في </a:t>
            </a:r>
            <a:r>
              <a:rPr b="0" lang="ar-YE" sz="2800" spc="-1" strike="noStrike">
                <a:solidFill>
                  <a:srgbClr val="000000"/>
                </a:solidFill>
                <a:latin typeface="Sakkal Majalla"/>
                <a:cs typeface="Sakkal Majalla"/>
              </a:rPr>
              <a:t>أنظمة الكمبيوتر </a:t>
            </a:r>
            <a:r>
              <a:rPr b="0" lang="ar-SY" sz="2800" spc="-1" strike="noStrike">
                <a:solidFill>
                  <a:srgbClr val="000000"/>
                </a:solidFill>
                <a:latin typeface="Sakkal Majalla"/>
                <a:cs typeface="Sakkal Majalla"/>
              </a:rPr>
              <a:t>التابعة ل</a:t>
            </a:r>
            <a:r>
              <a:rPr b="0" lang="ar-YE" sz="2800" spc="-1" strike="noStrike">
                <a:solidFill>
                  <a:srgbClr val="000000"/>
                </a:solidFill>
                <a:latin typeface="Sakkal Majalla"/>
                <a:cs typeface="Sakkal Majalla"/>
              </a:rPr>
              <a:t>مؤسسة مالية شهيرة من قبل مجرمي</a:t>
            </a:r>
            <a:r>
              <a:rPr b="0" lang="ar-SY" sz="2800" spc="-1" strike="noStrike">
                <a:solidFill>
                  <a:srgbClr val="000000"/>
                </a:solidFill>
                <a:latin typeface="Sakkal Majalla"/>
                <a:cs typeface="Sakkal Majalla"/>
              </a:rPr>
              <a:t>ن إلكترونيي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مجهولين </a:t>
            </a:r>
            <a:r>
              <a:rPr b="0" lang="ar-YE" sz="2800" spc="-1" strike="noStrike">
                <a:solidFill>
                  <a:srgbClr val="000000"/>
                </a:solidFill>
                <a:latin typeface="Sakkal Majalla"/>
                <a:cs typeface="Sakkal Majalla"/>
              </a:rPr>
              <a:t>و</a:t>
            </a:r>
            <a:r>
              <a:rPr b="0" lang="ar-SY" sz="2800" spc="-1" strike="noStrike">
                <a:solidFill>
                  <a:srgbClr val="000000"/>
                </a:solidFill>
                <a:latin typeface="Sakkal Majalla"/>
                <a:cs typeface="Sakkal Majalla"/>
              </a:rPr>
              <a:t>إلى تثبيت برمجية </a:t>
            </a:r>
            <a:r>
              <a:rPr b="0" lang="ar-YE" sz="2800" spc="-1" strike="noStrike">
                <a:solidFill>
                  <a:srgbClr val="000000"/>
                </a:solidFill>
                <a:latin typeface="Sakkal Majalla"/>
                <a:cs typeface="Sakkal Majalla"/>
              </a:rPr>
              <a:t>خبيثة تزيد من حجم مؤشر </a:t>
            </a:r>
            <a:r>
              <a:rPr b="0" lang="ar-SY" sz="2800" spc="-1" strike="noStrike">
                <a:solidFill>
                  <a:srgbClr val="000000"/>
                </a:solidFill>
                <a:latin typeface="Sakkal Majalla"/>
                <a:cs typeface="Sakkal Majalla"/>
              </a:rPr>
              <a:t>الفأرة </a:t>
            </a:r>
            <a:r>
              <a:rPr b="0" lang="ar-YE" sz="2800" spc="-1" strike="noStrike">
                <a:solidFill>
                  <a:srgbClr val="000000"/>
                </a:solidFill>
                <a:latin typeface="Sakkal Majalla"/>
                <a:cs typeface="Sakkal Majalla"/>
              </a:rPr>
              <a:t>على أنظمة الكمبيوتر</a:t>
            </a:r>
            <a:r>
              <a:rPr b="0" lang="ar-SY" sz="2800" spc="-1" strike="noStrike">
                <a:solidFill>
                  <a:srgbClr val="000000"/>
                </a:solidFill>
                <a:latin typeface="Sakkal Majalla"/>
                <a:ea typeface="Sakkal Majalla"/>
              </a:rPr>
              <a:t> المعنية</a:t>
            </a:r>
            <a:r>
              <a:rPr b="0" lang="ar-YE" sz="2800" spc="-1" strike="noStrike">
                <a:solidFill>
                  <a:srgbClr val="000000"/>
                </a:solidFill>
                <a:latin typeface="Sakkal Majalla"/>
                <a:ea typeface="Sakkal Majalla"/>
              </a:rPr>
              <a:t>. يقترح تحقيقك أن</a:t>
            </a:r>
            <a:r>
              <a:rPr b="0" lang="ar-SY" sz="2800" spc="-1" strike="noStrike">
                <a:solidFill>
                  <a:srgbClr val="000000"/>
                </a:solidFill>
                <a:latin typeface="Sakkal Majalla"/>
                <a:cs typeface="Sakkal Majalla"/>
              </a:rPr>
              <a:t>ه تم تطوير</a:t>
            </a:r>
            <a:r>
              <a:rPr b="0" lang="ar-YE" sz="2800" spc="-1" strike="noStrike">
                <a:solidFill>
                  <a:srgbClr val="000000"/>
                </a:solidFill>
                <a:latin typeface="Sakkal Majalla"/>
                <a:ea typeface="Sakkal Majalla"/>
              </a:rPr>
              <a:t> البرمجي</a:t>
            </a:r>
            <a:r>
              <a:rPr b="0" lang="ar-SY" sz="2800" spc="-1" strike="noStrike">
                <a:solidFill>
                  <a:srgbClr val="000000"/>
                </a:solidFill>
                <a:latin typeface="Sakkal Majalla"/>
                <a:cs typeface="Sakkal Majalla"/>
              </a:rPr>
              <a:t>ة</a:t>
            </a:r>
            <a:r>
              <a:rPr b="0" lang="ar-YE" sz="2800" spc="-1" strike="noStrike">
                <a:solidFill>
                  <a:srgbClr val="000000"/>
                </a:solidFill>
                <a:latin typeface="Sakkal Majalla"/>
                <a:ea typeface="Sakkal Majalla"/>
              </a:rPr>
              <a:t> الخبيثة </a:t>
            </a:r>
            <a:r>
              <a:rPr b="0" lang="ar-SY" sz="2800" spc="-1" strike="noStrike">
                <a:solidFill>
                  <a:srgbClr val="000000"/>
                </a:solidFill>
                <a:latin typeface="Sakkal Majalla"/>
                <a:cs typeface="Sakkal Majalla"/>
              </a:rPr>
              <a:t>من قبل </a:t>
            </a:r>
            <a:r>
              <a:rPr b="0" lang="ar-YE" sz="2800" spc="-1" strike="noStrike">
                <a:solidFill>
                  <a:srgbClr val="000000"/>
                </a:solidFill>
                <a:latin typeface="Sakkal Majalla"/>
                <a:cs typeface="Sakkal Majalla"/>
              </a:rPr>
              <a:t>منتدى </a:t>
            </a:r>
            <a:r>
              <a:rPr b="0" lang="ar-SY" sz="2800" spc="-1" strike="noStrike">
                <a:solidFill>
                  <a:srgbClr val="000000"/>
                </a:solidFill>
                <a:latin typeface="Sakkal Majalla"/>
                <a:cs typeface="Sakkal Majalla"/>
              </a:rPr>
              <a:t>للقرصنة يدعى</a:t>
            </a:r>
            <a:r>
              <a:rPr b="0" lang="ar-YE" sz="2800" spc="-1" strike="noStrike">
                <a:solidFill>
                  <a:srgbClr val="000000"/>
                </a:solidFill>
                <a:latin typeface="Sakkal Majalla"/>
                <a:ea typeface="Sakkal Majalla"/>
              </a:rPr>
              <a:t>«</a:t>
            </a:r>
            <a:r>
              <a:rPr b="0" lang="ar-SY" sz="2800" spc="-1" strike="noStrike">
                <a:solidFill>
                  <a:srgbClr val="000000"/>
                </a:solidFill>
                <a:latin typeface="Sakkal Majalla"/>
                <a:cs typeface="Sakkal Majalla"/>
              </a:rPr>
              <a:t>دارك هاكر» (</a:t>
            </a:r>
            <a:r>
              <a:rPr b="0" lang="en-GB"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0394E-1D26-474B-85C3-0BCA348F47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31EBA-DFBC-4830-951F-AE0BDE93CA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4000" spc="-1" strike="noStrike">
                <a:solidFill>
                  <a:srgbClr val="000000"/>
                </a:solidFill>
                <a:latin typeface="Sakkal Majalla"/>
                <a:cs typeface="Sakkal Majalla"/>
              </a:rPr>
              <a:t>ما</a:t>
            </a:r>
            <a:r>
              <a:rPr b="0" lang="ar-SY" sz="4000" spc="-1" strike="noStrike">
                <a:solidFill>
                  <a:srgbClr val="000000"/>
                </a:solidFill>
                <a:latin typeface="Sakkal Majalla"/>
                <a:ea typeface="Sakkal Majalla"/>
              </a:rPr>
              <a:t> هي</a:t>
            </a:r>
            <a:r>
              <a:rPr b="0" lang="ar-YE" sz="4000" spc="-1" strike="noStrike">
                <a:solidFill>
                  <a:srgbClr val="000000"/>
                </a:solidFill>
                <a:latin typeface="Sakkal Majalla"/>
                <a:ea typeface="Sakkal Majalla"/>
              </a:rPr>
              <a:t> </a:t>
            </a:r>
            <a:r>
              <a:rPr b="1" lang="ar-SY" sz="4000" spc="-1" strike="noStrike">
                <a:solidFill>
                  <a:srgbClr val="ff0000"/>
                </a:solidFill>
                <a:latin typeface="Sakkal Majalla"/>
                <a:cs typeface="Sakkal Majalla"/>
              </a:rPr>
              <a:t>الجريمة (الجرائم) </a:t>
            </a:r>
            <a:r>
              <a:rPr b="1" lang="ar-YE" sz="4000" spc="-1" strike="noStrike">
                <a:solidFill>
                  <a:srgbClr val="ff0000"/>
                </a:solidFill>
                <a:latin typeface="Sakkal Majalla"/>
                <a:cs typeface="Sakkal Majalla"/>
              </a:rPr>
              <a:t>الإلكترونية </a:t>
            </a:r>
            <a:r>
              <a:rPr b="0" lang="ar-YE" sz="4000" spc="-1" strike="noStrike">
                <a:solidFill>
                  <a:srgbClr val="000000"/>
                </a:solidFill>
                <a:latin typeface="Sakkal Majalla"/>
                <a:cs typeface="Sakkal Majalla"/>
              </a:rPr>
              <a:t>التي ارتكبت من خلال </a:t>
            </a:r>
            <a:r>
              <a:rPr b="1" lang="ar-YE" sz="4000" spc="-1" strike="noStrike">
                <a:solidFill>
                  <a:srgbClr val="ff0000"/>
                </a:solidFill>
                <a:latin typeface="Sakkal Majalla"/>
                <a:cs typeface="Sakkal Majalla"/>
              </a:rPr>
              <a:t>تثبيت </a:t>
            </a:r>
            <a:r>
              <a:rPr b="1" lang="ar-SY" sz="4000" spc="-1" strike="noStrike">
                <a:solidFill>
                  <a:srgbClr val="ff0000"/>
                </a:solidFill>
                <a:latin typeface="Sakkal Majalla"/>
                <a:cs typeface="Sakkal Majalla"/>
              </a:rPr>
              <a:t>برمجية خبيثة </a:t>
            </a:r>
            <a:r>
              <a:rPr b="0" lang="ar-YE" sz="4000" spc="-1" strike="noStrike">
                <a:solidFill>
                  <a:srgbClr val="000000"/>
                </a:solidFill>
                <a:latin typeface="Sakkal Majalla"/>
                <a:cs typeface="Sakkal Majalla"/>
              </a:rPr>
              <a:t>في </a:t>
            </a:r>
            <a:r>
              <a:rPr b="1" lang="ar-YE" sz="4000" spc="-1" strike="noStrike">
                <a:solidFill>
                  <a:srgbClr val="ff0000"/>
                </a:solidFill>
                <a:latin typeface="Sakkal Majalla"/>
                <a:cs typeface="Sakkal Majalla"/>
              </a:rPr>
              <a:t>أنظمة الكمبيوتر </a:t>
            </a:r>
            <a:r>
              <a:rPr b="0" lang="ar-YE" sz="4000" spc="-1" strike="noStrike">
                <a:solidFill>
                  <a:srgbClr val="000000"/>
                </a:solidFill>
                <a:latin typeface="Sakkal Majalla"/>
                <a:cs typeface="Sakkal Majalla"/>
              </a:rPr>
              <a:t>الخاصة بالمؤسسة المالية الشهيرة؟</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2CF6F-5487-4060-B551-88634FFA34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6129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تلقى تقرير</a:t>
            </a:r>
            <a:r>
              <a:rPr b="0" lang="ar-SY" sz="3600" spc="-1" strike="noStrike">
                <a:solidFill>
                  <a:srgbClr val="000000"/>
                </a:solidFill>
                <a:latin typeface="Sakkal Majalla"/>
                <a:cs typeface="Sakkal Majalla"/>
              </a:rPr>
              <a:t>ا </a:t>
            </a:r>
            <a:r>
              <a:rPr b="0" lang="ar-YE" sz="3600" spc="-1" strike="noStrike">
                <a:solidFill>
                  <a:srgbClr val="000000"/>
                </a:solidFill>
                <a:latin typeface="Sakkal Majalla"/>
                <a:cs typeface="Sakkal Majalla"/>
              </a:rPr>
              <a:t>معلومات</a:t>
            </a:r>
            <a:r>
              <a:rPr b="0" lang="ar-SY" sz="3600" spc="-1" strike="noStrike">
                <a:solidFill>
                  <a:srgbClr val="000000"/>
                </a:solidFill>
                <a:latin typeface="Sakkal Majalla"/>
                <a:cs typeface="Sakkal Majalla"/>
              </a:rPr>
              <a:t>يا يشير إلى </a:t>
            </a:r>
            <a:r>
              <a:rPr b="1" lang="ar-SY" sz="3600" spc="-1" strike="noStrike">
                <a:solidFill>
                  <a:srgbClr val="ff0000"/>
                </a:solidFill>
                <a:latin typeface="Sakkal Majalla"/>
                <a:cs typeface="Sakkal Majalla"/>
              </a:rPr>
              <a:t>اختراق</a:t>
            </a:r>
            <a:r>
              <a:rPr b="0" lang="ar-SY" sz="3600" spc="-1" strike="noStrike">
                <a:solidFill>
                  <a:srgbClr val="000000"/>
                </a:solidFill>
                <a:latin typeface="Sakkal Majalla"/>
                <a:ea typeface="Sakkal Majalla"/>
              </a:rPr>
              <a:t> </a:t>
            </a:r>
            <a:r>
              <a:rPr b="1" lang="ar-YE" sz="3600" spc="-1" strike="noStrike">
                <a:solidFill>
                  <a:srgbClr val="ff0000"/>
                </a:solidFill>
                <a:latin typeface="Sakkal Majalla"/>
                <a:cs typeface="Sakkal Majalla"/>
              </a:rPr>
              <a:t>محركات أقراص بيانات </a:t>
            </a:r>
            <a:r>
              <a:rPr b="1" lang="ar-SY" sz="3600" spc="-1" strike="noStrike">
                <a:solidFill>
                  <a:srgbClr val="ff0000"/>
                </a:solidFill>
                <a:latin typeface="Sakkal Majalla"/>
                <a:cs typeface="Sakkal Majalla"/>
              </a:rPr>
              <a:t>في </a:t>
            </a:r>
            <a:r>
              <a:rPr b="1" lang="ar-YE" sz="3600" spc="-1" strike="noStrike">
                <a:solidFill>
                  <a:srgbClr val="ff0000"/>
                </a:solidFill>
                <a:latin typeface="Sakkal Majalla"/>
                <a:cs typeface="Sakkal Majalla"/>
              </a:rPr>
              <a:t>أنظمة الكمبيوتر</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التابعة ل</a:t>
            </a:r>
            <a:r>
              <a:rPr b="0" lang="ar-YE" sz="3600" spc="-1" strike="noStrike">
                <a:solidFill>
                  <a:srgbClr val="000000"/>
                </a:solidFill>
                <a:latin typeface="Sakkal Majalla"/>
                <a:cs typeface="Sakkal Majalla"/>
              </a:rPr>
              <a:t>مؤسسة مالية شهيرة من قبل مجرمي</a:t>
            </a:r>
            <a:r>
              <a:rPr b="0" lang="ar-SY" sz="3600" spc="-1" strike="noStrike">
                <a:solidFill>
                  <a:srgbClr val="000000"/>
                </a:solidFill>
                <a:latin typeface="Sakkal Majalla"/>
                <a:cs typeface="Sakkal Majalla"/>
              </a:rPr>
              <a:t>ن إلكترونيين</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جهولين </a:t>
            </a:r>
            <a:r>
              <a:rPr b="0" lang="ar-YE" sz="3600" spc="-1" strike="noStrike">
                <a:solidFill>
                  <a:srgbClr val="000000"/>
                </a:solidFill>
                <a:latin typeface="Sakkal Majalla"/>
                <a:cs typeface="Sakkal Majalla"/>
              </a:rPr>
              <a:t>و</a:t>
            </a:r>
            <a:r>
              <a:rPr b="0" lang="ar-SY" sz="3600" spc="-1" strike="noStrike">
                <a:solidFill>
                  <a:srgbClr val="000000"/>
                </a:solidFill>
                <a:latin typeface="Sakkal Majalla"/>
                <a:cs typeface="Sakkal Majalla"/>
              </a:rPr>
              <a:t>إلى </a:t>
            </a:r>
            <a:r>
              <a:rPr b="1" lang="ar-SY" sz="3600" spc="-1" strike="noStrike">
                <a:solidFill>
                  <a:srgbClr val="ff0000"/>
                </a:solidFill>
                <a:latin typeface="Sakkal Majalla"/>
                <a:cs typeface="Sakkal Majalla"/>
              </a:rPr>
              <a:t>تثبيت برمجية </a:t>
            </a:r>
            <a:r>
              <a:rPr b="1" lang="ar-YE" sz="3600" spc="-1" strike="noStrike">
                <a:solidFill>
                  <a:srgbClr val="ff0000"/>
                </a:solidFill>
                <a:latin typeface="Sakkal Majalla"/>
                <a:cs typeface="Sakkal Majalla"/>
              </a:rPr>
              <a:t>خبيثة تزيد من حجم مؤشر </a:t>
            </a:r>
            <a:r>
              <a:rPr b="1" lang="ar-SY" sz="3600" spc="-1" strike="noStrike">
                <a:solidFill>
                  <a:srgbClr val="ff0000"/>
                </a:solidFill>
                <a:latin typeface="Sakkal Majalla"/>
                <a:cs typeface="Sakkal Majalla"/>
              </a:rPr>
              <a:t>الفأرة </a:t>
            </a:r>
            <a:r>
              <a:rPr b="0" lang="ar-YE" sz="3600" spc="-1" strike="noStrike">
                <a:solidFill>
                  <a:srgbClr val="000000"/>
                </a:solidFill>
                <a:latin typeface="Sakkal Majalla"/>
                <a:cs typeface="Sakkal Majalla"/>
              </a:rPr>
              <a:t>على أنظمة الكمبيوتر</a:t>
            </a:r>
            <a:r>
              <a:rPr b="0" lang="ar-SY" sz="3600" spc="-1" strike="noStrike">
                <a:solidFill>
                  <a:srgbClr val="000000"/>
                </a:solidFill>
                <a:latin typeface="Sakkal Majalla"/>
                <a:ea typeface="Sakkal Majalla"/>
              </a:rPr>
              <a:t> المعنية</a:t>
            </a:r>
            <a:r>
              <a:rPr b="0" lang="ar-YE"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pic>
        <p:nvPicPr>
          <p:cNvPr id="103" name="Picture 3" descr=""/>
          <p:cNvPicPr/>
          <p:nvPr/>
        </p:nvPicPr>
        <p:blipFill>
          <a:blip r:embed="rId1"/>
          <a:stretch/>
        </p:blipFill>
        <p:spPr>
          <a:xfrm>
            <a:off x="1116000" y="3083040"/>
            <a:ext cx="1716120" cy="257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96192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a:t>
            </a:r>
            <a:r>
              <a:rPr b="1" lang="ar-EG" sz="3600" spc="-1" strike="noStrike">
                <a:solidFill>
                  <a:srgbClr val="000000"/>
                </a:solidFill>
                <a:latin typeface="Sakkal Majalla"/>
                <a:ea typeface="Sakkal Majalla"/>
              </a:rPr>
              <a:t> – النفاذ غير المشروع</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 عمداً </a:t>
            </a:r>
            <a:r>
              <a:rPr b="1" lang="ar-EG" sz="3600" spc="-1" strike="noStrike">
                <a:solidFill>
                  <a:srgbClr val="ff0000"/>
                </a:solidFill>
                <a:latin typeface="Sakkal Majalla"/>
                <a:cs typeface="Sakkal Majalla"/>
              </a:rPr>
              <a:t>وبغير حق</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النفاذ الكامل أو الجزئي إلى نظام كومبيوتر</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جوز لطرف أن يستلزم أن تُرتكب الجريمة عن طريق مخالفة التدابير الأمنية، بنِية الحصول على بيانات الكومبيوتر أو بأي </a:t>
            </a:r>
            <a:r>
              <a:rPr b="1" lang="ar-EG" sz="3600" spc="-1" strike="noStrike">
                <a:solidFill>
                  <a:srgbClr val="ff0000"/>
                </a:solidFill>
                <a:latin typeface="Sakkal Majalla"/>
                <a:cs typeface="Sakkal Majalla"/>
              </a:rPr>
              <a:t>نية غير صادقة </a:t>
            </a:r>
            <a:r>
              <a:rPr b="0" lang="ar-EG" sz="3600" spc="-1" strike="noStrike">
                <a:solidFill>
                  <a:srgbClr val="000000"/>
                </a:solidFill>
                <a:latin typeface="Sakkal Majalla"/>
                <a:cs typeface="Sakkal Majalla"/>
              </a:rPr>
              <a:t>أخرى، أو في ارتباط بنظام كومبيوتر متصل بنظام حاسوبي آخر.</a:t>
            </a:r>
            <a:endParaRPr b="0" lang="en-US" sz="36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5B91C-3410-437F-B702-89ADF415D7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5</a:t>
            </a:r>
            <a:r>
              <a:rPr b="1" lang="ar-EG" sz="3600" spc="-1" strike="noStrike">
                <a:solidFill>
                  <a:srgbClr val="000000"/>
                </a:solidFill>
                <a:latin typeface="Sakkal Majalla"/>
                <a:ea typeface="Sakkal Majalla"/>
              </a:rPr>
              <a:t> – التدخل في النظام</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a:t>
            </a:r>
            <a:r>
              <a:rPr b="0" lang="ar-EG" sz="3600" spc="-1" strike="noStrike">
                <a:solidFill>
                  <a:srgbClr val="000000"/>
                </a:solidFill>
                <a:latin typeface="Sakkal Majalla"/>
                <a:cs typeface="Sakkal Majalla"/>
              </a:rPr>
              <a:t>إذا ما ارتكب عمداً وبغير حق: </a:t>
            </a:r>
            <a:r>
              <a:rPr b="1" lang="ar-EG" sz="3600" spc="-1" strike="noStrike">
                <a:solidFill>
                  <a:srgbClr val="ff0000"/>
                </a:solidFill>
                <a:latin typeface="Sakkal Majalla"/>
                <a:cs typeface="Sakkal Majalla"/>
              </a:rPr>
              <a:t>الإعاقة </a:t>
            </a:r>
            <a:r>
              <a:rPr b="1" lang="ar-EG" sz="3600" spc="-1" strike="noStrike" u="sng">
                <a:solidFill>
                  <a:srgbClr val="ff0000"/>
                </a:solidFill>
                <a:uFillTx/>
                <a:latin typeface="Sakkal Majalla"/>
                <a:cs typeface="Sakkal Majalla"/>
              </a:rPr>
              <a:t>الخطيرة</a:t>
            </a:r>
            <a:r>
              <a:rPr b="1" lang="ar-EG" sz="3600" spc="-1" strike="noStrike">
                <a:solidFill>
                  <a:srgbClr val="ff0000"/>
                </a:solidFill>
                <a:latin typeface="Sakkal Majalla"/>
                <a:ea typeface="Sakkal Majalla"/>
              </a:rPr>
              <a:t> لاشتغال نظام الكومبيوتر عن طريق إدخال بيانات حاسوبية</a:t>
            </a:r>
            <a:r>
              <a:rPr b="0" lang="ar-EG" sz="3600" spc="-1" strike="noStrike">
                <a:solidFill>
                  <a:srgbClr val="000000"/>
                </a:solidFill>
                <a:latin typeface="Sakkal Majalla"/>
                <a:cs typeface="Sakkal Majalla"/>
              </a:rPr>
              <a:t>، إرسالها، إتلافها، حذفها، إفسادها، تغييرها أو تدميرها.</a:t>
            </a:r>
            <a:endParaRPr b="0" lang="en-US" sz="36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DD76D-1DC1-40EC-BBEA-C02A8C55B4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يمكن </a:t>
            </a:r>
            <a:r>
              <a:rPr b="1" lang="ar-SY" sz="3600" spc="-1" strike="noStrike">
                <a:solidFill>
                  <a:srgbClr val="ff0000"/>
                </a:solidFill>
                <a:latin typeface="Sakkal Majalla"/>
                <a:cs typeface="Sakkal Majalla"/>
              </a:rPr>
              <a:t>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نفاذ غير المشروع</a:t>
            </a:r>
            <a:r>
              <a:rPr b="0" lang="ar-SY" sz="3600" spc="-1" strike="noStrike">
                <a:solidFill>
                  <a:srgbClr val="000000"/>
                </a:solidFill>
                <a:latin typeface="Sakkal Majalla"/>
                <a:ea typeface="Sakkal Majalla"/>
              </a:rPr>
              <a:t> (المادة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من اتفاقية بودابست) باعتبارها:</a:t>
            </a:r>
            <a:endParaRPr b="0" lang="en-US" sz="36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لوك مزود الخدمة الذي ينطوي على </a:t>
            </a:r>
            <a:r>
              <a:rPr b="1" lang="ar-SY" sz="3200" spc="-1" strike="noStrike">
                <a:solidFill>
                  <a:srgbClr val="ff0000"/>
                </a:solidFill>
                <a:latin typeface="Sakkal Majalla"/>
                <a:cs typeface="Sakkal Majalla"/>
              </a:rPr>
              <a:t>النفاذ إلى </a:t>
            </a:r>
            <a:r>
              <a:rPr b="0" lang="ar-SY" sz="3200" spc="-1" strike="noStrike">
                <a:solidFill>
                  <a:srgbClr val="000000"/>
                </a:solidFill>
                <a:latin typeface="Sakkal Majalla"/>
                <a:cs typeface="Sakkal Majalla"/>
              </a:rPr>
              <a:t>محرك بيانات يشكل </a:t>
            </a:r>
            <a:r>
              <a:rPr b="1" lang="ar-SY" sz="3200" spc="-1" strike="noStrike">
                <a:solidFill>
                  <a:srgbClr val="ff0000"/>
                </a:solidFill>
                <a:latin typeface="Sakkal Majalla"/>
                <a:cs typeface="Sakkal Majalla"/>
              </a:rPr>
              <a:t>جزءا من نظام كمبيوتر</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غير حق</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نية غير صادق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تشترط بعض الولايات القضائية أن يرتكب النفاذ </a:t>
            </a:r>
            <a:r>
              <a:rPr b="1" lang="ar-SY" sz="3200" spc="-1" strike="noStrike">
                <a:solidFill>
                  <a:srgbClr val="ff0000"/>
                </a:solidFill>
                <a:latin typeface="Sakkal Majalla"/>
                <a:cs typeface="Sakkal Majalla"/>
              </a:rPr>
              <a:t>بنية الحصول على بيانات</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F2077-892E-4717-B7F7-406A5ED035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قد </a:t>
            </a:r>
            <a:r>
              <a:rPr b="1" lang="ar-SY" sz="3600" spc="-1" strike="noStrike">
                <a:solidFill>
                  <a:srgbClr val="ff0000"/>
                </a:solidFill>
                <a:latin typeface="Sakkal Majalla"/>
                <a:cs typeface="Sakkal Majalla"/>
              </a:rPr>
              <a:t>لا يتم 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تدخل في النظام </a:t>
            </a:r>
            <a:r>
              <a:rPr b="0" lang="ar-SY" sz="3600" spc="-1" strike="noStrike">
                <a:solidFill>
                  <a:srgbClr val="000000"/>
                </a:solidFill>
                <a:latin typeface="Sakkal Majalla"/>
                <a:ea typeface="Sakkal Majalla"/>
              </a:rPr>
              <a:t>(المادة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 من اتفاقية بودابست):</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لى الرغم من أن سلوك </a:t>
            </a:r>
            <a:r>
              <a:rPr b="1" lang="ar-SY" sz="3600" spc="-1" strike="noStrike">
                <a:solidFill>
                  <a:srgbClr val="ff0000"/>
                </a:solidFill>
                <a:latin typeface="Sakkal Majalla"/>
                <a:cs typeface="Sakkal Majalla"/>
              </a:rPr>
              <a:t>إدخال بيانات حاسوبية </a:t>
            </a:r>
            <a:r>
              <a:rPr b="0" lang="ar-SY" sz="3600" spc="-1" strike="noStrike">
                <a:solidFill>
                  <a:srgbClr val="000000"/>
                </a:solidFill>
                <a:latin typeface="Sakkal Majalla"/>
                <a:cs typeface="Sakkal Majalla"/>
              </a:rPr>
              <a:t>أثر على حجم مؤشر فأرة نظام الكمبيوتر </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بدو أن اشتغال الكمبيوتر </a:t>
            </a:r>
            <a:r>
              <a:rPr b="1" lang="ar-SY" sz="3600" spc="-1" strike="noStrike">
                <a:solidFill>
                  <a:srgbClr val="ff0000"/>
                </a:solidFill>
                <a:latin typeface="Sakkal Majalla"/>
                <a:cs typeface="Sakkal Majalla"/>
              </a:rPr>
              <a:t>تعرقل بشكل هام </a:t>
            </a:r>
            <a:r>
              <a:rPr b="0" lang="ar-SY" sz="3600" spc="-1" strike="noStrike">
                <a:solidFill>
                  <a:srgbClr val="000000"/>
                </a:solidFill>
                <a:latin typeface="Sakkal Majalla"/>
                <a:cs typeface="Sakkal Majalla"/>
              </a:rPr>
              <a:t>كما هو مطلوب في المادة </a:t>
            </a:r>
            <a:r>
              <a:rPr b="0" lang="ar-SY" sz="3600" spc="-1" strike="noStrike">
                <a:solidFill>
                  <a:srgbClr val="000000"/>
                </a:solidFill>
                <a:latin typeface="Sakkal Majalla"/>
                <a:ea typeface="Sakkal Majalla"/>
              </a:rPr>
              <a:t>5</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بعض الولايات القضائية، قد لا يعتبر ذلك عائقا هاما أو خطيرا</a:t>
            </a:r>
            <a:endParaRPr b="0" lang="en-US" sz="36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6F66A-9424-4F50-AEE6-87B50BF80A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31D89-A677-4116-80F4-EA68616260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60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ar-YE" sz="4400" spc="-1" strike="noStrike">
                <a:solidFill>
                  <a:srgbClr val="000000"/>
                </a:solidFill>
                <a:latin typeface="Sakkal Majalla"/>
                <a:cs typeface="Sakkal Majalla"/>
              </a:rPr>
              <a:t>ما هي </a:t>
            </a:r>
            <a:r>
              <a:rPr b="1" lang="ar-SY" sz="4400" spc="-1" strike="noStrike">
                <a:solidFill>
                  <a:srgbClr val="ff0000"/>
                </a:solidFill>
                <a:latin typeface="Sakkal Majalla"/>
                <a:cs typeface="Sakkal Majalla"/>
              </a:rPr>
              <a:t>الجريمة </a:t>
            </a:r>
            <a:r>
              <a:rPr b="1" lang="ar-YE" sz="4400" spc="-1" strike="noStrike">
                <a:solidFill>
                  <a:srgbClr val="ff0000"/>
                </a:solidFill>
                <a:latin typeface="Sakkal Majalla"/>
                <a:ea typeface="Sakkal Majalla"/>
              </a:rPr>
              <a:t>(الجرائم) </a:t>
            </a:r>
            <a:r>
              <a:rPr b="1" lang="ar-SY" sz="4400" spc="-1" strike="noStrike">
                <a:solidFill>
                  <a:srgbClr val="ff0000"/>
                </a:solidFill>
                <a:latin typeface="Sakkal Majalla"/>
                <a:cs typeface="Sakkal Majalla"/>
              </a:rPr>
              <a:t>الإلكترونية </a:t>
            </a:r>
            <a:r>
              <a:rPr b="0" lang="ar-YE" sz="4400" spc="-1" strike="noStrike">
                <a:solidFill>
                  <a:srgbClr val="000000"/>
                </a:solidFill>
                <a:latin typeface="Sakkal Majalla"/>
                <a:cs typeface="Sakkal Majalla"/>
              </a:rPr>
              <a:t>التي يمكنك تحديدها على أنها </a:t>
            </a:r>
            <a:r>
              <a:rPr b="0" lang="ar-SY" sz="4400" spc="-1" strike="noStrike">
                <a:solidFill>
                  <a:srgbClr val="000000"/>
                </a:solidFill>
                <a:latin typeface="Sakkal Majalla"/>
                <a:cs typeface="Sakkal Majalla"/>
              </a:rPr>
              <a:t>جرائم </a:t>
            </a:r>
            <a:r>
              <a:rPr b="1" lang="ar-YE" sz="4400" spc="-1" strike="noStrike">
                <a:solidFill>
                  <a:srgbClr val="ff0000"/>
                </a:solidFill>
                <a:latin typeface="Sakkal Majalla"/>
                <a:cs typeface="Sakkal Majalla"/>
              </a:rPr>
              <a:t>ارتكبها أشخاص في</a:t>
            </a:r>
            <a:r>
              <a:rPr b="1" lang="ar-SY" sz="4400" spc="-1" strike="noStrike">
                <a:solidFill>
                  <a:srgbClr val="ff0000"/>
                </a:solidFill>
                <a:latin typeface="Sakkal Majalla"/>
                <a:ea typeface="Sakkal Majalla"/>
              </a:rPr>
              <a:t>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AE0D7-9BEA-4C58-906A-8AF5206F4C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1" lang="ar-YE" sz="3200" spc="-1" strike="noStrike">
                <a:solidFill>
                  <a:srgbClr val="ff0000"/>
                </a:solidFill>
                <a:latin typeface="Sakkal Majalla"/>
                <a:cs typeface="Sakkal Majalla"/>
              </a:rPr>
              <a:t>منتدى </a:t>
            </a:r>
            <a:r>
              <a:rPr b="1" lang="ar-SY" sz="3200" spc="-1" strike="noStrike">
                <a:solidFill>
                  <a:srgbClr val="ff0000"/>
                </a:solidFill>
                <a:latin typeface="Sakkal Majalla"/>
                <a:cs typeface="Sakkal Majalla"/>
              </a:rPr>
              <a:t>للقرصنة يدعى</a:t>
            </a:r>
            <a:r>
              <a:rPr b="1" lang="ar-YE" sz="3200" spc="-1" strike="noStrike">
                <a:solidFill>
                  <a:srgbClr val="ff0000"/>
                </a:solidFill>
                <a:latin typeface="Sakkal Majalla"/>
                <a:ea typeface="Sakkal Majalla"/>
              </a:rPr>
              <a:t>«</a:t>
            </a:r>
            <a:r>
              <a:rPr b="1" lang="ar-SY" sz="3200" spc="-1" strike="noStrike">
                <a:solidFill>
                  <a:srgbClr val="ff0000"/>
                </a:solidFill>
                <a:latin typeface="Sakkal Majalla"/>
                <a:cs typeface="Sakkal Majalla"/>
              </a:rPr>
              <a:t>دارك هاكر» </a:t>
            </a:r>
            <a:r>
              <a:rPr b="0" lang="ar-SY" sz="3200" spc="-1" strike="noStrike">
                <a:solidFill>
                  <a:srgbClr val="000000"/>
                </a:solidFill>
                <a:latin typeface="Sakkal Majalla"/>
                <a:ea typeface="Sakkal Majalla"/>
              </a:rPr>
              <a:t>(</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شف المزيد من التحريات عن أن </a:t>
            </a:r>
            <a:r>
              <a:rPr b="1" lang="ar-SY" sz="3200" spc="-1" strike="noStrike">
                <a:solidFill>
                  <a:srgbClr val="ff0000"/>
                </a:solidFill>
                <a:latin typeface="Sakkal Majalla"/>
                <a:cs typeface="Sakkal Majalla"/>
              </a:rPr>
              <a:t>برمجية الترجمة المصممة في المقام الأول لاختراق أجهزة الكمبيوتر تباع </a:t>
            </a:r>
            <a:r>
              <a:rPr b="0" lang="ar-SY" sz="3200" spc="-1" strike="noStrike">
                <a:solidFill>
                  <a:srgbClr val="000000"/>
                </a:solidFill>
                <a:latin typeface="Sakkal Majalla"/>
                <a:cs typeface="Sakkal Majalla"/>
              </a:rPr>
              <a:t>أيضًا </a:t>
            </a:r>
            <a:r>
              <a:rPr b="1" lang="ar-SY" sz="3200" spc="-1" strike="noStrike">
                <a:solidFill>
                  <a:srgbClr val="ff0000"/>
                </a:solidFill>
                <a:latin typeface="Sakkal Majalla"/>
                <a:cs typeface="Sakkal Majalla"/>
              </a:rPr>
              <a:t>في منتدى «دارك هاكر»</a:t>
            </a:r>
            <a:r>
              <a:rPr b="1" lang="fr-FR"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تحت شعار "اشتر برمجيتنا للترجمة واطلب من أصدقائك تثبيته – يمكنك </a:t>
            </a:r>
            <a:r>
              <a:rPr b="1" lang="ar-SY" sz="3200" spc="-1" strike="noStrike">
                <a:solidFill>
                  <a:srgbClr val="ff0000"/>
                </a:solidFill>
                <a:latin typeface="Sakkal Majalla"/>
                <a:cs typeface="Sakkal Majalla"/>
              </a:rPr>
              <a:t>النفاذ إلى أجهزة الكمبيوتر الخاصة بهم بدون حق!</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طبيق أحكام اتفاقية بودابست والقوانين الوطنية المطابقة على دراسات حالات ذات الصلة بالقانون الموضوعي والإجرائي والتعاون الدولي</a:t>
            </a: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45E08E-F26C-4529-BB0D-65F1C80A5D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93424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ت عمداً وبغير حق:</a:t>
            </a:r>
            <a:endParaRPr b="0" lang="en-US" sz="3600" spc="-1" strike="noStrike">
              <a:solidFill>
                <a:srgbClr val="000000"/>
              </a:solidFill>
              <a:latin typeface="Arial"/>
            </a:endParaRPr>
          </a:p>
          <a:p>
            <a:pPr lvl="1" marL="616680" indent="-23724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a:t>
            </a:r>
            <a:r>
              <a:rPr b="1" lang="ar-EG" sz="3600" spc="-1" strike="noStrike">
                <a:solidFill>
                  <a:srgbClr val="ff0000"/>
                </a:solidFill>
                <a:latin typeface="Sakkal Majalla"/>
                <a:cs typeface="Sakkal Majalla"/>
              </a:rPr>
              <a:t>بيع</a:t>
            </a:r>
            <a:r>
              <a:rPr b="0" lang="ar-EG" sz="3600" spc="-1" strike="noStrike">
                <a:solidFill>
                  <a:srgbClr val="000000"/>
                </a:solidFill>
                <a:latin typeface="Sakkal Majalla"/>
                <a:cs typeface="Sakkal Majalla"/>
              </a:rPr>
              <a:t>، شراء بغرض الاستخدام، استيراد، </a:t>
            </a:r>
            <a:r>
              <a:rPr b="1" lang="ar-EG" sz="3600" spc="-1" strike="noStrike">
                <a:solidFill>
                  <a:srgbClr val="ff0000"/>
                </a:solidFill>
                <a:latin typeface="Sakkal Majalla"/>
                <a:cs typeface="Sakkal Majalla"/>
              </a:rPr>
              <a:t>توزيع</a:t>
            </a:r>
            <a:r>
              <a:rPr b="0" lang="ar-EG" sz="3600" spc="-1" strike="noStrike">
                <a:solidFill>
                  <a:srgbClr val="000000"/>
                </a:solidFill>
                <a:latin typeface="Sakkal Majalla"/>
                <a:ea typeface="Sakkal Majalla"/>
              </a:rPr>
              <a:t> أو </a:t>
            </a:r>
            <a:r>
              <a:rPr b="1" lang="ar-EG" sz="3600" spc="-1" strike="noStrike">
                <a:solidFill>
                  <a:srgbClr val="ff0000"/>
                </a:solidFill>
                <a:latin typeface="Sakkal Majalla"/>
                <a:cs typeface="Sakkal Majalla"/>
              </a:rPr>
              <a:t>إتاحة بأي طرق أخرى</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3" marL="1328040" indent="-18972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جهاز، بما في ذلك </a:t>
            </a:r>
            <a:r>
              <a:rPr b="1" lang="ar-EG" sz="3600" spc="-1" strike="noStrike">
                <a:solidFill>
                  <a:srgbClr val="ff0000"/>
                </a:solidFill>
                <a:latin typeface="Sakkal Majalla"/>
                <a:cs typeface="Sakkal Majalla"/>
              </a:rPr>
              <a:t>برنامج كومبيوتر، تم تصميمه أو ملاءمته </a:t>
            </a:r>
            <a:r>
              <a:rPr b="1" lang="ar-EG" sz="3600" spc="-1" strike="noStrike" u="sng">
                <a:solidFill>
                  <a:srgbClr val="ff0000"/>
                </a:solidFill>
                <a:uFillTx/>
                <a:latin typeface="Sakkal Majalla"/>
                <a:cs typeface="Sakkal Majalla"/>
              </a:rPr>
              <a:t>مبدئيا</a:t>
            </a:r>
            <a:r>
              <a:rPr b="1" lang="ar-EG" sz="3600" spc="-1" strike="noStrike">
                <a:solidFill>
                  <a:srgbClr val="ff0000"/>
                </a:solidFill>
                <a:latin typeface="Sakkal Majalla"/>
                <a:cs typeface="Sakkal Majalla"/>
              </a:rPr>
              <a:t>، بغرض ارتكاب أي من الجرائم </a:t>
            </a:r>
            <a:r>
              <a:rPr b="0" lang="ar-EG" sz="3600" spc="-1" strike="noStrike">
                <a:solidFill>
                  <a:srgbClr val="000000"/>
                </a:solidFill>
                <a:latin typeface="Sakkal Majalla"/>
                <a:cs typeface="Sakkal Majalla"/>
              </a:rPr>
              <a:t>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r>
              <a:rPr b="0" lang="ar-EG" sz="3600" spc="-1" strike="noStrike">
                <a:solidFill>
                  <a:srgbClr val="000000"/>
                </a:solidFill>
                <a:latin typeface="Sakkal Majalla"/>
                <a:cs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بغرض ارتكاب أي من الجرائم 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endParaRPr b="0" lang="en-US" sz="36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9F1EB-AB85-4476-90C1-F2D2F718FB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3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تعريف</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إساءة استخدام الأجهزة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6</a:t>
            </a:r>
            <a:r>
              <a:rPr b="0" lang="ar-SY" sz="3200" spc="-1" strike="noStrike">
                <a:solidFill>
                  <a:srgbClr val="000000"/>
                </a:solidFill>
                <a:latin typeface="Sakkal Majalla"/>
                <a:ea typeface="Sakkal Majalla"/>
              </a:rPr>
              <a:t> من اتفاقية بودابست) باعتبارها:</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سلوك الذي ينطوي على </a:t>
            </a:r>
            <a:r>
              <a:rPr b="1" lang="ar-SY" sz="3200" spc="-1" strike="noStrike">
                <a:solidFill>
                  <a:srgbClr val="ff0000"/>
                </a:solidFill>
                <a:latin typeface="Sakkal Majalla"/>
                <a:cs typeface="Sakkal Majalla"/>
              </a:rPr>
              <a:t>بيع</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توزي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إتاحة برمجية الترجمة </a:t>
            </a:r>
            <a:r>
              <a:rPr b="0" lang="ar-SY" sz="3200" spc="-1" strike="noStrike">
                <a:solidFill>
                  <a:srgbClr val="000000"/>
                </a:solidFill>
                <a:latin typeface="Sakkal Majalla"/>
                <a:cs typeface="Sakkal Majalla"/>
              </a:rPr>
              <a:t>بطرق أخرى؛ و</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رمجية الترجمة </a:t>
            </a:r>
            <a:r>
              <a:rPr b="1" lang="ar-SY" sz="3200" spc="-1" strike="noStrike">
                <a:solidFill>
                  <a:srgbClr val="ff0000"/>
                </a:solidFill>
                <a:latin typeface="Sakkal Majalla"/>
                <a:cs typeface="Sakkal Majalla"/>
              </a:rPr>
              <a:t>صممت في المقام الأول لغرض ارتكاب</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النفاذ غير المشروع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2</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ه </a:t>
            </a:r>
            <a:r>
              <a:rPr b="1" lang="ar-SY" sz="3200" spc="-1" strike="noStrike">
                <a:solidFill>
                  <a:srgbClr val="ff0000"/>
                </a:solidFill>
                <a:latin typeface="Sakkal Majalla"/>
                <a:cs typeface="Sakkal Majalla"/>
              </a:rPr>
              <a:t>البرمجية تباع</a:t>
            </a:r>
            <a:r>
              <a:rPr b="0" lang="ar-SY" sz="3200" spc="-1" strike="noStrike">
                <a:solidFill>
                  <a:srgbClr val="000000"/>
                </a:solidFill>
                <a:latin typeface="Sakkal Majalla"/>
                <a:ea typeface="Sakkal Majalla"/>
              </a:rPr>
              <a:t> مع </a:t>
            </a:r>
            <a:r>
              <a:rPr b="1" lang="ar-SY" sz="3200" spc="-1" strike="noStrike">
                <a:solidFill>
                  <a:srgbClr val="ff0000"/>
                </a:solidFill>
                <a:latin typeface="Sakkal Majalla"/>
                <a:cs typeface="Sakkal Majalla"/>
              </a:rPr>
              <a:t>نية استخدامها لارتكاب النفاذ غير المشروع</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1064C-3EFB-4DBF-9B67-A1B887280C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A7C31-CE94-45BB-9380-C2BF6E5EBA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4400" spc="-1" strike="noStrike">
                <a:solidFill>
                  <a:srgbClr val="ff0000"/>
                </a:solidFill>
                <a:latin typeface="Sakkal Majalla"/>
                <a:cs typeface="Sakkal Majalla"/>
              </a:rPr>
              <a:t>هل ارتكبت </a:t>
            </a:r>
            <a:r>
              <a:rPr b="1" lang="ar-SY" sz="4400" spc="-1" strike="noStrike">
                <a:solidFill>
                  <a:srgbClr val="ff0000"/>
                </a:solidFill>
                <a:latin typeface="Sakkal Majalla"/>
                <a:cs typeface="Sakkal Majalla"/>
              </a:rPr>
              <a:t>أي </a:t>
            </a:r>
            <a:r>
              <a:rPr b="1" lang="ar-YE" sz="4400" spc="-1" strike="noStrike">
                <a:solidFill>
                  <a:srgbClr val="ff0000"/>
                </a:solidFill>
                <a:latin typeface="Sakkal Majalla"/>
                <a:cs typeface="Sakkal Majalla"/>
              </a:rPr>
              <a:t>جريمة </a:t>
            </a:r>
            <a:r>
              <a:rPr b="1" lang="ar-SY" sz="4400" spc="-1" strike="noStrike">
                <a:solidFill>
                  <a:srgbClr val="ff0000"/>
                </a:solidFill>
                <a:latin typeface="Sakkal Majalla"/>
                <a:cs typeface="Sakkal Majalla"/>
              </a:rPr>
              <a:t>إلكترونية ب</a:t>
            </a:r>
            <a:r>
              <a:rPr b="1" lang="ar-YE" sz="4400" spc="-1" strike="noStrike">
                <a:solidFill>
                  <a:srgbClr val="ff0000"/>
                </a:solidFill>
                <a:latin typeface="Sakkal Majalla"/>
                <a:cs typeface="Sakkal Majalla"/>
              </a:rPr>
              <a:t>شراء </a:t>
            </a:r>
            <a:r>
              <a:rPr b="1" lang="ar-SY" sz="4400" spc="-1" strike="noStrike">
                <a:solidFill>
                  <a:srgbClr val="ff0000"/>
                </a:solidFill>
                <a:latin typeface="Sakkal Majalla"/>
                <a:cs typeface="Sakkal Majalla"/>
              </a:rPr>
              <a:t>رموز النفاذ </a:t>
            </a:r>
            <a:r>
              <a:rPr b="0" lang="ar-SY" sz="4400" spc="-1" strike="noStrike">
                <a:solidFill>
                  <a:srgbClr val="000000"/>
                </a:solidFill>
                <a:latin typeface="Sakkal Majalla"/>
                <a:cs typeface="Sakkal Majalla"/>
              </a:rPr>
              <a:t>إلى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C4916-421B-4DC4-9A1A-93A9CF5B2A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محاولة لتحديد الأفراد الذين يديرون منتدى «دارك هاكر»</a:t>
            </a:r>
            <a:r>
              <a:rPr b="0" lang="fr-FR"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قوم بإجراء عملية سرية بنجاح </a:t>
            </a:r>
            <a:r>
              <a:rPr b="1" lang="ar-SY" sz="3200" spc="-1" strike="noStrike">
                <a:solidFill>
                  <a:srgbClr val="ff0000"/>
                </a:solidFill>
                <a:latin typeface="Sakkal Majalla"/>
                <a:cs typeface="Sakkal Majalla"/>
              </a:rPr>
              <a:t>للحصول على رموز النفاذ </a:t>
            </a:r>
            <a:r>
              <a:rPr b="0" lang="ar-SY" sz="3200" spc="-1" strike="noStrike">
                <a:solidFill>
                  <a:srgbClr val="000000"/>
                </a:solidFill>
                <a:latin typeface="Sakkal Majalla"/>
                <a:cs typeface="Sakkal Majalla"/>
              </a:rPr>
              <a:t>التي تمكن من الولوج </a:t>
            </a:r>
            <a:r>
              <a:rPr b="1" lang="ar-SY" sz="3200" spc="-1" strike="noStrike">
                <a:solidFill>
                  <a:srgbClr val="ff0000"/>
                </a:solidFill>
                <a:latin typeface="Sakkal Majalla"/>
                <a:cs typeface="Sakkal Majalla"/>
              </a:rPr>
              <a:t>إلى أنظمة الكمبيوت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a:t>
            </a:r>
            <a:r>
              <a:rPr b="0" lang="ar-EG" sz="3600" spc="-1" strike="noStrike">
                <a:solidFill>
                  <a:srgbClr val="000000"/>
                </a:solidFill>
                <a:latin typeface="Sakkal Majalla"/>
                <a:cs typeface="Sakkal Majalla"/>
              </a:rPr>
              <a:t>إذا ما ارتكبت عمداً </a:t>
            </a:r>
            <a:r>
              <a:rPr b="1" lang="ar-EG" sz="3600" spc="-1" strike="noStrike" u="sng">
                <a:solidFill>
                  <a:srgbClr val="ff0000"/>
                </a:solidFill>
                <a:uFillTx/>
                <a:latin typeface="Sakkal Majalla"/>
                <a:cs typeface="Sakkal Majalla"/>
              </a:rPr>
              <a:t>وبغير حق</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1" marL="660960" indent="-25416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بيع، </a:t>
            </a:r>
            <a:r>
              <a:rPr b="1" lang="ar-EG" sz="3600" spc="-1" strike="noStrike">
                <a:solidFill>
                  <a:srgbClr val="ff0000"/>
                </a:solidFill>
                <a:latin typeface="Sakkal Majalla"/>
                <a:cs typeface="Sakkal Majalla"/>
              </a:rPr>
              <a:t>شراء </a:t>
            </a:r>
            <a:r>
              <a:rPr b="1" lang="ar-EG" sz="3600" spc="-1" strike="noStrike" u="sng">
                <a:solidFill>
                  <a:srgbClr val="ff0000"/>
                </a:solidFill>
                <a:uFillTx/>
                <a:latin typeface="Sakkal Majalla"/>
                <a:cs typeface="Sakkal Majalla"/>
              </a:rPr>
              <a:t>بغرض الاستخدام</a:t>
            </a:r>
            <a:r>
              <a:rPr b="0" lang="ar-EG" sz="3600" spc="-1" strike="noStrike">
                <a:solidFill>
                  <a:srgbClr val="000000"/>
                </a:solidFill>
                <a:latin typeface="Sakkal Majalla"/>
                <a:cs typeface="Sakkal Majalla"/>
              </a:rPr>
              <a:t>، استيراد، توزيع أو إتاحة بأي طرق أخرى:</a:t>
            </a:r>
            <a:endParaRPr b="0" lang="en-US" sz="3600" spc="-1" strike="noStrike">
              <a:solidFill>
                <a:srgbClr val="000000"/>
              </a:solidFill>
              <a:latin typeface="Arial"/>
            </a:endParaRPr>
          </a:p>
          <a:p>
            <a:pPr lvl="3" marL="1424160" indent="-20340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كلمة سر خاصة بكومبيوتر، أو </a:t>
            </a:r>
            <a:r>
              <a:rPr b="1" lang="ar-EG" sz="3600" spc="-1" strike="noStrike">
                <a:solidFill>
                  <a:srgbClr val="ff0000"/>
                </a:solidFill>
                <a:latin typeface="Sakkal Majalla"/>
                <a:cs typeface="Sakkal Majalla"/>
              </a:rPr>
              <a:t>رمز الولوج</a:t>
            </a:r>
            <a:r>
              <a:rPr b="0" lang="ar-EG" sz="3600" spc="-1" strike="noStrike">
                <a:solidFill>
                  <a:srgbClr val="000000"/>
                </a:solidFill>
                <a:latin typeface="Sakkal Majalla"/>
                <a:cs typeface="Sakkal Majalla"/>
              </a:rPr>
              <a:t>، أو بيانات مماثلة </a:t>
            </a:r>
            <a:r>
              <a:rPr b="1" lang="ar-EG" sz="3600" spc="-1" strike="noStrike">
                <a:solidFill>
                  <a:srgbClr val="ff0000"/>
                </a:solidFill>
                <a:latin typeface="Sakkal Majalla"/>
                <a:cs typeface="Sakkal Majalla"/>
              </a:rPr>
              <a:t>يمكن</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بواسطتها النفاذ بشكل كامل أو جزئي إلى نظام كومبيوتر</a:t>
            </a:r>
            <a:r>
              <a:rPr b="0" lang="ar-EG" sz="3600" spc="-1" strike="noStrike">
                <a:solidFill>
                  <a:srgbClr val="000000"/>
                </a:solidFill>
                <a:latin typeface="Sakkal Majalla"/>
                <a:cs typeface="Sakkal Majalla"/>
              </a:rPr>
              <a:t>، </a:t>
            </a:r>
            <a:r>
              <a:rPr b="1" lang="ar-EG" sz="3600" spc="-1" strike="noStrike" u="sng">
                <a:solidFill>
                  <a:srgbClr val="ff0000"/>
                </a:solidFill>
                <a:uFillTx/>
                <a:latin typeface="Sakkal Majalla"/>
                <a:cs typeface="Sakkal Majalla"/>
              </a:rPr>
              <a:t>بغرض ارتكاب أي من الجرائم المنصوص عليها في المواد من </a:t>
            </a:r>
            <a:r>
              <a:rPr b="1" lang="ar-EG" sz="3600" spc="-1" strike="noStrike" u="sng">
                <a:solidFill>
                  <a:srgbClr val="ff0000"/>
                </a:solidFill>
                <a:uFillTx/>
                <a:latin typeface="Sakkal Majalla"/>
                <a:ea typeface="Sakkal Majalla"/>
              </a:rPr>
              <a:t>2</a:t>
            </a:r>
            <a:r>
              <a:rPr b="1" lang="ar-EG" sz="3600" spc="-1" strike="noStrike" u="sng">
                <a:solidFill>
                  <a:srgbClr val="ff0000"/>
                </a:solidFill>
                <a:uFillTx/>
                <a:latin typeface="Sakkal Majalla"/>
                <a:ea typeface="Sakkal Majalla"/>
              </a:rPr>
              <a:t> إلى </a:t>
            </a:r>
            <a:r>
              <a:rPr b="1" lang="ar-EG" sz="3600" spc="-1" strike="noStrike" u="sng">
                <a:solidFill>
                  <a:srgbClr val="ff0000"/>
                </a:solidFill>
                <a:uFillTx/>
                <a:latin typeface="Sakkal Majalla"/>
                <a:ea typeface="Sakkal Majalla"/>
              </a:rPr>
              <a:t>5</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7016F-6BDB-47AF-B547-4C1DD96F2D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1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a:t>
            </a:r>
            <a:r>
              <a:rPr b="1" lang="ar-SY" sz="3600" spc="-1" strike="noStrike">
                <a:solidFill>
                  <a:srgbClr val="ff0000"/>
                </a:solidFill>
                <a:latin typeface="Sakkal Majalla"/>
                <a:cs typeface="Sakkal Majalla"/>
              </a:rPr>
              <a:t>لا يعتبر </a:t>
            </a:r>
            <a:r>
              <a:rPr b="0" lang="ar-SY" sz="3600" spc="-1" strike="noStrike">
                <a:solidFill>
                  <a:srgbClr val="000000"/>
                </a:solidFill>
                <a:latin typeface="Sakkal Majalla"/>
                <a:cs typeface="Sakkal Majalla"/>
              </a:rPr>
              <a:t>سلوكك </a:t>
            </a:r>
            <a:r>
              <a:rPr b="1" lang="ar-SY" sz="3600" spc="-1" strike="noStrike">
                <a:solidFill>
                  <a:srgbClr val="ff0000"/>
                </a:solidFill>
                <a:latin typeface="Sakkal Majalla"/>
                <a:cs typeface="Sakkal Majalla"/>
              </a:rPr>
              <a:t>جريمة</a:t>
            </a:r>
            <a:r>
              <a:rPr b="0" lang="ar-SY" sz="3600" spc="-1" strike="noStrike">
                <a:solidFill>
                  <a:srgbClr val="000000"/>
                </a:solidFill>
                <a:latin typeface="Sakkal Majalla"/>
                <a:ea typeface="Sakkal Majalla"/>
              </a:rPr>
              <a:t>  بموجب المادة </a:t>
            </a:r>
            <a:r>
              <a:rPr b="0" lang="ar-SY" sz="3600" spc="-1" strike="noStrike">
                <a:solidFill>
                  <a:srgbClr val="000000"/>
                </a:solidFill>
                <a:latin typeface="Sakkal Majalla"/>
                <a:ea typeface="Sakkal Majalla"/>
              </a:rPr>
              <a:t>6</a:t>
            </a:r>
            <a:r>
              <a:rPr b="0" lang="ar-SY" sz="3600" spc="-1" strike="noStrike">
                <a:solidFill>
                  <a:srgbClr val="000000"/>
                </a:solidFill>
                <a:latin typeface="Sakkal Majalla"/>
                <a:ea typeface="Sakkal Majalla"/>
              </a:rPr>
              <a:t> من اتفاقية بودابست لأن:</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سلوكك ليس بالضرورة </a:t>
            </a:r>
            <a:r>
              <a:rPr b="1" lang="ar-SY" sz="3600" spc="-1" strike="noStrike">
                <a:solidFill>
                  <a:srgbClr val="ff0000"/>
                </a:solidFill>
                <a:latin typeface="Sakkal Majalla"/>
                <a:cs typeface="Sakkal Majalla"/>
              </a:rPr>
              <a:t>بغير حق </a:t>
            </a:r>
            <a:r>
              <a:rPr b="0" lang="ar-SY" sz="3600" spc="-1" strike="noStrike">
                <a:solidFill>
                  <a:srgbClr val="000000"/>
                </a:solidFill>
                <a:latin typeface="Sakkal Majalla"/>
                <a:ea typeface="Sakkal Majalla"/>
              </a:rPr>
              <a:t>(العملية السرية ترتكز إلى أساس قانوني أو إداري)</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حصل على رموز النفاذ </a:t>
            </a:r>
            <a:r>
              <a:rPr b="1" lang="ar-SY" sz="3600" spc="-1" strike="noStrike">
                <a:solidFill>
                  <a:srgbClr val="ff0000"/>
                </a:solidFill>
                <a:latin typeface="Sakkal Majalla"/>
                <a:cs typeface="Sakkal Majalla"/>
              </a:rPr>
              <a:t>من أجل استخدامها</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شتر رموز النفاذ </a:t>
            </a:r>
            <a:r>
              <a:rPr b="1" lang="ar-SY" sz="3600" spc="-1" strike="noStrike">
                <a:solidFill>
                  <a:srgbClr val="ff0000"/>
                </a:solidFill>
                <a:latin typeface="Sakkal Majalla"/>
                <a:cs typeface="Sakkal Majalla"/>
              </a:rPr>
              <a:t>بنية استخدام تلك الرموز لأغراض ارتكاب جريمة </a:t>
            </a:r>
            <a:r>
              <a:rPr b="0" lang="ar-SY" sz="3600" spc="-1" strike="noStrike">
                <a:solidFill>
                  <a:srgbClr val="000000"/>
                </a:solidFill>
                <a:latin typeface="Sakkal Majalla"/>
                <a:cs typeface="Sakkal Majalla"/>
              </a:rPr>
              <a:t>بموجب المواد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إلى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3BA50-586E-49A8-BB9F-8734037537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لث</a:t>
            </a:r>
            <a:br>
              <a:rPr sz="4000"/>
            </a:br>
            <a:r>
              <a:rPr b="1" lang="ar-SY" sz="4000" spc="-1" strike="noStrike">
                <a:solidFill>
                  <a:srgbClr val="000000"/>
                </a:solidFill>
                <a:latin typeface="Sakkal Majalla"/>
                <a:cs typeface="Sakkal Majalla"/>
              </a:rPr>
              <a:t>القانون الإجرائي</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1EE40-AEAE-4B2C-96E6-2535601F49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C317B-65A9-4E34-B389-EAF5D853D2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75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إطار </a:t>
            </a:r>
            <a:r>
              <a:rPr b="0" lang="ar-YE" sz="3200" spc="-1" strike="noStrike">
                <a:solidFill>
                  <a:srgbClr val="000000"/>
                </a:solidFill>
                <a:latin typeface="Sakkal Majalla"/>
                <a:cs typeface="Sakkal Majalla"/>
              </a:rPr>
              <a:t>العملية السرية، </a:t>
            </a:r>
            <a:r>
              <a:rPr b="1" lang="ar-YE" sz="3200" spc="-1" strike="noStrike">
                <a:solidFill>
                  <a:srgbClr val="ff0000"/>
                </a:solidFill>
                <a:latin typeface="Sakkal Majalla"/>
                <a:cs typeface="Sakkal Majalla"/>
              </a:rPr>
              <a:t>تحصل على رموز </a:t>
            </a:r>
            <a:r>
              <a:rPr b="1" lang="ar-SY" sz="3200" spc="-1" strike="noStrike">
                <a:solidFill>
                  <a:srgbClr val="ff0000"/>
                </a:solidFill>
                <a:latin typeface="Sakkal Majalla"/>
                <a:cs typeface="Sakkal Majalla"/>
              </a:rPr>
              <a:t>النفاذ </a:t>
            </a:r>
            <a:r>
              <a:rPr b="0" lang="ar-YE" sz="3200" spc="-1" strike="noStrike">
                <a:solidFill>
                  <a:srgbClr val="000000"/>
                </a:solidFill>
                <a:latin typeface="Sakkal Majalla"/>
                <a:cs typeface="Sakkal Majalla"/>
              </a:rPr>
              <a:t>ومعلومات الدفع من عميل</a:t>
            </a:r>
            <a:r>
              <a:rPr b="0" lang="ar-SY" sz="3200" spc="-1" strike="noStrike">
                <a:solidFill>
                  <a:srgbClr val="000000"/>
                </a:solidFill>
                <a:latin typeface="Sakkal Majalla"/>
                <a:ea typeface="Sakkal Majalla"/>
              </a:rPr>
              <a:t> لدى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تتلقى </a:t>
            </a:r>
            <a:r>
              <a:rPr b="1" lang="ar-YE" sz="3200" spc="-1" strike="noStrike">
                <a:solidFill>
                  <a:srgbClr val="ff0000"/>
                </a:solidFill>
                <a:latin typeface="Sakkal Majalla"/>
                <a:cs typeface="Sakkal Majalla"/>
              </a:rPr>
              <a:t>بريدًا إلكترونيًا </a:t>
            </a:r>
            <a:r>
              <a:rPr b="0" lang="ar-YE" sz="3200" spc="-1" strike="noStrike">
                <a:solidFill>
                  <a:srgbClr val="000000"/>
                </a:solidFill>
                <a:latin typeface="Sakkal Majalla"/>
                <a:cs typeface="Sakkal Majalla"/>
              </a:rPr>
              <a:t>من </a:t>
            </a:r>
            <a:r>
              <a:rPr b="1" lang="ar-YE" sz="3200" spc="-1" strike="noStrike">
                <a:solidFill>
                  <a:srgbClr val="ff0000"/>
                </a:solidFill>
                <a:latin typeface="Sakkal Majalla"/>
                <a:cs typeface="Sakkal Majalla"/>
              </a:rPr>
              <a:t>حساب </a:t>
            </a:r>
            <a:r>
              <a:rPr b="1" lang="ar-SY" sz="3200" spc="-1" strike="noStrike">
                <a:solidFill>
                  <a:srgbClr val="ff0000"/>
                </a:solidFill>
                <a:latin typeface="Sakkal Majalla"/>
                <a:cs typeface="Sakkal Majalla"/>
              </a:rPr>
              <a:t>ب</a:t>
            </a:r>
            <a:r>
              <a:rPr b="1" lang="ar-YE" sz="3200" spc="-1" strike="noStrike">
                <a:solidFill>
                  <a:srgbClr val="ff0000"/>
                </a:solidFill>
                <a:latin typeface="Sakkal Majalla"/>
                <a:cs typeface="Sakkal Majalla"/>
              </a:rPr>
              <a:t>ريد إلكتروني مدفوع</a:t>
            </a:r>
            <a:r>
              <a:rPr b="0" lang="ar-YE"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ea typeface="Sakkal Majalla"/>
              </a:rPr>
              <a:t> </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رابط </a:t>
            </a:r>
            <a:r>
              <a:rPr b="0" lang="ar-SY" sz="3200" spc="-1" strike="noStrike">
                <a:solidFill>
                  <a:srgbClr val="000000"/>
                </a:solidFill>
                <a:latin typeface="Sakkal Majalla"/>
                <a:cs typeface="Sakkal Majalla"/>
              </a:rPr>
              <a:t>ل</a:t>
            </a:r>
            <a:r>
              <a:rPr b="0" lang="ar-YE" sz="3200" spc="-1" strike="noStrike">
                <a:solidFill>
                  <a:srgbClr val="000000"/>
                </a:solidFill>
                <a:latin typeface="Sakkal Majalla"/>
                <a:cs typeface="Sakkal Majalla"/>
              </a:rPr>
              <a:t>تنزيل رموز </a:t>
            </a:r>
            <a:r>
              <a:rPr b="0" lang="ar-SY" sz="3200" spc="-1" strike="noStrike">
                <a:solidFill>
                  <a:srgbClr val="000000"/>
                </a:solidFill>
                <a:latin typeface="Sakkal Majalla"/>
                <a:cs typeface="Sakkal Majalla"/>
              </a:rPr>
              <a:t>النفاذ</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كشف التحقيق الأولي أن </a:t>
            </a:r>
            <a:r>
              <a:rPr b="1" lang="ar-YE" sz="3200" spc="-1" strike="noStrike">
                <a:solidFill>
                  <a:srgbClr val="ff0000"/>
                </a:solidFill>
                <a:latin typeface="Sakkal Majalla"/>
                <a:cs typeface="Sakkal Majalla"/>
              </a:rPr>
              <a:t>مزود خدمة البريد الإلكتروني </a:t>
            </a:r>
            <a:r>
              <a:rPr b="0" lang="ar-YE" sz="3200" spc="-1" strike="noStrike">
                <a:solidFill>
                  <a:srgbClr val="000000"/>
                </a:solidFill>
                <a:latin typeface="Sakkal Majalla"/>
                <a:cs typeface="Sakkal Majalla"/>
              </a:rPr>
              <a:t>ل</a:t>
            </a:r>
            <a:r>
              <a:rPr b="0" lang="ar-SY" sz="3200" spc="-1" strike="noStrike">
                <a:solidFill>
                  <a:srgbClr val="000000"/>
                </a:solidFill>
                <a:latin typeface="Sakkal Majalla"/>
                <a:cs typeface="Sakkal Majalla"/>
              </a:rPr>
              <a:t>عنوا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هو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 </a:t>
            </a:r>
            <a:r>
              <a:rPr b="0" lang="ar-YE" sz="3200" spc="-1" strike="noStrike">
                <a:solidFill>
                  <a:srgbClr val="000000"/>
                </a:solidFill>
                <a:latin typeface="Sakkal Majalla"/>
                <a:cs typeface="Sakkal Majalla"/>
              </a:rPr>
              <a:t>التي يوجد </a:t>
            </a:r>
            <a:r>
              <a:rPr b="1" lang="ar-SY" sz="3200" spc="-1" strike="noStrike">
                <a:solidFill>
                  <a:srgbClr val="000000"/>
                </a:solidFill>
                <a:latin typeface="Sakkal Majalla"/>
                <a:cs typeface="Sakkal Majalla"/>
              </a:rPr>
              <a:t>مقرها ال</a:t>
            </a:r>
            <a:r>
              <a:rPr b="1" lang="ar-YE" sz="3200" spc="-1" strike="noStrike">
                <a:solidFill>
                  <a:srgbClr val="000000"/>
                </a:solidFill>
                <a:latin typeface="Sakkal Majalla"/>
                <a:cs typeface="Sakkal Majalla"/>
              </a:rPr>
              <a:t>رئيسي </a:t>
            </a:r>
            <a:r>
              <a:rPr b="0" lang="ar-YE" sz="3200" spc="-1" strike="noStrike">
                <a:solidFill>
                  <a:srgbClr val="000000"/>
                </a:solidFill>
                <a:latin typeface="Sakkal Majalla"/>
                <a:cs typeface="Sakkal Majalla"/>
              </a:rPr>
              <a:t>ومركز بيانات</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في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ميدل أورث</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6EAA5-4C26-4807-9890-95964B47D9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1" lang="en-GB" sz="2900" spc="-1" strike="noStrike">
                <a:solidFill>
                  <a:srgbClr val="ff0000"/>
                </a:solidFill>
                <a:latin typeface="Sakkal Majalla"/>
                <a:ea typeface="Sakkal Majalla"/>
              </a:rPr>
              <a:t>Scam Mail Inc</a:t>
            </a:r>
            <a:r>
              <a:rPr b="1" lang="en-GB" sz="2900" spc="-1" strike="noStrike">
                <a:solidFill>
                  <a:srgbClr val="ff0000"/>
                </a:solidFill>
                <a:latin typeface="Sakkal Majalla"/>
                <a:ea typeface="Sakkal Majalla"/>
              </a:rPr>
              <a:t>. </a:t>
            </a:r>
            <a:r>
              <a:rPr b="1" lang="ar-SY" sz="2900" spc="-1" strike="noStrike">
                <a:solidFill>
                  <a:srgbClr val="ff0000"/>
                </a:solidFill>
                <a:latin typeface="Sakkal Majalla"/>
                <a:ea typeface="Sakkal Majalla"/>
              </a:rPr>
              <a:t> </a:t>
            </a:r>
            <a:r>
              <a:rPr b="0" lang="ar-SY" sz="2900" spc="-1" strike="noStrike">
                <a:solidFill>
                  <a:srgbClr val="000000"/>
                </a:solidFill>
                <a:latin typeface="Sakkal Majalla"/>
                <a:cs typeface="Sakkal Majalla"/>
              </a:rPr>
              <a:t>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ل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2900" spc="-1" strike="noStrike">
                <a:solidFill>
                  <a:srgbClr val="ff0000"/>
                </a:solidFill>
                <a:latin typeface="Sakkal Majalla"/>
                <a:cs typeface="Sakkal Majalla"/>
              </a:rPr>
              <a:t>الحصول</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على معلومات عن أشخاص مجهولين آخرين تم الاتصال بهم من خلال حساب البريد الإلكتروني</a:t>
            </a:r>
            <a:r>
              <a:rPr b="0" lang="ar-YE"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من قبل العميل </a:t>
            </a:r>
            <a:r>
              <a:rPr b="1" lang="ar-SY" sz="2900" spc="-1" strike="noStrike">
                <a:solidFill>
                  <a:srgbClr val="ff0000"/>
                </a:solidFill>
                <a:latin typeface="Sakkal Majalla"/>
                <a:cs typeface="Sakkal Majalla"/>
              </a:rPr>
              <a:t>خلال الأيام السبعة الأخيرة</a:t>
            </a:r>
            <a:r>
              <a:rPr b="0" lang="ar-SY" sz="2900" spc="-1" strike="noStrike">
                <a:solidFill>
                  <a:srgbClr val="000000"/>
                </a:solidFill>
                <a:latin typeface="Sakkal Majalla"/>
                <a:ea typeface="Sakkal Majalla"/>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BDE03-3BD0-4D56-A694-60FADA40BD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هي </a:t>
            </a:r>
            <a:r>
              <a:rPr b="1" lang="ar-SY" sz="3600" spc="-1" strike="noStrike">
                <a:solidFill>
                  <a:srgbClr val="ff0000"/>
                </a:solidFill>
                <a:latin typeface="Sakkal Majalla"/>
                <a:cs typeface="Sakkal Majalla"/>
              </a:rPr>
              <a:t>التدابير </a:t>
            </a:r>
            <a:r>
              <a:rPr b="1" lang="ar-YE" sz="3600" spc="-1" strike="noStrike">
                <a:solidFill>
                  <a:srgbClr val="ff0000"/>
                </a:solidFill>
                <a:latin typeface="Sakkal Majalla"/>
                <a:cs typeface="Sakkal Majalla"/>
              </a:rPr>
              <a:t>الأولية التي ينبغي عليك اتخاذها لضمان عدم </a:t>
            </a:r>
            <a:r>
              <a:rPr b="1" lang="ar-SY" sz="3600" spc="-1" strike="noStrike">
                <a:solidFill>
                  <a:srgbClr val="ff0000"/>
                </a:solidFill>
                <a:latin typeface="Sakkal Majalla"/>
                <a:cs typeface="Sakkal Majalla"/>
              </a:rPr>
              <a:t>تقويض </a:t>
            </a:r>
            <a:r>
              <a:rPr b="1" lang="ar-YE" sz="3600" spc="-1" strike="noStrike">
                <a:solidFill>
                  <a:srgbClr val="ff0000"/>
                </a:solidFill>
                <a:latin typeface="Sakkal Majalla"/>
                <a:cs typeface="Sakkal Majalla"/>
              </a:rPr>
              <a:t>عملية التحقيق؟</a:t>
            </a:r>
            <a:endParaRPr b="0" lang="en-US" sz="36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2891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تقديم دراسة الحال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B42DF-14E4-4688-A48A-256E161EBD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2623E-ADC0-45C8-8D22-70EC2AEAE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1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84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6</a:t>
            </a:r>
            <a:r>
              <a:rPr b="1" lang="ar-EG" sz="3600" spc="-1" strike="noStrike">
                <a:solidFill>
                  <a:srgbClr val="000000"/>
                </a:solidFill>
                <a:latin typeface="Sakkal Majalla"/>
                <a:ea typeface="Sakkal Majalla"/>
              </a:rPr>
              <a:t>-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الأمر </a:t>
            </a:r>
            <a:r>
              <a:rPr b="0" lang="ar-SY" sz="3600" spc="-1" strike="noStrike">
                <a:solidFill>
                  <a:srgbClr val="000000"/>
                </a:solidFill>
                <a:latin typeface="Sakkal Majalla"/>
                <a:cs typeface="Sakkal Majalla"/>
              </a:rPr>
              <a:t>ب</a:t>
            </a:r>
            <a:r>
              <a:rPr b="1" lang="ar-EG" sz="3600" spc="-1" strike="noStrike">
                <a:solidFill>
                  <a:srgbClr val="ff0000"/>
                </a:solidFill>
                <a:latin typeface="Sakkal Majalla"/>
                <a:cs typeface="Sakkal Majalla"/>
              </a:rPr>
              <a:t>الحفظ المعجل لبيانات كومبيوتر محددة</a:t>
            </a:r>
            <a:r>
              <a:rPr b="0" lang="ar-EG" sz="3600" spc="-1" strike="noStrike">
                <a:solidFill>
                  <a:srgbClr val="000000"/>
                </a:solidFill>
                <a:latin typeface="Sakkal Majalla"/>
                <a:cs typeface="Sakkal Majalla"/>
              </a:rPr>
              <a:t>، بما في ذلك بيانات الحركة </a:t>
            </a:r>
            <a:r>
              <a:rPr b="1" lang="ar-EG" sz="3600" spc="-1" strike="noStrike">
                <a:solidFill>
                  <a:srgbClr val="ff0000"/>
                </a:solidFill>
                <a:latin typeface="Sakkal Majalla"/>
                <a:cs typeface="Sakkal Majalla"/>
              </a:rPr>
              <a:t>المُخزنة بواسطة نظام الكومبيوتر</a:t>
            </a:r>
            <a:r>
              <a:rPr b="0" lang="ar-EG" sz="3600" spc="-1" strike="noStrike">
                <a:solidFill>
                  <a:srgbClr val="000000"/>
                </a:solidFill>
                <a:latin typeface="Sakkal Majalla"/>
                <a:cs typeface="Sakkal Majalla"/>
              </a:rPr>
              <a:t>، خاصة في حال وجود </a:t>
            </a:r>
            <a:r>
              <a:rPr b="1" lang="ar-EG" sz="3600" spc="-1" strike="noStrike">
                <a:solidFill>
                  <a:srgbClr val="ff0000"/>
                </a:solidFill>
                <a:latin typeface="Sakkal Majalla"/>
                <a:cs typeface="Sakkal Majalla"/>
              </a:rPr>
              <a:t>أسس للاعتقاد </a:t>
            </a:r>
            <a:r>
              <a:rPr b="0" lang="ar-EG" sz="3600" spc="-1" strike="noStrike">
                <a:solidFill>
                  <a:srgbClr val="000000"/>
                </a:solidFill>
                <a:latin typeface="Sakkal Majalla"/>
                <a:cs typeface="Sakkal Majalla"/>
              </a:rPr>
              <a:t>أن تلك </a:t>
            </a:r>
            <a:r>
              <a:rPr b="1" lang="ar-EG" sz="3600" spc="-1" strike="noStrike">
                <a:solidFill>
                  <a:srgbClr val="ff0000"/>
                </a:solidFill>
                <a:latin typeface="Sakkal Majalla"/>
                <a:cs typeface="Sakkal Majalla"/>
              </a:rPr>
              <a:t>البيانات معرضة بشكل خاص للضياع أو التعديل</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لزام ذلك الشخص </a:t>
            </a:r>
            <a:r>
              <a:rPr b="1" lang="ar-EG" sz="3600" spc="-1" strike="noStrike">
                <a:solidFill>
                  <a:srgbClr val="ff0000"/>
                </a:solidFill>
                <a:latin typeface="Sakkal Majalla"/>
                <a:cs typeface="Sakkal Majalla"/>
              </a:rPr>
              <a:t>بحفظ بيانات الكومبيوتر المعنية والإبقاء على سلامتها </a:t>
            </a:r>
            <a:r>
              <a:rPr b="0" lang="ar-EG" sz="3600" spc="-1" strike="noStrike">
                <a:solidFill>
                  <a:srgbClr val="000000"/>
                </a:solidFill>
                <a:latin typeface="Sakkal Majalla"/>
                <a:cs typeface="Sakkal Majalla"/>
              </a:rPr>
              <a:t>لأطول مدة زمنية ضرورية على </a:t>
            </a:r>
            <a:r>
              <a:rPr b="1" lang="ar-EG" sz="3600" spc="-1" strike="noStrike">
                <a:solidFill>
                  <a:srgbClr val="ff0000"/>
                </a:solidFill>
                <a:latin typeface="Sakkal Majalla"/>
                <a:cs typeface="Sakkal Majalla"/>
              </a:rPr>
              <a:t>ألا تتجاوز تسعين يوماً</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69D0E-EAF9-4668-B786-D7D2D554E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تتخذ </a:t>
            </a:r>
            <a:r>
              <a:rPr b="1" lang="ar-SY" sz="3200" spc="-1" strike="noStrike">
                <a:solidFill>
                  <a:srgbClr val="ff0000"/>
                </a:solidFill>
                <a:latin typeface="Sakkal Majalla"/>
                <a:cs typeface="Sakkal Majalla"/>
              </a:rPr>
              <a:t>أول تدبير </a:t>
            </a:r>
            <a:r>
              <a:rPr b="0" lang="ar-SY" sz="3200" spc="-1" strike="noStrike">
                <a:solidFill>
                  <a:srgbClr val="000000"/>
                </a:solidFill>
                <a:latin typeface="Sakkal Majalla"/>
                <a:cs typeface="Sakkal Majalla"/>
              </a:rPr>
              <a:t>لضمان </a:t>
            </a:r>
            <a:r>
              <a:rPr b="1" lang="ar-SY" sz="3200" spc="-1" strike="noStrike">
                <a:solidFill>
                  <a:srgbClr val="ff0000"/>
                </a:solidFill>
                <a:latin typeface="Sakkal Majalla"/>
                <a:cs typeface="Sakkal Majalla"/>
              </a:rPr>
              <a:t>التعجيل بحفظ بيانات الكمبيوتر المخزن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لبيانات </a:t>
            </a:r>
            <a:r>
              <a:rPr b="0" lang="ar-SY" sz="3200" spc="-1" strike="noStrike">
                <a:solidFill>
                  <a:srgbClr val="000000"/>
                </a:solidFill>
                <a:latin typeface="Sakkal Majalla"/>
                <a:cs typeface="Sakkal Majalla"/>
              </a:rPr>
              <a:t>المخزنة من قبل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تعتبر </a:t>
            </a:r>
            <a:r>
              <a:rPr b="1" lang="ar-SY" sz="3200" spc="-1" strike="noStrike">
                <a:solidFill>
                  <a:srgbClr val="ff0000"/>
                </a:solidFill>
                <a:latin typeface="Sakkal Majalla"/>
                <a:cs typeface="Sakkal Majalla"/>
              </a:rPr>
              <a:t>معرضة بشكل خاص للضياع </a:t>
            </a:r>
            <a:r>
              <a:rPr b="0" lang="ar-SY" sz="3200" spc="-1" strike="noStrike">
                <a:solidFill>
                  <a:srgbClr val="000000"/>
                </a:solidFill>
                <a:latin typeface="Sakkal Majalla"/>
                <a:cs typeface="Sakkal Majalla"/>
              </a:rPr>
              <a:t>بسبب </a:t>
            </a:r>
            <a:r>
              <a:rPr b="1" lang="ar-SY" sz="3200" spc="-1" strike="noStrike">
                <a:solidFill>
                  <a:srgbClr val="ff0000"/>
                </a:solidFill>
                <a:latin typeface="Sakkal Majalla"/>
                <a:cs typeface="Sakkal Majalla"/>
              </a:rPr>
              <a:t>سياسة الشركة للاحتفاظ بالبيانا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a:t>
            </a:r>
            <a:r>
              <a:rPr b="1" lang="ar-SY" sz="3200" spc="-1" strike="noStrike">
                <a:solidFill>
                  <a:srgbClr val="ff0000"/>
                </a:solidFill>
                <a:latin typeface="Sakkal Majalla"/>
                <a:cs typeface="Sakkal Majalla"/>
              </a:rPr>
              <a:t>السعي إلى الحفاظ على جميع بيانات الكمبيوتر المخزنة </a:t>
            </a:r>
            <a:r>
              <a:rPr b="0" lang="ar-SY" sz="3200" spc="-1" strike="noStrike">
                <a:solidFill>
                  <a:srgbClr val="000000"/>
                </a:solidFill>
                <a:latin typeface="Sakkal Majalla"/>
                <a:ea typeface="Sakkal Majalla"/>
              </a:rPr>
              <a:t>(بيانات المحتوى وبيانات الحركة) </a:t>
            </a:r>
            <a:r>
              <a:rPr b="1" lang="ar-SY" sz="3200" spc="-1" strike="noStrike">
                <a:solidFill>
                  <a:srgbClr val="ff0000"/>
                </a:solidFill>
                <a:latin typeface="Sakkal Majalla"/>
                <a:cs typeface="Sakkal Majalla"/>
              </a:rPr>
              <a:t>المرتبطة بعنوان البريد الإلكتروني </a:t>
            </a:r>
            <a:r>
              <a:rPr b="0" lang="en-GB" sz="3200" spc="-1" strike="noStrike" u="sng">
                <a:solidFill>
                  <a:srgbClr val="0000ff"/>
                </a:solidFill>
                <a:uFillTx/>
                <a:latin typeface="Calibri"/>
                <a:ea typeface="Sakkal Majalla"/>
                <a:hlinkClick r:id="rId1"/>
              </a:rPr>
              <a:t>criminal@scammail.com</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السعي إلى أن تقوم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بالإبقاء على سلامة البيانات المحفوظة</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A406E-156D-4E19-9978-55F0D8A9DA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67AF1-6E10-46BC-B845-78B64CDEBE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a:t>
            </a:r>
            <a:r>
              <a:rPr b="1" lang="ar-SY" sz="3600" spc="-1" strike="noStrike">
                <a:solidFill>
                  <a:srgbClr val="ff0000"/>
                </a:solidFill>
                <a:latin typeface="Sakkal Majalla"/>
                <a:ea typeface="Sakkal Majalla"/>
              </a:rPr>
              <a:t> إلي</a:t>
            </a:r>
            <a:r>
              <a:rPr b="1" lang="ar-YE" sz="3600" spc="-1" strike="noStrike">
                <a:solidFill>
                  <a:srgbClr val="ff0000"/>
                </a:solidFill>
                <a:latin typeface="Sakkal Majalla"/>
                <a:cs typeface="Sakkal Majalla"/>
              </a:rPr>
              <a:t>ها لتحديد هوية الشخص الذي يستخدم </a:t>
            </a:r>
            <a:r>
              <a:rPr b="0" lang="en-US" sz="3600" spc="-1" strike="noStrike" u="sng">
                <a:solidFill>
                  <a:srgbClr val="0000ff"/>
                </a:solidFill>
                <a:uFillTx/>
                <a:latin typeface="Sakkal Majalla"/>
                <a:ea typeface="Sakkal Majalla"/>
                <a:hlinkClick r:id="rId1"/>
              </a:rPr>
              <a:t>criminal@scammail.com</a:t>
            </a:r>
            <a:r>
              <a:rPr b="1" lang="ar-SY" sz="3600" spc="-1" strike="noStrike">
                <a:solidFill>
                  <a:srgbClr val="ff0000"/>
                </a:solidFill>
                <a:latin typeface="Sakkal Majalla"/>
                <a:cs typeface="Sakkal Majalla"/>
              </a:rPr>
              <a:t>؟</a:t>
            </a:r>
            <a:r>
              <a:rPr b="1" lang="en-US" sz="3600" spc="-1" strike="noStrike">
                <a:solidFill>
                  <a:srgbClr val="ff0000"/>
                </a:solidFill>
                <a:latin typeface="Sakkal Majalla"/>
                <a:ea typeface="Sakkal Majalla"/>
              </a:rPr>
              <a:t> </a:t>
            </a:r>
            <a:r>
              <a:rPr b="1" lang="ar-YE" sz="3600" spc="-1" strike="noStrike">
                <a:solidFill>
                  <a:srgbClr val="ff0000"/>
                </a:solidFill>
                <a:latin typeface="Sakkal Majalla"/>
                <a:cs typeface="Sakkal Majalla"/>
              </a:rPr>
              <a:t>كيف يمكنك ا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Scam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3484E-C23E-48A2-900E-C6BF165FC6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0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يكشف التحقيق الأولي أن </a:t>
            </a:r>
            <a:r>
              <a:rPr b="1" lang="ar-YE" sz="2800" spc="-1" strike="noStrike">
                <a:solidFill>
                  <a:srgbClr val="ff0000"/>
                </a:solidFill>
                <a:latin typeface="Sakkal Majalla"/>
                <a:cs typeface="Sakkal Majalla"/>
              </a:rPr>
              <a:t>مزود خدمة البريد الإلكتروني </a:t>
            </a:r>
            <a:r>
              <a:rPr b="0" lang="ar-YE" sz="2800" spc="-1" strike="noStrike">
                <a:solidFill>
                  <a:srgbClr val="000000"/>
                </a:solidFill>
                <a:latin typeface="Sakkal Majalla"/>
                <a:cs typeface="Sakkal Majalla"/>
              </a:rPr>
              <a:t>ل</a:t>
            </a:r>
            <a:r>
              <a:rPr b="0" lang="ar-SY" sz="2800" spc="-1" strike="noStrike">
                <a:solidFill>
                  <a:srgbClr val="000000"/>
                </a:solidFill>
                <a:latin typeface="Sakkal Majalla"/>
                <a:cs typeface="Sakkal Majalla"/>
              </a:rPr>
              <a:t>عنوا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GB" sz="2800" spc="-1" strike="noStrike" u="sng">
                <a:solidFill>
                  <a:srgbClr val="0000ff"/>
                </a:solidFill>
                <a:uFillTx/>
                <a:latin typeface="Sakkal Majalla"/>
                <a:ea typeface="Sakkal Majalla"/>
                <a:hlinkClick r:id="rId1"/>
              </a:rPr>
              <a:t>criminal@scam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هو شركة</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 </a:t>
            </a:r>
            <a:r>
              <a:rPr b="0" lang="ar-YE" sz="2800" spc="-1" strike="noStrike">
                <a:solidFill>
                  <a:srgbClr val="000000"/>
                </a:solidFill>
                <a:latin typeface="Sakkal Majalla"/>
                <a:cs typeface="Sakkal Majalla"/>
              </a:rPr>
              <a:t>التي </a:t>
            </a:r>
            <a:r>
              <a:rPr b="1" lang="ar-YE" sz="2800" spc="-1" strike="noStrike">
                <a:solidFill>
                  <a:srgbClr val="ff0000"/>
                </a:solidFill>
                <a:latin typeface="Sakkal Majalla"/>
                <a:cs typeface="Sakkal Majalla"/>
              </a:rPr>
              <a:t>يوجد </a:t>
            </a:r>
            <a:r>
              <a:rPr b="1" lang="ar-SY" sz="2800" spc="-1" strike="noStrike">
                <a:solidFill>
                  <a:srgbClr val="ff0000"/>
                </a:solidFill>
                <a:latin typeface="Sakkal Majalla"/>
                <a:cs typeface="Sakkal Majalla"/>
              </a:rPr>
              <a:t>مقرها ال</a:t>
            </a:r>
            <a:r>
              <a:rPr b="1" lang="ar-YE" sz="2800" spc="-1" strike="noStrike">
                <a:solidFill>
                  <a:srgbClr val="ff0000"/>
                </a:solidFill>
                <a:latin typeface="Sakkal Majalla"/>
                <a:cs typeface="Sakkal Majalla"/>
              </a:rPr>
              <a:t>رئيسي ومركز بيانات</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في </a:t>
            </a:r>
            <a:r>
              <a:rPr b="1" lang="ar-SY" sz="2800" spc="-1" strike="noStrike">
                <a:solidFill>
                  <a:srgbClr val="ff0000"/>
                </a:solidFill>
                <a:latin typeface="Sakkal Majalla"/>
                <a:ea typeface="Sakkal Majalla"/>
              </a:rPr>
              <a:t>«ميدل أورث»</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a:t>
            </a:r>
            <a:r>
              <a:rPr b="0" lang="ar-SY" sz="2900" spc="-1" strike="noStrike">
                <a:solidFill>
                  <a:srgbClr val="000000"/>
                </a:solidFill>
                <a:latin typeface="Sakkal Majalla"/>
                <a:cs typeface="Sakkal Majalla"/>
              </a:rPr>
              <a:t>من أجل </a:t>
            </a:r>
            <a:r>
              <a:rPr b="1" lang="ar-YE" sz="2900" spc="-1" strike="noStrike">
                <a:solidFill>
                  <a:srgbClr val="ff0000"/>
                </a:solidFill>
                <a:latin typeface="Sakkal Majalla"/>
                <a:cs typeface="Sakkal Majalla"/>
              </a:rPr>
              <a:t>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والتي </a:t>
            </a:r>
            <a:r>
              <a:rPr b="1" lang="ar-EG" sz="3600" spc="-1" strike="noStrike">
                <a:solidFill>
                  <a:srgbClr val="ff0000"/>
                </a:solidFill>
                <a:latin typeface="Sakkal Majalla"/>
                <a:cs typeface="Sakkal Majalla"/>
              </a:rPr>
              <a:t>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a:t>
            </a:r>
            <a:r>
              <a:rPr b="0" lang="ar-EG" sz="3600" spc="-1" strike="noStrike">
                <a:solidFill>
                  <a:srgbClr val="000000"/>
                </a:solidFill>
                <a:latin typeface="Sakkal Majalla"/>
                <a:ea typeface="Sakkal Majalla"/>
              </a:rPr>
              <a:t> الخاصة </a:t>
            </a:r>
            <a:r>
              <a:rPr b="1" lang="ar-EG" sz="3600" spc="-1" strike="noStrike">
                <a:solidFill>
                  <a:srgbClr val="ff0000"/>
                </a:solidFill>
                <a:latin typeface="Sakkal Majalla"/>
                <a:cs typeface="Sakkal Majalla"/>
              </a:rPr>
              <a:t>بالفواتير</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والدفع</a:t>
            </a:r>
            <a:r>
              <a:rPr b="0" lang="ar-EG" sz="3600" spc="-1" strike="noStrike">
                <a:solidFill>
                  <a:srgbClr val="000000"/>
                </a:solidFill>
                <a:latin typeface="Sakkal Majalla"/>
                <a:ea typeface="Sakkal Majalla"/>
              </a:rPr>
              <a:t> المتاحة بموجب اتفاق أو ترتيبات الخدمة</a:t>
            </a:r>
            <a:endParaRPr b="0" lang="en-US" sz="36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62E0B-85C5-45D4-8556-6310E14D46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C23D1-EF88-4902-87BC-0E08533E0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Wingdings"/>
                <a:ea typeface="Wingdings"/>
              </a:rPr>
              <a:t></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ستساعد </a:t>
            </a:r>
            <a:r>
              <a:rPr b="1" lang="ar-SY" sz="2800" spc="-1" strike="noStrike">
                <a:solidFill>
                  <a:srgbClr val="ff0000"/>
                </a:solidFill>
                <a:latin typeface="Sakkal Majalla"/>
                <a:cs typeface="Sakkal Majalla"/>
              </a:rPr>
              <a:t>المعلومات عن المشترك </a:t>
            </a:r>
            <a:r>
              <a:rPr b="0" lang="ar-SY" sz="2800" spc="-1" strike="noStrike">
                <a:solidFill>
                  <a:srgbClr val="000000"/>
                </a:solidFill>
                <a:latin typeface="Sakkal Majalla"/>
                <a:cs typeface="Sakkal Majalla"/>
              </a:rPr>
              <a:t>على تحديد هوية </a:t>
            </a:r>
            <a:r>
              <a:rPr b="1" lang="ar-SY" sz="2800" spc="-1" strike="noStrike">
                <a:solidFill>
                  <a:srgbClr val="ff0000"/>
                </a:solidFill>
                <a:latin typeface="Sakkal Majalla"/>
                <a:cs typeface="Sakkal Majalla"/>
              </a:rPr>
              <a:t>المشترك الذي يستخدم حساب</a:t>
            </a:r>
            <a:r>
              <a:rPr b="0" lang="ar-SY" sz="2800" spc="-1" strike="noStrike">
                <a:solidFill>
                  <a:srgbClr val="000000"/>
                </a:solidFill>
                <a:latin typeface="Sakkal Majalla"/>
                <a:ea typeface="Sakkal Majalla"/>
              </a:rPr>
              <a:t> </a:t>
            </a:r>
            <a:r>
              <a:rPr b="1" lang="en-GB" sz="2800" spc="-1" strike="noStrike">
                <a:solidFill>
                  <a:srgbClr val="ff0000"/>
                </a:solidFill>
                <a:latin typeface="Sakkal Majalla"/>
                <a:ea typeface="Sakkal Majalla"/>
              </a:rPr>
              <a:t>criminal@scammail.com</a:t>
            </a:r>
            <a:r>
              <a:rPr b="0" lang="ar-SY" sz="28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2800" spc="-1" strike="noStrike">
              <a:solidFill>
                <a:srgbClr val="000000"/>
              </a:solidFill>
              <a:latin typeface="Arial"/>
            </a:endParaRPr>
          </a:p>
          <a:p>
            <a:pPr marL="5724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Wingdings"/>
                <a:ea typeface="Wingdings"/>
              </a:rPr>
              <a:t></a:t>
            </a:r>
            <a:r>
              <a:rPr b="0" lang="ar-SY" sz="2800" spc="-1" strike="noStrike">
                <a:solidFill>
                  <a:srgbClr val="000000"/>
                </a:solidFill>
                <a:latin typeface="Sakkal Majalla"/>
                <a:ea typeface="Sakkal Majalla"/>
              </a:rPr>
              <a:t> وفقا للقانون الوطني، يمكن الحصول على </a:t>
            </a:r>
            <a:r>
              <a:rPr b="1" lang="ar-SY" sz="2800" spc="-1" strike="noStrike">
                <a:solidFill>
                  <a:srgbClr val="ff0000"/>
                </a:solidFill>
                <a:latin typeface="Sakkal Majalla"/>
                <a:cs typeface="Sakkal Majalla"/>
              </a:rPr>
              <a:t>معلومات عن المشترك </a:t>
            </a:r>
            <a:r>
              <a:rPr b="0" lang="ar-SY" sz="2800" spc="-1" strike="noStrike">
                <a:solidFill>
                  <a:srgbClr val="000000"/>
                </a:solidFill>
                <a:latin typeface="Sakkal Majalla"/>
                <a:cs typeface="Sakkal Majalla"/>
              </a:rPr>
              <a:t>من خلال المطالبة بإصدار </a:t>
            </a:r>
            <a:r>
              <a:rPr b="1" lang="ar-SY" sz="2800" spc="-1" strike="noStrike">
                <a:solidFill>
                  <a:srgbClr val="ff0000"/>
                </a:solidFill>
                <a:latin typeface="Sakkal Majalla"/>
                <a:cs typeface="Sakkal Majalla"/>
              </a:rPr>
              <a:t>أمر بإبراز البيانات </a:t>
            </a:r>
            <a:r>
              <a:rPr b="0" lang="ar-SY" sz="2800" spc="-1" strike="noStrike">
                <a:solidFill>
                  <a:srgbClr val="000000"/>
                </a:solidFill>
                <a:latin typeface="Sakkal Majalla"/>
                <a:cs typeface="Sakkal Majalla"/>
              </a:rPr>
              <a:t>يقتضي من شركة </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تقديم معلومات عن المشترك متعلقة بالحساب </a:t>
            </a:r>
            <a:r>
              <a:rPr b="1" lang="en-GB" sz="2800" spc="-1" strike="noStrike">
                <a:solidFill>
                  <a:srgbClr val="ff0000"/>
                </a:solidFill>
                <a:latin typeface="Sakkal Majalla"/>
                <a:ea typeface="Sakkal Majalla"/>
              </a:rPr>
              <a:t>criminal@scammail.com</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تكون في حوزتها أو تحت سيطرتها</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EE420-5D73-4600-8055-5ED0833FCA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835D0-D0F8-4550-B36F-876D2A05C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كيف يمكنك الحصول على معلومات من</a:t>
            </a:r>
            <a:r>
              <a:rPr b="1" lang="ar-SY" sz="3200" spc="-1" strike="noStrike">
                <a:solidFill>
                  <a:srgbClr val="ff0000"/>
                </a:solidFill>
                <a:latin typeface="Sakkal Majalla"/>
                <a:ea typeface="Sakkal Majalla"/>
              </a:rPr>
              <a:t> شركة</a:t>
            </a:r>
            <a:r>
              <a:rPr b="1" lang="ar-YE"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Scam Mail Inc</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a:t>
            </a:r>
            <a:r>
              <a:rPr b="1" lang="ar-YE" sz="3200" spc="-1" strike="noStrike">
                <a:solidFill>
                  <a:srgbClr val="ff0000"/>
                </a:solidFill>
                <a:latin typeface="Sakkal Majalla"/>
                <a:cs typeface="Sakkal Majalla"/>
              </a:rPr>
              <a:t>بخصوص أشخاص آخرين </a:t>
            </a:r>
            <a:r>
              <a:rPr b="1" lang="ar-SY" sz="3200" spc="-1" strike="noStrike">
                <a:solidFill>
                  <a:srgbClr val="ff0000"/>
                </a:solidFill>
                <a:latin typeface="Sakkal Majalla"/>
                <a:cs typeface="Sakkal Majalla"/>
              </a:rPr>
              <a:t>تم ال</a:t>
            </a:r>
            <a:r>
              <a:rPr b="1" lang="ar-YE" sz="3200" spc="-1" strike="noStrike">
                <a:solidFill>
                  <a:srgbClr val="ff0000"/>
                </a:solidFill>
                <a:latin typeface="Sakkal Majalla"/>
                <a:cs typeface="Sakkal Majalla"/>
              </a:rPr>
              <a:t>اتص</a:t>
            </a:r>
            <a:r>
              <a:rPr b="1" lang="ar-SY" sz="3200" spc="-1" strike="noStrike">
                <a:solidFill>
                  <a:srgbClr val="ff0000"/>
                </a:solidFill>
                <a:latin typeface="Sakkal Majalla"/>
                <a:cs typeface="Sakkal Majalla"/>
              </a:rPr>
              <a:t>ا</a:t>
            </a:r>
            <a:r>
              <a:rPr b="1" lang="ar-YE" sz="3200" spc="-1" strike="noStrike">
                <a:solidFill>
                  <a:srgbClr val="ff0000"/>
                </a:solidFill>
                <a:latin typeface="Sakkal Majalla"/>
                <a:cs typeface="Sakkal Majalla"/>
              </a:rPr>
              <a:t>ل بهم</a:t>
            </a:r>
            <a:r>
              <a:rPr b="1" lang="ar-SY" sz="3200" spc="-1" strike="noStrike">
                <a:solidFill>
                  <a:srgbClr val="ff0000"/>
                </a:solidFill>
                <a:latin typeface="Sakkal Majalla"/>
                <a:ea typeface="Sakkal Majalla"/>
              </a:rPr>
              <a:t> من خلال عنوان البريد الإلكتروني </a:t>
            </a:r>
            <a:r>
              <a:rPr b="1" lang="en-US" sz="3200" spc="-1" strike="noStrike">
                <a:solidFill>
                  <a:srgbClr val="ff0000"/>
                </a:solidFill>
                <a:latin typeface="Sakkal Majalla"/>
                <a:ea typeface="Sakkal Majalla"/>
              </a:rPr>
              <a:t>criminal@scammail.com</a:t>
            </a:r>
            <a:r>
              <a:rPr b="1" lang="ar-SY"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خلال الأيام السبعة الأخيرة؟</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765B5-2D2B-43AD-A1A6-752C2DA27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شير المعلومات التي حصل</a:t>
            </a:r>
            <a:r>
              <a:rPr b="0" lang="ar-SY" sz="3600" spc="-1" strike="noStrike">
                <a:solidFill>
                  <a:srgbClr val="000000"/>
                </a:solidFill>
                <a:latin typeface="Sakkal Majalla"/>
                <a:cs typeface="Sakkal Majalla"/>
              </a:rPr>
              <a:t>ت</a:t>
            </a:r>
            <a:r>
              <a:rPr b="0" lang="ar-YE" sz="36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3600" spc="-1" strike="noStrike">
                <a:solidFill>
                  <a:srgbClr val="ff0000"/>
                </a:solidFill>
                <a:latin typeface="Sakkal Majalla"/>
                <a:cs typeface="Sakkal Majalla"/>
              </a:rPr>
              <a:t>الحصول على معلومات عن أشخاص مجهولين آخرين تم الاتصال بهم من خلال</a:t>
            </a:r>
            <a:r>
              <a:rPr b="0" lang="ar-YE" sz="3600" spc="-1" strike="noStrike">
                <a:solidFill>
                  <a:srgbClr val="000000"/>
                </a:solidFill>
                <a:latin typeface="Sakkal Majalla"/>
                <a:ea typeface="Sakkal Majalla"/>
              </a:rPr>
              <a:t> حساب البريد الإلكتروني: </a:t>
            </a:r>
            <a:r>
              <a:rPr b="0" lang="en-GB" sz="3600" spc="-1" strike="noStrike">
                <a:solidFill>
                  <a:srgbClr val="000000"/>
                </a:solidFill>
                <a:latin typeface="Sakkal Majalla"/>
                <a:ea typeface="Sakkal Majalla"/>
              </a:rPr>
              <a:t>criminal@scammail.com</a:t>
            </a:r>
            <a:r>
              <a:rPr b="0" lang="ar-SY" sz="3600" spc="-1" strike="noStrike">
                <a:solidFill>
                  <a:srgbClr val="000000"/>
                </a:solidFill>
                <a:latin typeface="Sakkal Majalla"/>
                <a:ea typeface="Sakkal Majalla"/>
              </a:rPr>
              <a:t> </a:t>
            </a:r>
            <a:r>
              <a:rPr b="0" lang="en-GB"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ن قبل العميل.</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0B668-7460-4DFA-98B2-757FDF1D73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4000" spc="-1" strike="noStrike">
                <a:solidFill>
                  <a:srgbClr val="000000"/>
                </a:solidFill>
                <a:latin typeface="Sakkal Majalla"/>
                <a:cs typeface="Sakkal Majalla"/>
              </a:rPr>
              <a:t>المادة </a:t>
            </a:r>
            <a:r>
              <a:rPr b="1" lang="ar-EG" sz="4000" spc="-1" strike="noStrike">
                <a:solidFill>
                  <a:srgbClr val="000000"/>
                </a:solidFill>
                <a:latin typeface="Sakkal Majalla"/>
                <a:ea typeface="Sakkal Majalla"/>
              </a:rPr>
              <a:t>18</a:t>
            </a:r>
            <a:r>
              <a:rPr b="1" lang="ar-EG" sz="4000" spc="-1" strike="noStrike">
                <a:solidFill>
                  <a:srgbClr val="000000"/>
                </a:solidFill>
                <a:latin typeface="Sakkal Majalla"/>
                <a:ea typeface="Sakkal Majalla"/>
              </a:rPr>
              <a:t> – الأمر بإبراز البيانات</a:t>
            </a:r>
            <a:endParaRPr b="0" lang="en-US" sz="4000" spc="-1" strike="noStrike">
              <a:solidFill>
                <a:srgbClr val="000000"/>
              </a:solidFill>
              <a:latin typeface="Arial"/>
            </a:endParaRPr>
          </a:p>
          <a:p>
            <a:pPr lvl="3"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00000"/>
                </a:solidFill>
                <a:latin typeface="Sakkal Majalla"/>
                <a:cs typeface="Sakkal Majalla"/>
              </a:rPr>
              <a:t>سلطاتها المختصة إصدار أمر إلى:</a:t>
            </a:r>
            <a:endParaRPr b="0" lang="en-US" sz="4000" spc="-1" strike="noStrike">
              <a:solidFill>
                <a:srgbClr val="000000"/>
              </a:solidFill>
              <a:latin typeface="Arial"/>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أ. </a:t>
            </a:r>
            <a:r>
              <a:rPr b="0" lang="ar-EG" sz="4000" spc="-1" strike="noStrike">
                <a:solidFill>
                  <a:srgbClr val="000000"/>
                </a:solidFill>
                <a:latin typeface="Sakkal Majalla"/>
                <a:cs typeface="Sakkal Majalla"/>
              </a:rPr>
              <a:t>أي شخص داخل أراضيها بت</a:t>
            </a:r>
            <a:r>
              <a:rPr b="1" lang="ar-EG" sz="4000" spc="-1" strike="noStrike">
                <a:solidFill>
                  <a:srgbClr val="ff0000"/>
                </a:solidFill>
                <a:latin typeface="Sakkal Majalla"/>
                <a:cs typeface="Sakkal Majalla"/>
              </a:rPr>
              <a:t>قديم بيانات كمبيوتر محددة بحوزة ذلك الشخص أو تحت سيطرته</a:t>
            </a:r>
            <a:r>
              <a:rPr b="0" lang="ar-EG" sz="4000" spc="-1" strike="noStrike">
                <a:solidFill>
                  <a:srgbClr val="000000"/>
                </a:solidFill>
                <a:latin typeface="Sakkal Majalla"/>
                <a:cs typeface="Sakkal Majalla"/>
              </a:rPr>
              <a:t>، </a:t>
            </a:r>
            <a:r>
              <a:rPr b="1" lang="ar-EG" sz="4000" spc="-1" strike="noStrike">
                <a:solidFill>
                  <a:srgbClr val="ff0000"/>
                </a:solidFill>
                <a:latin typeface="Sakkal Majalla"/>
                <a:cs typeface="Sakkal Majalla"/>
              </a:rPr>
              <a:t>ومخزنة على نظام الكومبيوتر</a:t>
            </a:r>
            <a:r>
              <a:rPr b="0" lang="ar-EG" sz="4000" spc="-1" strike="noStrike">
                <a:solidFill>
                  <a:srgbClr val="000000"/>
                </a:solidFill>
                <a:latin typeface="Sakkal Majalla"/>
                <a:ea typeface="Sakkal Majalla"/>
              </a:rPr>
              <a:t> أو على أي دعامة أخرى لتخزين بيانات الكمبيوتر.</a:t>
            </a:r>
            <a:endParaRPr b="0" lang="en-US" sz="40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A881E-08BC-42FF-A0A1-5F404278BF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89000"/>
          </a:bodyPr>
          <a:p>
            <a:pPr marL="406800" indent="-40680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تحديد أشخاص آخرين تم الاتصال بهم من قبل مستخدم عنوان البريد الإلكتروني </a:t>
            </a:r>
            <a:r>
              <a:rPr b="0" lang="en-GB" sz="3200" spc="-1" strike="noStrike">
                <a:solidFill>
                  <a:srgbClr val="000000"/>
                </a:solidFill>
                <a:latin typeface="Sakkal Majalla"/>
                <a:ea typeface="Sakkal Majalla"/>
              </a:rPr>
              <a:t>criminal@scammail.com</a:t>
            </a:r>
            <a:r>
              <a:rPr b="0" lang="ar-SY" sz="3200" spc="-1" strike="noStrike">
                <a:solidFill>
                  <a:srgbClr val="000000"/>
                </a:solidFill>
                <a:latin typeface="Sakkal Majalla"/>
                <a:cs typeface="Sakkal Majalla"/>
              </a:rPr>
              <a:t>، ستكون </a:t>
            </a:r>
            <a:r>
              <a:rPr b="1" lang="ar-SY" sz="3200" spc="-1" strike="noStrike">
                <a:solidFill>
                  <a:srgbClr val="ff0000"/>
                </a:solidFill>
                <a:latin typeface="Sakkal Majalla"/>
                <a:cs typeface="Sakkal Majalla"/>
              </a:rPr>
              <a:t>بحاجة للحصول على</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محتوى </a:t>
            </a:r>
            <a:r>
              <a:rPr b="0" lang="ar-SY" sz="2800" spc="-1" strike="noStrike">
                <a:solidFill>
                  <a:srgbClr val="000000"/>
                </a:solidFill>
                <a:latin typeface="Sakkal Majalla"/>
                <a:ea typeface="Sakkal Majalla"/>
              </a:rPr>
              <a:t>(لتأكيد محتوى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حركة </a:t>
            </a:r>
            <a:r>
              <a:rPr b="0" lang="ar-SY" sz="2800" spc="-1" strike="noStrike">
                <a:solidFill>
                  <a:srgbClr val="000000"/>
                </a:solidFill>
                <a:latin typeface="Sakkal Majalla"/>
                <a:ea typeface="Sakkal Majalla"/>
              </a:rPr>
              <a:t>(لتأكيد وجهة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406800" indent="-40680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وفقا للقانون المحلي، يمكن أن تطلب </a:t>
            </a:r>
            <a:r>
              <a:rPr b="1" lang="ar-SY" sz="3200" spc="-1" strike="noStrike">
                <a:solidFill>
                  <a:srgbClr val="ff0000"/>
                </a:solidFill>
                <a:latin typeface="Sakkal Majalla"/>
                <a:cs typeface="Sakkal Majalla"/>
              </a:rPr>
              <a:t>أمرا بإبراز البيانات يطالب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بتقديم جميع بيانات الكمبيوتر المتعلقة بالحساب </a:t>
            </a:r>
            <a:r>
              <a:rPr b="0" lang="en-GB" sz="3200" spc="-1" strike="noStrike">
                <a:solidFill>
                  <a:srgbClr val="000000"/>
                </a:solidFill>
                <a:latin typeface="Sakkal Majalla"/>
                <a:ea typeface="Sakkal Majalla"/>
              </a:rPr>
              <a:t>criminal@scammail.com</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التي توجد في </a:t>
            </a:r>
            <a:r>
              <a:rPr b="1" lang="ar-SY" sz="3200" spc="-1" strike="noStrike">
                <a:solidFill>
                  <a:srgbClr val="ff0000"/>
                </a:solidFill>
                <a:latin typeface="Sakkal Majalla"/>
                <a:cs typeface="Sakkal Majalla"/>
              </a:rPr>
              <a:t>حوزتها أو تحت سيطرتها</a:t>
            </a:r>
            <a:r>
              <a:rPr b="0" lang="ar-SY" sz="3200" spc="-1" strike="noStrike">
                <a:solidFill>
                  <a:srgbClr val="000000"/>
                </a:solidFill>
                <a:latin typeface="Sakkal Majalla"/>
                <a:ea typeface="Sakkal Majalla"/>
              </a:rPr>
              <a:t> في مركز بياناتها.</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14B01-CD4C-4B66-8410-3C26B77CE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428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أشكال أخرى للتعاون</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945AB-E096-45B8-B3B2-4477FDAD78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2D8A2-4F6D-49BE-B2F4-ED296F3FD2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99EC7-EEE6-4650-854F-AE901FD42C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0531E-2C39-4DD0-9F1F-3FD687E496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756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أسئلة</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ها لتحديد</a:t>
            </a:r>
            <a:r>
              <a:rPr b="1" lang="ar-SY" sz="3600" spc="-1" strike="noStrike">
                <a:solidFill>
                  <a:srgbClr val="ff0000"/>
                </a:solidFill>
                <a:latin typeface="Sakkal Majalla"/>
                <a:ea typeface="Sakkal Majalla"/>
              </a:rPr>
              <a:t> هوية</a:t>
            </a:r>
            <a:r>
              <a:rPr b="1" lang="ar-YE" sz="3600" spc="-1" strike="noStrike">
                <a:solidFill>
                  <a:srgbClr val="ff0000"/>
                </a:solidFill>
                <a:latin typeface="Sakkal Majalla"/>
                <a:ea typeface="Sakkal Majalla"/>
              </a:rPr>
              <a:t> الشخص </a:t>
            </a:r>
            <a:r>
              <a:rPr b="1" lang="ar-SY" sz="3600" spc="-1" strike="noStrike">
                <a:solidFill>
                  <a:srgbClr val="ff0000"/>
                </a:solidFill>
                <a:latin typeface="Sakkal Majalla"/>
                <a:cs typeface="Sakkal Majalla"/>
              </a:rPr>
              <a:t>الذي يستخدم عنوان البريد الإلكتروني </a:t>
            </a:r>
            <a:r>
              <a:rPr b="0" lang="en-US" sz="3600" spc="-1" strike="noStrike">
                <a:solidFill>
                  <a:srgbClr val="000000"/>
                </a:solidFill>
                <a:latin typeface="Sakkal Majalla"/>
                <a:ea typeface="Sakkal Majalla"/>
              </a:rPr>
              <a:t>fraud@hackmail.com</a:t>
            </a:r>
            <a:r>
              <a:rPr b="1" lang="ar-SY" sz="3600" spc="-1" strike="noStrike">
                <a:solidFill>
                  <a:srgbClr val="ff0000"/>
                </a:solidFill>
                <a:latin typeface="Sakkal Majalla"/>
                <a:cs typeface="Sakkal Majalla"/>
              </a:rPr>
              <a:t>؟ </a:t>
            </a: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م</a:t>
            </a:r>
            <a:r>
              <a:rPr b="1" lang="ar-YE" sz="3600" spc="-1" strike="noStrike">
                <a:solidFill>
                  <a:srgbClr val="ff0000"/>
                </a:solidFill>
                <a:latin typeface="Sakkal Majalla"/>
                <a:cs typeface="Sakkal Majalla"/>
              </a:rPr>
              <a:t>ا هو أسرع إجراء ل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Hack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F50E5-FAB8-4C60-B45A-CBB4E25B8D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ضغط على الرابط </a:t>
            </a:r>
            <a:r>
              <a:rPr b="0" lang="ar-YE" sz="2800" spc="-1" strike="noStrike">
                <a:solidFill>
                  <a:srgbClr val="000000"/>
                </a:solidFill>
                <a:latin typeface="Sakkal Majalla"/>
                <a:cs typeface="Sakkal Majalla"/>
              </a:rPr>
              <a:t>لتنزيل رمز </a:t>
            </a:r>
            <a:r>
              <a:rPr b="0" lang="ar-SY" sz="2800" spc="-1" strike="noStrike">
                <a:solidFill>
                  <a:srgbClr val="000000"/>
                </a:solidFill>
                <a:latin typeface="Sakkal Majalla"/>
                <a:cs typeface="Sakkal Majalla"/>
              </a:rPr>
              <a:t>النفاذ وتتلقى </a:t>
            </a:r>
            <a:r>
              <a:rPr b="0" lang="ar-YE" sz="2800" spc="-1" strike="noStrike">
                <a:solidFill>
                  <a:srgbClr val="000000"/>
                </a:solidFill>
                <a:latin typeface="Sakkal Majalla"/>
                <a:cs typeface="Sakkal Majalla"/>
              </a:rPr>
              <a:t>بريد</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إلكتروني</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آخر من حساب البريد الإلكتروني المجاني </a:t>
            </a:r>
            <a:r>
              <a:rPr b="0" lang="en-GB"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مع تفاصيل </a:t>
            </a:r>
            <a:r>
              <a:rPr b="0" lang="ar-SY" sz="2800" spc="-1" strike="noStrike">
                <a:solidFill>
                  <a:srgbClr val="000000"/>
                </a:solidFill>
                <a:latin typeface="Sakkal Majalla"/>
                <a:ea typeface="Sakkal Majalla"/>
              </a:rPr>
              <a:t> بنك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فكر مرة أخرى في </a:t>
            </a:r>
            <a:r>
              <a:rPr b="1" lang="ar-YE" sz="2800" spc="-1" strike="noStrike">
                <a:solidFill>
                  <a:srgbClr val="ff0000"/>
                </a:solidFill>
                <a:latin typeface="Sakkal Majalla"/>
                <a:cs typeface="Sakkal Majalla"/>
              </a:rPr>
              <a:t>استخدام عنوان البريد الإلكتروني </a:t>
            </a:r>
            <a:r>
              <a:rPr b="0" lang="ar-YE" sz="2800" spc="-1" strike="noStrike">
                <a:solidFill>
                  <a:srgbClr val="000000"/>
                </a:solidFill>
                <a:latin typeface="Sakkal Majalla"/>
                <a:cs typeface="Sakkal Majalla"/>
              </a:rPr>
              <a:t>لتحديد </a:t>
            </a:r>
            <a:r>
              <a:rPr b="1" lang="ar-SY" sz="2800" spc="-1" strike="noStrike">
                <a:solidFill>
                  <a:srgbClr val="ff0000"/>
                </a:solidFill>
                <a:latin typeface="Sakkal Majalla"/>
                <a:cs typeface="Sakkal Majalla"/>
              </a:rPr>
              <a:t>هوية </a:t>
            </a:r>
            <a:r>
              <a:rPr b="1" lang="ar-YE" sz="2800" spc="-1" strike="noStrike">
                <a:solidFill>
                  <a:srgbClr val="ff0000"/>
                </a:solidFill>
                <a:latin typeface="Sakkal Majalla"/>
                <a:cs typeface="Sakkal Majalla"/>
              </a:rPr>
              <a:t>عميل</a:t>
            </a:r>
            <a:r>
              <a:rPr b="1" lang="ar-SY" sz="2800" spc="-1" strike="noStrike">
                <a:solidFill>
                  <a:srgbClr val="ff0000"/>
                </a:solidFill>
                <a:latin typeface="Sakkal Majalla"/>
                <a:ea typeface="Sakkal Majalla"/>
              </a:rPr>
              <a:t> منتدى «دارك هاكر»</a:t>
            </a:r>
            <a:r>
              <a:rPr b="0" lang="ar-SY" sz="2800" spc="-1" strike="noStrike">
                <a:solidFill>
                  <a:srgbClr val="000000"/>
                </a:solidFill>
                <a:latin typeface="Sakkal Majalla"/>
                <a:ea typeface="Sakkal Majalla"/>
              </a:rPr>
              <a:t>.</a:t>
            </a:r>
            <a:r>
              <a:rPr b="0" lang="en-GB"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يكشف تحقيق</a:t>
            </a:r>
            <a:r>
              <a:rPr b="0" lang="ar-SY" sz="2800" spc="-1" strike="noStrike">
                <a:solidFill>
                  <a:srgbClr val="000000"/>
                </a:solidFill>
                <a:latin typeface="Sakkal Majalla"/>
                <a:cs typeface="Sakkal Majalla"/>
              </a:rPr>
              <a:t>ك</a:t>
            </a:r>
            <a:r>
              <a:rPr b="0" lang="ar-YE" sz="2800" spc="-1" strike="noStrike">
                <a:solidFill>
                  <a:srgbClr val="000000"/>
                </a:solidFill>
                <a:latin typeface="Sakkal Majalla"/>
                <a:ea typeface="Sakkal Majalla"/>
              </a:rPr>
              <a:t> الأولي أ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شركة</a:t>
            </a:r>
            <a:r>
              <a:rPr b="1" lang="en-GB" sz="2800" spc="-1" strike="noStrike">
                <a:solidFill>
                  <a:srgbClr val="ff0000"/>
                </a:solidFill>
                <a:latin typeface="Sakkal Majalla"/>
                <a:ea typeface="Sakkal Majalla"/>
              </a:rPr>
              <a:t>Hack Mail Inc</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مقر</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الرئيسي في </a:t>
            </a:r>
            <a:r>
              <a:rPr b="1" lang="ar-SY" sz="2800" spc="-1" strike="noStrike">
                <a:solidFill>
                  <a:srgbClr val="ff0000"/>
                </a:solidFill>
                <a:latin typeface="Sakkal Majalla"/>
                <a:ea typeface="Sakkal Majalla"/>
              </a:rPr>
              <a:t>«موردور»)</a:t>
            </a:r>
            <a:r>
              <a:rPr b="1" lang="en-GB"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لا </a:t>
            </a:r>
            <a:r>
              <a:rPr b="1" lang="ar-SY" sz="2800" spc="-1" strike="noStrike">
                <a:solidFill>
                  <a:srgbClr val="ff0000"/>
                </a:solidFill>
                <a:latin typeface="Sakkal Majalla"/>
                <a:cs typeface="Sakkal Majalla"/>
              </a:rPr>
              <a:t>ت</a:t>
            </a:r>
            <a:r>
              <a:rPr b="1" lang="ar-YE" sz="2800" spc="-1" strike="noStrike">
                <a:solidFill>
                  <a:srgbClr val="ff0000"/>
                </a:solidFill>
                <a:latin typeface="Sakkal Majalla"/>
                <a:cs typeface="Sakkal Majalla"/>
              </a:rPr>
              <a:t>ملك أي مكتب أو مراكز بيانات في </a:t>
            </a:r>
            <a:r>
              <a:rPr b="1" lang="ar-SY" sz="2800" spc="-1" strike="noStrike">
                <a:solidFill>
                  <a:srgbClr val="ff0000"/>
                </a:solidFill>
                <a:latin typeface="Sakkal Majalla"/>
                <a:ea typeface="Sakkal Majalla"/>
              </a:rPr>
              <a:t>«ميدل أورث» </a:t>
            </a:r>
            <a:r>
              <a:rPr b="0" lang="ar-YE" sz="2800" spc="-1" strike="noStrike">
                <a:solidFill>
                  <a:srgbClr val="000000"/>
                </a:solidFill>
                <a:latin typeface="Sakkal Majalla"/>
                <a:cs typeface="Sakkal Majalla"/>
              </a:rPr>
              <a:t>لكن</a:t>
            </a:r>
            <a:r>
              <a:rPr b="0" lang="ar-SY" sz="2800" spc="-1" strike="noStrike">
                <a:solidFill>
                  <a:srgbClr val="000000"/>
                </a:solidFill>
                <a:latin typeface="Sakkal Majalla"/>
                <a:cs typeface="Sakkal Majalla"/>
              </a:rPr>
              <a:t>ها</a:t>
            </a:r>
            <a:r>
              <a:rPr b="0" lang="ar-YE" sz="2800" spc="-1" strike="noStrike">
                <a:solidFill>
                  <a:srgbClr val="000000"/>
                </a:solidFill>
                <a:latin typeface="Sakkal Majalla"/>
                <a:ea typeface="Sakkal Majalla"/>
              </a:rPr>
              <a:t> نشر</a:t>
            </a:r>
            <a:r>
              <a:rPr b="0" lang="ar-SY" sz="2800" spc="-1" strike="noStrike">
                <a:solidFill>
                  <a:srgbClr val="000000"/>
                </a:solidFill>
                <a:latin typeface="Sakkal Majalla"/>
                <a:cs typeface="Sakkal Majalla"/>
              </a:rPr>
              <a:t>ت</a:t>
            </a:r>
            <a:r>
              <a:rPr b="0" lang="ar-YE" sz="2800" spc="-1" strike="noStrike">
                <a:solidFill>
                  <a:srgbClr val="000000"/>
                </a:solidFill>
                <a:latin typeface="Sakkal Majalla"/>
                <a:ea typeface="Sakkal Majalla"/>
              </a:rPr>
              <a:t> إعلانات مؤخرًا بشأن خدماته</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المجانية في </a:t>
            </a:r>
            <a:r>
              <a:rPr b="1" lang="ar-SY" sz="2800" spc="-1" strike="noStrike">
                <a:solidFill>
                  <a:srgbClr val="ff0000"/>
                </a:solidFill>
                <a:latin typeface="Sakkal Majalla"/>
                <a:ea typeface="Sakkal Majalla"/>
              </a:rPr>
              <a:t>«ميدل أورث» </a:t>
            </a:r>
            <a:r>
              <a:rPr b="1" lang="ar-YE" sz="2800" spc="-1" strike="noStrike">
                <a:solidFill>
                  <a:srgbClr val="ff0000"/>
                </a:solidFill>
                <a:latin typeface="Sakkal Majalla"/>
                <a:cs typeface="Sakkal Majalla"/>
              </a:rPr>
              <a:t>باللغة المحل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ea typeface="Sakkal Majalla"/>
              </a:rPr>
              <a:t> </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شركة</a:t>
            </a:r>
            <a:r>
              <a:rPr b="0" lang="en-GB" sz="2800" spc="-1" strike="noStrike">
                <a:solidFill>
                  <a:srgbClr val="000000"/>
                </a:solidFill>
                <a:latin typeface="Sakkal Majalla"/>
                <a:ea typeface="Sakkal Majalla"/>
              </a:rPr>
              <a:t>Hack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بتخزين </a:t>
            </a:r>
            <a:r>
              <a:rPr b="0" lang="ar-SY" sz="2800" spc="-1" strike="noStrike">
                <a:solidFill>
                  <a:srgbClr val="000000"/>
                </a:solidFill>
                <a:latin typeface="Sakkal Majalla"/>
                <a:cs typeface="Sakkal Majalla"/>
              </a:rPr>
              <a:t>ال</a:t>
            </a:r>
            <a:r>
              <a:rPr b="1" lang="ar-YE" sz="2800" spc="-1" strike="noStrike">
                <a:solidFill>
                  <a:srgbClr val="ff0000"/>
                </a:solidFill>
                <a:latin typeface="Sakkal Majalla"/>
                <a:cs typeface="Sakkal Majalla"/>
              </a:rPr>
              <a:t>معلومات</a:t>
            </a:r>
            <a:r>
              <a:rPr b="1" lang="ar-SY" sz="2800" spc="-1" strike="noStrike">
                <a:solidFill>
                  <a:srgbClr val="ff0000"/>
                </a:solidFill>
                <a:latin typeface="Sakkal Majalla"/>
                <a:ea typeface="Sakkal Majalla"/>
              </a:rPr>
              <a:t> عن</a:t>
            </a:r>
            <a:r>
              <a:rPr b="1" lang="ar-YE" sz="2800" spc="-1" strike="noStrike">
                <a:solidFill>
                  <a:srgbClr val="ff0000"/>
                </a:solidFill>
                <a:latin typeface="Sakkal Majalla"/>
                <a:ea typeface="Sakkal Majalla"/>
              </a:rPr>
              <a:t> المشترك</a:t>
            </a:r>
            <a:r>
              <a:rPr b="1" lang="ar-SY" sz="2800" spc="-1" strike="noStrike">
                <a:solidFill>
                  <a:srgbClr val="ff0000"/>
                </a:solidFill>
                <a:latin typeface="Sakkal Majalla"/>
                <a:cs typeface="Sakkal Majalla"/>
              </a:rPr>
              <a:t>ين</a:t>
            </a:r>
            <a:r>
              <a:rPr b="1" lang="ar-YE" sz="2800" spc="-1" strike="noStrike">
                <a:solidFill>
                  <a:srgbClr val="ff0000"/>
                </a:solidFill>
                <a:latin typeface="Sakkal Majalla"/>
                <a:ea typeface="Sakkal Majalla"/>
              </a:rPr>
              <a:t> </a:t>
            </a:r>
            <a:r>
              <a:rPr b="0" lang="ar-YE" sz="2800" spc="-1" strike="noStrike">
                <a:solidFill>
                  <a:srgbClr val="000000"/>
                </a:solidFill>
                <a:latin typeface="Sakkal Majalla"/>
                <a:cs typeface="Sakkal Majalla"/>
              </a:rPr>
              <a:t>في </a:t>
            </a:r>
            <a:r>
              <a:rPr b="1" lang="ar-YE" sz="2800" spc="-1" strike="noStrike">
                <a:solidFill>
                  <a:srgbClr val="ff0000"/>
                </a:solidFill>
                <a:latin typeface="Sakkal Majalla"/>
                <a:cs typeface="Sakkal Majalla"/>
              </a:rPr>
              <a:t>شكل بيانات الكمبيوتر.</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666720"/>
            <a:ext cx="7442280" cy="573876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a:t>
            </a:r>
            <a:r>
              <a:rPr b="1" lang="ar-SY" sz="3600" spc="-1" strike="noStrike">
                <a:solidFill>
                  <a:srgbClr val="000000"/>
                </a:solidFill>
                <a:latin typeface="Sakkal Majalla"/>
                <a:cs typeface="Sakkal Majalla"/>
              </a:rPr>
              <a:t>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a:t>
            </a:r>
            <a:r>
              <a:rPr b="1" lang="ar-EG" sz="3600" spc="-1" strike="noStrike">
                <a:solidFill>
                  <a:srgbClr val="ff0000"/>
                </a:solidFill>
                <a:latin typeface="Sakkal Majalla"/>
                <a:cs typeface="Sakkal Majalla"/>
              </a:rPr>
              <a:t>والتي 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 الخاصة بالفواتير والدفع </a:t>
            </a:r>
            <a:r>
              <a:rPr b="0" lang="ar-EG" sz="3600" spc="-1" strike="noStrike">
                <a:solidFill>
                  <a:srgbClr val="000000"/>
                </a:solidFill>
                <a:latin typeface="Sakkal Majalla"/>
                <a:cs typeface="Sakkal Majalla"/>
              </a:rPr>
              <a:t>المتاحة بموجب اتفاق أو ترتيبات الخدمة</a:t>
            </a:r>
            <a:endParaRPr b="0" lang="en-US" sz="36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0B45A-7385-4878-B492-D94356C96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342E7-52F2-424B-9DC9-7F6485622A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7000"/>
          </a:bodyPr>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تساعد </a:t>
            </a:r>
            <a:r>
              <a:rPr b="1" lang="ar-SY" sz="3200" spc="-1" strike="noStrike">
                <a:solidFill>
                  <a:srgbClr val="ff0000"/>
                </a:solidFill>
                <a:latin typeface="Sakkal Majalla"/>
                <a:cs typeface="Sakkal Majalla"/>
              </a:rPr>
              <a:t>المعلومات عن المشترك </a:t>
            </a:r>
            <a:r>
              <a:rPr b="0" lang="ar-SY" sz="3200" spc="-1" strike="noStrike">
                <a:solidFill>
                  <a:srgbClr val="000000"/>
                </a:solidFill>
                <a:latin typeface="Sakkal Majalla"/>
                <a:cs typeface="Sakkal Majalla"/>
              </a:rPr>
              <a:t>على:</a:t>
            </a:r>
            <a:endParaRPr b="0" lang="en-US" sz="3200" spc="-1" strike="noStrike">
              <a:solidFill>
                <a:srgbClr val="000000"/>
              </a:solidFill>
              <a:latin typeface="Arial"/>
            </a:endParaRPr>
          </a:p>
          <a:p>
            <a:pPr marL="55440"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تحديد هوية المشترك الذي يستخدم حساب </a:t>
            </a:r>
            <a:r>
              <a:rPr b="1" lang="en-GB" sz="3200" spc="-1" strike="noStrike">
                <a:solidFill>
                  <a:srgbClr val="ff0000"/>
                </a:solidFill>
                <a:latin typeface="Sakkal Majalla"/>
                <a:ea typeface="Sakkal Majalla"/>
              </a:rPr>
              <a:t>criminal@scammail.com</a:t>
            </a:r>
            <a:r>
              <a:rPr b="0" lang="ar-SY" sz="32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3200" spc="-1" strike="noStrike">
              <a:solidFill>
                <a:srgbClr val="000000"/>
              </a:solidFill>
              <a:latin typeface="Arial"/>
            </a:endParaRPr>
          </a:p>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وطني، </a:t>
            </a:r>
            <a:r>
              <a:rPr b="1" lang="ar-SY" sz="3200" spc="-1" strike="noStrike">
                <a:solidFill>
                  <a:srgbClr val="ff0000"/>
                </a:solidFill>
                <a:latin typeface="Sakkal Majalla"/>
                <a:cs typeface="Sakkal Majalla"/>
              </a:rPr>
              <a:t>يمكن الحصول على معلومات عن المشترك من خلال:</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بخصوص النفاذ إلى بيانات الكمبيوتر المخزنة (لأن </a:t>
            </a:r>
            <a:r>
              <a:rPr b="1" lang="ar-SY" sz="3200" spc="-1" strike="noStrike">
                <a:solidFill>
                  <a:srgbClr val="ff0000"/>
                </a:solidFill>
                <a:latin typeface="Sakkal Majalla"/>
                <a:cs typeface="Sakkal Majalla"/>
              </a:rPr>
              <a:t>المعلومات عن المشترك مخزنة من قبل </a:t>
            </a:r>
            <a:r>
              <a:rPr b="1" lang="en-GB" sz="3200" spc="-1" strike="noStrike">
                <a:solidFill>
                  <a:srgbClr val="ff0000"/>
                </a:solidFill>
                <a:latin typeface="Sakkal Majalla"/>
                <a:ea typeface="Sakkal Majalla"/>
              </a:rPr>
              <a:t>Hack Mail</a:t>
            </a:r>
            <a:r>
              <a:rPr b="1" lang="ar-SY" sz="3200" spc="-1" strike="noStrike">
                <a:solidFill>
                  <a:srgbClr val="ff0000"/>
                </a:solidFill>
                <a:latin typeface="Sakkal Majalla"/>
                <a:ea typeface="Sakkal Majalla"/>
              </a:rPr>
              <a:t> كبيانات كمبيوتر مخزنة</a:t>
            </a:r>
            <a:r>
              <a:rPr b="0" lang="ar-SY" sz="3200" spc="-1" strike="noStrike">
                <a:solidFill>
                  <a:srgbClr val="000000"/>
                </a:solidFill>
                <a:latin typeface="Sakkal Majalla"/>
                <a:ea typeface="Sakkal Majalla"/>
              </a:rPr>
              <a:t>)؛ أو</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أمر بإبراز البيانات</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547E9-1966-4E82-B84B-4C8C3EB7E2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385A3-4645-4174-B0C4-8BCFA8EA8E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85000"/>
          </a:bodyPr>
          <a:p>
            <a:pPr marL="388440" indent="-388440" algn="just" rtl="1">
              <a:lnSpc>
                <a:spcPct val="100000"/>
              </a:lnSpc>
              <a:spcBef>
                <a:spcPts val="9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في هذه الحال، يكون </a:t>
            </a:r>
            <a:r>
              <a:rPr b="1" lang="ar-SY" sz="3600" spc="-1" strike="noStrike">
                <a:solidFill>
                  <a:srgbClr val="ff0000"/>
                </a:solidFill>
                <a:latin typeface="Sakkal Majalla"/>
                <a:cs typeface="Sakkal Majalla"/>
              </a:rPr>
              <a:t>الأمر بإبراز البيانات مناسبا أكثر </a:t>
            </a:r>
            <a:r>
              <a:rPr b="0" lang="ar-SY" sz="3600" spc="-1" strike="noStrike">
                <a:solidFill>
                  <a:srgbClr val="000000"/>
                </a:solidFill>
                <a:latin typeface="Sakkal Majalla"/>
                <a:cs typeface="Sakkal Majalla"/>
              </a:rPr>
              <a:t>لأن:</a:t>
            </a:r>
            <a:endParaRPr b="0" lang="en-US" sz="36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8</a:t>
            </a:r>
            <a:r>
              <a:rPr b="1" lang="ar-SY" sz="3200" spc="-1" strike="noStrike">
                <a:solidFill>
                  <a:srgbClr val="ff0000"/>
                </a:solidFill>
                <a:latin typeface="Sakkal Majalla"/>
                <a:ea typeface="Sakkal Majalla"/>
              </a:rPr>
              <a:t> تمكنك </a:t>
            </a:r>
            <a:r>
              <a:rPr b="0" lang="ar-SY" sz="3200" spc="-1" strike="noStrike">
                <a:solidFill>
                  <a:srgbClr val="000000"/>
                </a:solidFill>
                <a:latin typeface="Sakkal Majalla"/>
                <a:cs typeface="Sakkal Majalla"/>
              </a:rPr>
              <a:t>من توجيه أمر </a:t>
            </a:r>
            <a:r>
              <a:rPr b="1" lang="ar-SY" sz="3200" spc="-1" strike="noStrike">
                <a:solidFill>
                  <a:srgbClr val="ff0000"/>
                </a:solidFill>
                <a:latin typeface="Sakkal Majalla"/>
                <a:cs typeface="Sakkal Majalla"/>
              </a:rPr>
              <a:t>بإبراز معلومات عن مشترك توجد في حوزة أو تحت سيطرة مزود خدمة لا يوجد في ميدل أورث طالما أنه يعرض خدماته في ميدل أورث</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وجد المعلومات عن المشترك المطلوبة في حوزة أو تحت سيطرة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عرض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 خدماتها في ميدل أورث </a:t>
            </a:r>
            <a:r>
              <a:rPr b="0" lang="ar-SY" sz="3200" spc="-1" strike="noStrike">
                <a:solidFill>
                  <a:srgbClr val="000000"/>
                </a:solidFill>
                <a:latin typeface="Sakkal Majalla"/>
                <a:cs typeface="Sakkal Majalla"/>
              </a:rPr>
              <a:t>لأن لديها </a:t>
            </a:r>
            <a:r>
              <a:rPr b="1" lang="ar-SY" sz="3200" spc="-1" strike="noStrike">
                <a:solidFill>
                  <a:srgbClr val="ff0000"/>
                </a:solidFill>
                <a:latin typeface="Sakkal Majalla"/>
                <a:cs typeface="Sakkal Majalla"/>
              </a:rPr>
              <a:t>مشتركين في ميدل أورث </a:t>
            </a:r>
            <a:r>
              <a:rPr b="0" lang="ar-SY" sz="3200" spc="-1" strike="noStrike">
                <a:solidFill>
                  <a:srgbClr val="000000"/>
                </a:solidFill>
                <a:latin typeface="Sakkal Majalla"/>
                <a:cs typeface="Sakkal Majalla"/>
              </a:rPr>
              <a:t>ولأنها </a:t>
            </a:r>
            <a:r>
              <a:rPr b="1" lang="ar-SY" sz="3200" spc="-1" strike="noStrike">
                <a:solidFill>
                  <a:srgbClr val="ff0000"/>
                </a:solidFill>
                <a:latin typeface="Sakkal Majalla"/>
                <a:cs typeface="Sakkal Majalla"/>
              </a:rPr>
              <a:t>عرضت دعاية في ميدل أورث </a:t>
            </a:r>
            <a:r>
              <a:rPr b="0" lang="ar-SY" sz="3200" spc="-1" strike="noStrike">
                <a:solidFill>
                  <a:srgbClr val="000000"/>
                </a:solidFill>
                <a:latin typeface="Sakkal Majalla"/>
                <a:cs typeface="Sakkal Majalla"/>
              </a:rPr>
              <a:t>باللغة</a:t>
            </a:r>
            <a:r>
              <a:rPr b="1" lang="ar-SY" sz="3200" spc="-1" strike="noStrike">
                <a:solidFill>
                  <a:srgbClr val="ff0000"/>
                </a:solidFill>
                <a:latin typeface="Sakkal Majalla"/>
                <a:ea typeface="Sakkal Majalla"/>
              </a:rPr>
              <a:t> المحلية.</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12844-073F-445F-8E3B-591DDC5285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2AD93-F542-41A6-8673-724EDE2CA8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سؤال</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ما هي الطريقة الأسرع للحصول على رسائل البريد الإلكتروني المرسلة من قبل الشخص </a:t>
            </a:r>
            <a:r>
              <a:rPr b="1" lang="ar-SY" sz="3200" spc="-1" strike="noStrike">
                <a:solidFill>
                  <a:srgbClr val="ff0000"/>
                </a:solidFill>
                <a:latin typeface="Sakkal Majalla"/>
                <a:cs typeface="Sakkal Majalla"/>
              </a:rPr>
              <a:t>الذي يستخدم عنوان البريد الإلكتروني </a:t>
            </a:r>
            <a:r>
              <a:rPr b="0" lang="en-US"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1" lang="ar-YE" sz="3200" spc="-1" strike="noStrike">
                <a:solidFill>
                  <a:srgbClr val="ff0000"/>
                </a:solidFill>
                <a:latin typeface="Sakkal Majalla"/>
                <a:cs typeface="Sakkal Majalla"/>
              </a:rPr>
              <a:t>إلى مقدمي الشك</a:t>
            </a:r>
            <a:r>
              <a:rPr b="1" lang="ar-SY" sz="3200" spc="-1" strike="noStrike">
                <a:solidFill>
                  <a:srgbClr val="ff0000"/>
                </a:solidFill>
                <a:latin typeface="Sakkal Majalla"/>
                <a:cs typeface="Sakkal Majalla"/>
              </a:rPr>
              <a:t>اوى</a:t>
            </a:r>
            <a:r>
              <a:rPr b="1" lang="ar-YE"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B107B-599B-4EE3-8281-C5CB40C593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a:t>
            </a:r>
            <a:r>
              <a:rPr b="1" lang="ar-YE" sz="3200" spc="-1" strike="noStrike">
                <a:solidFill>
                  <a:srgbClr val="ff0000"/>
                </a:solidFill>
                <a:latin typeface="Sakkal Majalla"/>
                <a:cs typeface="Sakkal Majalla"/>
              </a:rPr>
              <a:t>أشخاص في </a:t>
            </a:r>
            <a:r>
              <a:rPr b="1" lang="ar-SY" sz="3200" spc="-1" strike="noStrike">
                <a:solidFill>
                  <a:srgbClr val="ff0000"/>
                </a:solidFill>
                <a:latin typeface="Sakkal Majalla"/>
                <a:ea typeface="Sakkal Majalla"/>
              </a:rPr>
              <a:t>«موردور» </a:t>
            </a:r>
            <a:r>
              <a:rPr b="1" lang="ar-YE" sz="3200" spc="-1" strike="noStrike">
                <a:solidFill>
                  <a:srgbClr val="ff0000"/>
                </a:solidFill>
                <a:latin typeface="Sakkal Majalla"/>
                <a:cs typeface="Sakkal Majalla"/>
              </a:rPr>
              <a:t>اشتكوا</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على </a:t>
            </a:r>
            <a:r>
              <a:rPr b="1" lang="ar-YE" sz="3200" spc="-1" strike="noStrike">
                <a:solidFill>
                  <a:srgbClr val="ff0000"/>
                </a:solidFill>
                <a:latin typeface="Sakkal Majalla"/>
                <a:cs typeface="Sakkal Majalla"/>
              </a:rPr>
              <a:t>منتديات عامة</a:t>
            </a:r>
            <a:r>
              <a:rPr b="0" lang="ar-YE" sz="3200" spc="-1" strike="noStrike">
                <a:solidFill>
                  <a:srgbClr val="000000"/>
                </a:solidFill>
                <a:latin typeface="Sakkal Majalla"/>
                <a:ea typeface="Sakkal Majalla"/>
              </a:rPr>
              <a:t>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a:t>
            </a:r>
            <a:r>
              <a:rPr b="1" lang="ar-YE" sz="3200" spc="-1" strike="noStrike">
                <a:solidFill>
                  <a:srgbClr val="ff0000"/>
                </a:solidFill>
                <a:latin typeface="Sakkal Majalla"/>
                <a:cs typeface="Sakkal Majalla"/>
              </a:rPr>
              <a:t>الشكاوى كدليل </a:t>
            </a:r>
            <a:r>
              <a:rPr b="0" lang="ar-YE" sz="3200" spc="-1" strike="noStrike">
                <a:solidFill>
                  <a:srgbClr val="000000"/>
                </a:solidFill>
                <a:latin typeface="Sakkal Majalla"/>
                <a:cs typeface="Sakkal Majalla"/>
              </a:rPr>
              <a:t>في الإجراءات اللاحقة. وعلاوة على ذلك، تقوم بالاتصال بهؤلاء الأشخاص للحصول على معلومات وهم على استعداد </a:t>
            </a:r>
            <a:r>
              <a:rPr b="1" lang="ar-YE" sz="3200" spc="-1" strike="noStrike">
                <a:solidFill>
                  <a:srgbClr val="ff0000"/>
                </a:solidFill>
                <a:latin typeface="Sakkal Majalla"/>
                <a:cs typeface="Sakkal Majalla"/>
              </a:rPr>
              <a:t>للموافقة على </a:t>
            </a:r>
            <a:r>
              <a:rPr b="1" lang="ar-SY" sz="3200" spc="-1" strike="noStrike">
                <a:solidFill>
                  <a:srgbClr val="ff0000"/>
                </a:solidFill>
                <a:latin typeface="Sakkal Majalla"/>
                <a:cs typeface="Sakkal Majalla"/>
              </a:rPr>
              <a:t>منحكم إمكانية النفاذ </a:t>
            </a:r>
            <a:r>
              <a:rPr b="1" lang="ar-YE" sz="3200" spc="-1" strike="noStrike">
                <a:solidFill>
                  <a:srgbClr val="ff0000"/>
                </a:solidFill>
                <a:latin typeface="Sakkal Majalla"/>
                <a:cs typeface="Sakkal Majalla"/>
              </a:rPr>
              <a:t>إلى حسابات البريد الإلكتروني ورسائل البريد الإلكتروني الخاصة بهم</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2</a:t>
            </a:r>
            <a:r>
              <a:rPr b="1" lang="ar-EG" sz="3200" spc="-1" strike="noStrike">
                <a:solidFill>
                  <a:srgbClr val="000000"/>
                </a:solidFill>
                <a:latin typeface="Sakkal Majalla"/>
                <a:ea typeface="Sakkal Majalla"/>
              </a:rPr>
              <a:t> - النفاذ العابر للحدود إلى بيانات الكومبيوتر المخزنة عبر الموافقة أو حيثما تكون متاحة للعموم</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دولة طرف، دون ترخيص من دولة طرف أخرى:</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 </a:t>
            </a:r>
            <a:r>
              <a:rPr b="1" lang="ar-EG" sz="3200" spc="-1" strike="noStrike">
                <a:solidFill>
                  <a:srgbClr val="ff0000"/>
                </a:solidFill>
                <a:latin typeface="Sakkal Majalla"/>
                <a:cs typeface="Sakkal Majalla"/>
              </a:rPr>
              <a:t>النفاذ إلى بيانات كومبيوتر مُخزنة متاحة للعموم </a:t>
            </a:r>
            <a:r>
              <a:rPr b="0" lang="ar-EG" sz="3200" spc="-1" strike="noStrike">
                <a:solidFill>
                  <a:srgbClr val="000000"/>
                </a:solidFill>
                <a:latin typeface="Sakkal Majalla"/>
                <a:ea typeface="Sakkal Majalla"/>
              </a:rPr>
              <a:t>(مصدر مفتوح) </a:t>
            </a:r>
            <a:r>
              <a:rPr b="1" lang="ar-EG" sz="3200" spc="-1" strike="noStrike">
                <a:solidFill>
                  <a:srgbClr val="ff0000"/>
                </a:solidFill>
                <a:latin typeface="Sakkal Majalla"/>
                <a:cs typeface="Sakkal Majalla"/>
              </a:rPr>
              <a:t>بغض النظر عن مكان تواجد البيانات جغرافياً</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 </a:t>
            </a:r>
            <a:r>
              <a:rPr b="1" lang="ar-EG" sz="3200" spc="-1" strike="noStrike">
                <a:solidFill>
                  <a:srgbClr val="ff0000"/>
                </a:solidFill>
                <a:latin typeface="Sakkal Majalla"/>
                <a:cs typeface="Sakkal Majalla"/>
              </a:rPr>
              <a:t>النفاذ إلى بيانات كومبيوتر مُخزنة موجودة لدى دولة طرف أخرى أو تلقي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من خلال نظام كومبيوتر</a:t>
            </a:r>
            <a:r>
              <a:rPr b="0" lang="ar-EG" sz="3200" spc="-1" strike="noStrike">
                <a:solidFill>
                  <a:srgbClr val="000000"/>
                </a:solidFill>
                <a:latin typeface="Sakkal Majalla"/>
                <a:ea typeface="Sakkal Majalla"/>
              </a:rPr>
              <a:t> داخل أقاليمها، في حال حصول تلك الدولة الطرف على </a:t>
            </a:r>
            <a:r>
              <a:rPr b="1" lang="ar-EG" sz="3200" spc="-1" strike="noStrike">
                <a:solidFill>
                  <a:srgbClr val="ff0000"/>
                </a:solidFill>
                <a:latin typeface="Sakkal Majalla"/>
                <a:cs typeface="Sakkal Majalla"/>
              </a:rPr>
              <a:t>الموافقة القانونية والطوعية للشخص الذي يتوفر على السلطة القانونية للكشف عن البيانات</a:t>
            </a:r>
            <a:r>
              <a:rPr b="0" lang="ar-EG" sz="3200" spc="-1" strike="noStrike">
                <a:solidFill>
                  <a:srgbClr val="000000"/>
                </a:solidFill>
                <a:latin typeface="Sakkal Majalla"/>
                <a:ea typeface="Sakkal Majalla"/>
              </a:rPr>
              <a:t> لتلك الدولة الطرف عبر نظام الكومبيوتر المذكور.</a:t>
            </a:r>
            <a:endParaRPr b="0" lang="en-US" sz="32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697F3-7F99-41AD-81A6-BD8763701B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النفاذ مباشرة </a:t>
            </a:r>
            <a:r>
              <a:rPr b="0" lang="ar-SY" sz="3200" spc="-1" strike="noStrike">
                <a:solidFill>
                  <a:srgbClr val="000000"/>
                </a:solidFill>
                <a:latin typeface="Sakkal Majalla"/>
                <a:cs typeface="Sakkal Majalla"/>
              </a:rPr>
              <a:t>إلى الشكاوى </a:t>
            </a:r>
            <a:r>
              <a:rPr b="1" lang="ar-SY" sz="3200" spc="-1" strike="noStrike">
                <a:solidFill>
                  <a:srgbClr val="ff0000"/>
                </a:solidFill>
                <a:latin typeface="Sakkal Majalla"/>
                <a:cs typeface="Sakkal Majalla"/>
              </a:rPr>
              <a:t>المتاحة للعموم</a:t>
            </a:r>
            <a:r>
              <a:rPr b="0" lang="ar-SY" sz="3200" spc="-1" strike="noStrike">
                <a:solidFill>
                  <a:srgbClr val="000000"/>
                </a:solidFill>
                <a:latin typeface="Sakkal Majalla"/>
                <a:ea typeface="Sakkal Majalla"/>
              </a:rPr>
              <a:t> على المنتدى </a:t>
            </a:r>
            <a:r>
              <a:rPr b="1" lang="ar-SY" sz="3200" spc="-1" strike="noStrike">
                <a:solidFill>
                  <a:srgbClr val="000000"/>
                </a:solidFill>
                <a:latin typeface="Sakkal Majalla"/>
                <a:cs typeface="Sakkal Majalla"/>
              </a:rPr>
              <a:t>دون تقديم طلب بالمساعدة المتبادل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ما أن المشتكين الذين لديهم </a:t>
            </a:r>
            <a:r>
              <a:rPr b="1" lang="ar-SY" sz="3200" spc="-1" strike="noStrike">
                <a:solidFill>
                  <a:srgbClr val="ff0000"/>
                </a:solidFill>
                <a:latin typeface="Sakkal Majalla"/>
                <a:cs typeface="Sakkal Majalla"/>
              </a:rPr>
              <a:t>السلطة القانونية للكشف </a:t>
            </a:r>
            <a:r>
              <a:rPr b="0" lang="ar-SY" sz="3200" spc="-1" strike="noStrike">
                <a:solidFill>
                  <a:srgbClr val="000000"/>
                </a:solidFill>
                <a:latin typeface="Sakkal Majalla"/>
                <a:cs typeface="Sakkal Majalla"/>
              </a:rPr>
              <a:t>عن بريدهم الإلكتروني </a:t>
            </a:r>
            <a:r>
              <a:rPr b="1" lang="ar-SY" sz="3200" spc="-1" strike="noStrike">
                <a:solidFill>
                  <a:srgbClr val="ff0000"/>
                </a:solidFill>
                <a:latin typeface="Sakkal Majalla"/>
                <a:cs typeface="Sakkal Majalla"/>
              </a:rPr>
              <a:t>وافقوا على منحك إمكانية النفاذ </a:t>
            </a:r>
            <a:r>
              <a:rPr b="0" lang="ar-SY" sz="3200" spc="-1" strike="noStrike">
                <a:solidFill>
                  <a:srgbClr val="000000"/>
                </a:solidFill>
                <a:latin typeface="Sakkal Majalla"/>
                <a:cs typeface="Sakkal Majalla"/>
              </a:rPr>
              <a:t>إلى حسابات ورسائل بريدهم الإلكتروني، يمكنك، </a:t>
            </a:r>
            <a:r>
              <a:rPr b="1" lang="ar-SY" sz="3200" spc="-1" strike="noStrike">
                <a:solidFill>
                  <a:srgbClr val="ff0000"/>
                </a:solidFill>
                <a:latin typeface="Sakkal Majalla"/>
                <a:cs typeface="Sakkal Majalla"/>
              </a:rPr>
              <a:t>دون تقديم طلب بالمساعدة المتبادلة</a:t>
            </a:r>
            <a:r>
              <a:rPr b="0" lang="ar-SY" sz="3200" spc="-1" strike="noStrike">
                <a:solidFill>
                  <a:srgbClr val="000000"/>
                </a:solidFill>
                <a:latin typeface="Sakkal Majalla"/>
                <a:cs typeface="Sakkal Majalla"/>
              </a:rPr>
              <a:t>، النفاذ إلى تلك الحسابات والرسائل لإجراء التحقيق.</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C3EB3-3D68-4EBE-94DB-28F25AF93D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خامس</a:t>
            </a:r>
            <a:br>
              <a:rPr sz="4000"/>
            </a:br>
            <a:r>
              <a:rPr b="1" lang="ar-SY" sz="4000" spc="-1" strike="noStrike">
                <a:solidFill>
                  <a:srgbClr val="000000"/>
                </a:solidFill>
                <a:latin typeface="Sakkal Majalla"/>
                <a:cs typeface="Sakkal Majalla"/>
              </a:rPr>
              <a:t>المساعدة القانونية المتبادلة</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1F440-C25C-47CC-A51D-3DB7B34A4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520D0-80D8-4DB6-A57A-78EBEBF574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2800" spc="-1" strike="noStrike">
                <a:solidFill>
                  <a:srgbClr val="000000"/>
                </a:solidFill>
                <a:latin typeface="Sakkal Majalla"/>
                <a:ea typeface="Sakkal Majalla"/>
              </a:rPr>
              <a:t>Boris Smith</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وهو من «ميدل أورث» ومقيم بها.</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خبرك بورس أن الحساب </a:t>
            </a:r>
            <a:r>
              <a:rPr b="0" lang="fr-FR"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باستخدام حساب البريد الإلكتروني نفسه.</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981AB-9A59-4845-8AE5-2A3CCD2A2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ضمان أن شركة </a:t>
            </a:r>
            <a:r>
              <a:rPr b="1" lang="fr-FR" sz="3200" spc="-1" strike="noStrike">
                <a:solidFill>
                  <a:srgbClr val="ff0000"/>
                </a:solidFill>
                <a:latin typeface="Sakkal Majalla"/>
                <a:ea typeface="Sakkal Majalla"/>
              </a:rPr>
              <a:t>HackMail Inc</a:t>
            </a:r>
            <a:r>
              <a:rPr b="1" lang="fr-FR"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تحتفظ بالبيانات المتعلقة بحساب </a:t>
            </a:r>
            <a:r>
              <a:rPr b="0" lang="fr-FR" sz="3200" spc="-1" strike="noStrike">
                <a:solidFill>
                  <a:srgbClr val="000000"/>
                </a:solidFill>
                <a:latin typeface="Sakkal Majalla"/>
                <a:ea typeface="Sakkal Majalla"/>
              </a:rPr>
              <a:t>fraud@hackmail.com</a:t>
            </a:r>
            <a:r>
              <a:rPr b="0" lang="fr-FR" sz="3200" spc="-1" strike="noStrike">
                <a:solidFill>
                  <a:srgbClr val="000000"/>
                </a:solidFill>
                <a:latin typeface="Sakkal Majalla"/>
                <a:cs typeface="Sakkal Majalla"/>
              </a:rPr>
              <a:t>؟</a:t>
            </a:r>
            <a:endParaRPr b="0" lang="en-US" sz="3200" spc="-1" strike="noStrike">
              <a:solidFill>
                <a:srgbClr val="000000"/>
              </a:solidFill>
              <a:latin typeface="Arial"/>
            </a:endParaRPr>
          </a:p>
          <a:p>
            <a:pPr algn="ctr"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1" lang="fr-FR" sz="3200" spc="-1" strike="noStrike">
                <a:solidFill>
                  <a:srgbClr val="ff0000"/>
                </a:solidFill>
                <a:latin typeface="Sakkal Majalla"/>
                <a:ea typeface="Sakkal Majalla"/>
              </a:rPr>
              <a:t>DarkHacker</a:t>
            </a:r>
            <a:r>
              <a:rPr b="1" lang="ar-SY" sz="3200" spc="-1" strike="noStrike">
                <a:solidFill>
                  <a:srgbClr val="ff0000"/>
                </a:solidFill>
                <a:latin typeface="Sakkal Majalla"/>
                <a:ea typeface="Sakkal Majalla"/>
              </a:rPr>
              <a:t>)</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Sakkal Majalla"/>
                <a:ea typeface="Sakkal Majall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C4003-FB59-44C4-93BF-060DEFA331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خبرك بأن حساب </a:t>
            </a:r>
            <a:r>
              <a:rPr b="1" lang="en-GB" sz="3200" spc="-1" strike="noStrike">
                <a:solidFill>
                  <a:srgbClr val="000000"/>
                </a:solidFill>
                <a:latin typeface="Sakkal Majalla"/>
                <a:ea typeface="Sakkal Majalla"/>
              </a:rPr>
              <a:t>fraud@hackmail.com</a:t>
            </a:r>
            <a:r>
              <a:rPr b="1" lang="en-GB"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ستخدم للاتصال </a:t>
            </a:r>
            <a:r>
              <a:rPr b="1" lang="ar-SY" sz="3200" spc="-1" strike="noStrike">
                <a:solidFill>
                  <a:srgbClr val="ff0000"/>
                </a:solidFill>
                <a:latin typeface="Sakkal Majalla"/>
                <a:cs typeface="Sakkal Majalla"/>
              </a:rPr>
              <a:t>بعملاء آخرين ل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9</a:t>
            </a:r>
            <a:r>
              <a:rPr b="1" lang="ar-EG" sz="3600" spc="-1" strike="noStrike">
                <a:solidFill>
                  <a:srgbClr val="000000"/>
                </a:solidFill>
                <a:latin typeface="Sakkal Majalla"/>
                <a:ea typeface="Sakkal Majalla"/>
              </a:rPr>
              <a:t> –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يجوز لأي دولة طرف أن </a:t>
            </a:r>
            <a:r>
              <a:rPr b="1" lang="ar-EG" sz="3600" spc="-1" strike="noStrike">
                <a:solidFill>
                  <a:srgbClr val="ff0000"/>
                </a:solidFill>
                <a:latin typeface="Sakkal Majalla"/>
                <a:cs typeface="Sakkal Majalla"/>
              </a:rPr>
              <a:t>تطالب دولة طرفا أخرى </a:t>
            </a:r>
            <a:r>
              <a:rPr b="0" lang="ar-EG" sz="3600" spc="-1" strike="noStrike">
                <a:solidFill>
                  <a:srgbClr val="000000"/>
                </a:solidFill>
                <a:latin typeface="Sakkal Majalla"/>
                <a:cs typeface="Sakkal Majalla"/>
              </a:rPr>
              <a:t>أن تأمر أو تحصل بطريقة أخرى على ا</a:t>
            </a:r>
            <a:r>
              <a:rPr b="1" lang="ar-EG" sz="3600" spc="-1" strike="noStrike">
                <a:solidFill>
                  <a:srgbClr val="ff0000"/>
                </a:solidFill>
                <a:latin typeface="Sakkal Majalla"/>
                <a:cs typeface="Sakkal Majalla"/>
              </a:rPr>
              <a:t>لتعجيل في حفظ بيانات مُخزنة بواسطة نظام كومبيوتر</a:t>
            </a:r>
            <a:r>
              <a:rPr b="0" lang="ar-EG" sz="3600" spc="-1" strike="noStrike">
                <a:solidFill>
                  <a:srgbClr val="000000"/>
                </a:solidFill>
                <a:latin typeface="Sakkal Majalla"/>
                <a:cs typeface="Sakkal Majalla"/>
              </a:rPr>
              <a:t>، يوجد على أراضي الدولة الطرف الأخرى، </a:t>
            </a:r>
            <a:r>
              <a:rPr b="1" lang="ar-EG" sz="3600" spc="-1" strike="noStrike">
                <a:solidFill>
                  <a:srgbClr val="ff0000"/>
                </a:solidFill>
                <a:latin typeface="Sakkal Majalla"/>
                <a:cs typeface="Sakkal Majalla"/>
              </a:rPr>
              <a:t>والتي تنوي أن تقدم بشأنها طلبا بالمساعدة المتبادلة من أجل البحث عن بيانات، النفاذ إليها، مصادرتها، تأمينها أو كشفها</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7744B-9921-4DE8-AB6A-35D0CF14D4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BE5BF-1C74-456C-84C3-41B5861CC3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وظف لدى وكالة إنفاذ القانون في «ميدل أورث» (</a:t>
            </a:r>
            <a:r>
              <a:rPr b="0" lang="fr-FR" sz="2700" spc="-1" strike="noStrike">
                <a:solidFill>
                  <a:srgbClr val="000000"/>
                </a:solidFill>
                <a:latin typeface="Sakkal Majalla"/>
                <a:ea typeface="Sakkal Majalla"/>
              </a:rPr>
              <a:t>Middle Earth</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cs typeface="Sakkal Majalla"/>
              </a:rPr>
              <a:t>، </a:t>
            </a:r>
            <a:r>
              <a:rPr b="0" lang="ar-SY" sz="2700" spc="-1" strike="noStrike">
                <a:solidFill>
                  <a:srgbClr val="000000"/>
                </a:solidFill>
                <a:latin typeface="Sakkal Majalla"/>
                <a:cs typeface="Sakkal Majalla"/>
              </a:rPr>
              <a:t>وهي دولة صغيرة مجاورة لدولتين أخريين هما «روهان» (</a:t>
            </a:r>
            <a:r>
              <a:rPr b="0" lang="fr-FR" sz="2700" spc="-1" strike="noStrike">
                <a:solidFill>
                  <a:srgbClr val="000000"/>
                </a:solidFill>
                <a:latin typeface="Sakkal Majalla"/>
                <a:ea typeface="Sakkal Majalla"/>
              </a:rPr>
              <a:t>Rohan</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ea typeface="Sakkal Majalla"/>
              </a:rPr>
              <a:t> و «موردور» (</a:t>
            </a:r>
            <a:r>
              <a:rPr b="0" lang="fr-FR" sz="2700" spc="-1" strike="noStrike">
                <a:solidFill>
                  <a:srgbClr val="000000"/>
                </a:solidFill>
                <a:latin typeface="Sakkal Majalla"/>
                <a:ea typeface="Sakkal Majalla"/>
              </a:rPr>
              <a:t>Mordor</a:t>
            </a:r>
            <a:r>
              <a:rPr b="0" lang="ar-SY" sz="2700" spc="-1" strike="noStrike">
                <a:solidFill>
                  <a:srgbClr val="000000"/>
                </a:solidFill>
                <a:latin typeface="Sakkal Majalla"/>
                <a:ea typeface="Sakkal Majalla"/>
              </a:rPr>
              <a:t>).</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سؤول عن التحقيق في الجرائم الإلكترونية في «ميدل أورث».</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cs typeface="Sakkal Majalla"/>
              </a:rPr>
              <a:t>خلال تحقيق، تواجهك المشاكل التالية:</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موضوع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إجرائ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مرتبطة بأشكال أخرى للتعاون</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مساعدة القانونية المتبادلة</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ن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0</a:t>
            </a:r>
            <a:r>
              <a:rPr b="1" lang="ar-EG" sz="3600" spc="-1" strike="noStrike">
                <a:solidFill>
                  <a:srgbClr val="000000"/>
                </a:solidFill>
                <a:latin typeface="Sakkal Majalla"/>
                <a:ea typeface="Sakkal Majalla"/>
              </a:rPr>
              <a:t> – تعجيل الكشف عن بيانات الحركة المحفوظ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في حال اكتشفت الدولة الطرف المطلوب منها المساعدة، </a:t>
            </a:r>
            <a:r>
              <a:rPr b="1" lang="ar-EG" sz="3600" spc="-1" strike="noStrike">
                <a:solidFill>
                  <a:srgbClr val="ff0000"/>
                </a:solidFill>
                <a:latin typeface="Sakkal Majalla"/>
                <a:cs typeface="Sakkal Majalla"/>
              </a:rPr>
              <a:t>أثناء تنفيذ </a:t>
            </a:r>
            <a:r>
              <a:rPr b="0" lang="ar-EG" sz="3600" spc="-1" strike="noStrike">
                <a:solidFill>
                  <a:srgbClr val="000000"/>
                </a:solidFill>
                <a:latin typeface="Sakkal Majalla"/>
                <a:cs typeface="Sakkal Majalla"/>
              </a:rPr>
              <a:t>طلب مقدم وفقاً </a:t>
            </a:r>
            <a:r>
              <a:rPr b="1" lang="ar-EG" sz="3600" spc="-1" strike="noStrike">
                <a:solidFill>
                  <a:srgbClr val="ff0000"/>
                </a:solidFill>
                <a:latin typeface="Sakkal Majalla"/>
                <a:cs typeface="Sakkal Majalla"/>
              </a:rPr>
              <a:t>للمادة </a:t>
            </a:r>
            <a:r>
              <a:rPr b="1" lang="ar-EG" sz="3600" spc="-1" strike="noStrike">
                <a:solidFill>
                  <a:srgbClr val="ff0000"/>
                </a:solidFill>
                <a:latin typeface="Sakkal Majalla"/>
                <a:ea typeface="Sakkal Majalla"/>
              </a:rPr>
              <a:t>29</a:t>
            </a:r>
            <a:r>
              <a:rPr b="1" lang="ar-EG" sz="3600" spc="-1" strike="noStrike">
                <a:solidFill>
                  <a:srgbClr val="ff0000"/>
                </a:solidFill>
                <a:latin typeface="Sakkal Majalla"/>
                <a:ea typeface="Sakkal Majalla"/>
              </a:rPr>
              <a:t> </a:t>
            </a:r>
            <a:r>
              <a:rPr b="0" lang="ar-EG" sz="3600" spc="-1" strike="noStrike">
                <a:solidFill>
                  <a:srgbClr val="000000"/>
                </a:solidFill>
                <a:latin typeface="Sakkal Majalla"/>
                <a:cs typeface="Sakkal Majalla"/>
              </a:rPr>
              <a:t>بحفظ بيانات الحركة المتعلقة باتصال محدد، </a:t>
            </a:r>
            <a:r>
              <a:rPr b="1" lang="ar-EG" sz="3600" spc="-1" strike="noStrike">
                <a:solidFill>
                  <a:srgbClr val="ff0000"/>
                </a:solidFill>
                <a:latin typeface="Sakkal Majalla"/>
                <a:cs typeface="Sakkal Majalla"/>
              </a:rPr>
              <a:t>أن أحد مزودي الخدمة في دولة أخرى مشترك في نقل الاتصال</a:t>
            </a:r>
            <a:r>
              <a:rPr b="0" lang="ar-EG" sz="3600" spc="-1" strike="noStrike">
                <a:solidFill>
                  <a:srgbClr val="000000"/>
                </a:solidFill>
                <a:latin typeface="Sakkal Majalla"/>
                <a:cs typeface="Sakkal Majalla"/>
              </a:rPr>
              <a:t>، تقوم الدولة الطرف المطلوب منها المساعدة </a:t>
            </a:r>
            <a:r>
              <a:rPr b="1" lang="ar-EG" sz="3600" spc="-1" strike="noStrike">
                <a:solidFill>
                  <a:srgbClr val="ff0000"/>
                </a:solidFill>
                <a:latin typeface="Sakkal Majalla"/>
                <a:cs typeface="Sakkal Majalla"/>
              </a:rPr>
              <a:t>على الفور بالكشف عن القدر الكافي من بيانات الحركة لتحديد هوية مزود الخدمة والمسار الذي تم من خلاله ذلك الاتصال</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4DECA-70E7-40B0-9B18-88D1F407DC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1000"/>
          </a:bodyPr>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يمكن أن تطلب دولة «ميدل أورث» </a:t>
            </a:r>
            <a:r>
              <a:rPr b="1" lang="ar-SY" sz="2800" spc="-1" strike="noStrike">
                <a:solidFill>
                  <a:srgbClr val="ff0000"/>
                </a:solidFill>
                <a:latin typeface="Sakkal Majalla"/>
                <a:cs typeface="Sakkal Majalla"/>
              </a:rPr>
              <a:t>طلبا بالمساعدة المتبادلة </a:t>
            </a:r>
            <a:r>
              <a:rPr b="0" lang="ar-SY" sz="2800" spc="-1" strike="noStrike">
                <a:solidFill>
                  <a:srgbClr val="000000"/>
                </a:solidFill>
                <a:latin typeface="Sakkal Majalla"/>
                <a:cs typeface="Sakkal Majalla"/>
              </a:rPr>
              <a:t>فيما يتعلق </a:t>
            </a:r>
            <a:r>
              <a:rPr b="1" lang="ar-SY" sz="2800" spc="-1" strike="noStrike">
                <a:solidFill>
                  <a:srgbClr val="ff0000"/>
                </a:solidFill>
                <a:latin typeface="Sakkal Majalla"/>
                <a:cs typeface="Sakkal Majalla"/>
              </a:rPr>
              <a:t>بالتعجيل بحفظ بيانات محددة </a:t>
            </a:r>
            <a:r>
              <a:rPr b="0" lang="ar-SY" sz="2800" spc="-1" strike="noStrike">
                <a:solidFill>
                  <a:srgbClr val="000000"/>
                </a:solidFill>
                <a:latin typeface="Sakkal Majalla"/>
                <a:cs typeface="Sakkal Majalla"/>
              </a:rPr>
              <a:t>وفقًا للمادة </a:t>
            </a:r>
            <a:r>
              <a:rPr b="0" lang="ar-SY" sz="2800" spc="-1" strike="noStrike">
                <a:solidFill>
                  <a:srgbClr val="000000"/>
                </a:solidFill>
                <a:latin typeface="Sakkal Majalla"/>
                <a:ea typeface="Sakkal Majalla"/>
              </a:rPr>
              <a:t>29</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مكن لدولة «ميدل أورث» أن </a:t>
            </a:r>
            <a:r>
              <a:rPr b="1" lang="ar-SY" sz="2800" spc="-1" strike="noStrike">
                <a:solidFill>
                  <a:srgbClr val="ff0000"/>
                </a:solidFill>
                <a:latin typeface="Sakkal Majalla"/>
                <a:cs typeface="Sakkal Majalla"/>
              </a:rPr>
              <a:t>تطالب</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cs typeface="Sakkal Majalla"/>
              </a:rPr>
              <a:t>بالكشف عن بيانات الحركة المحفوظة من شركة </a:t>
            </a:r>
            <a:r>
              <a:rPr b="1" lang="fr-FR" sz="2800" spc="-1" strike="noStrike">
                <a:solidFill>
                  <a:srgbClr val="ff0000"/>
                </a:solidFill>
                <a:latin typeface="Sakkal Majalla"/>
                <a:ea typeface="Sakkal Majalla"/>
              </a:rPr>
              <a:t>Hack Mail Inc</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لتحديد هوية مزودي خدمات آخرين</a:t>
            </a:r>
            <a:endParaRPr b="0" lang="en-US" sz="2800" spc="-1" strike="noStrike">
              <a:solidFill>
                <a:srgbClr val="000000"/>
              </a:solidFill>
              <a:latin typeface="Arial"/>
            </a:endParaRPr>
          </a:p>
          <a:p>
            <a:pPr marL="415800" indent="-415800" algn="just" rtl="1">
              <a:lnSpc>
                <a:spcPct val="10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a:t>
            </a:r>
            <a:r>
              <a:rPr b="1" lang="ar-SY" sz="2800" spc="-1" strike="noStrike">
                <a:solidFill>
                  <a:srgbClr val="ff0000"/>
                </a:solidFill>
                <a:latin typeface="Sakkal Majalla"/>
                <a:cs typeface="Sakkal Majalla"/>
              </a:rPr>
              <a:t>لا تحتاج </a:t>
            </a:r>
            <a:r>
              <a:rPr b="0" lang="ar-SY" sz="2800" spc="-1" strike="noStrike">
                <a:solidFill>
                  <a:srgbClr val="000000"/>
                </a:solidFill>
                <a:latin typeface="Sakkal Majalla"/>
                <a:cs typeface="Sakkal Majalla"/>
              </a:rPr>
              <a:t>دولة «ميدل أورث»</a:t>
            </a:r>
            <a:r>
              <a:rPr b="0" lang="fr-FR"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إلى تقديم أي طلب إضافي للكشف عن بيانات الحركة</a:t>
            </a:r>
            <a:r>
              <a:rPr b="0" lang="ar-SY" sz="2800" spc="-1" strike="noStrike">
                <a:solidFill>
                  <a:srgbClr val="000000"/>
                </a:solidFill>
                <a:latin typeface="Sakkal Majalla"/>
                <a:ea typeface="Sakkal Majalla"/>
              </a:rPr>
              <a:t> - سوف تكون دولة «روهان» ملزمة </a:t>
            </a:r>
            <a:r>
              <a:rPr b="1" lang="ar-SY" sz="2800" spc="-1" strike="noStrike">
                <a:solidFill>
                  <a:srgbClr val="ff0000"/>
                </a:solidFill>
                <a:latin typeface="Sakkal Majalla"/>
                <a:cs typeface="Sakkal Majalla"/>
              </a:rPr>
              <a:t>بالكشف التلقائي عن القدر الكافي من بيانات الحركة لتمكين تحديد مزودي الخدمة الآخرين إذا اكتشفت مشاركتهم عند حفظ البيانات</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4996B-549A-4FD3-B290-80F5715083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6A7DD-0F03-4D3A-BB28-1AEAE6AC9B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41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لحصول على بيانات الكمبيوتر من نظام كمبيوتر دارك هاكر</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B1F27-16FA-4B44-9578-4A18CD630B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تقوم باعتقال بوريس سميث في «ميدل أورث» ويكشف عن موقع </a:t>
            </a:r>
            <a:r>
              <a:rPr b="1" lang="ar-SY" sz="4000" spc="-1" strike="noStrike">
                <a:solidFill>
                  <a:srgbClr val="ff0000"/>
                </a:solidFill>
                <a:latin typeface="Sakkal Majalla"/>
                <a:cs typeface="Sakkal Majalla"/>
              </a:rPr>
              <a:t>نظام الكمبيوتر</a:t>
            </a:r>
            <a:r>
              <a:rPr b="0" lang="ar-SY" sz="4000" spc="-1" strike="noStrike">
                <a:solidFill>
                  <a:srgbClr val="000000"/>
                </a:solidFill>
                <a:latin typeface="Sakkal Majalla"/>
                <a:ea typeface="Sakkal Majalla"/>
              </a:rPr>
              <a:t> المستخدم من قبل منتدى «دارك هاكر» في روهان. بما أن </a:t>
            </a:r>
            <a:r>
              <a:rPr b="1" lang="ar-SY" sz="4000" spc="-1" strike="noStrike">
                <a:solidFill>
                  <a:srgbClr val="ff0000"/>
                </a:solidFill>
                <a:latin typeface="Sakkal Majalla"/>
                <a:cs typeface="Sakkal Majalla"/>
              </a:rPr>
              <a:t>اعتقال بوريس لم يتم علنا، لا يوجد سبب للاعتقاد بأن البيانات عرضة للضياع أو التعديل</a:t>
            </a:r>
            <a:r>
              <a:rPr b="0" lang="ar-SY" sz="4000" spc="-1" strike="noStrike">
                <a:solidFill>
                  <a:srgbClr val="000000"/>
                </a:solidFill>
                <a:latin typeface="Sakkal Majalla"/>
                <a:ea typeface="Sakkal Majalla"/>
              </a:rPr>
              <a:t>.</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1</a:t>
            </a:r>
            <a:r>
              <a:rPr b="1" lang="ar-EG" sz="3200" spc="-1" strike="noStrike">
                <a:solidFill>
                  <a:srgbClr val="000000"/>
                </a:solidFill>
                <a:latin typeface="Sakkal Majalla"/>
                <a:ea typeface="Sakkal Majalla"/>
              </a:rPr>
              <a:t> – المساعدة المتبادلة ذات الصلة بالنفاذ إلى بيانات الكومبيوتر المخزنة</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أي دولة طرف أن </a:t>
            </a:r>
            <a:r>
              <a:rPr b="1" lang="ar-EG" sz="3200" spc="-1" strike="noStrike">
                <a:solidFill>
                  <a:srgbClr val="ff0000"/>
                </a:solidFill>
                <a:latin typeface="Sakkal Majalla"/>
                <a:cs typeface="Sakkal Majalla"/>
              </a:rPr>
              <a:t>تطلب من دولة طرف أخرى </a:t>
            </a:r>
            <a:r>
              <a:rPr b="0" lang="ar-EG" sz="3200" spc="-1" strike="noStrike">
                <a:solidFill>
                  <a:srgbClr val="000000"/>
                </a:solidFill>
                <a:latin typeface="Sakkal Majalla"/>
                <a:cs typeface="Sakkal Majalla"/>
              </a:rPr>
              <a:t>البحث في بيانات، النفاذ إليها، </a:t>
            </a:r>
            <a:r>
              <a:rPr b="1" lang="ar-EG" sz="3200" spc="-1" strike="noStrike">
                <a:solidFill>
                  <a:srgbClr val="ff0000"/>
                </a:solidFill>
                <a:latin typeface="Sakkal Majalla"/>
                <a:cs typeface="Sakkal Majalla"/>
              </a:rPr>
              <a:t>مصادرت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تأمينها</a:t>
            </a:r>
            <a:r>
              <a:rPr b="0" lang="ar-EG" sz="3200" spc="-1" strike="noStrike">
                <a:solidFill>
                  <a:srgbClr val="000000"/>
                </a:solidFill>
                <a:latin typeface="Sakkal Majalla"/>
                <a:ea typeface="Sakkal Majalla"/>
              </a:rPr>
              <a:t> أو </a:t>
            </a:r>
            <a:r>
              <a:rPr b="1" lang="ar-EG" sz="3200" spc="-1" strike="noStrike">
                <a:solidFill>
                  <a:srgbClr val="ff0000"/>
                </a:solidFill>
                <a:latin typeface="Sakkal Majalla"/>
                <a:cs typeface="Sakkal Majalla"/>
              </a:rPr>
              <a:t>الكشف عنها </a:t>
            </a:r>
            <a:r>
              <a:rPr b="0" lang="ar-EG" sz="3200" spc="-1" strike="noStrike">
                <a:solidFill>
                  <a:srgbClr val="000000"/>
                </a:solidFill>
                <a:latin typeface="Sakkal Majalla"/>
                <a:cs typeface="Sakkal Majalla"/>
              </a:rPr>
              <a:t>عندما تكون تلك البيانات مخزنة بواسطة نظام كومبيوتر يوجد داخل أراضي الدولة الطرف المطلوب منها المساعدة، بما في ذلك البيانات التي تم حفظها وفقاً للمادة </a:t>
            </a:r>
            <a:r>
              <a:rPr b="0" lang="ar-EG" sz="3200" spc="-1" strike="noStrike">
                <a:solidFill>
                  <a:srgbClr val="000000"/>
                </a:solidFill>
                <a:latin typeface="Sakkal Majalla"/>
                <a:ea typeface="Sakkal Majalla"/>
              </a:rPr>
              <a:t>29</a:t>
            </a:r>
            <a:r>
              <a:rPr b="0" lang="ar-EG"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3</a:t>
            </a:r>
            <a:r>
              <a:rPr b="1" lang="ar-SY" sz="3200" spc="-1" strike="noStrike">
                <a:solidFill>
                  <a:srgbClr val="000000"/>
                </a:solidFill>
                <a:latin typeface="Sakkal Majalla"/>
                <a:ea typeface="Sakkal Majalla"/>
              </a:rPr>
              <a:t>. </a:t>
            </a:r>
            <a:r>
              <a:rPr b="0" lang="ar-EG" sz="3200" spc="-1" strike="noStrike">
                <a:solidFill>
                  <a:srgbClr val="000000"/>
                </a:solidFill>
                <a:latin typeface="Sakkal Majalla"/>
                <a:cs typeface="Sakkal Majalla"/>
              </a:rPr>
              <a:t>تتم الاستجابة للطلب </a:t>
            </a:r>
            <a:r>
              <a:rPr b="1" lang="ar-EG" sz="3200" spc="-1" strike="noStrike">
                <a:solidFill>
                  <a:srgbClr val="ff0000"/>
                </a:solidFill>
                <a:latin typeface="Sakkal Majalla"/>
                <a:cs typeface="Sakkal Majalla"/>
              </a:rPr>
              <a:t>بشكل معجل </a:t>
            </a:r>
            <a:r>
              <a:rPr b="0" lang="ar-EG" sz="3200" spc="-1" strike="noStrike">
                <a:solidFill>
                  <a:srgbClr val="000000"/>
                </a:solidFill>
                <a:latin typeface="Sakkal Majalla"/>
                <a:cs typeface="Sakkal Majalla"/>
              </a:rPr>
              <a:t>عندما:</a:t>
            </a:r>
            <a:endParaRPr b="0" lang="en-US" sz="3200" spc="-1" strike="noStrike">
              <a:solidFill>
                <a:srgbClr val="000000"/>
              </a:solidFill>
              <a:latin typeface="Arial"/>
            </a:endParaRPr>
          </a:p>
          <a:p>
            <a:pPr lvl="1" marL="3974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 </a:t>
            </a:r>
            <a:r>
              <a:rPr b="0" lang="ar-EG" sz="3200" spc="-1" strike="noStrike">
                <a:solidFill>
                  <a:srgbClr val="000000"/>
                </a:solidFill>
                <a:latin typeface="Sakkal Majalla"/>
                <a:cs typeface="Sakkal Majalla"/>
              </a:rPr>
              <a:t>توجد </a:t>
            </a:r>
            <a:r>
              <a:rPr b="1" lang="ar-EG" sz="3200" spc="-1" strike="noStrike">
                <a:solidFill>
                  <a:srgbClr val="ff0000"/>
                </a:solidFill>
                <a:latin typeface="Sakkal Majalla"/>
                <a:cs typeface="Sakkal Majalla"/>
              </a:rPr>
              <a:t>أسباب للاعتقاد بأن البيانات ذات الصلة مُعَرضة بصفة خاصة للضياع أو التعديل</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9B45A-DD82-4B48-B9D6-5522A11B7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يجوز لدولة «ميدل أورث» تقديم </a:t>
            </a:r>
            <a:r>
              <a:rPr b="1" lang="ar-SY" sz="3200" spc="-1" strike="noStrike">
                <a:solidFill>
                  <a:srgbClr val="ff0000"/>
                </a:solidFill>
                <a:latin typeface="Sakkal Majalla"/>
                <a:cs typeface="Sakkal Majalla"/>
              </a:rPr>
              <a:t>طلب بالمساعدة المتبادلة إلى دولة «روهان» من أجل مصادرة وتأمين كمبيوتر 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شمل ذلك أيضا ط</a:t>
            </a:r>
            <a:r>
              <a:rPr b="1" lang="ar-SY" sz="3200" spc="-1" strike="noStrike">
                <a:solidFill>
                  <a:srgbClr val="ff0000"/>
                </a:solidFill>
                <a:latin typeface="Sakkal Majalla"/>
                <a:cs typeface="Sakkal Majalla"/>
              </a:rPr>
              <a:t>لبا بالكشف عن بيانات الكمبيوتر التي تم الحصول عليها</a:t>
            </a:r>
            <a:r>
              <a:rPr b="0" lang="ar-SY" sz="3200" spc="-1" strike="noStrike">
                <a:solidFill>
                  <a:srgbClr val="000000"/>
                </a:solidFill>
                <a:latin typeface="Sakkal Majalla"/>
                <a:ea typeface="Sakkal Majalla"/>
              </a:rPr>
              <a:t> نتيجة لتدبير مصادرة وتأمين كمبيوتر دارك هاكر</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إذا كانت </a:t>
            </a:r>
            <a:r>
              <a:rPr b="1" lang="ar-SY" sz="3200" spc="-1" strike="noStrike">
                <a:solidFill>
                  <a:srgbClr val="ff0000"/>
                </a:solidFill>
                <a:latin typeface="Sakkal Majalla"/>
                <a:cs typeface="Sakkal Majalla"/>
              </a:rPr>
              <a:t>البيانات غير معرضة للضياع أو التعديل</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قد لا تكون دولة «ميدل أورث» قادرة على تقديم طلب بتعجيل التدبير</a:t>
            </a: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B513B-4F1C-4265-B177-4937A19095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11981-66F8-4499-BDDB-7BD97ACBD4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ff0000"/>
                </a:solidFill>
                <a:latin typeface="Sakkal Majalla"/>
                <a:cs typeface="Sakkal Majalla"/>
              </a:rPr>
              <a:t>ما هي التدابير التي يمكنك اتخاذها للتأكد من موقع زبون دارك هاكر الذي يخطط لشراء رموز رقم التعريف الشخصي البنكي؟</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9EA9D-5623-4D55-8E71-F27FC330CA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خبرك أيضا </a:t>
            </a:r>
            <a:r>
              <a:rPr b="1" lang="ar-SY" sz="3600" spc="-1" strike="noStrike">
                <a:solidFill>
                  <a:srgbClr val="ff0000"/>
                </a:solidFill>
                <a:latin typeface="Sakkal Majalla"/>
                <a:cs typeface="Sakkal Majalla"/>
              </a:rPr>
              <a:t>بمعاملة واسعة النطاق لبيع رموز رقم التعريف الشخصي البنكي يخطط لتنفيذها </a:t>
            </a:r>
            <a:r>
              <a:rPr b="0" lang="ar-SY" sz="3600" spc="-1" strike="noStrike">
                <a:solidFill>
                  <a:srgbClr val="000000"/>
                </a:solidFill>
                <a:latin typeface="Sakkal Majalla"/>
                <a:cs typeface="Sakkal Majalla"/>
              </a:rPr>
              <a:t>في اليوم التالي </a:t>
            </a:r>
            <a:r>
              <a:rPr b="1" lang="ar-SY" sz="3600" spc="-1" strike="noStrike">
                <a:solidFill>
                  <a:srgbClr val="ff0000"/>
                </a:solidFill>
                <a:latin typeface="Sakkal Majalla"/>
                <a:cs typeface="Sakkal Majalla"/>
              </a:rPr>
              <a:t>على الساعة </a:t>
            </a:r>
            <a:r>
              <a:rPr b="1" lang="ar-SY" sz="3600" spc="-1" strike="noStrike">
                <a:solidFill>
                  <a:srgbClr val="ff0000"/>
                </a:solidFill>
                <a:latin typeface="Sakkal Majalla"/>
                <a:ea typeface="Sakkal Majalla"/>
              </a:rPr>
              <a:t>17:00</a:t>
            </a:r>
            <a:r>
              <a:rPr b="1" lang="ar-SY" sz="3600" spc="-1" strike="noStrike">
                <a:solidFill>
                  <a:srgbClr val="ff0000"/>
                </a:solidFill>
                <a:latin typeface="Sakkal Majalla"/>
                <a:ea typeface="Sakkal Majalla"/>
              </a:rPr>
              <a:t> باستخدام حساب البريد الإلكتروني نفسه</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3</a:t>
            </a:r>
            <a:r>
              <a:rPr b="1" lang="ar-EG" sz="3600" spc="-1" strike="noStrike">
                <a:solidFill>
                  <a:srgbClr val="000000"/>
                </a:solidFill>
                <a:latin typeface="Sakkal Majalla"/>
                <a:ea typeface="Sakkal Majalla"/>
              </a:rPr>
              <a:t> – المساعدة المتبادلة ذات الصلة بجمع بيانات الحركة في الوقت الحقيقي</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تقدم الدول الأطراف </a:t>
            </a:r>
            <a:r>
              <a:rPr b="1" lang="ar-EG" sz="3600" spc="-1" strike="noStrike">
                <a:solidFill>
                  <a:srgbClr val="ff0000"/>
                </a:solidFill>
                <a:latin typeface="Sakkal Majalla"/>
                <a:cs typeface="Sakkal Majalla"/>
              </a:rPr>
              <a:t>المساعدة المتبادلة </a:t>
            </a:r>
            <a:r>
              <a:rPr b="0" lang="ar-EG" sz="3600" spc="-1" strike="noStrike">
                <a:solidFill>
                  <a:srgbClr val="000000"/>
                </a:solidFill>
                <a:latin typeface="Sakkal Majalla"/>
                <a:cs typeface="Sakkal Majalla"/>
              </a:rPr>
              <a:t>لبعضها البعض </a:t>
            </a:r>
            <a:r>
              <a:rPr b="1" lang="ar-EG" sz="3600" spc="-1" strike="noStrike">
                <a:solidFill>
                  <a:srgbClr val="ff0000"/>
                </a:solidFill>
                <a:latin typeface="Sakkal Majalla"/>
                <a:cs typeface="Sakkal Majalla"/>
              </a:rPr>
              <a:t>لجمع بيانات الحركة في الوقت الحقيقي </a:t>
            </a:r>
            <a:r>
              <a:rPr b="0" lang="ar-EG" sz="3600" spc="-1" strike="noStrike">
                <a:solidFill>
                  <a:srgbClr val="000000"/>
                </a:solidFill>
                <a:latin typeface="Sakkal Majalla"/>
                <a:cs typeface="Sakkal Majalla"/>
              </a:rPr>
              <a:t>المرتبطة </a:t>
            </a:r>
            <a:r>
              <a:rPr b="1" lang="ar-EG" sz="3600" spc="-1" strike="noStrike">
                <a:solidFill>
                  <a:srgbClr val="ff0000"/>
                </a:solidFill>
                <a:latin typeface="Sakkal Majalla"/>
                <a:cs typeface="Sakkal Majalla"/>
              </a:rPr>
              <a:t>باتصالات محدد</a:t>
            </a:r>
            <a:r>
              <a:rPr b="0" lang="ar-EG" sz="3600" spc="-1" strike="noStrike">
                <a:solidFill>
                  <a:srgbClr val="000000"/>
                </a:solidFill>
                <a:latin typeface="Sakkal Majalla"/>
                <a:cs typeface="Sakkal Majalla"/>
              </a:rPr>
              <a:t>ة في أقاليمها والتي يتم نقلها بواسطة نظام كومبيوتر. </a:t>
            </a:r>
            <a:endParaRPr b="0" lang="en-US" sz="36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B60AC-2670-4268-A3E9-6F9958EFCC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جوز لدولة «ميدل أورث» أن </a:t>
            </a:r>
            <a:r>
              <a:rPr b="1" lang="ar-SY" sz="2800" spc="-1" strike="noStrike">
                <a:solidFill>
                  <a:srgbClr val="ff0000"/>
                </a:solidFill>
                <a:latin typeface="Sakkal Majalla"/>
                <a:cs typeface="Sakkal Majalla"/>
              </a:rPr>
              <a:t>تطلب المساعدة المتبادلة فيما يتعلق بجمع بيانات الحركة في الوقت الحقيقي</a:t>
            </a:r>
            <a:r>
              <a:rPr b="0" lang="ar-SY" sz="2800" spc="-1" strike="noStrike">
                <a:solidFill>
                  <a:srgbClr val="000000"/>
                </a:solidFill>
                <a:latin typeface="Sakkal Majalla"/>
                <a:ea typeface="Sakkal Majalla"/>
              </a:rPr>
              <a:t> بخصوص اتصال محدد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من اليوم الموالي</a:t>
            </a: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كون دولة «موردور»، وفقا للقوانين المحلية، </a:t>
            </a:r>
            <a:r>
              <a:rPr b="1" lang="ar-SY" sz="2800" spc="-1" strike="noStrike">
                <a:solidFill>
                  <a:srgbClr val="ff0000"/>
                </a:solidFill>
                <a:latin typeface="Sakkal Majalla"/>
                <a:cs typeface="Sakkal Majalla"/>
              </a:rPr>
              <a:t>ملزمة بتقديم هذه المساعدة على الأقل عندما تكون سلطة</a:t>
            </a:r>
            <a:r>
              <a:rPr b="0" lang="ar-SY" sz="2800" spc="-1" strike="noStrike">
                <a:solidFill>
                  <a:srgbClr val="000000"/>
                </a:solidFill>
                <a:latin typeface="Sakkal Majalla"/>
                <a:ea typeface="Sakkal Majalla"/>
              </a:rPr>
              <a:t> من هذا القبيل </a:t>
            </a:r>
            <a:r>
              <a:rPr b="1" lang="ar-SY" sz="2800" spc="-1" strike="noStrike">
                <a:solidFill>
                  <a:srgbClr val="ff0000"/>
                </a:solidFill>
                <a:latin typeface="Sakkal Majalla"/>
                <a:cs typeface="Sakkal Majalla"/>
              </a:rPr>
              <a:t>متاحة في قضية محلية مشابهة</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310E2-6C75-4A3B-80C2-4B761CAC54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72A5B-D17A-4538-A386-B69C5F0F33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تلقى تقرير</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معلومات</a:t>
            </a:r>
            <a:r>
              <a:rPr b="0" lang="ar-SY" sz="3200" spc="-1" strike="noStrike">
                <a:solidFill>
                  <a:srgbClr val="000000"/>
                </a:solidFill>
                <a:latin typeface="Sakkal Majalla"/>
                <a:cs typeface="Sakkal Majalla"/>
              </a:rPr>
              <a:t>يا يشير إلى اختراق </a:t>
            </a:r>
            <a:r>
              <a:rPr b="0" lang="ar-YE" sz="3200" spc="-1" strike="noStrike">
                <a:solidFill>
                  <a:srgbClr val="000000"/>
                </a:solidFill>
                <a:latin typeface="Sakkal Majalla"/>
                <a:cs typeface="Sakkal Majalla"/>
              </a:rPr>
              <a:t>محركات أقراص بيانات </a:t>
            </a:r>
            <a:r>
              <a:rPr b="0" lang="ar-SY" sz="3200" spc="-1" strike="noStrike">
                <a:solidFill>
                  <a:srgbClr val="000000"/>
                </a:solidFill>
                <a:latin typeface="Sakkal Majalla"/>
                <a:cs typeface="Sakkal Majalla"/>
              </a:rPr>
              <a:t>في </a:t>
            </a:r>
            <a:r>
              <a:rPr b="0" lang="ar-YE" sz="3200" spc="-1" strike="noStrike">
                <a:solidFill>
                  <a:srgbClr val="000000"/>
                </a:solidFill>
                <a:latin typeface="Sakkal Majalla"/>
                <a:cs typeface="Sakkal Majalla"/>
              </a:rPr>
              <a:t>أنظمة الكمبيوتر </a:t>
            </a:r>
            <a:r>
              <a:rPr b="0" lang="ar-SY" sz="3200" spc="-1" strike="noStrike">
                <a:solidFill>
                  <a:srgbClr val="000000"/>
                </a:solidFill>
                <a:latin typeface="Sakkal Majalla"/>
                <a:cs typeface="Sakkal Majalla"/>
              </a:rPr>
              <a:t>التابعة ل</a:t>
            </a:r>
            <a:r>
              <a:rPr b="0" lang="ar-YE" sz="3200" spc="-1" strike="noStrike">
                <a:solidFill>
                  <a:srgbClr val="000000"/>
                </a:solidFill>
                <a:latin typeface="Sakkal Majalla"/>
                <a:cs typeface="Sakkal Majalla"/>
              </a:rPr>
              <a:t>مؤسسة مالية شهيرة من قبل مجرمي</a:t>
            </a:r>
            <a:r>
              <a:rPr b="0" lang="ar-SY" sz="3200" spc="-1" strike="noStrike">
                <a:solidFill>
                  <a:srgbClr val="000000"/>
                </a:solidFill>
                <a:latin typeface="Sakkal Majalla"/>
                <a:cs typeface="Sakkal Majalla"/>
              </a:rPr>
              <a:t>ن إلكترونيي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جهولين </a:t>
            </a:r>
            <a:r>
              <a:rPr b="0" lang="ar-YE" sz="3200" spc="-1" strike="noStrike">
                <a:solidFill>
                  <a:srgbClr val="000000"/>
                </a:solidFill>
                <a:latin typeface="Sakkal Majalla"/>
                <a:cs typeface="Sakkal Majalla"/>
              </a:rPr>
              <a:t>و</a:t>
            </a:r>
            <a:r>
              <a:rPr b="0" lang="ar-SY" sz="3200" spc="-1" strike="noStrike">
                <a:solidFill>
                  <a:srgbClr val="000000"/>
                </a:solidFill>
                <a:latin typeface="Sakkal Majalla"/>
                <a:cs typeface="Sakkal Majalla"/>
              </a:rPr>
              <a:t>إلى تثبيت برمجية </a:t>
            </a:r>
            <a:r>
              <a:rPr b="0" lang="ar-YE" sz="3200" spc="-1" strike="noStrike">
                <a:solidFill>
                  <a:srgbClr val="000000"/>
                </a:solidFill>
                <a:latin typeface="Sakkal Majalla"/>
                <a:cs typeface="Sakkal Majalla"/>
              </a:rPr>
              <a:t>خبيثة تزيد من حجم مؤشر </a:t>
            </a:r>
            <a:r>
              <a:rPr b="0" lang="ar-SY" sz="3200" spc="-1" strike="noStrike">
                <a:solidFill>
                  <a:srgbClr val="000000"/>
                </a:solidFill>
                <a:latin typeface="Sakkal Majalla"/>
                <a:cs typeface="Sakkal Majalla"/>
              </a:rPr>
              <a:t>الفأرة </a:t>
            </a:r>
            <a:r>
              <a:rPr b="0" lang="ar-YE" sz="3200" spc="-1" strike="noStrike">
                <a:solidFill>
                  <a:srgbClr val="000000"/>
                </a:solidFill>
                <a:latin typeface="Sakkal Majalla"/>
                <a:cs typeface="Sakkal Majalla"/>
              </a:rPr>
              <a:t>على أنظمة الكمبيوتر</a:t>
            </a:r>
            <a:r>
              <a:rPr b="0" lang="ar-SY" sz="3200" spc="-1" strike="noStrike">
                <a:solidFill>
                  <a:srgbClr val="000000"/>
                </a:solidFill>
                <a:latin typeface="Sakkal Majalla"/>
                <a:ea typeface="Sakkal Majalla"/>
              </a:rPr>
              <a:t> المعنية</a:t>
            </a:r>
            <a:r>
              <a:rPr b="0" lang="ar-YE" sz="3200" spc="-1" strike="noStrike">
                <a:solidFill>
                  <a:srgbClr val="000000"/>
                </a:solidFill>
                <a:latin typeface="Sakkal Majalla"/>
                <a:ea typeface="Sakkal Majalla"/>
              </a:rPr>
              <a:t>. 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0" lang="ar-YE" sz="3200" spc="-1" strike="noStrike">
                <a:solidFill>
                  <a:srgbClr val="000000"/>
                </a:solidFill>
                <a:latin typeface="Sakkal Majalla"/>
                <a:cs typeface="Sakkal Majalla"/>
              </a:rPr>
              <a:t>منتدى </a:t>
            </a:r>
            <a:r>
              <a:rPr b="0" lang="ar-SY" sz="3200" spc="-1" strike="noStrike">
                <a:solidFill>
                  <a:srgbClr val="000000"/>
                </a:solidFill>
                <a:latin typeface="Sakkal Majalla"/>
                <a:cs typeface="Sakkal Majalla"/>
              </a:rPr>
              <a:t>للقرصنة يدعى</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دارك هاكر» (</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08CC3-0B58-4C78-9A1B-8EFA731C41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ملخص</a:t>
            </a:r>
            <a:endParaRPr b="0" lang="en-US" sz="48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هم كيف </a:t>
            </a:r>
            <a:r>
              <a:rPr b="0" lang="ar-SA" sz="3200" spc="-1" strike="noStrike">
                <a:solidFill>
                  <a:srgbClr val="000000"/>
                </a:solidFill>
                <a:latin typeface="Sakkal Majalla"/>
                <a:cs typeface="Sakkal Majalla"/>
              </a:rPr>
              <a:t>تطبق أحكام اتفاقية بودابست والقوانين الوطنية المطابقة على دراسات حالات </a:t>
            </a:r>
            <a:r>
              <a:rPr b="0" lang="ar-SY" sz="3200" spc="-1" strike="noStrike">
                <a:solidFill>
                  <a:srgbClr val="000000"/>
                </a:solidFill>
                <a:latin typeface="Sakkal Majalla"/>
                <a:cs typeface="Sakkal Majalla"/>
              </a:rPr>
              <a:t>الحالية</a:t>
            </a:r>
            <a:endParaRPr b="0" lang="en-US" sz="32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A2B868-66FD-4904-B4EA-146C5577C6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77705-5D88-4D0A-8A66-C5D963FBF9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0B2A5-2366-461A-8243-7EA210646A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9T23:56:53Z</dcterms:modified>
  <cp:revision>620</cp:revision>
  <dc:subject/>
  <dc:title>Introductory Cybercrime Training for Judges and Prosecutors</dc:title>
</cp:coreProperties>
</file>